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10.jpeg" ContentType="image/jpeg"/>
  <Override PartName="/ppt/media/image8.jpeg" ContentType="image/jpeg"/>
  <Override PartName="/ppt/media/image11.wmf" ContentType="image/x-wmf"/>
  <Override PartName="/ppt/media/image7.jpeg" ContentType="image/jpeg"/>
  <Override PartName="/ppt/media/image12.wmf" ContentType="image/x-wmf"/>
  <Override PartName="/ppt/media/image4.png" ContentType="image/png"/>
  <Override PartName="/ppt/media/image6.jpeg" ContentType="image/jpeg"/>
  <Override PartName="/ppt/media/image22.wmf" ContentType="image/x-wmf"/>
  <Override PartName="/ppt/media/image21.wmf" ContentType="image/x-wmf"/>
  <Override PartName="/ppt/media/image19.wmf" ContentType="image/x-wmf"/>
  <Override PartName="/ppt/media/image2.png" ContentType="image/png"/>
  <Override PartName="/ppt/media/image9.jpeg" ContentType="image/jpeg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png" ContentType="image/png"/>
  <Override PartName="/ppt/media/image3.wmf" ContentType="image/x-wmf"/>
  <Override PartName="/ppt/media/image5.jpeg" ContentType="image/jpeg"/>
  <Override PartName="/ppt/media/image18.wmf" ContentType="image/x-wmf"/>
  <Override PartName="/ppt/media/image20.wmf" ContentType="image/x-wmf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24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65.xml.rels" ContentType="application/vnd.openxmlformats-package.relationships+xml"/>
  <Override PartName="/ppt/slides/_rels/slide58.xml.rels" ContentType="application/vnd.openxmlformats-package.relationships+xml"/>
  <Override PartName="/ppt/slides/_rels/slide13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14.xml.rels" ContentType="application/vnd.openxmlformats-package.relationships+xml"/>
  <Override PartName="/ppt/slides/_rels/slide45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6.xml.rels" ContentType="application/vnd.openxmlformats-package.relationships+xml"/>
  <Override PartName="/ppt/slides/_rels/slide22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9C318-CBA8-4FB4-A557-FCA7C20301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4933-7F59-402C-AD79-D46B8D95A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18241-3375-4E74-955F-E850E832D8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F3DA-729A-4853-85DF-B7D3CA6AE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12DC8-1E71-4FAD-9615-7092EFC18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436A3-AD06-47E3-B54E-A82D3726BF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B5DA-3D00-4499-9DB9-D28D47037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B13C7-330D-49E8-A097-AAFBD1627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36190-9C2F-4EF3-B7A4-DF009687C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003D-48C1-4CB7-A153-B5DCBA12C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E7D09-24CC-421C-B286-84822C7C6E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DDA34-931D-4C17-8F78-108556921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CE895E-B854-4525-978A-1DC1EDEC7D3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21.wmf"/><Relationship Id="rId2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22.wmf"/><Relationship Id="rId2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Times New Roman"/>
                <a:ea typeface="Arial"/>
              </a:rPr>
              <a:t>Assessing resilience at landscape scale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using the FALLOW Model </a:t>
            </a:r>
            <a:endParaRPr b="0" lang="en-US" sz="4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0" y="2036880"/>
            <a:ext cx="9144000" cy="186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ffffff"/>
                </a:solidFill>
                <a:latin typeface="Times New Roman"/>
              </a:rPr>
              <a:t>Desi Suyamto, Meine van Noordwijk and Betha Lusian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Ecological Modelling Unit (EMU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imes New Roman"/>
              </a:rPr>
              <a:t>World Agroforestry Center, Southeast Asia Regional Office, Bogor, Indonesi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6035760"/>
            <a:ext cx="914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International Colloquium on LUCC and Environmental Probl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ogor, 19-21 December 200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emuwallpaper" descr=""/>
          <p:cNvPicPr/>
          <p:nvPr/>
        </p:nvPicPr>
        <p:blipFill>
          <a:blip r:embed="rId1"/>
          <a:stretch/>
        </p:blipFill>
        <p:spPr>
          <a:xfrm>
            <a:off x="2036880" y="3867120"/>
            <a:ext cx="2297160" cy="2266920"/>
          </a:xfrm>
          <a:prstGeom prst="rect">
            <a:avLst/>
          </a:prstGeom>
          <a:ln w="0">
            <a:noFill/>
          </a:ln>
        </p:spPr>
      </p:pic>
      <p:pic>
        <p:nvPicPr>
          <p:cNvPr id="45" name="WAC" descr=""/>
          <p:cNvPicPr/>
          <p:nvPr/>
        </p:nvPicPr>
        <p:blipFill>
          <a:blip r:embed="rId2"/>
          <a:stretch/>
        </p:blipFill>
        <p:spPr>
          <a:xfrm>
            <a:off x="4329000" y="4562640"/>
            <a:ext cx="2776680" cy="988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/>
          <p:nvPr/>
        </p:nvSpPr>
        <p:spPr>
          <a:xfrm>
            <a:off x="0" y="-108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ustainability is stability of a changing life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54160" y="2188800"/>
            <a:ext cx="8635320" cy="4966200"/>
            <a:chOff x="254160" y="2188800"/>
            <a:chExt cx="8635320" cy="4966200"/>
          </a:xfrm>
        </p:grpSpPr>
        <p:sp>
          <p:nvSpPr>
            <p:cNvPr id="82" name=""/>
            <p:cNvSpPr/>
            <p:nvPr/>
          </p:nvSpPr>
          <p:spPr>
            <a:xfrm>
              <a:off x="254160" y="2976840"/>
              <a:ext cx="4584600" cy="4178160"/>
            </a:xfrm>
            <a:prstGeom prst="blockArc">
              <a:avLst>
                <a:gd name="adj1" fmla="val 11506048"/>
                <a:gd name="adj2" fmla="val 20893952"/>
                <a:gd name="adj3" fmla="val 9755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 flipV="1">
              <a:off x="4305240" y="2188080"/>
              <a:ext cx="4584240" cy="4178520"/>
            </a:xfrm>
            <a:prstGeom prst="blockArc">
              <a:avLst>
                <a:gd name="adj1" fmla="val 11506048"/>
                <a:gd name="adj2" fmla="val 20893952"/>
                <a:gd name="adj3" fmla="val 9755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4" name=""/>
          <p:cNvSpPr/>
          <p:nvPr/>
        </p:nvSpPr>
        <p:spPr>
          <a:xfrm>
            <a:off x="3340080" y="2336760"/>
            <a:ext cx="914400" cy="9144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280040" y="1460520"/>
            <a:ext cx="4711680" cy="523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-108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ustainability is stability of a changing life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254160" y="2188800"/>
            <a:ext cx="8635320" cy="4966200"/>
            <a:chOff x="254160" y="2188800"/>
            <a:chExt cx="8635320" cy="4966200"/>
          </a:xfrm>
        </p:grpSpPr>
        <p:sp>
          <p:nvSpPr>
            <p:cNvPr id="88" name=""/>
            <p:cNvSpPr/>
            <p:nvPr/>
          </p:nvSpPr>
          <p:spPr>
            <a:xfrm>
              <a:off x="254160" y="2976840"/>
              <a:ext cx="4584600" cy="4178160"/>
            </a:xfrm>
            <a:prstGeom prst="blockArc">
              <a:avLst>
                <a:gd name="adj1" fmla="val 11506048"/>
                <a:gd name="adj2" fmla="val 20893952"/>
                <a:gd name="adj3" fmla="val 9755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V="1">
              <a:off x="4305240" y="2188080"/>
              <a:ext cx="4584240" cy="4178520"/>
            </a:xfrm>
            <a:prstGeom prst="blockArc">
              <a:avLst>
                <a:gd name="adj1" fmla="val 11506048"/>
                <a:gd name="adj2" fmla="val 20893952"/>
                <a:gd name="adj3" fmla="val 9755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4788000" y="4089240"/>
            <a:ext cx="914400" cy="9144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753160" y="1460520"/>
            <a:ext cx="3238560" cy="523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-108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ustainability is stability of a changing life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54160" y="2188800"/>
            <a:ext cx="8635320" cy="4966200"/>
            <a:chOff x="254160" y="2188800"/>
            <a:chExt cx="8635320" cy="4966200"/>
          </a:xfrm>
        </p:grpSpPr>
        <p:sp>
          <p:nvSpPr>
            <p:cNvPr id="94" name=""/>
            <p:cNvSpPr/>
            <p:nvPr/>
          </p:nvSpPr>
          <p:spPr>
            <a:xfrm>
              <a:off x="254160" y="2976840"/>
              <a:ext cx="4584600" cy="4178160"/>
            </a:xfrm>
            <a:prstGeom prst="blockArc">
              <a:avLst>
                <a:gd name="adj1" fmla="val 11506048"/>
                <a:gd name="adj2" fmla="val 20893952"/>
                <a:gd name="adj3" fmla="val 9755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V="1">
              <a:off x="4305240" y="2188080"/>
              <a:ext cx="4584240" cy="4178520"/>
            </a:xfrm>
            <a:prstGeom prst="blockArc">
              <a:avLst>
                <a:gd name="adj1" fmla="val 11506048"/>
                <a:gd name="adj2" fmla="val 20893952"/>
                <a:gd name="adj3" fmla="val 9755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" name=""/>
          <p:cNvSpPr/>
          <p:nvPr/>
        </p:nvSpPr>
        <p:spPr>
          <a:xfrm>
            <a:off x="6121440" y="5029200"/>
            <a:ext cx="914400" cy="9144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7124760" y="1460520"/>
            <a:ext cx="1866960" cy="523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0" y="-108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ustainability is stability of a changing life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9" name=""/>
          <p:cNvGrpSpPr/>
          <p:nvPr/>
        </p:nvGrpSpPr>
        <p:grpSpPr>
          <a:xfrm>
            <a:off x="254160" y="2188800"/>
            <a:ext cx="8635320" cy="4966200"/>
            <a:chOff x="254160" y="2188800"/>
            <a:chExt cx="8635320" cy="4966200"/>
          </a:xfrm>
        </p:grpSpPr>
        <p:sp>
          <p:nvSpPr>
            <p:cNvPr id="100" name=""/>
            <p:cNvSpPr/>
            <p:nvPr/>
          </p:nvSpPr>
          <p:spPr>
            <a:xfrm>
              <a:off x="254160" y="2976840"/>
              <a:ext cx="4584600" cy="4178160"/>
            </a:xfrm>
            <a:prstGeom prst="blockArc">
              <a:avLst>
                <a:gd name="adj1" fmla="val 11506048"/>
                <a:gd name="adj2" fmla="val 20893952"/>
                <a:gd name="adj3" fmla="val 9755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 flipV="1">
              <a:off x="4305240" y="2188080"/>
              <a:ext cx="4584240" cy="4178520"/>
            </a:xfrm>
            <a:prstGeom prst="blockArc">
              <a:avLst>
                <a:gd name="adj1" fmla="val 11506048"/>
                <a:gd name="adj2" fmla="val 20893952"/>
                <a:gd name="adj3" fmla="val 9755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" name=""/>
          <p:cNvSpPr/>
          <p:nvPr/>
        </p:nvSpPr>
        <p:spPr>
          <a:xfrm>
            <a:off x="6121440" y="5029200"/>
            <a:ext cx="914400" cy="914400"/>
          </a:xfrm>
          <a:prstGeom prst="ellipse">
            <a:avLst/>
          </a:prstGeom>
          <a:solidFill>
            <a:srgbClr val="ff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02320" y="4991040"/>
            <a:ext cx="914400" cy="914400"/>
          </a:xfrm>
          <a:prstGeom prst="ellipse">
            <a:avLst/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832440" y="4863960"/>
            <a:ext cx="914400" cy="914400"/>
          </a:xfrm>
          <a:prstGeom prst="ellipse">
            <a:avLst/>
          </a:prstGeom>
          <a:solidFill>
            <a:srgbClr val="ff66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124760" y="4673520"/>
            <a:ext cx="914400" cy="914400"/>
          </a:xfrm>
          <a:prstGeom prst="ellipse">
            <a:avLst/>
          </a:prstGeom>
          <a:solidFill>
            <a:srgbClr val="ff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404120" y="4317840"/>
            <a:ext cx="914400" cy="9144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807240" y="3800520"/>
            <a:ext cx="1806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ustainabil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0" y="-108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Resilience (Holling, 200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876240" y="1881360"/>
            <a:ext cx="7175520" cy="1477800"/>
          </a:xfrm>
          <a:custGeom>
            <a:avLst/>
            <a:gdLst/>
            <a:ahLst/>
            <a:rect l="l" t="t" r="r" b="b"/>
            <a:pathLst>
              <a:path w="4520" h="931">
                <a:moveTo>
                  <a:pt x="0" y="319"/>
                </a:moveTo>
                <a:cubicBezTo>
                  <a:pt x="66" y="214"/>
                  <a:pt x="132" y="110"/>
                  <a:pt x="216" y="127"/>
                </a:cubicBezTo>
                <a:cubicBezTo>
                  <a:pt x="300" y="144"/>
                  <a:pt x="407" y="427"/>
                  <a:pt x="504" y="423"/>
                </a:cubicBezTo>
                <a:cubicBezTo>
                  <a:pt x="601" y="419"/>
                  <a:pt x="703" y="72"/>
                  <a:pt x="800" y="103"/>
                </a:cubicBezTo>
                <a:cubicBezTo>
                  <a:pt x="897" y="134"/>
                  <a:pt x="995" y="616"/>
                  <a:pt x="1088" y="607"/>
                </a:cubicBezTo>
                <a:cubicBezTo>
                  <a:pt x="1181" y="598"/>
                  <a:pt x="1239" y="0"/>
                  <a:pt x="1360" y="47"/>
                </a:cubicBezTo>
                <a:cubicBezTo>
                  <a:pt x="1481" y="94"/>
                  <a:pt x="1652" y="887"/>
                  <a:pt x="1816" y="887"/>
                </a:cubicBezTo>
                <a:cubicBezTo>
                  <a:pt x="1980" y="887"/>
                  <a:pt x="2168" y="42"/>
                  <a:pt x="2344" y="47"/>
                </a:cubicBezTo>
                <a:cubicBezTo>
                  <a:pt x="2520" y="52"/>
                  <a:pt x="2509" y="907"/>
                  <a:pt x="2872" y="919"/>
                </a:cubicBezTo>
                <a:cubicBezTo>
                  <a:pt x="3235" y="931"/>
                  <a:pt x="3877" y="525"/>
                  <a:pt x="4520" y="119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851040" y="4495680"/>
            <a:ext cx="7137360" cy="1632240"/>
          </a:xfrm>
          <a:custGeom>
            <a:avLst/>
            <a:gdLst/>
            <a:ahLst/>
            <a:rect l="l" t="t" r="r" b="b"/>
            <a:pathLst>
              <a:path w="4496" h="1028">
                <a:moveTo>
                  <a:pt x="0" y="216"/>
                </a:moveTo>
                <a:cubicBezTo>
                  <a:pt x="32" y="219"/>
                  <a:pt x="123" y="221"/>
                  <a:pt x="192" y="224"/>
                </a:cubicBezTo>
                <a:cubicBezTo>
                  <a:pt x="261" y="227"/>
                  <a:pt x="353" y="232"/>
                  <a:pt x="416" y="232"/>
                </a:cubicBezTo>
                <a:cubicBezTo>
                  <a:pt x="479" y="232"/>
                  <a:pt x="499" y="231"/>
                  <a:pt x="568" y="224"/>
                </a:cubicBezTo>
                <a:cubicBezTo>
                  <a:pt x="637" y="217"/>
                  <a:pt x="747" y="195"/>
                  <a:pt x="832" y="192"/>
                </a:cubicBezTo>
                <a:cubicBezTo>
                  <a:pt x="917" y="189"/>
                  <a:pt x="997" y="211"/>
                  <a:pt x="1080" y="208"/>
                </a:cubicBezTo>
                <a:cubicBezTo>
                  <a:pt x="1163" y="205"/>
                  <a:pt x="1225" y="185"/>
                  <a:pt x="1328" y="176"/>
                </a:cubicBezTo>
                <a:cubicBezTo>
                  <a:pt x="1431" y="167"/>
                  <a:pt x="1531" y="157"/>
                  <a:pt x="1696" y="152"/>
                </a:cubicBezTo>
                <a:cubicBezTo>
                  <a:pt x="1861" y="147"/>
                  <a:pt x="2128" y="0"/>
                  <a:pt x="2320" y="144"/>
                </a:cubicBezTo>
                <a:cubicBezTo>
                  <a:pt x="2512" y="288"/>
                  <a:pt x="2485" y="1004"/>
                  <a:pt x="2848" y="1016"/>
                </a:cubicBezTo>
                <a:cubicBezTo>
                  <a:pt x="3211" y="1028"/>
                  <a:pt x="3853" y="622"/>
                  <a:pt x="4496" y="216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457200" y="1079640"/>
            <a:ext cx="4089240" cy="543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406760" y="1562040"/>
            <a:ext cx="355680" cy="3556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4368960" y="4305240"/>
            <a:ext cx="355320" cy="3556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0" y="-108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Resilience (Holling, 200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76240" y="1881360"/>
            <a:ext cx="7175520" cy="1477800"/>
          </a:xfrm>
          <a:custGeom>
            <a:avLst/>
            <a:gdLst/>
            <a:ahLst/>
            <a:rect l="l" t="t" r="r" b="b"/>
            <a:pathLst>
              <a:path w="4520" h="931">
                <a:moveTo>
                  <a:pt x="0" y="319"/>
                </a:moveTo>
                <a:cubicBezTo>
                  <a:pt x="66" y="214"/>
                  <a:pt x="132" y="110"/>
                  <a:pt x="216" y="127"/>
                </a:cubicBezTo>
                <a:cubicBezTo>
                  <a:pt x="300" y="144"/>
                  <a:pt x="407" y="427"/>
                  <a:pt x="504" y="423"/>
                </a:cubicBezTo>
                <a:cubicBezTo>
                  <a:pt x="601" y="419"/>
                  <a:pt x="703" y="72"/>
                  <a:pt x="800" y="103"/>
                </a:cubicBezTo>
                <a:cubicBezTo>
                  <a:pt x="897" y="134"/>
                  <a:pt x="995" y="616"/>
                  <a:pt x="1088" y="607"/>
                </a:cubicBezTo>
                <a:cubicBezTo>
                  <a:pt x="1181" y="598"/>
                  <a:pt x="1239" y="0"/>
                  <a:pt x="1360" y="47"/>
                </a:cubicBezTo>
                <a:cubicBezTo>
                  <a:pt x="1481" y="94"/>
                  <a:pt x="1652" y="887"/>
                  <a:pt x="1816" y="887"/>
                </a:cubicBezTo>
                <a:cubicBezTo>
                  <a:pt x="1980" y="887"/>
                  <a:pt x="2168" y="42"/>
                  <a:pt x="2344" y="47"/>
                </a:cubicBezTo>
                <a:cubicBezTo>
                  <a:pt x="2520" y="52"/>
                  <a:pt x="2509" y="907"/>
                  <a:pt x="2872" y="919"/>
                </a:cubicBezTo>
                <a:cubicBezTo>
                  <a:pt x="3235" y="931"/>
                  <a:pt x="3877" y="525"/>
                  <a:pt x="4520" y="119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270400" y="2957400"/>
            <a:ext cx="355680" cy="3556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5257800" y="5715000"/>
            <a:ext cx="355680" cy="3556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851040" y="4495680"/>
            <a:ext cx="7137360" cy="1632240"/>
          </a:xfrm>
          <a:custGeom>
            <a:avLst/>
            <a:gdLst/>
            <a:ahLst/>
            <a:rect l="l" t="t" r="r" b="b"/>
            <a:pathLst>
              <a:path w="4496" h="1028">
                <a:moveTo>
                  <a:pt x="0" y="216"/>
                </a:moveTo>
                <a:cubicBezTo>
                  <a:pt x="32" y="219"/>
                  <a:pt x="123" y="221"/>
                  <a:pt x="192" y="224"/>
                </a:cubicBezTo>
                <a:cubicBezTo>
                  <a:pt x="261" y="227"/>
                  <a:pt x="353" y="232"/>
                  <a:pt x="416" y="232"/>
                </a:cubicBezTo>
                <a:cubicBezTo>
                  <a:pt x="479" y="232"/>
                  <a:pt x="499" y="231"/>
                  <a:pt x="568" y="224"/>
                </a:cubicBezTo>
                <a:cubicBezTo>
                  <a:pt x="637" y="217"/>
                  <a:pt x="747" y="195"/>
                  <a:pt x="832" y="192"/>
                </a:cubicBezTo>
                <a:cubicBezTo>
                  <a:pt x="917" y="189"/>
                  <a:pt x="997" y="211"/>
                  <a:pt x="1080" y="208"/>
                </a:cubicBezTo>
                <a:cubicBezTo>
                  <a:pt x="1163" y="205"/>
                  <a:pt x="1225" y="185"/>
                  <a:pt x="1328" y="176"/>
                </a:cubicBezTo>
                <a:cubicBezTo>
                  <a:pt x="1431" y="167"/>
                  <a:pt x="1531" y="157"/>
                  <a:pt x="1696" y="152"/>
                </a:cubicBezTo>
                <a:cubicBezTo>
                  <a:pt x="1861" y="147"/>
                  <a:pt x="2128" y="0"/>
                  <a:pt x="2320" y="144"/>
                </a:cubicBezTo>
                <a:cubicBezTo>
                  <a:pt x="2512" y="288"/>
                  <a:pt x="2485" y="1004"/>
                  <a:pt x="2848" y="1016"/>
                </a:cubicBezTo>
                <a:cubicBezTo>
                  <a:pt x="3211" y="1028"/>
                  <a:pt x="3853" y="622"/>
                  <a:pt x="4496" y="216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57200" y="1079640"/>
            <a:ext cx="4089240" cy="543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"/>
          <p:cNvSpPr/>
          <p:nvPr/>
        </p:nvSpPr>
        <p:spPr>
          <a:xfrm>
            <a:off x="0" y="-108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Resilience (Holling, 2001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876240" y="1881360"/>
            <a:ext cx="7175520" cy="1477800"/>
          </a:xfrm>
          <a:custGeom>
            <a:avLst/>
            <a:gdLst/>
            <a:ahLst/>
            <a:rect l="l" t="t" r="r" b="b"/>
            <a:pathLst>
              <a:path w="4520" h="931">
                <a:moveTo>
                  <a:pt x="0" y="319"/>
                </a:moveTo>
                <a:cubicBezTo>
                  <a:pt x="66" y="214"/>
                  <a:pt x="132" y="110"/>
                  <a:pt x="216" y="127"/>
                </a:cubicBezTo>
                <a:cubicBezTo>
                  <a:pt x="300" y="144"/>
                  <a:pt x="407" y="427"/>
                  <a:pt x="504" y="423"/>
                </a:cubicBezTo>
                <a:cubicBezTo>
                  <a:pt x="601" y="419"/>
                  <a:pt x="703" y="72"/>
                  <a:pt x="800" y="103"/>
                </a:cubicBezTo>
                <a:cubicBezTo>
                  <a:pt x="897" y="134"/>
                  <a:pt x="995" y="616"/>
                  <a:pt x="1088" y="607"/>
                </a:cubicBezTo>
                <a:cubicBezTo>
                  <a:pt x="1181" y="598"/>
                  <a:pt x="1239" y="0"/>
                  <a:pt x="1360" y="47"/>
                </a:cubicBezTo>
                <a:cubicBezTo>
                  <a:pt x="1481" y="94"/>
                  <a:pt x="1652" y="887"/>
                  <a:pt x="1816" y="887"/>
                </a:cubicBezTo>
                <a:cubicBezTo>
                  <a:pt x="1980" y="887"/>
                  <a:pt x="2168" y="42"/>
                  <a:pt x="2344" y="47"/>
                </a:cubicBezTo>
                <a:cubicBezTo>
                  <a:pt x="2520" y="52"/>
                  <a:pt x="2509" y="907"/>
                  <a:pt x="2872" y="919"/>
                </a:cubicBezTo>
                <a:cubicBezTo>
                  <a:pt x="3235" y="931"/>
                  <a:pt x="3877" y="525"/>
                  <a:pt x="4520" y="119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7112160" y="2106720"/>
            <a:ext cx="355320" cy="355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562720" y="5651640"/>
            <a:ext cx="355320" cy="355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51040" y="4495680"/>
            <a:ext cx="7137360" cy="1632240"/>
          </a:xfrm>
          <a:custGeom>
            <a:avLst/>
            <a:gdLst/>
            <a:ahLst/>
            <a:rect l="l" t="t" r="r" b="b"/>
            <a:pathLst>
              <a:path w="4496" h="1028">
                <a:moveTo>
                  <a:pt x="0" y="216"/>
                </a:moveTo>
                <a:cubicBezTo>
                  <a:pt x="32" y="219"/>
                  <a:pt x="123" y="221"/>
                  <a:pt x="192" y="224"/>
                </a:cubicBezTo>
                <a:cubicBezTo>
                  <a:pt x="261" y="227"/>
                  <a:pt x="353" y="232"/>
                  <a:pt x="416" y="232"/>
                </a:cubicBezTo>
                <a:cubicBezTo>
                  <a:pt x="479" y="232"/>
                  <a:pt x="499" y="231"/>
                  <a:pt x="568" y="224"/>
                </a:cubicBezTo>
                <a:cubicBezTo>
                  <a:pt x="637" y="217"/>
                  <a:pt x="747" y="195"/>
                  <a:pt x="832" y="192"/>
                </a:cubicBezTo>
                <a:cubicBezTo>
                  <a:pt x="917" y="189"/>
                  <a:pt x="997" y="211"/>
                  <a:pt x="1080" y="208"/>
                </a:cubicBezTo>
                <a:cubicBezTo>
                  <a:pt x="1163" y="205"/>
                  <a:pt x="1225" y="185"/>
                  <a:pt x="1328" y="176"/>
                </a:cubicBezTo>
                <a:cubicBezTo>
                  <a:pt x="1431" y="167"/>
                  <a:pt x="1531" y="157"/>
                  <a:pt x="1696" y="152"/>
                </a:cubicBezTo>
                <a:cubicBezTo>
                  <a:pt x="1861" y="147"/>
                  <a:pt x="2128" y="0"/>
                  <a:pt x="2320" y="144"/>
                </a:cubicBezTo>
                <a:cubicBezTo>
                  <a:pt x="2512" y="288"/>
                  <a:pt x="2485" y="1004"/>
                  <a:pt x="2848" y="1016"/>
                </a:cubicBezTo>
                <a:cubicBezTo>
                  <a:pt x="3211" y="1028"/>
                  <a:pt x="3853" y="622"/>
                  <a:pt x="4496" y="216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1079640"/>
            <a:ext cx="4089240" cy="543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651640" y="1611360"/>
            <a:ext cx="26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resil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4229280" y="5129280"/>
            <a:ext cx="267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resil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"/>
          <p:cNvSpPr/>
          <p:nvPr/>
        </p:nvSpPr>
        <p:spPr>
          <a:xfrm>
            <a:off x="4572000" y="1231920"/>
            <a:ext cx="4165560" cy="53085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0" y="-108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Resilience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daptive capacity (information storin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876240" y="1881360"/>
            <a:ext cx="7175520" cy="1477800"/>
          </a:xfrm>
          <a:custGeom>
            <a:avLst/>
            <a:gdLst/>
            <a:ahLst/>
            <a:rect l="l" t="t" r="r" b="b"/>
            <a:pathLst>
              <a:path w="4520" h="931">
                <a:moveTo>
                  <a:pt x="0" y="319"/>
                </a:moveTo>
                <a:cubicBezTo>
                  <a:pt x="66" y="214"/>
                  <a:pt x="132" y="110"/>
                  <a:pt x="216" y="127"/>
                </a:cubicBezTo>
                <a:cubicBezTo>
                  <a:pt x="300" y="144"/>
                  <a:pt x="407" y="427"/>
                  <a:pt x="504" y="423"/>
                </a:cubicBezTo>
                <a:cubicBezTo>
                  <a:pt x="601" y="419"/>
                  <a:pt x="703" y="72"/>
                  <a:pt x="800" y="103"/>
                </a:cubicBezTo>
                <a:cubicBezTo>
                  <a:pt x="897" y="134"/>
                  <a:pt x="995" y="616"/>
                  <a:pt x="1088" y="607"/>
                </a:cubicBezTo>
                <a:cubicBezTo>
                  <a:pt x="1181" y="598"/>
                  <a:pt x="1239" y="0"/>
                  <a:pt x="1360" y="47"/>
                </a:cubicBezTo>
                <a:cubicBezTo>
                  <a:pt x="1481" y="94"/>
                  <a:pt x="1652" y="887"/>
                  <a:pt x="1816" y="887"/>
                </a:cubicBezTo>
                <a:cubicBezTo>
                  <a:pt x="1980" y="887"/>
                  <a:pt x="2168" y="42"/>
                  <a:pt x="2344" y="47"/>
                </a:cubicBezTo>
                <a:cubicBezTo>
                  <a:pt x="2520" y="52"/>
                  <a:pt x="2509" y="907"/>
                  <a:pt x="2872" y="919"/>
                </a:cubicBezTo>
                <a:cubicBezTo>
                  <a:pt x="3235" y="931"/>
                  <a:pt x="3877" y="525"/>
                  <a:pt x="4520" y="119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1015920" y="1689120"/>
            <a:ext cx="355680" cy="3556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876240" y="4444920"/>
            <a:ext cx="355680" cy="3556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851040" y="4495680"/>
            <a:ext cx="7137360" cy="1632240"/>
          </a:xfrm>
          <a:custGeom>
            <a:avLst/>
            <a:gdLst/>
            <a:ahLst/>
            <a:rect l="l" t="t" r="r" b="b"/>
            <a:pathLst>
              <a:path w="4496" h="1028">
                <a:moveTo>
                  <a:pt x="0" y="216"/>
                </a:moveTo>
                <a:cubicBezTo>
                  <a:pt x="32" y="219"/>
                  <a:pt x="123" y="221"/>
                  <a:pt x="192" y="224"/>
                </a:cubicBezTo>
                <a:cubicBezTo>
                  <a:pt x="261" y="227"/>
                  <a:pt x="353" y="232"/>
                  <a:pt x="416" y="232"/>
                </a:cubicBezTo>
                <a:cubicBezTo>
                  <a:pt x="479" y="232"/>
                  <a:pt x="499" y="231"/>
                  <a:pt x="568" y="224"/>
                </a:cubicBezTo>
                <a:cubicBezTo>
                  <a:pt x="637" y="217"/>
                  <a:pt x="747" y="195"/>
                  <a:pt x="832" y="192"/>
                </a:cubicBezTo>
                <a:cubicBezTo>
                  <a:pt x="917" y="189"/>
                  <a:pt x="997" y="211"/>
                  <a:pt x="1080" y="208"/>
                </a:cubicBezTo>
                <a:cubicBezTo>
                  <a:pt x="1163" y="205"/>
                  <a:pt x="1225" y="185"/>
                  <a:pt x="1328" y="176"/>
                </a:cubicBezTo>
                <a:cubicBezTo>
                  <a:pt x="1431" y="167"/>
                  <a:pt x="1531" y="157"/>
                  <a:pt x="1696" y="152"/>
                </a:cubicBezTo>
                <a:cubicBezTo>
                  <a:pt x="1861" y="147"/>
                  <a:pt x="2128" y="0"/>
                  <a:pt x="2320" y="144"/>
                </a:cubicBezTo>
                <a:cubicBezTo>
                  <a:pt x="2512" y="288"/>
                  <a:pt x="2485" y="1004"/>
                  <a:pt x="2848" y="1016"/>
                </a:cubicBezTo>
                <a:cubicBezTo>
                  <a:pt x="3211" y="1028"/>
                  <a:pt x="3853" y="622"/>
                  <a:pt x="4496" y="216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ffffff"/>
                </a:solidFill>
                <a:latin typeface="Times New Roman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484200" y="1565280"/>
            <a:ext cx="8124840" cy="34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UCC, sustainable development and resili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del overvie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FALLOW experime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Conclus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hort model demonstr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4572000" y="1231920"/>
            <a:ext cx="4165560" cy="53085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0" y="-108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Resilience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daptive capacity (information storin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876240" y="1881360"/>
            <a:ext cx="7175520" cy="1477800"/>
          </a:xfrm>
          <a:custGeom>
            <a:avLst/>
            <a:gdLst/>
            <a:ahLst/>
            <a:rect l="l" t="t" r="r" b="b"/>
            <a:pathLst>
              <a:path w="4520" h="931">
                <a:moveTo>
                  <a:pt x="0" y="319"/>
                </a:moveTo>
                <a:cubicBezTo>
                  <a:pt x="66" y="214"/>
                  <a:pt x="132" y="110"/>
                  <a:pt x="216" y="127"/>
                </a:cubicBezTo>
                <a:cubicBezTo>
                  <a:pt x="300" y="144"/>
                  <a:pt x="407" y="427"/>
                  <a:pt x="504" y="423"/>
                </a:cubicBezTo>
                <a:cubicBezTo>
                  <a:pt x="601" y="419"/>
                  <a:pt x="703" y="72"/>
                  <a:pt x="800" y="103"/>
                </a:cubicBezTo>
                <a:cubicBezTo>
                  <a:pt x="897" y="134"/>
                  <a:pt x="995" y="616"/>
                  <a:pt x="1088" y="607"/>
                </a:cubicBezTo>
                <a:cubicBezTo>
                  <a:pt x="1181" y="598"/>
                  <a:pt x="1239" y="0"/>
                  <a:pt x="1360" y="47"/>
                </a:cubicBezTo>
                <a:cubicBezTo>
                  <a:pt x="1481" y="94"/>
                  <a:pt x="1652" y="887"/>
                  <a:pt x="1816" y="887"/>
                </a:cubicBezTo>
                <a:cubicBezTo>
                  <a:pt x="1980" y="887"/>
                  <a:pt x="2168" y="42"/>
                  <a:pt x="2344" y="47"/>
                </a:cubicBezTo>
                <a:cubicBezTo>
                  <a:pt x="2520" y="52"/>
                  <a:pt x="2509" y="907"/>
                  <a:pt x="2872" y="919"/>
                </a:cubicBezTo>
                <a:cubicBezTo>
                  <a:pt x="3235" y="931"/>
                  <a:pt x="3877" y="525"/>
                  <a:pt x="4520" y="119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60520" y="2082960"/>
            <a:ext cx="355680" cy="355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079640" y="4470480"/>
            <a:ext cx="355320" cy="3556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51040" y="4495680"/>
            <a:ext cx="7137360" cy="1632240"/>
          </a:xfrm>
          <a:custGeom>
            <a:avLst/>
            <a:gdLst/>
            <a:ahLst/>
            <a:rect l="l" t="t" r="r" b="b"/>
            <a:pathLst>
              <a:path w="4496" h="1028">
                <a:moveTo>
                  <a:pt x="0" y="216"/>
                </a:moveTo>
                <a:cubicBezTo>
                  <a:pt x="32" y="219"/>
                  <a:pt x="123" y="221"/>
                  <a:pt x="192" y="224"/>
                </a:cubicBezTo>
                <a:cubicBezTo>
                  <a:pt x="261" y="227"/>
                  <a:pt x="353" y="232"/>
                  <a:pt x="416" y="232"/>
                </a:cubicBezTo>
                <a:cubicBezTo>
                  <a:pt x="479" y="232"/>
                  <a:pt x="499" y="231"/>
                  <a:pt x="568" y="224"/>
                </a:cubicBezTo>
                <a:cubicBezTo>
                  <a:pt x="637" y="217"/>
                  <a:pt x="747" y="195"/>
                  <a:pt x="832" y="192"/>
                </a:cubicBezTo>
                <a:cubicBezTo>
                  <a:pt x="917" y="189"/>
                  <a:pt x="997" y="211"/>
                  <a:pt x="1080" y="208"/>
                </a:cubicBezTo>
                <a:cubicBezTo>
                  <a:pt x="1163" y="205"/>
                  <a:pt x="1225" y="185"/>
                  <a:pt x="1328" y="176"/>
                </a:cubicBezTo>
                <a:cubicBezTo>
                  <a:pt x="1431" y="167"/>
                  <a:pt x="1531" y="157"/>
                  <a:pt x="1696" y="152"/>
                </a:cubicBezTo>
                <a:cubicBezTo>
                  <a:pt x="1861" y="147"/>
                  <a:pt x="2128" y="0"/>
                  <a:pt x="2320" y="144"/>
                </a:cubicBezTo>
                <a:cubicBezTo>
                  <a:pt x="2512" y="288"/>
                  <a:pt x="2485" y="1004"/>
                  <a:pt x="2848" y="1016"/>
                </a:cubicBezTo>
                <a:cubicBezTo>
                  <a:pt x="3211" y="1028"/>
                  <a:pt x="3853" y="622"/>
                  <a:pt x="4496" y="216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35840" y="1501920"/>
            <a:ext cx="184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er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4572000" y="1231920"/>
            <a:ext cx="4165560" cy="53085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0" y="-108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Resilience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daptive capacity (information storin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876240" y="1881360"/>
            <a:ext cx="7175520" cy="1477800"/>
          </a:xfrm>
          <a:custGeom>
            <a:avLst/>
            <a:gdLst/>
            <a:ahLst/>
            <a:rect l="l" t="t" r="r" b="b"/>
            <a:pathLst>
              <a:path w="4520" h="931">
                <a:moveTo>
                  <a:pt x="0" y="319"/>
                </a:moveTo>
                <a:cubicBezTo>
                  <a:pt x="66" y="214"/>
                  <a:pt x="132" y="110"/>
                  <a:pt x="216" y="127"/>
                </a:cubicBezTo>
                <a:cubicBezTo>
                  <a:pt x="300" y="144"/>
                  <a:pt x="407" y="427"/>
                  <a:pt x="504" y="423"/>
                </a:cubicBezTo>
                <a:cubicBezTo>
                  <a:pt x="601" y="419"/>
                  <a:pt x="703" y="72"/>
                  <a:pt x="800" y="103"/>
                </a:cubicBezTo>
                <a:cubicBezTo>
                  <a:pt x="897" y="134"/>
                  <a:pt x="995" y="616"/>
                  <a:pt x="1088" y="607"/>
                </a:cubicBezTo>
                <a:cubicBezTo>
                  <a:pt x="1181" y="598"/>
                  <a:pt x="1239" y="0"/>
                  <a:pt x="1360" y="47"/>
                </a:cubicBezTo>
                <a:cubicBezTo>
                  <a:pt x="1481" y="94"/>
                  <a:pt x="1652" y="887"/>
                  <a:pt x="1816" y="887"/>
                </a:cubicBezTo>
                <a:cubicBezTo>
                  <a:pt x="1980" y="887"/>
                  <a:pt x="2168" y="42"/>
                  <a:pt x="2344" y="47"/>
                </a:cubicBezTo>
                <a:cubicBezTo>
                  <a:pt x="2520" y="52"/>
                  <a:pt x="2509" y="907"/>
                  <a:pt x="2872" y="919"/>
                </a:cubicBezTo>
                <a:cubicBezTo>
                  <a:pt x="3235" y="931"/>
                  <a:pt x="3877" y="525"/>
                  <a:pt x="4520" y="119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511280" y="2019240"/>
            <a:ext cx="355680" cy="3556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422360" y="4457880"/>
            <a:ext cx="355680" cy="355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851040" y="4495680"/>
            <a:ext cx="7137360" cy="1632240"/>
          </a:xfrm>
          <a:custGeom>
            <a:avLst/>
            <a:gdLst/>
            <a:ahLst/>
            <a:rect l="l" t="t" r="r" b="b"/>
            <a:pathLst>
              <a:path w="4496" h="1028">
                <a:moveTo>
                  <a:pt x="0" y="216"/>
                </a:moveTo>
                <a:cubicBezTo>
                  <a:pt x="32" y="219"/>
                  <a:pt x="123" y="221"/>
                  <a:pt x="192" y="224"/>
                </a:cubicBezTo>
                <a:cubicBezTo>
                  <a:pt x="261" y="227"/>
                  <a:pt x="353" y="232"/>
                  <a:pt x="416" y="232"/>
                </a:cubicBezTo>
                <a:cubicBezTo>
                  <a:pt x="479" y="232"/>
                  <a:pt x="499" y="231"/>
                  <a:pt x="568" y="224"/>
                </a:cubicBezTo>
                <a:cubicBezTo>
                  <a:pt x="637" y="217"/>
                  <a:pt x="747" y="195"/>
                  <a:pt x="832" y="192"/>
                </a:cubicBezTo>
                <a:cubicBezTo>
                  <a:pt x="917" y="189"/>
                  <a:pt x="997" y="211"/>
                  <a:pt x="1080" y="208"/>
                </a:cubicBezTo>
                <a:cubicBezTo>
                  <a:pt x="1163" y="205"/>
                  <a:pt x="1225" y="185"/>
                  <a:pt x="1328" y="176"/>
                </a:cubicBezTo>
                <a:cubicBezTo>
                  <a:pt x="1431" y="167"/>
                  <a:pt x="1531" y="157"/>
                  <a:pt x="1696" y="152"/>
                </a:cubicBezTo>
                <a:cubicBezTo>
                  <a:pt x="1861" y="147"/>
                  <a:pt x="2128" y="0"/>
                  <a:pt x="2320" y="144"/>
                </a:cubicBezTo>
                <a:cubicBezTo>
                  <a:pt x="2512" y="288"/>
                  <a:pt x="2485" y="1004"/>
                  <a:pt x="2848" y="1016"/>
                </a:cubicBezTo>
                <a:cubicBezTo>
                  <a:pt x="3211" y="1028"/>
                  <a:pt x="3853" y="622"/>
                  <a:pt x="4496" y="216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/>
          <p:nvPr/>
        </p:nvSpPr>
        <p:spPr>
          <a:xfrm>
            <a:off x="4572000" y="1231920"/>
            <a:ext cx="4165560" cy="53085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0" y="-108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Resilience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daptive capacity (information storin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876240" y="1881360"/>
            <a:ext cx="7175520" cy="1477800"/>
          </a:xfrm>
          <a:custGeom>
            <a:avLst/>
            <a:gdLst/>
            <a:ahLst/>
            <a:rect l="l" t="t" r="r" b="b"/>
            <a:pathLst>
              <a:path w="4520" h="931">
                <a:moveTo>
                  <a:pt x="0" y="319"/>
                </a:moveTo>
                <a:cubicBezTo>
                  <a:pt x="66" y="214"/>
                  <a:pt x="132" y="110"/>
                  <a:pt x="216" y="127"/>
                </a:cubicBezTo>
                <a:cubicBezTo>
                  <a:pt x="300" y="144"/>
                  <a:pt x="407" y="427"/>
                  <a:pt x="504" y="423"/>
                </a:cubicBezTo>
                <a:cubicBezTo>
                  <a:pt x="601" y="419"/>
                  <a:pt x="703" y="72"/>
                  <a:pt x="800" y="103"/>
                </a:cubicBezTo>
                <a:cubicBezTo>
                  <a:pt x="897" y="134"/>
                  <a:pt x="995" y="616"/>
                  <a:pt x="1088" y="607"/>
                </a:cubicBezTo>
                <a:cubicBezTo>
                  <a:pt x="1181" y="598"/>
                  <a:pt x="1239" y="0"/>
                  <a:pt x="1360" y="47"/>
                </a:cubicBezTo>
                <a:cubicBezTo>
                  <a:pt x="1481" y="94"/>
                  <a:pt x="1652" y="887"/>
                  <a:pt x="1816" y="887"/>
                </a:cubicBezTo>
                <a:cubicBezTo>
                  <a:pt x="1980" y="887"/>
                  <a:pt x="2168" y="42"/>
                  <a:pt x="2344" y="47"/>
                </a:cubicBezTo>
                <a:cubicBezTo>
                  <a:pt x="2520" y="52"/>
                  <a:pt x="2509" y="907"/>
                  <a:pt x="2872" y="919"/>
                </a:cubicBezTo>
                <a:cubicBezTo>
                  <a:pt x="3235" y="931"/>
                  <a:pt x="3877" y="525"/>
                  <a:pt x="4520" y="119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638360" y="1841400"/>
            <a:ext cx="355680" cy="3556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1727280" y="4419720"/>
            <a:ext cx="355680" cy="355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51040" y="4495680"/>
            <a:ext cx="7137360" cy="1632240"/>
          </a:xfrm>
          <a:custGeom>
            <a:avLst/>
            <a:gdLst/>
            <a:ahLst/>
            <a:rect l="l" t="t" r="r" b="b"/>
            <a:pathLst>
              <a:path w="4496" h="1028">
                <a:moveTo>
                  <a:pt x="0" y="216"/>
                </a:moveTo>
                <a:cubicBezTo>
                  <a:pt x="32" y="219"/>
                  <a:pt x="123" y="221"/>
                  <a:pt x="192" y="224"/>
                </a:cubicBezTo>
                <a:cubicBezTo>
                  <a:pt x="261" y="227"/>
                  <a:pt x="353" y="232"/>
                  <a:pt x="416" y="232"/>
                </a:cubicBezTo>
                <a:cubicBezTo>
                  <a:pt x="479" y="232"/>
                  <a:pt x="499" y="231"/>
                  <a:pt x="568" y="224"/>
                </a:cubicBezTo>
                <a:cubicBezTo>
                  <a:pt x="637" y="217"/>
                  <a:pt x="747" y="195"/>
                  <a:pt x="832" y="192"/>
                </a:cubicBezTo>
                <a:cubicBezTo>
                  <a:pt x="917" y="189"/>
                  <a:pt x="997" y="211"/>
                  <a:pt x="1080" y="208"/>
                </a:cubicBezTo>
                <a:cubicBezTo>
                  <a:pt x="1163" y="205"/>
                  <a:pt x="1225" y="185"/>
                  <a:pt x="1328" y="176"/>
                </a:cubicBezTo>
                <a:cubicBezTo>
                  <a:pt x="1431" y="167"/>
                  <a:pt x="1531" y="157"/>
                  <a:pt x="1696" y="152"/>
                </a:cubicBezTo>
                <a:cubicBezTo>
                  <a:pt x="1861" y="147"/>
                  <a:pt x="2128" y="0"/>
                  <a:pt x="2320" y="144"/>
                </a:cubicBezTo>
                <a:cubicBezTo>
                  <a:pt x="2512" y="288"/>
                  <a:pt x="2485" y="1004"/>
                  <a:pt x="2848" y="1016"/>
                </a:cubicBezTo>
                <a:cubicBezTo>
                  <a:pt x="3211" y="1028"/>
                  <a:pt x="3853" y="622"/>
                  <a:pt x="4496" y="216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4572000" y="1231920"/>
            <a:ext cx="4165560" cy="53085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0" y="-108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Resilience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daptive capacity (information storin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876240" y="1881360"/>
            <a:ext cx="7175520" cy="1477800"/>
          </a:xfrm>
          <a:custGeom>
            <a:avLst/>
            <a:gdLst/>
            <a:ahLst/>
            <a:rect l="l" t="t" r="r" b="b"/>
            <a:pathLst>
              <a:path w="4520" h="931">
                <a:moveTo>
                  <a:pt x="0" y="319"/>
                </a:moveTo>
                <a:cubicBezTo>
                  <a:pt x="66" y="214"/>
                  <a:pt x="132" y="110"/>
                  <a:pt x="216" y="127"/>
                </a:cubicBezTo>
                <a:cubicBezTo>
                  <a:pt x="300" y="144"/>
                  <a:pt x="407" y="427"/>
                  <a:pt x="504" y="423"/>
                </a:cubicBezTo>
                <a:cubicBezTo>
                  <a:pt x="601" y="419"/>
                  <a:pt x="703" y="72"/>
                  <a:pt x="800" y="103"/>
                </a:cubicBezTo>
                <a:cubicBezTo>
                  <a:pt x="897" y="134"/>
                  <a:pt x="995" y="616"/>
                  <a:pt x="1088" y="607"/>
                </a:cubicBezTo>
                <a:cubicBezTo>
                  <a:pt x="1181" y="598"/>
                  <a:pt x="1239" y="0"/>
                  <a:pt x="1360" y="47"/>
                </a:cubicBezTo>
                <a:cubicBezTo>
                  <a:pt x="1481" y="94"/>
                  <a:pt x="1652" y="887"/>
                  <a:pt x="1816" y="887"/>
                </a:cubicBezTo>
                <a:cubicBezTo>
                  <a:pt x="1980" y="887"/>
                  <a:pt x="2168" y="42"/>
                  <a:pt x="2344" y="47"/>
                </a:cubicBezTo>
                <a:cubicBezTo>
                  <a:pt x="2520" y="52"/>
                  <a:pt x="2509" y="907"/>
                  <a:pt x="2872" y="919"/>
                </a:cubicBezTo>
                <a:cubicBezTo>
                  <a:pt x="3235" y="931"/>
                  <a:pt x="3877" y="525"/>
                  <a:pt x="4520" y="119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981080" y="1650960"/>
            <a:ext cx="355680" cy="3556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082960" y="4406760"/>
            <a:ext cx="355320" cy="3556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851040" y="4495680"/>
            <a:ext cx="7137360" cy="1632240"/>
          </a:xfrm>
          <a:custGeom>
            <a:avLst/>
            <a:gdLst/>
            <a:ahLst/>
            <a:rect l="l" t="t" r="r" b="b"/>
            <a:pathLst>
              <a:path w="4496" h="1028">
                <a:moveTo>
                  <a:pt x="0" y="216"/>
                </a:moveTo>
                <a:cubicBezTo>
                  <a:pt x="32" y="219"/>
                  <a:pt x="123" y="221"/>
                  <a:pt x="192" y="224"/>
                </a:cubicBezTo>
                <a:cubicBezTo>
                  <a:pt x="261" y="227"/>
                  <a:pt x="353" y="232"/>
                  <a:pt x="416" y="232"/>
                </a:cubicBezTo>
                <a:cubicBezTo>
                  <a:pt x="479" y="232"/>
                  <a:pt x="499" y="231"/>
                  <a:pt x="568" y="224"/>
                </a:cubicBezTo>
                <a:cubicBezTo>
                  <a:pt x="637" y="217"/>
                  <a:pt x="747" y="195"/>
                  <a:pt x="832" y="192"/>
                </a:cubicBezTo>
                <a:cubicBezTo>
                  <a:pt x="917" y="189"/>
                  <a:pt x="997" y="211"/>
                  <a:pt x="1080" y="208"/>
                </a:cubicBezTo>
                <a:cubicBezTo>
                  <a:pt x="1163" y="205"/>
                  <a:pt x="1225" y="185"/>
                  <a:pt x="1328" y="176"/>
                </a:cubicBezTo>
                <a:cubicBezTo>
                  <a:pt x="1431" y="167"/>
                  <a:pt x="1531" y="157"/>
                  <a:pt x="1696" y="152"/>
                </a:cubicBezTo>
                <a:cubicBezTo>
                  <a:pt x="1861" y="147"/>
                  <a:pt x="2128" y="0"/>
                  <a:pt x="2320" y="144"/>
                </a:cubicBezTo>
                <a:cubicBezTo>
                  <a:pt x="2512" y="288"/>
                  <a:pt x="2485" y="1004"/>
                  <a:pt x="2848" y="1016"/>
                </a:cubicBezTo>
                <a:cubicBezTo>
                  <a:pt x="3211" y="1028"/>
                  <a:pt x="3853" y="622"/>
                  <a:pt x="4496" y="216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"/>
          <p:cNvSpPr/>
          <p:nvPr/>
        </p:nvSpPr>
        <p:spPr>
          <a:xfrm>
            <a:off x="4572000" y="1231920"/>
            <a:ext cx="4165560" cy="53085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0" y="-108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Resilience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daptive capacity (information storin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876240" y="1881360"/>
            <a:ext cx="7175520" cy="1477800"/>
          </a:xfrm>
          <a:custGeom>
            <a:avLst/>
            <a:gdLst/>
            <a:ahLst/>
            <a:rect l="l" t="t" r="r" b="b"/>
            <a:pathLst>
              <a:path w="4520" h="931">
                <a:moveTo>
                  <a:pt x="0" y="319"/>
                </a:moveTo>
                <a:cubicBezTo>
                  <a:pt x="66" y="214"/>
                  <a:pt x="132" y="110"/>
                  <a:pt x="216" y="127"/>
                </a:cubicBezTo>
                <a:cubicBezTo>
                  <a:pt x="300" y="144"/>
                  <a:pt x="407" y="427"/>
                  <a:pt x="504" y="423"/>
                </a:cubicBezTo>
                <a:cubicBezTo>
                  <a:pt x="601" y="419"/>
                  <a:pt x="703" y="72"/>
                  <a:pt x="800" y="103"/>
                </a:cubicBezTo>
                <a:cubicBezTo>
                  <a:pt x="897" y="134"/>
                  <a:pt x="995" y="616"/>
                  <a:pt x="1088" y="607"/>
                </a:cubicBezTo>
                <a:cubicBezTo>
                  <a:pt x="1181" y="598"/>
                  <a:pt x="1239" y="0"/>
                  <a:pt x="1360" y="47"/>
                </a:cubicBezTo>
                <a:cubicBezTo>
                  <a:pt x="1481" y="94"/>
                  <a:pt x="1652" y="887"/>
                  <a:pt x="1816" y="887"/>
                </a:cubicBezTo>
                <a:cubicBezTo>
                  <a:pt x="1980" y="887"/>
                  <a:pt x="2168" y="42"/>
                  <a:pt x="2344" y="47"/>
                </a:cubicBezTo>
                <a:cubicBezTo>
                  <a:pt x="2520" y="52"/>
                  <a:pt x="2509" y="907"/>
                  <a:pt x="2872" y="919"/>
                </a:cubicBezTo>
                <a:cubicBezTo>
                  <a:pt x="3235" y="931"/>
                  <a:pt x="3877" y="525"/>
                  <a:pt x="4520" y="119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2400480" y="2209680"/>
            <a:ext cx="355320" cy="3556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425680" y="4406760"/>
            <a:ext cx="355680" cy="3556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851040" y="4495680"/>
            <a:ext cx="7137360" cy="1632240"/>
          </a:xfrm>
          <a:custGeom>
            <a:avLst/>
            <a:gdLst/>
            <a:ahLst/>
            <a:rect l="l" t="t" r="r" b="b"/>
            <a:pathLst>
              <a:path w="4496" h="1028">
                <a:moveTo>
                  <a:pt x="0" y="216"/>
                </a:moveTo>
                <a:cubicBezTo>
                  <a:pt x="32" y="219"/>
                  <a:pt x="123" y="221"/>
                  <a:pt x="192" y="224"/>
                </a:cubicBezTo>
                <a:cubicBezTo>
                  <a:pt x="261" y="227"/>
                  <a:pt x="353" y="232"/>
                  <a:pt x="416" y="232"/>
                </a:cubicBezTo>
                <a:cubicBezTo>
                  <a:pt x="479" y="232"/>
                  <a:pt x="499" y="231"/>
                  <a:pt x="568" y="224"/>
                </a:cubicBezTo>
                <a:cubicBezTo>
                  <a:pt x="637" y="217"/>
                  <a:pt x="747" y="195"/>
                  <a:pt x="832" y="192"/>
                </a:cubicBezTo>
                <a:cubicBezTo>
                  <a:pt x="917" y="189"/>
                  <a:pt x="997" y="211"/>
                  <a:pt x="1080" y="208"/>
                </a:cubicBezTo>
                <a:cubicBezTo>
                  <a:pt x="1163" y="205"/>
                  <a:pt x="1225" y="185"/>
                  <a:pt x="1328" y="176"/>
                </a:cubicBezTo>
                <a:cubicBezTo>
                  <a:pt x="1431" y="167"/>
                  <a:pt x="1531" y="157"/>
                  <a:pt x="1696" y="152"/>
                </a:cubicBezTo>
                <a:cubicBezTo>
                  <a:pt x="1861" y="147"/>
                  <a:pt x="2128" y="0"/>
                  <a:pt x="2320" y="144"/>
                </a:cubicBezTo>
                <a:cubicBezTo>
                  <a:pt x="2512" y="288"/>
                  <a:pt x="2485" y="1004"/>
                  <a:pt x="2848" y="1016"/>
                </a:cubicBezTo>
                <a:cubicBezTo>
                  <a:pt x="3211" y="1028"/>
                  <a:pt x="3853" y="622"/>
                  <a:pt x="4496" y="216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1599840" y="1501920"/>
            <a:ext cx="190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n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er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4572000" y="1231920"/>
            <a:ext cx="4165560" cy="53085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0" y="-108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Resilience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daptive capacity (information storin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76240" y="1881360"/>
            <a:ext cx="7175520" cy="1477800"/>
          </a:xfrm>
          <a:custGeom>
            <a:avLst/>
            <a:gdLst/>
            <a:ahLst/>
            <a:rect l="l" t="t" r="r" b="b"/>
            <a:pathLst>
              <a:path w="4520" h="931">
                <a:moveTo>
                  <a:pt x="0" y="319"/>
                </a:moveTo>
                <a:cubicBezTo>
                  <a:pt x="66" y="214"/>
                  <a:pt x="132" y="110"/>
                  <a:pt x="216" y="127"/>
                </a:cubicBezTo>
                <a:cubicBezTo>
                  <a:pt x="300" y="144"/>
                  <a:pt x="407" y="427"/>
                  <a:pt x="504" y="423"/>
                </a:cubicBezTo>
                <a:cubicBezTo>
                  <a:pt x="601" y="419"/>
                  <a:pt x="703" y="72"/>
                  <a:pt x="800" y="103"/>
                </a:cubicBezTo>
                <a:cubicBezTo>
                  <a:pt x="897" y="134"/>
                  <a:pt x="995" y="616"/>
                  <a:pt x="1088" y="607"/>
                </a:cubicBezTo>
                <a:cubicBezTo>
                  <a:pt x="1181" y="598"/>
                  <a:pt x="1239" y="0"/>
                  <a:pt x="1360" y="47"/>
                </a:cubicBezTo>
                <a:cubicBezTo>
                  <a:pt x="1481" y="94"/>
                  <a:pt x="1652" y="887"/>
                  <a:pt x="1816" y="887"/>
                </a:cubicBezTo>
                <a:cubicBezTo>
                  <a:pt x="1980" y="887"/>
                  <a:pt x="2168" y="42"/>
                  <a:pt x="2344" y="47"/>
                </a:cubicBezTo>
                <a:cubicBezTo>
                  <a:pt x="2520" y="52"/>
                  <a:pt x="2509" y="907"/>
                  <a:pt x="2872" y="919"/>
                </a:cubicBezTo>
                <a:cubicBezTo>
                  <a:pt x="3235" y="931"/>
                  <a:pt x="3877" y="525"/>
                  <a:pt x="4520" y="119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2577960" y="1714680"/>
            <a:ext cx="355680" cy="355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2781360" y="4381560"/>
            <a:ext cx="355680" cy="3556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851040" y="4495680"/>
            <a:ext cx="7137360" cy="1632240"/>
          </a:xfrm>
          <a:custGeom>
            <a:avLst/>
            <a:gdLst/>
            <a:ahLst/>
            <a:rect l="l" t="t" r="r" b="b"/>
            <a:pathLst>
              <a:path w="4496" h="1028">
                <a:moveTo>
                  <a:pt x="0" y="216"/>
                </a:moveTo>
                <a:cubicBezTo>
                  <a:pt x="32" y="219"/>
                  <a:pt x="123" y="221"/>
                  <a:pt x="192" y="224"/>
                </a:cubicBezTo>
                <a:cubicBezTo>
                  <a:pt x="261" y="227"/>
                  <a:pt x="353" y="232"/>
                  <a:pt x="416" y="232"/>
                </a:cubicBezTo>
                <a:cubicBezTo>
                  <a:pt x="479" y="232"/>
                  <a:pt x="499" y="231"/>
                  <a:pt x="568" y="224"/>
                </a:cubicBezTo>
                <a:cubicBezTo>
                  <a:pt x="637" y="217"/>
                  <a:pt x="747" y="195"/>
                  <a:pt x="832" y="192"/>
                </a:cubicBezTo>
                <a:cubicBezTo>
                  <a:pt x="917" y="189"/>
                  <a:pt x="997" y="211"/>
                  <a:pt x="1080" y="208"/>
                </a:cubicBezTo>
                <a:cubicBezTo>
                  <a:pt x="1163" y="205"/>
                  <a:pt x="1225" y="185"/>
                  <a:pt x="1328" y="176"/>
                </a:cubicBezTo>
                <a:cubicBezTo>
                  <a:pt x="1431" y="167"/>
                  <a:pt x="1531" y="157"/>
                  <a:pt x="1696" y="152"/>
                </a:cubicBezTo>
                <a:cubicBezTo>
                  <a:pt x="1861" y="147"/>
                  <a:pt x="2128" y="0"/>
                  <a:pt x="2320" y="144"/>
                </a:cubicBezTo>
                <a:cubicBezTo>
                  <a:pt x="2512" y="288"/>
                  <a:pt x="2485" y="1004"/>
                  <a:pt x="2848" y="1016"/>
                </a:cubicBezTo>
                <a:cubicBezTo>
                  <a:pt x="3211" y="1028"/>
                  <a:pt x="3853" y="622"/>
                  <a:pt x="4496" y="216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4572000" y="1231920"/>
            <a:ext cx="4165560" cy="53085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0" y="-108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Resilience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daptive capacity (information storin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876240" y="1881360"/>
            <a:ext cx="7175520" cy="1477800"/>
          </a:xfrm>
          <a:custGeom>
            <a:avLst/>
            <a:gdLst/>
            <a:ahLst/>
            <a:rect l="l" t="t" r="r" b="b"/>
            <a:pathLst>
              <a:path w="4520" h="931">
                <a:moveTo>
                  <a:pt x="0" y="319"/>
                </a:moveTo>
                <a:cubicBezTo>
                  <a:pt x="66" y="214"/>
                  <a:pt x="132" y="110"/>
                  <a:pt x="216" y="127"/>
                </a:cubicBezTo>
                <a:cubicBezTo>
                  <a:pt x="300" y="144"/>
                  <a:pt x="407" y="427"/>
                  <a:pt x="504" y="423"/>
                </a:cubicBezTo>
                <a:cubicBezTo>
                  <a:pt x="601" y="419"/>
                  <a:pt x="703" y="72"/>
                  <a:pt x="800" y="103"/>
                </a:cubicBezTo>
                <a:cubicBezTo>
                  <a:pt x="897" y="134"/>
                  <a:pt x="995" y="616"/>
                  <a:pt x="1088" y="607"/>
                </a:cubicBezTo>
                <a:cubicBezTo>
                  <a:pt x="1181" y="598"/>
                  <a:pt x="1239" y="0"/>
                  <a:pt x="1360" y="47"/>
                </a:cubicBezTo>
                <a:cubicBezTo>
                  <a:pt x="1481" y="94"/>
                  <a:pt x="1652" y="887"/>
                  <a:pt x="1816" y="887"/>
                </a:cubicBezTo>
                <a:cubicBezTo>
                  <a:pt x="1980" y="887"/>
                  <a:pt x="2168" y="42"/>
                  <a:pt x="2344" y="47"/>
                </a:cubicBezTo>
                <a:cubicBezTo>
                  <a:pt x="2520" y="52"/>
                  <a:pt x="2509" y="907"/>
                  <a:pt x="2872" y="919"/>
                </a:cubicBezTo>
                <a:cubicBezTo>
                  <a:pt x="3235" y="931"/>
                  <a:pt x="3877" y="525"/>
                  <a:pt x="4520" y="119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19520" y="1562040"/>
            <a:ext cx="355320" cy="3556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124080" y="4356000"/>
            <a:ext cx="355680" cy="3556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851040" y="4495680"/>
            <a:ext cx="7137360" cy="1632240"/>
          </a:xfrm>
          <a:custGeom>
            <a:avLst/>
            <a:gdLst/>
            <a:ahLst/>
            <a:rect l="l" t="t" r="r" b="b"/>
            <a:pathLst>
              <a:path w="4496" h="1028">
                <a:moveTo>
                  <a:pt x="0" y="216"/>
                </a:moveTo>
                <a:cubicBezTo>
                  <a:pt x="32" y="219"/>
                  <a:pt x="123" y="221"/>
                  <a:pt x="192" y="224"/>
                </a:cubicBezTo>
                <a:cubicBezTo>
                  <a:pt x="261" y="227"/>
                  <a:pt x="353" y="232"/>
                  <a:pt x="416" y="232"/>
                </a:cubicBezTo>
                <a:cubicBezTo>
                  <a:pt x="479" y="232"/>
                  <a:pt x="499" y="231"/>
                  <a:pt x="568" y="224"/>
                </a:cubicBezTo>
                <a:cubicBezTo>
                  <a:pt x="637" y="217"/>
                  <a:pt x="747" y="195"/>
                  <a:pt x="832" y="192"/>
                </a:cubicBezTo>
                <a:cubicBezTo>
                  <a:pt x="917" y="189"/>
                  <a:pt x="997" y="211"/>
                  <a:pt x="1080" y="208"/>
                </a:cubicBezTo>
                <a:cubicBezTo>
                  <a:pt x="1163" y="205"/>
                  <a:pt x="1225" y="185"/>
                  <a:pt x="1328" y="176"/>
                </a:cubicBezTo>
                <a:cubicBezTo>
                  <a:pt x="1431" y="167"/>
                  <a:pt x="1531" y="157"/>
                  <a:pt x="1696" y="152"/>
                </a:cubicBezTo>
                <a:cubicBezTo>
                  <a:pt x="1861" y="147"/>
                  <a:pt x="2128" y="0"/>
                  <a:pt x="2320" y="144"/>
                </a:cubicBezTo>
                <a:cubicBezTo>
                  <a:pt x="2512" y="288"/>
                  <a:pt x="2485" y="1004"/>
                  <a:pt x="2848" y="1016"/>
                </a:cubicBezTo>
                <a:cubicBezTo>
                  <a:pt x="3211" y="1028"/>
                  <a:pt x="3853" y="622"/>
                  <a:pt x="4496" y="216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4572000" y="1231920"/>
            <a:ext cx="4165560" cy="53085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0" y="-108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Resilience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daptive capacity (information storin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876240" y="1881360"/>
            <a:ext cx="7175520" cy="1477800"/>
          </a:xfrm>
          <a:custGeom>
            <a:avLst/>
            <a:gdLst/>
            <a:ahLst/>
            <a:rect l="l" t="t" r="r" b="b"/>
            <a:pathLst>
              <a:path w="4520" h="931">
                <a:moveTo>
                  <a:pt x="0" y="319"/>
                </a:moveTo>
                <a:cubicBezTo>
                  <a:pt x="66" y="214"/>
                  <a:pt x="132" y="110"/>
                  <a:pt x="216" y="127"/>
                </a:cubicBezTo>
                <a:cubicBezTo>
                  <a:pt x="300" y="144"/>
                  <a:pt x="407" y="427"/>
                  <a:pt x="504" y="423"/>
                </a:cubicBezTo>
                <a:cubicBezTo>
                  <a:pt x="601" y="419"/>
                  <a:pt x="703" y="72"/>
                  <a:pt x="800" y="103"/>
                </a:cubicBezTo>
                <a:cubicBezTo>
                  <a:pt x="897" y="134"/>
                  <a:pt x="995" y="616"/>
                  <a:pt x="1088" y="607"/>
                </a:cubicBezTo>
                <a:cubicBezTo>
                  <a:pt x="1181" y="598"/>
                  <a:pt x="1239" y="0"/>
                  <a:pt x="1360" y="47"/>
                </a:cubicBezTo>
                <a:cubicBezTo>
                  <a:pt x="1481" y="94"/>
                  <a:pt x="1652" y="887"/>
                  <a:pt x="1816" y="887"/>
                </a:cubicBezTo>
                <a:cubicBezTo>
                  <a:pt x="1980" y="887"/>
                  <a:pt x="2168" y="42"/>
                  <a:pt x="2344" y="47"/>
                </a:cubicBezTo>
                <a:cubicBezTo>
                  <a:pt x="2520" y="52"/>
                  <a:pt x="2509" y="907"/>
                  <a:pt x="2872" y="919"/>
                </a:cubicBezTo>
                <a:cubicBezTo>
                  <a:pt x="3235" y="931"/>
                  <a:pt x="3877" y="525"/>
                  <a:pt x="4520" y="119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581280" y="2806560"/>
            <a:ext cx="355680" cy="3556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467160" y="4330800"/>
            <a:ext cx="355680" cy="3556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851040" y="4495680"/>
            <a:ext cx="7137360" cy="1632240"/>
          </a:xfrm>
          <a:custGeom>
            <a:avLst/>
            <a:gdLst/>
            <a:ahLst/>
            <a:rect l="l" t="t" r="r" b="b"/>
            <a:pathLst>
              <a:path w="4496" h="1028">
                <a:moveTo>
                  <a:pt x="0" y="216"/>
                </a:moveTo>
                <a:cubicBezTo>
                  <a:pt x="32" y="219"/>
                  <a:pt x="123" y="221"/>
                  <a:pt x="192" y="224"/>
                </a:cubicBezTo>
                <a:cubicBezTo>
                  <a:pt x="261" y="227"/>
                  <a:pt x="353" y="232"/>
                  <a:pt x="416" y="232"/>
                </a:cubicBezTo>
                <a:cubicBezTo>
                  <a:pt x="479" y="232"/>
                  <a:pt x="499" y="231"/>
                  <a:pt x="568" y="224"/>
                </a:cubicBezTo>
                <a:cubicBezTo>
                  <a:pt x="637" y="217"/>
                  <a:pt x="747" y="195"/>
                  <a:pt x="832" y="192"/>
                </a:cubicBezTo>
                <a:cubicBezTo>
                  <a:pt x="917" y="189"/>
                  <a:pt x="997" y="211"/>
                  <a:pt x="1080" y="208"/>
                </a:cubicBezTo>
                <a:cubicBezTo>
                  <a:pt x="1163" y="205"/>
                  <a:pt x="1225" y="185"/>
                  <a:pt x="1328" y="176"/>
                </a:cubicBezTo>
                <a:cubicBezTo>
                  <a:pt x="1431" y="167"/>
                  <a:pt x="1531" y="157"/>
                  <a:pt x="1696" y="152"/>
                </a:cubicBezTo>
                <a:cubicBezTo>
                  <a:pt x="1861" y="147"/>
                  <a:pt x="2128" y="0"/>
                  <a:pt x="2320" y="144"/>
                </a:cubicBezTo>
                <a:cubicBezTo>
                  <a:pt x="2512" y="288"/>
                  <a:pt x="2485" y="1004"/>
                  <a:pt x="2848" y="1016"/>
                </a:cubicBezTo>
                <a:cubicBezTo>
                  <a:pt x="3211" y="1028"/>
                  <a:pt x="3853" y="622"/>
                  <a:pt x="4496" y="216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2913480" y="1501920"/>
            <a:ext cx="1879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r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er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4572000" y="1231920"/>
            <a:ext cx="4165560" cy="53085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0" y="-108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Resilience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daptive capacity (information storin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76240" y="1881360"/>
            <a:ext cx="7175520" cy="1477800"/>
          </a:xfrm>
          <a:custGeom>
            <a:avLst/>
            <a:gdLst/>
            <a:ahLst/>
            <a:rect l="l" t="t" r="r" b="b"/>
            <a:pathLst>
              <a:path w="4520" h="931">
                <a:moveTo>
                  <a:pt x="0" y="319"/>
                </a:moveTo>
                <a:cubicBezTo>
                  <a:pt x="66" y="214"/>
                  <a:pt x="132" y="110"/>
                  <a:pt x="216" y="127"/>
                </a:cubicBezTo>
                <a:cubicBezTo>
                  <a:pt x="300" y="144"/>
                  <a:pt x="407" y="427"/>
                  <a:pt x="504" y="423"/>
                </a:cubicBezTo>
                <a:cubicBezTo>
                  <a:pt x="601" y="419"/>
                  <a:pt x="703" y="72"/>
                  <a:pt x="800" y="103"/>
                </a:cubicBezTo>
                <a:cubicBezTo>
                  <a:pt x="897" y="134"/>
                  <a:pt x="995" y="616"/>
                  <a:pt x="1088" y="607"/>
                </a:cubicBezTo>
                <a:cubicBezTo>
                  <a:pt x="1181" y="598"/>
                  <a:pt x="1239" y="0"/>
                  <a:pt x="1360" y="47"/>
                </a:cubicBezTo>
                <a:cubicBezTo>
                  <a:pt x="1481" y="94"/>
                  <a:pt x="1652" y="887"/>
                  <a:pt x="1816" y="887"/>
                </a:cubicBezTo>
                <a:cubicBezTo>
                  <a:pt x="1980" y="887"/>
                  <a:pt x="2168" y="42"/>
                  <a:pt x="2344" y="47"/>
                </a:cubicBezTo>
                <a:cubicBezTo>
                  <a:pt x="2520" y="52"/>
                  <a:pt x="2509" y="907"/>
                  <a:pt x="2872" y="919"/>
                </a:cubicBezTo>
                <a:cubicBezTo>
                  <a:pt x="3235" y="931"/>
                  <a:pt x="3877" y="525"/>
                  <a:pt x="4520" y="119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987720" y="1930320"/>
            <a:ext cx="355680" cy="3556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797280" y="4267080"/>
            <a:ext cx="355680" cy="3556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851040" y="4495680"/>
            <a:ext cx="7137360" cy="1632240"/>
          </a:xfrm>
          <a:custGeom>
            <a:avLst/>
            <a:gdLst/>
            <a:ahLst/>
            <a:rect l="l" t="t" r="r" b="b"/>
            <a:pathLst>
              <a:path w="4496" h="1028">
                <a:moveTo>
                  <a:pt x="0" y="216"/>
                </a:moveTo>
                <a:cubicBezTo>
                  <a:pt x="32" y="219"/>
                  <a:pt x="123" y="221"/>
                  <a:pt x="192" y="224"/>
                </a:cubicBezTo>
                <a:cubicBezTo>
                  <a:pt x="261" y="227"/>
                  <a:pt x="353" y="232"/>
                  <a:pt x="416" y="232"/>
                </a:cubicBezTo>
                <a:cubicBezTo>
                  <a:pt x="479" y="232"/>
                  <a:pt x="499" y="231"/>
                  <a:pt x="568" y="224"/>
                </a:cubicBezTo>
                <a:cubicBezTo>
                  <a:pt x="637" y="217"/>
                  <a:pt x="747" y="195"/>
                  <a:pt x="832" y="192"/>
                </a:cubicBezTo>
                <a:cubicBezTo>
                  <a:pt x="917" y="189"/>
                  <a:pt x="997" y="211"/>
                  <a:pt x="1080" y="208"/>
                </a:cubicBezTo>
                <a:cubicBezTo>
                  <a:pt x="1163" y="205"/>
                  <a:pt x="1225" y="185"/>
                  <a:pt x="1328" y="176"/>
                </a:cubicBezTo>
                <a:cubicBezTo>
                  <a:pt x="1431" y="167"/>
                  <a:pt x="1531" y="157"/>
                  <a:pt x="1696" y="152"/>
                </a:cubicBezTo>
                <a:cubicBezTo>
                  <a:pt x="1861" y="147"/>
                  <a:pt x="2128" y="0"/>
                  <a:pt x="2320" y="144"/>
                </a:cubicBezTo>
                <a:cubicBezTo>
                  <a:pt x="2512" y="288"/>
                  <a:pt x="2485" y="1004"/>
                  <a:pt x="2848" y="1016"/>
                </a:cubicBezTo>
                <a:cubicBezTo>
                  <a:pt x="3211" y="1028"/>
                  <a:pt x="3853" y="622"/>
                  <a:pt x="4496" y="216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"/>
          <p:cNvSpPr/>
          <p:nvPr/>
        </p:nvSpPr>
        <p:spPr>
          <a:xfrm>
            <a:off x="4572000" y="1231920"/>
            <a:ext cx="4165560" cy="53085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0" y="-108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Resilience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daptive capacity (information storin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876240" y="1881360"/>
            <a:ext cx="7175520" cy="1477800"/>
          </a:xfrm>
          <a:custGeom>
            <a:avLst/>
            <a:gdLst/>
            <a:ahLst/>
            <a:rect l="l" t="t" r="r" b="b"/>
            <a:pathLst>
              <a:path w="4520" h="931">
                <a:moveTo>
                  <a:pt x="0" y="319"/>
                </a:moveTo>
                <a:cubicBezTo>
                  <a:pt x="66" y="214"/>
                  <a:pt x="132" y="110"/>
                  <a:pt x="216" y="127"/>
                </a:cubicBezTo>
                <a:cubicBezTo>
                  <a:pt x="300" y="144"/>
                  <a:pt x="407" y="427"/>
                  <a:pt x="504" y="423"/>
                </a:cubicBezTo>
                <a:cubicBezTo>
                  <a:pt x="601" y="419"/>
                  <a:pt x="703" y="72"/>
                  <a:pt x="800" y="103"/>
                </a:cubicBezTo>
                <a:cubicBezTo>
                  <a:pt x="897" y="134"/>
                  <a:pt x="995" y="616"/>
                  <a:pt x="1088" y="607"/>
                </a:cubicBezTo>
                <a:cubicBezTo>
                  <a:pt x="1181" y="598"/>
                  <a:pt x="1239" y="0"/>
                  <a:pt x="1360" y="47"/>
                </a:cubicBezTo>
                <a:cubicBezTo>
                  <a:pt x="1481" y="94"/>
                  <a:pt x="1652" y="887"/>
                  <a:pt x="1816" y="887"/>
                </a:cubicBezTo>
                <a:cubicBezTo>
                  <a:pt x="1980" y="887"/>
                  <a:pt x="2168" y="42"/>
                  <a:pt x="2344" y="47"/>
                </a:cubicBezTo>
                <a:cubicBezTo>
                  <a:pt x="2520" y="52"/>
                  <a:pt x="2509" y="907"/>
                  <a:pt x="2872" y="919"/>
                </a:cubicBezTo>
                <a:cubicBezTo>
                  <a:pt x="3235" y="931"/>
                  <a:pt x="3877" y="525"/>
                  <a:pt x="4520" y="119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6760" y="1562040"/>
            <a:ext cx="355680" cy="3556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368960" y="4305240"/>
            <a:ext cx="355320" cy="3556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51040" y="4495680"/>
            <a:ext cx="7137360" cy="1632240"/>
          </a:xfrm>
          <a:custGeom>
            <a:avLst/>
            <a:gdLst/>
            <a:ahLst/>
            <a:rect l="l" t="t" r="r" b="b"/>
            <a:pathLst>
              <a:path w="4496" h="1028">
                <a:moveTo>
                  <a:pt x="0" y="216"/>
                </a:moveTo>
                <a:cubicBezTo>
                  <a:pt x="32" y="219"/>
                  <a:pt x="123" y="221"/>
                  <a:pt x="192" y="224"/>
                </a:cubicBezTo>
                <a:cubicBezTo>
                  <a:pt x="261" y="227"/>
                  <a:pt x="353" y="232"/>
                  <a:pt x="416" y="232"/>
                </a:cubicBezTo>
                <a:cubicBezTo>
                  <a:pt x="479" y="232"/>
                  <a:pt x="499" y="231"/>
                  <a:pt x="568" y="224"/>
                </a:cubicBezTo>
                <a:cubicBezTo>
                  <a:pt x="637" y="217"/>
                  <a:pt x="747" y="195"/>
                  <a:pt x="832" y="192"/>
                </a:cubicBezTo>
                <a:cubicBezTo>
                  <a:pt x="917" y="189"/>
                  <a:pt x="997" y="211"/>
                  <a:pt x="1080" y="208"/>
                </a:cubicBezTo>
                <a:cubicBezTo>
                  <a:pt x="1163" y="205"/>
                  <a:pt x="1225" y="185"/>
                  <a:pt x="1328" y="176"/>
                </a:cubicBezTo>
                <a:cubicBezTo>
                  <a:pt x="1431" y="167"/>
                  <a:pt x="1531" y="157"/>
                  <a:pt x="1696" y="152"/>
                </a:cubicBezTo>
                <a:cubicBezTo>
                  <a:pt x="1861" y="147"/>
                  <a:pt x="2128" y="0"/>
                  <a:pt x="2320" y="144"/>
                </a:cubicBezTo>
                <a:cubicBezTo>
                  <a:pt x="2512" y="288"/>
                  <a:pt x="2485" y="1004"/>
                  <a:pt x="2848" y="1016"/>
                </a:cubicBezTo>
                <a:cubicBezTo>
                  <a:pt x="3211" y="1028"/>
                  <a:pt x="3853" y="622"/>
                  <a:pt x="4496" y="216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-108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s it sustainabilit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108160" y="2070000"/>
            <a:ext cx="914400" cy="9144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54160" y="3216240"/>
            <a:ext cx="8635680" cy="0"/>
          </a:xfrm>
          <a:prstGeom prst="line">
            <a:avLst/>
          </a:prstGeom>
          <a:ln w="444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632040" y="952560"/>
            <a:ext cx="182880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4546440" y="1143000"/>
            <a:ext cx="0" cy="6984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4572000" y="1231920"/>
            <a:ext cx="4165560" cy="53085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0" y="-108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Resilience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daptive capacity (information storin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76240" y="1881360"/>
            <a:ext cx="7175520" cy="1477800"/>
          </a:xfrm>
          <a:custGeom>
            <a:avLst/>
            <a:gdLst/>
            <a:ahLst/>
            <a:rect l="l" t="t" r="r" b="b"/>
            <a:pathLst>
              <a:path w="4520" h="931">
                <a:moveTo>
                  <a:pt x="0" y="319"/>
                </a:moveTo>
                <a:cubicBezTo>
                  <a:pt x="66" y="214"/>
                  <a:pt x="132" y="110"/>
                  <a:pt x="216" y="127"/>
                </a:cubicBezTo>
                <a:cubicBezTo>
                  <a:pt x="300" y="144"/>
                  <a:pt x="407" y="427"/>
                  <a:pt x="504" y="423"/>
                </a:cubicBezTo>
                <a:cubicBezTo>
                  <a:pt x="601" y="419"/>
                  <a:pt x="703" y="72"/>
                  <a:pt x="800" y="103"/>
                </a:cubicBezTo>
                <a:cubicBezTo>
                  <a:pt x="897" y="134"/>
                  <a:pt x="995" y="616"/>
                  <a:pt x="1088" y="607"/>
                </a:cubicBezTo>
                <a:cubicBezTo>
                  <a:pt x="1181" y="598"/>
                  <a:pt x="1239" y="0"/>
                  <a:pt x="1360" y="47"/>
                </a:cubicBezTo>
                <a:cubicBezTo>
                  <a:pt x="1481" y="94"/>
                  <a:pt x="1652" y="887"/>
                  <a:pt x="1816" y="887"/>
                </a:cubicBezTo>
                <a:cubicBezTo>
                  <a:pt x="1980" y="887"/>
                  <a:pt x="2168" y="42"/>
                  <a:pt x="2344" y="47"/>
                </a:cubicBezTo>
                <a:cubicBezTo>
                  <a:pt x="2520" y="52"/>
                  <a:pt x="2509" y="907"/>
                  <a:pt x="2872" y="919"/>
                </a:cubicBezTo>
                <a:cubicBezTo>
                  <a:pt x="3235" y="931"/>
                  <a:pt x="3877" y="525"/>
                  <a:pt x="4520" y="119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270400" y="2957400"/>
            <a:ext cx="355680" cy="3556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5257800" y="5715000"/>
            <a:ext cx="355680" cy="3556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51040" y="4495680"/>
            <a:ext cx="7137360" cy="1632240"/>
          </a:xfrm>
          <a:custGeom>
            <a:avLst/>
            <a:gdLst/>
            <a:ahLst/>
            <a:rect l="l" t="t" r="r" b="b"/>
            <a:pathLst>
              <a:path w="4496" h="1028">
                <a:moveTo>
                  <a:pt x="0" y="216"/>
                </a:moveTo>
                <a:cubicBezTo>
                  <a:pt x="32" y="219"/>
                  <a:pt x="123" y="221"/>
                  <a:pt x="192" y="224"/>
                </a:cubicBezTo>
                <a:cubicBezTo>
                  <a:pt x="261" y="227"/>
                  <a:pt x="353" y="232"/>
                  <a:pt x="416" y="232"/>
                </a:cubicBezTo>
                <a:cubicBezTo>
                  <a:pt x="479" y="232"/>
                  <a:pt x="499" y="231"/>
                  <a:pt x="568" y="224"/>
                </a:cubicBezTo>
                <a:cubicBezTo>
                  <a:pt x="637" y="217"/>
                  <a:pt x="747" y="195"/>
                  <a:pt x="832" y="192"/>
                </a:cubicBezTo>
                <a:cubicBezTo>
                  <a:pt x="917" y="189"/>
                  <a:pt x="997" y="211"/>
                  <a:pt x="1080" y="208"/>
                </a:cubicBezTo>
                <a:cubicBezTo>
                  <a:pt x="1163" y="205"/>
                  <a:pt x="1225" y="185"/>
                  <a:pt x="1328" y="176"/>
                </a:cubicBezTo>
                <a:cubicBezTo>
                  <a:pt x="1431" y="167"/>
                  <a:pt x="1531" y="157"/>
                  <a:pt x="1696" y="152"/>
                </a:cubicBezTo>
                <a:cubicBezTo>
                  <a:pt x="1861" y="147"/>
                  <a:pt x="2128" y="0"/>
                  <a:pt x="2320" y="144"/>
                </a:cubicBezTo>
                <a:cubicBezTo>
                  <a:pt x="2512" y="288"/>
                  <a:pt x="2485" y="1004"/>
                  <a:pt x="2848" y="1016"/>
                </a:cubicBezTo>
                <a:cubicBezTo>
                  <a:pt x="3211" y="1028"/>
                  <a:pt x="3853" y="622"/>
                  <a:pt x="4496" y="216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638960" y="1501920"/>
            <a:ext cx="1869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th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er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659840" y="4410000"/>
            <a:ext cx="184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exper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/>
          <p:nvPr/>
        </p:nvSpPr>
        <p:spPr>
          <a:xfrm>
            <a:off x="4572000" y="1231920"/>
            <a:ext cx="4165560" cy="53085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0" y="-108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Resilience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daptive capacity (information storin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76240" y="1881360"/>
            <a:ext cx="7175520" cy="1477800"/>
          </a:xfrm>
          <a:custGeom>
            <a:avLst/>
            <a:gdLst/>
            <a:ahLst/>
            <a:rect l="l" t="t" r="r" b="b"/>
            <a:pathLst>
              <a:path w="4520" h="931">
                <a:moveTo>
                  <a:pt x="0" y="319"/>
                </a:moveTo>
                <a:cubicBezTo>
                  <a:pt x="66" y="214"/>
                  <a:pt x="132" y="110"/>
                  <a:pt x="216" y="127"/>
                </a:cubicBezTo>
                <a:cubicBezTo>
                  <a:pt x="300" y="144"/>
                  <a:pt x="407" y="427"/>
                  <a:pt x="504" y="423"/>
                </a:cubicBezTo>
                <a:cubicBezTo>
                  <a:pt x="601" y="419"/>
                  <a:pt x="703" y="72"/>
                  <a:pt x="800" y="103"/>
                </a:cubicBezTo>
                <a:cubicBezTo>
                  <a:pt x="897" y="134"/>
                  <a:pt x="995" y="616"/>
                  <a:pt x="1088" y="607"/>
                </a:cubicBezTo>
                <a:cubicBezTo>
                  <a:pt x="1181" y="598"/>
                  <a:pt x="1239" y="0"/>
                  <a:pt x="1360" y="47"/>
                </a:cubicBezTo>
                <a:cubicBezTo>
                  <a:pt x="1481" y="94"/>
                  <a:pt x="1652" y="887"/>
                  <a:pt x="1816" y="887"/>
                </a:cubicBezTo>
                <a:cubicBezTo>
                  <a:pt x="1980" y="887"/>
                  <a:pt x="2168" y="42"/>
                  <a:pt x="2344" y="47"/>
                </a:cubicBezTo>
                <a:cubicBezTo>
                  <a:pt x="2520" y="52"/>
                  <a:pt x="2509" y="907"/>
                  <a:pt x="2872" y="919"/>
                </a:cubicBezTo>
                <a:cubicBezTo>
                  <a:pt x="3235" y="931"/>
                  <a:pt x="3877" y="525"/>
                  <a:pt x="4520" y="119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6629400" y="2411280"/>
            <a:ext cx="355680" cy="3556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435640" y="5702400"/>
            <a:ext cx="355680" cy="3556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851040" y="4495680"/>
            <a:ext cx="7137360" cy="1632240"/>
          </a:xfrm>
          <a:custGeom>
            <a:avLst/>
            <a:gdLst/>
            <a:ahLst/>
            <a:rect l="l" t="t" r="r" b="b"/>
            <a:pathLst>
              <a:path w="4496" h="1028">
                <a:moveTo>
                  <a:pt x="0" y="216"/>
                </a:moveTo>
                <a:cubicBezTo>
                  <a:pt x="32" y="219"/>
                  <a:pt x="123" y="221"/>
                  <a:pt x="192" y="224"/>
                </a:cubicBezTo>
                <a:cubicBezTo>
                  <a:pt x="261" y="227"/>
                  <a:pt x="353" y="232"/>
                  <a:pt x="416" y="232"/>
                </a:cubicBezTo>
                <a:cubicBezTo>
                  <a:pt x="479" y="232"/>
                  <a:pt x="499" y="231"/>
                  <a:pt x="568" y="224"/>
                </a:cubicBezTo>
                <a:cubicBezTo>
                  <a:pt x="637" y="217"/>
                  <a:pt x="747" y="195"/>
                  <a:pt x="832" y="192"/>
                </a:cubicBezTo>
                <a:cubicBezTo>
                  <a:pt x="917" y="189"/>
                  <a:pt x="997" y="211"/>
                  <a:pt x="1080" y="208"/>
                </a:cubicBezTo>
                <a:cubicBezTo>
                  <a:pt x="1163" y="205"/>
                  <a:pt x="1225" y="185"/>
                  <a:pt x="1328" y="176"/>
                </a:cubicBezTo>
                <a:cubicBezTo>
                  <a:pt x="1431" y="167"/>
                  <a:pt x="1531" y="157"/>
                  <a:pt x="1696" y="152"/>
                </a:cubicBezTo>
                <a:cubicBezTo>
                  <a:pt x="1861" y="147"/>
                  <a:pt x="2128" y="0"/>
                  <a:pt x="2320" y="144"/>
                </a:cubicBezTo>
                <a:cubicBezTo>
                  <a:pt x="2512" y="288"/>
                  <a:pt x="2485" y="1004"/>
                  <a:pt x="2848" y="1016"/>
                </a:cubicBezTo>
                <a:cubicBezTo>
                  <a:pt x="3211" y="1028"/>
                  <a:pt x="3853" y="622"/>
                  <a:pt x="4496" y="216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/>
          <p:nvPr/>
        </p:nvSpPr>
        <p:spPr>
          <a:xfrm>
            <a:off x="4572000" y="1231920"/>
            <a:ext cx="4165560" cy="5308560"/>
          </a:xfrm>
          <a:prstGeom prst="rect">
            <a:avLst/>
          </a:prstGeom>
          <a:solidFill>
            <a:srgbClr val="ffff0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0" y="-108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Resilience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adaptive capacity (information storing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876240" y="1881360"/>
            <a:ext cx="7175520" cy="1477800"/>
          </a:xfrm>
          <a:custGeom>
            <a:avLst/>
            <a:gdLst/>
            <a:ahLst/>
            <a:rect l="l" t="t" r="r" b="b"/>
            <a:pathLst>
              <a:path w="4520" h="931">
                <a:moveTo>
                  <a:pt x="0" y="319"/>
                </a:moveTo>
                <a:cubicBezTo>
                  <a:pt x="66" y="214"/>
                  <a:pt x="132" y="110"/>
                  <a:pt x="216" y="127"/>
                </a:cubicBezTo>
                <a:cubicBezTo>
                  <a:pt x="300" y="144"/>
                  <a:pt x="407" y="427"/>
                  <a:pt x="504" y="423"/>
                </a:cubicBezTo>
                <a:cubicBezTo>
                  <a:pt x="601" y="419"/>
                  <a:pt x="703" y="72"/>
                  <a:pt x="800" y="103"/>
                </a:cubicBezTo>
                <a:cubicBezTo>
                  <a:pt x="897" y="134"/>
                  <a:pt x="995" y="616"/>
                  <a:pt x="1088" y="607"/>
                </a:cubicBezTo>
                <a:cubicBezTo>
                  <a:pt x="1181" y="598"/>
                  <a:pt x="1239" y="0"/>
                  <a:pt x="1360" y="47"/>
                </a:cubicBezTo>
                <a:cubicBezTo>
                  <a:pt x="1481" y="94"/>
                  <a:pt x="1652" y="887"/>
                  <a:pt x="1816" y="887"/>
                </a:cubicBezTo>
                <a:cubicBezTo>
                  <a:pt x="1980" y="887"/>
                  <a:pt x="2168" y="42"/>
                  <a:pt x="2344" y="47"/>
                </a:cubicBezTo>
                <a:cubicBezTo>
                  <a:pt x="2520" y="52"/>
                  <a:pt x="2509" y="907"/>
                  <a:pt x="2872" y="919"/>
                </a:cubicBezTo>
                <a:cubicBezTo>
                  <a:pt x="3235" y="931"/>
                  <a:pt x="3877" y="525"/>
                  <a:pt x="4520" y="119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7112160" y="2106720"/>
            <a:ext cx="355320" cy="355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5562720" y="5651640"/>
            <a:ext cx="355320" cy="355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51040" y="4495680"/>
            <a:ext cx="7137360" cy="1632240"/>
          </a:xfrm>
          <a:custGeom>
            <a:avLst/>
            <a:gdLst/>
            <a:ahLst/>
            <a:rect l="l" t="t" r="r" b="b"/>
            <a:pathLst>
              <a:path w="4496" h="1028">
                <a:moveTo>
                  <a:pt x="0" y="216"/>
                </a:moveTo>
                <a:cubicBezTo>
                  <a:pt x="32" y="219"/>
                  <a:pt x="123" y="221"/>
                  <a:pt x="192" y="224"/>
                </a:cubicBezTo>
                <a:cubicBezTo>
                  <a:pt x="261" y="227"/>
                  <a:pt x="353" y="232"/>
                  <a:pt x="416" y="232"/>
                </a:cubicBezTo>
                <a:cubicBezTo>
                  <a:pt x="479" y="232"/>
                  <a:pt x="499" y="231"/>
                  <a:pt x="568" y="224"/>
                </a:cubicBezTo>
                <a:cubicBezTo>
                  <a:pt x="637" y="217"/>
                  <a:pt x="747" y="195"/>
                  <a:pt x="832" y="192"/>
                </a:cubicBezTo>
                <a:cubicBezTo>
                  <a:pt x="917" y="189"/>
                  <a:pt x="997" y="211"/>
                  <a:pt x="1080" y="208"/>
                </a:cubicBezTo>
                <a:cubicBezTo>
                  <a:pt x="1163" y="205"/>
                  <a:pt x="1225" y="185"/>
                  <a:pt x="1328" y="176"/>
                </a:cubicBezTo>
                <a:cubicBezTo>
                  <a:pt x="1431" y="167"/>
                  <a:pt x="1531" y="157"/>
                  <a:pt x="1696" y="152"/>
                </a:cubicBezTo>
                <a:cubicBezTo>
                  <a:pt x="1861" y="147"/>
                  <a:pt x="2128" y="0"/>
                  <a:pt x="2320" y="144"/>
                </a:cubicBezTo>
                <a:cubicBezTo>
                  <a:pt x="2512" y="288"/>
                  <a:pt x="2485" y="1004"/>
                  <a:pt x="2848" y="1016"/>
                </a:cubicBezTo>
                <a:cubicBezTo>
                  <a:pt x="3211" y="1028"/>
                  <a:pt x="3853" y="622"/>
                  <a:pt x="4496" y="216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803560" y="1577880"/>
            <a:ext cx="292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adaptive 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8520" y="4689360"/>
            <a:ext cx="28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adaptive capaci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"/>
          <p:cNvSpPr/>
          <p:nvPr/>
        </p:nvSpPr>
        <p:spPr>
          <a:xfrm>
            <a:off x="0" y="-108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Resilience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learning capacity (memor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76240" y="1881360"/>
            <a:ext cx="7175520" cy="1477800"/>
          </a:xfrm>
          <a:custGeom>
            <a:avLst/>
            <a:gdLst/>
            <a:ahLst/>
            <a:rect l="l" t="t" r="r" b="b"/>
            <a:pathLst>
              <a:path w="4520" h="931">
                <a:moveTo>
                  <a:pt x="0" y="319"/>
                </a:moveTo>
                <a:cubicBezTo>
                  <a:pt x="66" y="214"/>
                  <a:pt x="132" y="110"/>
                  <a:pt x="216" y="127"/>
                </a:cubicBezTo>
                <a:cubicBezTo>
                  <a:pt x="300" y="144"/>
                  <a:pt x="407" y="427"/>
                  <a:pt x="504" y="423"/>
                </a:cubicBezTo>
                <a:cubicBezTo>
                  <a:pt x="601" y="419"/>
                  <a:pt x="703" y="72"/>
                  <a:pt x="800" y="103"/>
                </a:cubicBezTo>
                <a:cubicBezTo>
                  <a:pt x="897" y="134"/>
                  <a:pt x="995" y="616"/>
                  <a:pt x="1088" y="607"/>
                </a:cubicBezTo>
                <a:cubicBezTo>
                  <a:pt x="1181" y="598"/>
                  <a:pt x="1239" y="0"/>
                  <a:pt x="1360" y="47"/>
                </a:cubicBezTo>
                <a:cubicBezTo>
                  <a:pt x="1481" y="94"/>
                  <a:pt x="1652" y="887"/>
                  <a:pt x="1816" y="887"/>
                </a:cubicBezTo>
                <a:cubicBezTo>
                  <a:pt x="1980" y="887"/>
                  <a:pt x="2168" y="42"/>
                  <a:pt x="2344" y="47"/>
                </a:cubicBezTo>
                <a:cubicBezTo>
                  <a:pt x="2520" y="52"/>
                  <a:pt x="2509" y="907"/>
                  <a:pt x="2872" y="919"/>
                </a:cubicBezTo>
                <a:cubicBezTo>
                  <a:pt x="3235" y="931"/>
                  <a:pt x="3877" y="525"/>
                  <a:pt x="4520" y="119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1015920" y="1689120"/>
            <a:ext cx="355680" cy="3556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851040" y="4573440"/>
            <a:ext cx="7175520" cy="1478160"/>
          </a:xfrm>
          <a:custGeom>
            <a:avLst/>
            <a:gdLst/>
            <a:ahLst/>
            <a:rect l="l" t="t" r="r" b="b"/>
            <a:pathLst>
              <a:path w="4520" h="931">
                <a:moveTo>
                  <a:pt x="0" y="319"/>
                </a:moveTo>
                <a:cubicBezTo>
                  <a:pt x="66" y="214"/>
                  <a:pt x="132" y="110"/>
                  <a:pt x="216" y="127"/>
                </a:cubicBezTo>
                <a:cubicBezTo>
                  <a:pt x="300" y="144"/>
                  <a:pt x="407" y="427"/>
                  <a:pt x="504" y="423"/>
                </a:cubicBezTo>
                <a:cubicBezTo>
                  <a:pt x="601" y="419"/>
                  <a:pt x="703" y="72"/>
                  <a:pt x="800" y="103"/>
                </a:cubicBezTo>
                <a:cubicBezTo>
                  <a:pt x="897" y="134"/>
                  <a:pt x="995" y="616"/>
                  <a:pt x="1088" y="607"/>
                </a:cubicBezTo>
                <a:cubicBezTo>
                  <a:pt x="1181" y="598"/>
                  <a:pt x="1239" y="0"/>
                  <a:pt x="1360" y="47"/>
                </a:cubicBezTo>
                <a:cubicBezTo>
                  <a:pt x="1481" y="94"/>
                  <a:pt x="1652" y="887"/>
                  <a:pt x="1816" y="887"/>
                </a:cubicBezTo>
                <a:cubicBezTo>
                  <a:pt x="1980" y="887"/>
                  <a:pt x="2168" y="42"/>
                  <a:pt x="2344" y="47"/>
                </a:cubicBezTo>
                <a:cubicBezTo>
                  <a:pt x="2520" y="52"/>
                  <a:pt x="2509" y="907"/>
                  <a:pt x="2872" y="919"/>
                </a:cubicBezTo>
                <a:cubicBezTo>
                  <a:pt x="3235" y="931"/>
                  <a:pt x="3877" y="525"/>
                  <a:pt x="4520" y="119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990720" y="4381560"/>
            <a:ext cx="355320" cy="355680"/>
          </a:xfrm>
          <a:prstGeom prst="ellips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/>
          <p:nvPr/>
        </p:nvSpPr>
        <p:spPr>
          <a:xfrm>
            <a:off x="0" y="-108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Resilience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learning capacity (memor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76240" y="1881360"/>
            <a:ext cx="7175520" cy="1477800"/>
          </a:xfrm>
          <a:custGeom>
            <a:avLst/>
            <a:gdLst/>
            <a:ahLst/>
            <a:rect l="l" t="t" r="r" b="b"/>
            <a:pathLst>
              <a:path w="4520" h="931">
                <a:moveTo>
                  <a:pt x="0" y="319"/>
                </a:moveTo>
                <a:cubicBezTo>
                  <a:pt x="66" y="214"/>
                  <a:pt x="132" y="110"/>
                  <a:pt x="216" y="127"/>
                </a:cubicBezTo>
                <a:cubicBezTo>
                  <a:pt x="300" y="144"/>
                  <a:pt x="407" y="427"/>
                  <a:pt x="504" y="423"/>
                </a:cubicBezTo>
                <a:cubicBezTo>
                  <a:pt x="601" y="419"/>
                  <a:pt x="703" y="72"/>
                  <a:pt x="800" y="103"/>
                </a:cubicBezTo>
                <a:cubicBezTo>
                  <a:pt x="897" y="134"/>
                  <a:pt x="995" y="616"/>
                  <a:pt x="1088" y="607"/>
                </a:cubicBezTo>
                <a:cubicBezTo>
                  <a:pt x="1181" y="598"/>
                  <a:pt x="1239" y="0"/>
                  <a:pt x="1360" y="47"/>
                </a:cubicBezTo>
                <a:cubicBezTo>
                  <a:pt x="1481" y="94"/>
                  <a:pt x="1652" y="887"/>
                  <a:pt x="1816" y="887"/>
                </a:cubicBezTo>
                <a:cubicBezTo>
                  <a:pt x="1980" y="887"/>
                  <a:pt x="2168" y="42"/>
                  <a:pt x="2344" y="47"/>
                </a:cubicBezTo>
                <a:cubicBezTo>
                  <a:pt x="2520" y="52"/>
                  <a:pt x="2509" y="907"/>
                  <a:pt x="2872" y="919"/>
                </a:cubicBezTo>
                <a:cubicBezTo>
                  <a:pt x="3235" y="931"/>
                  <a:pt x="3877" y="525"/>
                  <a:pt x="4520" y="119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473120" y="2095560"/>
            <a:ext cx="355680" cy="3556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51040" y="4573440"/>
            <a:ext cx="7175520" cy="1478160"/>
          </a:xfrm>
          <a:custGeom>
            <a:avLst/>
            <a:gdLst/>
            <a:ahLst/>
            <a:rect l="l" t="t" r="r" b="b"/>
            <a:pathLst>
              <a:path w="4520" h="931">
                <a:moveTo>
                  <a:pt x="0" y="319"/>
                </a:moveTo>
                <a:cubicBezTo>
                  <a:pt x="66" y="214"/>
                  <a:pt x="132" y="110"/>
                  <a:pt x="216" y="127"/>
                </a:cubicBezTo>
                <a:cubicBezTo>
                  <a:pt x="300" y="144"/>
                  <a:pt x="407" y="427"/>
                  <a:pt x="504" y="423"/>
                </a:cubicBezTo>
                <a:cubicBezTo>
                  <a:pt x="601" y="419"/>
                  <a:pt x="703" y="72"/>
                  <a:pt x="800" y="103"/>
                </a:cubicBezTo>
                <a:cubicBezTo>
                  <a:pt x="897" y="134"/>
                  <a:pt x="995" y="616"/>
                  <a:pt x="1088" y="607"/>
                </a:cubicBezTo>
                <a:cubicBezTo>
                  <a:pt x="1181" y="598"/>
                  <a:pt x="1239" y="0"/>
                  <a:pt x="1360" y="47"/>
                </a:cubicBezTo>
                <a:cubicBezTo>
                  <a:pt x="1481" y="94"/>
                  <a:pt x="1652" y="887"/>
                  <a:pt x="1816" y="887"/>
                </a:cubicBezTo>
                <a:cubicBezTo>
                  <a:pt x="1980" y="887"/>
                  <a:pt x="2168" y="42"/>
                  <a:pt x="2344" y="47"/>
                </a:cubicBezTo>
                <a:cubicBezTo>
                  <a:pt x="2520" y="52"/>
                  <a:pt x="2509" y="907"/>
                  <a:pt x="2872" y="919"/>
                </a:cubicBezTo>
                <a:cubicBezTo>
                  <a:pt x="3235" y="931"/>
                  <a:pt x="3877" y="525"/>
                  <a:pt x="4520" y="119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447920" y="4788000"/>
            <a:ext cx="355320" cy="355680"/>
          </a:xfrm>
          <a:prstGeom prst="ellips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50960" y="3949560"/>
            <a:ext cx="851040" cy="584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1650960" y="1359000"/>
            <a:ext cx="851040" cy="584280"/>
          </a:xfrm>
          <a:prstGeom prst="cloudCallout">
            <a:avLst>
              <a:gd name="adj1" fmla="val -43750"/>
              <a:gd name="adj2" fmla="val 7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"/>
          <p:cNvSpPr/>
          <p:nvPr/>
        </p:nvSpPr>
        <p:spPr>
          <a:xfrm>
            <a:off x="0" y="-108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Resilience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learning capacity (memor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76240" y="1881360"/>
            <a:ext cx="7175520" cy="1477800"/>
          </a:xfrm>
          <a:custGeom>
            <a:avLst/>
            <a:gdLst/>
            <a:ahLst/>
            <a:rect l="l" t="t" r="r" b="b"/>
            <a:pathLst>
              <a:path w="4520" h="931">
                <a:moveTo>
                  <a:pt x="0" y="319"/>
                </a:moveTo>
                <a:cubicBezTo>
                  <a:pt x="66" y="214"/>
                  <a:pt x="132" y="110"/>
                  <a:pt x="216" y="127"/>
                </a:cubicBezTo>
                <a:cubicBezTo>
                  <a:pt x="300" y="144"/>
                  <a:pt x="407" y="427"/>
                  <a:pt x="504" y="423"/>
                </a:cubicBezTo>
                <a:cubicBezTo>
                  <a:pt x="601" y="419"/>
                  <a:pt x="703" y="72"/>
                  <a:pt x="800" y="103"/>
                </a:cubicBezTo>
                <a:cubicBezTo>
                  <a:pt x="897" y="134"/>
                  <a:pt x="995" y="616"/>
                  <a:pt x="1088" y="607"/>
                </a:cubicBezTo>
                <a:cubicBezTo>
                  <a:pt x="1181" y="598"/>
                  <a:pt x="1239" y="0"/>
                  <a:pt x="1360" y="47"/>
                </a:cubicBezTo>
                <a:cubicBezTo>
                  <a:pt x="1481" y="94"/>
                  <a:pt x="1652" y="887"/>
                  <a:pt x="1816" y="887"/>
                </a:cubicBezTo>
                <a:cubicBezTo>
                  <a:pt x="1980" y="887"/>
                  <a:pt x="2168" y="42"/>
                  <a:pt x="2344" y="47"/>
                </a:cubicBezTo>
                <a:cubicBezTo>
                  <a:pt x="2520" y="52"/>
                  <a:pt x="2509" y="907"/>
                  <a:pt x="2872" y="919"/>
                </a:cubicBezTo>
                <a:cubicBezTo>
                  <a:pt x="3235" y="931"/>
                  <a:pt x="3877" y="525"/>
                  <a:pt x="4520" y="119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600200" y="1905120"/>
            <a:ext cx="355680" cy="355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851040" y="4573440"/>
            <a:ext cx="7175520" cy="1478160"/>
          </a:xfrm>
          <a:custGeom>
            <a:avLst/>
            <a:gdLst/>
            <a:ahLst/>
            <a:rect l="l" t="t" r="r" b="b"/>
            <a:pathLst>
              <a:path w="4520" h="931">
                <a:moveTo>
                  <a:pt x="0" y="319"/>
                </a:moveTo>
                <a:cubicBezTo>
                  <a:pt x="66" y="214"/>
                  <a:pt x="132" y="110"/>
                  <a:pt x="216" y="127"/>
                </a:cubicBezTo>
                <a:cubicBezTo>
                  <a:pt x="300" y="144"/>
                  <a:pt x="407" y="427"/>
                  <a:pt x="504" y="423"/>
                </a:cubicBezTo>
                <a:cubicBezTo>
                  <a:pt x="601" y="419"/>
                  <a:pt x="703" y="72"/>
                  <a:pt x="800" y="103"/>
                </a:cubicBezTo>
                <a:cubicBezTo>
                  <a:pt x="897" y="134"/>
                  <a:pt x="995" y="616"/>
                  <a:pt x="1088" y="607"/>
                </a:cubicBezTo>
                <a:cubicBezTo>
                  <a:pt x="1181" y="598"/>
                  <a:pt x="1239" y="0"/>
                  <a:pt x="1360" y="47"/>
                </a:cubicBezTo>
                <a:cubicBezTo>
                  <a:pt x="1481" y="94"/>
                  <a:pt x="1652" y="887"/>
                  <a:pt x="1816" y="887"/>
                </a:cubicBezTo>
                <a:cubicBezTo>
                  <a:pt x="1980" y="887"/>
                  <a:pt x="2168" y="42"/>
                  <a:pt x="2344" y="47"/>
                </a:cubicBezTo>
                <a:cubicBezTo>
                  <a:pt x="2520" y="52"/>
                  <a:pt x="2509" y="907"/>
                  <a:pt x="2872" y="919"/>
                </a:cubicBezTo>
                <a:cubicBezTo>
                  <a:pt x="3235" y="931"/>
                  <a:pt x="3877" y="525"/>
                  <a:pt x="4520" y="119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1574640" y="4597560"/>
            <a:ext cx="355680" cy="355320"/>
          </a:xfrm>
          <a:prstGeom prst="ellips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0" y="-108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Resilience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learning capacity (memor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76240" y="1881360"/>
            <a:ext cx="7175520" cy="1477800"/>
          </a:xfrm>
          <a:custGeom>
            <a:avLst/>
            <a:gdLst/>
            <a:ahLst/>
            <a:rect l="l" t="t" r="r" b="b"/>
            <a:pathLst>
              <a:path w="4520" h="931">
                <a:moveTo>
                  <a:pt x="0" y="319"/>
                </a:moveTo>
                <a:cubicBezTo>
                  <a:pt x="66" y="214"/>
                  <a:pt x="132" y="110"/>
                  <a:pt x="216" y="127"/>
                </a:cubicBezTo>
                <a:cubicBezTo>
                  <a:pt x="300" y="144"/>
                  <a:pt x="407" y="427"/>
                  <a:pt x="504" y="423"/>
                </a:cubicBezTo>
                <a:cubicBezTo>
                  <a:pt x="601" y="419"/>
                  <a:pt x="703" y="72"/>
                  <a:pt x="800" y="103"/>
                </a:cubicBezTo>
                <a:cubicBezTo>
                  <a:pt x="897" y="134"/>
                  <a:pt x="995" y="616"/>
                  <a:pt x="1088" y="607"/>
                </a:cubicBezTo>
                <a:cubicBezTo>
                  <a:pt x="1181" y="598"/>
                  <a:pt x="1239" y="0"/>
                  <a:pt x="1360" y="47"/>
                </a:cubicBezTo>
                <a:cubicBezTo>
                  <a:pt x="1481" y="94"/>
                  <a:pt x="1652" y="887"/>
                  <a:pt x="1816" y="887"/>
                </a:cubicBezTo>
                <a:cubicBezTo>
                  <a:pt x="1980" y="887"/>
                  <a:pt x="2168" y="42"/>
                  <a:pt x="2344" y="47"/>
                </a:cubicBezTo>
                <a:cubicBezTo>
                  <a:pt x="2520" y="52"/>
                  <a:pt x="2509" y="907"/>
                  <a:pt x="2872" y="919"/>
                </a:cubicBezTo>
                <a:cubicBezTo>
                  <a:pt x="3235" y="931"/>
                  <a:pt x="3877" y="525"/>
                  <a:pt x="4520" y="119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917720" y="1650960"/>
            <a:ext cx="355680" cy="3556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51040" y="4573440"/>
            <a:ext cx="7175520" cy="1478160"/>
          </a:xfrm>
          <a:custGeom>
            <a:avLst/>
            <a:gdLst/>
            <a:ahLst/>
            <a:rect l="l" t="t" r="r" b="b"/>
            <a:pathLst>
              <a:path w="4520" h="931">
                <a:moveTo>
                  <a:pt x="0" y="319"/>
                </a:moveTo>
                <a:cubicBezTo>
                  <a:pt x="66" y="214"/>
                  <a:pt x="132" y="110"/>
                  <a:pt x="216" y="127"/>
                </a:cubicBezTo>
                <a:cubicBezTo>
                  <a:pt x="300" y="144"/>
                  <a:pt x="407" y="427"/>
                  <a:pt x="504" y="423"/>
                </a:cubicBezTo>
                <a:cubicBezTo>
                  <a:pt x="601" y="419"/>
                  <a:pt x="703" y="72"/>
                  <a:pt x="800" y="103"/>
                </a:cubicBezTo>
                <a:cubicBezTo>
                  <a:pt x="897" y="134"/>
                  <a:pt x="995" y="616"/>
                  <a:pt x="1088" y="607"/>
                </a:cubicBezTo>
                <a:cubicBezTo>
                  <a:pt x="1181" y="598"/>
                  <a:pt x="1239" y="0"/>
                  <a:pt x="1360" y="47"/>
                </a:cubicBezTo>
                <a:cubicBezTo>
                  <a:pt x="1481" y="94"/>
                  <a:pt x="1652" y="887"/>
                  <a:pt x="1816" y="887"/>
                </a:cubicBezTo>
                <a:cubicBezTo>
                  <a:pt x="1980" y="887"/>
                  <a:pt x="2168" y="42"/>
                  <a:pt x="2344" y="47"/>
                </a:cubicBezTo>
                <a:cubicBezTo>
                  <a:pt x="2520" y="52"/>
                  <a:pt x="2509" y="907"/>
                  <a:pt x="2872" y="919"/>
                </a:cubicBezTo>
                <a:cubicBezTo>
                  <a:pt x="3235" y="931"/>
                  <a:pt x="3877" y="525"/>
                  <a:pt x="4520" y="119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1892160" y="4343400"/>
            <a:ext cx="355680" cy="355680"/>
          </a:xfrm>
          <a:prstGeom prst="ellips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"/>
          <p:cNvSpPr/>
          <p:nvPr/>
        </p:nvSpPr>
        <p:spPr>
          <a:xfrm>
            <a:off x="0" y="-108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Resilience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learning capacity (memor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876240" y="1881360"/>
            <a:ext cx="7175520" cy="1477800"/>
          </a:xfrm>
          <a:custGeom>
            <a:avLst/>
            <a:gdLst/>
            <a:ahLst/>
            <a:rect l="l" t="t" r="r" b="b"/>
            <a:pathLst>
              <a:path w="4520" h="931">
                <a:moveTo>
                  <a:pt x="0" y="319"/>
                </a:moveTo>
                <a:cubicBezTo>
                  <a:pt x="66" y="214"/>
                  <a:pt x="132" y="110"/>
                  <a:pt x="216" y="127"/>
                </a:cubicBezTo>
                <a:cubicBezTo>
                  <a:pt x="300" y="144"/>
                  <a:pt x="407" y="427"/>
                  <a:pt x="504" y="423"/>
                </a:cubicBezTo>
                <a:cubicBezTo>
                  <a:pt x="601" y="419"/>
                  <a:pt x="703" y="72"/>
                  <a:pt x="800" y="103"/>
                </a:cubicBezTo>
                <a:cubicBezTo>
                  <a:pt x="897" y="134"/>
                  <a:pt x="995" y="616"/>
                  <a:pt x="1088" y="607"/>
                </a:cubicBezTo>
                <a:cubicBezTo>
                  <a:pt x="1181" y="598"/>
                  <a:pt x="1239" y="0"/>
                  <a:pt x="1360" y="47"/>
                </a:cubicBezTo>
                <a:cubicBezTo>
                  <a:pt x="1481" y="94"/>
                  <a:pt x="1652" y="887"/>
                  <a:pt x="1816" y="887"/>
                </a:cubicBezTo>
                <a:cubicBezTo>
                  <a:pt x="1980" y="887"/>
                  <a:pt x="2168" y="42"/>
                  <a:pt x="2344" y="47"/>
                </a:cubicBezTo>
                <a:cubicBezTo>
                  <a:pt x="2520" y="52"/>
                  <a:pt x="2509" y="907"/>
                  <a:pt x="2872" y="919"/>
                </a:cubicBezTo>
                <a:cubicBezTo>
                  <a:pt x="3235" y="931"/>
                  <a:pt x="3877" y="525"/>
                  <a:pt x="4520" y="119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2387520" y="2247840"/>
            <a:ext cx="355680" cy="3556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851040" y="4573440"/>
            <a:ext cx="7175520" cy="1478160"/>
          </a:xfrm>
          <a:custGeom>
            <a:avLst/>
            <a:gdLst/>
            <a:ahLst/>
            <a:rect l="l" t="t" r="r" b="b"/>
            <a:pathLst>
              <a:path w="4520" h="931">
                <a:moveTo>
                  <a:pt x="0" y="319"/>
                </a:moveTo>
                <a:cubicBezTo>
                  <a:pt x="66" y="214"/>
                  <a:pt x="132" y="110"/>
                  <a:pt x="216" y="127"/>
                </a:cubicBezTo>
                <a:cubicBezTo>
                  <a:pt x="300" y="144"/>
                  <a:pt x="407" y="427"/>
                  <a:pt x="504" y="423"/>
                </a:cubicBezTo>
                <a:cubicBezTo>
                  <a:pt x="601" y="419"/>
                  <a:pt x="703" y="72"/>
                  <a:pt x="800" y="103"/>
                </a:cubicBezTo>
                <a:cubicBezTo>
                  <a:pt x="897" y="134"/>
                  <a:pt x="995" y="616"/>
                  <a:pt x="1088" y="607"/>
                </a:cubicBezTo>
                <a:cubicBezTo>
                  <a:pt x="1181" y="598"/>
                  <a:pt x="1239" y="0"/>
                  <a:pt x="1360" y="47"/>
                </a:cubicBezTo>
                <a:cubicBezTo>
                  <a:pt x="1481" y="94"/>
                  <a:pt x="1652" y="887"/>
                  <a:pt x="1816" y="887"/>
                </a:cubicBezTo>
                <a:cubicBezTo>
                  <a:pt x="1980" y="887"/>
                  <a:pt x="2168" y="42"/>
                  <a:pt x="2344" y="47"/>
                </a:cubicBezTo>
                <a:cubicBezTo>
                  <a:pt x="2520" y="52"/>
                  <a:pt x="2509" y="907"/>
                  <a:pt x="2872" y="919"/>
                </a:cubicBezTo>
                <a:cubicBezTo>
                  <a:pt x="3235" y="931"/>
                  <a:pt x="3877" y="525"/>
                  <a:pt x="4520" y="119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2374920" y="4927680"/>
            <a:ext cx="355680" cy="355680"/>
          </a:xfrm>
          <a:prstGeom prst="ellips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2514600" y="3949560"/>
            <a:ext cx="851040" cy="584280"/>
          </a:xfrm>
          <a:prstGeom prst="cloudCallout">
            <a:avLst>
              <a:gd name="adj1" fmla="val -46643"/>
              <a:gd name="adj2" fmla="val 10924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2514600" y="1359000"/>
            <a:ext cx="851040" cy="584280"/>
          </a:xfrm>
          <a:prstGeom prst="cloudCallout">
            <a:avLst>
              <a:gd name="adj1" fmla="val -39180"/>
              <a:gd name="adj2" fmla="val 9619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bd04924_" descr=""/>
          <p:cNvPicPr/>
          <p:nvPr/>
        </p:nvPicPr>
        <p:blipFill>
          <a:blip r:embed="rId1"/>
          <a:stretch/>
        </p:blipFill>
        <p:spPr>
          <a:xfrm>
            <a:off x="2787480" y="1415880"/>
            <a:ext cx="32544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"/>
          <p:cNvSpPr/>
          <p:nvPr/>
        </p:nvSpPr>
        <p:spPr>
          <a:xfrm>
            <a:off x="0" y="-108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Resilience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learning capacity (memor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876240" y="1881360"/>
            <a:ext cx="7175520" cy="1477800"/>
          </a:xfrm>
          <a:custGeom>
            <a:avLst/>
            <a:gdLst/>
            <a:ahLst/>
            <a:rect l="l" t="t" r="r" b="b"/>
            <a:pathLst>
              <a:path w="4520" h="931">
                <a:moveTo>
                  <a:pt x="0" y="319"/>
                </a:moveTo>
                <a:cubicBezTo>
                  <a:pt x="66" y="214"/>
                  <a:pt x="132" y="110"/>
                  <a:pt x="216" y="127"/>
                </a:cubicBezTo>
                <a:cubicBezTo>
                  <a:pt x="300" y="144"/>
                  <a:pt x="407" y="427"/>
                  <a:pt x="504" y="423"/>
                </a:cubicBezTo>
                <a:cubicBezTo>
                  <a:pt x="601" y="419"/>
                  <a:pt x="703" y="72"/>
                  <a:pt x="800" y="103"/>
                </a:cubicBezTo>
                <a:cubicBezTo>
                  <a:pt x="897" y="134"/>
                  <a:pt x="995" y="616"/>
                  <a:pt x="1088" y="607"/>
                </a:cubicBezTo>
                <a:cubicBezTo>
                  <a:pt x="1181" y="598"/>
                  <a:pt x="1239" y="0"/>
                  <a:pt x="1360" y="47"/>
                </a:cubicBezTo>
                <a:cubicBezTo>
                  <a:pt x="1481" y="94"/>
                  <a:pt x="1652" y="887"/>
                  <a:pt x="1816" y="887"/>
                </a:cubicBezTo>
                <a:cubicBezTo>
                  <a:pt x="1980" y="887"/>
                  <a:pt x="2168" y="42"/>
                  <a:pt x="2344" y="47"/>
                </a:cubicBezTo>
                <a:cubicBezTo>
                  <a:pt x="2520" y="52"/>
                  <a:pt x="2509" y="907"/>
                  <a:pt x="2872" y="919"/>
                </a:cubicBezTo>
                <a:cubicBezTo>
                  <a:pt x="3235" y="931"/>
                  <a:pt x="3877" y="525"/>
                  <a:pt x="4520" y="119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832120" y="1562040"/>
            <a:ext cx="355680" cy="3556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851040" y="4573440"/>
            <a:ext cx="7175520" cy="1478160"/>
          </a:xfrm>
          <a:custGeom>
            <a:avLst/>
            <a:gdLst/>
            <a:ahLst/>
            <a:rect l="l" t="t" r="r" b="b"/>
            <a:pathLst>
              <a:path w="4520" h="931">
                <a:moveTo>
                  <a:pt x="0" y="319"/>
                </a:moveTo>
                <a:cubicBezTo>
                  <a:pt x="66" y="214"/>
                  <a:pt x="132" y="110"/>
                  <a:pt x="216" y="127"/>
                </a:cubicBezTo>
                <a:cubicBezTo>
                  <a:pt x="300" y="144"/>
                  <a:pt x="407" y="427"/>
                  <a:pt x="504" y="423"/>
                </a:cubicBezTo>
                <a:cubicBezTo>
                  <a:pt x="601" y="419"/>
                  <a:pt x="703" y="72"/>
                  <a:pt x="800" y="103"/>
                </a:cubicBezTo>
                <a:cubicBezTo>
                  <a:pt x="897" y="134"/>
                  <a:pt x="995" y="616"/>
                  <a:pt x="1088" y="607"/>
                </a:cubicBezTo>
                <a:cubicBezTo>
                  <a:pt x="1181" y="598"/>
                  <a:pt x="1239" y="0"/>
                  <a:pt x="1360" y="47"/>
                </a:cubicBezTo>
                <a:cubicBezTo>
                  <a:pt x="1481" y="94"/>
                  <a:pt x="1652" y="887"/>
                  <a:pt x="1816" y="887"/>
                </a:cubicBezTo>
                <a:cubicBezTo>
                  <a:pt x="1980" y="887"/>
                  <a:pt x="2168" y="42"/>
                  <a:pt x="2344" y="47"/>
                </a:cubicBezTo>
                <a:cubicBezTo>
                  <a:pt x="2520" y="52"/>
                  <a:pt x="2509" y="907"/>
                  <a:pt x="2872" y="919"/>
                </a:cubicBezTo>
                <a:cubicBezTo>
                  <a:pt x="3235" y="931"/>
                  <a:pt x="3877" y="525"/>
                  <a:pt x="4520" y="119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2400480" y="4788000"/>
            <a:ext cx="355320" cy="355680"/>
          </a:xfrm>
          <a:prstGeom prst="ellips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0" y="-108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s it sustainabilit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108160" y="2070000"/>
            <a:ext cx="914400" cy="9144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254160" y="3216240"/>
            <a:ext cx="8635680" cy="0"/>
          </a:xfrm>
          <a:prstGeom prst="line">
            <a:avLst/>
          </a:prstGeom>
          <a:ln w="444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3632040" y="952560"/>
            <a:ext cx="182880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546440" y="1839960"/>
            <a:ext cx="698760" cy="14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0" y="-108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Resilience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learning capacity (memor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876240" y="1881360"/>
            <a:ext cx="7175520" cy="1477800"/>
          </a:xfrm>
          <a:custGeom>
            <a:avLst/>
            <a:gdLst/>
            <a:ahLst/>
            <a:rect l="l" t="t" r="r" b="b"/>
            <a:pathLst>
              <a:path w="4520" h="931">
                <a:moveTo>
                  <a:pt x="0" y="319"/>
                </a:moveTo>
                <a:cubicBezTo>
                  <a:pt x="66" y="214"/>
                  <a:pt x="132" y="110"/>
                  <a:pt x="216" y="127"/>
                </a:cubicBezTo>
                <a:cubicBezTo>
                  <a:pt x="300" y="144"/>
                  <a:pt x="407" y="427"/>
                  <a:pt x="504" y="423"/>
                </a:cubicBezTo>
                <a:cubicBezTo>
                  <a:pt x="601" y="419"/>
                  <a:pt x="703" y="72"/>
                  <a:pt x="800" y="103"/>
                </a:cubicBezTo>
                <a:cubicBezTo>
                  <a:pt x="897" y="134"/>
                  <a:pt x="995" y="616"/>
                  <a:pt x="1088" y="607"/>
                </a:cubicBezTo>
                <a:cubicBezTo>
                  <a:pt x="1181" y="598"/>
                  <a:pt x="1239" y="0"/>
                  <a:pt x="1360" y="47"/>
                </a:cubicBezTo>
                <a:cubicBezTo>
                  <a:pt x="1481" y="94"/>
                  <a:pt x="1652" y="887"/>
                  <a:pt x="1816" y="887"/>
                </a:cubicBezTo>
                <a:cubicBezTo>
                  <a:pt x="1980" y="887"/>
                  <a:pt x="2168" y="42"/>
                  <a:pt x="2344" y="47"/>
                </a:cubicBezTo>
                <a:cubicBezTo>
                  <a:pt x="2520" y="52"/>
                  <a:pt x="2509" y="907"/>
                  <a:pt x="2872" y="919"/>
                </a:cubicBezTo>
                <a:cubicBezTo>
                  <a:pt x="3235" y="931"/>
                  <a:pt x="3877" y="525"/>
                  <a:pt x="4520" y="119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2832120" y="1562040"/>
            <a:ext cx="355680" cy="3556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851040" y="4573440"/>
            <a:ext cx="7175520" cy="1478160"/>
          </a:xfrm>
          <a:custGeom>
            <a:avLst/>
            <a:gdLst/>
            <a:ahLst/>
            <a:rect l="l" t="t" r="r" b="b"/>
            <a:pathLst>
              <a:path w="4520" h="931">
                <a:moveTo>
                  <a:pt x="0" y="319"/>
                </a:moveTo>
                <a:cubicBezTo>
                  <a:pt x="66" y="214"/>
                  <a:pt x="132" y="110"/>
                  <a:pt x="216" y="127"/>
                </a:cubicBezTo>
                <a:cubicBezTo>
                  <a:pt x="300" y="144"/>
                  <a:pt x="407" y="427"/>
                  <a:pt x="504" y="423"/>
                </a:cubicBezTo>
                <a:cubicBezTo>
                  <a:pt x="601" y="419"/>
                  <a:pt x="703" y="72"/>
                  <a:pt x="800" y="103"/>
                </a:cubicBezTo>
                <a:cubicBezTo>
                  <a:pt x="897" y="134"/>
                  <a:pt x="995" y="616"/>
                  <a:pt x="1088" y="607"/>
                </a:cubicBezTo>
                <a:cubicBezTo>
                  <a:pt x="1181" y="598"/>
                  <a:pt x="1239" y="0"/>
                  <a:pt x="1360" y="47"/>
                </a:cubicBezTo>
                <a:cubicBezTo>
                  <a:pt x="1481" y="94"/>
                  <a:pt x="1652" y="887"/>
                  <a:pt x="1816" y="887"/>
                </a:cubicBezTo>
                <a:cubicBezTo>
                  <a:pt x="1980" y="887"/>
                  <a:pt x="2168" y="42"/>
                  <a:pt x="2344" y="47"/>
                </a:cubicBezTo>
                <a:cubicBezTo>
                  <a:pt x="2520" y="52"/>
                  <a:pt x="2509" y="907"/>
                  <a:pt x="2872" y="919"/>
                </a:cubicBezTo>
                <a:cubicBezTo>
                  <a:pt x="3235" y="931"/>
                  <a:pt x="3877" y="525"/>
                  <a:pt x="4520" y="119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476440" y="4572000"/>
            <a:ext cx="355680" cy="355680"/>
          </a:xfrm>
          <a:prstGeom prst="ellips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"/>
          <p:cNvSpPr/>
          <p:nvPr/>
        </p:nvSpPr>
        <p:spPr>
          <a:xfrm>
            <a:off x="0" y="-108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Resilience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learning capacity (memor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876240" y="1881360"/>
            <a:ext cx="7175520" cy="1477800"/>
          </a:xfrm>
          <a:custGeom>
            <a:avLst/>
            <a:gdLst/>
            <a:ahLst/>
            <a:rect l="l" t="t" r="r" b="b"/>
            <a:pathLst>
              <a:path w="4520" h="931">
                <a:moveTo>
                  <a:pt x="0" y="319"/>
                </a:moveTo>
                <a:cubicBezTo>
                  <a:pt x="66" y="214"/>
                  <a:pt x="132" y="110"/>
                  <a:pt x="216" y="127"/>
                </a:cubicBezTo>
                <a:cubicBezTo>
                  <a:pt x="300" y="144"/>
                  <a:pt x="407" y="427"/>
                  <a:pt x="504" y="423"/>
                </a:cubicBezTo>
                <a:cubicBezTo>
                  <a:pt x="601" y="419"/>
                  <a:pt x="703" y="72"/>
                  <a:pt x="800" y="103"/>
                </a:cubicBezTo>
                <a:cubicBezTo>
                  <a:pt x="897" y="134"/>
                  <a:pt x="995" y="616"/>
                  <a:pt x="1088" y="607"/>
                </a:cubicBezTo>
                <a:cubicBezTo>
                  <a:pt x="1181" y="598"/>
                  <a:pt x="1239" y="0"/>
                  <a:pt x="1360" y="47"/>
                </a:cubicBezTo>
                <a:cubicBezTo>
                  <a:pt x="1481" y="94"/>
                  <a:pt x="1652" y="887"/>
                  <a:pt x="1816" y="887"/>
                </a:cubicBezTo>
                <a:cubicBezTo>
                  <a:pt x="1980" y="887"/>
                  <a:pt x="2168" y="42"/>
                  <a:pt x="2344" y="47"/>
                </a:cubicBezTo>
                <a:cubicBezTo>
                  <a:pt x="2520" y="52"/>
                  <a:pt x="2509" y="907"/>
                  <a:pt x="2872" y="919"/>
                </a:cubicBezTo>
                <a:cubicBezTo>
                  <a:pt x="3235" y="931"/>
                  <a:pt x="3877" y="525"/>
                  <a:pt x="4520" y="119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832120" y="1562040"/>
            <a:ext cx="355680" cy="3556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851040" y="4573440"/>
            <a:ext cx="7175520" cy="1478160"/>
          </a:xfrm>
          <a:custGeom>
            <a:avLst/>
            <a:gdLst/>
            <a:ahLst/>
            <a:rect l="l" t="t" r="r" b="b"/>
            <a:pathLst>
              <a:path w="4520" h="931">
                <a:moveTo>
                  <a:pt x="0" y="319"/>
                </a:moveTo>
                <a:cubicBezTo>
                  <a:pt x="66" y="214"/>
                  <a:pt x="132" y="110"/>
                  <a:pt x="216" y="127"/>
                </a:cubicBezTo>
                <a:cubicBezTo>
                  <a:pt x="300" y="144"/>
                  <a:pt x="407" y="427"/>
                  <a:pt x="504" y="423"/>
                </a:cubicBezTo>
                <a:cubicBezTo>
                  <a:pt x="601" y="419"/>
                  <a:pt x="703" y="72"/>
                  <a:pt x="800" y="103"/>
                </a:cubicBezTo>
                <a:cubicBezTo>
                  <a:pt x="897" y="134"/>
                  <a:pt x="995" y="616"/>
                  <a:pt x="1088" y="607"/>
                </a:cubicBezTo>
                <a:cubicBezTo>
                  <a:pt x="1181" y="598"/>
                  <a:pt x="1239" y="0"/>
                  <a:pt x="1360" y="47"/>
                </a:cubicBezTo>
                <a:cubicBezTo>
                  <a:pt x="1481" y="94"/>
                  <a:pt x="1652" y="887"/>
                  <a:pt x="1816" y="887"/>
                </a:cubicBezTo>
                <a:cubicBezTo>
                  <a:pt x="1980" y="887"/>
                  <a:pt x="2168" y="42"/>
                  <a:pt x="2344" y="47"/>
                </a:cubicBezTo>
                <a:cubicBezTo>
                  <a:pt x="2520" y="52"/>
                  <a:pt x="2509" y="907"/>
                  <a:pt x="2872" y="919"/>
                </a:cubicBezTo>
                <a:cubicBezTo>
                  <a:pt x="3235" y="931"/>
                  <a:pt x="3877" y="525"/>
                  <a:pt x="4520" y="119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2781360" y="4241880"/>
            <a:ext cx="355680" cy="355680"/>
          </a:xfrm>
          <a:prstGeom prst="ellips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0" y="-108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Resilience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learning capacity (memor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876240" y="1881360"/>
            <a:ext cx="7175520" cy="1477800"/>
          </a:xfrm>
          <a:custGeom>
            <a:avLst/>
            <a:gdLst/>
            <a:ahLst/>
            <a:rect l="l" t="t" r="r" b="b"/>
            <a:pathLst>
              <a:path w="4520" h="931">
                <a:moveTo>
                  <a:pt x="0" y="319"/>
                </a:moveTo>
                <a:cubicBezTo>
                  <a:pt x="66" y="214"/>
                  <a:pt x="132" y="110"/>
                  <a:pt x="216" y="127"/>
                </a:cubicBezTo>
                <a:cubicBezTo>
                  <a:pt x="300" y="144"/>
                  <a:pt x="407" y="427"/>
                  <a:pt x="504" y="423"/>
                </a:cubicBezTo>
                <a:cubicBezTo>
                  <a:pt x="601" y="419"/>
                  <a:pt x="703" y="72"/>
                  <a:pt x="800" y="103"/>
                </a:cubicBezTo>
                <a:cubicBezTo>
                  <a:pt x="897" y="134"/>
                  <a:pt x="995" y="616"/>
                  <a:pt x="1088" y="607"/>
                </a:cubicBezTo>
                <a:cubicBezTo>
                  <a:pt x="1181" y="598"/>
                  <a:pt x="1239" y="0"/>
                  <a:pt x="1360" y="47"/>
                </a:cubicBezTo>
                <a:cubicBezTo>
                  <a:pt x="1481" y="94"/>
                  <a:pt x="1652" y="887"/>
                  <a:pt x="1816" y="887"/>
                </a:cubicBezTo>
                <a:cubicBezTo>
                  <a:pt x="1980" y="887"/>
                  <a:pt x="2168" y="42"/>
                  <a:pt x="2344" y="47"/>
                </a:cubicBezTo>
                <a:cubicBezTo>
                  <a:pt x="2520" y="52"/>
                  <a:pt x="2509" y="907"/>
                  <a:pt x="2872" y="919"/>
                </a:cubicBezTo>
                <a:cubicBezTo>
                  <a:pt x="3235" y="931"/>
                  <a:pt x="3877" y="525"/>
                  <a:pt x="4520" y="119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68680" y="2857680"/>
            <a:ext cx="355680" cy="35532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51040" y="4573440"/>
            <a:ext cx="7175520" cy="1478160"/>
          </a:xfrm>
          <a:custGeom>
            <a:avLst/>
            <a:gdLst/>
            <a:ahLst/>
            <a:rect l="l" t="t" r="r" b="b"/>
            <a:pathLst>
              <a:path w="4520" h="931">
                <a:moveTo>
                  <a:pt x="0" y="319"/>
                </a:moveTo>
                <a:cubicBezTo>
                  <a:pt x="66" y="214"/>
                  <a:pt x="132" y="110"/>
                  <a:pt x="216" y="127"/>
                </a:cubicBezTo>
                <a:cubicBezTo>
                  <a:pt x="300" y="144"/>
                  <a:pt x="407" y="427"/>
                  <a:pt x="504" y="423"/>
                </a:cubicBezTo>
                <a:cubicBezTo>
                  <a:pt x="601" y="419"/>
                  <a:pt x="703" y="72"/>
                  <a:pt x="800" y="103"/>
                </a:cubicBezTo>
                <a:cubicBezTo>
                  <a:pt x="897" y="134"/>
                  <a:pt x="995" y="616"/>
                  <a:pt x="1088" y="607"/>
                </a:cubicBezTo>
                <a:cubicBezTo>
                  <a:pt x="1181" y="598"/>
                  <a:pt x="1239" y="0"/>
                  <a:pt x="1360" y="47"/>
                </a:cubicBezTo>
                <a:cubicBezTo>
                  <a:pt x="1481" y="94"/>
                  <a:pt x="1652" y="887"/>
                  <a:pt x="1816" y="887"/>
                </a:cubicBezTo>
                <a:cubicBezTo>
                  <a:pt x="1980" y="887"/>
                  <a:pt x="2168" y="42"/>
                  <a:pt x="2344" y="47"/>
                </a:cubicBezTo>
                <a:cubicBezTo>
                  <a:pt x="2520" y="52"/>
                  <a:pt x="2509" y="907"/>
                  <a:pt x="2872" y="919"/>
                </a:cubicBezTo>
                <a:cubicBezTo>
                  <a:pt x="3235" y="931"/>
                  <a:pt x="3877" y="525"/>
                  <a:pt x="4520" y="119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3543480" y="5537160"/>
            <a:ext cx="355320" cy="355680"/>
          </a:xfrm>
          <a:prstGeom prst="ellips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860640" y="3949560"/>
            <a:ext cx="851040" cy="584280"/>
          </a:xfrm>
          <a:prstGeom prst="cloudCallout">
            <a:avLst>
              <a:gd name="adj1" fmla="val -63060"/>
              <a:gd name="adj2" fmla="val 20924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3860640" y="1359000"/>
            <a:ext cx="851040" cy="584280"/>
          </a:xfrm>
          <a:prstGeom prst="cloudCallout">
            <a:avLst>
              <a:gd name="adj1" fmla="val -57087"/>
              <a:gd name="adj2" fmla="val 19619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bd04924_" descr=""/>
          <p:cNvPicPr/>
          <p:nvPr/>
        </p:nvPicPr>
        <p:blipFill>
          <a:blip r:embed="rId1"/>
          <a:stretch/>
        </p:blipFill>
        <p:spPr>
          <a:xfrm>
            <a:off x="4133880" y="1415880"/>
            <a:ext cx="32544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"/>
          <p:cNvSpPr/>
          <p:nvPr/>
        </p:nvSpPr>
        <p:spPr>
          <a:xfrm>
            <a:off x="0" y="-108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Resilience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learning capacity (memor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876240" y="1881360"/>
            <a:ext cx="7175520" cy="1477800"/>
          </a:xfrm>
          <a:custGeom>
            <a:avLst/>
            <a:gdLst/>
            <a:ahLst/>
            <a:rect l="l" t="t" r="r" b="b"/>
            <a:pathLst>
              <a:path w="4520" h="931">
                <a:moveTo>
                  <a:pt x="0" y="319"/>
                </a:moveTo>
                <a:cubicBezTo>
                  <a:pt x="66" y="214"/>
                  <a:pt x="132" y="110"/>
                  <a:pt x="216" y="127"/>
                </a:cubicBezTo>
                <a:cubicBezTo>
                  <a:pt x="300" y="144"/>
                  <a:pt x="407" y="427"/>
                  <a:pt x="504" y="423"/>
                </a:cubicBezTo>
                <a:cubicBezTo>
                  <a:pt x="601" y="419"/>
                  <a:pt x="703" y="72"/>
                  <a:pt x="800" y="103"/>
                </a:cubicBezTo>
                <a:cubicBezTo>
                  <a:pt x="897" y="134"/>
                  <a:pt x="995" y="616"/>
                  <a:pt x="1088" y="607"/>
                </a:cubicBezTo>
                <a:cubicBezTo>
                  <a:pt x="1181" y="598"/>
                  <a:pt x="1239" y="0"/>
                  <a:pt x="1360" y="47"/>
                </a:cubicBezTo>
                <a:cubicBezTo>
                  <a:pt x="1481" y="94"/>
                  <a:pt x="1652" y="887"/>
                  <a:pt x="1816" y="887"/>
                </a:cubicBezTo>
                <a:cubicBezTo>
                  <a:pt x="1980" y="887"/>
                  <a:pt x="2168" y="42"/>
                  <a:pt x="2344" y="47"/>
                </a:cubicBezTo>
                <a:cubicBezTo>
                  <a:pt x="2520" y="52"/>
                  <a:pt x="2509" y="907"/>
                  <a:pt x="2872" y="919"/>
                </a:cubicBezTo>
                <a:cubicBezTo>
                  <a:pt x="3235" y="931"/>
                  <a:pt x="3877" y="525"/>
                  <a:pt x="4520" y="119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394160" y="1562040"/>
            <a:ext cx="355680" cy="3556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851040" y="4573440"/>
            <a:ext cx="7175520" cy="1478160"/>
          </a:xfrm>
          <a:custGeom>
            <a:avLst/>
            <a:gdLst/>
            <a:ahLst/>
            <a:rect l="l" t="t" r="r" b="b"/>
            <a:pathLst>
              <a:path w="4520" h="931">
                <a:moveTo>
                  <a:pt x="0" y="319"/>
                </a:moveTo>
                <a:cubicBezTo>
                  <a:pt x="66" y="214"/>
                  <a:pt x="132" y="110"/>
                  <a:pt x="216" y="127"/>
                </a:cubicBezTo>
                <a:cubicBezTo>
                  <a:pt x="300" y="144"/>
                  <a:pt x="407" y="427"/>
                  <a:pt x="504" y="423"/>
                </a:cubicBezTo>
                <a:cubicBezTo>
                  <a:pt x="601" y="419"/>
                  <a:pt x="703" y="72"/>
                  <a:pt x="800" y="103"/>
                </a:cubicBezTo>
                <a:cubicBezTo>
                  <a:pt x="897" y="134"/>
                  <a:pt x="995" y="616"/>
                  <a:pt x="1088" y="607"/>
                </a:cubicBezTo>
                <a:cubicBezTo>
                  <a:pt x="1181" y="598"/>
                  <a:pt x="1239" y="0"/>
                  <a:pt x="1360" y="47"/>
                </a:cubicBezTo>
                <a:cubicBezTo>
                  <a:pt x="1481" y="94"/>
                  <a:pt x="1652" y="887"/>
                  <a:pt x="1816" y="887"/>
                </a:cubicBezTo>
                <a:cubicBezTo>
                  <a:pt x="1980" y="887"/>
                  <a:pt x="2168" y="42"/>
                  <a:pt x="2344" y="47"/>
                </a:cubicBezTo>
                <a:cubicBezTo>
                  <a:pt x="2520" y="52"/>
                  <a:pt x="2509" y="907"/>
                  <a:pt x="2872" y="919"/>
                </a:cubicBezTo>
                <a:cubicBezTo>
                  <a:pt x="3235" y="931"/>
                  <a:pt x="3877" y="525"/>
                  <a:pt x="4520" y="119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645000" y="5321160"/>
            <a:ext cx="355680" cy="355680"/>
          </a:xfrm>
          <a:prstGeom prst="ellips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-108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Resilience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learning capacity (memor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876240" y="1881360"/>
            <a:ext cx="7175520" cy="1477800"/>
          </a:xfrm>
          <a:custGeom>
            <a:avLst/>
            <a:gdLst/>
            <a:ahLst/>
            <a:rect l="l" t="t" r="r" b="b"/>
            <a:pathLst>
              <a:path w="4520" h="931">
                <a:moveTo>
                  <a:pt x="0" y="319"/>
                </a:moveTo>
                <a:cubicBezTo>
                  <a:pt x="66" y="214"/>
                  <a:pt x="132" y="110"/>
                  <a:pt x="216" y="127"/>
                </a:cubicBezTo>
                <a:cubicBezTo>
                  <a:pt x="300" y="144"/>
                  <a:pt x="407" y="427"/>
                  <a:pt x="504" y="423"/>
                </a:cubicBezTo>
                <a:cubicBezTo>
                  <a:pt x="601" y="419"/>
                  <a:pt x="703" y="72"/>
                  <a:pt x="800" y="103"/>
                </a:cubicBezTo>
                <a:cubicBezTo>
                  <a:pt x="897" y="134"/>
                  <a:pt x="995" y="616"/>
                  <a:pt x="1088" y="607"/>
                </a:cubicBezTo>
                <a:cubicBezTo>
                  <a:pt x="1181" y="598"/>
                  <a:pt x="1239" y="0"/>
                  <a:pt x="1360" y="47"/>
                </a:cubicBezTo>
                <a:cubicBezTo>
                  <a:pt x="1481" y="94"/>
                  <a:pt x="1652" y="887"/>
                  <a:pt x="1816" y="887"/>
                </a:cubicBezTo>
                <a:cubicBezTo>
                  <a:pt x="1980" y="887"/>
                  <a:pt x="2168" y="42"/>
                  <a:pt x="2344" y="47"/>
                </a:cubicBezTo>
                <a:cubicBezTo>
                  <a:pt x="2520" y="52"/>
                  <a:pt x="2509" y="907"/>
                  <a:pt x="2872" y="919"/>
                </a:cubicBezTo>
                <a:cubicBezTo>
                  <a:pt x="3235" y="931"/>
                  <a:pt x="3877" y="525"/>
                  <a:pt x="4520" y="119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394160" y="1562040"/>
            <a:ext cx="355680" cy="3556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51040" y="4573440"/>
            <a:ext cx="7175520" cy="1478160"/>
          </a:xfrm>
          <a:custGeom>
            <a:avLst/>
            <a:gdLst/>
            <a:ahLst/>
            <a:rect l="l" t="t" r="r" b="b"/>
            <a:pathLst>
              <a:path w="4520" h="931">
                <a:moveTo>
                  <a:pt x="0" y="319"/>
                </a:moveTo>
                <a:cubicBezTo>
                  <a:pt x="66" y="214"/>
                  <a:pt x="132" y="110"/>
                  <a:pt x="216" y="127"/>
                </a:cubicBezTo>
                <a:cubicBezTo>
                  <a:pt x="300" y="144"/>
                  <a:pt x="407" y="427"/>
                  <a:pt x="504" y="423"/>
                </a:cubicBezTo>
                <a:cubicBezTo>
                  <a:pt x="601" y="419"/>
                  <a:pt x="703" y="72"/>
                  <a:pt x="800" y="103"/>
                </a:cubicBezTo>
                <a:cubicBezTo>
                  <a:pt x="897" y="134"/>
                  <a:pt x="995" y="616"/>
                  <a:pt x="1088" y="607"/>
                </a:cubicBezTo>
                <a:cubicBezTo>
                  <a:pt x="1181" y="598"/>
                  <a:pt x="1239" y="0"/>
                  <a:pt x="1360" y="47"/>
                </a:cubicBezTo>
                <a:cubicBezTo>
                  <a:pt x="1481" y="94"/>
                  <a:pt x="1652" y="887"/>
                  <a:pt x="1816" y="887"/>
                </a:cubicBezTo>
                <a:cubicBezTo>
                  <a:pt x="1980" y="887"/>
                  <a:pt x="2168" y="42"/>
                  <a:pt x="2344" y="47"/>
                </a:cubicBezTo>
                <a:cubicBezTo>
                  <a:pt x="2520" y="52"/>
                  <a:pt x="2509" y="907"/>
                  <a:pt x="2872" y="919"/>
                </a:cubicBezTo>
                <a:cubicBezTo>
                  <a:pt x="3235" y="931"/>
                  <a:pt x="3877" y="525"/>
                  <a:pt x="4520" y="119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759120" y="5054760"/>
            <a:ext cx="355680" cy="355320"/>
          </a:xfrm>
          <a:prstGeom prst="ellips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0" y="-108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Resilience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learning capacity (memor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876240" y="1881360"/>
            <a:ext cx="7175520" cy="1477800"/>
          </a:xfrm>
          <a:custGeom>
            <a:avLst/>
            <a:gdLst/>
            <a:ahLst/>
            <a:rect l="l" t="t" r="r" b="b"/>
            <a:pathLst>
              <a:path w="4520" h="931">
                <a:moveTo>
                  <a:pt x="0" y="319"/>
                </a:moveTo>
                <a:cubicBezTo>
                  <a:pt x="66" y="214"/>
                  <a:pt x="132" y="110"/>
                  <a:pt x="216" y="127"/>
                </a:cubicBezTo>
                <a:cubicBezTo>
                  <a:pt x="300" y="144"/>
                  <a:pt x="407" y="427"/>
                  <a:pt x="504" y="423"/>
                </a:cubicBezTo>
                <a:cubicBezTo>
                  <a:pt x="601" y="419"/>
                  <a:pt x="703" y="72"/>
                  <a:pt x="800" y="103"/>
                </a:cubicBezTo>
                <a:cubicBezTo>
                  <a:pt x="897" y="134"/>
                  <a:pt x="995" y="616"/>
                  <a:pt x="1088" y="607"/>
                </a:cubicBezTo>
                <a:cubicBezTo>
                  <a:pt x="1181" y="598"/>
                  <a:pt x="1239" y="0"/>
                  <a:pt x="1360" y="47"/>
                </a:cubicBezTo>
                <a:cubicBezTo>
                  <a:pt x="1481" y="94"/>
                  <a:pt x="1652" y="887"/>
                  <a:pt x="1816" y="887"/>
                </a:cubicBezTo>
                <a:cubicBezTo>
                  <a:pt x="1980" y="887"/>
                  <a:pt x="2168" y="42"/>
                  <a:pt x="2344" y="47"/>
                </a:cubicBezTo>
                <a:cubicBezTo>
                  <a:pt x="2520" y="52"/>
                  <a:pt x="2509" y="907"/>
                  <a:pt x="2872" y="919"/>
                </a:cubicBezTo>
                <a:cubicBezTo>
                  <a:pt x="3235" y="931"/>
                  <a:pt x="3877" y="525"/>
                  <a:pt x="4520" y="119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4394160" y="1562040"/>
            <a:ext cx="355680" cy="3556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851040" y="4573440"/>
            <a:ext cx="7175520" cy="1478160"/>
          </a:xfrm>
          <a:custGeom>
            <a:avLst/>
            <a:gdLst/>
            <a:ahLst/>
            <a:rect l="l" t="t" r="r" b="b"/>
            <a:pathLst>
              <a:path w="4520" h="931">
                <a:moveTo>
                  <a:pt x="0" y="319"/>
                </a:moveTo>
                <a:cubicBezTo>
                  <a:pt x="66" y="214"/>
                  <a:pt x="132" y="110"/>
                  <a:pt x="216" y="127"/>
                </a:cubicBezTo>
                <a:cubicBezTo>
                  <a:pt x="300" y="144"/>
                  <a:pt x="407" y="427"/>
                  <a:pt x="504" y="423"/>
                </a:cubicBezTo>
                <a:cubicBezTo>
                  <a:pt x="601" y="419"/>
                  <a:pt x="703" y="72"/>
                  <a:pt x="800" y="103"/>
                </a:cubicBezTo>
                <a:cubicBezTo>
                  <a:pt x="897" y="134"/>
                  <a:pt x="995" y="616"/>
                  <a:pt x="1088" y="607"/>
                </a:cubicBezTo>
                <a:cubicBezTo>
                  <a:pt x="1181" y="598"/>
                  <a:pt x="1239" y="0"/>
                  <a:pt x="1360" y="47"/>
                </a:cubicBezTo>
                <a:cubicBezTo>
                  <a:pt x="1481" y="94"/>
                  <a:pt x="1652" y="887"/>
                  <a:pt x="1816" y="887"/>
                </a:cubicBezTo>
                <a:cubicBezTo>
                  <a:pt x="1980" y="887"/>
                  <a:pt x="2168" y="42"/>
                  <a:pt x="2344" y="47"/>
                </a:cubicBezTo>
                <a:cubicBezTo>
                  <a:pt x="2520" y="52"/>
                  <a:pt x="2509" y="907"/>
                  <a:pt x="2872" y="919"/>
                </a:cubicBezTo>
                <a:cubicBezTo>
                  <a:pt x="3235" y="931"/>
                  <a:pt x="3877" y="525"/>
                  <a:pt x="4520" y="119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3873600" y="4800600"/>
            <a:ext cx="355680" cy="355680"/>
          </a:xfrm>
          <a:prstGeom prst="ellips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0" y="-108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Resilience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learning capacity (memor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876240" y="1881360"/>
            <a:ext cx="7175520" cy="1477800"/>
          </a:xfrm>
          <a:custGeom>
            <a:avLst/>
            <a:gdLst/>
            <a:ahLst/>
            <a:rect l="l" t="t" r="r" b="b"/>
            <a:pathLst>
              <a:path w="4520" h="931">
                <a:moveTo>
                  <a:pt x="0" y="319"/>
                </a:moveTo>
                <a:cubicBezTo>
                  <a:pt x="66" y="214"/>
                  <a:pt x="132" y="110"/>
                  <a:pt x="216" y="127"/>
                </a:cubicBezTo>
                <a:cubicBezTo>
                  <a:pt x="300" y="144"/>
                  <a:pt x="407" y="427"/>
                  <a:pt x="504" y="423"/>
                </a:cubicBezTo>
                <a:cubicBezTo>
                  <a:pt x="601" y="419"/>
                  <a:pt x="703" y="72"/>
                  <a:pt x="800" y="103"/>
                </a:cubicBezTo>
                <a:cubicBezTo>
                  <a:pt x="897" y="134"/>
                  <a:pt x="995" y="616"/>
                  <a:pt x="1088" y="607"/>
                </a:cubicBezTo>
                <a:cubicBezTo>
                  <a:pt x="1181" y="598"/>
                  <a:pt x="1239" y="0"/>
                  <a:pt x="1360" y="47"/>
                </a:cubicBezTo>
                <a:cubicBezTo>
                  <a:pt x="1481" y="94"/>
                  <a:pt x="1652" y="887"/>
                  <a:pt x="1816" y="887"/>
                </a:cubicBezTo>
                <a:cubicBezTo>
                  <a:pt x="1980" y="887"/>
                  <a:pt x="2168" y="42"/>
                  <a:pt x="2344" y="47"/>
                </a:cubicBezTo>
                <a:cubicBezTo>
                  <a:pt x="2520" y="52"/>
                  <a:pt x="2509" y="907"/>
                  <a:pt x="2872" y="919"/>
                </a:cubicBezTo>
                <a:cubicBezTo>
                  <a:pt x="3235" y="931"/>
                  <a:pt x="3877" y="525"/>
                  <a:pt x="4520" y="119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4394160" y="1562040"/>
            <a:ext cx="355680" cy="3556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851040" y="4573440"/>
            <a:ext cx="7175520" cy="1478160"/>
          </a:xfrm>
          <a:custGeom>
            <a:avLst/>
            <a:gdLst/>
            <a:ahLst/>
            <a:rect l="l" t="t" r="r" b="b"/>
            <a:pathLst>
              <a:path w="4520" h="931">
                <a:moveTo>
                  <a:pt x="0" y="319"/>
                </a:moveTo>
                <a:cubicBezTo>
                  <a:pt x="66" y="214"/>
                  <a:pt x="132" y="110"/>
                  <a:pt x="216" y="127"/>
                </a:cubicBezTo>
                <a:cubicBezTo>
                  <a:pt x="300" y="144"/>
                  <a:pt x="407" y="427"/>
                  <a:pt x="504" y="423"/>
                </a:cubicBezTo>
                <a:cubicBezTo>
                  <a:pt x="601" y="419"/>
                  <a:pt x="703" y="72"/>
                  <a:pt x="800" y="103"/>
                </a:cubicBezTo>
                <a:cubicBezTo>
                  <a:pt x="897" y="134"/>
                  <a:pt x="995" y="616"/>
                  <a:pt x="1088" y="607"/>
                </a:cubicBezTo>
                <a:cubicBezTo>
                  <a:pt x="1181" y="598"/>
                  <a:pt x="1239" y="0"/>
                  <a:pt x="1360" y="47"/>
                </a:cubicBezTo>
                <a:cubicBezTo>
                  <a:pt x="1481" y="94"/>
                  <a:pt x="1652" y="887"/>
                  <a:pt x="1816" y="887"/>
                </a:cubicBezTo>
                <a:cubicBezTo>
                  <a:pt x="1980" y="887"/>
                  <a:pt x="2168" y="42"/>
                  <a:pt x="2344" y="47"/>
                </a:cubicBezTo>
                <a:cubicBezTo>
                  <a:pt x="2520" y="52"/>
                  <a:pt x="2509" y="907"/>
                  <a:pt x="2872" y="919"/>
                </a:cubicBezTo>
                <a:cubicBezTo>
                  <a:pt x="3235" y="931"/>
                  <a:pt x="3877" y="525"/>
                  <a:pt x="4520" y="119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4025880" y="4559400"/>
            <a:ext cx="355680" cy="355680"/>
          </a:xfrm>
          <a:prstGeom prst="ellips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"/>
          <p:cNvSpPr/>
          <p:nvPr/>
        </p:nvSpPr>
        <p:spPr>
          <a:xfrm>
            <a:off x="0" y="-108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Resilience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learning capacity (memor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876240" y="1881360"/>
            <a:ext cx="7175520" cy="1477800"/>
          </a:xfrm>
          <a:custGeom>
            <a:avLst/>
            <a:gdLst/>
            <a:ahLst/>
            <a:rect l="l" t="t" r="r" b="b"/>
            <a:pathLst>
              <a:path w="4520" h="931">
                <a:moveTo>
                  <a:pt x="0" y="319"/>
                </a:moveTo>
                <a:cubicBezTo>
                  <a:pt x="66" y="214"/>
                  <a:pt x="132" y="110"/>
                  <a:pt x="216" y="127"/>
                </a:cubicBezTo>
                <a:cubicBezTo>
                  <a:pt x="300" y="144"/>
                  <a:pt x="407" y="427"/>
                  <a:pt x="504" y="423"/>
                </a:cubicBezTo>
                <a:cubicBezTo>
                  <a:pt x="601" y="419"/>
                  <a:pt x="703" y="72"/>
                  <a:pt x="800" y="103"/>
                </a:cubicBezTo>
                <a:cubicBezTo>
                  <a:pt x="897" y="134"/>
                  <a:pt x="995" y="616"/>
                  <a:pt x="1088" y="607"/>
                </a:cubicBezTo>
                <a:cubicBezTo>
                  <a:pt x="1181" y="598"/>
                  <a:pt x="1239" y="0"/>
                  <a:pt x="1360" y="47"/>
                </a:cubicBezTo>
                <a:cubicBezTo>
                  <a:pt x="1481" y="94"/>
                  <a:pt x="1652" y="887"/>
                  <a:pt x="1816" y="887"/>
                </a:cubicBezTo>
                <a:cubicBezTo>
                  <a:pt x="1980" y="887"/>
                  <a:pt x="2168" y="42"/>
                  <a:pt x="2344" y="47"/>
                </a:cubicBezTo>
                <a:cubicBezTo>
                  <a:pt x="2520" y="52"/>
                  <a:pt x="2509" y="907"/>
                  <a:pt x="2872" y="919"/>
                </a:cubicBezTo>
                <a:cubicBezTo>
                  <a:pt x="3235" y="931"/>
                  <a:pt x="3877" y="525"/>
                  <a:pt x="4520" y="119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394160" y="1562040"/>
            <a:ext cx="355680" cy="3556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851040" y="4573440"/>
            <a:ext cx="7175520" cy="1478160"/>
          </a:xfrm>
          <a:custGeom>
            <a:avLst/>
            <a:gdLst/>
            <a:ahLst/>
            <a:rect l="l" t="t" r="r" b="b"/>
            <a:pathLst>
              <a:path w="4520" h="931">
                <a:moveTo>
                  <a:pt x="0" y="319"/>
                </a:moveTo>
                <a:cubicBezTo>
                  <a:pt x="66" y="214"/>
                  <a:pt x="132" y="110"/>
                  <a:pt x="216" y="127"/>
                </a:cubicBezTo>
                <a:cubicBezTo>
                  <a:pt x="300" y="144"/>
                  <a:pt x="407" y="427"/>
                  <a:pt x="504" y="423"/>
                </a:cubicBezTo>
                <a:cubicBezTo>
                  <a:pt x="601" y="419"/>
                  <a:pt x="703" y="72"/>
                  <a:pt x="800" y="103"/>
                </a:cubicBezTo>
                <a:cubicBezTo>
                  <a:pt x="897" y="134"/>
                  <a:pt x="995" y="616"/>
                  <a:pt x="1088" y="607"/>
                </a:cubicBezTo>
                <a:cubicBezTo>
                  <a:pt x="1181" y="598"/>
                  <a:pt x="1239" y="0"/>
                  <a:pt x="1360" y="47"/>
                </a:cubicBezTo>
                <a:cubicBezTo>
                  <a:pt x="1481" y="94"/>
                  <a:pt x="1652" y="887"/>
                  <a:pt x="1816" y="887"/>
                </a:cubicBezTo>
                <a:cubicBezTo>
                  <a:pt x="1980" y="887"/>
                  <a:pt x="2168" y="42"/>
                  <a:pt x="2344" y="47"/>
                </a:cubicBezTo>
                <a:cubicBezTo>
                  <a:pt x="2520" y="52"/>
                  <a:pt x="2509" y="907"/>
                  <a:pt x="2872" y="919"/>
                </a:cubicBezTo>
                <a:cubicBezTo>
                  <a:pt x="3235" y="931"/>
                  <a:pt x="3877" y="525"/>
                  <a:pt x="4520" y="119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4381560" y="4254480"/>
            <a:ext cx="355680" cy="355680"/>
          </a:xfrm>
          <a:prstGeom prst="ellips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"/>
          <p:cNvSpPr/>
          <p:nvPr/>
        </p:nvSpPr>
        <p:spPr>
          <a:xfrm>
            <a:off x="0" y="-108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Resilience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learning capacity (memor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876240" y="1881360"/>
            <a:ext cx="7175520" cy="1477800"/>
          </a:xfrm>
          <a:custGeom>
            <a:avLst/>
            <a:gdLst/>
            <a:ahLst/>
            <a:rect l="l" t="t" r="r" b="b"/>
            <a:pathLst>
              <a:path w="4520" h="931">
                <a:moveTo>
                  <a:pt x="0" y="319"/>
                </a:moveTo>
                <a:cubicBezTo>
                  <a:pt x="66" y="214"/>
                  <a:pt x="132" y="110"/>
                  <a:pt x="216" y="127"/>
                </a:cubicBezTo>
                <a:cubicBezTo>
                  <a:pt x="300" y="144"/>
                  <a:pt x="407" y="427"/>
                  <a:pt x="504" y="423"/>
                </a:cubicBezTo>
                <a:cubicBezTo>
                  <a:pt x="601" y="419"/>
                  <a:pt x="703" y="72"/>
                  <a:pt x="800" y="103"/>
                </a:cubicBezTo>
                <a:cubicBezTo>
                  <a:pt x="897" y="134"/>
                  <a:pt x="995" y="616"/>
                  <a:pt x="1088" y="607"/>
                </a:cubicBezTo>
                <a:cubicBezTo>
                  <a:pt x="1181" y="598"/>
                  <a:pt x="1239" y="0"/>
                  <a:pt x="1360" y="47"/>
                </a:cubicBezTo>
                <a:cubicBezTo>
                  <a:pt x="1481" y="94"/>
                  <a:pt x="1652" y="887"/>
                  <a:pt x="1816" y="887"/>
                </a:cubicBezTo>
                <a:cubicBezTo>
                  <a:pt x="1980" y="887"/>
                  <a:pt x="2168" y="42"/>
                  <a:pt x="2344" y="47"/>
                </a:cubicBezTo>
                <a:cubicBezTo>
                  <a:pt x="2520" y="52"/>
                  <a:pt x="2509" y="907"/>
                  <a:pt x="2872" y="919"/>
                </a:cubicBezTo>
                <a:cubicBezTo>
                  <a:pt x="3235" y="931"/>
                  <a:pt x="3877" y="525"/>
                  <a:pt x="4520" y="119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257800" y="2946240"/>
            <a:ext cx="355680" cy="3556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851040" y="4573440"/>
            <a:ext cx="7175520" cy="1478160"/>
          </a:xfrm>
          <a:custGeom>
            <a:avLst/>
            <a:gdLst/>
            <a:ahLst/>
            <a:rect l="l" t="t" r="r" b="b"/>
            <a:pathLst>
              <a:path w="4520" h="931">
                <a:moveTo>
                  <a:pt x="0" y="319"/>
                </a:moveTo>
                <a:cubicBezTo>
                  <a:pt x="66" y="214"/>
                  <a:pt x="132" y="110"/>
                  <a:pt x="216" y="127"/>
                </a:cubicBezTo>
                <a:cubicBezTo>
                  <a:pt x="300" y="144"/>
                  <a:pt x="407" y="427"/>
                  <a:pt x="504" y="423"/>
                </a:cubicBezTo>
                <a:cubicBezTo>
                  <a:pt x="601" y="419"/>
                  <a:pt x="703" y="72"/>
                  <a:pt x="800" y="103"/>
                </a:cubicBezTo>
                <a:cubicBezTo>
                  <a:pt x="897" y="134"/>
                  <a:pt x="995" y="616"/>
                  <a:pt x="1088" y="607"/>
                </a:cubicBezTo>
                <a:cubicBezTo>
                  <a:pt x="1181" y="598"/>
                  <a:pt x="1239" y="0"/>
                  <a:pt x="1360" y="47"/>
                </a:cubicBezTo>
                <a:cubicBezTo>
                  <a:pt x="1481" y="94"/>
                  <a:pt x="1652" y="887"/>
                  <a:pt x="1816" y="887"/>
                </a:cubicBezTo>
                <a:cubicBezTo>
                  <a:pt x="1980" y="887"/>
                  <a:pt x="2168" y="42"/>
                  <a:pt x="2344" y="47"/>
                </a:cubicBezTo>
                <a:cubicBezTo>
                  <a:pt x="2520" y="52"/>
                  <a:pt x="2509" y="907"/>
                  <a:pt x="2872" y="919"/>
                </a:cubicBezTo>
                <a:cubicBezTo>
                  <a:pt x="3235" y="931"/>
                  <a:pt x="3877" y="525"/>
                  <a:pt x="4520" y="119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257800" y="5638680"/>
            <a:ext cx="355680" cy="355680"/>
          </a:xfrm>
          <a:prstGeom prst="ellips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5473800" y="4622760"/>
            <a:ext cx="850680" cy="584280"/>
          </a:xfrm>
          <a:prstGeom prst="cloudCallout">
            <a:avLst>
              <a:gd name="adj1" fmla="val -46643"/>
              <a:gd name="adj2" fmla="val 10924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5473800" y="2031840"/>
            <a:ext cx="850680" cy="584280"/>
          </a:xfrm>
          <a:prstGeom prst="cloudCallout">
            <a:avLst>
              <a:gd name="adj1" fmla="val -39180"/>
              <a:gd name="adj2" fmla="val 96194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4" name="bd04924_" descr=""/>
          <p:cNvPicPr/>
          <p:nvPr/>
        </p:nvPicPr>
        <p:blipFill>
          <a:blip r:embed="rId1"/>
          <a:stretch/>
        </p:blipFill>
        <p:spPr>
          <a:xfrm>
            <a:off x="5746680" y="2089080"/>
            <a:ext cx="325440" cy="4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"/>
          <p:cNvSpPr/>
          <p:nvPr/>
        </p:nvSpPr>
        <p:spPr>
          <a:xfrm>
            <a:off x="0" y="-108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Resilience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learning capacity (memor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876240" y="1881360"/>
            <a:ext cx="7175520" cy="1477800"/>
          </a:xfrm>
          <a:custGeom>
            <a:avLst/>
            <a:gdLst/>
            <a:ahLst/>
            <a:rect l="l" t="t" r="r" b="b"/>
            <a:pathLst>
              <a:path w="4520" h="931">
                <a:moveTo>
                  <a:pt x="0" y="319"/>
                </a:moveTo>
                <a:cubicBezTo>
                  <a:pt x="66" y="214"/>
                  <a:pt x="132" y="110"/>
                  <a:pt x="216" y="127"/>
                </a:cubicBezTo>
                <a:cubicBezTo>
                  <a:pt x="300" y="144"/>
                  <a:pt x="407" y="427"/>
                  <a:pt x="504" y="423"/>
                </a:cubicBezTo>
                <a:cubicBezTo>
                  <a:pt x="601" y="419"/>
                  <a:pt x="703" y="72"/>
                  <a:pt x="800" y="103"/>
                </a:cubicBezTo>
                <a:cubicBezTo>
                  <a:pt x="897" y="134"/>
                  <a:pt x="995" y="616"/>
                  <a:pt x="1088" y="607"/>
                </a:cubicBezTo>
                <a:cubicBezTo>
                  <a:pt x="1181" y="598"/>
                  <a:pt x="1239" y="0"/>
                  <a:pt x="1360" y="47"/>
                </a:cubicBezTo>
                <a:cubicBezTo>
                  <a:pt x="1481" y="94"/>
                  <a:pt x="1652" y="887"/>
                  <a:pt x="1816" y="887"/>
                </a:cubicBezTo>
                <a:cubicBezTo>
                  <a:pt x="1980" y="887"/>
                  <a:pt x="2168" y="42"/>
                  <a:pt x="2344" y="47"/>
                </a:cubicBezTo>
                <a:cubicBezTo>
                  <a:pt x="2520" y="52"/>
                  <a:pt x="2509" y="907"/>
                  <a:pt x="2872" y="919"/>
                </a:cubicBezTo>
                <a:cubicBezTo>
                  <a:pt x="3235" y="931"/>
                  <a:pt x="3877" y="525"/>
                  <a:pt x="4520" y="119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7696080" y="1752480"/>
            <a:ext cx="355680" cy="3556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851040" y="4573440"/>
            <a:ext cx="7175520" cy="1478160"/>
          </a:xfrm>
          <a:custGeom>
            <a:avLst/>
            <a:gdLst/>
            <a:ahLst/>
            <a:rect l="l" t="t" r="r" b="b"/>
            <a:pathLst>
              <a:path w="4520" h="931">
                <a:moveTo>
                  <a:pt x="0" y="319"/>
                </a:moveTo>
                <a:cubicBezTo>
                  <a:pt x="66" y="214"/>
                  <a:pt x="132" y="110"/>
                  <a:pt x="216" y="127"/>
                </a:cubicBezTo>
                <a:cubicBezTo>
                  <a:pt x="300" y="144"/>
                  <a:pt x="407" y="427"/>
                  <a:pt x="504" y="423"/>
                </a:cubicBezTo>
                <a:cubicBezTo>
                  <a:pt x="601" y="419"/>
                  <a:pt x="703" y="72"/>
                  <a:pt x="800" y="103"/>
                </a:cubicBezTo>
                <a:cubicBezTo>
                  <a:pt x="897" y="134"/>
                  <a:pt x="995" y="616"/>
                  <a:pt x="1088" y="607"/>
                </a:cubicBezTo>
                <a:cubicBezTo>
                  <a:pt x="1181" y="598"/>
                  <a:pt x="1239" y="0"/>
                  <a:pt x="1360" y="47"/>
                </a:cubicBezTo>
                <a:cubicBezTo>
                  <a:pt x="1481" y="94"/>
                  <a:pt x="1652" y="887"/>
                  <a:pt x="1816" y="887"/>
                </a:cubicBezTo>
                <a:cubicBezTo>
                  <a:pt x="1980" y="887"/>
                  <a:pt x="2168" y="42"/>
                  <a:pt x="2344" y="47"/>
                </a:cubicBezTo>
                <a:cubicBezTo>
                  <a:pt x="2520" y="52"/>
                  <a:pt x="2509" y="907"/>
                  <a:pt x="2872" y="919"/>
                </a:cubicBezTo>
                <a:cubicBezTo>
                  <a:pt x="3235" y="931"/>
                  <a:pt x="3877" y="525"/>
                  <a:pt x="4520" y="119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587920" y="5562720"/>
            <a:ext cx="355680" cy="355320"/>
          </a:xfrm>
          <a:prstGeom prst="ellips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-108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s it sustainabilit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108160" y="2070000"/>
            <a:ext cx="914400" cy="9144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54160" y="3216240"/>
            <a:ext cx="8635680" cy="0"/>
          </a:xfrm>
          <a:prstGeom prst="line">
            <a:avLst/>
          </a:prstGeom>
          <a:ln w="444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3632040" y="952560"/>
            <a:ext cx="182880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>
            <a:off x="4546080" y="1839960"/>
            <a:ext cx="1800" cy="6984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"/>
          <p:cNvSpPr/>
          <p:nvPr/>
        </p:nvSpPr>
        <p:spPr>
          <a:xfrm>
            <a:off x="0" y="-108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Resilience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learning capacity (memor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876240" y="1881360"/>
            <a:ext cx="7175520" cy="1477800"/>
          </a:xfrm>
          <a:custGeom>
            <a:avLst/>
            <a:gdLst/>
            <a:ahLst/>
            <a:rect l="l" t="t" r="r" b="b"/>
            <a:pathLst>
              <a:path w="4520" h="931">
                <a:moveTo>
                  <a:pt x="0" y="319"/>
                </a:moveTo>
                <a:cubicBezTo>
                  <a:pt x="66" y="214"/>
                  <a:pt x="132" y="110"/>
                  <a:pt x="216" y="127"/>
                </a:cubicBezTo>
                <a:cubicBezTo>
                  <a:pt x="300" y="144"/>
                  <a:pt x="407" y="427"/>
                  <a:pt x="504" y="423"/>
                </a:cubicBezTo>
                <a:cubicBezTo>
                  <a:pt x="601" y="419"/>
                  <a:pt x="703" y="72"/>
                  <a:pt x="800" y="103"/>
                </a:cubicBezTo>
                <a:cubicBezTo>
                  <a:pt x="897" y="134"/>
                  <a:pt x="995" y="616"/>
                  <a:pt x="1088" y="607"/>
                </a:cubicBezTo>
                <a:cubicBezTo>
                  <a:pt x="1181" y="598"/>
                  <a:pt x="1239" y="0"/>
                  <a:pt x="1360" y="47"/>
                </a:cubicBezTo>
                <a:cubicBezTo>
                  <a:pt x="1481" y="94"/>
                  <a:pt x="1652" y="887"/>
                  <a:pt x="1816" y="887"/>
                </a:cubicBezTo>
                <a:cubicBezTo>
                  <a:pt x="1980" y="887"/>
                  <a:pt x="2168" y="42"/>
                  <a:pt x="2344" y="47"/>
                </a:cubicBezTo>
                <a:cubicBezTo>
                  <a:pt x="2520" y="52"/>
                  <a:pt x="2509" y="907"/>
                  <a:pt x="2872" y="919"/>
                </a:cubicBezTo>
                <a:cubicBezTo>
                  <a:pt x="3235" y="931"/>
                  <a:pt x="3877" y="525"/>
                  <a:pt x="4520" y="119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7696080" y="1752480"/>
            <a:ext cx="355680" cy="3556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851040" y="4573440"/>
            <a:ext cx="7175520" cy="1478160"/>
          </a:xfrm>
          <a:custGeom>
            <a:avLst/>
            <a:gdLst/>
            <a:ahLst/>
            <a:rect l="l" t="t" r="r" b="b"/>
            <a:pathLst>
              <a:path w="4520" h="931">
                <a:moveTo>
                  <a:pt x="0" y="319"/>
                </a:moveTo>
                <a:cubicBezTo>
                  <a:pt x="66" y="214"/>
                  <a:pt x="132" y="110"/>
                  <a:pt x="216" y="127"/>
                </a:cubicBezTo>
                <a:cubicBezTo>
                  <a:pt x="300" y="144"/>
                  <a:pt x="407" y="427"/>
                  <a:pt x="504" y="423"/>
                </a:cubicBezTo>
                <a:cubicBezTo>
                  <a:pt x="601" y="419"/>
                  <a:pt x="703" y="72"/>
                  <a:pt x="800" y="103"/>
                </a:cubicBezTo>
                <a:cubicBezTo>
                  <a:pt x="897" y="134"/>
                  <a:pt x="995" y="616"/>
                  <a:pt x="1088" y="607"/>
                </a:cubicBezTo>
                <a:cubicBezTo>
                  <a:pt x="1181" y="598"/>
                  <a:pt x="1239" y="0"/>
                  <a:pt x="1360" y="47"/>
                </a:cubicBezTo>
                <a:cubicBezTo>
                  <a:pt x="1481" y="94"/>
                  <a:pt x="1652" y="887"/>
                  <a:pt x="1816" y="887"/>
                </a:cubicBezTo>
                <a:cubicBezTo>
                  <a:pt x="1980" y="887"/>
                  <a:pt x="2168" y="42"/>
                  <a:pt x="2344" y="47"/>
                </a:cubicBezTo>
                <a:cubicBezTo>
                  <a:pt x="2520" y="52"/>
                  <a:pt x="2509" y="907"/>
                  <a:pt x="2872" y="919"/>
                </a:cubicBezTo>
                <a:cubicBezTo>
                  <a:pt x="3235" y="931"/>
                  <a:pt x="3877" y="525"/>
                  <a:pt x="4520" y="119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931000" y="5435640"/>
            <a:ext cx="355680" cy="355680"/>
          </a:xfrm>
          <a:prstGeom prst="ellips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"/>
          <p:cNvSpPr/>
          <p:nvPr/>
        </p:nvSpPr>
        <p:spPr>
          <a:xfrm>
            <a:off x="0" y="-108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Resilience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learning capacity (memor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876240" y="1881360"/>
            <a:ext cx="7175520" cy="1477800"/>
          </a:xfrm>
          <a:custGeom>
            <a:avLst/>
            <a:gdLst/>
            <a:ahLst/>
            <a:rect l="l" t="t" r="r" b="b"/>
            <a:pathLst>
              <a:path w="4520" h="931">
                <a:moveTo>
                  <a:pt x="0" y="319"/>
                </a:moveTo>
                <a:cubicBezTo>
                  <a:pt x="66" y="214"/>
                  <a:pt x="132" y="110"/>
                  <a:pt x="216" y="127"/>
                </a:cubicBezTo>
                <a:cubicBezTo>
                  <a:pt x="300" y="144"/>
                  <a:pt x="407" y="427"/>
                  <a:pt x="504" y="423"/>
                </a:cubicBezTo>
                <a:cubicBezTo>
                  <a:pt x="601" y="419"/>
                  <a:pt x="703" y="72"/>
                  <a:pt x="800" y="103"/>
                </a:cubicBezTo>
                <a:cubicBezTo>
                  <a:pt x="897" y="134"/>
                  <a:pt x="995" y="616"/>
                  <a:pt x="1088" y="607"/>
                </a:cubicBezTo>
                <a:cubicBezTo>
                  <a:pt x="1181" y="598"/>
                  <a:pt x="1239" y="0"/>
                  <a:pt x="1360" y="47"/>
                </a:cubicBezTo>
                <a:cubicBezTo>
                  <a:pt x="1481" y="94"/>
                  <a:pt x="1652" y="887"/>
                  <a:pt x="1816" y="887"/>
                </a:cubicBezTo>
                <a:cubicBezTo>
                  <a:pt x="1980" y="887"/>
                  <a:pt x="2168" y="42"/>
                  <a:pt x="2344" y="47"/>
                </a:cubicBezTo>
                <a:cubicBezTo>
                  <a:pt x="2520" y="52"/>
                  <a:pt x="2509" y="907"/>
                  <a:pt x="2872" y="919"/>
                </a:cubicBezTo>
                <a:cubicBezTo>
                  <a:pt x="3235" y="931"/>
                  <a:pt x="3877" y="525"/>
                  <a:pt x="4520" y="119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7696080" y="1752480"/>
            <a:ext cx="355680" cy="3556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851040" y="4573440"/>
            <a:ext cx="7175520" cy="1478160"/>
          </a:xfrm>
          <a:custGeom>
            <a:avLst/>
            <a:gdLst/>
            <a:ahLst/>
            <a:rect l="l" t="t" r="r" b="b"/>
            <a:pathLst>
              <a:path w="4520" h="931">
                <a:moveTo>
                  <a:pt x="0" y="319"/>
                </a:moveTo>
                <a:cubicBezTo>
                  <a:pt x="66" y="214"/>
                  <a:pt x="132" y="110"/>
                  <a:pt x="216" y="127"/>
                </a:cubicBezTo>
                <a:cubicBezTo>
                  <a:pt x="300" y="144"/>
                  <a:pt x="407" y="427"/>
                  <a:pt x="504" y="423"/>
                </a:cubicBezTo>
                <a:cubicBezTo>
                  <a:pt x="601" y="419"/>
                  <a:pt x="703" y="72"/>
                  <a:pt x="800" y="103"/>
                </a:cubicBezTo>
                <a:cubicBezTo>
                  <a:pt x="897" y="134"/>
                  <a:pt x="995" y="616"/>
                  <a:pt x="1088" y="607"/>
                </a:cubicBezTo>
                <a:cubicBezTo>
                  <a:pt x="1181" y="598"/>
                  <a:pt x="1239" y="0"/>
                  <a:pt x="1360" y="47"/>
                </a:cubicBezTo>
                <a:cubicBezTo>
                  <a:pt x="1481" y="94"/>
                  <a:pt x="1652" y="887"/>
                  <a:pt x="1816" y="887"/>
                </a:cubicBezTo>
                <a:cubicBezTo>
                  <a:pt x="1980" y="887"/>
                  <a:pt x="2168" y="42"/>
                  <a:pt x="2344" y="47"/>
                </a:cubicBezTo>
                <a:cubicBezTo>
                  <a:pt x="2520" y="52"/>
                  <a:pt x="2509" y="907"/>
                  <a:pt x="2872" y="919"/>
                </a:cubicBezTo>
                <a:cubicBezTo>
                  <a:pt x="3235" y="931"/>
                  <a:pt x="3877" y="525"/>
                  <a:pt x="4520" y="119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6235560" y="5270400"/>
            <a:ext cx="355680" cy="355680"/>
          </a:xfrm>
          <a:prstGeom prst="ellips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"/>
          <p:cNvSpPr/>
          <p:nvPr/>
        </p:nvSpPr>
        <p:spPr>
          <a:xfrm>
            <a:off x="0" y="-108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Resilience: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learning capacity (memory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876240" y="1881360"/>
            <a:ext cx="7175520" cy="1477800"/>
          </a:xfrm>
          <a:custGeom>
            <a:avLst/>
            <a:gdLst/>
            <a:ahLst/>
            <a:rect l="l" t="t" r="r" b="b"/>
            <a:pathLst>
              <a:path w="4520" h="931">
                <a:moveTo>
                  <a:pt x="0" y="319"/>
                </a:moveTo>
                <a:cubicBezTo>
                  <a:pt x="66" y="214"/>
                  <a:pt x="132" y="110"/>
                  <a:pt x="216" y="127"/>
                </a:cubicBezTo>
                <a:cubicBezTo>
                  <a:pt x="300" y="144"/>
                  <a:pt x="407" y="427"/>
                  <a:pt x="504" y="423"/>
                </a:cubicBezTo>
                <a:cubicBezTo>
                  <a:pt x="601" y="419"/>
                  <a:pt x="703" y="72"/>
                  <a:pt x="800" y="103"/>
                </a:cubicBezTo>
                <a:cubicBezTo>
                  <a:pt x="897" y="134"/>
                  <a:pt x="995" y="616"/>
                  <a:pt x="1088" y="607"/>
                </a:cubicBezTo>
                <a:cubicBezTo>
                  <a:pt x="1181" y="598"/>
                  <a:pt x="1239" y="0"/>
                  <a:pt x="1360" y="47"/>
                </a:cubicBezTo>
                <a:cubicBezTo>
                  <a:pt x="1481" y="94"/>
                  <a:pt x="1652" y="887"/>
                  <a:pt x="1816" y="887"/>
                </a:cubicBezTo>
                <a:cubicBezTo>
                  <a:pt x="1980" y="887"/>
                  <a:pt x="2168" y="42"/>
                  <a:pt x="2344" y="47"/>
                </a:cubicBezTo>
                <a:cubicBezTo>
                  <a:pt x="2520" y="52"/>
                  <a:pt x="2509" y="907"/>
                  <a:pt x="2872" y="919"/>
                </a:cubicBezTo>
                <a:cubicBezTo>
                  <a:pt x="3235" y="931"/>
                  <a:pt x="3877" y="525"/>
                  <a:pt x="4520" y="119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7696080" y="1752480"/>
            <a:ext cx="355680" cy="35568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851040" y="4573440"/>
            <a:ext cx="7175520" cy="1478160"/>
          </a:xfrm>
          <a:custGeom>
            <a:avLst/>
            <a:gdLst/>
            <a:ahLst/>
            <a:rect l="l" t="t" r="r" b="b"/>
            <a:pathLst>
              <a:path w="4520" h="931">
                <a:moveTo>
                  <a:pt x="0" y="319"/>
                </a:moveTo>
                <a:cubicBezTo>
                  <a:pt x="66" y="214"/>
                  <a:pt x="132" y="110"/>
                  <a:pt x="216" y="127"/>
                </a:cubicBezTo>
                <a:cubicBezTo>
                  <a:pt x="300" y="144"/>
                  <a:pt x="407" y="427"/>
                  <a:pt x="504" y="423"/>
                </a:cubicBezTo>
                <a:cubicBezTo>
                  <a:pt x="601" y="419"/>
                  <a:pt x="703" y="72"/>
                  <a:pt x="800" y="103"/>
                </a:cubicBezTo>
                <a:cubicBezTo>
                  <a:pt x="897" y="134"/>
                  <a:pt x="995" y="616"/>
                  <a:pt x="1088" y="607"/>
                </a:cubicBezTo>
                <a:cubicBezTo>
                  <a:pt x="1181" y="598"/>
                  <a:pt x="1239" y="0"/>
                  <a:pt x="1360" y="47"/>
                </a:cubicBezTo>
                <a:cubicBezTo>
                  <a:pt x="1481" y="94"/>
                  <a:pt x="1652" y="887"/>
                  <a:pt x="1816" y="887"/>
                </a:cubicBezTo>
                <a:cubicBezTo>
                  <a:pt x="1980" y="887"/>
                  <a:pt x="2168" y="42"/>
                  <a:pt x="2344" y="47"/>
                </a:cubicBezTo>
                <a:cubicBezTo>
                  <a:pt x="2520" y="52"/>
                  <a:pt x="2509" y="907"/>
                  <a:pt x="2872" y="919"/>
                </a:cubicBezTo>
                <a:cubicBezTo>
                  <a:pt x="3235" y="931"/>
                  <a:pt x="3877" y="525"/>
                  <a:pt x="4520" y="119"/>
                </a:cubicBezTo>
              </a:path>
            </a:pathLst>
          </a:custGeom>
          <a:noFill/>
          <a:ln w="7632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6553080" y="5130720"/>
            <a:ext cx="355680" cy="355680"/>
          </a:xfrm>
          <a:prstGeom prst="ellipse">
            <a:avLst/>
          </a:prstGeom>
          <a:solidFill>
            <a:srgbClr val="00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789520" y="1717560"/>
            <a:ext cx="188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ood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5540040" y="4676760"/>
            <a:ext cx="171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ad memo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312840" y="1725480"/>
            <a:ext cx="860112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to test FALLOW Model sensibility i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ssessing resilience at a changing landscape by assessing learning-agents’ response to sh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assessing sustainability of the landsca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Testing Sit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2190600" y="142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1" name="" descr=""/>
          <p:cNvPicPr/>
          <p:nvPr/>
        </p:nvPicPr>
        <p:blipFill>
          <a:blip r:embed="rId1"/>
          <a:stretch/>
        </p:blipFill>
        <p:spPr>
          <a:xfrm>
            <a:off x="552600" y="677880"/>
            <a:ext cx="2203200" cy="2305080"/>
          </a:xfrm>
          <a:prstGeom prst="rect">
            <a:avLst/>
          </a:prstGeom>
          <a:ln w="0">
            <a:noFill/>
          </a:ln>
        </p:spPr>
      </p:pic>
      <p:sp>
        <p:nvSpPr>
          <p:cNvPr id="332" name=""/>
          <p:cNvSpPr/>
          <p:nvPr/>
        </p:nvSpPr>
        <p:spPr>
          <a:xfrm>
            <a:off x="3100320" y="21859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3" name="Slide1" descr=""/>
          <p:cNvPicPr/>
          <p:nvPr/>
        </p:nvPicPr>
        <p:blipFill>
          <a:blip r:embed="rId2"/>
          <a:srcRect l="50058" t="65264" r="0" b="0"/>
          <a:stretch/>
        </p:blipFill>
        <p:spPr>
          <a:xfrm>
            <a:off x="1957320" y="2043000"/>
            <a:ext cx="3198960" cy="1879560"/>
          </a:xfrm>
          <a:prstGeom prst="rect">
            <a:avLst/>
          </a:prstGeom>
          <a:ln w="0">
            <a:noFill/>
          </a:ln>
        </p:spPr>
      </p:pic>
      <p:sp>
        <p:nvSpPr>
          <p:cNvPr id="334" name=""/>
          <p:cNvSpPr/>
          <p:nvPr/>
        </p:nvSpPr>
        <p:spPr>
          <a:xfrm>
            <a:off x="3624120" y="27766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Slide5" descr=""/>
          <p:cNvPicPr/>
          <p:nvPr/>
        </p:nvPicPr>
        <p:blipFill>
          <a:blip r:embed="rId3"/>
          <a:stretch/>
        </p:blipFill>
        <p:spPr>
          <a:xfrm>
            <a:off x="4314960" y="3533760"/>
            <a:ext cx="4829040" cy="332424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-2880" y="4591080"/>
            <a:ext cx="3799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ffee growing are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atershed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4906800" y="971640"/>
            <a:ext cx="4240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umberjaya Catch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±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400 km</a:t>
            </a:r>
            <a:r>
              <a:rPr b="0" lang="en-US" sz="3200" spc="-1" strike="noStrike" baseline="30000">
                <a:solidFill>
                  <a:srgbClr val="ffffff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8" name="SJaya_1973_Interpreted_landuse" descr=""/>
          <p:cNvPicPr/>
          <p:nvPr/>
        </p:nvPicPr>
        <p:blipFill>
          <a:blip r:embed="rId1"/>
          <a:stretch/>
        </p:blipFill>
        <p:spPr>
          <a:xfrm>
            <a:off x="0" y="189000"/>
            <a:ext cx="9140760" cy="647676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301932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301932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306216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"/>
          <p:cNvSpPr/>
          <p:nvPr/>
        </p:nvSpPr>
        <p:spPr>
          <a:xfrm>
            <a:off x="301932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01932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306216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>
            <a:off x="301932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6" name="SJaya_1986_Interpreted_landuse" descr=""/>
          <p:cNvPicPr/>
          <p:nvPr/>
        </p:nvPicPr>
        <p:blipFill>
          <a:blip r:embed="rId1"/>
          <a:stretch/>
        </p:blipFill>
        <p:spPr>
          <a:xfrm>
            <a:off x="-23760" y="217440"/>
            <a:ext cx="9140760" cy="641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"/>
          <p:cNvSpPr/>
          <p:nvPr/>
        </p:nvSpPr>
        <p:spPr>
          <a:xfrm>
            <a:off x="3019320" y="23288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301932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06216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062160" y="236700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1" name="SJaya_2000_Interpreted_landuse" descr=""/>
          <p:cNvPicPr/>
          <p:nvPr/>
        </p:nvPicPr>
        <p:blipFill>
          <a:blip r:embed="rId1"/>
          <a:stretch/>
        </p:blipFill>
        <p:spPr>
          <a:xfrm>
            <a:off x="3240" y="210960"/>
            <a:ext cx="9140760" cy="643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46240" y="2292480"/>
            <a:ext cx="8600760" cy="22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With regards to Sumberjaya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Learning-agents = FARMER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hocks = COFFEE PRICE SH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Sustainability indicator = SEDIMENT L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"/>
          <p:cNvSpPr/>
          <p:nvPr/>
        </p:nvSpPr>
        <p:spPr>
          <a:xfrm>
            <a:off x="0" y="312408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Model Overview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-108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s it sustainabilit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108160" y="2070000"/>
            <a:ext cx="914400" cy="9144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254160" y="3216240"/>
            <a:ext cx="8635680" cy="0"/>
          </a:xfrm>
          <a:prstGeom prst="line">
            <a:avLst/>
          </a:prstGeom>
          <a:ln w="444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3632040" y="952560"/>
            <a:ext cx="182880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>
            <a:off x="3848040" y="1839960"/>
            <a:ext cx="698400" cy="144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0" y="666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What is </a:t>
            </a: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FALLOW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-8640" y="819000"/>
            <a:ext cx="80917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tially explicit landscape dynamics mod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ime scale: yearl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patial scale: landscape with resolution of 1 h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rporate learning agent: farmer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-5040" y="2847960"/>
            <a:ext cx="594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mpacts assessment toolboxes on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264240" y="3359160"/>
            <a:ext cx="398304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od secur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atershed function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iodivers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arbon stoc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4310640" y="5302080"/>
            <a:ext cx="45849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Times New Roman"/>
              </a:rPr>
              <a:t>Class 9 Model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60" name=""/>
          <p:cNvGrpSpPr/>
          <p:nvPr/>
        </p:nvGrpSpPr>
        <p:grpSpPr>
          <a:xfrm>
            <a:off x="0" y="542520"/>
            <a:ext cx="9144000" cy="6058080"/>
            <a:chOff x="0" y="542520"/>
            <a:chExt cx="9144000" cy="6058080"/>
          </a:xfrm>
        </p:grpSpPr>
        <p:sp>
          <p:nvSpPr>
            <p:cNvPr id="361" name=""/>
            <p:cNvSpPr/>
            <p:nvPr/>
          </p:nvSpPr>
          <p:spPr>
            <a:xfrm>
              <a:off x="0" y="3450960"/>
              <a:ext cx="9144000" cy="0"/>
            </a:xfrm>
            <a:prstGeom prst="line">
              <a:avLst/>
            </a:prstGeom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 rot="16200000">
              <a:off x="-1109160" y="1749960"/>
              <a:ext cx="29048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Landscap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 rot="16200000">
              <a:off x="-1233360" y="4779000"/>
              <a:ext cx="31528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Plot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 rot="16200000">
              <a:off x="-2299680" y="3373200"/>
              <a:ext cx="5959080" cy="339480"/>
            </a:xfrm>
            <a:prstGeom prst="rect">
              <a:avLst/>
            </a:prstGeom>
            <a:gradFill rotWithShape="0">
              <a:gsLst>
                <a:gs pos="0">
                  <a:srgbClr val="33cc33"/>
                </a:gs>
                <a:gs pos="100000">
                  <a:srgbClr val="00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Spatial Scal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65" name=""/>
          <p:cNvSpPr/>
          <p:nvPr/>
        </p:nvSpPr>
        <p:spPr>
          <a:xfrm rot="10800000">
            <a:off x="2653920" y="4978440"/>
            <a:ext cx="485640" cy="838080"/>
          </a:xfrm>
          <a:prstGeom prst="rightArrow">
            <a:avLst>
              <a:gd name="adj1" fmla="val 54167"/>
              <a:gd name="adj2" fmla="val 64056"/>
            </a:avLst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6" name=""/>
          <p:cNvGrpSpPr/>
          <p:nvPr/>
        </p:nvGrpSpPr>
        <p:grpSpPr>
          <a:xfrm>
            <a:off x="3138480" y="4768920"/>
            <a:ext cx="4557600" cy="1298520"/>
            <a:chOff x="3138480" y="4768920"/>
            <a:chExt cx="4557600" cy="1298520"/>
          </a:xfrm>
        </p:grpSpPr>
        <p:sp>
          <p:nvSpPr>
            <p:cNvPr id="367" name=""/>
            <p:cNvSpPr/>
            <p:nvPr/>
          </p:nvSpPr>
          <p:spPr>
            <a:xfrm>
              <a:off x="3138480" y="4768920"/>
              <a:ext cx="1104840" cy="1298520"/>
            </a:xfrm>
            <a:custGeom>
              <a:avLst/>
              <a:gdLst>
                <a:gd name="textAreaLeft" fmla="*/ 53640 w 1104840"/>
                <a:gd name="textAreaRight" fmla="*/ 1051200 w 1104840"/>
                <a:gd name="textAreaTop" fmla="*/ 53640 h 1298520"/>
                <a:gd name="textAreaBottom" fmla="*/ 1244880 h 1298520"/>
              </a:gdLst>
              <a:ahLst/>
              <a:rect l="textAreaLeft" t="textAreaTop" r="textAreaRight" b="textAreaBottom"/>
              <a:pathLst>
                <a:path w="21600" h="25385">
                  <a:moveTo>
                    <a:pt x="3600" y="0"/>
                  </a:moveTo>
                  <a:arcTo wR="3600" hR="3600" stAng="16200000" swAng="-5400000"/>
                  <a:lnTo>
                    <a:pt x="0" y="21785"/>
                  </a:lnTo>
                  <a:arcTo wR="3600" hR="3600" stAng="10800000" swAng="-5400000"/>
                  <a:lnTo>
                    <a:pt x="18000" y="253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00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LUCC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rot="10800000">
              <a:off x="4238640" y="4981680"/>
              <a:ext cx="3457440" cy="838080"/>
            </a:xfrm>
            <a:prstGeom prst="rightArrow">
              <a:avLst>
                <a:gd name="adj1" fmla="val 51898"/>
                <a:gd name="adj2" fmla="val 45475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3333c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Conv., succession &amp; growth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7529400" y="2830680"/>
            <a:ext cx="1204920" cy="3236760"/>
            <a:chOff x="7529400" y="2830680"/>
            <a:chExt cx="1204920" cy="3236760"/>
          </a:xfrm>
        </p:grpSpPr>
        <p:sp>
          <p:nvSpPr>
            <p:cNvPr id="370" name=""/>
            <p:cNvSpPr/>
            <p:nvPr/>
          </p:nvSpPr>
          <p:spPr>
            <a:xfrm rot="5400000">
              <a:off x="7177680" y="3425040"/>
              <a:ext cx="1912680" cy="723960"/>
            </a:xfrm>
            <a:prstGeom prst="rightArrow">
              <a:avLst>
                <a:gd name="adj1" fmla="val 58713"/>
                <a:gd name="adj2" fmla="val 32107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res. identify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7529400" y="4768920"/>
              <a:ext cx="1204920" cy="1298520"/>
            </a:xfrm>
            <a:custGeom>
              <a:avLst/>
              <a:gdLst>
                <a:gd name="textAreaLeft" fmla="*/ 58680 w 1204920"/>
                <a:gd name="textAreaRight" fmla="*/ 1146240 w 1204920"/>
                <a:gd name="textAreaTop" fmla="*/ 58680 h 1298520"/>
                <a:gd name="textAreaBottom" fmla="*/ 1239840 h 1298520"/>
              </a:gdLst>
              <a:ahLst/>
              <a:rect l="textAreaLeft" t="textAreaTop" r="textAreaRight" b="textAreaBottom"/>
              <a:pathLst>
                <a:path w="21600" h="23277">
                  <a:moveTo>
                    <a:pt x="3600" y="0"/>
                  </a:moveTo>
                  <a:arcTo wR="3600" hR="3600" stAng="16200000" swAng="-5400000"/>
                  <a:lnTo>
                    <a:pt x="0" y="19677"/>
                  </a:lnTo>
                  <a:arcTo wR="3600" hR="3600" stAng="10800000" swAng="-5400000"/>
                  <a:lnTo>
                    <a:pt x="18000" y="23277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Implement-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at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72" name=""/>
          <p:cNvGrpSpPr/>
          <p:nvPr/>
        </p:nvGrpSpPr>
        <p:grpSpPr>
          <a:xfrm>
            <a:off x="2638440" y="1528920"/>
            <a:ext cx="6338880" cy="1298520"/>
            <a:chOff x="2638440" y="1528920"/>
            <a:chExt cx="6338880" cy="1298520"/>
          </a:xfrm>
        </p:grpSpPr>
        <p:sp>
          <p:nvSpPr>
            <p:cNvPr id="373" name=""/>
            <p:cNvSpPr/>
            <p:nvPr/>
          </p:nvSpPr>
          <p:spPr>
            <a:xfrm>
              <a:off x="2638440" y="1773360"/>
              <a:ext cx="4572000" cy="838080"/>
            </a:xfrm>
            <a:prstGeom prst="rightArrow">
              <a:avLst>
                <a:gd name="adj1" fmla="val 40907"/>
                <a:gd name="adj2" fmla="val 39400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Learn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243920" y="1528920"/>
              <a:ext cx="1733400" cy="129852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Strategic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decision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on LU &amp; labor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919080" y="4759200"/>
            <a:ext cx="1733760" cy="1298880"/>
          </a:xfrm>
          <a:prstGeom prst="roundRect">
            <a:avLst>
              <a:gd name="adj" fmla="val 16667"/>
            </a:avLst>
          </a:prstGeom>
          <a:solidFill>
            <a:srgbClr val="00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Soil fertility &amp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lan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Times New Roman"/>
              </a:rPr>
              <a:t>productivity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0" y="-108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Cross-scale Conceptual Framewor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7" name=""/>
          <p:cNvGrpSpPr/>
          <p:nvPr/>
        </p:nvGrpSpPr>
        <p:grpSpPr>
          <a:xfrm>
            <a:off x="522360" y="6126120"/>
            <a:ext cx="8467560" cy="808560"/>
            <a:chOff x="522360" y="6126120"/>
            <a:chExt cx="8467560" cy="808560"/>
          </a:xfrm>
        </p:grpSpPr>
        <p:sp>
          <p:nvSpPr>
            <p:cNvPr id="378" name=""/>
            <p:cNvSpPr/>
            <p:nvPr/>
          </p:nvSpPr>
          <p:spPr>
            <a:xfrm>
              <a:off x="830160" y="6126120"/>
              <a:ext cx="8159760" cy="396720"/>
            </a:xfrm>
            <a:prstGeom prst="rect">
              <a:avLst/>
            </a:prstGeom>
            <a:solidFill>
              <a:srgbClr val="00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ffff00"/>
                  </a:solidFill>
                  <a:latin typeface="Times New Roman"/>
                </a:rPr>
                <a:t>Temporal Scale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22360" y="6444720"/>
              <a:ext cx="846432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600" spc="-1" strike="noStrike">
                  <a:solidFill>
                    <a:srgbClr val="000000"/>
                  </a:solidFill>
                  <a:latin typeface="Times New Roman"/>
                </a:rPr>
                <a:t>Yearly</a:t>
              </a:r>
              <a:endParaRPr b="0" lang="en-US" sz="2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0" name=""/>
          <p:cNvGrpSpPr/>
          <p:nvPr/>
        </p:nvGrpSpPr>
        <p:grpSpPr>
          <a:xfrm>
            <a:off x="2724120" y="541440"/>
            <a:ext cx="3286080" cy="5524560"/>
            <a:chOff x="2724120" y="541440"/>
            <a:chExt cx="3286080" cy="5524560"/>
          </a:xfrm>
        </p:grpSpPr>
        <p:grpSp>
          <p:nvGrpSpPr>
            <p:cNvPr id="381" name=""/>
            <p:cNvGrpSpPr/>
            <p:nvPr/>
          </p:nvGrpSpPr>
          <p:grpSpPr>
            <a:xfrm>
              <a:off x="2724120" y="541440"/>
              <a:ext cx="3286080" cy="4228920"/>
              <a:chOff x="2724120" y="541440"/>
              <a:chExt cx="3286080" cy="4228920"/>
            </a:xfrm>
          </p:grpSpPr>
          <p:sp>
            <p:nvSpPr>
              <p:cNvPr id="382" name=""/>
              <p:cNvSpPr/>
              <p:nvPr/>
            </p:nvSpPr>
            <p:spPr>
              <a:xfrm>
                <a:off x="2724120" y="541440"/>
                <a:ext cx="3286080" cy="1298520"/>
              </a:xfrm>
              <a:prstGeom prst="roundRect">
                <a:avLst>
                  <a:gd name="adj" fmla="val 16667"/>
                </a:avLst>
              </a:prstGeom>
              <a:gradFill rotWithShape="0">
                <a:gsLst>
                  <a:gs pos="0">
                    <a:srgbClr val="ff3300"/>
                  </a:gs>
                  <a:gs pos="100000">
                    <a:srgbClr val="0033cc"/>
                  </a:gs>
                </a:gsLst>
                <a:lin ang="10800000"/>
              </a:gra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Times New Roman"/>
                  </a:rPr>
                  <a:t>Consequences on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Times New Roman"/>
                  </a:rPr>
                  <a:t>food security, biodiversity,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200" spc="-1" strike="noStrike">
                    <a:solidFill>
                      <a:srgbClr val="ffffff"/>
                    </a:solidFill>
                    <a:latin typeface="Times New Roman"/>
                  </a:rPr>
                  <a:t>c-stocks &amp; w’shed functions</a:t>
                </a:r>
                <a:endParaRPr b="0" lang="en-US" sz="2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 rot="16200000">
                <a:off x="2257560" y="2927160"/>
                <a:ext cx="2924280" cy="762120"/>
              </a:xfrm>
              <a:prstGeom prst="rightArrow">
                <a:avLst>
                  <a:gd name="adj1" fmla="val 50426"/>
                  <a:gd name="adj2" fmla="val 71127"/>
                </a:avLst>
              </a:prstGeom>
              <a:solidFill>
                <a:srgbClr val="3333cc"/>
              </a:solidFill>
              <a:ln w="7632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-1" strike="noStrike">
                    <a:solidFill>
                      <a:srgbClr val="ffff00"/>
                    </a:solidFill>
                    <a:latin typeface="Times New Roman"/>
                  </a:rPr>
                  <a:t>toolboxes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4" name=""/>
            <p:cNvSpPr/>
            <p:nvPr/>
          </p:nvSpPr>
          <p:spPr>
            <a:xfrm>
              <a:off x="3133800" y="4767480"/>
              <a:ext cx="1104840" cy="1298520"/>
            </a:xfrm>
            <a:custGeom>
              <a:avLst/>
              <a:gdLst>
                <a:gd name="textAreaLeft" fmla="*/ 53640 w 1104840"/>
                <a:gd name="textAreaRight" fmla="*/ 1051200 w 1104840"/>
                <a:gd name="textAreaTop" fmla="*/ 53640 h 1298520"/>
                <a:gd name="textAreaBottom" fmla="*/ 1244880 h 1298520"/>
              </a:gdLst>
              <a:ahLst/>
              <a:rect l="textAreaLeft" t="textAreaTop" r="textAreaRight" b="textAreaBottom"/>
              <a:pathLst>
                <a:path w="21600" h="25385">
                  <a:moveTo>
                    <a:pt x="3600" y="0"/>
                  </a:moveTo>
                  <a:arcTo wR="3600" hR="3600" stAng="16200000" swAng="-5400000"/>
                  <a:lnTo>
                    <a:pt x="0" y="21785"/>
                  </a:lnTo>
                  <a:arcTo wR="3600" hR="3600" stAng="10800000" swAng="-5400000"/>
                  <a:lnTo>
                    <a:pt x="18000" y="2538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noFill/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5" name=""/>
          <p:cNvGrpSpPr/>
          <p:nvPr/>
        </p:nvGrpSpPr>
        <p:grpSpPr>
          <a:xfrm>
            <a:off x="919080" y="1528920"/>
            <a:ext cx="1733760" cy="3259080"/>
            <a:chOff x="919080" y="1528920"/>
            <a:chExt cx="1733760" cy="3259080"/>
          </a:xfrm>
        </p:grpSpPr>
        <p:sp>
          <p:nvSpPr>
            <p:cNvPr id="386" name=""/>
            <p:cNvSpPr/>
            <p:nvPr/>
          </p:nvSpPr>
          <p:spPr>
            <a:xfrm>
              <a:off x="919080" y="1528920"/>
              <a:ext cx="1733760" cy="1309680"/>
            </a:xfrm>
            <a:prstGeom prst="roundRect">
              <a:avLst>
                <a:gd name="adj" fmla="val 16667"/>
              </a:avLst>
            </a:prstGeom>
            <a:solidFill>
              <a:srgbClr val="ff33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Household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ffffff"/>
                  </a:solidFill>
                  <a:latin typeface="Times New Roman"/>
                </a:rPr>
                <a:t>economy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 rot="16200000">
              <a:off x="835560" y="3404160"/>
              <a:ext cx="1928880" cy="838440"/>
            </a:xfrm>
            <a:prstGeom prst="rightArrow">
              <a:avLst>
                <a:gd name="adj1" fmla="val 50759"/>
                <a:gd name="adj2" fmla="val 29865"/>
              </a:avLst>
            </a:prstGeom>
            <a:gradFill rotWithShape="0">
              <a:gsLst>
                <a:gs pos="0">
                  <a:srgbClr val="ff3300"/>
                </a:gs>
                <a:gs pos="100000">
                  <a:srgbClr val="3333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imes New Roman"/>
                </a:rPr>
                <a:t>Trading &amp; storing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"/>
          <p:cNvSpPr/>
          <p:nvPr/>
        </p:nvSpPr>
        <p:spPr>
          <a:xfrm>
            <a:off x="0" y="-108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How the agents in the model learn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9" name=""/>
          <p:cNvGrpSpPr/>
          <p:nvPr/>
        </p:nvGrpSpPr>
        <p:grpSpPr>
          <a:xfrm>
            <a:off x="1776240" y="486360"/>
            <a:ext cx="5121360" cy="5155560"/>
            <a:chOff x="1776240" y="486360"/>
            <a:chExt cx="5121360" cy="5155560"/>
          </a:xfrm>
        </p:grpSpPr>
        <p:sp>
          <p:nvSpPr>
            <p:cNvPr id="390" name=""/>
            <p:cNvSpPr/>
            <p:nvPr/>
          </p:nvSpPr>
          <p:spPr>
            <a:xfrm>
              <a:off x="1895400" y="657360"/>
              <a:ext cx="4570560" cy="4570200"/>
            </a:xfrm>
            <a:prstGeom prst="rect">
              <a:avLst/>
            </a:prstGeom>
            <a:solidFill>
              <a:srgbClr val="3366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914480" y="2957400"/>
              <a:ext cx="4552920" cy="0"/>
            </a:xfrm>
            <a:prstGeom prst="line">
              <a:avLst/>
            </a:prstGeom>
            <a:ln w="936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4183200" y="655560"/>
              <a:ext cx="0" cy="4572000"/>
            </a:xfrm>
            <a:prstGeom prst="line">
              <a:avLst/>
            </a:prstGeom>
            <a:ln w="12600">
              <a:solidFill>
                <a:srgbClr val="5f5f5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6543720" y="273420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6371640" y="48636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6441840" y="49377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1776240" y="517248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-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6078240" y="5172480"/>
              <a:ext cx="50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+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021200" y="5172480"/>
              <a:ext cx="33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99"/>
                  </a:solidFill>
                  <a:latin typeface="Times New Roman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1898640" y="5182200"/>
              <a:ext cx="2284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Underestim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4183200" y="5163120"/>
              <a:ext cx="2284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Overestimat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 rot="16200000">
              <a:off x="5539680" y="3853800"/>
              <a:ext cx="225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Decre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 rot="16200000">
              <a:off x="5539680" y="1599480"/>
              <a:ext cx="22557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3333cc"/>
                  </a:solidFill>
                  <a:latin typeface="Times New Roman"/>
                </a:rPr>
                <a:t>Increas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3" name=""/>
          <p:cNvGrpSpPr/>
          <p:nvPr/>
        </p:nvGrpSpPr>
        <p:grpSpPr>
          <a:xfrm>
            <a:off x="1009440" y="2696040"/>
            <a:ext cx="5432760" cy="459720"/>
            <a:chOff x="1009440" y="2696040"/>
            <a:chExt cx="5432760" cy="459720"/>
          </a:xfrm>
        </p:grpSpPr>
        <p:sp>
          <p:nvSpPr>
            <p:cNvPr id="404" name=""/>
            <p:cNvSpPr/>
            <p:nvPr/>
          </p:nvSpPr>
          <p:spPr>
            <a:xfrm>
              <a:off x="1908000" y="2957400"/>
              <a:ext cx="4534200" cy="0"/>
            </a:xfrm>
            <a:prstGeom prst="line">
              <a:avLst/>
            </a:prstGeom>
            <a:ln w="76320">
              <a:solidFill>
                <a:srgbClr val="ff33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1009440" y="2696040"/>
              <a:ext cx="849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33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ff3300"/>
                  </a:solidFill>
                  <a:latin typeface="Times New Roman"/>
                </a:rPr>
                <a:t>= 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6" name=""/>
          <p:cNvGrpSpPr/>
          <p:nvPr/>
        </p:nvGrpSpPr>
        <p:grpSpPr>
          <a:xfrm>
            <a:off x="942840" y="441720"/>
            <a:ext cx="5505480" cy="4763520"/>
            <a:chOff x="942840" y="441720"/>
            <a:chExt cx="5505480" cy="4763520"/>
          </a:xfrm>
        </p:grpSpPr>
        <p:sp>
          <p:nvSpPr>
            <p:cNvPr id="407" name=""/>
            <p:cNvSpPr/>
            <p:nvPr/>
          </p:nvSpPr>
          <p:spPr>
            <a:xfrm>
              <a:off x="942840" y="441720"/>
              <a:ext cx="9208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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= 1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1914480" y="671400"/>
              <a:ext cx="4533840" cy="453384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09" name=""/>
          <p:cNvGrpSpPr/>
          <p:nvPr/>
        </p:nvGrpSpPr>
        <p:grpSpPr>
          <a:xfrm>
            <a:off x="879480" y="749160"/>
            <a:ext cx="7324560" cy="6108840"/>
            <a:chOff x="879480" y="749160"/>
            <a:chExt cx="7324560" cy="6108840"/>
          </a:xfrm>
        </p:grpSpPr>
        <p:sp>
          <p:nvSpPr>
            <p:cNvPr id="410" name=""/>
            <p:cNvSpPr/>
            <p:nvPr/>
          </p:nvSpPr>
          <p:spPr>
            <a:xfrm rot="16200000">
              <a:off x="4504320" y="3491640"/>
              <a:ext cx="58640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Expectation Adjustment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832040" y="5848920"/>
              <a:ext cx="614844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Times New Roman"/>
                </a:rPr>
                <a:t>The Most Recent Experience</a:t>
              </a:r>
              <a:endParaRPr b="0" lang="en-US" sz="2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2" name=""/>
            <p:cNvGrpSpPr/>
            <p:nvPr/>
          </p:nvGrpSpPr>
          <p:grpSpPr>
            <a:xfrm>
              <a:off x="879480" y="749160"/>
              <a:ext cx="7324560" cy="6108840"/>
              <a:chOff x="879480" y="749160"/>
              <a:chExt cx="7324560" cy="6108840"/>
            </a:xfrm>
          </p:grpSpPr>
          <p:grpSp>
            <p:nvGrpSpPr>
              <p:cNvPr id="413" name=""/>
              <p:cNvGrpSpPr/>
              <p:nvPr/>
            </p:nvGrpSpPr>
            <p:grpSpPr>
              <a:xfrm>
                <a:off x="1798560" y="749160"/>
                <a:ext cx="6405480" cy="5903640"/>
                <a:chOff x="1798560" y="749160"/>
                <a:chExt cx="6405480" cy="5903640"/>
              </a:xfrm>
            </p:grpSpPr>
            <p:sp>
              <p:nvSpPr>
                <p:cNvPr id="414" name=""/>
                <p:cNvSpPr/>
                <p:nvPr/>
              </p:nvSpPr>
              <p:spPr>
                <a:xfrm>
                  <a:off x="7415280" y="749160"/>
                  <a:ext cx="788760" cy="5900760"/>
                </a:xfrm>
                <a:prstGeom prst="upArrow">
                  <a:avLst>
                    <a:gd name="adj1" fmla="val 49694"/>
                    <a:gd name="adj2" fmla="val 38063"/>
                  </a:avLst>
                </a:prstGeom>
                <a:gradFill rotWithShape="0">
                  <a:gsLst>
                    <a:gs pos="0">
                      <a:srgbClr val="33cc33"/>
                    </a:gs>
                    <a:gs pos="100000">
                      <a:srgbClr val="008000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5" name=""/>
                <p:cNvSpPr/>
                <p:nvPr/>
              </p:nvSpPr>
              <p:spPr>
                <a:xfrm>
                  <a:off x="1835280" y="6257880"/>
                  <a:ext cx="5787720" cy="390600"/>
                </a:xfrm>
                <a:prstGeom prst="rect">
                  <a:avLst/>
                </a:prstGeom>
                <a:gradFill rotWithShape="0">
                  <a:gsLst>
                    <a:gs pos="0">
                      <a:srgbClr val="008000"/>
                    </a:gs>
                    <a:gs pos="100000">
                      <a:srgbClr val="b2b2b2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6" name=""/>
                <p:cNvSpPr/>
                <p:nvPr/>
              </p:nvSpPr>
              <p:spPr>
                <a:xfrm>
                  <a:off x="1798560" y="6223680"/>
                  <a:ext cx="618480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Times New Roman"/>
                    </a:rPr>
                    <a:t>PAST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417" name=""/>
                <p:cNvSpPr/>
                <p:nvPr/>
              </p:nvSpPr>
              <p:spPr>
                <a:xfrm rot="16200000">
                  <a:off x="4863240" y="3483720"/>
                  <a:ext cx="5879880" cy="4291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Times New Roman"/>
                    </a:rPr>
                    <a:t>FUTURE</a:t>
                  </a:r>
                  <a:endParaRPr b="0" lang="en-US" sz="2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pic>
            <p:nvPicPr>
              <p:cNvPr id="418" name="brain" descr=""/>
              <p:cNvPicPr/>
              <p:nvPr/>
            </p:nvPicPr>
            <p:blipFill>
              <a:blip r:embed="rId1"/>
              <a:stretch/>
            </p:blipFill>
            <p:spPr>
              <a:xfrm>
                <a:off x="879480" y="6066000"/>
                <a:ext cx="947880" cy="79200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"/>
          <p:cNvSpPr/>
          <p:nvPr/>
        </p:nvSpPr>
        <p:spPr>
          <a:xfrm>
            <a:off x="0" y="285444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Experiment results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Farmers’ response to coffee price shoc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"/>
          <p:cNvSpPr/>
          <p:nvPr/>
        </p:nvSpPr>
        <p:spPr>
          <a:xfrm>
            <a:off x="0" y="-108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der Stable Pr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1" name="" descr=""/>
          <p:cNvPicPr/>
          <p:nvPr/>
        </p:nvPicPr>
        <p:blipFill>
          <a:blip r:embed="rId1"/>
          <a:stretch/>
        </p:blipFill>
        <p:spPr>
          <a:xfrm>
            <a:off x="-139680" y="1158840"/>
            <a:ext cx="9283680" cy="5699160"/>
          </a:xfrm>
          <a:prstGeom prst="rect">
            <a:avLst/>
          </a:prstGeom>
          <a:ln w="0">
            <a:noFill/>
          </a:ln>
        </p:spPr>
      </p:pic>
      <p:pic>
        <p:nvPicPr>
          <p:cNvPr id="422" name="" descr=""/>
          <p:cNvPicPr/>
          <p:nvPr/>
        </p:nvPicPr>
        <p:blipFill>
          <a:blip r:embed="rId2"/>
          <a:stretch/>
        </p:blipFill>
        <p:spPr>
          <a:xfrm>
            <a:off x="5102280" y="1305000"/>
            <a:ext cx="3711600" cy="2276280"/>
          </a:xfrm>
          <a:prstGeom prst="rect">
            <a:avLst/>
          </a:prstGeom>
          <a:ln w="0">
            <a:noFill/>
          </a:ln>
        </p:spPr>
      </p:pic>
      <p:sp>
        <p:nvSpPr>
          <p:cNvPr id="423" name=""/>
          <p:cNvSpPr/>
          <p:nvPr/>
        </p:nvSpPr>
        <p:spPr>
          <a:xfrm rot="16200000">
            <a:off x="4341960" y="2108160"/>
            <a:ext cx="14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5472000" y="3162960"/>
            <a:ext cx="31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682720" y="947880"/>
            <a:ext cx="6118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reorganized???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2698920" y="1417680"/>
            <a:ext cx="6064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1434960" y="1417680"/>
            <a:ext cx="12574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181160" y="922320"/>
            <a:ext cx="1771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2679840" y="1065240"/>
            <a:ext cx="6311880" cy="42814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"/>
          <p:cNvSpPr/>
          <p:nvPr/>
        </p:nvSpPr>
        <p:spPr>
          <a:xfrm>
            <a:off x="0" y="-108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der Big Magnitude of Immediate Sho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-139680" y="1158840"/>
            <a:ext cx="9283680" cy="5699160"/>
          </a:xfrm>
          <a:prstGeom prst="rect">
            <a:avLst/>
          </a:prstGeom>
          <a:ln w="0">
            <a:noFill/>
          </a:ln>
        </p:spPr>
      </p:pic>
      <p:sp>
        <p:nvSpPr>
          <p:cNvPr id="432" name=""/>
          <p:cNvSpPr/>
          <p:nvPr/>
        </p:nvSpPr>
        <p:spPr>
          <a:xfrm>
            <a:off x="1409760" y="922320"/>
            <a:ext cx="260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116240" y="833400"/>
            <a:ext cx="464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organized?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154400" y="1417680"/>
            <a:ext cx="46213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447920" y="1417680"/>
            <a:ext cx="2700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6" name="" descr=""/>
          <p:cNvPicPr/>
          <p:nvPr/>
        </p:nvPicPr>
        <p:blipFill>
          <a:blip r:embed="rId2"/>
          <a:stretch/>
        </p:blipFill>
        <p:spPr>
          <a:xfrm>
            <a:off x="5102280" y="1305000"/>
            <a:ext cx="3711600" cy="2276280"/>
          </a:xfrm>
          <a:prstGeom prst="rect">
            <a:avLst/>
          </a:prstGeom>
          <a:ln w="0">
            <a:noFill/>
          </a:ln>
        </p:spPr>
      </p:pic>
      <p:sp>
        <p:nvSpPr>
          <p:cNvPr id="437" name=""/>
          <p:cNvSpPr/>
          <p:nvPr/>
        </p:nvSpPr>
        <p:spPr>
          <a:xfrm rot="16200000">
            <a:off x="4341960" y="2108160"/>
            <a:ext cx="14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5472000" y="3162960"/>
            <a:ext cx="31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140360" y="863640"/>
            <a:ext cx="4851360" cy="44830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0" name="" descr=""/>
          <p:cNvPicPr/>
          <p:nvPr/>
        </p:nvPicPr>
        <p:blipFill>
          <a:blip r:embed="rId1"/>
          <a:stretch/>
        </p:blipFill>
        <p:spPr>
          <a:xfrm>
            <a:off x="-139680" y="1158840"/>
            <a:ext cx="9283680" cy="569916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1527120" y="922320"/>
            <a:ext cx="2435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0" y="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der Long Recovery of Immediate Shock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3927600" y="858960"/>
            <a:ext cx="48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reorganized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909960" y="1417680"/>
            <a:ext cx="49831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1449360" y="1417680"/>
            <a:ext cx="25272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2"/>
          <a:stretch/>
        </p:blipFill>
        <p:spPr>
          <a:xfrm>
            <a:off x="5102280" y="1305000"/>
            <a:ext cx="3711600" cy="227628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 rot="16200000">
            <a:off x="4341960" y="2108160"/>
            <a:ext cx="14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5472000" y="3162960"/>
            <a:ext cx="31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013280" y="863640"/>
            <a:ext cx="4978440" cy="44830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"/>
          <p:cNvSpPr/>
          <p:nvPr/>
        </p:nvSpPr>
        <p:spPr>
          <a:xfrm>
            <a:off x="0" y="-108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Under High Frequency of Shoc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1" name="" descr=""/>
          <p:cNvPicPr/>
          <p:nvPr/>
        </p:nvPicPr>
        <p:blipFill>
          <a:blip r:embed="rId1"/>
          <a:stretch/>
        </p:blipFill>
        <p:spPr>
          <a:xfrm>
            <a:off x="-139680" y="1158840"/>
            <a:ext cx="9283680" cy="5699160"/>
          </a:xfrm>
          <a:prstGeom prst="rect">
            <a:avLst/>
          </a:prstGeom>
          <a:ln w="0">
            <a:noFill/>
          </a:ln>
        </p:spPr>
      </p:pic>
      <p:sp>
        <p:nvSpPr>
          <p:cNvPr id="452" name=""/>
          <p:cNvSpPr/>
          <p:nvPr/>
        </p:nvSpPr>
        <p:spPr>
          <a:xfrm>
            <a:off x="1409760" y="922320"/>
            <a:ext cx="392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experim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5288040" y="776160"/>
            <a:ext cx="3449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reorganized!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353200" y="1417680"/>
            <a:ext cx="342252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1447920" y="1417680"/>
            <a:ext cx="39258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 rot="16200000">
            <a:off x="4341960" y="2108160"/>
            <a:ext cx="14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ri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5472000" y="3162960"/>
            <a:ext cx="3171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e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8" name="" descr=""/>
          <p:cNvPicPr/>
          <p:nvPr/>
        </p:nvPicPr>
        <p:blipFill>
          <a:blip r:embed="rId2"/>
          <a:stretch/>
        </p:blipFill>
        <p:spPr>
          <a:xfrm>
            <a:off x="5102280" y="1305000"/>
            <a:ext cx="3711600" cy="2276280"/>
          </a:xfrm>
          <a:prstGeom prst="rect">
            <a:avLst/>
          </a:prstGeom>
          <a:ln w="0">
            <a:noFill/>
          </a:ln>
        </p:spPr>
      </p:pic>
      <p:sp>
        <p:nvSpPr>
          <p:cNvPr id="459" name=""/>
          <p:cNvSpPr/>
          <p:nvPr/>
        </p:nvSpPr>
        <p:spPr>
          <a:xfrm>
            <a:off x="5346720" y="863640"/>
            <a:ext cx="3645000" cy="448308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"/>
          <p:cNvSpPr/>
          <p:nvPr/>
        </p:nvSpPr>
        <p:spPr>
          <a:xfrm>
            <a:off x="0" y="-108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ediment loss under stable coffee price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1" name="" descr=""/>
          <p:cNvPicPr/>
          <p:nvPr/>
        </p:nvPicPr>
        <p:blipFill>
          <a:blip r:embed="rId1"/>
          <a:stretch/>
        </p:blipFill>
        <p:spPr>
          <a:xfrm>
            <a:off x="0" y="1065240"/>
            <a:ext cx="9144000" cy="5792760"/>
          </a:xfrm>
          <a:prstGeom prst="rect">
            <a:avLst/>
          </a:prstGeom>
          <a:ln w="0">
            <a:noFill/>
          </a:ln>
        </p:spPr>
      </p:pic>
      <p:sp>
        <p:nvSpPr>
          <p:cNvPr id="462" name=""/>
          <p:cNvSpPr/>
          <p:nvPr/>
        </p:nvSpPr>
        <p:spPr>
          <a:xfrm>
            <a:off x="1181160" y="1473120"/>
            <a:ext cx="1562040" cy="411480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2743200" y="3427560"/>
            <a:ext cx="598500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2730600" y="2970360"/>
            <a:ext cx="5997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uncertai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"/>
          <p:cNvSpPr/>
          <p:nvPr/>
        </p:nvSpPr>
        <p:spPr>
          <a:xfrm>
            <a:off x="0" y="-108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ediment loss un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mmediate big coffee price dro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6" name="" descr=""/>
          <p:cNvPicPr/>
          <p:nvPr/>
        </p:nvPicPr>
        <p:blipFill>
          <a:blip r:embed="rId1"/>
          <a:stretch/>
        </p:blipFill>
        <p:spPr>
          <a:xfrm>
            <a:off x="-130320" y="1065240"/>
            <a:ext cx="9274320" cy="5792760"/>
          </a:xfrm>
          <a:prstGeom prst="rect">
            <a:avLst/>
          </a:prstGeom>
          <a:ln w="0">
            <a:noFill/>
          </a:ln>
        </p:spPr>
      </p:pic>
      <p:sp>
        <p:nvSpPr>
          <p:cNvPr id="467" name=""/>
          <p:cNvSpPr/>
          <p:nvPr/>
        </p:nvSpPr>
        <p:spPr>
          <a:xfrm>
            <a:off x="1079640" y="1473120"/>
            <a:ext cx="3035160" cy="411480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4102200" y="2490840"/>
            <a:ext cx="4638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uncertai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4127400" y="2970360"/>
            <a:ext cx="465300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-108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Is it sustainability?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108160" y="2070000"/>
            <a:ext cx="914400" cy="9144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54160" y="3216240"/>
            <a:ext cx="8635680" cy="0"/>
          </a:xfrm>
          <a:prstGeom prst="line">
            <a:avLst/>
          </a:prstGeom>
          <a:ln w="44460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342756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No, it’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tability of the death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3632040" y="952560"/>
            <a:ext cx="1828800" cy="1828800"/>
          </a:xfrm>
          <a:prstGeom prst="ellipse">
            <a:avLst/>
          </a:pr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V="1">
            <a:off x="4546440" y="1143000"/>
            <a:ext cx="0" cy="69840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"/>
          <p:cNvSpPr/>
          <p:nvPr/>
        </p:nvSpPr>
        <p:spPr>
          <a:xfrm>
            <a:off x="0" y="-108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ediment loss un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long recovery coffee price drop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1" name="" descr=""/>
          <p:cNvPicPr/>
          <p:nvPr/>
        </p:nvPicPr>
        <p:blipFill>
          <a:blip r:embed="rId1"/>
          <a:stretch/>
        </p:blipFill>
        <p:spPr>
          <a:xfrm>
            <a:off x="0" y="1065240"/>
            <a:ext cx="9144000" cy="5792760"/>
          </a:xfrm>
          <a:prstGeom prst="rect">
            <a:avLst/>
          </a:prstGeom>
          <a:ln w="0">
            <a:noFill/>
          </a:ln>
        </p:spPr>
      </p:pic>
      <p:sp>
        <p:nvSpPr>
          <p:cNvPr id="472" name=""/>
          <p:cNvSpPr/>
          <p:nvPr/>
        </p:nvSpPr>
        <p:spPr>
          <a:xfrm>
            <a:off x="1181160" y="1473120"/>
            <a:ext cx="3009960" cy="411480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4191120" y="2236680"/>
            <a:ext cx="45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igh uncertai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4191120" y="2690640"/>
            <a:ext cx="4595760" cy="180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"/>
          <p:cNvSpPr/>
          <p:nvPr/>
        </p:nvSpPr>
        <p:spPr>
          <a:xfrm>
            <a:off x="0" y="-108000"/>
            <a:ext cx="914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ediment loss und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frequent coffee price shock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6" name="" descr=""/>
          <p:cNvPicPr/>
          <p:nvPr/>
        </p:nvPicPr>
        <p:blipFill>
          <a:blip r:embed="rId1"/>
          <a:stretch/>
        </p:blipFill>
        <p:spPr>
          <a:xfrm>
            <a:off x="0" y="1065240"/>
            <a:ext cx="9144000" cy="5792760"/>
          </a:xfrm>
          <a:prstGeom prst="rect">
            <a:avLst/>
          </a:prstGeom>
          <a:ln w="0">
            <a:noFill/>
          </a:ln>
        </p:spPr>
      </p:pic>
      <p:sp>
        <p:nvSpPr>
          <p:cNvPr id="477" name=""/>
          <p:cNvSpPr/>
          <p:nvPr/>
        </p:nvSpPr>
        <p:spPr>
          <a:xfrm>
            <a:off x="1181160" y="1473120"/>
            <a:ext cx="4432320" cy="4114800"/>
          </a:xfrm>
          <a:prstGeom prst="rect">
            <a:avLst/>
          </a:prstGeom>
          <a:solidFill>
            <a:srgbClr val="80808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587920" y="1563840"/>
            <a:ext cx="3165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w uncertaint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5613480" y="2144880"/>
            <a:ext cx="3163680" cy="1440"/>
          </a:xfrm>
          <a:prstGeom prst="line">
            <a:avLst/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"/>
          <p:cNvSpPr/>
          <p:nvPr/>
        </p:nvSpPr>
        <p:spPr>
          <a:xfrm>
            <a:off x="0" y="-108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-25560" y="898560"/>
            <a:ext cx="914400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ased on the model simulations, with regards to LUCC and sustainability: resilience assessment (at landscape level) can be made for shorter period when LUCC driving forces is relatively stable </a:t>
            </a:r>
            <a:r>
              <a:rPr b="0" lang="en-US" sz="3200" spc="-1" strike="noStrike">
                <a:solidFill>
                  <a:srgbClr val="ffffff"/>
                </a:solidFill>
                <a:latin typeface="Symbol"/>
                <a:ea typeface="Symbol"/>
              </a:rPr>
              <a:t>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 that seems to be wrong in reality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0" y="3857760"/>
            <a:ext cx="914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Aft>
                <a:spcPts val="601"/>
              </a:spcAft>
              <a:buClr>
                <a:srgbClr val="ffff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ffffff"/>
                </a:solidFill>
                <a:latin typeface="Times New Roman"/>
              </a:rPr>
              <a:t>Model that incorporates learning agent like FALLOW is useful tool for </a:t>
            </a: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cenario based LUCC predictions as the reference for spatial planning &amp; long-term environmental assessment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"/>
          <p:cNvSpPr/>
          <p:nvPr/>
        </p:nvSpPr>
        <p:spPr>
          <a:xfrm>
            <a:off x="-25560" y="2436840"/>
            <a:ext cx="9144000" cy="35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ffffff"/>
                </a:solidFill>
                <a:latin typeface="Times New Roman"/>
              </a:rPr>
              <a:t>The FALLOW Model is available at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ffffff"/>
                </a:solidFill>
                <a:latin typeface="Times New Roman"/>
              </a:rPr>
              <a:t>http://www.worldagroforestrycentre.org/sea/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700" spc="-1" strike="noStrike">
                <a:solidFill>
                  <a:srgbClr val="ffffff"/>
                </a:solidFill>
                <a:latin typeface="Times New Roman"/>
              </a:rPr>
              <a:t>AgroModels/FALLOW/Fallow.htm</a:t>
            </a:r>
            <a:endParaRPr b="0" lang="en-US" sz="3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fffff"/>
                </a:solidFill>
                <a:latin typeface="Times New Roman"/>
              </a:rPr>
              <a:t>corresponding author: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DSuyamto@cgiar.org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-25560" y="950760"/>
            <a:ext cx="91440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8000" spc="-1" strike="noStrike">
                <a:solidFill>
                  <a:srgbClr val="ffffff"/>
                </a:solidFill>
                <a:latin typeface="Times New Roman"/>
              </a:rPr>
              <a:t>THANK YOU</a:t>
            </a:r>
            <a:endParaRPr b="0" lang="en-US" sz="8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0" y="-108000"/>
            <a:ext cx="914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Sustainability is stability of a changing life…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254160" y="2188800"/>
            <a:ext cx="8635320" cy="4966200"/>
            <a:chOff x="254160" y="2188800"/>
            <a:chExt cx="8635320" cy="4966200"/>
          </a:xfrm>
        </p:grpSpPr>
        <p:sp>
          <p:nvSpPr>
            <p:cNvPr id="76" name=""/>
            <p:cNvSpPr/>
            <p:nvPr/>
          </p:nvSpPr>
          <p:spPr>
            <a:xfrm>
              <a:off x="254160" y="2976840"/>
              <a:ext cx="4584600" cy="4178160"/>
            </a:xfrm>
            <a:prstGeom prst="blockArc">
              <a:avLst>
                <a:gd name="adj1" fmla="val 11506048"/>
                <a:gd name="adj2" fmla="val 20893952"/>
                <a:gd name="adj3" fmla="val 9755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flipV="1">
              <a:off x="4305240" y="2188080"/>
              <a:ext cx="4584240" cy="4178520"/>
            </a:xfrm>
            <a:prstGeom prst="blockArc">
              <a:avLst>
                <a:gd name="adj1" fmla="val 11506048"/>
                <a:gd name="adj2" fmla="val 20893952"/>
                <a:gd name="adj3" fmla="val 9755"/>
              </a:avLst>
            </a:prstGeom>
            <a:solidFill>
              <a:srgbClr val="0000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8" name=""/>
          <p:cNvSpPr/>
          <p:nvPr/>
        </p:nvSpPr>
        <p:spPr>
          <a:xfrm>
            <a:off x="2108160" y="2070000"/>
            <a:ext cx="914400" cy="914400"/>
          </a:xfrm>
          <a:prstGeom prst="ellipse">
            <a:avLst/>
          </a:prstGeom>
          <a:solidFill>
            <a:srgbClr val="ff33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048120" y="1460520"/>
            <a:ext cx="5943600" cy="5232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4T00:16:48Z</dcterms:created>
  <dc:creator>DSuyamto</dc:creator>
  <dc:description/>
  <dc:language>en-US</dc:language>
  <cp:lastModifiedBy>Desi Suyamto</cp:lastModifiedBy>
  <dcterms:modified xsi:type="dcterms:W3CDTF">2003-12-22T06:39:22Z</dcterms:modified>
  <cp:revision>369</cp:revision>
  <dc:subject/>
  <dc:title>No Slide Title</dc:title>
</cp:coreProperties>
</file>