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FDB-7F32-4A64-AFCC-84C191B3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73C-9552-42A3-B7E5-3A164ADF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4F6-62A7-456F-B018-0F75A8FF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C8F-92F4-4658-90B0-474145E1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F5A-AF40-4FAD-AE51-D0A2FCD6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9E79-DCF4-444E-999E-D5D5625D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500-1DA6-4B6E-97B6-2CD412EB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B848-9BA3-45A0-9072-504EDFFF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DD6-B300-43BC-9301-F46F8D07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503-58C3-4ECA-8D96-733EF670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9F0-3623-4601-A212-955C7A41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736-4130-47E0-BBD0-57D79F58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A081-60BA-4A20-B223-E171E38E1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Times New Roman"/>
              </a:rPr>
              <a:t>FALLOW Model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Times New Roman"/>
              </a:rPr>
              <a:t>Assessment Tool for Landscape Level Impact of Farmer Land Use Choices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414520"/>
            <a:ext cx="9144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si A. Suyamto, Meine van Noordwijk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anan Prasetyo Hadi and Betha Lus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orld Agroforestry Center, Southeast Asia Regional Office, Bogor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718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SIM 2003 Conference, 14 – 17 July 2003, Townsville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WAC" descr=""/>
          <p:cNvPicPr/>
          <p:nvPr/>
        </p:nvPicPr>
        <p:blipFill>
          <a:blip r:embed="rId1"/>
          <a:stretch/>
        </p:blipFill>
        <p:spPr>
          <a:xfrm>
            <a:off x="3500280" y="4560840"/>
            <a:ext cx="2157480" cy="777960"/>
          </a:xfrm>
          <a:prstGeom prst="rect">
            <a:avLst/>
          </a:prstGeom>
          <a:ln w="0">
            <a:noFill/>
          </a:ln>
        </p:spPr>
      </p:pic>
      <p:pic>
        <p:nvPicPr>
          <p:cNvPr id="45" name="MODSIM2003BW" descr=""/>
          <p:cNvPicPr/>
          <p:nvPr/>
        </p:nvPicPr>
        <p:blipFill>
          <a:blip r:embed="rId2"/>
          <a:stretch/>
        </p:blipFill>
        <p:spPr>
          <a:xfrm>
            <a:off x="4216320" y="6135840"/>
            <a:ext cx="76536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ipforCol" descr=""/>
          <p:cNvPicPr/>
          <p:nvPr/>
        </p:nvPicPr>
        <p:blipFill>
          <a:blip r:embed="rId1"/>
          <a:stretch/>
        </p:blipFill>
        <p:spPr>
          <a:xfrm>
            <a:off x="501480" y="695160"/>
            <a:ext cx="8136000" cy="6162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parian Fore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Kampoong" descr=""/>
          <p:cNvPicPr/>
          <p:nvPr/>
        </p:nvPicPr>
        <p:blipFill>
          <a:blip r:embed="rId2"/>
          <a:stretch/>
        </p:blipFill>
        <p:spPr>
          <a:xfrm>
            <a:off x="492120" y="695160"/>
            <a:ext cx="8136000" cy="6162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14440" y="857160"/>
            <a:ext cx="1714320" cy="343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4440" y="1238400"/>
            <a:ext cx="1714320" cy="34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06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raction = 0.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ests on Steep Sl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SloforCol" descr=""/>
          <p:cNvPicPr/>
          <p:nvPr/>
        </p:nvPicPr>
        <p:blipFill>
          <a:blip r:embed="rId1"/>
          <a:stretch/>
        </p:blipFill>
        <p:spPr>
          <a:xfrm>
            <a:off x="506520" y="695160"/>
            <a:ext cx="8136000" cy="6162840"/>
          </a:xfrm>
          <a:prstGeom prst="rect">
            <a:avLst/>
          </a:prstGeom>
          <a:ln w="0">
            <a:noFill/>
          </a:ln>
        </p:spPr>
      </p:pic>
      <p:pic>
        <p:nvPicPr>
          <p:cNvPr id="140" name="Kampoong" descr=""/>
          <p:cNvPicPr/>
          <p:nvPr/>
        </p:nvPicPr>
        <p:blipFill>
          <a:blip r:embed="rId2"/>
          <a:stretch/>
        </p:blipFill>
        <p:spPr>
          <a:xfrm>
            <a:off x="492120" y="695160"/>
            <a:ext cx="8136000" cy="6162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4440" y="857160"/>
            <a:ext cx="1714320" cy="343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4440" y="1238400"/>
            <a:ext cx="1714320" cy="34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06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raction = 0.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dge Top Fore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MonforCol" descr=""/>
          <p:cNvPicPr/>
          <p:nvPr/>
        </p:nvPicPr>
        <p:blipFill>
          <a:blip r:embed="rId1"/>
          <a:stretch/>
        </p:blipFill>
        <p:spPr>
          <a:xfrm>
            <a:off x="493560" y="695160"/>
            <a:ext cx="8136000" cy="6162840"/>
          </a:xfrm>
          <a:prstGeom prst="rect">
            <a:avLst/>
          </a:prstGeom>
          <a:ln w="0">
            <a:noFill/>
          </a:ln>
        </p:spPr>
      </p:pic>
      <p:pic>
        <p:nvPicPr>
          <p:cNvPr id="146" name="Kampoong" descr=""/>
          <p:cNvPicPr/>
          <p:nvPr/>
        </p:nvPicPr>
        <p:blipFill>
          <a:blip r:embed="rId2"/>
          <a:stretch/>
        </p:blipFill>
        <p:spPr>
          <a:xfrm>
            <a:off x="492120" y="695160"/>
            <a:ext cx="8136000" cy="6162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14440" y="857160"/>
            <a:ext cx="1714320" cy="343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4440" y="1238400"/>
            <a:ext cx="1714320" cy="34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06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raction = 0.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RanforCol" descr=""/>
          <p:cNvPicPr/>
          <p:nvPr/>
        </p:nvPicPr>
        <p:blipFill>
          <a:blip r:embed="rId1"/>
          <a:stretch/>
        </p:blipFill>
        <p:spPr>
          <a:xfrm>
            <a:off x="504720" y="695160"/>
            <a:ext cx="8136000" cy="6162840"/>
          </a:xfrm>
          <a:prstGeom prst="rect">
            <a:avLst/>
          </a:prstGeom>
          <a:ln w="0">
            <a:noFill/>
          </a:ln>
        </p:spPr>
      </p:pic>
      <p:pic>
        <p:nvPicPr>
          <p:cNvPr id="151" name="Kampoong" descr=""/>
          <p:cNvPicPr/>
          <p:nvPr/>
        </p:nvPicPr>
        <p:blipFill>
          <a:blip r:embed="rId2"/>
          <a:stretch/>
        </p:blipFill>
        <p:spPr>
          <a:xfrm>
            <a:off x="492120" y="695160"/>
            <a:ext cx="8136000" cy="6162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ndom Fore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4440" y="857160"/>
            <a:ext cx="1714320" cy="343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4440" y="1238400"/>
            <a:ext cx="1714320" cy="34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06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raction = 0.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RemforCol" descr=""/>
          <p:cNvPicPr/>
          <p:nvPr/>
        </p:nvPicPr>
        <p:blipFill>
          <a:blip r:embed="rId1"/>
          <a:stretch/>
        </p:blipFill>
        <p:spPr>
          <a:xfrm>
            <a:off x="492120" y="695160"/>
            <a:ext cx="8136000" cy="6162840"/>
          </a:xfrm>
          <a:prstGeom prst="rect">
            <a:avLst/>
          </a:prstGeom>
          <a:ln w="0">
            <a:noFill/>
          </a:ln>
        </p:spPr>
      </p:pic>
      <p:pic>
        <p:nvPicPr>
          <p:cNvPr id="157" name="Kampoong" descr=""/>
          <p:cNvPicPr/>
          <p:nvPr/>
        </p:nvPicPr>
        <p:blipFill>
          <a:blip r:embed="rId2"/>
          <a:stretch/>
        </p:blipFill>
        <p:spPr>
          <a:xfrm>
            <a:off x="498600" y="695160"/>
            <a:ext cx="8135640" cy="6162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ote Fore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4440" y="857160"/>
            <a:ext cx="1714320" cy="343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440" y="1238400"/>
            <a:ext cx="1714320" cy="342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406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raction = 0.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equences of Forest Reserve Allocation on Sediment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166760"/>
            <a:ext cx="928044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2854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sult 2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rmers’ Response to Coffee Price Sh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Stable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139680" y="1158840"/>
            <a:ext cx="9283680" cy="5699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102280" y="1305000"/>
            <a:ext cx="3711600" cy="2276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6200000">
            <a:off x="4341960" y="2108160"/>
            <a:ext cx="14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72000" y="316296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82720" y="947880"/>
            <a:ext cx="61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98920" y="1417680"/>
            <a:ext cx="6064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34960" y="141768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81160" y="92232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-139680" y="1158840"/>
            <a:ext cx="9283680" cy="5699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7120" y="922320"/>
            <a:ext cx="24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Long Recovery of Immediate Sh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0" y="947880"/>
            <a:ext cx="48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9960" y="1417680"/>
            <a:ext cx="4983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9360" y="1417680"/>
            <a:ext cx="252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102280" y="1305000"/>
            <a:ext cx="3711600" cy="2276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rot="16200000">
            <a:off x="4341960" y="2108160"/>
            <a:ext cx="14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72000" y="316296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Big Magnitude of Immediate Sh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139680" y="1158840"/>
            <a:ext cx="9283680" cy="5699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09760" y="92232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67360" y="947880"/>
            <a:ext cx="46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54400" y="1417680"/>
            <a:ext cx="462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1417680"/>
            <a:ext cx="270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102280" y="1305000"/>
            <a:ext cx="3711600" cy="2276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4341960" y="2108160"/>
            <a:ext cx="14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72000" y="316296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55800" y="1996920"/>
            <a:ext cx="36291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del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mulation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High Frequency of Sh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139680" y="1158840"/>
            <a:ext cx="9283680" cy="56991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409760" y="922320"/>
            <a:ext cx="39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94788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53200" y="1417680"/>
            <a:ext cx="3422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1417680"/>
            <a:ext cx="39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4341960" y="2108160"/>
            <a:ext cx="14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72000" y="316296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102280" y="1305000"/>
            <a:ext cx="37116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onsequences of Coffee Price Fluct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n Sediment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-136440" y="1166760"/>
            <a:ext cx="928044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944640"/>
            <a:ext cx="9144000" cy="56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ross all scenarios tested the possible sediment loss from Sumberjaya ranges from 5 to 35 t/ha/y.  These results agree with average sediment loss in Sumatra of about 24 t/ha/y, as estimated by Milliman et al. (1999) using a sediment-scale 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ing the dynamics of experimentation with land use options as part of farmers learning, the model offers interesting opportunities to explore impacts of price variations, learning styles and information f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2932200"/>
            <a:ext cx="91440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The FALLOW Model is available a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ffffff"/>
                </a:solidFill>
                <a:latin typeface="Times New Roman"/>
              </a:rPr>
              <a:t>http://www.worldagroforestrycentre.org/sea/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ffffff"/>
                </a:solidFill>
                <a:latin typeface="Times New Roman"/>
              </a:rPr>
              <a:t>AgroModels/FALLOW/Fallow.ht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446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124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de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523440"/>
            <a:ext cx="9144000" cy="6051600"/>
            <a:chOff x="0" y="523440"/>
            <a:chExt cx="9144000" cy="6051600"/>
          </a:xfrm>
        </p:grpSpPr>
        <p:sp>
          <p:nvSpPr>
            <p:cNvPr id="50" name=""/>
            <p:cNvSpPr/>
            <p:nvPr/>
          </p:nvSpPr>
          <p:spPr>
            <a:xfrm>
              <a:off x="0" y="3429000"/>
              <a:ext cx="914400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rot="16200000">
              <a:off x="-1107720" y="1729440"/>
              <a:ext cx="2901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Landscap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-1231560" y="4755240"/>
              <a:ext cx="3149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Plo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6200000">
              <a:off x="-2296800" y="3351240"/>
              <a:ext cx="5952960" cy="33948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33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Spatial Scal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 rot="10800000">
            <a:off x="2653920" y="4978440"/>
            <a:ext cx="485640" cy="838080"/>
          </a:xfrm>
          <a:prstGeom prst="rightArrow">
            <a:avLst>
              <a:gd name="adj1" fmla="val 54167"/>
              <a:gd name="adj2" fmla="val 64056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138480" y="4768920"/>
            <a:ext cx="4557600" cy="1298520"/>
            <a:chOff x="3138480" y="4768920"/>
            <a:chExt cx="4557600" cy="1298520"/>
          </a:xfrm>
        </p:grpSpPr>
        <p:sp>
          <p:nvSpPr>
            <p:cNvPr id="56" name=""/>
            <p:cNvSpPr/>
            <p:nvPr/>
          </p:nvSpPr>
          <p:spPr>
            <a:xfrm>
              <a:off x="3138480" y="4768920"/>
              <a:ext cx="1104840" cy="1298520"/>
            </a:xfrm>
            <a:custGeom>
              <a:avLst/>
              <a:gdLst>
                <a:gd name="textAreaLeft" fmla="*/ 53640 w 1104840"/>
                <a:gd name="textAreaRight" fmla="*/ 1051200 w 1104840"/>
                <a:gd name="textAreaTop" fmla="*/ 53640 h 1298520"/>
                <a:gd name="textAreaBottom" fmla="*/ 1244880 h 1298520"/>
              </a:gdLst>
              <a:ahLst/>
              <a:rect l="textAreaLeft" t="textAreaTop" r="textAreaRight" b="textAreaBottom"/>
              <a:pathLst>
                <a:path w="21600" h="25385">
                  <a:moveTo>
                    <a:pt x="3600" y="0"/>
                  </a:moveTo>
                  <a:arcTo wR="3600" hR="3600" stAng="16200000" swAng="-5400000"/>
                  <a:lnTo>
                    <a:pt x="0" y="21785"/>
                  </a:lnTo>
                  <a:arcTo wR="3600" hR="3600" stAng="10800000" swAng="-5400000"/>
                  <a:lnTo>
                    <a:pt x="18000" y="253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LUC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4238640" y="4981680"/>
              <a:ext cx="3457440" cy="838080"/>
            </a:xfrm>
            <a:prstGeom prst="rightArrow">
              <a:avLst>
                <a:gd name="adj1" fmla="val 51898"/>
                <a:gd name="adj2" fmla="val 4547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Conv, succ. &amp; growt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529400" y="2830680"/>
            <a:ext cx="1204920" cy="3236760"/>
            <a:chOff x="7529400" y="2830680"/>
            <a:chExt cx="1204920" cy="3236760"/>
          </a:xfrm>
        </p:grpSpPr>
        <p:sp>
          <p:nvSpPr>
            <p:cNvPr id="59" name=""/>
            <p:cNvSpPr/>
            <p:nvPr/>
          </p:nvSpPr>
          <p:spPr>
            <a:xfrm rot="5400000">
              <a:off x="7177680" y="3425040"/>
              <a:ext cx="1912680" cy="723960"/>
            </a:xfrm>
            <a:prstGeom prst="rightArrow">
              <a:avLst>
                <a:gd name="adj1" fmla="val 58713"/>
                <a:gd name="adj2" fmla="val 3210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Attr. &amp; labo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29400" y="4768920"/>
              <a:ext cx="1204920" cy="1298520"/>
            </a:xfrm>
            <a:custGeom>
              <a:avLst/>
              <a:gdLst>
                <a:gd name="textAreaLeft" fmla="*/ 58680 w 1204920"/>
                <a:gd name="textAreaRight" fmla="*/ 1146240 w 1204920"/>
                <a:gd name="textAreaTop" fmla="*/ 58680 h 1298520"/>
                <a:gd name="textAreaBottom" fmla="*/ 1239840 h 1298520"/>
              </a:gdLst>
              <a:ahLst/>
              <a:rect l="textAreaLeft" t="textAreaTop" r="textAreaRight" b="textAreaBottom"/>
              <a:pathLst>
                <a:path w="21600" h="23277">
                  <a:moveTo>
                    <a:pt x="3600" y="0"/>
                  </a:moveTo>
                  <a:arcTo wR="3600" hR="3600" stAng="16200000" swAng="-5400000"/>
                  <a:lnTo>
                    <a:pt x="0" y="19677"/>
                  </a:lnTo>
                  <a:arcTo wR="3600" hR="3600" stAng="10800000" swAng="-5400000"/>
                  <a:lnTo>
                    <a:pt x="18000" y="23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Si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selec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638440" y="1528920"/>
            <a:ext cx="6338880" cy="1298520"/>
            <a:chOff x="2638440" y="1528920"/>
            <a:chExt cx="6338880" cy="1298520"/>
          </a:xfrm>
        </p:grpSpPr>
        <p:sp>
          <p:nvSpPr>
            <p:cNvPr id="62" name=""/>
            <p:cNvSpPr/>
            <p:nvPr/>
          </p:nvSpPr>
          <p:spPr>
            <a:xfrm>
              <a:off x="2638440" y="1773360"/>
              <a:ext cx="4572000" cy="838080"/>
            </a:xfrm>
            <a:prstGeom prst="rightArrow">
              <a:avLst>
                <a:gd name="adj1" fmla="val 40907"/>
                <a:gd name="adj2" fmla="val 394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Learn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43920" y="1528920"/>
              <a:ext cx="1733400" cy="12985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Strategi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decis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on LU &amp; labo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919080" y="4759200"/>
            <a:ext cx="1733760" cy="129888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oil fertility 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ductiv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oss-scale Conceptual Fra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22360" y="6113520"/>
            <a:ext cx="8467560" cy="808560"/>
            <a:chOff x="522360" y="6113520"/>
            <a:chExt cx="8467560" cy="808560"/>
          </a:xfrm>
        </p:grpSpPr>
        <p:sp>
          <p:nvSpPr>
            <p:cNvPr id="67" name=""/>
            <p:cNvSpPr/>
            <p:nvPr/>
          </p:nvSpPr>
          <p:spPr>
            <a:xfrm>
              <a:off x="830160" y="6113520"/>
              <a:ext cx="8159760" cy="3967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Temporal Scal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2360" y="6432120"/>
              <a:ext cx="846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Yearl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724120" y="541440"/>
            <a:ext cx="3286080" cy="5524560"/>
            <a:chOff x="2724120" y="541440"/>
            <a:chExt cx="3286080" cy="5524560"/>
          </a:xfrm>
        </p:grpSpPr>
        <p:grpSp>
          <p:nvGrpSpPr>
            <p:cNvPr id="70" name=""/>
            <p:cNvGrpSpPr/>
            <p:nvPr/>
          </p:nvGrpSpPr>
          <p:grpSpPr>
            <a:xfrm>
              <a:off x="2724120" y="541440"/>
              <a:ext cx="3286080" cy="4228920"/>
              <a:chOff x="2724120" y="541440"/>
              <a:chExt cx="3286080" cy="4228920"/>
            </a:xfrm>
          </p:grpSpPr>
          <p:sp>
            <p:nvSpPr>
              <p:cNvPr id="71" name=""/>
              <p:cNvSpPr/>
              <p:nvPr/>
            </p:nvSpPr>
            <p:spPr>
              <a:xfrm>
                <a:off x="2724120" y="541440"/>
                <a:ext cx="3286080" cy="1298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0033cc"/>
                  </a:gs>
                </a:gsLst>
                <a:lin ang="10800000"/>
              </a:gra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Times New Roman"/>
                  </a:rPr>
                  <a:t>Consequences on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Times New Roman"/>
                  </a:rPr>
                  <a:t>food security, biodiversity,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Times New Roman"/>
                  </a:rPr>
                  <a:t>c stocks &amp;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watershed function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6200000">
                <a:off x="2257560" y="2927160"/>
                <a:ext cx="2924280" cy="762120"/>
              </a:xfrm>
              <a:prstGeom prst="rightArrow">
                <a:avLst>
                  <a:gd name="adj1" fmla="val 50426"/>
                  <a:gd name="adj2" fmla="val 71127"/>
                </a:avLst>
              </a:prstGeom>
              <a:solidFill>
                <a:srgbClr val="3333cc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00"/>
                    </a:solidFill>
                    <a:latin typeface="Times New Roman"/>
                  </a:rPr>
                  <a:t>Scaling rule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3133800" y="4767480"/>
              <a:ext cx="1104840" cy="1298520"/>
            </a:xfrm>
            <a:custGeom>
              <a:avLst/>
              <a:gdLst>
                <a:gd name="textAreaLeft" fmla="*/ 53640 w 1104840"/>
                <a:gd name="textAreaRight" fmla="*/ 1051200 w 1104840"/>
                <a:gd name="textAreaTop" fmla="*/ 53640 h 1298520"/>
                <a:gd name="textAreaBottom" fmla="*/ 1244880 h 1298520"/>
              </a:gdLst>
              <a:ahLst/>
              <a:rect l="textAreaLeft" t="textAreaTop" r="textAreaRight" b="textAreaBottom"/>
              <a:pathLst>
                <a:path w="21600" h="25385">
                  <a:moveTo>
                    <a:pt x="3600" y="0"/>
                  </a:moveTo>
                  <a:arcTo wR="3600" hR="3600" stAng="16200000" swAng="-5400000"/>
                  <a:lnTo>
                    <a:pt x="0" y="21785"/>
                  </a:lnTo>
                  <a:arcTo wR="3600" hR="3600" stAng="10800000" swAng="-5400000"/>
                  <a:lnTo>
                    <a:pt x="18000" y="253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919080" y="1528920"/>
            <a:ext cx="1733760" cy="3259080"/>
            <a:chOff x="919080" y="1528920"/>
            <a:chExt cx="1733760" cy="3259080"/>
          </a:xfrm>
        </p:grpSpPr>
        <p:sp>
          <p:nvSpPr>
            <p:cNvPr id="75" name=""/>
            <p:cNvSpPr/>
            <p:nvPr/>
          </p:nvSpPr>
          <p:spPr>
            <a:xfrm>
              <a:off x="919080" y="1528920"/>
              <a:ext cx="1733760" cy="13096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Househol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economic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6200000">
              <a:off x="835560" y="3404160"/>
              <a:ext cx="1928880" cy="838440"/>
            </a:xfrm>
            <a:prstGeom prst="rightArrow">
              <a:avLst>
                <a:gd name="adj1" fmla="val 50759"/>
                <a:gd name="adj2" fmla="val 298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Times New Roman"/>
                </a:rPr>
                <a:t>Marke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ople’s Learning in th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776240" y="486360"/>
            <a:ext cx="5121360" cy="5155560"/>
            <a:chOff x="1776240" y="486360"/>
            <a:chExt cx="5121360" cy="5155560"/>
          </a:xfrm>
        </p:grpSpPr>
        <p:sp>
          <p:nvSpPr>
            <p:cNvPr id="79" name=""/>
            <p:cNvSpPr/>
            <p:nvPr/>
          </p:nvSpPr>
          <p:spPr>
            <a:xfrm>
              <a:off x="1895400" y="657360"/>
              <a:ext cx="4570560" cy="4570200"/>
            </a:xfrm>
            <a:prstGeom prst="rect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14480" y="2957400"/>
              <a:ext cx="455292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83200" y="655560"/>
              <a:ext cx="0" cy="45720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43720" y="2734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71640" y="4863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41840" y="4937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76240" y="51724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78240" y="51724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21200" y="517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98640" y="5182200"/>
              <a:ext cx="22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Underestim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83200" y="5163120"/>
              <a:ext cx="228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Overestim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5539680" y="3853800"/>
              <a:ext cx="22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ecre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5539680" y="1599480"/>
              <a:ext cx="22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ncre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009440" y="2696040"/>
            <a:ext cx="5432760" cy="459720"/>
            <a:chOff x="1009440" y="2696040"/>
            <a:chExt cx="5432760" cy="459720"/>
          </a:xfrm>
        </p:grpSpPr>
        <p:sp>
          <p:nvSpPr>
            <p:cNvPr id="93" name=""/>
            <p:cNvSpPr/>
            <p:nvPr/>
          </p:nvSpPr>
          <p:spPr>
            <a:xfrm>
              <a:off x="1908000" y="2957400"/>
              <a:ext cx="45342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09440" y="269604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942840" y="441720"/>
            <a:ext cx="5505480" cy="4763520"/>
            <a:chOff x="942840" y="441720"/>
            <a:chExt cx="5505480" cy="4763520"/>
          </a:xfrm>
        </p:grpSpPr>
        <p:sp>
          <p:nvSpPr>
            <p:cNvPr id="96" name=""/>
            <p:cNvSpPr/>
            <p:nvPr/>
          </p:nvSpPr>
          <p:spPr>
            <a:xfrm>
              <a:off x="942840" y="441720"/>
              <a:ext cx="92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14480" y="671400"/>
              <a:ext cx="4533840" cy="4533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79480" y="749160"/>
            <a:ext cx="7324560" cy="6108840"/>
            <a:chOff x="879480" y="749160"/>
            <a:chExt cx="7324560" cy="6108840"/>
          </a:xfrm>
        </p:grpSpPr>
        <p:sp>
          <p:nvSpPr>
            <p:cNvPr id="99" name=""/>
            <p:cNvSpPr/>
            <p:nvPr/>
          </p:nvSpPr>
          <p:spPr>
            <a:xfrm rot="16200000">
              <a:off x="4504320" y="3491640"/>
              <a:ext cx="5864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Expectation Adjustm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32040" y="5848920"/>
              <a:ext cx="6148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e Most Recent Experi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879480" y="749160"/>
              <a:ext cx="7324560" cy="6108840"/>
              <a:chOff x="879480" y="749160"/>
              <a:chExt cx="7324560" cy="610884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1798560" y="749160"/>
                <a:ext cx="6405480" cy="5903640"/>
                <a:chOff x="1798560" y="749160"/>
                <a:chExt cx="6405480" cy="59036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415280" y="749160"/>
                  <a:ext cx="788760" cy="5900760"/>
                </a:xfrm>
                <a:prstGeom prst="upArrow">
                  <a:avLst>
                    <a:gd name="adj1" fmla="val 49694"/>
                    <a:gd name="adj2" fmla="val 38063"/>
                  </a:avLst>
                </a:prstGeom>
                <a:gradFill rotWithShape="0">
                  <a:gsLst>
                    <a:gs pos="0">
                      <a:srgbClr val="33cc33"/>
                    </a:gs>
                    <a:gs pos="100000">
                      <a:srgbClr val="0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835280" y="6257880"/>
                  <a:ext cx="5787720" cy="39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798560" y="6223680"/>
                  <a:ext cx="618480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PAST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rot="16200000">
                  <a:off x="4863240" y="3483720"/>
                  <a:ext cx="58798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FUTURE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07" name="brain" descr=""/>
              <p:cNvPicPr/>
              <p:nvPr/>
            </p:nvPicPr>
            <p:blipFill>
              <a:blip r:embed="rId1"/>
              <a:stretch/>
            </p:blipFill>
            <p:spPr>
              <a:xfrm>
                <a:off x="879480" y="6066000"/>
                <a:ext cx="947880" cy="79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Hydrology" descr=""/>
          <p:cNvPicPr/>
          <p:nvPr/>
        </p:nvPicPr>
        <p:blipFill>
          <a:blip r:embed="rId1"/>
          <a:stretch/>
        </p:blipFill>
        <p:spPr>
          <a:xfrm>
            <a:off x="1467000" y="-4680"/>
            <a:ext cx="60926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5762160" y="1762200"/>
            <a:ext cx="466920" cy="838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661080" y="1856880"/>
            <a:ext cx="0" cy="7239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43440" y="2367000"/>
            <a:ext cx="476280" cy="399960"/>
          </a:xfrm>
          <a:custGeom>
            <a:avLst/>
            <a:gdLst/>
            <a:ahLst/>
            <a:rect l="l" t="t" r="r" b="b"/>
            <a:pathLst>
              <a:path w="300" h="252">
                <a:moveTo>
                  <a:pt x="0" y="0"/>
                </a:moveTo>
                <a:cubicBezTo>
                  <a:pt x="34" y="21"/>
                  <a:pt x="68" y="43"/>
                  <a:pt x="99" y="66"/>
                </a:cubicBezTo>
                <a:cubicBezTo>
                  <a:pt x="130" y="89"/>
                  <a:pt x="153" y="110"/>
                  <a:pt x="186" y="141"/>
                </a:cubicBezTo>
                <a:cubicBezTo>
                  <a:pt x="219" y="172"/>
                  <a:pt x="259" y="212"/>
                  <a:pt x="300" y="252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7600" y="3191040"/>
            <a:ext cx="52200" cy="552240"/>
          </a:xfrm>
          <a:custGeom>
            <a:avLst/>
            <a:gdLst/>
            <a:ahLst/>
            <a:rect l="l" t="t" r="r" b="b"/>
            <a:pathLst>
              <a:path w="33" h="348">
                <a:moveTo>
                  <a:pt x="33" y="0"/>
                </a:moveTo>
                <a:cubicBezTo>
                  <a:pt x="19" y="145"/>
                  <a:pt x="5" y="290"/>
                  <a:pt x="0" y="348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760" y="4214880"/>
            <a:ext cx="485640" cy="976320"/>
          </a:xfrm>
          <a:custGeom>
            <a:avLst/>
            <a:gdLst/>
            <a:ahLst/>
            <a:rect l="l" t="t" r="r" b="b"/>
            <a:pathLst>
              <a:path w="306" h="615">
                <a:moveTo>
                  <a:pt x="0" y="0"/>
                </a:moveTo>
                <a:cubicBezTo>
                  <a:pt x="1" y="52"/>
                  <a:pt x="3" y="105"/>
                  <a:pt x="30" y="180"/>
                </a:cubicBezTo>
                <a:cubicBezTo>
                  <a:pt x="57" y="255"/>
                  <a:pt x="119" y="378"/>
                  <a:pt x="165" y="450"/>
                </a:cubicBezTo>
                <a:cubicBezTo>
                  <a:pt x="211" y="522"/>
                  <a:pt x="258" y="568"/>
                  <a:pt x="306" y="615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00240" y="5786280"/>
            <a:ext cx="819360" cy="466920"/>
          </a:xfrm>
          <a:custGeom>
            <a:avLst/>
            <a:gdLst/>
            <a:ahLst/>
            <a:rect l="l" t="t" r="r" b="b"/>
            <a:pathLst>
              <a:path w="516" h="294">
                <a:moveTo>
                  <a:pt x="0" y="0"/>
                </a:moveTo>
                <a:cubicBezTo>
                  <a:pt x="46" y="37"/>
                  <a:pt x="92" y="75"/>
                  <a:pt x="147" y="111"/>
                </a:cubicBezTo>
                <a:cubicBezTo>
                  <a:pt x="202" y="147"/>
                  <a:pt x="269" y="189"/>
                  <a:pt x="330" y="219"/>
                </a:cubicBezTo>
                <a:cubicBezTo>
                  <a:pt x="391" y="249"/>
                  <a:pt x="453" y="271"/>
                  <a:pt x="516" y="294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86080" y="4991040"/>
            <a:ext cx="214560" cy="657360"/>
          </a:xfrm>
          <a:custGeom>
            <a:avLst/>
            <a:gdLst/>
            <a:ahLst/>
            <a:rect l="l" t="t" r="r" b="b"/>
            <a:pathLst>
              <a:path w="135" h="414">
                <a:moveTo>
                  <a:pt x="39" y="0"/>
                </a:moveTo>
                <a:cubicBezTo>
                  <a:pt x="60" y="20"/>
                  <a:pt x="81" y="41"/>
                  <a:pt x="96" y="69"/>
                </a:cubicBezTo>
                <a:cubicBezTo>
                  <a:pt x="111" y="97"/>
                  <a:pt x="124" y="137"/>
                  <a:pt x="129" y="168"/>
                </a:cubicBezTo>
                <a:cubicBezTo>
                  <a:pt x="134" y="199"/>
                  <a:pt x="135" y="228"/>
                  <a:pt x="126" y="258"/>
                </a:cubicBezTo>
                <a:cubicBezTo>
                  <a:pt x="117" y="288"/>
                  <a:pt x="93" y="325"/>
                  <a:pt x="72" y="351"/>
                </a:cubicBezTo>
                <a:cubicBezTo>
                  <a:pt x="51" y="377"/>
                  <a:pt x="25" y="395"/>
                  <a:pt x="0" y="414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1680" y="13914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90600" y="2032920"/>
            <a:ext cx="23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32320" y="1934280"/>
            <a:ext cx="23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verland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55440" y="3115440"/>
            <a:ext cx="18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fil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66760" y="500148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Ground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3320" y="598248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ase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09360" y="548712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iver De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48120" y="3938760"/>
            <a:ext cx="476280" cy="280800"/>
          </a:xfrm>
          <a:custGeom>
            <a:avLst/>
            <a:gdLst/>
            <a:ahLst/>
            <a:rect l="l" t="t" r="r" b="b"/>
            <a:pathLst>
              <a:path w="300" h="177">
                <a:moveTo>
                  <a:pt x="300" y="0"/>
                </a:moveTo>
                <a:cubicBezTo>
                  <a:pt x="288" y="14"/>
                  <a:pt x="276" y="28"/>
                  <a:pt x="255" y="45"/>
                </a:cubicBezTo>
                <a:cubicBezTo>
                  <a:pt x="234" y="62"/>
                  <a:pt x="198" y="85"/>
                  <a:pt x="171" y="102"/>
                </a:cubicBezTo>
                <a:cubicBezTo>
                  <a:pt x="144" y="119"/>
                  <a:pt x="118" y="135"/>
                  <a:pt x="90" y="147"/>
                </a:cubicBezTo>
                <a:cubicBezTo>
                  <a:pt x="62" y="159"/>
                  <a:pt x="31" y="168"/>
                  <a:pt x="0" y="177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43720" y="342684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diment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olbox on Watershed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15417" t="2375" r="28751" b="4074"/>
          <a:stretch/>
        </p:blipFill>
        <p:spPr>
          <a:xfrm>
            <a:off x="0" y="533520"/>
            <a:ext cx="6148440" cy="6324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lot Infiltration F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76045" t="23756" r="1458" b="42427"/>
          <a:stretch/>
        </p:blipFill>
        <p:spPr>
          <a:xfrm>
            <a:off x="5875200" y="1803240"/>
            <a:ext cx="326880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840" y="1725480"/>
            <a:ext cx="86011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test the model’s sensitivity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rest reserve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ffee price sh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assess the consequences of LUCC on watershed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590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sult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acts of Forest Reserve Allo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 Watersh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00:16:48Z</dcterms:created>
  <dc:creator>DSuyamto</dc:creator>
  <dc:description/>
  <dc:language>en-US</dc:language>
  <cp:lastModifiedBy>DSuyamto</cp:lastModifiedBy>
  <dcterms:modified xsi:type="dcterms:W3CDTF">2003-07-10T03:50:53Z</dcterms:modified>
  <cp:revision>185</cp:revision>
  <dc:subject/>
  <dc:title>No Slide Title</dc:title>
</cp:coreProperties>
</file>