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C0E-8A37-499F-ABE9-1515675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30D-3785-4D1D-8605-03D0AFE8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7FF-C29E-4100-A10F-E3D9737E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3D8-202A-4113-B381-B55E1496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FE0-216E-4F72-B452-F5B85A6B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64B-821A-46C4-B088-D8AD0431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482-92B4-4D09-9943-FD25B912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594-C07F-4B4B-9218-545872BB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389-4B95-488F-B2A4-35092422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309-1BFA-449D-9488-9C38D2E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874-EB2C-43F5-83C5-0DA66A2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AA8-8A5B-48AD-9F61-EE112E0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AC33-029A-4858-BA83-0DFB9226B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5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8.png"/><Relationship Id="rId19" Type="http://schemas.openxmlformats.org/officeDocument/2006/relationships/image" Target="../media/image7.png"/><Relationship Id="rId20" Type="http://schemas.openxmlformats.org/officeDocument/2006/relationships/image" Target="../media/image5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wmf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FALLOW\output\scen13\cl3d.bat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at Symposium on the Stability of Rainforest margins (STORMA) Bogor, 1 October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nd use intensification in former forest margins and its representation in the FALLOW++ model:</a:t>
            </a:r>
            <a:br>
              <a:rPr sz="44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Lessons from the benchmark areas of the Alternatives to Slash and Burn program in Southeast As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28240" y="253800"/>
            <a:ext cx="8458200" cy="142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ill we be ‘surprised’ by and learn something from a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438280" y="2895480"/>
            <a:ext cx="5791320" cy="3505320"/>
            <a:chOff x="2438280" y="2895480"/>
            <a:chExt cx="5791320" cy="3505320"/>
          </a:xfrm>
        </p:grpSpPr>
        <p:sp>
          <p:nvSpPr>
            <p:cNvPr id="803" name=""/>
            <p:cNvSpPr/>
            <p:nvPr/>
          </p:nvSpPr>
          <p:spPr>
            <a:xfrm>
              <a:off x="2438280" y="2895480"/>
              <a:ext cx="2806920" cy="16765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 can 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ed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‘used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3040" y="4724280"/>
              <a:ext cx="2806560" cy="167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 particular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423040" y="2895480"/>
            <a:ext cx="280656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may learn som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ng importan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38280" y="4724280"/>
            <a:ext cx="280692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may learn som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ng importan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1752480"/>
            <a:ext cx="640080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usible, realistic          simple, ‘inadequat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-671400" y="3619080"/>
            <a:ext cx="44161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 predi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xpected,           plausi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alistic            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0"/>
            <a:ext cx="9201240" cy="6858000"/>
            <a:chOff x="0" y="0"/>
            <a:chExt cx="9201240" cy="6858000"/>
          </a:xfrm>
        </p:grpSpPr>
        <p:sp>
          <p:nvSpPr>
            <p:cNvPr id="810" name=""/>
            <p:cNvSpPr/>
            <p:nvPr/>
          </p:nvSpPr>
          <p:spPr>
            <a:xfrm>
              <a:off x="0" y="5715000"/>
              <a:ext cx="2819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50160" y="2400480"/>
              <a:ext cx="3151080" cy="825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 freely avail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craf.cgiar.org/s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698400"/>
              <a:ext cx="1066680" cy="514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2895480" y="685800"/>
              <a:ext cx="5333760" cy="5846760"/>
              <a:chOff x="2895480" y="685800"/>
              <a:chExt cx="5333760" cy="5846760"/>
            </a:xfrm>
          </p:grpSpPr>
          <p:sp>
            <p:nvSpPr>
              <p:cNvPr id="814" name=""/>
              <p:cNvSpPr/>
              <p:nvPr/>
            </p:nvSpPr>
            <p:spPr>
              <a:xfrm>
                <a:off x="4002840" y="1603440"/>
                <a:ext cx="22154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WaNuLC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249080" y="4051440"/>
                <a:ext cx="1600200" cy="76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GenRiver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&amp; SpatR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767560" y="3479760"/>
                <a:ext cx="24616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ALLOW-ST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895480" y="685800"/>
                <a:ext cx="1353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ussim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197960" y="5537160"/>
                <a:ext cx="2051640" cy="99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C-Raster Erosion &amp; River models.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3961440" y="1188720"/>
                <a:ext cx="245880" cy="34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49640" y="4965840"/>
                <a:ext cx="2338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ALLOW-P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372560" y="2679840"/>
                <a:ext cx="1353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WEP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5357160" y="3708000"/>
                <a:ext cx="369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357160" y="4851360"/>
                <a:ext cx="369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357160" y="5308200"/>
                <a:ext cx="369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762120" y="609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57400" y="25560"/>
              <a:ext cx="7086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econds...........Day..........…Y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" y="609480"/>
              <a:ext cx="259092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oil &amp;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ov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oil &amp; plant wat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balance, lateral flow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ynamic soil structur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Hill-slope ‘source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nd ‘filter’ z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ynamic landscape mosaic with source &amp; filter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witching over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patial structure of sub catchments with partially independent rain &amp;separate land use trajectories, all feeding into a single 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05520" y="21337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43600" y="2209680"/>
              <a:ext cx="38088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34120" y="32004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391520" y="3962520"/>
              <a:ext cx="0" cy="99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33920" y="1219320"/>
              <a:ext cx="2743200" cy="137160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86400" y="4724280"/>
              <a:ext cx="3200400" cy="990720"/>
            </a:xfrm>
            <a:prstGeom prst="ellipse">
              <a:avLst/>
            </a:prstGeom>
            <a:noFill/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62520" y="3886200"/>
              <a:ext cx="2361960" cy="114300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15000" y="3200400"/>
              <a:ext cx="2743200" cy="106668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600" y="0"/>
              <a:ext cx="25909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olbox avail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181480" y="1295280"/>
            <a:ext cx="1012680" cy="874800"/>
            <a:chOff x="5181480" y="1295280"/>
            <a:chExt cx="1012680" cy="874800"/>
          </a:xfrm>
        </p:grpSpPr>
        <p:sp>
          <p:nvSpPr>
            <p:cNvPr id="838" name=""/>
            <p:cNvSpPr/>
            <p:nvPr/>
          </p:nvSpPr>
          <p:spPr>
            <a:xfrm>
              <a:off x="5181480" y="1295280"/>
              <a:ext cx="937080" cy="5374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15040" y="1380600"/>
              <a:ext cx="295920" cy="15192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32640" y="1807920"/>
              <a:ext cx="247320" cy="36216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89680" y="1807920"/>
              <a:ext cx="204480" cy="36216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315200" y="3200400"/>
            <a:ext cx="1012320" cy="874800"/>
            <a:chOff x="7315200" y="3200400"/>
            <a:chExt cx="1012320" cy="874800"/>
          </a:xfrm>
        </p:grpSpPr>
        <p:sp>
          <p:nvSpPr>
            <p:cNvPr id="843" name=""/>
            <p:cNvSpPr/>
            <p:nvPr/>
          </p:nvSpPr>
          <p:spPr>
            <a:xfrm>
              <a:off x="7315200" y="3200400"/>
              <a:ext cx="936720" cy="5374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8760" y="3285720"/>
              <a:ext cx="295920" cy="15192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866000" y="3713040"/>
              <a:ext cx="247320" cy="36216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123040" y="3713040"/>
              <a:ext cx="204480" cy="36216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391520" y="4724280"/>
            <a:ext cx="1012320" cy="874800"/>
            <a:chOff x="7391520" y="4724280"/>
            <a:chExt cx="1012320" cy="874800"/>
          </a:xfrm>
        </p:grpSpPr>
        <p:sp>
          <p:nvSpPr>
            <p:cNvPr id="848" name=""/>
            <p:cNvSpPr/>
            <p:nvPr/>
          </p:nvSpPr>
          <p:spPr>
            <a:xfrm>
              <a:off x="7391520" y="4724280"/>
              <a:ext cx="936720" cy="5374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5080" y="4809600"/>
              <a:ext cx="295920" cy="15192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942320" y="5236920"/>
              <a:ext cx="247320" cy="36216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199360" y="5236920"/>
              <a:ext cx="204480" cy="36216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-285840" y="-95400"/>
            <a:ext cx="9715680" cy="7048800"/>
          </a:xfrm>
          <a:prstGeom prst="rect">
            <a:avLst/>
          </a:prstGeom>
          <a:ln w="0">
            <a:noFill/>
          </a:ln>
        </p:spPr>
      </p:pic>
      <p:grpSp>
        <p:nvGrpSpPr>
          <p:cNvPr id="853" name=""/>
          <p:cNvGrpSpPr/>
          <p:nvPr/>
        </p:nvGrpSpPr>
        <p:grpSpPr>
          <a:xfrm>
            <a:off x="5638680" y="914400"/>
            <a:ext cx="631440" cy="798480"/>
            <a:chOff x="5638680" y="914400"/>
            <a:chExt cx="631440" cy="798480"/>
          </a:xfrm>
        </p:grpSpPr>
        <p:sp>
          <p:nvSpPr>
            <p:cNvPr id="854" name=""/>
            <p:cNvSpPr/>
            <p:nvPr/>
          </p:nvSpPr>
          <p:spPr>
            <a:xfrm>
              <a:off x="5638680" y="91440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21840" y="99216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982840" y="138240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142680" y="138240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429000" y="990720"/>
            <a:ext cx="631440" cy="798480"/>
            <a:chOff x="3429000" y="990720"/>
            <a:chExt cx="631440" cy="798480"/>
          </a:xfrm>
        </p:grpSpPr>
        <p:sp>
          <p:nvSpPr>
            <p:cNvPr id="859" name=""/>
            <p:cNvSpPr/>
            <p:nvPr/>
          </p:nvSpPr>
          <p:spPr>
            <a:xfrm>
              <a:off x="3429000" y="9907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12160" y="10684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3773160" y="14587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933000" y="14587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429000" y="2133720"/>
            <a:ext cx="631440" cy="798480"/>
            <a:chOff x="3429000" y="2133720"/>
            <a:chExt cx="631440" cy="798480"/>
          </a:xfrm>
        </p:grpSpPr>
        <p:sp>
          <p:nvSpPr>
            <p:cNvPr id="864" name=""/>
            <p:cNvSpPr/>
            <p:nvPr/>
          </p:nvSpPr>
          <p:spPr>
            <a:xfrm>
              <a:off x="3429000" y="21337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12160" y="22114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773160" y="26017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933000" y="26017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3352680" y="3200400"/>
            <a:ext cx="631440" cy="798480"/>
            <a:chOff x="3352680" y="3200400"/>
            <a:chExt cx="631440" cy="798480"/>
          </a:xfrm>
        </p:grpSpPr>
        <p:sp>
          <p:nvSpPr>
            <p:cNvPr id="869" name=""/>
            <p:cNvSpPr/>
            <p:nvPr/>
          </p:nvSpPr>
          <p:spPr>
            <a:xfrm>
              <a:off x="3352680" y="320040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35840" y="327816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696840" y="366840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856680" y="366840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38080" y="4191120"/>
            <a:ext cx="631440" cy="798480"/>
            <a:chOff x="838080" y="4191120"/>
            <a:chExt cx="631440" cy="798480"/>
          </a:xfrm>
        </p:grpSpPr>
        <p:sp>
          <p:nvSpPr>
            <p:cNvPr id="874" name=""/>
            <p:cNvSpPr/>
            <p:nvPr/>
          </p:nvSpPr>
          <p:spPr>
            <a:xfrm>
              <a:off x="838080" y="41911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21240" y="42688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1182240" y="46591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342080" y="46591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981080" y="4191120"/>
            <a:ext cx="631440" cy="798480"/>
            <a:chOff x="1981080" y="4191120"/>
            <a:chExt cx="631440" cy="798480"/>
          </a:xfrm>
        </p:grpSpPr>
        <p:sp>
          <p:nvSpPr>
            <p:cNvPr id="879" name=""/>
            <p:cNvSpPr/>
            <p:nvPr/>
          </p:nvSpPr>
          <p:spPr>
            <a:xfrm>
              <a:off x="1981080" y="41911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64240" y="42688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325240" y="46591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485080" y="46591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276720" y="4191120"/>
            <a:ext cx="631440" cy="798480"/>
            <a:chOff x="3276720" y="4191120"/>
            <a:chExt cx="631440" cy="798480"/>
          </a:xfrm>
        </p:grpSpPr>
        <p:sp>
          <p:nvSpPr>
            <p:cNvPr id="884" name=""/>
            <p:cNvSpPr/>
            <p:nvPr/>
          </p:nvSpPr>
          <p:spPr>
            <a:xfrm>
              <a:off x="3276720" y="41911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59880" y="42688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620880" y="46591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780720" y="46591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572000" y="4191120"/>
            <a:ext cx="631440" cy="798480"/>
            <a:chOff x="4572000" y="4191120"/>
            <a:chExt cx="631440" cy="798480"/>
          </a:xfrm>
        </p:grpSpPr>
        <p:sp>
          <p:nvSpPr>
            <p:cNvPr id="889" name=""/>
            <p:cNvSpPr/>
            <p:nvPr/>
          </p:nvSpPr>
          <p:spPr>
            <a:xfrm>
              <a:off x="4572000" y="41911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55160" y="42688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916160" y="46591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5076000" y="46591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095880" y="4191120"/>
            <a:ext cx="631440" cy="798480"/>
            <a:chOff x="6095880" y="4191120"/>
            <a:chExt cx="631440" cy="798480"/>
          </a:xfrm>
        </p:grpSpPr>
        <p:sp>
          <p:nvSpPr>
            <p:cNvPr id="894" name=""/>
            <p:cNvSpPr/>
            <p:nvPr/>
          </p:nvSpPr>
          <p:spPr>
            <a:xfrm>
              <a:off x="6095880" y="419112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79040" y="426888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440040" y="465912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599880" y="465912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943600" y="4724280"/>
            <a:ext cx="631440" cy="798480"/>
            <a:chOff x="5943600" y="4724280"/>
            <a:chExt cx="631440" cy="798480"/>
          </a:xfrm>
        </p:grpSpPr>
        <p:sp>
          <p:nvSpPr>
            <p:cNvPr id="899" name=""/>
            <p:cNvSpPr/>
            <p:nvPr/>
          </p:nvSpPr>
          <p:spPr>
            <a:xfrm>
              <a:off x="5943600" y="472428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26760" y="480204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287760" y="519228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447600" y="519228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162920" y="4114800"/>
            <a:ext cx="631440" cy="798480"/>
            <a:chOff x="7162920" y="4114800"/>
            <a:chExt cx="631440" cy="798480"/>
          </a:xfrm>
        </p:grpSpPr>
        <p:sp>
          <p:nvSpPr>
            <p:cNvPr id="904" name=""/>
            <p:cNvSpPr/>
            <p:nvPr/>
          </p:nvSpPr>
          <p:spPr>
            <a:xfrm>
              <a:off x="7162920" y="4114800"/>
              <a:ext cx="584640" cy="490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46080" y="4192560"/>
              <a:ext cx="184680" cy="13860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7507080" y="4582800"/>
              <a:ext cx="154080" cy="33048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7666920" y="4582800"/>
              <a:ext cx="127440" cy="33048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304920" y="228600"/>
            <a:ext cx="3124080" cy="3672720"/>
            <a:chOff x="304920" y="228600"/>
            <a:chExt cx="3124080" cy="3672720"/>
          </a:xfrm>
        </p:grpSpPr>
        <p:sp>
          <p:nvSpPr>
            <p:cNvPr id="909" name=""/>
            <p:cNvSpPr/>
            <p:nvPr/>
          </p:nvSpPr>
          <p:spPr>
            <a:xfrm>
              <a:off x="2514600" y="990360"/>
              <a:ext cx="254160" cy="12193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41480" y="990360"/>
              <a:ext cx="254160" cy="12193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48120" y="2286000"/>
              <a:ext cx="152280" cy="121896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5800" y="2273040"/>
              <a:ext cx="304920" cy="12193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8760" y="990360"/>
              <a:ext cx="1218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94040" y="2273040"/>
              <a:ext cx="12193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5800" y="2273040"/>
              <a:ext cx="12193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94040" y="990360"/>
              <a:ext cx="12193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1880" y="1295280"/>
              <a:ext cx="1214640" cy="838080"/>
            </a:xfrm>
            <a:custGeom>
              <a:avLst/>
              <a:gdLst/>
              <a:ahLst/>
              <a:rect l="l" t="t" r="r" b="b"/>
              <a:pathLst>
                <a:path w="765" h="528">
                  <a:moveTo>
                    <a:pt x="0" y="98"/>
                  </a:moveTo>
                  <a:cubicBezTo>
                    <a:pt x="33" y="89"/>
                    <a:pt x="147" y="62"/>
                    <a:pt x="182" y="59"/>
                  </a:cubicBezTo>
                  <a:cubicBezTo>
                    <a:pt x="190" y="34"/>
                    <a:pt x="189" y="15"/>
                    <a:pt x="210" y="0"/>
                  </a:cubicBezTo>
                  <a:cubicBezTo>
                    <a:pt x="213" y="118"/>
                    <a:pt x="208" y="265"/>
                    <a:pt x="247" y="381"/>
                  </a:cubicBezTo>
                  <a:cubicBezTo>
                    <a:pt x="252" y="395"/>
                    <a:pt x="282" y="441"/>
                    <a:pt x="293" y="457"/>
                  </a:cubicBezTo>
                  <a:cubicBezTo>
                    <a:pt x="300" y="480"/>
                    <a:pt x="294" y="465"/>
                    <a:pt x="313" y="495"/>
                  </a:cubicBezTo>
                  <a:cubicBezTo>
                    <a:pt x="316" y="499"/>
                    <a:pt x="321" y="507"/>
                    <a:pt x="321" y="507"/>
                  </a:cubicBezTo>
                  <a:cubicBezTo>
                    <a:pt x="354" y="459"/>
                    <a:pt x="308" y="528"/>
                    <a:pt x="334" y="482"/>
                  </a:cubicBezTo>
                  <a:cubicBezTo>
                    <a:pt x="339" y="473"/>
                    <a:pt x="350" y="457"/>
                    <a:pt x="350" y="457"/>
                  </a:cubicBezTo>
                  <a:cubicBezTo>
                    <a:pt x="363" y="417"/>
                    <a:pt x="381" y="379"/>
                    <a:pt x="403" y="344"/>
                  </a:cubicBezTo>
                  <a:cubicBezTo>
                    <a:pt x="411" y="332"/>
                    <a:pt x="413" y="316"/>
                    <a:pt x="424" y="306"/>
                  </a:cubicBezTo>
                  <a:cubicBezTo>
                    <a:pt x="441" y="291"/>
                    <a:pt x="467" y="275"/>
                    <a:pt x="485" y="264"/>
                  </a:cubicBezTo>
                  <a:cubicBezTo>
                    <a:pt x="507" y="252"/>
                    <a:pt x="523" y="234"/>
                    <a:pt x="547" y="226"/>
                  </a:cubicBezTo>
                  <a:cubicBezTo>
                    <a:pt x="566" y="213"/>
                    <a:pt x="590" y="213"/>
                    <a:pt x="609" y="201"/>
                  </a:cubicBezTo>
                  <a:cubicBezTo>
                    <a:pt x="635" y="183"/>
                    <a:pt x="664" y="180"/>
                    <a:pt x="695" y="176"/>
                  </a:cubicBezTo>
                  <a:cubicBezTo>
                    <a:pt x="727" y="166"/>
                    <a:pt x="707" y="148"/>
                    <a:pt x="741" y="145"/>
                  </a:cubicBezTo>
                  <a:cubicBezTo>
                    <a:pt x="765" y="144"/>
                    <a:pt x="747" y="132"/>
                    <a:pt x="748" y="1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33840" y="1218960"/>
              <a:ext cx="1411200" cy="838440"/>
            </a:xfrm>
            <a:custGeom>
              <a:avLst/>
              <a:gdLst/>
              <a:ahLst/>
              <a:rect l="l" t="t" r="r" b="b"/>
              <a:pathLst>
                <a:path w="889" h="528">
                  <a:moveTo>
                    <a:pt x="109" y="107"/>
                  </a:moveTo>
                  <a:cubicBezTo>
                    <a:pt x="0" y="115"/>
                    <a:pt x="397" y="62"/>
                    <a:pt x="432" y="59"/>
                  </a:cubicBezTo>
                  <a:cubicBezTo>
                    <a:pt x="440" y="34"/>
                    <a:pt x="439" y="15"/>
                    <a:pt x="460" y="0"/>
                  </a:cubicBezTo>
                  <a:cubicBezTo>
                    <a:pt x="463" y="118"/>
                    <a:pt x="458" y="265"/>
                    <a:pt x="497" y="381"/>
                  </a:cubicBezTo>
                  <a:cubicBezTo>
                    <a:pt x="502" y="395"/>
                    <a:pt x="532" y="441"/>
                    <a:pt x="543" y="457"/>
                  </a:cubicBezTo>
                  <a:cubicBezTo>
                    <a:pt x="550" y="480"/>
                    <a:pt x="544" y="465"/>
                    <a:pt x="563" y="495"/>
                  </a:cubicBezTo>
                  <a:cubicBezTo>
                    <a:pt x="566" y="499"/>
                    <a:pt x="571" y="507"/>
                    <a:pt x="571" y="507"/>
                  </a:cubicBezTo>
                  <a:cubicBezTo>
                    <a:pt x="604" y="459"/>
                    <a:pt x="558" y="528"/>
                    <a:pt x="584" y="482"/>
                  </a:cubicBezTo>
                  <a:cubicBezTo>
                    <a:pt x="589" y="473"/>
                    <a:pt x="600" y="457"/>
                    <a:pt x="600" y="457"/>
                  </a:cubicBezTo>
                  <a:cubicBezTo>
                    <a:pt x="613" y="417"/>
                    <a:pt x="631" y="379"/>
                    <a:pt x="653" y="344"/>
                  </a:cubicBezTo>
                  <a:cubicBezTo>
                    <a:pt x="661" y="332"/>
                    <a:pt x="663" y="316"/>
                    <a:pt x="674" y="306"/>
                  </a:cubicBezTo>
                  <a:cubicBezTo>
                    <a:pt x="691" y="291"/>
                    <a:pt x="717" y="275"/>
                    <a:pt x="735" y="264"/>
                  </a:cubicBezTo>
                  <a:cubicBezTo>
                    <a:pt x="757" y="252"/>
                    <a:pt x="773" y="234"/>
                    <a:pt x="797" y="226"/>
                  </a:cubicBezTo>
                  <a:cubicBezTo>
                    <a:pt x="816" y="213"/>
                    <a:pt x="840" y="213"/>
                    <a:pt x="859" y="201"/>
                  </a:cubicBezTo>
                  <a:cubicBezTo>
                    <a:pt x="885" y="183"/>
                    <a:pt x="826" y="181"/>
                    <a:pt x="857" y="177"/>
                  </a:cubicBezTo>
                  <a:cubicBezTo>
                    <a:pt x="889" y="167"/>
                    <a:pt x="831" y="173"/>
                    <a:pt x="865" y="170"/>
                  </a:cubicBezTo>
                  <a:cubicBezTo>
                    <a:pt x="889" y="169"/>
                    <a:pt x="871" y="182"/>
                    <a:pt x="873" y="18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7120" y="2392200"/>
              <a:ext cx="1268640" cy="925560"/>
            </a:xfrm>
            <a:custGeom>
              <a:avLst/>
              <a:gdLst/>
              <a:ahLst/>
              <a:rect l="l" t="t" r="r" b="b"/>
              <a:pathLst>
                <a:path w="799" h="583">
                  <a:moveTo>
                    <a:pt x="37" y="157"/>
                  </a:moveTo>
                  <a:cubicBezTo>
                    <a:pt x="70" y="148"/>
                    <a:pt x="0" y="80"/>
                    <a:pt x="35" y="77"/>
                  </a:cubicBezTo>
                  <a:cubicBezTo>
                    <a:pt x="43" y="52"/>
                    <a:pt x="22" y="15"/>
                    <a:pt x="43" y="0"/>
                  </a:cubicBezTo>
                  <a:cubicBezTo>
                    <a:pt x="46" y="118"/>
                    <a:pt x="66" y="351"/>
                    <a:pt x="105" y="467"/>
                  </a:cubicBezTo>
                  <a:cubicBezTo>
                    <a:pt x="110" y="481"/>
                    <a:pt x="164" y="529"/>
                    <a:pt x="175" y="545"/>
                  </a:cubicBezTo>
                  <a:cubicBezTo>
                    <a:pt x="182" y="568"/>
                    <a:pt x="248" y="542"/>
                    <a:pt x="267" y="572"/>
                  </a:cubicBezTo>
                  <a:cubicBezTo>
                    <a:pt x="270" y="576"/>
                    <a:pt x="199" y="545"/>
                    <a:pt x="199" y="545"/>
                  </a:cubicBezTo>
                  <a:cubicBezTo>
                    <a:pt x="232" y="497"/>
                    <a:pt x="188" y="583"/>
                    <a:pt x="214" y="537"/>
                  </a:cubicBezTo>
                  <a:cubicBezTo>
                    <a:pt x="219" y="528"/>
                    <a:pt x="222" y="561"/>
                    <a:pt x="222" y="561"/>
                  </a:cubicBezTo>
                  <a:cubicBezTo>
                    <a:pt x="235" y="521"/>
                    <a:pt x="239" y="463"/>
                    <a:pt x="261" y="428"/>
                  </a:cubicBezTo>
                  <a:cubicBezTo>
                    <a:pt x="269" y="416"/>
                    <a:pt x="320" y="329"/>
                    <a:pt x="331" y="319"/>
                  </a:cubicBezTo>
                  <a:cubicBezTo>
                    <a:pt x="348" y="304"/>
                    <a:pt x="391" y="268"/>
                    <a:pt x="409" y="257"/>
                  </a:cubicBezTo>
                  <a:cubicBezTo>
                    <a:pt x="431" y="245"/>
                    <a:pt x="463" y="202"/>
                    <a:pt x="487" y="194"/>
                  </a:cubicBezTo>
                  <a:cubicBezTo>
                    <a:pt x="506" y="181"/>
                    <a:pt x="530" y="183"/>
                    <a:pt x="549" y="171"/>
                  </a:cubicBezTo>
                  <a:cubicBezTo>
                    <a:pt x="566" y="161"/>
                    <a:pt x="579" y="148"/>
                    <a:pt x="596" y="140"/>
                  </a:cubicBezTo>
                  <a:cubicBezTo>
                    <a:pt x="613" y="132"/>
                    <a:pt x="628" y="125"/>
                    <a:pt x="651" y="124"/>
                  </a:cubicBezTo>
                  <a:cubicBezTo>
                    <a:pt x="683" y="114"/>
                    <a:pt x="702" y="135"/>
                    <a:pt x="736" y="132"/>
                  </a:cubicBezTo>
                  <a:cubicBezTo>
                    <a:pt x="760" y="131"/>
                    <a:pt x="786" y="116"/>
                    <a:pt x="799" y="1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06640" y="2444760"/>
              <a:ext cx="1224000" cy="776160"/>
            </a:xfrm>
            <a:custGeom>
              <a:avLst/>
              <a:gdLst/>
              <a:ahLst/>
              <a:rect l="l" t="t" r="r" b="b"/>
              <a:pathLst>
                <a:path w="771" h="489">
                  <a:moveTo>
                    <a:pt x="0" y="216"/>
                  </a:moveTo>
                  <a:cubicBezTo>
                    <a:pt x="39" y="189"/>
                    <a:pt x="66" y="152"/>
                    <a:pt x="109" y="130"/>
                  </a:cubicBezTo>
                  <a:cubicBezTo>
                    <a:pt x="262" y="50"/>
                    <a:pt x="482" y="51"/>
                    <a:pt x="647" y="44"/>
                  </a:cubicBezTo>
                  <a:cubicBezTo>
                    <a:pt x="650" y="31"/>
                    <a:pt x="646" y="15"/>
                    <a:pt x="655" y="6"/>
                  </a:cubicBezTo>
                  <a:cubicBezTo>
                    <a:pt x="661" y="0"/>
                    <a:pt x="661" y="21"/>
                    <a:pt x="662" y="29"/>
                  </a:cubicBezTo>
                  <a:cubicBezTo>
                    <a:pt x="666" y="50"/>
                    <a:pt x="667" y="70"/>
                    <a:pt x="670" y="91"/>
                  </a:cubicBezTo>
                  <a:cubicBezTo>
                    <a:pt x="675" y="123"/>
                    <a:pt x="684" y="154"/>
                    <a:pt x="694" y="185"/>
                  </a:cubicBezTo>
                  <a:cubicBezTo>
                    <a:pt x="707" y="271"/>
                    <a:pt x="720" y="359"/>
                    <a:pt x="748" y="442"/>
                  </a:cubicBezTo>
                  <a:cubicBezTo>
                    <a:pt x="752" y="455"/>
                    <a:pt x="754" y="489"/>
                    <a:pt x="771" y="48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4920" y="22860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ot-level use and ‘re-creation’ of soil fert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280" y="34416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enbath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rot="11625000">
            <a:off x="1447920" y="3580920"/>
            <a:ext cx="266688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913942"/>
                <a:lnTo>
                  <a:pt x="9191" y="120"/>
                </a:lnTo>
                <a:arcTo wR="10800" hR="10800" stAng="-5913942" swAng="591394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2755080" y="-31320"/>
            <a:ext cx="6160320" cy="3462840"/>
            <a:chOff x="2755080" y="-31320"/>
            <a:chExt cx="6160320" cy="3462840"/>
          </a:xfrm>
        </p:grpSpPr>
        <p:sp>
          <p:nvSpPr>
            <p:cNvPr id="925" name=""/>
            <p:cNvSpPr/>
            <p:nvPr/>
          </p:nvSpPr>
          <p:spPr>
            <a:xfrm rot="20427000">
              <a:off x="3022200" y="355680"/>
              <a:ext cx="2666880" cy="20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300" y="10800"/>
                  </a:moveTo>
                  <a:arcTo wR="-5500" hR="-5500" stAng="-10800000" swAng="-7079331"/>
                  <a:lnTo>
                    <a:pt x="5732" y="1263"/>
                  </a:lnTo>
                  <a:arcTo wR="10800" hR="10800" stAng="-7079331" swAng="707933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86400" y="1752480"/>
              <a:ext cx="2057400" cy="1219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od store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al 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5410200">
              <a:off x="6171480" y="455040"/>
              <a:ext cx="1371600" cy="9158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28960 h 915840"/>
                <a:gd name="textAreaBottom" fmla="*/ 686880 h 9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20120" y="1600200"/>
              <a:ext cx="1066680" cy="83808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91520" y="22860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um-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96160" y="33012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gro)forest- based in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180760" y="2971800"/>
              <a:ext cx="31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H resource accoun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2895480" y="2414880"/>
            <a:ext cx="5943600" cy="3774960"/>
            <a:chOff x="2895480" y="2414880"/>
            <a:chExt cx="5943600" cy="3774960"/>
          </a:xfrm>
        </p:grpSpPr>
        <p:sp>
          <p:nvSpPr>
            <p:cNvPr id="933" name=""/>
            <p:cNvSpPr/>
            <p:nvPr/>
          </p:nvSpPr>
          <p:spPr>
            <a:xfrm rot="4323000">
              <a:off x="4571280" y="2971800"/>
              <a:ext cx="2667240" cy="20574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4619114"/>
                  <a:lnTo>
                    <a:pt x="13232" y="277"/>
                  </a:lnTo>
                  <a:arcTo wR="10800" hR="10800" stAng="-4619114" swAng="461911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5480" y="4267080"/>
              <a:ext cx="2667240" cy="1922760"/>
            </a:xfrm>
            <a:prstGeom prst="rect">
              <a:avLst/>
            </a:prstGeom>
            <a:noFill/>
            <a:ln w="7632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nsification/ ex-tensification deci-sions, labour allo- cation and spatial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81680" y="43434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pectations, Knowledge, Learning sty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-380880" y="0"/>
          <a:ext cx="95248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0"/>
                    <a:ext cx="95248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2514600" y="1905120"/>
            <a:ext cx="6858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53160" y="1930320"/>
            <a:ext cx="6858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920" y="228600"/>
            <a:ext cx="2057400" cy="8254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farm 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94040" y="1155600"/>
            <a:ext cx="533160" cy="7621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2819520"/>
            <a:ext cx="24001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farm incom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6400440" y="2362320"/>
            <a:ext cx="30492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41880" y="2171880"/>
            <a:ext cx="457200" cy="41904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4300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OW++ includes a basic description of HH economics, covering ‘subsistence’ to ‘full market integratio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380880"/>
            <a:ext cx="9848880" cy="6674040"/>
            <a:chOff x="0" y="380880"/>
            <a:chExt cx="9848880" cy="6674040"/>
          </a:xfrm>
        </p:grpSpPr>
        <p:sp>
          <p:nvSpPr>
            <p:cNvPr id="947" name=""/>
            <p:cNvSpPr/>
            <p:nvPr/>
          </p:nvSpPr>
          <p:spPr>
            <a:xfrm>
              <a:off x="0" y="3808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YNAMIC MODULE: LANDSCAPE DYNAM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0" y="64612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Model Ov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685800" y="1371600"/>
              <a:ext cx="8038800" cy="4724280"/>
              <a:chOff x="685800" y="1371600"/>
              <a:chExt cx="8038800" cy="4724280"/>
            </a:xfrm>
          </p:grpSpPr>
          <p:sp>
            <p:nvSpPr>
              <p:cNvPr id="950" name=""/>
              <p:cNvSpPr/>
              <p:nvPr/>
            </p:nvSpPr>
            <p:spPr>
              <a:xfrm>
                <a:off x="2297160" y="4210920"/>
                <a:ext cx="1602360" cy="946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Pione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10320" y="3264480"/>
                <a:ext cx="1602360" cy="9464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arl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21680" y="2318040"/>
                <a:ext cx="1602360" cy="9464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Mediu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22240" y="1371600"/>
                <a:ext cx="1602360" cy="946440"/>
              </a:xfrm>
              <a:prstGeom prst="rect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Clima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85800" y="5149440"/>
                <a:ext cx="1602360" cy="946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leared/Bur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lo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682920" y="671040"/>
              <a:ext cx="6536880" cy="4958640"/>
              <a:chOff x="682920" y="671040"/>
              <a:chExt cx="6536880" cy="4958640"/>
            </a:xfrm>
          </p:grpSpPr>
          <p:sp>
            <p:nvSpPr>
              <p:cNvPr id="956" name=""/>
              <p:cNvSpPr/>
              <p:nvPr/>
            </p:nvSpPr>
            <p:spPr>
              <a:xfrm rot="19582200">
                <a:off x="479160" y="2093760"/>
                <a:ext cx="5410080" cy="900360"/>
              </a:xfrm>
              <a:prstGeom prst="leftArrow">
                <a:avLst>
                  <a:gd name="adj1" fmla="val 53898"/>
                  <a:gd name="adj2" fmla="val 74748"/>
                </a:avLst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gricultural 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7" name=""/>
              <p:cNvCxnSpPr>
                <a:stCxn id="953" idx="1"/>
                <a:endCxn id="954" idx="0"/>
              </p:cNvCxnSpPr>
              <p:nvPr/>
            </p:nvCxnSpPr>
            <p:spPr>
              <a:xfrm flipV="1" rot="10800000">
                <a:off x="1389960" y="1771200"/>
                <a:ext cx="5829840" cy="3858480"/>
              </a:xfrm>
              <a:prstGeom prst="curvedConnector2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958" name=""/>
              <p:cNvCxnSpPr>
                <a:stCxn id="952" idx="1"/>
                <a:endCxn id="954" idx="0"/>
              </p:cNvCxnSpPr>
              <p:nvPr/>
            </p:nvCxnSpPr>
            <p:spPr>
              <a:xfrm flipV="1" rot="10800000">
                <a:off x="1389960" y="2875320"/>
                <a:ext cx="4174200" cy="2753640"/>
              </a:xfrm>
              <a:prstGeom prst="curvedConnector2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959" name=""/>
              <p:cNvCxnSpPr>
                <a:stCxn id="951" idx="1"/>
                <a:endCxn id="954" idx="0"/>
              </p:cNvCxnSpPr>
              <p:nvPr/>
            </p:nvCxnSpPr>
            <p:spPr>
              <a:xfrm flipV="1" rot="10800000">
                <a:off x="1389960" y="3980520"/>
                <a:ext cx="2507400" cy="1648440"/>
              </a:xfrm>
              <a:prstGeom prst="curvedConnector2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960" name=""/>
              <p:cNvCxnSpPr>
                <a:stCxn id="950" idx="1"/>
                <a:endCxn id="954" idx="0"/>
              </p:cNvCxnSpPr>
              <p:nvPr/>
            </p:nvCxnSpPr>
            <p:spPr>
              <a:xfrm flipV="1" rot="10800000">
                <a:off x="1389960" y="5086080"/>
                <a:ext cx="838800" cy="543600"/>
              </a:xfrm>
              <a:prstGeom prst="curvedConnector2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961" name=""/>
              <p:cNvSpPr/>
              <p:nvPr/>
            </p:nvSpPr>
            <p:spPr>
              <a:xfrm>
                <a:off x="5450040" y="1328760"/>
                <a:ext cx="171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Wild Fires/S&amp;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2219400" y="2323800"/>
              <a:ext cx="7629480" cy="4731120"/>
              <a:chOff x="2219400" y="2323800"/>
              <a:chExt cx="7629480" cy="4731120"/>
            </a:xfrm>
          </p:grpSpPr>
          <p:sp>
            <p:nvSpPr>
              <p:cNvPr id="963" name=""/>
              <p:cNvSpPr/>
              <p:nvPr/>
            </p:nvSpPr>
            <p:spPr>
              <a:xfrm rot="19549200">
                <a:off x="3608280" y="4444560"/>
                <a:ext cx="5883480" cy="1047960"/>
              </a:xfrm>
              <a:prstGeom prst="rightArrow">
                <a:avLst>
                  <a:gd name="adj1" fmla="val 46361"/>
                  <a:gd name="adj2" fmla="val 39663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cc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4" name=""/>
              <p:cNvCxnSpPr/>
              <p:nvPr/>
            </p:nvCxnSpPr>
            <p:spPr>
              <a:xfrm flipV="1">
                <a:off x="3885840" y="4533120"/>
                <a:ext cx="840600" cy="553320"/>
              </a:xfrm>
              <a:prstGeom prst="curvedConnector2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965" name=""/>
              <p:cNvCxnSpPr/>
              <p:nvPr/>
            </p:nvCxnSpPr>
            <p:spPr>
              <a:xfrm flipV="1">
                <a:off x="5554800" y="3428280"/>
                <a:ext cx="838800" cy="553320"/>
              </a:xfrm>
              <a:prstGeom prst="curvedConnector2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966" name=""/>
              <p:cNvCxnSpPr/>
              <p:nvPr/>
            </p:nvCxnSpPr>
            <p:spPr>
              <a:xfrm flipV="1">
                <a:off x="2219400" y="5638320"/>
                <a:ext cx="838800" cy="543600"/>
              </a:xfrm>
              <a:prstGeom prst="curvedConnector2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967" name=""/>
              <p:cNvCxnSpPr/>
              <p:nvPr/>
            </p:nvCxnSpPr>
            <p:spPr>
              <a:xfrm flipV="1">
                <a:off x="7221240" y="2323800"/>
                <a:ext cx="827640" cy="552960"/>
              </a:xfrm>
              <a:prstGeom prst="curvedConnector2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968" name=""/>
              <p:cNvSpPr/>
              <p:nvPr/>
            </p:nvSpPr>
            <p:spPr>
              <a:xfrm>
                <a:off x="4573440" y="4970520"/>
                <a:ext cx="10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Fal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59520" y="3884760"/>
                <a:ext cx="10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Fal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716960" y="2779560"/>
                <a:ext cx="10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Fal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73240" y="5789520"/>
                <a:ext cx="68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Fal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(starting at t &gt; cropping time for cropped field as part of AF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1066680" y="0"/>
            <a:ext cx="8076960" cy="6115680"/>
            <a:chOff x="1066680" y="0"/>
            <a:chExt cx="8076960" cy="6115680"/>
          </a:xfrm>
        </p:grpSpPr>
        <p:sp>
          <p:nvSpPr>
            <p:cNvPr id="973" name=""/>
            <p:cNvSpPr/>
            <p:nvPr/>
          </p:nvSpPr>
          <p:spPr>
            <a:xfrm>
              <a:off x="7405200" y="3453120"/>
              <a:ext cx="1002960" cy="270720"/>
            </a:xfrm>
            <a:prstGeom prst="leftArrow">
              <a:avLst>
                <a:gd name="adj1" fmla="val 50000"/>
                <a:gd name="adj2" fmla="val 9262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5200" y="4874760"/>
              <a:ext cx="1002960" cy="338400"/>
            </a:xfrm>
            <a:prstGeom prst="leftArrow">
              <a:avLst>
                <a:gd name="adj1" fmla="val 50000"/>
                <a:gd name="adj2" fmla="val 740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96320" y="4140000"/>
              <a:ext cx="1069560" cy="11606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4329360" y="0"/>
              <a:ext cx="3276000" cy="5356800"/>
              <a:chOff x="4329360" y="0"/>
              <a:chExt cx="3276000" cy="5356800"/>
            </a:xfrm>
          </p:grpSpPr>
          <p:sp>
            <p:nvSpPr>
              <p:cNvPr id="977" name=""/>
              <p:cNvSpPr/>
              <p:nvPr/>
            </p:nvSpPr>
            <p:spPr>
              <a:xfrm>
                <a:off x="6149880" y="3676680"/>
                <a:ext cx="1455480" cy="691200"/>
              </a:xfrm>
              <a:custGeom>
                <a:avLst/>
                <a:gdLst/>
                <a:ahLst/>
                <a:rect l="l" t="t" r="r" b="b"/>
                <a:pathLst>
                  <a:path w="1045" h="453">
                    <a:moveTo>
                      <a:pt x="62" y="0"/>
                    </a:moveTo>
                    <a:lnTo>
                      <a:pt x="204" y="39"/>
                    </a:lnTo>
                    <a:lnTo>
                      <a:pt x="395" y="85"/>
                    </a:lnTo>
                    <a:lnTo>
                      <a:pt x="548" y="39"/>
                    </a:lnTo>
                    <a:lnTo>
                      <a:pt x="701" y="39"/>
                    </a:lnTo>
                    <a:lnTo>
                      <a:pt x="854" y="39"/>
                    </a:lnTo>
                    <a:lnTo>
                      <a:pt x="1045" y="85"/>
                    </a:lnTo>
                    <a:lnTo>
                      <a:pt x="969" y="85"/>
                    </a:lnTo>
                    <a:lnTo>
                      <a:pt x="777" y="39"/>
                    </a:lnTo>
                    <a:lnTo>
                      <a:pt x="663" y="85"/>
                    </a:lnTo>
                    <a:lnTo>
                      <a:pt x="739" y="131"/>
                    </a:lnTo>
                    <a:lnTo>
                      <a:pt x="816" y="177"/>
                    </a:lnTo>
                    <a:lnTo>
                      <a:pt x="892" y="315"/>
                    </a:lnTo>
                    <a:lnTo>
                      <a:pt x="816" y="223"/>
                    </a:lnTo>
                    <a:lnTo>
                      <a:pt x="777" y="177"/>
                    </a:lnTo>
                    <a:lnTo>
                      <a:pt x="663" y="85"/>
                    </a:lnTo>
                    <a:lnTo>
                      <a:pt x="471" y="85"/>
                    </a:lnTo>
                    <a:lnTo>
                      <a:pt x="471" y="177"/>
                    </a:lnTo>
                    <a:lnTo>
                      <a:pt x="663" y="177"/>
                    </a:lnTo>
                    <a:lnTo>
                      <a:pt x="777" y="177"/>
                    </a:lnTo>
                    <a:lnTo>
                      <a:pt x="1007" y="177"/>
                    </a:lnTo>
                    <a:lnTo>
                      <a:pt x="892" y="177"/>
                    </a:lnTo>
                    <a:lnTo>
                      <a:pt x="739" y="223"/>
                    </a:lnTo>
                    <a:lnTo>
                      <a:pt x="471" y="223"/>
                    </a:lnTo>
                    <a:lnTo>
                      <a:pt x="433" y="131"/>
                    </a:lnTo>
                    <a:lnTo>
                      <a:pt x="357" y="131"/>
                    </a:lnTo>
                    <a:lnTo>
                      <a:pt x="280" y="85"/>
                    </a:lnTo>
                    <a:lnTo>
                      <a:pt x="165" y="85"/>
                    </a:lnTo>
                    <a:lnTo>
                      <a:pt x="280" y="177"/>
                    </a:lnTo>
                    <a:lnTo>
                      <a:pt x="433" y="223"/>
                    </a:lnTo>
                    <a:lnTo>
                      <a:pt x="548" y="361"/>
                    </a:lnTo>
                    <a:lnTo>
                      <a:pt x="624" y="453"/>
                    </a:lnTo>
                    <a:lnTo>
                      <a:pt x="548" y="407"/>
                    </a:lnTo>
                    <a:lnTo>
                      <a:pt x="471" y="269"/>
                    </a:lnTo>
                    <a:lnTo>
                      <a:pt x="395" y="223"/>
                    </a:lnTo>
                    <a:lnTo>
                      <a:pt x="318" y="269"/>
                    </a:lnTo>
                    <a:lnTo>
                      <a:pt x="204" y="177"/>
                    </a:lnTo>
                    <a:lnTo>
                      <a:pt x="0" y="2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329360" y="3676680"/>
                <a:ext cx="2104560" cy="1524960"/>
              </a:xfrm>
              <a:custGeom>
                <a:avLst/>
                <a:gdLst/>
                <a:ahLst/>
                <a:rect l="l" t="t" r="r" b="b"/>
                <a:pathLst>
                  <a:path w="1607" h="1159">
                    <a:moveTo>
                      <a:pt x="737" y="39"/>
                    </a:moveTo>
                    <a:lnTo>
                      <a:pt x="603" y="39"/>
                    </a:lnTo>
                    <a:lnTo>
                      <a:pt x="502" y="39"/>
                    </a:lnTo>
                    <a:lnTo>
                      <a:pt x="402" y="39"/>
                    </a:lnTo>
                    <a:lnTo>
                      <a:pt x="301" y="39"/>
                    </a:lnTo>
                    <a:lnTo>
                      <a:pt x="201" y="39"/>
                    </a:lnTo>
                    <a:lnTo>
                      <a:pt x="67" y="85"/>
                    </a:lnTo>
                    <a:lnTo>
                      <a:pt x="0" y="131"/>
                    </a:lnTo>
                    <a:lnTo>
                      <a:pt x="33" y="85"/>
                    </a:lnTo>
                    <a:lnTo>
                      <a:pt x="134" y="85"/>
                    </a:lnTo>
                    <a:lnTo>
                      <a:pt x="201" y="85"/>
                    </a:lnTo>
                    <a:lnTo>
                      <a:pt x="335" y="39"/>
                    </a:lnTo>
                    <a:lnTo>
                      <a:pt x="368" y="85"/>
                    </a:lnTo>
                    <a:lnTo>
                      <a:pt x="335" y="131"/>
                    </a:lnTo>
                    <a:lnTo>
                      <a:pt x="268" y="131"/>
                    </a:lnTo>
                    <a:lnTo>
                      <a:pt x="134" y="131"/>
                    </a:lnTo>
                    <a:lnTo>
                      <a:pt x="201" y="131"/>
                    </a:lnTo>
                    <a:lnTo>
                      <a:pt x="301" y="177"/>
                    </a:lnTo>
                    <a:lnTo>
                      <a:pt x="402" y="131"/>
                    </a:lnTo>
                    <a:lnTo>
                      <a:pt x="435" y="39"/>
                    </a:lnTo>
                    <a:lnTo>
                      <a:pt x="502" y="85"/>
                    </a:lnTo>
                    <a:lnTo>
                      <a:pt x="569" y="85"/>
                    </a:lnTo>
                    <a:lnTo>
                      <a:pt x="502" y="177"/>
                    </a:lnTo>
                    <a:lnTo>
                      <a:pt x="435" y="177"/>
                    </a:lnTo>
                    <a:lnTo>
                      <a:pt x="335" y="315"/>
                    </a:lnTo>
                    <a:lnTo>
                      <a:pt x="335" y="407"/>
                    </a:lnTo>
                    <a:lnTo>
                      <a:pt x="368" y="453"/>
                    </a:lnTo>
                    <a:lnTo>
                      <a:pt x="368" y="361"/>
                    </a:lnTo>
                    <a:lnTo>
                      <a:pt x="435" y="269"/>
                    </a:lnTo>
                    <a:lnTo>
                      <a:pt x="502" y="223"/>
                    </a:lnTo>
                    <a:lnTo>
                      <a:pt x="569" y="131"/>
                    </a:lnTo>
                    <a:lnTo>
                      <a:pt x="636" y="85"/>
                    </a:lnTo>
                    <a:lnTo>
                      <a:pt x="770" y="85"/>
                    </a:lnTo>
                    <a:lnTo>
                      <a:pt x="670" y="223"/>
                    </a:lnTo>
                    <a:lnTo>
                      <a:pt x="569" y="453"/>
                    </a:lnTo>
                    <a:lnTo>
                      <a:pt x="569" y="637"/>
                    </a:lnTo>
                    <a:lnTo>
                      <a:pt x="603" y="499"/>
                    </a:lnTo>
                    <a:lnTo>
                      <a:pt x="636" y="315"/>
                    </a:lnTo>
                    <a:lnTo>
                      <a:pt x="670" y="269"/>
                    </a:lnTo>
                    <a:lnTo>
                      <a:pt x="703" y="361"/>
                    </a:lnTo>
                    <a:lnTo>
                      <a:pt x="737" y="453"/>
                    </a:lnTo>
                    <a:lnTo>
                      <a:pt x="804" y="591"/>
                    </a:lnTo>
                    <a:lnTo>
                      <a:pt x="770" y="453"/>
                    </a:lnTo>
                    <a:lnTo>
                      <a:pt x="737" y="361"/>
                    </a:lnTo>
                    <a:lnTo>
                      <a:pt x="703" y="269"/>
                    </a:lnTo>
                    <a:lnTo>
                      <a:pt x="737" y="177"/>
                    </a:lnTo>
                    <a:lnTo>
                      <a:pt x="770" y="131"/>
                    </a:lnTo>
                    <a:lnTo>
                      <a:pt x="837" y="85"/>
                    </a:lnTo>
                    <a:lnTo>
                      <a:pt x="937" y="85"/>
                    </a:lnTo>
                    <a:lnTo>
                      <a:pt x="870" y="177"/>
                    </a:lnTo>
                    <a:lnTo>
                      <a:pt x="870" y="315"/>
                    </a:lnTo>
                    <a:lnTo>
                      <a:pt x="904" y="407"/>
                    </a:lnTo>
                    <a:lnTo>
                      <a:pt x="904" y="499"/>
                    </a:lnTo>
                    <a:lnTo>
                      <a:pt x="937" y="729"/>
                    </a:lnTo>
                    <a:lnTo>
                      <a:pt x="870" y="775"/>
                    </a:lnTo>
                    <a:lnTo>
                      <a:pt x="804" y="913"/>
                    </a:lnTo>
                    <a:lnTo>
                      <a:pt x="870" y="821"/>
                    </a:lnTo>
                    <a:lnTo>
                      <a:pt x="937" y="775"/>
                    </a:lnTo>
                    <a:lnTo>
                      <a:pt x="971" y="637"/>
                    </a:lnTo>
                    <a:lnTo>
                      <a:pt x="937" y="499"/>
                    </a:lnTo>
                    <a:lnTo>
                      <a:pt x="937" y="407"/>
                    </a:lnTo>
                    <a:lnTo>
                      <a:pt x="971" y="499"/>
                    </a:lnTo>
                    <a:lnTo>
                      <a:pt x="1038" y="545"/>
                    </a:lnTo>
                    <a:lnTo>
                      <a:pt x="1134" y="766"/>
                    </a:lnTo>
                    <a:lnTo>
                      <a:pt x="1175" y="745"/>
                    </a:lnTo>
                    <a:lnTo>
                      <a:pt x="1382" y="1159"/>
                    </a:lnTo>
                    <a:lnTo>
                      <a:pt x="1205" y="683"/>
                    </a:lnTo>
                    <a:lnTo>
                      <a:pt x="1134" y="704"/>
                    </a:lnTo>
                    <a:lnTo>
                      <a:pt x="1105" y="637"/>
                    </a:lnTo>
                    <a:lnTo>
                      <a:pt x="1038" y="453"/>
                    </a:lnTo>
                    <a:lnTo>
                      <a:pt x="971" y="407"/>
                    </a:lnTo>
                    <a:lnTo>
                      <a:pt x="937" y="315"/>
                    </a:lnTo>
                    <a:lnTo>
                      <a:pt x="937" y="177"/>
                    </a:lnTo>
                    <a:lnTo>
                      <a:pt x="971" y="85"/>
                    </a:lnTo>
                    <a:lnTo>
                      <a:pt x="1038" y="85"/>
                    </a:lnTo>
                    <a:lnTo>
                      <a:pt x="1071" y="177"/>
                    </a:lnTo>
                    <a:lnTo>
                      <a:pt x="1038" y="407"/>
                    </a:lnTo>
                    <a:lnTo>
                      <a:pt x="1071" y="545"/>
                    </a:lnTo>
                    <a:lnTo>
                      <a:pt x="1071" y="729"/>
                    </a:lnTo>
                    <a:lnTo>
                      <a:pt x="971" y="729"/>
                    </a:lnTo>
                    <a:lnTo>
                      <a:pt x="904" y="683"/>
                    </a:lnTo>
                    <a:lnTo>
                      <a:pt x="770" y="729"/>
                    </a:lnTo>
                    <a:lnTo>
                      <a:pt x="670" y="775"/>
                    </a:lnTo>
                    <a:lnTo>
                      <a:pt x="536" y="775"/>
                    </a:lnTo>
                    <a:lnTo>
                      <a:pt x="435" y="775"/>
                    </a:lnTo>
                    <a:lnTo>
                      <a:pt x="301" y="729"/>
                    </a:lnTo>
                    <a:lnTo>
                      <a:pt x="402" y="821"/>
                    </a:lnTo>
                    <a:lnTo>
                      <a:pt x="502" y="821"/>
                    </a:lnTo>
                    <a:lnTo>
                      <a:pt x="636" y="821"/>
                    </a:lnTo>
                    <a:lnTo>
                      <a:pt x="737" y="775"/>
                    </a:lnTo>
                    <a:lnTo>
                      <a:pt x="837" y="775"/>
                    </a:lnTo>
                    <a:lnTo>
                      <a:pt x="937" y="729"/>
                    </a:lnTo>
                    <a:lnTo>
                      <a:pt x="971" y="775"/>
                    </a:lnTo>
                    <a:lnTo>
                      <a:pt x="1105" y="775"/>
                    </a:lnTo>
                    <a:lnTo>
                      <a:pt x="1138" y="1005"/>
                    </a:lnTo>
                    <a:lnTo>
                      <a:pt x="1205" y="1143"/>
                    </a:lnTo>
                    <a:lnTo>
                      <a:pt x="1205" y="1051"/>
                    </a:lnTo>
                    <a:lnTo>
                      <a:pt x="1172" y="913"/>
                    </a:lnTo>
                    <a:lnTo>
                      <a:pt x="1172" y="775"/>
                    </a:lnTo>
                    <a:lnTo>
                      <a:pt x="1196" y="704"/>
                    </a:lnTo>
                    <a:lnTo>
                      <a:pt x="1172" y="453"/>
                    </a:lnTo>
                    <a:lnTo>
                      <a:pt x="1272" y="499"/>
                    </a:lnTo>
                    <a:lnTo>
                      <a:pt x="1306" y="637"/>
                    </a:lnTo>
                    <a:lnTo>
                      <a:pt x="1339" y="775"/>
                    </a:lnTo>
                    <a:lnTo>
                      <a:pt x="1339" y="959"/>
                    </a:lnTo>
                    <a:lnTo>
                      <a:pt x="1373" y="913"/>
                    </a:lnTo>
                    <a:lnTo>
                      <a:pt x="1373" y="821"/>
                    </a:lnTo>
                    <a:lnTo>
                      <a:pt x="1373" y="683"/>
                    </a:lnTo>
                    <a:lnTo>
                      <a:pt x="1339" y="591"/>
                    </a:lnTo>
                    <a:lnTo>
                      <a:pt x="1406" y="683"/>
                    </a:lnTo>
                    <a:lnTo>
                      <a:pt x="1507" y="775"/>
                    </a:lnTo>
                    <a:lnTo>
                      <a:pt x="1540" y="821"/>
                    </a:lnTo>
                    <a:lnTo>
                      <a:pt x="1607" y="913"/>
                    </a:lnTo>
                    <a:lnTo>
                      <a:pt x="1574" y="775"/>
                    </a:lnTo>
                    <a:lnTo>
                      <a:pt x="1507" y="729"/>
                    </a:lnTo>
                    <a:lnTo>
                      <a:pt x="1473" y="637"/>
                    </a:lnTo>
                    <a:lnTo>
                      <a:pt x="1406" y="545"/>
                    </a:lnTo>
                    <a:lnTo>
                      <a:pt x="1306" y="499"/>
                    </a:lnTo>
                    <a:lnTo>
                      <a:pt x="1272" y="361"/>
                    </a:lnTo>
                    <a:lnTo>
                      <a:pt x="1205" y="361"/>
                    </a:lnTo>
                    <a:lnTo>
                      <a:pt x="1205" y="223"/>
                    </a:lnTo>
                    <a:lnTo>
                      <a:pt x="1299" y="125"/>
                    </a:lnTo>
                    <a:lnTo>
                      <a:pt x="1341" y="0"/>
                    </a:ln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18400" y="3708720"/>
                <a:ext cx="895680" cy="1648080"/>
              </a:xfrm>
              <a:custGeom>
                <a:avLst/>
                <a:gdLst/>
                <a:ahLst/>
                <a:rect l="l" t="t" r="r" b="b"/>
                <a:pathLst>
                  <a:path w="643" h="1080">
                    <a:moveTo>
                      <a:pt x="0" y="0"/>
                    </a:moveTo>
                    <a:lnTo>
                      <a:pt x="145" y="252"/>
                    </a:lnTo>
                    <a:lnTo>
                      <a:pt x="184" y="390"/>
                    </a:lnTo>
                    <a:lnTo>
                      <a:pt x="222" y="482"/>
                    </a:lnTo>
                    <a:lnTo>
                      <a:pt x="184" y="528"/>
                    </a:lnTo>
                    <a:lnTo>
                      <a:pt x="222" y="482"/>
                    </a:lnTo>
                    <a:lnTo>
                      <a:pt x="222" y="390"/>
                    </a:lnTo>
                    <a:lnTo>
                      <a:pt x="184" y="252"/>
                    </a:lnTo>
                    <a:lnTo>
                      <a:pt x="222" y="206"/>
                    </a:lnTo>
                    <a:lnTo>
                      <a:pt x="298" y="344"/>
                    </a:lnTo>
                    <a:lnTo>
                      <a:pt x="337" y="528"/>
                    </a:lnTo>
                    <a:lnTo>
                      <a:pt x="298" y="574"/>
                    </a:lnTo>
                    <a:lnTo>
                      <a:pt x="298" y="850"/>
                    </a:lnTo>
                    <a:lnTo>
                      <a:pt x="337" y="1080"/>
                    </a:lnTo>
                    <a:lnTo>
                      <a:pt x="337" y="896"/>
                    </a:lnTo>
                    <a:lnTo>
                      <a:pt x="337" y="666"/>
                    </a:lnTo>
                    <a:lnTo>
                      <a:pt x="337" y="574"/>
                    </a:lnTo>
                    <a:lnTo>
                      <a:pt x="413" y="528"/>
                    </a:lnTo>
                    <a:lnTo>
                      <a:pt x="337" y="344"/>
                    </a:lnTo>
                    <a:lnTo>
                      <a:pt x="452" y="574"/>
                    </a:lnTo>
                    <a:lnTo>
                      <a:pt x="452" y="666"/>
                    </a:lnTo>
                    <a:lnTo>
                      <a:pt x="528" y="758"/>
                    </a:lnTo>
                    <a:lnTo>
                      <a:pt x="643" y="804"/>
                    </a:lnTo>
                    <a:lnTo>
                      <a:pt x="566" y="712"/>
                    </a:lnTo>
                    <a:lnTo>
                      <a:pt x="490" y="620"/>
                    </a:lnTo>
                    <a:lnTo>
                      <a:pt x="452" y="528"/>
                    </a:lnTo>
                    <a:lnTo>
                      <a:pt x="413" y="436"/>
                    </a:lnTo>
                    <a:lnTo>
                      <a:pt x="375" y="298"/>
                    </a:lnTo>
                    <a:lnTo>
                      <a:pt x="337" y="252"/>
                    </a:lnTo>
                    <a:lnTo>
                      <a:pt x="298" y="160"/>
                    </a:lnTo>
                    <a:lnTo>
                      <a:pt x="207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797360" y="0"/>
                <a:ext cx="2540520" cy="1904760"/>
              </a:xfrm>
              <a:custGeom>
                <a:avLst/>
                <a:gdLst/>
                <a:ahLst/>
                <a:rect l="l" t="t" r="r" b="b"/>
                <a:pathLst>
                  <a:path w="1968" h="1104">
                    <a:moveTo>
                      <a:pt x="672" y="1008"/>
                    </a:moveTo>
                    <a:lnTo>
                      <a:pt x="576" y="1104"/>
                    </a:lnTo>
                    <a:lnTo>
                      <a:pt x="384" y="1056"/>
                    </a:lnTo>
                    <a:lnTo>
                      <a:pt x="192" y="1056"/>
                    </a:lnTo>
                    <a:lnTo>
                      <a:pt x="48" y="1008"/>
                    </a:lnTo>
                    <a:lnTo>
                      <a:pt x="0" y="720"/>
                    </a:lnTo>
                    <a:lnTo>
                      <a:pt x="48" y="576"/>
                    </a:lnTo>
                    <a:lnTo>
                      <a:pt x="192" y="576"/>
                    </a:lnTo>
                    <a:lnTo>
                      <a:pt x="384" y="384"/>
                    </a:lnTo>
                    <a:lnTo>
                      <a:pt x="480" y="240"/>
                    </a:lnTo>
                    <a:lnTo>
                      <a:pt x="576" y="96"/>
                    </a:lnTo>
                    <a:lnTo>
                      <a:pt x="1200" y="0"/>
                    </a:lnTo>
                    <a:lnTo>
                      <a:pt x="1248" y="144"/>
                    </a:lnTo>
                    <a:lnTo>
                      <a:pt x="1584" y="240"/>
                    </a:lnTo>
                    <a:lnTo>
                      <a:pt x="1872" y="480"/>
                    </a:lnTo>
                    <a:lnTo>
                      <a:pt x="1968" y="768"/>
                    </a:lnTo>
                    <a:lnTo>
                      <a:pt x="1872" y="864"/>
                    </a:lnTo>
                    <a:lnTo>
                      <a:pt x="1920" y="1008"/>
                    </a:lnTo>
                    <a:lnTo>
                      <a:pt x="1776" y="912"/>
                    </a:lnTo>
                    <a:lnTo>
                      <a:pt x="1584" y="960"/>
                    </a:lnTo>
                    <a:lnTo>
                      <a:pt x="1440" y="1008"/>
                    </a:lnTo>
                    <a:lnTo>
                      <a:pt x="1344" y="912"/>
                    </a:lnTo>
                    <a:lnTo>
                      <a:pt x="1248" y="816"/>
                    </a:lnTo>
                    <a:lnTo>
                      <a:pt x="1152" y="672"/>
                    </a:lnTo>
                    <a:lnTo>
                      <a:pt x="1008" y="720"/>
                    </a:lnTo>
                    <a:lnTo>
                      <a:pt x="960" y="672"/>
                    </a:lnTo>
                    <a:lnTo>
                      <a:pt x="720" y="816"/>
                    </a:lnTo>
                    <a:lnTo>
                      <a:pt x="672" y="912"/>
                    </a:lnTo>
                  </a:path>
                </a:pathLst>
              </a:custGeom>
              <a:gradFill rotWithShape="0">
                <a:gsLst>
                  <a:gs pos="0">
                    <a:srgbClr val="00ff99"/>
                  </a:gs>
                  <a:gs pos="100000">
                    <a:srgbClr val="0075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99800" y="732600"/>
                <a:ext cx="868680" cy="3003480"/>
              </a:xfrm>
              <a:custGeom>
                <a:avLst/>
                <a:gdLst/>
                <a:ahLst/>
                <a:rect l="l" t="t" r="r" b="b"/>
                <a:pathLst>
                  <a:path w="960" h="1536">
                    <a:moveTo>
                      <a:pt x="0" y="1536"/>
                    </a:moveTo>
                    <a:lnTo>
                      <a:pt x="144" y="1488"/>
                    </a:lnTo>
                    <a:lnTo>
                      <a:pt x="288" y="1392"/>
                    </a:lnTo>
                    <a:lnTo>
                      <a:pt x="336" y="1152"/>
                    </a:lnTo>
                    <a:lnTo>
                      <a:pt x="336" y="912"/>
                    </a:lnTo>
                    <a:lnTo>
                      <a:pt x="336" y="672"/>
                    </a:lnTo>
                    <a:lnTo>
                      <a:pt x="336" y="528"/>
                    </a:lnTo>
                    <a:lnTo>
                      <a:pt x="192" y="432"/>
                    </a:lnTo>
                    <a:lnTo>
                      <a:pt x="96" y="384"/>
                    </a:lnTo>
                    <a:lnTo>
                      <a:pt x="0" y="384"/>
                    </a:lnTo>
                    <a:lnTo>
                      <a:pt x="0" y="288"/>
                    </a:lnTo>
                    <a:lnTo>
                      <a:pt x="48" y="336"/>
                    </a:lnTo>
                    <a:lnTo>
                      <a:pt x="96" y="288"/>
                    </a:lnTo>
                    <a:lnTo>
                      <a:pt x="192" y="336"/>
                    </a:lnTo>
                    <a:lnTo>
                      <a:pt x="240" y="432"/>
                    </a:lnTo>
                    <a:lnTo>
                      <a:pt x="336" y="432"/>
                    </a:lnTo>
                    <a:lnTo>
                      <a:pt x="336" y="288"/>
                    </a:lnTo>
                    <a:lnTo>
                      <a:pt x="288" y="240"/>
                    </a:lnTo>
                    <a:lnTo>
                      <a:pt x="240" y="192"/>
                    </a:lnTo>
                    <a:lnTo>
                      <a:pt x="192" y="144"/>
                    </a:lnTo>
                    <a:lnTo>
                      <a:pt x="192" y="0"/>
                    </a:lnTo>
                    <a:lnTo>
                      <a:pt x="240" y="96"/>
                    </a:lnTo>
                    <a:lnTo>
                      <a:pt x="288" y="144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84" y="192"/>
                    </a:lnTo>
                    <a:lnTo>
                      <a:pt x="336" y="48"/>
                    </a:lnTo>
                    <a:lnTo>
                      <a:pt x="384" y="96"/>
                    </a:lnTo>
                    <a:lnTo>
                      <a:pt x="480" y="48"/>
                    </a:lnTo>
                    <a:lnTo>
                      <a:pt x="432" y="144"/>
                    </a:lnTo>
                    <a:lnTo>
                      <a:pt x="480" y="288"/>
                    </a:lnTo>
                    <a:lnTo>
                      <a:pt x="480" y="384"/>
                    </a:lnTo>
                    <a:lnTo>
                      <a:pt x="528" y="480"/>
                    </a:lnTo>
                    <a:lnTo>
                      <a:pt x="528" y="576"/>
                    </a:lnTo>
                    <a:lnTo>
                      <a:pt x="624" y="528"/>
                    </a:lnTo>
                    <a:lnTo>
                      <a:pt x="624" y="432"/>
                    </a:lnTo>
                    <a:lnTo>
                      <a:pt x="624" y="288"/>
                    </a:lnTo>
                    <a:lnTo>
                      <a:pt x="624" y="144"/>
                    </a:lnTo>
                    <a:lnTo>
                      <a:pt x="672" y="240"/>
                    </a:lnTo>
                    <a:lnTo>
                      <a:pt x="672" y="336"/>
                    </a:lnTo>
                    <a:lnTo>
                      <a:pt x="720" y="288"/>
                    </a:lnTo>
                    <a:lnTo>
                      <a:pt x="768" y="240"/>
                    </a:lnTo>
                    <a:lnTo>
                      <a:pt x="816" y="144"/>
                    </a:lnTo>
                    <a:lnTo>
                      <a:pt x="864" y="240"/>
                    </a:lnTo>
                    <a:lnTo>
                      <a:pt x="960" y="240"/>
                    </a:lnTo>
                    <a:lnTo>
                      <a:pt x="864" y="288"/>
                    </a:lnTo>
                    <a:lnTo>
                      <a:pt x="768" y="336"/>
                    </a:lnTo>
                    <a:lnTo>
                      <a:pt x="720" y="480"/>
                    </a:lnTo>
                    <a:lnTo>
                      <a:pt x="720" y="576"/>
                    </a:lnTo>
                    <a:lnTo>
                      <a:pt x="624" y="720"/>
                    </a:lnTo>
                    <a:lnTo>
                      <a:pt x="576" y="816"/>
                    </a:lnTo>
                    <a:lnTo>
                      <a:pt x="576" y="960"/>
                    </a:lnTo>
                    <a:lnTo>
                      <a:pt x="576" y="1152"/>
                    </a:lnTo>
                    <a:lnTo>
                      <a:pt x="576" y="1344"/>
                    </a:lnTo>
                    <a:lnTo>
                      <a:pt x="768" y="1536"/>
                    </a:lnTo>
                    <a:lnTo>
                      <a:pt x="0" y="1536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2858040" y="406080"/>
              <a:ext cx="3301560" cy="3080880"/>
              <a:chOff x="2858040" y="406080"/>
              <a:chExt cx="3301560" cy="3080880"/>
            </a:xfrm>
          </p:grpSpPr>
          <p:sp>
            <p:nvSpPr>
              <p:cNvPr id="983" name=""/>
              <p:cNvSpPr/>
              <p:nvPr/>
            </p:nvSpPr>
            <p:spPr>
              <a:xfrm rot="1790400">
                <a:off x="4192560" y="1510560"/>
                <a:ext cx="267480" cy="1242360"/>
              </a:xfrm>
              <a:prstGeom prst="downArrow">
                <a:avLst>
                  <a:gd name="adj1" fmla="val 50000"/>
                  <a:gd name="adj2" fmla="val 116117"/>
                </a:avLst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4" name=""/>
              <p:cNvGrpSpPr/>
              <p:nvPr/>
            </p:nvGrpSpPr>
            <p:grpSpPr>
              <a:xfrm>
                <a:off x="4033800" y="3264120"/>
                <a:ext cx="2125800" cy="222840"/>
                <a:chOff x="4033800" y="3264120"/>
                <a:chExt cx="2125800" cy="222840"/>
              </a:xfrm>
            </p:grpSpPr>
            <p:sp>
              <p:nvSpPr>
                <p:cNvPr id="985" name=""/>
                <p:cNvSpPr/>
                <p:nvPr/>
              </p:nvSpPr>
              <p:spPr>
                <a:xfrm rot="10892400">
                  <a:off x="4941360" y="3280320"/>
                  <a:ext cx="1215720" cy="19008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4033800" y="3344400"/>
                  <a:ext cx="911520" cy="128160"/>
                </a:xfrm>
                <a:prstGeom prst="rightArrow">
                  <a:avLst>
                    <a:gd name="adj1" fmla="val 50000"/>
                    <a:gd name="adj2" fmla="val 177809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2858040" y="406080"/>
                <a:ext cx="1644840" cy="3012120"/>
                <a:chOff x="2858040" y="406080"/>
                <a:chExt cx="1644840" cy="30121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265920" y="406080"/>
                  <a:ext cx="823320" cy="8262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265920" y="1232280"/>
                  <a:ext cx="617040" cy="1542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5413800">
                  <a:off x="3809880" y="680760"/>
                  <a:ext cx="759960" cy="618120"/>
                </a:xfrm>
                <a:custGeom>
                  <a:avLst/>
                  <a:gdLst>
                    <a:gd name="textAreaLeft" fmla="*/ 253440 w 759960"/>
                    <a:gd name="textAreaRight" fmla="*/ 650880 w 759960"/>
                    <a:gd name="textAreaTop" fmla="*/ 356040 h 618120"/>
                    <a:gd name="textAreaBottom" fmla="*/ 529560 h 61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5540"/>
                      </a:moveTo>
                      <a:lnTo>
                        <a:pt x="12440" y="15540"/>
                      </a:lnTo>
                      <a:lnTo>
                        <a:pt x="12440" y="7200"/>
                      </a:lnTo>
                      <a:lnTo>
                        <a:pt x="9340" y="7200"/>
                      </a:lnTo>
                      <a:lnTo>
                        <a:pt x="15470" y="0"/>
                      </a:lnTo>
                      <a:lnTo>
                        <a:pt x="21600" y="7200"/>
                      </a:lnTo>
                      <a:lnTo>
                        <a:pt x="18500" y="7200"/>
                      </a:lnTo>
                      <a:lnTo>
                        <a:pt x="185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858040" y="2910960"/>
                  <a:ext cx="1644840" cy="507240"/>
                </a:xfrm>
                <a:prstGeom prst="downArrow">
                  <a:avLst>
                    <a:gd name="adj1" fmla="val 50046"/>
                    <a:gd name="adj2" fmla="val 59444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265920" y="2775240"/>
                  <a:ext cx="795240" cy="3384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3" name=""/>
            <p:cNvSpPr/>
            <p:nvPr/>
          </p:nvSpPr>
          <p:spPr>
            <a:xfrm rot="2397000">
              <a:off x="4663440" y="574920"/>
              <a:ext cx="468000" cy="203040"/>
            </a:xfrm>
            <a:prstGeom prst="rightArrow">
              <a:avLst>
                <a:gd name="adj1" fmla="val 50000"/>
                <a:gd name="adj2" fmla="val 5762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34760" y="4062240"/>
              <a:ext cx="492840" cy="1760040"/>
            </a:xfrm>
            <a:prstGeom prst="downArrow">
              <a:avLst>
                <a:gd name="adj1" fmla="val 50000"/>
                <a:gd name="adj2" fmla="val 8928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2777400" y="4087800"/>
              <a:ext cx="774000" cy="1100160"/>
            </a:xfrm>
            <a:custGeom>
              <a:avLst/>
              <a:gdLst>
                <a:gd name="textAreaLeft" fmla="*/ 360 w 774000"/>
                <a:gd name="textAreaRight" fmla="*/ 774720 w 774000"/>
                <a:gd name="textAreaTop" fmla="*/ 360 h 1100160"/>
                <a:gd name="textAreaBottom" fmla="*/ 1100880 h 11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98240" y="3474000"/>
              <a:ext cx="1094760" cy="483840"/>
            </a:xfrm>
            <a:prstGeom prst="leftArrow">
              <a:avLst>
                <a:gd name="adj1" fmla="val 50000"/>
                <a:gd name="adj2" fmla="val 5656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3799800" y="3946680"/>
              <a:ext cx="802080" cy="110016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360 h 1100160"/>
                <a:gd name="textAreaBottom" fmla="*/ 1100880 h 11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26400" y="3585600"/>
              <a:ext cx="713160" cy="579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55080" y="4051080"/>
              <a:ext cx="802080" cy="744480"/>
            </a:xfrm>
            <a:custGeom>
              <a:avLst/>
              <a:gdLst>
                <a:gd name="textAreaLeft" fmla="*/ 267480 w 802080"/>
                <a:gd name="textAreaRight" fmla="*/ 687240 w 802080"/>
                <a:gd name="textAreaTop" fmla="*/ 428760 h 744480"/>
                <a:gd name="textAreaBottom" fmla="*/ 637920 h 74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2580600">
              <a:off x="6473160" y="1387800"/>
              <a:ext cx="144360" cy="3293640"/>
            </a:xfrm>
            <a:prstGeom prst="upArrow">
              <a:avLst>
                <a:gd name="adj1" fmla="val 50000"/>
                <a:gd name="adj2" fmla="val 5703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3412200">
              <a:off x="6731640" y="483840"/>
              <a:ext cx="677160" cy="1604520"/>
            </a:xfrm>
            <a:prstGeom prst="upArrow">
              <a:avLst>
                <a:gd name="adj1" fmla="val 50000"/>
                <a:gd name="adj2" fmla="val 5923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4230600">
              <a:off x="7002360" y="72720"/>
              <a:ext cx="270720" cy="802080"/>
            </a:xfrm>
            <a:prstGeom prst="upArrow">
              <a:avLst>
                <a:gd name="adj1" fmla="val 50000"/>
                <a:gd name="adj2" fmla="val 7406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1922040" y="5890680"/>
              <a:ext cx="93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25520" y="541440"/>
              <a:ext cx="4480200" cy="48747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125520" y="3656160"/>
              <a:ext cx="4480200" cy="270720"/>
            </a:xfrm>
            <a:custGeom>
              <a:avLst/>
              <a:gdLst/>
              <a:ahLst/>
              <a:rect l="l" t="t" r="r" b="b"/>
              <a:pathLst>
                <a:path w="3216" h="192">
                  <a:moveTo>
                    <a:pt x="0" y="192"/>
                  </a:moveTo>
                  <a:cubicBezTo>
                    <a:pt x="25" y="185"/>
                    <a:pt x="97" y="165"/>
                    <a:pt x="153" y="149"/>
                  </a:cubicBezTo>
                  <a:cubicBezTo>
                    <a:pt x="209" y="133"/>
                    <a:pt x="258" y="97"/>
                    <a:pt x="336" y="96"/>
                  </a:cubicBezTo>
                  <a:cubicBezTo>
                    <a:pt x="414" y="95"/>
                    <a:pt x="552" y="144"/>
                    <a:pt x="624" y="144"/>
                  </a:cubicBezTo>
                  <a:cubicBezTo>
                    <a:pt x="696" y="144"/>
                    <a:pt x="696" y="112"/>
                    <a:pt x="768" y="96"/>
                  </a:cubicBezTo>
                  <a:cubicBezTo>
                    <a:pt x="840" y="80"/>
                    <a:pt x="979" y="63"/>
                    <a:pt x="1056" y="48"/>
                  </a:cubicBezTo>
                  <a:cubicBezTo>
                    <a:pt x="1133" y="33"/>
                    <a:pt x="1173" y="8"/>
                    <a:pt x="1229" y="4"/>
                  </a:cubicBezTo>
                  <a:cubicBezTo>
                    <a:pt x="1285" y="0"/>
                    <a:pt x="1349" y="25"/>
                    <a:pt x="1394" y="25"/>
                  </a:cubicBezTo>
                  <a:cubicBezTo>
                    <a:pt x="1439" y="25"/>
                    <a:pt x="1429" y="4"/>
                    <a:pt x="1498" y="4"/>
                  </a:cubicBezTo>
                  <a:cubicBezTo>
                    <a:pt x="1567" y="4"/>
                    <a:pt x="1674" y="25"/>
                    <a:pt x="1808" y="25"/>
                  </a:cubicBezTo>
                  <a:cubicBezTo>
                    <a:pt x="1942" y="25"/>
                    <a:pt x="2206" y="0"/>
                    <a:pt x="2305" y="4"/>
                  </a:cubicBezTo>
                  <a:cubicBezTo>
                    <a:pt x="2404" y="8"/>
                    <a:pt x="2352" y="41"/>
                    <a:pt x="2400" y="48"/>
                  </a:cubicBezTo>
                  <a:cubicBezTo>
                    <a:pt x="2448" y="55"/>
                    <a:pt x="2515" y="55"/>
                    <a:pt x="2592" y="48"/>
                  </a:cubicBezTo>
                  <a:cubicBezTo>
                    <a:pt x="2669" y="41"/>
                    <a:pt x="2759" y="4"/>
                    <a:pt x="2863" y="4"/>
                  </a:cubicBezTo>
                  <a:cubicBezTo>
                    <a:pt x="2967" y="4"/>
                    <a:pt x="3143" y="39"/>
                    <a:pt x="3216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31320" y="3048120"/>
              <a:ext cx="180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em-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61000" y="2505240"/>
              <a:ext cx="17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rough-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51160" y="45000"/>
              <a:ext cx="180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in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97240" y="37800"/>
              <a:ext cx="13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o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ce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41480" y="4570560"/>
              <a:ext cx="100296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te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044880" y="5673240"/>
              <a:ext cx="15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co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6880" y="4090680"/>
              <a:ext cx="12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125520" y="3735000"/>
              <a:ext cx="153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filt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06080" y="1489680"/>
              <a:ext cx="1537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p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30920" y="92952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i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19680" y="181800"/>
              <a:ext cx="15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nopy 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p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96400" y="4725720"/>
              <a:ext cx="100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pt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118880" y="4059360"/>
              <a:ext cx="8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ick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66680" y="5473080"/>
              <a:ext cx="6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1654560" y="3588480"/>
              <a:ext cx="100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1261800" y="169200"/>
              <a:ext cx="1395720" cy="57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ores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1119600" y="2851920"/>
              <a:ext cx="7508160" cy="2539440"/>
              <a:chOff x="1119600" y="2851920"/>
              <a:chExt cx="7508160" cy="2539440"/>
            </a:xfrm>
          </p:grpSpPr>
          <p:sp>
            <p:nvSpPr>
              <p:cNvPr id="1023" name=""/>
              <p:cNvSpPr/>
              <p:nvPr/>
            </p:nvSpPr>
            <p:spPr>
              <a:xfrm>
                <a:off x="7623720" y="2851920"/>
                <a:ext cx="1004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rface run-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53240" y="4163760"/>
                <a:ext cx="934560" cy="12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-surfacelate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flo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055600" y="3792960"/>
                <a:ext cx="934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rface run-of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119600" y="3520440"/>
                <a:ext cx="120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ream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1587600" y="4536000"/>
                <a:ext cx="267120" cy="406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5867280" y="1523880"/>
            <a:ext cx="3276720" cy="1739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trees use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0"/>
            <a:ext cx="7848720" cy="916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matters most in AF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2882880"/>
            <a:ext cx="5334120" cy="301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ategic landscape position of ‘filters’ can greatly reduce downstream 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5562720" y="4343400"/>
            <a:ext cx="3581280" cy="2287440"/>
            <a:chOff x="5562720" y="4343400"/>
            <a:chExt cx="3581280" cy="2287440"/>
          </a:xfrm>
        </p:grpSpPr>
        <p:sp>
          <p:nvSpPr>
            <p:cNvPr id="1032" name=""/>
            <p:cNvSpPr/>
            <p:nvPr/>
          </p:nvSpPr>
          <p:spPr>
            <a:xfrm>
              <a:off x="5562720" y="4343400"/>
              <a:ext cx="3581280" cy="2287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Their litter protects soil &amp; infiltra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35560" y="589284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Slide21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533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pproach 1: Scaling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57240" y="914400"/>
            <a:ext cx="4514760" cy="3200400"/>
            <a:chOff x="57240" y="914400"/>
            <a:chExt cx="4514760" cy="3200400"/>
          </a:xfrm>
        </p:grpSpPr>
        <p:sp>
          <p:nvSpPr>
            <p:cNvPr id="1039" name=""/>
            <p:cNvSpPr/>
            <p:nvPr/>
          </p:nvSpPr>
          <p:spPr>
            <a:xfrm>
              <a:off x="57240" y="914400"/>
              <a:ext cx="4514760" cy="32004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OT LEVEL (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246600" y="1209240"/>
              <a:ext cx="2598480" cy="2549160"/>
              <a:chOff x="246600" y="1209240"/>
              <a:chExt cx="2598480" cy="2549160"/>
            </a:xfrm>
          </p:grpSpPr>
          <p:sp>
            <p:nvSpPr>
              <p:cNvPr id="1041" name=""/>
              <p:cNvSpPr/>
              <p:nvPr/>
            </p:nvSpPr>
            <p:spPr>
              <a:xfrm>
                <a:off x="628200" y="1218960"/>
                <a:ext cx="2179080" cy="21718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20640" y="3390120"/>
                <a:ext cx="22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since last S&amp;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6200000">
                <a:off x="-653040" y="2109240"/>
                <a:ext cx="21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cies Richnes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37560" y="1458720"/>
                <a:ext cx="2161800" cy="193212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47280" y="1773000"/>
                <a:ext cx="2161800" cy="161784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47280" y="2106360"/>
                <a:ext cx="2161800" cy="128448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2733480" y="1264320"/>
              <a:ext cx="1727280" cy="368280"/>
              <a:chOff x="2733480" y="1264320"/>
              <a:chExt cx="1727280" cy="368280"/>
            </a:xfrm>
          </p:grpSpPr>
          <p:sp>
            <p:nvSpPr>
              <p:cNvPr id="1048" name=""/>
              <p:cNvSpPr/>
              <p:nvPr/>
            </p:nvSpPr>
            <p:spPr>
              <a:xfrm>
                <a:off x="2733480" y="1466640"/>
                <a:ext cx="580680" cy="0"/>
              </a:xfrm>
              <a:prstGeom prst="line">
                <a:avLst/>
              </a:prstGeom>
              <a:ln cap="rnd" w="284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291120" y="1264320"/>
                <a:ext cx="11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Maximu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1085040" y="2061720"/>
              <a:ext cx="1143720" cy="1329120"/>
              <a:chOff x="1085040" y="2061720"/>
              <a:chExt cx="1143720" cy="1329120"/>
            </a:xfrm>
          </p:grpSpPr>
          <p:sp>
            <p:nvSpPr>
              <p:cNvPr id="1051" name=""/>
              <p:cNvSpPr/>
              <p:nvPr/>
            </p:nvSpPr>
            <p:spPr>
              <a:xfrm flipV="1">
                <a:off x="1647360" y="2904840"/>
                <a:ext cx="0" cy="486000"/>
              </a:xfrm>
              <a:prstGeom prst="line">
                <a:avLst/>
              </a:prstGeom>
              <a:ln cap="rnd" w="284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85040" y="2061720"/>
                <a:ext cx="1143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Hal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Recove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2286000" y="4114800"/>
            <a:ext cx="3448080" cy="895320"/>
            <a:chOff x="2286000" y="4114800"/>
            <a:chExt cx="3448080" cy="895320"/>
          </a:xfrm>
        </p:grpSpPr>
        <p:sp>
          <p:nvSpPr>
            <p:cNvPr id="1054" name=""/>
            <p:cNvSpPr/>
            <p:nvPr/>
          </p:nvSpPr>
          <p:spPr>
            <a:xfrm>
              <a:off x="2286000" y="4114800"/>
              <a:ext cx="3448080" cy="895320"/>
            </a:xfrm>
            <a:custGeom>
              <a:avLst/>
              <a:gdLst>
                <a:gd name="textAreaLeft" fmla="*/ 603360 w 3448080"/>
                <a:gd name="textAreaRight" fmla="*/ 2499840 w 3448080"/>
                <a:gd name="textAreaTop" fmla="*/ 119880 h 895320"/>
                <a:gd name="textAreaBottom" fmla="*/ 775440 h 89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3708404"/>
                  <a:lnTo>
                    <a:pt x="21470" y="3983"/>
                  </a:lnTo>
                  <a:lnTo>
                    <a:pt x="17280" y="0"/>
                  </a:lnTo>
                  <a:lnTo>
                    <a:pt x="12830" y="3983"/>
                  </a:lnTo>
                  <a:lnTo>
                    <a:pt x="14990" y="3983"/>
                  </a:lnTo>
                  <a:arcTo wR="7560" hR="21600" stAng="1691596" swAng="3350969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ccffcc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98600" y="4240800"/>
              <a:ext cx="135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=S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*A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</a:rPr>
                <a:t>z</a:t>
              </a:r>
              <a:r>
                <a:rPr b="0" lang="en-US" sz="2400" spc="-1" strike="noStrike" baseline="1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oice is provided for 2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4003920" y="4956840"/>
            <a:ext cx="5139720" cy="1743840"/>
            <a:chOff x="4003920" y="4956840"/>
            <a:chExt cx="5139720" cy="1743840"/>
          </a:xfrm>
        </p:grpSpPr>
        <p:sp>
          <p:nvSpPr>
            <p:cNvPr id="1058" name=""/>
            <p:cNvSpPr/>
            <p:nvPr/>
          </p:nvSpPr>
          <p:spPr>
            <a:xfrm rot="16200000">
              <a:off x="6829200" y="4105080"/>
              <a:ext cx="1390320" cy="3238200"/>
            </a:xfrm>
            <a:prstGeom prst="flowChartPunched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52800" y="5021280"/>
              <a:ext cx="29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(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4887000" y="4956840"/>
              <a:ext cx="1445760" cy="1743840"/>
              <a:chOff x="4887000" y="4956840"/>
              <a:chExt cx="1445760" cy="1743840"/>
            </a:xfrm>
          </p:grpSpPr>
          <p:sp>
            <p:nvSpPr>
              <p:cNvPr id="1061" name=""/>
              <p:cNvSpPr/>
              <p:nvPr/>
            </p:nvSpPr>
            <p:spPr>
              <a:xfrm rot="19839600">
                <a:off x="5219280" y="5437800"/>
                <a:ext cx="780480" cy="7808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9839600">
                <a:off x="5028120" y="5097600"/>
                <a:ext cx="780480" cy="7808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9839600">
                <a:off x="5410800" y="5778360"/>
                <a:ext cx="780480" cy="78084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9839600">
                <a:off x="5507640" y="574668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9900"/>
                    </a:solidFill>
                    <a:latin typeface="Arial"/>
                  </a:rPr>
                  <a:t>i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9839600">
                <a:off x="5332680" y="543564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i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4003920" y="603792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Overlapp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4572000" y="914400"/>
            <a:ext cx="4514760" cy="3200400"/>
            <a:chOff x="4572000" y="914400"/>
            <a:chExt cx="4514760" cy="3200400"/>
          </a:xfrm>
        </p:grpSpPr>
        <p:sp>
          <p:nvSpPr>
            <p:cNvPr id="1068" name=""/>
            <p:cNvSpPr/>
            <p:nvPr/>
          </p:nvSpPr>
          <p:spPr>
            <a:xfrm>
              <a:off x="4572000" y="914400"/>
              <a:ext cx="4514760" cy="320040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COVER TYPE (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64040" y="1198440"/>
              <a:ext cx="2179800" cy="2171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75880" y="336960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C Area (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6200000">
              <a:off x="3714120" y="2057040"/>
              <a:ext cx="21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es Rich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9880" y="1382760"/>
              <a:ext cx="2190960" cy="1957320"/>
            </a:xfrm>
            <a:custGeom>
              <a:avLst/>
              <a:gdLst/>
              <a:ahLst/>
              <a:rect l="l" t="t" r="r" b="b"/>
              <a:pathLst>
                <a:path w="1380" h="1233">
                  <a:moveTo>
                    <a:pt x="1380" y="127"/>
                  </a:moveTo>
                  <a:cubicBezTo>
                    <a:pt x="1375" y="217"/>
                    <a:pt x="1361" y="51"/>
                    <a:pt x="1356" y="142"/>
                  </a:cubicBezTo>
                  <a:cubicBezTo>
                    <a:pt x="1349" y="292"/>
                    <a:pt x="1378" y="0"/>
                    <a:pt x="1349" y="142"/>
                  </a:cubicBezTo>
                  <a:cubicBezTo>
                    <a:pt x="1107" y="181"/>
                    <a:pt x="1302" y="142"/>
                    <a:pt x="1177" y="173"/>
                  </a:cubicBezTo>
                  <a:cubicBezTo>
                    <a:pt x="1123" y="173"/>
                    <a:pt x="990" y="204"/>
                    <a:pt x="928" y="236"/>
                  </a:cubicBezTo>
                  <a:cubicBezTo>
                    <a:pt x="795" y="259"/>
                    <a:pt x="741" y="275"/>
                    <a:pt x="624" y="360"/>
                  </a:cubicBezTo>
                  <a:cubicBezTo>
                    <a:pt x="460" y="407"/>
                    <a:pt x="276" y="697"/>
                    <a:pt x="172" y="843"/>
                  </a:cubicBezTo>
                  <a:cubicBezTo>
                    <a:pt x="68" y="989"/>
                    <a:pt x="36" y="1152"/>
                    <a:pt x="0" y="1233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7245360" y="1083240"/>
              <a:ext cx="1830240" cy="2325960"/>
              <a:chOff x="7245360" y="1083240"/>
              <a:chExt cx="1830240" cy="2325960"/>
            </a:xfrm>
          </p:grpSpPr>
          <p:sp>
            <p:nvSpPr>
              <p:cNvPr id="1074" name=""/>
              <p:cNvSpPr/>
              <p:nvPr/>
            </p:nvSpPr>
            <p:spPr>
              <a:xfrm flipV="1">
                <a:off x="7245360" y="1353960"/>
                <a:ext cx="0" cy="1898640"/>
              </a:xfrm>
              <a:prstGeom prst="line">
                <a:avLst/>
              </a:prstGeom>
              <a:ln cap="rnd" w="284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338960" y="1083240"/>
                <a:ext cx="1736640" cy="23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Scal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Parameter f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on-AF (z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Fore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eighbourho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Effect  for A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(y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927680" y="1828800"/>
              <a:ext cx="2209680" cy="1600200"/>
            </a:xfrm>
            <a:custGeom>
              <a:avLst/>
              <a:gdLst/>
              <a:ahLst/>
              <a:rect l="l" t="t" r="r" b="b"/>
              <a:pathLst>
                <a:path w="1380" h="1233">
                  <a:moveTo>
                    <a:pt x="1380" y="127"/>
                  </a:moveTo>
                  <a:cubicBezTo>
                    <a:pt x="1375" y="217"/>
                    <a:pt x="1361" y="51"/>
                    <a:pt x="1356" y="142"/>
                  </a:cubicBezTo>
                  <a:cubicBezTo>
                    <a:pt x="1349" y="292"/>
                    <a:pt x="1378" y="0"/>
                    <a:pt x="1349" y="142"/>
                  </a:cubicBezTo>
                  <a:cubicBezTo>
                    <a:pt x="1107" y="181"/>
                    <a:pt x="1302" y="142"/>
                    <a:pt x="1177" y="173"/>
                  </a:cubicBezTo>
                  <a:cubicBezTo>
                    <a:pt x="1123" y="173"/>
                    <a:pt x="990" y="204"/>
                    <a:pt x="928" y="236"/>
                  </a:cubicBezTo>
                  <a:cubicBezTo>
                    <a:pt x="795" y="259"/>
                    <a:pt x="741" y="275"/>
                    <a:pt x="624" y="360"/>
                  </a:cubicBezTo>
                  <a:cubicBezTo>
                    <a:pt x="460" y="407"/>
                    <a:pt x="276" y="697"/>
                    <a:pt x="172" y="843"/>
                  </a:cubicBezTo>
                  <a:cubicBezTo>
                    <a:pt x="68" y="989"/>
                    <a:pt x="36" y="1152"/>
                    <a:pt x="0" y="1233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rot="5391600">
            <a:off x="6703560" y="4038480"/>
            <a:ext cx="761760" cy="1066680"/>
          </a:xfrm>
          <a:custGeom>
            <a:avLst/>
            <a:gdLst>
              <a:gd name="textAreaLeft" fmla="*/ 118800 w 761760"/>
              <a:gd name="textAreaRight" fmla="*/ 666720 w 76176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1085760" y="1582560"/>
            <a:ext cx="6969240" cy="428004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LANDSCAPE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1165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DISTURBANCE ON SUCCESSIONAL PROCESS: WILD FIRE FROM S&amp;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7644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86440" y="4718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o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16200000">
            <a:off x="-915840" y="350028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ability of 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00480" y="2467080"/>
            <a:ext cx="0" cy="1361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16200000">
            <a:off x="817560" y="360324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569960" y="583416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uccessional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371680" y="4181400"/>
            <a:ext cx="0" cy="9334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990720"/>
            <a:ext cx="3276360" cy="761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nd use intensification in former forest margins and its representation in the FALLOW++ model: lessons from the benchmark areas of the Alternatives to Slash and Burn program in Southeast As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0" y="3454200"/>
            <a:ext cx="93726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ne van Noordwijk, Desi Suyamto &amp; David Th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791320" y="4084560"/>
            <a:ext cx="3389760" cy="2565360"/>
            <a:chOff x="5791320" y="4084560"/>
            <a:chExt cx="3389760" cy="2565360"/>
          </a:xfrm>
        </p:grpSpPr>
        <p:pic>
          <p:nvPicPr>
            <p:cNvPr id="47" name="ASB-C" descr=""/>
            <p:cNvPicPr/>
            <p:nvPr/>
          </p:nvPicPr>
          <p:blipFill>
            <a:blip r:embed="rId1">
              <a:lum contrast="44000"/>
            </a:blip>
            <a:stretch/>
          </p:blipFill>
          <p:spPr>
            <a:xfrm>
              <a:off x="6033960" y="4084560"/>
              <a:ext cx="2909880" cy="25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791320" y="6342840"/>
              <a:ext cx="33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 Narrow"/>
                  <a:ea typeface="Times New Roman"/>
                </a:rPr>
                <a:t>SE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029200"/>
            <a:ext cx="3124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946760"/>
          <a:ext cx="5257800" cy="19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946760"/>
                    <a:ext cx="52578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3873600"/>
            <a:ext cx="567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RAF        SE As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76320" y="15228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history of land-use/cover changes at forest margin in Jambi, Suma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3520" y="1295280"/>
            <a:ext cx="81532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reconstruct the profitability and environmental effects of the historical transition from shifting cultivation to rubber agrofor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the trajectory be if we include intensive rubber and oil palm as op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‘unsustainable forest use’ contribute to ‘sustainable livelihood option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1092" name=""/>
            <p:cNvSpPr/>
            <p:nvPr/>
          </p:nvSpPr>
          <p:spPr>
            <a:xfrm>
              <a:off x="1371600" y="919080"/>
              <a:ext cx="7481880" cy="469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71600" y="919080"/>
              <a:ext cx="7481880" cy="46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71600" y="4307040"/>
              <a:ext cx="7481880" cy="1307880"/>
            </a:xfrm>
            <a:custGeom>
              <a:avLst/>
              <a:gdLst/>
              <a:ahLst/>
              <a:rect l="l" t="t" r="r" b="b"/>
              <a:pathLst>
                <a:path w="4713" h="824">
                  <a:moveTo>
                    <a:pt x="0" y="824"/>
                  </a:moveTo>
                  <a:lnTo>
                    <a:pt x="0" y="824"/>
                  </a:lnTo>
                  <a:lnTo>
                    <a:pt x="48" y="824"/>
                  </a:lnTo>
                  <a:lnTo>
                    <a:pt x="95" y="548"/>
                  </a:lnTo>
                  <a:lnTo>
                    <a:pt x="143" y="516"/>
                  </a:lnTo>
                  <a:lnTo>
                    <a:pt x="190" y="476"/>
                  </a:lnTo>
                  <a:lnTo>
                    <a:pt x="238" y="168"/>
                  </a:lnTo>
                  <a:lnTo>
                    <a:pt x="286" y="248"/>
                  </a:lnTo>
                  <a:lnTo>
                    <a:pt x="333" y="290"/>
                  </a:lnTo>
                  <a:lnTo>
                    <a:pt x="381" y="252"/>
                  </a:lnTo>
                  <a:lnTo>
                    <a:pt x="428" y="360"/>
                  </a:lnTo>
                  <a:lnTo>
                    <a:pt x="476" y="360"/>
                  </a:lnTo>
                  <a:lnTo>
                    <a:pt x="523" y="150"/>
                  </a:lnTo>
                  <a:lnTo>
                    <a:pt x="571" y="204"/>
                  </a:lnTo>
                  <a:lnTo>
                    <a:pt x="620" y="204"/>
                  </a:lnTo>
                  <a:lnTo>
                    <a:pt x="667" y="301"/>
                  </a:lnTo>
                  <a:lnTo>
                    <a:pt x="715" y="415"/>
                  </a:lnTo>
                  <a:lnTo>
                    <a:pt x="762" y="415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480"/>
                  </a:lnTo>
                  <a:lnTo>
                    <a:pt x="1000" y="582"/>
                  </a:lnTo>
                  <a:lnTo>
                    <a:pt x="1048" y="582"/>
                  </a:lnTo>
                  <a:lnTo>
                    <a:pt x="1095" y="421"/>
                  </a:lnTo>
                  <a:lnTo>
                    <a:pt x="1143" y="421"/>
                  </a:lnTo>
                  <a:lnTo>
                    <a:pt x="1190" y="421"/>
                  </a:lnTo>
                  <a:lnTo>
                    <a:pt x="1238" y="228"/>
                  </a:lnTo>
                  <a:lnTo>
                    <a:pt x="1285" y="295"/>
                  </a:lnTo>
                  <a:lnTo>
                    <a:pt x="1333" y="295"/>
                  </a:lnTo>
                  <a:lnTo>
                    <a:pt x="1380" y="277"/>
                  </a:lnTo>
                  <a:lnTo>
                    <a:pt x="1428" y="381"/>
                  </a:lnTo>
                  <a:lnTo>
                    <a:pt x="1476" y="381"/>
                  </a:lnTo>
                  <a:lnTo>
                    <a:pt x="1523" y="216"/>
                  </a:lnTo>
                  <a:lnTo>
                    <a:pt x="1571" y="277"/>
                  </a:lnTo>
                  <a:lnTo>
                    <a:pt x="1618" y="277"/>
                  </a:lnTo>
                  <a:lnTo>
                    <a:pt x="1666" y="294"/>
                  </a:lnTo>
                  <a:lnTo>
                    <a:pt x="1713" y="397"/>
                  </a:lnTo>
                  <a:lnTo>
                    <a:pt x="1761" y="397"/>
                  </a:lnTo>
                  <a:lnTo>
                    <a:pt x="1810" y="156"/>
                  </a:lnTo>
                  <a:lnTo>
                    <a:pt x="1857" y="195"/>
                  </a:lnTo>
                  <a:lnTo>
                    <a:pt x="1905" y="195"/>
                  </a:lnTo>
                  <a:lnTo>
                    <a:pt x="1952" y="783"/>
                  </a:lnTo>
                  <a:lnTo>
                    <a:pt x="2000" y="430"/>
                  </a:lnTo>
                  <a:lnTo>
                    <a:pt x="2047" y="430"/>
                  </a:lnTo>
                  <a:lnTo>
                    <a:pt x="2095" y="462"/>
                  </a:lnTo>
                  <a:lnTo>
                    <a:pt x="2142" y="182"/>
                  </a:lnTo>
                  <a:lnTo>
                    <a:pt x="2190" y="230"/>
                  </a:lnTo>
                  <a:lnTo>
                    <a:pt x="2238" y="230"/>
                  </a:lnTo>
                  <a:lnTo>
                    <a:pt x="2285" y="268"/>
                  </a:lnTo>
                  <a:lnTo>
                    <a:pt x="2333" y="386"/>
                  </a:lnTo>
                  <a:lnTo>
                    <a:pt x="2380" y="386"/>
                  </a:lnTo>
                  <a:lnTo>
                    <a:pt x="2428" y="147"/>
                  </a:lnTo>
                  <a:lnTo>
                    <a:pt x="2475" y="215"/>
                  </a:lnTo>
                  <a:lnTo>
                    <a:pt x="2523" y="215"/>
                  </a:lnTo>
                  <a:lnTo>
                    <a:pt x="2571" y="269"/>
                  </a:lnTo>
                  <a:lnTo>
                    <a:pt x="2618" y="379"/>
                  </a:lnTo>
                  <a:lnTo>
                    <a:pt x="2666" y="379"/>
                  </a:lnTo>
                  <a:lnTo>
                    <a:pt x="2713" y="145"/>
                  </a:lnTo>
                  <a:lnTo>
                    <a:pt x="2761" y="199"/>
                  </a:lnTo>
                  <a:lnTo>
                    <a:pt x="2808" y="199"/>
                  </a:lnTo>
                  <a:lnTo>
                    <a:pt x="2856" y="780"/>
                  </a:lnTo>
                  <a:lnTo>
                    <a:pt x="2903" y="436"/>
                  </a:lnTo>
                  <a:lnTo>
                    <a:pt x="2952" y="436"/>
                  </a:lnTo>
                  <a:lnTo>
                    <a:pt x="3000" y="473"/>
                  </a:lnTo>
                  <a:lnTo>
                    <a:pt x="3047" y="147"/>
                  </a:lnTo>
                  <a:lnTo>
                    <a:pt x="3095" y="195"/>
                  </a:lnTo>
                  <a:lnTo>
                    <a:pt x="3142" y="195"/>
                  </a:lnTo>
                  <a:lnTo>
                    <a:pt x="3190" y="769"/>
                  </a:lnTo>
                  <a:lnTo>
                    <a:pt x="3237" y="440"/>
                  </a:lnTo>
                  <a:lnTo>
                    <a:pt x="3285" y="440"/>
                  </a:lnTo>
                  <a:lnTo>
                    <a:pt x="3333" y="484"/>
                  </a:lnTo>
                  <a:lnTo>
                    <a:pt x="3380" y="131"/>
                  </a:lnTo>
                  <a:lnTo>
                    <a:pt x="3428" y="172"/>
                  </a:lnTo>
                  <a:lnTo>
                    <a:pt x="3475" y="172"/>
                  </a:lnTo>
                  <a:lnTo>
                    <a:pt x="3523" y="779"/>
                  </a:lnTo>
                  <a:lnTo>
                    <a:pt x="3570" y="435"/>
                  </a:lnTo>
                  <a:lnTo>
                    <a:pt x="3618" y="435"/>
                  </a:lnTo>
                  <a:lnTo>
                    <a:pt x="3665" y="469"/>
                  </a:lnTo>
                  <a:lnTo>
                    <a:pt x="3713" y="173"/>
                  </a:lnTo>
                  <a:lnTo>
                    <a:pt x="3761" y="221"/>
                  </a:lnTo>
                  <a:lnTo>
                    <a:pt x="3808" y="221"/>
                  </a:lnTo>
                  <a:lnTo>
                    <a:pt x="3856" y="294"/>
                  </a:lnTo>
                  <a:lnTo>
                    <a:pt x="3903" y="407"/>
                  </a:lnTo>
                  <a:lnTo>
                    <a:pt x="3951" y="407"/>
                  </a:lnTo>
                  <a:lnTo>
                    <a:pt x="3998" y="131"/>
                  </a:lnTo>
                  <a:lnTo>
                    <a:pt x="4046" y="191"/>
                  </a:lnTo>
                  <a:lnTo>
                    <a:pt x="4094" y="191"/>
                  </a:lnTo>
                  <a:lnTo>
                    <a:pt x="4142" y="777"/>
                  </a:lnTo>
                  <a:lnTo>
                    <a:pt x="4190" y="435"/>
                  </a:lnTo>
                  <a:lnTo>
                    <a:pt x="4237" y="435"/>
                  </a:lnTo>
                  <a:lnTo>
                    <a:pt x="4285" y="473"/>
                  </a:lnTo>
                  <a:lnTo>
                    <a:pt x="4332" y="169"/>
                  </a:lnTo>
                  <a:lnTo>
                    <a:pt x="4380" y="204"/>
                  </a:lnTo>
                  <a:lnTo>
                    <a:pt x="4427" y="204"/>
                  </a:lnTo>
                  <a:lnTo>
                    <a:pt x="4475" y="778"/>
                  </a:lnTo>
                  <a:lnTo>
                    <a:pt x="4523" y="435"/>
                  </a:lnTo>
                  <a:lnTo>
                    <a:pt x="4570" y="435"/>
                  </a:lnTo>
                  <a:lnTo>
                    <a:pt x="4618" y="470"/>
                  </a:lnTo>
                  <a:lnTo>
                    <a:pt x="4665" y="173"/>
                  </a:lnTo>
                  <a:lnTo>
                    <a:pt x="4713" y="227"/>
                  </a:lnTo>
                  <a:lnTo>
                    <a:pt x="4713" y="824"/>
                  </a:lnTo>
                  <a:lnTo>
                    <a:pt x="4665" y="824"/>
                  </a:lnTo>
                  <a:lnTo>
                    <a:pt x="4618" y="824"/>
                  </a:lnTo>
                  <a:lnTo>
                    <a:pt x="4570" y="824"/>
                  </a:lnTo>
                  <a:lnTo>
                    <a:pt x="4523" y="824"/>
                  </a:lnTo>
                  <a:lnTo>
                    <a:pt x="4475" y="824"/>
                  </a:lnTo>
                  <a:lnTo>
                    <a:pt x="4427" y="824"/>
                  </a:lnTo>
                  <a:lnTo>
                    <a:pt x="4380" y="824"/>
                  </a:lnTo>
                  <a:lnTo>
                    <a:pt x="4332" y="824"/>
                  </a:lnTo>
                  <a:lnTo>
                    <a:pt x="4285" y="824"/>
                  </a:lnTo>
                  <a:lnTo>
                    <a:pt x="4237" y="824"/>
                  </a:lnTo>
                  <a:lnTo>
                    <a:pt x="4190" y="824"/>
                  </a:lnTo>
                  <a:lnTo>
                    <a:pt x="4142" y="824"/>
                  </a:lnTo>
                  <a:lnTo>
                    <a:pt x="4094" y="824"/>
                  </a:lnTo>
                  <a:lnTo>
                    <a:pt x="4046" y="824"/>
                  </a:lnTo>
                  <a:lnTo>
                    <a:pt x="3998" y="824"/>
                  </a:lnTo>
                  <a:lnTo>
                    <a:pt x="3951" y="824"/>
                  </a:lnTo>
                  <a:lnTo>
                    <a:pt x="3903" y="824"/>
                  </a:lnTo>
                  <a:lnTo>
                    <a:pt x="3856" y="824"/>
                  </a:lnTo>
                  <a:lnTo>
                    <a:pt x="3808" y="824"/>
                  </a:lnTo>
                  <a:lnTo>
                    <a:pt x="3761" y="824"/>
                  </a:lnTo>
                  <a:lnTo>
                    <a:pt x="3713" y="824"/>
                  </a:lnTo>
                  <a:lnTo>
                    <a:pt x="3665" y="824"/>
                  </a:lnTo>
                  <a:lnTo>
                    <a:pt x="3618" y="824"/>
                  </a:lnTo>
                  <a:lnTo>
                    <a:pt x="3570" y="824"/>
                  </a:lnTo>
                  <a:lnTo>
                    <a:pt x="3523" y="824"/>
                  </a:lnTo>
                  <a:lnTo>
                    <a:pt x="3475" y="824"/>
                  </a:lnTo>
                  <a:lnTo>
                    <a:pt x="3428" y="824"/>
                  </a:lnTo>
                  <a:lnTo>
                    <a:pt x="3380" y="824"/>
                  </a:lnTo>
                  <a:lnTo>
                    <a:pt x="3333" y="824"/>
                  </a:lnTo>
                  <a:lnTo>
                    <a:pt x="3285" y="824"/>
                  </a:lnTo>
                  <a:lnTo>
                    <a:pt x="3237" y="824"/>
                  </a:lnTo>
                  <a:lnTo>
                    <a:pt x="3190" y="824"/>
                  </a:lnTo>
                  <a:lnTo>
                    <a:pt x="3142" y="824"/>
                  </a:lnTo>
                  <a:lnTo>
                    <a:pt x="3095" y="824"/>
                  </a:lnTo>
                  <a:lnTo>
                    <a:pt x="3047" y="824"/>
                  </a:lnTo>
                  <a:lnTo>
                    <a:pt x="3000" y="824"/>
                  </a:lnTo>
                  <a:lnTo>
                    <a:pt x="2952" y="824"/>
                  </a:lnTo>
                  <a:lnTo>
                    <a:pt x="2903" y="824"/>
                  </a:lnTo>
                  <a:lnTo>
                    <a:pt x="2856" y="824"/>
                  </a:lnTo>
                  <a:lnTo>
                    <a:pt x="2808" y="824"/>
                  </a:lnTo>
                  <a:lnTo>
                    <a:pt x="2761" y="824"/>
                  </a:lnTo>
                  <a:lnTo>
                    <a:pt x="2713" y="824"/>
                  </a:lnTo>
                  <a:lnTo>
                    <a:pt x="2666" y="824"/>
                  </a:lnTo>
                  <a:lnTo>
                    <a:pt x="2618" y="824"/>
                  </a:lnTo>
                  <a:lnTo>
                    <a:pt x="2571" y="824"/>
                  </a:lnTo>
                  <a:lnTo>
                    <a:pt x="2523" y="824"/>
                  </a:lnTo>
                  <a:lnTo>
                    <a:pt x="2475" y="824"/>
                  </a:lnTo>
                  <a:lnTo>
                    <a:pt x="2428" y="824"/>
                  </a:lnTo>
                  <a:lnTo>
                    <a:pt x="2380" y="824"/>
                  </a:lnTo>
                  <a:lnTo>
                    <a:pt x="2333" y="824"/>
                  </a:lnTo>
                  <a:lnTo>
                    <a:pt x="2285" y="824"/>
                  </a:lnTo>
                  <a:lnTo>
                    <a:pt x="2238" y="824"/>
                  </a:lnTo>
                  <a:lnTo>
                    <a:pt x="2190" y="824"/>
                  </a:lnTo>
                  <a:lnTo>
                    <a:pt x="2142" y="824"/>
                  </a:lnTo>
                  <a:lnTo>
                    <a:pt x="2095" y="824"/>
                  </a:lnTo>
                  <a:lnTo>
                    <a:pt x="2047" y="824"/>
                  </a:lnTo>
                  <a:lnTo>
                    <a:pt x="2000" y="824"/>
                  </a:lnTo>
                  <a:lnTo>
                    <a:pt x="1952" y="824"/>
                  </a:lnTo>
                  <a:lnTo>
                    <a:pt x="1905" y="824"/>
                  </a:lnTo>
                  <a:lnTo>
                    <a:pt x="1857" y="824"/>
                  </a:lnTo>
                  <a:lnTo>
                    <a:pt x="1810" y="824"/>
                  </a:lnTo>
                  <a:lnTo>
                    <a:pt x="1761" y="824"/>
                  </a:lnTo>
                  <a:lnTo>
                    <a:pt x="1713" y="824"/>
                  </a:lnTo>
                  <a:lnTo>
                    <a:pt x="1666" y="824"/>
                  </a:lnTo>
                  <a:lnTo>
                    <a:pt x="1618" y="824"/>
                  </a:lnTo>
                  <a:lnTo>
                    <a:pt x="1571" y="824"/>
                  </a:lnTo>
                  <a:lnTo>
                    <a:pt x="1523" y="824"/>
                  </a:lnTo>
                  <a:lnTo>
                    <a:pt x="1476" y="824"/>
                  </a:lnTo>
                  <a:lnTo>
                    <a:pt x="1428" y="824"/>
                  </a:lnTo>
                  <a:lnTo>
                    <a:pt x="1380" y="824"/>
                  </a:lnTo>
                  <a:lnTo>
                    <a:pt x="1333" y="824"/>
                  </a:lnTo>
                  <a:lnTo>
                    <a:pt x="1285" y="824"/>
                  </a:lnTo>
                  <a:lnTo>
                    <a:pt x="1238" y="824"/>
                  </a:lnTo>
                  <a:lnTo>
                    <a:pt x="1190" y="824"/>
                  </a:lnTo>
                  <a:lnTo>
                    <a:pt x="1143" y="824"/>
                  </a:lnTo>
                  <a:lnTo>
                    <a:pt x="1095" y="824"/>
                  </a:lnTo>
                  <a:lnTo>
                    <a:pt x="1048" y="824"/>
                  </a:lnTo>
                  <a:lnTo>
                    <a:pt x="1000" y="824"/>
                  </a:lnTo>
                  <a:lnTo>
                    <a:pt x="952" y="824"/>
                  </a:lnTo>
                  <a:lnTo>
                    <a:pt x="905" y="824"/>
                  </a:lnTo>
                  <a:lnTo>
                    <a:pt x="857" y="824"/>
                  </a:lnTo>
                  <a:lnTo>
                    <a:pt x="810" y="824"/>
                  </a:lnTo>
                  <a:lnTo>
                    <a:pt x="762" y="824"/>
                  </a:lnTo>
                  <a:lnTo>
                    <a:pt x="715" y="824"/>
                  </a:lnTo>
                  <a:lnTo>
                    <a:pt x="667" y="824"/>
                  </a:lnTo>
                  <a:lnTo>
                    <a:pt x="620" y="824"/>
                  </a:lnTo>
                  <a:lnTo>
                    <a:pt x="571" y="824"/>
                  </a:lnTo>
                  <a:lnTo>
                    <a:pt x="523" y="824"/>
                  </a:lnTo>
                  <a:lnTo>
                    <a:pt x="476" y="824"/>
                  </a:lnTo>
                  <a:lnTo>
                    <a:pt x="428" y="824"/>
                  </a:lnTo>
                  <a:lnTo>
                    <a:pt x="381" y="824"/>
                  </a:lnTo>
                  <a:lnTo>
                    <a:pt x="333" y="824"/>
                  </a:lnTo>
                  <a:lnTo>
                    <a:pt x="286" y="824"/>
                  </a:lnTo>
                  <a:lnTo>
                    <a:pt x="238" y="824"/>
                  </a:lnTo>
                  <a:lnTo>
                    <a:pt x="190" y="824"/>
                  </a:lnTo>
                  <a:lnTo>
                    <a:pt x="143" y="824"/>
                  </a:lnTo>
                  <a:lnTo>
                    <a:pt x="95" y="824"/>
                  </a:lnTo>
                  <a:lnTo>
                    <a:pt x="48" y="824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371600" y="1943280"/>
              <a:ext cx="7481880" cy="3671640"/>
            </a:xfrm>
            <a:custGeom>
              <a:avLst/>
              <a:gdLst/>
              <a:ahLst/>
              <a:rect l="l" t="t" r="r" b="b"/>
              <a:pathLst>
                <a:path w="4713" h="2313">
                  <a:moveTo>
                    <a:pt x="0" y="2313"/>
                  </a:moveTo>
                  <a:lnTo>
                    <a:pt x="0" y="2313"/>
                  </a:lnTo>
                  <a:lnTo>
                    <a:pt x="48" y="2313"/>
                  </a:lnTo>
                  <a:lnTo>
                    <a:pt x="95" y="2037"/>
                  </a:lnTo>
                  <a:lnTo>
                    <a:pt x="143" y="2005"/>
                  </a:lnTo>
                  <a:lnTo>
                    <a:pt x="190" y="1965"/>
                  </a:lnTo>
                  <a:lnTo>
                    <a:pt x="238" y="1431"/>
                  </a:lnTo>
                  <a:lnTo>
                    <a:pt x="286" y="1431"/>
                  </a:lnTo>
                  <a:lnTo>
                    <a:pt x="333" y="1431"/>
                  </a:lnTo>
                  <a:lnTo>
                    <a:pt x="381" y="1035"/>
                  </a:lnTo>
                  <a:lnTo>
                    <a:pt x="428" y="1035"/>
                  </a:lnTo>
                  <a:lnTo>
                    <a:pt x="476" y="1035"/>
                  </a:lnTo>
                  <a:lnTo>
                    <a:pt x="523" y="507"/>
                  </a:lnTo>
                  <a:lnTo>
                    <a:pt x="571" y="507"/>
                  </a:lnTo>
                  <a:lnTo>
                    <a:pt x="620" y="507"/>
                  </a:lnTo>
                  <a:lnTo>
                    <a:pt x="667" y="442"/>
                  </a:lnTo>
                  <a:lnTo>
                    <a:pt x="715" y="488"/>
                  </a:lnTo>
                  <a:lnTo>
                    <a:pt x="762" y="511"/>
                  </a:lnTo>
                  <a:lnTo>
                    <a:pt x="810" y="0"/>
                  </a:lnTo>
                  <a:lnTo>
                    <a:pt x="857" y="76"/>
                  </a:lnTo>
                  <a:lnTo>
                    <a:pt x="905" y="76"/>
                  </a:lnTo>
                  <a:lnTo>
                    <a:pt x="952" y="292"/>
                  </a:lnTo>
                  <a:lnTo>
                    <a:pt x="1000" y="334"/>
                  </a:lnTo>
                  <a:lnTo>
                    <a:pt x="1048" y="334"/>
                  </a:lnTo>
                  <a:lnTo>
                    <a:pt x="1095" y="380"/>
                  </a:lnTo>
                  <a:lnTo>
                    <a:pt x="1143" y="481"/>
                  </a:lnTo>
                  <a:lnTo>
                    <a:pt x="1190" y="481"/>
                  </a:lnTo>
                  <a:lnTo>
                    <a:pt x="1238" y="493"/>
                  </a:lnTo>
                  <a:lnTo>
                    <a:pt x="1285" y="493"/>
                  </a:lnTo>
                  <a:lnTo>
                    <a:pt x="1333" y="493"/>
                  </a:lnTo>
                  <a:lnTo>
                    <a:pt x="1380" y="780"/>
                  </a:lnTo>
                  <a:lnTo>
                    <a:pt x="1428" y="848"/>
                  </a:lnTo>
                  <a:lnTo>
                    <a:pt x="1476" y="848"/>
                  </a:lnTo>
                  <a:lnTo>
                    <a:pt x="1523" y="586"/>
                  </a:lnTo>
                  <a:lnTo>
                    <a:pt x="1571" y="586"/>
                  </a:lnTo>
                  <a:lnTo>
                    <a:pt x="1618" y="586"/>
                  </a:lnTo>
                  <a:lnTo>
                    <a:pt x="1666" y="564"/>
                  </a:lnTo>
                  <a:lnTo>
                    <a:pt x="1713" y="599"/>
                  </a:lnTo>
                  <a:lnTo>
                    <a:pt x="1761" y="599"/>
                  </a:lnTo>
                  <a:lnTo>
                    <a:pt x="1810" y="355"/>
                  </a:lnTo>
                  <a:lnTo>
                    <a:pt x="1857" y="422"/>
                  </a:lnTo>
                  <a:lnTo>
                    <a:pt x="1905" y="422"/>
                  </a:lnTo>
                  <a:lnTo>
                    <a:pt x="1952" y="696"/>
                  </a:lnTo>
                  <a:lnTo>
                    <a:pt x="2000" y="378"/>
                  </a:lnTo>
                  <a:lnTo>
                    <a:pt x="2047" y="378"/>
                  </a:lnTo>
                  <a:lnTo>
                    <a:pt x="2095" y="774"/>
                  </a:lnTo>
                  <a:lnTo>
                    <a:pt x="2142" y="419"/>
                  </a:lnTo>
                  <a:lnTo>
                    <a:pt x="2190" y="419"/>
                  </a:lnTo>
                  <a:lnTo>
                    <a:pt x="2238" y="754"/>
                  </a:lnTo>
                  <a:lnTo>
                    <a:pt x="2285" y="522"/>
                  </a:lnTo>
                  <a:lnTo>
                    <a:pt x="2333" y="522"/>
                  </a:lnTo>
                  <a:lnTo>
                    <a:pt x="2380" y="962"/>
                  </a:lnTo>
                  <a:lnTo>
                    <a:pt x="2428" y="511"/>
                  </a:lnTo>
                  <a:lnTo>
                    <a:pt x="2475" y="511"/>
                  </a:lnTo>
                  <a:lnTo>
                    <a:pt x="2523" y="528"/>
                  </a:lnTo>
                  <a:lnTo>
                    <a:pt x="2571" y="472"/>
                  </a:lnTo>
                  <a:lnTo>
                    <a:pt x="2618" y="499"/>
                  </a:lnTo>
                  <a:lnTo>
                    <a:pt x="2666" y="499"/>
                  </a:lnTo>
                  <a:lnTo>
                    <a:pt x="2713" y="302"/>
                  </a:lnTo>
                  <a:lnTo>
                    <a:pt x="2761" y="379"/>
                  </a:lnTo>
                  <a:lnTo>
                    <a:pt x="2808" y="379"/>
                  </a:lnTo>
                  <a:lnTo>
                    <a:pt x="2856" y="629"/>
                  </a:lnTo>
                  <a:lnTo>
                    <a:pt x="2903" y="327"/>
                  </a:lnTo>
                  <a:lnTo>
                    <a:pt x="2952" y="327"/>
                  </a:lnTo>
                  <a:lnTo>
                    <a:pt x="3000" y="768"/>
                  </a:lnTo>
                  <a:lnTo>
                    <a:pt x="3047" y="384"/>
                  </a:lnTo>
                  <a:lnTo>
                    <a:pt x="3095" y="384"/>
                  </a:lnTo>
                  <a:lnTo>
                    <a:pt x="3142" y="718"/>
                  </a:lnTo>
                  <a:lnTo>
                    <a:pt x="3190" y="738"/>
                  </a:lnTo>
                  <a:lnTo>
                    <a:pt x="3237" y="426"/>
                  </a:lnTo>
                  <a:lnTo>
                    <a:pt x="3285" y="922"/>
                  </a:lnTo>
                  <a:lnTo>
                    <a:pt x="3333" y="927"/>
                  </a:lnTo>
                  <a:lnTo>
                    <a:pt x="3380" y="422"/>
                  </a:lnTo>
                  <a:lnTo>
                    <a:pt x="3428" y="449"/>
                  </a:lnTo>
                  <a:lnTo>
                    <a:pt x="3475" y="707"/>
                  </a:lnTo>
                  <a:lnTo>
                    <a:pt x="3523" y="723"/>
                  </a:lnTo>
                  <a:lnTo>
                    <a:pt x="3570" y="384"/>
                  </a:lnTo>
                  <a:lnTo>
                    <a:pt x="3618" y="889"/>
                  </a:lnTo>
                  <a:lnTo>
                    <a:pt x="3665" y="899"/>
                  </a:lnTo>
                  <a:lnTo>
                    <a:pt x="3713" y="429"/>
                  </a:lnTo>
                  <a:lnTo>
                    <a:pt x="3761" y="458"/>
                  </a:lnTo>
                  <a:lnTo>
                    <a:pt x="3808" y="714"/>
                  </a:lnTo>
                  <a:lnTo>
                    <a:pt x="3856" y="510"/>
                  </a:lnTo>
                  <a:lnTo>
                    <a:pt x="3903" y="510"/>
                  </a:lnTo>
                  <a:lnTo>
                    <a:pt x="3951" y="975"/>
                  </a:lnTo>
                  <a:lnTo>
                    <a:pt x="3998" y="492"/>
                  </a:lnTo>
                  <a:lnTo>
                    <a:pt x="4046" y="492"/>
                  </a:lnTo>
                  <a:lnTo>
                    <a:pt x="4094" y="512"/>
                  </a:lnTo>
                  <a:lnTo>
                    <a:pt x="4142" y="703"/>
                  </a:lnTo>
                  <a:lnTo>
                    <a:pt x="4190" y="384"/>
                  </a:lnTo>
                  <a:lnTo>
                    <a:pt x="4237" y="384"/>
                  </a:lnTo>
                  <a:lnTo>
                    <a:pt x="4285" y="788"/>
                  </a:lnTo>
                  <a:lnTo>
                    <a:pt x="4332" y="371"/>
                  </a:lnTo>
                  <a:lnTo>
                    <a:pt x="4380" y="371"/>
                  </a:lnTo>
                  <a:lnTo>
                    <a:pt x="4427" y="687"/>
                  </a:lnTo>
                  <a:lnTo>
                    <a:pt x="4475" y="721"/>
                  </a:lnTo>
                  <a:lnTo>
                    <a:pt x="4523" y="381"/>
                  </a:lnTo>
                  <a:lnTo>
                    <a:pt x="4570" y="918"/>
                  </a:lnTo>
                  <a:lnTo>
                    <a:pt x="4618" y="926"/>
                  </a:lnTo>
                  <a:lnTo>
                    <a:pt x="4665" y="491"/>
                  </a:lnTo>
                  <a:lnTo>
                    <a:pt x="4713" y="520"/>
                  </a:lnTo>
                  <a:lnTo>
                    <a:pt x="4713" y="1716"/>
                  </a:lnTo>
                  <a:lnTo>
                    <a:pt x="4665" y="1662"/>
                  </a:lnTo>
                  <a:lnTo>
                    <a:pt x="4618" y="1959"/>
                  </a:lnTo>
                  <a:lnTo>
                    <a:pt x="4570" y="1924"/>
                  </a:lnTo>
                  <a:lnTo>
                    <a:pt x="4523" y="1924"/>
                  </a:lnTo>
                  <a:lnTo>
                    <a:pt x="4475" y="2267"/>
                  </a:lnTo>
                  <a:lnTo>
                    <a:pt x="4427" y="1693"/>
                  </a:lnTo>
                  <a:lnTo>
                    <a:pt x="4380" y="1693"/>
                  </a:lnTo>
                  <a:lnTo>
                    <a:pt x="4332" y="1658"/>
                  </a:lnTo>
                  <a:lnTo>
                    <a:pt x="4285" y="1962"/>
                  </a:lnTo>
                  <a:lnTo>
                    <a:pt x="4237" y="1924"/>
                  </a:lnTo>
                  <a:lnTo>
                    <a:pt x="4190" y="1924"/>
                  </a:lnTo>
                  <a:lnTo>
                    <a:pt x="4142" y="2266"/>
                  </a:lnTo>
                  <a:lnTo>
                    <a:pt x="4094" y="1680"/>
                  </a:lnTo>
                  <a:lnTo>
                    <a:pt x="4046" y="1680"/>
                  </a:lnTo>
                  <a:lnTo>
                    <a:pt x="3998" y="1620"/>
                  </a:lnTo>
                  <a:lnTo>
                    <a:pt x="3951" y="1896"/>
                  </a:lnTo>
                  <a:lnTo>
                    <a:pt x="3903" y="1896"/>
                  </a:lnTo>
                  <a:lnTo>
                    <a:pt x="3856" y="1783"/>
                  </a:lnTo>
                  <a:lnTo>
                    <a:pt x="3808" y="1710"/>
                  </a:lnTo>
                  <a:lnTo>
                    <a:pt x="3761" y="1710"/>
                  </a:lnTo>
                  <a:lnTo>
                    <a:pt x="3713" y="1662"/>
                  </a:lnTo>
                  <a:lnTo>
                    <a:pt x="3665" y="1958"/>
                  </a:lnTo>
                  <a:lnTo>
                    <a:pt x="3618" y="1924"/>
                  </a:lnTo>
                  <a:lnTo>
                    <a:pt x="3570" y="1924"/>
                  </a:lnTo>
                  <a:lnTo>
                    <a:pt x="3523" y="2268"/>
                  </a:lnTo>
                  <a:lnTo>
                    <a:pt x="3475" y="1661"/>
                  </a:lnTo>
                  <a:lnTo>
                    <a:pt x="3428" y="1661"/>
                  </a:lnTo>
                  <a:lnTo>
                    <a:pt x="3380" y="1620"/>
                  </a:lnTo>
                  <a:lnTo>
                    <a:pt x="3333" y="1973"/>
                  </a:lnTo>
                  <a:lnTo>
                    <a:pt x="3285" y="1929"/>
                  </a:lnTo>
                  <a:lnTo>
                    <a:pt x="3237" y="1929"/>
                  </a:lnTo>
                  <a:lnTo>
                    <a:pt x="3190" y="2258"/>
                  </a:lnTo>
                  <a:lnTo>
                    <a:pt x="3142" y="1684"/>
                  </a:lnTo>
                  <a:lnTo>
                    <a:pt x="3095" y="1684"/>
                  </a:lnTo>
                  <a:lnTo>
                    <a:pt x="3047" y="1636"/>
                  </a:lnTo>
                  <a:lnTo>
                    <a:pt x="3000" y="1962"/>
                  </a:lnTo>
                  <a:lnTo>
                    <a:pt x="2952" y="1925"/>
                  </a:lnTo>
                  <a:lnTo>
                    <a:pt x="2903" y="1925"/>
                  </a:lnTo>
                  <a:lnTo>
                    <a:pt x="2856" y="2269"/>
                  </a:lnTo>
                  <a:lnTo>
                    <a:pt x="2808" y="1688"/>
                  </a:lnTo>
                  <a:lnTo>
                    <a:pt x="2761" y="1688"/>
                  </a:lnTo>
                  <a:lnTo>
                    <a:pt x="2713" y="1634"/>
                  </a:lnTo>
                  <a:lnTo>
                    <a:pt x="2666" y="1868"/>
                  </a:lnTo>
                  <a:lnTo>
                    <a:pt x="2618" y="1868"/>
                  </a:lnTo>
                  <a:lnTo>
                    <a:pt x="2571" y="1758"/>
                  </a:lnTo>
                  <a:lnTo>
                    <a:pt x="2523" y="1704"/>
                  </a:lnTo>
                  <a:lnTo>
                    <a:pt x="2475" y="1704"/>
                  </a:lnTo>
                  <a:lnTo>
                    <a:pt x="2428" y="1636"/>
                  </a:lnTo>
                  <a:lnTo>
                    <a:pt x="2380" y="1875"/>
                  </a:lnTo>
                  <a:lnTo>
                    <a:pt x="2333" y="1875"/>
                  </a:lnTo>
                  <a:lnTo>
                    <a:pt x="2285" y="1757"/>
                  </a:lnTo>
                  <a:lnTo>
                    <a:pt x="2238" y="1719"/>
                  </a:lnTo>
                  <a:lnTo>
                    <a:pt x="2190" y="1719"/>
                  </a:lnTo>
                  <a:lnTo>
                    <a:pt x="2142" y="1671"/>
                  </a:lnTo>
                  <a:lnTo>
                    <a:pt x="2095" y="1951"/>
                  </a:lnTo>
                  <a:lnTo>
                    <a:pt x="2047" y="1919"/>
                  </a:lnTo>
                  <a:lnTo>
                    <a:pt x="2000" y="1919"/>
                  </a:lnTo>
                  <a:lnTo>
                    <a:pt x="1952" y="2272"/>
                  </a:lnTo>
                  <a:lnTo>
                    <a:pt x="1905" y="1684"/>
                  </a:lnTo>
                  <a:lnTo>
                    <a:pt x="1857" y="1684"/>
                  </a:lnTo>
                  <a:lnTo>
                    <a:pt x="1810" y="1645"/>
                  </a:lnTo>
                  <a:lnTo>
                    <a:pt x="1761" y="1886"/>
                  </a:lnTo>
                  <a:lnTo>
                    <a:pt x="1713" y="1886"/>
                  </a:lnTo>
                  <a:lnTo>
                    <a:pt x="1666" y="1783"/>
                  </a:lnTo>
                  <a:lnTo>
                    <a:pt x="1618" y="1766"/>
                  </a:lnTo>
                  <a:lnTo>
                    <a:pt x="1571" y="1766"/>
                  </a:lnTo>
                  <a:lnTo>
                    <a:pt x="1523" y="1705"/>
                  </a:lnTo>
                  <a:lnTo>
                    <a:pt x="1476" y="1870"/>
                  </a:lnTo>
                  <a:lnTo>
                    <a:pt x="1428" y="1870"/>
                  </a:lnTo>
                  <a:lnTo>
                    <a:pt x="1380" y="1766"/>
                  </a:lnTo>
                  <a:lnTo>
                    <a:pt x="1333" y="1784"/>
                  </a:lnTo>
                  <a:lnTo>
                    <a:pt x="1285" y="1784"/>
                  </a:lnTo>
                  <a:lnTo>
                    <a:pt x="1238" y="1717"/>
                  </a:lnTo>
                  <a:lnTo>
                    <a:pt x="1190" y="1910"/>
                  </a:lnTo>
                  <a:lnTo>
                    <a:pt x="1143" y="1910"/>
                  </a:lnTo>
                  <a:lnTo>
                    <a:pt x="1095" y="1910"/>
                  </a:lnTo>
                  <a:lnTo>
                    <a:pt x="1048" y="2071"/>
                  </a:lnTo>
                  <a:lnTo>
                    <a:pt x="1000" y="2071"/>
                  </a:lnTo>
                  <a:lnTo>
                    <a:pt x="952" y="1969"/>
                  </a:lnTo>
                  <a:lnTo>
                    <a:pt x="905" y="1489"/>
                  </a:lnTo>
                  <a:lnTo>
                    <a:pt x="857" y="1489"/>
                  </a:lnTo>
                  <a:lnTo>
                    <a:pt x="810" y="1489"/>
                  </a:lnTo>
                  <a:lnTo>
                    <a:pt x="762" y="1904"/>
                  </a:lnTo>
                  <a:lnTo>
                    <a:pt x="715" y="1904"/>
                  </a:lnTo>
                  <a:lnTo>
                    <a:pt x="667" y="1790"/>
                  </a:lnTo>
                  <a:lnTo>
                    <a:pt x="620" y="1693"/>
                  </a:lnTo>
                  <a:lnTo>
                    <a:pt x="571" y="1693"/>
                  </a:lnTo>
                  <a:lnTo>
                    <a:pt x="523" y="1639"/>
                  </a:lnTo>
                  <a:lnTo>
                    <a:pt x="476" y="1849"/>
                  </a:lnTo>
                  <a:lnTo>
                    <a:pt x="428" y="1849"/>
                  </a:lnTo>
                  <a:lnTo>
                    <a:pt x="381" y="1741"/>
                  </a:lnTo>
                  <a:lnTo>
                    <a:pt x="333" y="1779"/>
                  </a:lnTo>
                  <a:lnTo>
                    <a:pt x="286" y="1737"/>
                  </a:lnTo>
                  <a:lnTo>
                    <a:pt x="238" y="1657"/>
                  </a:lnTo>
                  <a:lnTo>
                    <a:pt x="190" y="1965"/>
                  </a:lnTo>
                  <a:lnTo>
                    <a:pt x="143" y="2005"/>
                  </a:lnTo>
                  <a:lnTo>
                    <a:pt x="95" y="2037"/>
                  </a:lnTo>
                  <a:lnTo>
                    <a:pt x="48" y="2313"/>
                  </a:lnTo>
                  <a:lnTo>
                    <a:pt x="0" y="231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2958"/>
                  </a:lnTo>
                  <a:lnTo>
                    <a:pt x="48" y="2958"/>
                  </a:lnTo>
                  <a:lnTo>
                    <a:pt x="95" y="2682"/>
                  </a:lnTo>
                  <a:lnTo>
                    <a:pt x="143" y="2650"/>
                  </a:lnTo>
                  <a:lnTo>
                    <a:pt x="190" y="2610"/>
                  </a:lnTo>
                  <a:lnTo>
                    <a:pt x="238" y="2076"/>
                  </a:lnTo>
                  <a:lnTo>
                    <a:pt x="286" y="2076"/>
                  </a:lnTo>
                  <a:lnTo>
                    <a:pt x="333" y="2076"/>
                  </a:lnTo>
                  <a:lnTo>
                    <a:pt x="381" y="1680"/>
                  </a:lnTo>
                  <a:lnTo>
                    <a:pt x="428" y="1680"/>
                  </a:lnTo>
                  <a:lnTo>
                    <a:pt x="476" y="1680"/>
                  </a:lnTo>
                  <a:lnTo>
                    <a:pt x="523" y="1152"/>
                  </a:lnTo>
                  <a:lnTo>
                    <a:pt x="571" y="1152"/>
                  </a:lnTo>
                  <a:lnTo>
                    <a:pt x="620" y="1152"/>
                  </a:lnTo>
                  <a:lnTo>
                    <a:pt x="667" y="948"/>
                  </a:lnTo>
                  <a:lnTo>
                    <a:pt x="715" y="948"/>
                  </a:lnTo>
                  <a:lnTo>
                    <a:pt x="762" y="948"/>
                  </a:lnTo>
                  <a:lnTo>
                    <a:pt x="810" y="125"/>
                  </a:lnTo>
                  <a:lnTo>
                    <a:pt x="857" y="125"/>
                  </a:lnTo>
                  <a:lnTo>
                    <a:pt x="905" y="125"/>
                  </a:lnTo>
                  <a:lnTo>
                    <a:pt x="952" y="108"/>
                  </a:lnTo>
                  <a:lnTo>
                    <a:pt x="1000" y="108"/>
                  </a:lnTo>
                  <a:lnTo>
                    <a:pt x="1048" y="108"/>
                  </a:lnTo>
                  <a:lnTo>
                    <a:pt x="1095" y="26"/>
                  </a:lnTo>
                  <a:lnTo>
                    <a:pt x="1143" y="26"/>
                  </a:lnTo>
                  <a:lnTo>
                    <a:pt x="1190" y="26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20"/>
                  </a:lnTo>
                  <a:lnTo>
                    <a:pt x="1428" y="30"/>
                  </a:lnTo>
                  <a:lnTo>
                    <a:pt x="1476" y="35"/>
                  </a:lnTo>
                  <a:lnTo>
                    <a:pt x="1523" y="84"/>
                  </a:lnTo>
                  <a:lnTo>
                    <a:pt x="1571" y="109"/>
                  </a:lnTo>
                  <a:lnTo>
                    <a:pt x="1618" y="109"/>
                  </a:lnTo>
                  <a:lnTo>
                    <a:pt x="1666" y="167"/>
                  </a:lnTo>
                  <a:lnTo>
                    <a:pt x="1713" y="182"/>
                  </a:lnTo>
                  <a:lnTo>
                    <a:pt x="1761" y="182"/>
                  </a:lnTo>
                  <a:lnTo>
                    <a:pt x="1810" y="121"/>
                  </a:lnTo>
                  <a:lnTo>
                    <a:pt x="1857" y="142"/>
                  </a:lnTo>
                  <a:lnTo>
                    <a:pt x="1905" y="142"/>
                  </a:lnTo>
                  <a:lnTo>
                    <a:pt x="1952" y="218"/>
                  </a:lnTo>
                  <a:lnTo>
                    <a:pt x="2000" y="97"/>
                  </a:lnTo>
                  <a:lnTo>
                    <a:pt x="2047" y="97"/>
                  </a:lnTo>
                  <a:lnTo>
                    <a:pt x="2095" y="172"/>
                  </a:lnTo>
                  <a:lnTo>
                    <a:pt x="2142" y="56"/>
                  </a:lnTo>
                  <a:lnTo>
                    <a:pt x="2190" y="56"/>
                  </a:lnTo>
                  <a:lnTo>
                    <a:pt x="2238" y="90"/>
                  </a:lnTo>
                  <a:lnTo>
                    <a:pt x="2285" y="73"/>
                  </a:lnTo>
                  <a:lnTo>
                    <a:pt x="2333" y="73"/>
                  </a:lnTo>
                  <a:lnTo>
                    <a:pt x="2380" y="102"/>
                  </a:lnTo>
                  <a:lnTo>
                    <a:pt x="2428" y="63"/>
                  </a:lnTo>
                  <a:lnTo>
                    <a:pt x="2475" y="63"/>
                  </a:lnTo>
                  <a:lnTo>
                    <a:pt x="2523" y="146"/>
                  </a:lnTo>
                  <a:lnTo>
                    <a:pt x="2571" y="134"/>
                  </a:lnTo>
                  <a:lnTo>
                    <a:pt x="2618" y="134"/>
                  </a:lnTo>
                  <a:lnTo>
                    <a:pt x="2666" y="230"/>
                  </a:lnTo>
                  <a:lnTo>
                    <a:pt x="2713" y="104"/>
                  </a:lnTo>
                  <a:lnTo>
                    <a:pt x="2761" y="104"/>
                  </a:lnTo>
                  <a:lnTo>
                    <a:pt x="2808" y="162"/>
                  </a:lnTo>
                  <a:lnTo>
                    <a:pt x="2856" y="173"/>
                  </a:lnTo>
                  <a:lnTo>
                    <a:pt x="2903" y="73"/>
                  </a:lnTo>
                  <a:lnTo>
                    <a:pt x="2952" y="133"/>
                  </a:lnTo>
                  <a:lnTo>
                    <a:pt x="3000" y="141"/>
                  </a:lnTo>
                  <a:lnTo>
                    <a:pt x="3047" y="51"/>
                  </a:lnTo>
                  <a:lnTo>
                    <a:pt x="3095" y="72"/>
                  </a:lnTo>
                  <a:lnTo>
                    <a:pt x="3142" y="73"/>
                  </a:lnTo>
                  <a:lnTo>
                    <a:pt x="3190" y="71"/>
                  </a:lnTo>
                  <a:lnTo>
                    <a:pt x="3237" y="53"/>
                  </a:lnTo>
                  <a:lnTo>
                    <a:pt x="3285" y="82"/>
                  </a:lnTo>
                  <a:lnTo>
                    <a:pt x="3333" y="92"/>
                  </a:lnTo>
                  <a:lnTo>
                    <a:pt x="3380" y="29"/>
                  </a:lnTo>
                  <a:lnTo>
                    <a:pt x="3428" y="87"/>
                  </a:lnTo>
                  <a:lnTo>
                    <a:pt x="3475" y="101"/>
                  </a:lnTo>
                  <a:lnTo>
                    <a:pt x="3523" y="98"/>
                  </a:lnTo>
                  <a:lnTo>
                    <a:pt x="3570" y="128"/>
                  </a:lnTo>
                  <a:lnTo>
                    <a:pt x="3618" y="139"/>
                  </a:lnTo>
                  <a:lnTo>
                    <a:pt x="3665" y="139"/>
                  </a:lnTo>
                  <a:lnTo>
                    <a:pt x="3713" y="132"/>
                  </a:lnTo>
                  <a:lnTo>
                    <a:pt x="3761" y="151"/>
                  </a:lnTo>
                  <a:lnTo>
                    <a:pt x="3808" y="151"/>
                  </a:lnTo>
                  <a:lnTo>
                    <a:pt x="3856" y="210"/>
                  </a:lnTo>
                  <a:lnTo>
                    <a:pt x="3903" y="224"/>
                  </a:lnTo>
                  <a:lnTo>
                    <a:pt x="3951" y="224"/>
                  </a:lnTo>
                  <a:lnTo>
                    <a:pt x="3998" y="192"/>
                  </a:lnTo>
                  <a:lnTo>
                    <a:pt x="4046" y="194"/>
                  </a:lnTo>
                  <a:lnTo>
                    <a:pt x="4094" y="194"/>
                  </a:lnTo>
                  <a:lnTo>
                    <a:pt x="4142" y="199"/>
                  </a:lnTo>
                  <a:lnTo>
                    <a:pt x="4190" y="134"/>
                  </a:lnTo>
                  <a:lnTo>
                    <a:pt x="4237" y="143"/>
                  </a:lnTo>
                  <a:lnTo>
                    <a:pt x="4285" y="143"/>
                  </a:lnTo>
                  <a:lnTo>
                    <a:pt x="4332" y="101"/>
                  </a:lnTo>
                  <a:lnTo>
                    <a:pt x="4380" y="105"/>
                  </a:lnTo>
                  <a:lnTo>
                    <a:pt x="4427" y="105"/>
                  </a:lnTo>
                  <a:lnTo>
                    <a:pt x="4475" y="112"/>
                  </a:lnTo>
                  <a:lnTo>
                    <a:pt x="4523" y="79"/>
                  </a:lnTo>
                  <a:lnTo>
                    <a:pt x="4570" y="83"/>
                  </a:lnTo>
                  <a:lnTo>
                    <a:pt x="4618" y="83"/>
                  </a:lnTo>
                  <a:lnTo>
                    <a:pt x="4665" y="122"/>
                  </a:lnTo>
                  <a:lnTo>
                    <a:pt x="4713" y="123"/>
                  </a:lnTo>
                  <a:lnTo>
                    <a:pt x="4713" y="1165"/>
                  </a:lnTo>
                  <a:lnTo>
                    <a:pt x="4665" y="1136"/>
                  </a:lnTo>
                  <a:lnTo>
                    <a:pt x="4618" y="1571"/>
                  </a:lnTo>
                  <a:lnTo>
                    <a:pt x="4570" y="1563"/>
                  </a:lnTo>
                  <a:lnTo>
                    <a:pt x="4523" y="1026"/>
                  </a:lnTo>
                  <a:lnTo>
                    <a:pt x="4475" y="1366"/>
                  </a:lnTo>
                  <a:lnTo>
                    <a:pt x="4427" y="1332"/>
                  </a:lnTo>
                  <a:lnTo>
                    <a:pt x="4380" y="1016"/>
                  </a:lnTo>
                  <a:lnTo>
                    <a:pt x="4332" y="1016"/>
                  </a:lnTo>
                  <a:lnTo>
                    <a:pt x="4285" y="1433"/>
                  </a:lnTo>
                  <a:lnTo>
                    <a:pt x="4237" y="1029"/>
                  </a:lnTo>
                  <a:lnTo>
                    <a:pt x="4190" y="1029"/>
                  </a:lnTo>
                  <a:lnTo>
                    <a:pt x="4142" y="1348"/>
                  </a:lnTo>
                  <a:lnTo>
                    <a:pt x="4094" y="1157"/>
                  </a:lnTo>
                  <a:lnTo>
                    <a:pt x="4046" y="1137"/>
                  </a:lnTo>
                  <a:lnTo>
                    <a:pt x="3998" y="1137"/>
                  </a:lnTo>
                  <a:lnTo>
                    <a:pt x="3951" y="1620"/>
                  </a:lnTo>
                  <a:lnTo>
                    <a:pt x="3903" y="1155"/>
                  </a:lnTo>
                  <a:lnTo>
                    <a:pt x="3856" y="1155"/>
                  </a:lnTo>
                  <a:lnTo>
                    <a:pt x="3808" y="1359"/>
                  </a:lnTo>
                  <a:lnTo>
                    <a:pt x="3761" y="1103"/>
                  </a:lnTo>
                  <a:lnTo>
                    <a:pt x="3713" y="1074"/>
                  </a:lnTo>
                  <a:lnTo>
                    <a:pt x="3665" y="1544"/>
                  </a:lnTo>
                  <a:lnTo>
                    <a:pt x="3618" y="1534"/>
                  </a:lnTo>
                  <a:lnTo>
                    <a:pt x="3570" y="1029"/>
                  </a:lnTo>
                  <a:lnTo>
                    <a:pt x="3523" y="1368"/>
                  </a:lnTo>
                  <a:lnTo>
                    <a:pt x="3475" y="1352"/>
                  </a:lnTo>
                  <a:lnTo>
                    <a:pt x="3428" y="1094"/>
                  </a:lnTo>
                  <a:lnTo>
                    <a:pt x="3380" y="1067"/>
                  </a:lnTo>
                  <a:lnTo>
                    <a:pt x="3333" y="1572"/>
                  </a:lnTo>
                  <a:lnTo>
                    <a:pt x="3285" y="1567"/>
                  </a:lnTo>
                  <a:lnTo>
                    <a:pt x="3237" y="1071"/>
                  </a:lnTo>
                  <a:lnTo>
                    <a:pt x="3190" y="1383"/>
                  </a:lnTo>
                  <a:lnTo>
                    <a:pt x="3142" y="1363"/>
                  </a:lnTo>
                  <a:lnTo>
                    <a:pt x="3095" y="1029"/>
                  </a:lnTo>
                  <a:lnTo>
                    <a:pt x="3047" y="1029"/>
                  </a:lnTo>
                  <a:lnTo>
                    <a:pt x="3000" y="1413"/>
                  </a:lnTo>
                  <a:lnTo>
                    <a:pt x="2952" y="972"/>
                  </a:lnTo>
                  <a:lnTo>
                    <a:pt x="2903" y="972"/>
                  </a:lnTo>
                  <a:lnTo>
                    <a:pt x="2856" y="1274"/>
                  </a:lnTo>
                  <a:lnTo>
                    <a:pt x="2808" y="1024"/>
                  </a:lnTo>
                  <a:lnTo>
                    <a:pt x="2761" y="1024"/>
                  </a:lnTo>
                  <a:lnTo>
                    <a:pt x="2713" y="947"/>
                  </a:lnTo>
                  <a:lnTo>
                    <a:pt x="2666" y="1144"/>
                  </a:lnTo>
                  <a:lnTo>
                    <a:pt x="2618" y="1144"/>
                  </a:lnTo>
                  <a:lnTo>
                    <a:pt x="2571" y="1117"/>
                  </a:lnTo>
                  <a:lnTo>
                    <a:pt x="2523" y="1173"/>
                  </a:lnTo>
                  <a:lnTo>
                    <a:pt x="2475" y="1156"/>
                  </a:lnTo>
                  <a:lnTo>
                    <a:pt x="2428" y="1156"/>
                  </a:lnTo>
                  <a:lnTo>
                    <a:pt x="2380" y="1607"/>
                  </a:lnTo>
                  <a:lnTo>
                    <a:pt x="2333" y="1167"/>
                  </a:lnTo>
                  <a:lnTo>
                    <a:pt x="2285" y="1167"/>
                  </a:lnTo>
                  <a:lnTo>
                    <a:pt x="2238" y="1399"/>
                  </a:lnTo>
                  <a:lnTo>
                    <a:pt x="2190" y="1064"/>
                  </a:lnTo>
                  <a:lnTo>
                    <a:pt x="2142" y="1064"/>
                  </a:lnTo>
                  <a:lnTo>
                    <a:pt x="2095" y="1419"/>
                  </a:lnTo>
                  <a:lnTo>
                    <a:pt x="2047" y="1023"/>
                  </a:lnTo>
                  <a:lnTo>
                    <a:pt x="2000" y="1023"/>
                  </a:lnTo>
                  <a:lnTo>
                    <a:pt x="1952" y="1341"/>
                  </a:lnTo>
                  <a:lnTo>
                    <a:pt x="1905" y="1067"/>
                  </a:lnTo>
                  <a:lnTo>
                    <a:pt x="1857" y="1067"/>
                  </a:lnTo>
                  <a:lnTo>
                    <a:pt x="1810" y="1000"/>
                  </a:lnTo>
                  <a:lnTo>
                    <a:pt x="1761" y="1244"/>
                  </a:lnTo>
                  <a:lnTo>
                    <a:pt x="1713" y="1244"/>
                  </a:lnTo>
                  <a:lnTo>
                    <a:pt x="1666" y="1209"/>
                  </a:lnTo>
                  <a:lnTo>
                    <a:pt x="1618" y="1231"/>
                  </a:lnTo>
                  <a:lnTo>
                    <a:pt x="1571" y="1231"/>
                  </a:lnTo>
                  <a:lnTo>
                    <a:pt x="1523" y="1231"/>
                  </a:lnTo>
                  <a:lnTo>
                    <a:pt x="1476" y="1493"/>
                  </a:lnTo>
                  <a:lnTo>
                    <a:pt x="1428" y="1493"/>
                  </a:lnTo>
                  <a:lnTo>
                    <a:pt x="1380" y="1425"/>
                  </a:lnTo>
                  <a:lnTo>
                    <a:pt x="1333" y="1138"/>
                  </a:lnTo>
                  <a:lnTo>
                    <a:pt x="1285" y="1138"/>
                  </a:lnTo>
                  <a:lnTo>
                    <a:pt x="1238" y="1138"/>
                  </a:lnTo>
                  <a:lnTo>
                    <a:pt x="1190" y="1126"/>
                  </a:lnTo>
                  <a:lnTo>
                    <a:pt x="1143" y="1126"/>
                  </a:lnTo>
                  <a:lnTo>
                    <a:pt x="1095" y="1025"/>
                  </a:lnTo>
                  <a:lnTo>
                    <a:pt x="1048" y="979"/>
                  </a:lnTo>
                  <a:lnTo>
                    <a:pt x="1000" y="979"/>
                  </a:lnTo>
                  <a:lnTo>
                    <a:pt x="952" y="937"/>
                  </a:lnTo>
                  <a:lnTo>
                    <a:pt x="905" y="721"/>
                  </a:lnTo>
                  <a:lnTo>
                    <a:pt x="857" y="721"/>
                  </a:lnTo>
                  <a:lnTo>
                    <a:pt x="810" y="645"/>
                  </a:lnTo>
                  <a:lnTo>
                    <a:pt x="762" y="1156"/>
                  </a:lnTo>
                  <a:lnTo>
                    <a:pt x="715" y="1133"/>
                  </a:lnTo>
                  <a:lnTo>
                    <a:pt x="667" y="1087"/>
                  </a:lnTo>
                  <a:lnTo>
                    <a:pt x="620" y="1152"/>
                  </a:lnTo>
                  <a:lnTo>
                    <a:pt x="571" y="1152"/>
                  </a:lnTo>
                  <a:lnTo>
                    <a:pt x="523" y="1152"/>
                  </a:lnTo>
                  <a:lnTo>
                    <a:pt x="476" y="1680"/>
                  </a:lnTo>
                  <a:lnTo>
                    <a:pt x="428" y="1680"/>
                  </a:lnTo>
                  <a:lnTo>
                    <a:pt x="381" y="1680"/>
                  </a:lnTo>
                  <a:lnTo>
                    <a:pt x="333" y="2076"/>
                  </a:lnTo>
                  <a:lnTo>
                    <a:pt x="286" y="2076"/>
                  </a:lnTo>
                  <a:lnTo>
                    <a:pt x="238" y="2076"/>
                  </a:lnTo>
                  <a:lnTo>
                    <a:pt x="190" y="2610"/>
                  </a:lnTo>
                  <a:lnTo>
                    <a:pt x="143" y="2650"/>
                  </a:lnTo>
                  <a:lnTo>
                    <a:pt x="95" y="2682"/>
                  </a:lnTo>
                  <a:lnTo>
                    <a:pt x="4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2958"/>
                  </a:lnTo>
                  <a:lnTo>
                    <a:pt x="48" y="2958"/>
                  </a:lnTo>
                  <a:lnTo>
                    <a:pt x="95" y="2682"/>
                  </a:lnTo>
                  <a:lnTo>
                    <a:pt x="143" y="2650"/>
                  </a:lnTo>
                  <a:lnTo>
                    <a:pt x="190" y="2610"/>
                  </a:lnTo>
                  <a:lnTo>
                    <a:pt x="238" y="2076"/>
                  </a:lnTo>
                  <a:lnTo>
                    <a:pt x="286" y="2076"/>
                  </a:lnTo>
                  <a:lnTo>
                    <a:pt x="333" y="2076"/>
                  </a:lnTo>
                  <a:lnTo>
                    <a:pt x="381" y="1680"/>
                  </a:lnTo>
                  <a:lnTo>
                    <a:pt x="428" y="1680"/>
                  </a:lnTo>
                  <a:lnTo>
                    <a:pt x="476" y="1680"/>
                  </a:lnTo>
                  <a:lnTo>
                    <a:pt x="523" y="1152"/>
                  </a:lnTo>
                  <a:lnTo>
                    <a:pt x="571" y="1152"/>
                  </a:lnTo>
                  <a:lnTo>
                    <a:pt x="620" y="1152"/>
                  </a:lnTo>
                  <a:lnTo>
                    <a:pt x="667" y="948"/>
                  </a:lnTo>
                  <a:lnTo>
                    <a:pt x="715" y="948"/>
                  </a:lnTo>
                  <a:lnTo>
                    <a:pt x="762" y="948"/>
                  </a:lnTo>
                  <a:lnTo>
                    <a:pt x="810" y="125"/>
                  </a:lnTo>
                  <a:lnTo>
                    <a:pt x="857" y="125"/>
                  </a:lnTo>
                  <a:lnTo>
                    <a:pt x="905" y="125"/>
                  </a:lnTo>
                  <a:lnTo>
                    <a:pt x="952" y="108"/>
                  </a:lnTo>
                  <a:lnTo>
                    <a:pt x="1000" y="108"/>
                  </a:lnTo>
                  <a:lnTo>
                    <a:pt x="1048" y="108"/>
                  </a:lnTo>
                  <a:lnTo>
                    <a:pt x="1095" y="26"/>
                  </a:lnTo>
                  <a:lnTo>
                    <a:pt x="1143" y="26"/>
                  </a:lnTo>
                  <a:lnTo>
                    <a:pt x="1190" y="26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123"/>
                  </a:lnTo>
                  <a:lnTo>
                    <a:pt x="4665" y="122"/>
                  </a:lnTo>
                  <a:lnTo>
                    <a:pt x="4618" y="83"/>
                  </a:lnTo>
                  <a:lnTo>
                    <a:pt x="4570" y="83"/>
                  </a:lnTo>
                  <a:lnTo>
                    <a:pt x="4523" y="79"/>
                  </a:lnTo>
                  <a:lnTo>
                    <a:pt x="4475" y="112"/>
                  </a:lnTo>
                  <a:lnTo>
                    <a:pt x="4427" y="105"/>
                  </a:lnTo>
                  <a:lnTo>
                    <a:pt x="4380" y="105"/>
                  </a:lnTo>
                  <a:lnTo>
                    <a:pt x="4332" y="101"/>
                  </a:lnTo>
                  <a:lnTo>
                    <a:pt x="4285" y="143"/>
                  </a:lnTo>
                  <a:lnTo>
                    <a:pt x="4237" y="143"/>
                  </a:lnTo>
                  <a:lnTo>
                    <a:pt x="4190" y="134"/>
                  </a:lnTo>
                  <a:lnTo>
                    <a:pt x="4142" y="199"/>
                  </a:lnTo>
                  <a:lnTo>
                    <a:pt x="4094" y="194"/>
                  </a:lnTo>
                  <a:lnTo>
                    <a:pt x="4046" y="194"/>
                  </a:lnTo>
                  <a:lnTo>
                    <a:pt x="3998" y="192"/>
                  </a:lnTo>
                  <a:lnTo>
                    <a:pt x="3951" y="224"/>
                  </a:lnTo>
                  <a:lnTo>
                    <a:pt x="3903" y="224"/>
                  </a:lnTo>
                  <a:lnTo>
                    <a:pt x="3856" y="210"/>
                  </a:lnTo>
                  <a:lnTo>
                    <a:pt x="3808" y="151"/>
                  </a:lnTo>
                  <a:lnTo>
                    <a:pt x="3761" y="151"/>
                  </a:lnTo>
                  <a:lnTo>
                    <a:pt x="3713" y="132"/>
                  </a:lnTo>
                  <a:lnTo>
                    <a:pt x="3665" y="139"/>
                  </a:lnTo>
                  <a:lnTo>
                    <a:pt x="3618" y="139"/>
                  </a:lnTo>
                  <a:lnTo>
                    <a:pt x="3570" y="128"/>
                  </a:lnTo>
                  <a:lnTo>
                    <a:pt x="3523" y="98"/>
                  </a:lnTo>
                  <a:lnTo>
                    <a:pt x="3475" y="101"/>
                  </a:lnTo>
                  <a:lnTo>
                    <a:pt x="3428" y="87"/>
                  </a:lnTo>
                  <a:lnTo>
                    <a:pt x="3380" y="29"/>
                  </a:lnTo>
                  <a:lnTo>
                    <a:pt x="3333" y="92"/>
                  </a:lnTo>
                  <a:lnTo>
                    <a:pt x="3285" y="82"/>
                  </a:lnTo>
                  <a:lnTo>
                    <a:pt x="3237" y="53"/>
                  </a:lnTo>
                  <a:lnTo>
                    <a:pt x="3190" y="71"/>
                  </a:lnTo>
                  <a:lnTo>
                    <a:pt x="3142" y="73"/>
                  </a:lnTo>
                  <a:lnTo>
                    <a:pt x="3095" y="72"/>
                  </a:lnTo>
                  <a:lnTo>
                    <a:pt x="3047" y="51"/>
                  </a:lnTo>
                  <a:lnTo>
                    <a:pt x="3000" y="141"/>
                  </a:lnTo>
                  <a:lnTo>
                    <a:pt x="2952" y="133"/>
                  </a:lnTo>
                  <a:lnTo>
                    <a:pt x="2903" y="73"/>
                  </a:lnTo>
                  <a:lnTo>
                    <a:pt x="2856" y="173"/>
                  </a:lnTo>
                  <a:lnTo>
                    <a:pt x="2808" y="162"/>
                  </a:lnTo>
                  <a:lnTo>
                    <a:pt x="2761" y="104"/>
                  </a:lnTo>
                  <a:lnTo>
                    <a:pt x="2713" y="104"/>
                  </a:lnTo>
                  <a:lnTo>
                    <a:pt x="2666" y="230"/>
                  </a:lnTo>
                  <a:lnTo>
                    <a:pt x="2618" y="134"/>
                  </a:lnTo>
                  <a:lnTo>
                    <a:pt x="2571" y="134"/>
                  </a:lnTo>
                  <a:lnTo>
                    <a:pt x="2523" y="146"/>
                  </a:lnTo>
                  <a:lnTo>
                    <a:pt x="2475" y="63"/>
                  </a:lnTo>
                  <a:lnTo>
                    <a:pt x="2428" y="63"/>
                  </a:lnTo>
                  <a:lnTo>
                    <a:pt x="2380" y="102"/>
                  </a:lnTo>
                  <a:lnTo>
                    <a:pt x="2333" y="73"/>
                  </a:lnTo>
                  <a:lnTo>
                    <a:pt x="2285" y="73"/>
                  </a:lnTo>
                  <a:lnTo>
                    <a:pt x="2238" y="90"/>
                  </a:lnTo>
                  <a:lnTo>
                    <a:pt x="2190" y="56"/>
                  </a:lnTo>
                  <a:lnTo>
                    <a:pt x="2142" y="56"/>
                  </a:lnTo>
                  <a:lnTo>
                    <a:pt x="2095" y="172"/>
                  </a:lnTo>
                  <a:lnTo>
                    <a:pt x="2047" y="97"/>
                  </a:lnTo>
                  <a:lnTo>
                    <a:pt x="2000" y="97"/>
                  </a:lnTo>
                  <a:lnTo>
                    <a:pt x="1952" y="218"/>
                  </a:lnTo>
                  <a:lnTo>
                    <a:pt x="1905" y="142"/>
                  </a:lnTo>
                  <a:lnTo>
                    <a:pt x="1857" y="142"/>
                  </a:lnTo>
                  <a:lnTo>
                    <a:pt x="1810" y="121"/>
                  </a:lnTo>
                  <a:lnTo>
                    <a:pt x="1761" y="182"/>
                  </a:lnTo>
                  <a:lnTo>
                    <a:pt x="1713" y="182"/>
                  </a:lnTo>
                  <a:lnTo>
                    <a:pt x="1666" y="167"/>
                  </a:lnTo>
                  <a:lnTo>
                    <a:pt x="1618" y="109"/>
                  </a:lnTo>
                  <a:lnTo>
                    <a:pt x="1571" y="109"/>
                  </a:lnTo>
                  <a:lnTo>
                    <a:pt x="1523" y="84"/>
                  </a:lnTo>
                  <a:lnTo>
                    <a:pt x="1476" y="35"/>
                  </a:lnTo>
                  <a:lnTo>
                    <a:pt x="1428" y="30"/>
                  </a:lnTo>
                  <a:lnTo>
                    <a:pt x="1380" y="2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26"/>
                  </a:lnTo>
                  <a:lnTo>
                    <a:pt x="1143" y="26"/>
                  </a:lnTo>
                  <a:lnTo>
                    <a:pt x="1095" y="26"/>
                  </a:lnTo>
                  <a:lnTo>
                    <a:pt x="1048" y="108"/>
                  </a:lnTo>
                  <a:lnTo>
                    <a:pt x="1000" y="108"/>
                  </a:lnTo>
                  <a:lnTo>
                    <a:pt x="952" y="108"/>
                  </a:lnTo>
                  <a:lnTo>
                    <a:pt x="905" y="125"/>
                  </a:lnTo>
                  <a:lnTo>
                    <a:pt x="857" y="125"/>
                  </a:lnTo>
                  <a:lnTo>
                    <a:pt x="810" y="125"/>
                  </a:lnTo>
                  <a:lnTo>
                    <a:pt x="762" y="948"/>
                  </a:lnTo>
                  <a:lnTo>
                    <a:pt x="715" y="948"/>
                  </a:lnTo>
                  <a:lnTo>
                    <a:pt x="667" y="948"/>
                  </a:lnTo>
                  <a:lnTo>
                    <a:pt x="620" y="1152"/>
                  </a:lnTo>
                  <a:lnTo>
                    <a:pt x="571" y="1152"/>
                  </a:lnTo>
                  <a:lnTo>
                    <a:pt x="523" y="1152"/>
                  </a:lnTo>
                  <a:lnTo>
                    <a:pt x="476" y="1680"/>
                  </a:lnTo>
                  <a:lnTo>
                    <a:pt x="428" y="1680"/>
                  </a:lnTo>
                  <a:lnTo>
                    <a:pt x="381" y="1680"/>
                  </a:lnTo>
                  <a:lnTo>
                    <a:pt x="333" y="2076"/>
                  </a:lnTo>
                  <a:lnTo>
                    <a:pt x="286" y="2076"/>
                  </a:lnTo>
                  <a:lnTo>
                    <a:pt x="238" y="2076"/>
                  </a:lnTo>
                  <a:lnTo>
                    <a:pt x="190" y="2610"/>
                  </a:lnTo>
                  <a:lnTo>
                    <a:pt x="143" y="2650"/>
                  </a:lnTo>
                  <a:lnTo>
                    <a:pt x="95" y="2682"/>
                  </a:lnTo>
                  <a:lnTo>
                    <a:pt x="4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0"/>
                  </a:lnTo>
                  <a:lnTo>
                    <a:pt x="4380" y="0"/>
                  </a:lnTo>
                  <a:lnTo>
                    <a:pt x="4332" y="0"/>
                  </a:lnTo>
                  <a:lnTo>
                    <a:pt x="4285" y="0"/>
                  </a:lnTo>
                  <a:lnTo>
                    <a:pt x="4237" y="0"/>
                  </a:lnTo>
                  <a:lnTo>
                    <a:pt x="4190" y="0"/>
                  </a:lnTo>
                  <a:lnTo>
                    <a:pt x="4142" y="0"/>
                  </a:lnTo>
                  <a:lnTo>
                    <a:pt x="4094" y="0"/>
                  </a:lnTo>
                  <a:lnTo>
                    <a:pt x="4046" y="0"/>
                  </a:lnTo>
                  <a:lnTo>
                    <a:pt x="3998" y="0"/>
                  </a:lnTo>
                  <a:lnTo>
                    <a:pt x="3951" y="0"/>
                  </a:lnTo>
                  <a:lnTo>
                    <a:pt x="3903" y="0"/>
                  </a:lnTo>
                  <a:lnTo>
                    <a:pt x="3856" y="0"/>
                  </a:lnTo>
                  <a:lnTo>
                    <a:pt x="3808" y="0"/>
                  </a:lnTo>
                  <a:lnTo>
                    <a:pt x="3761" y="0"/>
                  </a:lnTo>
                  <a:lnTo>
                    <a:pt x="3713" y="0"/>
                  </a:lnTo>
                  <a:lnTo>
                    <a:pt x="3665" y="0"/>
                  </a:lnTo>
                  <a:lnTo>
                    <a:pt x="3618" y="0"/>
                  </a:lnTo>
                  <a:lnTo>
                    <a:pt x="3570" y="0"/>
                  </a:lnTo>
                  <a:lnTo>
                    <a:pt x="3523" y="0"/>
                  </a:lnTo>
                  <a:lnTo>
                    <a:pt x="3475" y="0"/>
                  </a:lnTo>
                  <a:lnTo>
                    <a:pt x="3428" y="0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26"/>
                  </a:lnTo>
                  <a:lnTo>
                    <a:pt x="1143" y="26"/>
                  </a:lnTo>
                  <a:lnTo>
                    <a:pt x="1095" y="26"/>
                  </a:lnTo>
                  <a:lnTo>
                    <a:pt x="1048" y="108"/>
                  </a:lnTo>
                  <a:lnTo>
                    <a:pt x="1000" y="108"/>
                  </a:lnTo>
                  <a:lnTo>
                    <a:pt x="952" y="108"/>
                  </a:lnTo>
                  <a:lnTo>
                    <a:pt x="905" y="125"/>
                  </a:lnTo>
                  <a:lnTo>
                    <a:pt x="857" y="125"/>
                  </a:lnTo>
                  <a:lnTo>
                    <a:pt x="810" y="125"/>
                  </a:lnTo>
                  <a:lnTo>
                    <a:pt x="762" y="948"/>
                  </a:lnTo>
                  <a:lnTo>
                    <a:pt x="715" y="948"/>
                  </a:lnTo>
                  <a:lnTo>
                    <a:pt x="667" y="948"/>
                  </a:lnTo>
                  <a:lnTo>
                    <a:pt x="620" y="1152"/>
                  </a:lnTo>
                  <a:lnTo>
                    <a:pt x="571" y="1152"/>
                  </a:lnTo>
                  <a:lnTo>
                    <a:pt x="523" y="1152"/>
                  </a:lnTo>
                  <a:lnTo>
                    <a:pt x="476" y="1680"/>
                  </a:lnTo>
                  <a:lnTo>
                    <a:pt x="428" y="1680"/>
                  </a:lnTo>
                  <a:lnTo>
                    <a:pt x="381" y="1680"/>
                  </a:lnTo>
                  <a:lnTo>
                    <a:pt x="333" y="2076"/>
                  </a:lnTo>
                  <a:lnTo>
                    <a:pt x="286" y="2076"/>
                  </a:lnTo>
                  <a:lnTo>
                    <a:pt x="238" y="2076"/>
                  </a:lnTo>
                  <a:lnTo>
                    <a:pt x="190" y="2610"/>
                  </a:lnTo>
                  <a:lnTo>
                    <a:pt x="143" y="2650"/>
                  </a:lnTo>
                  <a:lnTo>
                    <a:pt x="95" y="2682"/>
                  </a:lnTo>
                  <a:lnTo>
                    <a:pt x="4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71600" y="4307040"/>
              <a:ext cx="7481880" cy="1307880"/>
            </a:xfrm>
            <a:custGeom>
              <a:avLst/>
              <a:gdLst/>
              <a:ahLst/>
              <a:rect l="l" t="t" r="r" b="b"/>
              <a:pathLst>
                <a:path w="4713" h="824">
                  <a:moveTo>
                    <a:pt x="0" y="824"/>
                  </a:moveTo>
                  <a:lnTo>
                    <a:pt x="0" y="824"/>
                  </a:lnTo>
                  <a:lnTo>
                    <a:pt x="48" y="824"/>
                  </a:lnTo>
                  <a:lnTo>
                    <a:pt x="95" y="548"/>
                  </a:lnTo>
                  <a:lnTo>
                    <a:pt x="143" y="516"/>
                  </a:lnTo>
                  <a:lnTo>
                    <a:pt x="190" y="476"/>
                  </a:lnTo>
                  <a:lnTo>
                    <a:pt x="238" y="168"/>
                  </a:lnTo>
                  <a:lnTo>
                    <a:pt x="286" y="248"/>
                  </a:lnTo>
                  <a:lnTo>
                    <a:pt x="333" y="290"/>
                  </a:lnTo>
                  <a:lnTo>
                    <a:pt x="381" y="252"/>
                  </a:lnTo>
                  <a:lnTo>
                    <a:pt x="428" y="360"/>
                  </a:lnTo>
                  <a:lnTo>
                    <a:pt x="476" y="360"/>
                  </a:lnTo>
                  <a:lnTo>
                    <a:pt x="523" y="150"/>
                  </a:lnTo>
                  <a:lnTo>
                    <a:pt x="571" y="204"/>
                  </a:lnTo>
                  <a:lnTo>
                    <a:pt x="620" y="204"/>
                  </a:lnTo>
                  <a:lnTo>
                    <a:pt x="667" y="301"/>
                  </a:lnTo>
                  <a:lnTo>
                    <a:pt x="715" y="415"/>
                  </a:lnTo>
                  <a:lnTo>
                    <a:pt x="762" y="415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480"/>
                  </a:lnTo>
                  <a:lnTo>
                    <a:pt x="1000" y="582"/>
                  </a:lnTo>
                  <a:lnTo>
                    <a:pt x="1048" y="582"/>
                  </a:lnTo>
                  <a:lnTo>
                    <a:pt x="1095" y="421"/>
                  </a:lnTo>
                  <a:lnTo>
                    <a:pt x="1143" y="421"/>
                  </a:lnTo>
                  <a:lnTo>
                    <a:pt x="1190" y="421"/>
                  </a:lnTo>
                  <a:lnTo>
                    <a:pt x="1238" y="228"/>
                  </a:lnTo>
                  <a:lnTo>
                    <a:pt x="1285" y="295"/>
                  </a:lnTo>
                  <a:lnTo>
                    <a:pt x="1333" y="295"/>
                  </a:lnTo>
                  <a:lnTo>
                    <a:pt x="1380" y="277"/>
                  </a:lnTo>
                  <a:lnTo>
                    <a:pt x="1428" y="381"/>
                  </a:lnTo>
                  <a:lnTo>
                    <a:pt x="1476" y="381"/>
                  </a:lnTo>
                  <a:lnTo>
                    <a:pt x="1523" y="216"/>
                  </a:lnTo>
                  <a:lnTo>
                    <a:pt x="1571" y="277"/>
                  </a:lnTo>
                  <a:lnTo>
                    <a:pt x="1618" y="277"/>
                  </a:lnTo>
                  <a:lnTo>
                    <a:pt x="1666" y="294"/>
                  </a:lnTo>
                  <a:lnTo>
                    <a:pt x="1713" y="397"/>
                  </a:lnTo>
                  <a:lnTo>
                    <a:pt x="1761" y="397"/>
                  </a:lnTo>
                  <a:lnTo>
                    <a:pt x="1810" y="156"/>
                  </a:lnTo>
                  <a:lnTo>
                    <a:pt x="1857" y="195"/>
                  </a:lnTo>
                  <a:lnTo>
                    <a:pt x="1905" y="195"/>
                  </a:lnTo>
                  <a:lnTo>
                    <a:pt x="1952" y="783"/>
                  </a:lnTo>
                  <a:lnTo>
                    <a:pt x="2000" y="430"/>
                  </a:lnTo>
                  <a:lnTo>
                    <a:pt x="2047" y="430"/>
                  </a:lnTo>
                  <a:lnTo>
                    <a:pt x="2095" y="462"/>
                  </a:lnTo>
                  <a:lnTo>
                    <a:pt x="2142" y="182"/>
                  </a:lnTo>
                  <a:lnTo>
                    <a:pt x="2190" y="230"/>
                  </a:lnTo>
                  <a:lnTo>
                    <a:pt x="2238" y="230"/>
                  </a:lnTo>
                  <a:lnTo>
                    <a:pt x="2285" y="268"/>
                  </a:lnTo>
                  <a:lnTo>
                    <a:pt x="2333" y="386"/>
                  </a:lnTo>
                  <a:lnTo>
                    <a:pt x="2380" y="386"/>
                  </a:lnTo>
                  <a:lnTo>
                    <a:pt x="2428" y="147"/>
                  </a:lnTo>
                  <a:lnTo>
                    <a:pt x="2475" y="215"/>
                  </a:lnTo>
                  <a:lnTo>
                    <a:pt x="2523" y="215"/>
                  </a:lnTo>
                  <a:lnTo>
                    <a:pt x="2571" y="269"/>
                  </a:lnTo>
                  <a:lnTo>
                    <a:pt x="2618" y="379"/>
                  </a:lnTo>
                  <a:lnTo>
                    <a:pt x="2666" y="379"/>
                  </a:lnTo>
                  <a:lnTo>
                    <a:pt x="2713" y="145"/>
                  </a:lnTo>
                  <a:lnTo>
                    <a:pt x="2761" y="199"/>
                  </a:lnTo>
                  <a:lnTo>
                    <a:pt x="2808" y="199"/>
                  </a:lnTo>
                  <a:lnTo>
                    <a:pt x="2856" y="780"/>
                  </a:lnTo>
                  <a:lnTo>
                    <a:pt x="2903" y="436"/>
                  </a:lnTo>
                  <a:lnTo>
                    <a:pt x="2952" y="436"/>
                  </a:lnTo>
                  <a:lnTo>
                    <a:pt x="3000" y="473"/>
                  </a:lnTo>
                  <a:lnTo>
                    <a:pt x="3047" y="147"/>
                  </a:lnTo>
                  <a:lnTo>
                    <a:pt x="3095" y="195"/>
                  </a:lnTo>
                  <a:lnTo>
                    <a:pt x="3142" y="195"/>
                  </a:lnTo>
                  <a:lnTo>
                    <a:pt x="3190" y="769"/>
                  </a:lnTo>
                  <a:lnTo>
                    <a:pt x="3237" y="440"/>
                  </a:lnTo>
                  <a:lnTo>
                    <a:pt x="3285" y="440"/>
                  </a:lnTo>
                  <a:lnTo>
                    <a:pt x="3333" y="484"/>
                  </a:lnTo>
                  <a:lnTo>
                    <a:pt x="3380" y="131"/>
                  </a:lnTo>
                  <a:lnTo>
                    <a:pt x="3428" y="172"/>
                  </a:lnTo>
                  <a:lnTo>
                    <a:pt x="3475" y="172"/>
                  </a:lnTo>
                  <a:lnTo>
                    <a:pt x="3523" y="779"/>
                  </a:lnTo>
                  <a:lnTo>
                    <a:pt x="3570" y="435"/>
                  </a:lnTo>
                  <a:lnTo>
                    <a:pt x="3618" y="435"/>
                  </a:lnTo>
                  <a:lnTo>
                    <a:pt x="3665" y="469"/>
                  </a:lnTo>
                  <a:lnTo>
                    <a:pt x="3713" y="173"/>
                  </a:lnTo>
                  <a:lnTo>
                    <a:pt x="3761" y="221"/>
                  </a:lnTo>
                  <a:lnTo>
                    <a:pt x="3808" y="221"/>
                  </a:lnTo>
                  <a:lnTo>
                    <a:pt x="3856" y="294"/>
                  </a:lnTo>
                  <a:lnTo>
                    <a:pt x="3903" y="407"/>
                  </a:lnTo>
                  <a:lnTo>
                    <a:pt x="3951" y="407"/>
                  </a:lnTo>
                  <a:lnTo>
                    <a:pt x="3998" y="131"/>
                  </a:lnTo>
                  <a:lnTo>
                    <a:pt x="4046" y="191"/>
                  </a:lnTo>
                  <a:lnTo>
                    <a:pt x="4094" y="191"/>
                  </a:lnTo>
                  <a:lnTo>
                    <a:pt x="4142" y="777"/>
                  </a:lnTo>
                  <a:lnTo>
                    <a:pt x="4190" y="435"/>
                  </a:lnTo>
                  <a:lnTo>
                    <a:pt x="4237" y="435"/>
                  </a:lnTo>
                  <a:lnTo>
                    <a:pt x="4285" y="473"/>
                  </a:lnTo>
                  <a:lnTo>
                    <a:pt x="4332" y="169"/>
                  </a:lnTo>
                  <a:lnTo>
                    <a:pt x="4380" y="204"/>
                  </a:lnTo>
                  <a:lnTo>
                    <a:pt x="4427" y="204"/>
                  </a:lnTo>
                  <a:lnTo>
                    <a:pt x="4475" y="778"/>
                  </a:lnTo>
                  <a:lnTo>
                    <a:pt x="4523" y="435"/>
                  </a:lnTo>
                  <a:lnTo>
                    <a:pt x="4570" y="435"/>
                  </a:lnTo>
                  <a:lnTo>
                    <a:pt x="4618" y="470"/>
                  </a:lnTo>
                  <a:lnTo>
                    <a:pt x="4665" y="173"/>
                  </a:lnTo>
                  <a:lnTo>
                    <a:pt x="4713" y="227"/>
                  </a:lnTo>
                  <a:lnTo>
                    <a:pt x="4713" y="824"/>
                  </a:lnTo>
                  <a:lnTo>
                    <a:pt x="4665" y="824"/>
                  </a:lnTo>
                  <a:lnTo>
                    <a:pt x="4618" y="824"/>
                  </a:lnTo>
                  <a:lnTo>
                    <a:pt x="4570" y="824"/>
                  </a:lnTo>
                  <a:lnTo>
                    <a:pt x="4523" y="824"/>
                  </a:lnTo>
                  <a:lnTo>
                    <a:pt x="4475" y="824"/>
                  </a:lnTo>
                  <a:lnTo>
                    <a:pt x="4427" y="824"/>
                  </a:lnTo>
                  <a:lnTo>
                    <a:pt x="4380" y="824"/>
                  </a:lnTo>
                  <a:lnTo>
                    <a:pt x="4332" y="824"/>
                  </a:lnTo>
                  <a:lnTo>
                    <a:pt x="4285" y="824"/>
                  </a:lnTo>
                  <a:lnTo>
                    <a:pt x="4237" y="824"/>
                  </a:lnTo>
                  <a:lnTo>
                    <a:pt x="4190" y="824"/>
                  </a:lnTo>
                  <a:lnTo>
                    <a:pt x="4142" y="824"/>
                  </a:lnTo>
                  <a:lnTo>
                    <a:pt x="4094" y="824"/>
                  </a:lnTo>
                  <a:lnTo>
                    <a:pt x="4046" y="824"/>
                  </a:lnTo>
                  <a:lnTo>
                    <a:pt x="3998" y="824"/>
                  </a:lnTo>
                  <a:lnTo>
                    <a:pt x="3951" y="824"/>
                  </a:lnTo>
                  <a:lnTo>
                    <a:pt x="3903" y="824"/>
                  </a:lnTo>
                  <a:lnTo>
                    <a:pt x="3856" y="824"/>
                  </a:lnTo>
                  <a:lnTo>
                    <a:pt x="3808" y="824"/>
                  </a:lnTo>
                  <a:lnTo>
                    <a:pt x="3761" y="824"/>
                  </a:lnTo>
                  <a:lnTo>
                    <a:pt x="3713" y="824"/>
                  </a:lnTo>
                  <a:lnTo>
                    <a:pt x="3665" y="824"/>
                  </a:lnTo>
                  <a:lnTo>
                    <a:pt x="3618" y="824"/>
                  </a:lnTo>
                  <a:lnTo>
                    <a:pt x="3570" y="824"/>
                  </a:lnTo>
                  <a:lnTo>
                    <a:pt x="3523" y="824"/>
                  </a:lnTo>
                  <a:lnTo>
                    <a:pt x="3475" y="824"/>
                  </a:lnTo>
                  <a:lnTo>
                    <a:pt x="3428" y="824"/>
                  </a:lnTo>
                  <a:lnTo>
                    <a:pt x="3380" y="824"/>
                  </a:lnTo>
                  <a:lnTo>
                    <a:pt x="3333" y="824"/>
                  </a:lnTo>
                  <a:lnTo>
                    <a:pt x="3285" y="824"/>
                  </a:lnTo>
                  <a:lnTo>
                    <a:pt x="3237" y="824"/>
                  </a:lnTo>
                  <a:lnTo>
                    <a:pt x="3190" y="824"/>
                  </a:lnTo>
                  <a:lnTo>
                    <a:pt x="3142" y="824"/>
                  </a:lnTo>
                  <a:lnTo>
                    <a:pt x="3095" y="824"/>
                  </a:lnTo>
                  <a:lnTo>
                    <a:pt x="3047" y="824"/>
                  </a:lnTo>
                  <a:lnTo>
                    <a:pt x="3000" y="824"/>
                  </a:lnTo>
                  <a:lnTo>
                    <a:pt x="2952" y="824"/>
                  </a:lnTo>
                  <a:lnTo>
                    <a:pt x="2903" y="824"/>
                  </a:lnTo>
                  <a:lnTo>
                    <a:pt x="2856" y="824"/>
                  </a:lnTo>
                  <a:lnTo>
                    <a:pt x="2808" y="824"/>
                  </a:lnTo>
                  <a:lnTo>
                    <a:pt x="2761" y="824"/>
                  </a:lnTo>
                  <a:lnTo>
                    <a:pt x="2713" y="824"/>
                  </a:lnTo>
                  <a:lnTo>
                    <a:pt x="2666" y="824"/>
                  </a:lnTo>
                  <a:lnTo>
                    <a:pt x="2618" y="824"/>
                  </a:lnTo>
                  <a:lnTo>
                    <a:pt x="2571" y="824"/>
                  </a:lnTo>
                  <a:lnTo>
                    <a:pt x="2523" y="824"/>
                  </a:lnTo>
                  <a:lnTo>
                    <a:pt x="2475" y="824"/>
                  </a:lnTo>
                  <a:lnTo>
                    <a:pt x="2428" y="824"/>
                  </a:lnTo>
                  <a:lnTo>
                    <a:pt x="2380" y="824"/>
                  </a:lnTo>
                  <a:lnTo>
                    <a:pt x="2333" y="824"/>
                  </a:lnTo>
                  <a:lnTo>
                    <a:pt x="2285" y="824"/>
                  </a:lnTo>
                  <a:lnTo>
                    <a:pt x="2238" y="824"/>
                  </a:lnTo>
                  <a:lnTo>
                    <a:pt x="2190" y="824"/>
                  </a:lnTo>
                  <a:lnTo>
                    <a:pt x="2142" y="824"/>
                  </a:lnTo>
                  <a:lnTo>
                    <a:pt x="2095" y="824"/>
                  </a:lnTo>
                  <a:lnTo>
                    <a:pt x="2047" y="824"/>
                  </a:lnTo>
                  <a:lnTo>
                    <a:pt x="2000" y="824"/>
                  </a:lnTo>
                  <a:lnTo>
                    <a:pt x="1952" y="824"/>
                  </a:lnTo>
                  <a:lnTo>
                    <a:pt x="1905" y="824"/>
                  </a:lnTo>
                  <a:lnTo>
                    <a:pt x="1857" y="824"/>
                  </a:lnTo>
                  <a:lnTo>
                    <a:pt x="1810" y="824"/>
                  </a:lnTo>
                  <a:lnTo>
                    <a:pt x="1761" y="824"/>
                  </a:lnTo>
                  <a:lnTo>
                    <a:pt x="1713" y="824"/>
                  </a:lnTo>
                  <a:lnTo>
                    <a:pt x="1666" y="824"/>
                  </a:lnTo>
                  <a:lnTo>
                    <a:pt x="1618" y="824"/>
                  </a:lnTo>
                  <a:lnTo>
                    <a:pt x="1571" y="824"/>
                  </a:lnTo>
                  <a:lnTo>
                    <a:pt x="1523" y="824"/>
                  </a:lnTo>
                  <a:lnTo>
                    <a:pt x="1476" y="824"/>
                  </a:lnTo>
                  <a:lnTo>
                    <a:pt x="1428" y="824"/>
                  </a:lnTo>
                  <a:lnTo>
                    <a:pt x="1380" y="824"/>
                  </a:lnTo>
                  <a:lnTo>
                    <a:pt x="1333" y="824"/>
                  </a:lnTo>
                  <a:lnTo>
                    <a:pt x="1285" y="824"/>
                  </a:lnTo>
                  <a:lnTo>
                    <a:pt x="1238" y="824"/>
                  </a:lnTo>
                  <a:lnTo>
                    <a:pt x="1190" y="824"/>
                  </a:lnTo>
                  <a:lnTo>
                    <a:pt x="1143" y="824"/>
                  </a:lnTo>
                  <a:lnTo>
                    <a:pt x="1095" y="824"/>
                  </a:lnTo>
                  <a:lnTo>
                    <a:pt x="1048" y="824"/>
                  </a:lnTo>
                  <a:lnTo>
                    <a:pt x="1000" y="824"/>
                  </a:lnTo>
                  <a:lnTo>
                    <a:pt x="952" y="824"/>
                  </a:lnTo>
                  <a:lnTo>
                    <a:pt x="905" y="824"/>
                  </a:lnTo>
                  <a:lnTo>
                    <a:pt x="857" y="824"/>
                  </a:lnTo>
                  <a:lnTo>
                    <a:pt x="810" y="824"/>
                  </a:lnTo>
                  <a:lnTo>
                    <a:pt x="762" y="824"/>
                  </a:lnTo>
                  <a:lnTo>
                    <a:pt x="715" y="824"/>
                  </a:lnTo>
                  <a:lnTo>
                    <a:pt x="667" y="824"/>
                  </a:lnTo>
                  <a:lnTo>
                    <a:pt x="620" y="824"/>
                  </a:lnTo>
                  <a:lnTo>
                    <a:pt x="571" y="824"/>
                  </a:lnTo>
                  <a:lnTo>
                    <a:pt x="523" y="824"/>
                  </a:lnTo>
                  <a:lnTo>
                    <a:pt x="476" y="824"/>
                  </a:lnTo>
                  <a:lnTo>
                    <a:pt x="428" y="824"/>
                  </a:lnTo>
                  <a:lnTo>
                    <a:pt x="381" y="824"/>
                  </a:lnTo>
                  <a:lnTo>
                    <a:pt x="333" y="824"/>
                  </a:lnTo>
                  <a:lnTo>
                    <a:pt x="286" y="824"/>
                  </a:lnTo>
                  <a:lnTo>
                    <a:pt x="238" y="824"/>
                  </a:lnTo>
                  <a:lnTo>
                    <a:pt x="190" y="824"/>
                  </a:lnTo>
                  <a:lnTo>
                    <a:pt x="143" y="824"/>
                  </a:lnTo>
                  <a:lnTo>
                    <a:pt x="95" y="824"/>
                  </a:lnTo>
                  <a:lnTo>
                    <a:pt x="48" y="824"/>
                  </a:lnTo>
                  <a:lnTo>
                    <a:pt x="0" y="8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371600" y="1943280"/>
              <a:ext cx="7481880" cy="3671640"/>
            </a:xfrm>
            <a:custGeom>
              <a:avLst/>
              <a:gdLst/>
              <a:ahLst/>
              <a:rect l="l" t="t" r="r" b="b"/>
              <a:pathLst>
                <a:path w="4713" h="2313">
                  <a:moveTo>
                    <a:pt x="0" y="2313"/>
                  </a:moveTo>
                  <a:lnTo>
                    <a:pt x="0" y="2313"/>
                  </a:lnTo>
                  <a:lnTo>
                    <a:pt x="48" y="2313"/>
                  </a:lnTo>
                  <a:lnTo>
                    <a:pt x="95" y="2037"/>
                  </a:lnTo>
                  <a:lnTo>
                    <a:pt x="143" y="2005"/>
                  </a:lnTo>
                  <a:lnTo>
                    <a:pt x="190" y="1965"/>
                  </a:lnTo>
                  <a:lnTo>
                    <a:pt x="238" y="1431"/>
                  </a:lnTo>
                  <a:lnTo>
                    <a:pt x="286" y="1431"/>
                  </a:lnTo>
                  <a:lnTo>
                    <a:pt x="333" y="1431"/>
                  </a:lnTo>
                  <a:lnTo>
                    <a:pt x="381" y="1035"/>
                  </a:lnTo>
                  <a:lnTo>
                    <a:pt x="428" y="1035"/>
                  </a:lnTo>
                  <a:lnTo>
                    <a:pt x="476" y="1035"/>
                  </a:lnTo>
                  <a:lnTo>
                    <a:pt x="523" y="507"/>
                  </a:lnTo>
                  <a:lnTo>
                    <a:pt x="571" y="507"/>
                  </a:lnTo>
                  <a:lnTo>
                    <a:pt x="620" y="507"/>
                  </a:lnTo>
                  <a:lnTo>
                    <a:pt x="667" y="442"/>
                  </a:lnTo>
                  <a:lnTo>
                    <a:pt x="715" y="488"/>
                  </a:lnTo>
                  <a:lnTo>
                    <a:pt x="762" y="511"/>
                  </a:lnTo>
                  <a:lnTo>
                    <a:pt x="810" y="0"/>
                  </a:lnTo>
                  <a:lnTo>
                    <a:pt x="857" y="76"/>
                  </a:lnTo>
                  <a:lnTo>
                    <a:pt x="905" y="76"/>
                  </a:lnTo>
                  <a:lnTo>
                    <a:pt x="952" y="292"/>
                  </a:lnTo>
                  <a:lnTo>
                    <a:pt x="1000" y="334"/>
                  </a:lnTo>
                  <a:lnTo>
                    <a:pt x="1048" y="334"/>
                  </a:lnTo>
                  <a:lnTo>
                    <a:pt x="1095" y="380"/>
                  </a:lnTo>
                  <a:lnTo>
                    <a:pt x="1143" y="481"/>
                  </a:lnTo>
                  <a:lnTo>
                    <a:pt x="1190" y="481"/>
                  </a:lnTo>
                  <a:lnTo>
                    <a:pt x="1238" y="493"/>
                  </a:lnTo>
                  <a:lnTo>
                    <a:pt x="1285" y="493"/>
                  </a:lnTo>
                  <a:lnTo>
                    <a:pt x="1333" y="493"/>
                  </a:lnTo>
                  <a:lnTo>
                    <a:pt x="1380" y="780"/>
                  </a:lnTo>
                  <a:lnTo>
                    <a:pt x="1428" y="848"/>
                  </a:lnTo>
                  <a:lnTo>
                    <a:pt x="1476" y="848"/>
                  </a:lnTo>
                  <a:lnTo>
                    <a:pt x="1523" y="586"/>
                  </a:lnTo>
                  <a:lnTo>
                    <a:pt x="1571" y="586"/>
                  </a:lnTo>
                  <a:lnTo>
                    <a:pt x="1618" y="586"/>
                  </a:lnTo>
                  <a:lnTo>
                    <a:pt x="1666" y="564"/>
                  </a:lnTo>
                  <a:lnTo>
                    <a:pt x="1713" y="599"/>
                  </a:lnTo>
                  <a:lnTo>
                    <a:pt x="1761" y="599"/>
                  </a:lnTo>
                  <a:lnTo>
                    <a:pt x="1810" y="355"/>
                  </a:lnTo>
                  <a:lnTo>
                    <a:pt x="1857" y="422"/>
                  </a:lnTo>
                  <a:lnTo>
                    <a:pt x="1905" y="422"/>
                  </a:lnTo>
                  <a:lnTo>
                    <a:pt x="1952" y="696"/>
                  </a:lnTo>
                  <a:lnTo>
                    <a:pt x="2000" y="378"/>
                  </a:lnTo>
                  <a:lnTo>
                    <a:pt x="2047" y="378"/>
                  </a:lnTo>
                  <a:lnTo>
                    <a:pt x="2095" y="774"/>
                  </a:lnTo>
                  <a:lnTo>
                    <a:pt x="2142" y="419"/>
                  </a:lnTo>
                  <a:lnTo>
                    <a:pt x="2190" y="419"/>
                  </a:lnTo>
                  <a:lnTo>
                    <a:pt x="2238" y="754"/>
                  </a:lnTo>
                  <a:lnTo>
                    <a:pt x="2285" y="522"/>
                  </a:lnTo>
                  <a:lnTo>
                    <a:pt x="2333" y="522"/>
                  </a:lnTo>
                  <a:lnTo>
                    <a:pt x="2380" y="962"/>
                  </a:lnTo>
                  <a:lnTo>
                    <a:pt x="2428" y="511"/>
                  </a:lnTo>
                  <a:lnTo>
                    <a:pt x="2475" y="511"/>
                  </a:lnTo>
                  <a:lnTo>
                    <a:pt x="2523" y="528"/>
                  </a:lnTo>
                  <a:lnTo>
                    <a:pt x="2571" y="472"/>
                  </a:lnTo>
                  <a:lnTo>
                    <a:pt x="2618" y="499"/>
                  </a:lnTo>
                  <a:lnTo>
                    <a:pt x="2666" y="499"/>
                  </a:lnTo>
                  <a:lnTo>
                    <a:pt x="2713" y="302"/>
                  </a:lnTo>
                  <a:lnTo>
                    <a:pt x="2761" y="379"/>
                  </a:lnTo>
                  <a:lnTo>
                    <a:pt x="2808" y="379"/>
                  </a:lnTo>
                  <a:lnTo>
                    <a:pt x="2856" y="629"/>
                  </a:lnTo>
                  <a:lnTo>
                    <a:pt x="2903" y="327"/>
                  </a:lnTo>
                  <a:lnTo>
                    <a:pt x="2952" y="327"/>
                  </a:lnTo>
                  <a:lnTo>
                    <a:pt x="3000" y="768"/>
                  </a:lnTo>
                  <a:lnTo>
                    <a:pt x="3047" y="384"/>
                  </a:lnTo>
                  <a:lnTo>
                    <a:pt x="3095" y="384"/>
                  </a:lnTo>
                  <a:lnTo>
                    <a:pt x="3142" y="718"/>
                  </a:lnTo>
                  <a:lnTo>
                    <a:pt x="3190" y="738"/>
                  </a:lnTo>
                  <a:lnTo>
                    <a:pt x="3237" y="426"/>
                  </a:lnTo>
                  <a:lnTo>
                    <a:pt x="3285" y="922"/>
                  </a:lnTo>
                  <a:lnTo>
                    <a:pt x="3333" y="927"/>
                  </a:lnTo>
                  <a:lnTo>
                    <a:pt x="3380" y="422"/>
                  </a:lnTo>
                  <a:lnTo>
                    <a:pt x="3428" y="449"/>
                  </a:lnTo>
                  <a:lnTo>
                    <a:pt x="3475" y="707"/>
                  </a:lnTo>
                  <a:lnTo>
                    <a:pt x="3523" y="723"/>
                  </a:lnTo>
                  <a:lnTo>
                    <a:pt x="3570" y="384"/>
                  </a:lnTo>
                  <a:lnTo>
                    <a:pt x="3618" y="889"/>
                  </a:lnTo>
                  <a:lnTo>
                    <a:pt x="3665" y="899"/>
                  </a:lnTo>
                  <a:lnTo>
                    <a:pt x="3713" y="429"/>
                  </a:lnTo>
                  <a:lnTo>
                    <a:pt x="3761" y="458"/>
                  </a:lnTo>
                  <a:lnTo>
                    <a:pt x="3808" y="714"/>
                  </a:lnTo>
                  <a:lnTo>
                    <a:pt x="3856" y="510"/>
                  </a:lnTo>
                  <a:lnTo>
                    <a:pt x="3903" y="510"/>
                  </a:lnTo>
                  <a:lnTo>
                    <a:pt x="3951" y="975"/>
                  </a:lnTo>
                  <a:lnTo>
                    <a:pt x="3998" y="492"/>
                  </a:lnTo>
                  <a:lnTo>
                    <a:pt x="4046" y="492"/>
                  </a:lnTo>
                  <a:lnTo>
                    <a:pt x="4094" y="512"/>
                  </a:lnTo>
                  <a:lnTo>
                    <a:pt x="4142" y="703"/>
                  </a:lnTo>
                  <a:lnTo>
                    <a:pt x="4190" y="384"/>
                  </a:lnTo>
                  <a:lnTo>
                    <a:pt x="4237" y="384"/>
                  </a:lnTo>
                  <a:lnTo>
                    <a:pt x="4285" y="788"/>
                  </a:lnTo>
                  <a:lnTo>
                    <a:pt x="4332" y="371"/>
                  </a:lnTo>
                  <a:lnTo>
                    <a:pt x="4380" y="371"/>
                  </a:lnTo>
                  <a:lnTo>
                    <a:pt x="4427" y="687"/>
                  </a:lnTo>
                  <a:lnTo>
                    <a:pt x="4475" y="721"/>
                  </a:lnTo>
                  <a:lnTo>
                    <a:pt x="4523" y="381"/>
                  </a:lnTo>
                  <a:lnTo>
                    <a:pt x="4570" y="918"/>
                  </a:lnTo>
                  <a:lnTo>
                    <a:pt x="4618" y="926"/>
                  </a:lnTo>
                  <a:lnTo>
                    <a:pt x="4665" y="491"/>
                  </a:lnTo>
                  <a:lnTo>
                    <a:pt x="4713" y="520"/>
                  </a:lnTo>
                  <a:lnTo>
                    <a:pt x="4713" y="1716"/>
                  </a:lnTo>
                  <a:lnTo>
                    <a:pt x="4665" y="1662"/>
                  </a:lnTo>
                  <a:lnTo>
                    <a:pt x="4618" y="1959"/>
                  </a:lnTo>
                  <a:lnTo>
                    <a:pt x="4570" y="1924"/>
                  </a:lnTo>
                  <a:lnTo>
                    <a:pt x="4523" y="1924"/>
                  </a:lnTo>
                  <a:lnTo>
                    <a:pt x="4475" y="2267"/>
                  </a:lnTo>
                  <a:lnTo>
                    <a:pt x="4427" y="1693"/>
                  </a:lnTo>
                  <a:lnTo>
                    <a:pt x="4380" y="1693"/>
                  </a:lnTo>
                  <a:lnTo>
                    <a:pt x="4332" y="1658"/>
                  </a:lnTo>
                  <a:lnTo>
                    <a:pt x="4285" y="1962"/>
                  </a:lnTo>
                  <a:lnTo>
                    <a:pt x="4237" y="1924"/>
                  </a:lnTo>
                  <a:lnTo>
                    <a:pt x="4190" y="1924"/>
                  </a:lnTo>
                  <a:lnTo>
                    <a:pt x="4142" y="2266"/>
                  </a:lnTo>
                  <a:lnTo>
                    <a:pt x="4094" y="1680"/>
                  </a:lnTo>
                  <a:lnTo>
                    <a:pt x="4046" y="1680"/>
                  </a:lnTo>
                  <a:lnTo>
                    <a:pt x="3998" y="1620"/>
                  </a:lnTo>
                  <a:lnTo>
                    <a:pt x="3951" y="1896"/>
                  </a:lnTo>
                  <a:lnTo>
                    <a:pt x="3903" y="1896"/>
                  </a:lnTo>
                  <a:lnTo>
                    <a:pt x="3856" y="1783"/>
                  </a:lnTo>
                  <a:lnTo>
                    <a:pt x="3808" y="1710"/>
                  </a:lnTo>
                  <a:lnTo>
                    <a:pt x="3761" y="1710"/>
                  </a:lnTo>
                  <a:lnTo>
                    <a:pt x="3713" y="1662"/>
                  </a:lnTo>
                  <a:lnTo>
                    <a:pt x="3665" y="1958"/>
                  </a:lnTo>
                  <a:lnTo>
                    <a:pt x="3618" y="1924"/>
                  </a:lnTo>
                  <a:lnTo>
                    <a:pt x="3570" y="1924"/>
                  </a:lnTo>
                  <a:lnTo>
                    <a:pt x="3523" y="2268"/>
                  </a:lnTo>
                  <a:lnTo>
                    <a:pt x="3475" y="1661"/>
                  </a:lnTo>
                  <a:lnTo>
                    <a:pt x="3428" y="1661"/>
                  </a:lnTo>
                  <a:lnTo>
                    <a:pt x="3380" y="1620"/>
                  </a:lnTo>
                  <a:lnTo>
                    <a:pt x="3333" y="1973"/>
                  </a:lnTo>
                  <a:lnTo>
                    <a:pt x="3285" y="1929"/>
                  </a:lnTo>
                  <a:lnTo>
                    <a:pt x="3237" y="1929"/>
                  </a:lnTo>
                  <a:lnTo>
                    <a:pt x="3190" y="2258"/>
                  </a:lnTo>
                  <a:lnTo>
                    <a:pt x="3142" y="1684"/>
                  </a:lnTo>
                  <a:lnTo>
                    <a:pt x="3095" y="1684"/>
                  </a:lnTo>
                  <a:lnTo>
                    <a:pt x="3047" y="1636"/>
                  </a:lnTo>
                  <a:lnTo>
                    <a:pt x="3000" y="1962"/>
                  </a:lnTo>
                  <a:lnTo>
                    <a:pt x="2952" y="1925"/>
                  </a:lnTo>
                  <a:lnTo>
                    <a:pt x="2903" y="1925"/>
                  </a:lnTo>
                  <a:lnTo>
                    <a:pt x="2856" y="2269"/>
                  </a:lnTo>
                  <a:lnTo>
                    <a:pt x="2808" y="1688"/>
                  </a:lnTo>
                  <a:lnTo>
                    <a:pt x="2761" y="1688"/>
                  </a:lnTo>
                  <a:lnTo>
                    <a:pt x="2713" y="1634"/>
                  </a:lnTo>
                  <a:lnTo>
                    <a:pt x="2666" y="1868"/>
                  </a:lnTo>
                  <a:lnTo>
                    <a:pt x="2618" y="1868"/>
                  </a:lnTo>
                  <a:lnTo>
                    <a:pt x="2571" y="1758"/>
                  </a:lnTo>
                  <a:lnTo>
                    <a:pt x="2523" y="1704"/>
                  </a:lnTo>
                  <a:lnTo>
                    <a:pt x="2475" y="1704"/>
                  </a:lnTo>
                  <a:lnTo>
                    <a:pt x="2428" y="1636"/>
                  </a:lnTo>
                  <a:lnTo>
                    <a:pt x="2380" y="1875"/>
                  </a:lnTo>
                  <a:lnTo>
                    <a:pt x="2333" y="1875"/>
                  </a:lnTo>
                  <a:lnTo>
                    <a:pt x="2285" y="1757"/>
                  </a:lnTo>
                  <a:lnTo>
                    <a:pt x="2238" y="1719"/>
                  </a:lnTo>
                  <a:lnTo>
                    <a:pt x="2190" y="1719"/>
                  </a:lnTo>
                  <a:lnTo>
                    <a:pt x="2142" y="1671"/>
                  </a:lnTo>
                  <a:lnTo>
                    <a:pt x="2095" y="1951"/>
                  </a:lnTo>
                  <a:lnTo>
                    <a:pt x="2047" y="1919"/>
                  </a:lnTo>
                  <a:lnTo>
                    <a:pt x="2000" y="1919"/>
                  </a:lnTo>
                  <a:lnTo>
                    <a:pt x="1952" y="2272"/>
                  </a:lnTo>
                  <a:lnTo>
                    <a:pt x="1905" y="1684"/>
                  </a:lnTo>
                  <a:lnTo>
                    <a:pt x="1857" y="1684"/>
                  </a:lnTo>
                  <a:lnTo>
                    <a:pt x="1810" y="1645"/>
                  </a:lnTo>
                  <a:lnTo>
                    <a:pt x="1761" y="1886"/>
                  </a:lnTo>
                  <a:lnTo>
                    <a:pt x="1713" y="1886"/>
                  </a:lnTo>
                  <a:lnTo>
                    <a:pt x="1666" y="1783"/>
                  </a:lnTo>
                  <a:lnTo>
                    <a:pt x="1618" y="1766"/>
                  </a:lnTo>
                  <a:lnTo>
                    <a:pt x="1571" y="1766"/>
                  </a:lnTo>
                  <a:lnTo>
                    <a:pt x="1523" y="1705"/>
                  </a:lnTo>
                  <a:lnTo>
                    <a:pt x="1476" y="1870"/>
                  </a:lnTo>
                  <a:lnTo>
                    <a:pt x="1428" y="1870"/>
                  </a:lnTo>
                  <a:lnTo>
                    <a:pt x="1380" y="1766"/>
                  </a:lnTo>
                  <a:lnTo>
                    <a:pt x="1333" y="1784"/>
                  </a:lnTo>
                  <a:lnTo>
                    <a:pt x="1285" y="1784"/>
                  </a:lnTo>
                  <a:lnTo>
                    <a:pt x="1238" y="1717"/>
                  </a:lnTo>
                  <a:lnTo>
                    <a:pt x="1190" y="1910"/>
                  </a:lnTo>
                  <a:lnTo>
                    <a:pt x="1143" y="1910"/>
                  </a:lnTo>
                  <a:lnTo>
                    <a:pt x="1095" y="1910"/>
                  </a:lnTo>
                  <a:lnTo>
                    <a:pt x="1048" y="2071"/>
                  </a:lnTo>
                  <a:lnTo>
                    <a:pt x="1000" y="2071"/>
                  </a:lnTo>
                  <a:lnTo>
                    <a:pt x="952" y="1969"/>
                  </a:lnTo>
                  <a:lnTo>
                    <a:pt x="905" y="1489"/>
                  </a:lnTo>
                  <a:lnTo>
                    <a:pt x="857" y="1489"/>
                  </a:lnTo>
                  <a:lnTo>
                    <a:pt x="810" y="1489"/>
                  </a:lnTo>
                  <a:lnTo>
                    <a:pt x="762" y="1904"/>
                  </a:lnTo>
                  <a:lnTo>
                    <a:pt x="715" y="1904"/>
                  </a:lnTo>
                  <a:lnTo>
                    <a:pt x="667" y="1790"/>
                  </a:lnTo>
                  <a:lnTo>
                    <a:pt x="620" y="1693"/>
                  </a:lnTo>
                  <a:lnTo>
                    <a:pt x="571" y="1693"/>
                  </a:lnTo>
                  <a:lnTo>
                    <a:pt x="523" y="1639"/>
                  </a:lnTo>
                  <a:lnTo>
                    <a:pt x="476" y="1849"/>
                  </a:lnTo>
                  <a:lnTo>
                    <a:pt x="428" y="1849"/>
                  </a:lnTo>
                  <a:lnTo>
                    <a:pt x="381" y="1741"/>
                  </a:lnTo>
                  <a:lnTo>
                    <a:pt x="333" y="1779"/>
                  </a:lnTo>
                  <a:lnTo>
                    <a:pt x="286" y="1737"/>
                  </a:lnTo>
                  <a:lnTo>
                    <a:pt x="238" y="1657"/>
                  </a:lnTo>
                  <a:lnTo>
                    <a:pt x="190" y="1965"/>
                  </a:lnTo>
                  <a:lnTo>
                    <a:pt x="143" y="2005"/>
                  </a:lnTo>
                  <a:lnTo>
                    <a:pt x="95" y="2037"/>
                  </a:lnTo>
                  <a:lnTo>
                    <a:pt x="48" y="2313"/>
                  </a:lnTo>
                  <a:lnTo>
                    <a:pt x="0" y="23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2958"/>
                  </a:lnTo>
                  <a:lnTo>
                    <a:pt x="48" y="2958"/>
                  </a:lnTo>
                  <a:lnTo>
                    <a:pt x="95" y="2682"/>
                  </a:lnTo>
                  <a:lnTo>
                    <a:pt x="143" y="2650"/>
                  </a:lnTo>
                  <a:lnTo>
                    <a:pt x="190" y="2610"/>
                  </a:lnTo>
                  <a:lnTo>
                    <a:pt x="238" y="2076"/>
                  </a:lnTo>
                  <a:lnTo>
                    <a:pt x="286" y="2076"/>
                  </a:lnTo>
                  <a:lnTo>
                    <a:pt x="333" y="2076"/>
                  </a:lnTo>
                  <a:lnTo>
                    <a:pt x="381" y="1680"/>
                  </a:lnTo>
                  <a:lnTo>
                    <a:pt x="428" y="1680"/>
                  </a:lnTo>
                  <a:lnTo>
                    <a:pt x="476" y="1680"/>
                  </a:lnTo>
                  <a:lnTo>
                    <a:pt x="523" y="1152"/>
                  </a:lnTo>
                  <a:lnTo>
                    <a:pt x="571" y="1152"/>
                  </a:lnTo>
                  <a:lnTo>
                    <a:pt x="620" y="1152"/>
                  </a:lnTo>
                  <a:lnTo>
                    <a:pt x="667" y="948"/>
                  </a:lnTo>
                  <a:lnTo>
                    <a:pt x="715" y="948"/>
                  </a:lnTo>
                  <a:lnTo>
                    <a:pt x="762" y="948"/>
                  </a:lnTo>
                  <a:lnTo>
                    <a:pt x="810" y="125"/>
                  </a:lnTo>
                  <a:lnTo>
                    <a:pt x="857" y="125"/>
                  </a:lnTo>
                  <a:lnTo>
                    <a:pt x="905" y="125"/>
                  </a:lnTo>
                  <a:lnTo>
                    <a:pt x="952" y="108"/>
                  </a:lnTo>
                  <a:lnTo>
                    <a:pt x="1000" y="108"/>
                  </a:lnTo>
                  <a:lnTo>
                    <a:pt x="1048" y="108"/>
                  </a:lnTo>
                  <a:lnTo>
                    <a:pt x="1095" y="26"/>
                  </a:lnTo>
                  <a:lnTo>
                    <a:pt x="1143" y="26"/>
                  </a:lnTo>
                  <a:lnTo>
                    <a:pt x="1190" y="26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20"/>
                  </a:lnTo>
                  <a:lnTo>
                    <a:pt x="1428" y="30"/>
                  </a:lnTo>
                  <a:lnTo>
                    <a:pt x="1476" y="35"/>
                  </a:lnTo>
                  <a:lnTo>
                    <a:pt x="1523" y="84"/>
                  </a:lnTo>
                  <a:lnTo>
                    <a:pt x="1571" y="109"/>
                  </a:lnTo>
                  <a:lnTo>
                    <a:pt x="1618" y="109"/>
                  </a:lnTo>
                  <a:lnTo>
                    <a:pt x="1666" y="167"/>
                  </a:lnTo>
                  <a:lnTo>
                    <a:pt x="1713" y="182"/>
                  </a:lnTo>
                  <a:lnTo>
                    <a:pt x="1761" y="182"/>
                  </a:lnTo>
                  <a:lnTo>
                    <a:pt x="1810" y="121"/>
                  </a:lnTo>
                  <a:lnTo>
                    <a:pt x="1857" y="142"/>
                  </a:lnTo>
                  <a:lnTo>
                    <a:pt x="1905" y="142"/>
                  </a:lnTo>
                  <a:lnTo>
                    <a:pt x="1952" y="218"/>
                  </a:lnTo>
                  <a:lnTo>
                    <a:pt x="2000" y="97"/>
                  </a:lnTo>
                  <a:lnTo>
                    <a:pt x="2047" y="97"/>
                  </a:lnTo>
                  <a:lnTo>
                    <a:pt x="2095" y="172"/>
                  </a:lnTo>
                  <a:lnTo>
                    <a:pt x="2142" y="56"/>
                  </a:lnTo>
                  <a:lnTo>
                    <a:pt x="2190" y="56"/>
                  </a:lnTo>
                  <a:lnTo>
                    <a:pt x="2238" y="90"/>
                  </a:lnTo>
                  <a:lnTo>
                    <a:pt x="2285" y="73"/>
                  </a:lnTo>
                  <a:lnTo>
                    <a:pt x="2333" y="73"/>
                  </a:lnTo>
                  <a:lnTo>
                    <a:pt x="2380" y="102"/>
                  </a:lnTo>
                  <a:lnTo>
                    <a:pt x="2428" y="63"/>
                  </a:lnTo>
                  <a:lnTo>
                    <a:pt x="2475" y="63"/>
                  </a:lnTo>
                  <a:lnTo>
                    <a:pt x="2523" y="146"/>
                  </a:lnTo>
                  <a:lnTo>
                    <a:pt x="2571" y="134"/>
                  </a:lnTo>
                  <a:lnTo>
                    <a:pt x="2618" y="134"/>
                  </a:lnTo>
                  <a:lnTo>
                    <a:pt x="2666" y="230"/>
                  </a:lnTo>
                  <a:lnTo>
                    <a:pt x="2713" y="104"/>
                  </a:lnTo>
                  <a:lnTo>
                    <a:pt x="2761" y="104"/>
                  </a:lnTo>
                  <a:lnTo>
                    <a:pt x="2808" y="162"/>
                  </a:lnTo>
                  <a:lnTo>
                    <a:pt x="2856" y="173"/>
                  </a:lnTo>
                  <a:lnTo>
                    <a:pt x="2903" y="73"/>
                  </a:lnTo>
                  <a:lnTo>
                    <a:pt x="2952" y="133"/>
                  </a:lnTo>
                  <a:lnTo>
                    <a:pt x="3000" y="141"/>
                  </a:lnTo>
                  <a:lnTo>
                    <a:pt x="3047" y="51"/>
                  </a:lnTo>
                  <a:lnTo>
                    <a:pt x="3095" y="72"/>
                  </a:lnTo>
                  <a:lnTo>
                    <a:pt x="3142" y="73"/>
                  </a:lnTo>
                  <a:lnTo>
                    <a:pt x="3190" y="71"/>
                  </a:lnTo>
                  <a:lnTo>
                    <a:pt x="3237" y="53"/>
                  </a:lnTo>
                  <a:lnTo>
                    <a:pt x="3285" y="82"/>
                  </a:lnTo>
                  <a:lnTo>
                    <a:pt x="3333" y="92"/>
                  </a:lnTo>
                  <a:lnTo>
                    <a:pt x="3380" y="29"/>
                  </a:lnTo>
                  <a:lnTo>
                    <a:pt x="3428" y="87"/>
                  </a:lnTo>
                  <a:lnTo>
                    <a:pt x="3475" y="101"/>
                  </a:lnTo>
                  <a:lnTo>
                    <a:pt x="3523" y="98"/>
                  </a:lnTo>
                  <a:lnTo>
                    <a:pt x="3570" y="128"/>
                  </a:lnTo>
                  <a:lnTo>
                    <a:pt x="3618" y="139"/>
                  </a:lnTo>
                  <a:lnTo>
                    <a:pt x="3665" y="139"/>
                  </a:lnTo>
                  <a:lnTo>
                    <a:pt x="3713" y="132"/>
                  </a:lnTo>
                  <a:lnTo>
                    <a:pt x="3761" y="151"/>
                  </a:lnTo>
                  <a:lnTo>
                    <a:pt x="3808" y="151"/>
                  </a:lnTo>
                  <a:lnTo>
                    <a:pt x="3856" y="210"/>
                  </a:lnTo>
                  <a:lnTo>
                    <a:pt x="3903" y="224"/>
                  </a:lnTo>
                  <a:lnTo>
                    <a:pt x="3951" y="224"/>
                  </a:lnTo>
                  <a:lnTo>
                    <a:pt x="3998" y="192"/>
                  </a:lnTo>
                  <a:lnTo>
                    <a:pt x="4046" y="194"/>
                  </a:lnTo>
                  <a:lnTo>
                    <a:pt x="4094" y="194"/>
                  </a:lnTo>
                  <a:lnTo>
                    <a:pt x="4142" y="199"/>
                  </a:lnTo>
                  <a:lnTo>
                    <a:pt x="4190" y="134"/>
                  </a:lnTo>
                  <a:lnTo>
                    <a:pt x="4237" y="143"/>
                  </a:lnTo>
                  <a:lnTo>
                    <a:pt x="4285" y="143"/>
                  </a:lnTo>
                  <a:lnTo>
                    <a:pt x="4332" y="101"/>
                  </a:lnTo>
                  <a:lnTo>
                    <a:pt x="4380" y="105"/>
                  </a:lnTo>
                  <a:lnTo>
                    <a:pt x="4427" y="105"/>
                  </a:lnTo>
                  <a:lnTo>
                    <a:pt x="4475" y="112"/>
                  </a:lnTo>
                  <a:lnTo>
                    <a:pt x="4523" y="79"/>
                  </a:lnTo>
                  <a:lnTo>
                    <a:pt x="4570" y="83"/>
                  </a:lnTo>
                  <a:lnTo>
                    <a:pt x="4618" y="83"/>
                  </a:lnTo>
                  <a:lnTo>
                    <a:pt x="4665" y="122"/>
                  </a:lnTo>
                  <a:lnTo>
                    <a:pt x="4713" y="123"/>
                  </a:lnTo>
                  <a:lnTo>
                    <a:pt x="4713" y="1165"/>
                  </a:lnTo>
                  <a:lnTo>
                    <a:pt x="4665" y="1136"/>
                  </a:lnTo>
                  <a:lnTo>
                    <a:pt x="4618" y="1571"/>
                  </a:lnTo>
                  <a:lnTo>
                    <a:pt x="4570" y="1563"/>
                  </a:lnTo>
                  <a:lnTo>
                    <a:pt x="4523" y="1026"/>
                  </a:lnTo>
                  <a:lnTo>
                    <a:pt x="4475" y="1366"/>
                  </a:lnTo>
                  <a:lnTo>
                    <a:pt x="4427" y="1332"/>
                  </a:lnTo>
                  <a:lnTo>
                    <a:pt x="4380" y="1016"/>
                  </a:lnTo>
                  <a:lnTo>
                    <a:pt x="4332" y="1016"/>
                  </a:lnTo>
                  <a:lnTo>
                    <a:pt x="4285" y="1433"/>
                  </a:lnTo>
                  <a:lnTo>
                    <a:pt x="4237" y="1029"/>
                  </a:lnTo>
                  <a:lnTo>
                    <a:pt x="4190" y="1029"/>
                  </a:lnTo>
                  <a:lnTo>
                    <a:pt x="4142" y="1348"/>
                  </a:lnTo>
                  <a:lnTo>
                    <a:pt x="4094" y="1157"/>
                  </a:lnTo>
                  <a:lnTo>
                    <a:pt x="4046" y="1137"/>
                  </a:lnTo>
                  <a:lnTo>
                    <a:pt x="3998" y="1137"/>
                  </a:lnTo>
                  <a:lnTo>
                    <a:pt x="3951" y="1620"/>
                  </a:lnTo>
                  <a:lnTo>
                    <a:pt x="3903" y="1155"/>
                  </a:lnTo>
                  <a:lnTo>
                    <a:pt x="3856" y="1155"/>
                  </a:lnTo>
                  <a:lnTo>
                    <a:pt x="3808" y="1359"/>
                  </a:lnTo>
                  <a:lnTo>
                    <a:pt x="3761" y="1103"/>
                  </a:lnTo>
                  <a:lnTo>
                    <a:pt x="3713" y="1074"/>
                  </a:lnTo>
                  <a:lnTo>
                    <a:pt x="3665" y="1544"/>
                  </a:lnTo>
                  <a:lnTo>
                    <a:pt x="3618" y="1534"/>
                  </a:lnTo>
                  <a:lnTo>
                    <a:pt x="3570" y="1029"/>
                  </a:lnTo>
                  <a:lnTo>
                    <a:pt x="3523" y="1368"/>
                  </a:lnTo>
                  <a:lnTo>
                    <a:pt x="3475" y="1352"/>
                  </a:lnTo>
                  <a:lnTo>
                    <a:pt x="3428" y="1094"/>
                  </a:lnTo>
                  <a:lnTo>
                    <a:pt x="3380" y="1067"/>
                  </a:lnTo>
                  <a:lnTo>
                    <a:pt x="3333" y="1572"/>
                  </a:lnTo>
                  <a:lnTo>
                    <a:pt x="3285" y="1567"/>
                  </a:lnTo>
                  <a:lnTo>
                    <a:pt x="3237" y="1071"/>
                  </a:lnTo>
                  <a:lnTo>
                    <a:pt x="3190" y="1383"/>
                  </a:lnTo>
                  <a:lnTo>
                    <a:pt x="3142" y="1363"/>
                  </a:lnTo>
                  <a:lnTo>
                    <a:pt x="3095" y="1029"/>
                  </a:lnTo>
                  <a:lnTo>
                    <a:pt x="3047" y="1029"/>
                  </a:lnTo>
                  <a:lnTo>
                    <a:pt x="3000" y="1413"/>
                  </a:lnTo>
                  <a:lnTo>
                    <a:pt x="2952" y="972"/>
                  </a:lnTo>
                  <a:lnTo>
                    <a:pt x="2903" y="972"/>
                  </a:lnTo>
                  <a:lnTo>
                    <a:pt x="2856" y="1274"/>
                  </a:lnTo>
                  <a:lnTo>
                    <a:pt x="2808" y="1024"/>
                  </a:lnTo>
                  <a:lnTo>
                    <a:pt x="2761" y="1024"/>
                  </a:lnTo>
                  <a:lnTo>
                    <a:pt x="2713" y="947"/>
                  </a:lnTo>
                  <a:lnTo>
                    <a:pt x="2666" y="1144"/>
                  </a:lnTo>
                  <a:lnTo>
                    <a:pt x="2618" y="1144"/>
                  </a:lnTo>
                  <a:lnTo>
                    <a:pt x="2571" y="1117"/>
                  </a:lnTo>
                  <a:lnTo>
                    <a:pt x="2523" y="1173"/>
                  </a:lnTo>
                  <a:lnTo>
                    <a:pt x="2475" y="1156"/>
                  </a:lnTo>
                  <a:lnTo>
                    <a:pt x="2428" y="1156"/>
                  </a:lnTo>
                  <a:lnTo>
                    <a:pt x="2380" y="1607"/>
                  </a:lnTo>
                  <a:lnTo>
                    <a:pt x="2333" y="1167"/>
                  </a:lnTo>
                  <a:lnTo>
                    <a:pt x="2285" y="1167"/>
                  </a:lnTo>
                  <a:lnTo>
                    <a:pt x="2238" y="1399"/>
                  </a:lnTo>
                  <a:lnTo>
                    <a:pt x="2190" y="1064"/>
                  </a:lnTo>
                  <a:lnTo>
                    <a:pt x="2142" y="1064"/>
                  </a:lnTo>
                  <a:lnTo>
                    <a:pt x="2095" y="1419"/>
                  </a:lnTo>
                  <a:lnTo>
                    <a:pt x="2047" y="1023"/>
                  </a:lnTo>
                  <a:lnTo>
                    <a:pt x="2000" y="1023"/>
                  </a:lnTo>
                  <a:lnTo>
                    <a:pt x="1952" y="1341"/>
                  </a:lnTo>
                  <a:lnTo>
                    <a:pt x="1905" y="1067"/>
                  </a:lnTo>
                  <a:lnTo>
                    <a:pt x="1857" y="1067"/>
                  </a:lnTo>
                  <a:lnTo>
                    <a:pt x="1810" y="1000"/>
                  </a:lnTo>
                  <a:lnTo>
                    <a:pt x="1761" y="1244"/>
                  </a:lnTo>
                  <a:lnTo>
                    <a:pt x="1713" y="1244"/>
                  </a:lnTo>
                  <a:lnTo>
                    <a:pt x="1666" y="1209"/>
                  </a:lnTo>
                  <a:lnTo>
                    <a:pt x="1618" y="1231"/>
                  </a:lnTo>
                  <a:lnTo>
                    <a:pt x="1571" y="1231"/>
                  </a:lnTo>
                  <a:lnTo>
                    <a:pt x="1523" y="1231"/>
                  </a:lnTo>
                  <a:lnTo>
                    <a:pt x="1476" y="1493"/>
                  </a:lnTo>
                  <a:lnTo>
                    <a:pt x="1428" y="1493"/>
                  </a:lnTo>
                  <a:lnTo>
                    <a:pt x="1380" y="1425"/>
                  </a:lnTo>
                  <a:lnTo>
                    <a:pt x="1333" y="1138"/>
                  </a:lnTo>
                  <a:lnTo>
                    <a:pt x="1285" y="1138"/>
                  </a:lnTo>
                  <a:lnTo>
                    <a:pt x="1238" y="1138"/>
                  </a:lnTo>
                  <a:lnTo>
                    <a:pt x="1190" y="1126"/>
                  </a:lnTo>
                  <a:lnTo>
                    <a:pt x="1143" y="1126"/>
                  </a:lnTo>
                  <a:lnTo>
                    <a:pt x="1095" y="1025"/>
                  </a:lnTo>
                  <a:lnTo>
                    <a:pt x="1048" y="979"/>
                  </a:lnTo>
                  <a:lnTo>
                    <a:pt x="1000" y="979"/>
                  </a:lnTo>
                  <a:lnTo>
                    <a:pt x="952" y="937"/>
                  </a:lnTo>
                  <a:lnTo>
                    <a:pt x="905" y="721"/>
                  </a:lnTo>
                  <a:lnTo>
                    <a:pt x="857" y="721"/>
                  </a:lnTo>
                  <a:lnTo>
                    <a:pt x="810" y="645"/>
                  </a:lnTo>
                  <a:lnTo>
                    <a:pt x="762" y="1156"/>
                  </a:lnTo>
                  <a:lnTo>
                    <a:pt x="715" y="1133"/>
                  </a:lnTo>
                  <a:lnTo>
                    <a:pt x="667" y="1087"/>
                  </a:lnTo>
                  <a:lnTo>
                    <a:pt x="620" y="1152"/>
                  </a:lnTo>
                  <a:lnTo>
                    <a:pt x="571" y="1152"/>
                  </a:lnTo>
                  <a:lnTo>
                    <a:pt x="523" y="1152"/>
                  </a:lnTo>
                  <a:lnTo>
                    <a:pt x="476" y="1680"/>
                  </a:lnTo>
                  <a:lnTo>
                    <a:pt x="428" y="1680"/>
                  </a:lnTo>
                  <a:lnTo>
                    <a:pt x="381" y="1680"/>
                  </a:lnTo>
                  <a:lnTo>
                    <a:pt x="333" y="2076"/>
                  </a:lnTo>
                  <a:lnTo>
                    <a:pt x="286" y="2076"/>
                  </a:lnTo>
                  <a:lnTo>
                    <a:pt x="238" y="2076"/>
                  </a:lnTo>
                  <a:lnTo>
                    <a:pt x="190" y="2610"/>
                  </a:lnTo>
                  <a:lnTo>
                    <a:pt x="143" y="2650"/>
                  </a:lnTo>
                  <a:lnTo>
                    <a:pt x="95" y="2682"/>
                  </a:lnTo>
                  <a:lnTo>
                    <a:pt x="48" y="2958"/>
                  </a:lnTo>
                  <a:lnTo>
                    <a:pt x="0" y="29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2958"/>
                  </a:lnTo>
                  <a:lnTo>
                    <a:pt x="48" y="2958"/>
                  </a:lnTo>
                  <a:lnTo>
                    <a:pt x="95" y="2682"/>
                  </a:lnTo>
                  <a:lnTo>
                    <a:pt x="143" y="2650"/>
                  </a:lnTo>
                  <a:lnTo>
                    <a:pt x="190" y="2610"/>
                  </a:lnTo>
                  <a:lnTo>
                    <a:pt x="238" y="2076"/>
                  </a:lnTo>
                  <a:lnTo>
                    <a:pt x="286" y="2076"/>
                  </a:lnTo>
                  <a:lnTo>
                    <a:pt x="333" y="2076"/>
                  </a:lnTo>
                  <a:lnTo>
                    <a:pt x="381" y="1680"/>
                  </a:lnTo>
                  <a:lnTo>
                    <a:pt x="428" y="1680"/>
                  </a:lnTo>
                  <a:lnTo>
                    <a:pt x="476" y="1680"/>
                  </a:lnTo>
                  <a:lnTo>
                    <a:pt x="523" y="1152"/>
                  </a:lnTo>
                  <a:lnTo>
                    <a:pt x="571" y="1152"/>
                  </a:lnTo>
                  <a:lnTo>
                    <a:pt x="620" y="1152"/>
                  </a:lnTo>
                  <a:lnTo>
                    <a:pt x="667" y="948"/>
                  </a:lnTo>
                  <a:lnTo>
                    <a:pt x="715" y="948"/>
                  </a:lnTo>
                  <a:lnTo>
                    <a:pt x="762" y="948"/>
                  </a:lnTo>
                  <a:lnTo>
                    <a:pt x="810" y="125"/>
                  </a:lnTo>
                  <a:lnTo>
                    <a:pt x="857" y="125"/>
                  </a:lnTo>
                  <a:lnTo>
                    <a:pt x="905" y="125"/>
                  </a:lnTo>
                  <a:lnTo>
                    <a:pt x="952" y="108"/>
                  </a:lnTo>
                  <a:lnTo>
                    <a:pt x="1000" y="108"/>
                  </a:lnTo>
                  <a:lnTo>
                    <a:pt x="1048" y="108"/>
                  </a:lnTo>
                  <a:lnTo>
                    <a:pt x="1095" y="26"/>
                  </a:lnTo>
                  <a:lnTo>
                    <a:pt x="1143" y="26"/>
                  </a:lnTo>
                  <a:lnTo>
                    <a:pt x="1190" y="26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123"/>
                  </a:lnTo>
                  <a:lnTo>
                    <a:pt x="4665" y="122"/>
                  </a:lnTo>
                  <a:lnTo>
                    <a:pt x="4618" y="83"/>
                  </a:lnTo>
                  <a:lnTo>
                    <a:pt x="4570" y="83"/>
                  </a:lnTo>
                  <a:lnTo>
                    <a:pt x="4523" y="79"/>
                  </a:lnTo>
                  <a:lnTo>
                    <a:pt x="4475" y="112"/>
                  </a:lnTo>
                  <a:lnTo>
                    <a:pt x="4427" y="105"/>
                  </a:lnTo>
                  <a:lnTo>
                    <a:pt x="4380" y="105"/>
                  </a:lnTo>
                  <a:lnTo>
                    <a:pt x="4332" y="101"/>
                  </a:lnTo>
                  <a:lnTo>
                    <a:pt x="4285" y="143"/>
                  </a:lnTo>
                  <a:lnTo>
                    <a:pt x="4237" y="143"/>
                  </a:lnTo>
                  <a:lnTo>
                    <a:pt x="4190" y="134"/>
                  </a:lnTo>
                  <a:lnTo>
                    <a:pt x="4142" y="199"/>
                  </a:lnTo>
                  <a:lnTo>
                    <a:pt x="4094" y="194"/>
                  </a:lnTo>
                  <a:lnTo>
                    <a:pt x="4046" y="194"/>
                  </a:lnTo>
                  <a:lnTo>
                    <a:pt x="3998" y="192"/>
                  </a:lnTo>
                  <a:lnTo>
                    <a:pt x="3951" y="224"/>
                  </a:lnTo>
                  <a:lnTo>
                    <a:pt x="3903" y="224"/>
                  </a:lnTo>
                  <a:lnTo>
                    <a:pt x="3856" y="210"/>
                  </a:lnTo>
                  <a:lnTo>
                    <a:pt x="3808" y="151"/>
                  </a:lnTo>
                  <a:lnTo>
                    <a:pt x="3761" y="151"/>
                  </a:lnTo>
                  <a:lnTo>
                    <a:pt x="3713" y="132"/>
                  </a:lnTo>
                  <a:lnTo>
                    <a:pt x="3665" y="139"/>
                  </a:lnTo>
                  <a:lnTo>
                    <a:pt x="3618" y="139"/>
                  </a:lnTo>
                  <a:lnTo>
                    <a:pt x="3570" y="128"/>
                  </a:lnTo>
                  <a:lnTo>
                    <a:pt x="3523" y="98"/>
                  </a:lnTo>
                  <a:lnTo>
                    <a:pt x="3475" y="101"/>
                  </a:lnTo>
                  <a:lnTo>
                    <a:pt x="3428" y="87"/>
                  </a:lnTo>
                  <a:lnTo>
                    <a:pt x="3380" y="29"/>
                  </a:lnTo>
                  <a:lnTo>
                    <a:pt x="3333" y="92"/>
                  </a:lnTo>
                  <a:lnTo>
                    <a:pt x="3285" y="82"/>
                  </a:lnTo>
                  <a:lnTo>
                    <a:pt x="3237" y="53"/>
                  </a:lnTo>
                  <a:lnTo>
                    <a:pt x="3190" y="71"/>
                  </a:lnTo>
                  <a:lnTo>
                    <a:pt x="3142" y="73"/>
                  </a:lnTo>
                  <a:lnTo>
                    <a:pt x="3095" y="72"/>
                  </a:lnTo>
                  <a:lnTo>
                    <a:pt x="3047" y="51"/>
                  </a:lnTo>
                  <a:lnTo>
                    <a:pt x="3000" y="141"/>
                  </a:lnTo>
                  <a:lnTo>
                    <a:pt x="2952" y="133"/>
                  </a:lnTo>
                  <a:lnTo>
                    <a:pt x="2903" y="73"/>
                  </a:lnTo>
                  <a:lnTo>
                    <a:pt x="2856" y="173"/>
                  </a:lnTo>
                  <a:lnTo>
                    <a:pt x="2808" y="162"/>
                  </a:lnTo>
                  <a:lnTo>
                    <a:pt x="2761" y="104"/>
                  </a:lnTo>
                  <a:lnTo>
                    <a:pt x="2713" y="104"/>
                  </a:lnTo>
                  <a:lnTo>
                    <a:pt x="2666" y="230"/>
                  </a:lnTo>
                  <a:lnTo>
                    <a:pt x="2618" y="134"/>
                  </a:lnTo>
                  <a:lnTo>
                    <a:pt x="2571" y="134"/>
                  </a:lnTo>
                  <a:lnTo>
                    <a:pt x="2523" y="146"/>
                  </a:lnTo>
                  <a:lnTo>
                    <a:pt x="2475" y="63"/>
                  </a:lnTo>
                  <a:lnTo>
                    <a:pt x="2428" y="63"/>
                  </a:lnTo>
                  <a:lnTo>
                    <a:pt x="2380" y="102"/>
                  </a:lnTo>
                  <a:lnTo>
                    <a:pt x="2333" y="73"/>
                  </a:lnTo>
                  <a:lnTo>
                    <a:pt x="2285" y="73"/>
                  </a:lnTo>
                  <a:lnTo>
                    <a:pt x="2238" y="90"/>
                  </a:lnTo>
                  <a:lnTo>
                    <a:pt x="2190" y="56"/>
                  </a:lnTo>
                  <a:lnTo>
                    <a:pt x="2142" y="56"/>
                  </a:lnTo>
                  <a:lnTo>
                    <a:pt x="2095" y="172"/>
                  </a:lnTo>
                  <a:lnTo>
                    <a:pt x="2047" y="97"/>
                  </a:lnTo>
                  <a:lnTo>
                    <a:pt x="2000" y="97"/>
                  </a:lnTo>
                  <a:lnTo>
                    <a:pt x="1952" y="218"/>
                  </a:lnTo>
                  <a:lnTo>
                    <a:pt x="1905" y="142"/>
                  </a:lnTo>
                  <a:lnTo>
                    <a:pt x="1857" y="142"/>
                  </a:lnTo>
                  <a:lnTo>
                    <a:pt x="1810" y="121"/>
                  </a:lnTo>
                  <a:lnTo>
                    <a:pt x="1761" y="182"/>
                  </a:lnTo>
                  <a:lnTo>
                    <a:pt x="1713" y="182"/>
                  </a:lnTo>
                  <a:lnTo>
                    <a:pt x="1666" y="167"/>
                  </a:lnTo>
                  <a:lnTo>
                    <a:pt x="1618" y="109"/>
                  </a:lnTo>
                  <a:lnTo>
                    <a:pt x="1571" y="109"/>
                  </a:lnTo>
                  <a:lnTo>
                    <a:pt x="1523" y="84"/>
                  </a:lnTo>
                  <a:lnTo>
                    <a:pt x="1476" y="35"/>
                  </a:lnTo>
                  <a:lnTo>
                    <a:pt x="1428" y="30"/>
                  </a:lnTo>
                  <a:lnTo>
                    <a:pt x="1380" y="2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26"/>
                  </a:lnTo>
                  <a:lnTo>
                    <a:pt x="1143" y="26"/>
                  </a:lnTo>
                  <a:lnTo>
                    <a:pt x="1095" y="26"/>
                  </a:lnTo>
                  <a:lnTo>
                    <a:pt x="1048" y="108"/>
                  </a:lnTo>
                  <a:lnTo>
                    <a:pt x="1000" y="108"/>
                  </a:lnTo>
                  <a:lnTo>
                    <a:pt x="952" y="108"/>
                  </a:lnTo>
                  <a:lnTo>
                    <a:pt x="905" y="125"/>
                  </a:lnTo>
                  <a:lnTo>
                    <a:pt x="857" y="125"/>
                  </a:lnTo>
                  <a:lnTo>
                    <a:pt x="810" y="125"/>
                  </a:lnTo>
                  <a:lnTo>
                    <a:pt x="762" y="948"/>
                  </a:lnTo>
                  <a:lnTo>
                    <a:pt x="715" y="948"/>
                  </a:lnTo>
                  <a:lnTo>
                    <a:pt x="667" y="948"/>
                  </a:lnTo>
                  <a:lnTo>
                    <a:pt x="620" y="1152"/>
                  </a:lnTo>
                  <a:lnTo>
                    <a:pt x="571" y="1152"/>
                  </a:lnTo>
                  <a:lnTo>
                    <a:pt x="523" y="1152"/>
                  </a:lnTo>
                  <a:lnTo>
                    <a:pt x="476" y="1680"/>
                  </a:lnTo>
                  <a:lnTo>
                    <a:pt x="428" y="1680"/>
                  </a:lnTo>
                  <a:lnTo>
                    <a:pt x="381" y="1680"/>
                  </a:lnTo>
                  <a:lnTo>
                    <a:pt x="333" y="2076"/>
                  </a:lnTo>
                  <a:lnTo>
                    <a:pt x="286" y="2076"/>
                  </a:lnTo>
                  <a:lnTo>
                    <a:pt x="238" y="2076"/>
                  </a:lnTo>
                  <a:lnTo>
                    <a:pt x="190" y="2610"/>
                  </a:lnTo>
                  <a:lnTo>
                    <a:pt x="143" y="2650"/>
                  </a:lnTo>
                  <a:lnTo>
                    <a:pt x="95" y="2682"/>
                  </a:lnTo>
                  <a:lnTo>
                    <a:pt x="48" y="2958"/>
                  </a:lnTo>
                  <a:lnTo>
                    <a:pt x="0" y="29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0"/>
                  </a:lnTo>
                  <a:lnTo>
                    <a:pt x="4380" y="0"/>
                  </a:lnTo>
                  <a:lnTo>
                    <a:pt x="4332" y="0"/>
                  </a:lnTo>
                  <a:lnTo>
                    <a:pt x="4285" y="0"/>
                  </a:lnTo>
                  <a:lnTo>
                    <a:pt x="4237" y="0"/>
                  </a:lnTo>
                  <a:lnTo>
                    <a:pt x="4190" y="0"/>
                  </a:lnTo>
                  <a:lnTo>
                    <a:pt x="4142" y="0"/>
                  </a:lnTo>
                  <a:lnTo>
                    <a:pt x="4094" y="0"/>
                  </a:lnTo>
                  <a:lnTo>
                    <a:pt x="4046" y="0"/>
                  </a:lnTo>
                  <a:lnTo>
                    <a:pt x="3998" y="0"/>
                  </a:lnTo>
                  <a:lnTo>
                    <a:pt x="3951" y="0"/>
                  </a:lnTo>
                  <a:lnTo>
                    <a:pt x="3903" y="0"/>
                  </a:lnTo>
                  <a:lnTo>
                    <a:pt x="3856" y="0"/>
                  </a:lnTo>
                  <a:lnTo>
                    <a:pt x="3808" y="0"/>
                  </a:lnTo>
                  <a:lnTo>
                    <a:pt x="3761" y="0"/>
                  </a:lnTo>
                  <a:lnTo>
                    <a:pt x="3713" y="0"/>
                  </a:lnTo>
                  <a:lnTo>
                    <a:pt x="3665" y="0"/>
                  </a:lnTo>
                  <a:lnTo>
                    <a:pt x="3618" y="0"/>
                  </a:lnTo>
                  <a:lnTo>
                    <a:pt x="3570" y="0"/>
                  </a:lnTo>
                  <a:lnTo>
                    <a:pt x="3523" y="0"/>
                  </a:lnTo>
                  <a:lnTo>
                    <a:pt x="3475" y="0"/>
                  </a:lnTo>
                  <a:lnTo>
                    <a:pt x="3428" y="0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26"/>
                  </a:lnTo>
                  <a:lnTo>
                    <a:pt x="1143" y="26"/>
                  </a:lnTo>
                  <a:lnTo>
                    <a:pt x="1095" y="26"/>
                  </a:lnTo>
                  <a:lnTo>
                    <a:pt x="1048" y="108"/>
                  </a:lnTo>
                  <a:lnTo>
                    <a:pt x="1000" y="108"/>
                  </a:lnTo>
                  <a:lnTo>
                    <a:pt x="952" y="108"/>
                  </a:lnTo>
                  <a:lnTo>
                    <a:pt x="905" y="125"/>
                  </a:lnTo>
                  <a:lnTo>
                    <a:pt x="857" y="125"/>
                  </a:lnTo>
                  <a:lnTo>
                    <a:pt x="810" y="125"/>
                  </a:lnTo>
                  <a:lnTo>
                    <a:pt x="762" y="948"/>
                  </a:lnTo>
                  <a:lnTo>
                    <a:pt x="715" y="948"/>
                  </a:lnTo>
                  <a:lnTo>
                    <a:pt x="667" y="948"/>
                  </a:lnTo>
                  <a:lnTo>
                    <a:pt x="620" y="1152"/>
                  </a:lnTo>
                  <a:lnTo>
                    <a:pt x="571" y="1152"/>
                  </a:lnTo>
                  <a:lnTo>
                    <a:pt x="523" y="1152"/>
                  </a:lnTo>
                  <a:lnTo>
                    <a:pt x="476" y="1680"/>
                  </a:lnTo>
                  <a:lnTo>
                    <a:pt x="428" y="1680"/>
                  </a:lnTo>
                  <a:lnTo>
                    <a:pt x="381" y="1680"/>
                  </a:lnTo>
                  <a:lnTo>
                    <a:pt x="333" y="2076"/>
                  </a:lnTo>
                  <a:lnTo>
                    <a:pt x="286" y="2076"/>
                  </a:lnTo>
                  <a:lnTo>
                    <a:pt x="238" y="2076"/>
                  </a:lnTo>
                  <a:lnTo>
                    <a:pt x="190" y="2610"/>
                  </a:lnTo>
                  <a:lnTo>
                    <a:pt x="143" y="2650"/>
                  </a:lnTo>
                  <a:lnTo>
                    <a:pt x="95" y="2682"/>
                  </a:lnTo>
                  <a:lnTo>
                    <a:pt x="48" y="2958"/>
                  </a:lnTo>
                  <a:lnTo>
                    <a:pt x="0" y="29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71600" y="919080"/>
              <a:ext cx="1440" cy="469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31436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14360" y="51451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314360" y="46753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14360" y="42051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314360" y="3736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14360" y="3268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314360" y="2797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314360" y="23288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14360" y="1859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314360" y="1389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14360" y="9190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71600" y="5614920"/>
              <a:ext cx="748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99720" y="5500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93880" y="50324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93880" y="45608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93880" y="40924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93880" y="36226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93880" y="3154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93880" y="2682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93880" y="2214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93880" y="1744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93880" y="1274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90560" y="8049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62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40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63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433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8209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9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575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8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32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71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087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64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842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21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599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7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3533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7310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110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488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29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6200000">
              <a:off x="-102240" y="308376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9760" y="838080"/>
              <a:ext cx="23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ld secondary for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FTING CULTIVATION, 15 persons/k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81080" y="51814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110400" y="3505320"/>
              <a:ext cx="23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low -- pione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182880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ung second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47920" y="1600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1157" name=""/>
            <p:cNvSpPr/>
            <p:nvPr/>
          </p:nvSpPr>
          <p:spPr>
            <a:xfrm>
              <a:off x="1371600" y="917640"/>
              <a:ext cx="748188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71600" y="917640"/>
              <a:ext cx="7481880" cy="46972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71600" y="2600280"/>
              <a:ext cx="7481880" cy="3014640"/>
            </a:xfrm>
            <a:custGeom>
              <a:avLst/>
              <a:gdLst/>
              <a:ahLst/>
              <a:rect l="l" t="t" r="r" b="b"/>
              <a:pathLst>
                <a:path w="4713" h="1899">
                  <a:moveTo>
                    <a:pt x="0" y="1899"/>
                  </a:moveTo>
                  <a:lnTo>
                    <a:pt x="0" y="1899"/>
                  </a:lnTo>
                  <a:lnTo>
                    <a:pt x="48" y="1899"/>
                  </a:lnTo>
                  <a:lnTo>
                    <a:pt x="95" y="1521"/>
                  </a:lnTo>
                  <a:lnTo>
                    <a:pt x="143" y="1521"/>
                  </a:lnTo>
                  <a:lnTo>
                    <a:pt x="190" y="1302"/>
                  </a:lnTo>
                  <a:lnTo>
                    <a:pt x="238" y="944"/>
                  </a:lnTo>
                  <a:lnTo>
                    <a:pt x="286" y="1047"/>
                  </a:lnTo>
                  <a:lnTo>
                    <a:pt x="333" y="1236"/>
                  </a:lnTo>
                  <a:lnTo>
                    <a:pt x="381" y="393"/>
                  </a:lnTo>
                  <a:lnTo>
                    <a:pt x="428" y="718"/>
                  </a:lnTo>
                  <a:lnTo>
                    <a:pt x="476" y="747"/>
                  </a:lnTo>
                  <a:lnTo>
                    <a:pt x="523" y="745"/>
                  </a:lnTo>
                  <a:lnTo>
                    <a:pt x="571" y="1189"/>
                  </a:lnTo>
                  <a:lnTo>
                    <a:pt x="620" y="811"/>
                  </a:lnTo>
                  <a:lnTo>
                    <a:pt x="667" y="547"/>
                  </a:lnTo>
                  <a:lnTo>
                    <a:pt x="715" y="819"/>
                  </a:lnTo>
                  <a:lnTo>
                    <a:pt x="762" y="803"/>
                  </a:lnTo>
                  <a:lnTo>
                    <a:pt x="810" y="439"/>
                  </a:lnTo>
                  <a:lnTo>
                    <a:pt x="857" y="768"/>
                  </a:lnTo>
                  <a:lnTo>
                    <a:pt x="905" y="979"/>
                  </a:lnTo>
                  <a:lnTo>
                    <a:pt x="952" y="40"/>
                  </a:lnTo>
                  <a:lnTo>
                    <a:pt x="1000" y="547"/>
                  </a:lnTo>
                  <a:lnTo>
                    <a:pt x="1048" y="641"/>
                  </a:lnTo>
                  <a:lnTo>
                    <a:pt x="1095" y="286"/>
                  </a:lnTo>
                  <a:lnTo>
                    <a:pt x="1143" y="971"/>
                  </a:lnTo>
                  <a:lnTo>
                    <a:pt x="1190" y="902"/>
                  </a:lnTo>
                  <a:lnTo>
                    <a:pt x="1238" y="117"/>
                  </a:lnTo>
                  <a:lnTo>
                    <a:pt x="1285" y="673"/>
                  </a:lnTo>
                  <a:lnTo>
                    <a:pt x="1333" y="742"/>
                  </a:lnTo>
                  <a:lnTo>
                    <a:pt x="1380" y="179"/>
                  </a:lnTo>
                  <a:lnTo>
                    <a:pt x="1428" y="871"/>
                  </a:lnTo>
                  <a:lnTo>
                    <a:pt x="1476" y="871"/>
                  </a:lnTo>
                  <a:lnTo>
                    <a:pt x="1523" y="80"/>
                  </a:lnTo>
                  <a:lnTo>
                    <a:pt x="1571" y="717"/>
                  </a:lnTo>
                  <a:lnTo>
                    <a:pt x="1618" y="717"/>
                  </a:lnTo>
                  <a:lnTo>
                    <a:pt x="1666" y="220"/>
                  </a:lnTo>
                  <a:lnTo>
                    <a:pt x="1713" y="899"/>
                  </a:lnTo>
                  <a:lnTo>
                    <a:pt x="1761" y="899"/>
                  </a:lnTo>
                  <a:lnTo>
                    <a:pt x="1810" y="24"/>
                  </a:lnTo>
                  <a:lnTo>
                    <a:pt x="1857" y="645"/>
                  </a:lnTo>
                  <a:lnTo>
                    <a:pt x="1905" y="645"/>
                  </a:lnTo>
                  <a:lnTo>
                    <a:pt x="1952" y="284"/>
                  </a:lnTo>
                  <a:lnTo>
                    <a:pt x="2000" y="969"/>
                  </a:lnTo>
                  <a:lnTo>
                    <a:pt x="2047" y="904"/>
                  </a:lnTo>
                  <a:lnTo>
                    <a:pt x="2095" y="87"/>
                  </a:lnTo>
                  <a:lnTo>
                    <a:pt x="2142" y="649"/>
                  </a:lnTo>
                  <a:lnTo>
                    <a:pt x="2190" y="715"/>
                  </a:lnTo>
                  <a:lnTo>
                    <a:pt x="2238" y="191"/>
                  </a:lnTo>
                  <a:lnTo>
                    <a:pt x="2285" y="885"/>
                  </a:lnTo>
                  <a:lnTo>
                    <a:pt x="2333" y="885"/>
                  </a:lnTo>
                  <a:lnTo>
                    <a:pt x="2380" y="59"/>
                  </a:lnTo>
                  <a:lnTo>
                    <a:pt x="2428" y="685"/>
                  </a:lnTo>
                  <a:lnTo>
                    <a:pt x="2475" y="685"/>
                  </a:lnTo>
                  <a:lnTo>
                    <a:pt x="2523" y="236"/>
                  </a:lnTo>
                  <a:lnTo>
                    <a:pt x="2571" y="909"/>
                  </a:lnTo>
                  <a:lnTo>
                    <a:pt x="2618" y="909"/>
                  </a:lnTo>
                  <a:lnTo>
                    <a:pt x="2666" y="52"/>
                  </a:lnTo>
                  <a:lnTo>
                    <a:pt x="2713" y="668"/>
                  </a:lnTo>
                  <a:lnTo>
                    <a:pt x="2761" y="668"/>
                  </a:lnTo>
                  <a:lnTo>
                    <a:pt x="2808" y="254"/>
                  </a:lnTo>
                  <a:lnTo>
                    <a:pt x="2856" y="940"/>
                  </a:lnTo>
                  <a:lnTo>
                    <a:pt x="2903" y="940"/>
                  </a:lnTo>
                  <a:lnTo>
                    <a:pt x="2952" y="0"/>
                  </a:lnTo>
                  <a:lnTo>
                    <a:pt x="3000" y="617"/>
                  </a:lnTo>
                  <a:lnTo>
                    <a:pt x="3047" y="617"/>
                  </a:lnTo>
                  <a:lnTo>
                    <a:pt x="3095" y="283"/>
                  </a:lnTo>
                  <a:lnTo>
                    <a:pt x="3142" y="987"/>
                  </a:lnTo>
                  <a:lnTo>
                    <a:pt x="3190" y="867"/>
                  </a:lnTo>
                  <a:lnTo>
                    <a:pt x="3237" y="205"/>
                  </a:lnTo>
                  <a:lnTo>
                    <a:pt x="3285" y="705"/>
                  </a:lnTo>
                  <a:lnTo>
                    <a:pt x="3333" y="826"/>
                  </a:lnTo>
                  <a:lnTo>
                    <a:pt x="3380" y="90"/>
                  </a:lnTo>
                  <a:lnTo>
                    <a:pt x="3428" y="754"/>
                  </a:lnTo>
                  <a:lnTo>
                    <a:pt x="3475" y="754"/>
                  </a:lnTo>
                  <a:lnTo>
                    <a:pt x="3523" y="164"/>
                  </a:lnTo>
                  <a:lnTo>
                    <a:pt x="3570" y="836"/>
                  </a:lnTo>
                  <a:lnTo>
                    <a:pt x="3618" y="836"/>
                  </a:lnTo>
                  <a:lnTo>
                    <a:pt x="3665" y="87"/>
                  </a:lnTo>
                  <a:lnTo>
                    <a:pt x="3713" y="738"/>
                  </a:lnTo>
                  <a:lnTo>
                    <a:pt x="3761" y="738"/>
                  </a:lnTo>
                  <a:lnTo>
                    <a:pt x="3808" y="200"/>
                  </a:lnTo>
                  <a:lnTo>
                    <a:pt x="3856" y="873"/>
                  </a:lnTo>
                  <a:lnTo>
                    <a:pt x="3903" y="873"/>
                  </a:lnTo>
                  <a:lnTo>
                    <a:pt x="3951" y="50"/>
                  </a:lnTo>
                  <a:lnTo>
                    <a:pt x="3998" y="682"/>
                  </a:lnTo>
                  <a:lnTo>
                    <a:pt x="4046" y="682"/>
                  </a:lnTo>
                  <a:lnTo>
                    <a:pt x="4094" y="249"/>
                  </a:lnTo>
                  <a:lnTo>
                    <a:pt x="4142" y="933"/>
                  </a:lnTo>
                  <a:lnTo>
                    <a:pt x="4190" y="933"/>
                  </a:lnTo>
                  <a:lnTo>
                    <a:pt x="4237" y="15"/>
                  </a:lnTo>
                  <a:lnTo>
                    <a:pt x="4285" y="631"/>
                  </a:lnTo>
                  <a:lnTo>
                    <a:pt x="4332" y="631"/>
                  </a:lnTo>
                  <a:lnTo>
                    <a:pt x="4380" y="305"/>
                  </a:lnTo>
                  <a:lnTo>
                    <a:pt x="4427" y="986"/>
                  </a:lnTo>
                  <a:lnTo>
                    <a:pt x="4475" y="873"/>
                  </a:lnTo>
                  <a:lnTo>
                    <a:pt x="4523" y="181"/>
                  </a:lnTo>
                  <a:lnTo>
                    <a:pt x="4570" y="703"/>
                  </a:lnTo>
                  <a:lnTo>
                    <a:pt x="4618" y="816"/>
                  </a:lnTo>
                  <a:lnTo>
                    <a:pt x="4665" y="121"/>
                  </a:lnTo>
                  <a:lnTo>
                    <a:pt x="4713" y="774"/>
                  </a:lnTo>
                  <a:lnTo>
                    <a:pt x="4713" y="1899"/>
                  </a:lnTo>
                  <a:lnTo>
                    <a:pt x="4665" y="1899"/>
                  </a:lnTo>
                  <a:lnTo>
                    <a:pt x="4618" y="1899"/>
                  </a:lnTo>
                  <a:lnTo>
                    <a:pt x="4570" y="1899"/>
                  </a:lnTo>
                  <a:lnTo>
                    <a:pt x="4523" y="1899"/>
                  </a:lnTo>
                  <a:lnTo>
                    <a:pt x="4475" y="1899"/>
                  </a:lnTo>
                  <a:lnTo>
                    <a:pt x="4427" y="1899"/>
                  </a:lnTo>
                  <a:lnTo>
                    <a:pt x="4380" y="1899"/>
                  </a:lnTo>
                  <a:lnTo>
                    <a:pt x="4332" y="1899"/>
                  </a:lnTo>
                  <a:lnTo>
                    <a:pt x="4285" y="1899"/>
                  </a:lnTo>
                  <a:lnTo>
                    <a:pt x="4237" y="1899"/>
                  </a:lnTo>
                  <a:lnTo>
                    <a:pt x="4190" y="1899"/>
                  </a:lnTo>
                  <a:lnTo>
                    <a:pt x="4142" y="1899"/>
                  </a:lnTo>
                  <a:lnTo>
                    <a:pt x="4094" y="1899"/>
                  </a:lnTo>
                  <a:lnTo>
                    <a:pt x="4046" y="1899"/>
                  </a:lnTo>
                  <a:lnTo>
                    <a:pt x="3998" y="1899"/>
                  </a:lnTo>
                  <a:lnTo>
                    <a:pt x="3951" y="1899"/>
                  </a:lnTo>
                  <a:lnTo>
                    <a:pt x="3903" y="1899"/>
                  </a:lnTo>
                  <a:lnTo>
                    <a:pt x="3856" y="1899"/>
                  </a:lnTo>
                  <a:lnTo>
                    <a:pt x="3808" y="1899"/>
                  </a:lnTo>
                  <a:lnTo>
                    <a:pt x="3761" y="1899"/>
                  </a:lnTo>
                  <a:lnTo>
                    <a:pt x="3713" y="1899"/>
                  </a:lnTo>
                  <a:lnTo>
                    <a:pt x="3665" y="1899"/>
                  </a:lnTo>
                  <a:lnTo>
                    <a:pt x="3618" y="1899"/>
                  </a:lnTo>
                  <a:lnTo>
                    <a:pt x="3570" y="1899"/>
                  </a:lnTo>
                  <a:lnTo>
                    <a:pt x="3523" y="1899"/>
                  </a:lnTo>
                  <a:lnTo>
                    <a:pt x="3475" y="1899"/>
                  </a:lnTo>
                  <a:lnTo>
                    <a:pt x="3428" y="1899"/>
                  </a:lnTo>
                  <a:lnTo>
                    <a:pt x="3380" y="1899"/>
                  </a:lnTo>
                  <a:lnTo>
                    <a:pt x="3333" y="1899"/>
                  </a:lnTo>
                  <a:lnTo>
                    <a:pt x="3285" y="1899"/>
                  </a:lnTo>
                  <a:lnTo>
                    <a:pt x="3237" y="1899"/>
                  </a:lnTo>
                  <a:lnTo>
                    <a:pt x="3190" y="1899"/>
                  </a:lnTo>
                  <a:lnTo>
                    <a:pt x="3142" y="1899"/>
                  </a:lnTo>
                  <a:lnTo>
                    <a:pt x="3095" y="1899"/>
                  </a:lnTo>
                  <a:lnTo>
                    <a:pt x="3047" y="1899"/>
                  </a:lnTo>
                  <a:lnTo>
                    <a:pt x="3000" y="1899"/>
                  </a:lnTo>
                  <a:lnTo>
                    <a:pt x="2952" y="1899"/>
                  </a:lnTo>
                  <a:lnTo>
                    <a:pt x="2903" y="1899"/>
                  </a:lnTo>
                  <a:lnTo>
                    <a:pt x="2856" y="1899"/>
                  </a:lnTo>
                  <a:lnTo>
                    <a:pt x="2808" y="1899"/>
                  </a:lnTo>
                  <a:lnTo>
                    <a:pt x="2761" y="1899"/>
                  </a:lnTo>
                  <a:lnTo>
                    <a:pt x="2713" y="1899"/>
                  </a:lnTo>
                  <a:lnTo>
                    <a:pt x="2666" y="1899"/>
                  </a:lnTo>
                  <a:lnTo>
                    <a:pt x="2618" y="1899"/>
                  </a:lnTo>
                  <a:lnTo>
                    <a:pt x="2571" y="1899"/>
                  </a:lnTo>
                  <a:lnTo>
                    <a:pt x="2523" y="1899"/>
                  </a:lnTo>
                  <a:lnTo>
                    <a:pt x="2475" y="1899"/>
                  </a:lnTo>
                  <a:lnTo>
                    <a:pt x="2428" y="1899"/>
                  </a:lnTo>
                  <a:lnTo>
                    <a:pt x="2380" y="1899"/>
                  </a:lnTo>
                  <a:lnTo>
                    <a:pt x="2333" y="1899"/>
                  </a:lnTo>
                  <a:lnTo>
                    <a:pt x="2285" y="1899"/>
                  </a:lnTo>
                  <a:lnTo>
                    <a:pt x="2238" y="1899"/>
                  </a:lnTo>
                  <a:lnTo>
                    <a:pt x="2190" y="1899"/>
                  </a:lnTo>
                  <a:lnTo>
                    <a:pt x="2142" y="1899"/>
                  </a:lnTo>
                  <a:lnTo>
                    <a:pt x="2095" y="1899"/>
                  </a:lnTo>
                  <a:lnTo>
                    <a:pt x="2047" y="1899"/>
                  </a:lnTo>
                  <a:lnTo>
                    <a:pt x="2000" y="1899"/>
                  </a:lnTo>
                  <a:lnTo>
                    <a:pt x="1952" y="1899"/>
                  </a:lnTo>
                  <a:lnTo>
                    <a:pt x="1905" y="1899"/>
                  </a:lnTo>
                  <a:lnTo>
                    <a:pt x="1857" y="1899"/>
                  </a:lnTo>
                  <a:lnTo>
                    <a:pt x="1810" y="1899"/>
                  </a:lnTo>
                  <a:lnTo>
                    <a:pt x="1761" y="1899"/>
                  </a:lnTo>
                  <a:lnTo>
                    <a:pt x="1713" y="1899"/>
                  </a:lnTo>
                  <a:lnTo>
                    <a:pt x="1666" y="1899"/>
                  </a:lnTo>
                  <a:lnTo>
                    <a:pt x="1618" y="1899"/>
                  </a:lnTo>
                  <a:lnTo>
                    <a:pt x="1571" y="1899"/>
                  </a:lnTo>
                  <a:lnTo>
                    <a:pt x="1523" y="1899"/>
                  </a:lnTo>
                  <a:lnTo>
                    <a:pt x="1476" y="1899"/>
                  </a:lnTo>
                  <a:lnTo>
                    <a:pt x="1428" y="1899"/>
                  </a:lnTo>
                  <a:lnTo>
                    <a:pt x="1380" y="1899"/>
                  </a:lnTo>
                  <a:lnTo>
                    <a:pt x="1333" y="1899"/>
                  </a:lnTo>
                  <a:lnTo>
                    <a:pt x="1285" y="1899"/>
                  </a:lnTo>
                  <a:lnTo>
                    <a:pt x="1238" y="1899"/>
                  </a:lnTo>
                  <a:lnTo>
                    <a:pt x="1190" y="1899"/>
                  </a:lnTo>
                  <a:lnTo>
                    <a:pt x="1143" y="1899"/>
                  </a:lnTo>
                  <a:lnTo>
                    <a:pt x="1095" y="1899"/>
                  </a:lnTo>
                  <a:lnTo>
                    <a:pt x="1048" y="1899"/>
                  </a:lnTo>
                  <a:lnTo>
                    <a:pt x="1000" y="1899"/>
                  </a:lnTo>
                  <a:lnTo>
                    <a:pt x="952" y="1899"/>
                  </a:lnTo>
                  <a:lnTo>
                    <a:pt x="905" y="1899"/>
                  </a:lnTo>
                  <a:lnTo>
                    <a:pt x="857" y="1899"/>
                  </a:lnTo>
                  <a:lnTo>
                    <a:pt x="810" y="1899"/>
                  </a:lnTo>
                  <a:lnTo>
                    <a:pt x="762" y="1899"/>
                  </a:lnTo>
                  <a:lnTo>
                    <a:pt x="715" y="1899"/>
                  </a:lnTo>
                  <a:lnTo>
                    <a:pt x="667" y="1899"/>
                  </a:lnTo>
                  <a:lnTo>
                    <a:pt x="620" y="1899"/>
                  </a:lnTo>
                  <a:lnTo>
                    <a:pt x="571" y="1899"/>
                  </a:lnTo>
                  <a:lnTo>
                    <a:pt x="523" y="1899"/>
                  </a:lnTo>
                  <a:lnTo>
                    <a:pt x="476" y="1899"/>
                  </a:lnTo>
                  <a:lnTo>
                    <a:pt x="428" y="1899"/>
                  </a:lnTo>
                  <a:lnTo>
                    <a:pt x="381" y="1899"/>
                  </a:lnTo>
                  <a:lnTo>
                    <a:pt x="333" y="1899"/>
                  </a:lnTo>
                  <a:lnTo>
                    <a:pt x="286" y="1899"/>
                  </a:lnTo>
                  <a:lnTo>
                    <a:pt x="238" y="1899"/>
                  </a:lnTo>
                  <a:lnTo>
                    <a:pt x="190" y="1899"/>
                  </a:lnTo>
                  <a:lnTo>
                    <a:pt x="143" y="1899"/>
                  </a:lnTo>
                  <a:lnTo>
                    <a:pt x="95" y="1899"/>
                  </a:lnTo>
                  <a:lnTo>
                    <a:pt x="48" y="1899"/>
                  </a:lnTo>
                  <a:lnTo>
                    <a:pt x="0" y="189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71600" y="1025640"/>
              <a:ext cx="7481880" cy="4589280"/>
            </a:xfrm>
            <a:custGeom>
              <a:avLst/>
              <a:gdLst/>
              <a:ahLst/>
              <a:rect l="l" t="t" r="r" b="b"/>
              <a:pathLst>
                <a:path w="4713" h="2891">
                  <a:moveTo>
                    <a:pt x="0" y="2891"/>
                  </a:moveTo>
                  <a:lnTo>
                    <a:pt x="0" y="2891"/>
                  </a:lnTo>
                  <a:lnTo>
                    <a:pt x="48" y="2891"/>
                  </a:lnTo>
                  <a:lnTo>
                    <a:pt x="95" y="2513"/>
                  </a:lnTo>
                  <a:lnTo>
                    <a:pt x="143" y="2513"/>
                  </a:lnTo>
                  <a:lnTo>
                    <a:pt x="190" y="2294"/>
                  </a:lnTo>
                  <a:lnTo>
                    <a:pt x="238" y="1662"/>
                  </a:lnTo>
                  <a:lnTo>
                    <a:pt x="286" y="1662"/>
                  </a:lnTo>
                  <a:lnTo>
                    <a:pt x="333" y="1640"/>
                  </a:lnTo>
                  <a:lnTo>
                    <a:pt x="381" y="794"/>
                  </a:lnTo>
                  <a:lnTo>
                    <a:pt x="428" y="794"/>
                  </a:lnTo>
                  <a:lnTo>
                    <a:pt x="476" y="794"/>
                  </a:lnTo>
                  <a:lnTo>
                    <a:pt x="523" y="459"/>
                  </a:lnTo>
                  <a:lnTo>
                    <a:pt x="571" y="459"/>
                  </a:lnTo>
                  <a:lnTo>
                    <a:pt x="620" y="92"/>
                  </a:lnTo>
                  <a:lnTo>
                    <a:pt x="667" y="77"/>
                  </a:lnTo>
                  <a:lnTo>
                    <a:pt x="715" y="95"/>
                  </a:lnTo>
                  <a:lnTo>
                    <a:pt x="762" y="102"/>
                  </a:lnTo>
                  <a:lnTo>
                    <a:pt x="810" y="84"/>
                  </a:lnTo>
                  <a:lnTo>
                    <a:pt x="857" y="144"/>
                  </a:lnTo>
                  <a:lnTo>
                    <a:pt x="905" y="137"/>
                  </a:lnTo>
                  <a:lnTo>
                    <a:pt x="952" y="72"/>
                  </a:lnTo>
                  <a:lnTo>
                    <a:pt x="1000" y="119"/>
                  </a:lnTo>
                  <a:lnTo>
                    <a:pt x="1048" y="119"/>
                  </a:lnTo>
                  <a:lnTo>
                    <a:pt x="1095" y="50"/>
                  </a:lnTo>
                  <a:lnTo>
                    <a:pt x="1143" y="72"/>
                  </a:lnTo>
                  <a:lnTo>
                    <a:pt x="1190" y="76"/>
                  </a:lnTo>
                  <a:lnTo>
                    <a:pt x="1238" y="24"/>
                  </a:lnTo>
                  <a:lnTo>
                    <a:pt x="1285" y="50"/>
                  </a:lnTo>
                  <a:lnTo>
                    <a:pt x="1333" y="69"/>
                  </a:lnTo>
                  <a:lnTo>
                    <a:pt x="1380" y="11"/>
                  </a:lnTo>
                  <a:lnTo>
                    <a:pt x="1428" y="52"/>
                  </a:lnTo>
                  <a:lnTo>
                    <a:pt x="1476" y="62"/>
                  </a:lnTo>
                  <a:lnTo>
                    <a:pt x="1523" y="22"/>
                  </a:lnTo>
                  <a:lnTo>
                    <a:pt x="1571" y="69"/>
                  </a:lnTo>
                  <a:lnTo>
                    <a:pt x="1618" y="69"/>
                  </a:lnTo>
                  <a:lnTo>
                    <a:pt x="1666" y="15"/>
                  </a:lnTo>
                  <a:lnTo>
                    <a:pt x="1713" y="58"/>
                  </a:lnTo>
                  <a:lnTo>
                    <a:pt x="1761" y="62"/>
                  </a:lnTo>
                  <a:lnTo>
                    <a:pt x="1810" y="11"/>
                  </a:lnTo>
                  <a:lnTo>
                    <a:pt x="1857" y="52"/>
                  </a:lnTo>
                  <a:lnTo>
                    <a:pt x="1905" y="52"/>
                  </a:lnTo>
                  <a:lnTo>
                    <a:pt x="1952" y="17"/>
                  </a:lnTo>
                  <a:lnTo>
                    <a:pt x="2000" y="60"/>
                  </a:lnTo>
                  <a:lnTo>
                    <a:pt x="2047" y="44"/>
                  </a:lnTo>
                  <a:lnTo>
                    <a:pt x="2095" y="5"/>
                  </a:lnTo>
                  <a:lnTo>
                    <a:pt x="2142" y="50"/>
                  </a:lnTo>
                  <a:lnTo>
                    <a:pt x="2190" y="50"/>
                  </a:lnTo>
                  <a:lnTo>
                    <a:pt x="2238" y="8"/>
                  </a:lnTo>
                  <a:lnTo>
                    <a:pt x="2285" y="55"/>
                  </a:lnTo>
                  <a:lnTo>
                    <a:pt x="2333" y="55"/>
                  </a:lnTo>
                  <a:lnTo>
                    <a:pt x="2380" y="13"/>
                  </a:lnTo>
                  <a:lnTo>
                    <a:pt x="2428" y="49"/>
                  </a:lnTo>
                  <a:lnTo>
                    <a:pt x="2475" y="49"/>
                  </a:lnTo>
                  <a:lnTo>
                    <a:pt x="2523" y="10"/>
                  </a:lnTo>
                  <a:lnTo>
                    <a:pt x="2571" y="52"/>
                  </a:lnTo>
                  <a:lnTo>
                    <a:pt x="2618" y="57"/>
                  </a:lnTo>
                  <a:lnTo>
                    <a:pt x="2666" y="0"/>
                  </a:lnTo>
                  <a:lnTo>
                    <a:pt x="2713" y="45"/>
                  </a:lnTo>
                  <a:lnTo>
                    <a:pt x="2761" y="45"/>
                  </a:lnTo>
                  <a:lnTo>
                    <a:pt x="2808" y="8"/>
                  </a:lnTo>
                  <a:lnTo>
                    <a:pt x="2856" y="53"/>
                  </a:lnTo>
                  <a:lnTo>
                    <a:pt x="2903" y="53"/>
                  </a:lnTo>
                  <a:lnTo>
                    <a:pt x="2952" y="7"/>
                  </a:lnTo>
                  <a:lnTo>
                    <a:pt x="3000" y="55"/>
                  </a:lnTo>
                  <a:lnTo>
                    <a:pt x="3047" y="55"/>
                  </a:lnTo>
                  <a:lnTo>
                    <a:pt x="3095" y="18"/>
                  </a:lnTo>
                  <a:lnTo>
                    <a:pt x="3142" y="65"/>
                  </a:lnTo>
                  <a:lnTo>
                    <a:pt x="3190" y="43"/>
                  </a:lnTo>
                  <a:lnTo>
                    <a:pt x="3237" y="20"/>
                  </a:lnTo>
                  <a:lnTo>
                    <a:pt x="3285" y="69"/>
                  </a:lnTo>
                  <a:lnTo>
                    <a:pt x="3333" y="69"/>
                  </a:lnTo>
                  <a:lnTo>
                    <a:pt x="3380" y="24"/>
                  </a:lnTo>
                  <a:lnTo>
                    <a:pt x="3428" y="64"/>
                  </a:lnTo>
                  <a:lnTo>
                    <a:pt x="3475" y="64"/>
                  </a:lnTo>
                  <a:lnTo>
                    <a:pt x="3523" y="26"/>
                  </a:lnTo>
                  <a:lnTo>
                    <a:pt x="3570" y="71"/>
                  </a:lnTo>
                  <a:lnTo>
                    <a:pt x="3618" y="71"/>
                  </a:lnTo>
                  <a:lnTo>
                    <a:pt x="3665" y="10"/>
                  </a:lnTo>
                  <a:lnTo>
                    <a:pt x="3713" y="42"/>
                  </a:lnTo>
                  <a:lnTo>
                    <a:pt x="3761" y="49"/>
                  </a:lnTo>
                  <a:lnTo>
                    <a:pt x="3808" y="13"/>
                  </a:lnTo>
                  <a:lnTo>
                    <a:pt x="3856" y="64"/>
                  </a:lnTo>
                  <a:lnTo>
                    <a:pt x="3903" y="64"/>
                  </a:lnTo>
                  <a:lnTo>
                    <a:pt x="3951" y="7"/>
                  </a:lnTo>
                  <a:lnTo>
                    <a:pt x="3998" y="47"/>
                  </a:lnTo>
                  <a:lnTo>
                    <a:pt x="4046" y="47"/>
                  </a:lnTo>
                  <a:lnTo>
                    <a:pt x="4094" y="16"/>
                  </a:lnTo>
                  <a:lnTo>
                    <a:pt x="4142" y="67"/>
                  </a:lnTo>
                  <a:lnTo>
                    <a:pt x="4190" y="67"/>
                  </a:lnTo>
                  <a:lnTo>
                    <a:pt x="4237" y="5"/>
                  </a:lnTo>
                  <a:lnTo>
                    <a:pt x="4285" y="50"/>
                  </a:lnTo>
                  <a:lnTo>
                    <a:pt x="4332" y="50"/>
                  </a:lnTo>
                  <a:lnTo>
                    <a:pt x="4380" y="14"/>
                  </a:lnTo>
                  <a:lnTo>
                    <a:pt x="4427" y="58"/>
                  </a:lnTo>
                  <a:lnTo>
                    <a:pt x="4475" y="40"/>
                  </a:lnTo>
                  <a:lnTo>
                    <a:pt x="4523" y="19"/>
                  </a:lnTo>
                  <a:lnTo>
                    <a:pt x="4570" y="63"/>
                  </a:lnTo>
                  <a:lnTo>
                    <a:pt x="4618" y="63"/>
                  </a:lnTo>
                  <a:lnTo>
                    <a:pt x="4665" y="14"/>
                  </a:lnTo>
                  <a:lnTo>
                    <a:pt x="4713" y="62"/>
                  </a:lnTo>
                  <a:lnTo>
                    <a:pt x="4713" y="1766"/>
                  </a:lnTo>
                  <a:lnTo>
                    <a:pt x="4665" y="1113"/>
                  </a:lnTo>
                  <a:lnTo>
                    <a:pt x="4618" y="1808"/>
                  </a:lnTo>
                  <a:lnTo>
                    <a:pt x="4570" y="1695"/>
                  </a:lnTo>
                  <a:lnTo>
                    <a:pt x="4523" y="1173"/>
                  </a:lnTo>
                  <a:lnTo>
                    <a:pt x="4475" y="1865"/>
                  </a:lnTo>
                  <a:lnTo>
                    <a:pt x="4427" y="1978"/>
                  </a:lnTo>
                  <a:lnTo>
                    <a:pt x="4380" y="1297"/>
                  </a:lnTo>
                  <a:lnTo>
                    <a:pt x="4332" y="1623"/>
                  </a:lnTo>
                  <a:lnTo>
                    <a:pt x="4285" y="1623"/>
                  </a:lnTo>
                  <a:lnTo>
                    <a:pt x="4237" y="1007"/>
                  </a:lnTo>
                  <a:lnTo>
                    <a:pt x="4190" y="1925"/>
                  </a:lnTo>
                  <a:lnTo>
                    <a:pt x="4142" y="1925"/>
                  </a:lnTo>
                  <a:lnTo>
                    <a:pt x="4094" y="1241"/>
                  </a:lnTo>
                  <a:lnTo>
                    <a:pt x="4046" y="1674"/>
                  </a:lnTo>
                  <a:lnTo>
                    <a:pt x="3998" y="1674"/>
                  </a:lnTo>
                  <a:lnTo>
                    <a:pt x="3951" y="1042"/>
                  </a:lnTo>
                  <a:lnTo>
                    <a:pt x="3903" y="1865"/>
                  </a:lnTo>
                  <a:lnTo>
                    <a:pt x="3856" y="1865"/>
                  </a:lnTo>
                  <a:lnTo>
                    <a:pt x="3808" y="1192"/>
                  </a:lnTo>
                  <a:lnTo>
                    <a:pt x="3761" y="1730"/>
                  </a:lnTo>
                  <a:lnTo>
                    <a:pt x="3713" y="1730"/>
                  </a:lnTo>
                  <a:lnTo>
                    <a:pt x="3665" y="1079"/>
                  </a:lnTo>
                  <a:lnTo>
                    <a:pt x="3618" y="1828"/>
                  </a:lnTo>
                  <a:lnTo>
                    <a:pt x="3570" y="1828"/>
                  </a:lnTo>
                  <a:lnTo>
                    <a:pt x="3523" y="1156"/>
                  </a:lnTo>
                  <a:lnTo>
                    <a:pt x="3475" y="1746"/>
                  </a:lnTo>
                  <a:lnTo>
                    <a:pt x="3428" y="1746"/>
                  </a:lnTo>
                  <a:lnTo>
                    <a:pt x="3380" y="1082"/>
                  </a:lnTo>
                  <a:lnTo>
                    <a:pt x="3333" y="1818"/>
                  </a:lnTo>
                  <a:lnTo>
                    <a:pt x="3285" y="1697"/>
                  </a:lnTo>
                  <a:lnTo>
                    <a:pt x="3237" y="1197"/>
                  </a:lnTo>
                  <a:lnTo>
                    <a:pt x="3190" y="1859"/>
                  </a:lnTo>
                  <a:lnTo>
                    <a:pt x="3142" y="1979"/>
                  </a:lnTo>
                  <a:lnTo>
                    <a:pt x="3095" y="1275"/>
                  </a:lnTo>
                  <a:lnTo>
                    <a:pt x="3047" y="1609"/>
                  </a:lnTo>
                  <a:lnTo>
                    <a:pt x="3000" y="1609"/>
                  </a:lnTo>
                  <a:lnTo>
                    <a:pt x="2952" y="992"/>
                  </a:lnTo>
                  <a:lnTo>
                    <a:pt x="2903" y="1932"/>
                  </a:lnTo>
                  <a:lnTo>
                    <a:pt x="2856" y="1932"/>
                  </a:lnTo>
                  <a:lnTo>
                    <a:pt x="2808" y="1246"/>
                  </a:lnTo>
                  <a:lnTo>
                    <a:pt x="2761" y="1660"/>
                  </a:lnTo>
                  <a:lnTo>
                    <a:pt x="2713" y="1660"/>
                  </a:lnTo>
                  <a:lnTo>
                    <a:pt x="2666" y="1044"/>
                  </a:lnTo>
                  <a:lnTo>
                    <a:pt x="2618" y="1901"/>
                  </a:lnTo>
                  <a:lnTo>
                    <a:pt x="2571" y="1901"/>
                  </a:lnTo>
                  <a:lnTo>
                    <a:pt x="2523" y="1228"/>
                  </a:lnTo>
                  <a:lnTo>
                    <a:pt x="2475" y="1677"/>
                  </a:lnTo>
                  <a:lnTo>
                    <a:pt x="2428" y="1677"/>
                  </a:lnTo>
                  <a:lnTo>
                    <a:pt x="2380" y="1051"/>
                  </a:lnTo>
                  <a:lnTo>
                    <a:pt x="2333" y="1877"/>
                  </a:lnTo>
                  <a:lnTo>
                    <a:pt x="2285" y="1877"/>
                  </a:lnTo>
                  <a:lnTo>
                    <a:pt x="2238" y="1183"/>
                  </a:lnTo>
                  <a:lnTo>
                    <a:pt x="2190" y="1707"/>
                  </a:lnTo>
                  <a:lnTo>
                    <a:pt x="2142" y="1641"/>
                  </a:lnTo>
                  <a:lnTo>
                    <a:pt x="2095" y="1079"/>
                  </a:lnTo>
                  <a:lnTo>
                    <a:pt x="2047" y="1896"/>
                  </a:lnTo>
                  <a:lnTo>
                    <a:pt x="2000" y="1961"/>
                  </a:lnTo>
                  <a:lnTo>
                    <a:pt x="1952" y="1276"/>
                  </a:lnTo>
                  <a:lnTo>
                    <a:pt x="1905" y="1637"/>
                  </a:lnTo>
                  <a:lnTo>
                    <a:pt x="1857" y="1637"/>
                  </a:lnTo>
                  <a:lnTo>
                    <a:pt x="1810" y="1016"/>
                  </a:lnTo>
                  <a:lnTo>
                    <a:pt x="1761" y="1891"/>
                  </a:lnTo>
                  <a:lnTo>
                    <a:pt x="1713" y="1891"/>
                  </a:lnTo>
                  <a:lnTo>
                    <a:pt x="1666" y="1212"/>
                  </a:lnTo>
                  <a:lnTo>
                    <a:pt x="1618" y="1709"/>
                  </a:lnTo>
                  <a:lnTo>
                    <a:pt x="1571" y="1709"/>
                  </a:lnTo>
                  <a:lnTo>
                    <a:pt x="1523" y="1072"/>
                  </a:lnTo>
                  <a:lnTo>
                    <a:pt x="1476" y="1863"/>
                  </a:lnTo>
                  <a:lnTo>
                    <a:pt x="1428" y="1863"/>
                  </a:lnTo>
                  <a:lnTo>
                    <a:pt x="1380" y="1171"/>
                  </a:lnTo>
                  <a:lnTo>
                    <a:pt x="1333" y="1734"/>
                  </a:lnTo>
                  <a:lnTo>
                    <a:pt x="1285" y="1665"/>
                  </a:lnTo>
                  <a:lnTo>
                    <a:pt x="1238" y="1109"/>
                  </a:lnTo>
                  <a:lnTo>
                    <a:pt x="1190" y="1894"/>
                  </a:lnTo>
                  <a:lnTo>
                    <a:pt x="1143" y="1963"/>
                  </a:lnTo>
                  <a:lnTo>
                    <a:pt x="1095" y="1278"/>
                  </a:lnTo>
                  <a:lnTo>
                    <a:pt x="1048" y="1633"/>
                  </a:lnTo>
                  <a:lnTo>
                    <a:pt x="1000" y="1539"/>
                  </a:lnTo>
                  <a:lnTo>
                    <a:pt x="952" y="1032"/>
                  </a:lnTo>
                  <a:lnTo>
                    <a:pt x="905" y="1971"/>
                  </a:lnTo>
                  <a:lnTo>
                    <a:pt x="857" y="1760"/>
                  </a:lnTo>
                  <a:lnTo>
                    <a:pt x="810" y="1431"/>
                  </a:lnTo>
                  <a:lnTo>
                    <a:pt x="762" y="1795"/>
                  </a:lnTo>
                  <a:lnTo>
                    <a:pt x="715" y="1811"/>
                  </a:lnTo>
                  <a:lnTo>
                    <a:pt x="667" y="1539"/>
                  </a:lnTo>
                  <a:lnTo>
                    <a:pt x="620" y="1803"/>
                  </a:lnTo>
                  <a:lnTo>
                    <a:pt x="571" y="2181"/>
                  </a:lnTo>
                  <a:lnTo>
                    <a:pt x="523" y="1737"/>
                  </a:lnTo>
                  <a:lnTo>
                    <a:pt x="476" y="1739"/>
                  </a:lnTo>
                  <a:lnTo>
                    <a:pt x="428" y="1710"/>
                  </a:lnTo>
                  <a:lnTo>
                    <a:pt x="381" y="1385"/>
                  </a:lnTo>
                  <a:lnTo>
                    <a:pt x="333" y="2228"/>
                  </a:lnTo>
                  <a:lnTo>
                    <a:pt x="286" y="2039"/>
                  </a:lnTo>
                  <a:lnTo>
                    <a:pt x="238" y="1936"/>
                  </a:lnTo>
                  <a:lnTo>
                    <a:pt x="190" y="2294"/>
                  </a:lnTo>
                  <a:lnTo>
                    <a:pt x="143" y="2513"/>
                  </a:lnTo>
                  <a:lnTo>
                    <a:pt x="95" y="2513"/>
                  </a:lnTo>
                  <a:lnTo>
                    <a:pt x="48" y="2891"/>
                  </a:lnTo>
                  <a:lnTo>
                    <a:pt x="0" y="289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2959"/>
                  </a:lnTo>
                  <a:lnTo>
                    <a:pt x="48" y="2959"/>
                  </a:lnTo>
                  <a:lnTo>
                    <a:pt x="95" y="2581"/>
                  </a:lnTo>
                  <a:lnTo>
                    <a:pt x="143" y="2581"/>
                  </a:lnTo>
                  <a:lnTo>
                    <a:pt x="190" y="2362"/>
                  </a:lnTo>
                  <a:lnTo>
                    <a:pt x="238" y="1730"/>
                  </a:lnTo>
                  <a:lnTo>
                    <a:pt x="286" y="1730"/>
                  </a:lnTo>
                  <a:lnTo>
                    <a:pt x="333" y="1708"/>
                  </a:lnTo>
                  <a:lnTo>
                    <a:pt x="381" y="862"/>
                  </a:lnTo>
                  <a:lnTo>
                    <a:pt x="428" y="862"/>
                  </a:lnTo>
                  <a:lnTo>
                    <a:pt x="476" y="862"/>
                  </a:lnTo>
                  <a:lnTo>
                    <a:pt x="523" y="527"/>
                  </a:lnTo>
                  <a:lnTo>
                    <a:pt x="571" y="527"/>
                  </a:lnTo>
                  <a:lnTo>
                    <a:pt x="620" y="160"/>
                  </a:lnTo>
                  <a:lnTo>
                    <a:pt x="667" y="99"/>
                  </a:lnTo>
                  <a:lnTo>
                    <a:pt x="715" y="99"/>
                  </a:lnTo>
                  <a:lnTo>
                    <a:pt x="762" y="80"/>
                  </a:lnTo>
                  <a:lnTo>
                    <a:pt x="810" y="49"/>
                  </a:lnTo>
                  <a:lnTo>
                    <a:pt x="857" y="49"/>
                  </a:lnTo>
                  <a:lnTo>
                    <a:pt x="905" y="46"/>
                  </a:lnTo>
                  <a:lnTo>
                    <a:pt x="952" y="1"/>
                  </a:lnTo>
                  <a:lnTo>
                    <a:pt x="1000" y="1"/>
                  </a:lnTo>
                  <a:lnTo>
                    <a:pt x="1048" y="1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1"/>
                  </a:lnTo>
                  <a:lnTo>
                    <a:pt x="1618" y="1"/>
                  </a:lnTo>
                  <a:lnTo>
                    <a:pt x="1666" y="0"/>
                  </a:lnTo>
                  <a:lnTo>
                    <a:pt x="1713" y="1"/>
                  </a:lnTo>
                  <a:lnTo>
                    <a:pt x="1761" y="1"/>
                  </a:lnTo>
                  <a:lnTo>
                    <a:pt x="1810" y="1"/>
                  </a:lnTo>
                  <a:lnTo>
                    <a:pt x="1857" y="1"/>
                  </a:lnTo>
                  <a:lnTo>
                    <a:pt x="1905" y="1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1"/>
                  </a:lnTo>
                  <a:lnTo>
                    <a:pt x="2190" y="1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1"/>
                  </a:lnTo>
                  <a:lnTo>
                    <a:pt x="2428" y="1"/>
                  </a:lnTo>
                  <a:lnTo>
                    <a:pt x="2475" y="1"/>
                  </a:lnTo>
                  <a:lnTo>
                    <a:pt x="2523" y="1"/>
                  </a:lnTo>
                  <a:lnTo>
                    <a:pt x="2571" y="1"/>
                  </a:lnTo>
                  <a:lnTo>
                    <a:pt x="2618" y="1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1"/>
                  </a:lnTo>
                  <a:lnTo>
                    <a:pt x="3475" y="1"/>
                  </a:lnTo>
                  <a:lnTo>
                    <a:pt x="3523" y="1"/>
                  </a:lnTo>
                  <a:lnTo>
                    <a:pt x="3570" y="1"/>
                  </a:lnTo>
                  <a:lnTo>
                    <a:pt x="3618" y="1"/>
                  </a:lnTo>
                  <a:lnTo>
                    <a:pt x="3665" y="1"/>
                  </a:lnTo>
                  <a:lnTo>
                    <a:pt x="3713" y="1"/>
                  </a:lnTo>
                  <a:lnTo>
                    <a:pt x="3761" y="1"/>
                  </a:lnTo>
                  <a:lnTo>
                    <a:pt x="3808" y="1"/>
                  </a:lnTo>
                  <a:lnTo>
                    <a:pt x="3856" y="2"/>
                  </a:lnTo>
                  <a:lnTo>
                    <a:pt x="3903" y="2"/>
                  </a:lnTo>
                  <a:lnTo>
                    <a:pt x="3951" y="0"/>
                  </a:lnTo>
                  <a:lnTo>
                    <a:pt x="3998" y="1"/>
                  </a:lnTo>
                  <a:lnTo>
                    <a:pt x="4046" y="1"/>
                  </a:lnTo>
                  <a:lnTo>
                    <a:pt x="4094" y="0"/>
                  </a:lnTo>
                  <a:lnTo>
                    <a:pt x="4142" y="1"/>
                  </a:lnTo>
                  <a:lnTo>
                    <a:pt x="4190" y="1"/>
                  </a:lnTo>
                  <a:lnTo>
                    <a:pt x="4237" y="0"/>
                  </a:lnTo>
                  <a:lnTo>
                    <a:pt x="4285" y="1"/>
                  </a:lnTo>
                  <a:lnTo>
                    <a:pt x="4332" y="1"/>
                  </a:lnTo>
                  <a:lnTo>
                    <a:pt x="4380" y="0"/>
                  </a:lnTo>
                  <a:lnTo>
                    <a:pt x="4427" y="1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130"/>
                  </a:lnTo>
                  <a:lnTo>
                    <a:pt x="4665" y="82"/>
                  </a:lnTo>
                  <a:lnTo>
                    <a:pt x="4618" y="131"/>
                  </a:lnTo>
                  <a:lnTo>
                    <a:pt x="4570" y="131"/>
                  </a:lnTo>
                  <a:lnTo>
                    <a:pt x="4523" y="87"/>
                  </a:lnTo>
                  <a:lnTo>
                    <a:pt x="4475" y="108"/>
                  </a:lnTo>
                  <a:lnTo>
                    <a:pt x="4427" y="126"/>
                  </a:lnTo>
                  <a:lnTo>
                    <a:pt x="4380" y="82"/>
                  </a:lnTo>
                  <a:lnTo>
                    <a:pt x="4332" y="118"/>
                  </a:lnTo>
                  <a:lnTo>
                    <a:pt x="4285" y="118"/>
                  </a:lnTo>
                  <a:lnTo>
                    <a:pt x="4237" y="73"/>
                  </a:lnTo>
                  <a:lnTo>
                    <a:pt x="4190" y="135"/>
                  </a:lnTo>
                  <a:lnTo>
                    <a:pt x="4142" y="135"/>
                  </a:lnTo>
                  <a:lnTo>
                    <a:pt x="4094" y="84"/>
                  </a:lnTo>
                  <a:lnTo>
                    <a:pt x="4046" y="115"/>
                  </a:lnTo>
                  <a:lnTo>
                    <a:pt x="3998" y="115"/>
                  </a:lnTo>
                  <a:lnTo>
                    <a:pt x="3951" y="75"/>
                  </a:lnTo>
                  <a:lnTo>
                    <a:pt x="3903" y="132"/>
                  </a:lnTo>
                  <a:lnTo>
                    <a:pt x="3856" y="132"/>
                  </a:lnTo>
                  <a:lnTo>
                    <a:pt x="3808" y="81"/>
                  </a:lnTo>
                  <a:lnTo>
                    <a:pt x="3761" y="117"/>
                  </a:lnTo>
                  <a:lnTo>
                    <a:pt x="3713" y="110"/>
                  </a:lnTo>
                  <a:lnTo>
                    <a:pt x="3665" y="78"/>
                  </a:lnTo>
                  <a:lnTo>
                    <a:pt x="3618" y="139"/>
                  </a:lnTo>
                  <a:lnTo>
                    <a:pt x="3570" y="139"/>
                  </a:lnTo>
                  <a:lnTo>
                    <a:pt x="3523" y="94"/>
                  </a:lnTo>
                  <a:lnTo>
                    <a:pt x="3475" y="132"/>
                  </a:lnTo>
                  <a:lnTo>
                    <a:pt x="3428" y="132"/>
                  </a:lnTo>
                  <a:lnTo>
                    <a:pt x="3380" y="92"/>
                  </a:lnTo>
                  <a:lnTo>
                    <a:pt x="3333" y="137"/>
                  </a:lnTo>
                  <a:lnTo>
                    <a:pt x="3285" y="137"/>
                  </a:lnTo>
                  <a:lnTo>
                    <a:pt x="3237" y="88"/>
                  </a:lnTo>
                  <a:lnTo>
                    <a:pt x="3190" y="111"/>
                  </a:lnTo>
                  <a:lnTo>
                    <a:pt x="3142" y="133"/>
                  </a:lnTo>
                  <a:lnTo>
                    <a:pt x="3095" y="86"/>
                  </a:lnTo>
                  <a:lnTo>
                    <a:pt x="3047" y="123"/>
                  </a:lnTo>
                  <a:lnTo>
                    <a:pt x="3000" y="123"/>
                  </a:lnTo>
                  <a:lnTo>
                    <a:pt x="2952" y="75"/>
                  </a:lnTo>
                  <a:lnTo>
                    <a:pt x="2903" y="121"/>
                  </a:lnTo>
                  <a:lnTo>
                    <a:pt x="2856" y="121"/>
                  </a:lnTo>
                  <a:lnTo>
                    <a:pt x="2808" y="76"/>
                  </a:lnTo>
                  <a:lnTo>
                    <a:pt x="2761" y="113"/>
                  </a:lnTo>
                  <a:lnTo>
                    <a:pt x="2713" y="113"/>
                  </a:lnTo>
                  <a:lnTo>
                    <a:pt x="2666" y="68"/>
                  </a:lnTo>
                  <a:lnTo>
                    <a:pt x="2618" y="125"/>
                  </a:lnTo>
                  <a:lnTo>
                    <a:pt x="2571" y="120"/>
                  </a:lnTo>
                  <a:lnTo>
                    <a:pt x="2523" y="78"/>
                  </a:lnTo>
                  <a:lnTo>
                    <a:pt x="2475" y="117"/>
                  </a:lnTo>
                  <a:lnTo>
                    <a:pt x="2428" y="117"/>
                  </a:lnTo>
                  <a:lnTo>
                    <a:pt x="2380" y="81"/>
                  </a:lnTo>
                  <a:lnTo>
                    <a:pt x="2333" y="123"/>
                  </a:lnTo>
                  <a:lnTo>
                    <a:pt x="2285" y="123"/>
                  </a:lnTo>
                  <a:lnTo>
                    <a:pt x="2238" y="76"/>
                  </a:lnTo>
                  <a:lnTo>
                    <a:pt x="2190" y="118"/>
                  </a:lnTo>
                  <a:lnTo>
                    <a:pt x="2142" y="118"/>
                  </a:lnTo>
                  <a:lnTo>
                    <a:pt x="2095" y="73"/>
                  </a:lnTo>
                  <a:lnTo>
                    <a:pt x="2047" y="112"/>
                  </a:lnTo>
                  <a:lnTo>
                    <a:pt x="2000" y="128"/>
                  </a:lnTo>
                  <a:lnTo>
                    <a:pt x="1952" y="85"/>
                  </a:lnTo>
                  <a:lnTo>
                    <a:pt x="1905" y="120"/>
                  </a:lnTo>
                  <a:lnTo>
                    <a:pt x="1857" y="120"/>
                  </a:lnTo>
                  <a:lnTo>
                    <a:pt x="1810" y="79"/>
                  </a:lnTo>
                  <a:lnTo>
                    <a:pt x="1761" y="130"/>
                  </a:lnTo>
                  <a:lnTo>
                    <a:pt x="1713" y="126"/>
                  </a:lnTo>
                  <a:lnTo>
                    <a:pt x="1666" y="83"/>
                  </a:lnTo>
                  <a:lnTo>
                    <a:pt x="1618" y="137"/>
                  </a:lnTo>
                  <a:lnTo>
                    <a:pt x="1571" y="137"/>
                  </a:lnTo>
                  <a:lnTo>
                    <a:pt x="1523" y="90"/>
                  </a:lnTo>
                  <a:lnTo>
                    <a:pt x="1476" y="130"/>
                  </a:lnTo>
                  <a:lnTo>
                    <a:pt x="1428" y="120"/>
                  </a:lnTo>
                  <a:lnTo>
                    <a:pt x="1380" y="79"/>
                  </a:lnTo>
                  <a:lnTo>
                    <a:pt x="1333" y="137"/>
                  </a:lnTo>
                  <a:lnTo>
                    <a:pt x="1285" y="118"/>
                  </a:lnTo>
                  <a:lnTo>
                    <a:pt x="1238" y="92"/>
                  </a:lnTo>
                  <a:lnTo>
                    <a:pt x="1190" y="144"/>
                  </a:lnTo>
                  <a:lnTo>
                    <a:pt x="1143" y="140"/>
                  </a:lnTo>
                  <a:lnTo>
                    <a:pt x="1095" y="118"/>
                  </a:lnTo>
                  <a:lnTo>
                    <a:pt x="1048" y="187"/>
                  </a:lnTo>
                  <a:lnTo>
                    <a:pt x="1000" y="187"/>
                  </a:lnTo>
                  <a:lnTo>
                    <a:pt x="952" y="140"/>
                  </a:lnTo>
                  <a:lnTo>
                    <a:pt x="905" y="205"/>
                  </a:lnTo>
                  <a:lnTo>
                    <a:pt x="857" y="212"/>
                  </a:lnTo>
                  <a:lnTo>
                    <a:pt x="810" y="152"/>
                  </a:lnTo>
                  <a:lnTo>
                    <a:pt x="762" y="170"/>
                  </a:lnTo>
                  <a:lnTo>
                    <a:pt x="715" y="163"/>
                  </a:lnTo>
                  <a:lnTo>
                    <a:pt x="667" y="145"/>
                  </a:lnTo>
                  <a:lnTo>
                    <a:pt x="620" y="160"/>
                  </a:lnTo>
                  <a:lnTo>
                    <a:pt x="571" y="527"/>
                  </a:lnTo>
                  <a:lnTo>
                    <a:pt x="523" y="527"/>
                  </a:lnTo>
                  <a:lnTo>
                    <a:pt x="476" y="862"/>
                  </a:lnTo>
                  <a:lnTo>
                    <a:pt x="428" y="862"/>
                  </a:lnTo>
                  <a:lnTo>
                    <a:pt x="381" y="862"/>
                  </a:lnTo>
                  <a:lnTo>
                    <a:pt x="333" y="1708"/>
                  </a:lnTo>
                  <a:lnTo>
                    <a:pt x="286" y="1730"/>
                  </a:lnTo>
                  <a:lnTo>
                    <a:pt x="238" y="1730"/>
                  </a:lnTo>
                  <a:lnTo>
                    <a:pt x="190" y="2362"/>
                  </a:lnTo>
                  <a:lnTo>
                    <a:pt x="143" y="2581"/>
                  </a:lnTo>
                  <a:lnTo>
                    <a:pt x="95" y="2581"/>
                  </a:lnTo>
                  <a:lnTo>
                    <a:pt x="48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2959"/>
                  </a:lnTo>
                  <a:lnTo>
                    <a:pt x="48" y="2959"/>
                  </a:lnTo>
                  <a:lnTo>
                    <a:pt x="95" y="2581"/>
                  </a:lnTo>
                  <a:lnTo>
                    <a:pt x="143" y="2581"/>
                  </a:lnTo>
                  <a:lnTo>
                    <a:pt x="190" y="2362"/>
                  </a:lnTo>
                  <a:lnTo>
                    <a:pt x="238" y="1730"/>
                  </a:lnTo>
                  <a:lnTo>
                    <a:pt x="286" y="1730"/>
                  </a:lnTo>
                  <a:lnTo>
                    <a:pt x="333" y="1708"/>
                  </a:lnTo>
                  <a:lnTo>
                    <a:pt x="381" y="862"/>
                  </a:lnTo>
                  <a:lnTo>
                    <a:pt x="428" y="862"/>
                  </a:lnTo>
                  <a:lnTo>
                    <a:pt x="476" y="862"/>
                  </a:lnTo>
                  <a:lnTo>
                    <a:pt x="523" y="527"/>
                  </a:lnTo>
                  <a:lnTo>
                    <a:pt x="571" y="527"/>
                  </a:lnTo>
                  <a:lnTo>
                    <a:pt x="620" y="160"/>
                  </a:lnTo>
                  <a:lnTo>
                    <a:pt x="667" y="99"/>
                  </a:lnTo>
                  <a:lnTo>
                    <a:pt x="715" y="99"/>
                  </a:lnTo>
                  <a:lnTo>
                    <a:pt x="762" y="80"/>
                  </a:lnTo>
                  <a:lnTo>
                    <a:pt x="810" y="49"/>
                  </a:lnTo>
                  <a:lnTo>
                    <a:pt x="857" y="49"/>
                  </a:lnTo>
                  <a:lnTo>
                    <a:pt x="905" y="46"/>
                  </a:lnTo>
                  <a:lnTo>
                    <a:pt x="952" y="1"/>
                  </a:lnTo>
                  <a:lnTo>
                    <a:pt x="1000" y="1"/>
                  </a:lnTo>
                  <a:lnTo>
                    <a:pt x="1048" y="1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1"/>
                  </a:lnTo>
                  <a:lnTo>
                    <a:pt x="4380" y="0"/>
                  </a:lnTo>
                  <a:lnTo>
                    <a:pt x="4332" y="1"/>
                  </a:lnTo>
                  <a:lnTo>
                    <a:pt x="4285" y="1"/>
                  </a:lnTo>
                  <a:lnTo>
                    <a:pt x="4237" y="0"/>
                  </a:lnTo>
                  <a:lnTo>
                    <a:pt x="4190" y="1"/>
                  </a:lnTo>
                  <a:lnTo>
                    <a:pt x="4142" y="1"/>
                  </a:lnTo>
                  <a:lnTo>
                    <a:pt x="4094" y="0"/>
                  </a:lnTo>
                  <a:lnTo>
                    <a:pt x="4046" y="1"/>
                  </a:lnTo>
                  <a:lnTo>
                    <a:pt x="3998" y="1"/>
                  </a:lnTo>
                  <a:lnTo>
                    <a:pt x="3951" y="0"/>
                  </a:lnTo>
                  <a:lnTo>
                    <a:pt x="3903" y="2"/>
                  </a:lnTo>
                  <a:lnTo>
                    <a:pt x="3856" y="2"/>
                  </a:lnTo>
                  <a:lnTo>
                    <a:pt x="3808" y="1"/>
                  </a:lnTo>
                  <a:lnTo>
                    <a:pt x="3761" y="1"/>
                  </a:lnTo>
                  <a:lnTo>
                    <a:pt x="3713" y="1"/>
                  </a:lnTo>
                  <a:lnTo>
                    <a:pt x="3665" y="1"/>
                  </a:lnTo>
                  <a:lnTo>
                    <a:pt x="3618" y="1"/>
                  </a:lnTo>
                  <a:lnTo>
                    <a:pt x="3570" y="1"/>
                  </a:lnTo>
                  <a:lnTo>
                    <a:pt x="3523" y="1"/>
                  </a:lnTo>
                  <a:lnTo>
                    <a:pt x="3475" y="1"/>
                  </a:lnTo>
                  <a:lnTo>
                    <a:pt x="3428" y="1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1"/>
                  </a:lnTo>
                  <a:lnTo>
                    <a:pt x="2571" y="1"/>
                  </a:lnTo>
                  <a:lnTo>
                    <a:pt x="2523" y="1"/>
                  </a:lnTo>
                  <a:lnTo>
                    <a:pt x="2475" y="1"/>
                  </a:lnTo>
                  <a:lnTo>
                    <a:pt x="2428" y="1"/>
                  </a:lnTo>
                  <a:lnTo>
                    <a:pt x="2380" y="1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1"/>
                  </a:lnTo>
                  <a:lnTo>
                    <a:pt x="2142" y="1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1"/>
                  </a:lnTo>
                  <a:lnTo>
                    <a:pt x="1857" y="1"/>
                  </a:lnTo>
                  <a:lnTo>
                    <a:pt x="1810" y="1"/>
                  </a:lnTo>
                  <a:lnTo>
                    <a:pt x="1761" y="1"/>
                  </a:lnTo>
                  <a:lnTo>
                    <a:pt x="1713" y="1"/>
                  </a:lnTo>
                  <a:lnTo>
                    <a:pt x="1666" y="0"/>
                  </a:lnTo>
                  <a:lnTo>
                    <a:pt x="1618" y="1"/>
                  </a:lnTo>
                  <a:lnTo>
                    <a:pt x="1571" y="1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1"/>
                  </a:lnTo>
                  <a:lnTo>
                    <a:pt x="1000" y="1"/>
                  </a:lnTo>
                  <a:lnTo>
                    <a:pt x="952" y="1"/>
                  </a:lnTo>
                  <a:lnTo>
                    <a:pt x="905" y="46"/>
                  </a:lnTo>
                  <a:lnTo>
                    <a:pt x="857" y="49"/>
                  </a:lnTo>
                  <a:lnTo>
                    <a:pt x="810" y="49"/>
                  </a:lnTo>
                  <a:lnTo>
                    <a:pt x="762" y="80"/>
                  </a:lnTo>
                  <a:lnTo>
                    <a:pt x="715" y="99"/>
                  </a:lnTo>
                  <a:lnTo>
                    <a:pt x="667" y="99"/>
                  </a:lnTo>
                  <a:lnTo>
                    <a:pt x="620" y="160"/>
                  </a:lnTo>
                  <a:lnTo>
                    <a:pt x="571" y="527"/>
                  </a:lnTo>
                  <a:lnTo>
                    <a:pt x="523" y="527"/>
                  </a:lnTo>
                  <a:lnTo>
                    <a:pt x="476" y="862"/>
                  </a:lnTo>
                  <a:lnTo>
                    <a:pt x="428" y="862"/>
                  </a:lnTo>
                  <a:lnTo>
                    <a:pt x="381" y="862"/>
                  </a:lnTo>
                  <a:lnTo>
                    <a:pt x="333" y="1708"/>
                  </a:lnTo>
                  <a:lnTo>
                    <a:pt x="286" y="1730"/>
                  </a:lnTo>
                  <a:lnTo>
                    <a:pt x="238" y="1730"/>
                  </a:lnTo>
                  <a:lnTo>
                    <a:pt x="190" y="2362"/>
                  </a:lnTo>
                  <a:lnTo>
                    <a:pt x="143" y="2581"/>
                  </a:lnTo>
                  <a:lnTo>
                    <a:pt x="95" y="2581"/>
                  </a:lnTo>
                  <a:lnTo>
                    <a:pt x="48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0"/>
                  </a:lnTo>
                  <a:lnTo>
                    <a:pt x="4380" y="0"/>
                  </a:lnTo>
                  <a:lnTo>
                    <a:pt x="4332" y="0"/>
                  </a:lnTo>
                  <a:lnTo>
                    <a:pt x="4285" y="0"/>
                  </a:lnTo>
                  <a:lnTo>
                    <a:pt x="4237" y="0"/>
                  </a:lnTo>
                  <a:lnTo>
                    <a:pt x="4190" y="0"/>
                  </a:lnTo>
                  <a:lnTo>
                    <a:pt x="4142" y="0"/>
                  </a:lnTo>
                  <a:lnTo>
                    <a:pt x="4094" y="0"/>
                  </a:lnTo>
                  <a:lnTo>
                    <a:pt x="4046" y="0"/>
                  </a:lnTo>
                  <a:lnTo>
                    <a:pt x="3998" y="0"/>
                  </a:lnTo>
                  <a:lnTo>
                    <a:pt x="3951" y="0"/>
                  </a:lnTo>
                  <a:lnTo>
                    <a:pt x="3903" y="0"/>
                  </a:lnTo>
                  <a:lnTo>
                    <a:pt x="3856" y="0"/>
                  </a:lnTo>
                  <a:lnTo>
                    <a:pt x="3808" y="0"/>
                  </a:lnTo>
                  <a:lnTo>
                    <a:pt x="3761" y="0"/>
                  </a:lnTo>
                  <a:lnTo>
                    <a:pt x="3713" y="0"/>
                  </a:lnTo>
                  <a:lnTo>
                    <a:pt x="3665" y="0"/>
                  </a:lnTo>
                  <a:lnTo>
                    <a:pt x="3618" y="0"/>
                  </a:lnTo>
                  <a:lnTo>
                    <a:pt x="3570" y="0"/>
                  </a:lnTo>
                  <a:lnTo>
                    <a:pt x="3523" y="0"/>
                  </a:lnTo>
                  <a:lnTo>
                    <a:pt x="3475" y="0"/>
                  </a:lnTo>
                  <a:lnTo>
                    <a:pt x="3428" y="0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1"/>
                  </a:lnTo>
                  <a:lnTo>
                    <a:pt x="1000" y="1"/>
                  </a:lnTo>
                  <a:lnTo>
                    <a:pt x="952" y="1"/>
                  </a:lnTo>
                  <a:lnTo>
                    <a:pt x="905" y="46"/>
                  </a:lnTo>
                  <a:lnTo>
                    <a:pt x="857" y="49"/>
                  </a:lnTo>
                  <a:lnTo>
                    <a:pt x="810" y="49"/>
                  </a:lnTo>
                  <a:lnTo>
                    <a:pt x="762" y="80"/>
                  </a:lnTo>
                  <a:lnTo>
                    <a:pt x="715" y="99"/>
                  </a:lnTo>
                  <a:lnTo>
                    <a:pt x="667" y="99"/>
                  </a:lnTo>
                  <a:lnTo>
                    <a:pt x="620" y="160"/>
                  </a:lnTo>
                  <a:lnTo>
                    <a:pt x="571" y="527"/>
                  </a:lnTo>
                  <a:lnTo>
                    <a:pt x="523" y="527"/>
                  </a:lnTo>
                  <a:lnTo>
                    <a:pt x="476" y="862"/>
                  </a:lnTo>
                  <a:lnTo>
                    <a:pt x="428" y="862"/>
                  </a:lnTo>
                  <a:lnTo>
                    <a:pt x="381" y="862"/>
                  </a:lnTo>
                  <a:lnTo>
                    <a:pt x="333" y="1708"/>
                  </a:lnTo>
                  <a:lnTo>
                    <a:pt x="286" y="1730"/>
                  </a:lnTo>
                  <a:lnTo>
                    <a:pt x="238" y="1730"/>
                  </a:lnTo>
                  <a:lnTo>
                    <a:pt x="190" y="2362"/>
                  </a:lnTo>
                  <a:lnTo>
                    <a:pt x="143" y="2581"/>
                  </a:lnTo>
                  <a:lnTo>
                    <a:pt x="95" y="2581"/>
                  </a:lnTo>
                  <a:lnTo>
                    <a:pt x="48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71600" y="2600280"/>
              <a:ext cx="7481880" cy="3014640"/>
            </a:xfrm>
            <a:custGeom>
              <a:avLst/>
              <a:gdLst/>
              <a:ahLst/>
              <a:rect l="l" t="t" r="r" b="b"/>
              <a:pathLst>
                <a:path w="4713" h="1899">
                  <a:moveTo>
                    <a:pt x="0" y="1899"/>
                  </a:moveTo>
                  <a:lnTo>
                    <a:pt x="0" y="1899"/>
                  </a:lnTo>
                  <a:lnTo>
                    <a:pt x="48" y="1899"/>
                  </a:lnTo>
                  <a:lnTo>
                    <a:pt x="95" y="1521"/>
                  </a:lnTo>
                  <a:lnTo>
                    <a:pt x="143" y="1521"/>
                  </a:lnTo>
                  <a:lnTo>
                    <a:pt x="190" y="1302"/>
                  </a:lnTo>
                  <a:lnTo>
                    <a:pt x="238" y="944"/>
                  </a:lnTo>
                  <a:lnTo>
                    <a:pt x="286" y="1047"/>
                  </a:lnTo>
                  <a:lnTo>
                    <a:pt x="333" y="1236"/>
                  </a:lnTo>
                  <a:lnTo>
                    <a:pt x="381" y="393"/>
                  </a:lnTo>
                  <a:lnTo>
                    <a:pt x="428" y="718"/>
                  </a:lnTo>
                  <a:lnTo>
                    <a:pt x="476" y="747"/>
                  </a:lnTo>
                  <a:lnTo>
                    <a:pt x="523" y="745"/>
                  </a:lnTo>
                  <a:lnTo>
                    <a:pt x="571" y="1189"/>
                  </a:lnTo>
                  <a:lnTo>
                    <a:pt x="620" y="811"/>
                  </a:lnTo>
                  <a:lnTo>
                    <a:pt x="667" y="547"/>
                  </a:lnTo>
                  <a:lnTo>
                    <a:pt x="715" y="819"/>
                  </a:lnTo>
                  <a:lnTo>
                    <a:pt x="762" y="803"/>
                  </a:lnTo>
                  <a:lnTo>
                    <a:pt x="810" y="439"/>
                  </a:lnTo>
                  <a:lnTo>
                    <a:pt x="857" y="768"/>
                  </a:lnTo>
                  <a:lnTo>
                    <a:pt x="905" y="979"/>
                  </a:lnTo>
                  <a:lnTo>
                    <a:pt x="952" y="40"/>
                  </a:lnTo>
                  <a:lnTo>
                    <a:pt x="1000" y="547"/>
                  </a:lnTo>
                  <a:lnTo>
                    <a:pt x="1048" y="641"/>
                  </a:lnTo>
                  <a:lnTo>
                    <a:pt x="1095" y="286"/>
                  </a:lnTo>
                  <a:lnTo>
                    <a:pt x="1143" y="971"/>
                  </a:lnTo>
                  <a:lnTo>
                    <a:pt x="1190" y="902"/>
                  </a:lnTo>
                  <a:lnTo>
                    <a:pt x="1238" y="117"/>
                  </a:lnTo>
                  <a:lnTo>
                    <a:pt x="1285" y="673"/>
                  </a:lnTo>
                  <a:lnTo>
                    <a:pt x="1333" y="742"/>
                  </a:lnTo>
                  <a:lnTo>
                    <a:pt x="1380" y="179"/>
                  </a:lnTo>
                  <a:lnTo>
                    <a:pt x="1428" y="871"/>
                  </a:lnTo>
                  <a:lnTo>
                    <a:pt x="1476" y="871"/>
                  </a:lnTo>
                  <a:lnTo>
                    <a:pt x="1523" y="80"/>
                  </a:lnTo>
                  <a:lnTo>
                    <a:pt x="1571" y="717"/>
                  </a:lnTo>
                  <a:lnTo>
                    <a:pt x="1618" y="717"/>
                  </a:lnTo>
                  <a:lnTo>
                    <a:pt x="1666" y="220"/>
                  </a:lnTo>
                  <a:lnTo>
                    <a:pt x="1713" y="899"/>
                  </a:lnTo>
                  <a:lnTo>
                    <a:pt x="1761" y="899"/>
                  </a:lnTo>
                  <a:lnTo>
                    <a:pt x="1810" y="24"/>
                  </a:lnTo>
                  <a:lnTo>
                    <a:pt x="1857" y="645"/>
                  </a:lnTo>
                  <a:lnTo>
                    <a:pt x="1905" y="645"/>
                  </a:lnTo>
                  <a:lnTo>
                    <a:pt x="1952" y="284"/>
                  </a:lnTo>
                  <a:lnTo>
                    <a:pt x="2000" y="969"/>
                  </a:lnTo>
                  <a:lnTo>
                    <a:pt x="2047" y="904"/>
                  </a:lnTo>
                  <a:lnTo>
                    <a:pt x="2095" y="87"/>
                  </a:lnTo>
                  <a:lnTo>
                    <a:pt x="2142" y="649"/>
                  </a:lnTo>
                  <a:lnTo>
                    <a:pt x="2190" y="715"/>
                  </a:lnTo>
                  <a:lnTo>
                    <a:pt x="2238" y="191"/>
                  </a:lnTo>
                  <a:lnTo>
                    <a:pt x="2285" y="885"/>
                  </a:lnTo>
                  <a:lnTo>
                    <a:pt x="2333" y="885"/>
                  </a:lnTo>
                  <a:lnTo>
                    <a:pt x="2380" y="59"/>
                  </a:lnTo>
                  <a:lnTo>
                    <a:pt x="2428" y="685"/>
                  </a:lnTo>
                  <a:lnTo>
                    <a:pt x="2475" y="685"/>
                  </a:lnTo>
                  <a:lnTo>
                    <a:pt x="2523" y="236"/>
                  </a:lnTo>
                  <a:lnTo>
                    <a:pt x="2571" y="909"/>
                  </a:lnTo>
                  <a:lnTo>
                    <a:pt x="2618" y="909"/>
                  </a:lnTo>
                  <a:lnTo>
                    <a:pt x="2666" y="52"/>
                  </a:lnTo>
                  <a:lnTo>
                    <a:pt x="2713" y="668"/>
                  </a:lnTo>
                  <a:lnTo>
                    <a:pt x="2761" y="668"/>
                  </a:lnTo>
                  <a:lnTo>
                    <a:pt x="2808" y="254"/>
                  </a:lnTo>
                  <a:lnTo>
                    <a:pt x="2856" y="940"/>
                  </a:lnTo>
                  <a:lnTo>
                    <a:pt x="2903" y="940"/>
                  </a:lnTo>
                  <a:lnTo>
                    <a:pt x="2952" y="0"/>
                  </a:lnTo>
                  <a:lnTo>
                    <a:pt x="3000" y="617"/>
                  </a:lnTo>
                  <a:lnTo>
                    <a:pt x="3047" y="617"/>
                  </a:lnTo>
                  <a:lnTo>
                    <a:pt x="3095" y="283"/>
                  </a:lnTo>
                  <a:lnTo>
                    <a:pt x="3142" y="987"/>
                  </a:lnTo>
                  <a:lnTo>
                    <a:pt x="3190" y="867"/>
                  </a:lnTo>
                  <a:lnTo>
                    <a:pt x="3237" y="205"/>
                  </a:lnTo>
                  <a:lnTo>
                    <a:pt x="3285" y="705"/>
                  </a:lnTo>
                  <a:lnTo>
                    <a:pt x="3333" y="826"/>
                  </a:lnTo>
                  <a:lnTo>
                    <a:pt x="3380" y="90"/>
                  </a:lnTo>
                  <a:lnTo>
                    <a:pt x="3428" y="754"/>
                  </a:lnTo>
                  <a:lnTo>
                    <a:pt x="3475" y="754"/>
                  </a:lnTo>
                  <a:lnTo>
                    <a:pt x="3523" y="164"/>
                  </a:lnTo>
                  <a:lnTo>
                    <a:pt x="3570" y="836"/>
                  </a:lnTo>
                  <a:lnTo>
                    <a:pt x="3618" y="836"/>
                  </a:lnTo>
                  <a:lnTo>
                    <a:pt x="3665" y="87"/>
                  </a:lnTo>
                  <a:lnTo>
                    <a:pt x="3713" y="738"/>
                  </a:lnTo>
                  <a:lnTo>
                    <a:pt x="3761" y="738"/>
                  </a:lnTo>
                  <a:lnTo>
                    <a:pt x="3808" y="200"/>
                  </a:lnTo>
                  <a:lnTo>
                    <a:pt x="3856" y="873"/>
                  </a:lnTo>
                  <a:lnTo>
                    <a:pt x="3903" y="873"/>
                  </a:lnTo>
                  <a:lnTo>
                    <a:pt x="3951" y="50"/>
                  </a:lnTo>
                  <a:lnTo>
                    <a:pt x="3998" y="682"/>
                  </a:lnTo>
                  <a:lnTo>
                    <a:pt x="4046" y="682"/>
                  </a:lnTo>
                  <a:lnTo>
                    <a:pt x="4094" y="249"/>
                  </a:lnTo>
                  <a:lnTo>
                    <a:pt x="4142" y="933"/>
                  </a:lnTo>
                  <a:lnTo>
                    <a:pt x="4190" y="933"/>
                  </a:lnTo>
                  <a:lnTo>
                    <a:pt x="4237" y="15"/>
                  </a:lnTo>
                  <a:lnTo>
                    <a:pt x="4285" y="631"/>
                  </a:lnTo>
                  <a:lnTo>
                    <a:pt x="4332" y="631"/>
                  </a:lnTo>
                  <a:lnTo>
                    <a:pt x="4380" y="305"/>
                  </a:lnTo>
                  <a:lnTo>
                    <a:pt x="4427" y="986"/>
                  </a:lnTo>
                  <a:lnTo>
                    <a:pt x="4475" y="873"/>
                  </a:lnTo>
                  <a:lnTo>
                    <a:pt x="4523" y="181"/>
                  </a:lnTo>
                  <a:lnTo>
                    <a:pt x="4570" y="703"/>
                  </a:lnTo>
                  <a:lnTo>
                    <a:pt x="4618" y="816"/>
                  </a:lnTo>
                  <a:lnTo>
                    <a:pt x="4665" y="121"/>
                  </a:lnTo>
                  <a:lnTo>
                    <a:pt x="4713" y="774"/>
                  </a:lnTo>
                  <a:lnTo>
                    <a:pt x="4713" y="1899"/>
                  </a:lnTo>
                  <a:lnTo>
                    <a:pt x="4665" y="1899"/>
                  </a:lnTo>
                  <a:lnTo>
                    <a:pt x="4618" y="1899"/>
                  </a:lnTo>
                  <a:lnTo>
                    <a:pt x="4570" y="1899"/>
                  </a:lnTo>
                  <a:lnTo>
                    <a:pt x="4523" y="1899"/>
                  </a:lnTo>
                  <a:lnTo>
                    <a:pt x="4475" y="1899"/>
                  </a:lnTo>
                  <a:lnTo>
                    <a:pt x="4427" y="1899"/>
                  </a:lnTo>
                  <a:lnTo>
                    <a:pt x="4380" y="1899"/>
                  </a:lnTo>
                  <a:lnTo>
                    <a:pt x="4332" y="1899"/>
                  </a:lnTo>
                  <a:lnTo>
                    <a:pt x="4285" y="1899"/>
                  </a:lnTo>
                  <a:lnTo>
                    <a:pt x="4237" y="1899"/>
                  </a:lnTo>
                  <a:lnTo>
                    <a:pt x="4190" y="1899"/>
                  </a:lnTo>
                  <a:lnTo>
                    <a:pt x="4142" y="1899"/>
                  </a:lnTo>
                  <a:lnTo>
                    <a:pt x="4094" y="1899"/>
                  </a:lnTo>
                  <a:lnTo>
                    <a:pt x="4046" y="1899"/>
                  </a:lnTo>
                  <a:lnTo>
                    <a:pt x="3998" y="1899"/>
                  </a:lnTo>
                  <a:lnTo>
                    <a:pt x="3951" y="1899"/>
                  </a:lnTo>
                  <a:lnTo>
                    <a:pt x="3903" y="1899"/>
                  </a:lnTo>
                  <a:lnTo>
                    <a:pt x="3856" y="1899"/>
                  </a:lnTo>
                  <a:lnTo>
                    <a:pt x="3808" y="1899"/>
                  </a:lnTo>
                  <a:lnTo>
                    <a:pt x="3761" y="1899"/>
                  </a:lnTo>
                  <a:lnTo>
                    <a:pt x="3713" y="1899"/>
                  </a:lnTo>
                  <a:lnTo>
                    <a:pt x="3665" y="1899"/>
                  </a:lnTo>
                  <a:lnTo>
                    <a:pt x="3618" y="1899"/>
                  </a:lnTo>
                  <a:lnTo>
                    <a:pt x="3570" y="1899"/>
                  </a:lnTo>
                  <a:lnTo>
                    <a:pt x="3523" y="1899"/>
                  </a:lnTo>
                  <a:lnTo>
                    <a:pt x="3475" y="1899"/>
                  </a:lnTo>
                  <a:lnTo>
                    <a:pt x="3428" y="1899"/>
                  </a:lnTo>
                  <a:lnTo>
                    <a:pt x="3380" y="1899"/>
                  </a:lnTo>
                  <a:lnTo>
                    <a:pt x="3333" y="1899"/>
                  </a:lnTo>
                  <a:lnTo>
                    <a:pt x="3285" y="1899"/>
                  </a:lnTo>
                  <a:lnTo>
                    <a:pt x="3237" y="1899"/>
                  </a:lnTo>
                  <a:lnTo>
                    <a:pt x="3190" y="1899"/>
                  </a:lnTo>
                  <a:lnTo>
                    <a:pt x="3142" y="1899"/>
                  </a:lnTo>
                  <a:lnTo>
                    <a:pt x="3095" y="1899"/>
                  </a:lnTo>
                  <a:lnTo>
                    <a:pt x="3047" y="1899"/>
                  </a:lnTo>
                  <a:lnTo>
                    <a:pt x="3000" y="1899"/>
                  </a:lnTo>
                  <a:lnTo>
                    <a:pt x="2952" y="1899"/>
                  </a:lnTo>
                  <a:lnTo>
                    <a:pt x="2903" y="1899"/>
                  </a:lnTo>
                  <a:lnTo>
                    <a:pt x="2856" y="1899"/>
                  </a:lnTo>
                  <a:lnTo>
                    <a:pt x="2808" y="1899"/>
                  </a:lnTo>
                  <a:lnTo>
                    <a:pt x="2761" y="1899"/>
                  </a:lnTo>
                  <a:lnTo>
                    <a:pt x="2713" y="1899"/>
                  </a:lnTo>
                  <a:lnTo>
                    <a:pt x="2666" y="1899"/>
                  </a:lnTo>
                  <a:lnTo>
                    <a:pt x="2618" y="1899"/>
                  </a:lnTo>
                  <a:lnTo>
                    <a:pt x="2571" y="1899"/>
                  </a:lnTo>
                  <a:lnTo>
                    <a:pt x="2523" y="1899"/>
                  </a:lnTo>
                  <a:lnTo>
                    <a:pt x="2475" y="1899"/>
                  </a:lnTo>
                  <a:lnTo>
                    <a:pt x="2428" y="1899"/>
                  </a:lnTo>
                  <a:lnTo>
                    <a:pt x="2380" y="1899"/>
                  </a:lnTo>
                  <a:lnTo>
                    <a:pt x="2333" y="1899"/>
                  </a:lnTo>
                  <a:lnTo>
                    <a:pt x="2285" y="1899"/>
                  </a:lnTo>
                  <a:lnTo>
                    <a:pt x="2238" y="1899"/>
                  </a:lnTo>
                  <a:lnTo>
                    <a:pt x="2190" y="1899"/>
                  </a:lnTo>
                  <a:lnTo>
                    <a:pt x="2142" y="1899"/>
                  </a:lnTo>
                  <a:lnTo>
                    <a:pt x="2095" y="1899"/>
                  </a:lnTo>
                  <a:lnTo>
                    <a:pt x="2047" y="1899"/>
                  </a:lnTo>
                  <a:lnTo>
                    <a:pt x="2000" y="1899"/>
                  </a:lnTo>
                  <a:lnTo>
                    <a:pt x="1952" y="1899"/>
                  </a:lnTo>
                  <a:lnTo>
                    <a:pt x="1905" y="1899"/>
                  </a:lnTo>
                  <a:lnTo>
                    <a:pt x="1857" y="1899"/>
                  </a:lnTo>
                  <a:lnTo>
                    <a:pt x="1810" y="1899"/>
                  </a:lnTo>
                  <a:lnTo>
                    <a:pt x="1761" y="1899"/>
                  </a:lnTo>
                  <a:lnTo>
                    <a:pt x="1713" y="1899"/>
                  </a:lnTo>
                  <a:lnTo>
                    <a:pt x="1666" y="1899"/>
                  </a:lnTo>
                  <a:lnTo>
                    <a:pt x="1618" y="1899"/>
                  </a:lnTo>
                  <a:lnTo>
                    <a:pt x="1571" y="1899"/>
                  </a:lnTo>
                  <a:lnTo>
                    <a:pt x="1523" y="1899"/>
                  </a:lnTo>
                  <a:lnTo>
                    <a:pt x="1476" y="1899"/>
                  </a:lnTo>
                  <a:lnTo>
                    <a:pt x="1428" y="1899"/>
                  </a:lnTo>
                  <a:lnTo>
                    <a:pt x="1380" y="1899"/>
                  </a:lnTo>
                  <a:lnTo>
                    <a:pt x="1333" y="1899"/>
                  </a:lnTo>
                  <a:lnTo>
                    <a:pt x="1285" y="1899"/>
                  </a:lnTo>
                  <a:lnTo>
                    <a:pt x="1238" y="1899"/>
                  </a:lnTo>
                  <a:lnTo>
                    <a:pt x="1190" y="1899"/>
                  </a:lnTo>
                  <a:lnTo>
                    <a:pt x="1143" y="1899"/>
                  </a:lnTo>
                  <a:lnTo>
                    <a:pt x="1095" y="1899"/>
                  </a:lnTo>
                  <a:lnTo>
                    <a:pt x="1048" y="1899"/>
                  </a:lnTo>
                  <a:lnTo>
                    <a:pt x="1000" y="1899"/>
                  </a:lnTo>
                  <a:lnTo>
                    <a:pt x="952" y="1899"/>
                  </a:lnTo>
                  <a:lnTo>
                    <a:pt x="905" y="1899"/>
                  </a:lnTo>
                  <a:lnTo>
                    <a:pt x="857" y="1899"/>
                  </a:lnTo>
                  <a:lnTo>
                    <a:pt x="810" y="1899"/>
                  </a:lnTo>
                  <a:lnTo>
                    <a:pt x="762" y="1899"/>
                  </a:lnTo>
                  <a:lnTo>
                    <a:pt x="715" y="1899"/>
                  </a:lnTo>
                  <a:lnTo>
                    <a:pt x="667" y="1899"/>
                  </a:lnTo>
                  <a:lnTo>
                    <a:pt x="620" y="1899"/>
                  </a:lnTo>
                  <a:lnTo>
                    <a:pt x="571" y="1899"/>
                  </a:lnTo>
                  <a:lnTo>
                    <a:pt x="523" y="1899"/>
                  </a:lnTo>
                  <a:lnTo>
                    <a:pt x="476" y="1899"/>
                  </a:lnTo>
                  <a:lnTo>
                    <a:pt x="428" y="1899"/>
                  </a:lnTo>
                  <a:lnTo>
                    <a:pt x="381" y="1899"/>
                  </a:lnTo>
                  <a:lnTo>
                    <a:pt x="333" y="1899"/>
                  </a:lnTo>
                  <a:lnTo>
                    <a:pt x="286" y="1899"/>
                  </a:lnTo>
                  <a:lnTo>
                    <a:pt x="238" y="1899"/>
                  </a:lnTo>
                  <a:lnTo>
                    <a:pt x="190" y="1899"/>
                  </a:lnTo>
                  <a:lnTo>
                    <a:pt x="143" y="1899"/>
                  </a:lnTo>
                  <a:lnTo>
                    <a:pt x="95" y="1899"/>
                  </a:lnTo>
                  <a:lnTo>
                    <a:pt x="48" y="1899"/>
                  </a:lnTo>
                  <a:lnTo>
                    <a:pt x="0" y="18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71600" y="1025640"/>
              <a:ext cx="7481880" cy="4589280"/>
            </a:xfrm>
            <a:custGeom>
              <a:avLst/>
              <a:gdLst/>
              <a:ahLst/>
              <a:rect l="l" t="t" r="r" b="b"/>
              <a:pathLst>
                <a:path w="4713" h="2891">
                  <a:moveTo>
                    <a:pt x="0" y="2891"/>
                  </a:moveTo>
                  <a:lnTo>
                    <a:pt x="0" y="2891"/>
                  </a:lnTo>
                  <a:lnTo>
                    <a:pt x="48" y="2891"/>
                  </a:lnTo>
                  <a:lnTo>
                    <a:pt x="95" y="2513"/>
                  </a:lnTo>
                  <a:lnTo>
                    <a:pt x="143" y="2513"/>
                  </a:lnTo>
                  <a:lnTo>
                    <a:pt x="190" y="2294"/>
                  </a:lnTo>
                  <a:lnTo>
                    <a:pt x="238" y="1662"/>
                  </a:lnTo>
                  <a:lnTo>
                    <a:pt x="286" y="1662"/>
                  </a:lnTo>
                  <a:lnTo>
                    <a:pt x="333" y="1640"/>
                  </a:lnTo>
                  <a:lnTo>
                    <a:pt x="381" y="794"/>
                  </a:lnTo>
                  <a:lnTo>
                    <a:pt x="428" y="794"/>
                  </a:lnTo>
                  <a:lnTo>
                    <a:pt x="476" y="794"/>
                  </a:lnTo>
                  <a:lnTo>
                    <a:pt x="523" y="459"/>
                  </a:lnTo>
                  <a:lnTo>
                    <a:pt x="571" y="459"/>
                  </a:lnTo>
                  <a:lnTo>
                    <a:pt x="620" y="92"/>
                  </a:lnTo>
                  <a:lnTo>
                    <a:pt x="667" y="77"/>
                  </a:lnTo>
                  <a:lnTo>
                    <a:pt x="715" y="95"/>
                  </a:lnTo>
                  <a:lnTo>
                    <a:pt x="762" y="102"/>
                  </a:lnTo>
                  <a:lnTo>
                    <a:pt x="810" y="84"/>
                  </a:lnTo>
                  <a:lnTo>
                    <a:pt x="857" y="144"/>
                  </a:lnTo>
                  <a:lnTo>
                    <a:pt x="905" y="137"/>
                  </a:lnTo>
                  <a:lnTo>
                    <a:pt x="952" y="72"/>
                  </a:lnTo>
                  <a:lnTo>
                    <a:pt x="1000" y="119"/>
                  </a:lnTo>
                  <a:lnTo>
                    <a:pt x="1048" y="119"/>
                  </a:lnTo>
                  <a:lnTo>
                    <a:pt x="1095" y="50"/>
                  </a:lnTo>
                  <a:lnTo>
                    <a:pt x="1143" y="72"/>
                  </a:lnTo>
                  <a:lnTo>
                    <a:pt x="1190" y="76"/>
                  </a:lnTo>
                  <a:lnTo>
                    <a:pt x="1238" y="24"/>
                  </a:lnTo>
                  <a:lnTo>
                    <a:pt x="1285" y="50"/>
                  </a:lnTo>
                  <a:lnTo>
                    <a:pt x="1333" y="69"/>
                  </a:lnTo>
                  <a:lnTo>
                    <a:pt x="1380" y="11"/>
                  </a:lnTo>
                  <a:lnTo>
                    <a:pt x="1428" y="52"/>
                  </a:lnTo>
                  <a:lnTo>
                    <a:pt x="1476" y="62"/>
                  </a:lnTo>
                  <a:lnTo>
                    <a:pt x="1523" y="22"/>
                  </a:lnTo>
                  <a:lnTo>
                    <a:pt x="1571" y="69"/>
                  </a:lnTo>
                  <a:lnTo>
                    <a:pt x="1618" y="69"/>
                  </a:lnTo>
                  <a:lnTo>
                    <a:pt x="1666" y="15"/>
                  </a:lnTo>
                  <a:lnTo>
                    <a:pt x="1713" y="58"/>
                  </a:lnTo>
                  <a:lnTo>
                    <a:pt x="1761" y="62"/>
                  </a:lnTo>
                  <a:lnTo>
                    <a:pt x="1810" y="11"/>
                  </a:lnTo>
                  <a:lnTo>
                    <a:pt x="1857" y="52"/>
                  </a:lnTo>
                  <a:lnTo>
                    <a:pt x="1905" y="52"/>
                  </a:lnTo>
                  <a:lnTo>
                    <a:pt x="1952" y="17"/>
                  </a:lnTo>
                  <a:lnTo>
                    <a:pt x="2000" y="60"/>
                  </a:lnTo>
                  <a:lnTo>
                    <a:pt x="2047" y="44"/>
                  </a:lnTo>
                  <a:lnTo>
                    <a:pt x="2095" y="5"/>
                  </a:lnTo>
                  <a:lnTo>
                    <a:pt x="2142" y="50"/>
                  </a:lnTo>
                  <a:lnTo>
                    <a:pt x="2190" y="50"/>
                  </a:lnTo>
                  <a:lnTo>
                    <a:pt x="2238" y="8"/>
                  </a:lnTo>
                  <a:lnTo>
                    <a:pt x="2285" y="55"/>
                  </a:lnTo>
                  <a:lnTo>
                    <a:pt x="2333" y="55"/>
                  </a:lnTo>
                  <a:lnTo>
                    <a:pt x="2380" y="13"/>
                  </a:lnTo>
                  <a:lnTo>
                    <a:pt x="2428" y="49"/>
                  </a:lnTo>
                  <a:lnTo>
                    <a:pt x="2475" y="49"/>
                  </a:lnTo>
                  <a:lnTo>
                    <a:pt x="2523" y="10"/>
                  </a:lnTo>
                  <a:lnTo>
                    <a:pt x="2571" y="52"/>
                  </a:lnTo>
                  <a:lnTo>
                    <a:pt x="2618" y="57"/>
                  </a:lnTo>
                  <a:lnTo>
                    <a:pt x="2666" y="0"/>
                  </a:lnTo>
                  <a:lnTo>
                    <a:pt x="2713" y="45"/>
                  </a:lnTo>
                  <a:lnTo>
                    <a:pt x="2761" y="45"/>
                  </a:lnTo>
                  <a:lnTo>
                    <a:pt x="2808" y="8"/>
                  </a:lnTo>
                  <a:lnTo>
                    <a:pt x="2856" y="53"/>
                  </a:lnTo>
                  <a:lnTo>
                    <a:pt x="2903" y="53"/>
                  </a:lnTo>
                  <a:lnTo>
                    <a:pt x="2952" y="7"/>
                  </a:lnTo>
                  <a:lnTo>
                    <a:pt x="3000" y="55"/>
                  </a:lnTo>
                  <a:lnTo>
                    <a:pt x="3047" y="55"/>
                  </a:lnTo>
                  <a:lnTo>
                    <a:pt x="3095" y="18"/>
                  </a:lnTo>
                  <a:lnTo>
                    <a:pt x="3142" y="65"/>
                  </a:lnTo>
                  <a:lnTo>
                    <a:pt x="3190" y="43"/>
                  </a:lnTo>
                  <a:lnTo>
                    <a:pt x="3237" y="20"/>
                  </a:lnTo>
                  <a:lnTo>
                    <a:pt x="3285" y="69"/>
                  </a:lnTo>
                  <a:lnTo>
                    <a:pt x="3333" y="69"/>
                  </a:lnTo>
                  <a:lnTo>
                    <a:pt x="3380" y="24"/>
                  </a:lnTo>
                  <a:lnTo>
                    <a:pt x="3428" y="64"/>
                  </a:lnTo>
                  <a:lnTo>
                    <a:pt x="3475" y="64"/>
                  </a:lnTo>
                  <a:lnTo>
                    <a:pt x="3523" y="26"/>
                  </a:lnTo>
                  <a:lnTo>
                    <a:pt x="3570" y="71"/>
                  </a:lnTo>
                  <a:lnTo>
                    <a:pt x="3618" y="71"/>
                  </a:lnTo>
                  <a:lnTo>
                    <a:pt x="3665" y="10"/>
                  </a:lnTo>
                  <a:lnTo>
                    <a:pt x="3713" y="42"/>
                  </a:lnTo>
                  <a:lnTo>
                    <a:pt x="3761" y="49"/>
                  </a:lnTo>
                  <a:lnTo>
                    <a:pt x="3808" y="13"/>
                  </a:lnTo>
                  <a:lnTo>
                    <a:pt x="3856" y="64"/>
                  </a:lnTo>
                  <a:lnTo>
                    <a:pt x="3903" y="64"/>
                  </a:lnTo>
                  <a:lnTo>
                    <a:pt x="3951" y="7"/>
                  </a:lnTo>
                  <a:lnTo>
                    <a:pt x="3998" y="47"/>
                  </a:lnTo>
                  <a:lnTo>
                    <a:pt x="4046" y="47"/>
                  </a:lnTo>
                  <a:lnTo>
                    <a:pt x="4094" y="16"/>
                  </a:lnTo>
                  <a:lnTo>
                    <a:pt x="4142" y="67"/>
                  </a:lnTo>
                  <a:lnTo>
                    <a:pt x="4190" y="67"/>
                  </a:lnTo>
                  <a:lnTo>
                    <a:pt x="4237" y="5"/>
                  </a:lnTo>
                  <a:lnTo>
                    <a:pt x="4285" y="50"/>
                  </a:lnTo>
                  <a:lnTo>
                    <a:pt x="4332" y="50"/>
                  </a:lnTo>
                  <a:lnTo>
                    <a:pt x="4380" y="14"/>
                  </a:lnTo>
                  <a:lnTo>
                    <a:pt x="4427" y="58"/>
                  </a:lnTo>
                  <a:lnTo>
                    <a:pt x="4475" y="40"/>
                  </a:lnTo>
                  <a:lnTo>
                    <a:pt x="4523" y="19"/>
                  </a:lnTo>
                  <a:lnTo>
                    <a:pt x="4570" y="63"/>
                  </a:lnTo>
                  <a:lnTo>
                    <a:pt x="4618" y="63"/>
                  </a:lnTo>
                  <a:lnTo>
                    <a:pt x="4665" y="14"/>
                  </a:lnTo>
                  <a:lnTo>
                    <a:pt x="4713" y="62"/>
                  </a:lnTo>
                  <a:lnTo>
                    <a:pt x="4713" y="1766"/>
                  </a:lnTo>
                  <a:lnTo>
                    <a:pt x="4665" y="1113"/>
                  </a:lnTo>
                  <a:lnTo>
                    <a:pt x="4618" y="1808"/>
                  </a:lnTo>
                  <a:lnTo>
                    <a:pt x="4570" y="1695"/>
                  </a:lnTo>
                  <a:lnTo>
                    <a:pt x="4523" y="1173"/>
                  </a:lnTo>
                  <a:lnTo>
                    <a:pt x="4475" y="1865"/>
                  </a:lnTo>
                  <a:lnTo>
                    <a:pt x="4427" y="1978"/>
                  </a:lnTo>
                  <a:lnTo>
                    <a:pt x="4380" y="1297"/>
                  </a:lnTo>
                  <a:lnTo>
                    <a:pt x="4332" y="1623"/>
                  </a:lnTo>
                  <a:lnTo>
                    <a:pt x="4285" y="1623"/>
                  </a:lnTo>
                  <a:lnTo>
                    <a:pt x="4237" y="1007"/>
                  </a:lnTo>
                  <a:lnTo>
                    <a:pt x="4190" y="1925"/>
                  </a:lnTo>
                  <a:lnTo>
                    <a:pt x="4142" y="1925"/>
                  </a:lnTo>
                  <a:lnTo>
                    <a:pt x="4094" y="1241"/>
                  </a:lnTo>
                  <a:lnTo>
                    <a:pt x="4046" y="1674"/>
                  </a:lnTo>
                  <a:lnTo>
                    <a:pt x="3998" y="1674"/>
                  </a:lnTo>
                  <a:lnTo>
                    <a:pt x="3951" y="1042"/>
                  </a:lnTo>
                  <a:lnTo>
                    <a:pt x="3903" y="1865"/>
                  </a:lnTo>
                  <a:lnTo>
                    <a:pt x="3856" y="1865"/>
                  </a:lnTo>
                  <a:lnTo>
                    <a:pt x="3808" y="1192"/>
                  </a:lnTo>
                  <a:lnTo>
                    <a:pt x="3761" y="1730"/>
                  </a:lnTo>
                  <a:lnTo>
                    <a:pt x="3713" y="1730"/>
                  </a:lnTo>
                  <a:lnTo>
                    <a:pt x="3665" y="1079"/>
                  </a:lnTo>
                  <a:lnTo>
                    <a:pt x="3618" y="1828"/>
                  </a:lnTo>
                  <a:lnTo>
                    <a:pt x="3570" y="1828"/>
                  </a:lnTo>
                  <a:lnTo>
                    <a:pt x="3523" y="1156"/>
                  </a:lnTo>
                  <a:lnTo>
                    <a:pt x="3475" y="1746"/>
                  </a:lnTo>
                  <a:lnTo>
                    <a:pt x="3428" y="1746"/>
                  </a:lnTo>
                  <a:lnTo>
                    <a:pt x="3380" y="1082"/>
                  </a:lnTo>
                  <a:lnTo>
                    <a:pt x="3333" y="1818"/>
                  </a:lnTo>
                  <a:lnTo>
                    <a:pt x="3285" y="1697"/>
                  </a:lnTo>
                  <a:lnTo>
                    <a:pt x="3237" y="1197"/>
                  </a:lnTo>
                  <a:lnTo>
                    <a:pt x="3190" y="1859"/>
                  </a:lnTo>
                  <a:lnTo>
                    <a:pt x="3142" y="1979"/>
                  </a:lnTo>
                  <a:lnTo>
                    <a:pt x="3095" y="1275"/>
                  </a:lnTo>
                  <a:lnTo>
                    <a:pt x="3047" y="1609"/>
                  </a:lnTo>
                  <a:lnTo>
                    <a:pt x="3000" y="1609"/>
                  </a:lnTo>
                  <a:lnTo>
                    <a:pt x="2952" y="992"/>
                  </a:lnTo>
                  <a:lnTo>
                    <a:pt x="2903" y="1932"/>
                  </a:lnTo>
                  <a:lnTo>
                    <a:pt x="2856" y="1932"/>
                  </a:lnTo>
                  <a:lnTo>
                    <a:pt x="2808" y="1246"/>
                  </a:lnTo>
                  <a:lnTo>
                    <a:pt x="2761" y="1660"/>
                  </a:lnTo>
                  <a:lnTo>
                    <a:pt x="2713" y="1660"/>
                  </a:lnTo>
                  <a:lnTo>
                    <a:pt x="2666" y="1044"/>
                  </a:lnTo>
                  <a:lnTo>
                    <a:pt x="2618" y="1901"/>
                  </a:lnTo>
                  <a:lnTo>
                    <a:pt x="2571" y="1901"/>
                  </a:lnTo>
                  <a:lnTo>
                    <a:pt x="2523" y="1228"/>
                  </a:lnTo>
                  <a:lnTo>
                    <a:pt x="2475" y="1677"/>
                  </a:lnTo>
                  <a:lnTo>
                    <a:pt x="2428" y="1677"/>
                  </a:lnTo>
                  <a:lnTo>
                    <a:pt x="2380" y="1051"/>
                  </a:lnTo>
                  <a:lnTo>
                    <a:pt x="2333" y="1877"/>
                  </a:lnTo>
                  <a:lnTo>
                    <a:pt x="2285" y="1877"/>
                  </a:lnTo>
                  <a:lnTo>
                    <a:pt x="2238" y="1183"/>
                  </a:lnTo>
                  <a:lnTo>
                    <a:pt x="2190" y="1707"/>
                  </a:lnTo>
                  <a:lnTo>
                    <a:pt x="2142" y="1641"/>
                  </a:lnTo>
                  <a:lnTo>
                    <a:pt x="2095" y="1079"/>
                  </a:lnTo>
                  <a:lnTo>
                    <a:pt x="2047" y="1896"/>
                  </a:lnTo>
                  <a:lnTo>
                    <a:pt x="2000" y="1961"/>
                  </a:lnTo>
                  <a:lnTo>
                    <a:pt x="1952" y="1276"/>
                  </a:lnTo>
                  <a:lnTo>
                    <a:pt x="1905" y="1637"/>
                  </a:lnTo>
                  <a:lnTo>
                    <a:pt x="1857" y="1637"/>
                  </a:lnTo>
                  <a:lnTo>
                    <a:pt x="1810" y="1016"/>
                  </a:lnTo>
                  <a:lnTo>
                    <a:pt x="1761" y="1891"/>
                  </a:lnTo>
                  <a:lnTo>
                    <a:pt x="1713" y="1891"/>
                  </a:lnTo>
                  <a:lnTo>
                    <a:pt x="1666" y="1212"/>
                  </a:lnTo>
                  <a:lnTo>
                    <a:pt x="1618" y="1709"/>
                  </a:lnTo>
                  <a:lnTo>
                    <a:pt x="1571" y="1709"/>
                  </a:lnTo>
                  <a:lnTo>
                    <a:pt x="1523" y="1072"/>
                  </a:lnTo>
                  <a:lnTo>
                    <a:pt x="1476" y="1863"/>
                  </a:lnTo>
                  <a:lnTo>
                    <a:pt x="1428" y="1863"/>
                  </a:lnTo>
                  <a:lnTo>
                    <a:pt x="1380" y="1171"/>
                  </a:lnTo>
                  <a:lnTo>
                    <a:pt x="1333" y="1734"/>
                  </a:lnTo>
                  <a:lnTo>
                    <a:pt x="1285" y="1665"/>
                  </a:lnTo>
                  <a:lnTo>
                    <a:pt x="1238" y="1109"/>
                  </a:lnTo>
                  <a:lnTo>
                    <a:pt x="1190" y="1894"/>
                  </a:lnTo>
                  <a:lnTo>
                    <a:pt x="1143" y="1963"/>
                  </a:lnTo>
                  <a:lnTo>
                    <a:pt x="1095" y="1278"/>
                  </a:lnTo>
                  <a:lnTo>
                    <a:pt x="1048" y="1633"/>
                  </a:lnTo>
                  <a:lnTo>
                    <a:pt x="1000" y="1539"/>
                  </a:lnTo>
                  <a:lnTo>
                    <a:pt x="952" y="1032"/>
                  </a:lnTo>
                  <a:lnTo>
                    <a:pt x="905" y="1971"/>
                  </a:lnTo>
                  <a:lnTo>
                    <a:pt x="857" y="1760"/>
                  </a:lnTo>
                  <a:lnTo>
                    <a:pt x="810" y="1431"/>
                  </a:lnTo>
                  <a:lnTo>
                    <a:pt x="762" y="1795"/>
                  </a:lnTo>
                  <a:lnTo>
                    <a:pt x="715" y="1811"/>
                  </a:lnTo>
                  <a:lnTo>
                    <a:pt x="667" y="1539"/>
                  </a:lnTo>
                  <a:lnTo>
                    <a:pt x="620" y="1803"/>
                  </a:lnTo>
                  <a:lnTo>
                    <a:pt x="571" y="2181"/>
                  </a:lnTo>
                  <a:lnTo>
                    <a:pt x="523" y="1737"/>
                  </a:lnTo>
                  <a:lnTo>
                    <a:pt x="476" y="1739"/>
                  </a:lnTo>
                  <a:lnTo>
                    <a:pt x="428" y="1710"/>
                  </a:lnTo>
                  <a:lnTo>
                    <a:pt x="381" y="1385"/>
                  </a:lnTo>
                  <a:lnTo>
                    <a:pt x="333" y="2228"/>
                  </a:lnTo>
                  <a:lnTo>
                    <a:pt x="286" y="2039"/>
                  </a:lnTo>
                  <a:lnTo>
                    <a:pt x="238" y="1936"/>
                  </a:lnTo>
                  <a:lnTo>
                    <a:pt x="190" y="2294"/>
                  </a:lnTo>
                  <a:lnTo>
                    <a:pt x="143" y="2513"/>
                  </a:lnTo>
                  <a:lnTo>
                    <a:pt x="95" y="2513"/>
                  </a:lnTo>
                  <a:lnTo>
                    <a:pt x="48" y="2891"/>
                  </a:lnTo>
                  <a:lnTo>
                    <a:pt x="0" y="28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2959"/>
                  </a:lnTo>
                  <a:lnTo>
                    <a:pt x="48" y="2959"/>
                  </a:lnTo>
                  <a:lnTo>
                    <a:pt x="95" y="2581"/>
                  </a:lnTo>
                  <a:lnTo>
                    <a:pt x="143" y="2581"/>
                  </a:lnTo>
                  <a:lnTo>
                    <a:pt x="190" y="2362"/>
                  </a:lnTo>
                  <a:lnTo>
                    <a:pt x="238" y="1730"/>
                  </a:lnTo>
                  <a:lnTo>
                    <a:pt x="286" y="1730"/>
                  </a:lnTo>
                  <a:lnTo>
                    <a:pt x="333" y="1708"/>
                  </a:lnTo>
                  <a:lnTo>
                    <a:pt x="381" y="862"/>
                  </a:lnTo>
                  <a:lnTo>
                    <a:pt x="428" y="862"/>
                  </a:lnTo>
                  <a:lnTo>
                    <a:pt x="476" y="862"/>
                  </a:lnTo>
                  <a:lnTo>
                    <a:pt x="523" y="527"/>
                  </a:lnTo>
                  <a:lnTo>
                    <a:pt x="571" y="527"/>
                  </a:lnTo>
                  <a:lnTo>
                    <a:pt x="620" y="160"/>
                  </a:lnTo>
                  <a:lnTo>
                    <a:pt x="667" y="99"/>
                  </a:lnTo>
                  <a:lnTo>
                    <a:pt x="715" y="99"/>
                  </a:lnTo>
                  <a:lnTo>
                    <a:pt x="762" y="80"/>
                  </a:lnTo>
                  <a:lnTo>
                    <a:pt x="810" y="49"/>
                  </a:lnTo>
                  <a:lnTo>
                    <a:pt x="857" y="49"/>
                  </a:lnTo>
                  <a:lnTo>
                    <a:pt x="905" y="46"/>
                  </a:lnTo>
                  <a:lnTo>
                    <a:pt x="952" y="1"/>
                  </a:lnTo>
                  <a:lnTo>
                    <a:pt x="1000" y="1"/>
                  </a:lnTo>
                  <a:lnTo>
                    <a:pt x="1048" y="1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1"/>
                  </a:lnTo>
                  <a:lnTo>
                    <a:pt x="1618" y="1"/>
                  </a:lnTo>
                  <a:lnTo>
                    <a:pt x="1666" y="0"/>
                  </a:lnTo>
                  <a:lnTo>
                    <a:pt x="1713" y="1"/>
                  </a:lnTo>
                  <a:lnTo>
                    <a:pt x="1761" y="1"/>
                  </a:lnTo>
                  <a:lnTo>
                    <a:pt x="1810" y="1"/>
                  </a:lnTo>
                  <a:lnTo>
                    <a:pt x="1857" y="1"/>
                  </a:lnTo>
                  <a:lnTo>
                    <a:pt x="1905" y="1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1"/>
                  </a:lnTo>
                  <a:lnTo>
                    <a:pt x="2190" y="1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1"/>
                  </a:lnTo>
                  <a:lnTo>
                    <a:pt x="2428" y="1"/>
                  </a:lnTo>
                  <a:lnTo>
                    <a:pt x="2475" y="1"/>
                  </a:lnTo>
                  <a:lnTo>
                    <a:pt x="2523" y="1"/>
                  </a:lnTo>
                  <a:lnTo>
                    <a:pt x="2571" y="1"/>
                  </a:lnTo>
                  <a:lnTo>
                    <a:pt x="2618" y="1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1"/>
                  </a:lnTo>
                  <a:lnTo>
                    <a:pt x="3475" y="1"/>
                  </a:lnTo>
                  <a:lnTo>
                    <a:pt x="3523" y="1"/>
                  </a:lnTo>
                  <a:lnTo>
                    <a:pt x="3570" y="1"/>
                  </a:lnTo>
                  <a:lnTo>
                    <a:pt x="3618" y="1"/>
                  </a:lnTo>
                  <a:lnTo>
                    <a:pt x="3665" y="1"/>
                  </a:lnTo>
                  <a:lnTo>
                    <a:pt x="3713" y="1"/>
                  </a:lnTo>
                  <a:lnTo>
                    <a:pt x="3761" y="1"/>
                  </a:lnTo>
                  <a:lnTo>
                    <a:pt x="3808" y="1"/>
                  </a:lnTo>
                  <a:lnTo>
                    <a:pt x="3856" y="2"/>
                  </a:lnTo>
                  <a:lnTo>
                    <a:pt x="3903" y="2"/>
                  </a:lnTo>
                  <a:lnTo>
                    <a:pt x="3951" y="0"/>
                  </a:lnTo>
                  <a:lnTo>
                    <a:pt x="3998" y="1"/>
                  </a:lnTo>
                  <a:lnTo>
                    <a:pt x="4046" y="1"/>
                  </a:lnTo>
                  <a:lnTo>
                    <a:pt x="4094" y="0"/>
                  </a:lnTo>
                  <a:lnTo>
                    <a:pt x="4142" y="1"/>
                  </a:lnTo>
                  <a:lnTo>
                    <a:pt x="4190" y="1"/>
                  </a:lnTo>
                  <a:lnTo>
                    <a:pt x="4237" y="0"/>
                  </a:lnTo>
                  <a:lnTo>
                    <a:pt x="4285" y="1"/>
                  </a:lnTo>
                  <a:lnTo>
                    <a:pt x="4332" y="1"/>
                  </a:lnTo>
                  <a:lnTo>
                    <a:pt x="4380" y="0"/>
                  </a:lnTo>
                  <a:lnTo>
                    <a:pt x="4427" y="1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130"/>
                  </a:lnTo>
                  <a:lnTo>
                    <a:pt x="4665" y="82"/>
                  </a:lnTo>
                  <a:lnTo>
                    <a:pt x="4618" y="131"/>
                  </a:lnTo>
                  <a:lnTo>
                    <a:pt x="4570" y="131"/>
                  </a:lnTo>
                  <a:lnTo>
                    <a:pt x="4523" y="87"/>
                  </a:lnTo>
                  <a:lnTo>
                    <a:pt x="4475" y="108"/>
                  </a:lnTo>
                  <a:lnTo>
                    <a:pt x="4427" y="126"/>
                  </a:lnTo>
                  <a:lnTo>
                    <a:pt x="4380" y="82"/>
                  </a:lnTo>
                  <a:lnTo>
                    <a:pt x="4332" y="118"/>
                  </a:lnTo>
                  <a:lnTo>
                    <a:pt x="4285" y="118"/>
                  </a:lnTo>
                  <a:lnTo>
                    <a:pt x="4237" y="73"/>
                  </a:lnTo>
                  <a:lnTo>
                    <a:pt x="4190" y="135"/>
                  </a:lnTo>
                  <a:lnTo>
                    <a:pt x="4142" y="135"/>
                  </a:lnTo>
                  <a:lnTo>
                    <a:pt x="4094" y="84"/>
                  </a:lnTo>
                  <a:lnTo>
                    <a:pt x="4046" y="115"/>
                  </a:lnTo>
                  <a:lnTo>
                    <a:pt x="3998" y="115"/>
                  </a:lnTo>
                  <a:lnTo>
                    <a:pt x="3951" y="75"/>
                  </a:lnTo>
                  <a:lnTo>
                    <a:pt x="3903" y="132"/>
                  </a:lnTo>
                  <a:lnTo>
                    <a:pt x="3856" y="132"/>
                  </a:lnTo>
                  <a:lnTo>
                    <a:pt x="3808" y="81"/>
                  </a:lnTo>
                  <a:lnTo>
                    <a:pt x="3761" y="117"/>
                  </a:lnTo>
                  <a:lnTo>
                    <a:pt x="3713" y="110"/>
                  </a:lnTo>
                  <a:lnTo>
                    <a:pt x="3665" y="78"/>
                  </a:lnTo>
                  <a:lnTo>
                    <a:pt x="3618" y="139"/>
                  </a:lnTo>
                  <a:lnTo>
                    <a:pt x="3570" y="139"/>
                  </a:lnTo>
                  <a:lnTo>
                    <a:pt x="3523" y="94"/>
                  </a:lnTo>
                  <a:lnTo>
                    <a:pt x="3475" y="132"/>
                  </a:lnTo>
                  <a:lnTo>
                    <a:pt x="3428" y="132"/>
                  </a:lnTo>
                  <a:lnTo>
                    <a:pt x="3380" y="92"/>
                  </a:lnTo>
                  <a:lnTo>
                    <a:pt x="3333" y="137"/>
                  </a:lnTo>
                  <a:lnTo>
                    <a:pt x="3285" y="137"/>
                  </a:lnTo>
                  <a:lnTo>
                    <a:pt x="3237" y="88"/>
                  </a:lnTo>
                  <a:lnTo>
                    <a:pt x="3190" y="111"/>
                  </a:lnTo>
                  <a:lnTo>
                    <a:pt x="3142" y="133"/>
                  </a:lnTo>
                  <a:lnTo>
                    <a:pt x="3095" y="86"/>
                  </a:lnTo>
                  <a:lnTo>
                    <a:pt x="3047" y="123"/>
                  </a:lnTo>
                  <a:lnTo>
                    <a:pt x="3000" y="123"/>
                  </a:lnTo>
                  <a:lnTo>
                    <a:pt x="2952" y="75"/>
                  </a:lnTo>
                  <a:lnTo>
                    <a:pt x="2903" y="121"/>
                  </a:lnTo>
                  <a:lnTo>
                    <a:pt x="2856" y="121"/>
                  </a:lnTo>
                  <a:lnTo>
                    <a:pt x="2808" y="76"/>
                  </a:lnTo>
                  <a:lnTo>
                    <a:pt x="2761" y="113"/>
                  </a:lnTo>
                  <a:lnTo>
                    <a:pt x="2713" y="113"/>
                  </a:lnTo>
                  <a:lnTo>
                    <a:pt x="2666" y="68"/>
                  </a:lnTo>
                  <a:lnTo>
                    <a:pt x="2618" y="125"/>
                  </a:lnTo>
                  <a:lnTo>
                    <a:pt x="2571" y="120"/>
                  </a:lnTo>
                  <a:lnTo>
                    <a:pt x="2523" y="78"/>
                  </a:lnTo>
                  <a:lnTo>
                    <a:pt x="2475" y="117"/>
                  </a:lnTo>
                  <a:lnTo>
                    <a:pt x="2428" y="117"/>
                  </a:lnTo>
                  <a:lnTo>
                    <a:pt x="2380" y="81"/>
                  </a:lnTo>
                  <a:lnTo>
                    <a:pt x="2333" y="123"/>
                  </a:lnTo>
                  <a:lnTo>
                    <a:pt x="2285" y="123"/>
                  </a:lnTo>
                  <a:lnTo>
                    <a:pt x="2238" y="76"/>
                  </a:lnTo>
                  <a:lnTo>
                    <a:pt x="2190" y="118"/>
                  </a:lnTo>
                  <a:lnTo>
                    <a:pt x="2142" y="118"/>
                  </a:lnTo>
                  <a:lnTo>
                    <a:pt x="2095" y="73"/>
                  </a:lnTo>
                  <a:lnTo>
                    <a:pt x="2047" y="112"/>
                  </a:lnTo>
                  <a:lnTo>
                    <a:pt x="2000" y="128"/>
                  </a:lnTo>
                  <a:lnTo>
                    <a:pt x="1952" y="85"/>
                  </a:lnTo>
                  <a:lnTo>
                    <a:pt x="1905" y="120"/>
                  </a:lnTo>
                  <a:lnTo>
                    <a:pt x="1857" y="120"/>
                  </a:lnTo>
                  <a:lnTo>
                    <a:pt x="1810" y="79"/>
                  </a:lnTo>
                  <a:lnTo>
                    <a:pt x="1761" y="130"/>
                  </a:lnTo>
                  <a:lnTo>
                    <a:pt x="1713" y="126"/>
                  </a:lnTo>
                  <a:lnTo>
                    <a:pt x="1666" y="83"/>
                  </a:lnTo>
                  <a:lnTo>
                    <a:pt x="1618" y="137"/>
                  </a:lnTo>
                  <a:lnTo>
                    <a:pt x="1571" y="137"/>
                  </a:lnTo>
                  <a:lnTo>
                    <a:pt x="1523" y="90"/>
                  </a:lnTo>
                  <a:lnTo>
                    <a:pt x="1476" y="130"/>
                  </a:lnTo>
                  <a:lnTo>
                    <a:pt x="1428" y="120"/>
                  </a:lnTo>
                  <a:lnTo>
                    <a:pt x="1380" y="79"/>
                  </a:lnTo>
                  <a:lnTo>
                    <a:pt x="1333" y="137"/>
                  </a:lnTo>
                  <a:lnTo>
                    <a:pt x="1285" y="118"/>
                  </a:lnTo>
                  <a:lnTo>
                    <a:pt x="1238" y="92"/>
                  </a:lnTo>
                  <a:lnTo>
                    <a:pt x="1190" y="144"/>
                  </a:lnTo>
                  <a:lnTo>
                    <a:pt x="1143" y="140"/>
                  </a:lnTo>
                  <a:lnTo>
                    <a:pt x="1095" y="118"/>
                  </a:lnTo>
                  <a:lnTo>
                    <a:pt x="1048" y="187"/>
                  </a:lnTo>
                  <a:lnTo>
                    <a:pt x="1000" y="187"/>
                  </a:lnTo>
                  <a:lnTo>
                    <a:pt x="952" y="140"/>
                  </a:lnTo>
                  <a:lnTo>
                    <a:pt x="905" y="205"/>
                  </a:lnTo>
                  <a:lnTo>
                    <a:pt x="857" y="212"/>
                  </a:lnTo>
                  <a:lnTo>
                    <a:pt x="810" y="152"/>
                  </a:lnTo>
                  <a:lnTo>
                    <a:pt x="762" y="170"/>
                  </a:lnTo>
                  <a:lnTo>
                    <a:pt x="715" y="163"/>
                  </a:lnTo>
                  <a:lnTo>
                    <a:pt x="667" y="145"/>
                  </a:lnTo>
                  <a:lnTo>
                    <a:pt x="620" y="160"/>
                  </a:lnTo>
                  <a:lnTo>
                    <a:pt x="571" y="527"/>
                  </a:lnTo>
                  <a:lnTo>
                    <a:pt x="523" y="527"/>
                  </a:lnTo>
                  <a:lnTo>
                    <a:pt x="476" y="862"/>
                  </a:lnTo>
                  <a:lnTo>
                    <a:pt x="428" y="862"/>
                  </a:lnTo>
                  <a:lnTo>
                    <a:pt x="381" y="862"/>
                  </a:lnTo>
                  <a:lnTo>
                    <a:pt x="333" y="1708"/>
                  </a:lnTo>
                  <a:lnTo>
                    <a:pt x="286" y="1730"/>
                  </a:lnTo>
                  <a:lnTo>
                    <a:pt x="238" y="1730"/>
                  </a:lnTo>
                  <a:lnTo>
                    <a:pt x="190" y="2362"/>
                  </a:lnTo>
                  <a:lnTo>
                    <a:pt x="143" y="2581"/>
                  </a:lnTo>
                  <a:lnTo>
                    <a:pt x="95" y="2581"/>
                  </a:lnTo>
                  <a:lnTo>
                    <a:pt x="48" y="2959"/>
                  </a:lnTo>
                  <a:lnTo>
                    <a:pt x="0" y="29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2959"/>
                  </a:lnTo>
                  <a:lnTo>
                    <a:pt x="48" y="2959"/>
                  </a:lnTo>
                  <a:lnTo>
                    <a:pt x="95" y="2581"/>
                  </a:lnTo>
                  <a:lnTo>
                    <a:pt x="143" y="2581"/>
                  </a:lnTo>
                  <a:lnTo>
                    <a:pt x="190" y="2362"/>
                  </a:lnTo>
                  <a:lnTo>
                    <a:pt x="238" y="1730"/>
                  </a:lnTo>
                  <a:lnTo>
                    <a:pt x="286" y="1730"/>
                  </a:lnTo>
                  <a:lnTo>
                    <a:pt x="333" y="1708"/>
                  </a:lnTo>
                  <a:lnTo>
                    <a:pt x="381" y="862"/>
                  </a:lnTo>
                  <a:lnTo>
                    <a:pt x="428" y="862"/>
                  </a:lnTo>
                  <a:lnTo>
                    <a:pt x="476" y="862"/>
                  </a:lnTo>
                  <a:lnTo>
                    <a:pt x="523" y="527"/>
                  </a:lnTo>
                  <a:lnTo>
                    <a:pt x="571" y="527"/>
                  </a:lnTo>
                  <a:lnTo>
                    <a:pt x="620" y="160"/>
                  </a:lnTo>
                  <a:lnTo>
                    <a:pt x="667" y="99"/>
                  </a:lnTo>
                  <a:lnTo>
                    <a:pt x="715" y="99"/>
                  </a:lnTo>
                  <a:lnTo>
                    <a:pt x="762" y="80"/>
                  </a:lnTo>
                  <a:lnTo>
                    <a:pt x="810" y="49"/>
                  </a:lnTo>
                  <a:lnTo>
                    <a:pt x="857" y="49"/>
                  </a:lnTo>
                  <a:lnTo>
                    <a:pt x="905" y="46"/>
                  </a:lnTo>
                  <a:lnTo>
                    <a:pt x="952" y="1"/>
                  </a:lnTo>
                  <a:lnTo>
                    <a:pt x="1000" y="1"/>
                  </a:lnTo>
                  <a:lnTo>
                    <a:pt x="1048" y="1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1"/>
                  </a:lnTo>
                  <a:lnTo>
                    <a:pt x="4380" y="0"/>
                  </a:lnTo>
                  <a:lnTo>
                    <a:pt x="4332" y="1"/>
                  </a:lnTo>
                  <a:lnTo>
                    <a:pt x="4285" y="1"/>
                  </a:lnTo>
                  <a:lnTo>
                    <a:pt x="4237" y="0"/>
                  </a:lnTo>
                  <a:lnTo>
                    <a:pt x="4190" y="1"/>
                  </a:lnTo>
                  <a:lnTo>
                    <a:pt x="4142" y="1"/>
                  </a:lnTo>
                  <a:lnTo>
                    <a:pt x="4094" y="0"/>
                  </a:lnTo>
                  <a:lnTo>
                    <a:pt x="4046" y="1"/>
                  </a:lnTo>
                  <a:lnTo>
                    <a:pt x="3998" y="1"/>
                  </a:lnTo>
                  <a:lnTo>
                    <a:pt x="3951" y="0"/>
                  </a:lnTo>
                  <a:lnTo>
                    <a:pt x="3903" y="2"/>
                  </a:lnTo>
                  <a:lnTo>
                    <a:pt x="3856" y="2"/>
                  </a:lnTo>
                  <a:lnTo>
                    <a:pt x="3808" y="1"/>
                  </a:lnTo>
                  <a:lnTo>
                    <a:pt x="3761" y="1"/>
                  </a:lnTo>
                  <a:lnTo>
                    <a:pt x="3713" y="1"/>
                  </a:lnTo>
                  <a:lnTo>
                    <a:pt x="3665" y="1"/>
                  </a:lnTo>
                  <a:lnTo>
                    <a:pt x="3618" y="1"/>
                  </a:lnTo>
                  <a:lnTo>
                    <a:pt x="3570" y="1"/>
                  </a:lnTo>
                  <a:lnTo>
                    <a:pt x="3523" y="1"/>
                  </a:lnTo>
                  <a:lnTo>
                    <a:pt x="3475" y="1"/>
                  </a:lnTo>
                  <a:lnTo>
                    <a:pt x="3428" y="1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1"/>
                  </a:lnTo>
                  <a:lnTo>
                    <a:pt x="2571" y="1"/>
                  </a:lnTo>
                  <a:lnTo>
                    <a:pt x="2523" y="1"/>
                  </a:lnTo>
                  <a:lnTo>
                    <a:pt x="2475" y="1"/>
                  </a:lnTo>
                  <a:lnTo>
                    <a:pt x="2428" y="1"/>
                  </a:lnTo>
                  <a:lnTo>
                    <a:pt x="2380" y="1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1"/>
                  </a:lnTo>
                  <a:lnTo>
                    <a:pt x="2142" y="1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1"/>
                  </a:lnTo>
                  <a:lnTo>
                    <a:pt x="1857" y="1"/>
                  </a:lnTo>
                  <a:lnTo>
                    <a:pt x="1810" y="1"/>
                  </a:lnTo>
                  <a:lnTo>
                    <a:pt x="1761" y="1"/>
                  </a:lnTo>
                  <a:lnTo>
                    <a:pt x="1713" y="1"/>
                  </a:lnTo>
                  <a:lnTo>
                    <a:pt x="1666" y="0"/>
                  </a:lnTo>
                  <a:lnTo>
                    <a:pt x="1618" y="1"/>
                  </a:lnTo>
                  <a:lnTo>
                    <a:pt x="1571" y="1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1"/>
                  </a:lnTo>
                  <a:lnTo>
                    <a:pt x="1000" y="1"/>
                  </a:lnTo>
                  <a:lnTo>
                    <a:pt x="952" y="1"/>
                  </a:lnTo>
                  <a:lnTo>
                    <a:pt x="905" y="46"/>
                  </a:lnTo>
                  <a:lnTo>
                    <a:pt x="857" y="49"/>
                  </a:lnTo>
                  <a:lnTo>
                    <a:pt x="810" y="49"/>
                  </a:lnTo>
                  <a:lnTo>
                    <a:pt x="762" y="80"/>
                  </a:lnTo>
                  <a:lnTo>
                    <a:pt x="715" y="99"/>
                  </a:lnTo>
                  <a:lnTo>
                    <a:pt x="667" y="99"/>
                  </a:lnTo>
                  <a:lnTo>
                    <a:pt x="620" y="160"/>
                  </a:lnTo>
                  <a:lnTo>
                    <a:pt x="571" y="527"/>
                  </a:lnTo>
                  <a:lnTo>
                    <a:pt x="523" y="527"/>
                  </a:lnTo>
                  <a:lnTo>
                    <a:pt x="476" y="862"/>
                  </a:lnTo>
                  <a:lnTo>
                    <a:pt x="428" y="862"/>
                  </a:lnTo>
                  <a:lnTo>
                    <a:pt x="381" y="862"/>
                  </a:lnTo>
                  <a:lnTo>
                    <a:pt x="333" y="1708"/>
                  </a:lnTo>
                  <a:lnTo>
                    <a:pt x="286" y="1730"/>
                  </a:lnTo>
                  <a:lnTo>
                    <a:pt x="238" y="1730"/>
                  </a:lnTo>
                  <a:lnTo>
                    <a:pt x="190" y="2362"/>
                  </a:lnTo>
                  <a:lnTo>
                    <a:pt x="143" y="2581"/>
                  </a:lnTo>
                  <a:lnTo>
                    <a:pt x="95" y="2581"/>
                  </a:lnTo>
                  <a:lnTo>
                    <a:pt x="48" y="2959"/>
                  </a:lnTo>
                  <a:lnTo>
                    <a:pt x="0" y="29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0"/>
                  </a:lnTo>
                  <a:lnTo>
                    <a:pt x="4380" y="0"/>
                  </a:lnTo>
                  <a:lnTo>
                    <a:pt x="4332" y="0"/>
                  </a:lnTo>
                  <a:lnTo>
                    <a:pt x="4285" y="0"/>
                  </a:lnTo>
                  <a:lnTo>
                    <a:pt x="4237" y="0"/>
                  </a:lnTo>
                  <a:lnTo>
                    <a:pt x="4190" y="0"/>
                  </a:lnTo>
                  <a:lnTo>
                    <a:pt x="4142" y="0"/>
                  </a:lnTo>
                  <a:lnTo>
                    <a:pt x="4094" y="0"/>
                  </a:lnTo>
                  <a:lnTo>
                    <a:pt x="4046" y="0"/>
                  </a:lnTo>
                  <a:lnTo>
                    <a:pt x="3998" y="0"/>
                  </a:lnTo>
                  <a:lnTo>
                    <a:pt x="3951" y="0"/>
                  </a:lnTo>
                  <a:lnTo>
                    <a:pt x="3903" y="0"/>
                  </a:lnTo>
                  <a:lnTo>
                    <a:pt x="3856" y="0"/>
                  </a:lnTo>
                  <a:lnTo>
                    <a:pt x="3808" y="0"/>
                  </a:lnTo>
                  <a:lnTo>
                    <a:pt x="3761" y="0"/>
                  </a:lnTo>
                  <a:lnTo>
                    <a:pt x="3713" y="0"/>
                  </a:lnTo>
                  <a:lnTo>
                    <a:pt x="3665" y="0"/>
                  </a:lnTo>
                  <a:lnTo>
                    <a:pt x="3618" y="0"/>
                  </a:lnTo>
                  <a:lnTo>
                    <a:pt x="3570" y="0"/>
                  </a:lnTo>
                  <a:lnTo>
                    <a:pt x="3523" y="0"/>
                  </a:lnTo>
                  <a:lnTo>
                    <a:pt x="3475" y="0"/>
                  </a:lnTo>
                  <a:lnTo>
                    <a:pt x="3428" y="0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1"/>
                  </a:lnTo>
                  <a:lnTo>
                    <a:pt x="1000" y="1"/>
                  </a:lnTo>
                  <a:lnTo>
                    <a:pt x="952" y="1"/>
                  </a:lnTo>
                  <a:lnTo>
                    <a:pt x="905" y="46"/>
                  </a:lnTo>
                  <a:lnTo>
                    <a:pt x="857" y="49"/>
                  </a:lnTo>
                  <a:lnTo>
                    <a:pt x="810" y="49"/>
                  </a:lnTo>
                  <a:lnTo>
                    <a:pt x="762" y="80"/>
                  </a:lnTo>
                  <a:lnTo>
                    <a:pt x="715" y="99"/>
                  </a:lnTo>
                  <a:lnTo>
                    <a:pt x="667" y="99"/>
                  </a:lnTo>
                  <a:lnTo>
                    <a:pt x="620" y="160"/>
                  </a:lnTo>
                  <a:lnTo>
                    <a:pt x="571" y="527"/>
                  </a:lnTo>
                  <a:lnTo>
                    <a:pt x="523" y="527"/>
                  </a:lnTo>
                  <a:lnTo>
                    <a:pt x="476" y="862"/>
                  </a:lnTo>
                  <a:lnTo>
                    <a:pt x="428" y="862"/>
                  </a:lnTo>
                  <a:lnTo>
                    <a:pt x="381" y="862"/>
                  </a:lnTo>
                  <a:lnTo>
                    <a:pt x="333" y="1708"/>
                  </a:lnTo>
                  <a:lnTo>
                    <a:pt x="286" y="1730"/>
                  </a:lnTo>
                  <a:lnTo>
                    <a:pt x="238" y="1730"/>
                  </a:lnTo>
                  <a:lnTo>
                    <a:pt x="190" y="2362"/>
                  </a:lnTo>
                  <a:lnTo>
                    <a:pt x="143" y="2581"/>
                  </a:lnTo>
                  <a:lnTo>
                    <a:pt x="95" y="2581"/>
                  </a:lnTo>
                  <a:lnTo>
                    <a:pt x="48" y="2959"/>
                  </a:lnTo>
                  <a:lnTo>
                    <a:pt x="0" y="29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37160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1436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14360" y="51451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314360" y="46753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14360" y="42051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14360" y="3736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14360" y="3267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14360" y="27957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14360" y="23274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14360" y="18572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14360" y="13874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1436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71600" y="5614920"/>
              <a:ext cx="748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99720" y="5500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93880" y="50306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93880" y="45608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93880" y="40910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93880" y="36226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93880" y="31528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93880" y="2682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93880" y="22129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93880" y="1744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93880" y="1273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90560" y="8031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362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40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63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433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8209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9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75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9528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32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1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87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64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42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21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599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97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533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7310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110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488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29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16200000">
              <a:off x="-102240" y="308232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447920" y="106668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rimary fore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FTING CULTIVATION, 30 persons/k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81080" y="41148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10400" y="2438280"/>
              <a:ext cx="23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low -- pione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352680" y="76212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ung second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1221" name=""/>
            <p:cNvSpPr/>
            <p:nvPr/>
          </p:nvSpPr>
          <p:spPr>
            <a:xfrm>
              <a:off x="1371600" y="917640"/>
              <a:ext cx="7613640" cy="450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71600" y="917640"/>
              <a:ext cx="7613640" cy="450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71600" y="952560"/>
              <a:ext cx="7613640" cy="4470480"/>
            </a:xfrm>
            <a:custGeom>
              <a:avLst/>
              <a:gdLst/>
              <a:ahLst/>
              <a:rect l="l" t="t" r="r" b="b"/>
              <a:pathLst>
                <a:path w="4796" h="2816">
                  <a:moveTo>
                    <a:pt x="0" y="2816"/>
                  </a:moveTo>
                  <a:lnTo>
                    <a:pt x="0" y="2816"/>
                  </a:lnTo>
                  <a:lnTo>
                    <a:pt x="49" y="2816"/>
                  </a:lnTo>
                  <a:lnTo>
                    <a:pt x="97" y="2816"/>
                  </a:lnTo>
                  <a:lnTo>
                    <a:pt x="146" y="2816"/>
                  </a:lnTo>
                  <a:lnTo>
                    <a:pt x="193" y="2816"/>
                  </a:lnTo>
                  <a:lnTo>
                    <a:pt x="242" y="2816"/>
                  </a:lnTo>
                  <a:lnTo>
                    <a:pt x="291" y="2816"/>
                  </a:lnTo>
                  <a:lnTo>
                    <a:pt x="339" y="2814"/>
                  </a:lnTo>
                  <a:lnTo>
                    <a:pt x="388" y="2786"/>
                  </a:lnTo>
                  <a:lnTo>
                    <a:pt x="436" y="2601"/>
                  </a:lnTo>
                  <a:lnTo>
                    <a:pt x="485" y="2216"/>
                  </a:lnTo>
                  <a:lnTo>
                    <a:pt x="533" y="2510"/>
                  </a:lnTo>
                  <a:lnTo>
                    <a:pt x="581" y="2215"/>
                  </a:lnTo>
                  <a:lnTo>
                    <a:pt x="630" y="1341"/>
                  </a:lnTo>
                  <a:lnTo>
                    <a:pt x="678" y="1942"/>
                  </a:lnTo>
                  <a:lnTo>
                    <a:pt x="727" y="1677"/>
                  </a:lnTo>
                  <a:lnTo>
                    <a:pt x="775" y="724"/>
                  </a:lnTo>
                  <a:lnTo>
                    <a:pt x="824" y="1444"/>
                  </a:lnTo>
                  <a:lnTo>
                    <a:pt x="873" y="1307"/>
                  </a:lnTo>
                  <a:lnTo>
                    <a:pt x="921" y="522"/>
                  </a:lnTo>
                  <a:lnTo>
                    <a:pt x="969" y="1050"/>
                  </a:lnTo>
                  <a:lnTo>
                    <a:pt x="1017" y="886"/>
                  </a:lnTo>
                  <a:lnTo>
                    <a:pt x="1066" y="309"/>
                  </a:lnTo>
                  <a:lnTo>
                    <a:pt x="1114" y="846"/>
                  </a:lnTo>
                  <a:lnTo>
                    <a:pt x="1163" y="635"/>
                  </a:lnTo>
                  <a:lnTo>
                    <a:pt x="1212" y="201"/>
                  </a:lnTo>
                  <a:lnTo>
                    <a:pt x="1260" y="680"/>
                  </a:lnTo>
                  <a:lnTo>
                    <a:pt x="1308" y="509"/>
                  </a:lnTo>
                  <a:lnTo>
                    <a:pt x="1356" y="139"/>
                  </a:lnTo>
                  <a:lnTo>
                    <a:pt x="1405" y="632"/>
                  </a:lnTo>
                  <a:lnTo>
                    <a:pt x="1453" y="406"/>
                  </a:lnTo>
                  <a:lnTo>
                    <a:pt x="1502" y="93"/>
                  </a:lnTo>
                  <a:lnTo>
                    <a:pt x="1551" y="549"/>
                  </a:lnTo>
                  <a:lnTo>
                    <a:pt x="1599" y="364"/>
                  </a:lnTo>
                  <a:lnTo>
                    <a:pt x="1648" y="54"/>
                  </a:lnTo>
                  <a:lnTo>
                    <a:pt x="1695" y="561"/>
                  </a:lnTo>
                  <a:lnTo>
                    <a:pt x="1744" y="323"/>
                  </a:lnTo>
                  <a:lnTo>
                    <a:pt x="1792" y="62"/>
                  </a:lnTo>
                  <a:lnTo>
                    <a:pt x="1841" y="483"/>
                  </a:lnTo>
                  <a:lnTo>
                    <a:pt x="1890" y="307"/>
                  </a:lnTo>
                  <a:lnTo>
                    <a:pt x="1938" y="138"/>
                  </a:lnTo>
                  <a:lnTo>
                    <a:pt x="1987" y="522"/>
                  </a:lnTo>
                  <a:lnTo>
                    <a:pt x="2034" y="273"/>
                  </a:lnTo>
                  <a:lnTo>
                    <a:pt x="2083" y="9"/>
                  </a:lnTo>
                  <a:lnTo>
                    <a:pt x="2131" y="588"/>
                  </a:lnTo>
                  <a:lnTo>
                    <a:pt x="2180" y="315"/>
                  </a:lnTo>
                  <a:lnTo>
                    <a:pt x="2229" y="30"/>
                  </a:lnTo>
                  <a:lnTo>
                    <a:pt x="2277" y="515"/>
                  </a:lnTo>
                  <a:lnTo>
                    <a:pt x="2326" y="323"/>
                  </a:lnTo>
                  <a:lnTo>
                    <a:pt x="2374" y="25"/>
                  </a:lnTo>
                  <a:lnTo>
                    <a:pt x="2422" y="518"/>
                  </a:lnTo>
                  <a:lnTo>
                    <a:pt x="2470" y="304"/>
                  </a:lnTo>
                  <a:lnTo>
                    <a:pt x="2519" y="43"/>
                  </a:lnTo>
                  <a:lnTo>
                    <a:pt x="2568" y="454"/>
                  </a:lnTo>
                  <a:lnTo>
                    <a:pt x="2616" y="248"/>
                  </a:lnTo>
                  <a:lnTo>
                    <a:pt x="2665" y="90"/>
                  </a:lnTo>
                  <a:lnTo>
                    <a:pt x="2713" y="524"/>
                  </a:lnTo>
                  <a:lnTo>
                    <a:pt x="2762" y="275"/>
                  </a:lnTo>
                  <a:lnTo>
                    <a:pt x="2809" y="8"/>
                  </a:lnTo>
                  <a:lnTo>
                    <a:pt x="2858" y="482"/>
                  </a:lnTo>
                  <a:lnTo>
                    <a:pt x="2907" y="274"/>
                  </a:lnTo>
                  <a:lnTo>
                    <a:pt x="2955" y="39"/>
                  </a:lnTo>
                  <a:lnTo>
                    <a:pt x="3004" y="513"/>
                  </a:lnTo>
                  <a:lnTo>
                    <a:pt x="3052" y="279"/>
                  </a:lnTo>
                  <a:lnTo>
                    <a:pt x="3101" y="22"/>
                  </a:lnTo>
                  <a:lnTo>
                    <a:pt x="3148" y="464"/>
                  </a:lnTo>
                  <a:lnTo>
                    <a:pt x="3197" y="258"/>
                  </a:lnTo>
                  <a:lnTo>
                    <a:pt x="3246" y="151"/>
                  </a:lnTo>
                  <a:lnTo>
                    <a:pt x="3294" y="502"/>
                  </a:lnTo>
                  <a:lnTo>
                    <a:pt x="3343" y="262"/>
                  </a:lnTo>
                  <a:lnTo>
                    <a:pt x="3391" y="15"/>
                  </a:lnTo>
                  <a:lnTo>
                    <a:pt x="3440" y="604"/>
                  </a:lnTo>
                  <a:lnTo>
                    <a:pt x="3488" y="291"/>
                  </a:lnTo>
                  <a:lnTo>
                    <a:pt x="3536" y="17"/>
                  </a:lnTo>
                  <a:lnTo>
                    <a:pt x="3585" y="501"/>
                  </a:lnTo>
                  <a:lnTo>
                    <a:pt x="3633" y="329"/>
                  </a:lnTo>
                  <a:lnTo>
                    <a:pt x="3682" y="37"/>
                  </a:lnTo>
                  <a:lnTo>
                    <a:pt x="3730" y="480"/>
                  </a:lnTo>
                  <a:lnTo>
                    <a:pt x="3779" y="284"/>
                  </a:lnTo>
                  <a:lnTo>
                    <a:pt x="3827" y="45"/>
                  </a:lnTo>
                  <a:lnTo>
                    <a:pt x="3875" y="495"/>
                  </a:lnTo>
                  <a:lnTo>
                    <a:pt x="3924" y="284"/>
                  </a:lnTo>
                  <a:lnTo>
                    <a:pt x="3972" y="43"/>
                  </a:lnTo>
                  <a:lnTo>
                    <a:pt x="4021" y="523"/>
                  </a:lnTo>
                  <a:lnTo>
                    <a:pt x="4069" y="286"/>
                  </a:lnTo>
                  <a:lnTo>
                    <a:pt x="4118" y="26"/>
                  </a:lnTo>
                  <a:lnTo>
                    <a:pt x="4166" y="462"/>
                  </a:lnTo>
                  <a:lnTo>
                    <a:pt x="4215" y="272"/>
                  </a:lnTo>
                  <a:lnTo>
                    <a:pt x="4263" y="186"/>
                  </a:lnTo>
                  <a:lnTo>
                    <a:pt x="4311" y="478"/>
                  </a:lnTo>
                  <a:lnTo>
                    <a:pt x="4360" y="229"/>
                  </a:lnTo>
                  <a:lnTo>
                    <a:pt x="4408" y="0"/>
                  </a:lnTo>
                  <a:lnTo>
                    <a:pt x="4457" y="621"/>
                  </a:lnTo>
                  <a:lnTo>
                    <a:pt x="4505" y="291"/>
                  </a:lnTo>
                  <a:lnTo>
                    <a:pt x="4554" y="16"/>
                  </a:lnTo>
                  <a:lnTo>
                    <a:pt x="4603" y="454"/>
                  </a:lnTo>
                  <a:lnTo>
                    <a:pt x="4650" y="334"/>
                  </a:lnTo>
                  <a:lnTo>
                    <a:pt x="4699" y="230"/>
                  </a:lnTo>
                  <a:lnTo>
                    <a:pt x="4747" y="451"/>
                  </a:lnTo>
                  <a:lnTo>
                    <a:pt x="4796" y="210"/>
                  </a:lnTo>
                  <a:lnTo>
                    <a:pt x="4796" y="2816"/>
                  </a:lnTo>
                  <a:lnTo>
                    <a:pt x="4747" y="2816"/>
                  </a:lnTo>
                  <a:lnTo>
                    <a:pt x="4699" y="2816"/>
                  </a:lnTo>
                  <a:lnTo>
                    <a:pt x="4650" y="2816"/>
                  </a:lnTo>
                  <a:lnTo>
                    <a:pt x="4603" y="2816"/>
                  </a:lnTo>
                  <a:lnTo>
                    <a:pt x="4554" y="2816"/>
                  </a:lnTo>
                  <a:lnTo>
                    <a:pt x="4505" y="2816"/>
                  </a:lnTo>
                  <a:lnTo>
                    <a:pt x="4457" y="2816"/>
                  </a:lnTo>
                  <a:lnTo>
                    <a:pt x="4408" y="2816"/>
                  </a:lnTo>
                  <a:lnTo>
                    <a:pt x="4360" y="2816"/>
                  </a:lnTo>
                  <a:lnTo>
                    <a:pt x="4311" y="2816"/>
                  </a:lnTo>
                  <a:lnTo>
                    <a:pt x="4263" y="2816"/>
                  </a:lnTo>
                  <a:lnTo>
                    <a:pt x="4215" y="2816"/>
                  </a:lnTo>
                  <a:lnTo>
                    <a:pt x="4166" y="2816"/>
                  </a:lnTo>
                  <a:lnTo>
                    <a:pt x="4118" y="2816"/>
                  </a:lnTo>
                  <a:lnTo>
                    <a:pt x="4069" y="2816"/>
                  </a:lnTo>
                  <a:lnTo>
                    <a:pt x="4021" y="2816"/>
                  </a:lnTo>
                  <a:lnTo>
                    <a:pt x="3972" y="2816"/>
                  </a:lnTo>
                  <a:lnTo>
                    <a:pt x="3924" y="2816"/>
                  </a:lnTo>
                  <a:lnTo>
                    <a:pt x="3875" y="2816"/>
                  </a:lnTo>
                  <a:lnTo>
                    <a:pt x="3827" y="2816"/>
                  </a:lnTo>
                  <a:lnTo>
                    <a:pt x="3779" y="2816"/>
                  </a:lnTo>
                  <a:lnTo>
                    <a:pt x="3730" y="2816"/>
                  </a:lnTo>
                  <a:lnTo>
                    <a:pt x="3682" y="2816"/>
                  </a:lnTo>
                  <a:lnTo>
                    <a:pt x="3633" y="2816"/>
                  </a:lnTo>
                  <a:lnTo>
                    <a:pt x="3585" y="2816"/>
                  </a:lnTo>
                  <a:lnTo>
                    <a:pt x="3536" y="2816"/>
                  </a:lnTo>
                  <a:lnTo>
                    <a:pt x="3488" y="2816"/>
                  </a:lnTo>
                  <a:lnTo>
                    <a:pt x="3440" y="2816"/>
                  </a:lnTo>
                  <a:lnTo>
                    <a:pt x="3391" y="2816"/>
                  </a:lnTo>
                  <a:lnTo>
                    <a:pt x="3343" y="2816"/>
                  </a:lnTo>
                  <a:lnTo>
                    <a:pt x="3294" y="2816"/>
                  </a:lnTo>
                  <a:lnTo>
                    <a:pt x="3246" y="2816"/>
                  </a:lnTo>
                  <a:lnTo>
                    <a:pt x="3197" y="2816"/>
                  </a:lnTo>
                  <a:lnTo>
                    <a:pt x="3148" y="2816"/>
                  </a:lnTo>
                  <a:lnTo>
                    <a:pt x="3101" y="2816"/>
                  </a:lnTo>
                  <a:lnTo>
                    <a:pt x="3052" y="2816"/>
                  </a:lnTo>
                  <a:lnTo>
                    <a:pt x="3004" y="2816"/>
                  </a:lnTo>
                  <a:lnTo>
                    <a:pt x="2955" y="2816"/>
                  </a:lnTo>
                  <a:lnTo>
                    <a:pt x="2907" y="2816"/>
                  </a:lnTo>
                  <a:lnTo>
                    <a:pt x="2858" y="2816"/>
                  </a:lnTo>
                  <a:lnTo>
                    <a:pt x="2809" y="2816"/>
                  </a:lnTo>
                  <a:lnTo>
                    <a:pt x="2762" y="2816"/>
                  </a:lnTo>
                  <a:lnTo>
                    <a:pt x="2713" y="2816"/>
                  </a:lnTo>
                  <a:lnTo>
                    <a:pt x="2665" y="2816"/>
                  </a:lnTo>
                  <a:lnTo>
                    <a:pt x="2616" y="2816"/>
                  </a:lnTo>
                  <a:lnTo>
                    <a:pt x="2568" y="2816"/>
                  </a:lnTo>
                  <a:lnTo>
                    <a:pt x="2519" y="2816"/>
                  </a:lnTo>
                  <a:lnTo>
                    <a:pt x="2470" y="2816"/>
                  </a:lnTo>
                  <a:lnTo>
                    <a:pt x="2422" y="2816"/>
                  </a:lnTo>
                  <a:lnTo>
                    <a:pt x="2374" y="2816"/>
                  </a:lnTo>
                  <a:lnTo>
                    <a:pt x="2326" y="2816"/>
                  </a:lnTo>
                  <a:lnTo>
                    <a:pt x="2277" y="2816"/>
                  </a:lnTo>
                  <a:lnTo>
                    <a:pt x="2229" y="2816"/>
                  </a:lnTo>
                  <a:lnTo>
                    <a:pt x="2180" y="2816"/>
                  </a:lnTo>
                  <a:lnTo>
                    <a:pt x="2131" y="2816"/>
                  </a:lnTo>
                  <a:lnTo>
                    <a:pt x="2083" y="2816"/>
                  </a:lnTo>
                  <a:lnTo>
                    <a:pt x="2034" y="2816"/>
                  </a:lnTo>
                  <a:lnTo>
                    <a:pt x="1987" y="2816"/>
                  </a:lnTo>
                  <a:lnTo>
                    <a:pt x="1938" y="2816"/>
                  </a:lnTo>
                  <a:lnTo>
                    <a:pt x="1890" y="2816"/>
                  </a:lnTo>
                  <a:lnTo>
                    <a:pt x="1841" y="2816"/>
                  </a:lnTo>
                  <a:lnTo>
                    <a:pt x="1792" y="2816"/>
                  </a:lnTo>
                  <a:lnTo>
                    <a:pt x="1744" y="2816"/>
                  </a:lnTo>
                  <a:lnTo>
                    <a:pt x="1695" y="2816"/>
                  </a:lnTo>
                  <a:lnTo>
                    <a:pt x="1648" y="2816"/>
                  </a:lnTo>
                  <a:lnTo>
                    <a:pt x="1599" y="2816"/>
                  </a:lnTo>
                  <a:lnTo>
                    <a:pt x="1551" y="2816"/>
                  </a:lnTo>
                  <a:lnTo>
                    <a:pt x="1502" y="2816"/>
                  </a:lnTo>
                  <a:lnTo>
                    <a:pt x="1453" y="2816"/>
                  </a:lnTo>
                  <a:lnTo>
                    <a:pt x="1405" y="2816"/>
                  </a:lnTo>
                  <a:lnTo>
                    <a:pt x="1356" y="2816"/>
                  </a:lnTo>
                  <a:lnTo>
                    <a:pt x="1308" y="2816"/>
                  </a:lnTo>
                  <a:lnTo>
                    <a:pt x="1260" y="2816"/>
                  </a:lnTo>
                  <a:lnTo>
                    <a:pt x="1212" y="2816"/>
                  </a:lnTo>
                  <a:lnTo>
                    <a:pt x="1163" y="2816"/>
                  </a:lnTo>
                  <a:lnTo>
                    <a:pt x="1114" y="2816"/>
                  </a:lnTo>
                  <a:lnTo>
                    <a:pt x="1066" y="2816"/>
                  </a:lnTo>
                  <a:lnTo>
                    <a:pt x="1017" y="2816"/>
                  </a:lnTo>
                  <a:lnTo>
                    <a:pt x="969" y="2816"/>
                  </a:lnTo>
                  <a:lnTo>
                    <a:pt x="921" y="2816"/>
                  </a:lnTo>
                  <a:lnTo>
                    <a:pt x="873" y="2816"/>
                  </a:lnTo>
                  <a:lnTo>
                    <a:pt x="824" y="2816"/>
                  </a:lnTo>
                  <a:lnTo>
                    <a:pt x="775" y="2816"/>
                  </a:lnTo>
                  <a:lnTo>
                    <a:pt x="727" y="2816"/>
                  </a:lnTo>
                  <a:lnTo>
                    <a:pt x="678" y="2816"/>
                  </a:lnTo>
                  <a:lnTo>
                    <a:pt x="630" y="2816"/>
                  </a:lnTo>
                  <a:lnTo>
                    <a:pt x="581" y="2816"/>
                  </a:lnTo>
                  <a:lnTo>
                    <a:pt x="533" y="2816"/>
                  </a:lnTo>
                  <a:lnTo>
                    <a:pt x="485" y="2816"/>
                  </a:lnTo>
                  <a:lnTo>
                    <a:pt x="436" y="2816"/>
                  </a:lnTo>
                  <a:lnTo>
                    <a:pt x="388" y="2816"/>
                  </a:lnTo>
                  <a:lnTo>
                    <a:pt x="339" y="2816"/>
                  </a:lnTo>
                  <a:lnTo>
                    <a:pt x="291" y="2816"/>
                  </a:lnTo>
                  <a:lnTo>
                    <a:pt x="242" y="2816"/>
                  </a:lnTo>
                  <a:lnTo>
                    <a:pt x="193" y="2816"/>
                  </a:lnTo>
                  <a:lnTo>
                    <a:pt x="146" y="2816"/>
                  </a:lnTo>
                  <a:lnTo>
                    <a:pt x="97" y="2816"/>
                  </a:lnTo>
                  <a:lnTo>
                    <a:pt x="49" y="2816"/>
                  </a:lnTo>
                  <a:lnTo>
                    <a:pt x="0" y="2816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71600" y="950760"/>
              <a:ext cx="7613640" cy="4472280"/>
            </a:xfrm>
            <a:custGeom>
              <a:avLst/>
              <a:gdLst/>
              <a:ahLst/>
              <a:rect l="l" t="t" r="r" b="b"/>
              <a:pathLst>
                <a:path w="4796" h="2817">
                  <a:moveTo>
                    <a:pt x="0" y="2817"/>
                  </a:moveTo>
                  <a:lnTo>
                    <a:pt x="0" y="2817"/>
                  </a:lnTo>
                  <a:lnTo>
                    <a:pt x="49" y="2817"/>
                  </a:lnTo>
                  <a:lnTo>
                    <a:pt x="97" y="2817"/>
                  </a:lnTo>
                  <a:lnTo>
                    <a:pt x="146" y="2817"/>
                  </a:lnTo>
                  <a:lnTo>
                    <a:pt x="193" y="2688"/>
                  </a:lnTo>
                  <a:lnTo>
                    <a:pt x="242" y="2605"/>
                  </a:lnTo>
                  <a:lnTo>
                    <a:pt x="291" y="2514"/>
                  </a:lnTo>
                  <a:lnTo>
                    <a:pt x="339" y="1834"/>
                  </a:lnTo>
                  <a:lnTo>
                    <a:pt x="388" y="2010"/>
                  </a:lnTo>
                  <a:lnTo>
                    <a:pt x="436" y="2192"/>
                  </a:lnTo>
                  <a:lnTo>
                    <a:pt x="485" y="1428"/>
                  </a:lnTo>
                  <a:lnTo>
                    <a:pt x="533" y="1264"/>
                  </a:lnTo>
                  <a:lnTo>
                    <a:pt x="581" y="1612"/>
                  </a:lnTo>
                  <a:lnTo>
                    <a:pt x="630" y="938"/>
                  </a:lnTo>
                  <a:lnTo>
                    <a:pt x="678" y="867"/>
                  </a:lnTo>
                  <a:lnTo>
                    <a:pt x="727" y="1003"/>
                  </a:lnTo>
                  <a:lnTo>
                    <a:pt x="775" y="559"/>
                  </a:lnTo>
                  <a:lnTo>
                    <a:pt x="824" y="688"/>
                  </a:lnTo>
                  <a:lnTo>
                    <a:pt x="873" y="674"/>
                  </a:lnTo>
                  <a:lnTo>
                    <a:pt x="921" y="423"/>
                  </a:lnTo>
                  <a:lnTo>
                    <a:pt x="969" y="528"/>
                  </a:lnTo>
                  <a:lnTo>
                    <a:pt x="1017" y="351"/>
                  </a:lnTo>
                  <a:lnTo>
                    <a:pt x="1066" y="238"/>
                  </a:lnTo>
                  <a:lnTo>
                    <a:pt x="1114" y="438"/>
                  </a:lnTo>
                  <a:lnTo>
                    <a:pt x="1163" y="286"/>
                  </a:lnTo>
                  <a:lnTo>
                    <a:pt x="1212" y="145"/>
                  </a:lnTo>
                  <a:lnTo>
                    <a:pt x="1260" y="345"/>
                  </a:lnTo>
                  <a:lnTo>
                    <a:pt x="1308" y="224"/>
                  </a:lnTo>
                  <a:lnTo>
                    <a:pt x="1356" y="92"/>
                  </a:lnTo>
                  <a:lnTo>
                    <a:pt x="1405" y="305"/>
                  </a:lnTo>
                  <a:lnTo>
                    <a:pt x="1453" y="208"/>
                  </a:lnTo>
                  <a:lnTo>
                    <a:pt x="1502" y="52"/>
                  </a:lnTo>
                  <a:lnTo>
                    <a:pt x="1551" y="242"/>
                  </a:lnTo>
                  <a:lnTo>
                    <a:pt x="1599" y="199"/>
                  </a:lnTo>
                  <a:lnTo>
                    <a:pt x="1648" y="34"/>
                  </a:lnTo>
                  <a:lnTo>
                    <a:pt x="1695" y="278"/>
                  </a:lnTo>
                  <a:lnTo>
                    <a:pt x="1744" y="165"/>
                  </a:lnTo>
                  <a:lnTo>
                    <a:pt x="1792" y="43"/>
                  </a:lnTo>
                  <a:lnTo>
                    <a:pt x="1841" y="233"/>
                  </a:lnTo>
                  <a:lnTo>
                    <a:pt x="1890" y="170"/>
                  </a:lnTo>
                  <a:lnTo>
                    <a:pt x="1938" y="96"/>
                  </a:lnTo>
                  <a:lnTo>
                    <a:pt x="1987" y="221"/>
                  </a:lnTo>
                  <a:lnTo>
                    <a:pt x="2034" y="164"/>
                  </a:lnTo>
                  <a:lnTo>
                    <a:pt x="2083" y="8"/>
                  </a:lnTo>
                  <a:lnTo>
                    <a:pt x="2131" y="271"/>
                  </a:lnTo>
                  <a:lnTo>
                    <a:pt x="2180" y="169"/>
                  </a:lnTo>
                  <a:lnTo>
                    <a:pt x="2229" y="23"/>
                  </a:lnTo>
                  <a:lnTo>
                    <a:pt x="2277" y="211"/>
                  </a:lnTo>
                  <a:lnTo>
                    <a:pt x="2326" y="195"/>
                  </a:lnTo>
                  <a:lnTo>
                    <a:pt x="2374" y="19"/>
                  </a:lnTo>
                  <a:lnTo>
                    <a:pt x="2422" y="244"/>
                  </a:lnTo>
                  <a:lnTo>
                    <a:pt x="2470" y="162"/>
                  </a:lnTo>
                  <a:lnTo>
                    <a:pt x="2519" y="28"/>
                  </a:lnTo>
                  <a:lnTo>
                    <a:pt x="2568" y="227"/>
                  </a:lnTo>
                  <a:lnTo>
                    <a:pt x="2616" y="125"/>
                  </a:lnTo>
                  <a:lnTo>
                    <a:pt x="2665" y="77"/>
                  </a:lnTo>
                  <a:lnTo>
                    <a:pt x="2713" y="222"/>
                  </a:lnTo>
                  <a:lnTo>
                    <a:pt x="2762" y="175"/>
                  </a:lnTo>
                  <a:lnTo>
                    <a:pt x="2809" y="8"/>
                  </a:lnTo>
                  <a:lnTo>
                    <a:pt x="2858" y="233"/>
                  </a:lnTo>
                  <a:lnTo>
                    <a:pt x="2907" y="140"/>
                  </a:lnTo>
                  <a:lnTo>
                    <a:pt x="2955" y="32"/>
                  </a:lnTo>
                  <a:lnTo>
                    <a:pt x="3004" y="218"/>
                  </a:lnTo>
                  <a:lnTo>
                    <a:pt x="3052" y="170"/>
                  </a:lnTo>
                  <a:lnTo>
                    <a:pt x="3101" y="16"/>
                  </a:lnTo>
                  <a:lnTo>
                    <a:pt x="3148" y="229"/>
                  </a:lnTo>
                  <a:lnTo>
                    <a:pt x="3197" y="143"/>
                  </a:lnTo>
                  <a:lnTo>
                    <a:pt x="3246" y="104"/>
                  </a:lnTo>
                  <a:lnTo>
                    <a:pt x="3294" y="213"/>
                  </a:lnTo>
                  <a:lnTo>
                    <a:pt x="3343" y="169"/>
                  </a:lnTo>
                  <a:lnTo>
                    <a:pt x="3391" y="12"/>
                  </a:lnTo>
                  <a:lnTo>
                    <a:pt x="3440" y="287"/>
                  </a:lnTo>
                  <a:lnTo>
                    <a:pt x="3488" y="168"/>
                  </a:lnTo>
                  <a:lnTo>
                    <a:pt x="3536" y="16"/>
                  </a:lnTo>
                  <a:lnTo>
                    <a:pt x="3585" y="211"/>
                  </a:lnTo>
                  <a:lnTo>
                    <a:pt x="3633" y="182"/>
                  </a:lnTo>
                  <a:lnTo>
                    <a:pt x="3682" y="27"/>
                  </a:lnTo>
                  <a:lnTo>
                    <a:pt x="3730" y="229"/>
                  </a:lnTo>
                  <a:lnTo>
                    <a:pt x="3779" y="140"/>
                  </a:lnTo>
                  <a:lnTo>
                    <a:pt x="3827" y="33"/>
                  </a:lnTo>
                  <a:lnTo>
                    <a:pt x="3875" y="234"/>
                  </a:lnTo>
                  <a:lnTo>
                    <a:pt x="3924" y="143"/>
                  </a:lnTo>
                  <a:lnTo>
                    <a:pt x="3972" y="38"/>
                  </a:lnTo>
                  <a:lnTo>
                    <a:pt x="4021" y="238"/>
                  </a:lnTo>
                  <a:lnTo>
                    <a:pt x="4069" y="169"/>
                  </a:lnTo>
                  <a:lnTo>
                    <a:pt x="4118" y="20"/>
                  </a:lnTo>
                  <a:lnTo>
                    <a:pt x="4166" y="223"/>
                  </a:lnTo>
                  <a:lnTo>
                    <a:pt x="4215" y="135"/>
                  </a:lnTo>
                  <a:lnTo>
                    <a:pt x="4263" y="119"/>
                  </a:lnTo>
                  <a:lnTo>
                    <a:pt x="4311" y="200"/>
                  </a:lnTo>
                  <a:lnTo>
                    <a:pt x="4360" y="144"/>
                  </a:lnTo>
                  <a:lnTo>
                    <a:pt x="4408" y="0"/>
                  </a:lnTo>
                  <a:lnTo>
                    <a:pt x="4457" y="301"/>
                  </a:lnTo>
                  <a:lnTo>
                    <a:pt x="4505" y="166"/>
                  </a:lnTo>
                  <a:lnTo>
                    <a:pt x="4554" y="13"/>
                  </a:lnTo>
                  <a:lnTo>
                    <a:pt x="4603" y="175"/>
                  </a:lnTo>
                  <a:lnTo>
                    <a:pt x="4650" y="188"/>
                  </a:lnTo>
                  <a:lnTo>
                    <a:pt x="4699" y="115"/>
                  </a:lnTo>
                  <a:lnTo>
                    <a:pt x="4747" y="182"/>
                  </a:lnTo>
                  <a:lnTo>
                    <a:pt x="4796" y="133"/>
                  </a:lnTo>
                  <a:lnTo>
                    <a:pt x="4796" y="211"/>
                  </a:lnTo>
                  <a:lnTo>
                    <a:pt x="4747" y="452"/>
                  </a:lnTo>
                  <a:lnTo>
                    <a:pt x="4699" y="231"/>
                  </a:lnTo>
                  <a:lnTo>
                    <a:pt x="4650" y="335"/>
                  </a:lnTo>
                  <a:lnTo>
                    <a:pt x="4603" y="455"/>
                  </a:lnTo>
                  <a:lnTo>
                    <a:pt x="4554" y="17"/>
                  </a:lnTo>
                  <a:lnTo>
                    <a:pt x="4505" y="292"/>
                  </a:lnTo>
                  <a:lnTo>
                    <a:pt x="4457" y="622"/>
                  </a:lnTo>
                  <a:lnTo>
                    <a:pt x="4408" y="1"/>
                  </a:lnTo>
                  <a:lnTo>
                    <a:pt x="4360" y="230"/>
                  </a:lnTo>
                  <a:lnTo>
                    <a:pt x="4311" y="479"/>
                  </a:lnTo>
                  <a:lnTo>
                    <a:pt x="4263" y="187"/>
                  </a:lnTo>
                  <a:lnTo>
                    <a:pt x="4215" y="273"/>
                  </a:lnTo>
                  <a:lnTo>
                    <a:pt x="4166" y="463"/>
                  </a:lnTo>
                  <a:lnTo>
                    <a:pt x="4118" y="27"/>
                  </a:lnTo>
                  <a:lnTo>
                    <a:pt x="4069" y="287"/>
                  </a:lnTo>
                  <a:lnTo>
                    <a:pt x="4021" y="524"/>
                  </a:lnTo>
                  <a:lnTo>
                    <a:pt x="3972" y="44"/>
                  </a:lnTo>
                  <a:lnTo>
                    <a:pt x="3924" y="285"/>
                  </a:lnTo>
                  <a:lnTo>
                    <a:pt x="3875" y="496"/>
                  </a:lnTo>
                  <a:lnTo>
                    <a:pt x="3827" y="46"/>
                  </a:lnTo>
                  <a:lnTo>
                    <a:pt x="3779" y="285"/>
                  </a:lnTo>
                  <a:lnTo>
                    <a:pt x="3730" y="481"/>
                  </a:lnTo>
                  <a:lnTo>
                    <a:pt x="3682" y="38"/>
                  </a:lnTo>
                  <a:lnTo>
                    <a:pt x="3633" y="330"/>
                  </a:lnTo>
                  <a:lnTo>
                    <a:pt x="3585" y="502"/>
                  </a:lnTo>
                  <a:lnTo>
                    <a:pt x="3536" y="18"/>
                  </a:lnTo>
                  <a:lnTo>
                    <a:pt x="3488" y="292"/>
                  </a:lnTo>
                  <a:lnTo>
                    <a:pt x="3440" y="605"/>
                  </a:lnTo>
                  <a:lnTo>
                    <a:pt x="3391" y="16"/>
                  </a:lnTo>
                  <a:lnTo>
                    <a:pt x="3343" y="263"/>
                  </a:lnTo>
                  <a:lnTo>
                    <a:pt x="3294" y="503"/>
                  </a:lnTo>
                  <a:lnTo>
                    <a:pt x="3246" y="152"/>
                  </a:lnTo>
                  <a:lnTo>
                    <a:pt x="3197" y="259"/>
                  </a:lnTo>
                  <a:lnTo>
                    <a:pt x="3148" y="465"/>
                  </a:lnTo>
                  <a:lnTo>
                    <a:pt x="3101" y="23"/>
                  </a:lnTo>
                  <a:lnTo>
                    <a:pt x="3052" y="280"/>
                  </a:lnTo>
                  <a:lnTo>
                    <a:pt x="3004" y="514"/>
                  </a:lnTo>
                  <a:lnTo>
                    <a:pt x="2955" y="40"/>
                  </a:lnTo>
                  <a:lnTo>
                    <a:pt x="2907" y="275"/>
                  </a:lnTo>
                  <a:lnTo>
                    <a:pt x="2858" y="483"/>
                  </a:lnTo>
                  <a:lnTo>
                    <a:pt x="2809" y="9"/>
                  </a:lnTo>
                  <a:lnTo>
                    <a:pt x="2762" y="276"/>
                  </a:lnTo>
                  <a:lnTo>
                    <a:pt x="2713" y="525"/>
                  </a:lnTo>
                  <a:lnTo>
                    <a:pt x="2665" y="91"/>
                  </a:lnTo>
                  <a:lnTo>
                    <a:pt x="2616" y="249"/>
                  </a:lnTo>
                  <a:lnTo>
                    <a:pt x="2568" y="455"/>
                  </a:lnTo>
                  <a:lnTo>
                    <a:pt x="2519" y="44"/>
                  </a:lnTo>
                  <a:lnTo>
                    <a:pt x="2470" y="305"/>
                  </a:lnTo>
                  <a:lnTo>
                    <a:pt x="2422" y="519"/>
                  </a:lnTo>
                  <a:lnTo>
                    <a:pt x="2374" y="26"/>
                  </a:lnTo>
                  <a:lnTo>
                    <a:pt x="2326" y="324"/>
                  </a:lnTo>
                  <a:lnTo>
                    <a:pt x="2277" y="516"/>
                  </a:lnTo>
                  <a:lnTo>
                    <a:pt x="2229" y="31"/>
                  </a:lnTo>
                  <a:lnTo>
                    <a:pt x="2180" y="316"/>
                  </a:lnTo>
                  <a:lnTo>
                    <a:pt x="2131" y="589"/>
                  </a:lnTo>
                  <a:lnTo>
                    <a:pt x="2083" y="10"/>
                  </a:lnTo>
                  <a:lnTo>
                    <a:pt x="2034" y="274"/>
                  </a:lnTo>
                  <a:lnTo>
                    <a:pt x="1987" y="523"/>
                  </a:lnTo>
                  <a:lnTo>
                    <a:pt x="1938" y="139"/>
                  </a:lnTo>
                  <a:lnTo>
                    <a:pt x="1890" y="308"/>
                  </a:lnTo>
                  <a:lnTo>
                    <a:pt x="1841" y="484"/>
                  </a:lnTo>
                  <a:lnTo>
                    <a:pt x="1792" y="63"/>
                  </a:lnTo>
                  <a:lnTo>
                    <a:pt x="1744" y="324"/>
                  </a:lnTo>
                  <a:lnTo>
                    <a:pt x="1695" y="562"/>
                  </a:lnTo>
                  <a:lnTo>
                    <a:pt x="1648" y="55"/>
                  </a:lnTo>
                  <a:lnTo>
                    <a:pt x="1599" y="365"/>
                  </a:lnTo>
                  <a:lnTo>
                    <a:pt x="1551" y="550"/>
                  </a:lnTo>
                  <a:lnTo>
                    <a:pt x="1502" y="94"/>
                  </a:lnTo>
                  <a:lnTo>
                    <a:pt x="1453" y="407"/>
                  </a:lnTo>
                  <a:lnTo>
                    <a:pt x="1405" y="633"/>
                  </a:lnTo>
                  <a:lnTo>
                    <a:pt x="1356" y="140"/>
                  </a:lnTo>
                  <a:lnTo>
                    <a:pt x="1308" y="510"/>
                  </a:lnTo>
                  <a:lnTo>
                    <a:pt x="1260" y="681"/>
                  </a:lnTo>
                  <a:lnTo>
                    <a:pt x="1212" y="202"/>
                  </a:lnTo>
                  <a:lnTo>
                    <a:pt x="1163" y="636"/>
                  </a:lnTo>
                  <a:lnTo>
                    <a:pt x="1114" y="847"/>
                  </a:lnTo>
                  <a:lnTo>
                    <a:pt x="1066" y="310"/>
                  </a:lnTo>
                  <a:lnTo>
                    <a:pt x="1017" y="887"/>
                  </a:lnTo>
                  <a:lnTo>
                    <a:pt x="969" y="1051"/>
                  </a:lnTo>
                  <a:lnTo>
                    <a:pt x="921" y="523"/>
                  </a:lnTo>
                  <a:lnTo>
                    <a:pt x="873" y="1308"/>
                  </a:lnTo>
                  <a:lnTo>
                    <a:pt x="824" y="1445"/>
                  </a:lnTo>
                  <a:lnTo>
                    <a:pt x="775" y="725"/>
                  </a:lnTo>
                  <a:lnTo>
                    <a:pt x="727" y="1678"/>
                  </a:lnTo>
                  <a:lnTo>
                    <a:pt x="678" y="1943"/>
                  </a:lnTo>
                  <a:lnTo>
                    <a:pt x="630" y="1342"/>
                  </a:lnTo>
                  <a:lnTo>
                    <a:pt x="581" y="2216"/>
                  </a:lnTo>
                  <a:lnTo>
                    <a:pt x="533" y="2511"/>
                  </a:lnTo>
                  <a:lnTo>
                    <a:pt x="485" y="2217"/>
                  </a:lnTo>
                  <a:lnTo>
                    <a:pt x="436" y="2602"/>
                  </a:lnTo>
                  <a:lnTo>
                    <a:pt x="388" y="2787"/>
                  </a:lnTo>
                  <a:lnTo>
                    <a:pt x="339" y="2815"/>
                  </a:lnTo>
                  <a:lnTo>
                    <a:pt x="291" y="2817"/>
                  </a:lnTo>
                  <a:lnTo>
                    <a:pt x="242" y="2817"/>
                  </a:lnTo>
                  <a:lnTo>
                    <a:pt x="193" y="2817"/>
                  </a:lnTo>
                  <a:lnTo>
                    <a:pt x="146" y="2817"/>
                  </a:lnTo>
                  <a:lnTo>
                    <a:pt x="97" y="2817"/>
                  </a:lnTo>
                  <a:lnTo>
                    <a:pt x="49" y="2817"/>
                  </a:lnTo>
                  <a:lnTo>
                    <a:pt x="0" y="28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71600" y="917640"/>
              <a:ext cx="7613640" cy="4505400"/>
            </a:xfrm>
            <a:custGeom>
              <a:avLst/>
              <a:gdLst/>
              <a:ahLst/>
              <a:rect l="l" t="t" r="r" b="b"/>
              <a:pathLst>
                <a:path w="4796" h="2838">
                  <a:moveTo>
                    <a:pt x="0" y="2838"/>
                  </a:moveTo>
                  <a:lnTo>
                    <a:pt x="0" y="2838"/>
                  </a:lnTo>
                  <a:lnTo>
                    <a:pt x="49" y="2838"/>
                  </a:lnTo>
                  <a:lnTo>
                    <a:pt x="97" y="2838"/>
                  </a:lnTo>
                  <a:lnTo>
                    <a:pt x="146" y="2838"/>
                  </a:lnTo>
                  <a:lnTo>
                    <a:pt x="193" y="2709"/>
                  </a:lnTo>
                  <a:lnTo>
                    <a:pt x="242" y="2618"/>
                  </a:lnTo>
                  <a:lnTo>
                    <a:pt x="291" y="2535"/>
                  </a:lnTo>
                  <a:lnTo>
                    <a:pt x="339" y="1835"/>
                  </a:lnTo>
                  <a:lnTo>
                    <a:pt x="388" y="1837"/>
                  </a:lnTo>
                  <a:lnTo>
                    <a:pt x="436" y="2014"/>
                  </a:lnTo>
                  <a:lnTo>
                    <a:pt x="485" y="1324"/>
                  </a:lnTo>
                  <a:lnTo>
                    <a:pt x="533" y="986"/>
                  </a:lnTo>
                  <a:lnTo>
                    <a:pt x="581" y="1113"/>
                  </a:lnTo>
                  <a:lnTo>
                    <a:pt x="630" y="733"/>
                  </a:lnTo>
                  <a:lnTo>
                    <a:pt x="678" y="574"/>
                  </a:lnTo>
                  <a:lnTo>
                    <a:pt x="727" y="481"/>
                  </a:lnTo>
                  <a:lnTo>
                    <a:pt x="775" y="343"/>
                  </a:lnTo>
                  <a:lnTo>
                    <a:pt x="824" y="443"/>
                  </a:lnTo>
                  <a:lnTo>
                    <a:pt x="873" y="252"/>
                  </a:lnTo>
                  <a:lnTo>
                    <a:pt x="921" y="187"/>
                  </a:lnTo>
                  <a:lnTo>
                    <a:pt x="969" y="278"/>
                  </a:lnTo>
                  <a:lnTo>
                    <a:pt x="1017" y="53"/>
                  </a:lnTo>
                  <a:lnTo>
                    <a:pt x="1066" y="25"/>
                  </a:lnTo>
                  <a:lnTo>
                    <a:pt x="1114" y="182"/>
                  </a:lnTo>
                  <a:lnTo>
                    <a:pt x="1163" y="35"/>
                  </a:lnTo>
                  <a:lnTo>
                    <a:pt x="1212" y="15"/>
                  </a:lnTo>
                  <a:lnTo>
                    <a:pt x="1260" y="141"/>
                  </a:lnTo>
                  <a:lnTo>
                    <a:pt x="1308" y="17"/>
                  </a:lnTo>
                  <a:lnTo>
                    <a:pt x="1356" y="0"/>
                  </a:lnTo>
                  <a:lnTo>
                    <a:pt x="1405" y="99"/>
                  </a:lnTo>
                  <a:lnTo>
                    <a:pt x="1453" y="20"/>
                  </a:lnTo>
                  <a:lnTo>
                    <a:pt x="1502" y="0"/>
                  </a:lnTo>
                  <a:lnTo>
                    <a:pt x="1551" y="62"/>
                  </a:lnTo>
                  <a:lnTo>
                    <a:pt x="1599" y="11"/>
                  </a:lnTo>
                  <a:lnTo>
                    <a:pt x="1648" y="0"/>
                  </a:lnTo>
                  <a:lnTo>
                    <a:pt x="1695" y="77"/>
                  </a:lnTo>
                  <a:lnTo>
                    <a:pt x="1744" y="8"/>
                  </a:lnTo>
                  <a:lnTo>
                    <a:pt x="1792" y="0"/>
                  </a:lnTo>
                  <a:lnTo>
                    <a:pt x="1841" y="54"/>
                  </a:lnTo>
                  <a:lnTo>
                    <a:pt x="1890" y="3"/>
                  </a:lnTo>
                  <a:lnTo>
                    <a:pt x="1938" y="55"/>
                  </a:lnTo>
                  <a:lnTo>
                    <a:pt x="1987" y="41"/>
                  </a:lnTo>
                  <a:lnTo>
                    <a:pt x="2034" y="0"/>
                  </a:lnTo>
                  <a:lnTo>
                    <a:pt x="2083" y="0"/>
                  </a:lnTo>
                  <a:lnTo>
                    <a:pt x="2131" y="57"/>
                  </a:lnTo>
                  <a:lnTo>
                    <a:pt x="2180" y="1"/>
                  </a:lnTo>
                  <a:lnTo>
                    <a:pt x="2229" y="0"/>
                  </a:lnTo>
                  <a:lnTo>
                    <a:pt x="2277" y="46"/>
                  </a:lnTo>
                  <a:lnTo>
                    <a:pt x="2326" y="2"/>
                  </a:lnTo>
                  <a:lnTo>
                    <a:pt x="2374" y="0"/>
                  </a:lnTo>
                  <a:lnTo>
                    <a:pt x="2422" y="61"/>
                  </a:lnTo>
                  <a:lnTo>
                    <a:pt x="2470" y="3"/>
                  </a:lnTo>
                  <a:lnTo>
                    <a:pt x="2519" y="0"/>
                  </a:lnTo>
                  <a:lnTo>
                    <a:pt x="2568" y="53"/>
                  </a:lnTo>
                  <a:lnTo>
                    <a:pt x="2616" y="0"/>
                  </a:lnTo>
                  <a:lnTo>
                    <a:pt x="2665" y="35"/>
                  </a:lnTo>
                  <a:lnTo>
                    <a:pt x="2713" y="35"/>
                  </a:lnTo>
                  <a:lnTo>
                    <a:pt x="2762" y="0"/>
                  </a:lnTo>
                  <a:lnTo>
                    <a:pt x="2809" y="0"/>
                  </a:lnTo>
                  <a:lnTo>
                    <a:pt x="2858" y="46"/>
                  </a:lnTo>
                  <a:lnTo>
                    <a:pt x="2907" y="3"/>
                  </a:lnTo>
                  <a:lnTo>
                    <a:pt x="2955" y="17"/>
                  </a:lnTo>
                  <a:lnTo>
                    <a:pt x="3004" y="45"/>
                  </a:lnTo>
                  <a:lnTo>
                    <a:pt x="3052" y="2"/>
                  </a:lnTo>
                  <a:lnTo>
                    <a:pt x="3101" y="0"/>
                  </a:lnTo>
                  <a:lnTo>
                    <a:pt x="3148" y="39"/>
                  </a:lnTo>
                  <a:lnTo>
                    <a:pt x="3197" y="1"/>
                  </a:lnTo>
                  <a:lnTo>
                    <a:pt x="3246" y="59"/>
                  </a:lnTo>
                  <a:lnTo>
                    <a:pt x="3294" y="34"/>
                  </a:lnTo>
                  <a:lnTo>
                    <a:pt x="3343" y="1"/>
                  </a:lnTo>
                  <a:lnTo>
                    <a:pt x="3391" y="0"/>
                  </a:lnTo>
                  <a:lnTo>
                    <a:pt x="3440" y="46"/>
                  </a:lnTo>
                  <a:lnTo>
                    <a:pt x="3488" y="1"/>
                  </a:lnTo>
                  <a:lnTo>
                    <a:pt x="3536" y="0"/>
                  </a:lnTo>
                  <a:lnTo>
                    <a:pt x="3585" y="52"/>
                  </a:lnTo>
                  <a:lnTo>
                    <a:pt x="3633" y="2"/>
                  </a:lnTo>
                  <a:lnTo>
                    <a:pt x="3682" y="0"/>
                  </a:lnTo>
                  <a:lnTo>
                    <a:pt x="3730" y="59"/>
                  </a:lnTo>
                  <a:lnTo>
                    <a:pt x="3779" y="3"/>
                  </a:lnTo>
                  <a:lnTo>
                    <a:pt x="3827" y="0"/>
                  </a:lnTo>
                  <a:lnTo>
                    <a:pt x="3875" y="50"/>
                  </a:lnTo>
                  <a:lnTo>
                    <a:pt x="3924" y="1"/>
                  </a:lnTo>
                  <a:lnTo>
                    <a:pt x="3972" y="15"/>
                  </a:lnTo>
                  <a:lnTo>
                    <a:pt x="4021" y="53"/>
                  </a:lnTo>
                  <a:lnTo>
                    <a:pt x="4069" y="1"/>
                  </a:lnTo>
                  <a:lnTo>
                    <a:pt x="4118" y="0"/>
                  </a:lnTo>
                  <a:lnTo>
                    <a:pt x="4166" y="43"/>
                  </a:lnTo>
                  <a:lnTo>
                    <a:pt x="4215" y="2"/>
                  </a:lnTo>
                  <a:lnTo>
                    <a:pt x="4263" y="54"/>
                  </a:lnTo>
                  <a:lnTo>
                    <a:pt x="4311" y="29"/>
                  </a:lnTo>
                  <a:lnTo>
                    <a:pt x="4360" y="0"/>
                  </a:lnTo>
                  <a:lnTo>
                    <a:pt x="4408" y="0"/>
                  </a:lnTo>
                  <a:lnTo>
                    <a:pt x="4457" y="52"/>
                  </a:lnTo>
                  <a:lnTo>
                    <a:pt x="4505" y="2"/>
                  </a:lnTo>
                  <a:lnTo>
                    <a:pt x="4554" y="0"/>
                  </a:lnTo>
                  <a:lnTo>
                    <a:pt x="4603" y="46"/>
                  </a:lnTo>
                  <a:lnTo>
                    <a:pt x="4650" y="0"/>
                  </a:lnTo>
                  <a:lnTo>
                    <a:pt x="4699" y="62"/>
                  </a:lnTo>
                  <a:lnTo>
                    <a:pt x="4747" y="26"/>
                  </a:lnTo>
                  <a:lnTo>
                    <a:pt x="4796" y="0"/>
                  </a:lnTo>
                  <a:lnTo>
                    <a:pt x="4796" y="154"/>
                  </a:lnTo>
                  <a:lnTo>
                    <a:pt x="4747" y="203"/>
                  </a:lnTo>
                  <a:lnTo>
                    <a:pt x="4699" y="136"/>
                  </a:lnTo>
                  <a:lnTo>
                    <a:pt x="4650" y="209"/>
                  </a:lnTo>
                  <a:lnTo>
                    <a:pt x="4603" y="196"/>
                  </a:lnTo>
                  <a:lnTo>
                    <a:pt x="4554" y="34"/>
                  </a:lnTo>
                  <a:lnTo>
                    <a:pt x="4505" y="187"/>
                  </a:lnTo>
                  <a:lnTo>
                    <a:pt x="4457" y="322"/>
                  </a:lnTo>
                  <a:lnTo>
                    <a:pt x="4408" y="21"/>
                  </a:lnTo>
                  <a:lnTo>
                    <a:pt x="4360" y="165"/>
                  </a:lnTo>
                  <a:lnTo>
                    <a:pt x="4311" y="221"/>
                  </a:lnTo>
                  <a:lnTo>
                    <a:pt x="4263" y="140"/>
                  </a:lnTo>
                  <a:lnTo>
                    <a:pt x="4215" y="156"/>
                  </a:lnTo>
                  <a:lnTo>
                    <a:pt x="4166" y="244"/>
                  </a:lnTo>
                  <a:lnTo>
                    <a:pt x="4118" y="41"/>
                  </a:lnTo>
                  <a:lnTo>
                    <a:pt x="4069" y="190"/>
                  </a:lnTo>
                  <a:lnTo>
                    <a:pt x="4021" y="259"/>
                  </a:lnTo>
                  <a:lnTo>
                    <a:pt x="3972" y="59"/>
                  </a:lnTo>
                  <a:lnTo>
                    <a:pt x="3924" y="164"/>
                  </a:lnTo>
                  <a:lnTo>
                    <a:pt x="3875" y="255"/>
                  </a:lnTo>
                  <a:lnTo>
                    <a:pt x="3827" y="54"/>
                  </a:lnTo>
                  <a:lnTo>
                    <a:pt x="3779" y="161"/>
                  </a:lnTo>
                  <a:lnTo>
                    <a:pt x="3730" y="250"/>
                  </a:lnTo>
                  <a:lnTo>
                    <a:pt x="3682" y="48"/>
                  </a:lnTo>
                  <a:lnTo>
                    <a:pt x="3633" y="203"/>
                  </a:lnTo>
                  <a:lnTo>
                    <a:pt x="3585" y="232"/>
                  </a:lnTo>
                  <a:lnTo>
                    <a:pt x="3536" y="37"/>
                  </a:lnTo>
                  <a:lnTo>
                    <a:pt x="3488" y="189"/>
                  </a:lnTo>
                  <a:lnTo>
                    <a:pt x="3440" y="308"/>
                  </a:lnTo>
                  <a:lnTo>
                    <a:pt x="3391" y="33"/>
                  </a:lnTo>
                  <a:lnTo>
                    <a:pt x="3343" y="190"/>
                  </a:lnTo>
                  <a:lnTo>
                    <a:pt x="3294" y="234"/>
                  </a:lnTo>
                  <a:lnTo>
                    <a:pt x="3246" y="125"/>
                  </a:lnTo>
                  <a:lnTo>
                    <a:pt x="3197" y="164"/>
                  </a:lnTo>
                  <a:lnTo>
                    <a:pt x="3148" y="250"/>
                  </a:lnTo>
                  <a:lnTo>
                    <a:pt x="3101" y="37"/>
                  </a:lnTo>
                  <a:lnTo>
                    <a:pt x="3052" y="191"/>
                  </a:lnTo>
                  <a:lnTo>
                    <a:pt x="3004" y="239"/>
                  </a:lnTo>
                  <a:lnTo>
                    <a:pt x="2955" y="53"/>
                  </a:lnTo>
                  <a:lnTo>
                    <a:pt x="2907" y="161"/>
                  </a:lnTo>
                  <a:lnTo>
                    <a:pt x="2858" y="254"/>
                  </a:lnTo>
                  <a:lnTo>
                    <a:pt x="2809" y="29"/>
                  </a:lnTo>
                  <a:lnTo>
                    <a:pt x="2762" y="196"/>
                  </a:lnTo>
                  <a:lnTo>
                    <a:pt x="2713" y="243"/>
                  </a:lnTo>
                  <a:lnTo>
                    <a:pt x="2665" y="98"/>
                  </a:lnTo>
                  <a:lnTo>
                    <a:pt x="2616" y="146"/>
                  </a:lnTo>
                  <a:lnTo>
                    <a:pt x="2568" y="248"/>
                  </a:lnTo>
                  <a:lnTo>
                    <a:pt x="2519" y="49"/>
                  </a:lnTo>
                  <a:lnTo>
                    <a:pt x="2470" y="183"/>
                  </a:lnTo>
                  <a:lnTo>
                    <a:pt x="2422" y="265"/>
                  </a:lnTo>
                  <a:lnTo>
                    <a:pt x="2374" y="40"/>
                  </a:lnTo>
                  <a:lnTo>
                    <a:pt x="2326" y="216"/>
                  </a:lnTo>
                  <a:lnTo>
                    <a:pt x="2277" y="232"/>
                  </a:lnTo>
                  <a:lnTo>
                    <a:pt x="2229" y="44"/>
                  </a:lnTo>
                  <a:lnTo>
                    <a:pt x="2180" y="190"/>
                  </a:lnTo>
                  <a:lnTo>
                    <a:pt x="2131" y="292"/>
                  </a:lnTo>
                  <a:lnTo>
                    <a:pt x="2083" y="29"/>
                  </a:lnTo>
                  <a:lnTo>
                    <a:pt x="2034" y="185"/>
                  </a:lnTo>
                  <a:lnTo>
                    <a:pt x="1987" y="242"/>
                  </a:lnTo>
                  <a:lnTo>
                    <a:pt x="1938" y="117"/>
                  </a:lnTo>
                  <a:lnTo>
                    <a:pt x="1890" y="191"/>
                  </a:lnTo>
                  <a:lnTo>
                    <a:pt x="1841" y="254"/>
                  </a:lnTo>
                  <a:lnTo>
                    <a:pt x="1792" y="64"/>
                  </a:lnTo>
                  <a:lnTo>
                    <a:pt x="1744" y="186"/>
                  </a:lnTo>
                  <a:lnTo>
                    <a:pt x="1695" y="299"/>
                  </a:lnTo>
                  <a:lnTo>
                    <a:pt x="1648" y="55"/>
                  </a:lnTo>
                  <a:lnTo>
                    <a:pt x="1599" y="220"/>
                  </a:lnTo>
                  <a:lnTo>
                    <a:pt x="1551" y="263"/>
                  </a:lnTo>
                  <a:lnTo>
                    <a:pt x="1502" y="73"/>
                  </a:lnTo>
                  <a:lnTo>
                    <a:pt x="1453" y="229"/>
                  </a:lnTo>
                  <a:lnTo>
                    <a:pt x="1405" y="326"/>
                  </a:lnTo>
                  <a:lnTo>
                    <a:pt x="1356" y="113"/>
                  </a:lnTo>
                  <a:lnTo>
                    <a:pt x="1308" y="245"/>
                  </a:lnTo>
                  <a:lnTo>
                    <a:pt x="1260" y="366"/>
                  </a:lnTo>
                  <a:lnTo>
                    <a:pt x="1212" y="166"/>
                  </a:lnTo>
                  <a:lnTo>
                    <a:pt x="1163" y="307"/>
                  </a:lnTo>
                  <a:lnTo>
                    <a:pt x="1114" y="459"/>
                  </a:lnTo>
                  <a:lnTo>
                    <a:pt x="1066" y="259"/>
                  </a:lnTo>
                  <a:lnTo>
                    <a:pt x="1017" y="372"/>
                  </a:lnTo>
                  <a:lnTo>
                    <a:pt x="969" y="549"/>
                  </a:lnTo>
                  <a:lnTo>
                    <a:pt x="921" y="444"/>
                  </a:lnTo>
                  <a:lnTo>
                    <a:pt x="873" y="695"/>
                  </a:lnTo>
                  <a:lnTo>
                    <a:pt x="824" y="709"/>
                  </a:lnTo>
                  <a:lnTo>
                    <a:pt x="775" y="580"/>
                  </a:lnTo>
                  <a:lnTo>
                    <a:pt x="727" y="1024"/>
                  </a:lnTo>
                  <a:lnTo>
                    <a:pt x="678" y="888"/>
                  </a:lnTo>
                  <a:lnTo>
                    <a:pt x="630" y="959"/>
                  </a:lnTo>
                  <a:lnTo>
                    <a:pt x="581" y="1633"/>
                  </a:lnTo>
                  <a:lnTo>
                    <a:pt x="533" y="1285"/>
                  </a:lnTo>
                  <a:lnTo>
                    <a:pt x="485" y="1449"/>
                  </a:lnTo>
                  <a:lnTo>
                    <a:pt x="436" y="2213"/>
                  </a:lnTo>
                  <a:lnTo>
                    <a:pt x="388" y="2031"/>
                  </a:lnTo>
                  <a:lnTo>
                    <a:pt x="339" y="1855"/>
                  </a:lnTo>
                  <a:lnTo>
                    <a:pt x="291" y="2535"/>
                  </a:lnTo>
                  <a:lnTo>
                    <a:pt x="242" y="2626"/>
                  </a:lnTo>
                  <a:lnTo>
                    <a:pt x="193" y="2709"/>
                  </a:lnTo>
                  <a:lnTo>
                    <a:pt x="146" y="2838"/>
                  </a:lnTo>
                  <a:lnTo>
                    <a:pt x="97" y="2838"/>
                  </a:lnTo>
                  <a:lnTo>
                    <a:pt x="49" y="2838"/>
                  </a:lnTo>
                  <a:lnTo>
                    <a:pt x="0" y="283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71600" y="917640"/>
              <a:ext cx="7613640" cy="4505400"/>
            </a:xfrm>
            <a:custGeom>
              <a:avLst/>
              <a:gdLst/>
              <a:ahLst/>
              <a:rect l="l" t="t" r="r" b="b"/>
              <a:pathLst>
                <a:path w="4796" h="2838">
                  <a:moveTo>
                    <a:pt x="0" y="2838"/>
                  </a:moveTo>
                  <a:lnTo>
                    <a:pt x="0" y="2838"/>
                  </a:lnTo>
                  <a:lnTo>
                    <a:pt x="49" y="2838"/>
                  </a:lnTo>
                  <a:lnTo>
                    <a:pt x="97" y="0"/>
                  </a:lnTo>
                  <a:lnTo>
                    <a:pt x="146" y="0"/>
                  </a:lnTo>
                  <a:lnTo>
                    <a:pt x="193" y="0"/>
                  </a:lnTo>
                  <a:lnTo>
                    <a:pt x="242" y="0"/>
                  </a:lnTo>
                  <a:lnTo>
                    <a:pt x="291" y="0"/>
                  </a:lnTo>
                  <a:lnTo>
                    <a:pt x="339" y="0"/>
                  </a:lnTo>
                  <a:lnTo>
                    <a:pt x="388" y="0"/>
                  </a:lnTo>
                  <a:lnTo>
                    <a:pt x="436" y="0"/>
                  </a:lnTo>
                  <a:lnTo>
                    <a:pt x="485" y="0"/>
                  </a:lnTo>
                  <a:lnTo>
                    <a:pt x="533" y="0"/>
                  </a:lnTo>
                  <a:lnTo>
                    <a:pt x="581" y="0"/>
                  </a:lnTo>
                  <a:lnTo>
                    <a:pt x="630" y="0"/>
                  </a:lnTo>
                  <a:lnTo>
                    <a:pt x="678" y="0"/>
                  </a:lnTo>
                  <a:lnTo>
                    <a:pt x="727" y="0"/>
                  </a:lnTo>
                  <a:lnTo>
                    <a:pt x="775" y="0"/>
                  </a:lnTo>
                  <a:lnTo>
                    <a:pt x="824" y="0"/>
                  </a:lnTo>
                  <a:lnTo>
                    <a:pt x="873" y="0"/>
                  </a:lnTo>
                  <a:lnTo>
                    <a:pt x="921" y="0"/>
                  </a:lnTo>
                  <a:lnTo>
                    <a:pt x="969" y="0"/>
                  </a:lnTo>
                  <a:lnTo>
                    <a:pt x="1017" y="0"/>
                  </a:lnTo>
                  <a:lnTo>
                    <a:pt x="1066" y="0"/>
                  </a:lnTo>
                  <a:lnTo>
                    <a:pt x="1114" y="0"/>
                  </a:lnTo>
                  <a:lnTo>
                    <a:pt x="1163" y="0"/>
                  </a:lnTo>
                  <a:lnTo>
                    <a:pt x="1212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56" y="0"/>
                  </a:lnTo>
                  <a:lnTo>
                    <a:pt x="1405" y="0"/>
                  </a:lnTo>
                  <a:lnTo>
                    <a:pt x="1453" y="0"/>
                  </a:lnTo>
                  <a:lnTo>
                    <a:pt x="1502" y="0"/>
                  </a:lnTo>
                  <a:lnTo>
                    <a:pt x="1551" y="0"/>
                  </a:lnTo>
                  <a:lnTo>
                    <a:pt x="1599" y="0"/>
                  </a:lnTo>
                  <a:lnTo>
                    <a:pt x="1648" y="0"/>
                  </a:lnTo>
                  <a:lnTo>
                    <a:pt x="1695" y="0"/>
                  </a:lnTo>
                  <a:lnTo>
                    <a:pt x="1744" y="0"/>
                  </a:lnTo>
                  <a:lnTo>
                    <a:pt x="1792" y="0"/>
                  </a:lnTo>
                  <a:lnTo>
                    <a:pt x="1841" y="0"/>
                  </a:lnTo>
                  <a:lnTo>
                    <a:pt x="1890" y="0"/>
                  </a:lnTo>
                  <a:lnTo>
                    <a:pt x="1938" y="0"/>
                  </a:lnTo>
                  <a:lnTo>
                    <a:pt x="1987" y="0"/>
                  </a:lnTo>
                  <a:lnTo>
                    <a:pt x="2034" y="0"/>
                  </a:lnTo>
                  <a:lnTo>
                    <a:pt x="2083" y="0"/>
                  </a:lnTo>
                  <a:lnTo>
                    <a:pt x="2131" y="0"/>
                  </a:lnTo>
                  <a:lnTo>
                    <a:pt x="2180" y="0"/>
                  </a:lnTo>
                  <a:lnTo>
                    <a:pt x="2229" y="0"/>
                  </a:lnTo>
                  <a:lnTo>
                    <a:pt x="2277" y="0"/>
                  </a:lnTo>
                  <a:lnTo>
                    <a:pt x="2326" y="0"/>
                  </a:lnTo>
                  <a:lnTo>
                    <a:pt x="2374" y="0"/>
                  </a:lnTo>
                  <a:lnTo>
                    <a:pt x="2422" y="0"/>
                  </a:lnTo>
                  <a:lnTo>
                    <a:pt x="2470" y="0"/>
                  </a:lnTo>
                  <a:lnTo>
                    <a:pt x="2519" y="0"/>
                  </a:lnTo>
                  <a:lnTo>
                    <a:pt x="2568" y="0"/>
                  </a:lnTo>
                  <a:lnTo>
                    <a:pt x="2616" y="0"/>
                  </a:lnTo>
                  <a:lnTo>
                    <a:pt x="2665" y="0"/>
                  </a:lnTo>
                  <a:lnTo>
                    <a:pt x="2713" y="0"/>
                  </a:lnTo>
                  <a:lnTo>
                    <a:pt x="2762" y="0"/>
                  </a:lnTo>
                  <a:lnTo>
                    <a:pt x="2809" y="0"/>
                  </a:lnTo>
                  <a:lnTo>
                    <a:pt x="2858" y="0"/>
                  </a:lnTo>
                  <a:lnTo>
                    <a:pt x="2907" y="0"/>
                  </a:lnTo>
                  <a:lnTo>
                    <a:pt x="2955" y="0"/>
                  </a:lnTo>
                  <a:lnTo>
                    <a:pt x="3004" y="0"/>
                  </a:lnTo>
                  <a:lnTo>
                    <a:pt x="3052" y="0"/>
                  </a:lnTo>
                  <a:lnTo>
                    <a:pt x="3101" y="0"/>
                  </a:lnTo>
                  <a:lnTo>
                    <a:pt x="3148" y="0"/>
                  </a:lnTo>
                  <a:lnTo>
                    <a:pt x="3197" y="0"/>
                  </a:lnTo>
                  <a:lnTo>
                    <a:pt x="3246" y="0"/>
                  </a:lnTo>
                  <a:lnTo>
                    <a:pt x="3294" y="0"/>
                  </a:lnTo>
                  <a:lnTo>
                    <a:pt x="3343" y="0"/>
                  </a:lnTo>
                  <a:lnTo>
                    <a:pt x="3391" y="0"/>
                  </a:lnTo>
                  <a:lnTo>
                    <a:pt x="3440" y="0"/>
                  </a:lnTo>
                  <a:lnTo>
                    <a:pt x="3488" y="0"/>
                  </a:lnTo>
                  <a:lnTo>
                    <a:pt x="3536" y="0"/>
                  </a:lnTo>
                  <a:lnTo>
                    <a:pt x="3585" y="0"/>
                  </a:lnTo>
                  <a:lnTo>
                    <a:pt x="3633" y="0"/>
                  </a:lnTo>
                  <a:lnTo>
                    <a:pt x="3682" y="0"/>
                  </a:lnTo>
                  <a:lnTo>
                    <a:pt x="3730" y="0"/>
                  </a:lnTo>
                  <a:lnTo>
                    <a:pt x="3779" y="0"/>
                  </a:lnTo>
                  <a:lnTo>
                    <a:pt x="3827" y="0"/>
                  </a:lnTo>
                  <a:lnTo>
                    <a:pt x="3875" y="0"/>
                  </a:lnTo>
                  <a:lnTo>
                    <a:pt x="3924" y="0"/>
                  </a:lnTo>
                  <a:lnTo>
                    <a:pt x="3972" y="0"/>
                  </a:lnTo>
                  <a:lnTo>
                    <a:pt x="4021" y="0"/>
                  </a:lnTo>
                  <a:lnTo>
                    <a:pt x="4069" y="0"/>
                  </a:lnTo>
                  <a:lnTo>
                    <a:pt x="4118" y="0"/>
                  </a:lnTo>
                  <a:lnTo>
                    <a:pt x="4166" y="0"/>
                  </a:lnTo>
                  <a:lnTo>
                    <a:pt x="4215" y="0"/>
                  </a:lnTo>
                  <a:lnTo>
                    <a:pt x="4263" y="0"/>
                  </a:lnTo>
                  <a:lnTo>
                    <a:pt x="4311" y="0"/>
                  </a:lnTo>
                  <a:lnTo>
                    <a:pt x="4360" y="0"/>
                  </a:lnTo>
                  <a:lnTo>
                    <a:pt x="4408" y="0"/>
                  </a:lnTo>
                  <a:lnTo>
                    <a:pt x="4457" y="0"/>
                  </a:lnTo>
                  <a:lnTo>
                    <a:pt x="4505" y="0"/>
                  </a:lnTo>
                  <a:lnTo>
                    <a:pt x="4554" y="0"/>
                  </a:lnTo>
                  <a:lnTo>
                    <a:pt x="4603" y="0"/>
                  </a:lnTo>
                  <a:lnTo>
                    <a:pt x="4650" y="0"/>
                  </a:lnTo>
                  <a:lnTo>
                    <a:pt x="4699" y="0"/>
                  </a:lnTo>
                  <a:lnTo>
                    <a:pt x="4747" y="0"/>
                  </a:lnTo>
                  <a:lnTo>
                    <a:pt x="4796" y="0"/>
                  </a:lnTo>
                  <a:lnTo>
                    <a:pt x="4796" y="0"/>
                  </a:lnTo>
                  <a:lnTo>
                    <a:pt x="4747" y="26"/>
                  </a:lnTo>
                  <a:lnTo>
                    <a:pt x="4699" y="62"/>
                  </a:lnTo>
                  <a:lnTo>
                    <a:pt x="4650" y="0"/>
                  </a:lnTo>
                  <a:lnTo>
                    <a:pt x="4603" y="46"/>
                  </a:lnTo>
                  <a:lnTo>
                    <a:pt x="4554" y="0"/>
                  </a:lnTo>
                  <a:lnTo>
                    <a:pt x="4505" y="2"/>
                  </a:lnTo>
                  <a:lnTo>
                    <a:pt x="4457" y="52"/>
                  </a:lnTo>
                  <a:lnTo>
                    <a:pt x="4408" y="0"/>
                  </a:lnTo>
                  <a:lnTo>
                    <a:pt x="4360" y="0"/>
                  </a:lnTo>
                  <a:lnTo>
                    <a:pt x="4311" y="29"/>
                  </a:lnTo>
                  <a:lnTo>
                    <a:pt x="4263" y="54"/>
                  </a:lnTo>
                  <a:lnTo>
                    <a:pt x="4215" y="2"/>
                  </a:lnTo>
                  <a:lnTo>
                    <a:pt x="4166" y="43"/>
                  </a:lnTo>
                  <a:lnTo>
                    <a:pt x="4118" y="0"/>
                  </a:lnTo>
                  <a:lnTo>
                    <a:pt x="4069" y="1"/>
                  </a:lnTo>
                  <a:lnTo>
                    <a:pt x="4021" y="53"/>
                  </a:lnTo>
                  <a:lnTo>
                    <a:pt x="3972" y="15"/>
                  </a:lnTo>
                  <a:lnTo>
                    <a:pt x="3924" y="1"/>
                  </a:lnTo>
                  <a:lnTo>
                    <a:pt x="3875" y="50"/>
                  </a:lnTo>
                  <a:lnTo>
                    <a:pt x="3827" y="0"/>
                  </a:lnTo>
                  <a:lnTo>
                    <a:pt x="3779" y="3"/>
                  </a:lnTo>
                  <a:lnTo>
                    <a:pt x="3730" y="59"/>
                  </a:lnTo>
                  <a:lnTo>
                    <a:pt x="3682" y="0"/>
                  </a:lnTo>
                  <a:lnTo>
                    <a:pt x="3633" y="2"/>
                  </a:lnTo>
                  <a:lnTo>
                    <a:pt x="3585" y="52"/>
                  </a:lnTo>
                  <a:lnTo>
                    <a:pt x="3536" y="0"/>
                  </a:lnTo>
                  <a:lnTo>
                    <a:pt x="3488" y="1"/>
                  </a:lnTo>
                  <a:lnTo>
                    <a:pt x="3440" y="46"/>
                  </a:lnTo>
                  <a:lnTo>
                    <a:pt x="3391" y="0"/>
                  </a:lnTo>
                  <a:lnTo>
                    <a:pt x="3343" y="1"/>
                  </a:lnTo>
                  <a:lnTo>
                    <a:pt x="3294" y="34"/>
                  </a:lnTo>
                  <a:lnTo>
                    <a:pt x="3246" y="59"/>
                  </a:lnTo>
                  <a:lnTo>
                    <a:pt x="3197" y="1"/>
                  </a:lnTo>
                  <a:lnTo>
                    <a:pt x="3148" y="39"/>
                  </a:lnTo>
                  <a:lnTo>
                    <a:pt x="3101" y="0"/>
                  </a:lnTo>
                  <a:lnTo>
                    <a:pt x="3052" y="2"/>
                  </a:lnTo>
                  <a:lnTo>
                    <a:pt x="3004" y="45"/>
                  </a:lnTo>
                  <a:lnTo>
                    <a:pt x="2955" y="17"/>
                  </a:lnTo>
                  <a:lnTo>
                    <a:pt x="2907" y="3"/>
                  </a:lnTo>
                  <a:lnTo>
                    <a:pt x="2858" y="46"/>
                  </a:lnTo>
                  <a:lnTo>
                    <a:pt x="2809" y="0"/>
                  </a:lnTo>
                  <a:lnTo>
                    <a:pt x="2762" y="0"/>
                  </a:lnTo>
                  <a:lnTo>
                    <a:pt x="2713" y="35"/>
                  </a:lnTo>
                  <a:lnTo>
                    <a:pt x="2665" y="35"/>
                  </a:lnTo>
                  <a:lnTo>
                    <a:pt x="2616" y="0"/>
                  </a:lnTo>
                  <a:lnTo>
                    <a:pt x="2568" y="53"/>
                  </a:lnTo>
                  <a:lnTo>
                    <a:pt x="2519" y="0"/>
                  </a:lnTo>
                  <a:lnTo>
                    <a:pt x="2470" y="3"/>
                  </a:lnTo>
                  <a:lnTo>
                    <a:pt x="2422" y="61"/>
                  </a:lnTo>
                  <a:lnTo>
                    <a:pt x="2374" y="0"/>
                  </a:lnTo>
                  <a:lnTo>
                    <a:pt x="2326" y="2"/>
                  </a:lnTo>
                  <a:lnTo>
                    <a:pt x="2277" y="46"/>
                  </a:lnTo>
                  <a:lnTo>
                    <a:pt x="2229" y="0"/>
                  </a:lnTo>
                  <a:lnTo>
                    <a:pt x="2180" y="1"/>
                  </a:lnTo>
                  <a:lnTo>
                    <a:pt x="2131" y="57"/>
                  </a:lnTo>
                  <a:lnTo>
                    <a:pt x="2083" y="0"/>
                  </a:lnTo>
                  <a:lnTo>
                    <a:pt x="2034" y="0"/>
                  </a:lnTo>
                  <a:lnTo>
                    <a:pt x="1987" y="41"/>
                  </a:lnTo>
                  <a:lnTo>
                    <a:pt x="1938" y="55"/>
                  </a:lnTo>
                  <a:lnTo>
                    <a:pt x="1890" y="3"/>
                  </a:lnTo>
                  <a:lnTo>
                    <a:pt x="1841" y="54"/>
                  </a:lnTo>
                  <a:lnTo>
                    <a:pt x="1792" y="0"/>
                  </a:lnTo>
                  <a:lnTo>
                    <a:pt x="1744" y="8"/>
                  </a:lnTo>
                  <a:lnTo>
                    <a:pt x="1695" y="77"/>
                  </a:lnTo>
                  <a:lnTo>
                    <a:pt x="1648" y="0"/>
                  </a:lnTo>
                  <a:lnTo>
                    <a:pt x="1599" y="11"/>
                  </a:lnTo>
                  <a:lnTo>
                    <a:pt x="1551" y="62"/>
                  </a:lnTo>
                  <a:lnTo>
                    <a:pt x="1502" y="0"/>
                  </a:lnTo>
                  <a:lnTo>
                    <a:pt x="1453" y="20"/>
                  </a:lnTo>
                  <a:lnTo>
                    <a:pt x="1405" y="99"/>
                  </a:lnTo>
                  <a:lnTo>
                    <a:pt x="1356" y="0"/>
                  </a:lnTo>
                  <a:lnTo>
                    <a:pt x="1308" y="17"/>
                  </a:lnTo>
                  <a:lnTo>
                    <a:pt x="1260" y="141"/>
                  </a:lnTo>
                  <a:lnTo>
                    <a:pt x="1212" y="15"/>
                  </a:lnTo>
                  <a:lnTo>
                    <a:pt x="1163" y="35"/>
                  </a:lnTo>
                  <a:lnTo>
                    <a:pt x="1114" y="182"/>
                  </a:lnTo>
                  <a:lnTo>
                    <a:pt x="1066" y="25"/>
                  </a:lnTo>
                  <a:lnTo>
                    <a:pt x="1017" y="53"/>
                  </a:lnTo>
                  <a:lnTo>
                    <a:pt x="969" y="278"/>
                  </a:lnTo>
                  <a:lnTo>
                    <a:pt x="921" y="187"/>
                  </a:lnTo>
                  <a:lnTo>
                    <a:pt x="873" y="252"/>
                  </a:lnTo>
                  <a:lnTo>
                    <a:pt x="824" y="443"/>
                  </a:lnTo>
                  <a:lnTo>
                    <a:pt x="775" y="343"/>
                  </a:lnTo>
                  <a:lnTo>
                    <a:pt x="727" y="481"/>
                  </a:lnTo>
                  <a:lnTo>
                    <a:pt x="678" y="574"/>
                  </a:lnTo>
                  <a:lnTo>
                    <a:pt x="630" y="733"/>
                  </a:lnTo>
                  <a:lnTo>
                    <a:pt x="581" y="1113"/>
                  </a:lnTo>
                  <a:lnTo>
                    <a:pt x="533" y="986"/>
                  </a:lnTo>
                  <a:lnTo>
                    <a:pt x="485" y="1324"/>
                  </a:lnTo>
                  <a:lnTo>
                    <a:pt x="436" y="2014"/>
                  </a:lnTo>
                  <a:lnTo>
                    <a:pt x="388" y="1837"/>
                  </a:lnTo>
                  <a:lnTo>
                    <a:pt x="339" y="1835"/>
                  </a:lnTo>
                  <a:lnTo>
                    <a:pt x="291" y="2535"/>
                  </a:lnTo>
                  <a:lnTo>
                    <a:pt x="242" y="2618"/>
                  </a:lnTo>
                  <a:lnTo>
                    <a:pt x="193" y="2709"/>
                  </a:lnTo>
                  <a:lnTo>
                    <a:pt x="146" y="2838"/>
                  </a:lnTo>
                  <a:lnTo>
                    <a:pt x="97" y="2838"/>
                  </a:lnTo>
                  <a:lnTo>
                    <a:pt x="49" y="2838"/>
                  </a:lnTo>
                  <a:lnTo>
                    <a:pt x="0" y="2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71600" y="952560"/>
              <a:ext cx="7613640" cy="4470480"/>
            </a:xfrm>
            <a:custGeom>
              <a:avLst/>
              <a:gdLst/>
              <a:ahLst/>
              <a:rect l="l" t="t" r="r" b="b"/>
              <a:pathLst>
                <a:path w="4796" h="2816">
                  <a:moveTo>
                    <a:pt x="0" y="2816"/>
                  </a:moveTo>
                  <a:lnTo>
                    <a:pt x="0" y="2816"/>
                  </a:lnTo>
                  <a:lnTo>
                    <a:pt x="49" y="2816"/>
                  </a:lnTo>
                  <a:lnTo>
                    <a:pt x="97" y="2816"/>
                  </a:lnTo>
                  <a:lnTo>
                    <a:pt x="146" y="2816"/>
                  </a:lnTo>
                  <a:lnTo>
                    <a:pt x="193" y="2816"/>
                  </a:lnTo>
                  <a:lnTo>
                    <a:pt x="242" y="2816"/>
                  </a:lnTo>
                  <a:lnTo>
                    <a:pt x="291" y="2816"/>
                  </a:lnTo>
                  <a:lnTo>
                    <a:pt x="339" y="2814"/>
                  </a:lnTo>
                  <a:lnTo>
                    <a:pt x="388" y="2786"/>
                  </a:lnTo>
                  <a:lnTo>
                    <a:pt x="436" y="2601"/>
                  </a:lnTo>
                  <a:lnTo>
                    <a:pt x="485" y="2216"/>
                  </a:lnTo>
                  <a:lnTo>
                    <a:pt x="533" y="2510"/>
                  </a:lnTo>
                  <a:lnTo>
                    <a:pt x="581" y="2215"/>
                  </a:lnTo>
                  <a:lnTo>
                    <a:pt x="630" y="1341"/>
                  </a:lnTo>
                  <a:lnTo>
                    <a:pt x="678" y="1942"/>
                  </a:lnTo>
                  <a:lnTo>
                    <a:pt x="727" y="1677"/>
                  </a:lnTo>
                  <a:lnTo>
                    <a:pt x="775" y="724"/>
                  </a:lnTo>
                  <a:lnTo>
                    <a:pt x="824" y="1444"/>
                  </a:lnTo>
                  <a:lnTo>
                    <a:pt x="873" y="1307"/>
                  </a:lnTo>
                  <a:lnTo>
                    <a:pt x="921" y="522"/>
                  </a:lnTo>
                  <a:lnTo>
                    <a:pt x="969" y="1050"/>
                  </a:lnTo>
                  <a:lnTo>
                    <a:pt x="1017" y="886"/>
                  </a:lnTo>
                  <a:lnTo>
                    <a:pt x="1066" y="309"/>
                  </a:lnTo>
                  <a:lnTo>
                    <a:pt x="1114" y="846"/>
                  </a:lnTo>
                  <a:lnTo>
                    <a:pt x="1163" y="635"/>
                  </a:lnTo>
                  <a:lnTo>
                    <a:pt x="1212" y="201"/>
                  </a:lnTo>
                  <a:lnTo>
                    <a:pt x="1260" y="680"/>
                  </a:lnTo>
                  <a:lnTo>
                    <a:pt x="1308" y="509"/>
                  </a:lnTo>
                  <a:lnTo>
                    <a:pt x="1356" y="139"/>
                  </a:lnTo>
                  <a:lnTo>
                    <a:pt x="1405" y="632"/>
                  </a:lnTo>
                  <a:lnTo>
                    <a:pt x="1453" y="406"/>
                  </a:lnTo>
                  <a:lnTo>
                    <a:pt x="1502" y="93"/>
                  </a:lnTo>
                  <a:lnTo>
                    <a:pt x="1551" y="549"/>
                  </a:lnTo>
                  <a:lnTo>
                    <a:pt x="1599" y="364"/>
                  </a:lnTo>
                  <a:lnTo>
                    <a:pt x="1648" y="54"/>
                  </a:lnTo>
                  <a:lnTo>
                    <a:pt x="1695" y="561"/>
                  </a:lnTo>
                  <a:lnTo>
                    <a:pt x="1744" y="323"/>
                  </a:lnTo>
                  <a:lnTo>
                    <a:pt x="1792" y="62"/>
                  </a:lnTo>
                  <a:lnTo>
                    <a:pt x="1841" y="483"/>
                  </a:lnTo>
                  <a:lnTo>
                    <a:pt x="1890" y="307"/>
                  </a:lnTo>
                  <a:lnTo>
                    <a:pt x="1938" y="138"/>
                  </a:lnTo>
                  <a:lnTo>
                    <a:pt x="1987" y="522"/>
                  </a:lnTo>
                  <a:lnTo>
                    <a:pt x="2034" y="273"/>
                  </a:lnTo>
                  <a:lnTo>
                    <a:pt x="2083" y="9"/>
                  </a:lnTo>
                  <a:lnTo>
                    <a:pt x="2131" y="588"/>
                  </a:lnTo>
                  <a:lnTo>
                    <a:pt x="2180" y="315"/>
                  </a:lnTo>
                  <a:lnTo>
                    <a:pt x="2229" y="30"/>
                  </a:lnTo>
                  <a:lnTo>
                    <a:pt x="2277" y="515"/>
                  </a:lnTo>
                  <a:lnTo>
                    <a:pt x="2326" y="323"/>
                  </a:lnTo>
                  <a:lnTo>
                    <a:pt x="2374" y="25"/>
                  </a:lnTo>
                  <a:lnTo>
                    <a:pt x="2422" y="518"/>
                  </a:lnTo>
                  <a:lnTo>
                    <a:pt x="2470" y="304"/>
                  </a:lnTo>
                  <a:lnTo>
                    <a:pt x="2519" y="43"/>
                  </a:lnTo>
                  <a:lnTo>
                    <a:pt x="2568" y="454"/>
                  </a:lnTo>
                  <a:lnTo>
                    <a:pt x="2616" y="248"/>
                  </a:lnTo>
                  <a:lnTo>
                    <a:pt x="2665" y="90"/>
                  </a:lnTo>
                  <a:lnTo>
                    <a:pt x="2713" y="524"/>
                  </a:lnTo>
                  <a:lnTo>
                    <a:pt x="2762" y="275"/>
                  </a:lnTo>
                  <a:lnTo>
                    <a:pt x="2809" y="8"/>
                  </a:lnTo>
                  <a:lnTo>
                    <a:pt x="2858" y="482"/>
                  </a:lnTo>
                  <a:lnTo>
                    <a:pt x="2907" y="274"/>
                  </a:lnTo>
                  <a:lnTo>
                    <a:pt x="2955" y="39"/>
                  </a:lnTo>
                  <a:lnTo>
                    <a:pt x="3004" y="513"/>
                  </a:lnTo>
                  <a:lnTo>
                    <a:pt x="3052" y="279"/>
                  </a:lnTo>
                  <a:lnTo>
                    <a:pt x="3101" y="22"/>
                  </a:lnTo>
                  <a:lnTo>
                    <a:pt x="3148" y="464"/>
                  </a:lnTo>
                  <a:lnTo>
                    <a:pt x="3197" y="258"/>
                  </a:lnTo>
                  <a:lnTo>
                    <a:pt x="3246" y="151"/>
                  </a:lnTo>
                  <a:lnTo>
                    <a:pt x="3294" y="502"/>
                  </a:lnTo>
                  <a:lnTo>
                    <a:pt x="3343" y="262"/>
                  </a:lnTo>
                  <a:lnTo>
                    <a:pt x="3391" y="15"/>
                  </a:lnTo>
                  <a:lnTo>
                    <a:pt x="3440" y="604"/>
                  </a:lnTo>
                  <a:lnTo>
                    <a:pt x="3488" y="291"/>
                  </a:lnTo>
                  <a:lnTo>
                    <a:pt x="3536" y="17"/>
                  </a:lnTo>
                  <a:lnTo>
                    <a:pt x="3585" y="501"/>
                  </a:lnTo>
                  <a:lnTo>
                    <a:pt x="3633" y="329"/>
                  </a:lnTo>
                  <a:lnTo>
                    <a:pt x="3682" y="37"/>
                  </a:lnTo>
                  <a:lnTo>
                    <a:pt x="3730" y="480"/>
                  </a:lnTo>
                  <a:lnTo>
                    <a:pt x="3779" y="284"/>
                  </a:lnTo>
                  <a:lnTo>
                    <a:pt x="3827" y="45"/>
                  </a:lnTo>
                  <a:lnTo>
                    <a:pt x="3875" y="495"/>
                  </a:lnTo>
                  <a:lnTo>
                    <a:pt x="3924" y="284"/>
                  </a:lnTo>
                  <a:lnTo>
                    <a:pt x="3972" y="43"/>
                  </a:lnTo>
                  <a:lnTo>
                    <a:pt x="4021" y="523"/>
                  </a:lnTo>
                  <a:lnTo>
                    <a:pt x="4069" y="286"/>
                  </a:lnTo>
                  <a:lnTo>
                    <a:pt x="4118" y="26"/>
                  </a:lnTo>
                  <a:lnTo>
                    <a:pt x="4166" y="462"/>
                  </a:lnTo>
                  <a:lnTo>
                    <a:pt x="4215" y="272"/>
                  </a:lnTo>
                  <a:lnTo>
                    <a:pt x="4263" y="186"/>
                  </a:lnTo>
                  <a:lnTo>
                    <a:pt x="4311" y="478"/>
                  </a:lnTo>
                  <a:lnTo>
                    <a:pt x="4360" y="229"/>
                  </a:lnTo>
                  <a:lnTo>
                    <a:pt x="4408" y="0"/>
                  </a:lnTo>
                  <a:lnTo>
                    <a:pt x="4457" y="621"/>
                  </a:lnTo>
                  <a:lnTo>
                    <a:pt x="4505" y="291"/>
                  </a:lnTo>
                  <a:lnTo>
                    <a:pt x="4554" y="16"/>
                  </a:lnTo>
                  <a:lnTo>
                    <a:pt x="4603" y="454"/>
                  </a:lnTo>
                  <a:lnTo>
                    <a:pt x="4650" y="334"/>
                  </a:lnTo>
                  <a:lnTo>
                    <a:pt x="4699" y="230"/>
                  </a:lnTo>
                  <a:lnTo>
                    <a:pt x="4747" y="451"/>
                  </a:lnTo>
                  <a:lnTo>
                    <a:pt x="4796" y="210"/>
                  </a:lnTo>
                  <a:lnTo>
                    <a:pt x="4796" y="2816"/>
                  </a:lnTo>
                  <a:lnTo>
                    <a:pt x="4747" y="2816"/>
                  </a:lnTo>
                  <a:lnTo>
                    <a:pt x="4699" y="2816"/>
                  </a:lnTo>
                  <a:lnTo>
                    <a:pt x="4650" y="2816"/>
                  </a:lnTo>
                  <a:lnTo>
                    <a:pt x="4603" y="2816"/>
                  </a:lnTo>
                  <a:lnTo>
                    <a:pt x="4554" y="2816"/>
                  </a:lnTo>
                  <a:lnTo>
                    <a:pt x="4505" y="2816"/>
                  </a:lnTo>
                  <a:lnTo>
                    <a:pt x="4457" y="2816"/>
                  </a:lnTo>
                  <a:lnTo>
                    <a:pt x="4408" y="2816"/>
                  </a:lnTo>
                  <a:lnTo>
                    <a:pt x="4360" y="2816"/>
                  </a:lnTo>
                  <a:lnTo>
                    <a:pt x="4311" y="2816"/>
                  </a:lnTo>
                  <a:lnTo>
                    <a:pt x="4263" y="2816"/>
                  </a:lnTo>
                  <a:lnTo>
                    <a:pt x="4215" y="2816"/>
                  </a:lnTo>
                  <a:lnTo>
                    <a:pt x="4166" y="2816"/>
                  </a:lnTo>
                  <a:lnTo>
                    <a:pt x="4118" y="2816"/>
                  </a:lnTo>
                  <a:lnTo>
                    <a:pt x="4069" y="2816"/>
                  </a:lnTo>
                  <a:lnTo>
                    <a:pt x="4021" y="2816"/>
                  </a:lnTo>
                  <a:lnTo>
                    <a:pt x="3972" y="2816"/>
                  </a:lnTo>
                  <a:lnTo>
                    <a:pt x="3924" y="2816"/>
                  </a:lnTo>
                  <a:lnTo>
                    <a:pt x="3875" y="2816"/>
                  </a:lnTo>
                  <a:lnTo>
                    <a:pt x="3827" y="2816"/>
                  </a:lnTo>
                  <a:lnTo>
                    <a:pt x="3779" y="2816"/>
                  </a:lnTo>
                  <a:lnTo>
                    <a:pt x="3730" y="2816"/>
                  </a:lnTo>
                  <a:lnTo>
                    <a:pt x="3682" y="2816"/>
                  </a:lnTo>
                  <a:lnTo>
                    <a:pt x="3633" y="2816"/>
                  </a:lnTo>
                  <a:lnTo>
                    <a:pt x="3585" y="2816"/>
                  </a:lnTo>
                  <a:lnTo>
                    <a:pt x="3536" y="2816"/>
                  </a:lnTo>
                  <a:lnTo>
                    <a:pt x="3488" y="2816"/>
                  </a:lnTo>
                  <a:lnTo>
                    <a:pt x="3440" y="2816"/>
                  </a:lnTo>
                  <a:lnTo>
                    <a:pt x="3391" y="2816"/>
                  </a:lnTo>
                  <a:lnTo>
                    <a:pt x="3343" y="2816"/>
                  </a:lnTo>
                  <a:lnTo>
                    <a:pt x="3294" y="2816"/>
                  </a:lnTo>
                  <a:lnTo>
                    <a:pt x="3246" y="2816"/>
                  </a:lnTo>
                  <a:lnTo>
                    <a:pt x="3197" y="2816"/>
                  </a:lnTo>
                  <a:lnTo>
                    <a:pt x="3148" y="2816"/>
                  </a:lnTo>
                  <a:lnTo>
                    <a:pt x="3101" y="2816"/>
                  </a:lnTo>
                  <a:lnTo>
                    <a:pt x="3052" y="2816"/>
                  </a:lnTo>
                  <a:lnTo>
                    <a:pt x="3004" y="2816"/>
                  </a:lnTo>
                  <a:lnTo>
                    <a:pt x="2955" y="2816"/>
                  </a:lnTo>
                  <a:lnTo>
                    <a:pt x="2907" y="2816"/>
                  </a:lnTo>
                  <a:lnTo>
                    <a:pt x="2858" y="2816"/>
                  </a:lnTo>
                  <a:lnTo>
                    <a:pt x="2809" y="2816"/>
                  </a:lnTo>
                  <a:lnTo>
                    <a:pt x="2762" y="2816"/>
                  </a:lnTo>
                  <a:lnTo>
                    <a:pt x="2713" y="2816"/>
                  </a:lnTo>
                  <a:lnTo>
                    <a:pt x="2665" y="2816"/>
                  </a:lnTo>
                  <a:lnTo>
                    <a:pt x="2616" y="2816"/>
                  </a:lnTo>
                  <a:lnTo>
                    <a:pt x="2568" y="2816"/>
                  </a:lnTo>
                  <a:lnTo>
                    <a:pt x="2519" y="2816"/>
                  </a:lnTo>
                  <a:lnTo>
                    <a:pt x="2470" y="2816"/>
                  </a:lnTo>
                  <a:lnTo>
                    <a:pt x="2422" y="2816"/>
                  </a:lnTo>
                  <a:lnTo>
                    <a:pt x="2374" y="2816"/>
                  </a:lnTo>
                  <a:lnTo>
                    <a:pt x="2326" y="2816"/>
                  </a:lnTo>
                  <a:lnTo>
                    <a:pt x="2277" y="2816"/>
                  </a:lnTo>
                  <a:lnTo>
                    <a:pt x="2229" y="2816"/>
                  </a:lnTo>
                  <a:lnTo>
                    <a:pt x="2180" y="2816"/>
                  </a:lnTo>
                  <a:lnTo>
                    <a:pt x="2131" y="2816"/>
                  </a:lnTo>
                  <a:lnTo>
                    <a:pt x="2083" y="2816"/>
                  </a:lnTo>
                  <a:lnTo>
                    <a:pt x="2034" y="2816"/>
                  </a:lnTo>
                  <a:lnTo>
                    <a:pt x="1987" y="2816"/>
                  </a:lnTo>
                  <a:lnTo>
                    <a:pt x="1938" y="2816"/>
                  </a:lnTo>
                  <a:lnTo>
                    <a:pt x="1890" y="2816"/>
                  </a:lnTo>
                  <a:lnTo>
                    <a:pt x="1841" y="2816"/>
                  </a:lnTo>
                  <a:lnTo>
                    <a:pt x="1792" y="2816"/>
                  </a:lnTo>
                  <a:lnTo>
                    <a:pt x="1744" y="2816"/>
                  </a:lnTo>
                  <a:lnTo>
                    <a:pt x="1695" y="2816"/>
                  </a:lnTo>
                  <a:lnTo>
                    <a:pt x="1648" y="2816"/>
                  </a:lnTo>
                  <a:lnTo>
                    <a:pt x="1599" y="2816"/>
                  </a:lnTo>
                  <a:lnTo>
                    <a:pt x="1551" y="2816"/>
                  </a:lnTo>
                  <a:lnTo>
                    <a:pt x="1502" y="2816"/>
                  </a:lnTo>
                  <a:lnTo>
                    <a:pt x="1453" y="2816"/>
                  </a:lnTo>
                  <a:lnTo>
                    <a:pt x="1405" y="2816"/>
                  </a:lnTo>
                  <a:lnTo>
                    <a:pt x="1356" y="2816"/>
                  </a:lnTo>
                  <a:lnTo>
                    <a:pt x="1308" y="2816"/>
                  </a:lnTo>
                  <a:lnTo>
                    <a:pt x="1260" y="2816"/>
                  </a:lnTo>
                  <a:lnTo>
                    <a:pt x="1212" y="2816"/>
                  </a:lnTo>
                  <a:lnTo>
                    <a:pt x="1163" y="2816"/>
                  </a:lnTo>
                  <a:lnTo>
                    <a:pt x="1114" y="2816"/>
                  </a:lnTo>
                  <a:lnTo>
                    <a:pt x="1066" y="2816"/>
                  </a:lnTo>
                  <a:lnTo>
                    <a:pt x="1017" y="2816"/>
                  </a:lnTo>
                  <a:lnTo>
                    <a:pt x="969" y="2816"/>
                  </a:lnTo>
                  <a:lnTo>
                    <a:pt x="921" y="2816"/>
                  </a:lnTo>
                  <a:lnTo>
                    <a:pt x="873" y="2816"/>
                  </a:lnTo>
                  <a:lnTo>
                    <a:pt x="824" y="2816"/>
                  </a:lnTo>
                  <a:lnTo>
                    <a:pt x="775" y="2816"/>
                  </a:lnTo>
                  <a:lnTo>
                    <a:pt x="727" y="2816"/>
                  </a:lnTo>
                  <a:lnTo>
                    <a:pt x="678" y="2816"/>
                  </a:lnTo>
                  <a:lnTo>
                    <a:pt x="630" y="2816"/>
                  </a:lnTo>
                  <a:lnTo>
                    <a:pt x="581" y="2816"/>
                  </a:lnTo>
                  <a:lnTo>
                    <a:pt x="533" y="2816"/>
                  </a:lnTo>
                  <a:lnTo>
                    <a:pt x="485" y="2816"/>
                  </a:lnTo>
                  <a:lnTo>
                    <a:pt x="436" y="2816"/>
                  </a:lnTo>
                  <a:lnTo>
                    <a:pt x="388" y="2816"/>
                  </a:lnTo>
                  <a:lnTo>
                    <a:pt x="339" y="2816"/>
                  </a:lnTo>
                  <a:lnTo>
                    <a:pt x="291" y="2816"/>
                  </a:lnTo>
                  <a:lnTo>
                    <a:pt x="242" y="2816"/>
                  </a:lnTo>
                  <a:lnTo>
                    <a:pt x="193" y="2816"/>
                  </a:lnTo>
                  <a:lnTo>
                    <a:pt x="146" y="2816"/>
                  </a:lnTo>
                  <a:lnTo>
                    <a:pt x="97" y="2816"/>
                  </a:lnTo>
                  <a:lnTo>
                    <a:pt x="49" y="2816"/>
                  </a:lnTo>
                  <a:lnTo>
                    <a:pt x="0" y="28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71600" y="950760"/>
              <a:ext cx="7613640" cy="4472280"/>
            </a:xfrm>
            <a:custGeom>
              <a:avLst/>
              <a:gdLst/>
              <a:ahLst/>
              <a:rect l="l" t="t" r="r" b="b"/>
              <a:pathLst>
                <a:path w="4796" h="2817">
                  <a:moveTo>
                    <a:pt x="0" y="2817"/>
                  </a:moveTo>
                  <a:lnTo>
                    <a:pt x="0" y="2817"/>
                  </a:lnTo>
                  <a:lnTo>
                    <a:pt x="49" y="2817"/>
                  </a:lnTo>
                  <a:lnTo>
                    <a:pt x="97" y="2817"/>
                  </a:lnTo>
                  <a:lnTo>
                    <a:pt x="146" y="2817"/>
                  </a:lnTo>
                  <a:lnTo>
                    <a:pt x="193" y="2688"/>
                  </a:lnTo>
                  <a:lnTo>
                    <a:pt x="242" y="2605"/>
                  </a:lnTo>
                  <a:lnTo>
                    <a:pt x="291" y="2514"/>
                  </a:lnTo>
                  <a:lnTo>
                    <a:pt x="339" y="1834"/>
                  </a:lnTo>
                  <a:lnTo>
                    <a:pt x="388" y="2010"/>
                  </a:lnTo>
                  <a:lnTo>
                    <a:pt x="436" y="2192"/>
                  </a:lnTo>
                  <a:lnTo>
                    <a:pt x="485" y="1428"/>
                  </a:lnTo>
                  <a:lnTo>
                    <a:pt x="533" y="1264"/>
                  </a:lnTo>
                  <a:lnTo>
                    <a:pt x="581" y="1612"/>
                  </a:lnTo>
                  <a:lnTo>
                    <a:pt x="630" y="938"/>
                  </a:lnTo>
                  <a:lnTo>
                    <a:pt x="678" y="867"/>
                  </a:lnTo>
                  <a:lnTo>
                    <a:pt x="727" y="1003"/>
                  </a:lnTo>
                  <a:lnTo>
                    <a:pt x="775" y="559"/>
                  </a:lnTo>
                  <a:lnTo>
                    <a:pt x="824" y="688"/>
                  </a:lnTo>
                  <a:lnTo>
                    <a:pt x="873" y="674"/>
                  </a:lnTo>
                  <a:lnTo>
                    <a:pt x="921" y="423"/>
                  </a:lnTo>
                  <a:lnTo>
                    <a:pt x="969" y="528"/>
                  </a:lnTo>
                  <a:lnTo>
                    <a:pt x="1017" y="351"/>
                  </a:lnTo>
                  <a:lnTo>
                    <a:pt x="1066" y="238"/>
                  </a:lnTo>
                  <a:lnTo>
                    <a:pt x="1114" y="438"/>
                  </a:lnTo>
                  <a:lnTo>
                    <a:pt x="1163" y="286"/>
                  </a:lnTo>
                  <a:lnTo>
                    <a:pt x="1212" y="145"/>
                  </a:lnTo>
                  <a:lnTo>
                    <a:pt x="1260" y="345"/>
                  </a:lnTo>
                  <a:lnTo>
                    <a:pt x="1308" y="224"/>
                  </a:lnTo>
                  <a:lnTo>
                    <a:pt x="1356" y="92"/>
                  </a:lnTo>
                  <a:lnTo>
                    <a:pt x="1405" y="305"/>
                  </a:lnTo>
                  <a:lnTo>
                    <a:pt x="1453" y="208"/>
                  </a:lnTo>
                  <a:lnTo>
                    <a:pt x="1502" y="52"/>
                  </a:lnTo>
                  <a:lnTo>
                    <a:pt x="1551" y="242"/>
                  </a:lnTo>
                  <a:lnTo>
                    <a:pt x="1599" y="199"/>
                  </a:lnTo>
                  <a:lnTo>
                    <a:pt x="1648" y="34"/>
                  </a:lnTo>
                  <a:lnTo>
                    <a:pt x="1695" y="278"/>
                  </a:lnTo>
                  <a:lnTo>
                    <a:pt x="1744" y="165"/>
                  </a:lnTo>
                  <a:lnTo>
                    <a:pt x="1792" y="43"/>
                  </a:lnTo>
                  <a:lnTo>
                    <a:pt x="1841" y="233"/>
                  </a:lnTo>
                  <a:lnTo>
                    <a:pt x="1890" y="170"/>
                  </a:lnTo>
                  <a:lnTo>
                    <a:pt x="1938" y="96"/>
                  </a:lnTo>
                  <a:lnTo>
                    <a:pt x="1987" y="221"/>
                  </a:lnTo>
                  <a:lnTo>
                    <a:pt x="2034" y="164"/>
                  </a:lnTo>
                  <a:lnTo>
                    <a:pt x="2083" y="8"/>
                  </a:lnTo>
                  <a:lnTo>
                    <a:pt x="2131" y="271"/>
                  </a:lnTo>
                  <a:lnTo>
                    <a:pt x="2180" y="169"/>
                  </a:lnTo>
                  <a:lnTo>
                    <a:pt x="2229" y="23"/>
                  </a:lnTo>
                  <a:lnTo>
                    <a:pt x="2277" y="211"/>
                  </a:lnTo>
                  <a:lnTo>
                    <a:pt x="2326" y="195"/>
                  </a:lnTo>
                  <a:lnTo>
                    <a:pt x="2374" y="19"/>
                  </a:lnTo>
                  <a:lnTo>
                    <a:pt x="2422" y="244"/>
                  </a:lnTo>
                  <a:lnTo>
                    <a:pt x="2470" y="162"/>
                  </a:lnTo>
                  <a:lnTo>
                    <a:pt x="2519" y="28"/>
                  </a:lnTo>
                  <a:lnTo>
                    <a:pt x="2568" y="227"/>
                  </a:lnTo>
                  <a:lnTo>
                    <a:pt x="2616" y="125"/>
                  </a:lnTo>
                  <a:lnTo>
                    <a:pt x="2665" y="77"/>
                  </a:lnTo>
                  <a:lnTo>
                    <a:pt x="2713" y="222"/>
                  </a:lnTo>
                  <a:lnTo>
                    <a:pt x="2762" y="175"/>
                  </a:lnTo>
                  <a:lnTo>
                    <a:pt x="2809" y="8"/>
                  </a:lnTo>
                  <a:lnTo>
                    <a:pt x="2858" y="233"/>
                  </a:lnTo>
                  <a:lnTo>
                    <a:pt x="2907" y="140"/>
                  </a:lnTo>
                  <a:lnTo>
                    <a:pt x="2955" y="32"/>
                  </a:lnTo>
                  <a:lnTo>
                    <a:pt x="3004" y="218"/>
                  </a:lnTo>
                  <a:lnTo>
                    <a:pt x="3052" y="170"/>
                  </a:lnTo>
                  <a:lnTo>
                    <a:pt x="3101" y="16"/>
                  </a:lnTo>
                  <a:lnTo>
                    <a:pt x="3148" y="229"/>
                  </a:lnTo>
                  <a:lnTo>
                    <a:pt x="3197" y="143"/>
                  </a:lnTo>
                  <a:lnTo>
                    <a:pt x="3246" y="104"/>
                  </a:lnTo>
                  <a:lnTo>
                    <a:pt x="3294" y="213"/>
                  </a:lnTo>
                  <a:lnTo>
                    <a:pt x="3343" y="169"/>
                  </a:lnTo>
                  <a:lnTo>
                    <a:pt x="3391" y="12"/>
                  </a:lnTo>
                  <a:lnTo>
                    <a:pt x="3440" y="287"/>
                  </a:lnTo>
                  <a:lnTo>
                    <a:pt x="3488" y="168"/>
                  </a:lnTo>
                  <a:lnTo>
                    <a:pt x="3536" y="16"/>
                  </a:lnTo>
                  <a:lnTo>
                    <a:pt x="3585" y="211"/>
                  </a:lnTo>
                  <a:lnTo>
                    <a:pt x="3633" y="182"/>
                  </a:lnTo>
                  <a:lnTo>
                    <a:pt x="3682" y="27"/>
                  </a:lnTo>
                  <a:lnTo>
                    <a:pt x="3730" y="229"/>
                  </a:lnTo>
                  <a:lnTo>
                    <a:pt x="3779" y="140"/>
                  </a:lnTo>
                  <a:lnTo>
                    <a:pt x="3827" y="33"/>
                  </a:lnTo>
                  <a:lnTo>
                    <a:pt x="3875" y="234"/>
                  </a:lnTo>
                  <a:lnTo>
                    <a:pt x="3924" y="143"/>
                  </a:lnTo>
                  <a:lnTo>
                    <a:pt x="3972" y="38"/>
                  </a:lnTo>
                  <a:lnTo>
                    <a:pt x="4021" y="238"/>
                  </a:lnTo>
                  <a:lnTo>
                    <a:pt x="4069" y="169"/>
                  </a:lnTo>
                  <a:lnTo>
                    <a:pt x="4118" y="20"/>
                  </a:lnTo>
                  <a:lnTo>
                    <a:pt x="4166" y="223"/>
                  </a:lnTo>
                  <a:lnTo>
                    <a:pt x="4215" y="135"/>
                  </a:lnTo>
                  <a:lnTo>
                    <a:pt x="4263" y="119"/>
                  </a:lnTo>
                  <a:lnTo>
                    <a:pt x="4311" y="200"/>
                  </a:lnTo>
                  <a:lnTo>
                    <a:pt x="4360" y="144"/>
                  </a:lnTo>
                  <a:lnTo>
                    <a:pt x="4408" y="0"/>
                  </a:lnTo>
                  <a:lnTo>
                    <a:pt x="4457" y="301"/>
                  </a:lnTo>
                  <a:lnTo>
                    <a:pt x="4505" y="166"/>
                  </a:lnTo>
                  <a:lnTo>
                    <a:pt x="4554" y="13"/>
                  </a:lnTo>
                  <a:lnTo>
                    <a:pt x="4603" y="175"/>
                  </a:lnTo>
                  <a:lnTo>
                    <a:pt x="4650" y="188"/>
                  </a:lnTo>
                  <a:lnTo>
                    <a:pt x="4699" y="115"/>
                  </a:lnTo>
                  <a:lnTo>
                    <a:pt x="4747" y="182"/>
                  </a:lnTo>
                  <a:lnTo>
                    <a:pt x="4796" y="133"/>
                  </a:lnTo>
                  <a:lnTo>
                    <a:pt x="4796" y="211"/>
                  </a:lnTo>
                  <a:lnTo>
                    <a:pt x="4747" y="452"/>
                  </a:lnTo>
                  <a:lnTo>
                    <a:pt x="4699" y="231"/>
                  </a:lnTo>
                  <a:lnTo>
                    <a:pt x="4650" y="335"/>
                  </a:lnTo>
                  <a:lnTo>
                    <a:pt x="4603" y="455"/>
                  </a:lnTo>
                  <a:lnTo>
                    <a:pt x="4554" y="17"/>
                  </a:lnTo>
                  <a:lnTo>
                    <a:pt x="4505" y="292"/>
                  </a:lnTo>
                  <a:lnTo>
                    <a:pt x="4457" y="622"/>
                  </a:lnTo>
                  <a:lnTo>
                    <a:pt x="4408" y="1"/>
                  </a:lnTo>
                  <a:lnTo>
                    <a:pt x="4360" y="230"/>
                  </a:lnTo>
                  <a:lnTo>
                    <a:pt x="4311" y="479"/>
                  </a:lnTo>
                  <a:lnTo>
                    <a:pt x="4263" y="187"/>
                  </a:lnTo>
                  <a:lnTo>
                    <a:pt x="4215" y="273"/>
                  </a:lnTo>
                  <a:lnTo>
                    <a:pt x="4166" y="463"/>
                  </a:lnTo>
                  <a:lnTo>
                    <a:pt x="4118" y="27"/>
                  </a:lnTo>
                  <a:lnTo>
                    <a:pt x="4069" y="287"/>
                  </a:lnTo>
                  <a:lnTo>
                    <a:pt x="4021" y="524"/>
                  </a:lnTo>
                  <a:lnTo>
                    <a:pt x="3972" y="44"/>
                  </a:lnTo>
                  <a:lnTo>
                    <a:pt x="3924" y="285"/>
                  </a:lnTo>
                  <a:lnTo>
                    <a:pt x="3875" y="496"/>
                  </a:lnTo>
                  <a:lnTo>
                    <a:pt x="3827" y="46"/>
                  </a:lnTo>
                  <a:lnTo>
                    <a:pt x="3779" y="285"/>
                  </a:lnTo>
                  <a:lnTo>
                    <a:pt x="3730" y="481"/>
                  </a:lnTo>
                  <a:lnTo>
                    <a:pt x="3682" y="38"/>
                  </a:lnTo>
                  <a:lnTo>
                    <a:pt x="3633" y="330"/>
                  </a:lnTo>
                  <a:lnTo>
                    <a:pt x="3585" y="502"/>
                  </a:lnTo>
                  <a:lnTo>
                    <a:pt x="3536" y="18"/>
                  </a:lnTo>
                  <a:lnTo>
                    <a:pt x="3488" y="292"/>
                  </a:lnTo>
                  <a:lnTo>
                    <a:pt x="3440" y="605"/>
                  </a:lnTo>
                  <a:lnTo>
                    <a:pt x="3391" y="16"/>
                  </a:lnTo>
                  <a:lnTo>
                    <a:pt x="3343" y="263"/>
                  </a:lnTo>
                  <a:lnTo>
                    <a:pt x="3294" y="503"/>
                  </a:lnTo>
                  <a:lnTo>
                    <a:pt x="3246" y="152"/>
                  </a:lnTo>
                  <a:lnTo>
                    <a:pt x="3197" y="259"/>
                  </a:lnTo>
                  <a:lnTo>
                    <a:pt x="3148" y="465"/>
                  </a:lnTo>
                  <a:lnTo>
                    <a:pt x="3101" y="23"/>
                  </a:lnTo>
                  <a:lnTo>
                    <a:pt x="3052" y="280"/>
                  </a:lnTo>
                  <a:lnTo>
                    <a:pt x="3004" y="514"/>
                  </a:lnTo>
                  <a:lnTo>
                    <a:pt x="2955" y="40"/>
                  </a:lnTo>
                  <a:lnTo>
                    <a:pt x="2907" y="275"/>
                  </a:lnTo>
                  <a:lnTo>
                    <a:pt x="2858" y="483"/>
                  </a:lnTo>
                  <a:lnTo>
                    <a:pt x="2809" y="9"/>
                  </a:lnTo>
                  <a:lnTo>
                    <a:pt x="2762" y="276"/>
                  </a:lnTo>
                  <a:lnTo>
                    <a:pt x="2713" y="525"/>
                  </a:lnTo>
                  <a:lnTo>
                    <a:pt x="2665" y="91"/>
                  </a:lnTo>
                  <a:lnTo>
                    <a:pt x="2616" y="249"/>
                  </a:lnTo>
                  <a:lnTo>
                    <a:pt x="2568" y="455"/>
                  </a:lnTo>
                  <a:lnTo>
                    <a:pt x="2519" y="44"/>
                  </a:lnTo>
                  <a:lnTo>
                    <a:pt x="2470" y="305"/>
                  </a:lnTo>
                  <a:lnTo>
                    <a:pt x="2422" y="519"/>
                  </a:lnTo>
                  <a:lnTo>
                    <a:pt x="2374" y="26"/>
                  </a:lnTo>
                  <a:lnTo>
                    <a:pt x="2326" y="324"/>
                  </a:lnTo>
                  <a:lnTo>
                    <a:pt x="2277" y="516"/>
                  </a:lnTo>
                  <a:lnTo>
                    <a:pt x="2229" y="31"/>
                  </a:lnTo>
                  <a:lnTo>
                    <a:pt x="2180" y="316"/>
                  </a:lnTo>
                  <a:lnTo>
                    <a:pt x="2131" y="589"/>
                  </a:lnTo>
                  <a:lnTo>
                    <a:pt x="2083" y="10"/>
                  </a:lnTo>
                  <a:lnTo>
                    <a:pt x="2034" y="274"/>
                  </a:lnTo>
                  <a:lnTo>
                    <a:pt x="1987" y="523"/>
                  </a:lnTo>
                  <a:lnTo>
                    <a:pt x="1938" y="139"/>
                  </a:lnTo>
                  <a:lnTo>
                    <a:pt x="1890" y="308"/>
                  </a:lnTo>
                  <a:lnTo>
                    <a:pt x="1841" y="484"/>
                  </a:lnTo>
                  <a:lnTo>
                    <a:pt x="1792" y="63"/>
                  </a:lnTo>
                  <a:lnTo>
                    <a:pt x="1744" y="324"/>
                  </a:lnTo>
                  <a:lnTo>
                    <a:pt x="1695" y="562"/>
                  </a:lnTo>
                  <a:lnTo>
                    <a:pt x="1648" y="55"/>
                  </a:lnTo>
                  <a:lnTo>
                    <a:pt x="1599" y="365"/>
                  </a:lnTo>
                  <a:lnTo>
                    <a:pt x="1551" y="550"/>
                  </a:lnTo>
                  <a:lnTo>
                    <a:pt x="1502" y="94"/>
                  </a:lnTo>
                  <a:lnTo>
                    <a:pt x="1453" y="407"/>
                  </a:lnTo>
                  <a:lnTo>
                    <a:pt x="1405" y="633"/>
                  </a:lnTo>
                  <a:lnTo>
                    <a:pt x="1356" y="140"/>
                  </a:lnTo>
                  <a:lnTo>
                    <a:pt x="1308" y="510"/>
                  </a:lnTo>
                  <a:lnTo>
                    <a:pt x="1260" y="681"/>
                  </a:lnTo>
                  <a:lnTo>
                    <a:pt x="1212" y="202"/>
                  </a:lnTo>
                  <a:lnTo>
                    <a:pt x="1163" y="636"/>
                  </a:lnTo>
                  <a:lnTo>
                    <a:pt x="1114" y="847"/>
                  </a:lnTo>
                  <a:lnTo>
                    <a:pt x="1066" y="310"/>
                  </a:lnTo>
                  <a:lnTo>
                    <a:pt x="1017" y="887"/>
                  </a:lnTo>
                  <a:lnTo>
                    <a:pt x="969" y="1051"/>
                  </a:lnTo>
                  <a:lnTo>
                    <a:pt x="921" y="523"/>
                  </a:lnTo>
                  <a:lnTo>
                    <a:pt x="873" y="1308"/>
                  </a:lnTo>
                  <a:lnTo>
                    <a:pt x="824" y="1445"/>
                  </a:lnTo>
                  <a:lnTo>
                    <a:pt x="775" y="725"/>
                  </a:lnTo>
                  <a:lnTo>
                    <a:pt x="727" y="1678"/>
                  </a:lnTo>
                  <a:lnTo>
                    <a:pt x="678" y="1943"/>
                  </a:lnTo>
                  <a:lnTo>
                    <a:pt x="630" y="1342"/>
                  </a:lnTo>
                  <a:lnTo>
                    <a:pt x="581" y="2216"/>
                  </a:lnTo>
                  <a:lnTo>
                    <a:pt x="533" y="2511"/>
                  </a:lnTo>
                  <a:lnTo>
                    <a:pt x="485" y="2217"/>
                  </a:lnTo>
                  <a:lnTo>
                    <a:pt x="436" y="2602"/>
                  </a:lnTo>
                  <a:lnTo>
                    <a:pt x="388" y="2787"/>
                  </a:lnTo>
                  <a:lnTo>
                    <a:pt x="339" y="2815"/>
                  </a:lnTo>
                  <a:lnTo>
                    <a:pt x="291" y="2817"/>
                  </a:lnTo>
                  <a:lnTo>
                    <a:pt x="242" y="2817"/>
                  </a:lnTo>
                  <a:lnTo>
                    <a:pt x="193" y="2817"/>
                  </a:lnTo>
                  <a:lnTo>
                    <a:pt x="146" y="2817"/>
                  </a:lnTo>
                  <a:lnTo>
                    <a:pt x="97" y="2817"/>
                  </a:lnTo>
                  <a:lnTo>
                    <a:pt x="49" y="2817"/>
                  </a:lnTo>
                  <a:lnTo>
                    <a:pt x="0" y="28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71600" y="917640"/>
              <a:ext cx="7613640" cy="4505400"/>
            </a:xfrm>
            <a:custGeom>
              <a:avLst/>
              <a:gdLst/>
              <a:ahLst/>
              <a:rect l="l" t="t" r="r" b="b"/>
              <a:pathLst>
                <a:path w="4796" h="2838">
                  <a:moveTo>
                    <a:pt x="0" y="2838"/>
                  </a:moveTo>
                  <a:lnTo>
                    <a:pt x="0" y="2838"/>
                  </a:lnTo>
                  <a:lnTo>
                    <a:pt x="49" y="2838"/>
                  </a:lnTo>
                  <a:lnTo>
                    <a:pt x="97" y="2838"/>
                  </a:lnTo>
                  <a:lnTo>
                    <a:pt x="146" y="2838"/>
                  </a:lnTo>
                  <a:lnTo>
                    <a:pt x="193" y="2709"/>
                  </a:lnTo>
                  <a:lnTo>
                    <a:pt x="242" y="2618"/>
                  </a:lnTo>
                  <a:lnTo>
                    <a:pt x="291" y="2535"/>
                  </a:lnTo>
                  <a:lnTo>
                    <a:pt x="339" y="1835"/>
                  </a:lnTo>
                  <a:lnTo>
                    <a:pt x="388" y="1837"/>
                  </a:lnTo>
                  <a:lnTo>
                    <a:pt x="436" y="2014"/>
                  </a:lnTo>
                  <a:lnTo>
                    <a:pt x="485" y="1324"/>
                  </a:lnTo>
                  <a:lnTo>
                    <a:pt x="533" y="986"/>
                  </a:lnTo>
                  <a:lnTo>
                    <a:pt x="581" y="1113"/>
                  </a:lnTo>
                  <a:lnTo>
                    <a:pt x="630" y="733"/>
                  </a:lnTo>
                  <a:lnTo>
                    <a:pt x="678" y="574"/>
                  </a:lnTo>
                  <a:lnTo>
                    <a:pt x="727" y="481"/>
                  </a:lnTo>
                  <a:lnTo>
                    <a:pt x="775" y="343"/>
                  </a:lnTo>
                  <a:lnTo>
                    <a:pt x="824" y="443"/>
                  </a:lnTo>
                  <a:lnTo>
                    <a:pt x="873" y="252"/>
                  </a:lnTo>
                  <a:lnTo>
                    <a:pt x="921" y="187"/>
                  </a:lnTo>
                  <a:lnTo>
                    <a:pt x="969" y="278"/>
                  </a:lnTo>
                  <a:lnTo>
                    <a:pt x="1017" y="53"/>
                  </a:lnTo>
                  <a:lnTo>
                    <a:pt x="1066" y="25"/>
                  </a:lnTo>
                  <a:lnTo>
                    <a:pt x="1114" y="182"/>
                  </a:lnTo>
                  <a:lnTo>
                    <a:pt x="1163" y="35"/>
                  </a:lnTo>
                  <a:lnTo>
                    <a:pt x="1212" y="15"/>
                  </a:lnTo>
                  <a:lnTo>
                    <a:pt x="1260" y="141"/>
                  </a:lnTo>
                  <a:lnTo>
                    <a:pt x="1308" y="17"/>
                  </a:lnTo>
                  <a:lnTo>
                    <a:pt x="1356" y="0"/>
                  </a:lnTo>
                  <a:lnTo>
                    <a:pt x="1405" y="99"/>
                  </a:lnTo>
                  <a:lnTo>
                    <a:pt x="1453" y="20"/>
                  </a:lnTo>
                  <a:lnTo>
                    <a:pt x="1502" y="0"/>
                  </a:lnTo>
                  <a:lnTo>
                    <a:pt x="1551" y="62"/>
                  </a:lnTo>
                  <a:lnTo>
                    <a:pt x="1599" y="11"/>
                  </a:lnTo>
                  <a:lnTo>
                    <a:pt x="1648" y="0"/>
                  </a:lnTo>
                  <a:lnTo>
                    <a:pt x="1695" y="77"/>
                  </a:lnTo>
                  <a:lnTo>
                    <a:pt x="1744" y="8"/>
                  </a:lnTo>
                  <a:lnTo>
                    <a:pt x="1792" y="0"/>
                  </a:lnTo>
                  <a:lnTo>
                    <a:pt x="1841" y="54"/>
                  </a:lnTo>
                  <a:lnTo>
                    <a:pt x="1890" y="3"/>
                  </a:lnTo>
                  <a:lnTo>
                    <a:pt x="1938" y="55"/>
                  </a:lnTo>
                  <a:lnTo>
                    <a:pt x="1987" y="41"/>
                  </a:lnTo>
                  <a:lnTo>
                    <a:pt x="2034" y="0"/>
                  </a:lnTo>
                  <a:lnTo>
                    <a:pt x="2083" y="0"/>
                  </a:lnTo>
                  <a:lnTo>
                    <a:pt x="2131" y="57"/>
                  </a:lnTo>
                  <a:lnTo>
                    <a:pt x="2180" y="1"/>
                  </a:lnTo>
                  <a:lnTo>
                    <a:pt x="2229" y="0"/>
                  </a:lnTo>
                  <a:lnTo>
                    <a:pt x="2277" y="46"/>
                  </a:lnTo>
                  <a:lnTo>
                    <a:pt x="2326" y="2"/>
                  </a:lnTo>
                  <a:lnTo>
                    <a:pt x="2374" y="0"/>
                  </a:lnTo>
                  <a:lnTo>
                    <a:pt x="2422" y="61"/>
                  </a:lnTo>
                  <a:lnTo>
                    <a:pt x="2470" y="3"/>
                  </a:lnTo>
                  <a:lnTo>
                    <a:pt x="2519" y="0"/>
                  </a:lnTo>
                  <a:lnTo>
                    <a:pt x="2568" y="53"/>
                  </a:lnTo>
                  <a:lnTo>
                    <a:pt x="2616" y="0"/>
                  </a:lnTo>
                  <a:lnTo>
                    <a:pt x="2665" y="35"/>
                  </a:lnTo>
                  <a:lnTo>
                    <a:pt x="2713" y="35"/>
                  </a:lnTo>
                  <a:lnTo>
                    <a:pt x="2762" y="0"/>
                  </a:lnTo>
                  <a:lnTo>
                    <a:pt x="2809" y="0"/>
                  </a:lnTo>
                  <a:lnTo>
                    <a:pt x="2858" y="46"/>
                  </a:lnTo>
                  <a:lnTo>
                    <a:pt x="2907" y="3"/>
                  </a:lnTo>
                  <a:lnTo>
                    <a:pt x="2955" y="17"/>
                  </a:lnTo>
                  <a:lnTo>
                    <a:pt x="3004" y="45"/>
                  </a:lnTo>
                  <a:lnTo>
                    <a:pt x="3052" y="2"/>
                  </a:lnTo>
                  <a:lnTo>
                    <a:pt x="3101" y="0"/>
                  </a:lnTo>
                  <a:lnTo>
                    <a:pt x="3148" y="39"/>
                  </a:lnTo>
                  <a:lnTo>
                    <a:pt x="3197" y="1"/>
                  </a:lnTo>
                  <a:lnTo>
                    <a:pt x="3246" y="59"/>
                  </a:lnTo>
                  <a:lnTo>
                    <a:pt x="3294" y="34"/>
                  </a:lnTo>
                  <a:lnTo>
                    <a:pt x="3343" y="1"/>
                  </a:lnTo>
                  <a:lnTo>
                    <a:pt x="3391" y="0"/>
                  </a:lnTo>
                  <a:lnTo>
                    <a:pt x="3440" y="46"/>
                  </a:lnTo>
                  <a:lnTo>
                    <a:pt x="3488" y="1"/>
                  </a:lnTo>
                  <a:lnTo>
                    <a:pt x="3536" y="0"/>
                  </a:lnTo>
                  <a:lnTo>
                    <a:pt x="3585" y="52"/>
                  </a:lnTo>
                  <a:lnTo>
                    <a:pt x="3633" y="2"/>
                  </a:lnTo>
                  <a:lnTo>
                    <a:pt x="3682" y="0"/>
                  </a:lnTo>
                  <a:lnTo>
                    <a:pt x="3730" y="59"/>
                  </a:lnTo>
                  <a:lnTo>
                    <a:pt x="3779" y="3"/>
                  </a:lnTo>
                  <a:lnTo>
                    <a:pt x="3827" y="0"/>
                  </a:lnTo>
                  <a:lnTo>
                    <a:pt x="3875" y="50"/>
                  </a:lnTo>
                  <a:lnTo>
                    <a:pt x="3924" y="1"/>
                  </a:lnTo>
                  <a:lnTo>
                    <a:pt x="3972" y="15"/>
                  </a:lnTo>
                  <a:lnTo>
                    <a:pt x="4021" y="53"/>
                  </a:lnTo>
                  <a:lnTo>
                    <a:pt x="4069" y="1"/>
                  </a:lnTo>
                  <a:lnTo>
                    <a:pt x="4118" y="0"/>
                  </a:lnTo>
                  <a:lnTo>
                    <a:pt x="4166" y="43"/>
                  </a:lnTo>
                  <a:lnTo>
                    <a:pt x="4215" y="2"/>
                  </a:lnTo>
                  <a:lnTo>
                    <a:pt x="4263" y="54"/>
                  </a:lnTo>
                  <a:lnTo>
                    <a:pt x="4311" y="29"/>
                  </a:lnTo>
                  <a:lnTo>
                    <a:pt x="4360" y="0"/>
                  </a:lnTo>
                  <a:lnTo>
                    <a:pt x="4408" y="0"/>
                  </a:lnTo>
                  <a:lnTo>
                    <a:pt x="4457" y="52"/>
                  </a:lnTo>
                  <a:lnTo>
                    <a:pt x="4505" y="2"/>
                  </a:lnTo>
                  <a:lnTo>
                    <a:pt x="4554" y="0"/>
                  </a:lnTo>
                  <a:lnTo>
                    <a:pt x="4603" y="46"/>
                  </a:lnTo>
                  <a:lnTo>
                    <a:pt x="4650" y="0"/>
                  </a:lnTo>
                  <a:lnTo>
                    <a:pt x="4699" y="62"/>
                  </a:lnTo>
                  <a:lnTo>
                    <a:pt x="4747" y="26"/>
                  </a:lnTo>
                  <a:lnTo>
                    <a:pt x="4796" y="0"/>
                  </a:lnTo>
                  <a:lnTo>
                    <a:pt x="4796" y="154"/>
                  </a:lnTo>
                  <a:lnTo>
                    <a:pt x="4747" y="203"/>
                  </a:lnTo>
                  <a:lnTo>
                    <a:pt x="4699" y="136"/>
                  </a:lnTo>
                  <a:lnTo>
                    <a:pt x="4650" y="209"/>
                  </a:lnTo>
                  <a:lnTo>
                    <a:pt x="4603" y="196"/>
                  </a:lnTo>
                  <a:lnTo>
                    <a:pt x="4554" y="34"/>
                  </a:lnTo>
                  <a:lnTo>
                    <a:pt x="4505" y="187"/>
                  </a:lnTo>
                  <a:lnTo>
                    <a:pt x="4457" y="322"/>
                  </a:lnTo>
                  <a:lnTo>
                    <a:pt x="4408" y="21"/>
                  </a:lnTo>
                  <a:lnTo>
                    <a:pt x="4360" y="165"/>
                  </a:lnTo>
                  <a:lnTo>
                    <a:pt x="4311" y="221"/>
                  </a:lnTo>
                  <a:lnTo>
                    <a:pt x="4263" y="140"/>
                  </a:lnTo>
                  <a:lnTo>
                    <a:pt x="4215" y="156"/>
                  </a:lnTo>
                  <a:lnTo>
                    <a:pt x="4166" y="244"/>
                  </a:lnTo>
                  <a:lnTo>
                    <a:pt x="4118" y="41"/>
                  </a:lnTo>
                  <a:lnTo>
                    <a:pt x="4069" y="190"/>
                  </a:lnTo>
                  <a:lnTo>
                    <a:pt x="4021" y="259"/>
                  </a:lnTo>
                  <a:lnTo>
                    <a:pt x="3972" y="59"/>
                  </a:lnTo>
                  <a:lnTo>
                    <a:pt x="3924" y="164"/>
                  </a:lnTo>
                  <a:lnTo>
                    <a:pt x="3875" y="255"/>
                  </a:lnTo>
                  <a:lnTo>
                    <a:pt x="3827" y="54"/>
                  </a:lnTo>
                  <a:lnTo>
                    <a:pt x="3779" y="161"/>
                  </a:lnTo>
                  <a:lnTo>
                    <a:pt x="3730" y="250"/>
                  </a:lnTo>
                  <a:lnTo>
                    <a:pt x="3682" y="48"/>
                  </a:lnTo>
                  <a:lnTo>
                    <a:pt x="3633" y="203"/>
                  </a:lnTo>
                  <a:lnTo>
                    <a:pt x="3585" y="232"/>
                  </a:lnTo>
                  <a:lnTo>
                    <a:pt x="3536" y="37"/>
                  </a:lnTo>
                  <a:lnTo>
                    <a:pt x="3488" y="189"/>
                  </a:lnTo>
                  <a:lnTo>
                    <a:pt x="3440" y="308"/>
                  </a:lnTo>
                  <a:lnTo>
                    <a:pt x="3391" y="33"/>
                  </a:lnTo>
                  <a:lnTo>
                    <a:pt x="3343" y="190"/>
                  </a:lnTo>
                  <a:lnTo>
                    <a:pt x="3294" y="234"/>
                  </a:lnTo>
                  <a:lnTo>
                    <a:pt x="3246" y="125"/>
                  </a:lnTo>
                  <a:lnTo>
                    <a:pt x="3197" y="164"/>
                  </a:lnTo>
                  <a:lnTo>
                    <a:pt x="3148" y="250"/>
                  </a:lnTo>
                  <a:lnTo>
                    <a:pt x="3101" y="37"/>
                  </a:lnTo>
                  <a:lnTo>
                    <a:pt x="3052" y="191"/>
                  </a:lnTo>
                  <a:lnTo>
                    <a:pt x="3004" y="239"/>
                  </a:lnTo>
                  <a:lnTo>
                    <a:pt x="2955" y="53"/>
                  </a:lnTo>
                  <a:lnTo>
                    <a:pt x="2907" y="161"/>
                  </a:lnTo>
                  <a:lnTo>
                    <a:pt x="2858" y="254"/>
                  </a:lnTo>
                  <a:lnTo>
                    <a:pt x="2809" y="29"/>
                  </a:lnTo>
                  <a:lnTo>
                    <a:pt x="2762" y="196"/>
                  </a:lnTo>
                  <a:lnTo>
                    <a:pt x="2713" y="243"/>
                  </a:lnTo>
                  <a:lnTo>
                    <a:pt x="2665" y="98"/>
                  </a:lnTo>
                  <a:lnTo>
                    <a:pt x="2616" y="146"/>
                  </a:lnTo>
                  <a:lnTo>
                    <a:pt x="2568" y="248"/>
                  </a:lnTo>
                  <a:lnTo>
                    <a:pt x="2519" y="49"/>
                  </a:lnTo>
                  <a:lnTo>
                    <a:pt x="2470" y="183"/>
                  </a:lnTo>
                  <a:lnTo>
                    <a:pt x="2422" y="265"/>
                  </a:lnTo>
                  <a:lnTo>
                    <a:pt x="2374" y="40"/>
                  </a:lnTo>
                  <a:lnTo>
                    <a:pt x="2326" y="216"/>
                  </a:lnTo>
                  <a:lnTo>
                    <a:pt x="2277" y="232"/>
                  </a:lnTo>
                  <a:lnTo>
                    <a:pt x="2229" y="44"/>
                  </a:lnTo>
                  <a:lnTo>
                    <a:pt x="2180" y="190"/>
                  </a:lnTo>
                  <a:lnTo>
                    <a:pt x="2131" y="292"/>
                  </a:lnTo>
                  <a:lnTo>
                    <a:pt x="2083" y="29"/>
                  </a:lnTo>
                  <a:lnTo>
                    <a:pt x="2034" y="185"/>
                  </a:lnTo>
                  <a:lnTo>
                    <a:pt x="1987" y="242"/>
                  </a:lnTo>
                  <a:lnTo>
                    <a:pt x="1938" y="117"/>
                  </a:lnTo>
                  <a:lnTo>
                    <a:pt x="1890" y="191"/>
                  </a:lnTo>
                  <a:lnTo>
                    <a:pt x="1841" y="254"/>
                  </a:lnTo>
                  <a:lnTo>
                    <a:pt x="1792" y="64"/>
                  </a:lnTo>
                  <a:lnTo>
                    <a:pt x="1744" y="186"/>
                  </a:lnTo>
                  <a:lnTo>
                    <a:pt x="1695" y="299"/>
                  </a:lnTo>
                  <a:lnTo>
                    <a:pt x="1648" y="55"/>
                  </a:lnTo>
                  <a:lnTo>
                    <a:pt x="1599" y="220"/>
                  </a:lnTo>
                  <a:lnTo>
                    <a:pt x="1551" y="263"/>
                  </a:lnTo>
                  <a:lnTo>
                    <a:pt x="1502" y="73"/>
                  </a:lnTo>
                  <a:lnTo>
                    <a:pt x="1453" y="229"/>
                  </a:lnTo>
                  <a:lnTo>
                    <a:pt x="1405" y="326"/>
                  </a:lnTo>
                  <a:lnTo>
                    <a:pt x="1356" y="113"/>
                  </a:lnTo>
                  <a:lnTo>
                    <a:pt x="1308" y="245"/>
                  </a:lnTo>
                  <a:lnTo>
                    <a:pt x="1260" y="366"/>
                  </a:lnTo>
                  <a:lnTo>
                    <a:pt x="1212" y="166"/>
                  </a:lnTo>
                  <a:lnTo>
                    <a:pt x="1163" y="307"/>
                  </a:lnTo>
                  <a:lnTo>
                    <a:pt x="1114" y="459"/>
                  </a:lnTo>
                  <a:lnTo>
                    <a:pt x="1066" y="259"/>
                  </a:lnTo>
                  <a:lnTo>
                    <a:pt x="1017" y="372"/>
                  </a:lnTo>
                  <a:lnTo>
                    <a:pt x="969" y="549"/>
                  </a:lnTo>
                  <a:lnTo>
                    <a:pt x="921" y="444"/>
                  </a:lnTo>
                  <a:lnTo>
                    <a:pt x="873" y="695"/>
                  </a:lnTo>
                  <a:lnTo>
                    <a:pt x="824" y="709"/>
                  </a:lnTo>
                  <a:lnTo>
                    <a:pt x="775" y="580"/>
                  </a:lnTo>
                  <a:lnTo>
                    <a:pt x="727" y="1024"/>
                  </a:lnTo>
                  <a:lnTo>
                    <a:pt x="678" y="888"/>
                  </a:lnTo>
                  <a:lnTo>
                    <a:pt x="630" y="959"/>
                  </a:lnTo>
                  <a:lnTo>
                    <a:pt x="581" y="1633"/>
                  </a:lnTo>
                  <a:lnTo>
                    <a:pt x="533" y="1285"/>
                  </a:lnTo>
                  <a:lnTo>
                    <a:pt x="485" y="1449"/>
                  </a:lnTo>
                  <a:lnTo>
                    <a:pt x="436" y="2213"/>
                  </a:lnTo>
                  <a:lnTo>
                    <a:pt x="388" y="2031"/>
                  </a:lnTo>
                  <a:lnTo>
                    <a:pt x="339" y="1855"/>
                  </a:lnTo>
                  <a:lnTo>
                    <a:pt x="291" y="2535"/>
                  </a:lnTo>
                  <a:lnTo>
                    <a:pt x="242" y="2626"/>
                  </a:lnTo>
                  <a:lnTo>
                    <a:pt x="193" y="2709"/>
                  </a:lnTo>
                  <a:lnTo>
                    <a:pt x="146" y="2838"/>
                  </a:lnTo>
                  <a:lnTo>
                    <a:pt x="97" y="2838"/>
                  </a:lnTo>
                  <a:lnTo>
                    <a:pt x="49" y="2838"/>
                  </a:lnTo>
                  <a:lnTo>
                    <a:pt x="0" y="28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71600" y="917640"/>
              <a:ext cx="7613640" cy="4505400"/>
            </a:xfrm>
            <a:custGeom>
              <a:avLst/>
              <a:gdLst/>
              <a:ahLst/>
              <a:rect l="l" t="t" r="r" b="b"/>
              <a:pathLst>
                <a:path w="4796" h="2838">
                  <a:moveTo>
                    <a:pt x="0" y="2838"/>
                  </a:moveTo>
                  <a:lnTo>
                    <a:pt x="0" y="2838"/>
                  </a:lnTo>
                  <a:lnTo>
                    <a:pt x="49" y="2838"/>
                  </a:lnTo>
                  <a:lnTo>
                    <a:pt x="97" y="0"/>
                  </a:lnTo>
                  <a:lnTo>
                    <a:pt x="146" y="0"/>
                  </a:lnTo>
                  <a:lnTo>
                    <a:pt x="193" y="0"/>
                  </a:lnTo>
                  <a:lnTo>
                    <a:pt x="242" y="0"/>
                  </a:lnTo>
                  <a:lnTo>
                    <a:pt x="291" y="0"/>
                  </a:lnTo>
                  <a:lnTo>
                    <a:pt x="339" y="0"/>
                  </a:lnTo>
                  <a:lnTo>
                    <a:pt x="388" y="0"/>
                  </a:lnTo>
                  <a:lnTo>
                    <a:pt x="436" y="0"/>
                  </a:lnTo>
                  <a:lnTo>
                    <a:pt x="485" y="0"/>
                  </a:lnTo>
                  <a:lnTo>
                    <a:pt x="533" y="0"/>
                  </a:lnTo>
                  <a:lnTo>
                    <a:pt x="581" y="0"/>
                  </a:lnTo>
                  <a:lnTo>
                    <a:pt x="630" y="0"/>
                  </a:lnTo>
                  <a:lnTo>
                    <a:pt x="678" y="0"/>
                  </a:lnTo>
                  <a:lnTo>
                    <a:pt x="727" y="0"/>
                  </a:lnTo>
                  <a:lnTo>
                    <a:pt x="775" y="0"/>
                  </a:lnTo>
                  <a:lnTo>
                    <a:pt x="824" y="0"/>
                  </a:lnTo>
                  <a:lnTo>
                    <a:pt x="873" y="0"/>
                  </a:lnTo>
                  <a:lnTo>
                    <a:pt x="921" y="0"/>
                  </a:lnTo>
                  <a:lnTo>
                    <a:pt x="969" y="0"/>
                  </a:lnTo>
                  <a:lnTo>
                    <a:pt x="1017" y="0"/>
                  </a:lnTo>
                  <a:lnTo>
                    <a:pt x="1066" y="0"/>
                  </a:lnTo>
                  <a:lnTo>
                    <a:pt x="1114" y="0"/>
                  </a:lnTo>
                  <a:lnTo>
                    <a:pt x="1163" y="0"/>
                  </a:lnTo>
                  <a:lnTo>
                    <a:pt x="1212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56" y="0"/>
                  </a:lnTo>
                  <a:lnTo>
                    <a:pt x="1405" y="0"/>
                  </a:lnTo>
                  <a:lnTo>
                    <a:pt x="1453" y="0"/>
                  </a:lnTo>
                  <a:lnTo>
                    <a:pt x="1502" y="0"/>
                  </a:lnTo>
                  <a:lnTo>
                    <a:pt x="1551" y="0"/>
                  </a:lnTo>
                  <a:lnTo>
                    <a:pt x="1599" y="0"/>
                  </a:lnTo>
                  <a:lnTo>
                    <a:pt x="1648" y="0"/>
                  </a:lnTo>
                  <a:lnTo>
                    <a:pt x="1695" y="0"/>
                  </a:lnTo>
                  <a:lnTo>
                    <a:pt x="1744" y="0"/>
                  </a:lnTo>
                  <a:lnTo>
                    <a:pt x="1792" y="0"/>
                  </a:lnTo>
                  <a:lnTo>
                    <a:pt x="1841" y="0"/>
                  </a:lnTo>
                  <a:lnTo>
                    <a:pt x="1890" y="0"/>
                  </a:lnTo>
                  <a:lnTo>
                    <a:pt x="1938" y="0"/>
                  </a:lnTo>
                  <a:lnTo>
                    <a:pt x="1987" y="0"/>
                  </a:lnTo>
                  <a:lnTo>
                    <a:pt x="2034" y="0"/>
                  </a:lnTo>
                  <a:lnTo>
                    <a:pt x="2083" y="0"/>
                  </a:lnTo>
                  <a:lnTo>
                    <a:pt x="2131" y="0"/>
                  </a:lnTo>
                  <a:lnTo>
                    <a:pt x="2180" y="0"/>
                  </a:lnTo>
                  <a:lnTo>
                    <a:pt x="2229" y="0"/>
                  </a:lnTo>
                  <a:lnTo>
                    <a:pt x="2277" y="0"/>
                  </a:lnTo>
                  <a:lnTo>
                    <a:pt x="2326" y="0"/>
                  </a:lnTo>
                  <a:lnTo>
                    <a:pt x="2374" y="0"/>
                  </a:lnTo>
                  <a:lnTo>
                    <a:pt x="2422" y="0"/>
                  </a:lnTo>
                  <a:lnTo>
                    <a:pt x="2470" y="0"/>
                  </a:lnTo>
                  <a:lnTo>
                    <a:pt x="2519" y="0"/>
                  </a:lnTo>
                  <a:lnTo>
                    <a:pt x="2568" y="0"/>
                  </a:lnTo>
                  <a:lnTo>
                    <a:pt x="2616" y="0"/>
                  </a:lnTo>
                  <a:lnTo>
                    <a:pt x="2665" y="0"/>
                  </a:lnTo>
                  <a:lnTo>
                    <a:pt x="2713" y="0"/>
                  </a:lnTo>
                  <a:lnTo>
                    <a:pt x="2762" y="0"/>
                  </a:lnTo>
                  <a:lnTo>
                    <a:pt x="2809" y="0"/>
                  </a:lnTo>
                  <a:lnTo>
                    <a:pt x="2858" y="0"/>
                  </a:lnTo>
                  <a:lnTo>
                    <a:pt x="2907" y="0"/>
                  </a:lnTo>
                  <a:lnTo>
                    <a:pt x="2955" y="0"/>
                  </a:lnTo>
                  <a:lnTo>
                    <a:pt x="3004" y="0"/>
                  </a:lnTo>
                  <a:lnTo>
                    <a:pt x="3052" y="0"/>
                  </a:lnTo>
                  <a:lnTo>
                    <a:pt x="3101" y="0"/>
                  </a:lnTo>
                  <a:lnTo>
                    <a:pt x="3148" y="0"/>
                  </a:lnTo>
                  <a:lnTo>
                    <a:pt x="3197" y="0"/>
                  </a:lnTo>
                  <a:lnTo>
                    <a:pt x="3246" y="0"/>
                  </a:lnTo>
                  <a:lnTo>
                    <a:pt x="3294" y="0"/>
                  </a:lnTo>
                  <a:lnTo>
                    <a:pt x="3343" y="0"/>
                  </a:lnTo>
                  <a:lnTo>
                    <a:pt x="3391" y="0"/>
                  </a:lnTo>
                  <a:lnTo>
                    <a:pt x="3440" y="0"/>
                  </a:lnTo>
                  <a:lnTo>
                    <a:pt x="3488" y="0"/>
                  </a:lnTo>
                  <a:lnTo>
                    <a:pt x="3536" y="0"/>
                  </a:lnTo>
                  <a:lnTo>
                    <a:pt x="3585" y="0"/>
                  </a:lnTo>
                  <a:lnTo>
                    <a:pt x="3633" y="0"/>
                  </a:lnTo>
                  <a:lnTo>
                    <a:pt x="3682" y="0"/>
                  </a:lnTo>
                  <a:lnTo>
                    <a:pt x="3730" y="0"/>
                  </a:lnTo>
                  <a:lnTo>
                    <a:pt x="3779" y="0"/>
                  </a:lnTo>
                  <a:lnTo>
                    <a:pt x="3827" y="0"/>
                  </a:lnTo>
                  <a:lnTo>
                    <a:pt x="3875" y="0"/>
                  </a:lnTo>
                  <a:lnTo>
                    <a:pt x="3924" y="0"/>
                  </a:lnTo>
                  <a:lnTo>
                    <a:pt x="3972" y="0"/>
                  </a:lnTo>
                  <a:lnTo>
                    <a:pt x="4021" y="0"/>
                  </a:lnTo>
                  <a:lnTo>
                    <a:pt x="4069" y="0"/>
                  </a:lnTo>
                  <a:lnTo>
                    <a:pt x="4118" y="0"/>
                  </a:lnTo>
                  <a:lnTo>
                    <a:pt x="4166" y="0"/>
                  </a:lnTo>
                  <a:lnTo>
                    <a:pt x="4215" y="0"/>
                  </a:lnTo>
                  <a:lnTo>
                    <a:pt x="4263" y="0"/>
                  </a:lnTo>
                  <a:lnTo>
                    <a:pt x="4311" y="0"/>
                  </a:lnTo>
                  <a:lnTo>
                    <a:pt x="4360" y="0"/>
                  </a:lnTo>
                  <a:lnTo>
                    <a:pt x="4408" y="0"/>
                  </a:lnTo>
                  <a:lnTo>
                    <a:pt x="4457" y="0"/>
                  </a:lnTo>
                  <a:lnTo>
                    <a:pt x="4505" y="0"/>
                  </a:lnTo>
                  <a:lnTo>
                    <a:pt x="4554" y="0"/>
                  </a:lnTo>
                  <a:lnTo>
                    <a:pt x="4603" y="0"/>
                  </a:lnTo>
                  <a:lnTo>
                    <a:pt x="4650" y="0"/>
                  </a:lnTo>
                  <a:lnTo>
                    <a:pt x="4699" y="0"/>
                  </a:lnTo>
                  <a:lnTo>
                    <a:pt x="4747" y="0"/>
                  </a:lnTo>
                  <a:lnTo>
                    <a:pt x="4796" y="0"/>
                  </a:lnTo>
                  <a:lnTo>
                    <a:pt x="4796" y="0"/>
                  </a:lnTo>
                  <a:lnTo>
                    <a:pt x="4747" y="26"/>
                  </a:lnTo>
                  <a:lnTo>
                    <a:pt x="4699" y="62"/>
                  </a:lnTo>
                  <a:lnTo>
                    <a:pt x="4650" y="0"/>
                  </a:lnTo>
                  <a:lnTo>
                    <a:pt x="4603" y="46"/>
                  </a:lnTo>
                  <a:lnTo>
                    <a:pt x="4554" y="0"/>
                  </a:lnTo>
                  <a:lnTo>
                    <a:pt x="4505" y="2"/>
                  </a:lnTo>
                  <a:lnTo>
                    <a:pt x="4457" y="52"/>
                  </a:lnTo>
                  <a:lnTo>
                    <a:pt x="4408" y="0"/>
                  </a:lnTo>
                  <a:lnTo>
                    <a:pt x="4360" y="0"/>
                  </a:lnTo>
                  <a:lnTo>
                    <a:pt x="4311" y="29"/>
                  </a:lnTo>
                  <a:lnTo>
                    <a:pt x="4263" y="54"/>
                  </a:lnTo>
                  <a:lnTo>
                    <a:pt x="4215" y="2"/>
                  </a:lnTo>
                  <a:lnTo>
                    <a:pt x="4166" y="43"/>
                  </a:lnTo>
                  <a:lnTo>
                    <a:pt x="4118" y="0"/>
                  </a:lnTo>
                  <a:lnTo>
                    <a:pt x="4069" y="1"/>
                  </a:lnTo>
                  <a:lnTo>
                    <a:pt x="4021" y="53"/>
                  </a:lnTo>
                  <a:lnTo>
                    <a:pt x="3972" y="15"/>
                  </a:lnTo>
                  <a:lnTo>
                    <a:pt x="3924" y="1"/>
                  </a:lnTo>
                  <a:lnTo>
                    <a:pt x="3875" y="50"/>
                  </a:lnTo>
                  <a:lnTo>
                    <a:pt x="3827" y="0"/>
                  </a:lnTo>
                  <a:lnTo>
                    <a:pt x="3779" y="3"/>
                  </a:lnTo>
                  <a:lnTo>
                    <a:pt x="3730" y="59"/>
                  </a:lnTo>
                  <a:lnTo>
                    <a:pt x="3682" y="0"/>
                  </a:lnTo>
                  <a:lnTo>
                    <a:pt x="3633" y="2"/>
                  </a:lnTo>
                  <a:lnTo>
                    <a:pt x="3585" y="52"/>
                  </a:lnTo>
                  <a:lnTo>
                    <a:pt x="3536" y="0"/>
                  </a:lnTo>
                  <a:lnTo>
                    <a:pt x="3488" y="1"/>
                  </a:lnTo>
                  <a:lnTo>
                    <a:pt x="3440" y="46"/>
                  </a:lnTo>
                  <a:lnTo>
                    <a:pt x="3391" y="0"/>
                  </a:lnTo>
                  <a:lnTo>
                    <a:pt x="3343" y="1"/>
                  </a:lnTo>
                  <a:lnTo>
                    <a:pt x="3294" y="34"/>
                  </a:lnTo>
                  <a:lnTo>
                    <a:pt x="3246" y="59"/>
                  </a:lnTo>
                  <a:lnTo>
                    <a:pt x="3197" y="1"/>
                  </a:lnTo>
                  <a:lnTo>
                    <a:pt x="3148" y="39"/>
                  </a:lnTo>
                  <a:lnTo>
                    <a:pt x="3101" y="0"/>
                  </a:lnTo>
                  <a:lnTo>
                    <a:pt x="3052" y="2"/>
                  </a:lnTo>
                  <a:lnTo>
                    <a:pt x="3004" y="45"/>
                  </a:lnTo>
                  <a:lnTo>
                    <a:pt x="2955" y="17"/>
                  </a:lnTo>
                  <a:lnTo>
                    <a:pt x="2907" y="3"/>
                  </a:lnTo>
                  <a:lnTo>
                    <a:pt x="2858" y="46"/>
                  </a:lnTo>
                  <a:lnTo>
                    <a:pt x="2809" y="0"/>
                  </a:lnTo>
                  <a:lnTo>
                    <a:pt x="2762" y="0"/>
                  </a:lnTo>
                  <a:lnTo>
                    <a:pt x="2713" y="35"/>
                  </a:lnTo>
                  <a:lnTo>
                    <a:pt x="2665" y="35"/>
                  </a:lnTo>
                  <a:lnTo>
                    <a:pt x="2616" y="0"/>
                  </a:lnTo>
                  <a:lnTo>
                    <a:pt x="2568" y="53"/>
                  </a:lnTo>
                  <a:lnTo>
                    <a:pt x="2519" y="0"/>
                  </a:lnTo>
                  <a:lnTo>
                    <a:pt x="2470" y="3"/>
                  </a:lnTo>
                  <a:lnTo>
                    <a:pt x="2422" y="61"/>
                  </a:lnTo>
                  <a:lnTo>
                    <a:pt x="2374" y="0"/>
                  </a:lnTo>
                  <a:lnTo>
                    <a:pt x="2326" y="2"/>
                  </a:lnTo>
                  <a:lnTo>
                    <a:pt x="2277" y="46"/>
                  </a:lnTo>
                  <a:lnTo>
                    <a:pt x="2229" y="0"/>
                  </a:lnTo>
                  <a:lnTo>
                    <a:pt x="2180" y="1"/>
                  </a:lnTo>
                  <a:lnTo>
                    <a:pt x="2131" y="57"/>
                  </a:lnTo>
                  <a:lnTo>
                    <a:pt x="2083" y="0"/>
                  </a:lnTo>
                  <a:lnTo>
                    <a:pt x="2034" y="0"/>
                  </a:lnTo>
                  <a:lnTo>
                    <a:pt x="1987" y="41"/>
                  </a:lnTo>
                  <a:lnTo>
                    <a:pt x="1938" y="55"/>
                  </a:lnTo>
                  <a:lnTo>
                    <a:pt x="1890" y="3"/>
                  </a:lnTo>
                  <a:lnTo>
                    <a:pt x="1841" y="54"/>
                  </a:lnTo>
                  <a:lnTo>
                    <a:pt x="1792" y="0"/>
                  </a:lnTo>
                  <a:lnTo>
                    <a:pt x="1744" y="8"/>
                  </a:lnTo>
                  <a:lnTo>
                    <a:pt x="1695" y="77"/>
                  </a:lnTo>
                  <a:lnTo>
                    <a:pt x="1648" y="0"/>
                  </a:lnTo>
                  <a:lnTo>
                    <a:pt x="1599" y="11"/>
                  </a:lnTo>
                  <a:lnTo>
                    <a:pt x="1551" y="62"/>
                  </a:lnTo>
                  <a:lnTo>
                    <a:pt x="1502" y="0"/>
                  </a:lnTo>
                  <a:lnTo>
                    <a:pt x="1453" y="20"/>
                  </a:lnTo>
                  <a:lnTo>
                    <a:pt x="1405" y="99"/>
                  </a:lnTo>
                  <a:lnTo>
                    <a:pt x="1356" y="0"/>
                  </a:lnTo>
                  <a:lnTo>
                    <a:pt x="1308" y="17"/>
                  </a:lnTo>
                  <a:lnTo>
                    <a:pt x="1260" y="141"/>
                  </a:lnTo>
                  <a:lnTo>
                    <a:pt x="1212" y="15"/>
                  </a:lnTo>
                  <a:lnTo>
                    <a:pt x="1163" y="35"/>
                  </a:lnTo>
                  <a:lnTo>
                    <a:pt x="1114" y="182"/>
                  </a:lnTo>
                  <a:lnTo>
                    <a:pt x="1066" y="25"/>
                  </a:lnTo>
                  <a:lnTo>
                    <a:pt x="1017" y="53"/>
                  </a:lnTo>
                  <a:lnTo>
                    <a:pt x="969" y="278"/>
                  </a:lnTo>
                  <a:lnTo>
                    <a:pt x="921" y="187"/>
                  </a:lnTo>
                  <a:lnTo>
                    <a:pt x="873" y="252"/>
                  </a:lnTo>
                  <a:lnTo>
                    <a:pt x="824" y="443"/>
                  </a:lnTo>
                  <a:lnTo>
                    <a:pt x="775" y="343"/>
                  </a:lnTo>
                  <a:lnTo>
                    <a:pt x="727" y="481"/>
                  </a:lnTo>
                  <a:lnTo>
                    <a:pt x="678" y="574"/>
                  </a:lnTo>
                  <a:lnTo>
                    <a:pt x="630" y="733"/>
                  </a:lnTo>
                  <a:lnTo>
                    <a:pt x="581" y="1113"/>
                  </a:lnTo>
                  <a:lnTo>
                    <a:pt x="533" y="986"/>
                  </a:lnTo>
                  <a:lnTo>
                    <a:pt x="485" y="1324"/>
                  </a:lnTo>
                  <a:lnTo>
                    <a:pt x="436" y="2014"/>
                  </a:lnTo>
                  <a:lnTo>
                    <a:pt x="388" y="1837"/>
                  </a:lnTo>
                  <a:lnTo>
                    <a:pt x="339" y="1835"/>
                  </a:lnTo>
                  <a:lnTo>
                    <a:pt x="291" y="2535"/>
                  </a:lnTo>
                  <a:lnTo>
                    <a:pt x="242" y="2618"/>
                  </a:lnTo>
                  <a:lnTo>
                    <a:pt x="193" y="2709"/>
                  </a:lnTo>
                  <a:lnTo>
                    <a:pt x="146" y="2838"/>
                  </a:lnTo>
                  <a:lnTo>
                    <a:pt x="97" y="2838"/>
                  </a:lnTo>
                  <a:lnTo>
                    <a:pt x="49" y="2838"/>
                  </a:lnTo>
                  <a:lnTo>
                    <a:pt x="0" y="28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71600" y="917640"/>
              <a:ext cx="1440" cy="450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14360" y="5423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14360" y="4521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314360" y="3621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14360" y="27208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314360" y="18194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1436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371600" y="5423040"/>
              <a:ext cx="761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99720" y="53085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93880" y="4408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93880" y="3506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93880" y="2606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93880" y="17049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90560" y="8031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8900000">
              <a:off x="97992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.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rot="18900000">
              <a:off x="136404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.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18900000">
              <a:off x="174996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.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8900000">
              <a:off x="213228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.7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8900000">
              <a:off x="251676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8900000">
              <a:off x="290232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900000">
              <a:off x="328644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8900000">
              <a:off x="367056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8900000">
              <a:off x="405648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8900000">
              <a:off x="444060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8900000">
              <a:off x="482328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8900000">
              <a:off x="520920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8900000">
              <a:off x="559332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8900000">
              <a:off x="597744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8900000">
              <a:off x="636300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8900000">
              <a:off x="674748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8900000">
              <a:off x="713160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8900000">
              <a:off x="751572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8900000">
              <a:off x="7899840" y="56491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8900000">
              <a:off x="8285760" y="5648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158360" y="6086520"/>
              <a:ext cx="21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verage Soil Fertili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-613440" y="2985120"/>
              <a:ext cx="189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ropping 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03720" y="3429000"/>
              <a:ext cx="2178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Cassav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27360" y="4292640"/>
              <a:ext cx="52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19160" y="96516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roundn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22800" y="1066680"/>
              <a:ext cx="916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LLOW: declining soil fertility induces shift in crop choic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ce is replaced by cassava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"/>
          <p:cNvGrpSpPr/>
          <p:nvPr/>
        </p:nvGrpSpPr>
        <p:grpSpPr>
          <a:xfrm>
            <a:off x="0" y="0"/>
            <a:ext cx="9144000" cy="6084000"/>
            <a:chOff x="0" y="0"/>
            <a:chExt cx="9144000" cy="6084000"/>
          </a:xfrm>
        </p:grpSpPr>
        <p:sp>
          <p:nvSpPr>
            <p:cNvPr id="127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ROFORESTRY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71600" y="917640"/>
              <a:ext cx="7481880" cy="4435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71600" y="917640"/>
              <a:ext cx="7481880" cy="44355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71600" y="3289320"/>
              <a:ext cx="7481880" cy="2063880"/>
            </a:xfrm>
            <a:custGeom>
              <a:avLst/>
              <a:gdLst/>
              <a:ahLst/>
              <a:rect l="l" t="t" r="r" b="b"/>
              <a:pathLst>
                <a:path w="4713" h="1300">
                  <a:moveTo>
                    <a:pt x="0" y="1300"/>
                  </a:moveTo>
                  <a:lnTo>
                    <a:pt x="0" y="1300"/>
                  </a:lnTo>
                  <a:lnTo>
                    <a:pt x="48" y="1300"/>
                  </a:lnTo>
                  <a:lnTo>
                    <a:pt x="95" y="955"/>
                  </a:lnTo>
                  <a:lnTo>
                    <a:pt x="143" y="955"/>
                  </a:lnTo>
                  <a:lnTo>
                    <a:pt x="190" y="727"/>
                  </a:lnTo>
                  <a:lnTo>
                    <a:pt x="238" y="416"/>
                  </a:lnTo>
                  <a:lnTo>
                    <a:pt x="286" y="505"/>
                  </a:lnTo>
                  <a:lnTo>
                    <a:pt x="333" y="630"/>
                  </a:lnTo>
                  <a:lnTo>
                    <a:pt x="381" y="0"/>
                  </a:lnTo>
                  <a:lnTo>
                    <a:pt x="428" y="267"/>
                  </a:lnTo>
                  <a:lnTo>
                    <a:pt x="476" y="358"/>
                  </a:lnTo>
                  <a:lnTo>
                    <a:pt x="523" y="759"/>
                  </a:lnTo>
                  <a:lnTo>
                    <a:pt x="571" y="941"/>
                  </a:lnTo>
                  <a:lnTo>
                    <a:pt x="620" y="941"/>
                  </a:lnTo>
                  <a:lnTo>
                    <a:pt x="667" y="713"/>
                  </a:lnTo>
                  <a:lnTo>
                    <a:pt x="715" y="786"/>
                  </a:lnTo>
                  <a:lnTo>
                    <a:pt x="762" y="786"/>
                  </a:lnTo>
                  <a:lnTo>
                    <a:pt x="810" y="834"/>
                  </a:lnTo>
                  <a:lnTo>
                    <a:pt x="857" y="934"/>
                  </a:lnTo>
                  <a:lnTo>
                    <a:pt x="905" y="934"/>
                  </a:lnTo>
                  <a:lnTo>
                    <a:pt x="952" y="912"/>
                  </a:lnTo>
                  <a:lnTo>
                    <a:pt x="1000" y="994"/>
                  </a:lnTo>
                  <a:lnTo>
                    <a:pt x="1048" y="994"/>
                  </a:lnTo>
                  <a:lnTo>
                    <a:pt x="1095" y="989"/>
                  </a:lnTo>
                  <a:lnTo>
                    <a:pt x="1143" y="1054"/>
                  </a:lnTo>
                  <a:lnTo>
                    <a:pt x="1190" y="1054"/>
                  </a:lnTo>
                  <a:lnTo>
                    <a:pt x="1238" y="1066"/>
                  </a:lnTo>
                  <a:lnTo>
                    <a:pt x="1285" y="1115"/>
                  </a:lnTo>
                  <a:lnTo>
                    <a:pt x="1333" y="1115"/>
                  </a:lnTo>
                  <a:lnTo>
                    <a:pt x="1380" y="1116"/>
                  </a:lnTo>
                  <a:lnTo>
                    <a:pt x="1428" y="1156"/>
                  </a:lnTo>
                  <a:lnTo>
                    <a:pt x="1476" y="1156"/>
                  </a:lnTo>
                  <a:lnTo>
                    <a:pt x="1523" y="1161"/>
                  </a:lnTo>
                  <a:lnTo>
                    <a:pt x="1571" y="1188"/>
                  </a:lnTo>
                  <a:lnTo>
                    <a:pt x="1618" y="1188"/>
                  </a:lnTo>
                  <a:lnTo>
                    <a:pt x="1666" y="1191"/>
                  </a:lnTo>
                  <a:lnTo>
                    <a:pt x="1713" y="1214"/>
                  </a:lnTo>
                  <a:lnTo>
                    <a:pt x="1761" y="1214"/>
                  </a:lnTo>
                  <a:lnTo>
                    <a:pt x="1810" y="1210"/>
                  </a:lnTo>
                  <a:lnTo>
                    <a:pt x="1857" y="1226"/>
                  </a:lnTo>
                  <a:lnTo>
                    <a:pt x="1905" y="1226"/>
                  </a:lnTo>
                  <a:lnTo>
                    <a:pt x="1952" y="1237"/>
                  </a:lnTo>
                  <a:lnTo>
                    <a:pt x="2000" y="1251"/>
                  </a:lnTo>
                  <a:lnTo>
                    <a:pt x="2047" y="1251"/>
                  </a:lnTo>
                  <a:lnTo>
                    <a:pt x="2095" y="1246"/>
                  </a:lnTo>
                  <a:lnTo>
                    <a:pt x="2142" y="1255"/>
                  </a:lnTo>
                  <a:lnTo>
                    <a:pt x="2190" y="1255"/>
                  </a:lnTo>
                  <a:lnTo>
                    <a:pt x="2238" y="1262"/>
                  </a:lnTo>
                  <a:lnTo>
                    <a:pt x="2285" y="1269"/>
                  </a:lnTo>
                  <a:lnTo>
                    <a:pt x="2333" y="1269"/>
                  </a:lnTo>
                  <a:lnTo>
                    <a:pt x="2380" y="1263"/>
                  </a:lnTo>
                  <a:lnTo>
                    <a:pt x="2428" y="1269"/>
                  </a:lnTo>
                  <a:lnTo>
                    <a:pt x="2475" y="1269"/>
                  </a:lnTo>
                  <a:lnTo>
                    <a:pt x="2523" y="1275"/>
                  </a:lnTo>
                  <a:lnTo>
                    <a:pt x="2571" y="1280"/>
                  </a:lnTo>
                  <a:lnTo>
                    <a:pt x="2618" y="1280"/>
                  </a:lnTo>
                  <a:lnTo>
                    <a:pt x="2666" y="1281"/>
                  </a:lnTo>
                  <a:lnTo>
                    <a:pt x="2713" y="1283"/>
                  </a:lnTo>
                  <a:lnTo>
                    <a:pt x="2761" y="1283"/>
                  </a:lnTo>
                  <a:lnTo>
                    <a:pt x="2808" y="1282"/>
                  </a:lnTo>
                  <a:lnTo>
                    <a:pt x="2856" y="1283"/>
                  </a:lnTo>
                  <a:lnTo>
                    <a:pt x="2903" y="1283"/>
                  </a:lnTo>
                  <a:lnTo>
                    <a:pt x="2952" y="1287"/>
                  </a:lnTo>
                  <a:lnTo>
                    <a:pt x="3000" y="1287"/>
                  </a:lnTo>
                  <a:lnTo>
                    <a:pt x="3047" y="1287"/>
                  </a:lnTo>
                  <a:lnTo>
                    <a:pt x="3095" y="1283"/>
                  </a:lnTo>
                  <a:lnTo>
                    <a:pt x="3142" y="1283"/>
                  </a:lnTo>
                  <a:lnTo>
                    <a:pt x="3190" y="1283"/>
                  </a:lnTo>
                  <a:lnTo>
                    <a:pt x="3237" y="1282"/>
                  </a:lnTo>
                  <a:lnTo>
                    <a:pt x="3285" y="1282"/>
                  </a:lnTo>
                  <a:lnTo>
                    <a:pt x="3333" y="1282"/>
                  </a:lnTo>
                  <a:lnTo>
                    <a:pt x="3380" y="1288"/>
                  </a:lnTo>
                  <a:lnTo>
                    <a:pt x="3428" y="1288"/>
                  </a:lnTo>
                  <a:lnTo>
                    <a:pt x="3475" y="1288"/>
                  </a:lnTo>
                  <a:lnTo>
                    <a:pt x="3523" y="1286"/>
                  </a:lnTo>
                  <a:lnTo>
                    <a:pt x="3570" y="1286"/>
                  </a:lnTo>
                  <a:lnTo>
                    <a:pt x="3618" y="1286"/>
                  </a:lnTo>
                  <a:lnTo>
                    <a:pt x="3665" y="1282"/>
                  </a:lnTo>
                  <a:lnTo>
                    <a:pt x="3713" y="1282"/>
                  </a:lnTo>
                  <a:lnTo>
                    <a:pt x="3761" y="1282"/>
                  </a:lnTo>
                  <a:lnTo>
                    <a:pt x="3808" y="1287"/>
                  </a:lnTo>
                  <a:lnTo>
                    <a:pt x="3856" y="1288"/>
                  </a:lnTo>
                  <a:lnTo>
                    <a:pt x="3903" y="1288"/>
                  </a:lnTo>
                  <a:lnTo>
                    <a:pt x="3951" y="1290"/>
                  </a:lnTo>
                  <a:lnTo>
                    <a:pt x="3998" y="1290"/>
                  </a:lnTo>
                  <a:lnTo>
                    <a:pt x="4046" y="1290"/>
                  </a:lnTo>
                  <a:lnTo>
                    <a:pt x="4094" y="1287"/>
                  </a:lnTo>
                  <a:lnTo>
                    <a:pt x="4142" y="1287"/>
                  </a:lnTo>
                  <a:lnTo>
                    <a:pt x="4190" y="1287"/>
                  </a:lnTo>
                  <a:lnTo>
                    <a:pt x="4237" y="1282"/>
                  </a:lnTo>
                  <a:lnTo>
                    <a:pt x="4285" y="1282"/>
                  </a:lnTo>
                  <a:lnTo>
                    <a:pt x="4332" y="1282"/>
                  </a:lnTo>
                  <a:lnTo>
                    <a:pt x="4380" y="1289"/>
                  </a:lnTo>
                  <a:lnTo>
                    <a:pt x="4427" y="1289"/>
                  </a:lnTo>
                  <a:lnTo>
                    <a:pt x="4475" y="1289"/>
                  </a:lnTo>
                  <a:lnTo>
                    <a:pt x="4523" y="1283"/>
                  </a:lnTo>
                  <a:lnTo>
                    <a:pt x="4570" y="1283"/>
                  </a:lnTo>
                  <a:lnTo>
                    <a:pt x="4618" y="1283"/>
                  </a:lnTo>
                  <a:lnTo>
                    <a:pt x="4665" y="1286"/>
                  </a:lnTo>
                  <a:lnTo>
                    <a:pt x="4713" y="1286"/>
                  </a:lnTo>
                  <a:lnTo>
                    <a:pt x="4713" y="1300"/>
                  </a:lnTo>
                  <a:lnTo>
                    <a:pt x="4665" y="1300"/>
                  </a:lnTo>
                  <a:lnTo>
                    <a:pt x="4618" y="1300"/>
                  </a:lnTo>
                  <a:lnTo>
                    <a:pt x="4570" y="1300"/>
                  </a:lnTo>
                  <a:lnTo>
                    <a:pt x="4523" y="1300"/>
                  </a:lnTo>
                  <a:lnTo>
                    <a:pt x="4475" y="1300"/>
                  </a:lnTo>
                  <a:lnTo>
                    <a:pt x="4427" y="1300"/>
                  </a:lnTo>
                  <a:lnTo>
                    <a:pt x="4380" y="1300"/>
                  </a:lnTo>
                  <a:lnTo>
                    <a:pt x="4332" y="1300"/>
                  </a:lnTo>
                  <a:lnTo>
                    <a:pt x="4285" y="1300"/>
                  </a:lnTo>
                  <a:lnTo>
                    <a:pt x="4237" y="1300"/>
                  </a:lnTo>
                  <a:lnTo>
                    <a:pt x="4190" y="1300"/>
                  </a:lnTo>
                  <a:lnTo>
                    <a:pt x="4142" y="1300"/>
                  </a:lnTo>
                  <a:lnTo>
                    <a:pt x="4094" y="1300"/>
                  </a:lnTo>
                  <a:lnTo>
                    <a:pt x="4046" y="1300"/>
                  </a:lnTo>
                  <a:lnTo>
                    <a:pt x="3998" y="1300"/>
                  </a:lnTo>
                  <a:lnTo>
                    <a:pt x="3951" y="1300"/>
                  </a:lnTo>
                  <a:lnTo>
                    <a:pt x="3903" y="1300"/>
                  </a:lnTo>
                  <a:lnTo>
                    <a:pt x="3856" y="1300"/>
                  </a:lnTo>
                  <a:lnTo>
                    <a:pt x="3808" y="1300"/>
                  </a:lnTo>
                  <a:lnTo>
                    <a:pt x="3761" y="1300"/>
                  </a:lnTo>
                  <a:lnTo>
                    <a:pt x="3713" y="1300"/>
                  </a:lnTo>
                  <a:lnTo>
                    <a:pt x="3665" y="1300"/>
                  </a:lnTo>
                  <a:lnTo>
                    <a:pt x="3618" y="1300"/>
                  </a:lnTo>
                  <a:lnTo>
                    <a:pt x="3570" y="1300"/>
                  </a:lnTo>
                  <a:lnTo>
                    <a:pt x="3523" y="1300"/>
                  </a:lnTo>
                  <a:lnTo>
                    <a:pt x="3475" y="1300"/>
                  </a:lnTo>
                  <a:lnTo>
                    <a:pt x="3428" y="1300"/>
                  </a:lnTo>
                  <a:lnTo>
                    <a:pt x="3380" y="1300"/>
                  </a:lnTo>
                  <a:lnTo>
                    <a:pt x="3333" y="1300"/>
                  </a:lnTo>
                  <a:lnTo>
                    <a:pt x="3285" y="1300"/>
                  </a:lnTo>
                  <a:lnTo>
                    <a:pt x="3237" y="1300"/>
                  </a:lnTo>
                  <a:lnTo>
                    <a:pt x="3190" y="1300"/>
                  </a:lnTo>
                  <a:lnTo>
                    <a:pt x="3142" y="1300"/>
                  </a:lnTo>
                  <a:lnTo>
                    <a:pt x="3095" y="1300"/>
                  </a:lnTo>
                  <a:lnTo>
                    <a:pt x="3047" y="1300"/>
                  </a:lnTo>
                  <a:lnTo>
                    <a:pt x="3000" y="1300"/>
                  </a:lnTo>
                  <a:lnTo>
                    <a:pt x="2952" y="1300"/>
                  </a:lnTo>
                  <a:lnTo>
                    <a:pt x="2903" y="1300"/>
                  </a:lnTo>
                  <a:lnTo>
                    <a:pt x="2856" y="1300"/>
                  </a:lnTo>
                  <a:lnTo>
                    <a:pt x="2808" y="1300"/>
                  </a:lnTo>
                  <a:lnTo>
                    <a:pt x="2761" y="1300"/>
                  </a:lnTo>
                  <a:lnTo>
                    <a:pt x="2713" y="1300"/>
                  </a:lnTo>
                  <a:lnTo>
                    <a:pt x="2666" y="1300"/>
                  </a:lnTo>
                  <a:lnTo>
                    <a:pt x="2618" y="1300"/>
                  </a:lnTo>
                  <a:lnTo>
                    <a:pt x="2571" y="1300"/>
                  </a:lnTo>
                  <a:lnTo>
                    <a:pt x="2523" y="1300"/>
                  </a:lnTo>
                  <a:lnTo>
                    <a:pt x="2475" y="1300"/>
                  </a:lnTo>
                  <a:lnTo>
                    <a:pt x="2428" y="1300"/>
                  </a:lnTo>
                  <a:lnTo>
                    <a:pt x="2380" y="1300"/>
                  </a:lnTo>
                  <a:lnTo>
                    <a:pt x="2333" y="1300"/>
                  </a:lnTo>
                  <a:lnTo>
                    <a:pt x="2285" y="1300"/>
                  </a:lnTo>
                  <a:lnTo>
                    <a:pt x="2238" y="1300"/>
                  </a:lnTo>
                  <a:lnTo>
                    <a:pt x="2190" y="1300"/>
                  </a:lnTo>
                  <a:lnTo>
                    <a:pt x="2142" y="1300"/>
                  </a:lnTo>
                  <a:lnTo>
                    <a:pt x="2095" y="1300"/>
                  </a:lnTo>
                  <a:lnTo>
                    <a:pt x="2047" y="1300"/>
                  </a:lnTo>
                  <a:lnTo>
                    <a:pt x="2000" y="1300"/>
                  </a:lnTo>
                  <a:lnTo>
                    <a:pt x="1952" y="1300"/>
                  </a:lnTo>
                  <a:lnTo>
                    <a:pt x="1905" y="1300"/>
                  </a:lnTo>
                  <a:lnTo>
                    <a:pt x="1857" y="1300"/>
                  </a:lnTo>
                  <a:lnTo>
                    <a:pt x="1810" y="1300"/>
                  </a:lnTo>
                  <a:lnTo>
                    <a:pt x="1761" y="1300"/>
                  </a:lnTo>
                  <a:lnTo>
                    <a:pt x="1713" y="1300"/>
                  </a:lnTo>
                  <a:lnTo>
                    <a:pt x="1666" y="1300"/>
                  </a:lnTo>
                  <a:lnTo>
                    <a:pt x="1618" y="1300"/>
                  </a:lnTo>
                  <a:lnTo>
                    <a:pt x="1571" y="1300"/>
                  </a:lnTo>
                  <a:lnTo>
                    <a:pt x="1523" y="1300"/>
                  </a:lnTo>
                  <a:lnTo>
                    <a:pt x="1476" y="1300"/>
                  </a:lnTo>
                  <a:lnTo>
                    <a:pt x="1428" y="1300"/>
                  </a:lnTo>
                  <a:lnTo>
                    <a:pt x="1380" y="1300"/>
                  </a:lnTo>
                  <a:lnTo>
                    <a:pt x="1333" y="1300"/>
                  </a:lnTo>
                  <a:lnTo>
                    <a:pt x="1285" y="1300"/>
                  </a:lnTo>
                  <a:lnTo>
                    <a:pt x="1238" y="1300"/>
                  </a:lnTo>
                  <a:lnTo>
                    <a:pt x="1190" y="1300"/>
                  </a:lnTo>
                  <a:lnTo>
                    <a:pt x="1143" y="1300"/>
                  </a:lnTo>
                  <a:lnTo>
                    <a:pt x="1095" y="1300"/>
                  </a:lnTo>
                  <a:lnTo>
                    <a:pt x="1048" y="1300"/>
                  </a:lnTo>
                  <a:lnTo>
                    <a:pt x="1000" y="1300"/>
                  </a:lnTo>
                  <a:lnTo>
                    <a:pt x="952" y="1300"/>
                  </a:lnTo>
                  <a:lnTo>
                    <a:pt x="905" y="1300"/>
                  </a:lnTo>
                  <a:lnTo>
                    <a:pt x="857" y="1300"/>
                  </a:lnTo>
                  <a:lnTo>
                    <a:pt x="810" y="1300"/>
                  </a:lnTo>
                  <a:lnTo>
                    <a:pt x="762" y="1300"/>
                  </a:lnTo>
                  <a:lnTo>
                    <a:pt x="715" y="1300"/>
                  </a:lnTo>
                  <a:lnTo>
                    <a:pt x="667" y="1300"/>
                  </a:lnTo>
                  <a:lnTo>
                    <a:pt x="620" y="1300"/>
                  </a:lnTo>
                  <a:lnTo>
                    <a:pt x="571" y="1300"/>
                  </a:lnTo>
                  <a:lnTo>
                    <a:pt x="523" y="1300"/>
                  </a:lnTo>
                  <a:lnTo>
                    <a:pt x="476" y="1300"/>
                  </a:lnTo>
                  <a:lnTo>
                    <a:pt x="428" y="1300"/>
                  </a:lnTo>
                  <a:lnTo>
                    <a:pt x="381" y="1300"/>
                  </a:lnTo>
                  <a:lnTo>
                    <a:pt x="333" y="1300"/>
                  </a:lnTo>
                  <a:lnTo>
                    <a:pt x="286" y="1300"/>
                  </a:lnTo>
                  <a:lnTo>
                    <a:pt x="238" y="1300"/>
                  </a:lnTo>
                  <a:lnTo>
                    <a:pt x="190" y="1300"/>
                  </a:lnTo>
                  <a:lnTo>
                    <a:pt x="143" y="1300"/>
                  </a:lnTo>
                  <a:lnTo>
                    <a:pt x="95" y="1300"/>
                  </a:lnTo>
                  <a:lnTo>
                    <a:pt x="48" y="1300"/>
                  </a:lnTo>
                  <a:lnTo>
                    <a:pt x="0" y="13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371600" y="917640"/>
              <a:ext cx="7481880" cy="4435560"/>
            </a:xfrm>
            <a:custGeom>
              <a:avLst/>
              <a:gdLst/>
              <a:ahLst/>
              <a:rect l="l" t="t" r="r" b="b"/>
              <a:pathLst>
                <a:path w="4713" h="2794">
                  <a:moveTo>
                    <a:pt x="0" y="2794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257"/>
                  </a:lnTo>
                  <a:lnTo>
                    <a:pt x="286" y="345"/>
                  </a:lnTo>
                  <a:lnTo>
                    <a:pt x="333" y="547"/>
                  </a:lnTo>
                  <a:lnTo>
                    <a:pt x="381" y="613"/>
                  </a:lnTo>
                  <a:lnTo>
                    <a:pt x="428" y="881"/>
                  </a:lnTo>
                  <a:lnTo>
                    <a:pt x="476" y="972"/>
                  </a:lnTo>
                  <a:lnTo>
                    <a:pt x="523" y="1544"/>
                  </a:lnTo>
                  <a:lnTo>
                    <a:pt x="571" y="1726"/>
                  </a:lnTo>
                  <a:lnTo>
                    <a:pt x="620" y="1726"/>
                  </a:lnTo>
                  <a:lnTo>
                    <a:pt x="667" y="1656"/>
                  </a:lnTo>
                  <a:lnTo>
                    <a:pt x="715" y="1728"/>
                  </a:lnTo>
                  <a:lnTo>
                    <a:pt x="762" y="1728"/>
                  </a:lnTo>
                  <a:lnTo>
                    <a:pt x="810" y="1886"/>
                  </a:lnTo>
                  <a:lnTo>
                    <a:pt x="857" y="1986"/>
                  </a:lnTo>
                  <a:lnTo>
                    <a:pt x="905" y="1986"/>
                  </a:lnTo>
                  <a:lnTo>
                    <a:pt x="952" y="2057"/>
                  </a:lnTo>
                  <a:lnTo>
                    <a:pt x="1000" y="2139"/>
                  </a:lnTo>
                  <a:lnTo>
                    <a:pt x="1048" y="2139"/>
                  </a:lnTo>
                  <a:lnTo>
                    <a:pt x="1095" y="2209"/>
                  </a:lnTo>
                  <a:lnTo>
                    <a:pt x="1143" y="2272"/>
                  </a:lnTo>
                  <a:lnTo>
                    <a:pt x="1190" y="2272"/>
                  </a:lnTo>
                  <a:lnTo>
                    <a:pt x="1238" y="2339"/>
                  </a:lnTo>
                  <a:lnTo>
                    <a:pt x="1285" y="2389"/>
                  </a:lnTo>
                  <a:lnTo>
                    <a:pt x="1333" y="2389"/>
                  </a:lnTo>
                  <a:lnTo>
                    <a:pt x="1380" y="2435"/>
                  </a:lnTo>
                  <a:lnTo>
                    <a:pt x="1428" y="2474"/>
                  </a:lnTo>
                  <a:lnTo>
                    <a:pt x="1476" y="2474"/>
                  </a:lnTo>
                  <a:lnTo>
                    <a:pt x="1523" y="2513"/>
                  </a:lnTo>
                  <a:lnTo>
                    <a:pt x="1571" y="2542"/>
                  </a:lnTo>
                  <a:lnTo>
                    <a:pt x="1618" y="2542"/>
                  </a:lnTo>
                  <a:lnTo>
                    <a:pt x="1666" y="2569"/>
                  </a:lnTo>
                  <a:lnTo>
                    <a:pt x="1713" y="2591"/>
                  </a:lnTo>
                  <a:lnTo>
                    <a:pt x="1761" y="2591"/>
                  </a:lnTo>
                  <a:lnTo>
                    <a:pt x="1810" y="2610"/>
                  </a:lnTo>
                  <a:lnTo>
                    <a:pt x="1857" y="2627"/>
                  </a:lnTo>
                  <a:lnTo>
                    <a:pt x="1905" y="2627"/>
                  </a:lnTo>
                  <a:lnTo>
                    <a:pt x="1952" y="2656"/>
                  </a:lnTo>
                  <a:lnTo>
                    <a:pt x="2000" y="2670"/>
                  </a:lnTo>
                  <a:lnTo>
                    <a:pt x="2047" y="2670"/>
                  </a:lnTo>
                  <a:lnTo>
                    <a:pt x="2095" y="2682"/>
                  </a:lnTo>
                  <a:lnTo>
                    <a:pt x="2142" y="2690"/>
                  </a:lnTo>
                  <a:lnTo>
                    <a:pt x="2190" y="2690"/>
                  </a:lnTo>
                  <a:lnTo>
                    <a:pt x="2238" y="2707"/>
                  </a:lnTo>
                  <a:lnTo>
                    <a:pt x="2285" y="2715"/>
                  </a:lnTo>
                  <a:lnTo>
                    <a:pt x="2333" y="2715"/>
                  </a:lnTo>
                  <a:lnTo>
                    <a:pt x="2380" y="2719"/>
                  </a:lnTo>
                  <a:lnTo>
                    <a:pt x="2428" y="2725"/>
                  </a:lnTo>
                  <a:lnTo>
                    <a:pt x="2475" y="2725"/>
                  </a:lnTo>
                  <a:lnTo>
                    <a:pt x="2523" y="2738"/>
                  </a:lnTo>
                  <a:lnTo>
                    <a:pt x="2571" y="2743"/>
                  </a:lnTo>
                  <a:lnTo>
                    <a:pt x="2618" y="2743"/>
                  </a:lnTo>
                  <a:lnTo>
                    <a:pt x="2666" y="2746"/>
                  </a:lnTo>
                  <a:lnTo>
                    <a:pt x="2713" y="2748"/>
                  </a:lnTo>
                  <a:lnTo>
                    <a:pt x="2761" y="2748"/>
                  </a:lnTo>
                  <a:lnTo>
                    <a:pt x="2808" y="2749"/>
                  </a:lnTo>
                  <a:lnTo>
                    <a:pt x="2856" y="2750"/>
                  </a:lnTo>
                  <a:lnTo>
                    <a:pt x="2903" y="2750"/>
                  </a:lnTo>
                  <a:lnTo>
                    <a:pt x="2952" y="2753"/>
                  </a:lnTo>
                  <a:lnTo>
                    <a:pt x="3000" y="2753"/>
                  </a:lnTo>
                  <a:lnTo>
                    <a:pt x="3047" y="2753"/>
                  </a:lnTo>
                  <a:lnTo>
                    <a:pt x="3095" y="2750"/>
                  </a:lnTo>
                  <a:lnTo>
                    <a:pt x="3142" y="2750"/>
                  </a:lnTo>
                  <a:lnTo>
                    <a:pt x="3190" y="2750"/>
                  </a:lnTo>
                  <a:lnTo>
                    <a:pt x="3237" y="2749"/>
                  </a:lnTo>
                  <a:lnTo>
                    <a:pt x="3285" y="2749"/>
                  </a:lnTo>
                  <a:lnTo>
                    <a:pt x="3333" y="2749"/>
                  </a:lnTo>
                  <a:lnTo>
                    <a:pt x="3380" y="2754"/>
                  </a:lnTo>
                  <a:lnTo>
                    <a:pt x="3428" y="2754"/>
                  </a:lnTo>
                  <a:lnTo>
                    <a:pt x="3475" y="2754"/>
                  </a:lnTo>
                  <a:lnTo>
                    <a:pt x="3523" y="2752"/>
                  </a:lnTo>
                  <a:lnTo>
                    <a:pt x="3570" y="2752"/>
                  </a:lnTo>
                  <a:lnTo>
                    <a:pt x="3618" y="2752"/>
                  </a:lnTo>
                  <a:lnTo>
                    <a:pt x="3665" y="2750"/>
                  </a:lnTo>
                  <a:lnTo>
                    <a:pt x="3713" y="2750"/>
                  </a:lnTo>
                  <a:lnTo>
                    <a:pt x="3761" y="2750"/>
                  </a:lnTo>
                  <a:lnTo>
                    <a:pt x="3808" y="2755"/>
                  </a:lnTo>
                  <a:lnTo>
                    <a:pt x="3856" y="2755"/>
                  </a:lnTo>
                  <a:lnTo>
                    <a:pt x="3903" y="2755"/>
                  </a:lnTo>
                  <a:lnTo>
                    <a:pt x="3951" y="2758"/>
                  </a:lnTo>
                  <a:lnTo>
                    <a:pt x="3998" y="2758"/>
                  </a:lnTo>
                  <a:lnTo>
                    <a:pt x="4046" y="2758"/>
                  </a:lnTo>
                  <a:lnTo>
                    <a:pt x="4094" y="2755"/>
                  </a:lnTo>
                  <a:lnTo>
                    <a:pt x="4142" y="2755"/>
                  </a:lnTo>
                  <a:lnTo>
                    <a:pt x="4190" y="2755"/>
                  </a:lnTo>
                  <a:lnTo>
                    <a:pt x="4237" y="2751"/>
                  </a:lnTo>
                  <a:lnTo>
                    <a:pt x="4285" y="2751"/>
                  </a:lnTo>
                  <a:lnTo>
                    <a:pt x="4332" y="2751"/>
                  </a:lnTo>
                  <a:lnTo>
                    <a:pt x="4380" y="2757"/>
                  </a:lnTo>
                  <a:lnTo>
                    <a:pt x="4427" y="2757"/>
                  </a:lnTo>
                  <a:lnTo>
                    <a:pt x="4475" y="2757"/>
                  </a:lnTo>
                  <a:lnTo>
                    <a:pt x="4523" y="2752"/>
                  </a:lnTo>
                  <a:lnTo>
                    <a:pt x="4570" y="2753"/>
                  </a:lnTo>
                  <a:lnTo>
                    <a:pt x="4618" y="2753"/>
                  </a:lnTo>
                  <a:lnTo>
                    <a:pt x="4665" y="2754"/>
                  </a:lnTo>
                  <a:lnTo>
                    <a:pt x="4713" y="2754"/>
                  </a:lnTo>
                  <a:lnTo>
                    <a:pt x="4713" y="2780"/>
                  </a:lnTo>
                  <a:lnTo>
                    <a:pt x="4665" y="2780"/>
                  </a:lnTo>
                  <a:lnTo>
                    <a:pt x="4618" y="2777"/>
                  </a:lnTo>
                  <a:lnTo>
                    <a:pt x="4570" y="2777"/>
                  </a:lnTo>
                  <a:lnTo>
                    <a:pt x="4523" y="2777"/>
                  </a:lnTo>
                  <a:lnTo>
                    <a:pt x="4475" y="2783"/>
                  </a:lnTo>
                  <a:lnTo>
                    <a:pt x="4427" y="2783"/>
                  </a:lnTo>
                  <a:lnTo>
                    <a:pt x="4380" y="2783"/>
                  </a:lnTo>
                  <a:lnTo>
                    <a:pt x="4332" y="2776"/>
                  </a:lnTo>
                  <a:lnTo>
                    <a:pt x="4285" y="2776"/>
                  </a:lnTo>
                  <a:lnTo>
                    <a:pt x="4237" y="2776"/>
                  </a:lnTo>
                  <a:lnTo>
                    <a:pt x="4190" y="2781"/>
                  </a:lnTo>
                  <a:lnTo>
                    <a:pt x="4142" y="2781"/>
                  </a:lnTo>
                  <a:lnTo>
                    <a:pt x="4094" y="2781"/>
                  </a:lnTo>
                  <a:lnTo>
                    <a:pt x="4046" y="2784"/>
                  </a:lnTo>
                  <a:lnTo>
                    <a:pt x="3998" y="2784"/>
                  </a:lnTo>
                  <a:lnTo>
                    <a:pt x="3951" y="2784"/>
                  </a:lnTo>
                  <a:lnTo>
                    <a:pt x="3903" y="2782"/>
                  </a:lnTo>
                  <a:lnTo>
                    <a:pt x="3856" y="2782"/>
                  </a:lnTo>
                  <a:lnTo>
                    <a:pt x="3808" y="2781"/>
                  </a:lnTo>
                  <a:lnTo>
                    <a:pt x="3761" y="2776"/>
                  </a:lnTo>
                  <a:lnTo>
                    <a:pt x="3713" y="2776"/>
                  </a:lnTo>
                  <a:lnTo>
                    <a:pt x="3665" y="2776"/>
                  </a:lnTo>
                  <a:lnTo>
                    <a:pt x="3618" y="2780"/>
                  </a:lnTo>
                  <a:lnTo>
                    <a:pt x="3570" y="2780"/>
                  </a:lnTo>
                  <a:lnTo>
                    <a:pt x="3523" y="2780"/>
                  </a:lnTo>
                  <a:lnTo>
                    <a:pt x="3475" y="2782"/>
                  </a:lnTo>
                  <a:lnTo>
                    <a:pt x="3428" y="2782"/>
                  </a:lnTo>
                  <a:lnTo>
                    <a:pt x="3380" y="2782"/>
                  </a:lnTo>
                  <a:lnTo>
                    <a:pt x="3333" y="2776"/>
                  </a:lnTo>
                  <a:lnTo>
                    <a:pt x="3285" y="2776"/>
                  </a:lnTo>
                  <a:lnTo>
                    <a:pt x="3237" y="2776"/>
                  </a:lnTo>
                  <a:lnTo>
                    <a:pt x="3190" y="2777"/>
                  </a:lnTo>
                  <a:lnTo>
                    <a:pt x="3142" y="2777"/>
                  </a:lnTo>
                  <a:lnTo>
                    <a:pt x="3095" y="2777"/>
                  </a:lnTo>
                  <a:lnTo>
                    <a:pt x="3047" y="2781"/>
                  </a:lnTo>
                  <a:lnTo>
                    <a:pt x="3000" y="2781"/>
                  </a:lnTo>
                  <a:lnTo>
                    <a:pt x="2952" y="2781"/>
                  </a:lnTo>
                  <a:lnTo>
                    <a:pt x="2903" y="2777"/>
                  </a:lnTo>
                  <a:lnTo>
                    <a:pt x="2856" y="2777"/>
                  </a:lnTo>
                  <a:lnTo>
                    <a:pt x="2808" y="2776"/>
                  </a:lnTo>
                  <a:lnTo>
                    <a:pt x="2761" y="2777"/>
                  </a:lnTo>
                  <a:lnTo>
                    <a:pt x="2713" y="2777"/>
                  </a:lnTo>
                  <a:lnTo>
                    <a:pt x="2666" y="2775"/>
                  </a:lnTo>
                  <a:lnTo>
                    <a:pt x="2618" y="2774"/>
                  </a:lnTo>
                  <a:lnTo>
                    <a:pt x="2571" y="2774"/>
                  </a:lnTo>
                  <a:lnTo>
                    <a:pt x="2523" y="2769"/>
                  </a:lnTo>
                  <a:lnTo>
                    <a:pt x="2475" y="2763"/>
                  </a:lnTo>
                  <a:lnTo>
                    <a:pt x="2428" y="2763"/>
                  </a:lnTo>
                  <a:lnTo>
                    <a:pt x="2380" y="2757"/>
                  </a:lnTo>
                  <a:lnTo>
                    <a:pt x="2333" y="2763"/>
                  </a:lnTo>
                  <a:lnTo>
                    <a:pt x="2285" y="2763"/>
                  </a:lnTo>
                  <a:lnTo>
                    <a:pt x="2238" y="2756"/>
                  </a:lnTo>
                  <a:lnTo>
                    <a:pt x="2190" y="2749"/>
                  </a:lnTo>
                  <a:lnTo>
                    <a:pt x="2142" y="2749"/>
                  </a:lnTo>
                  <a:lnTo>
                    <a:pt x="2095" y="2740"/>
                  </a:lnTo>
                  <a:lnTo>
                    <a:pt x="2047" y="2745"/>
                  </a:lnTo>
                  <a:lnTo>
                    <a:pt x="2000" y="2745"/>
                  </a:lnTo>
                  <a:lnTo>
                    <a:pt x="1952" y="2731"/>
                  </a:lnTo>
                  <a:lnTo>
                    <a:pt x="1905" y="2720"/>
                  </a:lnTo>
                  <a:lnTo>
                    <a:pt x="1857" y="2720"/>
                  </a:lnTo>
                  <a:lnTo>
                    <a:pt x="1810" y="2704"/>
                  </a:lnTo>
                  <a:lnTo>
                    <a:pt x="1761" y="2708"/>
                  </a:lnTo>
                  <a:lnTo>
                    <a:pt x="1713" y="2708"/>
                  </a:lnTo>
                  <a:lnTo>
                    <a:pt x="1666" y="2685"/>
                  </a:lnTo>
                  <a:lnTo>
                    <a:pt x="1618" y="2682"/>
                  </a:lnTo>
                  <a:lnTo>
                    <a:pt x="1571" y="2682"/>
                  </a:lnTo>
                  <a:lnTo>
                    <a:pt x="1523" y="2655"/>
                  </a:lnTo>
                  <a:lnTo>
                    <a:pt x="1476" y="2650"/>
                  </a:lnTo>
                  <a:lnTo>
                    <a:pt x="1428" y="2650"/>
                  </a:lnTo>
                  <a:lnTo>
                    <a:pt x="1380" y="2610"/>
                  </a:lnTo>
                  <a:lnTo>
                    <a:pt x="1333" y="2609"/>
                  </a:lnTo>
                  <a:lnTo>
                    <a:pt x="1285" y="2609"/>
                  </a:lnTo>
                  <a:lnTo>
                    <a:pt x="1238" y="2560"/>
                  </a:lnTo>
                  <a:lnTo>
                    <a:pt x="1190" y="2548"/>
                  </a:lnTo>
                  <a:lnTo>
                    <a:pt x="1143" y="2548"/>
                  </a:lnTo>
                  <a:lnTo>
                    <a:pt x="1095" y="2483"/>
                  </a:lnTo>
                  <a:lnTo>
                    <a:pt x="1048" y="2488"/>
                  </a:lnTo>
                  <a:lnTo>
                    <a:pt x="1000" y="2488"/>
                  </a:lnTo>
                  <a:lnTo>
                    <a:pt x="952" y="2406"/>
                  </a:lnTo>
                  <a:lnTo>
                    <a:pt x="905" y="2428"/>
                  </a:lnTo>
                  <a:lnTo>
                    <a:pt x="857" y="2428"/>
                  </a:lnTo>
                  <a:lnTo>
                    <a:pt x="810" y="2328"/>
                  </a:lnTo>
                  <a:lnTo>
                    <a:pt x="762" y="2280"/>
                  </a:lnTo>
                  <a:lnTo>
                    <a:pt x="715" y="2280"/>
                  </a:lnTo>
                  <a:lnTo>
                    <a:pt x="667" y="2207"/>
                  </a:lnTo>
                  <a:lnTo>
                    <a:pt x="620" y="2435"/>
                  </a:lnTo>
                  <a:lnTo>
                    <a:pt x="571" y="2435"/>
                  </a:lnTo>
                  <a:lnTo>
                    <a:pt x="523" y="2253"/>
                  </a:lnTo>
                  <a:lnTo>
                    <a:pt x="476" y="1852"/>
                  </a:lnTo>
                  <a:lnTo>
                    <a:pt x="428" y="1761"/>
                  </a:lnTo>
                  <a:lnTo>
                    <a:pt x="381" y="1494"/>
                  </a:lnTo>
                  <a:lnTo>
                    <a:pt x="333" y="2124"/>
                  </a:lnTo>
                  <a:lnTo>
                    <a:pt x="286" y="1999"/>
                  </a:lnTo>
                  <a:lnTo>
                    <a:pt x="238" y="1910"/>
                  </a:lnTo>
                  <a:lnTo>
                    <a:pt x="190" y="2221"/>
                  </a:lnTo>
                  <a:lnTo>
                    <a:pt x="143" y="2449"/>
                  </a:lnTo>
                  <a:lnTo>
                    <a:pt x="95" y="2449"/>
                  </a:lnTo>
                  <a:lnTo>
                    <a:pt x="48" y="2794"/>
                  </a:lnTo>
                  <a:lnTo>
                    <a:pt x="0" y="27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71600" y="917640"/>
              <a:ext cx="7481880" cy="4378320"/>
            </a:xfrm>
            <a:custGeom>
              <a:avLst/>
              <a:gdLst/>
              <a:ahLst/>
              <a:rect l="l" t="t" r="r" b="b"/>
              <a:pathLst>
                <a:path w="4713" h="2758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112"/>
                  </a:lnTo>
                  <a:lnTo>
                    <a:pt x="620" y="148"/>
                  </a:lnTo>
                  <a:lnTo>
                    <a:pt x="667" y="220"/>
                  </a:lnTo>
                  <a:lnTo>
                    <a:pt x="715" y="416"/>
                  </a:lnTo>
                  <a:lnTo>
                    <a:pt x="762" y="581"/>
                  </a:lnTo>
                  <a:lnTo>
                    <a:pt x="810" y="593"/>
                  </a:lnTo>
                  <a:lnTo>
                    <a:pt x="857" y="1072"/>
                  </a:lnTo>
                  <a:lnTo>
                    <a:pt x="905" y="1187"/>
                  </a:lnTo>
                  <a:lnTo>
                    <a:pt x="952" y="1160"/>
                  </a:lnTo>
                  <a:lnTo>
                    <a:pt x="1000" y="1334"/>
                  </a:lnTo>
                  <a:lnTo>
                    <a:pt x="1048" y="1377"/>
                  </a:lnTo>
                  <a:lnTo>
                    <a:pt x="1095" y="1366"/>
                  </a:lnTo>
                  <a:lnTo>
                    <a:pt x="1143" y="1622"/>
                  </a:lnTo>
                  <a:lnTo>
                    <a:pt x="1190" y="1681"/>
                  </a:lnTo>
                  <a:lnTo>
                    <a:pt x="1238" y="1669"/>
                  </a:lnTo>
                  <a:lnTo>
                    <a:pt x="1285" y="1848"/>
                  </a:lnTo>
                  <a:lnTo>
                    <a:pt x="1333" y="1899"/>
                  </a:lnTo>
                  <a:lnTo>
                    <a:pt x="1380" y="1889"/>
                  </a:lnTo>
                  <a:lnTo>
                    <a:pt x="1428" y="2045"/>
                  </a:lnTo>
                  <a:lnTo>
                    <a:pt x="1476" y="2088"/>
                  </a:lnTo>
                  <a:lnTo>
                    <a:pt x="1523" y="2078"/>
                  </a:lnTo>
                  <a:lnTo>
                    <a:pt x="1571" y="2211"/>
                  </a:lnTo>
                  <a:lnTo>
                    <a:pt x="1618" y="2245"/>
                  </a:lnTo>
                  <a:lnTo>
                    <a:pt x="1666" y="2238"/>
                  </a:lnTo>
                  <a:lnTo>
                    <a:pt x="1713" y="2337"/>
                  </a:lnTo>
                  <a:lnTo>
                    <a:pt x="1761" y="2363"/>
                  </a:lnTo>
                  <a:lnTo>
                    <a:pt x="1810" y="2355"/>
                  </a:lnTo>
                  <a:lnTo>
                    <a:pt x="1857" y="2432"/>
                  </a:lnTo>
                  <a:lnTo>
                    <a:pt x="1905" y="2450"/>
                  </a:lnTo>
                  <a:lnTo>
                    <a:pt x="1952" y="2448"/>
                  </a:lnTo>
                  <a:lnTo>
                    <a:pt x="2000" y="2506"/>
                  </a:lnTo>
                  <a:lnTo>
                    <a:pt x="2047" y="2523"/>
                  </a:lnTo>
                  <a:lnTo>
                    <a:pt x="2095" y="2519"/>
                  </a:lnTo>
                  <a:lnTo>
                    <a:pt x="2142" y="2568"/>
                  </a:lnTo>
                  <a:lnTo>
                    <a:pt x="2190" y="2580"/>
                  </a:lnTo>
                  <a:lnTo>
                    <a:pt x="2238" y="2579"/>
                  </a:lnTo>
                  <a:lnTo>
                    <a:pt x="2285" y="2621"/>
                  </a:lnTo>
                  <a:lnTo>
                    <a:pt x="2333" y="2631"/>
                  </a:lnTo>
                  <a:lnTo>
                    <a:pt x="2380" y="2630"/>
                  </a:lnTo>
                  <a:lnTo>
                    <a:pt x="2428" y="2654"/>
                  </a:lnTo>
                  <a:lnTo>
                    <a:pt x="2475" y="2660"/>
                  </a:lnTo>
                  <a:lnTo>
                    <a:pt x="2523" y="2658"/>
                  </a:lnTo>
                  <a:lnTo>
                    <a:pt x="2571" y="2682"/>
                  </a:lnTo>
                  <a:lnTo>
                    <a:pt x="2618" y="2687"/>
                  </a:lnTo>
                  <a:lnTo>
                    <a:pt x="2666" y="2677"/>
                  </a:lnTo>
                  <a:lnTo>
                    <a:pt x="2713" y="2696"/>
                  </a:lnTo>
                  <a:lnTo>
                    <a:pt x="2761" y="2700"/>
                  </a:lnTo>
                  <a:lnTo>
                    <a:pt x="2808" y="2687"/>
                  </a:lnTo>
                  <a:lnTo>
                    <a:pt x="2856" y="2711"/>
                  </a:lnTo>
                  <a:lnTo>
                    <a:pt x="2903" y="2716"/>
                  </a:lnTo>
                  <a:lnTo>
                    <a:pt x="2952" y="2704"/>
                  </a:lnTo>
                  <a:lnTo>
                    <a:pt x="3000" y="2720"/>
                  </a:lnTo>
                  <a:lnTo>
                    <a:pt x="3047" y="2722"/>
                  </a:lnTo>
                  <a:lnTo>
                    <a:pt x="3095" y="2707"/>
                  </a:lnTo>
                  <a:lnTo>
                    <a:pt x="3142" y="2720"/>
                  </a:lnTo>
                  <a:lnTo>
                    <a:pt x="3190" y="2722"/>
                  </a:lnTo>
                  <a:lnTo>
                    <a:pt x="3237" y="2705"/>
                  </a:lnTo>
                  <a:lnTo>
                    <a:pt x="3285" y="2720"/>
                  </a:lnTo>
                  <a:lnTo>
                    <a:pt x="3333" y="2720"/>
                  </a:lnTo>
                  <a:lnTo>
                    <a:pt x="3380" y="2708"/>
                  </a:lnTo>
                  <a:lnTo>
                    <a:pt x="3428" y="2721"/>
                  </a:lnTo>
                  <a:lnTo>
                    <a:pt x="3475" y="2721"/>
                  </a:lnTo>
                  <a:lnTo>
                    <a:pt x="3523" y="2707"/>
                  </a:lnTo>
                  <a:lnTo>
                    <a:pt x="3570" y="2723"/>
                  </a:lnTo>
                  <a:lnTo>
                    <a:pt x="3618" y="2723"/>
                  </a:lnTo>
                  <a:lnTo>
                    <a:pt x="3665" y="2707"/>
                  </a:lnTo>
                  <a:lnTo>
                    <a:pt x="3713" y="2723"/>
                  </a:lnTo>
                  <a:lnTo>
                    <a:pt x="3761" y="2723"/>
                  </a:lnTo>
                  <a:lnTo>
                    <a:pt x="3808" y="2712"/>
                  </a:lnTo>
                  <a:lnTo>
                    <a:pt x="3856" y="2724"/>
                  </a:lnTo>
                  <a:lnTo>
                    <a:pt x="3903" y="2724"/>
                  </a:lnTo>
                  <a:lnTo>
                    <a:pt x="3951" y="2714"/>
                  </a:lnTo>
                  <a:lnTo>
                    <a:pt x="3998" y="2729"/>
                  </a:lnTo>
                  <a:lnTo>
                    <a:pt x="4046" y="2729"/>
                  </a:lnTo>
                  <a:lnTo>
                    <a:pt x="4094" y="2715"/>
                  </a:lnTo>
                  <a:lnTo>
                    <a:pt x="4142" y="2732"/>
                  </a:lnTo>
                  <a:lnTo>
                    <a:pt x="4190" y="2732"/>
                  </a:lnTo>
                  <a:lnTo>
                    <a:pt x="4237" y="2715"/>
                  </a:lnTo>
                  <a:lnTo>
                    <a:pt x="4285" y="2727"/>
                  </a:lnTo>
                  <a:lnTo>
                    <a:pt x="4332" y="2727"/>
                  </a:lnTo>
                  <a:lnTo>
                    <a:pt x="4380" y="2717"/>
                  </a:lnTo>
                  <a:lnTo>
                    <a:pt x="4427" y="2727"/>
                  </a:lnTo>
                  <a:lnTo>
                    <a:pt x="4475" y="2727"/>
                  </a:lnTo>
                  <a:lnTo>
                    <a:pt x="4523" y="2711"/>
                  </a:lnTo>
                  <a:lnTo>
                    <a:pt x="4570" y="2725"/>
                  </a:lnTo>
                  <a:lnTo>
                    <a:pt x="4618" y="2725"/>
                  </a:lnTo>
                  <a:lnTo>
                    <a:pt x="4665" y="2710"/>
                  </a:lnTo>
                  <a:lnTo>
                    <a:pt x="4713" y="2727"/>
                  </a:lnTo>
                  <a:lnTo>
                    <a:pt x="4713" y="2754"/>
                  </a:lnTo>
                  <a:lnTo>
                    <a:pt x="4665" y="2754"/>
                  </a:lnTo>
                  <a:lnTo>
                    <a:pt x="4618" y="2753"/>
                  </a:lnTo>
                  <a:lnTo>
                    <a:pt x="4570" y="2753"/>
                  </a:lnTo>
                  <a:lnTo>
                    <a:pt x="4523" y="2752"/>
                  </a:lnTo>
                  <a:lnTo>
                    <a:pt x="4475" y="2757"/>
                  </a:lnTo>
                  <a:lnTo>
                    <a:pt x="4427" y="2757"/>
                  </a:lnTo>
                  <a:lnTo>
                    <a:pt x="4380" y="2757"/>
                  </a:lnTo>
                  <a:lnTo>
                    <a:pt x="4332" y="2751"/>
                  </a:lnTo>
                  <a:lnTo>
                    <a:pt x="4285" y="2751"/>
                  </a:lnTo>
                  <a:lnTo>
                    <a:pt x="4237" y="2751"/>
                  </a:lnTo>
                  <a:lnTo>
                    <a:pt x="4190" y="2755"/>
                  </a:lnTo>
                  <a:lnTo>
                    <a:pt x="4142" y="2755"/>
                  </a:lnTo>
                  <a:lnTo>
                    <a:pt x="4094" y="2755"/>
                  </a:lnTo>
                  <a:lnTo>
                    <a:pt x="4046" y="2758"/>
                  </a:lnTo>
                  <a:lnTo>
                    <a:pt x="3998" y="2758"/>
                  </a:lnTo>
                  <a:lnTo>
                    <a:pt x="3951" y="2758"/>
                  </a:lnTo>
                  <a:lnTo>
                    <a:pt x="3903" y="2755"/>
                  </a:lnTo>
                  <a:lnTo>
                    <a:pt x="3856" y="2755"/>
                  </a:lnTo>
                  <a:lnTo>
                    <a:pt x="3808" y="2755"/>
                  </a:lnTo>
                  <a:lnTo>
                    <a:pt x="3761" y="2750"/>
                  </a:lnTo>
                  <a:lnTo>
                    <a:pt x="3713" y="2750"/>
                  </a:lnTo>
                  <a:lnTo>
                    <a:pt x="3665" y="2750"/>
                  </a:lnTo>
                  <a:lnTo>
                    <a:pt x="3618" y="2752"/>
                  </a:lnTo>
                  <a:lnTo>
                    <a:pt x="3570" y="2752"/>
                  </a:lnTo>
                  <a:lnTo>
                    <a:pt x="3523" y="2752"/>
                  </a:lnTo>
                  <a:lnTo>
                    <a:pt x="3475" y="2754"/>
                  </a:lnTo>
                  <a:lnTo>
                    <a:pt x="3428" y="2754"/>
                  </a:lnTo>
                  <a:lnTo>
                    <a:pt x="3380" y="2754"/>
                  </a:lnTo>
                  <a:lnTo>
                    <a:pt x="3333" y="2749"/>
                  </a:lnTo>
                  <a:lnTo>
                    <a:pt x="3285" y="2749"/>
                  </a:lnTo>
                  <a:lnTo>
                    <a:pt x="3237" y="2749"/>
                  </a:lnTo>
                  <a:lnTo>
                    <a:pt x="3190" y="2750"/>
                  </a:lnTo>
                  <a:lnTo>
                    <a:pt x="3142" y="2750"/>
                  </a:lnTo>
                  <a:lnTo>
                    <a:pt x="3095" y="2750"/>
                  </a:lnTo>
                  <a:lnTo>
                    <a:pt x="3047" y="2753"/>
                  </a:lnTo>
                  <a:lnTo>
                    <a:pt x="3000" y="2753"/>
                  </a:lnTo>
                  <a:lnTo>
                    <a:pt x="2952" y="2753"/>
                  </a:lnTo>
                  <a:lnTo>
                    <a:pt x="2903" y="2750"/>
                  </a:lnTo>
                  <a:lnTo>
                    <a:pt x="2856" y="2750"/>
                  </a:lnTo>
                  <a:lnTo>
                    <a:pt x="2808" y="2749"/>
                  </a:lnTo>
                  <a:lnTo>
                    <a:pt x="2761" y="2748"/>
                  </a:lnTo>
                  <a:lnTo>
                    <a:pt x="2713" y="2748"/>
                  </a:lnTo>
                  <a:lnTo>
                    <a:pt x="2666" y="2746"/>
                  </a:lnTo>
                  <a:lnTo>
                    <a:pt x="2618" y="2743"/>
                  </a:lnTo>
                  <a:lnTo>
                    <a:pt x="2571" y="2743"/>
                  </a:lnTo>
                  <a:lnTo>
                    <a:pt x="2523" y="2738"/>
                  </a:lnTo>
                  <a:lnTo>
                    <a:pt x="2475" y="2725"/>
                  </a:lnTo>
                  <a:lnTo>
                    <a:pt x="2428" y="2725"/>
                  </a:lnTo>
                  <a:lnTo>
                    <a:pt x="2380" y="2719"/>
                  </a:lnTo>
                  <a:lnTo>
                    <a:pt x="2333" y="2715"/>
                  </a:lnTo>
                  <a:lnTo>
                    <a:pt x="2285" y="2715"/>
                  </a:lnTo>
                  <a:lnTo>
                    <a:pt x="2238" y="2707"/>
                  </a:lnTo>
                  <a:lnTo>
                    <a:pt x="2190" y="2690"/>
                  </a:lnTo>
                  <a:lnTo>
                    <a:pt x="2142" y="2690"/>
                  </a:lnTo>
                  <a:lnTo>
                    <a:pt x="2095" y="2682"/>
                  </a:lnTo>
                  <a:lnTo>
                    <a:pt x="2047" y="2670"/>
                  </a:lnTo>
                  <a:lnTo>
                    <a:pt x="2000" y="2670"/>
                  </a:lnTo>
                  <a:lnTo>
                    <a:pt x="1952" y="2656"/>
                  </a:lnTo>
                  <a:lnTo>
                    <a:pt x="1905" y="2627"/>
                  </a:lnTo>
                  <a:lnTo>
                    <a:pt x="1857" y="2627"/>
                  </a:lnTo>
                  <a:lnTo>
                    <a:pt x="1810" y="2610"/>
                  </a:lnTo>
                  <a:lnTo>
                    <a:pt x="1761" y="2591"/>
                  </a:lnTo>
                  <a:lnTo>
                    <a:pt x="1713" y="2591"/>
                  </a:lnTo>
                  <a:lnTo>
                    <a:pt x="1666" y="2569"/>
                  </a:lnTo>
                  <a:lnTo>
                    <a:pt x="1618" y="2542"/>
                  </a:lnTo>
                  <a:lnTo>
                    <a:pt x="1571" y="2542"/>
                  </a:lnTo>
                  <a:lnTo>
                    <a:pt x="1523" y="2513"/>
                  </a:lnTo>
                  <a:lnTo>
                    <a:pt x="1476" y="2474"/>
                  </a:lnTo>
                  <a:lnTo>
                    <a:pt x="1428" y="2474"/>
                  </a:lnTo>
                  <a:lnTo>
                    <a:pt x="1380" y="2435"/>
                  </a:lnTo>
                  <a:lnTo>
                    <a:pt x="1333" y="2389"/>
                  </a:lnTo>
                  <a:lnTo>
                    <a:pt x="1285" y="2389"/>
                  </a:lnTo>
                  <a:lnTo>
                    <a:pt x="1238" y="2339"/>
                  </a:lnTo>
                  <a:lnTo>
                    <a:pt x="1190" y="2272"/>
                  </a:lnTo>
                  <a:lnTo>
                    <a:pt x="1143" y="2272"/>
                  </a:lnTo>
                  <a:lnTo>
                    <a:pt x="1095" y="2209"/>
                  </a:lnTo>
                  <a:lnTo>
                    <a:pt x="1048" y="2139"/>
                  </a:lnTo>
                  <a:lnTo>
                    <a:pt x="1000" y="2139"/>
                  </a:lnTo>
                  <a:lnTo>
                    <a:pt x="952" y="2057"/>
                  </a:lnTo>
                  <a:lnTo>
                    <a:pt x="905" y="1986"/>
                  </a:lnTo>
                  <a:lnTo>
                    <a:pt x="857" y="1986"/>
                  </a:lnTo>
                  <a:lnTo>
                    <a:pt x="810" y="1886"/>
                  </a:lnTo>
                  <a:lnTo>
                    <a:pt x="762" y="1728"/>
                  </a:lnTo>
                  <a:lnTo>
                    <a:pt x="715" y="1728"/>
                  </a:lnTo>
                  <a:lnTo>
                    <a:pt x="667" y="1656"/>
                  </a:lnTo>
                  <a:lnTo>
                    <a:pt x="620" y="1726"/>
                  </a:lnTo>
                  <a:lnTo>
                    <a:pt x="571" y="1726"/>
                  </a:lnTo>
                  <a:lnTo>
                    <a:pt x="523" y="1544"/>
                  </a:lnTo>
                  <a:lnTo>
                    <a:pt x="476" y="972"/>
                  </a:lnTo>
                  <a:lnTo>
                    <a:pt x="428" y="881"/>
                  </a:lnTo>
                  <a:lnTo>
                    <a:pt x="381" y="613"/>
                  </a:lnTo>
                  <a:lnTo>
                    <a:pt x="333" y="547"/>
                  </a:lnTo>
                  <a:lnTo>
                    <a:pt x="286" y="345"/>
                  </a:lnTo>
                  <a:lnTo>
                    <a:pt x="238" y="257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71600" y="917640"/>
              <a:ext cx="7481880" cy="4336920"/>
            </a:xfrm>
            <a:custGeom>
              <a:avLst/>
              <a:gdLst/>
              <a:ahLst/>
              <a:rect l="l" t="t" r="r" b="b"/>
              <a:pathLst>
                <a:path w="4713" h="273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112"/>
                  </a:lnTo>
                  <a:lnTo>
                    <a:pt x="1190" y="140"/>
                  </a:lnTo>
                  <a:lnTo>
                    <a:pt x="1238" y="220"/>
                  </a:lnTo>
                  <a:lnTo>
                    <a:pt x="1285" y="416"/>
                  </a:lnTo>
                  <a:lnTo>
                    <a:pt x="1333" y="548"/>
                  </a:lnTo>
                  <a:lnTo>
                    <a:pt x="1380" y="593"/>
                  </a:lnTo>
                  <a:lnTo>
                    <a:pt x="1428" y="1072"/>
                  </a:lnTo>
                  <a:lnTo>
                    <a:pt x="1476" y="1160"/>
                  </a:lnTo>
                  <a:lnTo>
                    <a:pt x="1523" y="1160"/>
                  </a:lnTo>
                  <a:lnTo>
                    <a:pt x="1571" y="1334"/>
                  </a:lnTo>
                  <a:lnTo>
                    <a:pt x="1618" y="1366"/>
                  </a:lnTo>
                  <a:lnTo>
                    <a:pt x="1666" y="1366"/>
                  </a:lnTo>
                  <a:lnTo>
                    <a:pt x="1713" y="1622"/>
                  </a:lnTo>
                  <a:lnTo>
                    <a:pt x="1761" y="1669"/>
                  </a:lnTo>
                  <a:lnTo>
                    <a:pt x="1810" y="1669"/>
                  </a:lnTo>
                  <a:lnTo>
                    <a:pt x="1857" y="1848"/>
                  </a:lnTo>
                  <a:lnTo>
                    <a:pt x="1905" y="1889"/>
                  </a:lnTo>
                  <a:lnTo>
                    <a:pt x="1952" y="1889"/>
                  </a:lnTo>
                  <a:lnTo>
                    <a:pt x="2000" y="2045"/>
                  </a:lnTo>
                  <a:lnTo>
                    <a:pt x="2047" y="2078"/>
                  </a:lnTo>
                  <a:lnTo>
                    <a:pt x="2095" y="2078"/>
                  </a:lnTo>
                  <a:lnTo>
                    <a:pt x="2142" y="2211"/>
                  </a:lnTo>
                  <a:lnTo>
                    <a:pt x="2190" y="2238"/>
                  </a:lnTo>
                  <a:lnTo>
                    <a:pt x="2238" y="2238"/>
                  </a:lnTo>
                  <a:lnTo>
                    <a:pt x="2285" y="2337"/>
                  </a:lnTo>
                  <a:lnTo>
                    <a:pt x="2333" y="2355"/>
                  </a:lnTo>
                  <a:lnTo>
                    <a:pt x="2380" y="2355"/>
                  </a:lnTo>
                  <a:lnTo>
                    <a:pt x="2428" y="2432"/>
                  </a:lnTo>
                  <a:lnTo>
                    <a:pt x="2475" y="2448"/>
                  </a:lnTo>
                  <a:lnTo>
                    <a:pt x="2523" y="2448"/>
                  </a:lnTo>
                  <a:lnTo>
                    <a:pt x="2571" y="2506"/>
                  </a:lnTo>
                  <a:lnTo>
                    <a:pt x="2618" y="2519"/>
                  </a:lnTo>
                  <a:lnTo>
                    <a:pt x="2666" y="2509"/>
                  </a:lnTo>
                  <a:lnTo>
                    <a:pt x="2713" y="2558"/>
                  </a:lnTo>
                  <a:lnTo>
                    <a:pt x="2761" y="2569"/>
                  </a:lnTo>
                  <a:lnTo>
                    <a:pt x="2808" y="2557"/>
                  </a:lnTo>
                  <a:lnTo>
                    <a:pt x="2856" y="2598"/>
                  </a:lnTo>
                  <a:lnTo>
                    <a:pt x="2903" y="2607"/>
                  </a:lnTo>
                  <a:lnTo>
                    <a:pt x="2952" y="2595"/>
                  </a:lnTo>
                  <a:lnTo>
                    <a:pt x="3000" y="2621"/>
                  </a:lnTo>
                  <a:lnTo>
                    <a:pt x="3047" y="2624"/>
                  </a:lnTo>
                  <a:lnTo>
                    <a:pt x="3095" y="2608"/>
                  </a:lnTo>
                  <a:lnTo>
                    <a:pt x="3142" y="2633"/>
                  </a:lnTo>
                  <a:lnTo>
                    <a:pt x="3190" y="2638"/>
                  </a:lnTo>
                  <a:lnTo>
                    <a:pt x="3237" y="2621"/>
                  </a:lnTo>
                  <a:lnTo>
                    <a:pt x="3285" y="2639"/>
                  </a:lnTo>
                  <a:lnTo>
                    <a:pt x="3333" y="2644"/>
                  </a:lnTo>
                  <a:lnTo>
                    <a:pt x="3380" y="2632"/>
                  </a:lnTo>
                  <a:lnTo>
                    <a:pt x="3428" y="2654"/>
                  </a:lnTo>
                  <a:lnTo>
                    <a:pt x="3475" y="2659"/>
                  </a:lnTo>
                  <a:lnTo>
                    <a:pt x="3523" y="2645"/>
                  </a:lnTo>
                  <a:lnTo>
                    <a:pt x="3570" y="2661"/>
                  </a:lnTo>
                  <a:lnTo>
                    <a:pt x="3618" y="2664"/>
                  </a:lnTo>
                  <a:lnTo>
                    <a:pt x="3665" y="2647"/>
                  </a:lnTo>
                  <a:lnTo>
                    <a:pt x="3713" y="2660"/>
                  </a:lnTo>
                  <a:lnTo>
                    <a:pt x="3761" y="2662"/>
                  </a:lnTo>
                  <a:lnTo>
                    <a:pt x="3808" y="2650"/>
                  </a:lnTo>
                  <a:lnTo>
                    <a:pt x="3856" y="2665"/>
                  </a:lnTo>
                  <a:lnTo>
                    <a:pt x="3903" y="2666"/>
                  </a:lnTo>
                  <a:lnTo>
                    <a:pt x="3951" y="2656"/>
                  </a:lnTo>
                  <a:lnTo>
                    <a:pt x="3998" y="2668"/>
                  </a:lnTo>
                  <a:lnTo>
                    <a:pt x="4046" y="2669"/>
                  </a:lnTo>
                  <a:lnTo>
                    <a:pt x="4094" y="2655"/>
                  </a:lnTo>
                  <a:lnTo>
                    <a:pt x="4142" y="2671"/>
                  </a:lnTo>
                  <a:lnTo>
                    <a:pt x="4190" y="2671"/>
                  </a:lnTo>
                  <a:lnTo>
                    <a:pt x="4237" y="2654"/>
                  </a:lnTo>
                  <a:lnTo>
                    <a:pt x="4285" y="2670"/>
                  </a:lnTo>
                  <a:lnTo>
                    <a:pt x="4332" y="2670"/>
                  </a:lnTo>
                  <a:lnTo>
                    <a:pt x="4380" y="2660"/>
                  </a:lnTo>
                  <a:lnTo>
                    <a:pt x="4427" y="2672"/>
                  </a:lnTo>
                  <a:lnTo>
                    <a:pt x="4475" y="2672"/>
                  </a:lnTo>
                  <a:lnTo>
                    <a:pt x="4523" y="2657"/>
                  </a:lnTo>
                  <a:lnTo>
                    <a:pt x="4570" y="2671"/>
                  </a:lnTo>
                  <a:lnTo>
                    <a:pt x="4618" y="2671"/>
                  </a:lnTo>
                  <a:lnTo>
                    <a:pt x="4665" y="2657"/>
                  </a:lnTo>
                  <a:lnTo>
                    <a:pt x="4713" y="2673"/>
                  </a:lnTo>
                  <a:lnTo>
                    <a:pt x="4713" y="2727"/>
                  </a:lnTo>
                  <a:lnTo>
                    <a:pt x="4665" y="2710"/>
                  </a:lnTo>
                  <a:lnTo>
                    <a:pt x="4618" y="2725"/>
                  </a:lnTo>
                  <a:lnTo>
                    <a:pt x="4570" y="2725"/>
                  </a:lnTo>
                  <a:lnTo>
                    <a:pt x="4523" y="2711"/>
                  </a:lnTo>
                  <a:lnTo>
                    <a:pt x="4475" y="2727"/>
                  </a:lnTo>
                  <a:lnTo>
                    <a:pt x="4427" y="2727"/>
                  </a:lnTo>
                  <a:lnTo>
                    <a:pt x="4380" y="2717"/>
                  </a:lnTo>
                  <a:lnTo>
                    <a:pt x="4332" y="2727"/>
                  </a:lnTo>
                  <a:lnTo>
                    <a:pt x="4285" y="2727"/>
                  </a:lnTo>
                  <a:lnTo>
                    <a:pt x="4237" y="2715"/>
                  </a:lnTo>
                  <a:lnTo>
                    <a:pt x="4190" y="2732"/>
                  </a:lnTo>
                  <a:lnTo>
                    <a:pt x="4142" y="2732"/>
                  </a:lnTo>
                  <a:lnTo>
                    <a:pt x="4094" y="2715"/>
                  </a:lnTo>
                  <a:lnTo>
                    <a:pt x="4046" y="2729"/>
                  </a:lnTo>
                  <a:lnTo>
                    <a:pt x="3998" y="2729"/>
                  </a:lnTo>
                  <a:lnTo>
                    <a:pt x="3951" y="2714"/>
                  </a:lnTo>
                  <a:lnTo>
                    <a:pt x="3903" y="2724"/>
                  </a:lnTo>
                  <a:lnTo>
                    <a:pt x="3856" y="2724"/>
                  </a:lnTo>
                  <a:lnTo>
                    <a:pt x="3808" y="2712"/>
                  </a:lnTo>
                  <a:lnTo>
                    <a:pt x="3761" y="2723"/>
                  </a:lnTo>
                  <a:lnTo>
                    <a:pt x="3713" y="2723"/>
                  </a:lnTo>
                  <a:lnTo>
                    <a:pt x="3665" y="2707"/>
                  </a:lnTo>
                  <a:lnTo>
                    <a:pt x="3618" y="2723"/>
                  </a:lnTo>
                  <a:lnTo>
                    <a:pt x="3570" y="2723"/>
                  </a:lnTo>
                  <a:lnTo>
                    <a:pt x="3523" y="2707"/>
                  </a:lnTo>
                  <a:lnTo>
                    <a:pt x="3475" y="2721"/>
                  </a:lnTo>
                  <a:lnTo>
                    <a:pt x="3428" y="2721"/>
                  </a:lnTo>
                  <a:lnTo>
                    <a:pt x="3380" y="2708"/>
                  </a:lnTo>
                  <a:lnTo>
                    <a:pt x="3333" y="2720"/>
                  </a:lnTo>
                  <a:lnTo>
                    <a:pt x="3285" y="2720"/>
                  </a:lnTo>
                  <a:lnTo>
                    <a:pt x="3237" y="2705"/>
                  </a:lnTo>
                  <a:lnTo>
                    <a:pt x="3190" y="2722"/>
                  </a:lnTo>
                  <a:lnTo>
                    <a:pt x="3142" y="2720"/>
                  </a:lnTo>
                  <a:lnTo>
                    <a:pt x="3095" y="2707"/>
                  </a:lnTo>
                  <a:lnTo>
                    <a:pt x="3047" y="2722"/>
                  </a:lnTo>
                  <a:lnTo>
                    <a:pt x="3000" y="2720"/>
                  </a:lnTo>
                  <a:lnTo>
                    <a:pt x="2952" y="2704"/>
                  </a:lnTo>
                  <a:lnTo>
                    <a:pt x="2903" y="2716"/>
                  </a:lnTo>
                  <a:lnTo>
                    <a:pt x="2856" y="2711"/>
                  </a:lnTo>
                  <a:lnTo>
                    <a:pt x="2808" y="2687"/>
                  </a:lnTo>
                  <a:lnTo>
                    <a:pt x="2761" y="2700"/>
                  </a:lnTo>
                  <a:lnTo>
                    <a:pt x="2713" y="2696"/>
                  </a:lnTo>
                  <a:lnTo>
                    <a:pt x="2666" y="2677"/>
                  </a:lnTo>
                  <a:lnTo>
                    <a:pt x="2618" y="2687"/>
                  </a:lnTo>
                  <a:lnTo>
                    <a:pt x="2571" y="2682"/>
                  </a:lnTo>
                  <a:lnTo>
                    <a:pt x="2523" y="2658"/>
                  </a:lnTo>
                  <a:lnTo>
                    <a:pt x="2475" y="2660"/>
                  </a:lnTo>
                  <a:lnTo>
                    <a:pt x="2428" y="2654"/>
                  </a:lnTo>
                  <a:lnTo>
                    <a:pt x="2380" y="2630"/>
                  </a:lnTo>
                  <a:lnTo>
                    <a:pt x="2333" y="2631"/>
                  </a:lnTo>
                  <a:lnTo>
                    <a:pt x="2285" y="2621"/>
                  </a:lnTo>
                  <a:lnTo>
                    <a:pt x="2238" y="2579"/>
                  </a:lnTo>
                  <a:lnTo>
                    <a:pt x="2190" y="2580"/>
                  </a:lnTo>
                  <a:lnTo>
                    <a:pt x="2142" y="2568"/>
                  </a:lnTo>
                  <a:lnTo>
                    <a:pt x="2095" y="2519"/>
                  </a:lnTo>
                  <a:lnTo>
                    <a:pt x="2047" y="2523"/>
                  </a:lnTo>
                  <a:lnTo>
                    <a:pt x="2000" y="2506"/>
                  </a:lnTo>
                  <a:lnTo>
                    <a:pt x="1952" y="2448"/>
                  </a:lnTo>
                  <a:lnTo>
                    <a:pt x="1905" y="2450"/>
                  </a:lnTo>
                  <a:lnTo>
                    <a:pt x="1857" y="2432"/>
                  </a:lnTo>
                  <a:lnTo>
                    <a:pt x="1810" y="2355"/>
                  </a:lnTo>
                  <a:lnTo>
                    <a:pt x="1761" y="2363"/>
                  </a:lnTo>
                  <a:lnTo>
                    <a:pt x="1713" y="2337"/>
                  </a:lnTo>
                  <a:lnTo>
                    <a:pt x="1666" y="2238"/>
                  </a:lnTo>
                  <a:lnTo>
                    <a:pt x="1618" y="2245"/>
                  </a:lnTo>
                  <a:lnTo>
                    <a:pt x="1571" y="2211"/>
                  </a:lnTo>
                  <a:lnTo>
                    <a:pt x="1523" y="2078"/>
                  </a:lnTo>
                  <a:lnTo>
                    <a:pt x="1476" y="2088"/>
                  </a:lnTo>
                  <a:lnTo>
                    <a:pt x="1428" y="2045"/>
                  </a:lnTo>
                  <a:lnTo>
                    <a:pt x="1380" y="1889"/>
                  </a:lnTo>
                  <a:lnTo>
                    <a:pt x="1333" y="1899"/>
                  </a:lnTo>
                  <a:lnTo>
                    <a:pt x="1285" y="1848"/>
                  </a:lnTo>
                  <a:lnTo>
                    <a:pt x="1238" y="1669"/>
                  </a:lnTo>
                  <a:lnTo>
                    <a:pt x="1190" y="1681"/>
                  </a:lnTo>
                  <a:lnTo>
                    <a:pt x="1143" y="1622"/>
                  </a:lnTo>
                  <a:lnTo>
                    <a:pt x="1095" y="1366"/>
                  </a:lnTo>
                  <a:lnTo>
                    <a:pt x="1048" y="1377"/>
                  </a:lnTo>
                  <a:lnTo>
                    <a:pt x="1000" y="1334"/>
                  </a:lnTo>
                  <a:lnTo>
                    <a:pt x="952" y="1160"/>
                  </a:lnTo>
                  <a:lnTo>
                    <a:pt x="905" y="1187"/>
                  </a:lnTo>
                  <a:lnTo>
                    <a:pt x="857" y="1072"/>
                  </a:lnTo>
                  <a:lnTo>
                    <a:pt x="810" y="593"/>
                  </a:lnTo>
                  <a:lnTo>
                    <a:pt x="762" y="581"/>
                  </a:lnTo>
                  <a:lnTo>
                    <a:pt x="715" y="416"/>
                  </a:lnTo>
                  <a:lnTo>
                    <a:pt x="667" y="220"/>
                  </a:lnTo>
                  <a:lnTo>
                    <a:pt x="620" y="148"/>
                  </a:lnTo>
                  <a:lnTo>
                    <a:pt x="571" y="112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71600" y="917640"/>
              <a:ext cx="7481880" cy="4243320"/>
            </a:xfrm>
            <a:custGeom>
              <a:avLst/>
              <a:gdLst/>
              <a:ahLst/>
              <a:rect l="l" t="t" r="r" b="b"/>
              <a:pathLst>
                <a:path w="4713" h="2673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112"/>
                  </a:lnTo>
                  <a:lnTo>
                    <a:pt x="2618" y="140"/>
                  </a:lnTo>
                  <a:lnTo>
                    <a:pt x="2666" y="210"/>
                  </a:lnTo>
                  <a:lnTo>
                    <a:pt x="2713" y="406"/>
                  </a:lnTo>
                  <a:lnTo>
                    <a:pt x="2761" y="538"/>
                  </a:lnTo>
                  <a:lnTo>
                    <a:pt x="2808" y="571"/>
                  </a:lnTo>
                  <a:lnTo>
                    <a:pt x="2856" y="1050"/>
                  </a:lnTo>
                  <a:lnTo>
                    <a:pt x="2903" y="1138"/>
                  </a:lnTo>
                  <a:lnTo>
                    <a:pt x="2952" y="1126"/>
                  </a:lnTo>
                  <a:lnTo>
                    <a:pt x="3000" y="1300"/>
                  </a:lnTo>
                  <a:lnTo>
                    <a:pt x="3047" y="1331"/>
                  </a:lnTo>
                  <a:lnTo>
                    <a:pt x="3095" y="1316"/>
                  </a:lnTo>
                  <a:lnTo>
                    <a:pt x="3142" y="1572"/>
                  </a:lnTo>
                  <a:lnTo>
                    <a:pt x="3190" y="1621"/>
                  </a:lnTo>
                  <a:lnTo>
                    <a:pt x="3237" y="1603"/>
                  </a:lnTo>
                  <a:lnTo>
                    <a:pt x="3285" y="1783"/>
                  </a:lnTo>
                  <a:lnTo>
                    <a:pt x="3333" y="1823"/>
                  </a:lnTo>
                  <a:lnTo>
                    <a:pt x="3380" y="1811"/>
                  </a:lnTo>
                  <a:lnTo>
                    <a:pt x="3428" y="1967"/>
                  </a:lnTo>
                  <a:lnTo>
                    <a:pt x="3475" y="2000"/>
                  </a:lnTo>
                  <a:lnTo>
                    <a:pt x="3523" y="1986"/>
                  </a:lnTo>
                  <a:lnTo>
                    <a:pt x="3570" y="2118"/>
                  </a:lnTo>
                  <a:lnTo>
                    <a:pt x="3618" y="2146"/>
                  </a:lnTo>
                  <a:lnTo>
                    <a:pt x="3665" y="2129"/>
                  </a:lnTo>
                  <a:lnTo>
                    <a:pt x="3713" y="2228"/>
                  </a:lnTo>
                  <a:lnTo>
                    <a:pt x="3761" y="2246"/>
                  </a:lnTo>
                  <a:lnTo>
                    <a:pt x="3808" y="2235"/>
                  </a:lnTo>
                  <a:lnTo>
                    <a:pt x="3856" y="2312"/>
                  </a:lnTo>
                  <a:lnTo>
                    <a:pt x="3903" y="2327"/>
                  </a:lnTo>
                  <a:lnTo>
                    <a:pt x="3951" y="2317"/>
                  </a:lnTo>
                  <a:lnTo>
                    <a:pt x="3998" y="2376"/>
                  </a:lnTo>
                  <a:lnTo>
                    <a:pt x="4046" y="2389"/>
                  </a:lnTo>
                  <a:lnTo>
                    <a:pt x="4094" y="2376"/>
                  </a:lnTo>
                  <a:lnTo>
                    <a:pt x="4142" y="2424"/>
                  </a:lnTo>
                  <a:lnTo>
                    <a:pt x="4190" y="2435"/>
                  </a:lnTo>
                  <a:lnTo>
                    <a:pt x="4237" y="2417"/>
                  </a:lnTo>
                  <a:lnTo>
                    <a:pt x="4285" y="2459"/>
                  </a:lnTo>
                  <a:lnTo>
                    <a:pt x="4332" y="2469"/>
                  </a:lnTo>
                  <a:lnTo>
                    <a:pt x="4380" y="2458"/>
                  </a:lnTo>
                  <a:lnTo>
                    <a:pt x="4427" y="2482"/>
                  </a:lnTo>
                  <a:lnTo>
                    <a:pt x="4475" y="2486"/>
                  </a:lnTo>
                  <a:lnTo>
                    <a:pt x="4523" y="2470"/>
                  </a:lnTo>
                  <a:lnTo>
                    <a:pt x="4570" y="2494"/>
                  </a:lnTo>
                  <a:lnTo>
                    <a:pt x="4618" y="2499"/>
                  </a:lnTo>
                  <a:lnTo>
                    <a:pt x="4665" y="2485"/>
                  </a:lnTo>
                  <a:lnTo>
                    <a:pt x="4713" y="2503"/>
                  </a:lnTo>
                  <a:lnTo>
                    <a:pt x="4713" y="2673"/>
                  </a:lnTo>
                  <a:lnTo>
                    <a:pt x="4665" y="2657"/>
                  </a:lnTo>
                  <a:lnTo>
                    <a:pt x="4618" y="2671"/>
                  </a:lnTo>
                  <a:lnTo>
                    <a:pt x="4570" y="2671"/>
                  </a:lnTo>
                  <a:lnTo>
                    <a:pt x="4523" y="2657"/>
                  </a:lnTo>
                  <a:lnTo>
                    <a:pt x="4475" y="2672"/>
                  </a:lnTo>
                  <a:lnTo>
                    <a:pt x="4427" y="2672"/>
                  </a:lnTo>
                  <a:lnTo>
                    <a:pt x="4380" y="2660"/>
                  </a:lnTo>
                  <a:lnTo>
                    <a:pt x="4332" y="2670"/>
                  </a:lnTo>
                  <a:lnTo>
                    <a:pt x="4285" y="2670"/>
                  </a:lnTo>
                  <a:lnTo>
                    <a:pt x="4237" y="2654"/>
                  </a:lnTo>
                  <a:lnTo>
                    <a:pt x="4190" y="2671"/>
                  </a:lnTo>
                  <a:lnTo>
                    <a:pt x="4142" y="2671"/>
                  </a:lnTo>
                  <a:lnTo>
                    <a:pt x="4094" y="2655"/>
                  </a:lnTo>
                  <a:lnTo>
                    <a:pt x="4046" y="2669"/>
                  </a:lnTo>
                  <a:lnTo>
                    <a:pt x="3998" y="2668"/>
                  </a:lnTo>
                  <a:lnTo>
                    <a:pt x="3951" y="2656"/>
                  </a:lnTo>
                  <a:lnTo>
                    <a:pt x="3903" y="2666"/>
                  </a:lnTo>
                  <a:lnTo>
                    <a:pt x="3856" y="2665"/>
                  </a:lnTo>
                  <a:lnTo>
                    <a:pt x="3808" y="2650"/>
                  </a:lnTo>
                  <a:lnTo>
                    <a:pt x="3761" y="2662"/>
                  </a:lnTo>
                  <a:lnTo>
                    <a:pt x="3713" y="2660"/>
                  </a:lnTo>
                  <a:lnTo>
                    <a:pt x="3665" y="2647"/>
                  </a:lnTo>
                  <a:lnTo>
                    <a:pt x="3618" y="2664"/>
                  </a:lnTo>
                  <a:lnTo>
                    <a:pt x="3570" y="2661"/>
                  </a:lnTo>
                  <a:lnTo>
                    <a:pt x="3523" y="2645"/>
                  </a:lnTo>
                  <a:lnTo>
                    <a:pt x="3475" y="2659"/>
                  </a:lnTo>
                  <a:lnTo>
                    <a:pt x="3428" y="2654"/>
                  </a:lnTo>
                  <a:lnTo>
                    <a:pt x="3380" y="2632"/>
                  </a:lnTo>
                  <a:lnTo>
                    <a:pt x="3333" y="2644"/>
                  </a:lnTo>
                  <a:lnTo>
                    <a:pt x="3285" y="2639"/>
                  </a:lnTo>
                  <a:lnTo>
                    <a:pt x="3237" y="2621"/>
                  </a:lnTo>
                  <a:lnTo>
                    <a:pt x="3190" y="2638"/>
                  </a:lnTo>
                  <a:lnTo>
                    <a:pt x="3142" y="2633"/>
                  </a:lnTo>
                  <a:lnTo>
                    <a:pt x="3095" y="2608"/>
                  </a:lnTo>
                  <a:lnTo>
                    <a:pt x="3047" y="2624"/>
                  </a:lnTo>
                  <a:lnTo>
                    <a:pt x="3000" y="2621"/>
                  </a:lnTo>
                  <a:lnTo>
                    <a:pt x="2952" y="2595"/>
                  </a:lnTo>
                  <a:lnTo>
                    <a:pt x="2903" y="2607"/>
                  </a:lnTo>
                  <a:lnTo>
                    <a:pt x="2856" y="2598"/>
                  </a:lnTo>
                  <a:lnTo>
                    <a:pt x="2808" y="2557"/>
                  </a:lnTo>
                  <a:lnTo>
                    <a:pt x="2761" y="2569"/>
                  </a:lnTo>
                  <a:lnTo>
                    <a:pt x="2713" y="2558"/>
                  </a:lnTo>
                  <a:lnTo>
                    <a:pt x="2666" y="2509"/>
                  </a:lnTo>
                  <a:lnTo>
                    <a:pt x="2618" y="2519"/>
                  </a:lnTo>
                  <a:lnTo>
                    <a:pt x="2571" y="2506"/>
                  </a:lnTo>
                  <a:lnTo>
                    <a:pt x="2523" y="2448"/>
                  </a:lnTo>
                  <a:lnTo>
                    <a:pt x="2475" y="2448"/>
                  </a:lnTo>
                  <a:lnTo>
                    <a:pt x="2428" y="2432"/>
                  </a:lnTo>
                  <a:lnTo>
                    <a:pt x="2380" y="2355"/>
                  </a:lnTo>
                  <a:lnTo>
                    <a:pt x="2333" y="2355"/>
                  </a:lnTo>
                  <a:lnTo>
                    <a:pt x="2285" y="2337"/>
                  </a:lnTo>
                  <a:lnTo>
                    <a:pt x="2238" y="2238"/>
                  </a:lnTo>
                  <a:lnTo>
                    <a:pt x="2190" y="2238"/>
                  </a:lnTo>
                  <a:lnTo>
                    <a:pt x="2142" y="2211"/>
                  </a:lnTo>
                  <a:lnTo>
                    <a:pt x="2095" y="2078"/>
                  </a:lnTo>
                  <a:lnTo>
                    <a:pt x="2047" y="2078"/>
                  </a:lnTo>
                  <a:lnTo>
                    <a:pt x="2000" y="2045"/>
                  </a:lnTo>
                  <a:lnTo>
                    <a:pt x="1952" y="1889"/>
                  </a:lnTo>
                  <a:lnTo>
                    <a:pt x="1905" y="1889"/>
                  </a:lnTo>
                  <a:lnTo>
                    <a:pt x="1857" y="1848"/>
                  </a:lnTo>
                  <a:lnTo>
                    <a:pt x="1810" y="1669"/>
                  </a:lnTo>
                  <a:lnTo>
                    <a:pt x="1761" y="1669"/>
                  </a:lnTo>
                  <a:lnTo>
                    <a:pt x="1713" y="1622"/>
                  </a:lnTo>
                  <a:lnTo>
                    <a:pt x="1666" y="1366"/>
                  </a:lnTo>
                  <a:lnTo>
                    <a:pt x="1618" y="1366"/>
                  </a:lnTo>
                  <a:lnTo>
                    <a:pt x="1571" y="1334"/>
                  </a:lnTo>
                  <a:lnTo>
                    <a:pt x="1523" y="1160"/>
                  </a:lnTo>
                  <a:lnTo>
                    <a:pt x="1476" y="1160"/>
                  </a:lnTo>
                  <a:lnTo>
                    <a:pt x="1428" y="1072"/>
                  </a:lnTo>
                  <a:lnTo>
                    <a:pt x="1380" y="593"/>
                  </a:lnTo>
                  <a:lnTo>
                    <a:pt x="1333" y="548"/>
                  </a:lnTo>
                  <a:lnTo>
                    <a:pt x="1285" y="416"/>
                  </a:lnTo>
                  <a:lnTo>
                    <a:pt x="1238" y="220"/>
                  </a:lnTo>
                  <a:lnTo>
                    <a:pt x="1190" y="140"/>
                  </a:lnTo>
                  <a:lnTo>
                    <a:pt x="1143" y="112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371600" y="917640"/>
              <a:ext cx="7481880" cy="3973320"/>
            </a:xfrm>
            <a:custGeom>
              <a:avLst/>
              <a:gdLst/>
              <a:ahLst/>
              <a:rect l="l" t="t" r="r" b="b"/>
              <a:pathLst>
                <a:path w="4713" h="2503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503"/>
                  </a:lnTo>
                  <a:lnTo>
                    <a:pt x="4665" y="2485"/>
                  </a:lnTo>
                  <a:lnTo>
                    <a:pt x="4618" y="2499"/>
                  </a:lnTo>
                  <a:lnTo>
                    <a:pt x="4570" y="2494"/>
                  </a:lnTo>
                  <a:lnTo>
                    <a:pt x="4523" y="2470"/>
                  </a:lnTo>
                  <a:lnTo>
                    <a:pt x="4475" y="2486"/>
                  </a:lnTo>
                  <a:lnTo>
                    <a:pt x="4427" y="2482"/>
                  </a:lnTo>
                  <a:lnTo>
                    <a:pt x="4380" y="2458"/>
                  </a:lnTo>
                  <a:lnTo>
                    <a:pt x="4332" y="2469"/>
                  </a:lnTo>
                  <a:lnTo>
                    <a:pt x="4285" y="2459"/>
                  </a:lnTo>
                  <a:lnTo>
                    <a:pt x="4237" y="2417"/>
                  </a:lnTo>
                  <a:lnTo>
                    <a:pt x="4190" y="2435"/>
                  </a:lnTo>
                  <a:lnTo>
                    <a:pt x="4142" y="2424"/>
                  </a:lnTo>
                  <a:lnTo>
                    <a:pt x="4094" y="2376"/>
                  </a:lnTo>
                  <a:lnTo>
                    <a:pt x="4046" y="2389"/>
                  </a:lnTo>
                  <a:lnTo>
                    <a:pt x="3998" y="2376"/>
                  </a:lnTo>
                  <a:lnTo>
                    <a:pt x="3951" y="2317"/>
                  </a:lnTo>
                  <a:lnTo>
                    <a:pt x="3903" y="2327"/>
                  </a:lnTo>
                  <a:lnTo>
                    <a:pt x="3856" y="2312"/>
                  </a:lnTo>
                  <a:lnTo>
                    <a:pt x="3808" y="2235"/>
                  </a:lnTo>
                  <a:lnTo>
                    <a:pt x="3761" y="2246"/>
                  </a:lnTo>
                  <a:lnTo>
                    <a:pt x="3713" y="2228"/>
                  </a:lnTo>
                  <a:lnTo>
                    <a:pt x="3665" y="2129"/>
                  </a:lnTo>
                  <a:lnTo>
                    <a:pt x="3618" y="2146"/>
                  </a:lnTo>
                  <a:lnTo>
                    <a:pt x="3570" y="2118"/>
                  </a:lnTo>
                  <a:lnTo>
                    <a:pt x="3523" y="1986"/>
                  </a:lnTo>
                  <a:lnTo>
                    <a:pt x="3475" y="2000"/>
                  </a:lnTo>
                  <a:lnTo>
                    <a:pt x="3428" y="1967"/>
                  </a:lnTo>
                  <a:lnTo>
                    <a:pt x="3380" y="1811"/>
                  </a:lnTo>
                  <a:lnTo>
                    <a:pt x="3333" y="1823"/>
                  </a:lnTo>
                  <a:lnTo>
                    <a:pt x="3285" y="1783"/>
                  </a:lnTo>
                  <a:lnTo>
                    <a:pt x="3237" y="1603"/>
                  </a:lnTo>
                  <a:lnTo>
                    <a:pt x="3190" y="1621"/>
                  </a:lnTo>
                  <a:lnTo>
                    <a:pt x="3142" y="1572"/>
                  </a:lnTo>
                  <a:lnTo>
                    <a:pt x="3095" y="1316"/>
                  </a:lnTo>
                  <a:lnTo>
                    <a:pt x="3047" y="1331"/>
                  </a:lnTo>
                  <a:lnTo>
                    <a:pt x="3000" y="1300"/>
                  </a:lnTo>
                  <a:lnTo>
                    <a:pt x="2952" y="1126"/>
                  </a:lnTo>
                  <a:lnTo>
                    <a:pt x="2903" y="1138"/>
                  </a:lnTo>
                  <a:lnTo>
                    <a:pt x="2856" y="1050"/>
                  </a:lnTo>
                  <a:lnTo>
                    <a:pt x="2808" y="571"/>
                  </a:lnTo>
                  <a:lnTo>
                    <a:pt x="2761" y="538"/>
                  </a:lnTo>
                  <a:lnTo>
                    <a:pt x="2713" y="406"/>
                  </a:lnTo>
                  <a:lnTo>
                    <a:pt x="2666" y="210"/>
                  </a:lnTo>
                  <a:lnTo>
                    <a:pt x="2618" y="140"/>
                  </a:lnTo>
                  <a:lnTo>
                    <a:pt x="2571" y="112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371600" y="3289320"/>
              <a:ext cx="7481880" cy="2063880"/>
            </a:xfrm>
            <a:custGeom>
              <a:avLst/>
              <a:gdLst/>
              <a:ahLst/>
              <a:rect l="l" t="t" r="r" b="b"/>
              <a:pathLst>
                <a:path w="4713" h="1300">
                  <a:moveTo>
                    <a:pt x="0" y="1300"/>
                  </a:moveTo>
                  <a:lnTo>
                    <a:pt x="0" y="1300"/>
                  </a:lnTo>
                  <a:lnTo>
                    <a:pt x="48" y="1300"/>
                  </a:lnTo>
                  <a:lnTo>
                    <a:pt x="95" y="955"/>
                  </a:lnTo>
                  <a:lnTo>
                    <a:pt x="143" y="955"/>
                  </a:lnTo>
                  <a:lnTo>
                    <a:pt x="190" y="727"/>
                  </a:lnTo>
                  <a:lnTo>
                    <a:pt x="238" y="416"/>
                  </a:lnTo>
                  <a:lnTo>
                    <a:pt x="286" y="505"/>
                  </a:lnTo>
                  <a:lnTo>
                    <a:pt x="333" y="630"/>
                  </a:lnTo>
                  <a:lnTo>
                    <a:pt x="381" y="0"/>
                  </a:lnTo>
                  <a:lnTo>
                    <a:pt x="428" y="267"/>
                  </a:lnTo>
                  <a:lnTo>
                    <a:pt x="476" y="358"/>
                  </a:lnTo>
                  <a:lnTo>
                    <a:pt x="523" y="759"/>
                  </a:lnTo>
                  <a:lnTo>
                    <a:pt x="571" y="941"/>
                  </a:lnTo>
                  <a:lnTo>
                    <a:pt x="620" y="941"/>
                  </a:lnTo>
                  <a:lnTo>
                    <a:pt x="667" y="713"/>
                  </a:lnTo>
                  <a:lnTo>
                    <a:pt x="715" y="786"/>
                  </a:lnTo>
                  <a:lnTo>
                    <a:pt x="762" y="786"/>
                  </a:lnTo>
                  <a:lnTo>
                    <a:pt x="810" y="834"/>
                  </a:lnTo>
                  <a:lnTo>
                    <a:pt x="857" y="934"/>
                  </a:lnTo>
                  <a:lnTo>
                    <a:pt x="905" y="934"/>
                  </a:lnTo>
                  <a:lnTo>
                    <a:pt x="952" y="912"/>
                  </a:lnTo>
                  <a:lnTo>
                    <a:pt x="1000" y="994"/>
                  </a:lnTo>
                  <a:lnTo>
                    <a:pt x="1048" y="994"/>
                  </a:lnTo>
                  <a:lnTo>
                    <a:pt x="1095" y="989"/>
                  </a:lnTo>
                  <a:lnTo>
                    <a:pt x="1143" y="1054"/>
                  </a:lnTo>
                  <a:lnTo>
                    <a:pt x="1190" y="1054"/>
                  </a:lnTo>
                  <a:lnTo>
                    <a:pt x="1238" y="1066"/>
                  </a:lnTo>
                  <a:lnTo>
                    <a:pt x="1285" y="1115"/>
                  </a:lnTo>
                  <a:lnTo>
                    <a:pt x="1333" y="1115"/>
                  </a:lnTo>
                  <a:lnTo>
                    <a:pt x="1380" y="1116"/>
                  </a:lnTo>
                  <a:lnTo>
                    <a:pt x="1428" y="1156"/>
                  </a:lnTo>
                  <a:lnTo>
                    <a:pt x="1476" y="1156"/>
                  </a:lnTo>
                  <a:lnTo>
                    <a:pt x="1523" y="1161"/>
                  </a:lnTo>
                  <a:lnTo>
                    <a:pt x="1571" y="1188"/>
                  </a:lnTo>
                  <a:lnTo>
                    <a:pt x="1618" y="1188"/>
                  </a:lnTo>
                  <a:lnTo>
                    <a:pt x="1666" y="1191"/>
                  </a:lnTo>
                  <a:lnTo>
                    <a:pt x="1713" y="1214"/>
                  </a:lnTo>
                  <a:lnTo>
                    <a:pt x="1761" y="1214"/>
                  </a:lnTo>
                  <a:lnTo>
                    <a:pt x="1810" y="1210"/>
                  </a:lnTo>
                  <a:lnTo>
                    <a:pt x="1857" y="1226"/>
                  </a:lnTo>
                  <a:lnTo>
                    <a:pt x="1905" y="1226"/>
                  </a:lnTo>
                  <a:lnTo>
                    <a:pt x="1952" y="1237"/>
                  </a:lnTo>
                  <a:lnTo>
                    <a:pt x="2000" y="1251"/>
                  </a:lnTo>
                  <a:lnTo>
                    <a:pt x="2047" y="1251"/>
                  </a:lnTo>
                  <a:lnTo>
                    <a:pt x="2095" y="1246"/>
                  </a:lnTo>
                  <a:lnTo>
                    <a:pt x="2142" y="1255"/>
                  </a:lnTo>
                  <a:lnTo>
                    <a:pt x="2190" y="1255"/>
                  </a:lnTo>
                  <a:lnTo>
                    <a:pt x="2238" y="1262"/>
                  </a:lnTo>
                  <a:lnTo>
                    <a:pt x="2285" y="1269"/>
                  </a:lnTo>
                  <a:lnTo>
                    <a:pt x="2333" y="1269"/>
                  </a:lnTo>
                  <a:lnTo>
                    <a:pt x="2380" y="1263"/>
                  </a:lnTo>
                  <a:lnTo>
                    <a:pt x="2428" y="1269"/>
                  </a:lnTo>
                  <a:lnTo>
                    <a:pt x="2475" y="1269"/>
                  </a:lnTo>
                  <a:lnTo>
                    <a:pt x="2523" y="1275"/>
                  </a:lnTo>
                  <a:lnTo>
                    <a:pt x="2571" y="1280"/>
                  </a:lnTo>
                  <a:lnTo>
                    <a:pt x="2618" y="1280"/>
                  </a:lnTo>
                  <a:lnTo>
                    <a:pt x="2666" y="1281"/>
                  </a:lnTo>
                  <a:lnTo>
                    <a:pt x="2713" y="1283"/>
                  </a:lnTo>
                  <a:lnTo>
                    <a:pt x="2761" y="1283"/>
                  </a:lnTo>
                  <a:lnTo>
                    <a:pt x="2808" y="1282"/>
                  </a:lnTo>
                  <a:lnTo>
                    <a:pt x="2856" y="1283"/>
                  </a:lnTo>
                  <a:lnTo>
                    <a:pt x="2903" y="1283"/>
                  </a:lnTo>
                  <a:lnTo>
                    <a:pt x="2952" y="1287"/>
                  </a:lnTo>
                  <a:lnTo>
                    <a:pt x="3000" y="1287"/>
                  </a:lnTo>
                  <a:lnTo>
                    <a:pt x="3047" y="1287"/>
                  </a:lnTo>
                  <a:lnTo>
                    <a:pt x="3095" y="1283"/>
                  </a:lnTo>
                  <a:lnTo>
                    <a:pt x="3142" y="1283"/>
                  </a:lnTo>
                  <a:lnTo>
                    <a:pt x="3190" y="1283"/>
                  </a:lnTo>
                  <a:lnTo>
                    <a:pt x="3237" y="1282"/>
                  </a:lnTo>
                  <a:lnTo>
                    <a:pt x="3285" y="1282"/>
                  </a:lnTo>
                  <a:lnTo>
                    <a:pt x="3333" y="1282"/>
                  </a:lnTo>
                  <a:lnTo>
                    <a:pt x="3380" y="1288"/>
                  </a:lnTo>
                  <a:lnTo>
                    <a:pt x="3428" y="1288"/>
                  </a:lnTo>
                  <a:lnTo>
                    <a:pt x="3475" y="1288"/>
                  </a:lnTo>
                  <a:lnTo>
                    <a:pt x="3523" y="1286"/>
                  </a:lnTo>
                  <a:lnTo>
                    <a:pt x="3570" y="1286"/>
                  </a:lnTo>
                  <a:lnTo>
                    <a:pt x="3618" y="1286"/>
                  </a:lnTo>
                  <a:lnTo>
                    <a:pt x="3665" y="1282"/>
                  </a:lnTo>
                  <a:lnTo>
                    <a:pt x="3713" y="1282"/>
                  </a:lnTo>
                  <a:lnTo>
                    <a:pt x="3761" y="1282"/>
                  </a:lnTo>
                  <a:lnTo>
                    <a:pt x="3808" y="1287"/>
                  </a:lnTo>
                  <a:lnTo>
                    <a:pt x="3856" y="1288"/>
                  </a:lnTo>
                  <a:lnTo>
                    <a:pt x="3903" y="1288"/>
                  </a:lnTo>
                  <a:lnTo>
                    <a:pt x="3951" y="1290"/>
                  </a:lnTo>
                  <a:lnTo>
                    <a:pt x="3998" y="1290"/>
                  </a:lnTo>
                  <a:lnTo>
                    <a:pt x="4046" y="1290"/>
                  </a:lnTo>
                  <a:lnTo>
                    <a:pt x="4094" y="1287"/>
                  </a:lnTo>
                  <a:lnTo>
                    <a:pt x="4142" y="1287"/>
                  </a:lnTo>
                  <a:lnTo>
                    <a:pt x="4190" y="1287"/>
                  </a:lnTo>
                  <a:lnTo>
                    <a:pt x="4237" y="1282"/>
                  </a:lnTo>
                  <a:lnTo>
                    <a:pt x="4285" y="1282"/>
                  </a:lnTo>
                  <a:lnTo>
                    <a:pt x="4332" y="1282"/>
                  </a:lnTo>
                  <a:lnTo>
                    <a:pt x="4380" y="1289"/>
                  </a:lnTo>
                  <a:lnTo>
                    <a:pt x="4427" y="1289"/>
                  </a:lnTo>
                  <a:lnTo>
                    <a:pt x="4475" y="1289"/>
                  </a:lnTo>
                  <a:lnTo>
                    <a:pt x="4523" y="1283"/>
                  </a:lnTo>
                  <a:lnTo>
                    <a:pt x="4570" y="1283"/>
                  </a:lnTo>
                  <a:lnTo>
                    <a:pt x="4618" y="1283"/>
                  </a:lnTo>
                  <a:lnTo>
                    <a:pt x="4665" y="1286"/>
                  </a:lnTo>
                  <a:lnTo>
                    <a:pt x="4713" y="1286"/>
                  </a:lnTo>
                  <a:lnTo>
                    <a:pt x="4713" y="1300"/>
                  </a:lnTo>
                  <a:lnTo>
                    <a:pt x="4665" y="1300"/>
                  </a:lnTo>
                  <a:lnTo>
                    <a:pt x="4618" y="1300"/>
                  </a:lnTo>
                  <a:lnTo>
                    <a:pt x="4570" y="1300"/>
                  </a:lnTo>
                  <a:lnTo>
                    <a:pt x="4523" y="1300"/>
                  </a:lnTo>
                  <a:lnTo>
                    <a:pt x="4475" y="1300"/>
                  </a:lnTo>
                  <a:lnTo>
                    <a:pt x="4427" y="1300"/>
                  </a:lnTo>
                  <a:lnTo>
                    <a:pt x="4380" y="1300"/>
                  </a:lnTo>
                  <a:lnTo>
                    <a:pt x="4332" y="1300"/>
                  </a:lnTo>
                  <a:lnTo>
                    <a:pt x="4285" y="1300"/>
                  </a:lnTo>
                  <a:lnTo>
                    <a:pt x="4237" y="1300"/>
                  </a:lnTo>
                  <a:lnTo>
                    <a:pt x="4190" y="1300"/>
                  </a:lnTo>
                  <a:lnTo>
                    <a:pt x="4142" y="1300"/>
                  </a:lnTo>
                  <a:lnTo>
                    <a:pt x="4094" y="1300"/>
                  </a:lnTo>
                  <a:lnTo>
                    <a:pt x="4046" y="1300"/>
                  </a:lnTo>
                  <a:lnTo>
                    <a:pt x="3998" y="1300"/>
                  </a:lnTo>
                  <a:lnTo>
                    <a:pt x="3951" y="1300"/>
                  </a:lnTo>
                  <a:lnTo>
                    <a:pt x="3903" y="1300"/>
                  </a:lnTo>
                  <a:lnTo>
                    <a:pt x="3856" y="1300"/>
                  </a:lnTo>
                  <a:lnTo>
                    <a:pt x="3808" y="1300"/>
                  </a:lnTo>
                  <a:lnTo>
                    <a:pt x="3761" y="1300"/>
                  </a:lnTo>
                  <a:lnTo>
                    <a:pt x="3713" y="1300"/>
                  </a:lnTo>
                  <a:lnTo>
                    <a:pt x="3665" y="1300"/>
                  </a:lnTo>
                  <a:lnTo>
                    <a:pt x="3618" y="1300"/>
                  </a:lnTo>
                  <a:lnTo>
                    <a:pt x="3570" y="1300"/>
                  </a:lnTo>
                  <a:lnTo>
                    <a:pt x="3523" y="1300"/>
                  </a:lnTo>
                  <a:lnTo>
                    <a:pt x="3475" y="1300"/>
                  </a:lnTo>
                  <a:lnTo>
                    <a:pt x="3428" y="1300"/>
                  </a:lnTo>
                  <a:lnTo>
                    <a:pt x="3380" y="1300"/>
                  </a:lnTo>
                  <a:lnTo>
                    <a:pt x="3333" y="1300"/>
                  </a:lnTo>
                  <a:lnTo>
                    <a:pt x="3285" y="1300"/>
                  </a:lnTo>
                  <a:lnTo>
                    <a:pt x="3237" y="1300"/>
                  </a:lnTo>
                  <a:lnTo>
                    <a:pt x="3190" y="1300"/>
                  </a:lnTo>
                  <a:lnTo>
                    <a:pt x="3142" y="1300"/>
                  </a:lnTo>
                  <a:lnTo>
                    <a:pt x="3095" y="1300"/>
                  </a:lnTo>
                  <a:lnTo>
                    <a:pt x="3047" y="1300"/>
                  </a:lnTo>
                  <a:lnTo>
                    <a:pt x="3000" y="1300"/>
                  </a:lnTo>
                  <a:lnTo>
                    <a:pt x="2952" y="1300"/>
                  </a:lnTo>
                  <a:lnTo>
                    <a:pt x="2903" y="1300"/>
                  </a:lnTo>
                  <a:lnTo>
                    <a:pt x="2856" y="1300"/>
                  </a:lnTo>
                  <a:lnTo>
                    <a:pt x="2808" y="1300"/>
                  </a:lnTo>
                  <a:lnTo>
                    <a:pt x="2761" y="1300"/>
                  </a:lnTo>
                  <a:lnTo>
                    <a:pt x="2713" y="1300"/>
                  </a:lnTo>
                  <a:lnTo>
                    <a:pt x="2666" y="1300"/>
                  </a:lnTo>
                  <a:lnTo>
                    <a:pt x="2618" y="1300"/>
                  </a:lnTo>
                  <a:lnTo>
                    <a:pt x="2571" y="1300"/>
                  </a:lnTo>
                  <a:lnTo>
                    <a:pt x="2523" y="1300"/>
                  </a:lnTo>
                  <a:lnTo>
                    <a:pt x="2475" y="1300"/>
                  </a:lnTo>
                  <a:lnTo>
                    <a:pt x="2428" y="1300"/>
                  </a:lnTo>
                  <a:lnTo>
                    <a:pt x="2380" y="1300"/>
                  </a:lnTo>
                  <a:lnTo>
                    <a:pt x="2333" y="1300"/>
                  </a:lnTo>
                  <a:lnTo>
                    <a:pt x="2285" y="1300"/>
                  </a:lnTo>
                  <a:lnTo>
                    <a:pt x="2238" y="1300"/>
                  </a:lnTo>
                  <a:lnTo>
                    <a:pt x="2190" y="1300"/>
                  </a:lnTo>
                  <a:lnTo>
                    <a:pt x="2142" y="1300"/>
                  </a:lnTo>
                  <a:lnTo>
                    <a:pt x="2095" y="1300"/>
                  </a:lnTo>
                  <a:lnTo>
                    <a:pt x="2047" y="1300"/>
                  </a:lnTo>
                  <a:lnTo>
                    <a:pt x="2000" y="1300"/>
                  </a:lnTo>
                  <a:lnTo>
                    <a:pt x="1952" y="1300"/>
                  </a:lnTo>
                  <a:lnTo>
                    <a:pt x="1905" y="1300"/>
                  </a:lnTo>
                  <a:lnTo>
                    <a:pt x="1857" y="1300"/>
                  </a:lnTo>
                  <a:lnTo>
                    <a:pt x="1810" y="1300"/>
                  </a:lnTo>
                  <a:lnTo>
                    <a:pt x="1761" y="1300"/>
                  </a:lnTo>
                  <a:lnTo>
                    <a:pt x="1713" y="1300"/>
                  </a:lnTo>
                  <a:lnTo>
                    <a:pt x="1666" y="1300"/>
                  </a:lnTo>
                  <a:lnTo>
                    <a:pt x="1618" y="1300"/>
                  </a:lnTo>
                  <a:lnTo>
                    <a:pt x="1571" y="1300"/>
                  </a:lnTo>
                  <a:lnTo>
                    <a:pt x="1523" y="1300"/>
                  </a:lnTo>
                  <a:lnTo>
                    <a:pt x="1476" y="1300"/>
                  </a:lnTo>
                  <a:lnTo>
                    <a:pt x="1428" y="1300"/>
                  </a:lnTo>
                  <a:lnTo>
                    <a:pt x="1380" y="1300"/>
                  </a:lnTo>
                  <a:lnTo>
                    <a:pt x="1333" y="1300"/>
                  </a:lnTo>
                  <a:lnTo>
                    <a:pt x="1285" y="1300"/>
                  </a:lnTo>
                  <a:lnTo>
                    <a:pt x="1238" y="1300"/>
                  </a:lnTo>
                  <a:lnTo>
                    <a:pt x="1190" y="1300"/>
                  </a:lnTo>
                  <a:lnTo>
                    <a:pt x="1143" y="1300"/>
                  </a:lnTo>
                  <a:lnTo>
                    <a:pt x="1095" y="1300"/>
                  </a:lnTo>
                  <a:lnTo>
                    <a:pt x="1048" y="1300"/>
                  </a:lnTo>
                  <a:lnTo>
                    <a:pt x="1000" y="1300"/>
                  </a:lnTo>
                  <a:lnTo>
                    <a:pt x="952" y="1300"/>
                  </a:lnTo>
                  <a:lnTo>
                    <a:pt x="905" y="1300"/>
                  </a:lnTo>
                  <a:lnTo>
                    <a:pt x="857" y="1300"/>
                  </a:lnTo>
                  <a:lnTo>
                    <a:pt x="810" y="1300"/>
                  </a:lnTo>
                  <a:lnTo>
                    <a:pt x="762" y="1300"/>
                  </a:lnTo>
                  <a:lnTo>
                    <a:pt x="715" y="1300"/>
                  </a:lnTo>
                  <a:lnTo>
                    <a:pt x="667" y="1300"/>
                  </a:lnTo>
                  <a:lnTo>
                    <a:pt x="620" y="1300"/>
                  </a:lnTo>
                  <a:lnTo>
                    <a:pt x="571" y="1300"/>
                  </a:lnTo>
                  <a:lnTo>
                    <a:pt x="523" y="1300"/>
                  </a:lnTo>
                  <a:lnTo>
                    <a:pt x="476" y="1300"/>
                  </a:lnTo>
                  <a:lnTo>
                    <a:pt x="428" y="1300"/>
                  </a:lnTo>
                  <a:lnTo>
                    <a:pt x="381" y="1300"/>
                  </a:lnTo>
                  <a:lnTo>
                    <a:pt x="333" y="1300"/>
                  </a:lnTo>
                  <a:lnTo>
                    <a:pt x="286" y="1300"/>
                  </a:lnTo>
                  <a:lnTo>
                    <a:pt x="238" y="1300"/>
                  </a:lnTo>
                  <a:lnTo>
                    <a:pt x="190" y="1300"/>
                  </a:lnTo>
                  <a:lnTo>
                    <a:pt x="143" y="1300"/>
                  </a:lnTo>
                  <a:lnTo>
                    <a:pt x="95" y="1300"/>
                  </a:lnTo>
                  <a:lnTo>
                    <a:pt x="48" y="1300"/>
                  </a:lnTo>
                  <a:lnTo>
                    <a:pt x="0" y="1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71600" y="917640"/>
              <a:ext cx="7481880" cy="4435560"/>
            </a:xfrm>
            <a:custGeom>
              <a:avLst/>
              <a:gdLst/>
              <a:ahLst/>
              <a:rect l="l" t="t" r="r" b="b"/>
              <a:pathLst>
                <a:path w="4713" h="2794">
                  <a:moveTo>
                    <a:pt x="0" y="2794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257"/>
                  </a:lnTo>
                  <a:lnTo>
                    <a:pt x="286" y="345"/>
                  </a:lnTo>
                  <a:lnTo>
                    <a:pt x="333" y="547"/>
                  </a:lnTo>
                  <a:lnTo>
                    <a:pt x="381" y="613"/>
                  </a:lnTo>
                  <a:lnTo>
                    <a:pt x="428" y="881"/>
                  </a:lnTo>
                  <a:lnTo>
                    <a:pt x="476" y="972"/>
                  </a:lnTo>
                  <a:lnTo>
                    <a:pt x="523" y="1544"/>
                  </a:lnTo>
                  <a:lnTo>
                    <a:pt x="571" y="1726"/>
                  </a:lnTo>
                  <a:lnTo>
                    <a:pt x="620" y="1726"/>
                  </a:lnTo>
                  <a:lnTo>
                    <a:pt x="667" y="1656"/>
                  </a:lnTo>
                  <a:lnTo>
                    <a:pt x="715" y="1728"/>
                  </a:lnTo>
                  <a:lnTo>
                    <a:pt x="762" y="1728"/>
                  </a:lnTo>
                  <a:lnTo>
                    <a:pt x="810" y="1886"/>
                  </a:lnTo>
                  <a:lnTo>
                    <a:pt x="857" y="1986"/>
                  </a:lnTo>
                  <a:lnTo>
                    <a:pt x="905" y="1986"/>
                  </a:lnTo>
                  <a:lnTo>
                    <a:pt x="952" y="2057"/>
                  </a:lnTo>
                  <a:lnTo>
                    <a:pt x="1000" y="2139"/>
                  </a:lnTo>
                  <a:lnTo>
                    <a:pt x="1048" y="2139"/>
                  </a:lnTo>
                  <a:lnTo>
                    <a:pt x="1095" y="2209"/>
                  </a:lnTo>
                  <a:lnTo>
                    <a:pt x="1143" y="2272"/>
                  </a:lnTo>
                  <a:lnTo>
                    <a:pt x="1190" y="2272"/>
                  </a:lnTo>
                  <a:lnTo>
                    <a:pt x="1238" y="2339"/>
                  </a:lnTo>
                  <a:lnTo>
                    <a:pt x="1285" y="2389"/>
                  </a:lnTo>
                  <a:lnTo>
                    <a:pt x="1333" y="2389"/>
                  </a:lnTo>
                  <a:lnTo>
                    <a:pt x="1380" y="2435"/>
                  </a:lnTo>
                  <a:lnTo>
                    <a:pt x="1428" y="2474"/>
                  </a:lnTo>
                  <a:lnTo>
                    <a:pt x="1476" y="2474"/>
                  </a:lnTo>
                  <a:lnTo>
                    <a:pt x="1523" y="2513"/>
                  </a:lnTo>
                  <a:lnTo>
                    <a:pt x="1571" y="2542"/>
                  </a:lnTo>
                  <a:lnTo>
                    <a:pt x="1618" y="2542"/>
                  </a:lnTo>
                  <a:lnTo>
                    <a:pt x="1666" y="2569"/>
                  </a:lnTo>
                  <a:lnTo>
                    <a:pt x="1713" y="2591"/>
                  </a:lnTo>
                  <a:lnTo>
                    <a:pt x="1761" y="2591"/>
                  </a:lnTo>
                  <a:lnTo>
                    <a:pt x="1810" y="2610"/>
                  </a:lnTo>
                  <a:lnTo>
                    <a:pt x="1857" y="2627"/>
                  </a:lnTo>
                  <a:lnTo>
                    <a:pt x="1905" y="2627"/>
                  </a:lnTo>
                  <a:lnTo>
                    <a:pt x="1952" y="2656"/>
                  </a:lnTo>
                  <a:lnTo>
                    <a:pt x="2000" y="2670"/>
                  </a:lnTo>
                  <a:lnTo>
                    <a:pt x="2047" y="2670"/>
                  </a:lnTo>
                  <a:lnTo>
                    <a:pt x="2095" y="2682"/>
                  </a:lnTo>
                  <a:lnTo>
                    <a:pt x="2142" y="2690"/>
                  </a:lnTo>
                  <a:lnTo>
                    <a:pt x="2190" y="2690"/>
                  </a:lnTo>
                  <a:lnTo>
                    <a:pt x="2238" y="2707"/>
                  </a:lnTo>
                  <a:lnTo>
                    <a:pt x="2285" y="2715"/>
                  </a:lnTo>
                  <a:lnTo>
                    <a:pt x="2333" y="2715"/>
                  </a:lnTo>
                  <a:lnTo>
                    <a:pt x="2380" y="2719"/>
                  </a:lnTo>
                  <a:lnTo>
                    <a:pt x="2428" y="2725"/>
                  </a:lnTo>
                  <a:lnTo>
                    <a:pt x="2475" y="2725"/>
                  </a:lnTo>
                  <a:lnTo>
                    <a:pt x="2523" y="2738"/>
                  </a:lnTo>
                  <a:lnTo>
                    <a:pt x="2571" y="2743"/>
                  </a:lnTo>
                  <a:lnTo>
                    <a:pt x="2618" y="2743"/>
                  </a:lnTo>
                  <a:lnTo>
                    <a:pt x="2666" y="2746"/>
                  </a:lnTo>
                  <a:lnTo>
                    <a:pt x="2713" y="2748"/>
                  </a:lnTo>
                  <a:lnTo>
                    <a:pt x="2761" y="2748"/>
                  </a:lnTo>
                  <a:lnTo>
                    <a:pt x="2808" y="2749"/>
                  </a:lnTo>
                  <a:lnTo>
                    <a:pt x="2856" y="2750"/>
                  </a:lnTo>
                  <a:lnTo>
                    <a:pt x="2903" y="2750"/>
                  </a:lnTo>
                  <a:lnTo>
                    <a:pt x="2952" y="2753"/>
                  </a:lnTo>
                  <a:lnTo>
                    <a:pt x="3000" y="2753"/>
                  </a:lnTo>
                  <a:lnTo>
                    <a:pt x="3047" y="2753"/>
                  </a:lnTo>
                  <a:lnTo>
                    <a:pt x="3095" y="2750"/>
                  </a:lnTo>
                  <a:lnTo>
                    <a:pt x="3142" y="2750"/>
                  </a:lnTo>
                  <a:lnTo>
                    <a:pt x="3190" y="2750"/>
                  </a:lnTo>
                  <a:lnTo>
                    <a:pt x="3237" y="2749"/>
                  </a:lnTo>
                  <a:lnTo>
                    <a:pt x="3285" y="2749"/>
                  </a:lnTo>
                  <a:lnTo>
                    <a:pt x="3333" y="2749"/>
                  </a:lnTo>
                  <a:lnTo>
                    <a:pt x="3380" y="2754"/>
                  </a:lnTo>
                  <a:lnTo>
                    <a:pt x="3428" y="2754"/>
                  </a:lnTo>
                  <a:lnTo>
                    <a:pt x="3475" y="2754"/>
                  </a:lnTo>
                  <a:lnTo>
                    <a:pt x="3523" y="2752"/>
                  </a:lnTo>
                  <a:lnTo>
                    <a:pt x="3570" y="2752"/>
                  </a:lnTo>
                  <a:lnTo>
                    <a:pt x="3618" y="2752"/>
                  </a:lnTo>
                  <a:lnTo>
                    <a:pt x="3665" y="2750"/>
                  </a:lnTo>
                  <a:lnTo>
                    <a:pt x="3713" y="2750"/>
                  </a:lnTo>
                  <a:lnTo>
                    <a:pt x="3761" y="2750"/>
                  </a:lnTo>
                  <a:lnTo>
                    <a:pt x="3808" y="2755"/>
                  </a:lnTo>
                  <a:lnTo>
                    <a:pt x="3856" y="2755"/>
                  </a:lnTo>
                  <a:lnTo>
                    <a:pt x="3903" y="2755"/>
                  </a:lnTo>
                  <a:lnTo>
                    <a:pt x="3951" y="2758"/>
                  </a:lnTo>
                  <a:lnTo>
                    <a:pt x="3998" y="2758"/>
                  </a:lnTo>
                  <a:lnTo>
                    <a:pt x="4046" y="2758"/>
                  </a:lnTo>
                  <a:lnTo>
                    <a:pt x="4094" y="2755"/>
                  </a:lnTo>
                  <a:lnTo>
                    <a:pt x="4142" y="2755"/>
                  </a:lnTo>
                  <a:lnTo>
                    <a:pt x="4190" y="2755"/>
                  </a:lnTo>
                  <a:lnTo>
                    <a:pt x="4237" y="2751"/>
                  </a:lnTo>
                  <a:lnTo>
                    <a:pt x="4285" y="2751"/>
                  </a:lnTo>
                  <a:lnTo>
                    <a:pt x="4332" y="2751"/>
                  </a:lnTo>
                  <a:lnTo>
                    <a:pt x="4380" y="2757"/>
                  </a:lnTo>
                  <a:lnTo>
                    <a:pt x="4427" y="2757"/>
                  </a:lnTo>
                  <a:lnTo>
                    <a:pt x="4475" y="2757"/>
                  </a:lnTo>
                  <a:lnTo>
                    <a:pt x="4523" y="2752"/>
                  </a:lnTo>
                  <a:lnTo>
                    <a:pt x="4570" y="2753"/>
                  </a:lnTo>
                  <a:lnTo>
                    <a:pt x="4618" y="2753"/>
                  </a:lnTo>
                  <a:lnTo>
                    <a:pt x="4665" y="2754"/>
                  </a:lnTo>
                  <a:lnTo>
                    <a:pt x="4713" y="2754"/>
                  </a:lnTo>
                  <a:lnTo>
                    <a:pt x="4713" y="2780"/>
                  </a:lnTo>
                  <a:lnTo>
                    <a:pt x="4665" y="2780"/>
                  </a:lnTo>
                  <a:lnTo>
                    <a:pt x="4618" y="2777"/>
                  </a:lnTo>
                  <a:lnTo>
                    <a:pt x="4570" y="2777"/>
                  </a:lnTo>
                  <a:lnTo>
                    <a:pt x="4523" y="2777"/>
                  </a:lnTo>
                  <a:lnTo>
                    <a:pt x="4475" y="2783"/>
                  </a:lnTo>
                  <a:lnTo>
                    <a:pt x="4427" y="2783"/>
                  </a:lnTo>
                  <a:lnTo>
                    <a:pt x="4380" y="2783"/>
                  </a:lnTo>
                  <a:lnTo>
                    <a:pt x="4332" y="2776"/>
                  </a:lnTo>
                  <a:lnTo>
                    <a:pt x="4285" y="2776"/>
                  </a:lnTo>
                  <a:lnTo>
                    <a:pt x="4237" y="2776"/>
                  </a:lnTo>
                  <a:lnTo>
                    <a:pt x="4190" y="2781"/>
                  </a:lnTo>
                  <a:lnTo>
                    <a:pt x="4142" y="2781"/>
                  </a:lnTo>
                  <a:lnTo>
                    <a:pt x="4094" y="2781"/>
                  </a:lnTo>
                  <a:lnTo>
                    <a:pt x="4046" y="2784"/>
                  </a:lnTo>
                  <a:lnTo>
                    <a:pt x="3998" y="2784"/>
                  </a:lnTo>
                  <a:lnTo>
                    <a:pt x="3951" y="2784"/>
                  </a:lnTo>
                  <a:lnTo>
                    <a:pt x="3903" y="2782"/>
                  </a:lnTo>
                  <a:lnTo>
                    <a:pt x="3856" y="2782"/>
                  </a:lnTo>
                  <a:lnTo>
                    <a:pt x="3808" y="2781"/>
                  </a:lnTo>
                  <a:lnTo>
                    <a:pt x="3761" y="2776"/>
                  </a:lnTo>
                  <a:lnTo>
                    <a:pt x="3713" y="2776"/>
                  </a:lnTo>
                  <a:lnTo>
                    <a:pt x="3665" y="2776"/>
                  </a:lnTo>
                  <a:lnTo>
                    <a:pt x="3618" y="2780"/>
                  </a:lnTo>
                  <a:lnTo>
                    <a:pt x="3570" y="2780"/>
                  </a:lnTo>
                  <a:lnTo>
                    <a:pt x="3523" y="2780"/>
                  </a:lnTo>
                  <a:lnTo>
                    <a:pt x="3475" y="2782"/>
                  </a:lnTo>
                  <a:lnTo>
                    <a:pt x="3428" y="2782"/>
                  </a:lnTo>
                  <a:lnTo>
                    <a:pt x="3380" y="2782"/>
                  </a:lnTo>
                  <a:lnTo>
                    <a:pt x="3333" y="2776"/>
                  </a:lnTo>
                  <a:lnTo>
                    <a:pt x="3285" y="2776"/>
                  </a:lnTo>
                  <a:lnTo>
                    <a:pt x="3237" y="2776"/>
                  </a:lnTo>
                  <a:lnTo>
                    <a:pt x="3190" y="2777"/>
                  </a:lnTo>
                  <a:lnTo>
                    <a:pt x="3142" y="2777"/>
                  </a:lnTo>
                  <a:lnTo>
                    <a:pt x="3095" y="2777"/>
                  </a:lnTo>
                  <a:lnTo>
                    <a:pt x="3047" y="2781"/>
                  </a:lnTo>
                  <a:lnTo>
                    <a:pt x="3000" y="2781"/>
                  </a:lnTo>
                  <a:lnTo>
                    <a:pt x="2952" y="2781"/>
                  </a:lnTo>
                  <a:lnTo>
                    <a:pt x="2903" y="2777"/>
                  </a:lnTo>
                  <a:lnTo>
                    <a:pt x="2856" y="2777"/>
                  </a:lnTo>
                  <a:lnTo>
                    <a:pt x="2808" y="2776"/>
                  </a:lnTo>
                  <a:lnTo>
                    <a:pt x="2761" y="2777"/>
                  </a:lnTo>
                  <a:lnTo>
                    <a:pt x="2713" y="2777"/>
                  </a:lnTo>
                  <a:lnTo>
                    <a:pt x="2666" y="2775"/>
                  </a:lnTo>
                  <a:lnTo>
                    <a:pt x="2618" y="2774"/>
                  </a:lnTo>
                  <a:lnTo>
                    <a:pt x="2571" y="2774"/>
                  </a:lnTo>
                  <a:lnTo>
                    <a:pt x="2523" y="2769"/>
                  </a:lnTo>
                  <a:lnTo>
                    <a:pt x="2475" y="2763"/>
                  </a:lnTo>
                  <a:lnTo>
                    <a:pt x="2428" y="2763"/>
                  </a:lnTo>
                  <a:lnTo>
                    <a:pt x="2380" y="2757"/>
                  </a:lnTo>
                  <a:lnTo>
                    <a:pt x="2333" y="2763"/>
                  </a:lnTo>
                  <a:lnTo>
                    <a:pt x="2285" y="2763"/>
                  </a:lnTo>
                  <a:lnTo>
                    <a:pt x="2238" y="2756"/>
                  </a:lnTo>
                  <a:lnTo>
                    <a:pt x="2190" y="2749"/>
                  </a:lnTo>
                  <a:lnTo>
                    <a:pt x="2142" y="2749"/>
                  </a:lnTo>
                  <a:lnTo>
                    <a:pt x="2095" y="2740"/>
                  </a:lnTo>
                  <a:lnTo>
                    <a:pt x="2047" y="2745"/>
                  </a:lnTo>
                  <a:lnTo>
                    <a:pt x="2000" y="2745"/>
                  </a:lnTo>
                  <a:lnTo>
                    <a:pt x="1952" y="2731"/>
                  </a:lnTo>
                  <a:lnTo>
                    <a:pt x="1905" y="2720"/>
                  </a:lnTo>
                  <a:lnTo>
                    <a:pt x="1857" y="2720"/>
                  </a:lnTo>
                  <a:lnTo>
                    <a:pt x="1810" y="2704"/>
                  </a:lnTo>
                  <a:lnTo>
                    <a:pt x="1761" y="2708"/>
                  </a:lnTo>
                  <a:lnTo>
                    <a:pt x="1713" y="2708"/>
                  </a:lnTo>
                  <a:lnTo>
                    <a:pt x="1666" y="2685"/>
                  </a:lnTo>
                  <a:lnTo>
                    <a:pt x="1618" y="2682"/>
                  </a:lnTo>
                  <a:lnTo>
                    <a:pt x="1571" y="2682"/>
                  </a:lnTo>
                  <a:lnTo>
                    <a:pt x="1523" y="2655"/>
                  </a:lnTo>
                  <a:lnTo>
                    <a:pt x="1476" y="2650"/>
                  </a:lnTo>
                  <a:lnTo>
                    <a:pt x="1428" y="2650"/>
                  </a:lnTo>
                  <a:lnTo>
                    <a:pt x="1380" y="2610"/>
                  </a:lnTo>
                  <a:lnTo>
                    <a:pt x="1333" y="2609"/>
                  </a:lnTo>
                  <a:lnTo>
                    <a:pt x="1285" y="2609"/>
                  </a:lnTo>
                  <a:lnTo>
                    <a:pt x="1238" y="2560"/>
                  </a:lnTo>
                  <a:lnTo>
                    <a:pt x="1190" y="2548"/>
                  </a:lnTo>
                  <a:lnTo>
                    <a:pt x="1143" y="2548"/>
                  </a:lnTo>
                  <a:lnTo>
                    <a:pt x="1095" y="2483"/>
                  </a:lnTo>
                  <a:lnTo>
                    <a:pt x="1048" y="2488"/>
                  </a:lnTo>
                  <a:lnTo>
                    <a:pt x="1000" y="2488"/>
                  </a:lnTo>
                  <a:lnTo>
                    <a:pt x="952" y="2406"/>
                  </a:lnTo>
                  <a:lnTo>
                    <a:pt x="905" y="2428"/>
                  </a:lnTo>
                  <a:lnTo>
                    <a:pt x="857" y="2428"/>
                  </a:lnTo>
                  <a:lnTo>
                    <a:pt x="810" y="2328"/>
                  </a:lnTo>
                  <a:lnTo>
                    <a:pt x="762" y="2280"/>
                  </a:lnTo>
                  <a:lnTo>
                    <a:pt x="715" y="2280"/>
                  </a:lnTo>
                  <a:lnTo>
                    <a:pt x="667" y="2207"/>
                  </a:lnTo>
                  <a:lnTo>
                    <a:pt x="620" y="2435"/>
                  </a:lnTo>
                  <a:lnTo>
                    <a:pt x="571" y="2435"/>
                  </a:lnTo>
                  <a:lnTo>
                    <a:pt x="523" y="2253"/>
                  </a:lnTo>
                  <a:lnTo>
                    <a:pt x="476" y="1852"/>
                  </a:lnTo>
                  <a:lnTo>
                    <a:pt x="428" y="1761"/>
                  </a:lnTo>
                  <a:lnTo>
                    <a:pt x="381" y="1494"/>
                  </a:lnTo>
                  <a:lnTo>
                    <a:pt x="333" y="2124"/>
                  </a:lnTo>
                  <a:lnTo>
                    <a:pt x="286" y="1999"/>
                  </a:lnTo>
                  <a:lnTo>
                    <a:pt x="238" y="1910"/>
                  </a:lnTo>
                  <a:lnTo>
                    <a:pt x="190" y="2221"/>
                  </a:lnTo>
                  <a:lnTo>
                    <a:pt x="143" y="2449"/>
                  </a:lnTo>
                  <a:lnTo>
                    <a:pt x="95" y="2449"/>
                  </a:lnTo>
                  <a:lnTo>
                    <a:pt x="48" y="2794"/>
                  </a:lnTo>
                  <a:lnTo>
                    <a:pt x="0" y="27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71600" y="917640"/>
              <a:ext cx="7481880" cy="4378320"/>
            </a:xfrm>
            <a:custGeom>
              <a:avLst/>
              <a:gdLst/>
              <a:ahLst/>
              <a:rect l="l" t="t" r="r" b="b"/>
              <a:pathLst>
                <a:path w="4713" h="2758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112"/>
                  </a:lnTo>
                  <a:lnTo>
                    <a:pt x="620" y="148"/>
                  </a:lnTo>
                  <a:lnTo>
                    <a:pt x="667" y="220"/>
                  </a:lnTo>
                  <a:lnTo>
                    <a:pt x="715" y="416"/>
                  </a:lnTo>
                  <a:lnTo>
                    <a:pt x="762" y="581"/>
                  </a:lnTo>
                  <a:lnTo>
                    <a:pt x="810" y="593"/>
                  </a:lnTo>
                  <a:lnTo>
                    <a:pt x="857" y="1072"/>
                  </a:lnTo>
                  <a:lnTo>
                    <a:pt x="905" y="1187"/>
                  </a:lnTo>
                  <a:lnTo>
                    <a:pt x="952" y="1160"/>
                  </a:lnTo>
                  <a:lnTo>
                    <a:pt x="1000" y="1334"/>
                  </a:lnTo>
                  <a:lnTo>
                    <a:pt x="1048" y="1377"/>
                  </a:lnTo>
                  <a:lnTo>
                    <a:pt x="1095" y="1366"/>
                  </a:lnTo>
                  <a:lnTo>
                    <a:pt x="1143" y="1622"/>
                  </a:lnTo>
                  <a:lnTo>
                    <a:pt x="1190" y="1681"/>
                  </a:lnTo>
                  <a:lnTo>
                    <a:pt x="1238" y="1669"/>
                  </a:lnTo>
                  <a:lnTo>
                    <a:pt x="1285" y="1848"/>
                  </a:lnTo>
                  <a:lnTo>
                    <a:pt x="1333" y="1899"/>
                  </a:lnTo>
                  <a:lnTo>
                    <a:pt x="1380" y="1889"/>
                  </a:lnTo>
                  <a:lnTo>
                    <a:pt x="1428" y="2045"/>
                  </a:lnTo>
                  <a:lnTo>
                    <a:pt x="1476" y="2088"/>
                  </a:lnTo>
                  <a:lnTo>
                    <a:pt x="1523" y="2078"/>
                  </a:lnTo>
                  <a:lnTo>
                    <a:pt x="1571" y="2211"/>
                  </a:lnTo>
                  <a:lnTo>
                    <a:pt x="1618" y="2245"/>
                  </a:lnTo>
                  <a:lnTo>
                    <a:pt x="1666" y="2238"/>
                  </a:lnTo>
                  <a:lnTo>
                    <a:pt x="1713" y="2337"/>
                  </a:lnTo>
                  <a:lnTo>
                    <a:pt x="1761" y="2363"/>
                  </a:lnTo>
                  <a:lnTo>
                    <a:pt x="1810" y="2355"/>
                  </a:lnTo>
                  <a:lnTo>
                    <a:pt x="1857" y="2432"/>
                  </a:lnTo>
                  <a:lnTo>
                    <a:pt x="1905" y="2450"/>
                  </a:lnTo>
                  <a:lnTo>
                    <a:pt x="1952" y="2448"/>
                  </a:lnTo>
                  <a:lnTo>
                    <a:pt x="2000" y="2506"/>
                  </a:lnTo>
                  <a:lnTo>
                    <a:pt x="2047" y="2523"/>
                  </a:lnTo>
                  <a:lnTo>
                    <a:pt x="2095" y="2519"/>
                  </a:lnTo>
                  <a:lnTo>
                    <a:pt x="2142" y="2568"/>
                  </a:lnTo>
                  <a:lnTo>
                    <a:pt x="2190" y="2580"/>
                  </a:lnTo>
                  <a:lnTo>
                    <a:pt x="2238" y="2579"/>
                  </a:lnTo>
                  <a:lnTo>
                    <a:pt x="2285" y="2621"/>
                  </a:lnTo>
                  <a:lnTo>
                    <a:pt x="2333" y="2631"/>
                  </a:lnTo>
                  <a:lnTo>
                    <a:pt x="2380" y="2630"/>
                  </a:lnTo>
                  <a:lnTo>
                    <a:pt x="2428" y="2654"/>
                  </a:lnTo>
                  <a:lnTo>
                    <a:pt x="2475" y="2660"/>
                  </a:lnTo>
                  <a:lnTo>
                    <a:pt x="2523" y="2658"/>
                  </a:lnTo>
                  <a:lnTo>
                    <a:pt x="2571" y="2682"/>
                  </a:lnTo>
                  <a:lnTo>
                    <a:pt x="2618" y="2687"/>
                  </a:lnTo>
                  <a:lnTo>
                    <a:pt x="2666" y="2677"/>
                  </a:lnTo>
                  <a:lnTo>
                    <a:pt x="2713" y="2696"/>
                  </a:lnTo>
                  <a:lnTo>
                    <a:pt x="2761" y="2700"/>
                  </a:lnTo>
                  <a:lnTo>
                    <a:pt x="2808" y="2687"/>
                  </a:lnTo>
                  <a:lnTo>
                    <a:pt x="2856" y="2711"/>
                  </a:lnTo>
                  <a:lnTo>
                    <a:pt x="2903" y="2716"/>
                  </a:lnTo>
                  <a:lnTo>
                    <a:pt x="2952" y="2704"/>
                  </a:lnTo>
                  <a:lnTo>
                    <a:pt x="3000" y="2720"/>
                  </a:lnTo>
                  <a:lnTo>
                    <a:pt x="3047" y="2722"/>
                  </a:lnTo>
                  <a:lnTo>
                    <a:pt x="3095" y="2707"/>
                  </a:lnTo>
                  <a:lnTo>
                    <a:pt x="3142" y="2720"/>
                  </a:lnTo>
                  <a:lnTo>
                    <a:pt x="3190" y="2722"/>
                  </a:lnTo>
                  <a:lnTo>
                    <a:pt x="3237" y="2705"/>
                  </a:lnTo>
                  <a:lnTo>
                    <a:pt x="3285" y="2720"/>
                  </a:lnTo>
                  <a:lnTo>
                    <a:pt x="3333" y="2720"/>
                  </a:lnTo>
                  <a:lnTo>
                    <a:pt x="3380" y="2708"/>
                  </a:lnTo>
                  <a:lnTo>
                    <a:pt x="3428" y="2721"/>
                  </a:lnTo>
                  <a:lnTo>
                    <a:pt x="3475" y="2721"/>
                  </a:lnTo>
                  <a:lnTo>
                    <a:pt x="3523" y="2707"/>
                  </a:lnTo>
                  <a:lnTo>
                    <a:pt x="3570" y="2723"/>
                  </a:lnTo>
                  <a:lnTo>
                    <a:pt x="3618" y="2723"/>
                  </a:lnTo>
                  <a:lnTo>
                    <a:pt x="3665" y="2707"/>
                  </a:lnTo>
                  <a:lnTo>
                    <a:pt x="3713" y="2723"/>
                  </a:lnTo>
                  <a:lnTo>
                    <a:pt x="3761" y="2723"/>
                  </a:lnTo>
                  <a:lnTo>
                    <a:pt x="3808" y="2712"/>
                  </a:lnTo>
                  <a:lnTo>
                    <a:pt x="3856" y="2724"/>
                  </a:lnTo>
                  <a:lnTo>
                    <a:pt x="3903" y="2724"/>
                  </a:lnTo>
                  <a:lnTo>
                    <a:pt x="3951" y="2714"/>
                  </a:lnTo>
                  <a:lnTo>
                    <a:pt x="3998" y="2729"/>
                  </a:lnTo>
                  <a:lnTo>
                    <a:pt x="4046" y="2729"/>
                  </a:lnTo>
                  <a:lnTo>
                    <a:pt x="4094" y="2715"/>
                  </a:lnTo>
                  <a:lnTo>
                    <a:pt x="4142" y="2732"/>
                  </a:lnTo>
                  <a:lnTo>
                    <a:pt x="4190" y="2732"/>
                  </a:lnTo>
                  <a:lnTo>
                    <a:pt x="4237" y="2715"/>
                  </a:lnTo>
                  <a:lnTo>
                    <a:pt x="4285" y="2727"/>
                  </a:lnTo>
                  <a:lnTo>
                    <a:pt x="4332" y="2727"/>
                  </a:lnTo>
                  <a:lnTo>
                    <a:pt x="4380" y="2717"/>
                  </a:lnTo>
                  <a:lnTo>
                    <a:pt x="4427" y="2727"/>
                  </a:lnTo>
                  <a:lnTo>
                    <a:pt x="4475" y="2727"/>
                  </a:lnTo>
                  <a:lnTo>
                    <a:pt x="4523" y="2711"/>
                  </a:lnTo>
                  <a:lnTo>
                    <a:pt x="4570" y="2725"/>
                  </a:lnTo>
                  <a:lnTo>
                    <a:pt x="4618" y="2725"/>
                  </a:lnTo>
                  <a:lnTo>
                    <a:pt x="4665" y="2710"/>
                  </a:lnTo>
                  <a:lnTo>
                    <a:pt x="4713" y="2727"/>
                  </a:lnTo>
                  <a:lnTo>
                    <a:pt x="4713" y="2754"/>
                  </a:lnTo>
                  <a:lnTo>
                    <a:pt x="4665" y="2754"/>
                  </a:lnTo>
                  <a:lnTo>
                    <a:pt x="4618" y="2753"/>
                  </a:lnTo>
                  <a:lnTo>
                    <a:pt x="4570" y="2753"/>
                  </a:lnTo>
                  <a:lnTo>
                    <a:pt x="4523" y="2752"/>
                  </a:lnTo>
                  <a:lnTo>
                    <a:pt x="4475" y="2757"/>
                  </a:lnTo>
                  <a:lnTo>
                    <a:pt x="4427" y="2757"/>
                  </a:lnTo>
                  <a:lnTo>
                    <a:pt x="4380" y="2757"/>
                  </a:lnTo>
                  <a:lnTo>
                    <a:pt x="4332" y="2751"/>
                  </a:lnTo>
                  <a:lnTo>
                    <a:pt x="4285" y="2751"/>
                  </a:lnTo>
                  <a:lnTo>
                    <a:pt x="4237" y="2751"/>
                  </a:lnTo>
                  <a:lnTo>
                    <a:pt x="4190" y="2755"/>
                  </a:lnTo>
                  <a:lnTo>
                    <a:pt x="4142" y="2755"/>
                  </a:lnTo>
                  <a:lnTo>
                    <a:pt x="4094" y="2755"/>
                  </a:lnTo>
                  <a:lnTo>
                    <a:pt x="4046" y="2758"/>
                  </a:lnTo>
                  <a:lnTo>
                    <a:pt x="3998" y="2758"/>
                  </a:lnTo>
                  <a:lnTo>
                    <a:pt x="3951" y="2758"/>
                  </a:lnTo>
                  <a:lnTo>
                    <a:pt x="3903" y="2755"/>
                  </a:lnTo>
                  <a:lnTo>
                    <a:pt x="3856" y="2755"/>
                  </a:lnTo>
                  <a:lnTo>
                    <a:pt x="3808" y="2755"/>
                  </a:lnTo>
                  <a:lnTo>
                    <a:pt x="3761" y="2750"/>
                  </a:lnTo>
                  <a:lnTo>
                    <a:pt x="3713" y="2750"/>
                  </a:lnTo>
                  <a:lnTo>
                    <a:pt x="3665" y="2750"/>
                  </a:lnTo>
                  <a:lnTo>
                    <a:pt x="3618" y="2752"/>
                  </a:lnTo>
                  <a:lnTo>
                    <a:pt x="3570" y="2752"/>
                  </a:lnTo>
                  <a:lnTo>
                    <a:pt x="3523" y="2752"/>
                  </a:lnTo>
                  <a:lnTo>
                    <a:pt x="3475" y="2754"/>
                  </a:lnTo>
                  <a:lnTo>
                    <a:pt x="3428" y="2754"/>
                  </a:lnTo>
                  <a:lnTo>
                    <a:pt x="3380" y="2754"/>
                  </a:lnTo>
                  <a:lnTo>
                    <a:pt x="3333" y="2749"/>
                  </a:lnTo>
                  <a:lnTo>
                    <a:pt x="3285" y="2749"/>
                  </a:lnTo>
                  <a:lnTo>
                    <a:pt x="3237" y="2749"/>
                  </a:lnTo>
                  <a:lnTo>
                    <a:pt x="3190" y="2750"/>
                  </a:lnTo>
                  <a:lnTo>
                    <a:pt x="3142" y="2750"/>
                  </a:lnTo>
                  <a:lnTo>
                    <a:pt x="3095" y="2750"/>
                  </a:lnTo>
                  <a:lnTo>
                    <a:pt x="3047" y="2753"/>
                  </a:lnTo>
                  <a:lnTo>
                    <a:pt x="3000" y="2753"/>
                  </a:lnTo>
                  <a:lnTo>
                    <a:pt x="2952" y="2753"/>
                  </a:lnTo>
                  <a:lnTo>
                    <a:pt x="2903" y="2750"/>
                  </a:lnTo>
                  <a:lnTo>
                    <a:pt x="2856" y="2750"/>
                  </a:lnTo>
                  <a:lnTo>
                    <a:pt x="2808" y="2749"/>
                  </a:lnTo>
                  <a:lnTo>
                    <a:pt x="2761" y="2748"/>
                  </a:lnTo>
                  <a:lnTo>
                    <a:pt x="2713" y="2748"/>
                  </a:lnTo>
                  <a:lnTo>
                    <a:pt x="2666" y="2746"/>
                  </a:lnTo>
                  <a:lnTo>
                    <a:pt x="2618" y="2743"/>
                  </a:lnTo>
                  <a:lnTo>
                    <a:pt x="2571" y="2743"/>
                  </a:lnTo>
                  <a:lnTo>
                    <a:pt x="2523" y="2738"/>
                  </a:lnTo>
                  <a:lnTo>
                    <a:pt x="2475" y="2725"/>
                  </a:lnTo>
                  <a:lnTo>
                    <a:pt x="2428" y="2725"/>
                  </a:lnTo>
                  <a:lnTo>
                    <a:pt x="2380" y="2719"/>
                  </a:lnTo>
                  <a:lnTo>
                    <a:pt x="2333" y="2715"/>
                  </a:lnTo>
                  <a:lnTo>
                    <a:pt x="2285" y="2715"/>
                  </a:lnTo>
                  <a:lnTo>
                    <a:pt x="2238" y="2707"/>
                  </a:lnTo>
                  <a:lnTo>
                    <a:pt x="2190" y="2690"/>
                  </a:lnTo>
                  <a:lnTo>
                    <a:pt x="2142" y="2690"/>
                  </a:lnTo>
                  <a:lnTo>
                    <a:pt x="2095" y="2682"/>
                  </a:lnTo>
                  <a:lnTo>
                    <a:pt x="2047" y="2670"/>
                  </a:lnTo>
                  <a:lnTo>
                    <a:pt x="2000" y="2670"/>
                  </a:lnTo>
                  <a:lnTo>
                    <a:pt x="1952" y="2656"/>
                  </a:lnTo>
                  <a:lnTo>
                    <a:pt x="1905" y="2627"/>
                  </a:lnTo>
                  <a:lnTo>
                    <a:pt x="1857" y="2627"/>
                  </a:lnTo>
                  <a:lnTo>
                    <a:pt x="1810" y="2610"/>
                  </a:lnTo>
                  <a:lnTo>
                    <a:pt x="1761" y="2591"/>
                  </a:lnTo>
                  <a:lnTo>
                    <a:pt x="1713" y="2591"/>
                  </a:lnTo>
                  <a:lnTo>
                    <a:pt x="1666" y="2569"/>
                  </a:lnTo>
                  <a:lnTo>
                    <a:pt x="1618" y="2542"/>
                  </a:lnTo>
                  <a:lnTo>
                    <a:pt x="1571" y="2542"/>
                  </a:lnTo>
                  <a:lnTo>
                    <a:pt x="1523" y="2513"/>
                  </a:lnTo>
                  <a:lnTo>
                    <a:pt x="1476" y="2474"/>
                  </a:lnTo>
                  <a:lnTo>
                    <a:pt x="1428" y="2474"/>
                  </a:lnTo>
                  <a:lnTo>
                    <a:pt x="1380" y="2435"/>
                  </a:lnTo>
                  <a:lnTo>
                    <a:pt x="1333" y="2389"/>
                  </a:lnTo>
                  <a:lnTo>
                    <a:pt x="1285" y="2389"/>
                  </a:lnTo>
                  <a:lnTo>
                    <a:pt x="1238" y="2339"/>
                  </a:lnTo>
                  <a:lnTo>
                    <a:pt x="1190" y="2272"/>
                  </a:lnTo>
                  <a:lnTo>
                    <a:pt x="1143" y="2272"/>
                  </a:lnTo>
                  <a:lnTo>
                    <a:pt x="1095" y="2209"/>
                  </a:lnTo>
                  <a:lnTo>
                    <a:pt x="1048" y="2139"/>
                  </a:lnTo>
                  <a:lnTo>
                    <a:pt x="1000" y="2139"/>
                  </a:lnTo>
                  <a:lnTo>
                    <a:pt x="952" y="2057"/>
                  </a:lnTo>
                  <a:lnTo>
                    <a:pt x="905" y="1986"/>
                  </a:lnTo>
                  <a:lnTo>
                    <a:pt x="857" y="1986"/>
                  </a:lnTo>
                  <a:lnTo>
                    <a:pt x="810" y="1886"/>
                  </a:lnTo>
                  <a:lnTo>
                    <a:pt x="762" y="1728"/>
                  </a:lnTo>
                  <a:lnTo>
                    <a:pt x="715" y="1728"/>
                  </a:lnTo>
                  <a:lnTo>
                    <a:pt x="667" y="1656"/>
                  </a:lnTo>
                  <a:lnTo>
                    <a:pt x="620" y="1726"/>
                  </a:lnTo>
                  <a:lnTo>
                    <a:pt x="571" y="1726"/>
                  </a:lnTo>
                  <a:lnTo>
                    <a:pt x="523" y="1544"/>
                  </a:lnTo>
                  <a:lnTo>
                    <a:pt x="476" y="972"/>
                  </a:lnTo>
                  <a:lnTo>
                    <a:pt x="428" y="881"/>
                  </a:lnTo>
                  <a:lnTo>
                    <a:pt x="381" y="613"/>
                  </a:lnTo>
                  <a:lnTo>
                    <a:pt x="333" y="547"/>
                  </a:lnTo>
                  <a:lnTo>
                    <a:pt x="286" y="345"/>
                  </a:lnTo>
                  <a:lnTo>
                    <a:pt x="238" y="257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71600" y="917640"/>
              <a:ext cx="7481880" cy="4336920"/>
            </a:xfrm>
            <a:custGeom>
              <a:avLst/>
              <a:gdLst/>
              <a:ahLst/>
              <a:rect l="l" t="t" r="r" b="b"/>
              <a:pathLst>
                <a:path w="4713" h="273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112"/>
                  </a:lnTo>
                  <a:lnTo>
                    <a:pt x="1190" y="140"/>
                  </a:lnTo>
                  <a:lnTo>
                    <a:pt x="1238" y="220"/>
                  </a:lnTo>
                  <a:lnTo>
                    <a:pt x="1285" y="416"/>
                  </a:lnTo>
                  <a:lnTo>
                    <a:pt x="1333" y="548"/>
                  </a:lnTo>
                  <a:lnTo>
                    <a:pt x="1380" y="593"/>
                  </a:lnTo>
                  <a:lnTo>
                    <a:pt x="1428" y="1072"/>
                  </a:lnTo>
                  <a:lnTo>
                    <a:pt x="1476" y="1160"/>
                  </a:lnTo>
                  <a:lnTo>
                    <a:pt x="1523" y="1160"/>
                  </a:lnTo>
                  <a:lnTo>
                    <a:pt x="1571" y="1334"/>
                  </a:lnTo>
                  <a:lnTo>
                    <a:pt x="1618" y="1366"/>
                  </a:lnTo>
                  <a:lnTo>
                    <a:pt x="1666" y="1366"/>
                  </a:lnTo>
                  <a:lnTo>
                    <a:pt x="1713" y="1622"/>
                  </a:lnTo>
                  <a:lnTo>
                    <a:pt x="1761" y="1669"/>
                  </a:lnTo>
                  <a:lnTo>
                    <a:pt x="1810" y="1669"/>
                  </a:lnTo>
                  <a:lnTo>
                    <a:pt x="1857" y="1848"/>
                  </a:lnTo>
                  <a:lnTo>
                    <a:pt x="1905" y="1889"/>
                  </a:lnTo>
                  <a:lnTo>
                    <a:pt x="1952" y="1889"/>
                  </a:lnTo>
                  <a:lnTo>
                    <a:pt x="2000" y="2045"/>
                  </a:lnTo>
                  <a:lnTo>
                    <a:pt x="2047" y="2078"/>
                  </a:lnTo>
                  <a:lnTo>
                    <a:pt x="2095" y="2078"/>
                  </a:lnTo>
                  <a:lnTo>
                    <a:pt x="2142" y="2211"/>
                  </a:lnTo>
                  <a:lnTo>
                    <a:pt x="2190" y="2238"/>
                  </a:lnTo>
                  <a:lnTo>
                    <a:pt x="2238" y="2238"/>
                  </a:lnTo>
                  <a:lnTo>
                    <a:pt x="2285" y="2337"/>
                  </a:lnTo>
                  <a:lnTo>
                    <a:pt x="2333" y="2355"/>
                  </a:lnTo>
                  <a:lnTo>
                    <a:pt x="2380" y="2355"/>
                  </a:lnTo>
                  <a:lnTo>
                    <a:pt x="2428" y="2432"/>
                  </a:lnTo>
                  <a:lnTo>
                    <a:pt x="2475" y="2448"/>
                  </a:lnTo>
                  <a:lnTo>
                    <a:pt x="2523" y="2448"/>
                  </a:lnTo>
                  <a:lnTo>
                    <a:pt x="2571" y="2506"/>
                  </a:lnTo>
                  <a:lnTo>
                    <a:pt x="2618" y="2519"/>
                  </a:lnTo>
                  <a:lnTo>
                    <a:pt x="2666" y="2509"/>
                  </a:lnTo>
                  <a:lnTo>
                    <a:pt x="2713" y="2558"/>
                  </a:lnTo>
                  <a:lnTo>
                    <a:pt x="2761" y="2569"/>
                  </a:lnTo>
                  <a:lnTo>
                    <a:pt x="2808" y="2557"/>
                  </a:lnTo>
                  <a:lnTo>
                    <a:pt x="2856" y="2598"/>
                  </a:lnTo>
                  <a:lnTo>
                    <a:pt x="2903" y="2607"/>
                  </a:lnTo>
                  <a:lnTo>
                    <a:pt x="2952" y="2595"/>
                  </a:lnTo>
                  <a:lnTo>
                    <a:pt x="3000" y="2621"/>
                  </a:lnTo>
                  <a:lnTo>
                    <a:pt x="3047" y="2624"/>
                  </a:lnTo>
                  <a:lnTo>
                    <a:pt x="3095" y="2608"/>
                  </a:lnTo>
                  <a:lnTo>
                    <a:pt x="3142" y="2633"/>
                  </a:lnTo>
                  <a:lnTo>
                    <a:pt x="3190" y="2638"/>
                  </a:lnTo>
                  <a:lnTo>
                    <a:pt x="3237" y="2621"/>
                  </a:lnTo>
                  <a:lnTo>
                    <a:pt x="3285" y="2639"/>
                  </a:lnTo>
                  <a:lnTo>
                    <a:pt x="3333" y="2644"/>
                  </a:lnTo>
                  <a:lnTo>
                    <a:pt x="3380" y="2632"/>
                  </a:lnTo>
                  <a:lnTo>
                    <a:pt x="3428" y="2654"/>
                  </a:lnTo>
                  <a:lnTo>
                    <a:pt x="3475" y="2659"/>
                  </a:lnTo>
                  <a:lnTo>
                    <a:pt x="3523" y="2645"/>
                  </a:lnTo>
                  <a:lnTo>
                    <a:pt x="3570" y="2661"/>
                  </a:lnTo>
                  <a:lnTo>
                    <a:pt x="3618" y="2664"/>
                  </a:lnTo>
                  <a:lnTo>
                    <a:pt x="3665" y="2647"/>
                  </a:lnTo>
                  <a:lnTo>
                    <a:pt x="3713" y="2660"/>
                  </a:lnTo>
                  <a:lnTo>
                    <a:pt x="3761" y="2662"/>
                  </a:lnTo>
                  <a:lnTo>
                    <a:pt x="3808" y="2650"/>
                  </a:lnTo>
                  <a:lnTo>
                    <a:pt x="3856" y="2665"/>
                  </a:lnTo>
                  <a:lnTo>
                    <a:pt x="3903" y="2666"/>
                  </a:lnTo>
                  <a:lnTo>
                    <a:pt x="3951" y="2656"/>
                  </a:lnTo>
                  <a:lnTo>
                    <a:pt x="3998" y="2668"/>
                  </a:lnTo>
                  <a:lnTo>
                    <a:pt x="4046" y="2669"/>
                  </a:lnTo>
                  <a:lnTo>
                    <a:pt x="4094" y="2655"/>
                  </a:lnTo>
                  <a:lnTo>
                    <a:pt x="4142" y="2671"/>
                  </a:lnTo>
                  <a:lnTo>
                    <a:pt x="4190" y="2671"/>
                  </a:lnTo>
                  <a:lnTo>
                    <a:pt x="4237" y="2654"/>
                  </a:lnTo>
                  <a:lnTo>
                    <a:pt x="4285" y="2670"/>
                  </a:lnTo>
                  <a:lnTo>
                    <a:pt x="4332" y="2670"/>
                  </a:lnTo>
                  <a:lnTo>
                    <a:pt x="4380" y="2660"/>
                  </a:lnTo>
                  <a:lnTo>
                    <a:pt x="4427" y="2672"/>
                  </a:lnTo>
                  <a:lnTo>
                    <a:pt x="4475" y="2672"/>
                  </a:lnTo>
                  <a:lnTo>
                    <a:pt x="4523" y="2657"/>
                  </a:lnTo>
                  <a:lnTo>
                    <a:pt x="4570" y="2671"/>
                  </a:lnTo>
                  <a:lnTo>
                    <a:pt x="4618" y="2671"/>
                  </a:lnTo>
                  <a:lnTo>
                    <a:pt x="4665" y="2657"/>
                  </a:lnTo>
                  <a:lnTo>
                    <a:pt x="4713" y="2673"/>
                  </a:lnTo>
                  <a:lnTo>
                    <a:pt x="4713" y="2727"/>
                  </a:lnTo>
                  <a:lnTo>
                    <a:pt x="4665" y="2710"/>
                  </a:lnTo>
                  <a:lnTo>
                    <a:pt x="4618" y="2725"/>
                  </a:lnTo>
                  <a:lnTo>
                    <a:pt x="4570" y="2725"/>
                  </a:lnTo>
                  <a:lnTo>
                    <a:pt x="4523" y="2711"/>
                  </a:lnTo>
                  <a:lnTo>
                    <a:pt x="4475" y="2727"/>
                  </a:lnTo>
                  <a:lnTo>
                    <a:pt x="4427" y="2727"/>
                  </a:lnTo>
                  <a:lnTo>
                    <a:pt x="4380" y="2717"/>
                  </a:lnTo>
                  <a:lnTo>
                    <a:pt x="4332" y="2727"/>
                  </a:lnTo>
                  <a:lnTo>
                    <a:pt x="4285" y="2727"/>
                  </a:lnTo>
                  <a:lnTo>
                    <a:pt x="4237" y="2715"/>
                  </a:lnTo>
                  <a:lnTo>
                    <a:pt x="4190" y="2732"/>
                  </a:lnTo>
                  <a:lnTo>
                    <a:pt x="4142" y="2732"/>
                  </a:lnTo>
                  <a:lnTo>
                    <a:pt x="4094" y="2715"/>
                  </a:lnTo>
                  <a:lnTo>
                    <a:pt x="4046" y="2729"/>
                  </a:lnTo>
                  <a:lnTo>
                    <a:pt x="3998" y="2729"/>
                  </a:lnTo>
                  <a:lnTo>
                    <a:pt x="3951" y="2714"/>
                  </a:lnTo>
                  <a:lnTo>
                    <a:pt x="3903" y="2724"/>
                  </a:lnTo>
                  <a:lnTo>
                    <a:pt x="3856" y="2724"/>
                  </a:lnTo>
                  <a:lnTo>
                    <a:pt x="3808" y="2712"/>
                  </a:lnTo>
                  <a:lnTo>
                    <a:pt x="3761" y="2723"/>
                  </a:lnTo>
                  <a:lnTo>
                    <a:pt x="3713" y="2723"/>
                  </a:lnTo>
                  <a:lnTo>
                    <a:pt x="3665" y="2707"/>
                  </a:lnTo>
                  <a:lnTo>
                    <a:pt x="3618" y="2723"/>
                  </a:lnTo>
                  <a:lnTo>
                    <a:pt x="3570" y="2723"/>
                  </a:lnTo>
                  <a:lnTo>
                    <a:pt x="3523" y="2707"/>
                  </a:lnTo>
                  <a:lnTo>
                    <a:pt x="3475" y="2721"/>
                  </a:lnTo>
                  <a:lnTo>
                    <a:pt x="3428" y="2721"/>
                  </a:lnTo>
                  <a:lnTo>
                    <a:pt x="3380" y="2708"/>
                  </a:lnTo>
                  <a:lnTo>
                    <a:pt x="3333" y="2720"/>
                  </a:lnTo>
                  <a:lnTo>
                    <a:pt x="3285" y="2720"/>
                  </a:lnTo>
                  <a:lnTo>
                    <a:pt x="3237" y="2705"/>
                  </a:lnTo>
                  <a:lnTo>
                    <a:pt x="3190" y="2722"/>
                  </a:lnTo>
                  <a:lnTo>
                    <a:pt x="3142" y="2720"/>
                  </a:lnTo>
                  <a:lnTo>
                    <a:pt x="3095" y="2707"/>
                  </a:lnTo>
                  <a:lnTo>
                    <a:pt x="3047" y="2722"/>
                  </a:lnTo>
                  <a:lnTo>
                    <a:pt x="3000" y="2720"/>
                  </a:lnTo>
                  <a:lnTo>
                    <a:pt x="2952" y="2704"/>
                  </a:lnTo>
                  <a:lnTo>
                    <a:pt x="2903" y="2716"/>
                  </a:lnTo>
                  <a:lnTo>
                    <a:pt x="2856" y="2711"/>
                  </a:lnTo>
                  <a:lnTo>
                    <a:pt x="2808" y="2687"/>
                  </a:lnTo>
                  <a:lnTo>
                    <a:pt x="2761" y="2700"/>
                  </a:lnTo>
                  <a:lnTo>
                    <a:pt x="2713" y="2696"/>
                  </a:lnTo>
                  <a:lnTo>
                    <a:pt x="2666" y="2677"/>
                  </a:lnTo>
                  <a:lnTo>
                    <a:pt x="2618" y="2687"/>
                  </a:lnTo>
                  <a:lnTo>
                    <a:pt x="2571" y="2682"/>
                  </a:lnTo>
                  <a:lnTo>
                    <a:pt x="2523" y="2658"/>
                  </a:lnTo>
                  <a:lnTo>
                    <a:pt x="2475" y="2660"/>
                  </a:lnTo>
                  <a:lnTo>
                    <a:pt x="2428" y="2654"/>
                  </a:lnTo>
                  <a:lnTo>
                    <a:pt x="2380" y="2630"/>
                  </a:lnTo>
                  <a:lnTo>
                    <a:pt x="2333" y="2631"/>
                  </a:lnTo>
                  <a:lnTo>
                    <a:pt x="2285" y="2621"/>
                  </a:lnTo>
                  <a:lnTo>
                    <a:pt x="2238" y="2579"/>
                  </a:lnTo>
                  <a:lnTo>
                    <a:pt x="2190" y="2580"/>
                  </a:lnTo>
                  <a:lnTo>
                    <a:pt x="2142" y="2568"/>
                  </a:lnTo>
                  <a:lnTo>
                    <a:pt x="2095" y="2519"/>
                  </a:lnTo>
                  <a:lnTo>
                    <a:pt x="2047" y="2523"/>
                  </a:lnTo>
                  <a:lnTo>
                    <a:pt x="2000" y="2506"/>
                  </a:lnTo>
                  <a:lnTo>
                    <a:pt x="1952" y="2448"/>
                  </a:lnTo>
                  <a:lnTo>
                    <a:pt x="1905" y="2450"/>
                  </a:lnTo>
                  <a:lnTo>
                    <a:pt x="1857" y="2432"/>
                  </a:lnTo>
                  <a:lnTo>
                    <a:pt x="1810" y="2355"/>
                  </a:lnTo>
                  <a:lnTo>
                    <a:pt x="1761" y="2363"/>
                  </a:lnTo>
                  <a:lnTo>
                    <a:pt x="1713" y="2337"/>
                  </a:lnTo>
                  <a:lnTo>
                    <a:pt x="1666" y="2238"/>
                  </a:lnTo>
                  <a:lnTo>
                    <a:pt x="1618" y="2245"/>
                  </a:lnTo>
                  <a:lnTo>
                    <a:pt x="1571" y="2211"/>
                  </a:lnTo>
                  <a:lnTo>
                    <a:pt x="1523" y="2078"/>
                  </a:lnTo>
                  <a:lnTo>
                    <a:pt x="1476" y="2088"/>
                  </a:lnTo>
                  <a:lnTo>
                    <a:pt x="1428" y="2045"/>
                  </a:lnTo>
                  <a:lnTo>
                    <a:pt x="1380" y="1889"/>
                  </a:lnTo>
                  <a:lnTo>
                    <a:pt x="1333" y="1899"/>
                  </a:lnTo>
                  <a:lnTo>
                    <a:pt x="1285" y="1848"/>
                  </a:lnTo>
                  <a:lnTo>
                    <a:pt x="1238" y="1669"/>
                  </a:lnTo>
                  <a:lnTo>
                    <a:pt x="1190" y="1681"/>
                  </a:lnTo>
                  <a:lnTo>
                    <a:pt x="1143" y="1622"/>
                  </a:lnTo>
                  <a:lnTo>
                    <a:pt x="1095" y="1366"/>
                  </a:lnTo>
                  <a:lnTo>
                    <a:pt x="1048" y="1377"/>
                  </a:lnTo>
                  <a:lnTo>
                    <a:pt x="1000" y="1334"/>
                  </a:lnTo>
                  <a:lnTo>
                    <a:pt x="952" y="1160"/>
                  </a:lnTo>
                  <a:lnTo>
                    <a:pt x="905" y="1187"/>
                  </a:lnTo>
                  <a:lnTo>
                    <a:pt x="857" y="1072"/>
                  </a:lnTo>
                  <a:lnTo>
                    <a:pt x="810" y="593"/>
                  </a:lnTo>
                  <a:lnTo>
                    <a:pt x="762" y="581"/>
                  </a:lnTo>
                  <a:lnTo>
                    <a:pt x="715" y="416"/>
                  </a:lnTo>
                  <a:lnTo>
                    <a:pt x="667" y="220"/>
                  </a:lnTo>
                  <a:lnTo>
                    <a:pt x="620" y="148"/>
                  </a:lnTo>
                  <a:lnTo>
                    <a:pt x="571" y="112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71600" y="917640"/>
              <a:ext cx="7481880" cy="4243320"/>
            </a:xfrm>
            <a:custGeom>
              <a:avLst/>
              <a:gdLst/>
              <a:ahLst/>
              <a:rect l="l" t="t" r="r" b="b"/>
              <a:pathLst>
                <a:path w="4713" h="2673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112"/>
                  </a:lnTo>
                  <a:lnTo>
                    <a:pt x="2618" y="140"/>
                  </a:lnTo>
                  <a:lnTo>
                    <a:pt x="2666" y="210"/>
                  </a:lnTo>
                  <a:lnTo>
                    <a:pt x="2713" y="406"/>
                  </a:lnTo>
                  <a:lnTo>
                    <a:pt x="2761" y="538"/>
                  </a:lnTo>
                  <a:lnTo>
                    <a:pt x="2808" y="571"/>
                  </a:lnTo>
                  <a:lnTo>
                    <a:pt x="2856" y="1050"/>
                  </a:lnTo>
                  <a:lnTo>
                    <a:pt x="2903" y="1138"/>
                  </a:lnTo>
                  <a:lnTo>
                    <a:pt x="2952" y="1126"/>
                  </a:lnTo>
                  <a:lnTo>
                    <a:pt x="3000" y="1300"/>
                  </a:lnTo>
                  <a:lnTo>
                    <a:pt x="3047" y="1331"/>
                  </a:lnTo>
                  <a:lnTo>
                    <a:pt x="3095" y="1316"/>
                  </a:lnTo>
                  <a:lnTo>
                    <a:pt x="3142" y="1572"/>
                  </a:lnTo>
                  <a:lnTo>
                    <a:pt x="3190" y="1621"/>
                  </a:lnTo>
                  <a:lnTo>
                    <a:pt x="3237" y="1603"/>
                  </a:lnTo>
                  <a:lnTo>
                    <a:pt x="3285" y="1783"/>
                  </a:lnTo>
                  <a:lnTo>
                    <a:pt x="3333" y="1823"/>
                  </a:lnTo>
                  <a:lnTo>
                    <a:pt x="3380" y="1811"/>
                  </a:lnTo>
                  <a:lnTo>
                    <a:pt x="3428" y="1967"/>
                  </a:lnTo>
                  <a:lnTo>
                    <a:pt x="3475" y="2000"/>
                  </a:lnTo>
                  <a:lnTo>
                    <a:pt x="3523" y="1986"/>
                  </a:lnTo>
                  <a:lnTo>
                    <a:pt x="3570" y="2118"/>
                  </a:lnTo>
                  <a:lnTo>
                    <a:pt x="3618" y="2146"/>
                  </a:lnTo>
                  <a:lnTo>
                    <a:pt x="3665" y="2129"/>
                  </a:lnTo>
                  <a:lnTo>
                    <a:pt x="3713" y="2228"/>
                  </a:lnTo>
                  <a:lnTo>
                    <a:pt x="3761" y="2246"/>
                  </a:lnTo>
                  <a:lnTo>
                    <a:pt x="3808" y="2235"/>
                  </a:lnTo>
                  <a:lnTo>
                    <a:pt x="3856" y="2312"/>
                  </a:lnTo>
                  <a:lnTo>
                    <a:pt x="3903" y="2327"/>
                  </a:lnTo>
                  <a:lnTo>
                    <a:pt x="3951" y="2317"/>
                  </a:lnTo>
                  <a:lnTo>
                    <a:pt x="3998" y="2376"/>
                  </a:lnTo>
                  <a:lnTo>
                    <a:pt x="4046" y="2389"/>
                  </a:lnTo>
                  <a:lnTo>
                    <a:pt x="4094" y="2376"/>
                  </a:lnTo>
                  <a:lnTo>
                    <a:pt x="4142" y="2424"/>
                  </a:lnTo>
                  <a:lnTo>
                    <a:pt x="4190" y="2435"/>
                  </a:lnTo>
                  <a:lnTo>
                    <a:pt x="4237" y="2417"/>
                  </a:lnTo>
                  <a:lnTo>
                    <a:pt x="4285" y="2459"/>
                  </a:lnTo>
                  <a:lnTo>
                    <a:pt x="4332" y="2469"/>
                  </a:lnTo>
                  <a:lnTo>
                    <a:pt x="4380" y="2458"/>
                  </a:lnTo>
                  <a:lnTo>
                    <a:pt x="4427" y="2482"/>
                  </a:lnTo>
                  <a:lnTo>
                    <a:pt x="4475" y="2486"/>
                  </a:lnTo>
                  <a:lnTo>
                    <a:pt x="4523" y="2470"/>
                  </a:lnTo>
                  <a:lnTo>
                    <a:pt x="4570" y="2494"/>
                  </a:lnTo>
                  <a:lnTo>
                    <a:pt x="4618" y="2499"/>
                  </a:lnTo>
                  <a:lnTo>
                    <a:pt x="4665" y="2485"/>
                  </a:lnTo>
                  <a:lnTo>
                    <a:pt x="4713" y="2503"/>
                  </a:lnTo>
                  <a:lnTo>
                    <a:pt x="4713" y="2673"/>
                  </a:lnTo>
                  <a:lnTo>
                    <a:pt x="4665" y="2657"/>
                  </a:lnTo>
                  <a:lnTo>
                    <a:pt x="4618" y="2671"/>
                  </a:lnTo>
                  <a:lnTo>
                    <a:pt x="4570" y="2671"/>
                  </a:lnTo>
                  <a:lnTo>
                    <a:pt x="4523" y="2657"/>
                  </a:lnTo>
                  <a:lnTo>
                    <a:pt x="4475" y="2672"/>
                  </a:lnTo>
                  <a:lnTo>
                    <a:pt x="4427" y="2672"/>
                  </a:lnTo>
                  <a:lnTo>
                    <a:pt x="4380" y="2660"/>
                  </a:lnTo>
                  <a:lnTo>
                    <a:pt x="4332" y="2670"/>
                  </a:lnTo>
                  <a:lnTo>
                    <a:pt x="4285" y="2670"/>
                  </a:lnTo>
                  <a:lnTo>
                    <a:pt x="4237" y="2654"/>
                  </a:lnTo>
                  <a:lnTo>
                    <a:pt x="4190" y="2671"/>
                  </a:lnTo>
                  <a:lnTo>
                    <a:pt x="4142" y="2671"/>
                  </a:lnTo>
                  <a:lnTo>
                    <a:pt x="4094" y="2655"/>
                  </a:lnTo>
                  <a:lnTo>
                    <a:pt x="4046" y="2669"/>
                  </a:lnTo>
                  <a:lnTo>
                    <a:pt x="3998" y="2668"/>
                  </a:lnTo>
                  <a:lnTo>
                    <a:pt x="3951" y="2656"/>
                  </a:lnTo>
                  <a:lnTo>
                    <a:pt x="3903" y="2666"/>
                  </a:lnTo>
                  <a:lnTo>
                    <a:pt x="3856" y="2665"/>
                  </a:lnTo>
                  <a:lnTo>
                    <a:pt x="3808" y="2650"/>
                  </a:lnTo>
                  <a:lnTo>
                    <a:pt x="3761" y="2662"/>
                  </a:lnTo>
                  <a:lnTo>
                    <a:pt x="3713" y="2660"/>
                  </a:lnTo>
                  <a:lnTo>
                    <a:pt x="3665" y="2647"/>
                  </a:lnTo>
                  <a:lnTo>
                    <a:pt x="3618" y="2664"/>
                  </a:lnTo>
                  <a:lnTo>
                    <a:pt x="3570" y="2661"/>
                  </a:lnTo>
                  <a:lnTo>
                    <a:pt x="3523" y="2645"/>
                  </a:lnTo>
                  <a:lnTo>
                    <a:pt x="3475" y="2659"/>
                  </a:lnTo>
                  <a:lnTo>
                    <a:pt x="3428" y="2654"/>
                  </a:lnTo>
                  <a:lnTo>
                    <a:pt x="3380" y="2632"/>
                  </a:lnTo>
                  <a:lnTo>
                    <a:pt x="3333" y="2644"/>
                  </a:lnTo>
                  <a:lnTo>
                    <a:pt x="3285" y="2639"/>
                  </a:lnTo>
                  <a:lnTo>
                    <a:pt x="3237" y="2621"/>
                  </a:lnTo>
                  <a:lnTo>
                    <a:pt x="3190" y="2638"/>
                  </a:lnTo>
                  <a:lnTo>
                    <a:pt x="3142" y="2633"/>
                  </a:lnTo>
                  <a:lnTo>
                    <a:pt x="3095" y="2608"/>
                  </a:lnTo>
                  <a:lnTo>
                    <a:pt x="3047" y="2624"/>
                  </a:lnTo>
                  <a:lnTo>
                    <a:pt x="3000" y="2621"/>
                  </a:lnTo>
                  <a:lnTo>
                    <a:pt x="2952" y="2595"/>
                  </a:lnTo>
                  <a:lnTo>
                    <a:pt x="2903" y="2607"/>
                  </a:lnTo>
                  <a:lnTo>
                    <a:pt x="2856" y="2598"/>
                  </a:lnTo>
                  <a:lnTo>
                    <a:pt x="2808" y="2557"/>
                  </a:lnTo>
                  <a:lnTo>
                    <a:pt x="2761" y="2569"/>
                  </a:lnTo>
                  <a:lnTo>
                    <a:pt x="2713" y="2558"/>
                  </a:lnTo>
                  <a:lnTo>
                    <a:pt x="2666" y="2509"/>
                  </a:lnTo>
                  <a:lnTo>
                    <a:pt x="2618" y="2519"/>
                  </a:lnTo>
                  <a:lnTo>
                    <a:pt x="2571" y="2506"/>
                  </a:lnTo>
                  <a:lnTo>
                    <a:pt x="2523" y="2448"/>
                  </a:lnTo>
                  <a:lnTo>
                    <a:pt x="2475" y="2448"/>
                  </a:lnTo>
                  <a:lnTo>
                    <a:pt x="2428" y="2432"/>
                  </a:lnTo>
                  <a:lnTo>
                    <a:pt x="2380" y="2355"/>
                  </a:lnTo>
                  <a:lnTo>
                    <a:pt x="2333" y="2355"/>
                  </a:lnTo>
                  <a:lnTo>
                    <a:pt x="2285" y="2337"/>
                  </a:lnTo>
                  <a:lnTo>
                    <a:pt x="2238" y="2238"/>
                  </a:lnTo>
                  <a:lnTo>
                    <a:pt x="2190" y="2238"/>
                  </a:lnTo>
                  <a:lnTo>
                    <a:pt x="2142" y="2211"/>
                  </a:lnTo>
                  <a:lnTo>
                    <a:pt x="2095" y="2078"/>
                  </a:lnTo>
                  <a:lnTo>
                    <a:pt x="2047" y="2078"/>
                  </a:lnTo>
                  <a:lnTo>
                    <a:pt x="2000" y="2045"/>
                  </a:lnTo>
                  <a:lnTo>
                    <a:pt x="1952" y="1889"/>
                  </a:lnTo>
                  <a:lnTo>
                    <a:pt x="1905" y="1889"/>
                  </a:lnTo>
                  <a:lnTo>
                    <a:pt x="1857" y="1848"/>
                  </a:lnTo>
                  <a:lnTo>
                    <a:pt x="1810" y="1669"/>
                  </a:lnTo>
                  <a:lnTo>
                    <a:pt x="1761" y="1669"/>
                  </a:lnTo>
                  <a:lnTo>
                    <a:pt x="1713" y="1622"/>
                  </a:lnTo>
                  <a:lnTo>
                    <a:pt x="1666" y="1366"/>
                  </a:lnTo>
                  <a:lnTo>
                    <a:pt x="1618" y="1366"/>
                  </a:lnTo>
                  <a:lnTo>
                    <a:pt x="1571" y="1334"/>
                  </a:lnTo>
                  <a:lnTo>
                    <a:pt x="1523" y="1160"/>
                  </a:lnTo>
                  <a:lnTo>
                    <a:pt x="1476" y="1160"/>
                  </a:lnTo>
                  <a:lnTo>
                    <a:pt x="1428" y="1072"/>
                  </a:lnTo>
                  <a:lnTo>
                    <a:pt x="1380" y="593"/>
                  </a:lnTo>
                  <a:lnTo>
                    <a:pt x="1333" y="548"/>
                  </a:lnTo>
                  <a:lnTo>
                    <a:pt x="1285" y="416"/>
                  </a:lnTo>
                  <a:lnTo>
                    <a:pt x="1238" y="220"/>
                  </a:lnTo>
                  <a:lnTo>
                    <a:pt x="1190" y="140"/>
                  </a:lnTo>
                  <a:lnTo>
                    <a:pt x="1143" y="112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71600" y="917640"/>
              <a:ext cx="7481880" cy="3973320"/>
            </a:xfrm>
            <a:custGeom>
              <a:avLst/>
              <a:gdLst/>
              <a:ahLst/>
              <a:rect l="l" t="t" r="r" b="b"/>
              <a:pathLst>
                <a:path w="4713" h="2503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503"/>
                  </a:lnTo>
                  <a:lnTo>
                    <a:pt x="4665" y="2485"/>
                  </a:lnTo>
                  <a:lnTo>
                    <a:pt x="4618" y="2499"/>
                  </a:lnTo>
                  <a:lnTo>
                    <a:pt x="4570" y="2494"/>
                  </a:lnTo>
                  <a:lnTo>
                    <a:pt x="4523" y="2470"/>
                  </a:lnTo>
                  <a:lnTo>
                    <a:pt x="4475" y="2486"/>
                  </a:lnTo>
                  <a:lnTo>
                    <a:pt x="4427" y="2482"/>
                  </a:lnTo>
                  <a:lnTo>
                    <a:pt x="4380" y="2458"/>
                  </a:lnTo>
                  <a:lnTo>
                    <a:pt x="4332" y="2469"/>
                  </a:lnTo>
                  <a:lnTo>
                    <a:pt x="4285" y="2459"/>
                  </a:lnTo>
                  <a:lnTo>
                    <a:pt x="4237" y="2417"/>
                  </a:lnTo>
                  <a:lnTo>
                    <a:pt x="4190" y="2435"/>
                  </a:lnTo>
                  <a:lnTo>
                    <a:pt x="4142" y="2424"/>
                  </a:lnTo>
                  <a:lnTo>
                    <a:pt x="4094" y="2376"/>
                  </a:lnTo>
                  <a:lnTo>
                    <a:pt x="4046" y="2389"/>
                  </a:lnTo>
                  <a:lnTo>
                    <a:pt x="3998" y="2376"/>
                  </a:lnTo>
                  <a:lnTo>
                    <a:pt x="3951" y="2317"/>
                  </a:lnTo>
                  <a:lnTo>
                    <a:pt x="3903" y="2327"/>
                  </a:lnTo>
                  <a:lnTo>
                    <a:pt x="3856" y="2312"/>
                  </a:lnTo>
                  <a:lnTo>
                    <a:pt x="3808" y="2235"/>
                  </a:lnTo>
                  <a:lnTo>
                    <a:pt x="3761" y="2246"/>
                  </a:lnTo>
                  <a:lnTo>
                    <a:pt x="3713" y="2228"/>
                  </a:lnTo>
                  <a:lnTo>
                    <a:pt x="3665" y="2129"/>
                  </a:lnTo>
                  <a:lnTo>
                    <a:pt x="3618" y="2146"/>
                  </a:lnTo>
                  <a:lnTo>
                    <a:pt x="3570" y="2118"/>
                  </a:lnTo>
                  <a:lnTo>
                    <a:pt x="3523" y="1986"/>
                  </a:lnTo>
                  <a:lnTo>
                    <a:pt x="3475" y="2000"/>
                  </a:lnTo>
                  <a:lnTo>
                    <a:pt x="3428" y="1967"/>
                  </a:lnTo>
                  <a:lnTo>
                    <a:pt x="3380" y="1811"/>
                  </a:lnTo>
                  <a:lnTo>
                    <a:pt x="3333" y="1823"/>
                  </a:lnTo>
                  <a:lnTo>
                    <a:pt x="3285" y="1783"/>
                  </a:lnTo>
                  <a:lnTo>
                    <a:pt x="3237" y="1603"/>
                  </a:lnTo>
                  <a:lnTo>
                    <a:pt x="3190" y="1621"/>
                  </a:lnTo>
                  <a:lnTo>
                    <a:pt x="3142" y="1572"/>
                  </a:lnTo>
                  <a:lnTo>
                    <a:pt x="3095" y="1316"/>
                  </a:lnTo>
                  <a:lnTo>
                    <a:pt x="3047" y="1331"/>
                  </a:lnTo>
                  <a:lnTo>
                    <a:pt x="3000" y="1300"/>
                  </a:lnTo>
                  <a:lnTo>
                    <a:pt x="2952" y="1126"/>
                  </a:lnTo>
                  <a:lnTo>
                    <a:pt x="2903" y="1138"/>
                  </a:lnTo>
                  <a:lnTo>
                    <a:pt x="2856" y="1050"/>
                  </a:lnTo>
                  <a:lnTo>
                    <a:pt x="2808" y="571"/>
                  </a:lnTo>
                  <a:lnTo>
                    <a:pt x="2761" y="538"/>
                  </a:lnTo>
                  <a:lnTo>
                    <a:pt x="2713" y="406"/>
                  </a:lnTo>
                  <a:lnTo>
                    <a:pt x="2666" y="210"/>
                  </a:lnTo>
                  <a:lnTo>
                    <a:pt x="2618" y="140"/>
                  </a:lnTo>
                  <a:lnTo>
                    <a:pt x="2571" y="112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71600" y="917640"/>
              <a:ext cx="1440" cy="443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14360" y="5353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14360" y="49086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14360" y="4465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14360" y="4022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14360" y="35784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14360" y="31352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314360" y="26924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14360" y="22478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14360" y="1805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14360" y="1362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1436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71600" y="5353200"/>
              <a:ext cx="748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57240" y="523872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52120" y="4794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52120" y="4351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52120" y="39085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52120" y="34639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52120" y="3021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52120" y="25779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52120" y="2133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52120" y="1690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52120" y="1247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8800" y="8031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32048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9812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217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40120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788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15540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5330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110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901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681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461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4223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99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17940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5740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350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112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6892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6868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4463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9800" y="582444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16200000">
              <a:off x="-100440" y="299592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1370520" y="2514600"/>
            <a:ext cx="7426440" cy="2745720"/>
            <a:chOff x="1370520" y="2514600"/>
            <a:chExt cx="7426440" cy="2745720"/>
          </a:xfrm>
        </p:grpSpPr>
        <p:sp>
          <p:nvSpPr>
            <p:cNvPr id="1335" name=""/>
            <p:cNvSpPr/>
            <p:nvPr/>
          </p:nvSpPr>
          <p:spPr>
            <a:xfrm>
              <a:off x="1370520" y="2514600"/>
              <a:ext cx="69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Fore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209680" y="2971800"/>
              <a:ext cx="990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ioneer rubber A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276720" y="3171960"/>
              <a:ext cx="12952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arly production rubber A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267080" y="3171960"/>
              <a:ext cx="1828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te production rubber A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3080" y="3171960"/>
              <a:ext cx="24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ost production rubber A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479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14600" y="25909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ve rubber agro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"/>
          <p:cNvGrpSpPr/>
          <p:nvPr/>
        </p:nvGrpSpPr>
        <p:grpSpPr>
          <a:xfrm>
            <a:off x="0" y="0"/>
            <a:ext cx="9144000" cy="6084000"/>
            <a:chOff x="0" y="0"/>
            <a:chExt cx="9144000" cy="6084000"/>
          </a:xfrm>
        </p:grpSpPr>
        <p:sp>
          <p:nvSpPr>
            <p:cNvPr id="134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NTFP are available for transition to agro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71600" y="917640"/>
              <a:ext cx="7481880" cy="4435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71600" y="917640"/>
              <a:ext cx="7481880" cy="44355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371600" y="3873600"/>
              <a:ext cx="7481880" cy="1479600"/>
            </a:xfrm>
            <a:custGeom>
              <a:avLst/>
              <a:gdLst/>
              <a:ahLst/>
              <a:rect l="l" t="t" r="r" b="b"/>
              <a:pathLst>
                <a:path w="4713" h="932">
                  <a:moveTo>
                    <a:pt x="0" y="932"/>
                  </a:moveTo>
                  <a:lnTo>
                    <a:pt x="0" y="932"/>
                  </a:lnTo>
                  <a:lnTo>
                    <a:pt x="48" y="932"/>
                  </a:lnTo>
                  <a:lnTo>
                    <a:pt x="95" y="584"/>
                  </a:lnTo>
                  <a:lnTo>
                    <a:pt x="143" y="584"/>
                  </a:lnTo>
                  <a:lnTo>
                    <a:pt x="190" y="358"/>
                  </a:lnTo>
                  <a:lnTo>
                    <a:pt x="238" y="37"/>
                  </a:lnTo>
                  <a:lnTo>
                    <a:pt x="286" y="132"/>
                  </a:lnTo>
                  <a:lnTo>
                    <a:pt x="333" y="357"/>
                  </a:lnTo>
                  <a:lnTo>
                    <a:pt x="381" y="0"/>
                  </a:lnTo>
                  <a:lnTo>
                    <a:pt x="428" y="181"/>
                  </a:lnTo>
                  <a:lnTo>
                    <a:pt x="476" y="181"/>
                  </a:lnTo>
                  <a:lnTo>
                    <a:pt x="523" y="199"/>
                  </a:lnTo>
                  <a:lnTo>
                    <a:pt x="571" y="391"/>
                  </a:lnTo>
                  <a:lnTo>
                    <a:pt x="620" y="391"/>
                  </a:lnTo>
                  <a:lnTo>
                    <a:pt x="667" y="291"/>
                  </a:lnTo>
                  <a:lnTo>
                    <a:pt x="715" y="419"/>
                  </a:lnTo>
                  <a:lnTo>
                    <a:pt x="762" y="419"/>
                  </a:lnTo>
                  <a:lnTo>
                    <a:pt x="810" y="430"/>
                  </a:lnTo>
                  <a:lnTo>
                    <a:pt x="857" y="534"/>
                  </a:lnTo>
                  <a:lnTo>
                    <a:pt x="905" y="534"/>
                  </a:lnTo>
                  <a:lnTo>
                    <a:pt x="952" y="517"/>
                  </a:lnTo>
                  <a:lnTo>
                    <a:pt x="1000" y="597"/>
                  </a:lnTo>
                  <a:lnTo>
                    <a:pt x="1048" y="597"/>
                  </a:lnTo>
                  <a:lnTo>
                    <a:pt x="1095" y="615"/>
                  </a:lnTo>
                  <a:lnTo>
                    <a:pt x="1143" y="676"/>
                  </a:lnTo>
                  <a:lnTo>
                    <a:pt x="1190" y="676"/>
                  </a:lnTo>
                  <a:lnTo>
                    <a:pt x="1238" y="657"/>
                  </a:lnTo>
                  <a:lnTo>
                    <a:pt x="1285" y="714"/>
                  </a:lnTo>
                  <a:lnTo>
                    <a:pt x="1333" y="714"/>
                  </a:lnTo>
                  <a:lnTo>
                    <a:pt x="1380" y="738"/>
                  </a:lnTo>
                  <a:lnTo>
                    <a:pt x="1428" y="782"/>
                  </a:lnTo>
                  <a:lnTo>
                    <a:pt x="1476" y="782"/>
                  </a:lnTo>
                  <a:lnTo>
                    <a:pt x="1523" y="769"/>
                  </a:lnTo>
                  <a:lnTo>
                    <a:pt x="1571" y="801"/>
                  </a:lnTo>
                  <a:lnTo>
                    <a:pt x="1618" y="801"/>
                  </a:lnTo>
                  <a:lnTo>
                    <a:pt x="1666" y="817"/>
                  </a:lnTo>
                  <a:lnTo>
                    <a:pt x="1713" y="840"/>
                  </a:lnTo>
                  <a:lnTo>
                    <a:pt x="1761" y="840"/>
                  </a:lnTo>
                  <a:lnTo>
                    <a:pt x="1810" y="835"/>
                  </a:lnTo>
                  <a:lnTo>
                    <a:pt x="1857" y="850"/>
                  </a:lnTo>
                  <a:lnTo>
                    <a:pt x="1905" y="850"/>
                  </a:lnTo>
                  <a:lnTo>
                    <a:pt x="1952" y="857"/>
                  </a:lnTo>
                  <a:lnTo>
                    <a:pt x="2000" y="869"/>
                  </a:lnTo>
                  <a:lnTo>
                    <a:pt x="2047" y="869"/>
                  </a:lnTo>
                  <a:lnTo>
                    <a:pt x="2095" y="861"/>
                  </a:lnTo>
                  <a:lnTo>
                    <a:pt x="2142" y="876"/>
                  </a:lnTo>
                  <a:lnTo>
                    <a:pt x="2190" y="876"/>
                  </a:lnTo>
                  <a:lnTo>
                    <a:pt x="2238" y="883"/>
                  </a:lnTo>
                  <a:lnTo>
                    <a:pt x="2285" y="895"/>
                  </a:lnTo>
                  <a:lnTo>
                    <a:pt x="2333" y="895"/>
                  </a:lnTo>
                  <a:lnTo>
                    <a:pt x="2380" y="893"/>
                  </a:lnTo>
                  <a:lnTo>
                    <a:pt x="2428" y="899"/>
                  </a:lnTo>
                  <a:lnTo>
                    <a:pt x="2475" y="899"/>
                  </a:lnTo>
                  <a:lnTo>
                    <a:pt x="2523" y="904"/>
                  </a:lnTo>
                  <a:lnTo>
                    <a:pt x="2571" y="910"/>
                  </a:lnTo>
                  <a:lnTo>
                    <a:pt x="2618" y="910"/>
                  </a:lnTo>
                  <a:lnTo>
                    <a:pt x="2666" y="902"/>
                  </a:lnTo>
                  <a:lnTo>
                    <a:pt x="2713" y="904"/>
                  </a:lnTo>
                  <a:lnTo>
                    <a:pt x="2761" y="904"/>
                  </a:lnTo>
                  <a:lnTo>
                    <a:pt x="2808" y="911"/>
                  </a:lnTo>
                  <a:lnTo>
                    <a:pt x="2856" y="912"/>
                  </a:lnTo>
                  <a:lnTo>
                    <a:pt x="2903" y="912"/>
                  </a:lnTo>
                  <a:lnTo>
                    <a:pt x="2952" y="912"/>
                  </a:lnTo>
                  <a:lnTo>
                    <a:pt x="3000" y="912"/>
                  </a:lnTo>
                  <a:lnTo>
                    <a:pt x="3047" y="912"/>
                  </a:lnTo>
                  <a:lnTo>
                    <a:pt x="3095" y="912"/>
                  </a:lnTo>
                  <a:lnTo>
                    <a:pt x="3142" y="912"/>
                  </a:lnTo>
                  <a:lnTo>
                    <a:pt x="3190" y="912"/>
                  </a:lnTo>
                  <a:lnTo>
                    <a:pt x="3237" y="914"/>
                  </a:lnTo>
                  <a:lnTo>
                    <a:pt x="3285" y="914"/>
                  </a:lnTo>
                  <a:lnTo>
                    <a:pt x="3333" y="914"/>
                  </a:lnTo>
                  <a:lnTo>
                    <a:pt x="3380" y="915"/>
                  </a:lnTo>
                  <a:lnTo>
                    <a:pt x="3428" y="915"/>
                  </a:lnTo>
                  <a:lnTo>
                    <a:pt x="3475" y="915"/>
                  </a:lnTo>
                  <a:lnTo>
                    <a:pt x="3523" y="914"/>
                  </a:lnTo>
                  <a:lnTo>
                    <a:pt x="3570" y="914"/>
                  </a:lnTo>
                  <a:lnTo>
                    <a:pt x="3618" y="914"/>
                  </a:lnTo>
                  <a:lnTo>
                    <a:pt x="3665" y="912"/>
                  </a:lnTo>
                  <a:lnTo>
                    <a:pt x="3713" y="912"/>
                  </a:lnTo>
                  <a:lnTo>
                    <a:pt x="3761" y="912"/>
                  </a:lnTo>
                  <a:lnTo>
                    <a:pt x="3808" y="917"/>
                  </a:lnTo>
                  <a:lnTo>
                    <a:pt x="3856" y="917"/>
                  </a:lnTo>
                  <a:lnTo>
                    <a:pt x="3903" y="917"/>
                  </a:lnTo>
                  <a:lnTo>
                    <a:pt x="3951" y="912"/>
                  </a:lnTo>
                  <a:lnTo>
                    <a:pt x="3998" y="912"/>
                  </a:lnTo>
                  <a:lnTo>
                    <a:pt x="4046" y="912"/>
                  </a:lnTo>
                  <a:lnTo>
                    <a:pt x="4094" y="920"/>
                  </a:lnTo>
                  <a:lnTo>
                    <a:pt x="4142" y="920"/>
                  </a:lnTo>
                  <a:lnTo>
                    <a:pt x="4190" y="920"/>
                  </a:lnTo>
                  <a:lnTo>
                    <a:pt x="4237" y="915"/>
                  </a:lnTo>
                  <a:lnTo>
                    <a:pt x="4285" y="915"/>
                  </a:lnTo>
                  <a:lnTo>
                    <a:pt x="4332" y="915"/>
                  </a:lnTo>
                  <a:lnTo>
                    <a:pt x="4380" y="914"/>
                  </a:lnTo>
                  <a:lnTo>
                    <a:pt x="4427" y="914"/>
                  </a:lnTo>
                  <a:lnTo>
                    <a:pt x="4475" y="914"/>
                  </a:lnTo>
                  <a:lnTo>
                    <a:pt x="4523" y="922"/>
                  </a:lnTo>
                  <a:lnTo>
                    <a:pt x="4570" y="922"/>
                  </a:lnTo>
                  <a:lnTo>
                    <a:pt x="4618" y="922"/>
                  </a:lnTo>
                  <a:lnTo>
                    <a:pt x="4665" y="920"/>
                  </a:lnTo>
                  <a:lnTo>
                    <a:pt x="4713" y="920"/>
                  </a:lnTo>
                  <a:lnTo>
                    <a:pt x="4713" y="932"/>
                  </a:lnTo>
                  <a:lnTo>
                    <a:pt x="4665" y="932"/>
                  </a:lnTo>
                  <a:lnTo>
                    <a:pt x="4618" y="932"/>
                  </a:lnTo>
                  <a:lnTo>
                    <a:pt x="4570" y="932"/>
                  </a:lnTo>
                  <a:lnTo>
                    <a:pt x="4523" y="932"/>
                  </a:lnTo>
                  <a:lnTo>
                    <a:pt x="4475" y="932"/>
                  </a:lnTo>
                  <a:lnTo>
                    <a:pt x="4427" y="932"/>
                  </a:lnTo>
                  <a:lnTo>
                    <a:pt x="4380" y="932"/>
                  </a:lnTo>
                  <a:lnTo>
                    <a:pt x="4332" y="932"/>
                  </a:lnTo>
                  <a:lnTo>
                    <a:pt x="4285" y="932"/>
                  </a:lnTo>
                  <a:lnTo>
                    <a:pt x="4237" y="932"/>
                  </a:lnTo>
                  <a:lnTo>
                    <a:pt x="4190" y="932"/>
                  </a:lnTo>
                  <a:lnTo>
                    <a:pt x="4142" y="932"/>
                  </a:lnTo>
                  <a:lnTo>
                    <a:pt x="4094" y="932"/>
                  </a:lnTo>
                  <a:lnTo>
                    <a:pt x="4046" y="932"/>
                  </a:lnTo>
                  <a:lnTo>
                    <a:pt x="3998" y="932"/>
                  </a:lnTo>
                  <a:lnTo>
                    <a:pt x="3951" y="932"/>
                  </a:lnTo>
                  <a:lnTo>
                    <a:pt x="3903" y="932"/>
                  </a:lnTo>
                  <a:lnTo>
                    <a:pt x="3856" y="932"/>
                  </a:lnTo>
                  <a:lnTo>
                    <a:pt x="3808" y="932"/>
                  </a:lnTo>
                  <a:lnTo>
                    <a:pt x="3761" y="932"/>
                  </a:lnTo>
                  <a:lnTo>
                    <a:pt x="3713" y="932"/>
                  </a:lnTo>
                  <a:lnTo>
                    <a:pt x="3665" y="932"/>
                  </a:lnTo>
                  <a:lnTo>
                    <a:pt x="3618" y="932"/>
                  </a:lnTo>
                  <a:lnTo>
                    <a:pt x="3570" y="932"/>
                  </a:lnTo>
                  <a:lnTo>
                    <a:pt x="3523" y="932"/>
                  </a:lnTo>
                  <a:lnTo>
                    <a:pt x="3475" y="932"/>
                  </a:lnTo>
                  <a:lnTo>
                    <a:pt x="3428" y="932"/>
                  </a:lnTo>
                  <a:lnTo>
                    <a:pt x="3380" y="932"/>
                  </a:lnTo>
                  <a:lnTo>
                    <a:pt x="3333" y="932"/>
                  </a:lnTo>
                  <a:lnTo>
                    <a:pt x="3285" y="932"/>
                  </a:lnTo>
                  <a:lnTo>
                    <a:pt x="3237" y="932"/>
                  </a:lnTo>
                  <a:lnTo>
                    <a:pt x="3190" y="932"/>
                  </a:lnTo>
                  <a:lnTo>
                    <a:pt x="3142" y="932"/>
                  </a:lnTo>
                  <a:lnTo>
                    <a:pt x="3095" y="932"/>
                  </a:lnTo>
                  <a:lnTo>
                    <a:pt x="3047" y="932"/>
                  </a:lnTo>
                  <a:lnTo>
                    <a:pt x="3000" y="932"/>
                  </a:lnTo>
                  <a:lnTo>
                    <a:pt x="2952" y="932"/>
                  </a:lnTo>
                  <a:lnTo>
                    <a:pt x="2903" y="932"/>
                  </a:lnTo>
                  <a:lnTo>
                    <a:pt x="2856" y="932"/>
                  </a:lnTo>
                  <a:lnTo>
                    <a:pt x="2808" y="932"/>
                  </a:lnTo>
                  <a:lnTo>
                    <a:pt x="2761" y="932"/>
                  </a:lnTo>
                  <a:lnTo>
                    <a:pt x="2713" y="932"/>
                  </a:lnTo>
                  <a:lnTo>
                    <a:pt x="2666" y="932"/>
                  </a:lnTo>
                  <a:lnTo>
                    <a:pt x="2618" y="932"/>
                  </a:lnTo>
                  <a:lnTo>
                    <a:pt x="2571" y="932"/>
                  </a:lnTo>
                  <a:lnTo>
                    <a:pt x="2523" y="932"/>
                  </a:lnTo>
                  <a:lnTo>
                    <a:pt x="2475" y="932"/>
                  </a:lnTo>
                  <a:lnTo>
                    <a:pt x="2428" y="932"/>
                  </a:lnTo>
                  <a:lnTo>
                    <a:pt x="2380" y="932"/>
                  </a:lnTo>
                  <a:lnTo>
                    <a:pt x="2333" y="932"/>
                  </a:lnTo>
                  <a:lnTo>
                    <a:pt x="2285" y="932"/>
                  </a:lnTo>
                  <a:lnTo>
                    <a:pt x="2238" y="932"/>
                  </a:lnTo>
                  <a:lnTo>
                    <a:pt x="2190" y="932"/>
                  </a:lnTo>
                  <a:lnTo>
                    <a:pt x="2142" y="932"/>
                  </a:lnTo>
                  <a:lnTo>
                    <a:pt x="2095" y="932"/>
                  </a:lnTo>
                  <a:lnTo>
                    <a:pt x="2047" y="932"/>
                  </a:lnTo>
                  <a:lnTo>
                    <a:pt x="2000" y="932"/>
                  </a:lnTo>
                  <a:lnTo>
                    <a:pt x="1952" y="932"/>
                  </a:lnTo>
                  <a:lnTo>
                    <a:pt x="1905" y="932"/>
                  </a:lnTo>
                  <a:lnTo>
                    <a:pt x="1857" y="932"/>
                  </a:lnTo>
                  <a:lnTo>
                    <a:pt x="1810" y="932"/>
                  </a:lnTo>
                  <a:lnTo>
                    <a:pt x="1761" y="932"/>
                  </a:lnTo>
                  <a:lnTo>
                    <a:pt x="1713" y="932"/>
                  </a:lnTo>
                  <a:lnTo>
                    <a:pt x="1666" y="932"/>
                  </a:lnTo>
                  <a:lnTo>
                    <a:pt x="1618" y="932"/>
                  </a:lnTo>
                  <a:lnTo>
                    <a:pt x="1571" y="932"/>
                  </a:lnTo>
                  <a:lnTo>
                    <a:pt x="1523" y="932"/>
                  </a:lnTo>
                  <a:lnTo>
                    <a:pt x="1476" y="932"/>
                  </a:lnTo>
                  <a:lnTo>
                    <a:pt x="1428" y="932"/>
                  </a:lnTo>
                  <a:lnTo>
                    <a:pt x="1380" y="932"/>
                  </a:lnTo>
                  <a:lnTo>
                    <a:pt x="1333" y="932"/>
                  </a:lnTo>
                  <a:lnTo>
                    <a:pt x="1285" y="932"/>
                  </a:lnTo>
                  <a:lnTo>
                    <a:pt x="1238" y="932"/>
                  </a:lnTo>
                  <a:lnTo>
                    <a:pt x="1190" y="932"/>
                  </a:lnTo>
                  <a:lnTo>
                    <a:pt x="1143" y="932"/>
                  </a:lnTo>
                  <a:lnTo>
                    <a:pt x="1095" y="932"/>
                  </a:lnTo>
                  <a:lnTo>
                    <a:pt x="1048" y="932"/>
                  </a:lnTo>
                  <a:lnTo>
                    <a:pt x="1000" y="932"/>
                  </a:lnTo>
                  <a:lnTo>
                    <a:pt x="952" y="932"/>
                  </a:lnTo>
                  <a:lnTo>
                    <a:pt x="905" y="932"/>
                  </a:lnTo>
                  <a:lnTo>
                    <a:pt x="857" y="932"/>
                  </a:lnTo>
                  <a:lnTo>
                    <a:pt x="810" y="932"/>
                  </a:lnTo>
                  <a:lnTo>
                    <a:pt x="762" y="932"/>
                  </a:lnTo>
                  <a:lnTo>
                    <a:pt x="715" y="932"/>
                  </a:lnTo>
                  <a:lnTo>
                    <a:pt x="667" y="932"/>
                  </a:lnTo>
                  <a:lnTo>
                    <a:pt x="620" y="932"/>
                  </a:lnTo>
                  <a:lnTo>
                    <a:pt x="571" y="932"/>
                  </a:lnTo>
                  <a:lnTo>
                    <a:pt x="523" y="932"/>
                  </a:lnTo>
                  <a:lnTo>
                    <a:pt x="476" y="932"/>
                  </a:lnTo>
                  <a:lnTo>
                    <a:pt x="428" y="932"/>
                  </a:lnTo>
                  <a:lnTo>
                    <a:pt x="381" y="932"/>
                  </a:lnTo>
                  <a:lnTo>
                    <a:pt x="333" y="932"/>
                  </a:lnTo>
                  <a:lnTo>
                    <a:pt x="286" y="932"/>
                  </a:lnTo>
                  <a:lnTo>
                    <a:pt x="238" y="932"/>
                  </a:lnTo>
                  <a:lnTo>
                    <a:pt x="190" y="932"/>
                  </a:lnTo>
                  <a:lnTo>
                    <a:pt x="143" y="932"/>
                  </a:lnTo>
                  <a:lnTo>
                    <a:pt x="95" y="932"/>
                  </a:lnTo>
                  <a:lnTo>
                    <a:pt x="48" y="932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917640"/>
              <a:ext cx="7481880" cy="4435560"/>
            </a:xfrm>
            <a:custGeom>
              <a:avLst/>
              <a:gdLst/>
              <a:ahLst/>
              <a:rect l="l" t="t" r="r" b="b"/>
              <a:pathLst>
                <a:path w="4713" h="2794">
                  <a:moveTo>
                    <a:pt x="0" y="2794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254"/>
                  </a:lnTo>
                  <a:lnTo>
                    <a:pt x="286" y="349"/>
                  </a:lnTo>
                  <a:lnTo>
                    <a:pt x="333" y="574"/>
                  </a:lnTo>
                  <a:lnTo>
                    <a:pt x="381" y="770"/>
                  </a:lnTo>
                  <a:lnTo>
                    <a:pt x="428" y="951"/>
                  </a:lnTo>
                  <a:lnTo>
                    <a:pt x="476" y="951"/>
                  </a:lnTo>
                  <a:lnTo>
                    <a:pt x="523" y="1249"/>
                  </a:lnTo>
                  <a:lnTo>
                    <a:pt x="571" y="1443"/>
                  </a:lnTo>
                  <a:lnTo>
                    <a:pt x="620" y="1443"/>
                  </a:lnTo>
                  <a:lnTo>
                    <a:pt x="667" y="1541"/>
                  </a:lnTo>
                  <a:lnTo>
                    <a:pt x="715" y="1668"/>
                  </a:lnTo>
                  <a:lnTo>
                    <a:pt x="762" y="1668"/>
                  </a:lnTo>
                  <a:lnTo>
                    <a:pt x="810" y="1814"/>
                  </a:lnTo>
                  <a:lnTo>
                    <a:pt x="857" y="1918"/>
                  </a:lnTo>
                  <a:lnTo>
                    <a:pt x="905" y="1918"/>
                  </a:lnTo>
                  <a:lnTo>
                    <a:pt x="952" y="2005"/>
                  </a:lnTo>
                  <a:lnTo>
                    <a:pt x="1000" y="2086"/>
                  </a:lnTo>
                  <a:lnTo>
                    <a:pt x="1048" y="2086"/>
                  </a:lnTo>
                  <a:lnTo>
                    <a:pt x="1095" y="2181"/>
                  </a:lnTo>
                  <a:lnTo>
                    <a:pt x="1143" y="2242"/>
                  </a:lnTo>
                  <a:lnTo>
                    <a:pt x="1190" y="2242"/>
                  </a:lnTo>
                  <a:lnTo>
                    <a:pt x="1238" y="2281"/>
                  </a:lnTo>
                  <a:lnTo>
                    <a:pt x="1285" y="2337"/>
                  </a:lnTo>
                  <a:lnTo>
                    <a:pt x="1333" y="2337"/>
                  </a:lnTo>
                  <a:lnTo>
                    <a:pt x="1380" y="2404"/>
                  </a:lnTo>
                  <a:lnTo>
                    <a:pt x="1428" y="2447"/>
                  </a:lnTo>
                  <a:lnTo>
                    <a:pt x="1476" y="2447"/>
                  </a:lnTo>
                  <a:lnTo>
                    <a:pt x="1523" y="2470"/>
                  </a:lnTo>
                  <a:lnTo>
                    <a:pt x="1571" y="2502"/>
                  </a:lnTo>
                  <a:lnTo>
                    <a:pt x="1618" y="2502"/>
                  </a:lnTo>
                  <a:lnTo>
                    <a:pt x="1666" y="2547"/>
                  </a:lnTo>
                  <a:lnTo>
                    <a:pt x="1713" y="2569"/>
                  </a:lnTo>
                  <a:lnTo>
                    <a:pt x="1761" y="2569"/>
                  </a:lnTo>
                  <a:lnTo>
                    <a:pt x="1810" y="2589"/>
                  </a:lnTo>
                  <a:lnTo>
                    <a:pt x="1857" y="2604"/>
                  </a:lnTo>
                  <a:lnTo>
                    <a:pt x="1905" y="2604"/>
                  </a:lnTo>
                  <a:lnTo>
                    <a:pt x="1952" y="2630"/>
                  </a:lnTo>
                  <a:lnTo>
                    <a:pt x="2000" y="2642"/>
                  </a:lnTo>
                  <a:lnTo>
                    <a:pt x="2047" y="2642"/>
                  </a:lnTo>
                  <a:lnTo>
                    <a:pt x="2095" y="2655"/>
                  </a:lnTo>
                  <a:lnTo>
                    <a:pt x="2142" y="2670"/>
                  </a:lnTo>
                  <a:lnTo>
                    <a:pt x="2190" y="2670"/>
                  </a:lnTo>
                  <a:lnTo>
                    <a:pt x="2238" y="2689"/>
                  </a:lnTo>
                  <a:lnTo>
                    <a:pt x="2285" y="2702"/>
                  </a:lnTo>
                  <a:lnTo>
                    <a:pt x="2333" y="2702"/>
                  </a:lnTo>
                  <a:lnTo>
                    <a:pt x="2380" y="2710"/>
                  </a:lnTo>
                  <a:lnTo>
                    <a:pt x="2428" y="2717"/>
                  </a:lnTo>
                  <a:lnTo>
                    <a:pt x="2475" y="2717"/>
                  </a:lnTo>
                  <a:lnTo>
                    <a:pt x="2523" y="2727"/>
                  </a:lnTo>
                  <a:lnTo>
                    <a:pt x="2571" y="2733"/>
                  </a:lnTo>
                  <a:lnTo>
                    <a:pt x="2618" y="2733"/>
                  </a:lnTo>
                  <a:lnTo>
                    <a:pt x="2666" y="2730"/>
                  </a:lnTo>
                  <a:lnTo>
                    <a:pt x="2713" y="2733"/>
                  </a:lnTo>
                  <a:lnTo>
                    <a:pt x="2761" y="2733"/>
                  </a:lnTo>
                  <a:lnTo>
                    <a:pt x="2808" y="2743"/>
                  </a:lnTo>
                  <a:lnTo>
                    <a:pt x="2856" y="2743"/>
                  </a:lnTo>
                  <a:lnTo>
                    <a:pt x="2903" y="2743"/>
                  </a:lnTo>
                  <a:lnTo>
                    <a:pt x="2952" y="2743"/>
                  </a:lnTo>
                  <a:lnTo>
                    <a:pt x="3000" y="2743"/>
                  </a:lnTo>
                  <a:lnTo>
                    <a:pt x="3047" y="2743"/>
                  </a:lnTo>
                  <a:lnTo>
                    <a:pt x="3095" y="2744"/>
                  </a:lnTo>
                  <a:lnTo>
                    <a:pt x="3142" y="2745"/>
                  </a:lnTo>
                  <a:lnTo>
                    <a:pt x="3190" y="2745"/>
                  </a:lnTo>
                  <a:lnTo>
                    <a:pt x="3237" y="2746"/>
                  </a:lnTo>
                  <a:lnTo>
                    <a:pt x="3285" y="2746"/>
                  </a:lnTo>
                  <a:lnTo>
                    <a:pt x="3333" y="2746"/>
                  </a:lnTo>
                  <a:lnTo>
                    <a:pt x="3380" y="2748"/>
                  </a:lnTo>
                  <a:lnTo>
                    <a:pt x="3428" y="2748"/>
                  </a:lnTo>
                  <a:lnTo>
                    <a:pt x="3475" y="2748"/>
                  </a:lnTo>
                  <a:lnTo>
                    <a:pt x="3523" y="2747"/>
                  </a:lnTo>
                  <a:lnTo>
                    <a:pt x="3570" y="2747"/>
                  </a:lnTo>
                  <a:lnTo>
                    <a:pt x="3618" y="2747"/>
                  </a:lnTo>
                  <a:lnTo>
                    <a:pt x="3665" y="2746"/>
                  </a:lnTo>
                  <a:lnTo>
                    <a:pt x="3713" y="2746"/>
                  </a:lnTo>
                  <a:lnTo>
                    <a:pt x="3761" y="2746"/>
                  </a:lnTo>
                  <a:lnTo>
                    <a:pt x="3808" y="2750"/>
                  </a:lnTo>
                  <a:lnTo>
                    <a:pt x="3856" y="2750"/>
                  </a:lnTo>
                  <a:lnTo>
                    <a:pt x="3903" y="2750"/>
                  </a:lnTo>
                  <a:lnTo>
                    <a:pt x="3951" y="2746"/>
                  </a:lnTo>
                  <a:lnTo>
                    <a:pt x="3998" y="2746"/>
                  </a:lnTo>
                  <a:lnTo>
                    <a:pt x="4046" y="2746"/>
                  </a:lnTo>
                  <a:lnTo>
                    <a:pt x="4094" y="2753"/>
                  </a:lnTo>
                  <a:lnTo>
                    <a:pt x="4142" y="2753"/>
                  </a:lnTo>
                  <a:lnTo>
                    <a:pt x="4190" y="2753"/>
                  </a:lnTo>
                  <a:lnTo>
                    <a:pt x="4237" y="2749"/>
                  </a:lnTo>
                  <a:lnTo>
                    <a:pt x="4285" y="2749"/>
                  </a:lnTo>
                  <a:lnTo>
                    <a:pt x="4332" y="2749"/>
                  </a:lnTo>
                  <a:lnTo>
                    <a:pt x="4380" y="2748"/>
                  </a:lnTo>
                  <a:lnTo>
                    <a:pt x="4427" y="2748"/>
                  </a:lnTo>
                  <a:lnTo>
                    <a:pt x="4475" y="2748"/>
                  </a:lnTo>
                  <a:lnTo>
                    <a:pt x="4523" y="2756"/>
                  </a:lnTo>
                  <a:lnTo>
                    <a:pt x="4570" y="2756"/>
                  </a:lnTo>
                  <a:lnTo>
                    <a:pt x="4618" y="2756"/>
                  </a:lnTo>
                  <a:lnTo>
                    <a:pt x="4665" y="2754"/>
                  </a:lnTo>
                  <a:lnTo>
                    <a:pt x="4713" y="2754"/>
                  </a:lnTo>
                  <a:lnTo>
                    <a:pt x="4713" y="2782"/>
                  </a:lnTo>
                  <a:lnTo>
                    <a:pt x="4665" y="2782"/>
                  </a:lnTo>
                  <a:lnTo>
                    <a:pt x="4618" y="2784"/>
                  </a:lnTo>
                  <a:lnTo>
                    <a:pt x="4570" y="2784"/>
                  </a:lnTo>
                  <a:lnTo>
                    <a:pt x="4523" y="2784"/>
                  </a:lnTo>
                  <a:lnTo>
                    <a:pt x="4475" y="2776"/>
                  </a:lnTo>
                  <a:lnTo>
                    <a:pt x="4427" y="2776"/>
                  </a:lnTo>
                  <a:lnTo>
                    <a:pt x="4380" y="2776"/>
                  </a:lnTo>
                  <a:lnTo>
                    <a:pt x="4332" y="2777"/>
                  </a:lnTo>
                  <a:lnTo>
                    <a:pt x="4285" y="2777"/>
                  </a:lnTo>
                  <a:lnTo>
                    <a:pt x="4237" y="2777"/>
                  </a:lnTo>
                  <a:lnTo>
                    <a:pt x="4190" y="2782"/>
                  </a:lnTo>
                  <a:lnTo>
                    <a:pt x="4142" y="2782"/>
                  </a:lnTo>
                  <a:lnTo>
                    <a:pt x="4094" y="2782"/>
                  </a:lnTo>
                  <a:lnTo>
                    <a:pt x="4046" y="2774"/>
                  </a:lnTo>
                  <a:lnTo>
                    <a:pt x="3998" y="2774"/>
                  </a:lnTo>
                  <a:lnTo>
                    <a:pt x="3951" y="2774"/>
                  </a:lnTo>
                  <a:lnTo>
                    <a:pt x="3903" y="2779"/>
                  </a:lnTo>
                  <a:lnTo>
                    <a:pt x="3856" y="2779"/>
                  </a:lnTo>
                  <a:lnTo>
                    <a:pt x="3808" y="2779"/>
                  </a:lnTo>
                  <a:lnTo>
                    <a:pt x="3761" y="2774"/>
                  </a:lnTo>
                  <a:lnTo>
                    <a:pt x="3713" y="2774"/>
                  </a:lnTo>
                  <a:lnTo>
                    <a:pt x="3665" y="2774"/>
                  </a:lnTo>
                  <a:lnTo>
                    <a:pt x="3618" y="2776"/>
                  </a:lnTo>
                  <a:lnTo>
                    <a:pt x="3570" y="2776"/>
                  </a:lnTo>
                  <a:lnTo>
                    <a:pt x="3523" y="2776"/>
                  </a:lnTo>
                  <a:lnTo>
                    <a:pt x="3475" y="2777"/>
                  </a:lnTo>
                  <a:lnTo>
                    <a:pt x="3428" y="2777"/>
                  </a:lnTo>
                  <a:lnTo>
                    <a:pt x="3380" y="2777"/>
                  </a:lnTo>
                  <a:lnTo>
                    <a:pt x="3333" y="2776"/>
                  </a:lnTo>
                  <a:lnTo>
                    <a:pt x="3285" y="2776"/>
                  </a:lnTo>
                  <a:lnTo>
                    <a:pt x="3237" y="2776"/>
                  </a:lnTo>
                  <a:lnTo>
                    <a:pt x="3190" y="2774"/>
                  </a:lnTo>
                  <a:lnTo>
                    <a:pt x="3142" y="2774"/>
                  </a:lnTo>
                  <a:lnTo>
                    <a:pt x="3095" y="2774"/>
                  </a:lnTo>
                  <a:lnTo>
                    <a:pt x="3047" y="2774"/>
                  </a:lnTo>
                  <a:lnTo>
                    <a:pt x="3000" y="2774"/>
                  </a:lnTo>
                  <a:lnTo>
                    <a:pt x="2952" y="2774"/>
                  </a:lnTo>
                  <a:lnTo>
                    <a:pt x="2903" y="2774"/>
                  </a:lnTo>
                  <a:lnTo>
                    <a:pt x="2856" y="2774"/>
                  </a:lnTo>
                  <a:lnTo>
                    <a:pt x="2808" y="2773"/>
                  </a:lnTo>
                  <a:lnTo>
                    <a:pt x="2761" y="2766"/>
                  </a:lnTo>
                  <a:lnTo>
                    <a:pt x="2713" y="2766"/>
                  </a:lnTo>
                  <a:lnTo>
                    <a:pt x="2666" y="2764"/>
                  </a:lnTo>
                  <a:lnTo>
                    <a:pt x="2618" y="2772"/>
                  </a:lnTo>
                  <a:lnTo>
                    <a:pt x="2571" y="2772"/>
                  </a:lnTo>
                  <a:lnTo>
                    <a:pt x="2523" y="2766"/>
                  </a:lnTo>
                  <a:lnTo>
                    <a:pt x="2475" y="2761"/>
                  </a:lnTo>
                  <a:lnTo>
                    <a:pt x="2428" y="2761"/>
                  </a:lnTo>
                  <a:lnTo>
                    <a:pt x="2380" y="2755"/>
                  </a:lnTo>
                  <a:lnTo>
                    <a:pt x="2333" y="2757"/>
                  </a:lnTo>
                  <a:lnTo>
                    <a:pt x="2285" y="2757"/>
                  </a:lnTo>
                  <a:lnTo>
                    <a:pt x="2238" y="2745"/>
                  </a:lnTo>
                  <a:lnTo>
                    <a:pt x="2190" y="2738"/>
                  </a:lnTo>
                  <a:lnTo>
                    <a:pt x="2142" y="2738"/>
                  </a:lnTo>
                  <a:lnTo>
                    <a:pt x="2095" y="2723"/>
                  </a:lnTo>
                  <a:lnTo>
                    <a:pt x="2047" y="2731"/>
                  </a:lnTo>
                  <a:lnTo>
                    <a:pt x="2000" y="2731"/>
                  </a:lnTo>
                  <a:lnTo>
                    <a:pt x="1952" y="2719"/>
                  </a:lnTo>
                  <a:lnTo>
                    <a:pt x="1905" y="2712"/>
                  </a:lnTo>
                  <a:lnTo>
                    <a:pt x="1857" y="2712"/>
                  </a:lnTo>
                  <a:lnTo>
                    <a:pt x="1810" y="2697"/>
                  </a:lnTo>
                  <a:lnTo>
                    <a:pt x="1761" y="2702"/>
                  </a:lnTo>
                  <a:lnTo>
                    <a:pt x="1713" y="2702"/>
                  </a:lnTo>
                  <a:lnTo>
                    <a:pt x="1666" y="2679"/>
                  </a:lnTo>
                  <a:lnTo>
                    <a:pt x="1618" y="2663"/>
                  </a:lnTo>
                  <a:lnTo>
                    <a:pt x="1571" y="2663"/>
                  </a:lnTo>
                  <a:lnTo>
                    <a:pt x="1523" y="2631"/>
                  </a:lnTo>
                  <a:lnTo>
                    <a:pt x="1476" y="2644"/>
                  </a:lnTo>
                  <a:lnTo>
                    <a:pt x="1428" y="2644"/>
                  </a:lnTo>
                  <a:lnTo>
                    <a:pt x="1380" y="2600"/>
                  </a:lnTo>
                  <a:lnTo>
                    <a:pt x="1333" y="2576"/>
                  </a:lnTo>
                  <a:lnTo>
                    <a:pt x="1285" y="2576"/>
                  </a:lnTo>
                  <a:lnTo>
                    <a:pt x="1238" y="2519"/>
                  </a:lnTo>
                  <a:lnTo>
                    <a:pt x="1190" y="2538"/>
                  </a:lnTo>
                  <a:lnTo>
                    <a:pt x="1143" y="2538"/>
                  </a:lnTo>
                  <a:lnTo>
                    <a:pt x="1095" y="2477"/>
                  </a:lnTo>
                  <a:lnTo>
                    <a:pt x="1048" y="2459"/>
                  </a:lnTo>
                  <a:lnTo>
                    <a:pt x="1000" y="2459"/>
                  </a:lnTo>
                  <a:lnTo>
                    <a:pt x="952" y="2379"/>
                  </a:lnTo>
                  <a:lnTo>
                    <a:pt x="905" y="2396"/>
                  </a:lnTo>
                  <a:lnTo>
                    <a:pt x="857" y="2396"/>
                  </a:lnTo>
                  <a:lnTo>
                    <a:pt x="810" y="2292"/>
                  </a:lnTo>
                  <a:lnTo>
                    <a:pt x="762" y="2281"/>
                  </a:lnTo>
                  <a:lnTo>
                    <a:pt x="715" y="2281"/>
                  </a:lnTo>
                  <a:lnTo>
                    <a:pt x="667" y="2153"/>
                  </a:lnTo>
                  <a:lnTo>
                    <a:pt x="620" y="2253"/>
                  </a:lnTo>
                  <a:lnTo>
                    <a:pt x="571" y="2253"/>
                  </a:lnTo>
                  <a:lnTo>
                    <a:pt x="523" y="2061"/>
                  </a:lnTo>
                  <a:lnTo>
                    <a:pt x="476" y="2043"/>
                  </a:lnTo>
                  <a:lnTo>
                    <a:pt x="428" y="2043"/>
                  </a:lnTo>
                  <a:lnTo>
                    <a:pt x="381" y="1862"/>
                  </a:lnTo>
                  <a:lnTo>
                    <a:pt x="333" y="2219"/>
                  </a:lnTo>
                  <a:lnTo>
                    <a:pt x="286" y="1994"/>
                  </a:lnTo>
                  <a:lnTo>
                    <a:pt x="238" y="1899"/>
                  </a:lnTo>
                  <a:lnTo>
                    <a:pt x="190" y="2220"/>
                  </a:lnTo>
                  <a:lnTo>
                    <a:pt x="143" y="2446"/>
                  </a:lnTo>
                  <a:lnTo>
                    <a:pt x="95" y="2446"/>
                  </a:lnTo>
                  <a:lnTo>
                    <a:pt x="48" y="2794"/>
                  </a:lnTo>
                  <a:lnTo>
                    <a:pt x="0" y="27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371600" y="917640"/>
              <a:ext cx="7481880" cy="4375080"/>
            </a:xfrm>
            <a:custGeom>
              <a:avLst/>
              <a:gdLst/>
              <a:ahLst/>
              <a:rect l="l" t="t" r="r" b="b"/>
              <a:pathLst>
                <a:path w="4713" h="2756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125"/>
                  </a:lnTo>
                  <a:lnTo>
                    <a:pt x="620" y="170"/>
                  </a:lnTo>
                  <a:lnTo>
                    <a:pt x="667" y="239"/>
                  </a:lnTo>
                  <a:lnTo>
                    <a:pt x="715" y="454"/>
                  </a:lnTo>
                  <a:lnTo>
                    <a:pt x="762" y="558"/>
                  </a:lnTo>
                  <a:lnTo>
                    <a:pt x="810" y="535"/>
                  </a:lnTo>
                  <a:lnTo>
                    <a:pt x="857" y="869"/>
                  </a:lnTo>
                  <a:lnTo>
                    <a:pt x="905" y="980"/>
                  </a:lnTo>
                  <a:lnTo>
                    <a:pt x="952" y="956"/>
                  </a:lnTo>
                  <a:lnTo>
                    <a:pt x="1000" y="1211"/>
                  </a:lnTo>
                  <a:lnTo>
                    <a:pt x="1048" y="1287"/>
                  </a:lnTo>
                  <a:lnTo>
                    <a:pt x="1095" y="1271"/>
                  </a:lnTo>
                  <a:lnTo>
                    <a:pt x="1143" y="1525"/>
                  </a:lnTo>
                  <a:lnTo>
                    <a:pt x="1190" y="1589"/>
                  </a:lnTo>
                  <a:lnTo>
                    <a:pt x="1238" y="1576"/>
                  </a:lnTo>
                  <a:lnTo>
                    <a:pt x="1285" y="1771"/>
                  </a:lnTo>
                  <a:lnTo>
                    <a:pt x="1333" y="1826"/>
                  </a:lnTo>
                  <a:lnTo>
                    <a:pt x="1380" y="1814"/>
                  </a:lnTo>
                  <a:lnTo>
                    <a:pt x="1428" y="1977"/>
                  </a:lnTo>
                  <a:lnTo>
                    <a:pt x="1476" y="2017"/>
                  </a:lnTo>
                  <a:lnTo>
                    <a:pt x="1523" y="2007"/>
                  </a:lnTo>
                  <a:lnTo>
                    <a:pt x="1571" y="2140"/>
                  </a:lnTo>
                  <a:lnTo>
                    <a:pt x="1618" y="2178"/>
                  </a:lnTo>
                  <a:lnTo>
                    <a:pt x="1666" y="2169"/>
                  </a:lnTo>
                  <a:lnTo>
                    <a:pt x="1713" y="2283"/>
                  </a:lnTo>
                  <a:lnTo>
                    <a:pt x="1761" y="2313"/>
                  </a:lnTo>
                  <a:lnTo>
                    <a:pt x="1810" y="2306"/>
                  </a:lnTo>
                  <a:lnTo>
                    <a:pt x="1857" y="2387"/>
                  </a:lnTo>
                  <a:lnTo>
                    <a:pt x="1905" y="2407"/>
                  </a:lnTo>
                  <a:lnTo>
                    <a:pt x="1952" y="2402"/>
                  </a:lnTo>
                  <a:lnTo>
                    <a:pt x="2000" y="2471"/>
                  </a:lnTo>
                  <a:lnTo>
                    <a:pt x="2047" y="2485"/>
                  </a:lnTo>
                  <a:lnTo>
                    <a:pt x="2095" y="2484"/>
                  </a:lnTo>
                  <a:lnTo>
                    <a:pt x="2142" y="2531"/>
                  </a:lnTo>
                  <a:lnTo>
                    <a:pt x="2190" y="2541"/>
                  </a:lnTo>
                  <a:lnTo>
                    <a:pt x="2238" y="2539"/>
                  </a:lnTo>
                  <a:lnTo>
                    <a:pt x="2285" y="2584"/>
                  </a:lnTo>
                  <a:lnTo>
                    <a:pt x="2333" y="2591"/>
                  </a:lnTo>
                  <a:lnTo>
                    <a:pt x="2380" y="2589"/>
                  </a:lnTo>
                  <a:lnTo>
                    <a:pt x="2428" y="2625"/>
                  </a:lnTo>
                  <a:lnTo>
                    <a:pt x="2475" y="2636"/>
                  </a:lnTo>
                  <a:lnTo>
                    <a:pt x="2523" y="2634"/>
                  </a:lnTo>
                  <a:lnTo>
                    <a:pt x="2571" y="2664"/>
                  </a:lnTo>
                  <a:lnTo>
                    <a:pt x="2618" y="2671"/>
                  </a:lnTo>
                  <a:lnTo>
                    <a:pt x="2666" y="2656"/>
                  </a:lnTo>
                  <a:lnTo>
                    <a:pt x="2713" y="2677"/>
                  </a:lnTo>
                  <a:lnTo>
                    <a:pt x="2761" y="2681"/>
                  </a:lnTo>
                  <a:lnTo>
                    <a:pt x="2808" y="2666"/>
                  </a:lnTo>
                  <a:lnTo>
                    <a:pt x="2856" y="2689"/>
                  </a:lnTo>
                  <a:lnTo>
                    <a:pt x="2903" y="2696"/>
                  </a:lnTo>
                  <a:lnTo>
                    <a:pt x="2952" y="2677"/>
                  </a:lnTo>
                  <a:lnTo>
                    <a:pt x="3000" y="2696"/>
                  </a:lnTo>
                  <a:lnTo>
                    <a:pt x="3047" y="2699"/>
                  </a:lnTo>
                  <a:lnTo>
                    <a:pt x="3095" y="2680"/>
                  </a:lnTo>
                  <a:lnTo>
                    <a:pt x="3142" y="2707"/>
                  </a:lnTo>
                  <a:lnTo>
                    <a:pt x="3190" y="2707"/>
                  </a:lnTo>
                  <a:lnTo>
                    <a:pt x="3237" y="2690"/>
                  </a:lnTo>
                  <a:lnTo>
                    <a:pt x="3285" y="2709"/>
                  </a:lnTo>
                  <a:lnTo>
                    <a:pt x="3333" y="2709"/>
                  </a:lnTo>
                  <a:lnTo>
                    <a:pt x="3380" y="2693"/>
                  </a:lnTo>
                  <a:lnTo>
                    <a:pt x="3428" y="2712"/>
                  </a:lnTo>
                  <a:lnTo>
                    <a:pt x="3475" y="2713"/>
                  </a:lnTo>
                  <a:lnTo>
                    <a:pt x="3523" y="2696"/>
                  </a:lnTo>
                  <a:lnTo>
                    <a:pt x="3570" y="2714"/>
                  </a:lnTo>
                  <a:lnTo>
                    <a:pt x="3618" y="2714"/>
                  </a:lnTo>
                  <a:lnTo>
                    <a:pt x="3665" y="2696"/>
                  </a:lnTo>
                  <a:lnTo>
                    <a:pt x="3713" y="2713"/>
                  </a:lnTo>
                  <a:lnTo>
                    <a:pt x="3761" y="2713"/>
                  </a:lnTo>
                  <a:lnTo>
                    <a:pt x="3808" y="2699"/>
                  </a:lnTo>
                  <a:lnTo>
                    <a:pt x="3856" y="2714"/>
                  </a:lnTo>
                  <a:lnTo>
                    <a:pt x="3903" y="2714"/>
                  </a:lnTo>
                  <a:lnTo>
                    <a:pt x="3951" y="2696"/>
                  </a:lnTo>
                  <a:lnTo>
                    <a:pt x="3998" y="2713"/>
                  </a:lnTo>
                  <a:lnTo>
                    <a:pt x="4046" y="2713"/>
                  </a:lnTo>
                  <a:lnTo>
                    <a:pt x="4094" y="2701"/>
                  </a:lnTo>
                  <a:lnTo>
                    <a:pt x="4142" y="2719"/>
                  </a:lnTo>
                  <a:lnTo>
                    <a:pt x="4190" y="2719"/>
                  </a:lnTo>
                  <a:lnTo>
                    <a:pt x="4237" y="2704"/>
                  </a:lnTo>
                  <a:lnTo>
                    <a:pt x="4285" y="2718"/>
                  </a:lnTo>
                  <a:lnTo>
                    <a:pt x="4332" y="2718"/>
                  </a:lnTo>
                  <a:lnTo>
                    <a:pt x="4380" y="2702"/>
                  </a:lnTo>
                  <a:lnTo>
                    <a:pt x="4427" y="2721"/>
                  </a:lnTo>
                  <a:lnTo>
                    <a:pt x="4475" y="2721"/>
                  </a:lnTo>
                  <a:lnTo>
                    <a:pt x="4523" y="2711"/>
                  </a:lnTo>
                  <a:lnTo>
                    <a:pt x="4570" y="2723"/>
                  </a:lnTo>
                  <a:lnTo>
                    <a:pt x="4618" y="2723"/>
                  </a:lnTo>
                  <a:lnTo>
                    <a:pt x="4665" y="2712"/>
                  </a:lnTo>
                  <a:lnTo>
                    <a:pt x="4713" y="2727"/>
                  </a:lnTo>
                  <a:lnTo>
                    <a:pt x="4713" y="2754"/>
                  </a:lnTo>
                  <a:lnTo>
                    <a:pt x="4665" y="2754"/>
                  </a:lnTo>
                  <a:lnTo>
                    <a:pt x="4618" y="2756"/>
                  </a:lnTo>
                  <a:lnTo>
                    <a:pt x="4570" y="2756"/>
                  </a:lnTo>
                  <a:lnTo>
                    <a:pt x="4523" y="2756"/>
                  </a:lnTo>
                  <a:lnTo>
                    <a:pt x="4475" y="2748"/>
                  </a:lnTo>
                  <a:lnTo>
                    <a:pt x="4427" y="2748"/>
                  </a:lnTo>
                  <a:lnTo>
                    <a:pt x="4380" y="2748"/>
                  </a:lnTo>
                  <a:lnTo>
                    <a:pt x="4332" y="2749"/>
                  </a:lnTo>
                  <a:lnTo>
                    <a:pt x="4285" y="2749"/>
                  </a:lnTo>
                  <a:lnTo>
                    <a:pt x="4237" y="2749"/>
                  </a:lnTo>
                  <a:lnTo>
                    <a:pt x="4190" y="2753"/>
                  </a:lnTo>
                  <a:lnTo>
                    <a:pt x="4142" y="2753"/>
                  </a:lnTo>
                  <a:lnTo>
                    <a:pt x="4094" y="2753"/>
                  </a:lnTo>
                  <a:lnTo>
                    <a:pt x="4046" y="2746"/>
                  </a:lnTo>
                  <a:lnTo>
                    <a:pt x="3998" y="2746"/>
                  </a:lnTo>
                  <a:lnTo>
                    <a:pt x="3951" y="2746"/>
                  </a:lnTo>
                  <a:lnTo>
                    <a:pt x="3903" y="2750"/>
                  </a:lnTo>
                  <a:lnTo>
                    <a:pt x="3856" y="2750"/>
                  </a:lnTo>
                  <a:lnTo>
                    <a:pt x="3808" y="2750"/>
                  </a:lnTo>
                  <a:lnTo>
                    <a:pt x="3761" y="2746"/>
                  </a:lnTo>
                  <a:lnTo>
                    <a:pt x="3713" y="2746"/>
                  </a:lnTo>
                  <a:lnTo>
                    <a:pt x="3665" y="2746"/>
                  </a:lnTo>
                  <a:lnTo>
                    <a:pt x="3618" y="2747"/>
                  </a:lnTo>
                  <a:lnTo>
                    <a:pt x="3570" y="2747"/>
                  </a:lnTo>
                  <a:lnTo>
                    <a:pt x="3523" y="2747"/>
                  </a:lnTo>
                  <a:lnTo>
                    <a:pt x="3475" y="2748"/>
                  </a:lnTo>
                  <a:lnTo>
                    <a:pt x="3428" y="2748"/>
                  </a:lnTo>
                  <a:lnTo>
                    <a:pt x="3380" y="2748"/>
                  </a:lnTo>
                  <a:lnTo>
                    <a:pt x="3333" y="2746"/>
                  </a:lnTo>
                  <a:lnTo>
                    <a:pt x="3285" y="2746"/>
                  </a:lnTo>
                  <a:lnTo>
                    <a:pt x="3237" y="2746"/>
                  </a:lnTo>
                  <a:lnTo>
                    <a:pt x="3190" y="2745"/>
                  </a:lnTo>
                  <a:lnTo>
                    <a:pt x="3142" y="2745"/>
                  </a:lnTo>
                  <a:lnTo>
                    <a:pt x="3095" y="2744"/>
                  </a:lnTo>
                  <a:lnTo>
                    <a:pt x="3047" y="2743"/>
                  </a:lnTo>
                  <a:lnTo>
                    <a:pt x="3000" y="2743"/>
                  </a:lnTo>
                  <a:lnTo>
                    <a:pt x="2952" y="2743"/>
                  </a:lnTo>
                  <a:lnTo>
                    <a:pt x="2903" y="2743"/>
                  </a:lnTo>
                  <a:lnTo>
                    <a:pt x="2856" y="2743"/>
                  </a:lnTo>
                  <a:lnTo>
                    <a:pt x="2808" y="2743"/>
                  </a:lnTo>
                  <a:lnTo>
                    <a:pt x="2761" y="2733"/>
                  </a:lnTo>
                  <a:lnTo>
                    <a:pt x="2713" y="2733"/>
                  </a:lnTo>
                  <a:lnTo>
                    <a:pt x="2666" y="2730"/>
                  </a:lnTo>
                  <a:lnTo>
                    <a:pt x="2618" y="2733"/>
                  </a:lnTo>
                  <a:lnTo>
                    <a:pt x="2571" y="2733"/>
                  </a:lnTo>
                  <a:lnTo>
                    <a:pt x="2523" y="2727"/>
                  </a:lnTo>
                  <a:lnTo>
                    <a:pt x="2475" y="2717"/>
                  </a:lnTo>
                  <a:lnTo>
                    <a:pt x="2428" y="2717"/>
                  </a:lnTo>
                  <a:lnTo>
                    <a:pt x="2380" y="2710"/>
                  </a:lnTo>
                  <a:lnTo>
                    <a:pt x="2333" y="2702"/>
                  </a:lnTo>
                  <a:lnTo>
                    <a:pt x="2285" y="2702"/>
                  </a:lnTo>
                  <a:lnTo>
                    <a:pt x="2238" y="2689"/>
                  </a:lnTo>
                  <a:lnTo>
                    <a:pt x="2190" y="2670"/>
                  </a:lnTo>
                  <a:lnTo>
                    <a:pt x="2142" y="2670"/>
                  </a:lnTo>
                  <a:lnTo>
                    <a:pt x="2095" y="2655"/>
                  </a:lnTo>
                  <a:lnTo>
                    <a:pt x="2047" y="2642"/>
                  </a:lnTo>
                  <a:lnTo>
                    <a:pt x="2000" y="2642"/>
                  </a:lnTo>
                  <a:lnTo>
                    <a:pt x="1952" y="2630"/>
                  </a:lnTo>
                  <a:lnTo>
                    <a:pt x="1905" y="2604"/>
                  </a:lnTo>
                  <a:lnTo>
                    <a:pt x="1857" y="2604"/>
                  </a:lnTo>
                  <a:lnTo>
                    <a:pt x="1810" y="2589"/>
                  </a:lnTo>
                  <a:lnTo>
                    <a:pt x="1761" y="2569"/>
                  </a:lnTo>
                  <a:lnTo>
                    <a:pt x="1713" y="2569"/>
                  </a:lnTo>
                  <a:lnTo>
                    <a:pt x="1666" y="2547"/>
                  </a:lnTo>
                  <a:lnTo>
                    <a:pt x="1618" y="2502"/>
                  </a:lnTo>
                  <a:lnTo>
                    <a:pt x="1571" y="2502"/>
                  </a:lnTo>
                  <a:lnTo>
                    <a:pt x="1523" y="2470"/>
                  </a:lnTo>
                  <a:lnTo>
                    <a:pt x="1476" y="2447"/>
                  </a:lnTo>
                  <a:lnTo>
                    <a:pt x="1428" y="2447"/>
                  </a:lnTo>
                  <a:lnTo>
                    <a:pt x="1380" y="2404"/>
                  </a:lnTo>
                  <a:lnTo>
                    <a:pt x="1333" y="2337"/>
                  </a:lnTo>
                  <a:lnTo>
                    <a:pt x="1285" y="2337"/>
                  </a:lnTo>
                  <a:lnTo>
                    <a:pt x="1238" y="2281"/>
                  </a:lnTo>
                  <a:lnTo>
                    <a:pt x="1190" y="2242"/>
                  </a:lnTo>
                  <a:lnTo>
                    <a:pt x="1143" y="2242"/>
                  </a:lnTo>
                  <a:lnTo>
                    <a:pt x="1095" y="2181"/>
                  </a:lnTo>
                  <a:lnTo>
                    <a:pt x="1048" y="2086"/>
                  </a:lnTo>
                  <a:lnTo>
                    <a:pt x="1000" y="2086"/>
                  </a:lnTo>
                  <a:lnTo>
                    <a:pt x="952" y="2005"/>
                  </a:lnTo>
                  <a:lnTo>
                    <a:pt x="905" y="1918"/>
                  </a:lnTo>
                  <a:lnTo>
                    <a:pt x="857" y="1918"/>
                  </a:lnTo>
                  <a:lnTo>
                    <a:pt x="810" y="1814"/>
                  </a:lnTo>
                  <a:lnTo>
                    <a:pt x="762" y="1668"/>
                  </a:lnTo>
                  <a:lnTo>
                    <a:pt x="715" y="1668"/>
                  </a:lnTo>
                  <a:lnTo>
                    <a:pt x="667" y="1541"/>
                  </a:lnTo>
                  <a:lnTo>
                    <a:pt x="620" y="1443"/>
                  </a:lnTo>
                  <a:lnTo>
                    <a:pt x="571" y="1443"/>
                  </a:lnTo>
                  <a:lnTo>
                    <a:pt x="523" y="1249"/>
                  </a:lnTo>
                  <a:lnTo>
                    <a:pt x="476" y="951"/>
                  </a:lnTo>
                  <a:lnTo>
                    <a:pt x="428" y="951"/>
                  </a:lnTo>
                  <a:lnTo>
                    <a:pt x="381" y="770"/>
                  </a:lnTo>
                  <a:lnTo>
                    <a:pt x="333" y="574"/>
                  </a:lnTo>
                  <a:lnTo>
                    <a:pt x="286" y="349"/>
                  </a:lnTo>
                  <a:lnTo>
                    <a:pt x="238" y="254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371600" y="917640"/>
              <a:ext cx="7481880" cy="4329000"/>
            </a:xfrm>
            <a:custGeom>
              <a:avLst/>
              <a:gdLst/>
              <a:ahLst/>
              <a:rect l="l" t="t" r="r" b="b"/>
              <a:pathLst>
                <a:path w="4713" h="2727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125"/>
                  </a:lnTo>
                  <a:lnTo>
                    <a:pt x="1190" y="157"/>
                  </a:lnTo>
                  <a:lnTo>
                    <a:pt x="1238" y="239"/>
                  </a:lnTo>
                  <a:lnTo>
                    <a:pt x="1285" y="454"/>
                  </a:lnTo>
                  <a:lnTo>
                    <a:pt x="1333" y="535"/>
                  </a:lnTo>
                  <a:lnTo>
                    <a:pt x="1380" y="535"/>
                  </a:lnTo>
                  <a:lnTo>
                    <a:pt x="1428" y="869"/>
                  </a:lnTo>
                  <a:lnTo>
                    <a:pt x="1476" y="956"/>
                  </a:lnTo>
                  <a:lnTo>
                    <a:pt x="1523" y="956"/>
                  </a:lnTo>
                  <a:lnTo>
                    <a:pt x="1571" y="1211"/>
                  </a:lnTo>
                  <a:lnTo>
                    <a:pt x="1618" y="1271"/>
                  </a:lnTo>
                  <a:lnTo>
                    <a:pt x="1666" y="1271"/>
                  </a:lnTo>
                  <a:lnTo>
                    <a:pt x="1713" y="1525"/>
                  </a:lnTo>
                  <a:lnTo>
                    <a:pt x="1761" y="1576"/>
                  </a:lnTo>
                  <a:lnTo>
                    <a:pt x="1810" y="1576"/>
                  </a:lnTo>
                  <a:lnTo>
                    <a:pt x="1857" y="1771"/>
                  </a:lnTo>
                  <a:lnTo>
                    <a:pt x="1905" y="1814"/>
                  </a:lnTo>
                  <a:lnTo>
                    <a:pt x="1952" y="1814"/>
                  </a:lnTo>
                  <a:lnTo>
                    <a:pt x="2000" y="1977"/>
                  </a:lnTo>
                  <a:lnTo>
                    <a:pt x="2047" y="2007"/>
                  </a:lnTo>
                  <a:lnTo>
                    <a:pt x="2095" y="2007"/>
                  </a:lnTo>
                  <a:lnTo>
                    <a:pt x="2142" y="2140"/>
                  </a:lnTo>
                  <a:lnTo>
                    <a:pt x="2190" y="2169"/>
                  </a:lnTo>
                  <a:lnTo>
                    <a:pt x="2238" y="2169"/>
                  </a:lnTo>
                  <a:lnTo>
                    <a:pt x="2285" y="2283"/>
                  </a:lnTo>
                  <a:lnTo>
                    <a:pt x="2333" y="2306"/>
                  </a:lnTo>
                  <a:lnTo>
                    <a:pt x="2380" y="2306"/>
                  </a:lnTo>
                  <a:lnTo>
                    <a:pt x="2428" y="2387"/>
                  </a:lnTo>
                  <a:lnTo>
                    <a:pt x="2475" y="2402"/>
                  </a:lnTo>
                  <a:lnTo>
                    <a:pt x="2523" y="2402"/>
                  </a:lnTo>
                  <a:lnTo>
                    <a:pt x="2571" y="2471"/>
                  </a:lnTo>
                  <a:lnTo>
                    <a:pt x="2618" y="2484"/>
                  </a:lnTo>
                  <a:lnTo>
                    <a:pt x="2666" y="2470"/>
                  </a:lnTo>
                  <a:lnTo>
                    <a:pt x="2713" y="2516"/>
                  </a:lnTo>
                  <a:lnTo>
                    <a:pt x="2761" y="2524"/>
                  </a:lnTo>
                  <a:lnTo>
                    <a:pt x="2808" y="2509"/>
                  </a:lnTo>
                  <a:lnTo>
                    <a:pt x="2856" y="2555"/>
                  </a:lnTo>
                  <a:lnTo>
                    <a:pt x="2903" y="2560"/>
                  </a:lnTo>
                  <a:lnTo>
                    <a:pt x="2952" y="2543"/>
                  </a:lnTo>
                  <a:lnTo>
                    <a:pt x="3000" y="2577"/>
                  </a:lnTo>
                  <a:lnTo>
                    <a:pt x="3047" y="2586"/>
                  </a:lnTo>
                  <a:lnTo>
                    <a:pt x="3095" y="2569"/>
                  </a:lnTo>
                  <a:lnTo>
                    <a:pt x="3142" y="2599"/>
                  </a:lnTo>
                  <a:lnTo>
                    <a:pt x="3190" y="2605"/>
                  </a:lnTo>
                  <a:lnTo>
                    <a:pt x="3237" y="2589"/>
                  </a:lnTo>
                  <a:lnTo>
                    <a:pt x="3285" y="2610"/>
                  </a:lnTo>
                  <a:lnTo>
                    <a:pt x="3333" y="2615"/>
                  </a:lnTo>
                  <a:lnTo>
                    <a:pt x="3380" y="2599"/>
                  </a:lnTo>
                  <a:lnTo>
                    <a:pt x="3428" y="2623"/>
                  </a:lnTo>
                  <a:lnTo>
                    <a:pt x="3475" y="2629"/>
                  </a:lnTo>
                  <a:lnTo>
                    <a:pt x="3523" y="2612"/>
                  </a:lnTo>
                  <a:lnTo>
                    <a:pt x="3570" y="2631"/>
                  </a:lnTo>
                  <a:lnTo>
                    <a:pt x="3618" y="2633"/>
                  </a:lnTo>
                  <a:lnTo>
                    <a:pt x="3665" y="2615"/>
                  </a:lnTo>
                  <a:lnTo>
                    <a:pt x="3713" y="2640"/>
                  </a:lnTo>
                  <a:lnTo>
                    <a:pt x="3761" y="2641"/>
                  </a:lnTo>
                  <a:lnTo>
                    <a:pt x="3808" y="2626"/>
                  </a:lnTo>
                  <a:lnTo>
                    <a:pt x="3856" y="2644"/>
                  </a:lnTo>
                  <a:lnTo>
                    <a:pt x="3903" y="2644"/>
                  </a:lnTo>
                  <a:lnTo>
                    <a:pt x="3951" y="2626"/>
                  </a:lnTo>
                  <a:lnTo>
                    <a:pt x="3998" y="2644"/>
                  </a:lnTo>
                  <a:lnTo>
                    <a:pt x="4046" y="2644"/>
                  </a:lnTo>
                  <a:lnTo>
                    <a:pt x="4094" y="2632"/>
                  </a:lnTo>
                  <a:lnTo>
                    <a:pt x="4142" y="2650"/>
                  </a:lnTo>
                  <a:lnTo>
                    <a:pt x="4190" y="2650"/>
                  </a:lnTo>
                  <a:lnTo>
                    <a:pt x="4237" y="2635"/>
                  </a:lnTo>
                  <a:lnTo>
                    <a:pt x="4285" y="2652"/>
                  </a:lnTo>
                  <a:lnTo>
                    <a:pt x="4332" y="2652"/>
                  </a:lnTo>
                  <a:lnTo>
                    <a:pt x="4380" y="2636"/>
                  </a:lnTo>
                  <a:lnTo>
                    <a:pt x="4427" y="2651"/>
                  </a:lnTo>
                  <a:lnTo>
                    <a:pt x="4475" y="2651"/>
                  </a:lnTo>
                  <a:lnTo>
                    <a:pt x="4523" y="2642"/>
                  </a:lnTo>
                  <a:lnTo>
                    <a:pt x="4570" y="2658"/>
                  </a:lnTo>
                  <a:lnTo>
                    <a:pt x="4618" y="2658"/>
                  </a:lnTo>
                  <a:lnTo>
                    <a:pt x="4665" y="2647"/>
                  </a:lnTo>
                  <a:lnTo>
                    <a:pt x="4713" y="2665"/>
                  </a:lnTo>
                  <a:lnTo>
                    <a:pt x="4713" y="2727"/>
                  </a:lnTo>
                  <a:lnTo>
                    <a:pt x="4665" y="2712"/>
                  </a:lnTo>
                  <a:lnTo>
                    <a:pt x="4618" y="2723"/>
                  </a:lnTo>
                  <a:lnTo>
                    <a:pt x="4570" y="2723"/>
                  </a:lnTo>
                  <a:lnTo>
                    <a:pt x="4523" y="2711"/>
                  </a:lnTo>
                  <a:lnTo>
                    <a:pt x="4475" y="2721"/>
                  </a:lnTo>
                  <a:lnTo>
                    <a:pt x="4427" y="2721"/>
                  </a:lnTo>
                  <a:lnTo>
                    <a:pt x="4380" y="2702"/>
                  </a:lnTo>
                  <a:lnTo>
                    <a:pt x="4332" y="2718"/>
                  </a:lnTo>
                  <a:lnTo>
                    <a:pt x="4285" y="2718"/>
                  </a:lnTo>
                  <a:lnTo>
                    <a:pt x="4237" y="2704"/>
                  </a:lnTo>
                  <a:lnTo>
                    <a:pt x="4190" y="2719"/>
                  </a:lnTo>
                  <a:lnTo>
                    <a:pt x="4142" y="2719"/>
                  </a:lnTo>
                  <a:lnTo>
                    <a:pt x="4094" y="2701"/>
                  </a:lnTo>
                  <a:lnTo>
                    <a:pt x="4046" y="2713"/>
                  </a:lnTo>
                  <a:lnTo>
                    <a:pt x="3998" y="2713"/>
                  </a:lnTo>
                  <a:lnTo>
                    <a:pt x="3951" y="2696"/>
                  </a:lnTo>
                  <a:lnTo>
                    <a:pt x="3903" y="2714"/>
                  </a:lnTo>
                  <a:lnTo>
                    <a:pt x="3856" y="2714"/>
                  </a:lnTo>
                  <a:lnTo>
                    <a:pt x="3808" y="2699"/>
                  </a:lnTo>
                  <a:lnTo>
                    <a:pt x="3761" y="2713"/>
                  </a:lnTo>
                  <a:lnTo>
                    <a:pt x="3713" y="2713"/>
                  </a:lnTo>
                  <a:lnTo>
                    <a:pt x="3665" y="2696"/>
                  </a:lnTo>
                  <a:lnTo>
                    <a:pt x="3618" y="2714"/>
                  </a:lnTo>
                  <a:lnTo>
                    <a:pt x="3570" y="2714"/>
                  </a:lnTo>
                  <a:lnTo>
                    <a:pt x="3523" y="2696"/>
                  </a:lnTo>
                  <a:lnTo>
                    <a:pt x="3475" y="2713"/>
                  </a:lnTo>
                  <a:lnTo>
                    <a:pt x="3428" y="2712"/>
                  </a:lnTo>
                  <a:lnTo>
                    <a:pt x="3380" y="2693"/>
                  </a:lnTo>
                  <a:lnTo>
                    <a:pt x="3333" y="2709"/>
                  </a:lnTo>
                  <a:lnTo>
                    <a:pt x="3285" y="2709"/>
                  </a:lnTo>
                  <a:lnTo>
                    <a:pt x="3237" y="2690"/>
                  </a:lnTo>
                  <a:lnTo>
                    <a:pt x="3190" y="2707"/>
                  </a:lnTo>
                  <a:lnTo>
                    <a:pt x="3142" y="2707"/>
                  </a:lnTo>
                  <a:lnTo>
                    <a:pt x="3095" y="2680"/>
                  </a:lnTo>
                  <a:lnTo>
                    <a:pt x="3047" y="2699"/>
                  </a:lnTo>
                  <a:lnTo>
                    <a:pt x="3000" y="2696"/>
                  </a:lnTo>
                  <a:lnTo>
                    <a:pt x="2952" y="2677"/>
                  </a:lnTo>
                  <a:lnTo>
                    <a:pt x="2903" y="2696"/>
                  </a:lnTo>
                  <a:lnTo>
                    <a:pt x="2856" y="2689"/>
                  </a:lnTo>
                  <a:lnTo>
                    <a:pt x="2808" y="2666"/>
                  </a:lnTo>
                  <a:lnTo>
                    <a:pt x="2761" y="2681"/>
                  </a:lnTo>
                  <a:lnTo>
                    <a:pt x="2713" y="2677"/>
                  </a:lnTo>
                  <a:lnTo>
                    <a:pt x="2666" y="2656"/>
                  </a:lnTo>
                  <a:lnTo>
                    <a:pt x="2618" y="2671"/>
                  </a:lnTo>
                  <a:lnTo>
                    <a:pt x="2571" y="2664"/>
                  </a:lnTo>
                  <a:lnTo>
                    <a:pt x="2523" y="2634"/>
                  </a:lnTo>
                  <a:lnTo>
                    <a:pt x="2475" y="2636"/>
                  </a:lnTo>
                  <a:lnTo>
                    <a:pt x="2428" y="2625"/>
                  </a:lnTo>
                  <a:lnTo>
                    <a:pt x="2380" y="2589"/>
                  </a:lnTo>
                  <a:lnTo>
                    <a:pt x="2333" y="2591"/>
                  </a:lnTo>
                  <a:lnTo>
                    <a:pt x="2285" y="2584"/>
                  </a:lnTo>
                  <a:lnTo>
                    <a:pt x="2238" y="2539"/>
                  </a:lnTo>
                  <a:lnTo>
                    <a:pt x="2190" y="2541"/>
                  </a:lnTo>
                  <a:lnTo>
                    <a:pt x="2142" y="2531"/>
                  </a:lnTo>
                  <a:lnTo>
                    <a:pt x="2095" y="2484"/>
                  </a:lnTo>
                  <a:lnTo>
                    <a:pt x="2047" y="2485"/>
                  </a:lnTo>
                  <a:lnTo>
                    <a:pt x="2000" y="2471"/>
                  </a:lnTo>
                  <a:lnTo>
                    <a:pt x="1952" y="2402"/>
                  </a:lnTo>
                  <a:lnTo>
                    <a:pt x="1905" y="2407"/>
                  </a:lnTo>
                  <a:lnTo>
                    <a:pt x="1857" y="2387"/>
                  </a:lnTo>
                  <a:lnTo>
                    <a:pt x="1810" y="2306"/>
                  </a:lnTo>
                  <a:lnTo>
                    <a:pt x="1761" y="2313"/>
                  </a:lnTo>
                  <a:lnTo>
                    <a:pt x="1713" y="2283"/>
                  </a:lnTo>
                  <a:lnTo>
                    <a:pt x="1666" y="2169"/>
                  </a:lnTo>
                  <a:lnTo>
                    <a:pt x="1618" y="2178"/>
                  </a:lnTo>
                  <a:lnTo>
                    <a:pt x="1571" y="2140"/>
                  </a:lnTo>
                  <a:lnTo>
                    <a:pt x="1523" y="2007"/>
                  </a:lnTo>
                  <a:lnTo>
                    <a:pt x="1476" y="2017"/>
                  </a:lnTo>
                  <a:lnTo>
                    <a:pt x="1428" y="1977"/>
                  </a:lnTo>
                  <a:lnTo>
                    <a:pt x="1380" y="1814"/>
                  </a:lnTo>
                  <a:lnTo>
                    <a:pt x="1333" y="1826"/>
                  </a:lnTo>
                  <a:lnTo>
                    <a:pt x="1285" y="1771"/>
                  </a:lnTo>
                  <a:lnTo>
                    <a:pt x="1238" y="1576"/>
                  </a:lnTo>
                  <a:lnTo>
                    <a:pt x="1190" y="1589"/>
                  </a:lnTo>
                  <a:lnTo>
                    <a:pt x="1143" y="1525"/>
                  </a:lnTo>
                  <a:lnTo>
                    <a:pt x="1095" y="1271"/>
                  </a:lnTo>
                  <a:lnTo>
                    <a:pt x="1048" y="1287"/>
                  </a:lnTo>
                  <a:lnTo>
                    <a:pt x="1000" y="1211"/>
                  </a:lnTo>
                  <a:lnTo>
                    <a:pt x="952" y="956"/>
                  </a:lnTo>
                  <a:lnTo>
                    <a:pt x="905" y="980"/>
                  </a:lnTo>
                  <a:lnTo>
                    <a:pt x="857" y="869"/>
                  </a:lnTo>
                  <a:lnTo>
                    <a:pt x="810" y="535"/>
                  </a:lnTo>
                  <a:lnTo>
                    <a:pt x="762" y="558"/>
                  </a:lnTo>
                  <a:lnTo>
                    <a:pt x="715" y="454"/>
                  </a:lnTo>
                  <a:lnTo>
                    <a:pt x="667" y="239"/>
                  </a:lnTo>
                  <a:lnTo>
                    <a:pt x="620" y="170"/>
                  </a:lnTo>
                  <a:lnTo>
                    <a:pt x="571" y="125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371600" y="917640"/>
              <a:ext cx="7481880" cy="4230720"/>
            </a:xfrm>
            <a:custGeom>
              <a:avLst/>
              <a:gdLst/>
              <a:ahLst/>
              <a:rect l="l" t="t" r="r" b="b"/>
              <a:pathLst>
                <a:path w="4713" h="2665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125"/>
                  </a:lnTo>
                  <a:lnTo>
                    <a:pt x="2618" y="157"/>
                  </a:lnTo>
                  <a:lnTo>
                    <a:pt x="2666" y="225"/>
                  </a:lnTo>
                  <a:lnTo>
                    <a:pt x="2713" y="440"/>
                  </a:lnTo>
                  <a:lnTo>
                    <a:pt x="2761" y="520"/>
                  </a:lnTo>
                  <a:lnTo>
                    <a:pt x="2808" y="504"/>
                  </a:lnTo>
                  <a:lnTo>
                    <a:pt x="2856" y="839"/>
                  </a:lnTo>
                  <a:lnTo>
                    <a:pt x="2903" y="926"/>
                  </a:lnTo>
                  <a:lnTo>
                    <a:pt x="2952" y="908"/>
                  </a:lnTo>
                  <a:lnTo>
                    <a:pt x="3000" y="1163"/>
                  </a:lnTo>
                  <a:lnTo>
                    <a:pt x="3047" y="1223"/>
                  </a:lnTo>
                  <a:lnTo>
                    <a:pt x="3095" y="1206"/>
                  </a:lnTo>
                  <a:lnTo>
                    <a:pt x="3142" y="1460"/>
                  </a:lnTo>
                  <a:lnTo>
                    <a:pt x="3190" y="1512"/>
                  </a:lnTo>
                  <a:lnTo>
                    <a:pt x="3237" y="1496"/>
                  </a:lnTo>
                  <a:lnTo>
                    <a:pt x="3285" y="1692"/>
                  </a:lnTo>
                  <a:lnTo>
                    <a:pt x="3333" y="1733"/>
                  </a:lnTo>
                  <a:lnTo>
                    <a:pt x="3380" y="1718"/>
                  </a:lnTo>
                  <a:lnTo>
                    <a:pt x="3428" y="1881"/>
                  </a:lnTo>
                  <a:lnTo>
                    <a:pt x="3475" y="1912"/>
                  </a:lnTo>
                  <a:lnTo>
                    <a:pt x="3523" y="1895"/>
                  </a:lnTo>
                  <a:lnTo>
                    <a:pt x="3570" y="2028"/>
                  </a:lnTo>
                  <a:lnTo>
                    <a:pt x="3618" y="2057"/>
                  </a:lnTo>
                  <a:lnTo>
                    <a:pt x="3665" y="2039"/>
                  </a:lnTo>
                  <a:lnTo>
                    <a:pt x="3713" y="2152"/>
                  </a:lnTo>
                  <a:lnTo>
                    <a:pt x="3761" y="2175"/>
                  </a:lnTo>
                  <a:lnTo>
                    <a:pt x="3808" y="2160"/>
                  </a:lnTo>
                  <a:lnTo>
                    <a:pt x="3856" y="2241"/>
                  </a:lnTo>
                  <a:lnTo>
                    <a:pt x="3903" y="2256"/>
                  </a:lnTo>
                  <a:lnTo>
                    <a:pt x="3951" y="2238"/>
                  </a:lnTo>
                  <a:lnTo>
                    <a:pt x="3998" y="2307"/>
                  </a:lnTo>
                  <a:lnTo>
                    <a:pt x="4046" y="2320"/>
                  </a:lnTo>
                  <a:lnTo>
                    <a:pt x="4094" y="2308"/>
                  </a:lnTo>
                  <a:lnTo>
                    <a:pt x="4142" y="2354"/>
                  </a:lnTo>
                  <a:lnTo>
                    <a:pt x="4190" y="2363"/>
                  </a:lnTo>
                  <a:lnTo>
                    <a:pt x="4237" y="2346"/>
                  </a:lnTo>
                  <a:lnTo>
                    <a:pt x="4285" y="2392"/>
                  </a:lnTo>
                  <a:lnTo>
                    <a:pt x="4332" y="2398"/>
                  </a:lnTo>
                  <a:lnTo>
                    <a:pt x="4380" y="2382"/>
                  </a:lnTo>
                  <a:lnTo>
                    <a:pt x="4427" y="2416"/>
                  </a:lnTo>
                  <a:lnTo>
                    <a:pt x="4475" y="2425"/>
                  </a:lnTo>
                  <a:lnTo>
                    <a:pt x="4523" y="2415"/>
                  </a:lnTo>
                  <a:lnTo>
                    <a:pt x="4570" y="2446"/>
                  </a:lnTo>
                  <a:lnTo>
                    <a:pt x="4618" y="2452"/>
                  </a:lnTo>
                  <a:lnTo>
                    <a:pt x="4665" y="2440"/>
                  </a:lnTo>
                  <a:lnTo>
                    <a:pt x="4713" y="2462"/>
                  </a:lnTo>
                  <a:lnTo>
                    <a:pt x="4713" y="2665"/>
                  </a:lnTo>
                  <a:lnTo>
                    <a:pt x="4665" y="2647"/>
                  </a:lnTo>
                  <a:lnTo>
                    <a:pt x="4618" y="2658"/>
                  </a:lnTo>
                  <a:lnTo>
                    <a:pt x="4570" y="2658"/>
                  </a:lnTo>
                  <a:lnTo>
                    <a:pt x="4523" y="2642"/>
                  </a:lnTo>
                  <a:lnTo>
                    <a:pt x="4475" y="2651"/>
                  </a:lnTo>
                  <a:lnTo>
                    <a:pt x="4427" y="2651"/>
                  </a:lnTo>
                  <a:lnTo>
                    <a:pt x="4380" y="2636"/>
                  </a:lnTo>
                  <a:lnTo>
                    <a:pt x="4332" y="2652"/>
                  </a:lnTo>
                  <a:lnTo>
                    <a:pt x="4285" y="2652"/>
                  </a:lnTo>
                  <a:lnTo>
                    <a:pt x="4237" y="2635"/>
                  </a:lnTo>
                  <a:lnTo>
                    <a:pt x="4190" y="2650"/>
                  </a:lnTo>
                  <a:lnTo>
                    <a:pt x="4142" y="2650"/>
                  </a:lnTo>
                  <a:lnTo>
                    <a:pt x="4094" y="2632"/>
                  </a:lnTo>
                  <a:lnTo>
                    <a:pt x="4046" y="2644"/>
                  </a:lnTo>
                  <a:lnTo>
                    <a:pt x="3998" y="2644"/>
                  </a:lnTo>
                  <a:lnTo>
                    <a:pt x="3951" y="2626"/>
                  </a:lnTo>
                  <a:lnTo>
                    <a:pt x="3903" y="2644"/>
                  </a:lnTo>
                  <a:lnTo>
                    <a:pt x="3856" y="2644"/>
                  </a:lnTo>
                  <a:lnTo>
                    <a:pt x="3808" y="2626"/>
                  </a:lnTo>
                  <a:lnTo>
                    <a:pt x="3761" y="2641"/>
                  </a:lnTo>
                  <a:lnTo>
                    <a:pt x="3713" y="2640"/>
                  </a:lnTo>
                  <a:lnTo>
                    <a:pt x="3665" y="2615"/>
                  </a:lnTo>
                  <a:lnTo>
                    <a:pt x="3618" y="2633"/>
                  </a:lnTo>
                  <a:lnTo>
                    <a:pt x="3570" y="2631"/>
                  </a:lnTo>
                  <a:lnTo>
                    <a:pt x="3523" y="2612"/>
                  </a:lnTo>
                  <a:lnTo>
                    <a:pt x="3475" y="2629"/>
                  </a:lnTo>
                  <a:lnTo>
                    <a:pt x="3428" y="2623"/>
                  </a:lnTo>
                  <a:lnTo>
                    <a:pt x="3380" y="2599"/>
                  </a:lnTo>
                  <a:lnTo>
                    <a:pt x="3333" y="2615"/>
                  </a:lnTo>
                  <a:lnTo>
                    <a:pt x="3285" y="2610"/>
                  </a:lnTo>
                  <a:lnTo>
                    <a:pt x="3237" y="2589"/>
                  </a:lnTo>
                  <a:lnTo>
                    <a:pt x="3190" y="2605"/>
                  </a:lnTo>
                  <a:lnTo>
                    <a:pt x="3142" y="2599"/>
                  </a:lnTo>
                  <a:lnTo>
                    <a:pt x="3095" y="2569"/>
                  </a:lnTo>
                  <a:lnTo>
                    <a:pt x="3047" y="2586"/>
                  </a:lnTo>
                  <a:lnTo>
                    <a:pt x="3000" y="2577"/>
                  </a:lnTo>
                  <a:lnTo>
                    <a:pt x="2952" y="2543"/>
                  </a:lnTo>
                  <a:lnTo>
                    <a:pt x="2903" y="2560"/>
                  </a:lnTo>
                  <a:lnTo>
                    <a:pt x="2856" y="2555"/>
                  </a:lnTo>
                  <a:lnTo>
                    <a:pt x="2808" y="2509"/>
                  </a:lnTo>
                  <a:lnTo>
                    <a:pt x="2761" y="2524"/>
                  </a:lnTo>
                  <a:lnTo>
                    <a:pt x="2713" y="2516"/>
                  </a:lnTo>
                  <a:lnTo>
                    <a:pt x="2666" y="2470"/>
                  </a:lnTo>
                  <a:lnTo>
                    <a:pt x="2618" y="2484"/>
                  </a:lnTo>
                  <a:lnTo>
                    <a:pt x="2571" y="2471"/>
                  </a:lnTo>
                  <a:lnTo>
                    <a:pt x="2523" y="2402"/>
                  </a:lnTo>
                  <a:lnTo>
                    <a:pt x="2475" y="2402"/>
                  </a:lnTo>
                  <a:lnTo>
                    <a:pt x="2428" y="2387"/>
                  </a:lnTo>
                  <a:lnTo>
                    <a:pt x="2380" y="2306"/>
                  </a:lnTo>
                  <a:lnTo>
                    <a:pt x="2333" y="2306"/>
                  </a:lnTo>
                  <a:lnTo>
                    <a:pt x="2285" y="2283"/>
                  </a:lnTo>
                  <a:lnTo>
                    <a:pt x="2238" y="2169"/>
                  </a:lnTo>
                  <a:lnTo>
                    <a:pt x="2190" y="2169"/>
                  </a:lnTo>
                  <a:lnTo>
                    <a:pt x="2142" y="2140"/>
                  </a:lnTo>
                  <a:lnTo>
                    <a:pt x="2095" y="2007"/>
                  </a:lnTo>
                  <a:lnTo>
                    <a:pt x="2047" y="2007"/>
                  </a:lnTo>
                  <a:lnTo>
                    <a:pt x="2000" y="1977"/>
                  </a:lnTo>
                  <a:lnTo>
                    <a:pt x="1952" y="1814"/>
                  </a:lnTo>
                  <a:lnTo>
                    <a:pt x="1905" y="1814"/>
                  </a:lnTo>
                  <a:lnTo>
                    <a:pt x="1857" y="1771"/>
                  </a:lnTo>
                  <a:lnTo>
                    <a:pt x="1810" y="1576"/>
                  </a:lnTo>
                  <a:lnTo>
                    <a:pt x="1761" y="1576"/>
                  </a:lnTo>
                  <a:lnTo>
                    <a:pt x="1713" y="1525"/>
                  </a:lnTo>
                  <a:lnTo>
                    <a:pt x="1666" y="1271"/>
                  </a:lnTo>
                  <a:lnTo>
                    <a:pt x="1618" y="1271"/>
                  </a:lnTo>
                  <a:lnTo>
                    <a:pt x="1571" y="1211"/>
                  </a:lnTo>
                  <a:lnTo>
                    <a:pt x="1523" y="956"/>
                  </a:lnTo>
                  <a:lnTo>
                    <a:pt x="1476" y="956"/>
                  </a:lnTo>
                  <a:lnTo>
                    <a:pt x="1428" y="869"/>
                  </a:lnTo>
                  <a:lnTo>
                    <a:pt x="1380" y="535"/>
                  </a:lnTo>
                  <a:lnTo>
                    <a:pt x="1333" y="535"/>
                  </a:lnTo>
                  <a:lnTo>
                    <a:pt x="1285" y="454"/>
                  </a:lnTo>
                  <a:lnTo>
                    <a:pt x="1238" y="239"/>
                  </a:lnTo>
                  <a:lnTo>
                    <a:pt x="1190" y="157"/>
                  </a:lnTo>
                  <a:lnTo>
                    <a:pt x="1143" y="125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371600" y="917640"/>
              <a:ext cx="7481880" cy="3908520"/>
            </a:xfrm>
            <a:custGeom>
              <a:avLst/>
              <a:gdLst/>
              <a:ahLst/>
              <a:rect l="l" t="t" r="r" b="b"/>
              <a:pathLst>
                <a:path w="4713" h="246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462"/>
                  </a:lnTo>
                  <a:lnTo>
                    <a:pt x="4665" y="2440"/>
                  </a:lnTo>
                  <a:lnTo>
                    <a:pt x="4618" y="2452"/>
                  </a:lnTo>
                  <a:lnTo>
                    <a:pt x="4570" y="2446"/>
                  </a:lnTo>
                  <a:lnTo>
                    <a:pt x="4523" y="2415"/>
                  </a:lnTo>
                  <a:lnTo>
                    <a:pt x="4475" y="2425"/>
                  </a:lnTo>
                  <a:lnTo>
                    <a:pt x="4427" y="2416"/>
                  </a:lnTo>
                  <a:lnTo>
                    <a:pt x="4380" y="2382"/>
                  </a:lnTo>
                  <a:lnTo>
                    <a:pt x="4332" y="2398"/>
                  </a:lnTo>
                  <a:lnTo>
                    <a:pt x="4285" y="2392"/>
                  </a:lnTo>
                  <a:lnTo>
                    <a:pt x="4237" y="2346"/>
                  </a:lnTo>
                  <a:lnTo>
                    <a:pt x="4190" y="2363"/>
                  </a:lnTo>
                  <a:lnTo>
                    <a:pt x="4142" y="2354"/>
                  </a:lnTo>
                  <a:lnTo>
                    <a:pt x="4094" y="2308"/>
                  </a:lnTo>
                  <a:lnTo>
                    <a:pt x="4046" y="2320"/>
                  </a:lnTo>
                  <a:lnTo>
                    <a:pt x="3998" y="2307"/>
                  </a:lnTo>
                  <a:lnTo>
                    <a:pt x="3951" y="2238"/>
                  </a:lnTo>
                  <a:lnTo>
                    <a:pt x="3903" y="2256"/>
                  </a:lnTo>
                  <a:lnTo>
                    <a:pt x="3856" y="2241"/>
                  </a:lnTo>
                  <a:lnTo>
                    <a:pt x="3808" y="2160"/>
                  </a:lnTo>
                  <a:lnTo>
                    <a:pt x="3761" y="2175"/>
                  </a:lnTo>
                  <a:lnTo>
                    <a:pt x="3713" y="2152"/>
                  </a:lnTo>
                  <a:lnTo>
                    <a:pt x="3665" y="2039"/>
                  </a:lnTo>
                  <a:lnTo>
                    <a:pt x="3618" y="2057"/>
                  </a:lnTo>
                  <a:lnTo>
                    <a:pt x="3570" y="2028"/>
                  </a:lnTo>
                  <a:lnTo>
                    <a:pt x="3523" y="1895"/>
                  </a:lnTo>
                  <a:lnTo>
                    <a:pt x="3475" y="1912"/>
                  </a:lnTo>
                  <a:lnTo>
                    <a:pt x="3428" y="1881"/>
                  </a:lnTo>
                  <a:lnTo>
                    <a:pt x="3380" y="1718"/>
                  </a:lnTo>
                  <a:lnTo>
                    <a:pt x="3333" y="1733"/>
                  </a:lnTo>
                  <a:lnTo>
                    <a:pt x="3285" y="1692"/>
                  </a:lnTo>
                  <a:lnTo>
                    <a:pt x="3237" y="1496"/>
                  </a:lnTo>
                  <a:lnTo>
                    <a:pt x="3190" y="1512"/>
                  </a:lnTo>
                  <a:lnTo>
                    <a:pt x="3142" y="1460"/>
                  </a:lnTo>
                  <a:lnTo>
                    <a:pt x="3095" y="1206"/>
                  </a:lnTo>
                  <a:lnTo>
                    <a:pt x="3047" y="1223"/>
                  </a:lnTo>
                  <a:lnTo>
                    <a:pt x="3000" y="1163"/>
                  </a:lnTo>
                  <a:lnTo>
                    <a:pt x="2952" y="908"/>
                  </a:lnTo>
                  <a:lnTo>
                    <a:pt x="2903" y="926"/>
                  </a:lnTo>
                  <a:lnTo>
                    <a:pt x="2856" y="839"/>
                  </a:lnTo>
                  <a:lnTo>
                    <a:pt x="2808" y="504"/>
                  </a:lnTo>
                  <a:lnTo>
                    <a:pt x="2761" y="520"/>
                  </a:lnTo>
                  <a:lnTo>
                    <a:pt x="2713" y="440"/>
                  </a:lnTo>
                  <a:lnTo>
                    <a:pt x="2666" y="225"/>
                  </a:lnTo>
                  <a:lnTo>
                    <a:pt x="2618" y="157"/>
                  </a:lnTo>
                  <a:lnTo>
                    <a:pt x="2571" y="125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71600" y="3873600"/>
              <a:ext cx="7481880" cy="1479600"/>
            </a:xfrm>
            <a:custGeom>
              <a:avLst/>
              <a:gdLst/>
              <a:ahLst/>
              <a:rect l="l" t="t" r="r" b="b"/>
              <a:pathLst>
                <a:path w="4713" h="932">
                  <a:moveTo>
                    <a:pt x="0" y="932"/>
                  </a:moveTo>
                  <a:lnTo>
                    <a:pt x="0" y="932"/>
                  </a:lnTo>
                  <a:lnTo>
                    <a:pt x="48" y="932"/>
                  </a:lnTo>
                  <a:lnTo>
                    <a:pt x="95" y="584"/>
                  </a:lnTo>
                  <a:lnTo>
                    <a:pt x="143" y="584"/>
                  </a:lnTo>
                  <a:lnTo>
                    <a:pt x="190" y="358"/>
                  </a:lnTo>
                  <a:lnTo>
                    <a:pt x="238" y="37"/>
                  </a:lnTo>
                  <a:lnTo>
                    <a:pt x="286" y="132"/>
                  </a:lnTo>
                  <a:lnTo>
                    <a:pt x="333" y="357"/>
                  </a:lnTo>
                  <a:lnTo>
                    <a:pt x="381" y="0"/>
                  </a:lnTo>
                  <a:lnTo>
                    <a:pt x="428" y="181"/>
                  </a:lnTo>
                  <a:lnTo>
                    <a:pt x="476" y="181"/>
                  </a:lnTo>
                  <a:lnTo>
                    <a:pt x="523" y="199"/>
                  </a:lnTo>
                  <a:lnTo>
                    <a:pt x="571" y="391"/>
                  </a:lnTo>
                  <a:lnTo>
                    <a:pt x="620" y="391"/>
                  </a:lnTo>
                  <a:lnTo>
                    <a:pt x="667" y="291"/>
                  </a:lnTo>
                  <a:lnTo>
                    <a:pt x="715" y="419"/>
                  </a:lnTo>
                  <a:lnTo>
                    <a:pt x="762" y="419"/>
                  </a:lnTo>
                  <a:lnTo>
                    <a:pt x="810" y="430"/>
                  </a:lnTo>
                  <a:lnTo>
                    <a:pt x="857" y="534"/>
                  </a:lnTo>
                  <a:lnTo>
                    <a:pt x="905" y="534"/>
                  </a:lnTo>
                  <a:lnTo>
                    <a:pt x="952" y="517"/>
                  </a:lnTo>
                  <a:lnTo>
                    <a:pt x="1000" y="597"/>
                  </a:lnTo>
                  <a:lnTo>
                    <a:pt x="1048" y="597"/>
                  </a:lnTo>
                  <a:lnTo>
                    <a:pt x="1095" y="615"/>
                  </a:lnTo>
                  <a:lnTo>
                    <a:pt x="1143" y="676"/>
                  </a:lnTo>
                  <a:lnTo>
                    <a:pt x="1190" y="676"/>
                  </a:lnTo>
                  <a:lnTo>
                    <a:pt x="1238" y="657"/>
                  </a:lnTo>
                  <a:lnTo>
                    <a:pt x="1285" y="714"/>
                  </a:lnTo>
                  <a:lnTo>
                    <a:pt x="1333" y="714"/>
                  </a:lnTo>
                  <a:lnTo>
                    <a:pt x="1380" y="738"/>
                  </a:lnTo>
                  <a:lnTo>
                    <a:pt x="1428" y="782"/>
                  </a:lnTo>
                  <a:lnTo>
                    <a:pt x="1476" y="782"/>
                  </a:lnTo>
                  <a:lnTo>
                    <a:pt x="1523" y="769"/>
                  </a:lnTo>
                  <a:lnTo>
                    <a:pt x="1571" y="801"/>
                  </a:lnTo>
                  <a:lnTo>
                    <a:pt x="1618" y="801"/>
                  </a:lnTo>
                  <a:lnTo>
                    <a:pt x="1666" y="817"/>
                  </a:lnTo>
                  <a:lnTo>
                    <a:pt x="1713" y="840"/>
                  </a:lnTo>
                  <a:lnTo>
                    <a:pt x="1761" y="840"/>
                  </a:lnTo>
                  <a:lnTo>
                    <a:pt x="1810" y="835"/>
                  </a:lnTo>
                  <a:lnTo>
                    <a:pt x="1857" y="850"/>
                  </a:lnTo>
                  <a:lnTo>
                    <a:pt x="1905" y="850"/>
                  </a:lnTo>
                  <a:lnTo>
                    <a:pt x="1952" y="857"/>
                  </a:lnTo>
                  <a:lnTo>
                    <a:pt x="2000" y="869"/>
                  </a:lnTo>
                  <a:lnTo>
                    <a:pt x="2047" y="869"/>
                  </a:lnTo>
                  <a:lnTo>
                    <a:pt x="2095" y="861"/>
                  </a:lnTo>
                  <a:lnTo>
                    <a:pt x="2142" y="876"/>
                  </a:lnTo>
                  <a:lnTo>
                    <a:pt x="2190" y="876"/>
                  </a:lnTo>
                  <a:lnTo>
                    <a:pt x="2238" y="883"/>
                  </a:lnTo>
                  <a:lnTo>
                    <a:pt x="2285" y="895"/>
                  </a:lnTo>
                  <a:lnTo>
                    <a:pt x="2333" y="895"/>
                  </a:lnTo>
                  <a:lnTo>
                    <a:pt x="2380" y="893"/>
                  </a:lnTo>
                  <a:lnTo>
                    <a:pt x="2428" y="899"/>
                  </a:lnTo>
                  <a:lnTo>
                    <a:pt x="2475" y="899"/>
                  </a:lnTo>
                  <a:lnTo>
                    <a:pt x="2523" y="904"/>
                  </a:lnTo>
                  <a:lnTo>
                    <a:pt x="2571" y="910"/>
                  </a:lnTo>
                  <a:lnTo>
                    <a:pt x="2618" y="910"/>
                  </a:lnTo>
                  <a:lnTo>
                    <a:pt x="2666" y="902"/>
                  </a:lnTo>
                  <a:lnTo>
                    <a:pt x="2713" y="904"/>
                  </a:lnTo>
                  <a:lnTo>
                    <a:pt x="2761" y="904"/>
                  </a:lnTo>
                  <a:lnTo>
                    <a:pt x="2808" y="911"/>
                  </a:lnTo>
                  <a:lnTo>
                    <a:pt x="2856" y="912"/>
                  </a:lnTo>
                  <a:lnTo>
                    <a:pt x="2903" y="912"/>
                  </a:lnTo>
                  <a:lnTo>
                    <a:pt x="2952" y="912"/>
                  </a:lnTo>
                  <a:lnTo>
                    <a:pt x="3000" y="912"/>
                  </a:lnTo>
                  <a:lnTo>
                    <a:pt x="3047" y="912"/>
                  </a:lnTo>
                  <a:lnTo>
                    <a:pt x="3095" y="912"/>
                  </a:lnTo>
                  <a:lnTo>
                    <a:pt x="3142" y="912"/>
                  </a:lnTo>
                  <a:lnTo>
                    <a:pt x="3190" y="912"/>
                  </a:lnTo>
                  <a:lnTo>
                    <a:pt x="3237" y="914"/>
                  </a:lnTo>
                  <a:lnTo>
                    <a:pt x="3285" y="914"/>
                  </a:lnTo>
                  <a:lnTo>
                    <a:pt x="3333" y="914"/>
                  </a:lnTo>
                  <a:lnTo>
                    <a:pt x="3380" y="915"/>
                  </a:lnTo>
                  <a:lnTo>
                    <a:pt x="3428" y="915"/>
                  </a:lnTo>
                  <a:lnTo>
                    <a:pt x="3475" y="915"/>
                  </a:lnTo>
                  <a:lnTo>
                    <a:pt x="3523" y="914"/>
                  </a:lnTo>
                  <a:lnTo>
                    <a:pt x="3570" y="914"/>
                  </a:lnTo>
                  <a:lnTo>
                    <a:pt x="3618" y="914"/>
                  </a:lnTo>
                  <a:lnTo>
                    <a:pt x="3665" y="912"/>
                  </a:lnTo>
                  <a:lnTo>
                    <a:pt x="3713" y="912"/>
                  </a:lnTo>
                  <a:lnTo>
                    <a:pt x="3761" y="912"/>
                  </a:lnTo>
                  <a:lnTo>
                    <a:pt x="3808" y="917"/>
                  </a:lnTo>
                  <a:lnTo>
                    <a:pt x="3856" y="917"/>
                  </a:lnTo>
                  <a:lnTo>
                    <a:pt x="3903" y="917"/>
                  </a:lnTo>
                  <a:lnTo>
                    <a:pt x="3951" y="912"/>
                  </a:lnTo>
                  <a:lnTo>
                    <a:pt x="3998" y="912"/>
                  </a:lnTo>
                  <a:lnTo>
                    <a:pt x="4046" y="912"/>
                  </a:lnTo>
                  <a:lnTo>
                    <a:pt x="4094" y="920"/>
                  </a:lnTo>
                  <a:lnTo>
                    <a:pt x="4142" y="920"/>
                  </a:lnTo>
                  <a:lnTo>
                    <a:pt x="4190" y="920"/>
                  </a:lnTo>
                  <a:lnTo>
                    <a:pt x="4237" y="915"/>
                  </a:lnTo>
                  <a:lnTo>
                    <a:pt x="4285" y="915"/>
                  </a:lnTo>
                  <a:lnTo>
                    <a:pt x="4332" y="915"/>
                  </a:lnTo>
                  <a:lnTo>
                    <a:pt x="4380" y="914"/>
                  </a:lnTo>
                  <a:lnTo>
                    <a:pt x="4427" y="914"/>
                  </a:lnTo>
                  <a:lnTo>
                    <a:pt x="4475" y="914"/>
                  </a:lnTo>
                  <a:lnTo>
                    <a:pt x="4523" y="922"/>
                  </a:lnTo>
                  <a:lnTo>
                    <a:pt x="4570" y="922"/>
                  </a:lnTo>
                  <a:lnTo>
                    <a:pt x="4618" y="922"/>
                  </a:lnTo>
                  <a:lnTo>
                    <a:pt x="4665" y="920"/>
                  </a:lnTo>
                  <a:lnTo>
                    <a:pt x="4713" y="920"/>
                  </a:lnTo>
                  <a:lnTo>
                    <a:pt x="4713" y="932"/>
                  </a:lnTo>
                  <a:lnTo>
                    <a:pt x="4665" y="932"/>
                  </a:lnTo>
                  <a:lnTo>
                    <a:pt x="4618" y="932"/>
                  </a:lnTo>
                  <a:lnTo>
                    <a:pt x="4570" y="932"/>
                  </a:lnTo>
                  <a:lnTo>
                    <a:pt x="4523" y="932"/>
                  </a:lnTo>
                  <a:lnTo>
                    <a:pt x="4475" y="932"/>
                  </a:lnTo>
                  <a:lnTo>
                    <a:pt x="4427" y="932"/>
                  </a:lnTo>
                  <a:lnTo>
                    <a:pt x="4380" y="932"/>
                  </a:lnTo>
                  <a:lnTo>
                    <a:pt x="4332" y="932"/>
                  </a:lnTo>
                  <a:lnTo>
                    <a:pt x="4285" y="932"/>
                  </a:lnTo>
                  <a:lnTo>
                    <a:pt x="4237" y="932"/>
                  </a:lnTo>
                  <a:lnTo>
                    <a:pt x="4190" y="932"/>
                  </a:lnTo>
                  <a:lnTo>
                    <a:pt x="4142" y="932"/>
                  </a:lnTo>
                  <a:lnTo>
                    <a:pt x="4094" y="932"/>
                  </a:lnTo>
                  <a:lnTo>
                    <a:pt x="4046" y="932"/>
                  </a:lnTo>
                  <a:lnTo>
                    <a:pt x="3998" y="932"/>
                  </a:lnTo>
                  <a:lnTo>
                    <a:pt x="3951" y="932"/>
                  </a:lnTo>
                  <a:lnTo>
                    <a:pt x="3903" y="932"/>
                  </a:lnTo>
                  <a:lnTo>
                    <a:pt x="3856" y="932"/>
                  </a:lnTo>
                  <a:lnTo>
                    <a:pt x="3808" y="932"/>
                  </a:lnTo>
                  <a:lnTo>
                    <a:pt x="3761" y="932"/>
                  </a:lnTo>
                  <a:lnTo>
                    <a:pt x="3713" y="932"/>
                  </a:lnTo>
                  <a:lnTo>
                    <a:pt x="3665" y="932"/>
                  </a:lnTo>
                  <a:lnTo>
                    <a:pt x="3618" y="932"/>
                  </a:lnTo>
                  <a:lnTo>
                    <a:pt x="3570" y="932"/>
                  </a:lnTo>
                  <a:lnTo>
                    <a:pt x="3523" y="932"/>
                  </a:lnTo>
                  <a:lnTo>
                    <a:pt x="3475" y="932"/>
                  </a:lnTo>
                  <a:lnTo>
                    <a:pt x="3428" y="932"/>
                  </a:lnTo>
                  <a:lnTo>
                    <a:pt x="3380" y="932"/>
                  </a:lnTo>
                  <a:lnTo>
                    <a:pt x="3333" y="932"/>
                  </a:lnTo>
                  <a:lnTo>
                    <a:pt x="3285" y="932"/>
                  </a:lnTo>
                  <a:lnTo>
                    <a:pt x="3237" y="932"/>
                  </a:lnTo>
                  <a:lnTo>
                    <a:pt x="3190" y="932"/>
                  </a:lnTo>
                  <a:lnTo>
                    <a:pt x="3142" y="932"/>
                  </a:lnTo>
                  <a:lnTo>
                    <a:pt x="3095" y="932"/>
                  </a:lnTo>
                  <a:lnTo>
                    <a:pt x="3047" y="932"/>
                  </a:lnTo>
                  <a:lnTo>
                    <a:pt x="3000" y="932"/>
                  </a:lnTo>
                  <a:lnTo>
                    <a:pt x="2952" y="932"/>
                  </a:lnTo>
                  <a:lnTo>
                    <a:pt x="2903" y="932"/>
                  </a:lnTo>
                  <a:lnTo>
                    <a:pt x="2856" y="932"/>
                  </a:lnTo>
                  <a:lnTo>
                    <a:pt x="2808" y="932"/>
                  </a:lnTo>
                  <a:lnTo>
                    <a:pt x="2761" y="932"/>
                  </a:lnTo>
                  <a:lnTo>
                    <a:pt x="2713" y="932"/>
                  </a:lnTo>
                  <a:lnTo>
                    <a:pt x="2666" y="932"/>
                  </a:lnTo>
                  <a:lnTo>
                    <a:pt x="2618" y="932"/>
                  </a:lnTo>
                  <a:lnTo>
                    <a:pt x="2571" y="932"/>
                  </a:lnTo>
                  <a:lnTo>
                    <a:pt x="2523" y="932"/>
                  </a:lnTo>
                  <a:lnTo>
                    <a:pt x="2475" y="932"/>
                  </a:lnTo>
                  <a:lnTo>
                    <a:pt x="2428" y="932"/>
                  </a:lnTo>
                  <a:lnTo>
                    <a:pt x="2380" y="932"/>
                  </a:lnTo>
                  <a:lnTo>
                    <a:pt x="2333" y="932"/>
                  </a:lnTo>
                  <a:lnTo>
                    <a:pt x="2285" y="932"/>
                  </a:lnTo>
                  <a:lnTo>
                    <a:pt x="2238" y="932"/>
                  </a:lnTo>
                  <a:lnTo>
                    <a:pt x="2190" y="932"/>
                  </a:lnTo>
                  <a:lnTo>
                    <a:pt x="2142" y="932"/>
                  </a:lnTo>
                  <a:lnTo>
                    <a:pt x="2095" y="932"/>
                  </a:lnTo>
                  <a:lnTo>
                    <a:pt x="2047" y="932"/>
                  </a:lnTo>
                  <a:lnTo>
                    <a:pt x="2000" y="932"/>
                  </a:lnTo>
                  <a:lnTo>
                    <a:pt x="1952" y="932"/>
                  </a:lnTo>
                  <a:lnTo>
                    <a:pt x="1905" y="932"/>
                  </a:lnTo>
                  <a:lnTo>
                    <a:pt x="1857" y="932"/>
                  </a:lnTo>
                  <a:lnTo>
                    <a:pt x="1810" y="932"/>
                  </a:lnTo>
                  <a:lnTo>
                    <a:pt x="1761" y="932"/>
                  </a:lnTo>
                  <a:lnTo>
                    <a:pt x="1713" y="932"/>
                  </a:lnTo>
                  <a:lnTo>
                    <a:pt x="1666" y="932"/>
                  </a:lnTo>
                  <a:lnTo>
                    <a:pt x="1618" y="932"/>
                  </a:lnTo>
                  <a:lnTo>
                    <a:pt x="1571" y="932"/>
                  </a:lnTo>
                  <a:lnTo>
                    <a:pt x="1523" y="932"/>
                  </a:lnTo>
                  <a:lnTo>
                    <a:pt x="1476" y="932"/>
                  </a:lnTo>
                  <a:lnTo>
                    <a:pt x="1428" y="932"/>
                  </a:lnTo>
                  <a:lnTo>
                    <a:pt x="1380" y="932"/>
                  </a:lnTo>
                  <a:lnTo>
                    <a:pt x="1333" y="932"/>
                  </a:lnTo>
                  <a:lnTo>
                    <a:pt x="1285" y="932"/>
                  </a:lnTo>
                  <a:lnTo>
                    <a:pt x="1238" y="932"/>
                  </a:lnTo>
                  <a:lnTo>
                    <a:pt x="1190" y="932"/>
                  </a:lnTo>
                  <a:lnTo>
                    <a:pt x="1143" y="932"/>
                  </a:lnTo>
                  <a:lnTo>
                    <a:pt x="1095" y="932"/>
                  </a:lnTo>
                  <a:lnTo>
                    <a:pt x="1048" y="932"/>
                  </a:lnTo>
                  <a:lnTo>
                    <a:pt x="1000" y="932"/>
                  </a:lnTo>
                  <a:lnTo>
                    <a:pt x="952" y="932"/>
                  </a:lnTo>
                  <a:lnTo>
                    <a:pt x="905" y="932"/>
                  </a:lnTo>
                  <a:lnTo>
                    <a:pt x="857" y="932"/>
                  </a:lnTo>
                  <a:lnTo>
                    <a:pt x="810" y="932"/>
                  </a:lnTo>
                  <a:lnTo>
                    <a:pt x="762" y="932"/>
                  </a:lnTo>
                  <a:lnTo>
                    <a:pt x="715" y="932"/>
                  </a:lnTo>
                  <a:lnTo>
                    <a:pt x="667" y="932"/>
                  </a:lnTo>
                  <a:lnTo>
                    <a:pt x="620" y="932"/>
                  </a:lnTo>
                  <a:lnTo>
                    <a:pt x="571" y="932"/>
                  </a:lnTo>
                  <a:lnTo>
                    <a:pt x="523" y="932"/>
                  </a:lnTo>
                  <a:lnTo>
                    <a:pt x="476" y="932"/>
                  </a:lnTo>
                  <a:lnTo>
                    <a:pt x="428" y="932"/>
                  </a:lnTo>
                  <a:lnTo>
                    <a:pt x="381" y="932"/>
                  </a:lnTo>
                  <a:lnTo>
                    <a:pt x="333" y="932"/>
                  </a:lnTo>
                  <a:lnTo>
                    <a:pt x="286" y="932"/>
                  </a:lnTo>
                  <a:lnTo>
                    <a:pt x="238" y="932"/>
                  </a:lnTo>
                  <a:lnTo>
                    <a:pt x="190" y="932"/>
                  </a:lnTo>
                  <a:lnTo>
                    <a:pt x="143" y="932"/>
                  </a:lnTo>
                  <a:lnTo>
                    <a:pt x="95" y="932"/>
                  </a:lnTo>
                  <a:lnTo>
                    <a:pt x="48" y="932"/>
                  </a:lnTo>
                  <a:lnTo>
                    <a:pt x="0" y="9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371600" y="917640"/>
              <a:ext cx="7481880" cy="4435560"/>
            </a:xfrm>
            <a:custGeom>
              <a:avLst/>
              <a:gdLst/>
              <a:ahLst/>
              <a:rect l="l" t="t" r="r" b="b"/>
              <a:pathLst>
                <a:path w="4713" h="2794">
                  <a:moveTo>
                    <a:pt x="0" y="2794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254"/>
                  </a:lnTo>
                  <a:lnTo>
                    <a:pt x="286" y="349"/>
                  </a:lnTo>
                  <a:lnTo>
                    <a:pt x="333" y="574"/>
                  </a:lnTo>
                  <a:lnTo>
                    <a:pt x="381" y="770"/>
                  </a:lnTo>
                  <a:lnTo>
                    <a:pt x="428" y="951"/>
                  </a:lnTo>
                  <a:lnTo>
                    <a:pt x="476" y="951"/>
                  </a:lnTo>
                  <a:lnTo>
                    <a:pt x="523" y="1249"/>
                  </a:lnTo>
                  <a:lnTo>
                    <a:pt x="571" y="1443"/>
                  </a:lnTo>
                  <a:lnTo>
                    <a:pt x="620" y="1443"/>
                  </a:lnTo>
                  <a:lnTo>
                    <a:pt x="667" y="1541"/>
                  </a:lnTo>
                  <a:lnTo>
                    <a:pt x="715" y="1668"/>
                  </a:lnTo>
                  <a:lnTo>
                    <a:pt x="762" y="1668"/>
                  </a:lnTo>
                  <a:lnTo>
                    <a:pt x="810" y="1814"/>
                  </a:lnTo>
                  <a:lnTo>
                    <a:pt x="857" y="1918"/>
                  </a:lnTo>
                  <a:lnTo>
                    <a:pt x="905" y="1918"/>
                  </a:lnTo>
                  <a:lnTo>
                    <a:pt x="952" y="2005"/>
                  </a:lnTo>
                  <a:lnTo>
                    <a:pt x="1000" y="2086"/>
                  </a:lnTo>
                  <a:lnTo>
                    <a:pt x="1048" y="2086"/>
                  </a:lnTo>
                  <a:lnTo>
                    <a:pt x="1095" y="2181"/>
                  </a:lnTo>
                  <a:lnTo>
                    <a:pt x="1143" y="2242"/>
                  </a:lnTo>
                  <a:lnTo>
                    <a:pt x="1190" y="2242"/>
                  </a:lnTo>
                  <a:lnTo>
                    <a:pt x="1238" y="2281"/>
                  </a:lnTo>
                  <a:lnTo>
                    <a:pt x="1285" y="2337"/>
                  </a:lnTo>
                  <a:lnTo>
                    <a:pt x="1333" y="2337"/>
                  </a:lnTo>
                  <a:lnTo>
                    <a:pt x="1380" y="2404"/>
                  </a:lnTo>
                  <a:lnTo>
                    <a:pt x="1428" y="2447"/>
                  </a:lnTo>
                  <a:lnTo>
                    <a:pt x="1476" y="2447"/>
                  </a:lnTo>
                  <a:lnTo>
                    <a:pt x="1523" y="2470"/>
                  </a:lnTo>
                  <a:lnTo>
                    <a:pt x="1571" y="2502"/>
                  </a:lnTo>
                  <a:lnTo>
                    <a:pt x="1618" y="2502"/>
                  </a:lnTo>
                  <a:lnTo>
                    <a:pt x="1666" y="2547"/>
                  </a:lnTo>
                  <a:lnTo>
                    <a:pt x="1713" y="2569"/>
                  </a:lnTo>
                  <a:lnTo>
                    <a:pt x="1761" y="2569"/>
                  </a:lnTo>
                  <a:lnTo>
                    <a:pt x="1810" y="2589"/>
                  </a:lnTo>
                  <a:lnTo>
                    <a:pt x="1857" y="2604"/>
                  </a:lnTo>
                  <a:lnTo>
                    <a:pt x="1905" y="2604"/>
                  </a:lnTo>
                  <a:lnTo>
                    <a:pt x="1952" y="2630"/>
                  </a:lnTo>
                  <a:lnTo>
                    <a:pt x="2000" y="2642"/>
                  </a:lnTo>
                  <a:lnTo>
                    <a:pt x="2047" y="2642"/>
                  </a:lnTo>
                  <a:lnTo>
                    <a:pt x="2095" y="2655"/>
                  </a:lnTo>
                  <a:lnTo>
                    <a:pt x="2142" y="2670"/>
                  </a:lnTo>
                  <a:lnTo>
                    <a:pt x="2190" y="2670"/>
                  </a:lnTo>
                  <a:lnTo>
                    <a:pt x="2238" y="2689"/>
                  </a:lnTo>
                  <a:lnTo>
                    <a:pt x="2285" y="2702"/>
                  </a:lnTo>
                  <a:lnTo>
                    <a:pt x="2333" y="2702"/>
                  </a:lnTo>
                  <a:lnTo>
                    <a:pt x="2380" y="2710"/>
                  </a:lnTo>
                  <a:lnTo>
                    <a:pt x="2428" y="2717"/>
                  </a:lnTo>
                  <a:lnTo>
                    <a:pt x="2475" y="2717"/>
                  </a:lnTo>
                  <a:lnTo>
                    <a:pt x="2523" y="2727"/>
                  </a:lnTo>
                  <a:lnTo>
                    <a:pt x="2571" y="2733"/>
                  </a:lnTo>
                  <a:lnTo>
                    <a:pt x="2618" y="2733"/>
                  </a:lnTo>
                  <a:lnTo>
                    <a:pt x="2666" y="2730"/>
                  </a:lnTo>
                  <a:lnTo>
                    <a:pt x="2713" y="2733"/>
                  </a:lnTo>
                  <a:lnTo>
                    <a:pt x="2761" y="2733"/>
                  </a:lnTo>
                  <a:lnTo>
                    <a:pt x="2808" y="2743"/>
                  </a:lnTo>
                  <a:lnTo>
                    <a:pt x="2856" y="2743"/>
                  </a:lnTo>
                  <a:lnTo>
                    <a:pt x="2903" y="2743"/>
                  </a:lnTo>
                  <a:lnTo>
                    <a:pt x="2952" y="2743"/>
                  </a:lnTo>
                  <a:lnTo>
                    <a:pt x="3000" y="2743"/>
                  </a:lnTo>
                  <a:lnTo>
                    <a:pt x="3047" y="2743"/>
                  </a:lnTo>
                  <a:lnTo>
                    <a:pt x="3095" y="2744"/>
                  </a:lnTo>
                  <a:lnTo>
                    <a:pt x="3142" y="2745"/>
                  </a:lnTo>
                  <a:lnTo>
                    <a:pt x="3190" y="2745"/>
                  </a:lnTo>
                  <a:lnTo>
                    <a:pt x="3237" y="2746"/>
                  </a:lnTo>
                  <a:lnTo>
                    <a:pt x="3285" y="2746"/>
                  </a:lnTo>
                  <a:lnTo>
                    <a:pt x="3333" y="2746"/>
                  </a:lnTo>
                  <a:lnTo>
                    <a:pt x="3380" y="2748"/>
                  </a:lnTo>
                  <a:lnTo>
                    <a:pt x="3428" y="2748"/>
                  </a:lnTo>
                  <a:lnTo>
                    <a:pt x="3475" y="2748"/>
                  </a:lnTo>
                  <a:lnTo>
                    <a:pt x="3523" y="2747"/>
                  </a:lnTo>
                  <a:lnTo>
                    <a:pt x="3570" y="2747"/>
                  </a:lnTo>
                  <a:lnTo>
                    <a:pt x="3618" y="2747"/>
                  </a:lnTo>
                  <a:lnTo>
                    <a:pt x="3665" y="2746"/>
                  </a:lnTo>
                  <a:lnTo>
                    <a:pt x="3713" y="2746"/>
                  </a:lnTo>
                  <a:lnTo>
                    <a:pt x="3761" y="2746"/>
                  </a:lnTo>
                  <a:lnTo>
                    <a:pt x="3808" y="2750"/>
                  </a:lnTo>
                  <a:lnTo>
                    <a:pt x="3856" y="2750"/>
                  </a:lnTo>
                  <a:lnTo>
                    <a:pt x="3903" y="2750"/>
                  </a:lnTo>
                  <a:lnTo>
                    <a:pt x="3951" y="2746"/>
                  </a:lnTo>
                  <a:lnTo>
                    <a:pt x="3998" y="2746"/>
                  </a:lnTo>
                  <a:lnTo>
                    <a:pt x="4046" y="2746"/>
                  </a:lnTo>
                  <a:lnTo>
                    <a:pt x="4094" y="2753"/>
                  </a:lnTo>
                  <a:lnTo>
                    <a:pt x="4142" y="2753"/>
                  </a:lnTo>
                  <a:lnTo>
                    <a:pt x="4190" y="2753"/>
                  </a:lnTo>
                  <a:lnTo>
                    <a:pt x="4237" y="2749"/>
                  </a:lnTo>
                  <a:lnTo>
                    <a:pt x="4285" y="2749"/>
                  </a:lnTo>
                  <a:lnTo>
                    <a:pt x="4332" y="2749"/>
                  </a:lnTo>
                  <a:lnTo>
                    <a:pt x="4380" y="2748"/>
                  </a:lnTo>
                  <a:lnTo>
                    <a:pt x="4427" y="2748"/>
                  </a:lnTo>
                  <a:lnTo>
                    <a:pt x="4475" y="2748"/>
                  </a:lnTo>
                  <a:lnTo>
                    <a:pt x="4523" y="2756"/>
                  </a:lnTo>
                  <a:lnTo>
                    <a:pt x="4570" y="2756"/>
                  </a:lnTo>
                  <a:lnTo>
                    <a:pt x="4618" y="2756"/>
                  </a:lnTo>
                  <a:lnTo>
                    <a:pt x="4665" y="2754"/>
                  </a:lnTo>
                  <a:lnTo>
                    <a:pt x="4713" y="2754"/>
                  </a:lnTo>
                  <a:lnTo>
                    <a:pt x="4713" y="2782"/>
                  </a:lnTo>
                  <a:lnTo>
                    <a:pt x="4665" y="2782"/>
                  </a:lnTo>
                  <a:lnTo>
                    <a:pt x="4618" y="2784"/>
                  </a:lnTo>
                  <a:lnTo>
                    <a:pt x="4570" y="2784"/>
                  </a:lnTo>
                  <a:lnTo>
                    <a:pt x="4523" y="2784"/>
                  </a:lnTo>
                  <a:lnTo>
                    <a:pt x="4475" y="2776"/>
                  </a:lnTo>
                  <a:lnTo>
                    <a:pt x="4427" y="2776"/>
                  </a:lnTo>
                  <a:lnTo>
                    <a:pt x="4380" y="2776"/>
                  </a:lnTo>
                  <a:lnTo>
                    <a:pt x="4332" y="2777"/>
                  </a:lnTo>
                  <a:lnTo>
                    <a:pt x="4285" y="2777"/>
                  </a:lnTo>
                  <a:lnTo>
                    <a:pt x="4237" y="2777"/>
                  </a:lnTo>
                  <a:lnTo>
                    <a:pt x="4190" y="2782"/>
                  </a:lnTo>
                  <a:lnTo>
                    <a:pt x="4142" y="2782"/>
                  </a:lnTo>
                  <a:lnTo>
                    <a:pt x="4094" y="2782"/>
                  </a:lnTo>
                  <a:lnTo>
                    <a:pt x="4046" y="2774"/>
                  </a:lnTo>
                  <a:lnTo>
                    <a:pt x="3998" y="2774"/>
                  </a:lnTo>
                  <a:lnTo>
                    <a:pt x="3951" y="2774"/>
                  </a:lnTo>
                  <a:lnTo>
                    <a:pt x="3903" y="2779"/>
                  </a:lnTo>
                  <a:lnTo>
                    <a:pt x="3856" y="2779"/>
                  </a:lnTo>
                  <a:lnTo>
                    <a:pt x="3808" y="2779"/>
                  </a:lnTo>
                  <a:lnTo>
                    <a:pt x="3761" y="2774"/>
                  </a:lnTo>
                  <a:lnTo>
                    <a:pt x="3713" y="2774"/>
                  </a:lnTo>
                  <a:lnTo>
                    <a:pt x="3665" y="2774"/>
                  </a:lnTo>
                  <a:lnTo>
                    <a:pt x="3618" y="2776"/>
                  </a:lnTo>
                  <a:lnTo>
                    <a:pt x="3570" y="2776"/>
                  </a:lnTo>
                  <a:lnTo>
                    <a:pt x="3523" y="2776"/>
                  </a:lnTo>
                  <a:lnTo>
                    <a:pt x="3475" y="2777"/>
                  </a:lnTo>
                  <a:lnTo>
                    <a:pt x="3428" y="2777"/>
                  </a:lnTo>
                  <a:lnTo>
                    <a:pt x="3380" y="2777"/>
                  </a:lnTo>
                  <a:lnTo>
                    <a:pt x="3333" y="2776"/>
                  </a:lnTo>
                  <a:lnTo>
                    <a:pt x="3285" y="2776"/>
                  </a:lnTo>
                  <a:lnTo>
                    <a:pt x="3237" y="2776"/>
                  </a:lnTo>
                  <a:lnTo>
                    <a:pt x="3190" y="2774"/>
                  </a:lnTo>
                  <a:lnTo>
                    <a:pt x="3142" y="2774"/>
                  </a:lnTo>
                  <a:lnTo>
                    <a:pt x="3095" y="2774"/>
                  </a:lnTo>
                  <a:lnTo>
                    <a:pt x="3047" y="2774"/>
                  </a:lnTo>
                  <a:lnTo>
                    <a:pt x="3000" y="2774"/>
                  </a:lnTo>
                  <a:lnTo>
                    <a:pt x="2952" y="2774"/>
                  </a:lnTo>
                  <a:lnTo>
                    <a:pt x="2903" y="2774"/>
                  </a:lnTo>
                  <a:lnTo>
                    <a:pt x="2856" y="2774"/>
                  </a:lnTo>
                  <a:lnTo>
                    <a:pt x="2808" y="2773"/>
                  </a:lnTo>
                  <a:lnTo>
                    <a:pt x="2761" y="2766"/>
                  </a:lnTo>
                  <a:lnTo>
                    <a:pt x="2713" y="2766"/>
                  </a:lnTo>
                  <a:lnTo>
                    <a:pt x="2666" y="2764"/>
                  </a:lnTo>
                  <a:lnTo>
                    <a:pt x="2618" y="2772"/>
                  </a:lnTo>
                  <a:lnTo>
                    <a:pt x="2571" y="2772"/>
                  </a:lnTo>
                  <a:lnTo>
                    <a:pt x="2523" y="2766"/>
                  </a:lnTo>
                  <a:lnTo>
                    <a:pt x="2475" y="2761"/>
                  </a:lnTo>
                  <a:lnTo>
                    <a:pt x="2428" y="2761"/>
                  </a:lnTo>
                  <a:lnTo>
                    <a:pt x="2380" y="2755"/>
                  </a:lnTo>
                  <a:lnTo>
                    <a:pt x="2333" y="2757"/>
                  </a:lnTo>
                  <a:lnTo>
                    <a:pt x="2285" y="2757"/>
                  </a:lnTo>
                  <a:lnTo>
                    <a:pt x="2238" y="2745"/>
                  </a:lnTo>
                  <a:lnTo>
                    <a:pt x="2190" y="2738"/>
                  </a:lnTo>
                  <a:lnTo>
                    <a:pt x="2142" y="2738"/>
                  </a:lnTo>
                  <a:lnTo>
                    <a:pt x="2095" y="2723"/>
                  </a:lnTo>
                  <a:lnTo>
                    <a:pt x="2047" y="2731"/>
                  </a:lnTo>
                  <a:lnTo>
                    <a:pt x="2000" y="2731"/>
                  </a:lnTo>
                  <a:lnTo>
                    <a:pt x="1952" y="2719"/>
                  </a:lnTo>
                  <a:lnTo>
                    <a:pt x="1905" y="2712"/>
                  </a:lnTo>
                  <a:lnTo>
                    <a:pt x="1857" y="2712"/>
                  </a:lnTo>
                  <a:lnTo>
                    <a:pt x="1810" y="2697"/>
                  </a:lnTo>
                  <a:lnTo>
                    <a:pt x="1761" y="2702"/>
                  </a:lnTo>
                  <a:lnTo>
                    <a:pt x="1713" y="2702"/>
                  </a:lnTo>
                  <a:lnTo>
                    <a:pt x="1666" y="2679"/>
                  </a:lnTo>
                  <a:lnTo>
                    <a:pt x="1618" y="2663"/>
                  </a:lnTo>
                  <a:lnTo>
                    <a:pt x="1571" y="2663"/>
                  </a:lnTo>
                  <a:lnTo>
                    <a:pt x="1523" y="2631"/>
                  </a:lnTo>
                  <a:lnTo>
                    <a:pt x="1476" y="2644"/>
                  </a:lnTo>
                  <a:lnTo>
                    <a:pt x="1428" y="2644"/>
                  </a:lnTo>
                  <a:lnTo>
                    <a:pt x="1380" y="2600"/>
                  </a:lnTo>
                  <a:lnTo>
                    <a:pt x="1333" y="2576"/>
                  </a:lnTo>
                  <a:lnTo>
                    <a:pt x="1285" y="2576"/>
                  </a:lnTo>
                  <a:lnTo>
                    <a:pt x="1238" y="2519"/>
                  </a:lnTo>
                  <a:lnTo>
                    <a:pt x="1190" y="2538"/>
                  </a:lnTo>
                  <a:lnTo>
                    <a:pt x="1143" y="2538"/>
                  </a:lnTo>
                  <a:lnTo>
                    <a:pt x="1095" y="2477"/>
                  </a:lnTo>
                  <a:lnTo>
                    <a:pt x="1048" y="2459"/>
                  </a:lnTo>
                  <a:lnTo>
                    <a:pt x="1000" y="2459"/>
                  </a:lnTo>
                  <a:lnTo>
                    <a:pt x="952" y="2379"/>
                  </a:lnTo>
                  <a:lnTo>
                    <a:pt x="905" y="2396"/>
                  </a:lnTo>
                  <a:lnTo>
                    <a:pt x="857" y="2396"/>
                  </a:lnTo>
                  <a:lnTo>
                    <a:pt x="810" y="2292"/>
                  </a:lnTo>
                  <a:lnTo>
                    <a:pt x="762" y="2281"/>
                  </a:lnTo>
                  <a:lnTo>
                    <a:pt x="715" y="2281"/>
                  </a:lnTo>
                  <a:lnTo>
                    <a:pt x="667" y="2153"/>
                  </a:lnTo>
                  <a:lnTo>
                    <a:pt x="620" y="2253"/>
                  </a:lnTo>
                  <a:lnTo>
                    <a:pt x="571" y="2253"/>
                  </a:lnTo>
                  <a:lnTo>
                    <a:pt x="523" y="2061"/>
                  </a:lnTo>
                  <a:lnTo>
                    <a:pt x="476" y="2043"/>
                  </a:lnTo>
                  <a:lnTo>
                    <a:pt x="428" y="2043"/>
                  </a:lnTo>
                  <a:lnTo>
                    <a:pt x="381" y="1862"/>
                  </a:lnTo>
                  <a:lnTo>
                    <a:pt x="333" y="2219"/>
                  </a:lnTo>
                  <a:lnTo>
                    <a:pt x="286" y="1994"/>
                  </a:lnTo>
                  <a:lnTo>
                    <a:pt x="238" y="1899"/>
                  </a:lnTo>
                  <a:lnTo>
                    <a:pt x="190" y="2220"/>
                  </a:lnTo>
                  <a:lnTo>
                    <a:pt x="143" y="2446"/>
                  </a:lnTo>
                  <a:lnTo>
                    <a:pt x="95" y="2446"/>
                  </a:lnTo>
                  <a:lnTo>
                    <a:pt x="48" y="2794"/>
                  </a:lnTo>
                  <a:lnTo>
                    <a:pt x="0" y="27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1600" y="917640"/>
              <a:ext cx="7481880" cy="4375080"/>
            </a:xfrm>
            <a:custGeom>
              <a:avLst/>
              <a:gdLst/>
              <a:ahLst/>
              <a:rect l="l" t="t" r="r" b="b"/>
              <a:pathLst>
                <a:path w="4713" h="2756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125"/>
                  </a:lnTo>
                  <a:lnTo>
                    <a:pt x="620" y="170"/>
                  </a:lnTo>
                  <a:lnTo>
                    <a:pt x="667" y="239"/>
                  </a:lnTo>
                  <a:lnTo>
                    <a:pt x="715" y="454"/>
                  </a:lnTo>
                  <a:lnTo>
                    <a:pt x="762" y="558"/>
                  </a:lnTo>
                  <a:lnTo>
                    <a:pt x="810" y="535"/>
                  </a:lnTo>
                  <a:lnTo>
                    <a:pt x="857" y="869"/>
                  </a:lnTo>
                  <a:lnTo>
                    <a:pt x="905" y="980"/>
                  </a:lnTo>
                  <a:lnTo>
                    <a:pt x="952" y="956"/>
                  </a:lnTo>
                  <a:lnTo>
                    <a:pt x="1000" y="1211"/>
                  </a:lnTo>
                  <a:lnTo>
                    <a:pt x="1048" y="1287"/>
                  </a:lnTo>
                  <a:lnTo>
                    <a:pt x="1095" y="1271"/>
                  </a:lnTo>
                  <a:lnTo>
                    <a:pt x="1143" y="1525"/>
                  </a:lnTo>
                  <a:lnTo>
                    <a:pt x="1190" y="1589"/>
                  </a:lnTo>
                  <a:lnTo>
                    <a:pt x="1238" y="1576"/>
                  </a:lnTo>
                  <a:lnTo>
                    <a:pt x="1285" y="1771"/>
                  </a:lnTo>
                  <a:lnTo>
                    <a:pt x="1333" y="1826"/>
                  </a:lnTo>
                  <a:lnTo>
                    <a:pt x="1380" y="1814"/>
                  </a:lnTo>
                  <a:lnTo>
                    <a:pt x="1428" y="1977"/>
                  </a:lnTo>
                  <a:lnTo>
                    <a:pt x="1476" y="2017"/>
                  </a:lnTo>
                  <a:lnTo>
                    <a:pt x="1523" y="2007"/>
                  </a:lnTo>
                  <a:lnTo>
                    <a:pt x="1571" y="2140"/>
                  </a:lnTo>
                  <a:lnTo>
                    <a:pt x="1618" y="2178"/>
                  </a:lnTo>
                  <a:lnTo>
                    <a:pt x="1666" y="2169"/>
                  </a:lnTo>
                  <a:lnTo>
                    <a:pt x="1713" y="2283"/>
                  </a:lnTo>
                  <a:lnTo>
                    <a:pt x="1761" y="2313"/>
                  </a:lnTo>
                  <a:lnTo>
                    <a:pt x="1810" y="2306"/>
                  </a:lnTo>
                  <a:lnTo>
                    <a:pt x="1857" y="2387"/>
                  </a:lnTo>
                  <a:lnTo>
                    <a:pt x="1905" y="2407"/>
                  </a:lnTo>
                  <a:lnTo>
                    <a:pt x="1952" y="2402"/>
                  </a:lnTo>
                  <a:lnTo>
                    <a:pt x="2000" y="2471"/>
                  </a:lnTo>
                  <a:lnTo>
                    <a:pt x="2047" y="2485"/>
                  </a:lnTo>
                  <a:lnTo>
                    <a:pt x="2095" y="2484"/>
                  </a:lnTo>
                  <a:lnTo>
                    <a:pt x="2142" y="2531"/>
                  </a:lnTo>
                  <a:lnTo>
                    <a:pt x="2190" y="2541"/>
                  </a:lnTo>
                  <a:lnTo>
                    <a:pt x="2238" y="2539"/>
                  </a:lnTo>
                  <a:lnTo>
                    <a:pt x="2285" y="2584"/>
                  </a:lnTo>
                  <a:lnTo>
                    <a:pt x="2333" y="2591"/>
                  </a:lnTo>
                  <a:lnTo>
                    <a:pt x="2380" y="2589"/>
                  </a:lnTo>
                  <a:lnTo>
                    <a:pt x="2428" y="2625"/>
                  </a:lnTo>
                  <a:lnTo>
                    <a:pt x="2475" y="2636"/>
                  </a:lnTo>
                  <a:lnTo>
                    <a:pt x="2523" y="2634"/>
                  </a:lnTo>
                  <a:lnTo>
                    <a:pt x="2571" y="2664"/>
                  </a:lnTo>
                  <a:lnTo>
                    <a:pt x="2618" y="2671"/>
                  </a:lnTo>
                  <a:lnTo>
                    <a:pt x="2666" y="2656"/>
                  </a:lnTo>
                  <a:lnTo>
                    <a:pt x="2713" y="2677"/>
                  </a:lnTo>
                  <a:lnTo>
                    <a:pt x="2761" y="2681"/>
                  </a:lnTo>
                  <a:lnTo>
                    <a:pt x="2808" y="2666"/>
                  </a:lnTo>
                  <a:lnTo>
                    <a:pt x="2856" y="2689"/>
                  </a:lnTo>
                  <a:lnTo>
                    <a:pt x="2903" y="2696"/>
                  </a:lnTo>
                  <a:lnTo>
                    <a:pt x="2952" y="2677"/>
                  </a:lnTo>
                  <a:lnTo>
                    <a:pt x="3000" y="2696"/>
                  </a:lnTo>
                  <a:lnTo>
                    <a:pt x="3047" y="2699"/>
                  </a:lnTo>
                  <a:lnTo>
                    <a:pt x="3095" y="2680"/>
                  </a:lnTo>
                  <a:lnTo>
                    <a:pt x="3142" y="2707"/>
                  </a:lnTo>
                  <a:lnTo>
                    <a:pt x="3190" y="2707"/>
                  </a:lnTo>
                  <a:lnTo>
                    <a:pt x="3237" y="2690"/>
                  </a:lnTo>
                  <a:lnTo>
                    <a:pt x="3285" y="2709"/>
                  </a:lnTo>
                  <a:lnTo>
                    <a:pt x="3333" y="2709"/>
                  </a:lnTo>
                  <a:lnTo>
                    <a:pt x="3380" y="2693"/>
                  </a:lnTo>
                  <a:lnTo>
                    <a:pt x="3428" y="2712"/>
                  </a:lnTo>
                  <a:lnTo>
                    <a:pt x="3475" y="2713"/>
                  </a:lnTo>
                  <a:lnTo>
                    <a:pt x="3523" y="2696"/>
                  </a:lnTo>
                  <a:lnTo>
                    <a:pt x="3570" y="2714"/>
                  </a:lnTo>
                  <a:lnTo>
                    <a:pt x="3618" y="2714"/>
                  </a:lnTo>
                  <a:lnTo>
                    <a:pt x="3665" y="2696"/>
                  </a:lnTo>
                  <a:lnTo>
                    <a:pt x="3713" y="2713"/>
                  </a:lnTo>
                  <a:lnTo>
                    <a:pt x="3761" y="2713"/>
                  </a:lnTo>
                  <a:lnTo>
                    <a:pt x="3808" y="2699"/>
                  </a:lnTo>
                  <a:lnTo>
                    <a:pt x="3856" y="2714"/>
                  </a:lnTo>
                  <a:lnTo>
                    <a:pt x="3903" y="2714"/>
                  </a:lnTo>
                  <a:lnTo>
                    <a:pt x="3951" y="2696"/>
                  </a:lnTo>
                  <a:lnTo>
                    <a:pt x="3998" y="2713"/>
                  </a:lnTo>
                  <a:lnTo>
                    <a:pt x="4046" y="2713"/>
                  </a:lnTo>
                  <a:lnTo>
                    <a:pt x="4094" y="2701"/>
                  </a:lnTo>
                  <a:lnTo>
                    <a:pt x="4142" y="2719"/>
                  </a:lnTo>
                  <a:lnTo>
                    <a:pt x="4190" y="2719"/>
                  </a:lnTo>
                  <a:lnTo>
                    <a:pt x="4237" y="2704"/>
                  </a:lnTo>
                  <a:lnTo>
                    <a:pt x="4285" y="2718"/>
                  </a:lnTo>
                  <a:lnTo>
                    <a:pt x="4332" y="2718"/>
                  </a:lnTo>
                  <a:lnTo>
                    <a:pt x="4380" y="2702"/>
                  </a:lnTo>
                  <a:lnTo>
                    <a:pt x="4427" y="2721"/>
                  </a:lnTo>
                  <a:lnTo>
                    <a:pt x="4475" y="2721"/>
                  </a:lnTo>
                  <a:lnTo>
                    <a:pt x="4523" y="2711"/>
                  </a:lnTo>
                  <a:lnTo>
                    <a:pt x="4570" y="2723"/>
                  </a:lnTo>
                  <a:lnTo>
                    <a:pt x="4618" y="2723"/>
                  </a:lnTo>
                  <a:lnTo>
                    <a:pt x="4665" y="2712"/>
                  </a:lnTo>
                  <a:lnTo>
                    <a:pt x="4713" y="2727"/>
                  </a:lnTo>
                  <a:lnTo>
                    <a:pt x="4713" y="2754"/>
                  </a:lnTo>
                  <a:lnTo>
                    <a:pt x="4665" y="2754"/>
                  </a:lnTo>
                  <a:lnTo>
                    <a:pt x="4618" y="2756"/>
                  </a:lnTo>
                  <a:lnTo>
                    <a:pt x="4570" y="2756"/>
                  </a:lnTo>
                  <a:lnTo>
                    <a:pt x="4523" y="2756"/>
                  </a:lnTo>
                  <a:lnTo>
                    <a:pt x="4475" y="2748"/>
                  </a:lnTo>
                  <a:lnTo>
                    <a:pt x="4427" y="2748"/>
                  </a:lnTo>
                  <a:lnTo>
                    <a:pt x="4380" y="2748"/>
                  </a:lnTo>
                  <a:lnTo>
                    <a:pt x="4332" y="2749"/>
                  </a:lnTo>
                  <a:lnTo>
                    <a:pt x="4285" y="2749"/>
                  </a:lnTo>
                  <a:lnTo>
                    <a:pt x="4237" y="2749"/>
                  </a:lnTo>
                  <a:lnTo>
                    <a:pt x="4190" y="2753"/>
                  </a:lnTo>
                  <a:lnTo>
                    <a:pt x="4142" y="2753"/>
                  </a:lnTo>
                  <a:lnTo>
                    <a:pt x="4094" y="2753"/>
                  </a:lnTo>
                  <a:lnTo>
                    <a:pt x="4046" y="2746"/>
                  </a:lnTo>
                  <a:lnTo>
                    <a:pt x="3998" y="2746"/>
                  </a:lnTo>
                  <a:lnTo>
                    <a:pt x="3951" y="2746"/>
                  </a:lnTo>
                  <a:lnTo>
                    <a:pt x="3903" y="2750"/>
                  </a:lnTo>
                  <a:lnTo>
                    <a:pt x="3856" y="2750"/>
                  </a:lnTo>
                  <a:lnTo>
                    <a:pt x="3808" y="2750"/>
                  </a:lnTo>
                  <a:lnTo>
                    <a:pt x="3761" y="2746"/>
                  </a:lnTo>
                  <a:lnTo>
                    <a:pt x="3713" y="2746"/>
                  </a:lnTo>
                  <a:lnTo>
                    <a:pt x="3665" y="2746"/>
                  </a:lnTo>
                  <a:lnTo>
                    <a:pt x="3618" y="2747"/>
                  </a:lnTo>
                  <a:lnTo>
                    <a:pt x="3570" y="2747"/>
                  </a:lnTo>
                  <a:lnTo>
                    <a:pt x="3523" y="2747"/>
                  </a:lnTo>
                  <a:lnTo>
                    <a:pt x="3475" y="2748"/>
                  </a:lnTo>
                  <a:lnTo>
                    <a:pt x="3428" y="2748"/>
                  </a:lnTo>
                  <a:lnTo>
                    <a:pt x="3380" y="2748"/>
                  </a:lnTo>
                  <a:lnTo>
                    <a:pt x="3333" y="2746"/>
                  </a:lnTo>
                  <a:lnTo>
                    <a:pt x="3285" y="2746"/>
                  </a:lnTo>
                  <a:lnTo>
                    <a:pt x="3237" y="2746"/>
                  </a:lnTo>
                  <a:lnTo>
                    <a:pt x="3190" y="2745"/>
                  </a:lnTo>
                  <a:lnTo>
                    <a:pt x="3142" y="2745"/>
                  </a:lnTo>
                  <a:lnTo>
                    <a:pt x="3095" y="2744"/>
                  </a:lnTo>
                  <a:lnTo>
                    <a:pt x="3047" y="2743"/>
                  </a:lnTo>
                  <a:lnTo>
                    <a:pt x="3000" y="2743"/>
                  </a:lnTo>
                  <a:lnTo>
                    <a:pt x="2952" y="2743"/>
                  </a:lnTo>
                  <a:lnTo>
                    <a:pt x="2903" y="2743"/>
                  </a:lnTo>
                  <a:lnTo>
                    <a:pt x="2856" y="2743"/>
                  </a:lnTo>
                  <a:lnTo>
                    <a:pt x="2808" y="2743"/>
                  </a:lnTo>
                  <a:lnTo>
                    <a:pt x="2761" y="2733"/>
                  </a:lnTo>
                  <a:lnTo>
                    <a:pt x="2713" y="2733"/>
                  </a:lnTo>
                  <a:lnTo>
                    <a:pt x="2666" y="2730"/>
                  </a:lnTo>
                  <a:lnTo>
                    <a:pt x="2618" y="2733"/>
                  </a:lnTo>
                  <a:lnTo>
                    <a:pt x="2571" y="2733"/>
                  </a:lnTo>
                  <a:lnTo>
                    <a:pt x="2523" y="2727"/>
                  </a:lnTo>
                  <a:lnTo>
                    <a:pt x="2475" y="2717"/>
                  </a:lnTo>
                  <a:lnTo>
                    <a:pt x="2428" y="2717"/>
                  </a:lnTo>
                  <a:lnTo>
                    <a:pt x="2380" y="2710"/>
                  </a:lnTo>
                  <a:lnTo>
                    <a:pt x="2333" y="2702"/>
                  </a:lnTo>
                  <a:lnTo>
                    <a:pt x="2285" y="2702"/>
                  </a:lnTo>
                  <a:lnTo>
                    <a:pt x="2238" y="2689"/>
                  </a:lnTo>
                  <a:lnTo>
                    <a:pt x="2190" y="2670"/>
                  </a:lnTo>
                  <a:lnTo>
                    <a:pt x="2142" y="2670"/>
                  </a:lnTo>
                  <a:lnTo>
                    <a:pt x="2095" y="2655"/>
                  </a:lnTo>
                  <a:lnTo>
                    <a:pt x="2047" y="2642"/>
                  </a:lnTo>
                  <a:lnTo>
                    <a:pt x="2000" y="2642"/>
                  </a:lnTo>
                  <a:lnTo>
                    <a:pt x="1952" y="2630"/>
                  </a:lnTo>
                  <a:lnTo>
                    <a:pt x="1905" y="2604"/>
                  </a:lnTo>
                  <a:lnTo>
                    <a:pt x="1857" y="2604"/>
                  </a:lnTo>
                  <a:lnTo>
                    <a:pt x="1810" y="2589"/>
                  </a:lnTo>
                  <a:lnTo>
                    <a:pt x="1761" y="2569"/>
                  </a:lnTo>
                  <a:lnTo>
                    <a:pt x="1713" y="2569"/>
                  </a:lnTo>
                  <a:lnTo>
                    <a:pt x="1666" y="2547"/>
                  </a:lnTo>
                  <a:lnTo>
                    <a:pt x="1618" y="2502"/>
                  </a:lnTo>
                  <a:lnTo>
                    <a:pt x="1571" y="2502"/>
                  </a:lnTo>
                  <a:lnTo>
                    <a:pt x="1523" y="2470"/>
                  </a:lnTo>
                  <a:lnTo>
                    <a:pt x="1476" y="2447"/>
                  </a:lnTo>
                  <a:lnTo>
                    <a:pt x="1428" y="2447"/>
                  </a:lnTo>
                  <a:lnTo>
                    <a:pt x="1380" y="2404"/>
                  </a:lnTo>
                  <a:lnTo>
                    <a:pt x="1333" y="2337"/>
                  </a:lnTo>
                  <a:lnTo>
                    <a:pt x="1285" y="2337"/>
                  </a:lnTo>
                  <a:lnTo>
                    <a:pt x="1238" y="2281"/>
                  </a:lnTo>
                  <a:lnTo>
                    <a:pt x="1190" y="2242"/>
                  </a:lnTo>
                  <a:lnTo>
                    <a:pt x="1143" y="2242"/>
                  </a:lnTo>
                  <a:lnTo>
                    <a:pt x="1095" y="2181"/>
                  </a:lnTo>
                  <a:lnTo>
                    <a:pt x="1048" y="2086"/>
                  </a:lnTo>
                  <a:lnTo>
                    <a:pt x="1000" y="2086"/>
                  </a:lnTo>
                  <a:lnTo>
                    <a:pt x="952" y="2005"/>
                  </a:lnTo>
                  <a:lnTo>
                    <a:pt x="905" y="1918"/>
                  </a:lnTo>
                  <a:lnTo>
                    <a:pt x="857" y="1918"/>
                  </a:lnTo>
                  <a:lnTo>
                    <a:pt x="810" y="1814"/>
                  </a:lnTo>
                  <a:lnTo>
                    <a:pt x="762" y="1668"/>
                  </a:lnTo>
                  <a:lnTo>
                    <a:pt x="715" y="1668"/>
                  </a:lnTo>
                  <a:lnTo>
                    <a:pt x="667" y="1541"/>
                  </a:lnTo>
                  <a:lnTo>
                    <a:pt x="620" y="1443"/>
                  </a:lnTo>
                  <a:lnTo>
                    <a:pt x="571" y="1443"/>
                  </a:lnTo>
                  <a:lnTo>
                    <a:pt x="523" y="1249"/>
                  </a:lnTo>
                  <a:lnTo>
                    <a:pt x="476" y="951"/>
                  </a:lnTo>
                  <a:lnTo>
                    <a:pt x="428" y="951"/>
                  </a:lnTo>
                  <a:lnTo>
                    <a:pt x="381" y="770"/>
                  </a:lnTo>
                  <a:lnTo>
                    <a:pt x="333" y="574"/>
                  </a:lnTo>
                  <a:lnTo>
                    <a:pt x="286" y="349"/>
                  </a:lnTo>
                  <a:lnTo>
                    <a:pt x="238" y="254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71600" y="917640"/>
              <a:ext cx="7481880" cy="4329000"/>
            </a:xfrm>
            <a:custGeom>
              <a:avLst/>
              <a:gdLst/>
              <a:ahLst/>
              <a:rect l="l" t="t" r="r" b="b"/>
              <a:pathLst>
                <a:path w="4713" h="2727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125"/>
                  </a:lnTo>
                  <a:lnTo>
                    <a:pt x="1190" y="157"/>
                  </a:lnTo>
                  <a:lnTo>
                    <a:pt x="1238" y="239"/>
                  </a:lnTo>
                  <a:lnTo>
                    <a:pt x="1285" y="454"/>
                  </a:lnTo>
                  <a:lnTo>
                    <a:pt x="1333" y="535"/>
                  </a:lnTo>
                  <a:lnTo>
                    <a:pt x="1380" y="535"/>
                  </a:lnTo>
                  <a:lnTo>
                    <a:pt x="1428" y="869"/>
                  </a:lnTo>
                  <a:lnTo>
                    <a:pt x="1476" y="956"/>
                  </a:lnTo>
                  <a:lnTo>
                    <a:pt x="1523" y="956"/>
                  </a:lnTo>
                  <a:lnTo>
                    <a:pt x="1571" y="1211"/>
                  </a:lnTo>
                  <a:lnTo>
                    <a:pt x="1618" y="1271"/>
                  </a:lnTo>
                  <a:lnTo>
                    <a:pt x="1666" y="1271"/>
                  </a:lnTo>
                  <a:lnTo>
                    <a:pt x="1713" y="1525"/>
                  </a:lnTo>
                  <a:lnTo>
                    <a:pt x="1761" y="1576"/>
                  </a:lnTo>
                  <a:lnTo>
                    <a:pt x="1810" y="1576"/>
                  </a:lnTo>
                  <a:lnTo>
                    <a:pt x="1857" y="1771"/>
                  </a:lnTo>
                  <a:lnTo>
                    <a:pt x="1905" y="1814"/>
                  </a:lnTo>
                  <a:lnTo>
                    <a:pt x="1952" y="1814"/>
                  </a:lnTo>
                  <a:lnTo>
                    <a:pt x="2000" y="1977"/>
                  </a:lnTo>
                  <a:lnTo>
                    <a:pt x="2047" y="2007"/>
                  </a:lnTo>
                  <a:lnTo>
                    <a:pt x="2095" y="2007"/>
                  </a:lnTo>
                  <a:lnTo>
                    <a:pt x="2142" y="2140"/>
                  </a:lnTo>
                  <a:lnTo>
                    <a:pt x="2190" y="2169"/>
                  </a:lnTo>
                  <a:lnTo>
                    <a:pt x="2238" y="2169"/>
                  </a:lnTo>
                  <a:lnTo>
                    <a:pt x="2285" y="2283"/>
                  </a:lnTo>
                  <a:lnTo>
                    <a:pt x="2333" y="2306"/>
                  </a:lnTo>
                  <a:lnTo>
                    <a:pt x="2380" y="2306"/>
                  </a:lnTo>
                  <a:lnTo>
                    <a:pt x="2428" y="2387"/>
                  </a:lnTo>
                  <a:lnTo>
                    <a:pt x="2475" y="2402"/>
                  </a:lnTo>
                  <a:lnTo>
                    <a:pt x="2523" y="2402"/>
                  </a:lnTo>
                  <a:lnTo>
                    <a:pt x="2571" y="2471"/>
                  </a:lnTo>
                  <a:lnTo>
                    <a:pt x="2618" y="2484"/>
                  </a:lnTo>
                  <a:lnTo>
                    <a:pt x="2666" y="2470"/>
                  </a:lnTo>
                  <a:lnTo>
                    <a:pt x="2713" y="2516"/>
                  </a:lnTo>
                  <a:lnTo>
                    <a:pt x="2761" y="2524"/>
                  </a:lnTo>
                  <a:lnTo>
                    <a:pt x="2808" y="2509"/>
                  </a:lnTo>
                  <a:lnTo>
                    <a:pt x="2856" y="2555"/>
                  </a:lnTo>
                  <a:lnTo>
                    <a:pt x="2903" y="2560"/>
                  </a:lnTo>
                  <a:lnTo>
                    <a:pt x="2952" y="2543"/>
                  </a:lnTo>
                  <a:lnTo>
                    <a:pt x="3000" y="2577"/>
                  </a:lnTo>
                  <a:lnTo>
                    <a:pt x="3047" y="2586"/>
                  </a:lnTo>
                  <a:lnTo>
                    <a:pt x="3095" y="2569"/>
                  </a:lnTo>
                  <a:lnTo>
                    <a:pt x="3142" y="2599"/>
                  </a:lnTo>
                  <a:lnTo>
                    <a:pt x="3190" y="2605"/>
                  </a:lnTo>
                  <a:lnTo>
                    <a:pt x="3237" y="2589"/>
                  </a:lnTo>
                  <a:lnTo>
                    <a:pt x="3285" y="2610"/>
                  </a:lnTo>
                  <a:lnTo>
                    <a:pt x="3333" y="2615"/>
                  </a:lnTo>
                  <a:lnTo>
                    <a:pt x="3380" y="2599"/>
                  </a:lnTo>
                  <a:lnTo>
                    <a:pt x="3428" y="2623"/>
                  </a:lnTo>
                  <a:lnTo>
                    <a:pt x="3475" y="2629"/>
                  </a:lnTo>
                  <a:lnTo>
                    <a:pt x="3523" y="2612"/>
                  </a:lnTo>
                  <a:lnTo>
                    <a:pt x="3570" y="2631"/>
                  </a:lnTo>
                  <a:lnTo>
                    <a:pt x="3618" y="2633"/>
                  </a:lnTo>
                  <a:lnTo>
                    <a:pt x="3665" y="2615"/>
                  </a:lnTo>
                  <a:lnTo>
                    <a:pt x="3713" y="2640"/>
                  </a:lnTo>
                  <a:lnTo>
                    <a:pt x="3761" y="2641"/>
                  </a:lnTo>
                  <a:lnTo>
                    <a:pt x="3808" y="2626"/>
                  </a:lnTo>
                  <a:lnTo>
                    <a:pt x="3856" y="2644"/>
                  </a:lnTo>
                  <a:lnTo>
                    <a:pt x="3903" y="2644"/>
                  </a:lnTo>
                  <a:lnTo>
                    <a:pt x="3951" y="2626"/>
                  </a:lnTo>
                  <a:lnTo>
                    <a:pt x="3998" y="2644"/>
                  </a:lnTo>
                  <a:lnTo>
                    <a:pt x="4046" y="2644"/>
                  </a:lnTo>
                  <a:lnTo>
                    <a:pt x="4094" y="2632"/>
                  </a:lnTo>
                  <a:lnTo>
                    <a:pt x="4142" y="2650"/>
                  </a:lnTo>
                  <a:lnTo>
                    <a:pt x="4190" y="2650"/>
                  </a:lnTo>
                  <a:lnTo>
                    <a:pt x="4237" y="2635"/>
                  </a:lnTo>
                  <a:lnTo>
                    <a:pt x="4285" y="2652"/>
                  </a:lnTo>
                  <a:lnTo>
                    <a:pt x="4332" y="2652"/>
                  </a:lnTo>
                  <a:lnTo>
                    <a:pt x="4380" y="2636"/>
                  </a:lnTo>
                  <a:lnTo>
                    <a:pt x="4427" y="2651"/>
                  </a:lnTo>
                  <a:lnTo>
                    <a:pt x="4475" y="2651"/>
                  </a:lnTo>
                  <a:lnTo>
                    <a:pt x="4523" y="2642"/>
                  </a:lnTo>
                  <a:lnTo>
                    <a:pt x="4570" y="2658"/>
                  </a:lnTo>
                  <a:lnTo>
                    <a:pt x="4618" y="2658"/>
                  </a:lnTo>
                  <a:lnTo>
                    <a:pt x="4665" y="2647"/>
                  </a:lnTo>
                  <a:lnTo>
                    <a:pt x="4713" y="2665"/>
                  </a:lnTo>
                  <a:lnTo>
                    <a:pt x="4713" y="2727"/>
                  </a:lnTo>
                  <a:lnTo>
                    <a:pt x="4665" y="2712"/>
                  </a:lnTo>
                  <a:lnTo>
                    <a:pt x="4618" y="2723"/>
                  </a:lnTo>
                  <a:lnTo>
                    <a:pt x="4570" y="2723"/>
                  </a:lnTo>
                  <a:lnTo>
                    <a:pt x="4523" y="2711"/>
                  </a:lnTo>
                  <a:lnTo>
                    <a:pt x="4475" y="2721"/>
                  </a:lnTo>
                  <a:lnTo>
                    <a:pt x="4427" y="2721"/>
                  </a:lnTo>
                  <a:lnTo>
                    <a:pt x="4380" y="2702"/>
                  </a:lnTo>
                  <a:lnTo>
                    <a:pt x="4332" y="2718"/>
                  </a:lnTo>
                  <a:lnTo>
                    <a:pt x="4285" y="2718"/>
                  </a:lnTo>
                  <a:lnTo>
                    <a:pt x="4237" y="2704"/>
                  </a:lnTo>
                  <a:lnTo>
                    <a:pt x="4190" y="2719"/>
                  </a:lnTo>
                  <a:lnTo>
                    <a:pt x="4142" y="2719"/>
                  </a:lnTo>
                  <a:lnTo>
                    <a:pt x="4094" y="2701"/>
                  </a:lnTo>
                  <a:lnTo>
                    <a:pt x="4046" y="2713"/>
                  </a:lnTo>
                  <a:lnTo>
                    <a:pt x="3998" y="2713"/>
                  </a:lnTo>
                  <a:lnTo>
                    <a:pt x="3951" y="2696"/>
                  </a:lnTo>
                  <a:lnTo>
                    <a:pt x="3903" y="2714"/>
                  </a:lnTo>
                  <a:lnTo>
                    <a:pt x="3856" y="2714"/>
                  </a:lnTo>
                  <a:lnTo>
                    <a:pt x="3808" y="2699"/>
                  </a:lnTo>
                  <a:lnTo>
                    <a:pt x="3761" y="2713"/>
                  </a:lnTo>
                  <a:lnTo>
                    <a:pt x="3713" y="2713"/>
                  </a:lnTo>
                  <a:lnTo>
                    <a:pt x="3665" y="2696"/>
                  </a:lnTo>
                  <a:lnTo>
                    <a:pt x="3618" y="2714"/>
                  </a:lnTo>
                  <a:lnTo>
                    <a:pt x="3570" y="2714"/>
                  </a:lnTo>
                  <a:lnTo>
                    <a:pt x="3523" y="2696"/>
                  </a:lnTo>
                  <a:lnTo>
                    <a:pt x="3475" y="2713"/>
                  </a:lnTo>
                  <a:lnTo>
                    <a:pt x="3428" y="2712"/>
                  </a:lnTo>
                  <a:lnTo>
                    <a:pt x="3380" y="2693"/>
                  </a:lnTo>
                  <a:lnTo>
                    <a:pt x="3333" y="2709"/>
                  </a:lnTo>
                  <a:lnTo>
                    <a:pt x="3285" y="2709"/>
                  </a:lnTo>
                  <a:lnTo>
                    <a:pt x="3237" y="2690"/>
                  </a:lnTo>
                  <a:lnTo>
                    <a:pt x="3190" y="2707"/>
                  </a:lnTo>
                  <a:lnTo>
                    <a:pt x="3142" y="2707"/>
                  </a:lnTo>
                  <a:lnTo>
                    <a:pt x="3095" y="2680"/>
                  </a:lnTo>
                  <a:lnTo>
                    <a:pt x="3047" y="2699"/>
                  </a:lnTo>
                  <a:lnTo>
                    <a:pt x="3000" y="2696"/>
                  </a:lnTo>
                  <a:lnTo>
                    <a:pt x="2952" y="2677"/>
                  </a:lnTo>
                  <a:lnTo>
                    <a:pt x="2903" y="2696"/>
                  </a:lnTo>
                  <a:lnTo>
                    <a:pt x="2856" y="2689"/>
                  </a:lnTo>
                  <a:lnTo>
                    <a:pt x="2808" y="2666"/>
                  </a:lnTo>
                  <a:lnTo>
                    <a:pt x="2761" y="2681"/>
                  </a:lnTo>
                  <a:lnTo>
                    <a:pt x="2713" y="2677"/>
                  </a:lnTo>
                  <a:lnTo>
                    <a:pt x="2666" y="2656"/>
                  </a:lnTo>
                  <a:lnTo>
                    <a:pt x="2618" y="2671"/>
                  </a:lnTo>
                  <a:lnTo>
                    <a:pt x="2571" y="2664"/>
                  </a:lnTo>
                  <a:lnTo>
                    <a:pt x="2523" y="2634"/>
                  </a:lnTo>
                  <a:lnTo>
                    <a:pt x="2475" y="2636"/>
                  </a:lnTo>
                  <a:lnTo>
                    <a:pt x="2428" y="2625"/>
                  </a:lnTo>
                  <a:lnTo>
                    <a:pt x="2380" y="2589"/>
                  </a:lnTo>
                  <a:lnTo>
                    <a:pt x="2333" y="2591"/>
                  </a:lnTo>
                  <a:lnTo>
                    <a:pt x="2285" y="2584"/>
                  </a:lnTo>
                  <a:lnTo>
                    <a:pt x="2238" y="2539"/>
                  </a:lnTo>
                  <a:lnTo>
                    <a:pt x="2190" y="2541"/>
                  </a:lnTo>
                  <a:lnTo>
                    <a:pt x="2142" y="2531"/>
                  </a:lnTo>
                  <a:lnTo>
                    <a:pt x="2095" y="2484"/>
                  </a:lnTo>
                  <a:lnTo>
                    <a:pt x="2047" y="2485"/>
                  </a:lnTo>
                  <a:lnTo>
                    <a:pt x="2000" y="2471"/>
                  </a:lnTo>
                  <a:lnTo>
                    <a:pt x="1952" y="2402"/>
                  </a:lnTo>
                  <a:lnTo>
                    <a:pt x="1905" y="2407"/>
                  </a:lnTo>
                  <a:lnTo>
                    <a:pt x="1857" y="2387"/>
                  </a:lnTo>
                  <a:lnTo>
                    <a:pt x="1810" y="2306"/>
                  </a:lnTo>
                  <a:lnTo>
                    <a:pt x="1761" y="2313"/>
                  </a:lnTo>
                  <a:lnTo>
                    <a:pt x="1713" y="2283"/>
                  </a:lnTo>
                  <a:lnTo>
                    <a:pt x="1666" y="2169"/>
                  </a:lnTo>
                  <a:lnTo>
                    <a:pt x="1618" y="2178"/>
                  </a:lnTo>
                  <a:lnTo>
                    <a:pt x="1571" y="2140"/>
                  </a:lnTo>
                  <a:lnTo>
                    <a:pt x="1523" y="2007"/>
                  </a:lnTo>
                  <a:lnTo>
                    <a:pt x="1476" y="2017"/>
                  </a:lnTo>
                  <a:lnTo>
                    <a:pt x="1428" y="1977"/>
                  </a:lnTo>
                  <a:lnTo>
                    <a:pt x="1380" y="1814"/>
                  </a:lnTo>
                  <a:lnTo>
                    <a:pt x="1333" y="1826"/>
                  </a:lnTo>
                  <a:lnTo>
                    <a:pt x="1285" y="1771"/>
                  </a:lnTo>
                  <a:lnTo>
                    <a:pt x="1238" y="1576"/>
                  </a:lnTo>
                  <a:lnTo>
                    <a:pt x="1190" y="1589"/>
                  </a:lnTo>
                  <a:lnTo>
                    <a:pt x="1143" y="1525"/>
                  </a:lnTo>
                  <a:lnTo>
                    <a:pt x="1095" y="1271"/>
                  </a:lnTo>
                  <a:lnTo>
                    <a:pt x="1048" y="1287"/>
                  </a:lnTo>
                  <a:lnTo>
                    <a:pt x="1000" y="1211"/>
                  </a:lnTo>
                  <a:lnTo>
                    <a:pt x="952" y="956"/>
                  </a:lnTo>
                  <a:lnTo>
                    <a:pt x="905" y="980"/>
                  </a:lnTo>
                  <a:lnTo>
                    <a:pt x="857" y="869"/>
                  </a:lnTo>
                  <a:lnTo>
                    <a:pt x="810" y="535"/>
                  </a:lnTo>
                  <a:lnTo>
                    <a:pt x="762" y="558"/>
                  </a:lnTo>
                  <a:lnTo>
                    <a:pt x="715" y="454"/>
                  </a:lnTo>
                  <a:lnTo>
                    <a:pt x="667" y="239"/>
                  </a:lnTo>
                  <a:lnTo>
                    <a:pt x="620" y="170"/>
                  </a:lnTo>
                  <a:lnTo>
                    <a:pt x="571" y="125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371600" y="917640"/>
              <a:ext cx="7481880" cy="4230720"/>
            </a:xfrm>
            <a:custGeom>
              <a:avLst/>
              <a:gdLst/>
              <a:ahLst/>
              <a:rect l="l" t="t" r="r" b="b"/>
              <a:pathLst>
                <a:path w="4713" h="2665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125"/>
                  </a:lnTo>
                  <a:lnTo>
                    <a:pt x="2618" y="157"/>
                  </a:lnTo>
                  <a:lnTo>
                    <a:pt x="2666" y="225"/>
                  </a:lnTo>
                  <a:lnTo>
                    <a:pt x="2713" y="440"/>
                  </a:lnTo>
                  <a:lnTo>
                    <a:pt x="2761" y="520"/>
                  </a:lnTo>
                  <a:lnTo>
                    <a:pt x="2808" y="504"/>
                  </a:lnTo>
                  <a:lnTo>
                    <a:pt x="2856" y="839"/>
                  </a:lnTo>
                  <a:lnTo>
                    <a:pt x="2903" y="926"/>
                  </a:lnTo>
                  <a:lnTo>
                    <a:pt x="2952" y="908"/>
                  </a:lnTo>
                  <a:lnTo>
                    <a:pt x="3000" y="1163"/>
                  </a:lnTo>
                  <a:lnTo>
                    <a:pt x="3047" y="1223"/>
                  </a:lnTo>
                  <a:lnTo>
                    <a:pt x="3095" y="1206"/>
                  </a:lnTo>
                  <a:lnTo>
                    <a:pt x="3142" y="1460"/>
                  </a:lnTo>
                  <a:lnTo>
                    <a:pt x="3190" y="1512"/>
                  </a:lnTo>
                  <a:lnTo>
                    <a:pt x="3237" y="1496"/>
                  </a:lnTo>
                  <a:lnTo>
                    <a:pt x="3285" y="1692"/>
                  </a:lnTo>
                  <a:lnTo>
                    <a:pt x="3333" y="1733"/>
                  </a:lnTo>
                  <a:lnTo>
                    <a:pt x="3380" y="1718"/>
                  </a:lnTo>
                  <a:lnTo>
                    <a:pt x="3428" y="1881"/>
                  </a:lnTo>
                  <a:lnTo>
                    <a:pt x="3475" y="1912"/>
                  </a:lnTo>
                  <a:lnTo>
                    <a:pt x="3523" y="1895"/>
                  </a:lnTo>
                  <a:lnTo>
                    <a:pt x="3570" y="2028"/>
                  </a:lnTo>
                  <a:lnTo>
                    <a:pt x="3618" y="2057"/>
                  </a:lnTo>
                  <a:lnTo>
                    <a:pt x="3665" y="2039"/>
                  </a:lnTo>
                  <a:lnTo>
                    <a:pt x="3713" y="2152"/>
                  </a:lnTo>
                  <a:lnTo>
                    <a:pt x="3761" y="2175"/>
                  </a:lnTo>
                  <a:lnTo>
                    <a:pt x="3808" y="2160"/>
                  </a:lnTo>
                  <a:lnTo>
                    <a:pt x="3856" y="2241"/>
                  </a:lnTo>
                  <a:lnTo>
                    <a:pt x="3903" y="2256"/>
                  </a:lnTo>
                  <a:lnTo>
                    <a:pt x="3951" y="2238"/>
                  </a:lnTo>
                  <a:lnTo>
                    <a:pt x="3998" y="2307"/>
                  </a:lnTo>
                  <a:lnTo>
                    <a:pt x="4046" y="2320"/>
                  </a:lnTo>
                  <a:lnTo>
                    <a:pt x="4094" y="2308"/>
                  </a:lnTo>
                  <a:lnTo>
                    <a:pt x="4142" y="2354"/>
                  </a:lnTo>
                  <a:lnTo>
                    <a:pt x="4190" y="2363"/>
                  </a:lnTo>
                  <a:lnTo>
                    <a:pt x="4237" y="2346"/>
                  </a:lnTo>
                  <a:lnTo>
                    <a:pt x="4285" y="2392"/>
                  </a:lnTo>
                  <a:lnTo>
                    <a:pt x="4332" y="2398"/>
                  </a:lnTo>
                  <a:lnTo>
                    <a:pt x="4380" y="2382"/>
                  </a:lnTo>
                  <a:lnTo>
                    <a:pt x="4427" y="2416"/>
                  </a:lnTo>
                  <a:lnTo>
                    <a:pt x="4475" y="2425"/>
                  </a:lnTo>
                  <a:lnTo>
                    <a:pt x="4523" y="2415"/>
                  </a:lnTo>
                  <a:lnTo>
                    <a:pt x="4570" y="2446"/>
                  </a:lnTo>
                  <a:lnTo>
                    <a:pt x="4618" y="2452"/>
                  </a:lnTo>
                  <a:lnTo>
                    <a:pt x="4665" y="2440"/>
                  </a:lnTo>
                  <a:lnTo>
                    <a:pt x="4713" y="2462"/>
                  </a:lnTo>
                  <a:lnTo>
                    <a:pt x="4713" y="2665"/>
                  </a:lnTo>
                  <a:lnTo>
                    <a:pt x="4665" y="2647"/>
                  </a:lnTo>
                  <a:lnTo>
                    <a:pt x="4618" y="2658"/>
                  </a:lnTo>
                  <a:lnTo>
                    <a:pt x="4570" y="2658"/>
                  </a:lnTo>
                  <a:lnTo>
                    <a:pt x="4523" y="2642"/>
                  </a:lnTo>
                  <a:lnTo>
                    <a:pt x="4475" y="2651"/>
                  </a:lnTo>
                  <a:lnTo>
                    <a:pt x="4427" y="2651"/>
                  </a:lnTo>
                  <a:lnTo>
                    <a:pt x="4380" y="2636"/>
                  </a:lnTo>
                  <a:lnTo>
                    <a:pt x="4332" y="2652"/>
                  </a:lnTo>
                  <a:lnTo>
                    <a:pt x="4285" y="2652"/>
                  </a:lnTo>
                  <a:lnTo>
                    <a:pt x="4237" y="2635"/>
                  </a:lnTo>
                  <a:lnTo>
                    <a:pt x="4190" y="2650"/>
                  </a:lnTo>
                  <a:lnTo>
                    <a:pt x="4142" y="2650"/>
                  </a:lnTo>
                  <a:lnTo>
                    <a:pt x="4094" y="2632"/>
                  </a:lnTo>
                  <a:lnTo>
                    <a:pt x="4046" y="2644"/>
                  </a:lnTo>
                  <a:lnTo>
                    <a:pt x="3998" y="2644"/>
                  </a:lnTo>
                  <a:lnTo>
                    <a:pt x="3951" y="2626"/>
                  </a:lnTo>
                  <a:lnTo>
                    <a:pt x="3903" y="2644"/>
                  </a:lnTo>
                  <a:lnTo>
                    <a:pt x="3856" y="2644"/>
                  </a:lnTo>
                  <a:lnTo>
                    <a:pt x="3808" y="2626"/>
                  </a:lnTo>
                  <a:lnTo>
                    <a:pt x="3761" y="2641"/>
                  </a:lnTo>
                  <a:lnTo>
                    <a:pt x="3713" y="2640"/>
                  </a:lnTo>
                  <a:lnTo>
                    <a:pt x="3665" y="2615"/>
                  </a:lnTo>
                  <a:lnTo>
                    <a:pt x="3618" y="2633"/>
                  </a:lnTo>
                  <a:lnTo>
                    <a:pt x="3570" y="2631"/>
                  </a:lnTo>
                  <a:lnTo>
                    <a:pt x="3523" y="2612"/>
                  </a:lnTo>
                  <a:lnTo>
                    <a:pt x="3475" y="2629"/>
                  </a:lnTo>
                  <a:lnTo>
                    <a:pt x="3428" y="2623"/>
                  </a:lnTo>
                  <a:lnTo>
                    <a:pt x="3380" y="2599"/>
                  </a:lnTo>
                  <a:lnTo>
                    <a:pt x="3333" y="2615"/>
                  </a:lnTo>
                  <a:lnTo>
                    <a:pt x="3285" y="2610"/>
                  </a:lnTo>
                  <a:lnTo>
                    <a:pt x="3237" y="2589"/>
                  </a:lnTo>
                  <a:lnTo>
                    <a:pt x="3190" y="2605"/>
                  </a:lnTo>
                  <a:lnTo>
                    <a:pt x="3142" y="2599"/>
                  </a:lnTo>
                  <a:lnTo>
                    <a:pt x="3095" y="2569"/>
                  </a:lnTo>
                  <a:lnTo>
                    <a:pt x="3047" y="2586"/>
                  </a:lnTo>
                  <a:lnTo>
                    <a:pt x="3000" y="2577"/>
                  </a:lnTo>
                  <a:lnTo>
                    <a:pt x="2952" y="2543"/>
                  </a:lnTo>
                  <a:lnTo>
                    <a:pt x="2903" y="2560"/>
                  </a:lnTo>
                  <a:lnTo>
                    <a:pt x="2856" y="2555"/>
                  </a:lnTo>
                  <a:lnTo>
                    <a:pt x="2808" y="2509"/>
                  </a:lnTo>
                  <a:lnTo>
                    <a:pt x="2761" y="2524"/>
                  </a:lnTo>
                  <a:lnTo>
                    <a:pt x="2713" y="2516"/>
                  </a:lnTo>
                  <a:lnTo>
                    <a:pt x="2666" y="2470"/>
                  </a:lnTo>
                  <a:lnTo>
                    <a:pt x="2618" y="2484"/>
                  </a:lnTo>
                  <a:lnTo>
                    <a:pt x="2571" y="2471"/>
                  </a:lnTo>
                  <a:lnTo>
                    <a:pt x="2523" y="2402"/>
                  </a:lnTo>
                  <a:lnTo>
                    <a:pt x="2475" y="2402"/>
                  </a:lnTo>
                  <a:lnTo>
                    <a:pt x="2428" y="2387"/>
                  </a:lnTo>
                  <a:lnTo>
                    <a:pt x="2380" y="2306"/>
                  </a:lnTo>
                  <a:lnTo>
                    <a:pt x="2333" y="2306"/>
                  </a:lnTo>
                  <a:lnTo>
                    <a:pt x="2285" y="2283"/>
                  </a:lnTo>
                  <a:lnTo>
                    <a:pt x="2238" y="2169"/>
                  </a:lnTo>
                  <a:lnTo>
                    <a:pt x="2190" y="2169"/>
                  </a:lnTo>
                  <a:lnTo>
                    <a:pt x="2142" y="2140"/>
                  </a:lnTo>
                  <a:lnTo>
                    <a:pt x="2095" y="2007"/>
                  </a:lnTo>
                  <a:lnTo>
                    <a:pt x="2047" y="2007"/>
                  </a:lnTo>
                  <a:lnTo>
                    <a:pt x="2000" y="1977"/>
                  </a:lnTo>
                  <a:lnTo>
                    <a:pt x="1952" y="1814"/>
                  </a:lnTo>
                  <a:lnTo>
                    <a:pt x="1905" y="1814"/>
                  </a:lnTo>
                  <a:lnTo>
                    <a:pt x="1857" y="1771"/>
                  </a:lnTo>
                  <a:lnTo>
                    <a:pt x="1810" y="1576"/>
                  </a:lnTo>
                  <a:lnTo>
                    <a:pt x="1761" y="1576"/>
                  </a:lnTo>
                  <a:lnTo>
                    <a:pt x="1713" y="1525"/>
                  </a:lnTo>
                  <a:lnTo>
                    <a:pt x="1666" y="1271"/>
                  </a:lnTo>
                  <a:lnTo>
                    <a:pt x="1618" y="1271"/>
                  </a:lnTo>
                  <a:lnTo>
                    <a:pt x="1571" y="1211"/>
                  </a:lnTo>
                  <a:lnTo>
                    <a:pt x="1523" y="956"/>
                  </a:lnTo>
                  <a:lnTo>
                    <a:pt x="1476" y="956"/>
                  </a:lnTo>
                  <a:lnTo>
                    <a:pt x="1428" y="869"/>
                  </a:lnTo>
                  <a:lnTo>
                    <a:pt x="1380" y="535"/>
                  </a:lnTo>
                  <a:lnTo>
                    <a:pt x="1333" y="535"/>
                  </a:lnTo>
                  <a:lnTo>
                    <a:pt x="1285" y="454"/>
                  </a:lnTo>
                  <a:lnTo>
                    <a:pt x="1238" y="239"/>
                  </a:lnTo>
                  <a:lnTo>
                    <a:pt x="1190" y="157"/>
                  </a:lnTo>
                  <a:lnTo>
                    <a:pt x="1143" y="125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371600" y="917640"/>
              <a:ext cx="7481880" cy="3908520"/>
            </a:xfrm>
            <a:custGeom>
              <a:avLst/>
              <a:gdLst/>
              <a:ahLst/>
              <a:rect l="l" t="t" r="r" b="b"/>
              <a:pathLst>
                <a:path w="4713" h="246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462"/>
                  </a:lnTo>
                  <a:lnTo>
                    <a:pt x="4665" y="2440"/>
                  </a:lnTo>
                  <a:lnTo>
                    <a:pt x="4618" y="2452"/>
                  </a:lnTo>
                  <a:lnTo>
                    <a:pt x="4570" y="2446"/>
                  </a:lnTo>
                  <a:lnTo>
                    <a:pt x="4523" y="2415"/>
                  </a:lnTo>
                  <a:lnTo>
                    <a:pt x="4475" y="2425"/>
                  </a:lnTo>
                  <a:lnTo>
                    <a:pt x="4427" y="2416"/>
                  </a:lnTo>
                  <a:lnTo>
                    <a:pt x="4380" y="2382"/>
                  </a:lnTo>
                  <a:lnTo>
                    <a:pt x="4332" y="2398"/>
                  </a:lnTo>
                  <a:lnTo>
                    <a:pt x="4285" y="2392"/>
                  </a:lnTo>
                  <a:lnTo>
                    <a:pt x="4237" y="2346"/>
                  </a:lnTo>
                  <a:lnTo>
                    <a:pt x="4190" y="2363"/>
                  </a:lnTo>
                  <a:lnTo>
                    <a:pt x="4142" y="2354"/>
                  </a:lnTo>
                  <a:lnTo>
                    <a:pt x="4094" y="2308"/>
                  </a:lnTo>
                  <a:lnTo>
                    <a:pt x="4046" y="2320"/>
                  </a:lnTo>
                  <a:lnTo>
                    <a:pt x="3998" y="2307"/>
                  </a:lnTo>
                  <a:lnTo>
                    <a:pt x="3951" y="2238"/>
                  </a:lnTo>
                  <a:lnTo>
                    <a:pt x="3903" y="2256"/>
                  </a:lnTo>
                  <a:lnTo>
                    <a:pt x="3856" y="2241"/>
                  </a:lnTo>
                  <a:lnTo>
                    <a:pt x="3808" y="2160"/>
                  </a:lnTo>
                  <a:lnTo>
                    <a:pt x="3761" y="2175"/>
                  </a:lnTo>
                  <a:lnTo>
                    <a:pt x="3713" y="2152"/>
                  </a:lnTo>
                  <a:lnTo>
                    <a:pt x="3665" y="2039"/>
                  </a:lnTo>
                  <a:lnTo>
                    <a:pt x="3618" y="2057"/>
                  </a:lnTo>
                  <a:lnTo>
                    <a:pt x="3570" y="2028"/>
                  </a:lnTo>
                  <a:lnTo>
                    <a:pt x="3523" y="1895"/>
                  </a:lnTo>
                  <a:lnTo>
                    <a:pt x="3475" y="1912"/>
                  </a:lnTo>
                  <a:lnTo>
                    <a:pt x="3428" y="1881"/>
                  </a:lnTo>
                  <a:lnTo>
                    <a:pt x="3380" y="1718"/>
                  </a:lnTo>
                  <a:lnTo>
                    <a:pt x="3333" y="1733"/>
                  </a:lnTo>
                  <a:lnTo>
                    <a:pt x="3285" y="1692"/>
                  </a:lnTo>
                  <a:lnTo>
                    <a:pt x="3237" y="1496"/>
                  </a:lnTo>
                  <a:lnTo>
                    <a:pt x="3190" y="1512"/>
                  </a:lnTo>
                  <a:lnTo>
                    <a:pt x="3142" y="1460"/>
                  </a:lnTo>
                  <a:lnTo>
                    <a:pt x="3095" y="1206"/>
                  </a:lnTo>
                  <a:lnTo>
                    <a:pt x="3047" y="1223"/>
                  </a:lnTo>
                  <a:lnTo>
                    <a:pt x="3000" y="1163"/>
                  </a:lnTo>
                  <a:lnTo>
                    <a:pt x="2952" y="908"/>
                  </a:lnTo>
                  <a:lnTo>
                    <a:pt x="2903" y="926"/>
                  </a:lnTo>
                  <a:lnTo>
                    <a:pt x="2856" y="839"/>
                  </a:lnTo>
                  <a:lnTo>
                    <a:pt x="2808" y="504"/>
                  </a:lnTo>
                  <a:lnTo>
                    <a:pt x="2761" y="520"/>
                  </a:lnTo>
                  <a:lnTo>
                    <a:pt x="2713" y="440"/>
                  </a:lnTo>
                  <a:lnTo>
                    <a:pt x="2666" y="225"/>
                  </a:lnTo>
                  <a:lnTo>
                    <a:pt x="2618" y="157"/>
                  </a:lnTo>
                  <a:lnTo>
                    <a:pt x="2571" y="125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71600" y="917640"/>
              <a:ext cx="1440" cy="443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14360" y="5353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314360" y="49086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14360" y="4465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14360" y="4022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14360" y="35784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14360" y="31352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14360" y="26924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14360" y="22478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14360" y="1805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14360" y="1362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31436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71600" y="5353200"/>
              <a:ext cx="748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99720" y="523872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93880" y="4794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93880" y="4351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93880" y="39085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93880" y="34639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93880" y="3021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93880" y="25779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93880" y="2133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93880" y="1690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93880" y="1247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90560" y="8031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36224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024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6388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4433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209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971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5751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95280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322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7102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08788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6408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4208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2152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5991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71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3533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3100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1104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4884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29840" y="582444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6200000">
              <a:off x="-102240" y="295200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1370520" y="2502000"/>
              <a:ext cx="7426440" cy="2745720"/>
              <a:chOff x="1370520" y="2502000"/>
              <a:chExt cx="7426440" cy="2745720"/>
            </a:xfrm>
          </p:grpSpPr>
          <p:sp>
            <p:nvSpPr>
              <p:cNvPr id="1405" name=""/>
              <p:cNvSpPr/>
              <p:nvPr/>
            </p:nvSpPr>
            <p:spPr>
              <a:xfrm>
                <a:off x="1370520" y="2502000"/>
                <a:ext cx="691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</a:rPr>
                  <a:t>Fore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209680" y="2959200"/>
                <a:ext cx="9907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Pioneer rubber A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276720" y="3159360"/>
                <a:ext cx="12952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Early production rubber A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080" y="3159360"/>
                <a:ext cx="18288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Late production rubber A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373080" y="3159360"/>
                <a:ext cx="2423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</a:rPr>
                  <a:t>Post production rubber A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447920" y="4788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ro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514600" y="2578320"/>
                <a:ext cx="403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tive rubber agrofor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1413" name=""/>
            <p:cNvSpPr/>
            <p:nvPr/>
          </p:nvSpPr>
          <p:spPr>
            <a:xfrm>
              <a:off x="1371600" y="917640"/>
              <a:ext cx="748188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71600" y="917640"/>
              <a:ext cx="7481880" cy="46972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71600" y="4017960"/>
              <a:ext cx="7481880" cy="1596960"/>
            </a:xfrm>
            <a:custGeom>
              <a:avLst/>
              <a:gdLst/>
              <a:ahLst/>
              <a:rect l="l" t="t" r="r" b="b"/>
              <a:pathLst>
                <a:path w="4713" h="1006">
                  <a:moveTo>
                    <a:pt x="0" y="1006"/>
                  </a:moveTo>
                  <a:lnTo>
                    <a:pt x="0" y="1006"/>
                  </a:lnTo>
                  <a:lnTo>
                    <a:pt x="48" y="1006"/>
                  </a:lnTo>
                  <a:lnTo>
                    <a:pt x="95" y="640"/>
                  </a:lnTo>
                  <a:lnTo>
                    <a:pt x="143" y="640"/>
                  </a:lnTo>
                  <a:lnTo>
                    <a:pt x="190" y="399"/>
                  </a:lnTo>
                  <a:lnTo>
                    <a:pt x="238" y="72"/>
                  </a:lnTo>
                  <a:lnTo>
                    <a:pt x="286" y="163"/>
                  </a:lnTo>
                  <a:lnTo>
                    <a:pt x="333" y="403"/>
                  </a:lnTo>
                  <a:lnTo>
                    <a:pt x="381" y="0"/>
                  </a:lnTo>
                  <a:lnTo>
                    <a:pt x="428" y="203"/>
                  </a:lnTo>
                  <a:lnTo>
                    <a:pt x="476" y="203"/>
                  </a:lnTo>
                  <a:lnTo>
                    <a:pt x="523" y="267"/>
                  </a:lnTo>
                  <a:lnTo>
                    <a:pt x="571" y="454"/>
                  </a:lnTo>
                  <a:lnTo>
                    <a:pt x="620" y="454"/>
                  </a:lnTo>
                  <a:lnTo>
                    <a:pt x="667" y="348"/>
                  </a:lnTo>
                  <a:lnTo>
                    <a:pt x="715" y="472"/>
                  </a:lnTo>
                  <a:lnTo>
                    <a:pt x="762" y="472"/>
                  </a:lnTo>
                  <a:lnTo>
                    <a:pt x="810" y="471"/>
                  </a:lnTo>
                  <a:lnTo>
                    <a:pt x="857" y="593"/>
                  </a:lnTo>
                  <a:lnTo>
                    <a:pt x="905" y="593"/>
                  </a:lnTo>
                  <a:lnTo>
                    <a:pt x="952" y="577"/>
                  </a:lnTo>
                  <a:lnTo>
                    <a:pt x="1000" y="663"/>
                  </a:lnTo>
                  <a:lnTo>
                    <a:pt x="1048" y="663"/>
                  </a:lnTo>
                  <a:lnTo>
                    <a:pt x="1095" y="637"/>
                  </a:lnTo>
                  <a:lnTo>
                    <a:pt x="1143" y="721"/>
                  </a:lnTo>
                  <a:lnTo>
                    <a:pt x="1190" y="721"/>
                  </a:lnTo>
                  <a:lnTo>
                    <a:pt x="1238" y="743"/>
                  </a:lnTo>
                  <a:lnTo>
                    <a:pt x="1285" y="798"/>
                  </a:lnTo>
                  <a:lnTo>
                    <a:pt x="1333" y="798"/>
                  </a:lnTo>
                  <a:lnTo>
                    <a:pt x="1380" y="798"/>
                  </a:lnTo>
                  <a:lnTo>
                    <a:pt x="1428" y="834"/>
                  </a:lnTo>
                  <a:lnTo>
                    <a:pt x="1476" y="834"/>
                  </a:lnTo>
                  <a:lnTo>
                    <a:pt x="1523" y="823"/>
                  </a:lnTo>
                  <a:lnTo>
                    <a:pt x="1571" y="863"/>
                  </a:lnTo>
                  <a:lnTo>
                    <a:pt x="1618" y="863"/>
                  </a:lnTo>
                  <a:lnTo>
                    <a:pt x="1666" y="849"/>
                  </a:lnTo>
                  <a:lnTo>
                    <a:pt x="1713" y="882"/>
                  </a:lnTo>
                  <a:lnTo>
                    <a:pt x="1761" y="882"/>
                  </a:lnTo>
                  <a:lnTo>
                    <a:pt x="1810" y="898"/>
                  </a:lnTo>
                  <a:lnTo>
                    <a:pt x="1857" y="921"/>
                  </a:lnTo>
                  <a:lnTo>
                    <a:pt x="1905" y="921"/>
                  </a:lnTo>
                  <a:lnTo>
                    <a:pt x="1952" y="913"/>
                  </a:lnTo>
                  <a:lnTo>
                    <a:pt x="2000" y="928"/>
                  </a:lnTo>
                  <a:lnTo>
                    <a:pt x="2047" y="928"/>
                  </a:lnTo>
                  <a:lnTo>
                    <a:pt x="2095" y="926"/>
                  </a:lnTo>
                  <a:lnTo>
                    <a:pt x="2142" y="946"/>
                  </a:lnTo>
                  <a:lnTo>
                    <a:pt x="2190" y="946"/>
                  </a:lnTo>
                  <a:lnTo>
                    <a:pt x="2238" y="953"/>
                  </a:lnTo>
                  <a:lnTo>
                    <a:pt x="2285" y="966"/>
                  </a:lnTo>
                  <a:lnTo>
                    <a:pt x="2333" y="966"/>
                  </a:lnTo>
                  <a:lnTo>
                    <a:pt x="2380" y="956"/>
                  </a:lnTo>
                  <a:lnTo>
                    <a:pt x="2428" y="964"/>
                  </a:lnTo>
                  <a:lnTo>
                    <a:pt x="2475" y="964"/>
                  </a:lnTo>
                  <a:lnTo>
                    <a:pt x="2523" y="975"/>
                  </a:lnTo>
                  <a:lnTo>
                    <a:pt x="2571" y="984"/>
                  </a:lnTo>
                  <a:lnTo>
                    <a:pt x="2618" y="984"/>
                  </a:lnTo>
                  <a:lnTo>
                    <a:pt x="2666" y="978"/>
                  </a:lnTo>
                  <a:lnTo>
                    <a:pt x="2713" y="983"/>
                  </a:lnTo>
                  <a:lnTo>
                    <a:pt x="2761" y="983"/>
                  </a:lnTo>
                  <a:lnTo>
                    <a:pt x="2808" y="983"/>
                  </a:lnTo>
                  <a:lnTo>
                    <a:pt x="2856" y="988"/>
                  </a:lnTo>
                  <a:lnTo>
                    <a:pt x="2903" y="988"/>
                  </a:lnTo>
                  <a:lnTo>
                    <a:pt x="2952" y="986"/>
                  </a:lnTo>
                  <a:lnTo>
                    <a:pt x="3000" y="989"/>
                  </a:lnTo>
                  <a:lnTo>
                    <a:pt x="3047" y="989"/>
                  </a:lnTo>
                  <a:lnTo>
                    <a:pt x="3095" y="992"/>
                  </a:lnTo>
                  <a:lnTo>
                    <a:pt x="3142" y="996"/>
                  </a:lnTo>
                  <a:lnTo>
                    <a:pt x="3190" y="996"/>
                  </a:lnTo>
                  <a:lnTo>
                    <a:pt x="3237" y="994"/>
                  </a:lnTo>
                  <a:lnTo>
                    <a:pt x="3285" y="997"/>
                  </a:lnTo>
                  <a:lnTo>
                    <a:pt x="3333" y="997"/>
                  </a:lnTo>
                  <a:lnTo>
                    <a:pt x="3380" y="992"/>
                  </a:lnTo>
                  <a:lnTo>
                    <a:pt x="3428" y="997"/>
                  </a:lnTo>
                  <a:lnTo>
                    <a:pt x="3475" y="997"/>
                  </a:lnTo>
                  <a:lnTo>
                    <a:pt x="3523" y="1001"/>
                  </a:lnTo>
                  <a:lnTo>
                    <a:pt x="3570" y="1001"/>
                  </a:lnTo>
                  <a:lnTo>
                    <a:pt x="3618" y="1001"/>
                  </a:lnTo>
                  <a:lnTo>
                    <a:pt x="3665" y="1000"/>
                  </a:lnTo>
                  <a:lnTo>
                    <a:pt x="3713" y="1002"/>
                  </a:lnTo>
                  <a:lnTo>
                    <a:pt x="3761" y="1002"/>
                  </a:lnTo>
                  <a:lnTo>
                    <a:pt x="3808" y="1002"/>
                  </a:lnTo>
                  <a:lnTo>
                    <a:pt x="3856" y="1003"/>
                  </a:lnTo>
                  <a:lnTo>
                    <a:pt x="3903" y="1003"/>
                  </a:lnTo>
                  <a:lnTo>
                    <a:pt x="3951" y="1001"/>
                  </a:lnTo>
                  <a:lnTo>
                    <a:pt x="3998" y="1002"/>
                  </a:lnTo>
                  <a:lnTo>
                    <a:pt x="4046" y="1002"/>
                  </a:lnTo>
                  <a:lnTo>
                    <a:pt x="4094" y="1003"/>
                  </a:lnTo>
                  <a:lnTo>
                    <a:pt x="4142" y="1004"/>
                  </a:lnTo>
                  <a:lnTo>
                    <a:pt x="4190" y="1004"/>
                  </a:lnTo>
                  <a:lnTo>
                    <a:pt x="4237" y="1003"/>
                  </a:lnTo>
                  <a:lnTo>
                    <a:pt x="4285" y="1004"/>
                  </a:lnTo>
                  <a:lnTo>
                    <a:pt x="4332" y="1004"/>
                  </a:lnTo>
                  <a:lnTo>
                    <a:pt x="4380" y="1004"/>
                  </a:lnTo>
                  <a:lnTo>
                    <a:pt x="4427" y="1005"/>
                  </a:lnTo>
                  <a:lnTo>
                    <a:pt x="4475" y="1005"/>
                  </a:lnTo>
                  <a:lnTo>
                    <a:pt x="4523" y="1004"/>
                  </a:lnTo>
                  <a:lnTo>
                    <a:pt x="4570" y="1004"/>
                  </a:lnTo>
                  <a:lnTo>
                    <a:pt x="4618" y="1004"/>
                  </a:lnTo>
                  <a:lnTo>
                    <a:pt x="4665" y="1006"/>
                  </a:lnTo>
                  <a:lnTo>
                    <a:pt x="4713" y="1005"/>
                  </a:lnTo>
                  <a:lnTo>
                    <a:pt x="4713" y="1006"/>
                  </a:lnTo>
                  <a:lnTo>
                    <a:pt x="4665" y="1006"/>
                  </a:lnTo>
                  <a:lnTo>
                    <a:pt x="4618" y="1006"/>
                  </a:lnTo>
                  <a:lnTo>
                    <a:pt x="4570" y="1006"/>
                  </a:lnTo>
                  <a:lnTo>
                    <a:pt x="4523" y="1006"/>
                  </a:lnTo>
                  <a:lnTo>
                    <a:pt x="4475" y="1006"/>
                  </a:lnTo>
                  <a:lnTo>
                    <a:pt x="4427" y="1006"/>
                  </a:lnTo>
                  <a:lnTo>
                    <a:pt x="4380" y="1006"/>
                  </a:lnTo>
                  <a:lnTo>
                    <a:pt x="4332" y="1006"/>
                  </a:lnTo>
                  <a:lnTo>
                    <a:pt x="4285" y="1006"/>
                  </a:lnTo>
                  <a:lnTo>
                    <a:pt x="4237" y="1006"/>
                  </a:lnTo>
                  <a:lnTo>
                    <a:pt x="4190" y="1006"/>
                  </a:lnTo>
                  <a:lnTo>
                    <a:pt x="4142" y="1006"/>
                  </a:lnTo>
                  <a:lnTo>
                    <a:pt x="4094" y="1006"/>
                  </a:lnTo>
                  <a:lnTo>
                    <a:pt x="4046" y="1006"/>
                  </a:lnTo>
                  <a:lnTo>
                    <a:pt x="3998" y="1006"/>
                  </a:lnTo>
                  <a:lnTo>
                    <a:pt x="3951" y="1006"/>
                  </a:lnTo>
                  <a:lnTo>
                    <a:pt x="3903" y="1006"/>
                  </a:lnTo>
                  <a:lnTo>
                    <a:pt x="3856" y="1006"/>
                  </a:lnTo>
                  <a:lnTo>
                    <a:pt x="3808" y="1006"/>
                  </a:lnTo>
                  <a:lnTo>
                    <a:pt x="3761" y="1006"/>
                  </a:lnTo>
                  <a:lnTo>
                    <a:pt x="3713" y="1006"/>
                  </a:lnTo>
                  <a:lnTo>
                    <a:pt x="3665" y="1006"/>
                  </a:lnTo>
                  <a:lnTo>
                    <a:pt x="3618" y="1006"/>
                  </a:lnTo>
                  <a:lnTo>
                    <a:pt x="3570" y="1006"/>
                  </a:lnTo>
                  <a:lnTo>
                    <a:pt x="3523" y="1006"/>
                  </a:lnTo>
                  <a:lnTo>
                    <a:pt x="3475" y="1006"/>
                  </a:lnTo>
                  <a:lnTo>
                    <a:pt x="3428" y="1006"/>
                  </a:lnTo>
                  <a:lnTo>
                    <a:pt x="3380" y="1006"/>
                  </a:lnTo>
                  <a:lnTo>
                    <a:pt x="3333" y="1006"/>
                  </a:lnTo>
                  <a:lnTo>
                    <a:pt x="3285" y="1006"/>
                  </a:lnTo>
                  <a:lnTo>
                    <a:pt x="3237" y="1006"/>
                  </a:lnTo>
                  <a:lnTo>
                    <a:pt x="3190" y="1006"/>
                  </a:lnTo>
                  <a:lnTo>
                    <a:pt x="3142" y="1006"/>
                  </a:lnTo>
                  <a:lnTo>
                    <a:pt x="3095" y="1006"/>
                  </a:lnTo>
                  <a:lnTo>
                    <a:pt x="3047" y="1006"/>
                  </a:lnTo>
                  <a:lnTo>
                    <a:pt x="3000" y="1006"/>
                  </a:lnTo>
                  <a:lnTo>
                    <a:pt x="2952" y="1006"/>
                  </a:lnTo>
                  <a:lnTo>
                    <a:pt x="2903" y="1006"/>
                  </a:lnTo>
                  <a:lnTo>
                    <a:pt x="2856" y="1006"/>
                  </a:lnTo>
                  <a:lnTo>
                    <a:pt x="2808" y="1006"/>
                  </a:lnTo>
                  <a:lnTo>
                    <a:pt x="2761" y="1006"/>
                  </a:lnTo>
                  <a:lnTo>
                    <a:pt x="2713" y="1006"/>
                  </a:lnTo>
                  <a:lnTo>
                    <a:pt x="2666" y="1006"/>
                  </a:lnTo>
                  <a:lnTo>
                    <a:pt x="2618" y="1006"/>
                  </a:lnTo>
                  <a:lnTo>
                    <a:pt x="2571" y="1006"/>
                  </a:lnTo>
                  <a:lnTo>
                    <a:pt x="2523" y="1006"/>
                  </a:lnTo>
                  <a:lnTo>
                    <a:pt x="2475" y="1006"/>
                  </a:lnTo>
                  <a:lnTo>
                    <a:pt x="2428" y="1006"/>
                  </a:lnTo>
                  <a:lnTo>
                    <a:pt x="2380" y="1006"/>
                  </a:lnTo>
                  <a:lnTo>
                    <a:pt x="2333" y="1006"/>
                  </a:lnTo>
                  <a:lnTo>
                    <a:pt x="2285" y="1006"/>
                  </a:lnTo>
                  <a:lnTo>
                    <a:pt x="2238" y="1006"/>
                  </a:lnTo>
                  <a:lnTo>
                    <a:pt x="2190" y="1006"/>
                  </a:lnTo>
                  <a:lnTo>
                    <a:pt x="2142" y="1006"/>
                  </a:lnTo>
                  <a:lnTo>
                    <a:pt x="2095" y="1006"/>
                  </a:lnTo>
                  <a:lnTo>
                    <a:pt x="2047" y="1006"/>
                  </a:lnTo>
                  <a:lnTo>
                    <a:pt x="2000" y="1006"/>
                  </a:lnTo>
                  <a:lnTo>
                    <a:pt x="1952" y="1006"/>
                  </a:lnTo>
                  <a:lnTo>
                    <a:pt x="1905" y="1006"/>
                  </a:lnTo>
                  <a:lnTo>
                    <a:pt x="1857" y="1006"/>
                  </a:lnTo>
                  <a:lnTo>
                    <a:pt x="1810" y="1006"/>
                  </a:lnTo>
                  <a:lnTo>
                    <a:pt x="1761" y="1006"/>
                  </a:lnTo>
                  <a:lnTo>
                    <a:pt x="1713" y="1006"/>
                  </a:lnTo>
                  <a:lnTo>
                    <a:pt x="1666" y="1006"/>
                  </a:lnTo>
                  <a:lnTo>
                    <a:pt x="1618" y="1006"/>
                  </a:lnTo>
                  <a:lnTo>
                    <a:pt x="1571" y="1006"/>
                  </a:lnTo>
                  <a:lnTo>
                    <a:pt x="1523" y="1006"/>
                  </a:lnTo>
                  <a:lnTo>
                    <a:pt x="1476" y="1006"/>
                  </a:lnTo>
                  <a:lnTo>
                    <a:pt x="1428" y="1006"/>
                  </a:lnTo>
                  <a:lnTo>
                    <a:pt x="1380" y="1006"/>
                  </a:lnTo>
                  <a:lnTo>
                    <a:pt x="1333" y="1006"/>
                  </a:lnTo>
                  <a:lnTo>
                    <a:pt x="1285" y="1006"/>
                  </a:lnTo>
                  <a:lnTo>
                    <a:pt x="1238" y="1006"/>
                  </a:lnTo>
                  <a:lnTo>
                    <a:pt x="1190" y="1006"/>
                  </a:lnTo>
                  <a:lnTo>
                    <a:pt x="1143" y="1006"/>
                  </a:lnTo>
                  <a:lnTo>
                    <a:pt x="1095" y="1006"/>
                  </a:lnTo>
                  <a:lnTo>
                    <a:pt x="1048" y="1006"/>
                  </a:lnTo>
                  <a:lnTo>
                    <a:pt x="1000" y="1006"/>
                  </a:lnTo>
                  <a:lnTo>
                    <a:pt x="952" y="1006"/>
                  </a:lnTo>
                  <a:lnTo>
                    <a:pt x="905" y="1006"/>
                  </a:lnTo>
                  <a:lnTo>
                    <a:pt x="857" y="1006"/>
                  </a:lnTo>
                  <a:lnTo>
                    <a:pt x="810" y="1006"/>
                  </a:lnTo>
                  <a:lnTo>
                    <a:pt x="762" y="1006"/>
                  </a:lnTo>
                  <a:lnTo>
                    <a:pt x="715" y="1006"/>
                  </a:lnTo>
                  <a:lnTo>
                    <a:pt x="667" y="1006"/>
                  </a:lnTo>
                  <a:lnTo>
                    <a:pt x="620" y="1006"/>
                  </a:lnTo>
                  <a:lnTo>
                    <a:pt x="571" y="1006"/>
                  </a:lnTo>
                  <a:lnTo>
                    <a:pt x="523" y="1006"/>
                  </a:lnTo>
                  <a:lnTo>
                    <a:pt x="476" y="1006"/>
                  </a:lnTo>
                  <a:lnTo>
                    <a:pt x="428" y="1006"/>
                  </a:lnTo>
                  <a:lnTo>
                    <a:pt x="381" y="1006"/>
                  </a:lnTo>
                  <a:lnTo>
                    <a:pt x="333" y="1006"/>
                  </a:lnTo>
                  <a:lnTo>
                    <a:pt x="286" y="1006"/>
                  </a:lnTo>
                  <a:lnTo>
                    <a:pt x="238" y="1006"/>
                  </a:lnTo>
                  <a:lnTo>
                    <a:pt x="190" y="1006"/>
                  </a:lnTo>
                  <a:lnTo>
                    <a:pt x="143" y="1006"/>
                  </a:lnTo>
                  <a:lnTo>
                    <a:pt x="95" y="1006"/>
                  </a:lnTo>
                  <a:lnTo>
                    <a:pt x="48" y="1006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276"/>
                  </a:lnTo>
                  <a:lnTo>
                    <a:pt x="286" y="366"/>
                  </a:lnTo>
                  <a:lnTo>
                    <a:pt x="333" y="607"/>
                  </a:lnTo>
                  <a:lnTo>
                    <a:pt x="381" y="802"/>
                  </a:lnTo>
                  <a:lnTo>
                    <a:pt x="428" y="1004"/>
                  </a:lnTo>
                  <a:lnTo>
                    <a:pt x="476" y="1004"/>
                  </a:lnTo>
                  <a:lnTo>
                    <a:pt x="523" y="1370"/>
                  </a:lnTo>
                  <a:lnTo>
                    <a:pt x="571" y="1557"/>
                  </a:lnTo>
                  <a:lnTo>
                    <a:pt x="620" y="1557"/>
                  </a:lnTo>
                  <a:lnTo>
                    <a:pt x="667" y="1654"/>
                  </a:lnTo>
                  <a:lnTo>
                    <a:pt x="715" y="1778"/>
                  </a:lnTo>
                  <a:lnTo>
                    <a:pt x="762" y="1778"/>
                  </a:lnTo>
                  <a:lnTo>
                    <a:pt x="810" y="1913"/>
                  </a:lnTo>
                  <a:lnTo>
                    <a:pt x="857" y="2035"/>
                  </a:lnTo>
                  <a:lnTo>
                    <a:pt x="905" y="2035"/>
                  </a:lnTo>
                  <a:lnTo>
                    <a:pt x="952" y="2131"/>
                  </a:lnTo>
                  <a:lnTo>
                    <a:pt x="1000" y="2217"/>
                  </a:lnTo>
                  <a:lnTo>
                    <a:pt x="1048" y="2217"/>
                  </a:lnTo>
                  <a:lnTo>
                    <a:pt x="1095" y="2282"/>
                  </a:lnTo>
                  <a:lnTo>
                    <a:pt x="1143" y="2366"/>
                  </a:lnTo>
                  <a:lnTo>
                    <a:pt x="1190" y="2366"/>
                  </a:lnTo>
                  <a:lnTo>
                    <a:pt x="1238" y="2451"/>
                  </a:lnTo>
                  <a:lnTo>
                    <a:pt x="1285" y="2506"/>
                  </a:lnTo>
                  <a:lnTo>
                    <a:pt x="1333" y="2506"/>
                  </a:lnTo>
                  <a:lnTo>
                    <a:pt x="1380" y="2552"/>
                  </a:lnTo>
                  <a:lnTo>
                    <a:pt x="1428" y="2587"/>
                  </a:lnTo>
                  <a:lnTo>
                    <a:pt x="1476" y="2587"/>
                  </a:lnTo>
                  <a:lnTo>
                    <a:pt x="1523" y="2619"/>
                  </a:lnTo>
                  <a:lnTo>
                    <a:pt x="1571" y="2659"/>
                  </a:lnTo>
                  <a:lnTo>
                    <a:pt x="1618" y="2659"/>
                  </a:lnTo>
                  <a:lnTo>
                    <a:pt x="1666" y="2679"/>
                  </a:lnTo>
                  <a:lnTo>
                    <a:pt x="1713" y="2713"/>
                  </a:lnTo>
                  <a:lnTo>
                    <a:pt x="1761" y="2713"/>
                  </a:lnTo>
                  <a:lnTo>
                    <a:pt x="1810" y="2755"/>
                  </a:lnTo>
                  <a:lnTo>
                    <a:pt x="1857" y="2777"/>
                  </a:lnTo>
                  <a:lnTo>
                    <a:pt x="1905" y="2777"/>
                  </a:lnTo>
                  <a:lnTo>
                    <a:pt x="1952" y="2793"/>
                  </a:lnTo>
                  <a:lnTo>
                    <a:pt x="2000" y="2808"/>
                  </a:lnTo>
                  <a:lnTo>
                    <a:pt x="2047" y="2808"/>
                  </a:lnTo>
                  <a:lnTo>
                    <a:pt x="2095" y="2821"/>
                  </a:lnTo>
                  <a:lnTo>
                    <a:pt x="2142" y="2841"/>
                  </a:lnTo>
                  <a:lnTo>
                    <a:pt x="2190" y="2841"/>
                  </a:lnTo>
                  <a:lnTo>
                    <a:pt x="2238" y="2859"/>
                  </a:lnTo>
                  <a:lnTo>
                    <a:pt x="2285" y="2873"/>
                  </a:lnTo>
                  <a:lnTo>
                    <a:pt x="2333" y="2873"/>
                  </a:lnTo>
                  <a:lnTo>
                    <a:pt x="2380" y="2875"/>
                  </a:lnTo>
                  <a:lnTo>
                    <a:pt x="2428" y="2883"/>
                  </a:lnTo>
                  <a:lnTo>
                    <a:pt x="2475" y="2883"/>
                  </a:lnTo>
                  <a:lnTo>
                    <a:pt x="2523" y="2899"/>
                  </a:lnTo>
                  <a:lnTo>
                    <a:pt x="2571" y="2908"/>
                  </a:lnTo>
                  <a:lnTo>
                    <a:pt x="2618" y="2908"/>
                  </a:lnTo>
                  <a:lnTo>
                    <a:pt x="2666" y="2908"/>
                  </a:lnTo>
                  <a:lnTo>
                    <a:pt x="2713" y="2913"/>
                  </a:lnTo>
                  <a:lnTo>
                    <a:pt x="2761" y="2913"/>
                  </a:lnTo>
                  <a:lnTo>
                    <a:pt x="2808" y="2916"/>
                  </a:lnTo>
                  <a:lnTo>
                    <a:pt x="2856" y="2921"/>
                  </a:lnTo>
                  <a:lnTo>
                    <a:pt x="2903" y="2921"/>
                  </a:lnTo>
                  <a:lnTo>
                    <a:pt x="2952" y="2923"/>
                  </a:lnTo>
                  <a:lnTo>
                    <a:pt x="3000" y="2926"/>
                  </a:lnTo>
                  <a:lnTo>
                    <a:pt x="3047" y="2926"/>
                  </a:lnTo>
                  <a:lnTo>
                    <a:pt x="3095" y="2933"/>
                  </a:lnTo>
                  <a:lnTo>
                    <a:pt x="3142" y="2936"/>
                  </a:lnTo>
                  <a:lnTo>
                    <a:pt x="3190" y="2936"/>
                  </a:lnTo>
                  <a:lnTo>
                    <a:pt x="3237" y="2936"/>
                  </a:lnTo>
                  <a:lnTo>
                    <a:pt x="3285" y="2939"/>
                  </a:lnTo>
                  <a:lnTo>
                    <a:pt x="3333" y="2939"/>
                  </a:lnTo>
                  <a:lnTo>
                    <a:pt x="3380" y="2938"/>
                  </a:lnTo>
                  <a:lnTo>
                    <a:pt x="3428" y="2942"/>
                  </a:lnTo>
                  <a:lnTo>
                    <a:pt x="3475" y="2942"/>
                  </a:lnTo>
                  <a:lnTo>
                    <a:pt x="3523" y="2947"/>
                  </a:lnTo>
                  <a:lnTo>
                    <a:pt x="3570" y="2948"/>
                  </a:lnTo>
                  <a:lnTo>
                    <a:pt x="3618" y="2948"/>
                  </a:lnTo>
                  <a:lnTo>
                    <a:pt x="3665" y="2948"/>
                  </a:lnTo>
                  <a:lnTo>
                    <a:pt x="3713" y="2950"/>
                  </a:lnTo>
                  <a:lnTo>
                    <a:pt x="3761" y="2950"/>
                  </a:lnTo>
                  <a:lnTo>
                    <a:pt x="3808" y="2950"/>
                  </a:lnTo>
                  <a:lnTo>
                    <a:pt x="3856" y="2952"/>
                  </a:lnTo>
                  <a:lnTo>
                    <a:pt x="3903" y="2952"/>
                  </a:lnTo>
                  <a:lnTo>
                    <a:pt x="3951" y="2951"/>
                  </a:lnTo>
                  <a:lnTo>
                    <a:pt x="3998" y="2953"/>
                  </a:lnTo>
                  <a:lnTo>
                    <a:pt x="4046" y="2953"/>
                  </a:lnTo>
                  <a:lnTo>
                    <a:pt x="4094" y="2954"/>
                  </a:lnTo>
                  <a:lnTo>
                    <a:pt x="4142" y="2954"/>
                  </a:lnTo>
                  <a:lnTo>
                    <a:pt x="4190" y="2954"/>
                  </a:lnTo>
                  <a:lnTo>
                    <a:pt x="4237" y="2954"/>
                  </a:lnTo>
                  <a:lnTo>
                    <a:pt x="4285" y="2954"/>
                  </a:lnTo>
                  <a:lnTo>
                    <a:pt x="4332" y="2954"/>
                  </a:lnTo>
                  <a:lnTo>
                    <a:pt x="4380" y="2955"/>
                  </a:lnTo>
                  <a:lnTo>
                    <a:pt x="4427" y="2956"/>
                  </a:lnTo>
                  <a:lnTo>
                    <a:pt x="4475" y="2956"/>
                  </a:lnTo>
                  <a:lnTo>
                    <a:pt x="4523" y="2956"/>
                  </a:lnTo>
                  <a:lnTo>
                    <a:pt x="4570" y="2956"/>
                  </a:lnTo>
                  <a:lnTo>
                    <a:pt x="4618" y="2956"/>
                  </a:lnTo>
                  <a:lnTo>
                    <a:pt x="4665" y="2958"/>
                  </a:lnTo>
                  <a:lnTo>
                    <a:pt x="4713" y="2958"/>
                  </a:lnTo>
                  <a:lnTo>
                    <a:pt x="4713" y="2958"/>
                  </a:lnTo>
                  <a:lnTo>
                    <a:pt x="4665" y="2959"/>
                  </a:lnTo>
                  <a:lnTo>
                    <a:pt x="4618" y="2957"/>
                  </a:lnTo>
                  <a:lnTo>
                    <a:pt x="4570" y="2957"/>
                  </a:lnTo>
                  <a:lnTo>
                    <a:pt x="4523" y="2957"/>
                  </a:lnTo>
                  <a:lnTo>
                    <a:pt x="4475" y="2958"/>
                  </a:lnTo>
                  <a:lnTo>
                    <a:pt x="4427" y="2958"/>
                  </a:lnTo>
                  <a:lnTo>
                    <a:pt x="4380" y="2957"/>
                  </a:lnTo>
                  <a:lnTo>
                    <a:pt x="4332" y="2957"/>
                  </a:lnTo>
                  <a:lnTo>
                    <a:pt x="4285" y="2957"/>
                  </a:lnTo>
                  <a:lnTo>
                    <a:pt x="4237" y="2956"/>
                  </a:lnTo>
                  <a:lnTo>
                    <a:pt x="4190" y="2957"/>
                  </a:lnTo>
                  <a:lnTo>
                    <a:pt x="4142" y="2957"/>
                  </a:lnTo>
                  <a:lnTo>
                    <a:pt x="4094" y="2956"/>
                  </a:lnTo>
                  <a:lnTo>
                    <a:pt x="4046" y="2955"/>
                  </a:lnTo>
                  <a:lnTo>
                    <a:pt x="3998" y="2955"/>
                  </a:lnTo>
                  <a:lnTo>
                    <a:pt x="3951" y="2954"/>
                  </a:lnTo>
                  <a:lnTo>
                    <a:pt x="3903" y="2956"/>
                  </a:lnTo>
                  <a:lnTo>
                    <a:pt x="3856" y="2956"/>
                  </a:lnTo>
                  <a:lnTo>
                    <a:pt x="3808" y="2955"/>
                  </a:lnTo>
                  <a:lnTo>
                    <a:pt x="3761" y="2955"/>
                  </a:lnTo>
                  <a:lnTo>
                    <a:pt x="3713" y="2955"/>
                  </a:lnTo>
                  <a:lnTo>
                    <a:pt x="3665" y="2953"/>
                  </a:lnTo>
                  <a:lnTo>
                    <a:pt x="3618" y="2954"/>
                  </a:lnTo>
                  <a:lnTo>
                    <a:pt x="3570" y="2954"/>
                  </a:lnTo>
                  <a:lnTo>
                    <a:pt x="3523" y="2954"/>
                  </a:lnTo>
                  <a:lnTo>
                    <a:pt x="3475" y="2950"/>
                  </a:lnTo>
                  <a:lnTo>
                    <a:pt x="3428" y="2950"/>
                  </a:lnTo>
                  <a:lnTo>
                    <a:pt x="3380" y="2945"/>
                  </a:lnTo>
                  <a:lnTo>
                    <a:pt x="3333" y="2950"/>
                  </a:lnTo>
                  <a:lnTo>
                    <a:pt x="3285" y="2950"/>
                  </a:lnTo>
                  <a:lnTo>
                    <a:pt x="3237" y="2947"/>
                  </a:lnTo>
                  <a:lnTo>
                    <a:pt x="3190" y="2949"/>
                  </a:lnTo>
                  <a:lnTo>
                    <a:pt x="3142" y="2949"/>
                  </a:lnTo>
                  <a:lnTo>
                    <a:pt x="3095" y="2945"/>
                  </a:lnTo>
                  <a:lnTo>
                    <a:pt x="3047" y="2942"/>
                  </a:lnTo>
                  <a:lnTo>
                    <a:pt x="3000" y="2942"/>
                  </a:lnTo>
                  <a:lnTo>
                    <a:pt x="2952" y="2939"/>
                  </a:lnTo>
                  <a:lnTo>
                    <a:pt x="2903" y="2941"/>
                  </a:lnTo>
                  <a:lnTo>
                    <a:pt x="2856" y="2941"/>
                  </a:lnTo>
                  <a:lnTo>
                    <a:pt x="2808" y="2936"/>
                  </a:lnTo>
                  <a:lnTo>
                    <a:pt x="2761" y="2936"/>
                  </a:lnTo>
                  <a:lnTo>
                    <a:pt x="2713" y="2936"/>
                  </a:lnTo>
                  <a:lnTo>
                    <a:pt x="2666" y="2931"/>
                  </a:lnTo>
                  <a:lnTo>
                    <a:pt x="2618" y="2937"/>
                  </a:lnTo>
                  <a:lnTo>
                    <a:pt x="2571" y="2937"/>
                  </a:lnTo>
                  <a:lnTo>
                    <a:pt x="2523" y="2928"/>
                  </a:lnTo>
                  <a:lnTo>
                    <a:pt x="2475" y="2917"/>
                  </a:lnTo>
                  <a:lnTo>
                    <a:pt x="2428" y="2917"/>
                  </a:lnTo>
                  <a:lnTo>
                    <a:pt x="2380" y="2909"/>
                  </a:lnTo>
                  <a:lnTo>
                    <a:pt x="2333" y="2919"/>
                  </a:lnTo>
                  <a:lnTo>
                    <a:pt x="2285" y="2919"/>
                  </a:lnTo>
                  <a:lnTo>
                    <a:pt x="2238" y="2906"/>
                  </a:lnTo>
                  <a:lnTo>
                    <a:pt x="2190" y="2899"/>
                  </a:lnTo>
                  <a:lnTo>
                    <a:pt x="2142" y="2899"/>
                  </a:lnTo>
                  <a:lnTo>
                    <a:pt x="2095" y="2879"/>
                  </a:lnTo>
                  <a:lnTo>
                    <a:pt x="2047" y="2881"/>
                  </a:lnTo>
                  <a:lnTo>
                    <a:pt x="2000" y="2881"/>
                  </a:lnTo>
                  <a:lnTo>
                    <a:pt x="1952" y="2866"/>
                  </a:lnTo>
                  <a:lnTo>
                    <a:pt x="1905" y="2874"/>
                  </a:lnTo>
                  <a:lnTo>
                    <a:pt x="1857" y="2874"/>
                  </a:lnTo>
                  <a:lnTo>
                    <a:pt x="1810" y="2851"/>
                  </a:lnTo>
                  <a:lnTo>
                    <a:pt x="1761" y="2835"/>
                  </a:lnTo>
                  <a:lnTo>
                    <a:pt x="1713" y="2835"/>
                  </a:lnTo>
                  <a:lnTo>
                    <a:pt x="1666" y="2802"/>
                  </a:lnTo>
                  <a:lnTo>
                    <a:pt x="1618" y="2816"/>
                  </a:lnTo>
                  <a:lnTo>
                    <a:pt x="1571" y="2816"/>
                  </a:lnTo>
                  <a:lnTo>
                    <a:pt x="1523" y="2776"/>
                  </a:lnTo>
                  <a:lnTo>
                    <a:pt x="1476" y="2787"/>
                  </a:lnTo>
                  <a:lnTo>
                    <a:pt x="1428" y="2787"/>
                  </a:lnTo>
                  <a:lnTo>
                    <a:pt x="1380" y="2751"/>
                  </a:lnTo>
                  <a:lnTo>
                    <a:pt x="1333" y="2751"/>
                  </a:lnTo>
                  <a:lnTo>
                    <a:pt x="1285" y="2751"/>
                  </a:lnTo>
                  <a:lnTo>
                    <a:pt x="1238" y="2696"/>
                  </a:lnTo>
                  <a:lnTo>
                    <a:pt x="1190" y="2674"/>
                  </a:lnTo>
                  <a:lnTo>
                    <a:pt x="1143" y="2674"/>
                  </a:lnTo>
                  <a:lnTo>
                    <a:pt x="1095" y="2590"/>
                  </a:lnTo>
                  <a:lnTo>
                    <a:pt x="1048" y="2616"/>
                  </a:lnTo>
                  <a:lnTo>
                    <a:pt x="1000" y="2616"/>
                  </a:lnTo>
                  <a:lnTo>
                    <a:pt x="952" y="2530"/>
                  </a:lnTo>
                  <a:lnTo>
                    <a:pt x="905" y="2546"/>
                  </a:lnTo>
                  <a:lnTo>
                    <a:pt x="857" y="2546"/>
                  </a:lnTo>
                  <a:lnTo>
                    <a:pt x="810" y="2424"/>
                  </a:lnTo>
                  <a:lnTo>
                    <a:pt x="762" y="2425"/>
                  </a:lnTo>
                  <a:lnTo>
                    <a:pt x="715" y="2425"/>
                  </a:lnTo>
                  <a:lnTo>
                    <a:pt x="667" y="2301"/>
                  </a:lnTo>
                  <a:lnTo>
                    <a:pt x="620" y="2407"/>
                  </a:lnTo>
                  <a:lnTo>
                    <a:pt x="571" y="2407"/>
                  </a:lnTo>
                  <a:lnTo>
                    <a:pt x="523" y="2220"/>
                  </a:lnTo>
                  <a:lnTo>
                    <a:pt x="476" y="2156"/>
                  </a:lnTo>
                  <a:lnTo>
                    <a:pt x="428" y="2156"/>
                  </a:lnTo>
                  <a:lnTo>
                    <a:pt x="381" y="1953"/>
                  </a:lnTo>
                  <a:lnTo>
                    <a:pt x="333" y="2356"/>
                  </a:lnTo>
                  <a:lnTo>
                    <a:pt x="286" y="2116"/>
                  </a:lnTo>
                  <a:lnTo>
                    <a:pt x="238" y="2025"/>
                  </a:lnTo>
                  <a:lnTo>
                    <a:pt x="190" y="2352"/>
                  </a:lnTo>
                  <a:lnTo>
                    <a:pt x="143" y="2593"/>
                  </a:lnTo>
                  <a:lnTo>
                    <a:pt x="95" y="2593"/>
                  </a:lnTo>
                  <a:lnTo>
                    <a:pt x="48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71600" y="91764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131"/>
                  </a:lnTo>
                  <a:lnTo>
                    <a:pt x="1238" y="165"/>
                  </a:lnTo>
                  <a:lnTo>
                    <a:pt x="1285" y="258"/>
                  </a:lnTo>
                  <a:lnTo>
                    <a:pt x="1333" y="496"/>
                  </a:lnTo>
                  <a:lnTo>
                    <a:pt x="1380" y="589"/>
                  </a:lnTo>
                  <a:lnTo>
                    <a:pt x="1428" y="589"/>
                  </a:lnTo>
                  <a:lnTo>
                    <a:pt x="1476" y="964"/>
                  </a:lnTo>
                  <a:lnTo>
                    <a:pt x="1523" y="1051"/>
                  </a:lnTo>
                  <a:lnTo>
                    <a:pt x="1571" y="1051"/>
                  </a:lnTo>
                  <a:lnTo>
                    <a:pt x="1618" y="1312"/>
                  </a:lnTo>
                  <a:lnTo>
                    <a:pt x="1666" y="1372"/>
                  </a:lnTo>
                  <a:lnTo>
                    <a:pt x="1713" y="1372"/>
                  </a:lnTo>
                  <a:lnTo>
                    <a:pt x="1761" y="1624"/>
                  </a:lnTo>
                  <a:lnTo>
                    <a:pt x="1810" y="1685"/>
                  </a:lnTo>
                  <a:lnTo>
                    <a:pt x="1857" y="1685"/>
                  </a:lnTo>
                  <a:lnTo>
                    <a:pt x="1905" y="1898"/>
                  </a:lnTo>
                  <a:lnTo>
                    <a:pt x="1952" y="1938"/>
                  </a:lnTo>
                  <a:lnTo>
                    <a:pt x="2000" y="1938"/>
                  </a:lnTo>
                  <a:lnTo>
                    <a:pt x="2047" y="2106"/>
                  </a:lnTo>
                  <a:lnTo>
                    <a:pt x="2095" y="2147"/>
                  </a:lnTo>
                  <a:lnTo>
                    <a:pt x="2142" y="2147"/>
                  </a:lnTo>
                  <a:lnTo>
                    <a:pt x="2190" y="2288"/>
                  </a:lnTo>
                  <a:lnTo>
                    <a:pt x="2238" y="2315"/>
                  </a:lnTo>
                  <a:lnTo>
                    <a:pt x="2285" y="2315"/>
                  </a:lnTo>
                  <a:lnTo>
                    <a:pt x="2333" y="2421"/>
                  </a:lnTo>
                  <a:lnTo>
                    <a:pt x="2380" y="2434"/>
                  </a:lnTo>
                  <a:lnTo>
                    <a:pt x="2428" y="2434"/>
                  </a:lnTo>
                  <a:lnTo>
                    <a:pt x="2475" y="2513"/>
                  </a:lnTo>
                  <a:lnTo>
                    <a:pt x="2523" y="2533"/>
                  </a:lnTo>
                  <a:lnTo>
                    <a:pt x="2571" y="2533"/>
                  </a:lnTo>
                  <a:lnTo>
                    <a:pt x="2618" y="2604"/>
                  </a:lnTo>
                  <a:lnTo>
                    <a:pt x="2666" y="2622"/>
                  </a:lnTo>
                  <a:lnTo>
                    <a:pt x="2713" y="2622"/>
                  </a:lnTo>
                  <a:lnTo>
                    <a:pt x="2761" y="2682"/>
                  </a:lnTo>
                  <a:lnTo>
                    <a:pt x="2808" y="2693"/>
                  </a:lnTo>
                  <a:lnTo>
                    <a:pt x="2856" y="2693"/>
                  </a:lnTo>
                  <a:lnTo>
                    <a:pt x="2903" y="2738"/>
                  </a:lnTo>
                  <a:lnTo>
                    <a:pt x="2952" y="2746"/>
                  </a:lnTo>
                  <a:lnTo>
                    <a:pt x="3000" y="2746"/>
                  </a:lnTo>
                  <a:lnTo>
                    <a:pt x="3047" y="2785"/>
                  </a:lnTo>
                  <a:lnTo>
                    <a:pt x="3095" y="2795"/>
                  </a:lnTo>
                  <a:lnTo>
                    <a:pt x="3142" y="2795"/>
                  </a:lnTo>
                  <a:lnTo>
                    <a:pt x="3190" y="2825"/>
                  </a:lnTo>
                  <a:lnTo>
                    <a:pt x="3237" y="2832"/>
                  </a:lnTo>
                  <a:lnTo>
                    <a:pt x="3285" y="2832"/>
                  </a:lnTo>
                  <a:lnTo>
                    <a:pt x="3333" y="2851"/>
                  </a:lnTo>
                  <a:lnTo>
                    <a:pt x="3380" y="2855"/>
                  </a:lnTo>
                  <a:lnTo>
                    <a:pt x="3428" y="2855"/>
                  </a:lnTo>
                  <a:lnTo>
                    <a:pt x="3475" y="2878"/>
                  </a:lnTo>
                  <a:lnTo>
                    <a:pt x="3523" y="2882"/>
                  </a:lnTo>
                  <a:lnTo>
                    <a:pt x="3570" y="2882"/>
                  </a:lnTo>
                  <a:lnTo>
                    <a:pt x="3618" y="2891"/>
                  </a:lnTo>
                  <a:lnTo>
                    <a:pt x="3665" y="2893"/>
                  </a:lnTo>
                  <a:lnTo>
                    <a:pt x="3713" y="2893"/>
                  </a:lnTo>
                  <a:lnTo>
                    <a:pt x="3761" y="2904"/>
                  </a:lnTo>
                  <a:lnTo>
                    <a:pt x="3808" y="2906"/>
                  </a:lnTo>
                  <a:lnTo>
                    <a:pt x="3856" y="2906"/>
                  </a:lnTo>
                  <a:lnTo>
                    <a:pt x="3903" y="2915"/>
                  </a:lnTo>
                  <a:lnTo>
                    <a:pt x="3951" y="2917"/>
                  </a:lnTo>
                  <a:lnTo>
                    <a:pt x="3998" y="2917"/>
                  </a:lnTo>
                  <a:lnTo>
                    <a:pt x="4046" y="2924"/>
                  </a:lnTo>
                  <a:lnTo>
                    <a:pt x="4094" y="2926"/>
                  </a:lnTo>
                  <a:lnTo>
                    <a:pt x="4142" y="2926"/>
                  </a:lnTo>
                  <a:lnTo>
                    <a:pt x="4190" y="2931"/>
                  </a:lnTo>
                  <a:lnTo>
                    <a:pt x="4237" y="2931"/>
                  </a:lnTo>
                  <a:lnTo>
                    <a:pt x="4285" y="2931"/>
                  </a:lnTo>
                  <a:lnTo>
                    <a:pt x="4332" y="2935"/>
                  </a:lnTo>
                  <a:lnTo>
                    <a:pt x="4380" y="2937"/>
                  </a:lnTo>
                  <a:lnTo>
                    <a:pt x="4427" y="2937"/>
                  </a:lnTo>
                  <a:lnTo>
                    <a:pt x="4475" y="2942"/>
                  </a:lnTo>
                  <a:lnTo>
                    <a:pt x="4523" y="2943"/>
                  </a:lnTo>
                  <a:lnTo>
                    <a:pt x="4570" y="2943"/>
                  </a:lnTo>
                  <a:lnTo>
                    <a:pt x="4618" y="2945"/>
                  </a:lnTo>
                  <a:lnTo>
                    <a:pt x="4665" y="2945"/>
                  </a:lnTo>
                  <a:lnTo>
                    <a:pt x="4713" y="2945"/>
                  </a:lnTo>
                  <a:lnTo>
                    <a:pt x="4713" y="2958"/>
                  </a:lnTo>
                  <a:lnTo>
                    <a:pt x="4665" y="2958"/>
                  </a:lnTo>
                  <a:lnTo>
                    <a:pt x="4618" y="2956"/>
                  </a:lnTo>
                  <a:lnTo>
                    <a:pt x="4570" y="2956"/>
                  </a:lnTo>
                  <a:lnTo>
                    <a:pt x="4523" y="2956"/>
                  </a:lnTo>
                  <a:lnTo>
                    <a:pt x="4475" y="2956"/>
                  </a:lnTo>
                  <a:lnTo>
                    <a:pt x="4427" y="2956"/>
                  </a:lnTo>
                  <a:lnTo>
                    <a:pt x="4380" y="2955"/>
                  </a:lnTo>
                  <a:lnTo>
                    <a:pt x="4332" y="2954"/>
                  </a:lnTo>
                  <a:lnTo>
                    <a:pt x="4285" y="2954"/>
                  </a:lnTo>
                  <a:lnTo>
                    <a:pt x="4237" y="2954"/>
                  </a:lnTo>
                  <a:lnTo>
                    <a:pt x="4190" y="2954"/>
                  </a:lnTo>
                  <a:lnTo>
                    <a:pt x="4142" y="2954"/>
                  </a:lnTo>
                  <a:lnTo>
                    <a:pt x="4094" y="2954"/>
                  </a:lnTo>
                  <a:lnTo>
                    <a:pt x="4046" y="2953"/>
                  </a:lnTo>
                  <a:lnTo>
                    <a:pt x="3998" y="2953"/>
                  </a:lnTo>
                  <a:lnTo>
                    <a:pt x="3951" y="2951"/>
                  </a:lnTo>
                  <a:lnTo>
                    <a:pt x="3903" y="2952"/>
                  </a:lnTo>
                  <a:lnTo>
                    <a:pt x="3856" y="2952"/>
                  </a:lnTo>
                  <a:lnTo>
                    <a:pt x="3808" y="2950"/>
                  </a:lnTo>
                  <a:lnTo>
                    <a:pt x="3761" y="2950"/>
                  </a:lnTo>
                  <a:lnTo>
                    <a:pt x="3713" y="2950"/>
                  </a:lnTo>
                  <a:lnTo>
                    <a:pt x="3665" y="2948"/>
                  </a:lnTo>
                  <a:lnTo>
                    <a:pt x="3618" y="2948"/>
                  </a:lnTo>
                  <a:lnTo>
                    <a:pt x="3570" y="2948"/>
                  </a:lnTo>
                  <a:lnTo>
                    <a:pt x="3523" y="2947"/>
                  </a:lnTo>
                  <a:lnTo>
                    <a:pt x="3475" y="2942"/>
                  </a:lnTo>
                  <a:lnTo>
                    <a:pt x="3428" y="2942"/>
                  </a:lnTo>
                  <a:lnTo>
                    <a:pt x="3380" y="2938"/>
                  </a:lnTo>
                  <a:lnTo>
                    <a:pt x="3333" y="2939"/>
                  </a:lnTo>
                  <a:lnTo>
                    <a:pt x="3285" y="2939"/>
                  </a:lnTo>
                  <a:lnTo>
                    <a:pt x="3237" y="2936"/>
                  </a:lnTo>
                  <a:lnTo>
                    <a:pt x="3190" y="2936"/>
                  </a:lnTo>
                  <a:lnTo>
                    <a:pt x="3142" y="2936"/>
                  </a:lnTo>
                  <a:lnTo>
                    <a:pt x="3095" y="2933"/>
                  </a:lnTo>
                  <a:lnTo>
                    <a:pt x="3047" y="2926"/>
                  </a:lnTo>
                  <a:lnTo>
                    <a:pt x="3000" y="2926"/>
                  </a:lnTo>
                  <a:lnTo>
                    <a:pt x="2952" y="2923"/>
                  </a:lnTo>
                  <a:lnTo>
                    <a:pt x="2903" y="2921"/>
                  </a:lnTo>
                  <a:lnTo>
                    <a:pt x="2856" y="2921"/>
                  </a:lnTo>
                  <a:lnTo>
                    <a:pt x="2808" y="2916"/>
                  </a:lnTo>
                  <a:lnTo>
                    <a:pt x="2761" y="2913"/>
                  </a:lnTo>
                  <a:lnTo>
                    <a:pt x="2713" y="2913"/>
                  </a:lnTo>
                  <a:lnTo>
                    <a:pt x="2666" y="2908"/>
                  </a:lnTo>
                  <a:lnTo>
                    <a:pt x="2618" y="2908"/>
                  </a:lnTo>
                  <a:lnTo>
                    <a:pt x="2571" y="2908"/>
                  </a:lnTo>
                  <a:lnTo>
                    <a:pt x="2523" y="2899"/>
                  </a:lnTo>
                  <a:lnTo>
                    <a:pt x="2475" y="2883"/>
                  </a:lnTo>
                  <a:lnTo>
                    <a:pt x="2428" y="2883"/>
                  </a:lnTo>
                  <a:lnTo>
                    <a:pt x="2380" y="2875"/>
                  </a:lnTo>
                  <a:lnTo>
                    <a:pt x="2333" y="2873"/>
                  </a:lnTo>
                  <a:lnTo>
                    <a:pt x="2285" y="2873"/>
                  </a:lnTo>
                  <a:lnTo>
                    <a:pt x="2238" y="2859"/>
                  </a:lnTo>
                  <a:lnTo>
                    <a:pt x="2190" y="2841"/>
                  </a:lnTo>
                  <a:lnTo>
                    <a:pt x="2142" y="2841"/>
                  </a:lnTo>
                  <a:lnTo>
                    <a:pt x="2095" y="2821"/>
                  </a:lnTo>
                  <a:lnTo>
                    <a:pt x="2047" y="2808"/>
                  </a:lnTo>
                  <a:lnTo>
                    <a:pt x="2000" y="2808"/>
                  </a:lnTo>
                  <a:lnTo>
                    <a:pt x="1952" y="2793"/>
                  </a:lnTo>
                  <a:lnTo>
                    <a:pt x="1905" y="2777"/>
                  </a:lnTo>
                  <a:lnTo>
                    <a:pt x="1857" y="2777"/>
                  </a:lnTo>
                  <a:lnTo>
                    <a:pt x="1810" y="2755"/>
                  </a:lnTo>
                  <a:lnTo>
                    <a:pt x="1761" y="2713"/>
                  </a:lnTo>
                  <a:lnTo>
                    <a:pt x="1713" y="2713"/>
                  </a:lnTo>
                  <a:lnTo>
                    <a:pt x="1666" y="2679"/>
                  </a:lnTo>
                  <a:lnTo>
                    <a:pt x="1618" y="2659"/>
                  </a:lnTo>
                  <a:lnTo>
                    <a:pt x="1571" y="2659"/>
                  </a:lnTo>
                  <a:lnTo>
                    <a:pt x="1523" y="2619"/>
                  </a:lnTo>
                  <a:lnTo>
                    <a:pt x="1476" y="2587"/>
                  </a:lnTo>
                  <a:lnTo>
                    <a:pt x="1428" y="2587"/>
                  </a:lnTo>
                  <a:lnTo>
                    <a:pt x="1380" y="2552"/>
                  </a:lnTo>
                  <a:lnTo>
                    <a:pt x="1333" y="2506"/>
                  </a:lnTo>
                  <a:lnTo>
                    <a:pt x="1285" y="2506"/>
                  </a:lnTo>
                  <a:lnTo>
                    <a:pt x="1238" y="2451"/>
                  </a:lnTo>
                  <a:lnTo>
                    <a:pt x="1190" y="2366"/>
                  </a:lnTo>
                  <a:lnTo>
                    <a:pt x="1143" y="2366"/>
                  </a:lnTo>
                  <a:lnTo>
                    <a:pt x="1095" y="2282"/>
                  </a:lnTo>
                  <a:lnTo>
                    <a:pt x="1048" y="2217"/>
                  </a:lnTo>
                  <a:lnTo>
                    <a:pt x="1000" y="2217"/>
                  </a:lnTo>
                  <a:lnTo>
                    <a:pt x="952" y="2131"/>
                  </a:lnTo>
                  <a:lnTo>
                    <a:pt x="905" y="2035"/>
                  </a:lnTo>
                  <a:lnTo>
                    <a:pt x="857" y="2035"/>
                  </a:lnTo>
                  <a:lnTo>
                    <a:pt x="810" y="1913"/>
                  </a:lnTo>
                  <a:lnTo>
                    <a:pt x="762" y="1778"/>
                  </a:lnTo>
                  <a:lnTo>
                    <a:pt x="715" y="1778"/>
                  </a:lnTo>
                  <a:lnTo>
                    <a:pt x="667" y="1654"/>
                  </a:lnTo>
                  <a:lnTo>
                    <a:pt x="620" y="1557"/>
                  </a:lnTo>
                  <a:lnTo>
                    <a:pt x="571" y="1557"/>
                  </a:lnTo>
                  <a:lnTo>
                    <a:pt x="523" y="1370"/>
                  </a:lnTo>
                  <a:lnTo>
                    <a:pt x="476" y="1004"/>
                  </a:lnTo>
                  <a:lnTo>
                    <a:pt x="428" y="1004"/>
                  </a:lnTo>
                  <a:lnTo>
                    <a:pt x="381" y="802"/>
                  </a:lnTo>
                  <a:lnTo>
                    <a:pt x="333" y="607"/>
                  </a:lnTo>
                  <a:lnTo>
                    <a:pt x="286" y="366"/>
                  </a:lnTo>
                  <a:lnTo>
                    <a:pt x="238" y="276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371600" y="917640"/>
              <a:ext cx="7481880" cy="4674960"/>
            </a:xfrm>
            <a:custGeom>
              <a:avLst/>
              <a:gdLst/>
              <a:ahLst/>
              <a:rect l="l" t="t" r="r" b="b"/>
              <a:pathLst>
                <a:path w="4713" h="2945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131"/>
                  </a:lnTo>
                  <a:lnTo>
                    <a:pt x="2713" y="165"/>
                  </a:lnTo>
                  <a:lnTo>
                    <a:pt x="2761" y="258"/>
                  </a:lnTo>
                  <a:lnTo>
                    <a:pt x="2808" y="496"/>
                  </a:lnTo>
                  <a:lnTo>
                    <a:pt x="2856" y="589"/>
                  </a:lnTo>
                  <a:lnTo>
                    <a:pt x="2903" y="589"/>
                  </a:lnTo>
                  <a:lnTo>
                    <a:pt x="2952" y="964"/>
                  </a:lnTo>
                  <a:lnTo>
                    <a:pt x="3000" y="1051"/>
                  </a:lnTo>
                  <a:lnTo>
                    <a:pt x="3047" y="1051"/>
                  </a:lnTo>
                  <a:lnTo>
                    <a:pt x="3095" y="1312"/>
                  </a:lnTo>
                  <a:lnTo>
                    <a:pt x="3142" y="1372"/>
                  </a:lnTo>
                  <a:lnTo>
                    <a:pt x="3190" y="1372"/>
                  </a:lnTo>
                  <a:lnTo>
                    <a:pt x="3237" y="1624"/>
                  </a:lnTo>
                  <a:lnTo>
                    <a:pt x="3285" y="1685"/>
                  </a:lnTo>
                  <a:lnTo>
                    <a:pt x="3333" y="1685"/>
                  </a:lnTo>
                  <a:lnTo>
                    <a:pt x="3380" y="1898"/>
                  </a:lnTo>
                  <a:lnTo>
                    <a:pt x="3428" y="1938"/>
                  </a:lnTo>
                  <a:lnTo>
                    <a:pt x="3475" y="1938"/>
                  </a:lnTo>
                  <a:lnTo>
                    <a:pt x="3523" y="2106"/>
                  </a:lnTo>
                  <a:lnTo>
                    <a:pt x="3570" y="2147"/>
                  </a:lnTo>
                  <a:lnTo>
                    <a:pt x="3618" y="2147"/>
                  </a:lnTo>
                  <a:lnTo>
                    <a:pt x="3665" y="2288"/>
                  </a:lnTo>
                  <a:lnTo>
                    <a:pt x="3713" y="2315"/>
                  </a:lnTo>
                  <a:lnTo>
                    <a:pt x="3761" y="2315"/>
                  </a:lnTo>
                  <a:lnTo>
                    <a:pt x="3808" y="2421"/>
                  </a:lnTo>
                  <a:lnTo>
                    <a:pt x="3856" y="2434"/>
                  </a:lnTo>
                  <a:lnTo>
                    <a:pt x="3903" y="2434"/>
                  </a:lnTo>
                  <a:lnTo>
                    <a:pt x="3951" y="2513"/>
                  </a:lnTo>
                  <a:lnTo>
                    <a:pt x="3998" y="2533"/>
                  </a:lnTo>
                  <a:lnTo>
                    <a:pt x="4046" y="2533"/>
                  </a:lnTo>
                  <a:lnTo>
                    <a:pt x="4094" y="2604"/>
                  </a:lnTo>
                  <a:lnTo>
                    <a:pt x="4142" y="2622"/>
                  </a:lnTo>
                  <a:lnTo>
                    <a:pt x="4190" y="2622"/>
                  </a:lnTo>
                  <a:lnTo>
                    <a:pt x="4237" y="2682"/>
                  </a:lnTo>
                  <a:lnTo>
                    <a:pt x="4285" y="2693"/>
                  </a:lnTo>
                  <a:lnTo>
                    <a:pt x="4332" y="2693"/>
                  </a:lnTo>
                  <a:lnTo>
                    <a:pt x="4380" y="2738"/>
                  </a:lnTo>
                  <a:lnTo>
                    <a:pt x="4427" y="2746"/>
                  </a:lnTo>
                  <a:lnTo>
                    <a:pt x="4475" y="2746"/>
                  </a:lnTo>
                  <a:lnTo>
                    <a:pt x="4523" y="2785"/>
                  </a:lnTo>
                  <a:lnTo>
                    <a:pt x="4570" y="2795"/>
                  </a:lnTo>
                  <a:lnTo>
                    <a:pt x="4618" y="2795"/>
                  </a:lnTo>
                  <a:lnTo>
                    <a:pt x="4665" y="2825"/>
                  </a:lnTo>
                  <a:lnTo>
                    <a:pt x="4713" y="2832"/>
                  </a:lnTo>
                  <a:lnTo>
                    <a:pt x="4713" y="2945"/>
                  </a:lnTo>
                  <a:lnTo>
                    <a:pt x="4665" y="2945"/>
                  </a:lnTo>
                  <a:lnTo>
                    <a:pt x="4618" y="2945"/>
                  </a:lnTo>
                  <a:lnTo>
                    <a:pt x="4570" y="2943"/>
                  </a:lnTo>
                  <a:lnTo>
                    <a:pt x="4523" y="2943"/>
                  </a:lnTo>
                  <a:lnTo>
                    <a:pt x="4475" y="2942"/>
                  </a:lnTo>
                  <a:lnTo>
                    <a:pt x="4427" y="2937"/>
                  </a:lnTo>
                  <a:lnTo>
                    <a:pt x="4380" y="2937"/>
                  </a:lnTo>
                  <a:lnTo>
                    <a:pt x="4332" y="2935"/>
                  </a:lnTo>
                  <a:lnTo>
                    <a:pt x="4285" y="2931"/>
                  </a:lnTo>
                  <a:lnTo>
                    <a:pt x="4237" y="2931"/>
                  </a:lnTo>
                  <a:lnTo>
                    <a:pt x="4190" y="2931"/>
                  </a:lnTo>
                  <a:lnTo>
                    <a:pt x="4142" y="2926"/>
                  </a:lnTo>
                  <a:lnTo>
                    <a:pt x="4094" y="2926"/>
                  </a:lnTo>
                  <a:lnTo>
                    <a:pt x="4046" y="2924"/>
                  </a:lnTo>
                  <a:lnTo>
                    <a:pt x="3998" y="2917"/>
                  </a:lnTo>
                  <a:lnTo>
                    <a:pt x="3951" y="2917"/>
                  </a:lnTo>
                  <a:lnTo>
                    <a:pt x="3903" y="2915"/>
                  </a:lnTo>
                  <a:lnTo>
                    <a:pt x="3856" y="2906"/>
                  </a:lnTo>
                  <a:lnTo>
                    <a:pt x="3808" y="2906"/>
                  </a:lnTo>
                  <a:lnTo>
                    <a:pt x="3761" y="2904"/>
                  </a:lnTo>
                  <a:lnTo>
                    <a:pt x="3713" y="2893"/>
                  </a:lnTo>
                  <a:lnTo>
                    <a:pt x="3665" y="2893"/>
                  </a:lnTo>
                  <a:lnTo>
                    <a:pt x="3618" y="2891"/>
                  </a:lnTo>
                  <a:lnTo>
                    <a:pt x="3570" y="2882"/>
                  </a:lnTo>
                  <a:lnTo>
                    <a:pt x="3523" y="2882"/>
                  </a:lnTo>
                  <a:lnTo>
                    <a:pt x="3475" y="2878"/>
                  </a:lnTo>
                  <a:lnTo>
                    <a:pt x="3428" y="2855"/>
                  </a:lnTo>
                  <a:lnTo>
                    <a:pt x="3380" y="2855"/>
                  </a:lnTo>
                  <a:lnTo>
                    <a:pt x="3333" y="2851"/>
                  </a:lnTo>
                  <a:lnTo>
                    <a:pt x="3285" y="2832"/>
                  </a:lnTo>
                  <a:lnTo>
                    <a:pt x="3237" y="2832"/>
                  </a:lnTo>
                  <a:lnTo>
                    <a:pt x="3190" y="2825"/>
                  </a:lnTo>
                  <a:lnTo>
                    <a:pt x="3142" y="2795"/>
                  </a:lnTo>
                  <a:lnTo>
                    <a:pt x="3095" y="2795"/>
                  </a:lnTo>
                  <a:lnTo>
                    <a:pt x="3047" y="2785"/>
                  </a:lnTo>
                  <a:lnTo>
                    <a:pt x="3000" y="2746"/>
                  </a:lnTo>
                  <a:lnTo>
                    <a:pt x="2952" y="2746"/>
                  </a:lnTo>
                  <a:lnTo>
                    <a:pt x="2903" y="2738"/>
                  </a:lnTo>
                  <a:lnTo>
                    <a:pt x="2856" y="2693"/>
                  </a:lnTo>
                  <a:lnTo>
                    <a:pt x="2808" y="2693"/>
                  </a:lnTo>
                  <a:lnTo>
                    <a:pt x="2761" y="2682"/>
                  </a:lnTo>
                  <a:lnTo>
                    <a:pt x="2713" y="2622"/>
                  </a:lnTo>
                  <a:lnTo>
                    <a:pt x="2666" y="2622"/>
                  </a:lnTo>
                  <a:lnTo>
                    <a:pt x="2618" y="2604"/>
                  </a:lnTo>
                  <a:lnTo>
                    <a:pt x="2571" y="2533"/>
                  </a:lnTo>
                  <a:lnTo>
                    <a:pt x="2523" y="2533"/>
                  </a:lnTo>
                  <a:lnTo>
                    <a:pt x="2475" y="2513"/>
                  </a:lnTo>
                  <a:lnTo>
                    <a:pt x="2428" y="2434"/>
                  </a:lnTo>
                  <a:lnTo>
                    <a:pt x="2380" y="2434"/>
                  </a:lnTo>
                  <a:lnTo>
                    <a:pt x="2333" y="2421"/>
                  </a:lnTo>
                  <a:lnTo>
                    <a:pt x="2285" y="2315"/>
                  </a:lnTo>
                  <a:lnTo>
                    <a:pt x="2238" y="2315"/>
                  </a:lnTo>
                  <a:lnTo>
                    <a:pt x="2190" y="2288"/>
                  </a:lnTo>
                  <a:lnTo>
                    <a:pt x="2142" y="2147"/>
                  </a:lnTo>
                  <a:lnTo>
                    <a:pt x="2095" y="2147"/>
                  </a:lnTo>
                  <a:lnTo>
                    <a:pt x="2047" y="2106"/>
                  </a:lnTo>
                  <a:lnTo>
                    <a:pt x="2000" y="1938"/>
                  </a:lnTo>
                  <a:lnTo>
                    <a:pt x="1952" y="1938"/>
                  </a:lnTo>
                  <a:lnTo>
                    <a:pt x="1905" y="1898"/>
                  </a:lnTo>
                  <a:lnTo>
                    <a:pt x="1857" y="1685"/>
                  </a:lnTo>
                  <a:lnTo>
                    <a:pt x="1810" y="1685"/>
                  </a:lnTo>
                  <a:lnTo>
                    <a:pt x="1761" y="1624"/>
                  </a:lnTo>
                  <a:lnTo>
                    <a:pt x="1713" y="1372"/>
                  </a:lnTo>
                  <a:lnTo>
                    <a:pt x="1666" y="1372"/>
                  </a:lnTo>
                  <a:lnTo>
                    <a:pt x="1618" y="1312"/>
                  </a:lnTo>
                  <a:lnTo>
                    <a:pt x="1571" y="1051"/>
                  </a:lnTo>
                  <a:lnTo>
                    <a:pt x="1523" y="1051"/>
                  </a:lnTo>
                  <a:lnTo>
                    <a:pt x="1476" y="964"/>
                  </a:lnTo>
                  <a:lnTo>
                    <a:pt x="1428" y="589"/>
                  </a:lnTo>
                  <a:lnTo>
                    <a:pt x="1380" y="589"/>
                  </a:lnTo>
                  <a:lnTo>
                    <a:pt x="1333" y="496"/>
                  </a:lnTo>
                  <a:lnTo>
                    <a:pt x="1285" y="258"/>
                  </a:lnTo>
                  <a:lnTo>
                    <a:pt x="1238" y="165"/>
                  </a:lnTo>
                  <a:lnTo>
                    <a:pt x="1190" y="131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71600" y="917640"/>
              <a:ext cx="7481880" cy="4674960"/>
            </a:xfrm>
            <a:custGeom>
              <a:avLst/>
              <a:gdLst/>
              <a:ahLst/>
              <a:rect l="l" t="t" r="r" b="b"/>
              <a:pathLst>
                <a:path w="4713" h="2945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131"/>
                  </a:lnTo>
                  <a:lnTo>
                    <a:pt x="2713" y="165"/>
                  </a:lnTo>
                  <a:lnTo>
                    <a:pt x="2761" y="258"/>
                  </a:lnTo>
                  <a:lnTo>
                    <a:pt x="2808" y="496"/>
                  </a:lnTo>
                  <a:lnTo>
                    <a:pt x="2856" y="589"/>
                  </a:lnTo>
                  <a:lnTo>
                    <a:pt x="2903" y="589"/>
                  </a:lnTo>
                  <a:lnTo>
                    <a:pt x="2952" y="964"/>
                  </a:lnTo>
                  <a:lnTo>
                    <a:pt x="3000" y="1051"/>
                  </a:lnTo>
                  <a:lnTo>
                    <a:pt x="3047" y="1051"/>
                  </a:lnTo>
                  <a:lnTo>
                    <a:pt x="3095" y="1312"/>
                  </a:lnTo>
                  <a:lnTo>
                    <a:pt x="3142" y="1372"/>
                  </a:lnTo>
                  <a:lnTo>
                    <a:pt x="3190" y="1372"/>
                  </a:lnTo>
                  <a:lnTo>
                    <a:pt x="3237" y="1624"/>
                  </a:lnTo>
                  <a:lnTo>
                    <a:pt x="3285" y="1685"/>
                  </a:lnTo>
                  <a:lnTo>
                    <a:pt x="3333" y="1685"/>
                  </a:lnTo>
                  <a:lnTo>
                    <a:pt x="3380" y="1898"/>
                  </a:lnTo>
                  <a:lnTo>
                    <a:pt x="3428" y="1938"/>
                  </a:lnTo>
                  <a:lnTo>
                    <a:pt x="3475" y="1938"/>
                  </a:lnTo>
                  <a:lnTo>
                    <a:pt x="3523" y="2106"/>
                  </a:lnTo>
                  <a:lnTo>
                    <a:pt x="3570" y="2147"/>
                  </a:lnTo>
                  <a:lnTo>
                    <a:pt x="3618" y="2147"/>
                  </a:lnTo>
                  <a:lnTo>
                    <a:pt x="3665" y="2288"/>
                  </a:lnTo>
                  <a:lnTo>
                    <a:pt x="3713" y="2315"/>
                  </a:lnTo>
                  <a:lnTo>
                    <a:pt x="3761" y="2315"/>
                  </a:lnTo>
                  <a:lnTo>
                    <a:pt x="3808" y="2421"/>
                  </a:lnTo>
                  <a:lnTo>
                    <a:pt x="3856" y="2434"/>
                  </a:lnTo>
                  <a:lnTo>
                    <a:pt x="3903" y="2434"/>
                  </a:lnTo>
                  <a:lnTo>
                    <a:pt x="3951" y="2513"/>
                  </a:lnTo>
                  <a:lnTo>
                    <a:pt x="3998" y="2533"/>
                  </a:lnTo>
                  <a:lnTo>
                    <a:pt x="4046" y="2533"/>
                  </a:lnTo>
                  <a:lnTo>
                    <a:pt x="4094" y="2604"/>
                  </a:lnTo>
                  <a:lnTo>
                    <a:pt x="4142" y="2622"/>
                  </a:lnTo>
                  <a:lnTo>
                    <a:pt x="4190" y="2622"/>
                  </a:lnTo>
                  <a:lnTo>
                    <a:pt x="4237" y="2682"/>
                  </a:lnTo>
                  <a:lnTo>
                    <a:pt x="4285" y="2693"/>
                  </a:lnTo>
                  <a:lnTo>
                    <a:pt x="4332" y="2693"/>
                  </a:lnTo>
                  <a:lnTo>
                    <a:pt x="4380" y="2738"/>
                  </a:lnTo>
                  <a:lnTo>
                    <a:pt x="4427" y="2746"/>
                  </a:lnTo>
                  <a:lnTo>
                    <a:pt x="4475" y="2746"/>
                  </a:lnTo>
                  <a:lnTo>
                    <a:pt x="4523" y="2785"/>
                  </a:lnTo>
                  <a:lnTo>
                    <a:pt x="4570" y="2795"/>
                  </a:lnTo>
                  <a:lnTo>
                    <a:pt x="4618" y="2795"/>
                  </a:lnTo>
                  <a:lnTo>
                    <a:pt x="4665" y="2825"/>
                  </a:lnTo>
                  <a:lnTo>
                    <a:pt x="4713" y="2832"/>
                  </a:lnTo>
                  <a:lnTo>
                    <a:pt x="4713" y="2945"/>
                  </a:lnTo>
                  <a:lnTo>
                    <a:pt x="4665" y="2945"/>
                  </a:lnTo>
                  <a:lnTo>
                    <a:pt x="4618" y="2945"/>
                  </a:lnTo>
                  <a:lnTo>
                    <a:pt x="4570" y="2943"/>
                  </a:lnTo>
                  <a:lnTo>
                    <a:pt x="4523" y="2943"/>
                  </a:lnTo>
                  <a:lnTo>
                    <a:pt x="4475" y="2942"/>
                  </a:lnTo>
                  <a:lnTo>
                    <a:pt x="4427" y="2937"/>
                  </a:lnTo>
                  <a:lnTo>
                    <a:pt x="4380" y="2937"/>
                  </a:lnTo>
                  <a:lnTo>
                    <a:pt x="4332" y="2935"/>
                  </a:lnTo>
                  <a:lnTo>
                    <a:pt x="4285" y="2931"/>
                  </a:lnTo>
                  <a:lnTo>
                    <a:pt x="4237" y="2931"/>
                  </a:lnTo>
                  <a:lnTo>
                    <a:pt x="4190" y="2931"/>
                  </a:lnTo>
                  <a:lnTo>
                    <a:pt x="4142" y="2926"/>
                  </a:lnTo>
                  <a:lnTo>
                    <a:pt x="4094" y="2926"/>
                  </a:lnTo>
                  <a:lnTo>
                    <a:pt x="4046" y="2924"/>
                  </a:lnTo>
                  <a:lnTo>
                    <a:pt x="3998" y="2917"/>
                  </a:lnTo>
                  <a:lnTo>
                    <a:pt x="3951" y="2917"/>
                  </a:lnTo>
                  <a:lnTo>
                    <a:pt x="3903" y="2915"/>
                  </a:lnTo>
                  <a:lnTo>
                    <a:pt x="3856" y="2906"/>
                  </a:lnTo>
                  <a:lnTo>
                    <a:pt x="3808" y="2906"/>
                  </a:lnTo>
                  <a:lnTo>
                    <a:pt x="3761" y="2904"/>
                  </a:lnTo>
                  <a:lnTo>
                    <a:pt x="3713" y="2893"/>
                  </a:lnTo>
                  <a:lnTo>
                    <a:pt x="3665" y="2893"/>
                  </a:lnTo>
                  <a:lnTo>
                    <a:pt x="3618" y="2891"/>
                  </a:lnTo>
                  <a:lnTo>
                    <a:pt x="3570" y="2882"/>
                  </a:lnTo>
                  <a:lnTo>
                    <a:pt x="3523" y="2882"/>
                  </a:lnTo>
                  <a:lnTo>
                    <a:pt x="3475" y="2878"/>
                  </a:lnTo>
                  <a:lnTo>
                    <a:pt x="3428" y="2855"/>
                  </a:lnTo>
                  <a:lnTo>
                    <a:pt x="3380" y="2855"/>
                  </a:lnTo>
                  <a:lnTo>
                    <a:pt x="3333" y="2851"/>
                  </a:lnTo>
                  <a:lnTo>
                    <a:pt x="3285" y="2832"/>
                  </a:lnTo>
                  <a:lnTo>
                    <a:pt x="3237" y="2832"/>
                  </a:lnTo>
                  <a:lnTo>
                    <a:pt x="3190" y="2825"/>
                  </a:lnTo>
                  <a:lnTo>
                    <a:pt x="3142" y="2795"/>
                  </a:lnTo>
                  <a:lnTo>
                    <a:pt x="3095" y="2795"/>
                  </a:lnTo>
                  <a:lnTo>
                    <a:pt x="3047" y="2785"/>
                  </a:lnTo>
                  <a:lnTo>
                    <a:pt x="3000" y="2746"/>
                  </a:lnTo>
                  <a:lnTo>
                    <a:pt x="2952" y="2746"/>
                  </a:lnTo>
                  <a:lnTo>
                    <a:pt x="2903" y="2738"/>
                  </a:lnTo>
                  <a:lnTo>
                    <a:pt x="2856" y="2693"/>
                  </a:lnTo>
                  <a:lnTo>
                    <a:pt x="2808" y="2693"/>
                  </a:lnTo>
                  <a:lnTo>
                    <a:pt x="2761" y="2682"/>
                  </a:lnTo>
                  <a:lnTo>
                    <a:pt x="2713" y="2622"/>
                  </a:lnTo>
                  <a:lnTo>
                    <a:pt x="2666" y="2622"/>
                  </a:lnTo>
                  <a:lnTo>
                    <a:pt x="2618" y="2604"/>
                  </a:lnTo>
                  <a:lnTo>
                    <a:pt x="2571" y="2533"/>
                  </a:lnTo>
                  <a:lnTo>
                    <a:pt x="2523" y="2533"/>
                  </a:lnTo>
                  <a:lnTo>
                    <a:pt x="2475" y="2513"/>
                  </a:lnTo>
                  <a:lnTo>
                    <a:pt x="2428" y="2434"/>
                  </a:lnTo>
                  <a:lnTo>
                    <a:pt x="2380" y="2434"/>
                  </a:lnTo>
                  <a:lnTo>
                    <a:pt x="2333" y="2421"/>
                  </a:lnTo>
                  <a:lnTo>
                    <a:pt x="2285" y="2315"/>
                  </a:lnTo>
                  <a:lnTo>
                    <a:pt x="2238" y="2315"/>
                  </a:lnTo>
                  <a:lnTo>
                    <a:pt x="2190" y="2288"/>
                  </a:lnTo>
                  <a:lnTo>
                    <a:pt x="2142" y="2147"/>
                  </a:lnTo>
                  <a:lnTo>
                    <a:pt x="2095" y="2147"/>
                  </a:lnTo>
                  <a:lnTo>
                    <a:pt x="2047" y="2106"/>
                  </a:lnTo>
                  <a:lnTo>
                    <a:pt x="2000" y="1938"/>
                  </a:lnTo>
                  <a:lnTo>
                    <a:pt x="1952" y="1938"/>
                  </a:lnTo>
                  <a:lnTo>
                    <a:pt x="1905" y="1898"/>
                  </a:lnTo>
                  <a:lnTo>
                    <a:pt x="1857" y="1685"/>
                  </a:lnTo>
                  <a:lnTo>
                    <a:pt x="1810" y="1685"/>
                  </a:lnTo>
                  <a:lnTo>
                    <a:pt x="1761" y="1624"/>
                  </a:lnTo>
                  <a:lnTo>
                    <a:pt x="1713" y="1372"/>
                  </a:lnTo>
                  <a:lnTo>
                    <a:pt x="1666" y="1372"/>
                  </a:lnTo>
                  <a:lnTo>
                    <a:pt x="1618" y="1312"/>
                  </a:lnTo>
                  <a:lnTo>
                    <a:pt x="1571" y="1051"/>
                  </a:lnTo>
                  <a:lnTo>
                    <a:pt x="1523" y="1051"/>
                  </a:lnTo>
                  <a:lnTo>
                    <a:pt x="1476" y="964"/>
                  </a:lnTo>
                  <a:lnTo>
                    <a:pt x="1428" y="589"/>
                  </a:lnTo>
                  <a:lnTo>
                    <a:pt x="1380" y="589"/>
                  </a:lnTo>
                  <a:lnTo>
                    <a:pt x="1333" y="496"/>
                  </a:lnTo>
                  <a:lnTo>
                    <a:pt x="1285" y="258"/>
                  </a:lnTo>
                  <a:lnTo>
                    <a:pt x="1238" y="165"/>
                  </a:lnTo>
                  <a:lnTo>
                    <a:pt x="1190" y="131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71600" y="917640"/>
              <a:ext cx="7481880" cy="4495680"/>
            </a:xfrm>
            <a:custGeom>
              <a:avLst/>
              <a:gdLst/>
              <a:ahLst/>
              <a:rect l="l" t="t" r="r" b="b"/>
              <a:pathLst>
                <a:path w="4713" h="283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832"/>
                  </a:lnTo>
                  <a:lnTo>
                    <a:pt x="4665" y="2825"/>
                  </a:lnTo>
                  <a:lnTo>
                    <a:pt x="4618" y="2795"/>
                  </a:lnTo>
                  <a:lnTo>
                    <a:pt x="4570" y="2795"/>
                  </a:lnTo>
                  <a:lnTo>
                    <a:pt x="4523" y="2785"/>
                  </a:lnTo>
                  <a:lnTo>
                    <a:pt x="4475" y="2746"/>
                  </a:lnTo>
                  <a:lnTo>
                    <a:pt x="4427" y="2746"/>
                  </a:lnTo>
                  <a:lnTo>
                    <a:pt x="4380" y="2738"/>
                  </a:lnTo>
                  <a:lnTo>
                    <a:pt x="4332" y="2693"/>
                  </a:lnTo>
                  <a:lnTo>
                    <a:pt x="4285" y="2693"/>
                  </a:lnTo>
                  <a:lnTo>
                    <a:pt x="4237" y="2682"/>
                  </a:lnTo>
                  <a:lnTo>
                    <a:pt x="4190" y="2622"/>
                  </a:lnTo>
                  <a:lnTo>
                    <a:pt x="4142" y="2622"/>
                  </a:lnTo>
                  <a:lnTo>
                    <a:pt x="4094" y="2604"/>
                  </a:lnTo>
                  <a:lnTo>
                    <a:pt x="4046" y="2533"/>
                  </a:lnTo>
                  <a:lnTo>
                    <a:pt x="3998" y="2533"/>
                  </a:lnTo>
                  <a:lnTo>
                    <a:pt x="3951" y="2513"/>
                  </a:lnTo>
                  <a:lnTo>
                    <a:pt x="3903" y="2434"/>
                  </a:lnTo>
                  <a:lnTo>
                    <a:pt x="3856" y="2434"/>
                  </a:lnTo>
                  <a:lnTo>
                    <a:pt x="3808" y="2421"/>
                  </a:lnTo>
                  <a:lnTo>
                    <a:pt x="3761" y="2315"/>
                  </a:lnTo>
                  <a:lnTo>
                    <a:pt x="3713" y="2315"/>
                  </a:lnTo>
                  <a:lnTo>
                    <a:pt x="3665" y="2288"/>
                  </a:lnTo>
                  <a:lnTo>
                    <a:pt x="3618" y="2147"/>
                  </a:lnTo>
                  <a:lnTo>
                    <a:pt x="3570" y="2147"/>
                  </a:lnTo>
                  <a:lnTo>
                    <a:pt x="3523" y="2106"/>
                  </a:lnTo>
                  <a:lnTo>
                    <a:pt x="3475" y="1938"/>
                  </a:lnTo>
                  <a:lnTo>
                    <a:pt x="3428" y="1938"/>
                  </a:lnTo>
                  <a:lnTo>
                    <a:pt x="3380" y="1898"/>
                  </a:lnTo>
                  <a:lnTo>
                    <a:pt x="3333" y="1685"/>
                  </a:lnTo>
                  <a:lnTo>
                    <a:pt x="3285" y="1685"/>
                  </a:lnTo>
                  <a:lnTo>
                    <a:pt x="3237" y="1624"/>
                  </a:lnTo>
                  <a:lnTo>
                    <a:pt x="3190" y="1372"/>
                  </a:lnTo>
                  <a:lnTo>
                    <a:pt x="3142" y="1372"/>
                  </a:lnTo>
                  <a:lnTo>
                    <a:pt x="3095" y="1312"/>
                  </a:lnTo>
                  <a:lnTo>
                    <a:pt x="3047" y="1051"/>
                  </a:lnTo>
                  <a:lnTo>
                    <a:pt x="3000" y="1051"/>
                  </a:lnTo>
                  <a:lnTo>
                    <a:pt x="2952" y="964"/>
                  </a:lnTo>
                  <a:lnTo>
                    <a:pt x="2903" y="589"/>
                  </a:lnTo>
                  <a:lnTo>
                    <a:pt x="2856" y="589"/>
                  </a:lnTo>
                  <a:lnTo>
                    <a:pt x="2808" y="496"/>
                  </a:lnTo>
                  <a:lnTo>
                    <a:pt x="2761" y="258"/>
                  </a:lnTo>
                  <a:lnTo>
                    <a:pt x="2713" y="165"/>
                  </a:lnTo>
                  <a:lnTo>
                    <a:pt x="2666" y="131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371600" y="917640"/>
              <a:ext cx="7481880" cy="4495680"/>
            </a:xfrm>
            <a:custGeom>
              <a:avLst/>
              <a:gdLst/>
              <a:ahLst/>
              <a:rect l="l" t="t" r="r" b="b"/>
              <a:pathLst>
                <a:path w="4713" h="283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832"/>
                  </a:lnTo>
                  <a:lnTo>
                    <a:pt x="4665" y="2825"/>
                  </a:lnTo>
                  <a:lnTo>
                    <a:pt x="4618" y="2795"/>
                  </a:lnTo>
                  <a:lnTo>
                    <a:pt x="4570" y="2795"/>
                  </a:lnTo>
                  <a:lnTo>
                    <a:pt x="4523" y="2785"/>
                  </a:lnTo>
                  <a:lnTo>
                    <a:pt x="4475" y="2746"/>
                  </a:lnTo>
                  <a:lnTo>
                    <a:pt x="4427" y="2746"/>
                  </a:lnTo>
                  <a:lnTo>
                    <a:pt x="4380" y="2738"/>
                  </a:lnTo>
                  <a:lnTo>
                    <a:pt x="4332" y="2693"/>
                  </a:lnTo>
                  <a:lnTo>
                    <a:pt x="4285" y="2693"/>
                  </a:lnTo>
                  <a:lnTo>
                    <a:pt x="4237" y="2682"/>
                  </a:lnTo>
                  <a:lnTo>
                    <a:pt x="4190" y="2622"/>
                  </a:lnTo>
                  <a:lnTo>
                    <a:pt x="4142" y="2622"/>
                  </a:lnTo>
                  <a:lnTo>
                    <a:pt x="4094" y="2604"/>
                  </a:lnTo>
                  <a:lnTo>
                    <a:pt x="4046" y="2533"/>
                  </a:lnTo>
                  <a:lnTo>
                    <a:pt x="3998" y="2533"/>
                  </a:lnTo>
                  <a:lnTo>
                    <a:pt x="3951" y="2513"/>
                  </a:lnTo>
                  <a:lnTo>
                    <a:pt x="3903" y="2434"/>
                  </a:lnTo>
                  <a:lnTo>
                    <a:pt x="3856" y="2434"/>
                  </a:lnTo>
                  <a:lnTo>
                    <a:pt x="3808" y="2421"/>
                  </a:lnTo>
                  <a:lnTo>
                    <a:pt x="3761" y="2315"/>
                  </a:lnTo>
                  <a:lnTo>
                    <a:pt x="3713" y="2315"/>
                  </a:lnTo>
                  <a:lnTo>
                    <a:pt x="3665" y="2288"/>
                  </a:lnTo>
                  <a:lnTo>
                    <a:pt x="3618" y="2147"/>
                  </a:lnTo>
                  <a:lnTo>
                    <a:pt x="3570" y="2147"/>
                  </a:lnTo>
                  <a:lnTo>
                    <a:pt x="3523" y="2106"/>
                  </a:lnTo>
                  <a:lnTo>
                    <a:pt x="3475" y="1938"/>
                  </a:lnTo>
                  <a:lnTo>
                    <a:pt x="3428" y="1938"/>
                  </a:lnTo>
                  <a:lnTo>
                    <a:pt x="3380" y="1898"/>
                  </a:lnTo>
                  <a:lnTo>
                    <a:pt x="3333" y="1685"/>
                  </a:lnTo>
                  <a:lnTo>
                    <a:pt x="3285" y="1685"/>
                  </a:lnTo>
                  <a:lnTo>
                    <a:pt x="3237" y="1624"/>
                  </a:lnTo>
                  <a:lnTo>
                    <a:pt x="3190" y="1372"/>
                  </a:lnTo>
                  <a:lnTo>
                    <a:pt x="3142" y="1372"/>
                  </a:lnTo>
                  <a:lnTo>
                    <a:pt x="3095" y="1312"/>
                  </a:lnTo>
                  <a:lnTo>
                    <a:pt x="3047" y="1051"/>
                  </a:lnTo>
                  <a:lnTo>
                    <a:pt x="3000" y="1051"/>
                  </a:lnTo>
                  <a:lnTo>
                    <a:pt x="2952" y="964"/>
                  </a:lnTo>
                  <a:lnTo>
                    <a:pt x="2903" y="589"/>
                  </a:lnTo>
                  <a:lnTo>
                    <a:pt x="2856" y="589"/>
                  </a:lnTo>
                  <a:lnTo>
                    <a:pt x="2808" y="496"/>
                  </a:lnTo>
                  <a:lnTo>
                    <a:pt x="2761" y="258"/>
                  </a:lnTo>
                  <a:lnTo>
                    <a:pt x="2713" y="165"/>
                  </a:lnTo>
                  <a:lnTo>
                    <a:pt x="2666" y="131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71600" y="4017960"/>
              <a:ext cx="7481880" cy="1596960"/>
            </a:xfrm>
            <a:custGeom>
              <a:avLst/>
              <a:gdLst/>
              <a:ahLst/>
              <a:rect l="l" t="t" r="r" b="b"/>
              <a:pathLst>
                <a:path w="4713" h="1006">
                  <a:moveTo>
                    <a:pt x="0" y="1006"/>
                  </a:moveTo>
                  <a:lnTo>
                    <a:pt x="0" y="1006"/>
                  </a:lnTo>
                  <a:lnTo>
                    <a:pt x="48" y="1006"/>
                  </a:lnTo>
                  <a:lnTo>
                    <a:pt x="95" y="640"/>
                  </a:lnTo>
                  <a:lnTo>
                    <a:pt x="143" y="640"/>
                  </a:lnTo>
                  <a:lnTo>
                    <a:pt x="190" y="399"/>
                  </a:lnTo>
                  <a:lnTo>
                    <a:pt x="238" y="72"/>
                  </a:lnTo>
                  <a:lnTo>
                    <a:pt x="286" y="163"/>
                  </a:lnTo>
                  <a:lnTo>
                    <a:pt x="333" y="403"/>
                  </a:lnTo>
                  <a:lnTo>
                    <a:pt x="381" y="0"/>
                  </a:lnTo>
                  <a:lnTo>
                    <a:pt x="428" y="203"/>
                  </a:lnTo>
                  <a:lnTo>
                    <a:pt x="476" y="203"/>
                  </a:lnTo>
                  <a:lnTo>
                    <a:pt x="523" y="267"/>
                  </a:lnTo>
                  <a:lnTo>
                    <a:pt x="571" y="454"/>
                  </a:lnTo>
                  <a:lnTo>
                    <a:pt x="620" y="454"/>
                  </a:lnTo>
                  <a:lnTo>
                    <a:pt x="667" y="348"/>
                  </a:lnTo>
                  <a:lnTo>
                    <a:pt x="715" y="472"/>
                  </a:lnTo>
                  <a:lnTo>
                    <a:pt x="762" y="472"/>
                  </a:lnTo>
                  <a:lnTo>
                    <a:pt x="810" y="471"/>
                  </a:lnTo>
                  <a:lnTo>
                    <a:pt x="857" y="593"/>
                  </a:lnTo>
                  <a:lnTo>
                    <a:pt x="905" y="593"/>
                  </a:lnTo>
                  <a:lnTo>
                    <a:pt x="952" y="577"/>
                  </a:lnTo>
                  <a:lnTo>
                    <a:pt x="1000" y="663"/>
                  </a:lnTo>
                  <a:lnTo>
                    <a:pt x="1048" y="663"/>
                  </a:lnTo>
                  <a:lnTo>
                    <a:pt x="1095" y="637"/>
                  </a:lnTo>
                  <a:lnTo>
                    <a:pt x="1143" y="721"/>
                  </a:lnTo>
                  <a:lnTo>
                    <a:pt x="1190" y="721"/>
                  </a:lnTo>
                  <a:lnTo>
                    <a:pt x="1238" y="743"/>
                  </a:lnTo>
                  <a:lnTo>
                    <a:pt x="1285" y="798"/>
                  </a:lnTo>
                  <a:lnTo>
                    <a:pt x="1333" y="798"/>
                  </a:lnTo>
                  <a:lnTo>
                    <a:pt x="1380" y="798"/>
                  </a:lnTo>
                  <a:lnTo>
                    <a:pt x="1428" y="834"/>
                  </a:lnTo>
                  <a:lnTo>
                    <a:pt x="1476" y="834"/>
                  </a:lnTo>
                  <a:lnTo>
                    <a:pt x="1523" y="823"/>
                  </a:lnTo>
                  <a:lnTo>
                    <a:pt x="1571" y="863"/>
                  </a:lnTo>
                  <a:lnTo>
                    <a:pt x="1618" y="863"/>
                  </a:lnTo>
                  <a:lnTo>
                    <a:pt x="1666" y="849"/>
                  </a:lnTo>
                  <a:lnTo>
                    <a:pt x="1713" y="882"/>
                  </a:lnTo>
                  <a:lnTo>
                    <a:pt x="1761" y="882"/>
                  </a:lnTo>
                  <a:lnTo>
                    <a:pt x="1810" y="898"/>
                  </a:lnTo>
                  <a:lnTo>
                    <a:pt x="1857" y="921"/>
                  </a:lnTo>
                  <a:lnTo>
                    <a:pt x="1905" y="921"/>
                  </a:lnTo>
                  <a:lnTo>
                    <a:pt x="1952" y="913"/>
                  </a:lnTo>
                  <a:lnTo>
                    <a:pt x="2000" y="928"/>
                  </a:lnTo>
                  <a:lnTo>
                    <a:pt x="2047" y="928"/>
                  </a:lnTo>
                  <a:lnTo>
                    <a:pt x="2095" y="926"/>
                  </a:lnTo>
                  <a:lnTo>
                    <a:pt x="2142" y="946"/>
                  </a:lnTo>
                  <a:lnTo>
                    <a:pt x="2190" y="946"/>
                  </a:lnTo>
                  <a:lnTo>
                    <a:pt x="2238" y="953"/>
                  </a:lnTo>
                  <a:lnTo>
                    <a:pt x="2285" y="966"/>
                  </a:lnTo>
                  <a:lnTo>
                    <a:pt x="2333" y="966"/>
                  </a:lnTo>
                  <a:lnTo>
                    <a:pt x="2380" y="956"/>
                  </a:lnTo>
                  <a:lnTo>
                    <a:pt x="2428" y="964"/>
                  </a:lnTo>
                  <a:lnTo>
                    <a:pt x="2475" y="964"/>
                  </a:lnTo>
                  <a:lnTo>
                    <a:pt x="2523" y="975"/>
                  </a:lnTo>
                  <a:lnTo>
                    <a:pt x="2571" y="984"/>
                  </a:lnTo>
                  <a:lnTo>
                    <a:pt x="2618" y="984"/>
                  </a:lnTo>
                  <a:lnTo>
                    <a:pt x="2666" y="978"/>
                  </a:lnTo>
                  <a:lnTo>
                    <a:pt x="2713" y="983"/>
                  </a:lnTo>
                  <a:lnTo>
                    <a:pt x="2761" y="983"/>
                  </a:lnTo>
                  <a:lnTo>
                    <a:pt x="2808" y="983"/>
                  </a:lnTo>
                  <a:lnTo>
                    <a:pt x="2856" y="988"/>
                  </a:lnTo>
                  <a:lnTo>
                    <a:pt x="2903" y="988"/>
                  </a:lnTo>
                  <a:lnTo>
                    <a:pt x="2952" y="986"/>
                  </a:lnTo>
                  <a:lnTo>
                    <a:pt x="3000" y="989"/>
                  </a:lnTo>
                  <a:lnTo>
                    <a:pt x="3047" y="989"/>
                  </a:lnTo>
                  <a:lnTo>
                    <a:pt x="3095" y="992"/>
                  </a:lnTo>
                  <a:lnTo>
                    <a:pt x="3142" y="996"/>
                  </a:lnTo>
                  <a:lnTo>
                    <a:pt x="3190" y="996"/>
                  </a:lnTo>
                  <a:lnTo>
                    <a:pt x="3237" y="994"/>
                  </a:lnTo>
                  <a:lnTo>
                    <a:pt x="3285" y="997"/>
                  </a:lnTo>
                  <a:lnTo>
                    <a:pt x="3333" y="997"/>
                  </a:lnTo>
                  <a:lnTo>
                    <a:pt x="3380" y="992"/>
                  </a:lnTo>
                  <a:lnTo>
                    <a:pt x="3428" y="997"/>
                  </a:lnTo>
                  <a:lnTo>
                    <a:pt x="3475" y="997"/>
                  </a:lnTo>
                  <a:lnTo>
                    <a:pt x="3523" y="1001"/>
                  </a:lnTo>
                  <a:lnTo>
                    <a:pt x="3570" y="1001"/>
                  </a:lnTo>
                  <a:lnTo>
                    <a:pt x="3618" y="1001"/>
                  </a:lnTo>
                  <a:lnTo>
                    <a:pt x="3665" y="1000"/>
                  </a:lnTo>
                  <a:lnTo>
                    <a:pt x="3713" y="1002"/>
                  </a:lnTo>
                  <a:lnTo>
                    <a:pt x="3761" y="1002"/>
                  </a:lnTo>
                  <a:lnTo>
                    <a:pt x="3808" y="1002"/>
                  </a:lnTo>
                  <a:lnTo>
                    <a:pt x="3856" y="1003"/>
                  </a:lnTo>
                  <a:lnTo>
                    <a:pt x="3903" y="1003"/>
                  </a:lnTo>
                  <a:lnTo>
                    <a:pt x="3951" y="1001"/>
                  </a:lnTo>
                  <a:lnTo>
                    <a:pt x="3998" y="1002"/>
                  </a:lnTo>
                  <a:lnTo>
                    <a:pt x="4046" y="1002"/>
                  </a:lnTo>
                  <a:lnTo>
                    <a:pt x="4094" y="1003"/>
                  </a:lnTo>
                  <a:lnTo>
                    <a:pt x="4142" y="1004"/>
                  </a:lnTo>
                  <a:lnTo>
                    <a:pt x="4190" y="1004"/>
                  </a:lnTo>
                  <a:lnTo>
                    <a:pt x="4237" y="1003"/>
                  </a:lnTo>
                  <a:lnTo>
                    <a:pt x="4285" y="1004"/>
                  </a:lnTo>
                  <a:lnTo>
                    <a:pt x="4332" y="1004"/>
                  </a:lnTo>
                  <a:lnTo>
                    <a:pt x="4380" y="1004"/>
                  </a:lnTo>
                  <a:lnTo>
                    <a:pt x="4427" y="1005"/>
                  </a:lnTo>
                  <a:lnTo>
                    <a:pt x="4475" y="1005"/>
                  </a:lnTo>
                  <a:lnTo>
                    <a:pt x="4523" y="1004"/>
                  </a:lnTo>
                  <a:lnTo>
                    <a:pt x="4570" y="1004"/>
                  </a:lnTo>
                  <a:lnTo>
                    <a:pt x="4618" y="1004"/>
                  </a:lnTo>
                  <a:lnTo>
                    <a:pt x="4665" y="1006"/>
                  </a:lnTo>
                  <a:lnTo>
                    <a:pt x="4713" y="1005"/>
                  </a:lnTo>
                  <a:lnTo>
                    <a:pt x="4713" y="1006"/>
                  </a:lnTo>
                  <a:lnTo>
                    <a:pt x="4665" y="1006"/>
                  </a:lnTo>
                  <a:lnTo>
                    <a:pt x="4618" y="1006"/>
                  </a:lnTo>
                  <a:lnTo>
                    <a:pt x="4570" y="1006"/>
                  </a:lnTo>
                  <a:lnTo>
                    <a:pt x="4523" y="1006"/>
                  </a:lnTo>
                  <a:lnTo>
                    <a:pt x="4475" y="1006"/>
                  </a:lnTo>
                  <a:lnTo>
                    <a:pt x="4427" y="1006"/>
                  </a:lnTo>
                  <a:lnTo>
                    <a:pt x="4380" y="1006"/>
                  </a:lnTo>
                  <a:lnTo>
                    <a:pt x="4332" y="1006"/>
                  </a:lnTo>
                  <a:lnTo>
                    <a:pt x="4285" y="1006"/>
                  </a:lnTo>
                  <a:lnTo>
                    <a:pt x="4237" y="1006"/>
                  </a:lnTo>
                  <a:lnTo>
                    <a:pt x="4190" y="1006"/>
                  </a:lnTo>
                  <a:lnTo>
                    <a:pt x="4142" y="1006"/>
                  </a:lnTo>
                  <a:lnTo>
                    <a:pt x="4094" y="1006"/>
                  </a:lnTo>
                  <a:lnTo>
                    <a:pt x="4046" y="1006"/>
                  </a:lnTo>
                  <a:lnTo>
                    <a:pt x="3998" y="1006"/>
                  </a:lnTo>
                  <a:lnTo>
                    <a:pt x="3951" y="1006"/>
                  </a:lnTo>
                  <a:lnTo>
                    <a:pt x="3903" y="1006"/>
                  </a:lnTo>
                  <a:lnTo>
                    <a:pt x="3856" y="1006"/>
                  </a:lnTo>
                  <a:lnTo>
                    <a:pt x="3808" y="1006"/>
                  </a:lnTo>
                  <a:lnTo>
                    <a:pt x="3761" y="1006"/>
                  </a:lnTo>
                  <a:lnTo>
                    <a:pt x="3713" y="1006"/>
                  </a:lnTo>
                  <a:lnTo>
                    <a:pt x="3665" y="1006"/>
                  </a:lnTo>
                  <a:lnTo>
                    <a:pt x="3618" y="1006"/>
                  </a:lnTo>
                  <a:lnTo>
                    <a:pt x="3570" y="1006"/>
                  </a:lnTo>
                  <a:lnTo>
                    <a:pt x="3523" y="1006"/>
                  </a:lnTo>
                  <a:lnTo>
                    <a:pt x="3475" y="1006"/>
                  </a:lnTo>
                  <a:lnTo>
                    <a:pt x="3428" y="1006"/>
                  </a:lnTo>
                  <a:lnTo>
                    <a:pt x="3380" y="1006"/>
                  </a:lnTo>
                  <a:lnTo>
                    <a:pt x="3333" y="1006"/>
                  </a:lnTo>
                  <a:lnTo>
                    <a:pt x="3285" y="1006"/>
                  </a:lnTo>
                  <a:lnTo>
                    <a:pt x="3237" y="1006"/>
                  </a:lnTo>
                  <a:lnTo>
                    <a:pt x="3190" y="1006"/>
                  </a:lnTo>
                  <a:lnTo>
                    <a:pt x="3142" y="1006"/>
                  </a:lnTo>
                  <a:lnTo>
                    <a:pt x="3095" y="1006"/>
                  </a:lnTo>
                  <a:lnTo>
                    <a:pt x="3047" y="1006"/>
                  </a:lnTo>
                  <a:lnTo>
                    <a:pt x="3000" y="1006"/>
                  </a:lnTo>
                  <a:lnTo>
                    <a:pt x="2952" y="1006"/>
                  </a:lnTo>
                  <a:lnTo>
                    <a:pt x="2903" y="1006"/>
                  </a:lnTo>
                  <a:lnTo>
                    <a:pt x="2856" y="1006"/>
                  </a:lnTo>
                  <a:lnTo>
                    <a:pt x="2808" y="1006"/>
                  </a:lnTo>
                  <a:lnTo>
                    <a:pt x="2761" y="1006"/>
                  </a:lnTo>
                  <a:lnTo>
                    <a:pt x="2713" y="1006"/>
                  </a:lnTo>
                  <a:lnTo>
                    <a:pt x="2666" y="1006"/>
                  </a:lnTo>
                  <a:lnTo>
                    <a:pt x="2618" y="1006"/>
                  </a:lnTo>
                  <a:lnTo>
                    <a:pt x="2571" y="1006"/>
                  </a:lnTo>
                  <a:lnTo>
                    <a:pt x="2523" y="1006"/>
                  </a:lnTo>
                  <a:lnTo>
                    <a:pt x="2475" y="1006"/>
                  </a:lnTo>
                  <a:lnTo>
                    <a:pt x="2428" y="1006"/>
                  </a:lnTo>
                  <a:lnTo>
                    <a:pt x="2380" y="1006"/>
                  </a:lnTo>
                  <a:lnTo>
                    <a:pt x="2333" y="1006"/>
                  </a:lnTo>
                  <a:lnTo>
                    <a:pt x="2285" y="1006"/>
                  </a:lnTo>
                  <a:lnTo>
                    <a:pt x="2238" y="1006"/>
                  </a:lnTo>
                  <a:lnTo>
                    <a:pt x="2190" y="1006"/>
                  </a:lnTo>
                  <a:lnTo>
                    <a:pt x="2142" y="1006"/>
                  </a:lnTo>
                  <a:lnTo>
                    <a:pt x="2095" y="1006"/>
                  </a:lnTo>
                  <a:lnTo>
                    <a:pt x="2047" y="1006"/>
                  </a:lnTo>
                  <a:lnTo>
                    <a:pt x="2000" y="1006"/>
                  </a:lnTo>
                  <a:lnTo>
                    <a:pt x="1952" y="1006"/>
                  </a:lnTo>
                  <a:lnTo>
                    <a:pt x="1905" y="1006"/>
                  </a:lnTo>
                  <a:lnTo>
                    <a:pt x="1857" y="1006"/>
                  </a:lnTo>
                  <a:lnTo>
                    <a:pt x="1810" y="1006"/>
                  </a:lnTo>
                  <a:lnTo>
                    <a:pt x="1761" y="1006"/>
                  </a:lnTo>
                  <a:lnTo>
                    <a:pt x="1713" y="1006"/>
                  </a:lnTo>
                  <a:lnTo>
                    <a:pt x="1666" y="1006"/>
                  </a:lnTo>
                  <a:lnTo>
                    <a:pt x="1618" y="1006"/>
                  </a:lnTo>
                  <a:lnTo>
                    <a:pt x="1571" y="1006"/>
                  </a:lnTo>
                  <a:lnTo>
                    <a:pt x="1523" y="1006"/>
                  </a:lnTo>
                  <a:lnTo>
                    <a:pt x="1476" y="1006"/>
                  </a:lnTo>
                  <a:lnTo>
                    <a:pt x="1428" y="1006"/>
                  </a:lnTo>
                  <a:lnTo>
                    <a:pt x="1380" y="1006"/>
                  </a:lnTo>
                  <a:lnTo>
                    <a:pt x="1333" y="1006"/>
                  </a:lnTo>
                  <a:lnTo>
                    <a:pt x="1285" y="1006"/>
                  </a:lnTo>
                  <a:lnTo>
                    <a:pt x="1238" y="1006"/>
                  </a:lnTo>
                  <a:lnTo>
                    <a:pt x="1190" y="1006"/>
                  </a:lnTo>
                  <a:lnTo>
                    <a:pt x="1143" y="1006"/>
                  </a:lnTo>
                  <a:lnTo>
                    <a:pt x="1095" y="1006"/>
                  </a:lnTo>
                  <a:lnTo>
                    <a:pt x="1048" y="1006"/>
                  </a:lnTo>
                  <a:lnTo>
                    <a:pt x="1000" y="1006"/>
                  </a:lnTo>
                  <a:lnTo>
                    <a:pt x="952" y="1006"/>
                  </a:lnTo>
                  <a:lnTo>
                    <a:pt x="905" y="1006"/>
                  </a:lnTo>
                  <a:lnTo>
                    <a:pt x="857" y="1006"/>
                  </a:lnTo>
                  <a:lnTo>
                    <a:pt x="810" y="1006"/>
                  </a:lnTo>
                  <a:lnTo>
                    <a:pt x="762" y="1006"/>
                  </a:lnTo>
                  <a:lnTo>
                    <a:pt x="715" y="1006"/>
                  </a:lnTo>
                  <a:lnTo>
                    <a:pt x="667" y="1006"/>
                  </a:lnTo>
                  <a:lnTo>
                    <a:pt x="620" y="1006"/>
                  </a:lnTo>
                  <a:lnTo>
                    <a:pt x="571" y="1006"/>
                  </a:lnTo>
                  <a:lnTo>
                    <a:pt x="523" y="1006"/>
                  </a:lnTo>
                  <a:lnTo>
                    <a:pt x="476" y="1006"/>
                  </a:lnTo>
                  <a:lnTo>
                    <a:pt x="428" y="1006"/>
                  </a:lnTo>
                  <a:lnTo>
                    <a:pt x="381" y="1006"/>
                  </a:lnTo>
                  <a:lnTo>
                    <a:pt x="333" y="1006"/>
                  </a:lnTo>
                  <a:lnTo>
                    <a:pt x="286" y="1006"/>
                  </a:lnTo>
                  <a:lnTo>
                    <a:pt x="238" y="1006"/>
                  </a:lnTo>
                  <a:lnTo>
                    <a:pt x="190" y="1006"/>
                  </a:lnTo>
                  <a:lnTo>
                    <a:pt x="143" y="1006"/>
                  </a:lnTo>
                  <a:lnTo>
                    <a:pt x="95" y="1006"/>
                  </a:lnTo>
                  <a:lnTo>
                    <a:pt x="48" y="1006"/>
                  </a:lnTo>
                  <a:lnTo>
                    <a:pt x="0" y="10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71600" y="917640"/>
              <a:ext cx="7481880" cy="4697280"/>
            </a:xfrm>
            <a:custGeom>
              <a:avLst/>
              <a:gdLst/>
              <a:ahLst/>
              <a:rect l="l" t="t" r="r" b="b"/>
              <a:pathLst>
                <a:path w="4713" h="2959">
                  <a:moveTo>
                    <a:pt x="0" y="2959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276"/>
                  </a:lnTo>
                  <a:lnTo>
                    <a:pt x="286" y="366"/>
                  </a:lnTo>
                  <a:lnTo>
                    <a:pt x="333" y="607"/>
                  </a:lnTo>
                  <a:lnTo>
                    <a:pt x="381" y="802"/>
                  </a:lnTo>
                  <a:lnTo>
                    <a:pt x="428" y="1004"/>
                  </a:lnTo>
                  <a:lnTo>
                    <a:pt x="476" y="1004"/>
                  </a:lnTo>
                  <a:lnTo>
                    <a:pt x="523" y="1370"/>
                  </a:lnTo>
                  <a:lnTo>
                    <a:pt x="571" y="1557"/>
                  </a:lnTo>
                  <a:lnTo>
                    <a:pt x="620" y="1557"/>
                  </a:lnTo>
                  <a:lnTo>
                    <a:pt x="667" y="1654"/>
                  </a:lnTo>
                  <a:lnTo>
                    <a:pt x="715" y="1778"/>
                  </a:lnTo>
                  <a:lnTo>
                    <a:pt x="762" y="1778"/>
                  </a:lnTo>
                  <a:lnTo>
                    <a:pt x="810" y="1913"/>
                  </a:lnTo>
                  <a:lnTo>
                    <a:pt x="857" y="2035"/>
                  </a:lnTo>
                  <a:lnTo>
                    <a:pt x="905" y="2035"/>
                  </a:lnTo>
                  <a:lnTo>
                    <a:pt x="952" y="2131"/>
                  </a:lnTo>
                  <a:lnTo>
                    <a:pt x="1000" y="2217"/>
                  </a:lnTo>
                  <a:lnTo>
                    <a:pt x="1048" y="2217"/>
                  </a:lnTo>
                  <a:lnTo>
                    <a:pt x="1095" y="2282"/>
                  </a:lnTo>
                  <a:lnTo>
                    <a:pt x="1143" y="2366"/>
                  </a:lnTo>
                  <a:lnTo>
                    <a:pt x="1190" y="2366"/>
                  </a:lnTo>
                  <a:lnTo>
                    <a:pt x="1238" y="2451"/>
                  </a:lnTo>
                  <a:lnTo>
                    <a:pt x="1285" y="2506"/>
                  </a:lnTo>
                  <a:lnTo>
                    <a:pt x="1333" y="2506"/>
                  </a:lnTo>
                  <a:lnTo>
                    <a:pt x="1380" y="2552"/>
                  </a:lnTo>
                  <a:lnTo>
                    <a:pt x="1428" y="2587"/>
                  </a:lnTo>
                  <a:lnTo>
                    <a:pt x="1476" y="2587"/>
                  </a:lnTo>
                  <a:lnTo>
                    <a:pt x="1523" y="2619"/>
                  </a:lnTo>
                  <a:lnTo>
                    <a:pt x="1571" y="2659"/>
                  </a:lnTo>
                  <a:lnTo>
                    <a:pt x="1618" y="2659"/>
                  </a:lnTo>
                  <a:lnTo>
                    <a:pt x="1666" y="2679"/>
                  </a:lnTo>
                  <a:lnTo>
                    <a:pt x="1713" y="2713"/>
                  </a:lnTo>
                  <a:lnTo>
                    <a:pt x="1761" y="2713"/>
                  </a:lnTo>
                  <a:lnTo>
                    <a:pt x="1810" y="2755"/>
                  </a:lnTo>
                  <a:lnTo>
                    <a:pt x="1857" y="2777"/>
                  </a:lnTo>
                  <a:lnTo>
                    <a:pt x="1905" y="2777"/>
                  </a:lnTo>
                  <a:lnTo>
                    <a:pt x="1952" y="2793"/>
                  </a:lnTo>
                  <a:lnTo>
                    <a:pt x="2000" y="2808"/>
                  </a:lnTo>
                  <a:lnTo>
                    <a:pt x="2047" y="2808"/>
                  </a:lnTo>
                  <a:lnTo>
                    <a:pt x="2095" y="2821"/>
                  </a:lnTo>
                  <a:lnTo>
                    <a:pt x="2142" y="2841"/>
                  </a:lnTo>
                  <a:lnTo>
                    <a:pt x="2190" y="2841"/>
                  </a:lnTo>
                  <a:lnTo>
                    <a:pt x="2238" y="2859"/>
                  </a:lnTo>
                  <a:lnTo>
                    <a:pt x="2285" y="2873"/>
                  </a:lnTo>
                  <a:lnTo>
                    <a:pt x="2333" y="2873"/>
                  </a:lnTo>
                  <a:lnTo>
                    <a:pt x="2380" y="2875"/>
                  </a:lnTo>
                  <a:lnTo>
                    <a:pt x="2428" y="2883"/>
                  </a:lnTo>
                  <a:lnTo>
                    <a:pt x="2475" y="2883"/>
                  </a:lnTo>
                  <a:lnTo>
                    <a:pt x="2523" y="2899"/>
                  </a:lnTo>
                  <a:lnTo>
                    <a:pt x="2571" y="2908"/>
                  </a:lnTo>
                  <a:lnTo>
                    <a:pt x="2618" y="2908"/>
                  </a:lnTo>
                  <a:lnTo>
                    <a:pt x="2666" y="2908"/>
                  </a:lnTo>
                  <a:lnTo>
                    <a:pt x="2713" y="2913"/>
                  </a:lnTo>
                  <a:lnTo>
                    <a:pt x="2761" y="2913"/>
                  </a:lnTo>
                  <a:lnTo>
                    <a:pt x="2808" y="2916"/>
                  </a:lnTo>
                  <a:lnTo>
                    <a:pt x="2856" y="2921"/>
                  </a:lnTo>
                  <a:lnTo>
                    <a:pt x="2903" y="2921"/>
                  </a:lnTo>
                  <a:lnTo>
                    <a:pt x="2952" y="2923"/>
                  </a:lnTo>
                  <a:lnTo>
                    <a:pt x="3000" y="2926"/>
                  </a:lnTo>
                  <a:lnTo>
                    <a:pt x="3047" y="2926"/>
                  </a:lnTo>
                  <a:lnTo>
                    <a:pt x="3095" y="2933"/>
                  </a:lnTo>
                  <a:lnTo>
                    <a:pt x="3142" y="2936"/>
                  </a:lnTo>
                  <a:lnTo>
                    <a:pt x="3190" y="2936"/>
                  </a:lnTo>
                  <a:lnTo>
                    <a:pt x="3237" y="2936"/>
                  </a:lnTo>
                  <a:lnTo>
                    <a:pt x="3285" y="2939"/>
                  </a:lnTo>
                  <a:lnTo>
                    <a:pt x="3333" y="2939"/>
                  </a:lnTo>
                  <a:lnTo>
                    <a:pt x="3380" y="2938"/>
                  </a:lnTo>
                  <a:lnTo>
                    <a:pt x="3428" y="2942"/>
                  </a:lnTo>
                  <a:lnTo>
                    <a:pt x="3475" y="2942"/>
                  </a:lnTo>
                  <a:lnTo>
                    <a:pt x="3523" y="2947"/>
                  </a:lnTo>
                  <a:lnTo>
                    <a:pt x="3570" y="2948"/>
                  </a:lnTo>
                  <a:lnTo>
                    <a:pt x="3618" y="2948"/>
                  </a:lnTo>
                  <a:lnTo>
                    <a:pt x="3665" y="2948"/>
                  </a:lnTo>
                  <a:lnTo>
                    <a:pt x="3713" y="2950"/>
                  </a:lnTo>
                  <a:lnTo>
                    <a:pt x="3761" y="2950"/>
                  </a:lnTo>
                  <a:lnTo>
                    <a:pt x="3808" y="2950"/>
                  </a:lnTo>
                  <a:lnTo>
                    <a:pt x="3856" y="2952"/>
                  </a:lnTo>
                  <a:lnTo>
                    <a:pt x="3903" y="2952"/>
                  </a:lnTo>
                  <a:lnTo>
                    <a:pt x="3951" y="2951"/>
                  </a:lnTo>
                  <a:lnTo>
                    <a:pt x="3998" y="2953"/>
                  </a:lnTo>
                  <a:lnTo>
                    <a:pt x="4046" y="2953"/>
                  </a:lnTo>
                  <a:lnTo>
                    <a:pt x="4094" y="2954"/>
                  </a:lnTo>
                  <a:lnTo>
                    <a:pt x="4142" y="2954"/>
                  </a:lnTo>
                  <a:lnTo>
                    <a:pt x="4190" y="2954"/>
                  </a:lnTo>
                  <a:lnTo>
                    <a:pt x="4237" y="2954"/>
                  </a:lnTo>
                  <a:lnTo>
                    <a:pt x="4285" y="2954"/>
                  </a:lnTo>
                  <a:lnTo>
                    <a:pt x="4332" y="2954"/>
                  </a:lnTo>
                  <a:lnTo>
                    <a:pt x="4380" y="2955"/>
                  </a:lnTo>
                  <a:lnTo>
                    <a:pt x="4427" y="2956"/>
                  </a:lnTo>
                  <a:lnTo>
                    <a:pt x="4475" y="2956"/>
                  </a:lnTo>
                  <a:lnTo>
                    <a:pt x="4523" y="2956"/>
                  </a:lnTo>
                  <a:lnTo>
                    <a:pt x="4570" y="2956"/>
                  </a:lnTo>
                  <a:lnTo>
                    <a:pt x="4618" y="2956"/>
                  </a:lnTo>
                  <a:lnTo>
                    <a:pt x="4665" y="2958"/>
                  </a:lnTo>
                  <a:lnTo>
                    <a:pt x="4713" y="2958"/>
                  </a:lnTo>
                  <a:lnTo>
                    <a:pt x="4713" y="2958"/>
                  </a:lnTo>
                  <a:lnTo>
                    <a:pt x="4665" y="2959"/>
                  </a:lnTo>
                  <a:lnTo>
                    <a:pt x="4618" y="2957"/>
                  </a:lnTo>
                  <a:lnTo>
                    <a:pt x="4570" y="2957"/>
                  </a:lnTo>
                  <a:lnTo>
                    <a:pt x="4523" y="2957"/>
                  </a:lnTo>
                  <a:lnTo>
                    <a:pt x="4475" y="2958"/>
                  </a:lnTo>
                  <a:lnTo>
                    <a:pt x="4427" y="2958"/>
                  </a:lnTo>
                  <a:lnTo>
                    <a:pt x="4380" y="2957"/>
                  </a:lnTo>
                  <a:lnTo>
                    <a:pt x="4332" y="2957"/>
                  </a:lnTo>
                  <a:lnTo>
                    <a:pt x="4285" y="2957"/>
                  </a:lnTo>
                  <a:lnTo>
                    <a:pt x="4237" y="2956"/>
                  </a:lnTo>
                  <a:lnTo>
                    <a:pt x="4190" y="2957"/>
                  </a:lnTo>
                  <a:lnTo>
                    <a:pt x="4142" y="2957"/>
                  </a:lnTo>
                  <a:lnTo>
                    <a:pt x="4094" y="2956"/>
                  </a:lnTo>
                  <a:lnTo>
                    <a:pt x="4046" y="2955"/>
                  </a:lnTo>
                  <a:lnTo>
                    <a:pt x="3998" y="2955"/>
                  </a:lnTo>
                  <a:lnTo>
                    <a:pt x="3951" y="2954"/>
                  </a:lnTo>
                  <a:lnTo>
                    <a:pt x="3903" y="2956"/>
                  </a:lnTo>
                  <a:lnTo>
                    <a:pt x="3856" y="2956"/>
                  </a:lnTo>
                  <a:lnTo>
                    <a:pt x="3808" y="2955"/>
                  </a:lnTo>
                  <a:lnTo>
                    <a:pt x="3761" y="2955"/>
                  </a:lnTo>
                  <a:lnTo>
                    <a:pt x="3713" y="2955"/>
                  </a:lnTo>
                  <a:lnTo>
                    <a:pt x="3665" y="2953"/>
                  </a:lnTo>
                  <a:lnTo>
                    <a:pt x="3618" y="2954"/>
                  </a:lnTo>
                  <a:lnTo>
                    <a:pt x="3570" y="2954"/>
                  </a:lnTo>
                  <a:lnTo>
                    <a:pt x="3523" y="2954"/>
                  </a:lnTo>
                  <a:lnTo>
                    <a:pt x="3475" y="2950"/>
                  </a:lnTo>
                  <a:lnTo>
                    <a:pt x="3428" y="2950"/>
                  </a:lnTo>
                  <a:lnTo>
                    <a:pt x="3380" y="2945"/>
                  </a:lnTo>
                  <a:lnTo>
                    <a:pt x="3333" y="2950"/>
                  </a:lnTo>
                  <a:lnTo>
                    <a:pt x="3285" y="2950"/>
                  </a:lnTo>
                  <a:lnTo>
                    <a:pt x="3237" y="2947"/>
                  </a:lnTo>
                  <a:lnTo>
                    <a:pt x="3190" y="2949"/>
                  </a:lnTo>
                  <a:lnTo>
                    <a:pt x="3142" y="2949"/>
                  </a:lnTo>
                  <a:lnTo>
                    <a:pt x="3095" y="2945"/>
                  </a:lnTo>
                  <a:lnTo>
                    <a:pt x="3047" y="2942"/>
                  </a:lnTo>
                  <a:lnTo>
                    <a:pt x="3000" y="2942"/>
                  </a:lnTo>
                  <a:lnTo>
                    <a:pt x="2952" y="2939"/>
                  </a:lnTo>
                  <a:lnTo>
                    <a:pt x="2903" y="2941"/>
                  </a:lnTo>
                  <a:lnTo>
                    <a:pt x="2856" y="2941"/>
                  </a:lnTo>
                  <a:lnTo>
                    <a:pt x="2808" y="2936"/>
                  </a:lnTo>
                  <a:lnTo>
                    <a:pt x="2761" y="2936"/>
                  </a:lnTo>
                  <a:lnTo>
                    <a:pt x="2713" y="2936"/>
                  </a:lnTo>
                  <a:lnTo>
                    <a:pt x="2666" y="2931"/>
                  </a:lnTo>
                  <a:lnTo>
                    <a:pt x="2618" y="2937"/>
                  </a:lnTo>
                  <a:lnTo>
                    <a:pt x="2571" y="2937"/>
                  </a:lnTo>
                  <a:lnTo>
                    <a:pt x="2523" y="2928"/>
                  </a:lnTo>
                  <a:lnTo>
                    <a:pt x="2475" y="2917"/>
                  </a:lnTo>
                  <a:lnTo>
                    <a:pt x="2428" y="2917"/>
                  </a:lnTo>
                  <a:lnTo>
                    <a:pt x="2380" y="2909"/>
                  </a:lnTo>
                  <a:lnTo>
                    <a:pt x="2333" y="2919"/>
                  </a:lnTo>
                  <a:lnTo>
                    <a:pt x="2285" y="2919"/>
                  </a:lnTo>
                  <a:lnTo>
                    <a:pt x="2238" y="2906"/>
                  </a:lnTo>
                  <a:lnTo>
                    <a:pt x="2190" y="2899"/>
                  </a:lnTo>
                  <a:lnTo>
                    <a:pt x="2142" y="2899"/>
                  </a:lnTo>
                  <a:lnTo>
                    <a:pt x="2095" y="2879"/>
                  </a:lnTo>
                  <a:lnTo>
                    <a:pt x="2047" y="2881"/>
                  </a:lnTo>
                  <a:lnTo>
                    <a:pt x="2000" y="2881"/>
                  </a:lnTo>
                  <a:lnTo>
                    <a:pt x="1952" y="2866"/>
                  </a:lnTo>
                  <a:lnTo>
                    <a:pt x="1905" y="2874"/>
                  </a:lnTo>
                  <a:lnTo>
                    <a:pt x="1857" y="2874"/>
                  </a:lnTo>
                  <a:lnTo>
                    <a:pt x="1810" y="2851"/>
                  </a:lnTo>
                  <a:lnTo>
                    <a:pt x="1761" y="2835"/>
                  </a:lnTo>
                  <a:lnTo>
                    <a:pt x="1713" y="2835"/>
                  </a:lnTo>
                  <a:lnTo>
                    <a:pt x="1666" y="2802"/>
                  </a:lnTo>
                  <a:lnTo>
                    <a:pt x="1618" y="2816"/>
                  </a:lnTo>
                  <a:lnTo>
                    <a:pt x="1571" y="2816"/>
                  </a:lnTo>
                  <a:lnTo>
                    <a:pt x="1523" y="2776"/>
                  </a:lnTo>
                  <a:lnTo>
                    <a:pt x="1476" y="2787"/>
                  </a:lnTo>
                  <a:lnTo>
                    <a:pt x="1428" y="2787"/>
                  </a:lnTo>
                  <a:lnTo>
                    <a:pt x="1380" y="2751"/>
                  </a:lnTo>
                  <a:lnTo>
                    <a:pt x="1333" y="2751"/>
                  </a:lnTo>
                  <a:lnTo>
                    <a:pt x="1285" y="2751"/>
                  </a:lnTo>
                  <a:lnTo>
                    <a:pt x="1238" y="2696"/>
                  </a:lnTo>
                  <a:lnTo>
                    <a:pt x="1190" y="2674"/>
                  </a:lnTo>
                  <a:lnTo>
                    <a:pt x="1143" y="2674"/>
                  </a:lnTo>
                  <a:lnTo>
                    <a:pt x="1095" y="2590"/>
                  </a:lnTo>
                  <a:lnTo>
                    <a:pt x="1048" y="2616"/>
                  </a:lnTo>
                  <a:lnTo>
                    <a:pt x="1000" y="2616"/>
                  </a:lnTo>
                  <a:lnTo>
                    <a:pt x="952" y="2530"/>
                  </a:lnTo>
                  <a:lnTo>
                    <a:pt x="905" y="2546"/>
                  </a:lnTo>
                  <a:lnTo>
                    <a:pt x="857" y="2546"/>
                  </a:lnTo>
                  <a:lnTo>
                    <a:pt x="810" y="2424"/>
                  </a:lnTo>
                  <a:lnTo>
                    <a:pt x="762" y="2425"/>
                  </a:lnTo>
                  <a:lnTo>
                    <a:pt x="715" y="2425"/>
                  </a:lnTo>
                  <a:lnTo>
                    <a:pt x="667" y="2301"/>
                  </a:lnTo>
                  <a:lnTo>
                    <a:pt x="620" y="2407"/>
                  </a:lnTo>
                  <a:lnTo>
                    <a:pt x="571" y="2407"/>
                  </a:lnTo>
                  <a:lnTo>
                    <a:pt x="523" y="2220"/>
                  </a:lnTo>
                  <a:lnTo>
                    <a:pt x="476" y="2156"/>
                  </a:lnTo>
                  <a:lnTo>
                    <a:pt x="428" y="2156"/>
                  </a:lnTo>
                  <a:lnTo>
                    <a:pt x="381" y="1953"/>
                  </a:lnTo>
                  <a:lnTo>
                    <a:pt x="333" y="2356"/>
                  </a:lnTo>
                  <a:lnTo>
                    <a:pt x="286" y="2116"/>
                  </a:lnTo>
                  <a:lnTo>
                    <a:pt x="238" y="2025"/>
                  </a:lnTo>
                  <a:lnTo>
                    <a:pt x="190" y="2352"/>
                  </a:lnTo>
                  <a:lnTo>
                    <a:pt x="143" y="2593"/>
                  </a:lnTo>
                  <a:lnTo>
                    <a:pt x="95" y="2593"/>
                  </a:lnTo>
                  <a:lnTo>
                    <a:pt x="48" y="2959"/>
                  </a:lnTo>
                  <a:lnTo>
                    <a:pt x="0" y="29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91764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131"/>
                  </a:lnTo>
                  <a:lnTo>
                    <a:pt x="1238" y="165"/>
                  </a:lnTo>
                  <a:lnTo>
                    <a:pt x="1285" y="258"/>
                  </a:lnTo>
                  <a:lnTo>
                    <a:pt x="1333" y="496"/>
                  </a:lnTo>
                  <a:lnTo>
                    <a:pt x="1380" y="589"/>
                  </a:lnTo>
                  <a:lnTo>
                    <a:pt x="1428" y="589"/>
                  </a:lnTo>
                  <a:lnTo>
                    <a:pt x="1476" y="964"/>
                  </a:lnTo>
                  <a:lnTo>
                    <a:pt x="1523" y="1051"/>
                  </a:lnTo>
                  <a:lnTo>
                    <a:pt x="1571" y="1051"/>
                  </a:lnTo>
                  <a:lnTo>
                    <a:pt x="1618" y="1312"/>
                  </a:lnTo>
                  <a:lnTo>
                    <a:pt x="1666" y="1372"/>
                  </a:lnTo>
                  <a:lnTo>
                    <a:pt x="1713" y="1372"/>
                  </a:lnTo>
                  <a:lnTo>
                    <a:pt x="1761" y="1624"/>
                  </a:lnTo>
                  <a:lnTo>
                    <a:pt x="1810" y="1685"/>
                  </a:lnTo>
                  <a:lnTo>
                    <a:pt x="1857" y="1685"/>
                  </a:lnTo>
                  <a:lnTo>
                    <a:pt x="1905" y="1898"/>
                  </a:lnTo>
                  <a:lnTo>
                    <a:pt x="1952" y="1938"/>
                  </a:lnTo>
                  <a:lnTo>
                    <a:pt x="2000" y="1938"/>
                  </a:lnTo>
                  <a:lnTo>
                    <a:pt x="2047" y="2106"/>
                  </a:lnTo>
                  <a:lnTo>
                    <a:pt x="2095" y="2147"/>
                  </a:lnTo>
                  <a:lnTo>
                    <a:pt x="2142" y="2147"/>
                  </a:lnTo>
                  <a:lnTo>
                    <a:pt x="2190" y="2288"/>
                  </a:lnTo>
                  <a:lnTo>
                    <a:pt x="2238" y="2315"/>
                  </a:lnTo>
                  <a:lnTo>
                    <a:pt x="2285" y="2315"/>
                  </a:lnTo>
                  <a:lnTo>
                    <a:pt x="2333" y="2421"/>
                  </a:lnTo>
                  <a:lnTo>
                    <a:pt x="2380" y="2434"/>
                  </a:lnTo>
                  <a:lnTo>
                    <a:pt x="2428" y="2434"/>
                  </a:lnTo>
                  <a:lnTo>
                    <a:pt x="2475" y="2513"/>
                  </a:lnTo>
                  <a:lnTo>
                    <a:pt x="2523" y="2533"/>
                  </a:lnTo>
                  <a:lnTo>
                    <a:pt x="2571" y="2533"/>
                  </a:lnTo>
                  <a:lnTo>
                    <a:pt x="2618" y="2604"/>
                  </a:lnTo>
                  <a:lnTo>
                    <a:pt x="2666" y="2622"/>
                  </a:lnTo>
                  <a:lnTo>
                    <a:pt x="2713" y="2622"/>
                  </a:lnTo>
                  <a:lnTo>
                    <a:pt x="2761" y="2682"/>
                  </a:lnTo>
                  <a:lnTo>
                    <a:pt x="2808" y="2693"/>
                  </a:lnTo>
                  <a:lnTo>
                    <a:pt x="2856" y="2693"/>
                  </a:lnTo>
                  <a:lnTo>
                    <a:pt x="2903" y="2738"/>
                  </a:lnTo>
                  <a:lnTo>
                    <a:pt x="2952" y="2746"/>
                  </a:lnTo>
                  <a:lnTo>
                    <a:pt x="3000" y="2746"/>
                  </a:lnTo>
                  <a:lnTo>
                    <a:pt x="3047" y="2785"/>
                  </a:lnTo>
                  <a:lnTo>
                    <a:pt x="3095" y="2795"/>
                  </a:lnTo>
                  <a:lnTo>
                    <a:pt x="3142" y="2795"/>
                  </a:lnTo>
                  <a:lnTo>
                    <a:pt x="3190" y="2825"/>
                  </a:lnTo>
                  <a:lnTo>
                    <a:pt x="3237" y="2832"/>
                  </a:lnTo>
                  <a:lnTo>
                    <a:pt x="3285" y="2832"/>
                  </a:lnTo>
                  <a:lnTo>
                    <a:pt x="3333" y="2851"/>
                  </a:lnTo>
                  <a:lnTo>
                    <a:pt x="3380" y="2855"/>
                  </a:lnTo>
                  <a:lnTo>
                    <a:pt x="3428" y="2855"/>
                  </a:lnTo>
                  <a:lnTo>
                    <a:pt x="3475" y="2878"/>
                  </a:lnTo>
                  <a:lnTo>
                    <a:pt x="3523" y="2882"/>
                  </a:lnTo>
                  <a:lnTo>
                    <a:pt x="3570" y="2882"/>
                  </a:lnTo>
                  <a:lnTo>
                    <a:pt x="3618" y="2891"/>
                  </a:lnTo>
                  <a:lnTo>
                    <a:pt x="3665" y="2893"/>
                  </a:lnTo>
                  <a:lnTo>
                    <a:pt x="3713" y="2893"/>
                  </a:lnTo>
                  <a:lnTo>
                    <a:pt x="3761" y="2904"/>
                  </a:lnTo>
                  <a:lnTo>
                    <a:pt x="3808" y="2906"/>
                  </a:lnTo>
                  <a:lnTo>
                    <a:pt x="3856" y="2906"/>
                  </a:lnTo>
                  <a:lnTo>
                    <a:pt x="3903" y="2915"/>
                  </a:lnTo>
                  <a:lnTo>
                    <a:pt x="3951" y="2917"/>
                  </a:lnTo>
                  <a:lnTo>
                    <a:pt x="3998" y="2917"/>
                  </a:lnTo>
                  <a:lnTo>
                    <a:pt x="4046" y="2924"/>
                  </a:lnTo>
                  <a:lnTo>
                    <a:pt x="4094" y="2926"/>
                  </a:lnTo>
                  <a:lnTo>
                    <a:pt x="4142" y="2926"/>
                  </a:lnTo>
                  <a:lnTo>
                    <a:pt x="4190" y="2931"/>
                  </a:lnTo>
                  <a:lnTo>
                    <a:pt x="4237" y="2931"/>
                  </a:lnTo>
                  <a:lnTo>
                    <a:pt x="4285" y="2931"/>
                  </a:lnTo>
                  <a:lnTo>
                    <a:pt x="4332" y="2935"/>
                  </a:lnTo>
                  <a:lnTo>
                    <a:pt x="4380" y="2937"/>
                  </a:lnTo>
                  <a:lnTo>
                    <a:pt x="4427" y="2937"/>
                  </a:lnTo>
                  <a:lnTo>
                    <a:pt x="4475" y="2942"/>
                  </a:lnTo>
                  <a:lnTo>
                    <a:pt x="4523" y="2943"/>
                  </a:lnTo>
                  <a:lnTo>
                    <a:pt x="4570" y="2943"/>
                  </a:lnTo>
                  <a:lnTo>
                    <a:pt x="4618" y="2945"/>
                  </a:lnTo>
                  <a:lnTo>
                    <a:pt x="4665" y="2945"/>
                  </a:lnTo>
                  <a:lnTo>
                    <a:pt x="4713" y="2945"/>
                  </a:lnTo>
                  <a:lnTo>
                    <a:pt x="4713" y="2958"/>
                  </a:lnTo>
                  <a:lnTo>
                    <a:pt x="4665" y="2958"/>
                  </a:lnTo>
                  <a:lnTo>
                    <a:pt x="4618" y="2956"/>
                  </a:lnTo>
                  <a:lnTo>
                    <a:pt x="4570" y="2956"/>
                  </a:lnTo>
                  <a:lnTo>
                    <a:pt x="4523" y="2956"/>
                  </a:lnTo>
                  <a:lnTo>
                    <a:pt x="4475" y="2956"/>
                  </a:lnTo>
                  <a:lnTo>
                    <a:pt x="4427" y="2956"/>
                  </a:lnTo>
                  <a:lnTo>
                    <a:pt x="4380" y="2955"/>
                  </a:lnTo>
                  <a:lnTo>
                    <a:pt x="4332" y="2954"/>
                  </a:lnTo>
                  <a:lnTo>
                    <a:pt x="4285" y="2954"/>
                  </a:lnTo>
                  <a:lnTo>
                    <a:pt x="4237" y="2954"/>
                  </a:lnTo>
                  <a:lnTo>
                    <a:pt x="4190" y="2954"/>
                  </a:lnTo>
                  <a:lnTo>
                    <a:pt x="4142" y="2954"/>
                  </a:lnTo>
                  <a:lnTo>
                    <a:pt x="4094" y="2954"/>
                  </a:lnTo>
                  <a:lnTo>
                    <a:pt x="4046" y="2953"/>
                  </a:lnTo>
                  <a:lnTo>
                    <a:pt x="3998" y="2953"/>
                  </a:lnTo>
                  <a:lnTo>
                    <a:pt x="3951" y="2951"/>
                  </a:lnTo>
                  <a:lnTo>
                    <a:pt x="3903" y="2952"/>
                  </a:lnTo>
                  <a:lnTo>
                    <a:pt x="3856" y="2952"/>
                  </a:lnTo>
                  <a:lnTo>
                    <a:pt x="3808" y="2950"/>
                  </a:lnTo>
                  <a:lnTo>
                    <a:pt x="3761" y="2950"/>
                  </a:lnTo>
                  <a:lnTo>
                    <a:pt x="3713" y="2950"/>
                  </a:lnTo>
                  <a:lnTo>
                    <a:pt x="3665" y="2948"/>
                  </a:lnTo>
                  <a:lnTo>
                    <a:pt x="3618" y="2948"/>
                  </a:lnTo>
                  <a:lnTo>
                    <a:pt x="3570" y="2948"/>
                  </a:lnTo>
                  <a:lnTo>
                    <a:pt x="3523" y="2947"/>
                  </a:lnTo>
                  <a:lnTo>
                    <a:pt x="3475" y="2942"/>
                  </a:lnTo>
                  <a:lnTo>
                    <a:pt x="3428" y="2942"/>
                  </a:lnTo>
                  <a:lnTo>
                    <a:pt x="3380" y="2938"/>
                  </a:lnTo>
                  <a:lnTo>
                    <a:pt x="3333" y="2939"/>
                  </a:lnTo>
                  <a:lnTo>
                    <a:pt x="3285" y="2939"/>
                  </a:lnTo>
                  <a:lnTo>
                    <a:pt x="3237" y="2936"/>
                  </a:lnTo>
                  <a:lnTo>
                    <a:pt x="3190" y="2936"/>
                  </a:lnTo>
                  <a:lnTo>
                    <a:pt x="3142" y="2936"/>
                  </a:lnTo>
                  <a:lnTo>
                    <a:pt x="3095" y="2933"/>
                  </a:lnTo>
                  <a:lnTo>
                    <a:pt x="3047" y="2926"/>
                  </a:lnTo>
                  <a:lnTo>
                    <a:pt x="3000" y="2926"/>
                  </a:lnTo>
                  <a:lnTo>
                    <a:pt x="2952" y="2923"/>
                  </a:lnTo>
                  <a:lnTo>
                    <a:pt x="2903" y="2921"/>
                  </a:lnTo>
                  <a:lnTo>
                    <a:pt x="2856" y="2921"/>
                  </a:lnTo>
                  <a:lnTo>
                    <a:pt x="2808" y="2916"/>
                  </a:lnTo>
                  <a:lnTo>
                    <a:pt x="2761" y="2913"/>
                  </a:lnTo>
                  <a:lnTo>
                    <a:pt x="2713" y="2913"/>
                  </a:lnTo>
                  <a:lnTo>
                    <a:pt x="2666" y="2908"/>
                  </a:lnTo>
                  <a:lnTo>
                    <a:pt x="2618" y="2908"/>
                  </a:lnTo>
                  <a:lnTo>
                    <a:pt x="2571" y="2908"/>
                  </a:lnTo>
                  <a:lnTo>
                    <a:pt x="2523" y="2899"/>
                  </a:lnTo>
                  <a:lnTo>
                    <a:pt x="2475" y="2883"/>
                  </a:lnTo>
                  <a:lnTo>
                    <a:pt x="2428" y="2883"/>
                  </a:lnTo>
                  <a:lnTo>
                    <a:pt x="2380" y="2875"/>
                  </a:lnTo>
                  <a:lnTo>
                    <a:pt x="2333" y="2873"/>
                  </a:lnTo>
                  <a:lnTo>
                    <a:pt x="2285" y="2873"/>
                  </a:lnTo>
                  <a:lnTo>
                    <a:pt x="2238" y="2859"/>
                  </a:lnTo>
                  <a:lnTo>
                    <a:pt x="2190" y="2841"/>
                  </a:lnTo>
                  <a:lnTo>
                    <a:pt x="2142" y="2841"/>
                  </a:lnTo>
                  <a:lnTo>
                    <a:pt x="2095" y="2821"/>
                  </a:lnTo>
                  <a:lnTo>
                    <a:pt x="2047" y="2808"/>
                  </a:lnTo>
                  <a:lnTo>
                    <a:pt x="2000" y="2808"/>
                  </a:lnTo>
                  <a:lnTo>
                    <a:pt x="1952" y="2793"/>
                  </a:lnTo>
                  <a:lnTo>
                    <a:pt x="1905" y="2777"/>
                  </a:lnTo>
                  <a:lnTo>
                    <a:pt x="1857" y="2777"/>
                  </a:lnTo>
                  <a:lnTo>
                    <a:pt x="1810" y="2755"/>
                  </a:lnTo>
                  <a:lnTo>
                    <a:pt x="1761" y="2713"/>
                  </a:lnTo>
                  <a:lnTo>
                    <a:pt x="1713" y="2713"/>
                  </a:lnTo>
                  <a:lnTo>
                    <a:pt x="1666" y="2679"/>
                  </a:lnTo>
                  <a:lnTo>
                    <a:pt x="1618" y="2659"/>
                  </a:lnTo>
                  <a:lnTo>
                    <a:pt x="1571" y="2659"/>
                  </a:lnTo>
                  <a:lnTo>
                    <a:pt x="1523" y="2619"/>
                  </a:lnTo>
                  <a:lnTo>
                    <a:pt x="1476" y="2587"/>
                  </a:lnTo>
                  <a:lnTo>
                    <a:pt x="1428" y="2587"/>
                  </a:lnTo>
                  <a:lnTo>
                    <a:pt x="1380" y="2552"/>
                  </a:lnTo>
                  <a:lnTo>
                    <a:pt x="1333" y="2506"/>
                  </a:lnTo>
                  <a:lnTo>
                    <a:pt x="1285" y="2506"/>
                  </a:lnTo>
                  <a:lnTo>
                    <a:pt x="1238" y="2451"/>
                  </a:lnTo>
                  <a:lnTo>
                    <a:pt x="1190" y="2366"/>
                  </a:lnTo>
                  <a:lnTo>
                    <a:pt x="1143" y="2366"/>
                  </a:lnTo>
                  <a:lnTo>
                    <a:pt x="1095" y="2282"/>
                  </a:lnTo>
                  <a:lnTo>
                    <a:pt x="1048" y="2217"/>
                  </a:lnTo>
                  <a:lnTo>
                    <a:pt x="1000" y="2217"/>
                  </a:lnTo>
                  <a:lnTo>
                    <a:pt x="952" y="2131"/>
                  </a:lnTo>
                  <a:lnTo>
                    <a:pt x="905" y="2035"/>
                  </a:lnTo>
                  <a:lnTo>
                    <a:pt x="857" y="2035"/>
                  </a:lnTo>
                  <a:lnTo>
                    <a:pt x="810" y="1913"/>
                  </a:lnTo>
                  <a:lnTo>
                    <a:pt x="762" y="1778"/>
                  </a:lnTo>
                  <a:lnTo>
                    <a:pt x="715" y="1778"/>
                  </a:lnTo>
                  <a:lnTo>
                    <a:pt x="667" y="1654"/>
                  </a:lnTo>
                  <a:lnTo>
                    <a:pt x="620" y="1557"/>
                  </a:lnTo>
                  <a:lnTo>
                    <a:pt x="571" y="1557"/>
                  </a:lnTo>
                  <a:lnTo>
                    <a:pt x="523" y="1370"/>
                  </a:lnTo>
                  <a:lnTo>
                    <a:pt x="476" y="1004"/>
                  </a:lnTo>
                  <a:lnTo>
                    <a:pt x="428" y="1004"/>
                  </a:lnTo>
                  <a:lnTo>
                    <a:pt x="381" y="802"/>
                  </a:lnTo>
                  <a:lnTo>
                    <a:pt x="333" y="607"/>
                  </a:lnTo>
                  <a:lnTo>
                    <a:pt x="286" y="366"/>
                  </a:lnTo>
                  <a:lnTo>
                    <a:pt x="238" y="276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917640"/>
              <a:ext cx="7481880" cy="4674960"/>
            </a:xfrm>
            <a:custGeom>
              <a:avLst/>
              <a:gdLst/>
              <a:ahLst/>
              <a:rect l="l" t="t" r="r" b="b"/>
              <a:pathLst>
                <a:path w="4713" h="2945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131"/>
                  </a:lnTo>
                  <a:lnTo>
                    <a:pt x="2713" y="165"/>
                  </a:lnTo>
                  <a:lnTo>
                    <a:pt x="2761" y="258"/>
                  </a:lnTo>
                  <a:lnTo>
                    <a:pt x="2808" y="496"/>
                  </a:lnTo>
                  <a:lnTo>
                    <a:pt x="2856" y="589"/>
                  </a:lnTo>
                  <a:lnTo>
                    <a:pt x="2903" y="589"/>
                  </a:lnTo>
                  <a:lnTo>
                    <a:pt x="2952" y="964"/>
                  </a:lnTo>
                  <a:lnTo>
                    <a:pt x="3000" y="1051"/>
                  </a:lnTo>
                  <a:lnTo>
                    <a:pt x="3047" y="1051"/>
                  </a:lnTo>
                  <a:lnTo>
                    <a:pt x="3095" y="1312"/>
                  </a:lnTo>
                  <a:lnTo>
                    <a:pt x="3142" y="1372"/>
                  </a:lnTo>
                  <a:lnTo>
                    <a:pt x="3190" y="1372"/>
                  </a:lnTo>
                  <a:lnTo>
                    <a:pt x="3237" y="1624"/>
                  </a:lnTo>
                  <a:lnTo>
                    <a:pt x="3285" y="1685"/>
                  </a:lnTo>
                  <a:lnTo>
                    <a:pt x="3333" y="1685"/>
                  </a:lnTo>
                  <a:lnTo>
                    <a:pt x="3380" y="1898"/>
                  </a:lnTo>
                  <a:lnTo>
                    <a:pt x="3428" y="1938"/>
                  </a:lnTo>
                  <a:lnTo>
                    <a:pt x="3475" y="1938"/>
                  </a:lnTo>
                  <a:lnTo>
                    <a:pt x="3523" y="2106"/>
                  </a:lnTo>
                  <a:lnTo>
                    <a:pt x="3570" y="2147"/>
                  </a:lnTo>
                  <a:lnTo>
                    <a:pt x="3618" y="2147"/>
                  </a:lnTo>
                  <a:lnTo>
                    <a:pt x="3665" y="2288"/>
                  </a:lnTo>
                  <a:lnTo>
                    <a:pt x="3713" y="2315"/>
                  </a:lnTo>
                  <a:lnTo>
                    <a:pt x="3761" y="2315"/>
                  </a:lnTo>
                  <a:lnTo>
                    <a:pt x="3808" y="2421"/>
                  </a:lnTo>
                  <a:lnTo>
                    <a:pt x="3856" y="2434"/>
                  </a:lnTo>
                  <a:lnTo>
                    <a:pt x="3903" y="2434"/>
                  </a:lnTo>
                  <a:lnTo>
                    <a:pt x="3951" y="2513"/>
                  </a:lnTo>
                  <a:lnTo>
                    <a:pt x="3998" y="2533"/>
                  </a:lnTo>
                  <a:lnTo>
                    <a:pt x="4046" y="2533"/>
                  </a:lnTo>
                  <a:lnTo>
                    <a:pt x="4094" y="2604"/>
                  </a:lnTo>
                  <a:lnTo>
                    <a:pt x="4142" y="2622"/>
                  </a:lnTo>
                  <a:lnTo>
                    <a:pt x="4190" y="2622"/>
                  </a:lnTo>
                  <a:lnTo>
                    <a:pt x="4237" y="2682"/>
                  </a:lnTo>
                  <a:lnTo>
                    <a:pt x="4285" y="2693"/>
                  </a:lnTo>
                  <a:lnTo>
                    <a:pt x="4332" y="2693"/>
                  </a:lnTo>
                  <a:lnTo>
                    <a:pt x="4380" y="2738"/>
                  </a:lnTo>
                  <a:lnTo>
                    <a:pt x="4427" y="2746"/>
                  </a:lnTo>
                  <a:lnTo>
                    <a:pt x="4475" y="2746"/>
                  </a:lnTo>
                  <a:lnTo>
                    <a:pt x="4523" y="2785"/>
                  </a:lnTo>
                  <a:lnTo>
                    <a:pt x="4570" y="2795"/>
                  </a:lnTo>
                  <a:lnTo>
                    <a:pt x="4618" y="2795"/>
                  </a:lnTo>
                  <a:lnTo>
                    <a:pt x="4665" y="2825"/>
                  </a:lnTo>
                  <a:lnTo>
                    <a:pt x="4713" y="2832"/>
                  </a:lnTo>
                  <a:lnTo>
                    <a:pt x="4713" y="2945"/>
                  </a:lnTo>
                  <a:lnTo>
                    <a:pt x="4665" y="2945"/>
                  </a:lnTo>
                  <a:lnTo>
                    <a:pt x="4618" y="2945"/>
                  </a:lnTo>
                  <a:lnTo>
                    <a:pt x="4570" y="2943"/>
                  </a:lnTo>
                  <a:lnTo>
                    <a:pt x="4523" y="2943"/>
                  </a:lnTo>
                  <a:lnTo>
                    <a:pt x="4475" y="2942"/>
                  </a:lnTo>
                  <a:lnTo>
                    <a:pt x="4427" y="2937"/>
                  </a:lnTo>
                  <a:lnTo>
                    <a:pt x="4380" y="2937"/>
                  </a:lnTo>
                  <a:lnTo>
                    <a:pt x="4332" y="2935"/>
                  </a:lnTo>
                  <a:lnTo>
                    <a:pt x="4285" y="2931"/>
                  </a:lnTo>
                  <a:lnTo>
                    <a:pt x="4237" y="2931"/>
                  </a:lnTo>
                  <a:lnTo>
                    <a:pt x="4190" y="2931"/>
                  </a:lnTo>
                  <a:lnTo>
                    <a:pt x="4142" y="2926"/>
                  </a:lnTo>
                  <a:lnTo>
                    <a:pt x="4094" y="2926"/>
                  </a:lnTo>
                  <a:lnTo>
                    <a:pt x="4046" y="2924"/>
                  </a:lnTo>
                  <a:lnTo>
                    <a:pt x="3998" y="2917"/>
                  </a:lnTo>
                  <a:lnTo>
                    <a:pt x="3951" y="2917"/>
                  </a:lnTo>
                  <a:lnTo>
                    <a:pt x="3903" y="2915"/>
                  </a:lnTo>
                  <a:lnTo>
                    <a:pt x="3856" y="2906"/>
                  </a:lnTo>
                  <a:lnTo>
                    <a:pt x="3808" y="2906"/>
                  </a:lnTo>
                  <a:lnTo>
                    <a:pt x="3761" y="2904"/>
                  </a:lnTo>
                  <a:lnTo>
                    <a:pt x="3713" y="2893"/>
                  </a:lnTo>
                  <a:lnTo>
                    <a:pt x="3665" y="2893"/>
                  </a:lnTo>
                  <a:lnTo>
                    <a:pt x="3618" y="2891"/>
                  </a:lnTo>
                  <a:lnTo>
                    <a:pt x="3570" y="2882"/>
                  </a:lnTo>
                  <a:lnTo>
                    <a:pt x="3523" y="2882"/>
                  </a:lnTo>
                  <a:lnTo>
                    <a:pt x="3475" y="2878"/>
                  </a:lnTo>
                  <a:lnTo>
                    <a:pt x="3428" y="2855"/>
                  </a:lnTo>
                  <a:lnTo>
                    <a:pt x="3380" y="2855"/>
                  </a:lnTo>
                  <a:lnTo>
                    <a:pt x="3333" y="2851"/>
                  </a:lnTo>
                  <a:lnTo>
                    <a:pt x="3285" y="2832"/>
                  </a:lnTo>
                  <a:lnTo>
                    <a:pt x="3237" y="2832"/>
                  </a:lnTo>
                  <a:lnTo>
                    <a:pt x="3190" y="2825"/>
                  </a:lnTo>
                  <a:lnTo>
                    <a:pt x="3142" y="2795"/>
                  </a:lnTo>
                  <a:lnTo>
                    <a:pt x="3095" y="2795"/>
                  </a:lnTo>
                  <a:lnTo>
                    <a:pt x="3047" y="2785"/>
                  </a:lnTo>
                  <a:lnTo>
                    <a:pt x="3000" y="2746"/>
                  </a:lnTo>
                  <a:lnTo>
                    <a:pt x="2952" y="2746"/>
                  </a:lnTo>
                  <a:lnTo>
                    <a:pt x="2903" y="2738"/>
                  </a:lnTo>
                  <a:lnTo>
                    <a:pt x="2856" y="2693"/>
                  </a:lnTo>
                  <a:lnTo>
                    <a:pt x="2808" y="2693"/>
                  </a:lnTo>
                  <a:lnTo>
                    <a:pt x="2761" y="2682"/>
                  </a:lnTo>
                  <a:lnTo>
                    <a:pt x="2713" y="2622"/>
                  </a:lnTo>
                  <a:lnTo>
                    <a:pt x="2666" y="2622"/>
                  </a:lnTo>
                  <a:lnTo>
                    <a:pt x="2618" y="2604"/>
                  </a:lnTo>
                  <a:lnTo>
                    <a:pt x="2571" y="2533"/>
                  </a:lnTo>
                  <a:lnTo>
                    <a:pt x="2523" y="2533"/>
                  </a:lnTo>
                  <a:lnTo>
                    <a:pt x="2475" y="2513"/>
                  </a:lnTo>
                  <a:lnTo>
                    <a:pt x="2428" y="2434"/>
                  </a:lnTo>
                  <a:lnTo>
                    <a:pt x="2380" y="2434"/>
                  </a:lnTo>
                  <a:lnTo>
                    <a:pt x="2333" y="2421"/>
                  </a:lnTo>
                  <a:lnTo>
                    <a:pt x="2285" y="2315"/>
                  </a:lnTo>
                  <a:lnTo>
                    <a:pt x="2238" y="2315"/>
                  </a:lnTo>
                  <a:lnTo>
                    <a:pt x="2190" y="2288"/>
                  </a:lnTo>
                  <a:lnTo>
                    <a:pt x="2142" y="2147"/>
                  </a:lnTo>
                  <a:lnTo>
                    <a:pt x="2095" y="2147"/>
                  </a:lnTo>
                  <a:lnTo>
                    <a:pt x="2047" y="2106"/>
                  </a:lnTo>
                  <a:lnTo>
                    <a:pt x="2000" y="1938"/>
                  </a:lnTo>
                  <a:lnTo>
                    <a:pt x="1952" y="1938"/>
                  </a:lnTo>
                  <a:lnTo>
                    <a:pt x="1905" y="1898"/>
                  </a:lnTo>
                  <a:lnTo>
                    <a:pt x="1857" y="1685"/>
                  </a:lnTo>
                  <a:lnTo>
                    <a:pt x="1810" y="1685"/>
                  </a:lnTo>
                  <a:lnTo>
                    <a:pt x="1761" y="1624"/>
                  </a:lnTo>
                  <a:lnTo>
                    <a:pt x="1713" y="1372"/>
                  </a:lnTo>
                  <a:lnTo>
                    <a:pt x="1666" y="1372"/>
                  </a:lnTo>
                  <a:lnTo>
                    <a:pt x="1618" y="1312"/>
                  </a:lnTo>
                  <a:lnTo>
                    <a:pt x="1571" y="1051"/>
                  </a:lnTo>
                  <a:lnTo>
                    <a:pt x="1523" y="1051"/>
                  </a:lnTo>
                  <a:lnTo>
                    <a:pt x="1476" y="964"/>
                  </a:lnTo>
                  <a:lnTo>
                    <a:pt x="1428" y="589"/>
                  </a:lnTo>
                  <a:lnTo>
                    <a:pt x="1380" y="589"/>
                  </a:lnTo>
                  <a:lnTo>
                    <a:pt x="1333" y="496"/>
                  </a:lnTo>
                  <a:lnTo>
                    <a:pt x="1285" y="258"/>
                  </a:lnTo>
                  <a:lnTo>
                    <a:pt x="1238" y="165"/>
                  </a:lnTo>
                  <a:lnTo>
                    <a:pt x="1190" y="131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71600" y="917640"/>
              <a:ext cx="7481880" cy="4495680"/>
            </a:xfrm>
            <a:custGeom>
              <a:avLst/>
              <a:gdLst/>
              <a:ahLst/>
              <a:rect l="l" t="t" r="r" b="b"/>
              <a:pathLst>
                <a:path w="4713" h="2832">
                  <a:moveTo>
                    <a:pt x="0" y="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832"/>
                  </a:lnTo>
                  <a:lnTo>
                    <a:pt x="4665" y="2825"/>
                  </a:lnTo>
                  <a:lnTo>
                    <a:pt x="4618" y="2795"/>
                  </a:lnTo>
                  <a:lnTo>
                    <a:pt x="4570" y="2795"/>
                  </a:lnTo>
                  <a:lnTo>
                    <a:pt x="4523" y="2785"/>
                  </a:lnTo>
                  <a:lnTo>
                    <a:pt x="4475" y="2746"/>
                  </a:lnTo>
                  <a:lnTo>
                    <a:pt x="4427" y="2746"/>
                  </a:lnTo>
                  <a:lnTo>
                    <a:pt x="4380" y="2738"/>
                  </a:lnTo>
                  <a:lnTo>
                    <a:pt x="4332" y="2693"/>
                  </a:lnTo>
                  <a:lnTo>
                    <a:pt x="4285" y="2693"/>
                  </a:lnTo>
                  <a:lnTo>
                    <a:pt x="4237" y="2682"/>
                  </a:lnTo>
                  <a:lnTo>
                    <a:pt x="4190" y="2622"/>
                  </a:lnTo>
                  <a:lnTo>
                    <a:pt x="4142" y="2622"/>
                  </a:lnTo>
                  <a:lnTo>
                    <a:pt x="4094" y="2604"/>
                  </a:lnTo>
                  <a:lnTo>
                    <a:pt x="4046" y="2533"/>
                  </a:lnTo>
                  <a:lnTo>
                    <a:pt x="3998" y="2533"/>
                  </a:lnTo>
                  <a:lnTo>
                    <a:pt x="3951" y="2513"/>
                  </a:lnTo>
                  <a:lnTo>
                    <a:pt x="3903" y="2434"/>
                  </a:lnTo>
                  <a:lnTo>
                    <a:pt x="3856" y="2434"/>
                  </a:lnTo>
                  <a:lnTo>
                    <a:pt x="3808" y="2421"/>
                  </a:lnTo>
                  <a:lnTo>
                    <a:pt x="3761" y="2315"/>
                  </a:lnTo>
                  <a:lnTo>
                    <a:pt x="3713" y="2315"/>
                  </a:lnTo>
                  <a:lnTo>
                    <a:pt x="3665" y="2288"/>
                  </a:lnTo>
                  <a:lnTo>
                    <a:pt x="3618" y="2147"/>
                  </a:lnTo>
                  <a:lnTo>
                    <a:pt x="3570" y="2147"/>
                  </a:lnTo>
                  <a:lnTo>
                    <a:pt x="3523" y="2106"/>
                  </a:lnTo>
                  <a:lnTo>
                    <a:pt x="3475" y="1938"/>
                  </a:lnTo>
                  <a:lnTo>
                    <a:pt x="3428" y="1938"/>
                  </a:lnTo>
                  <a:lnTo>
                    <a:pt x="3380" y="1898"/>
                  </a:lnTo>
                  <a:lnTo>
                    <a:pt x="3333" y="1685"/>
                  </a:lnTo>
                  <a:lnTo>
                    <a:pt x="3285" y="1685"/>
                  </a:lnTo>
                  <a:lnTo>
                    <a:pt x="3237" y="1624"/>
                  </a:lnTo>
                  <a:lnTo>
                    <a:pt x="3190" y="1372"/>
                  </a:lnTo>
                  <a:lnTo>
                    <a:pt x="3142" y="1372"/>
                  </a:lnTo>
                  <a:lnTo>
                    <a:pt x="3095" y="1312"/>
                  </a:lnTo>
                  <a:lnTo>
                    <a:pt x="3047" y="1051"/>
                  </a:lnTo>
                  <a:lnTo>
                    <a:pt x="3000" y="1051"/>
                  </a:lnTo>
                  <a:lnTo>
                    <a:pt x="2952" y="964"/>
                  </a:lnTo>
                  <a:lnTo>
                    <a:pt x="2903" y="589"/>
                  </a:lnTo>
                  <a:lnTo>
                    <a:pt x="2856" y="589"/>
                  </a:lnTo>
                  <a:lnTo>
                    <a:pt x="2808" y="496"/>
                  </a:lnTo>
                  <a:lnTo>
                    <a:pt x="2761" y="258"/>
                  </a:lnTo>
                  <a:lnTo>
                    <a:pt x="2713" y="165"/>
                  </a:lnTo>
                  <a:lnTo>
                    <a:pt x="2666" y="131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0"/>
                  </a:lnTo>
                  <a:lnTo>
                    <a:pt x="1428" y="0"/>
                  </a:lnTo>
                  <a:lnTo>
                    <a:pt x="1380" y="0"/>
                  </a:lnTo>
                  <a:lnTo>
                    <a:pt x="1333" y="0"/>
                  </a:lnTo>
                  <a:lnTo>
                    <a:pt x="1285" y="0"/>
                  </a:lnTo>
                  <a:lnTo>
                    <a:pt x="1238" y="0"/>
                  </a:lnTo>
                  <a:lnTo>
                    <a:pt x="1190" y="0"/>
                  </a:lnTo>
                  <a:lnTo>
                    <a:pt x="1143" y="0"/>
                  </a:lnTo>
                  <a:lnTo>
                    <a:pt x="1095" y="0"/>
                  </a:lnTo>
                  <a:lnTo>
                    <a:pt x="1048" y="0"/>
                  </a:lnTo>
                  <a:lnTo>
                    <a:pt x="1000" y="0"/>
                  </a:lnTo>
                  <a:lnTo>
                    <a:pt x="952" y="0"/>
                  </a:lnTo>
                  <a:lnTo>
                    <a:pt x="905" y="0"/>
                  </a:lnTo>
                  <a:lnTo>
                    <a:pt x="857" y="0"/>
                  </a:lnTo>
                  <a:lnTo>
                    <a:pt x="810" y="0"/>
                  </a:lnTo>
                  <a:lnTo>
                    <a:pt x="762" y="0"/>
                  </a:lnTo>
                  <a:lnTo>
                    <a:pt x="715" y="0"/>
                  </a:lnTo>
                  <a:lnTo>
                    <a:pt x="667" y="0"/>
                  </a:lnTo>
                  <a:lnTo>
                    <a:pt x="620" y="0"/>
                  </a:lnTo>
                  <a:lnTo>
                    <a:pt x="571" y="0"/>
                  </a:lnTo>
                  <a:lnTo>
                    <a:pt x="523" y="0"/>
                  </a:lnTo>
                  <a:lnTo>
                    <a:pt x="476" y="0"/>
                  </a:lnTo>
                  <a:lnTo>
                    <a:pt x="428" y="0"/>
                  </a:lnTo>
                  <a:lnTo>
                    <a:pt x="381" y="0"/>
                  </a:lnTo>
                  <a:lnTo>
                    <a:pt x="333" y="0"/>
                  </a:lnTo>
                  <a:lnTo>
                    <a:pt x="286" y="0"/>
                  </a:lnTo>
                  <a:lnTo>
                    <a:pt x="238" y="0"/>
                  </a:lnTo>
                  <a:lnTo>
                    <a:pt x="190" y="0"/>
                  </a:lnTo>
                  <a:lnTo>
                    <a:pt x="143" y="0"/>
                  </a:lnTo>
                  <a:lnTo>
                    <a:pt x="95" y="0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1436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314360" y="51451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14360" y="46753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314360" y="42051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14360" y="3736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14360" y="3267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14360" y="27957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14360" y="23274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14360" y="18572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14360" y="13874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1436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71600" y="5614920"/>
              <a:ext cx="748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99720" y="5500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93880" y="50306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93880" y="45608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93880" y="40910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93880" y="36226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93880" y="31528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93880" y="2682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93880" y="22129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93880" y="1744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93880" y="1273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0560" y="8031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362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740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063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4433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209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9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575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528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332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1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87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464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42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1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99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97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3533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7310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10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488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29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16200000">
              <a:off x="-102240" y="308232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71320" y="3530520"/>
              <a:ext cx="92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43400" y="2438280"/>
              <a:ext cx="194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Arial"/>
                </a:rPr>
                <a:t>Rubber Pla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0" y="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NURE RECOGNITION, LAND TRAD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MONOCULTURE PLAN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29400" y="2133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il pal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79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84480" y="293364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ve rubber agro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371600" y="919080"/>
            <a:ext cx="7429680" cy="463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71600" y="919080"/>
            <a:ext cx="7429680" cy="463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371600" y="5554800"/>
            <a:ext cx="7429680" cy="1440"/>
          </a:xfrm>
          <a:custGeom>
            <a:avLst/>
            <a:gdLst/>
            <a:ahLst/>
            <a:rect l="l" t="t" r="r" b="b"/>
            <a:pathLst>
              <a:path w="4680" h="0">
                <a:moveTo>
                  <a:pt x="0" y="0"/>
                </a:moveTo>
                <a:lnTo>
                  <a:pt x="0" y="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0"/>
                </a:lnTo>
                <a:lnTo>
                  <a:pt x="1750" y="0"/>
                </a:lnTo>
                <a:lnTo>
                  <a:pt x="1796" y="0"/>
                </a:lnTo>
                <a:lnTo>
                  <a:pt x="1844" y="0"/>
                </a:lnTo>
                <a:lnTo>
                  <a:pt x="1892" y="0"/>
                </a:lnTo>
                <a:lnTo>
                  <a:pt x="1938" y="0"/>
                </a:lnTo>
                <a:lnTo>
                  <a:pt x="1986" y="0"/>
                </a:lnTo>
                <a:lnTo>
                  <a:pt x="2033" y="0"/>
                </a:lnTo>
                <a:lnTo>
                  <a:pt x="2081" y="0"/>
                </a:lnTo>
                <a:lnTo>
                  <a:pt x="2127" y="0"/>
                </a:lnTo>
                <a:lnTo>
                  <a:pt x="2175" y="0"/>
                </a:lnTo>
                <a:lnTo>
                  <a:pt x="2222" y="0"/>
                </a:lnTo>
                <a:lnTo>
                  <a:pt x="2269" y="0"/>
                </a:lnTo>
                <a:lnTo>
                  <a:pt x="2317" y="0"/>
                </a:lnTo>
                <a:lnTo>
                  <a:pt x="2364" y="0"/>
                </a:lnTo>
                <a:lnTo>
                  <a:pt x="2412" y="0"/>
                </a:lnTo>
                <a:lnTo>
                  <a:pt x="2458" y="0"/>
                </a:lnTo>
                <a:lnTo>
                  <a:pt x="2506" y="0"/>
                </a:lnTo>
                <a:lnTo>
                  <a:pt x="2553" y="0"/>
                </a:lnTo>
                <a:lnTo>
                  <a:pt x="2600" y="0"/>
                </a:lnTo>
                <a:lnTo>
                  <a:pt x="2647" y="0"/>
                </a:lnTo>
                <a:lnTo>
                  <a:pt x="2695" y="0"/>
                </a:lnTo>
                <a:lnTo>
                  <a:pt x="2743" y="0"/>
                </a:lnTo>
                <a:lnTo>
                  <a:pt x="2789" y="0"/>
                </a:lnTo>
                <a:lnTo>
                  <a:pt x="2837" y="0"/>
                </a:lnTo>
                <a:lnTo>
                  <a:pt x="2884" y="0"/>
                </a:lnTo>
                <a:lnTo>
                  <a:pt x="2931" y="0"/>
                </a:lnTo>
                <a:lnTo>
                  <a:pt x="2978" y="0"/>
                </a:lnTo>
                <a:lnTo>
                  <a:pt x="3026" y="0"/>
                </a:lnTo>
                <a:lnTo>
                  <a:pt x="3073" y="0"/>
                </a:lnTo>
                <a:lnTo>
                  <a:pt x="3120" y="0"/>
                </a:lnTo>
                <a:lnTo>
                  <a:pt x="3168" y="0"/>
                </a:lnTo>
                <a:lnTo>
                  <a:pt x="3215" y="0"/>
                </a:lnTo>
                <a:lnTo>
                  <a:pt x="3262" y="0"/>
                </a:lnTo>
                <a:lnTo>
                  <a:pt x="3309" y="0"/>
                </a:lnTo>
                <a:lnTo>
                  <a:pt x="3357" y="0"/>
                </a:lnTo>
                <a:lnTo>
                  <a:pt x="3404" y="0"/>
                </a:lnTo>
                <a:lnTo>
                  <a:pt x="3451" y="0"/>
                </a:lnTo>
                <a:lnTo>
                  <a:pt x="3499" y="0"/>
                </a:lnTo>
                <a:lnTo>
                  <a:pt x="3546" y="0"/>
                </a:lnTo>
                <a:lnTo>
                  <a:pt x="3594" y="0"/>
                </a:lnTo>
                <a:lnTo>
                  <a:pt x="3640" y="0"/>
                </a:lnTo>
                <a:lnTo>
                  <a:pt x="3688" y="0"/>
                </a:lnTo>
                <a:lnTo>
                  <a:pt x="3735" y="0"/>
                </a:lnTo>
                <a:lnTo>
                  <a:pt x="3782" y="0"/>
                </a:lnTo>
                <a:lnTo>
                  <a:pt x="3829" y="0"/>
                </a:lnTo>
                <a:lnTo>
                  <a:pt x="3877" y="0"/>
                </a:lnTo>
                <a:lnTo>
                  <a:pt x="3925" y="0"/>
                </a:lnTo>
                <a:lnTo>
                  <a:pt x="3971" y="0"/>
                </a:lnTo>
                <a:lnTo>
                  <a:pt x="4019" y="0"/>
                </a:lnTo>
                <a:lnTo>
                  <a:pt x="4066" y="0"/>
                </a:lnTo>
                <a:lnTo>
                  <a:pt x="4113" y="0"/>
                </a:lnTo>
                <a:lnTo>
                  <a:pt x="4160" y="0"/>
                </a:lnTo>
                <a:lnTo>
                  <a:pt x="4208" y="0"/>
                </a:lnTo>
                <a:lnTo>
                  <a:pt x="4255" y="0"/>
                </a:lnTo>
                <a:lnTo>
                  <a:pt x="4302" y="0"/>
                </a:lnTo>
                <a:lnTo>
                  <a:pt x="4350" y="0"/>
                </a:lnTo>
                <a:lnTo>
                  <a:pt x="4397" y="0"/>
                </a:lnTo>
                <a:lnTo>
                  <a:pt x="4444" y="0"/>
                </a:lnTo>
                <a:lnTo>
                  <a:pt x="4491" y="0"/>
                </a:lnTo>
                <a:lnTo>
                  <a:pt x="4539" y="0"/>
                </a:lnTo>
                <a:lnTo>
                  <a:pt x="4586" y="0"/>
                </a:lnTo>
                <a:lnTo>
                  <a:pt x="4633" y="0"/>
                </a:lnTo>
                <a:lnTo>
                  <a:pt x="4680" y="0"/>
                </a:lnTo>
                <a:lnTo>
                  <a:pt x="4680" y="0"/>
                </a:lnTo>
                <a:lnTo>
                  <a:pt x="4633" y="0"/>
                </a:lnTo>
                <a:lnTo>
                  <a:pt x="4586" y="0"/>
                </a:lnTo>
                <a:lnTo>
                  <a:pt x="4539" y="0"/>
                </a:lnTo>
                <a:lnTo>
                  <a:pt x="4491" y="0"/>
                </a:lnTo>
                <a:lnTo>
                  <a:pt x="4444" y="0"/>
                </a:lnTo>
                <a:lnTo>
                  <a:pt x="4397" y="0"/>
                </a:lnTo>
                <a:lnTo>
                  <a:pt x="4350" y="0"/>
                </a:lnTo>
                <a:lnTo>
                  <a:pt x="4302" y="0"/>
                </a:lnTo>
                <a:lnTo>
                  <a:pt x="4255" y="0"/>
                </a:lnTo>
                <a:lnTo>
                  <a:pt x="4208" y="0"/>
                </a:lnTo>
                <a:lnTo>
                  <a:pt x="4160" y="0"/>
                </a:lnTo>
                <a:lnTo>
                  <a:pt x="4113" y="0"/>
                </a:lnTo>
                <a:lnTo>
                  <a:pt x="4066" y="0"/>
                </a:lnTo>
                <a:lnTo>
                  <a:pt x="4019" y="0"/>
                </a:lnTo>
                <a:lnTo>
                  <a:pt x="3971" y="0"/>
                </a:lnTo>
                <a:lnTo>
                  <a:pt x="3925" y="0"/>
                </a:lnTo>
                <a:lnTo>
                  <a:pt x="3877" y="0"/>
                </a:lnTo>
                <a:lnTo>
                  <a:pt x="3829" y="0"/>
                </a:lnTo>
                <a:lnTo>
                  <a:pt x="3782" y="0"/>
                </a:lnTo>
                <a:lnTo>
                  <a:pt x="3735" y="0"/>
                </a:lnTo>
                <a:lnTo>
                  <a:pt x="3688" y="0"/>
                </a:lnTo>
                <a:lnTo>
                  <a:pt x="3640" y="0"/>
                </a:lnTo>
                <a:lnTo>
                  <a:pt x="3594" y="0"/>
                </a:lnTo>
                <a:lnTo>
                  <a:pt x="3546" y="0"/>
                </a:lnTo>
                <a:lnTo>
                  <a:pt x="3499" y="0"/>
                </a:lnTo>
                <a:lnTo>
                  <a:pt x="3451" y="0"/>
                </a:lnTo>
                <a:lnTo>
                  <a:pt x="3404" y="0"/>
                </a:lnTo>
                <a:lnTo>
                  <a:pt x="3357" y="0"/>
                </a:lnTo>
                <a:lnTo>
                  <a:pt x="3309" y="0"/>
                </a:lnTo>
                <a:lnTo>
                  <a:pt x="3262" y="0"/>
                </a:lnTo>
                <a:lnTo>
                  <a:pt x="3215" y="0"/>
                </a:lnTo>
                <a:lnTo>
                  <a:pt x="3168" y="0"/>
                </a:lnTo>
                <a:lnTo>
                  <a:pt x="3120" y="0"/>
                </a:lnTo>
                <a:lnTo>
                  <a:pt x="3073" y="0"/>
                </a:lnTo>
                <a:lnTo>
                  <a:pt x="3026" y="0"/>
                </a:lnTo>
                <a:lnTo>
                  <a:pt x="2978" y="0"/>
                </a:lnTo>
                <a:lnTo>
                  <a:pt x="2931" y="0"/>
                </a:lnTo>
                <a:lnTo>
                  <a:pt x="2884" y="0"/>
                </a:lnTo>
                <a:lnTo>
                  <a:pt x="2837" y="0"/>
                </a:lnTo>
                <a:lnTo>
                  <a:pt x="2789" y="0"/>
                </a:lnTo>
                <a:lnTo>
                  <a:pt x="2743" y="0"/>
                </a:lnTo>
                <a:lnTo>
                  <a:pt x="2695" y="0"/>
                </a:lnTo>
                <a:lnTo>
                  <a:pt x="2647" y="0"/>
                </a:lnTo>
                <a:lnTo>
                  <a:pt x="2600" y="0"/>
                </a:lnTo>
                <a:lnTo>
                  <a:pt x="2553" y="0"/>
                </a:lnTo>
                <a:lnTo>
                  <a:pt x="2506" y="0"/>
                </a:lnTo>
                <a:lnTo>
                  <a:pt x="2458" y="0"/>
                </a:lnTo>
                <a:lnTo>
                  <a:pt x="2412" y="0"/>
                </a:lnTo>
                <a:lnTo>
                  <a:pt x="2364" y="0"/>
                </a:lnTo>
                <a:lnTo>
                  <a:pt x="2317" y="0"/>
                </a:lnTo>
                <a:lnTo>
                  <a:pt x="2269" y="0"/>
                </a:lnTo>
                <a:lnTo>
                  <a:pt x="2222" y="0"/>
                </a:lnTo>
                <a:lnTo>
                  <a:pt x="2175" y="0"/>
                </a:lnTo>
                <a:lnTo>
                  <a:pt x="2127" y="0"/>
                </a:lnTo>
                <a:lnTo>
                  <a:pt x="2081" y="0"/>
                </a:lnTo>
                <a:lnTo>
                  <a:pt x="2033" y="0"/>
                </a:lnTo>
                <a:lnTo>
                  <a:pt x="1986" y="0"/>
                </a:lnTo>
                <a:lnTo>
                  <a:pt x="1938" y="0"/>
                </a:lnTo>
                <a:lnTo>
                  <a:pt x="1892" y="0"/>
                </a:lnTo>
                <a:lnTo>
                  <a:pt x="1844" y="0"/>
                </a:lnTo>
                <a:lnTo>
                  <a:pt x="1796" y="0"/>
                </a:lnTo>
                <a:lnTo>
                  <a:pt x="1750" y="0"/>
                </a:lnTo>
                <a:lnTo>
                  <a:pt x="1702" y="0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371600" y="927000"/>
            <a:ext cx="7429680" cy="4627800"/>
          </a:xfrm>
          <a:custGeom>
            <a:avLst/>
            <a:gdLst/>
            <a:ahLst/>
            <a:rect l="l" t="t" r="r" b="b"/>
            <a:pathLst>
              <a:path w="4680" h="2915">
                <a:moveTo>
                  <a:pt x="0" y="2915"/>
                </a:moveTo>
                <a:lnTo>
                  <a:pt x="0" y="2915"/>
                </a:lnTo>
                <a:lnTo>
                  <a:pt x="48" y="2915"/>
                </a:lnTo>
                <a:lnTo>
                  <a:pt x="94" y="2915"/>
                </a:lnTo>
                <a:lnTo>
                  <a:pt x="142" y="2915"/>
                </a:lnTo>
                <a:lnTo>
                  <a:pt x="189" y="2915"/>
                </a:lnTo>
                <a:lnTo>
                  <a:pt x="237" y="2915"/>
                </a:lnTo>
                <a:lnTo>
                  <a:pt x="284" y="2794"/>
                </a:lnTo>
                <a:lnTo>
                  <a:pt x="331" y="2508"/>
                </a:lnTo>
                <a:lnTo>
                  <a:pt x="379" y="2285"/>
                </a:lnTo>
                <a:lnTo>
                  <a:pt x="425" y="2123"/>
                </a:lnTo>
                <a:lnTo>
                  <a:pt x="473" y="2002"/>
                </a:lnTo>
                <a:lnTo>
                  <a:pt x="520" y="1910"/>
                </a:lnTo>
                <a:lnTo>
                  <a:pt x="568" y="1835"/>
                </a:lnTo>
                <a:lnTo>
                  <a:pt x="614" y="239"/>
                </a:lnTo>
                <a:lnTo>
                  <a:pt x="662" y="81"/>
                </a:lnTo>
                <a:lnTo>
                  <a:pt x="710" y="45"/>
                </a:lnTo>
                <a:lnTo>
                  <a:pt x="756" y="27"/>
                </a:lnTo>
                <a:lnTo>
                  <a:pt x="804" y="18"/>
                </a:lnTo>
                <a:lnTo>
                  <a:pt x="851" y="14"/>
                </a:lnTo>
                <a:lnTo>
                  <a:pt x="899" y="9"/>
                </a:lnTo>
                <a:lnTo>
                  <a:pt x="945" y="7"/>
                </a:lnTo>
                <a:lnTo>
                  <a:pt x="993" y="6"/>
                </a:lnTo>
                <a:lnTo>
                  <a:pt x="1040" y="4"/>
                </a:lnTo>
                <a:lnTo>
                  <a:pt x="1087" y="3"/>
                </a:lnTo>
                <a:lnTo>
                  <a:pt x="1135" y="3"/>
                </a:lnTo>
                <a:lnTo>
                  <a:pt x="1182" y="2"/>
                </a:lnTo>
                <a:lnTo>
                  <a:pt x="1230" y="2"/>
                </a:lnTo>
                <a:lnTo>
                  <a:pt x="1276" y="1"/>
                </a:lnTo>
                <a:lnTo>
                  <a:pt x="1324" y="1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1"/>
                </a:lnTo>
                <a:lnTo>
                  <a:pt x="1750" y="4"/>
                </a:lnTo>
                <a:lnTo>
                  <a:pt x="1796" y="8"/>
                </a:lnTo>
                <a:lnTo>
                  <a:pt x="1844" y="17"/>
                </a:lnTo>
                <a:lnTo>
                  <a:pt x="1892" y="30"/>
                </a:lnTo>
                <a:lnTo>
                  <a:pt x="1938" y="46"/>
                </a:lnTo>
                <a:lnTo>
                  <a:pt x="1986" y="70"/>
                </a:lnTo>
                <a:lnTo>
                  <a:pt x="2033" y="100"/>
                </a:lnTo>
                <a:lnTo>
                  <a:pt x="2081" y="133"/>
                </a:lnTo>
                <a:lnTo>
                  <a:pt x="2127" y="177"/>
                </a:lnTo>
                <a:lnTo>
                  <a:pt x="2175" y="230"/>
                </a:lnTo>
                <a:lnTo>
                  <a:pt x="2222" y="286"/>
                </a:lnTo>
                <a:lnTo>
                  <a:pt x="2269" y="353"/>
                </a:lnTo>
                <a:lnTo>
                  <a:pt x="2317" y="428"/>
                </a:lnTo>
                <a:lnTo>
                  <a:pt x="2364" y="504"/>
                </a:lnTo>
                <a:lnTo>
                  <a:pt x="2412" y="591"/>
                </a:lnTo>
                <a:lnTo>
                  <a:pt x="2458" y="683"/>
                </a:lnTo>
                <a:lnTo>
                  <a:pt x="2506" y="773"/>
                </a:lnTo>
                <a:lnTo>
                  <a:pt x="2553" y="872"/>
                </a:lnTo>
                <a:lnTo>
                  <a:pt x="2600" y="984"/>
                </a:lnTo>
                <a:lnTo>
                  <a:pt x="2647" y="1096"/>
                </a:lnTo>
                <a:lnTo>
                  <a:pt x="2695" y="1201"/>
                </a:lnTo>
                <a:lnTo>
                  <a:pt x="2743" y="1324"/>
                </a:lnTo>
                <a:lnTo>
                  <a:pt x="2789" y="1433"/>
                </a:lnTo>
                <a:lnTo>
                  <a:pt x="2837" y="1512"/>
                </a:lnTo>
                <a:lnTo>
                  <a:pt x="2884" y="1611"/>
                </a:lnTo>
                <a:lnTo>
                  <a:pt x="2931" y="1709"/>
                </a:lnTo>
                <a:lnTo>
                  <a:pt x="2978" y="1764"/>
                </a:lnTo>
                <a:lnTo>
                  <a:pt x="3026" y="1830"/>
                </a:lnTo>
                <a:lnTo>
                  <a:pt x="3073" y="1896"/>
                </a:lnTo>
                <a:lnTo>
                  <a:pt x="3120" y="1936"/>
                </a:lnTo>
                <a:lnTo>
                  <a:pt x="3168" y="1990"/>
                </a:lnTo>
                <a:lnTo>
                  <a:pt x="3215" y="2044"/>
                </a:lnTo>
                <a:lnTo>
                  <a:pt x="3262" y="2076"/>
                </a:lnTo>
                <a:lnTo>
                  <a:pt x="3309" y="2117"/>
                </a:lnTo>
                <a:lnTo>
                  <a:pt x="3357" y="2159"/>
                </a:lnTo>
                <a:lnTo>
                  <a:pt x="3404" y="2183"/>
                </a:lnTo>
                <a:lnTo>
                  <a:pt x="3451" y="2215"/>
                </a:lnTo>
                <a:lnTo>
                  <a:pt x="3499" y="2249"/>
                </a:lnTo>
                <a:lnTo>
                  <a:pt x="3546" y="2268"/>
                </a:lnTo>
                <a:lnTo>
                  <a:pt x="3594" y="2294"/>
                </a:lnTo>
                <a:lnTo>
                  <a:pt x="3640" y="2321"/>
                </a:lnTo>
                <a:lnTo>
                  <a:pt x="3688" y="2336"/>
                </a:lnTo>
                <a:lnTo>
                  <a:pt x="3735" y="2356"/>
                </a:lnTo>
                <a:lnTo>
                  <a:pt x="3782" y="2376"/>
                </a:lnTo>
                <a:lnTo>
                  <a:pt x="3829" y="2388"/>
                </a:lnTo>
                <a:lnTo>
                  <a:pt x="3877" y="2403"/>
                </a:lnTo>
                <a:lnTo>
                  <a:pt x="3925" y="2421"/>
                </a:lnTo>
                <a:lnTo>
                  <a:pt x="3971" y="2432"/>
                </a:lnTo>
                <a:lnTo>
                  <a:pt x="4019" y="2445"/>
                </a:lnTo>
                <a:lnTo>
                  <a:pt x="4066" y="2460"/>
                </a:lnTo>
                <a:lnTo>
                  <a:pt x="4113" y="2469"/>
                </a:lnTo>
                <a:lnTo>
                  <a:pt x="4160" y="2481"/>
                </a:lnTo>
                <a:lnTo>
                  <a:pt x="4208" y="2494"/>
                </a:lnTo>
                <a:lnTo>
                  <a:pt x="4255" y="2502"/>
                </a:lnTo>
                <a:lnTo>
                  <a:pt x="4302" y="2511"/>
                </a:lnTo>
                <a:lnTo>
                  <a:pt x="4350" y="2520"/>
                </a:lnTo>
                <a:lnTo>
                  <a:pt x="4397" y="2525"/>
                </a:lnTo>
                <a:lnTo>
                  <a:pt x="4444" y="2531"/>
                </a:lnTo>
                <a:lnTo>
                  <a:pt x="4491" y="2538"/>
                </a:lnTo>
                <a:lnTo>
                  <a:pt x="4539" y="2542"/>
                </a:lnTo>
                <a:lnTo>
                  <a:pt x="4586" y="2546"/>
                </a:lnTo>
                <a:lnTo>
                  <a:pt x="4633" y="2551"/>
                </a:lnTo>
                <a:lnTo>
                  <a:pt x="4680" y="2553"/>
                </a:lnTo>
                <a:lnTo>
                  <a:pt x="4680" y="2915"/>
                </a:lnTo>
                <a:lnTo>
                  <a:pt x="4633" y="2915"/>
                </a:lnTo>
                <a:lnTo>
                  <a:pt x="4586" y="2915"/>
                </a:lnTo>
                <a:lnTo>
                  <a:pt x="4539" y="2915"/>
                </a:lnTo>
                <a:lnTo>
                  <a:pt x="4491" y="2915"/>
                </a:lnTo>
                <a:lnTo>
                  <a:pt x="4444" y="2915"/>
                </a:lnTo>
                <a:lnTo>
                  <a:pt x="4397" y="2915"/>
                </a:lnTo>
                <a:lnTo>
                  <a:pt x="4350" y="2915"/>
                </a:lnTo>
                <a:lnTo>
                  <a:pt x="4302" y="2915"/>
                </a:lnTo>
                <a:lnTo>
                  <a:pt x="4255" y="2915"/>
                </a:lnTo>
                <a:lnTo>
                  <a:pt x="4208" y="2915"/>
                </a:lnTo>
                <a:lnTo>
                  <a:pt x="4160" y="2915"/>
                </a:lnTo>
                <a:lnTo>
                  <a:pt x="4113" y="2915"/>
                </a:lnTo>
                <a:lnTo>
                  <a:pt x="4066" y="2915"/>
                </a:lnTo>
                <a:lnTo>
                  <a:pt x="4019" y="2915"/>
                </a:lnTo>
                <a:lnTo>
                  <a:pt x="3971" y="2915"/>
                </a:lnTo>
                <a:lnTo>
                  <a:pt x="3925" y="2915"/>
                </a:lnTo>
                <a:lnTo>
                  <a:pt x="3877" y="2915"/>
                </a:lnTo>
                <a:lnTo>
                  <a:pt x="3829" y="2915"/>
                </a:lnTo>
                <a:lnTo>
                  <a:pt x="3782" y="2915"/>
                </a:lnTo>
                <a:lnTo>
                  <a:pt x="3735" y="2915"/>
                </a:lnTo>
                <a:lnTo>
                  <a:pt x="3688" y="2915"/>
                </a:lnTo>
                <a:lnTo>
                  <a:pt x="3640" y="2915"/>
                </a:lnTo>
                <a:lnTo>
                  <a:pt x="3594" y="2915"/>
                </a:lnTo>
                <a:lnTo>
                  <a:pt x="3546" y="2915"/>
                </a:lnTo>
                <a:lnTo>
                  <a:pt x="3499" y="2915"/>
                </a:lnTo>
                <a:lnTo>
                  <a:pt x="3451" y="2915"/>
                </a:lnTo>
                <a:lnTo>
                  <a:pt x="3404" y="2915"/>
                </a:lnTo>
                <a:lnTo>
                  <a:pt x="3357" y="2915"/>
                </a:lnTo>
                <a:lnTo>
                  <a:pt x="3309" y="2915"/>
                </a:lnTo>
                <a:lnTo>
                  <a:pt x="3262" y="2915"/>
                </a:lnTo>
                <a:lnTo>
                  <a:pt x="3215" y="2915"/>
                </a:lnTo>
                <a:lnTo>
                  <a:pt x="3168" y="2915"/>
                </a:lnTo>
                <a:lnTo>
                  <a:pt x="3120" y="2915"/>
                </a:lnTo>
                <a:lnTo>
                  <a:pt x="3073" y="2915"/>
                </a:lnTo>
                <a:lnTo>
                  <a:pt x="3026" y="2915"/>
                </a:lnTo>
                <a:lnTo>
                  <a:pt x="2978" y="2915"/>
                </a:lnTo>
                <a:lnTo>
                  <a:pt x="2931" y="2915"/>
                </a:lnTo>
                <a:lnTo>
                  <a:pt x="2884" y="2915"/>
                </a:lnTo>
                <a:lnTo>
                  <a:pt x="2837" y="2915"/>
                </a:lnTo>
                <a:lnTo>
                  <a:pt x="2789" y="2915"/>
                </a:lnTo>
                <a:lnTo>
                  <a:pt x="2743" y="2915"/>
                </a:lnTo>
                <a:lnTo>
                  <a:pt x="2695" y="2915"/>
                </a:lnTo>
                <a:lnTo>
                  <a:pt x="2647" y="2915"/>
                </a:lnTo>
                <a:lnTo>
                  <a:pt x="2600" y="2915"/>
                </a:lnTo>
                <a:lnTo>
                  <a:pt x="2553" y="2915"/>
                </a:lnTo>
                <a:lnTo>
                  <a:pt x="2506" y="2915"/>
                </a:lnTo>
                <a:lnTo>
                  <a:pt x="2458" y="2915"/>
                </a:lnTo>
                <a:lnTo>
                  <a:pt x="2412" y="2915"/>
                </a:lnTo>
                <a:lnTo>
                  <a:pt x="2364" y="2915"/>
                </a:lnTo>
                <a:lnTo>
                  <a:pt x="2317" y="2915"/>
                </a:lnTo>
                <a:lnTo>
                  <a:pt x="2269" y="2915"/>
                </a:lnTo>
                <a:lnTo>
                  <a:pt x="2222" y="2915"/>
                </a:lnTo>
                <a:lnTo>
                  <a:pt x="2175" y="2915"/>
                </a:lnTo>
                <a:lnTo>
                  <a:pt x="2127" y="2915"/>
                </a:lnTo>
                <a:lnTo>
                  <a:pt x="2081" y="2915"/>
                </a:lnTo>
                <a:lnTo>
                  <a:pt x="2033" y="2915"/>
                </a:lnTo>
                <a:lnTo>
                  <a:pt x="1986" y="2915"/>
                </a:lnTo>
                <a:lnTo>
                  <a:pt x="1938" y="2915"/>
                </a:lnTo>
                <a:lnTo>
                  <a:pt x="1892" y="2915"/>
                </a:lnTo>
                <a:lnTo>
                  <a:pt x="1844" y="2915"/>
                </a:lnTo>
                <a:lnTo>
                  <a:pt x="1796" y="2915"/>
                </a:lnTo>
                <a:lnTo>
                  <a:pt x="1750" y="2915"/>
                </a:lnTo>
                <a:lnTo>
                  <a:pt x="1702" y="2915"/>
                </a:lnTo>
                <a:lnTo>
                  <a:pt x="1655" y="2915"/>
                </a:lnTo>
                <a:lnTo>
                  <a:pt x="1607" y="2915"/>
                </a:lnTo>
                <a:lnTo>
                  <a:pt x="1561" y="2915"/>
                </a:lnTo>
                <a:lnTo>
                  <a:pt x="1513" y="2915"/>
                </a:lnTo>
                <a:lnTo>
                  <a:pt x="1466" y="2915"/>
                </a:lnTo>
                <a:lnTo>
                  <a:pt x="1419" y="2915"/>
                </a:lnTo>
                <a:lnTo>
                  <a:pt x="1371" y="2915"/>
                </a:lnTo>
                <a:lnTo>
                  <a:pt x="1324" y="2915"/>
                </a:lnTo>
                <a:lnTo>
                  <a:pt x="1276" y="2915"/>
                </a:lnTo>
                <a:lnTo>
                  <a:pt x="1230" y="2915"/>
                </a:lnTo>
                <a:lnTo>
                  <a:pt x="1182" y="2915"/>
                </a:lnTo>
                <a:lnTo>
                  <a:pt x="1135" y="2915"/>
                </a:lnTo>
                <a:lnTo>
                  <a:pt x="1087" y="2915"/>
                </a:lnTo>
                <a:lnTo>
                  <a:pt x="1040" y="2915"/>
                </a:lnTo>
                <a:lnTo>
                  <a:pt x="993" y="2915"/>
                </a:lnTo>
                <a:lnTo>
                  <a:pt x="945" y="2915"/>
                </a:lnTo>
                <a:lnTo>
                  <a:pt x="899" y="2915"/>
                </a:lnTo>
                <a:lnTo>
                  <a:pt x="851" y="2915"/>
                </a:lnTo>
                <a:lnTo>
                  <a:pt x="804" y="2915"/>
                </a:lnTo>
                <a:lnTo>
                  <a:pt x="756" y="2915"/>
                </a:lnTo>
                <a:lnTo>
                  <a:pt x="710" y="2915"/>
                </a:lnTo>
                <a:lnTo>
                  <a:pt x="662" y="2915"/>
                </a:lnTo>
                <a:lnTo>
                  <a:pt x="614" y="2915"/>
                </a:lnTo>
                <a:lnTo>
                  <a:pt x="568" y="2915"/>
                </a:lnTo>
                <a:lnTo>
                  <a:pt x="520" y="2915"/>
                </a:lnTo>
                <a:lnTo>
                  <a:pt x="473" y="2915"/>
                </a:lnTo>
                <a:lnTo>
                  <a:pt x="425" y="2915"/>
                </a:lnTo>
                <a:lnTo>
                  <a:pt x="379" y="2915"/>
                </a:lnTo>
                <a:lnTo>
                  <a:pt x="331" y="2915"/>
                </a:lnTo>
                <a:lnTo>
                  <a:pt x="284" y="2915"/>
                </a:lnTo>
                <a:lnTo>
                  <a:pt x="237" y="2915"/>
                </a:lnTo>
                <a:lnTo>
                  <a:pt x="189" y="2915"/>
                </a:lnTo>
                <a:lnTo>
                  <a:pt x="142" y="2915"/>
                </a:lnTo>
                <a:lnTo>
                  <a:pt x="94" y="2915"/>
                </a:lnTo>
                <a:lnTo>
                  <a:pt x="48" y="2915"/>
                </a:lnTo>
                <a:lnTo>
                  <a:pt x="0" y="291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2"/>
                </a:lnTo>
                <a:lnTo>
                  <a:pt x="1750" y="5"/>
                </a:lnTo>
                <a:lnTo>
                  <a:pt x="1796" y="9"/>
                </a:lnTo>
                <a:lnTo>
                  <a:pt x="1844" y="18"/>
                </a:lnTo>
                <a:lnTo>
                  <a:pt x="1892" y="31"/>
                </a:lnTo>
                <a:lnTo>
                  <a:pt x="1938" y="47"/>
                </a:lnTo>
                <a:lnTo>
                  <a:pt x="1986" y="71"/>
                </a:lnTo>
                <a:lnTo>
                  <a:pt x="2033" y="101"/>
                </a:lnTo>
                <a:lnTo>
                  <a:pt x="2081" y="135"/>
                </a:lnTo>
                <a:lnTo>
                  <a:pt x="2127" y="179"/>
                </a:lnTo>
                <a:lnTo>
                  <a:pt x="2175" y="231"/>
                </a:lnTo>
                <a:lnTo>
                  <a:pt x="2222" y="287"/>
                </a:lnTo>
                <a:lnTo>
                  <a:pt x="2269" y="355"/>
                </a:lnTo>
                <a:lnTo>
                  <a:pt x="2317" y="429"/>
                </a:lnTo>
                <a:lnTo>
                  <a:pt x="2364" y="506"/>
                </a:lnTo>
                <a:lnTo>
                  <a:pt x="2412" y="593"/>
                </a:lnTo>
                <a:lnTo>
                  <a:pt x="2458" y="685"/>
                </a:lnTo>
                <a:lnTo>
                  <a:pt x="2506" y="775"/>
                </a:lnTo>
                <a:lnTo>
                  <a:pt x="2553" y="874"/>
                </a:lnTo>
                <a:lnTo>
                  <a:pt x="2600" y="987"/>
                </a:lnTo>
                <a:lnTo>
                  <a:pt x="2647" y="1099"/>
                </a:lnTo>
                <a:lnTo>
                  <a:pt x="2695" y="1204"/>
                </a:lnTo>
                <a:lnTo>
                  <a:pt x="2743" y="1327"/>
                </a:lnTo>
                <a:lnTo>
                  <a:pt x="2789" y="1436"/>
                </a:lnTo>
                <a:lnTo>
                  <a:pt x="2837" y="1515"/>
                </a:lnTo>
                <a:lnTo>
                  <a:pt x="2884" y="1614"/>
                </a:lnTo>
                <a:lnTo>
                  <a:pt x="2931" y="1712"/>
                </a:lnTo>
                <a:lnTo>
                  <a:pt x="2978" y="1768"/>
                </a:lnTo>
                <a:lnTo>
                  <a:pt x="3026" y="1834"/>
                </a:lnTo>
                <a:lnTo>
                  <a:pt x="3073" y="1899"/>
                </a:lnTo>
                <a:lnTo>
                  <a:pt x="3120" y="1940"/>
                </a:lnTo>
                <a:lnTo>
                  <a:pt x="3168" y="1993"/>
                </a:lnTo>
                <a:lnTo>
                  <a:pt x="3215" y="2047"/>
                </a:lnTo>
                <a:lnTo>
                  <a:pt x="3262" y="2080"/>
                </a:lnTo>
                <a:lnTo>
                  <a:pt x="3309" y="2120"/>
                </a:lnTo>
                <a:lnTo>
                  <a:pt x="3357" y="2163"/>
                </a:lnTo>
                <a:lnTo>
                  <a:pt x="3404" y="2187"/>
                </a:lnTo>
                <a:lnTo>
                  <a:pt x="3451" y="2218"/>
                </a:lnTo>
                <a:lnTo>
                  <a:pt x="3499" y="2253"/>
                </a:lnTo>
                <a:lnTo>
                  <a:pt x="3546" y="2272"/>
                </a:lnTo>
                <a:lnTo>
                  <a:pt x="3594" y="2298"/>
                </a:lnTo>
                <a:lnTo>
                  <a:pt x="3640" y="2325"/>
                </a:lnTo>
                <a:lnTo>
                  <a:pt x="3688" y="2341"/>
                </a:lnTo>
                <a:lnTo>
                  <a:pt x="3735" y="2360"/>
                </a:lnTo>
                <a:lnTo>
                  <a:pt x="3782" y="2380"/>
                </a:lnTo>
                <a:lnTo>
                  <a:pt x="3829" y="2392"/>
                </a:lnTo>
                <a:lnTo>
                  <a:pt x="3877" y="2408"/>
                </a:lnTo>
                <a:lnTo>
                  <a:pt x="3925" y="2426"/>
                </a:lnTo>
                <a:lnTo>
                  <a:pt x="3971" y="2436"/>
                </a:lnTo>
                <a:lnTo>
                  <a:pt x="4019" y="2450"/>
                </a:lnTo>
                <a:lnTo>
                  <a:pt x="4066" y="2465"/>
                </a:lnTo>
                <a:lnTo>
                  <a:pt x="4113" y="2473"/>
                </a:lnTo>
                <a:lnTo>
                  <a:pt x="4160" y="2485"/>
                </a:lnTo>
                <a:lnTo>
                  <a:pt x="4208" y="2498"/>
                </a:lnTo>
                <a:lnTo>
                  <a:pt x="4255" y="2506"/>
                </a:lnTo>
                <a:lnTo>
                  <a:pt x="4302" y="2515"/>
                </a:lnTo>
                <a:lnTo>
                  <a:pt x="4350" y="2524"/>
                </a:lnTo>
                <a:lnTo>
                  <a:pt x="4397" y="2529"/>
                </a:lnTo>
                <a:lnTo>
                  <a:pt x="4444" y="2536"/>
                </a:lnTo>
                <a:lnTo>
                  <a:pt x="4491" y="2543"/>
                </a:lnTo>
                <a:lnTo>
                  <a:pt x="4539" y="2546"/>
                </a:lnTo>
                <a:lnTo>
                  <a:pt x="4586" y="2551"/>
                </a:lnTo>
                <a:lnTo>
                  <a:pt x="4633" y="2555"/>
                </a:lnTo>
                <a:lnTo>
                  <a:pt x="4680" y="2558"/>
                </a:lnTo>
                <a:lnTo>
                  <a:pt x="4680" y="2558"/>
                </a:lnTo>
                <a:lnTo>
                  <a:pt x="4633" y="2556"/>
                </a:lnTo>
                <a:lnTo>
                  <a:pt x="4586" y="2551"/>
                </a:lnTo>
                <a:lnTo>
                  <a:pt x="4539" y="2547"/>
                </a:lnTo>
                <a:lnTo>
                  <a:pt x="4491" y="2543"/>
                </a:lnTo>
                <a:lnTo>
                  <a:pt x="4444" y="2536"/>
                </a:lnTo>
                <a:lnTo>
                  <a:pt x="4397" y="2530"/>
                </a:lnTo>
                <a:lnTo>
                  <a:pt x="4350" y="2525"/>
                </a:lnTo>
                <a:lnTo>
                  <a:pt x="4302" y="2516"/>
                </a:lnTo>
                <a:lnTo>
                  <a:pt x="4255" y="2507"/>
                </a:lnTo>
                <a:lnTo>
                  <a:pt x="4208" y="2499"/>
                </a:lnTo>
                <a:lnTo>
                  <a:pt x="4160" y="2486"/>
                </a:lnTo>
                <a:lnTo>
                  <a:pt x="4113" y="2474"/>
                </a:lnTo>
                <a:lnTo>
                  <a:pt x="4066" y="2465"/>
                </a:lnTo>
                <a:lnTo>
                  <a:pt x="4019" y="2450"/>
                </a:lnTo>
                <a:lnTo>
                  <a:pt x="3971" y="2437"/>
                </a:lnTo>
                <a:lnTo>
                  <a:pt x="3925" y="2426"/>
                </a:lnTo>
                <a:lnTo>
                  <a:pt x="3877" y="2408"/>
                </a:lnTo>
                <a:lnTo>
                  <a:pt x="3829" y="2393"/>
                </a:lnTo>
                <a:lnTo>
                  <a:pt x="3782" y="2381"/>
                </a:lnTo>
                <a:lnTo>
                  <a:pt x="3735" y="2361"/>
                </a:lnTo>
                <a:lnTo>
                  <a:pt x="3688" y="2341"/>
                </a:lnTo>
                <a:lnTo>
                  <a:pt x="3640" y="2326"/>
                </a:lnTo>
                <a:lnTo>
                  <a:pt x="3594" y="2299"/>
                </a:lnTo>
                <a:lnTo>
                  <a:pt x="3546" y="2273"/>
                </a:lnTo>
                <a:lnTo>
                  <a:pt x="3499" y="2254"/>
                </a:lnTo>
                <a:lnTo>
                  <a:pt x="3451" y="2220"/>
                </a:lnTo>
                <a:lnTo>
                  <a:pt x="3404" y="2188"/>
                </a:lnTo>
                <a:lnTo>
                  <a:pt x="3357" y="2164"/>
                </a:lnTo>
                <a:lnTo>
                  <a:pt x="3309" y="2122"/>
                </a:lnTo>
                <a:lnTo>
                  <a:pt x="3262" y="2081"/>
                </a:lnTo>
                <a:lnTo>
                  <a:pt x="3215" y="2049"/>
                </a:lnTo>
                <a:lnTo>
                  <a:pt x="3168" y="1995"/>
                </a:lnTo>
                <a:lnTo>
                  <a:pt x="3120" y="1941"/>
                </a:lnTo>
                <a:lnTo>
                  <a:pt x="3073" y="1901"/>
                </a:lnTo>
                <a:lnTo>
                  <a:pt x="3026" y="1835"/>
                </a:lnTo>
                <a:lnTo>
                  <a:pt x="2978" y="1769"/>
                </a:lnTo>
                <a:lnTo>
                  <a:pt x="2931" y="1714"/>
                </a:lnTo>
                <a:lnTo>
                  <a:pt x="2884" y="1616"/>
                </a:lnTo>
                <a:lnTo>
                  <a:pt x="2837" y="1517"/>
                </a:lnTo>
                <a:lnTo>
                  <a:pt x="2789" y="1438"/>
                </a:lnTo>
                <a:lnTo>
                  <a:pt x="2743" y="1329"/>
                </a:lnTo>
                <a:lnTo>
                  <a:pt x="2695" y="1206"/>
                </a:lnTo>
                <a:lnTo>
                  <a:pt x="2647" y="1101"/>
                </a:lnTo>
                <a:lnTo>
                  <a:pt x="2600" y="989"/>
                </a:lnTo>
                <a:lnTo>
                  <a:pt x="2553" y="877"/>
                </a:lnTo>
                <a:lnTo>
                  <a:pt x="2506" y="778"/>
                </a:lnTo>
                <a:lnTo>
                  <a:pt x="2458" y="688"/>
                </a:lnTo>
                <a:lnTo>
                  <a:pt x="2412" y="596"/>
                </a:lnTo>
                <a:lnTo>
                  <a:pt x="2364" y="509"/>
                </a:lnTo>
                <a:lnTo>
                  <a:pt x="2317" y="433"/>
                </a:lnTo>
                <a:lnTo>
                  <a:pt x="2269" y="358"/>
                </a:lnTo>
                <a:lnTo>
                  <a:pt x="2222" y="291"/>
                </a:lnTo>
                <a:lnTo>
                  <a:pt x="2175" y="235"/>
                </a:lnTo>
                <a:lnTo>
                  <a:pt x="2127" y="182"/>
                </a:lnTo>
                <a:lnTo>
                  <a:pt x="2081" y="138"/>
                </a:lnTo>
                <a:lnTo>
                  <a:pt x="2033" y="105"/>
                </a:lnTo>
                <a:lnTo>
                  <a:pt x="1986" y="75"/>
                </a:lnTo>
                <a:lnTo>
                  <a:pt x="1938" y="51"/>
                </a:lnTo>
                <a:lnTo>
                  <a:pt x="1892" y="35"/>
                </a:lnTo>
                <a:lnTo>
                  <a:pt x="1844" y="22"/>
                </a:lnTo>
                <a:lnTo>
                  <a:pt x="1796" y="13"/>
                </a:lnTo>
                <a:lnTo>
                  <a:pt x="1750" y="9"/>
                </a:lnTo>
                <a:lnTo>
                  <a:pt x="1702" y="6"/>
                </a:lnTo>
                <a:lnTo>
                  <a:pt x="1655" y="5"/>
                </a:lnTo>
                <a:lnTo>
                  <a:pt x="1607" y="5"/>
                </a:lnTo>
                <a:lnTo>
                  <a:pt x="1561" y="5"/>
                </a:lnTo>
                <a:lnTo>
                  <a:pt x="1513" y="5"/>
                </a:lnTo>
                <a:lnTo>
                  <a:pt x="1466" y="5"/>
                </a:lnTo>
                <a:lnTo>
                  <a:pt x="1419" y="5"/>
                </a:lnTo>
                <a:lnTo>
                  <a:pt x="1371" y="5"/>
                </a:lnTo>
                <a:lnTo>
                  <a:pt x="1324" y="6"/>
                </a:lnTo>
                <a:lnTo>
                  <a:pt x="1276" y="6"/>
                </a:lnTo>
                <a:lnTo>
                  <a:pt x="1230" y="7"/>
                </a:lnTo>
                <a:lnTo>
                  <a:pt x="1182" y="7"/>
                </a:lnTo>
                <a:lnTo>
                  <a:pt x="1135" y="8"/>
                </a:lnTo>
                <a:lnTo>
                  <a:pt x="1087" y="8"/>
                </a:lnTo>
                <a:lnTo>
                  <a:pt x="1040" y="9"/>
                </a:lnTo>
                <a:lnTo>
                  <a:pt x="993" y="11"/>
                </a:lnTo>
                <a:lnTo>
                  <a:pt x="945" y="12"/>
                </a:lnTo>
                <a:lnTo>
                  <a:pt x="899" y="14"/>
                </a:lnTo>
                <a:lnTo>
                  <a:pt x="851" y="19"/>
                </a:lnTo>
                <a:lnTo>
                  <a:pt x="804" y="23"/>
                </a:lnTo>
                <a:lnTo>
                  <a:pt x="756" y="32"/>
                </a:lnTo>
                <a:lnTo>
                  <a:pt x="710" y="50"/>
                </a:lnTo>
                <a:lnTo>
                  <a:pt x="662" y="86"/>
                </a:lnTo>
                <a:lnTo>
                  <a:pt x="614" y="244"/>
                </a:lnTo>
                <a:lnTo>
                  <a:pt x="568" y="1840"/>
                </a:lnTo>
                <a:lnTo>
                  <a:pt x="520" y="1915"/>
                </a:lnTo>
                <a:lnTo>
                  <a:pt x="473" y="2007"/>
                </a:lnTo>
                <a:lnTo>
                  <a:pt x="425" y="2128"/>
                </a:lnTo>
                <a:lnTo>
                  <a:pt x="379" y="2290"/>
                </a:lnTo>
                <a:lnTo>
                  <a:pt x="331" y="2513"/>
                </a:lnTo>
                <a:lnTo>
                  <a:pt x="284" y="2799"/>
                </a:lnTo>
                <a:lnTo>
                  <a:pt x="237" y="2920"/>
                </a:lnTo>
                <a:lnTo>
                  <a:pt x="189" y="2920"/>
                </a:lnTo>
                <a:lnTo>
                  <a:pt x="142" y="2920"/>
                </a:lnTo>
                <a:lnTo>
                  <a:pt x="94" y="2920"/>
                </a:lnTo>
                <a:lnTo>
                  <a:pt x="48" y="2920"/>
                </a:lnTo>
                <a:lnTo>
                  <a:pt x="0" y="292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1"/>
                </a:lnTo>
                <a:lnTo>
                  <a:pt x="1750" y="3"/>
                </a:lnTo>
                <a:lnTo>
                  <a:pt x="1796" y="5"/>
                </a:lnTo>
                <a:lnTo>
                  <a:pt x="1844" y="10"/>
                </a:lnTo>
                <a:lnTo>
                  <a:pt x="1892" y="19"/>
                </a:lnTo>
                <a:lnTo>
                  <a:pt x="1938" y="29"/>
                </a:lnTo>
                <a:lnTo>
                  <a:pt x="1986" y="43"/>
                </a:lnTo>
                <a:lnTo>
                  <a:pt x="2033" y="61"/>
                </a:lnTo>
                <a:lnTo>
                  <a:pt x="2081" y="81"/>
                </a:lnTo>
                <a:lnTo>
                  <a:pt x="2127" y="109"/>
                </a:lnTo>
                <a:lnTo>
                  <a:pt x="2175" y="140"/>
                </a:lnTo>
                <a:lnTo>
                  <a:pt x="2222" y="173"/>
                </a:lnTo>
                <a:lnTo>
                  <a:pt x="2269" y="215"/>
                </a:lnTo>
                <a:lnTo>
                  <a:pt x="2317" y="260"/>
                </a:lnTo>
                <a:lnTo>
                  <a:pt x="2364" y="306"/>
                </a:lnTo>
                <a:lnTo>
                  <a:pt x="2412" y="360"/>
                </a:lnTo>
                <a:lnTo>
                  <a:pt x="2458" y="415"/>
                </a:lnTo>
                <a:lnTo>
                  <a:pt x="2506" y="470"/>
                </a:lnTo>
                <a:lnTo>
                  <a:pt x="2553" y="528"/>
                </a:lnTo>
                <a:lnTo>
                  <a:pt x="2600" y="597"/>
                </a:lnTo>
                <a:lnTo>
                  <a:pt x="2647" y="665"/>
                </a:lnTo>
                <a:lnTo>
                  <a:pt x="2695" y="729"/>
                </a:lnTo>
                <a:lnTo>
                  <a:pt x="2743" y="803"/>
                </a:lnTo>
                <a:lnTo>
                  <a:pt x="2789" y="869"/>
                </a:lnTo>
                <a:lnTo>
                  <a:pt x="2837" y="917"/>
                </a:lnTo>
                <a:lnTo>
                  <a:pt x="2884" y="977"/>
                </a:lnTo>
                <a:lnTo>
                  <a:pt x="2931" y="1036"/>
                </a:lnTo>
                <a:lnTo>
                  <a:pt x="2978" y="1070"/>
                </a:lnTo>
                <a:lnTo>
                  <a:pt x="3026" y="1109"/>
                </a:lnTo>
                <a:lnTo>
                  <a:pt x="3073" y="1150"/>
                </a:lnTo>
                <a:lnTo>
                  <a:pt x="3120" y="1174"/>
                </a:lnTo>
                <a:lnTo>
                  <a:pt x="3168" y="1206"/>
                </a:lnTo>
                <a:lnTo>
                  <a:pt x="3215" y="1239"/>
                </a:lnTo>
                <a:lnTo>
                  <a:pt x="3262" y="1258"/>
                </a:lnTo>
                <a:lnTo>
                  <a:pt x="3309" y="1283"/>
                </a:lnTo>
                <a:lnTo>
                  <a:pt x="3357" y="1309"/>
                </a:lnTo>
                <a:lnTo>
                  <a:pt x="3404" y="1324"/>
                </a:lnTo>
                <a:lnTo>
                  <a:pt x="3451" y="1343"/>
                </a:lnTo>
                <a:lnTo>
                  <a:pt x="3499" y="1363"/>
                </a:lnTo>
                <a:lnTo>
                  <a:pt x="3546" y="1374"/>
                </a:lnTo>
                <a:lnTo>
                  <a:pt x="3594" y="1391"/>
                </a:lnTo>
                <a:lnTo>
                  <a:pt x="3640" y="1407"/>
                </a:lnTo>
                <a:lnTo>
                  <a:pt x="3688" y="1416"/>
                </a:lnTo>
                <a:lnTo>
                  <a:pt x="3735" y="1428"/>
                </a:lnTo>
                <a:lnTo>
                  <a:pt x="3782" y="1440"/>
                </a:lnTo>
                <a:lnTo>
                  <a:pt x="3829" y="1447"/>
                </a:lnTo>
                <a:lnTo>
                  <a:pt x="3877" y="1457"/>
                </a:lnTo>
                <a:lnTo>
                  <a:pt x="3925" y="1467"/>
                </a:lnTo>
                <a:lnTo>
                  <a:pt x="3971" y="1474"/>
                </a:lnTo>
                <a:lnTo>
                  <a:pt x="4019" y="1483"/>
                </a:lnTo>
                <a:lnTo>
                  <a:pt x="4066" y="1492"/>
                </a:lnTo>
                <a:lnTo>
                  <a:pt x="4113" y="1497"/>
                </a:lnTo>
                <a:lnTo>
                  <a:pt x="4160" y="1504"/>
                </a:lnTo>
                <a:lnTo>
                  <a:pt x="4208" y="1512"/>
                </a:lnTo>
                <a:lnTo>
                  <a:pt x="4255" y="1516"/>
                </a:lnTo>
                <a:lnTo>
                  <a:pt x="4302" y="1520"/>
                </a:lnTo>
                <a:lnTo>
                  <a:pt x="4350" y="1524"/>
                </a:lnTo>
                <a:lnTo>
                  <a:pt x="4397" y="1526"/>
                </a:lnTo>
                <a:lnTo>
                  <a:pt x="4444" y="1529"/>
                </a:lnTo>
                <a:lnTo>
                  <a:pt x="4491" y="1532"/>
                </a:lnTo>
                <a:lnTo>
                  <a:pt x="4539" y="1534"/>
                </a:lnTo>
                <a:lnTo>
                  <a:pt x="4586" y="1536"/>
                </a:lnTo>
                <a:lnTo>
                  <a:pt x="4633" y="1538"/>
                </a:lnTo>
                <a:lnTo>
                  <a:pt x="4680" y="1539"/>
                </a:lnTo>
                <a:lnTo>
                  <a:pt x="4680" y="2558"/>
                </a:lnTo>
                <a:lnTo>
                  <a:pt x="4633" y="2555"/>
                </a:lnTo>
                <a:lnTo>
                  <a:pt x="4586" y="2551"/>
                </a:lnTo>
                <a:lnTo>
                  <a:pt x="4539" y="2546"/>
                </a:lnTo>
                <a:lnTo>
                  <a:pt x="4491" y="2543"/>
                </a:lnTo>
                <a:lnTo>
                  <a:pt x="4444" y="2536"/>
                </a:lnTo>
                <a:lnTo>
                  <a:pt x="4397" y="2529"/>
                </a:lnTo>
                <a:lnTo>
                  <a:pt x="4350" y="2524"/>
                </a:lnTo>
                <a:lnTo>
                  <a:pt x="4302" y="2515"/>
                </a:lnTo>
                <a:lnTo>
                  <a:pt x="4255" y="2506"/>
                </a:lnTo>
                <a:lnTo>
                  <a:pt x="4208" y="2498"/>
                </a:lnTo>
                <a:lnTo>
                  <a:pt x="4160" y="2485"/>
                </a:lnTo>
                <a:lnTo>
                  <a:pt x="4113" y="2473"/>
                </a:lnTo>
                <a:lnTo>
                  <a:pt x="4066" y="2465"/>
                </a:lnTo>
                <a:lnTo>
                  <a:pt x="4019" y="2450"/>
                </a:lnTo>
                <a:lnTo>
                  <a:pt x="3971" y="2436"/>
                </a:lnTo>
                <a:lnTo>
                  <a:pt x="3925" y="2426"/>
                </a:lnTo>
                <a:lnTo>
                  <a:pt x="3877" y="2408"/>
                </a:lnTo>
                <a:lnTo>
                  <a:pt x="3829" y="2392"/>
                </a:lnTo>
                <a:lnTo>
                  <a:pt x="3782" y="2380"/>
                </a:lnTo>
                <a:lnTo>
                  <a:pt x="3735" y="2360"/>
                </a:lnTo>
                <a:lnTo>
                  <a:pt x="3688" y="2341"/>
                </a:lnTo>
                <a:lnTo>
                  <a:pt x="3640" y="2325"/>
                </a:lnTo>
                <a:lnTo>
                  <a:pt x="3594" y="2298"/>
                </a:lnTo>
                <a:lnTo>
                  <a:pt x="3546" y="2272"/>
                </a:lnTo>
                <a:lnTo>
                  <a:pt x="3499" y="2253"/>
                </a:lnTo>
                <a:lnTo>
                  <a:pt x="3451" y="2218"/>
                </a:lnTo>
                <a:lnTo>
                  <a:pt x="3404" y="2187"/>
                </a:lnTo>
                <a:lnTo>
                  <a:pt x="3357" y="2163"/>
                </a:lnTo>
                <a:lnTo>
                  <a:pt x="3309" y="2120"/>
                </a:lnTo>
                <a:lnTo>
                  <a:pt x="3262" y="2080"/>
                </a:lnTo>
                <a:lnTo>
                  <a:pt x="3215" y="2047"/>
                </a:lnTo>
                <a:lnTo>
                  <a:pt x="3168" y="1993"/>
                </a:lnTo>
                <a:lnTo>
                  <a:pt x="3120" y="1940"/>
                </a:lnTo>
                <a:lnTo>
                  <a:pt x="3073" y="1899"/>
                </a:lnTo>
                <a:lnTo>
                  <a:pt x="3026" y="1834"/>
                </a:lnTo>
                <a:lnTo>
                  <a:pt x="2978" y="1768"/>
                </a:lnTo>
                <a:lnTo>
                  <a:pt x="2931" y="1712"/>
                </a:lnTo>
                <a:lnTo>
                  <a:pt x="2884" y="1614"/>
                </a:lnTo>
                <a:lnTo>
                  <a:pt x="2837" y="1515"/>
                </a:lnTo>
                <a:lnTo>
                  <a:pt x="2789" y="1436"/>
                </a:lnTo>
                <a:lnTo>
                  <a:pt x="2743" y="1327"/>
                </a:lnTo>
                <a:lnTo>
                  <a:pt x="2695" y="1204"/>
                </a:lnTo>
                <a:lnTo>
                  <a:pt x="2647" y="1099"/>
                </a:lnTo>
                <a:lnTo>
                  <a:pt x="2600" y="987"/>
                </a:lnTo>
                <a:lnTo>
                  <a:pt x="2553" y="874"/>
                </a:lnTo>
                <a:lnTo>
                  <a:pt x="2506" y="775"/>
                </a:lnTo>
                <a:lnTo>
                  <a:pt x="2458" y="685"/>
                </a:lnTo>
                <a:lnTo>
                  <a:pt x="2412" y="593"/>
                </a:lnTo>
                <a:lnTo>
                  <a:pt x="2364" y="506"/>
                </a:lnTo>
                <a:lnTo>
                  <a:pt x="2317" y="429"/>
                </a:lnTo>
                <a:lnTo>
                  <a:pt x="2269" y="355"/>
                </a:lnTo>
                <a:lnTo>
                  <a:pt x="2222" y="287"/>
                </a:lnTo>
                <a:lnTo>
                  <a:pt x="2175" y="231"/>
                </a:lnTo>
                <a:lnTo>
                  <a:pt x="2127" y="179"/>
                </a:lnTo>
                <a:lnTo>
                  <a:pt x="2081" y="135"/>
                </a:lnTo>
                <a:lnTo>
                  <a:pt x="2033" y="101"/>
                </a:lnTo>
                <a:lnTo>
                  <a:pt x="1986" y="71"/>
                </a:lnTo>
                <a:lnTo>
                  <a:pt x="1938" y="47"/>
                </a:lnTo>
                <a:lnTo>
                  <a:pt x="1892" y="31"/>
                </a:lnTo>
                <a:lnTo>
                  <a:pt x="1844" y="18"/>
                </a:lnTo>
                <a:lnTo>
                  <a:pt x="1796" y="9"/>
                </a:lnTo>
                <a:lnTo>
                  <a:pt x="1750" y="5"/>
                </a:lnTo>
                <a:lnTo>
                  <a:pt x="1702" y="2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29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1"/>
                </a:lnTo>
                <a:lnTo>
                  <a:pt x="1750" y="3"/>
                </a:lnTo>
                <a:lnTo>
                  <a:pt x="1796" y="5"/>
                </a:lnTo>
                <a:lnTo>
                  <a:pt x="1844" y="10"/>
                </a:lnTo>
                <a:lnTo>
                  <a:pt x="1892" y="19"/>
                </a:lnTo>
                <a:lnTo>
                  <a:pt x="1938" y="29"/>
                </a:lnTo>
                <a:lnTo>
                  <a:pt x="1986" y="43"/>
                </a:lnTo>
                <a:lnTo>
                  <a:pt x="2033" y="61"/>
                </a:lnTo>
                <a:lnTo>
                  <a:pt x="2081" y="81"/>
                </a:lnTo>
                <a:lnTo>
                  <a:pt x="2127" y="109"/>
                </a:lnTo>
                <a:lnTo>
                  <a:pt x="2175" y="140"/>
                </a:lnTo>
                <a:lnTo>
                  <a:pt x="2222" y="173"/>
                </a:lnTo>
                <a:lnTo>
                  <a:pt x="2269" y="215"/>
                </a:lnTo>
                <a:lnTo>
                  <a:pt x="2317" y="260"/>
                </a:lnTo>
                <a:lnTo>
                  <a:pt x="2364" y="306"/>
                </a:lnTo>
                <a:lnTo>
                  <a:pt x="2412" y="360"/>
                </a:lnTo>
                <a:lnTo>
                  <a:pt x="2458" y="415"/>
                </a:lnTo>
                <a:lnTo>
                  <a:pt x="2506" y="470"/>
                </a:lnTo>
                <a:lnTo>
                  <a:pt x="2553" y="528"/>
                </a:lnTo>
                <a:lnTo>
                  <a:pt x="2600" y="597"/>
                </a:lnTo>
                <a:lnTo>
                  <a:pt x="2647" y="665"/>
                </a:lnTo>
                <a:lnTo>
                  <a:pt x="2695" y="729"/>
                </a:lnTo>
                <a:lnTo>
                  <a:pt x="2743" y="803"/>
                </a:lnTo>
                <a:lnTo>
                  <a:pt x="2789" y="869"/>
                </a:lnTo>
                <a:lnTo>
                  <a:pt x="2837" y="917"/>
                </a:lnTo>
                <a:lnTo>
                  <a:pt x="2884" y="977"/>
                </a:lnTo>
                <a:lnTo>
                  <a:pt x="2931" y="1036"/>
                </a:lnTo>
                <a:lnTo>
                  <a:pt x="2978" y="1070"/>
                </a:lnTo>
                <a:lnTo>
                  <a:pt x="3026" y="1109"/>
                </a:lnTo>
                <a:lnTo>
                  <a:pt x="3073" y="1150"/>
                </a:lnTo>
                <a:lnTo>
                  <a:pt x="3120" y="1174"/>
                </a:lnTo>
                <a:lnTo>
                  <a:pt x="3168" y="1206"/>
                </a:lnTo>
                <a:lnTo>
                  <a:pt x="3215" y="1239"/>
                </a:lnTo>
                <a:lnTo>
                  <a:pt x="3262" y="1258"/>
                </a:lnTo>
                <a:lnTo>
                  <a:pt x="3309" y="1283"/>
                </a:lnTo>
                <a:lnTo>
                  <a:pt x="3357" y="1309"/>
                </a:lnTo>
                <a:lnTo>
                  <a:pt x="3404" y="1324"/>
                </a:lnTo>
                <a:lnTo>
                  <a:pt x="3451" y="1343"/>
                </a:lnTo>
                <a:lnTo>
                  <a:pt x="3499" y="1363"/>
                </a:lnTo>
                <a:lnTo>
                  <a:pt x="3546" y="1374"/>
                </a:lnTo>
                <a:lnTo>
                  <a:pt x="3594" y="1391"/>
                </a:lnTo>
                <a:lnTo>
                  <a:pt x="3640" y="1407"/>
                </a:lnTo>
                <a:lnTo>
                  <a:pt x="3688" y="1416"/>
                </a:lnTo>
                <a:lnTo>
                  <a:pt x="3735" y="1428"/>
                </a:lnTo>
                <a:lnTo>
                  <a:pt x="3782" y="1440"/>
                </a:lnTo>
                <a:lnTo>
                  <a:pt x="3829" y="1447"/>
                </a:lnTo>
                <a:lnTo>
                  <a:pt x="3877" y="1457"/>
                </a:lnTo>
                <a:lnTo>
                  <a:pt x="3925" y="1467"/>
                </a:lnTo>
                <a:lnTo>
                  <a:pt x="3971" y="1474"/>
                </a:lnTo>
                <a:lnTo>
                  <a:pt x="4019" y="1483"/>
                </a:lnTo>
                <a:lnTo>
                  <a:pt x="4066" y="1492"/>
                </a:lnTo>
                <a:lnTo>
                  <a:pt x="4113" y="1497"/>
                </a:lnTo>
                <a:lnTo>
                  <a:pt x="4160" y="1504"/>
                </a:lnTo>
                <a:lnTo>
                  <a:pt x="4208" y="1512"/>
                </a:lnTo>
                <a:lnTo>
                  <a:pt x="4255" y="1516"/>
                </a:lnTo>
                <a:lnTo>
                  <a:pt x="4302" y="1520"/>
                </a:lnTo>
                <a:lnTo>
                  <a:pt x="4350" y="1524"/>
                </a:lnTo>
                <a:lnTo>
                  <a:pt x="4397" y="1526"/>
                </a:lnTo>
                <a:lnTo>
                  <a:pt x="4444" y="1529"/>
                </a:lnTo>
                <a:lnTo>
                  <a:pt x="4491" y="1532"/>
                </a:lnTo>
                <a:lnTo>
                  <a:pt x="4539" y="1534"/>
                </a:lnTo>
                <a:lnTo>
                  <a:pt x="4586" y="1536"/>
                </a:lnTo>
                <a:lnTo>
                  <a:pt x="4633" y="1538"/>
                </a:lnTo>
                <a:lnTo>
                  <a:pt x="4680" y="1539"/>
                </a:lnTo>
                <a:lnTo>
                  <a:pt x="4680" y="2558"/>
                </a:lnTo>
                <a:lnTo>
                  <a:pt x="4633" y="2555"/>
                </a:lnTo>
                <a:lnTo>
                  <a:pt x="4586" y="2551"/>
                </a:lnTo>
                <a:lnTo>
                  <a:pt x="4539" y="2546"/>
                </a:lnTo>
                <a:lnTo>
                  <a:pt x="4491" y="2543"/>
                </a:lnTo>
                <a:lnTo>
                  <a:pt x="4444" y="2536"/>
                </a:lnTo>
                <a:lnTo>
                  <a:pt x="4397" y="2529"/>
                </a:lnTo>
                <a:lnTo>
                  <a:pt x="4350" y="2524"/>
                </a:lnTo>
                <a:lnTo>
                  <a:pt x="4302" y="2515"/>
                </a:lnTo>
                <a:lnTo>
                  <a:pt x="4255" y="2506"/>
                </a:lnTo>
                <a:lnTo>
                  <a:pt x="4208" y="2498"/>
                </a:lnTo>
                <a:lnTo>
                  <a:pt x="4160" y="2485"/>
                </a:lnTo>
                <a:lnTo>
                  <a:pt x="4113" y="2473"/>
                </a:lnTo>
                <a:lnTo>
                  <a:pt x="4066" y="2465"/>
                </a:lnTo>
                <a:lnTo>
                  <a:pt x="4019" y="2450"/>
                </a:lnTo>
                <a:lnTo>
                  <a:pt x="3971" y="2436"/>
                </a:lnTo>
                <a:lnTo>
                  <a:pt x="3925" y="2426"/>
                </a:lnTo>
                <a:lnTo>
                  <a:pt x="3877" y="2408"/>
                </a:lnTo>
                <a:lnTo>
                  <a:pt x="3829" y="2392"/>
                </a:lnTo>
                <a:lnTo>
                  <a:pt x="3782" y="2380"/>
                </a:lnTo>
                <a:lnTo>
                  <a:pt x="3735" y="2360"/>
                </a:lnTo>
                <a:lnTo>
                  <a:pt x="3688" y="2341"/>
                </a:lnTo>
                <a:lnTo>
                  <a:pt x="3640" y="2325"/>
                </a:lnTo>
                <a:lnTo>
                  <a:pt x="3594" y="2298"/>
                </a:lnTo>
                <a:lnTo>
                  <a:pt x="3546" y="2272"/>
                </a:lnTo>
                <a:lnTo>
                  <a:pt x="3499" y="2253"/>
                </a:lnTo>
                <a:lnTo>
                  <a:pt x="3451" y="2218"/>
                </a:lnTo>
                <a:lnTo>
                  <a:pt x="3404" y="2187"/>
                </a:lnTo>
                <a:lnTo>
                  <a:pt x="3357" y="2163"/>
                </a:lnTo>
                <a:lnTo>
                  <a:pt x="3309" y="2120"/>
                </a:lnTo>
                <a:lnTo>
                  <a:pt x="3262" y="2080"/>
                </a:lnTo>
                <a:lnTo>
                  <a:pt x="3215" y="2047"/>
                </a:lnTo>
                <a:lnTo>
                  <a:pt x="3168" y="1993"/>
                </a:lnTo>
                <a:lnTo>
                  <a:pt x="3120" y="1940"/>
                </a:lnTo>
                <a:lnTo>
                  <a:pt x="3073" y="1899"/>
                </a:lnTo>
                <a:lnTo>
                  <a:pt x="3026" y="1834"/>
                </a:lnTo>
                <a:lnTo>
                  <a:pt x="2978" y="1768"/>
                </a:lnTo>
                <a:lnTo>
                  <a:pt x="2931" y="1712"/>
                </a:lnTo>
                <a:lnTo>
                  <a:pt x="2884" y="1614"/>
                </a:lnTo>
                <a:lnTo>
                  <a:pt x="2837" y="1515"/>
                </a:lnTo>
                <a:lnTo>
                  <a:pt x="2789" y="1436"/>
                </a:lnTo>
                <a:lnTo>
                  <a:pt x="2743" y="1327"/>
                </a:lnTo>
                <a:lnTo>
                  <a:pt x="2695" y="1204"/>
                </a:lnTo>
                <a:lnTo>
                  <a:pt x="2647" y="1099"/>
                </a:lnTo>
                <a:lnTo>
                  <a:pt x="2600" y="987"/>
                </a:lnTo>
                <a:lnTo>
                  <a:pt x="2553" y="874"/>
                </a:lnTo>
                <a:lnTo>
                  <a:pt x="2506" y="775"/>
                </a:lnTo>
                <a:lnTo>
                  <a:pt x="2458" y="685"/>
                </a:lnTo>
                <a:lnTo>
                  <a:pt x="2412" y="593"/>
                </a:lnTo>
                <a:lnTo>
                  <a:pt x="2364" y="506"/>
                </a:lnTo>
                <a:lnTo>
                  <a:pt x="2317" y="429"/>
                </a:lnTo>
                <a:lnTo>
                  <a:pt x="2269" y="355"/>
                </a:lnTo>
                <a:lnTo>
                  <a:pt x="2222" y="287"/>
                </a:lnTo>
                <a:lnTo>
                  <a:pt x="2175" y="231"/>
                </a:lnTo>
                <a:lnTo>
                  <a:pt x="2127" y="179"/>
                </a:lnTo>
                <a:lnTo>
                  <a:pt x="2081" y="135"/>
                </a:lnTo>
                <a:lnTo>
                  <a:pt x="2033" y="101"/>
                </a:lnTo>
                <a:lnTo>
                  <a:pt x="1986" y="71"/>
                </a:lnTo>
                <a:lnTo>
                  <a:pt x="1938" y="47"/>
                </a:lnTo>
                <a:lnTo>
                  <a:pt x="1892" y="31"/>
                </a:lnTo>
                <a:lnTo>
                  <a:pt x="1844" y="18"/>
                </a:lnTo>
                <a:lnTo>
                  <a:pt x="1796" y="9"/>
                </a:lnTo>
                <a:lnTo>
                  <a:pt x="1750" y="5"/>
                </a:lnTo>
                <a:lnTo>
                  <a:pt x="1702" y="2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29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0"/>
                </a:lnTo>
                <a:lnTo>
                  <a:pt x="1750" y="0"/>
                </a:lnTo>
                <a:lnTo>
                  <a:pt x="1796" y="0"/>
                </a:lnTo>
                <a:lnTo>
                  <a:pt x="1844" y="0"/>
                </a:lnTo>
                <a:lnTo>
                  <a:pt x="1892" y="0"/>
                </a:lnTo>
                <a:lnTo>
                  <a:pt x="1938" y="0"/>
                </a:lnTo>
                <a:lnTo>
                  <a:pt x="1986" y="0"/>
                </a:lnTo>
                <a:lnTo>
                  <a:pt x="2033" y="0"/>
                </a:lnTo>
                <a:lnTo>
                  <a:pt x="2081" y="0"/>
                </a:lnTo>
                <a:lnTo>
                  <a:pt x="2127" y="0"/>
                </a:lnTo>
                <a:lnTo>
                  <a:pt x="2175" y="0"/>
                </a:lnTo>
                <a:lnTo>
                  <a:pt x="2222" y="0"/>
                </a:lnTo>
                <a:lnTo>
                  <a:pt x="2269" y="0"/>
                </a:lnTo>
                <a:lnTo>
                  <a:pt x="2317" y="0"/>
                </a:lnTo>
                <a:lnTo>
                  <a:pt x="2364" y="0"/>
                </a:lnTo>
                <a:lnTo>
                  <a:pt x="2412" y="0"/>
                </a:lnTo>
                <a:lnTo>
                  <a:pt x="2458" y="0"/>
                </a:lnTo>
                <a:lnTo>
                  <a:pt x="2506" y="0"/>
                </a:lnTo>
                <a:lnTo>
                  <a:pt x="2553" y="0"/>
                </a:lnTo>
                <a:lnTo>
                  <a:pt x="2600" y="0"/>
                </a:lnTo>
                <a:lnTo>
                  <a:pt x="2647" y="0"/>
                </a:lnTo>
                <a:lnTo>
                  <a:pt x="2695" y="0"/>
                </a:lnTo>
                <a:lnTo>
                  <a:pt x="2743" y="0"/>
                </a:lnTo>
                <a:lnTo>
                  <a:pt x="2789" y="0"/>
                </a:lnTo>
                <a:lnTo>
                  <a:pt x="2837" y="0"/>
                </a:lnTo>
                <a:lnTo>
                  <a:pt x="2884" y="0"/>
                </a:lnTo>
                <a:lnTo>
                  <a:pt x="2931" y="0"/>
                </a:lnTo>
                <a:lnTo>
                  <a:pt x="2978" y="0"/>
                </a:lnTo>
                <a:lnTo>
                  <a:pt x="3026" y="0"/>
                </a:lnTo>
                <a:lnTo>
                  <a:pt x="3073" y="0"/>
                </a:lnTo>
                <a:lnTo>
                  <a:pt x="3120" y="0"/>
                </a:lnTo>
                <a:lnTo>
                  <a:pt x="3168" y="0"/>
                </a:lnTo>
                <a:lnTo>
                  <a:pt x="3215" y="0"/>
                </a:lnTo>
                <a:lnTo>
                  <a:pt x="3262" y="0"/>
                </a:lnTo>
                <a:lnTo>
                  <a:pt x="3309" y="0"/>
                </a:lnTo>
                <a:lnTo>
                  <a:pt x="3357" y="0"/>
                </a:lnTo>
                <a:lnTo>
                  <a:pt x="3404" y="0"/>
                </a:lnTo>
                <a:lnTo>
                  <a:pt x="3451" y="0"/>
                </a:lnTo>
                <a:lnTo>
                  <a:pt x="3499" y="0"/>
                </a:lnTo>
                <a:lnTo>
                  <a:pt x="3546" y="0"/>
                </a:lnTo>
                <a:lnTo>
                  <a:pt x="3594" y="0"/>
                </a:lnTo>
                <a:lnTo>
                  <a:pt x="3640" y="0"/>
                </a:lnTo>
                <a:lnTo>
                  <a:pt x="3688" y="0"/>
                </a:lnTo>
                <a:lnTo>
                  <a:pt x="3735" y="0"/>
                </a:lnTo>
                <a:lnTo>
                  <a:pt x="3782" y="0"/>
                </a:lnTo>
                <a:lnTo>
                  <a:pt x="3829" y="0"/>
                </a:lnTo>
                <a:lnTo>
                  <a:pt x="3877" y="0"/>
                </a:lnTo>
                <a:lnTo>
                  <a:pt x="3925" y="0"/>
                </a:lnTo>
                <a:lnTo>
                  <a:pt x="3971" y="0"/>
                </a:lnTo>
                <a:lnTo>
                  <a:pt x="4019" y="0"/>
                </a:lnTo>
                <a:lnTo>
                  <a:pt x="4066" y="0"/>
                </a:lnTo>
                <a:lnTo>
                  <a:pt x="4113" y="0"/>
                </a:lnTo>
                <a:lnTo>
                  <a:pt x="4160" y="0"/>
                </a:lnTo>
                <a:lnTo>
                  <a:pt x="4208" y="0"/>
                </a:lnTo>
                <a:lnTo>
                  <a:pt x="4255" y="0"/>
                </a:lnTo>
                <a:lnTo>
                  <a:pt x="4302" y="0"/>
                </a:lnTo>
                <a:lnTo>
                  <a:pt x="4350" y="0"/>
                </a:lnTo>
                <a:lnTo>
                  <a:pt x="4397" y="0"/>
                </a:lnTo>
                <a:lnTo>
                  <a:pt x="4444" y="0"/>
                </a:lnTo>
                <a:lnTo>
                  <a:pt x="4491" y="0"/>
                </a:lnTo>
                <a:lnTo>
                  <a:pt x="4539" y="0"/>
                </a:lnTo>
                <a:lnTo>
                  <a:pt x="4586" y="0"/>
                </a:lnTo>
                <a:lnTo>
                  <a:pt x="4633" y="0"/>
                </a:lnTo>
                <a:lnTo>
                  <a:pt x="4680" y="0"/>
                </a:lnTo>
                <a:lnTo>
                  <a:pt x="4680" y="1539"/>
                </a:lnTo>
                <a:lnTo>
                  <a:pt x="4633" y="1538"/>
                </a:lnTo>
                <a:lnTo>
                  <a:pt x="4586" y="1536"/>
                </a:lnTo>
                <a:lnTo>
                  <a:pt x="4539" y="1534"/>
                </a:lnTo>
                <a:lnTo>
                  <a:pt x="4491" y="1532"/>
                </a:lnTo>
                <a:lnTo>
                  <a:pt x="4444" y="1529"/>
                </a:lnTo>
                <a:lnTo>
                  <a:pt x="4397" y="1526"/>
                </a:lnTo>
                <a:lnTo>
                  <a:pt x="4350" y="1524"/>
                </a:lnTo>
                <a:lnTo>
                  <a:pt x="4302" y="1520"/>
                </a:lnTo>
                <a:lnTo>
                  <a:pt x="4255" y="1516"/>
                </a:lnTo>
                <a:lnTo>
                  <a:pt x="4208" y="1512"/>
                </a:lnTo>
                <a:lnTo>
                  <a:pt x="4160" y="1504"/>
                </a:lnTo>
                <a:lnTo>
                  <a:pt x="4113" y="1497"/>
                </a:lnTo>
                <a:lnTo>
                  <a:pt x="4066" y="1492"/>
                </a:lnTo>
                <a:lnTo>
                  <a:pt x="4019" y="1483"/>
                </a:lnTo>
                <a:lnTo>
                  <a:pt x="3971" y="1474"/>
                </a:lnTo>
                <a:lnTo>
                  <a:pt x="3925" y="1467"/>
                </a:lnTo>
                <a:lnTo>
                  <a:pt x="3877" y="1457"/>
                </a:lnTo>
                <a:lnTo>
                  <a:pt x="3829" y="1447"/>
                </a:lnTo>
                <a:lnTo>
                  <a:pt x="3782" y="1440"/>
                </a:lnTo>
                <a:lnTo>
                  <a:pt x="3735" y="1428"/>
                </a:lnTo>
                <a:lnTo>
                  <a:pt x="3688" y="1416"/>
                </a:lnTo>
                <a:lnTo>
                  <a:pt x="3640" y="1407"/>
                </a:lnTo>
                <a:lnTo>
                  <a:pt x="3594" y="1391"/>
                </a:lnTo>
                <a:lnTo>
                  <a:pt x="3546" y="1374"/>
                </a:lnTo>
                <a:lnTo>
                  <a:pt x="3499" y="1363"/>
                </a:lnTo>
                <a:lnTo>
                  <a:pt x="3451" y="1343"/>
                </a:lnTo>
                <a:lnTo>
                  <a:pt x="3404" y="1324"/>
                </a:lnTo>
                <a:lnTo>
                  <a:pt x="3357" y="1309"/>
                </a:lnTo>
                <a:lnTo>
                  <a:pt x="3309" y="1283"/>
                </a:lnTo>
                <a:lnTo>
                  <a:pt x="3262" y="1258"/>
                </a:lnTo>
                <a:lnTo>
                  <a:pt x="3215" y="1239"/>
                </a:lnTo>
                <a:lnTo>
                  <a:pt x="3168" y="1206"/>
                </a:lnTo>
                <a:lnTo>
                  <a:pt x="3120" y="1174"/>
                </a:lnTo>
                <a:lnTo>
                  <a:pt x="3073" y="1150"/>
                </a:lnTo>
                <a:lnTo>
                  <a:pt x="3026" y="1109"/>
                </a:lnTo>
                <a:lnTo>
                  <a:pt x="2978" y="1070"/>
                </a:lnTo>
                <a:lnTo>
                  <a:pt x="2931" y="1036"/>
                </a:lnTo>
                <a:lnTo>
                  <a:pt x="2884" y="977"/>
                </a:lnTo>
                <a:lnTo>
                  <a:pt x="2837" y="917"/>
                </a:lnTo>
                <a:lnTo>
                  <a:pt x="2789" y="869"/>
                </a:lnTo>
                <a:lnTo>
                  <a:pt x="2743" y="803"/>
                </a:lnTo>
                <a:lnTo>
                  <a:pt x="2695" y="729"/>
                </a:lnTo>
                <a:lnTo>
                  <a:pt x="2647" y="665"/>
                </a:lnTo>
                <a:lnTo>
                  <a:pt x="2600" y="597"/>
                </a:lnTo>
                <a:lnTo>
                  <a:pt x="2553" y="528"/>
                </a:lnTo>
                <a:lnTo>
                  <a:pt x="2506" y="470"/>
                </a:lnTo>
                <a:lnTo>
                  <a:pt x="2458" y="415"/>
                </a:lnTo>
                <a:lnTo>
                  <a:pt x="2412" y="360"/>
                </a:lnTo>
                <a:lnTo>
                  <a:pt x="2364" y="306"/>
                </a:lnTo>
                <a:lnTo>
                  <a:pt x="2317" y="260"/>
                </a:lnTo>
                <a:lnTo>
                  <a:pt x="2269" y="215"/>
                </a:lnTo>
                <a:lnTo>
                  <a:pt x="2222" y="173"/>
                </a:lnTo>
                <a:lnTo>
                  <a:pt x="2175" y="140"/>
                </a:lnTo>
                <a:lnTo>
                  <a:pt x="2127" y="109"/>
                </a:lnTo>
                <a:lnTo>
                  <a:pt x="2081" y="81"/>
                </a:lnTo>
                <a:lnTo>
                  <a:pt x="2033" y="61"/>
                </a:lnTo>
                <a:lnTo>
                  <a:pt x="1986" y="43"/>
                </a:lnTo>
                <a:lnTo>
                  <a:pt x="1938" y="29"/>
                </a:lnTo>
                <a:lnTo>
                  <a:pt x="1892" y="19"/>
                </a:lnTo>
                <a:lnTo>
                  <a:pt x="1844" y="10"/>
                </a:lnTo>
                <a:lnTo>
                  <a:pt x="1796" y="5"/>
                </a:lnTo>
                <a:lnTo>
                  <a:pt x="1750" y="3"/>
                </a:lnTo>
                <a:lnTo>
                  <a:pt x="1702" y="1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292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0"/>
                </a:lnTo>
                <a:lnTo>
                  <a:pt x="1750" y="0"/>
                </a:lnTo>
                <a:lnTo>
                  <a:pt x="1796" y="0"/>
                </a:lnTo>
                <a:lnTo>
                  <a:pt x="1844" y="0"/>
                </a:lnTo>
                <a:lnTo>
                  <a:pt x="1892" y="0"/>
                </a:lnTo>
                <a:lnTo>
                  <a:pt x="1938" y="0"/>
                </a:lnTo>
                <a:lnTo>
                  <a:pt x="1986" y="0"/>
                </a:lnTo>
                <a:lnTo>
                  <a:pt x="2033" y="0"/>
                </a:lnTo>
                <a:lnTo>
                  <a:pt x="2081" y="0"/>
                </a:lnTo>
                <a:lnTo>
                  <a:pt x="2127" y="0"/>
                </a:lnTo>
                <a:lnTo>
                  <a:pt x="2175" y="0"/>
                </a:lnTo>
                <a:lnTo>
                  <a:pt x="2222" y="0"/>
                </a:lnTo>
                <a:lnTo>
                  <a:pt x="2269" y="0"/>
                </a:lnTo>
                <a:lnTo>
                  <a:pt x="2317" y="0"/>
                </a:lnTo>
                <a:lnTo>
                  <a:pt x="2364" y="0"/>
                </a:lnTo>
                <a:lnTo>
                  <a:pt x="2412" y="0"/>
                </a:lnTo>
                <a:lnTo>
                  <a:pt x="2458" y="0"/>
                </a:lnTo>
                <a:lnTo>
                  <a:pt x="2506" y="0"/>
                </a:lnTo>
                <a:lnTo>
                  <a:pt x="2553" y="0"/>
                </a:lnTo>
                <a:lnTo>
                  <a:pt x="2600" y="0"/>
                </a:lnTo>
                <a:lnTo>
                  <a:pt x="2647" y="0"/>
                </a:lnTo>
                <a:lnTo>
                  <a:pt x="2695" y="0"/>
                </a:lnTo>
                <a:lnTo>
                  <a:pt x="2743" y="0"/>
                </a:lnTo>
                <a:lnTo>
                  <a:pt x="2789" y="0"/>
                </a:lnTo>
                <a:lnTo>
                  <a:pt x="2837" y="0"/>
                </a:lnTo>
                <a:lnTo>
                  <a:pt x="2884" y="0"/>
                </a:lnTo>
                <a:lnTo>
                  <a:pt x="2931" y="0"/>
                </a:lnTo>
                <a:lnTo>
                  <a:pt x="2978" y="0"/>
                </a:lnTo>
                <a:lnTo>
                  <a:pt x="3026" y="0"/>
                </a:lnTo>
                <a:lnTo>
                  <a:pt x="3073" y="0"/>
                </a:lnTo>
                <a:lnTo>
                  <a:pt x="3120" y="0"/>
                </a:lnTo>
                <a:lnTo>
                  <a:pt x="3168" y="0"/>
                </a:lnTo>
                <a:lnTo>
                  <a:pt x="3215" y="0"/>
                </a:lnTo>
                <a:lnTo>
                  <a:pt x="3262" y="0"/>
                </a:lnTo>
                <a:lnTo>
                  <a:pt x="3309" y="0"/>
                </a:lnTo>
                <a:lnTo>
                  <a:pt x="3357" y="0"/>
                </a:lnTo>
                <a:lnTo>
                  <a:pt x="3404" y="0"/>
                </a:lnTo>
                <a:lnTo>
                  <a:pt x="3451" y="0"/>
                </a:lnTo>
                <a:lnTo>
                  <a:pt x="3499" y="0"/>
                </a:lnTo>
                <a:lnTo>
                  <a:pt x="3546" y="0"/>
                </a:lnTo>
                <a:lnTo>
                  <a:pt x="3594" y="0"/>
                </a:lnTo>
                <a:lnTo>
                  <a:pt x="3640" y="0"/>
                </a:lnTo>
                <a:lnTo>
                  <a:pt x="3688" y="0"/>
                </a:lnTo>
                <a:lnTo>
                  <a:pt x="3735" y="0"/>
                </a:lnTo>
                <a:lnTo>
                  <a:pt x="3782" y="0"/>
                </a:lnTo>
                <a:lnTo>
                  <a:pt x="3829" y="0"/>
                </a:lnTo>
                <a:lnTo>
                  <a:pt x="3877" y="0"/>
                </a:lnTo>
                <a:lnTo>
                  <a:pt x="3925" y="0"/>
                </a:lnTo>
                <a:lnTo>
                  <a:pt x="3971" y="0"/>
                </a:lnTo>
                <a:lnTo>
                  <a:pt x="4019" y="0"/>
                </a:lnTo>
                <a:lnTo>
                  <a:pt x="4066" y="0"/>
                </a:lnTo>
                <a:lnTo>
                  <a:pt x="4113" y="0"/>
                </a:lnTo>
                <a:lnTo>
                  <a:pt x="4160" y="0"/>
                </a:lnTo>
                <a:lnTo>
                  <a:pt x="4208" y="0"/>
                </a:lnTo>
                <a:lnTo>
                  <a:pt x="4255" y="0"/>
                </a:lnTo>
                <a:lnTo>
                  <a:pt x="4302" y="0"/>
                </a:lnTo>
                <a:lnTo>
                  <a:pt x="4350" y="0"/>
                </a:lnTo>
                <a:lnTo>
                  <a:pt x="4397" y="0"/>
                </a:lnTo>
                <a:lnTo>
                  <a:pt x="4444" y="0"/>
                </a:lnTo>
                <a:lnTo>
                  <a:pt x="4491" y="0"/>
                </a:lnTo>
                <a:lnTo>
                  <a:pt x="4539" y="0"/>
                </a:lnTo>
                <a:lnTo>
                  <a:pt x="4586" y="0"/>
                </a:lnTo>
                <a:lnTo>
                  <a:pt x="4633" y="0"/>
                </a:lnTo>
                <a:lnTo>
                  <a:pt x="4680" y="0"/>
                </a:lnTo>
                <a:lnTo>
                  <a:pt x="4680" y="1539"/>
                </a:lnTo>
                <a:lnTo>
                  <a:pt x="4633" y="1538"/>
                </a:lnTo>
                <a:lnTo>
                  <a:pt x="4586" y="1536"/>
                </a:lnTo>
                <a:lnTo>
                  <a:pt x="4539" y="1534"/>
                </a:lnTo>
                <a:lnTo>
                  <a:pt x="4491" y="1532"/>
                </a:lnTo>
                <a:lnTo>
                  <a:pt x="4444" y="1529"/>
                </a:lnTo>
                <a:lnTo>
                  <a:pt x="4397" y="1526"/>
                </a:lnTo>
                <a:lnTo>
                  <a:pt x="4350" y="1524"/>
                </a:lnTo>
                <a:lnTo>
                  <a:pt x="4302" y="1520"/>
                </a:lnTo>
                <a:lnTo>
                  <a:pt x="4255" y="1516"/>
                </a:lnTo>
                <a:lnTo>
                  <a:pt x="4208" y="1512"/>
                </a:lnTo>
                <a:lnTo>
                  <a:pt x="4160" y="1504"/>
                </a:lnTo>
                <a:lnTo>
                  <a:pt x="4113" y="1497"/>
                </a:lnTo>
                <a:lnTo>
                  <a:pt x="4066" y="1492"/>
                </a:lnTo>
                <a:lnTo>
                  <a:pt x="4019" y="1483"/>
                </a:lnTo>
                <a:lnTo>
                  <a:pt x="3971" y="1474"/>
                </a:lnTo>
                <a:lnTo>
                  <a:pt x="3925" y="1467"/>
                </a:lnTo>
                <a:lnTo>
                  <a:pt x="3877" y="1457"/>
                </a:lnTo>
                <a:lnTo>
                  <a:pt x="3829" y="1447"/>
                </a:lnTo>
                <a:lnTo>
                  <a:pt x="3782" y="1440"/>
                </a:lnTo>
                <a:lnTo>
                  <a:pt x="3735" y="1428"/>
                </a:lnTo>
                <a:lnTo>
                  <a:pt x="3688" y="1416"/>
                </a:lnTo>
                <a:lnTo>
                  <a:pt x="3640" y="1407"/>
                </a:lnTo>
                <a:lnTo>
                  <a:pt x="3594" y="1391"/>
                </a:lnTo>
                <a:lnTo>
                  <a:pt x="3546" y="1374"/>
                </a:lnTo>
                <a:lnTo>
                  <a:pt x="3499" y="1363"/>
                </a:lnTo>
                <a:lnTo>
                  <a:pt x="3451" y="1343"/>
                </a:lnTo>
                <a:lnTo>
                  <a:pt x="3404" y="1324"/>
                </a:lnTo>
                <a:lnTo>
                  <a:pt x="3357" y="1309"/>
                </a:lnTo>
                <a:lnTo>
                  <a:pt x="3309" y="1283"/>
                </a:lnTo>
                <a:lnTo>
                  <a:pt x="3262" y="1258"/>
                </a:lnTo>
                <a:lnTo>
                  <a:pt x="3215" y="1239"/>
                </a:lnTo>
                <a:lnTo>
                  <a:pt x="3168" y="1206"/>
                </a:lnTo>
                <a:lnTo>
                  <a:pt x="3120" y="1174"/>
                </a:lnTo>
                <a:lnTo>
                  <a:pt x="3073" y="1150"/>
                </a:lnTo>
                <a:lnTo>
                  <a:pt x="3026" y="1109"/>
                </a:lnTo>
                <a:lnTo>
                  <a:pt x="2978" y="1070"/>
                </a:lnTo>
                <a:lnTo>
                  <a:pt x="2931" y="1036"/>
                </a:lnTo>
                <a:lnTo>
                  <a:pt x="2884" y="977"/>
                </a:lnTo>
                <a:lnTo>
                  <a:pt x="2837" y="917"/>
                </a:lnTo>
                <a:lnTo>
                  <a:pt x="2789" y="869"/>
                </a:lnTo>
                <a:lnTo>
                  <a:pt x="2743" y="803"/>
                </a:lnTo>
                <a:lnTo>
                  <a:pt x="2695" y="729"/>
                </a:lnTo>
                <a:lnTo>
                  <a:pt x="2647" y="665"/>
                </a:lnTo>
                <a:lnTo>
                  <a:pt x="2600" y="597"/>
                </a:lnTo>
                <a:lnTo>
                  <a:pt x="2553" y="528"/>
                </a:lnTo>
                <a:lnTo>
                  <a:pt x="2506" y="470"/>
                </a:lnTo>
                <a:lnTo>
                  <a:pt x="2458" y="415"/>
                </a:lnTo>
                <a:lnTo>
                  <a:pt x="2412" y="360"/>
                </a:lnTo>
                <a:lnTo>
                  <a:pt x="2364" y="306"/>
                </a:lnTo>
                <a:lnTo>
                  <a:pt x="2317" y="260"/>
                </a:lnTo>
                <a:lnTo>
                  <a:pt x="2269" y="215"/>
                </a:lnTo>
                <a:lnTo>
                  <a:pt x="2222" y="173"/>
                </a:lnTo>
                <a:lnTo>
                  <a:pt x="2175" y="140"/>
                </a:lnTo>
                <a:lnTo>
                  <a:pt x="2127" y="109"/>
                </a:lnTo>
                <a:lnTo>
                  <a:pt x="2081" y="81"/>
                </a:lnTo>
                <a:lnTo>
                  <a:pt x="2033" y="61"/>
                </a:lnTo>
                <a:lnTo>
                  <a:pt x="1986" y="43"/>
                </a:lnTo>
                <a:lnTo>
                  <a:pt x="1938" y="29"/>
                </a:lnTo>
                <a:lnTo>
                  <a:pt x="1892" y="19"/>
                </a:lnTo>
                <a:lnTo>
                  <a:pt x="1844" y="10"/>
                </a:lnTo>
                <a:lnTo>
                  <a:pt x="1796" y="5"/>
                </a:lnTo>
                <a:lnTo>
                  <a:pt x="1750" y="3"/>
                </a:lnTo>
                <a:lnTo>
                  <a:pt x="1702" y="1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29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371600" y="5554800"/>
            <a:ext cx="7429680" cy="1440"/>
          </a:xfrm>
          <a:custGeom>
            <a:avLst/>
            <a:gdLst/>
            <a:ahLst/>
            <a:rect l="l" t="t" r="r" b="b"/>
            <a:pathLst>
              <a:path w="4680" h="0">
                <a:moveTo>
                  <a:pt x="0" y="0"/>
                </a:moveTo>
                <a:lnTo>
                  <a:pt x="0" y="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0"/>
                </a:lnTo>
                <a:lnTo>
                  <a:pt x="1750" y="0"/>
                </a:lnTo>
                <a:lnTo>
                  <a:pt x="1796" y="0"/>
                </a:lnTo>
                <a:lnTo>
                  <a:pt x="1844" y="0"/>
                </a:lnTo>
                <a:lnTo>
                  <a:pt x="1892" y="0"/>
                </a:lnTo>
                <a:lnTo>
                  <a:pt x="1938" y="0"/>
                </a:lnTo>
                <a:lnTo>
                  <a:pt x="1986" y="0"/>
                </a:lnTo>
                <a:lnTo>
                  <a:pt x="2033" y="0"/>
                </a:lnTo>
                <a:lnTo>
                  <a:pt x="2081" y="0"/>
                </a:lnTo>
                <a:lnTo>
                  <a:pt x="2127" y="0"/>
                </a:lnTo>
                <a:lnTo>
                  <a:pt x="2175" y="0"/>
                </a:lnTo>
                <a:lnTo>
                  <a:pt x="2222" y="0"/>
                </a:lnTo>
                <a:lnTo>
                  <a:pt x="2269" y="0"/>
                </a:lnTo>
                <a:lnTo>
                  <a:pt x="2317" y="0"/>
                </a:lnTo>
                <a:lnTo>
                  <a:pt x="2364" y="0"/>
                </a:lnTo>
                <a:lnTo>
                  <a:pt x="2412" y="0"/>
                </a:lnTo>
                <a:lnTo>
                  <a:pt x="2458" y="0"/>
                </a:lnTo>
                <a:lnTo>
                  <a:pt x="2506" y="0"/>
                </a:lnTo>
                <a:lnTo>
                  <a:pt x="2553" y="0"/>
                </a:lnTo>
                <a:lnTo>
                  <a:pt x="2600" y="0"/>
                </a:lnTo>
                <a:lnTo>
                  <a:pt x="2647" y="0"/>
                </a:lnTo>
                <a:lnTo>
                  <a:pt x="2695" y="0"/>
                </a:lnTo>
                <a:lnTo>
                  <a:pt x="2743" y="0"/>
                </a:lnTo>
                <a:lnTo>
                  <a:pt x="2789" y="0"/>
                </a:lnTo>
                <a:lnTo>
                  <a:pt x="2837" y="0"/>
                </a:lnTo>
                <a:lnTo>
                  <a:pt x="2884" y="0"/>
                </a:lnTo>
                <a:lnTo>
                  <a:pt x="2931" y="0"/>
                </a:lnTo>
                <a:lnTo>
                  <a:pt x="2978" y="0"/>
                </a:lnTo>
                <a:lnTo>
                  <a:pt x="3026" y="0"/>
                </a:lnTo>
                <a:lnTo>
                  <a:pt x="3073" y="0"/>
                </a:lnTo>
                <a:lnTo>
                  <a:pt x="3120" y="0"/>
                </a:lnTo>
                <a:lnTo>
                  <a:pt x="3168" y="0"/>
                </a:lnTo>
                <a:lnTo>
                  <a:pt x="3215" y="0"/>
                </a:lnTo>
                <a:lnTo>
                  <a:pt x="3262" y="0"/>
                </a:lnTo>
                <a:lnTo>
                  <a:pt x="3309" y="0"/>
                </a:lnTo>
                <a:lnTo>
                  <a:pt x="3357" y="0"/>
                </a:lnTo>
                <a:lnTo>
                  <a:pt x="3404" y="0"/>
                </a:lnTo>
                <a:lnTo>
                  <a:pt x="3451" y="0"/>
                </a:lnTo>
                <a:lnTo>
                  <a:pt x="3499" y="0"/>
                </a:lnTo>
                <a:lnTo>
                  <a:pt x="3546" y="0"/>
                </a:lnTo>
                <a:lnTo>
                  <a:pt x="3594" y="0"/>
                </a:lnTo>
                <a:lnTo>
                  <a:pt x="3640" y="0"/>
                </a:lnTo>
                <a:lnTo>
                  <a:pt x="3688" y="0"/>
                </a:lnTo>
                <a:lnTo>
                  <a:pt x="3735" y="0"/>
                </a:lnTo>
                <a:lnTo>
                  <a:pt x="3782" y="0"/>
                </a:lnTo>
                <a:lnTo>
                  <a:pt x="3829" y="0"/>
                </a:lnTo>
                <a:lnTo>
                  <a:pt x="3877" y="0"/>
                </a:lnTo>
                <a:lnTo>
                  <a:pt x="3925" y="0"/>
                </a:lnTo>
                <a:lnTo>
                  <a:pt x="3971" y="0"/>
                </a:lnTo>
                <a:lnTo>
                  <a:pt x="4019" y="0"/>
                </a:lnTo>
                <a:lnTo>
                  <a:pt x="4066" y="0"/>
                </a:lnTo>
                <a:lnTo>
                  <a:pt x="4113" y="0"/>
                </a:lnTo>
                <a:lnTo>
                  <a:pt x="4160" y="0"/>
                </a:lnTo>
                <a:lnTo>
                  <a:pt x="4208" y="0"/>
                </a:lnTo>
                <a:lnTo>
                  <a:pt x="4255" y="0"/>
                </a:lnTo>
                <a:lnTo>
                  <a:pt x="4302" y="0"/>
                </a:lnTo>
                <a:lnTo>
                  <a:pt x="4350" y="0"/>
                </a:lnTo>
                <a:lnTo>
                  <a:pt x="4397" y="0"/>
                </a:lnTo>
                <a:lnTo>
                  <a:pt x="4444" y="0"/>
                </a:lnTo>
                <a:lnTo>
                  <a:pt x="4491" y="0"/>
                </a:lnTo>
                <a:lnTo>
                  <a:pt x="4539" y="0"/>
                </a:lnTo>
                <a:lnTo>
                  <a:pt x="4586" y="0"/>
                </a:lnTo>
                <a:lnTo>
                  <a:pt x="4633" y="0"/>
                </a:lnTo>
                <a:lnTo>
                  <a:pt x="4680" y="0"/>
                </a:lnTo>
                <a:lnTo>
                  <a:pt x="4680" y="0"/>
                </a:lnTo>
                <a:lnTo>
                  <a:pt x="4633" y="0"/>
                </a:lnTo>
                <a:lnTo>
                  <a:pt x="4586" y="0"/>
                </a:lnTo>
                <a:lnTo>
                  <a:pt x="4539" y="0"/>
                </a:lnTo>
                <a:lnTo>
                  <a:pt x="4491" y="0"/>
                </a:lnTo>
                <a:lnTo>
                  <a:pt x="4444" y="0"/>
                </a:lnTo>
                <a:lnTo>
                  <a:pt x="4397" y="0"/>
                </a:lnTo>
                <a:lnTo>
                  <a:pt x="4350" y="0"/>
                </a:lnTo>
                <a:lnTo>
                  <a:pt x="4302" y="0"/>
                </a:lnTo>
                <a:lnTo>
                  <a:pt x="4255" y="0"/>
                </a:lnTo>
                <a:lnTo>
                  <a:pt x="4208" y="0"/>
                </a:lnTo>
                <a:lnTo>
                  <a:pt x="4160" y="0"/>
                </a:lnTo>
                <a:lnTo>
                  <a:pt x="4113" y="0"/>
                </a:lnTo>
                <a:lnTo>
                  <a:pt x="4066" y="0"/>
                </a:lnTo>
                <a:lnTo>
                  <a:pt x="4019" y="0"/>
                </a:lnTo>
                <a:lnTo>
                  <a:pt x="3971" y="0"/>
                </a:lnTo>
                <a:lnTo>
                  <a:pt x="3925" y="0"/>
                </a:lnTo>
                <a:lnTo>
                  <a:pt x="3877" y="0"/>
                </a:lnTo>
                <a:lnTo>
                  <a:pt x="3829" y="0"/>
                </a:lnTo>
                <a:lnTo>
                  <a:pt x="3782" y="0"/>
                </a:lnTo>
                <a:lnTo>
                  <a:pt x="3735" y="0"/>
                </a:lnTo>
                <a:lnTo>
                  <a:pt x="3688" y="0"/>
                </a:lnTo>
                <a:lnTo>
                  <a:pt x="3640" y="0"/>
                </a:lnTo>
                <a:lnTo>
                  <a:pt x="3594" y="0"/>
                </a:lnTo>
                <a:lnTo>
                  <a:pt x="3546" y="0"/>
                </a:lnTo>
                <a:lnTo>
                  <a:pt x="3499" y="0"/>
                </a:lnTo>
                <a:lnTo>
                  <a:pt x="3451" y="0"/>
                </a:lnTo>
                <a:lnTo>
                  <a:pt x="3404" y="0"/>
                </a:lnTo>
                <a:lnTo>
                  <a:pt x="3357" y="0"/>
                </a:lnTo>
                <a:lnTo>
                  <a:pt x="3309" y="0"/>
                </a:lnTo>
                <a:lnTo>
                  <a:pt x="3262" y="0"/>
                </a:lnTo>
                <a:lnTo>
                  <a:pt x="3215" y="0"/>
                </a:lnTo>
                <a:lnTo>
                  <a:pt x="3168" y="0"/>
                </a:lnTo>
                <a:lnTo>
                  <a:pt x="3120" y="0"/>
                </a:lnTo>
                <a:lnTo>
                  <a:pt x="3073" y="0"/>
                </a:lnTo>
                <a:lnTo>
                  <a:pt x="3026" y="0"/>
                </a:lnTo>
                <a:lnTo>
                  <a:pt x="2978" y="0"/>
                </a:lnTo>
                <a:lnTo>
                  <a:pt x="2931" y="0"/>
                </a:lnTo>
                <a:lnTo>
                  <a:pt x="2884" y="0"/>
                </a:lnTo>
                <a:lnTo>
                  <a:pt x="2837" y="0"/>
                </a:lnTo>
                <a:lnTo>
                  <a:pt x="2789" y="0"/>
                </a:lnTo>
                <a:lnTo>
                  <a:pt x="2743" y="0"/>
                </a:lnTo>
                <a:lnTo>
                  <a:pt x="2695" y="0"/>
                </a:lnTo>
                <a:lnTo>
                  <a:pt x="2647" y="0"/>
                </a:lnTo>
                <a:lnTo>
                  <a:pt x="2600" y="0"/>
                </a:lnTo>
                <a:lnTo>
                  <a:pt x="2553" y="0"/>
                </a:lnTo>
                <a:lnTo>
                  <a:pt x="2506" y="0"/>
                </a:lnTo>
                <a:lnTo>
                  <a:pt x="2458" y="0"/>
                </a:lnTo>
                <a:lnTo>
                  <a:pt x="2412" y="0"/>
                </a:lnTo>
                <a:lnTo>
                  <a:pt x="2364" y="0"/>
                </a:lnTo>
                <a:lnTo>
                  <a:pt x="2317" y="0"/>
                </a:lnTo>
                <a:lnTo>
                  <a:pt x="2269" y="0"/>
                </a:lnTo>
                <a:lnTo>
                  <a:pt x="2222" y="0"/>
                </a:lnTo>
                <a:lnTo>
                  <a:pt x="2175" y="0"/>
                </a:lnTo>
                <a:lnTo>
                  <a:pt x="2127" y="0"/>
                </a:lnTo>
                <a:lnTo>
                  <a:pt x="2081" y="0"/>
                </a:lnTo>
                <a:lnTo>
                  <a:pt x="2033" y="0"/>
                </a:lnTo>
                <a:lnTo>
                  <a:pt x="1986" y="0"/>
                </a:lnTo>
                <a:lnTo>
                  <a:pt x="1938" y="0"/>
                </a:lnTo>
                <a:lnTo>
                  <a:pt x="1892" y="0"/>
                </a:lnTo>
                <a:lnTo>
                  <a:pt x="1844" y="0"/>
                </a:lnTo>
                <a:lnTo>
                  <a:pt x="1796" y="0"/>
                </a:lnTo>
                <a:lnTo>
                  <a:pt x="1750" y="0"/>
                </a:lnTo>
                <a:lnTo>
                  <a:pt x="1702" y="0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371600" y="927000"/>
            <a:ext cx="7429680" cy="4627800"/>
          </a:xfrm>
          <a:custGeom>
            <a:avLst/>
            <a:gdLst/>
            <a:ahLst/>
            <a:rect l="l" t="t" r="r" b="b"/>
            <a:pathLst>
              <a:path w="4680" h="2915">
                <a:moveTo>
                  <a:pt x="0" y="2915"/>
                </a:moveTo>
                <a:lnTo>
                  <a:pt x="0" y="2915"/>
                </a:lnTo>
                <a:lnTo>
                  <a:pt x="48" y="2915"/>
                </a:lnTo>
                <a:lnTo>
                  <a:pt x="94" y="2915"/>
                </a:lnTo>
                <a:lnTo>
                  <a:pt x="142" y="2915"/>
                </a:lnTo>
                <a:lnTo>
                  <a:pt x="189" y="2915"/>
                </a:lnTo>
                <a:lnTo>
                  <a:pt x="237" y="2915"/>
                </a:lnTo>
                <a:lnTo>
                  <a:pt x="284" y="2794"/>
                </a:lnTo>
                <a:lnTo>
                  <a:pt x="331" y="2508"/>
                </a:lnTo>
                <a:lnTo>
                  <a:pt x="379" y="2285"/>
                </a:lnTo>
                <a:lnTo>
                  <a:pt x="425" y="2123"/>
                </a:lnTo>
                <a:lnTo>
                  <a:pt x="473" y="2002"/>
                </a:lnTo>
                <a:lnTo>
                  <a:pt x="520" y="1910"/>
                </a:lnTo>
                <a:lnTo>
                  <a:pt x="568" y="1835"/>
                </a:lnTo>
                <a:lnTo>
                  <a:pt x="614" y="239"/>
                </a:lnTo>
                <a:lnTo>
                  <a:pt x="662" y="81"/>
                </a:lnTo>
                <a:lnTo>
                  <a:pt x="710" y="45"/>
                </a:lnTo>
                <a:lnTo>
                  <a:pt x="756" y="27"/>
                </a:lnTo>
                <a:lnTo>
                  <a:pt x="804" y="18"/>
                </a:lnTo>
                <a:lnTo>
                  <a:pt x="851" y="14"/>
                </a:lnTo>
                <a:lnTo>
                  <a:pt x="899" y="9"/>
                </a:lnTo>
                <a:lnTo>
                  <a:pt x="945" y="7"/>
                </a:lnTo>
                <a:lnTo>
                  <a:pt x="993" y="6"/>
                </a:lnTo>
                <a:lnTo>
                  <a:pt x="1040" y="4"/>
                </a:lnTo>
                <a:lnTo>
                  <a:pt x="1087" y="3"/>
                </a:lnTo>
                <a:lnTo>
                  <a:pt x="1135" y="3"/>
                </a:lnTo>
                <a:lnTo>
                  <a:pt x="1182" y="2"/>
                </a:lnTo>
                <a:lnTo>
                  <a:pt x="1230" y="2"/>
                </a:lnTo>
                <a:lnTo>
                  <a:pt x="1276" y="1"/>
                </a:lnTo>
                <a:lnTo>
                  <a:pt x="1324" y="1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1"/>
                </a:lnTo>
                <a:lnTo>
                  <a:pt x="1750" y="4"/>
                </a:lnTo>
                <a:lnTo>
                  <a:pt x="1796" y="8"/>
                </a:lnTo>
                <a:lnTo>
                  <a:pt x="1844" y="17"/>
                </a:lnTo>
                <a:lnTo>
                  <a:pt x="1892" y="30"/>
                </a:lnTo>
                <a:lnTo>
                  <a:pt x="1938" y="46"/>
                </a:lnTo>
                <a:lnTo>
                  <a:pt x="1986" y="70"/>
                </a:lnTo>
                <a:lnTo>
                  <a:pt x="2033" y="100"/>
                </a:lnTo>
                <a:lnTo>
                  <a:pt x="2081" y="133"/>
                </a:lnTo>
                <a:lnTo>
                  <a:pt x="2127" y="177"/>
                </a:lnTo>
                <a:lnTo>
                  <a:pt x="2175" y="230"/>
                </a:lnTo>
                <a:lnTo>
                  <a:pt x="2222" y="286"/>
                </a:lnTo>
                <a:lnTo>
                  <a:pt x="2269" y="353"/>
                </a:lnTo>
                <a:lnTo>
                  <a:pt x="2317" y="428"/>
                </a:lnTo>
                <a:lnTo>
                  <a:pt x="2364" y="504"/>
                </a:lnTo>
                <a:lnTo>
                  <a:pt x="2412" y="591"/>
                </a:lnTo>
                <a:lnTo>
                  <a:pt x="2458" y="683"/>
                </a:lnTo>
                <a:lnTo>
                  <a:pt x="2506" y="773"/>
                </a:lnTo>
                <a:lnTo>
                  <a:pt x="2553" y="872"/>
                </a:lnTo>
                <a:lnTo>
                  <a:pt x="2600" y="984"/>
                </a:lnTo>
                <a:lnTo>
                  <a:pt x="2647" y="1096"/>
                </a:lnTo>
                <a:lnTo>
                  <a:pt x="2695" y="1201"/>
                </a:lnTo>
                <a:lnTo>
                  <a:pt x="2743" y="1324"/>
                </a:lnTo>
                <a:lnTo>
                  <a:pt x="2789" y="1433"/>
                </a:lnTo>
                <a:lnTo>
                  <a:pt x="2837" y="1512"/>
                </a:lnTo>
                <a:lnTo>
                  <a:pt x="2884" y="1611"/>
                </a:lnTo>
                <a:lnTo>
                  <a:pt x="2931" y="1709"/>
                </a:lnTo>
                <a:lnTo>
                  <a:pt x="2978" y="1764"/>
                </a:lnTo>
                <a:lnTo>
                  <a:pt x="3026" y="1830"/>
                </a:lnTo>
                <a:lnTo>
                  <a:pt x="3073" y="1896"/>
                </a:lnTo>
                <a:lnTo>
                  <a:pt x="3120" y="1936"/>
                </a:lnTo>
                <a:lnTo>
                  <a:pt x="3168" y="1990"/>
                </a:lnTo>
                <a:lnTo>
                  <a:pt x="3215" y="2044"/>
                </a:lnTo>
                <a:lnTo>
                  <a:pt x="3262" y="2076"/>
                </a:lnTo>
                <a:lnTo>
                  <a:pt x="3309" y="2117"/>
                </a:lnTo>
                <a:lnTo>
                  <a:pt x="3357" y="2159"/>
                </a:lnTo>
                <a:lnTo>
                  <a:pt x="3404" y="2183"/>
                </a:lnTo>
                <a:lnTo>
                  <a:pt x="3451" y="2215"/>
                </a:lnTo>
                <a:lnTo>
                  <a:pt x="3499" y="2249"/>
                </a:lnTo>
                <a:lnTo>
                  <a:pt x="3546" y="2268"/>
                </a:lnTo>
                <a:lnTo>
                  <a:pt x="3594" y="2294"/>
                </a:lnTo>
                <a:lnTo>
                  <a:pt x="3640" y="2321"/>
                </a:lnTo>
                <a:lnTo>
                  <a:pt x="3688" y="2336"/>
                </a:lnTo>
                <a:lnTo>
                  <a:pt x="3735" y="2356"/>
                </a:lnTo>
                <a:lnTo>
                  <a:pt x="3782" y="2376"/>
                </a:lnTo>
                <a:lnTo>
                  <a:pt x="3829" y="2388"/>
                </a:lnTo>
                <a:lnTo>
                  <a:pt x="3877" y="2403"/>
                </a:lnTo>
                <a:lnTo>
                  <a:pt x="3925" y="2421"/>
                </a:lnTo>
                <a:lnTo>
                  <a:pt x="3971" y="2432"/>
                </a:lnTo>
                <a:lnTo>
                  <a:pt x="4019" y="2445"/>
                </a:lnTo>
                <a:lnTo>
                  <a:pt x="4066" y="2460"/>
                </a:lnTo>
                <a:lnTo>
                  <a:pt x="4113" y="2469"/>
                </a:lnTo>
                <a:lnTo>
                  <a:pt x="4160" y="2481"/>
                </a:lnTo>
                <a:lnTo>
                  <a:pt x="4208" y="2494"/>
                </a:lnTo>
                <a:lnTo>
                  <a:pt x="4255" y="2502"/>
                </a:lnTo>
                <a:lnTo>
                  <a:pt x="4302" y="2511"/>
                </a:lnTo>
                <a:lnTo>
                  <a:pt x="4350" y="2520"/>
                </a:lnTo>
                <a:lnTo>
                  <a:pt x="4397" y="2525"/>
                </a:lnTo>
                <a:lnTo>
                  <a:pt x="4444" y="2531"/>
                </a:lnTo>
                <a:lnTo>
                  <a:pt x="4491" y="2538"/>
                </a:lnTo>
                <a:lnTo>
                  <a:pt x="4539" y="2542"/>
                </a:lnTo>
                <a:lnTo>
                  <a:pt x="4586" y="2546"/>
                </a:lnTo>
                <a:lnTo>
                  <a:pt x="4633" y="2551"/>
                </a:lnTo>
                <a:lnTo>
                  <a:pt x="4680" y="2553"/>
                </a:lnTo>
                <a:lnTo>
                  <a:pt x="4680" y="2915"/>
                </a:lnTo>
                <a:lnTo>
                  <a:pt x="4633" y="2915"/>
                </a:lnTo>
                <a:lnTo>
                  <a:pt x="4586" y="2915"/>
                </a:lnTo>
                <a:lnTo>
                  <a:pt x="4539" y="2915"/>
                </a:lnTo>
                <a:lnTo>
                  <a:pt x="4491" y="2915"/>
                </a:lnTo>
                <a:lnTo>
                  <a:pt x="4444" y="2915"/>
                </a:lnTo>
                <a:lnTo>
                  <a:pt x="4397" y="2915"/>
                </a:lnTo>
                <a:lnTo>
                  <a:pt x="4350" y="2915"/>
                </a:lnTo>
                <a:lnTo>
                  <a:pt x="4302" y="2915"/>
                </a:lnTo>
                <a:lnTo>
                  <a:pt x="4255" y="2915"/>
                </a:lnTo>
                <a:lnTo>
                  <a:pt x="4208" y="2915"/>
                </a:lnTo>
                <a:lnTo>
                  <a:pt x="4160" y="2915"/>
                </a:lnTo>
                <a:lnTo>
                  <a:pt x="4113" y="2915"/>
                </a:lnTo>
                <a:lnTo>
                  <a:pt x="4066" y="2915"/>
                </a:lnTo>
                <a:lnTo>
                  <a:pt x="4019" y="2915"/>
                </a:lnTo>
                <a:lnTo>
                  <a:pt x="3971" y="2915"/>
                </a:lnTo>
                <a:lnTo>
                  <a:pt x="3925" y="2915"/>
                </a:lnTo>
                <a:lnTo>
                  <a:pt x="3877" y="2915"/>
                </a:lnTo>
                <a:lnTo>
                  <a:pt x="3829" y="2915"/>
                </a:lnTo>
                <a:lnTo>
                  <a:pt x="3782" y="2915"/>
                </a:lnTo>
                <a:lnTo>
                  <a:pt x="3735" y="2915"/>
                </a:lnTo>
                <a:lnTo>
                  <a:pt x="3688" y="2915"/>
                </a:lnTo>
                <a:lnTo>
                  <a:pt x="3640" y="2915"/>
                </a:lnTo>
                <a:lnTo>
                  <a:pt x="3594" y="2915"/>
                </a:lnTo>
                <a:lnTo>
                  <a:pt x="3546" y="2915"/>
                </a:lnTo>
                <a:lnTo>
                  <a:pt x="3499" y="2915"/>
                </a:lnTo>
                <a:lnTo>
                  <a:pt x="3451" y="2915"/>
                </a:lnTo>
                <a:lnTo>
                  <a:pt x="3404" y="2915"/>
                </a:lnTo>
                <a:lnTo>
                  <a:pt x="3357" y="2915"/>
                </a:lnTo>
                <a:lnTo>
                  <a:pt x="3309" y="2915"/>
                </a:lnTo>
                <a:lnTo>
                  <a:pt x="3262" y="2915"/>
                </a:lnTo>
                <a:lnTo>
                  <a:pt x="3215" y="2915"/>
                </a:lnTo>
                <a:lnTo>
                  <a:pt x="3168" y="2915"/>
                </a:lnTo>
                <a:lnTo>
                  <a:pt x="3120" y="2915"/>
                </a:lnTo>
                <a:lnTo>
                  <a:pt x="3073" y="2915"/>
                </a:lnTo>
                <a:lnTo>
                  <a:pt x="3026" y="2915"/>
                </a:lnTo>
                <a:lnTo>
                  <a:pt x="2978" y="2915"/>
                </a:lnTo>
                <a:lnTo>
                  <a:pt x="2931" y="2915"/>
                </a:lnTo>
                <a:lnTo>
                  <a:pt x="2884" y="2915"/>
                </a:lnTo>
                <a:lnTo>
                  <a:pt x="2837" y="2915"/>
                </a:lnTo>
                <a:lnTo>
                  <a:pt x="2789" y="2915"/>
                </a:lnTo>
                <a:lnTo>
                  <a:pt x="2743" y="2915"/>
                </a:lnTo>
                <a:lnTo>
                  <a:pt x="2695" y="2915"/>
                </a:lnTo>
                <a:lnTo>
                  <a:pt x="2647" y="2915"/>
                </a:lnTo>
                <a:lnTo>
                  <a:pt x="2600" y="2915"/>
                </a:lnTo>
                <a:lnTo>
                  <a:pt x="2553" y="2915"/>
                </a:lnTo>
                <a:lnTo>
                  <a:pt x="2506" y="2915"/>
                </a:lnTo>
                <a:lnTo>
                  <a:pt x="2458" y="2915"/>
                </a:lnTo>
                <a:lnTo>
                  <a:pt x="2412" y="2915"/>
                </a:lnTo>
                <a:lnTo>
                  <a:pt x="2364" y="2915"/>
                </a:lnTo>
                <a:lnTo>
                  <a:pt x="2317" y="2915"/>
                </a:lnTo>
                <a:lnTo>
                  <a:pt x="2269" y="2915"/>
                </a:lnTo>
                <a:lnTo>
                  <a:pt x="2222" y="2915"/>
                </a:lnTo>
                <a:lnTo>
                  <a:pt x="2175" y="2915"/>
                </a:lnTo>
                <a:lnTo>
                  <a:pt x="2127" y="2915"/>
                </a:lnTo>
                <a:lnTo>
                  <a:pt x="2081" y="2915"/>
                </a:lnTo>
                <a:lnTo>
                  <a:pt x="2033" y="2915"/>
                </a:lnTo>
                <a:lnTo>
                  <a:pt x="1986" y="2915"/>
                </a:lnTo>
                <a:lnTo>
                  <a:pt x="1938" y="2915"/>
                </a:lnTo>
                <a:lnTo>
                  <a:pt x="1892" y="2915"/>
                </a:lnTo>
                <a:lnTo>
                  <a:pt x="1844" y="2915"/>
                </a:lnTo>
                <a:lnTo>
                  <a:pt x="1796" y="2915"/>
                </a:lnTo>
                <a:lnTo>
                  <a:pt x="1750" y="2915"/>
                </a:lnTo>
                <a:lnTo>
                  <a:pt x="1702" y="2915"/>
                </a:lnTo>
                <a:lnTo>
                  <a:pt x="1655" y="2915"/>
                </a:lnTo>
                <a:lnTo>
                  <a:pt x="1607" y="2915"/>
                </a:lnTo>
                <a:lnTo>
                  <a:pt x="1561" y="2915"/>
                </a:lnTo>
                <a:lnTo>
                  <a:pt x="1513" y="2915"/>
                </a:lnTo>
                <a:lnTo>
                  <a:pt x="1466" y="2915"/>
                </a:lnTo>
                <a:lnTo>
                  <a:pt x="1419" y="2915"/>
                </a:lnTo>
                <a:lnTo>
                  <a:pt x="1371" y="2915"/>
                </a:lnTo>
                <a:lnTo>
                  <a:pt x="1324" y="2915"/>
                </a:lnTo>
                <a:lnTo>
                  <a:pt x="1276" y="2915"/>
                </a:lnTo>
                <a:lnTo>
                  <a:pt x="1230" y="2915"/>
                </a:lnTo>
                <a:lnTo>
                  <a:pt x="1182" y="2915"/>
                </a:lnTo>
                <a:lnTo>
                  <a:pt x="1135" y="2915"/>
                </a:lnTo>
                <a:lnTo>
                  <a:pt x="1087" y="2915"/>
                </a:lnTo>
                <a:lnTo>
                  <a:pt x="1040" y="2915"/>
                </a:lnTo>
                <a:lnTo>
                  <a:pt x="993" y="2915"/>
                </a:lnTo>
                <a:lnTo>
                  <a:pt x="945" y="2915"/>
                </a:lnTo>
                <a:lnTo>
                  <a:pt x="899" y="2915"/>
                </a:lnTo>
                <a:lnTo>
                  <a:pt x="851" y="2915"/>
                </a:lnTo>
                <a:lnTo>
                  <a:pt x="804" y="2915"/>
                </a:lnTo>
                <a:lnTo>
                  <a:pt x="756" y="2915"/>
                </a:lnTo>
                <a:lnTo>
                  <a:pt x="710" y="2915"/>
                </a:lnTo>
                <a:lnTo>
                  <a:pt x="662" y="2915"/>
                </a:lnTo>
                <a:lnTo>
                  <a:pt x="614" y="2915"/>
                </a:lnTo>
                <a:lnTo>
                  <a:pt x="568" y="2915"/>
                </a:lnTo>
                <a:lnTo>
                  <a:pt x="520" y="2915"/>
                </a:lnTo>
                <a:lnTo>
                  <a:pt x="473" y="2915"/>
                </a:lnTo>
                <a:lnTo>
                  <a:pt x="425" y="2915"/>
                </a:lnTo>
                <a:lnTo>
                  <a:pt x="379" y="2915"/>
                </a:lnTo>
                <a:lnTo>
                  <a:pt x="331" y="2915"/>
                </a:lnTo>
                <a:lnTo>
                  <a:pt x="284" y="2915"/>
                </a:lnTo>
                <a:lnTo>
                  <a:pt x="237" y="2915"/>
                </a:lnTo>
                <a:lnTo>
                  <a:pt x="189" y="2915"/>
                </a:lnTo>
                <a:lnTo>
                  <a:pt x="142" y="2915"/>
                </a:lnTo>
                <a:lnTo>
                  <a:pt x="94" y="2915"/>
                </a:lnTo>
                <a:lnTo>
                  <a:pt x="48" y="2915"/>
                </a:lnTo>
                <a:lnTo>
                  <a:pt x="0" y="29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2"/>
                </a:lnTo>
                <a:lnTo>
                  <a:pt x="1750" y="5"/>
                </a:lnTo>
                <a:lnTo>
                  <a:pt x="1796" y="9"/>
                </a:lnTo>
                <a:lnTo>
                  <a:pt x="1844" y="18"/>
                </a:lnTo>
                <a:lnTo>
                  <a:pt x="1892" y="31"/>
                </a:lnTo>
                <a:lnTo>
                  <a:pt x="1938" y="47"/>
                </a:lnTo>
                <a:lnTo>
                  <a:pt x="1986" y="71"/>
                </a:lnTo>
                <a:lnTo>
                  <a:pt x="2033" y="101"/>
                </a:lnTo>
                <a:lnTo>
                  <a:pt x="2081" y="135"/>
                </a:lnTo>
                <a:lnTo>
                  <a:pt x="2127" y="179"/>
                </a:lnTo>
                <a:lnTo>
                  <a:pt x="2175" y="231"/>
                </a:lnTo>
                <a:lnTo>
                  <a:pt x="2222" y="287"/>
                </a:lnTo>
                <a:lnTo>
                  <a:pt x="2269" y="355"/>
                </a:lnTo>
                <a:lnTo>
                  <a:pt x="2317" y="429"/>
                </a:lnTo>
                <a:lnTo>
                  <a:pt x="2364" y="506"/>
                </a:lnTo>
                <a:lnTo>
                  <a:pt x="2412" y="593"/>
                </a:lnTo>
                <a:lnTo>
                  <a:pt x="2458" y="685"/>
                </a:lnTo>
                <a:lnTo>
                  <a:pt x="2506" y="775"/>
                </a:lnTo>
                <a:lnTo>
                  <a:pt x="2553" y="874"/>
                </a:lnTo>
                <a:lnTo>
                  <a:pt x="2600" y="987"/>
                </a:lnTo>
                <a:lnTo>
                  <a:pt x="2647" y="1099"/>
                </a:lnTo>
                <a:lnTo>
                  <a:pt x="2695" y="1204"/>
                </a:lnTo>
                <a:lnTo>
                  <a:pt x="2743" y="1327"/>
                </a:lnTo>
                <a:lnTo>
                  <a:pt x="2789" y="1436"/>
                </a:lnTo>
                <a:lnTo>
                  <a:pt x="2837" y="1515"/>
                </a:lnTo>
                <a:lnTo>
                  <a:pt x="2884" y="1614"/>
                </a:lnTo>
                <a:lnTo>
                  <a:pt x="2931" y="1712"/>
                </a:lnTo>
                <a:lnTo>
                  <a:pt x="2978" y="1768"/>
                </a:lnTo>
                <a:lnTo>
                  <a:pt x="3026" y="1834"/>
                </a:lnTo>
                <a:lnTo>
                  <a:pt x="3073" y="1899"/>
                </a:lnTo>
                <a:lnTo>
                  <a:pt x="3120" y="1940"/>
                </a:lnTo>
                <a:lnTo>
                  <a:pt x="3168" y="1993"/>
                </a:lnTo>
                <a:lnTo>
                  <a:pt x="3215" y="2047"/>
                </a:lnTo>
                <a:lnTo>
                  <a:pt x="3262" y="2080"/>
                </a:lnTo>
                <a:lnTo>
                  <a:pt x="3309" y="2120"/>
                </a:lnTo>
                <a:lnTo>
                  <a:pt x="3357" y="2163"/>
                </a:lnTo>
                <a:lnTo>
                  <a:pt x="3404" y="2187"/>
                </a:lnTo>
                <a:lnTo>
                  <a:pt x="3451" y="2218"/>
                </a:lnTo>
                <a:lnTo>
                  <a:pt x="3499" y="2253"/>
                </a:lnTo>
                <a:lnTo>
                  <a:pt x="3546" y="2272"/>
                </a:lnTo>
                <a:lnTo>
                  <a:pt x="3594" y="2298"/>
                </a:lnTo>
                <a:lnTo>
                  <a:pt x="3640" y="2325"/>
                </a:lnTo>
                <a:lnTo>
                  <a:pt x="3688" y="2341"/>
                </a:lnTo>
                <a:lnTo>
                  <a:pt x="3735" y="2360"/>
                </a:lnTo>
                <a:lnTo>
                  <a:pt x="3782" y="2380"/>
                </a:lnTo>
                <a:lnTo>
                  <a:pt x="3829" y="2392"/>
                </a:lnTo>
                <a:lnTo>
                  <a:pt x="3877" y="2408"/>
                </a:lnTo>
                <a:lnTo>
                  <a:pt x="3925" y="2426"/>
                </a:lnTo>
                <a:lnTo>
                  <a:pt x="3971" y="2436"/>
                </a:lnTo>
                <a:lnTo>
                  <a:pt x="4019" y="2450"/>
                </a:lnTo>
                <a:lnTo>
                  <a:pt x="4066" y="2465"/>
                </a:lnTo>
                <a:lnTo>
                  <a:pt x="4113" y="2473"/>
                </a:lnTo>
                <a:lnTo>
                  <a:pt x="4160" y="2485"/>
                </a:lnTo>
                <a:lnTo>
                  <a:pt x="4208" y="2498"/>
                </a:lnTo>
                <a:lnTo>
                  <a:pt x="4255" y="2506"/>
                </a:lnTo>
                <a:lnTo>
                  <a:pt x="4302" y="2515"/>
                </a:lnTo>
                <a:lnTo>
                  <a:pt x="4350" y="2524"/>
                </a:lnTo>
                <a:lnTo>
                  <a:pt x="4397" y="2529"/>
                </a:lnTo>
                <a:lnTo>
                  <a:pt x="4444" y="2536"/>
                </a:lnTo>
                <a:lnTo>
                  <a:pt x="4491" y="2543"/>
                </a:lnTo>
                <a:lnTo>
                  <a:pt x="4539" y="2546"/>
                </a:lnTo>
                <a:lnTo>
                  <a:pt x="4586" y="2551"/>
                </a:lnTo>
                <a:lnTo>
                  <a:pt x="4633" y="2555"/>
                </a:lnTo>
                <a:lnTo>
                  <a:pt x="4680" y="2558"/>
                </a:lnTo>
                <a:lnTo>
                  <a:pt x="4680" y="2558"/>
                </a:lnTo>
                <a:lnTo>
                  <a:pt x="4633" y="2556"/>
                </a:lnTo>
                <a:lnTo>
                  <a:pt x="4586" y="2551"/>
                </a:lnTo>
                <a:lnTo>
                  <a:pt x="4539" y="2547"/>
                </a:lnTo>
                <a:lnTo>
                  <a:pt x="4491" y="2543"/>
                </a:lnTo>
                <a:lnTo>
                  <a:pt x="4444" y="2536"/>
                </a:lnTo>
                <a:lnTo>
                  <a:pt x="4397" y="2530"/>
                </a:lnTo>
                <a:lnTo>
                  <a:pt x="4350" y="2525"/>
                </a:lnTo>
                <a:lnTo>
                  <a:pt x="4302" y="2516"/>
                </a:lnTo>
                <a:lnTo>
                  <a:pt x="4255" y="2507"/>
                </a:lnTo>
                <a:lnTo>
                  <a:pt x="4208" y="2499"/>
                </a:lnTo>
                <a:lnTo>
                  <a:pt x="4160" y="2486"/>
                </a:lnTo>
                <a:lnTo>
                  <a:pt x="4113" y="2474"/>
                </a:lnTo>
                <a:lnTo>
                  <a:pt x="4066" y="2465"/>
                </a:lnTo>
                <a:lnTo>
                  <a:pt x="4019" y="2450"/>
                </a:lnTo>
                <a:lnTo>
                  <a:pt x="3971" y="2437"/>
                </a:lnTo>
                <a:lnTo>
                  <a:pt x="3925" y="2426"/>
                </a:lnTo>
                <a:lnTo>
                  <a:pt x="3877" y="2408"/>
                </a:lnTo>
                <a:lnTo>
                  <a:pt x="3829" y="2393"/>
                </a:lnTo>
                <a:lnTo>
                  <a:pt x="3782" y="2381"/>
                </a:lnTo>
                <a:lnTo>
                  <a:pt x="3735" y="2361"/>
                </a:lnTo>
                <a:lnTo>
                  <a:pt x="3688" y="2341"/>
                </a:lnTo>
                <a:lnTo>
                  <a:pt x="3640" y="2326"/>
                </a:lnTo>
                <a:lnTo>
                  <a:pt x="3594" y="2299"/>
                </a:lnTo>
                <a:lnTo>
                  <a:pt x="3546" y="2273"/>
                </a:lnTo>
                <a:lnTo>
                  <a:pt x="3499" y="2254"/>
                </a:lnTo>
                <a:lnTo>
                  <a:pt x="3451" y="2220"/>
                </a:lnTo>
                <a:lnTo>
                  <a:pt x="3404" y="2188"/>
                </a:lnTo>
                <a:lnTo>
                  <a:pt x="3357" y="2164"/>
                </a:lnTo>
                <a:lnTo>
                  <a:pt x="3309" y="2122"/>
                </a:lnTo>
                <a:lnTo>
                  <a:pt x="3262" y="2081"/>
                </a:lnTo>
                <a:lnTo>
                  <a:pt x="3215" y="2049"/>
                </a:lnTo>
                <a:lnTo>
                  <a:pt x="3168" y="1995"/>
                </a:lnTo>
                <a:lnTo>
                  <a:pt x="3120" y="1941"/>
                </a:lnTo>
                <a:lnTo>
                  <a:pt x="3073" y="1901"/>
                </a:lnTo>
                <a:lnTo>
                  <a:pt x="3026" y="1835"/>
                </a:lnTo>
                <a:lnTo>
                  <a:pt x="2978" y="1769"/>
                </a:lnTo>
                <a:lnTo>
                  <a:pt x="2931" y="1714"/>
                </a:lnTo>
                <a:lnTo>
                  <a:pt x="2884" y="1616"/>
                </a:lnTo>
                <a:lnTo>
                  <a:pt x="2837" y="1517"/>
                </a:lnTo>
                <a:lnTo>
                  <a:pt x="2789" y="1438"/>
                </a:lnTo>
                <a:lnTo>
                  <a:pt x="2743" y="1329"/>
                </a:lnTo>
                <a:lnTo>
                  <a:pt x="2695" y="1206"/>
                </a:lnTo>
                <a:lnTo>
                  <a:pt x="2647" y="1101"/>
                </a:lnTo>
                <a:lnTo>
                  <a:pt x="2600" y="989"/>
                </a:lnTo>
                <a:lnTo>
                  <a:pt x="2553" y="877"/>
                </a:lnTo>
                <a:lnTo>
                  <a:pt x="2506" y="778"/>
                </a:lnTo>
                <a:lnTo>
                  <a:pt x="2458" y="688"/>
                </a:lnTo>
                <a:lnTo>
                  <a:pt x="2412" y="596"/>
                </a:lnTo>
                <a:lnTo>
                  <a:pt x="2364" y="509"/>
                </a:lnTo>
                <a:lnTo>
                  <a:pt x="2317" y="433"/>
                </a:lnTo>
                <a:lnTo>
                  <a:pt x="2269" y="358"/>
                </a:lnTo>
                <a:lnTo>
                  <a:pt x="2222" y="291"/>
                </a:lnTo>
                <a:lnTo>
                  <a:pt x="2175" y="235"/>
                </a:lnTo>
                <a:lnTo>
                  <a:pt x="2127" y="182"/>
                </a:lnTo>
                <a:lnTo>
                  <a:pt x="2081" y="138"/>
                </a:lnTo>
                <a:lnTo>
                  <a:pt x="2033" y="105"/>
                </a:lnTo>
                <a:lnTo>
                  <a:pt x="1986" y="75"/>
                </a:lnTo>
                <a:lnTo>
                  <a:pt x="1938" y="51"/>
                </a:lnTo>
                <a:lnTo>
                  <a:pt x="1892" y="35"/>
                </a:lnTo>
                <a:lnTo>
                  <a:pt x="1844" y="22"/>
                </a:lnTo>
                <a:lnTo>
                  <a:pt x="1796" y="13"/>
                </a:lnTo>
                <a:lnTo>
                  <a:pt x="1750" y="9"/>
                </a:lnTo>
                <a:lnTo>
                  <a:pt x="1702" y="6"/>
                </a:lnTo>
                <a:lnTo>
                  <a:pt x="1655" y="5"/>
                </a:lnTo>
                <a:lnTo>
                  <a:pt x="1607" y="5"/>
                </a:lnTo>
                <a:lnTo>
                  <a:pt x="1561" y="5"/>
                </a:lnTo>
                <a:lnTo>
                  <a:pt x="1513" y="5"/>
                </a:lnTo>
                <a:lnTo>
                  <a:pt x="1466" y="5"/>
                </a:lnTo>
                <a:lnTo>
                  <a:pt x="1419" y="5"/>
                </a:lnTo>
                <a:lnTo>
                  <a:pt x="1371" y="5"/>
                </a:lnTo>
                <a:lnTo>
                  <a:pt x="1324" y="6"/>
                </a:lnTo>
                <a:lnTo>
                  <a:pt x="1276" y="6"/>
                </a:lnTo>
                <a:lnTo>
                  <a:pt x="1230" y="7"/>
                </a:lnTo>
                <a:lnTo>
                  <a:pt x="1182" y="7"/>
                </a:lnTo>
                <a:lnTo>
                  <a:pt x="1135" y="8"/>
                </a:lnTo>
                <a:lnTo>
                  <a:pt x="1087" y="8"/>
                </a:lnTo>
                <a:lnTo>
                  <a:pt x="1040" y="9"/>
                </a:lnTo>
                <a:lnTo>
                  <a:pt x="993" y="11"/>
                </a:lnTo>
                <a:lnTo>
                  <a:pt x="945" y="12"/>
                </a:lnTo>
                <a:lnTo>
                  <a:pt x="899" y="14"/>
                </a:lnTo>
                <a:lnTo>
                  <a:pt x="851" y="19"/>
                </a:lnTo>
                <a:lnTo>
                  <a:pt x="804" y="23"/>
                </a:lnTo>
                <a:lnTo>
                  <a:pt x="756" y="32"/>
                </a:lnTo>
                <a:lnTo>
                  <a:pt x="710" y="50"/>
                </a:lnTo>
                <a:lnTo>
                  <a:pt x="662" y="86"/>
                </a:lnTo>
                <a:lnTo>
                  <a:pt x="614" y="244"/>
                </a:lnTo>
                <a:lnTo>
                  <a:pt x="568" y="1840"/>
                </a:lnTo>
                <a:lnTo>
                  <a:pt x="520" y="1915"/>
                </a:lnTo>
                <a:lnTo>
                  <a:pt x="473" y="2007"/>
                </a:lnTo>
                <a:lnTo>
                  <a:pt x="425" y="2128"/>
                </a:lnTo>
                <a:lnTo>
                  <a:pt x="379" y="2290"/>
                </a:lnTo>
                <a:lnTo>
                  <a:pt x="331" y="2513"/>
                </a:lnTo>
                <a:lnTo>
                  <a:pt x="284" y="2799"/>
                </a:lnTo>
                <a:lnTo>
                  <a:pt x="237" y="2920"/>
                </a:lnTo>
                <a:lnTo>
                  <a:pt x="189" y="2920"/>
                </a:lnTo>
                <a:lnTo>
                  <a:pt x="142" y="2920"/>
                </a:lnTo>
                <a:lnTo>
                  <a:pt x="94" y="2920"/>
                </a:lnTo>
                <a:lnTo>
                  <a:pt x="48" y="2920"/>
                </a:lnTo>
                <a:lnTo>
                  <a:pt x="0" y="29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1"/>
                </a:lnTo>
                <a:lnTo>
                  <a:pt x="1750" y="3"/>
                </a:lnTo>
                <a:lnTo>
                  <a:pt x="1796" y="5"/>
                </a:lnTo>
                <a:lnTo>
                  <a:pt x="1844" y="10"/>
                </a:lnTo>
                <a:lnTo>
                  <a:pt x="1892" y="19"/>
                </a:lnTo>
                <a:lnTo>
                  <a:pt x="1938" y="29"/>
                </a:lnTo>
                <a:lnTo>
                  <a:pt x="1986" y="43"/>
                </a:lnTo>
                <a:lnTo>
                  <a:pt x="2033" y="61"/>
                </a:lnTo>
                <a:lnTo>
                  <a:pt x="2081" y="81"/>
                </a:lnTo>
                <a:lnTo>
                  <a:pt x="2127" y="109"/>
                </a:lnTo>
                <a:lnTo>
                  <a:pt x="2175" y="140"/>
                </a:lnTo>
                <a:lnTo>
                  <a:pt x="2222" y="173"/>
                </a:lnTo>
                <a:lnTo>
                  <a:pt x="2269" y="215"/>
                </a:lnTo>
                <a:lnTo>
                  <a:pt x="2317" y="260"/>
                </a:lnTo>
                <a:lnTo>
                  <a:pt x="2364" y="306"/>
                </a:lnTo>
                <a:lnTo>
                  <a:pt x="2412" y="360"/>
                </a:lnTo>
                <a:lnTo>
                  <a:pt x="2458" y="415"/>
                </a:lnTo>
                <a:lnTo>
                  <a:pt x="2506" y="470"/>
                </a:lnTo>
                <a:lnTo>
                  <a:pt x="2553" y="528"/>
                </a:lnTo>
                <a:lnTo>
                  <a:pt x="2600" y="597"/>
                </a:lnTo>
                <a:lnTo>
                  <a:pt x="2647" y="665"/>
                </a:lnTo>
                <a:lnTo>
                  <a:pt x="2695" y="729"/>
                </a:lnTo>
                <a:lnTo>
                  <a:pt x="2743" y="803"/>
                </a:lnTo>
                <a:lnTo>
                  <a:pt x="2789" y="869"/>
                </a:lnTo>
                <a:lnTo>
                  <a:pt x="2837" y="917"/>
                </a:lnTo>
                <a:lnTo>
                  <a:pt x="2884" y="977"/>
                </a:lnTo>
                <a:lnTo>
                  <a:pt x="2931" y="1036"/>
                </a:lnTo>
                <a:lnTo>
                  <a:pt x="2978" y="1070"/>
                </a:lnTo>
                <a:lnTo>
                  <a:pt x="3026" y="1109"/>
                </a:lnTo>
                <a:lnTo>
                  <a:pt x="3073" y="1150"/>
                </a:lnTo>
                <a:lnTo>
                  <a:pt x="3120" y="1174"/>
                </a:lnTo>
                <a:lnTo>
                  <a:pt x="3168" y="1206"/>
                </a:lnTo>
                <a:lnTo>
                  <a:pt x="3215" y="1239"/>
                </a:lnTo>
                <a:lnTo>
                  <a:pt x="3262" y="1258"/>
                </a:lnTo>
                <a:lnTo>
                  <a:pt x="3309" y="1283"/>
                </a:lnTo>
                <a:lnTo>
                  <a:pt x="3357" y="1309"/>
                </a:lnTo>
                <a:lnTo>
                  <a:pt x="3404" y="1324"/>
                </a:lnTo>
                <a:lnTo>
                  <a:pt x="3451" y="1343"/>
                </a:lnTo>
                <a:lnTo>
                  <a:pt x="3499" y="1363"/>
                </a:lnTo>
                <a:lnTo>
                  <a:pt x="3546" y="1374"/>
                </a:lnTo>
                <a:lnTo>
                  <a:pt x="3594" y="1391"/>
                </a:lnTo>
                <a:lnTo>
                  <a:pt x="3640" y="1407"/>
                </a:lnTo>
                <a:lnTo>
                  <a:pt x="3688" y="1416"/>
                </a:lnTo>
                <a:lnTo>
                  <a:pt x="3735" y="1428"/>
                </a:lnTo>
                <a:lnTo>
                  <a:pt x="3782" y="1440"/>
                </a:lnTo>
                <a:lnTo>
                  <a:pt x="3829" y="1447"/>
                </a:lnTo>
                <a:lnTo>
                  <a:pt x="3877" y="1457"/>
                </a:lnTo>
                <a:lnTo>
                  <a:pt x="3925" y="1467"/>
                </a:lnTo>
                <a:lnTo>
                  <a:pt x="3971" y="1474"/>
                </a:lnTo>
                <a:lnTo>
                  <a:pt x="4019" y="1483"/>
                </a:lnTo>
                <a:lnTo>
                  <a:pt x="4066" y="1492"/>
                </a:lnTo>
                <a:lnTo>
                  <a:pt x="4113" y="1497"/>
                </a:lnTo>
                <a:lnTo>
                  <a:pt x="4160" y="1504"/>
                </a:lnTo>
                <a:lnTo>
                  <a:pt x="4208" y="1512"/>
                </a:lnTo>
                <a:lnTo>
                  <a:pt x="4255" y="1516"/>
                </a:lnTo>
                <a:lnTo>
                  <a:pt x="4302" y="1520"/>
                </a:lnTo>
                <a:lnTo>
                  <a:pt x="4350" y="1524"/>
                </a:lnTo>
                <a:lnTo>
                  <a:pt x="4397" y="1526"/>
                </a:lnTo>
                <a:lnTo>
                  <a:pt x="4444" y="1529"/>
                </a:lnTo>
                <a:lnTo>
                  <a:pt x="4491" y="1532"/>
                </a:lnTo>
                <a:lnTo>
                  <a:pt x="4539" y="1534"/>
                </a:lnTo>
                <a:lnTo>
                  <a:pt x="4586" y="1536"/>
                </a:lnTo>
                <a:lnTo>
                  <a:pt x="4633" y="1538"/>
                </a:lnTo>
                <a:lnTo>
                  <a:pt x="4680" y="1539"/>
                </a:lnTo>
                <a:lnTo>
                  <a:pt x="4680" y="2558"/>
                </a:lnTo>
                <a:lnTo>
                  <a:pt x="4633" y="2555"/>
                </a:lnTo>
                <a:lnTo>
                  <a:pt x="4586" y="2551"/>
                </a:lnTo>
                <a:lnTo>
                  <a:pt x="4539" y="2546"/>
                </a:lnTo>
                <a:lnTo>
                  <a:pt x="4491" y="2543"/>
                </a:lnTo>
                <a:lnTo>
                  <a:pt x="4444" y="2536"/>
                </a:lnTo>
                <a:lnTo>
                  <a:pt x="4397" y="2529"/>
                </a:lnTo>
                <a:lnTo>
                  <a:pt x="4350" y="2524"/>
                </a:lnTo>
                <a:lnTo>
                  <a:pt x="4302" y="2515"/>
                </a:lnTo>
                <a:lnTo>
                  <a:pt x="4255" y="2506"/>
                </a:lnTo>
                <a:lnTo>
                  <a:pt x="4208" y="2498"/>
                </a:lnTo>
                <a:lnTo>
                  <a:pt x="4160" y="2485"/>
                </a:lnTo>
                <a:lnTo>
                  <a:pt x="4113" y="2473"/>
                </a:lnTo>
                <a:lnTo>
                  <a:pt x="4066" y="2465"/>
                </a:lnTo>
                <a:lnTo>
                  <a:pt x="4019" y="2450"/>
                </a:lnTo>
                <a:lnTo>
                  <a:pt x="3971" y="2436"/>
                </a:lnTo>
                <a:lnTo>
                  <a:pt x="3925" y="2426"/>
                </a:lnTo>
                <a:lnTo>
                  <a:pt x="3877" y="2408"/>
                </a:lnTo>
                <a:lnTo>
                  <a:pt x="3829" y="2392"/>
                </a:lnTo>
                <a:lnTo>
                  <a:pt x="3782" y="2380"/>
                </a:lnTo>
                <a:lnTo>
                  <a:pt x="3735" y="2360"/>
                </a:lnTo>
                <a:lnTo>
                  <a:pt x="3688" y="2341"/>
                </a:lnTo>
                <a:lnTo>
                  <a:pt x="3640" y="2325"/>
                </a:lnTo>
                <a:lnTo>
                  <a:pt x="3594" y="2298"/>
                </a:lnTo>
                <a:lnTo>
                  <a:pt x="3546" y="2272"/>
                </a:lnTo>
                <a:lnTo>
                  <a:pt x="3499" y="2253"/>
                </a:lnTo>
                <a:lnTo>
                  <a:pt x="3451" y="2218"/>
                </a:lnTo>
                <a:lnTo>
                  <a:pt x="3404" y="2187"/>
                </a:lnTo>
                <a:lnTo>
                  <a:pt x="3357" y="2163"/>
                </a:lnTo>
                <a:lnTo>
                  <a:pt x="3309" y="2120"/>
                </a:lnTo>
                <a:lnTo>
                  <a:pt x="3262" y="2080"/>
                </a:lnTo>
                <a:lnTo>
                  <a:pt x="3215" y="2047"/>
                </a:lnTo>
                <a:lnTo>
                  <a:pt x="3168" y="1993"/>
                </a:lnTo>
                <a:lnTo>
                  <a:pt x="3120" y="1940"/>
                </a:lnTo>
                <a:lnTo>
                  <a:pt x="3073" y="1899"/>
                </a:lnTo>
                <a:lnTo>
                  <a:pt x="3026" y="1834"/>
                </a:lnTo>
                <a:lnTo>
                  <a:pt x="2978" y="1768"/>
                </a:lnTo>
                <a:lnTo>
                  <a:pt x="2931" y="1712"/>
                </a:lnTo>
                <a:lnTo>
                  <a:pt x="2884" y="1614"/>
                </a:lnTo>
                <a:lnTo>
                  <a:pt x="2837" y="1515"/>
                </a:lnTo>
                <a:lnTo>
                  <a:pt x="2789" y="1436"/>
                </a:lnTo>
                <a:lnTo>
                  <a:pt x="2743" y="1327"/>
                </a:lnTo>
                <a:lnTo>
                  <a:pt x="2695" y="1204"/>
                </a:lnTo>
                <a:lnTo>
                  <a:pt x="2647" y="1099"/>
                </a:lnTo>
                <a:lnTo>
                  <a:pt x="2600" y="987"/>
                </a:lnTo>
                <a:lnTo>
                  <a:pt x="2553" y="874"/>
                </a:lnTo>
                <a:lnTo>
                  <a:pt x="2506" y="775"/>
                </a:lnTo>
                <a:lnTo>
                  <a:pt x="2458" y="685"/>
                </a:lnTo>
                <a:lnTo>
                  <a:pt x="2412" y="593"/>
                </a:lnTo>
                <a:lnTo>
                  <a:pt x="2364" y="506"/>
                </a:lnTo>
                <a:lnTo>
                  <a:pt x="2317" y="429"/>
                </a:lnTo>
                <a:lnTo>
                  <a:pt x="2269" y="355"/>
                </a:lnTo>
                <a:lnTo>
                  <a:pt x="2222" y="287"/>
                </a:lnTo>
                <a:lnTo>
                  <a:pt x="2175" y="231"/>
                </a:lnTo>
                <a:lnTo>
                  <a:pt x="2127" y="179"/>
                </a:lnTo>
                <a:lnTo>
                  <a:pt x="2081" y="135"/>
                </a:lnTo>
                <a:lnTo>
                  <a:pt x="2033" y="101"/>
                </a:lnTo>
                <a:lnTo>
                  <a:pt x="1986" y="71"/>
                </a:lnTo>
                <a:lnTo>
                  <a:pt x="1938" y="47"/>
                </a:lnTo>
                <a:lnTo>
                  <a:pt x="1892" y="31"/>
                </a:lnTo>
                <a:lnTo>
                  <a:pt x="1844" y="18"/>
                </a:lnTo>
                <a:lnTo>
                  <a:pt x="1796" y="9"/>
                </a:lnTo>
                <a:lnTo>
                  <a:pt x="1750" y="5"/>
                </a:lnTo>
                <a:lnTo>
                  <a:pt x="1702" y="2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29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71600" y="919080"/>
            <a:ext cx="7429680" cy="4635720"/>
          </a:xfrm>
          <a:custGeom>
            <a:avLst/>
            <a:gdLst/>
            <a:ahLst/>
            <a:rect l="l" t="t" r="r" b="b"/>
            <a:pathLst>
              <a:path w="4680" h="2920">
                <a:moveTo>
                  <a:pt x="0" y="2920"/>
                </a:moveTo>
                <a:lnTo>
                  <a:pt x="0" y="2920"/>
                </a:lnTo>
                <a:lnTo>
                  <a:pt x="48" y="0"/>
                </a:lnTo>
                <a:lnTo>
                  <a:pt x="94" y="0"/>
                </a:lnTo>
                <a:lnTo>
                  <a:pt x="142" y="0"/>
                </a:lnTo>
                <a:lnTo>
                  <a:pt x="189" y="0"/>
                </a:lnTo>
                <a:lnTo>
                  <a:pt x="237" y="0"/>
                </a:lnTo>
                <a:lnTo>
                  <a:pt x="284" y="0"/>
                </a:lnTo>
                <a:lnTo>
                  <a:pt x="331" y="0"/>
                </a:lnTo>
                <a:lnTo>
                  <a:pt x="379" y="0"/>
                </a:lnTo>
                <a:lnTo>
                  <a:pt x="425" y="0"/>
                </a:lnTo>
                <a:lnTo>
                  <a:pt x="473" y="0"/>
                </a:lnTo>
                <a:lnTo>
                  <a:pt x="520" y="0"/>
                </a:lnTo>
                <a:lnTo>
                  <a:pt x="568" y="0"/>
                </a:lnTo>
                <a:lnTo>
                  <a:pt x="614" y="0"/>
                </a:lnTo>
                <a:lnTo>
                  <a:pt x="662" y="0"/>
                </a:lnTo>
                <a:lnTo>
                  <a:pt x="710" y="0"/>
                </a:lnTo>
                <a:lnTo>
                  <a:pt x="756" y="0"/>
                </a:lnTo>
                <a:lnTo>
                  <a:pt x="804" y="0"/>
                </a:lnTo>
                <a:lnTo>
                  <a:pt x="851" y="0"/>
                </a:lnTo>
                <a:lnTo>
                  <a:pt x="899" y="0"/>
                </a:lnTo>
                <a:lnTo>
                  <a:pt x="945" y="0"/>
                </a:lnTo>
                <a:lnTo>
                  <a:pt x="993" y="0"/>
                </a:lnTo>
                <a:lnTo>
                  <a:pt x="1040" y="0"/>
                </a:lnTo>
                <a:lnTo>
                  <a:pt x="1087" y="0"/>
                </a:lnTo>
                <a:lnTo>
                  <a:pt x="1135" y="0"/>
                </a:lnTo>
                <a:lnTo>
                  <a:pt x="1182" y="0"/>
                </a:lnTo>
                <a:lnTo>
                  <a:pt x="1230" y="0"/>
                </a:lnTo>
                <a:lnTo>
                  <a:pt x="1276" y="0"/>
                </a:lnTo>
                <a:lnTo>
                  <a:pt x="1324" y="0"/>
                </a:lnTo>
                <a:lnTo>
                  <a:pt x="1371" y="0"/>
                </a:lnTo>
                <a:lnTo>
                  <a:pt x="1419" y="0"/>
                </a:lnTo>
                <a:lnTo>
                  <a:pt x="1466" y="0"/>
                </a:lnTo>
                <a:lnTo>
                  <a:pt x="1513" y="0"/>
                </a:lnTo>
                <a:lnTo>
                  <a:pt x="1561" y="0"/>
                </a:lnTo>
                <a:lnTo>
                  <a:pt x="1607" y="0"/>
                </a:lnTo>
                <a:lnTo>
                  <a:pt x="1655" y="0"/>
                </a:lnTo>
                <a:lnTo>
                  <a:pt x="1702" y="0"/>
                </a:lnTo>
                <a:lnTo>
                  <a:pt x="1750" y="0"/>
                </a:lnTo>
                <a:lnTo>
                  <a:pt x="1796" y="0"/>
                </a:lnTo>
                <a:lnTo>
                  <a:pt x="1844" y="0"/>
                </a:lnTo>
                <a:lnTo>
                  <a:pt x="1892" y="0"/>
                </a:lnTo>
                <a:lnTo>
                  <a:pt x="1938" y="0"/>
                </a:lnTo>
                <a:lnTo>
                  <a:pt x="1986" y="0"/>
                </a:lnTo>
                <a:lnTo>
                  <a:pt x="2033" y="0"/>
                </a:lnTo>
                <a:lnTo>
                  <a:pt x="2081" y="0"/>
                </a:lnTo>
                <a:lnTo>
                  <a:pt x="2127" y="0"/>
                </a:lnTo>
                <a:lnTo>
                  <a:pt x="2175" y="0"/>
                </a:lnTo>
                <a:lnTo>
                  <a:pt x="2222" y="0"/>
                </a:lnTo>
                <a:lnTo>
                  <a:pt x="2269" y="0"/>
                </a:lnTo>
                <a:lnTo>
                  <a:pt x="2317" y="0"/>
                </a:lnTo>
                <a:lnTo>
                  <a:pt x="2364" y="0"/>
                </a:lnTo>
                <a:lnTo>
                  <a:pt x="2412" y="0"/>
                </a:lnTo>
                <a:lnTo>
                  <a:pt x="2458" y="0"/>
                </a:lnTo>
                <a:lnTo>
                  <a:pt x="2506" y="0"/>
                </a:lnTo>
                <a:lnTo>
                  <a:pt x="2553" y="0"/>
                </a:lnTo>
                <a:lnTo>
                  <a:pt x="2600" y="0"/>
                </a:lnTo>
                <a:lnTo>
                  <a:pt x="2647" y="0"/>
                </a:lnTo>
                <a:lnTo>
                  <a:pt x="2695" y="0"/>
                </a:lnTo>
                <a:lnTo>
                  <a:pt x="2743" y="0"/>
                </a:lnTo>
                <a:lnTo>
                  <a:pt x="2789" y="0"/>
                </a:lnTo>
                <a:lnTo>
                  <a:pt x="2837" y="0"/>
                </a:lnTo>
                <a:lnTo>
                  <a:pt x="2884" y="0"/>
                </a:lnTo>
                <a:lnTo>
                  <a:pt x="2931" y="0"/>
                </a:lnTo>
                <a:lnTo>
                  <a:pt x="2978" y="0"/>
                </a:lnTo>
                <a:lnTo>
                  <a:pt x="3026" y="0"/>
                </a:lnTo>
                <a:lnTo>
                  <a:pt x="3073" y="0"/>
                </a:lnTo>
                <a:lnTo>
                  <a:pt x="3120" y="0"/>
                </a:lnTo>
                <a:lnTo>
                  <a:pt x="3168" y="0"/>
                </a:lnTo>
                <a:lnTo>
                  <a:pt x="3215" y="0"/>
                </a:lnTo>
                <a:lnTo>
                  <a:pt x="3262" y="0"/>
                </a:lnTo>
                <a:lnTo>
                  <a:pt x="3309" y="0"/>
                </a:lnTo>
                <a:lnTo>
                  <a:pt x="3357" y="0"/>
                </a:lnTo>
                <a:lnTo>
                  <a:pt x="3404" y="0"/>
                </a:lnTo>
                <a:lnTo>
                  <a:pt x="3451" y="0"/>
                </a:lnTo>
                <a:lnTo>
                  <a:pt x="3499" y="0"/>
                </a:lnTo>
                <a:lnTo>
                  <a:pt x="3546" y="0"/>
                </a:lnTo>
                <a:lnTo>
                  <a:pt x="3594" y="0"/>
                </a:lnTo>
                <a:lnTo>
                  <a:pt x="3640" y="0"/>
                </a:lnTo>
                <a:lnTo>
                  <a:pt x="3688" y="0"/>
                </a:lnTo>
                <a:lnTo>
                  <a:pt x="3735" y="0"/>
                </a:lnTo>
                <a:lnTo>
                  <a:pt x="3782" y="0"/>
                </a:lnTo>
                <a:lnTo>
                  <a:pt x="3829" y="0"/>
                </a:lnTo>
                <a:lnTo>
                  <a:pt x="3877" y="0"/>
                </a:lnTo>
                <a:lnTo>
                  <a:pt x="3925" y="0"/>
                </a:lnTo>
                <a:lnTo>
                  <a:pt x="3971" y="0"/>
                </a:lnTo>
                <a:lnTo>
                  <a:pt x="4019" y="0"/>
                </a:lnTo>
                <a:lnTo>
                  <a:pt x="4066" y="0"/>
                </a:lnTo>
                <a:lnTo>
                  <a:pt x="4113" y="0"/>
                </a:lnTo>
                <a:lnTo>
                  <a:pt x="4160" y="0"/>
                </a:lnTo>
                <a:lnTo>
                  <a:pt x="4208" y="0"/>
                </a:lnTo>
                <a:lnTo>
                  <a:pt x="4255" y="0"/>
                </a:lnTo>
                <a:lnTo>
                  <a:pt x="4302" y="0"/>
                </a:lnTo>
                <a:lnTo>
                  <a:pt x="4350" y="0"/>
                </a:lnTo>
                <a:lnTo>
                  <a:pt x="4397" y="0"/>
                </a:lnTo>
                <a:lnTo>
                  <a:pt x="4444" y="0"/>
                </a:lnTo>
                <a:lnTo>
                  <a:pt x="4491" y="0"/>
                </a:lnTo>
                <a:lnTo>
                  <a:pt x="4539" y="0"/>
                </a:lnTo>
                <a:lnTo>
                  <a:pt x="4586" y="0"/>
                </a:lnTo>
                <a:lnTo>
                  <a:pt x="4633" y="0"/>
                </a:lnTo>
                <a:lnTo>
                  <a:pt x="4680" y="0"/>
                </a:lnTo>
                <a:lnTo>
                  <a:pt x="4680" y="1539"/>
                </a:lnTo>
                <a:lnTo>
                  <a:pt x="4633" y="1538"/>
                </a:lnTo>
                <a:lnTo>
                  <a:pt x="4586" y="1536"/>
                </a:lnTo>
                <a:lnTo>
                  <a:pt x="4539" y="1534"/>
                </a:lnTo>
                <a:lnTo>
                  <a:pt x="4491" y="1532"/>
                </a:lnTo>
                <a:lnTo>
                  <a:pt x="4444" y="1529"/>
                </a:lnTo>
                <a:lnTo>
                  <a:pt x="4397" y="1526"/>
                </a:lnTo>
                <a:lnTo>
                  <a:pt x="4350" y="1524"/>
                </a:lnTo>
                <a:lnTo>
                  <a:pt x="4302" y="1520"/>
                </a:lnTo>
                <a:lnTo>
                  <a:pt x="4255" y="1516"/>
                </a:lnTo>
                <a:lnTo>
                  <a:pt x="4208" y="1512"/>
                </a:lnTo>
                <a:lnTo>
                  <a:pt x="4160" y="1504"/>
                </a:lnTo>
                <a:lnTo>
                  <a:pt x="4113" y="1497"/>
                </a:lnTo>
                <a:lnTo>
                  <a:pt x="4066" y="1492"/>
                </a:lnTo>
                <a:lnTo>
                  <a:pt x="4019" y="1483"/>
                </a:lnTo>
                <a:lnTo>
                  <a:pt x="3971" y="1474"/>
                </a:lnTo>
                <a:lnTo>
                  <a:pt x="3925" y="1467"/>
                </a:lnTo>
                <a:lnTo>
                  <a:pt x="3877" y="1457"/>
                </a:lnTo>
                <a:lnTo>
                  <a:pt x="3829" y="1447"/>
                </a:lnTo>
                <a:lnTo>
                  <a:pt x="3782" y="1440"/>
                </a:lnTo>
                <a:lnTo>
                  <a:pt x="3735" y="1428"/>
                </a:lnTo>
                <a:lnTo>
                  <a:pt x="3688" y="1416"/>
                </a:lnTo>
                <a:lnTo>
                  <a:pt x="3640" y="1407"/>
                </a:lnTo>
                <a:lnTo>
                  <a:pt x="3594" y="1391"/>
                </a:lnTo>
                <a:lnTo>
                  <a:pt x="3546" y="1374"/>
                </a:lnTo>
                <a:lnTo>
                  <a:pt x="3499" y="1363"/>
                </a:lnTo>
                <a:lnTo>
                  <a:pt x="3451" y="1343"/>
                </a:lnTo>
                <a:lnTo>
                  <a:pt x="3404" y="1324"/>
                </a:lnTo>
                <a:lnTo>
                  <a:pt x="3357" y="1309"/>
                </a:lnTo>
                <a:lnTo>
                  <a:pt x="3309" y="1283"/>
                </a:lnTo>
                <a:lnTo>
                  <a:pt x="3262" y="1258"/>
                </a:lnTo>
                <a:lnTo>
                  <a:pt x="3215" y="1239"/>
                </a:lnTo>
                <a:lnTo>
                  <a:pt x="3168" y="1206"/>
                </a:lnTo>
                <a:lnTo>
                  <a:pt x="3120" y="1174"/>
                </a:lnTo>
                <a:lnTo>
                  <a:pt x="3073" y="1150"/>
                </a:lnTo>
                <a:lnTo>
                  <a:pt x="3026" y="1109"/>
                </a:lnTo>
                <a:lnTo>
                  <a:pt x="2978" y="1070"/>
                </a:lnTo>
                <a:lnTo>
                  <a:pt x="2931" y="1036"/>
                </a:lnTo>
                <a:lnTo>
                  <a:pt x="2884" y="977"/>
                </a:lnTo>
                <a:lnTo>
                  <a:pt x="2837" y="917"/>
                </a:lnTo>
                <a:lnTo>
                  <a:pt x="2789" y="869"/>
                </a:lnTo>
                <a:lnTo>
                  <a:pt x="2743" y="803"/>
                </a:lnTo>
                <a:lnTo>
                  <a:pt x="2695" y="729"/>
                </a:lnTo>
                <a:lnTo>
                  <a:pt x="2647" y="665"/>
                </a:lnTo>
                <a:lnTo>
                  <a:pt x="2600" y="597"/>
                </a:lnTo>
                <a:lnTo>
                  <a:pt x="2553" y="528"/>
                </a:lnTo>
                <a:lnTo>
                  <a:pt x="2506" y="470"/>
                </a:lnTo>
                <a:lnTo>
                  <a:pt x="2458" y="415"/>
                </a:lnTo>
                <a:lnTo>
                  <a:pt x="2412" y="360"/>
                </a:lnTo>
                <a:lnTo>
                  <a:pt x="2364" y="306"/>
                </a:lnTo>
                <a:lnTo>
                  <a:pt x="2317" y="260"/>
                </a:lnTo>
                <a:lnTo>
                  <a:pt x="2269" y="215"/>
                </a:lnTo>
                <a:lnTo>
                  <a:pt x="2222" y="173"/>
                </a:lnTo>
                <a:lnTo>
                  <a:pt x="2175" y="140"/>
                </a:lnTo>
                <a:lnTo>
                  <a:pt x="2127" y="109"/>
                </a:lnTo>
                <a:lnTo>
                  <a:pt x="2081" y="81"/>
                </a:lnTo>
                <a:lnTo>
                  <a:pt x="2033" y="61"/>
                </a:lnTo>
                <a:lnTo>
                  <a:pt x="1986" y="43"/>
                </a:lnTo>
                <a:lnTo>
                  <a:pt x="1938" y="29"/>
                </a:lnTo>
                <a:lnTo>
                  <a:pt x="1892" y="19"/>
                </a:lnTo>
                <a:lnTo>
                  <a:pt x="1844" y="10"/>
                </a:lnTo>
                <a:lnTo>
                  <a:pt x="1796" y="5"/>
                </a:lnTo>
                <a:lnTo>
                  <a:pt x="1750" y="3"/>
                </a:lnTo>
                <a:lnTo>
                  <a:pt x="1702" y="1"/>
                </a:lnTo>
                <a:lnTo>
                  <a:pt x="1655" y="0"/>
                </a:lnTo>
                <a:lnTo>
                  <a:pt x="1607" y="0"/>
                </a:lnTo>
                <a:lnTo>
                  <a:pt x="1561" y="0"/>
                </a:lnTo>
                <a:lnTo>
                  <a:pt x="1513" y="0"/>
                </a:lnTo>
                <a:lnTo>
                  <a:pt x="1466" y="0"/>
                </a:lnTo>
                <a:lnTo>
                  <a:pt x="1419" y="0"/>
                </a:lnTo>
                <a:lnTo>
                  <a:pt x="1371" y="0"/>
                </a:lnTo>
                <a:lnTo>
                  <a:pt x="1324" y="0"/>
                </a:lnTo>
                <a:lnTo>
                  <a:pt x="1276" y="0"/>
                </a:lnTo>
                <a:lnTo>
                  <a:pt x="1230" y="0"/>
                </a:lnTo>
                <a:lnTo>
                  <a:pt x="1182" y="0"/>
                </a:lnTo>
                <a:lnTo>
                  <a:pt x="1135" y="0"/>
                </a:lnTo>
                <a:lnTo>
                  <a:pt x="1087" y="0"/>
                </a:lnTo>
                <a:lnTo>
                  <a:pt x="1040" y="0"/>
                </a:lnTo>
                <a:lnTo>
                  <a:pt x="993" y="0"/>
                </a:lnTo>
                <a:lnTo>
                  <a:pt x="945" y="0"/>
                </a:lnTo>
                <a:lnTo>
                  <a:pt x="899" y="0"/>
                </a:lnTo>
                <a:lnTo>
                  <a:pt x="851" y="0"/>
                </a:lnTo>
                <a:lnTo>
                  <a:pt x="804" y="0"/>
                </a:lnTo>
                <a:lnTo>
                  <a:pt x="756" y="0"/>
                </a:lnTo>
                <a:lnTo>
                  <a:pt x="710" y="0"/>
                </a:lnTo>
                <a:lnTo>
                  <a:pt x="662" y="0"/>
                </a:lnTo>
                <a:lnTo>
                  <a:pt x="614" y="0"/>
                </a:lnTo>
                <a:lnTo>
                  <a:pt x="568" y="0"/>
                </a:lnTo>
                <a:lnTo>
                  <a:pt x="520" y="0"/>
                </a:lnTo>
                <a:lnTo>
                  <a:pt x="473" y="0"/>
                </a:lnTo>
                <a:lnTo>
                  <a:pt x="425" y="0"/>
                </a:lnTo>
                <a:lnTo>
                  <a:pt x="379" y="0"/>
                </a:lnTo>
                <a:lnTo>
                  <a:pt x="331" y="0"/>
                </a:lnTo>
                <a:lnTo>
                  <a:pt x="284" y="0"/>
                </a:lnTo>
                <a:lnTo>
                  <a:pt x="237" y="0"/>
                </a:lnTo>
                <a:lnTo>
                  <a:pt x="189" y="0"/>
                </a:lnTo>
                <a:lnTo>
                  <a:pt x="142" y="0"/>
                </a:lnTo>
                <a:lnTo>
                  <a:pt x="94" y="0"/>
                </a:lnTo>
                <a:lnTo>
                  <a:pt x="48" y="0"/>
                </a:lnTo>
                <a:lnTo>
                  <a:pt x="0" y="29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371600" y="919080"/>
            <a:ext cx="1440" cy="463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14360" y="555480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314360" y="50911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14360" y="46292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14360" y="41641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314360" y="37018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14360" y="32367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14360" y="27734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314360" y="23115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314360" y="18464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314360" y="138420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14360" y="9190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371600" y="5554800"/>
            <a:ext cx="742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999720" y="544212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93880" y="49766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93880" y="45147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93880" y="40496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93880" y="35877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93880" y="31240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93880" y="26589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93880" y="21970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93880" y="17319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93880" y="12700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90560" y="80496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16200000">
            <a:off x="1316160" y="5590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16200000">
            <a:off x="1692360" y="5590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16200000">
            <a:off x="201384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239004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276480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rot="16200000">
            <a:off x="313920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rot="16200000">
            <a:off x="351540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rot="16200000">
            <a:off x="389016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rot="16200000">
            <a:off x="426636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rot="16200000">
            <a:off x="463968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rot="16200000">
            <a:off x="501588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rot="16200000">
            <a:off x="539028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rot="16200000">
            <a:off x="576648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rot="16200000">
            <a:off x="614304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rot="16200000">
            <a:off x="651600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16200000">
            <a:off x="689220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rot="16200000">
            <a:off x="726696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rot="16200000">
            <a:off x="764316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rot="16200000">
            <a:off x="801936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rot="16200000">
            <a:off x="8392320" y="564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904280" y="6086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rot="16200000">
            <a:off x="-696600" y="3047400"/>
            <a:ext cx="206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come Fraction (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738520" y="2743200"/>
            <a:ext cx="208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Agro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523880" y="2286000"/>
            <a:ext cx="66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93360" y="3429000"/>
            <a:ext cx="217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Rubber 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97560" y="1219320"/>
            <a:ext cx="228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Oil palm 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STS AND AGROFOR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URY-PROOF LIV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0" y="0"/>
            <a:ext cx="9250200" cy="6473880"/>
            <a:chOff x="0" y="0"/>
            <a:chExt cx="9250200" cy="6473880"/>
          </a:xfrm>
        </p:grpSpPr>
        <p:grpSp>
          <p:nvGrpSpPr>
            <p:cNvPr id="1545" name=""/>
            <p:cNvGrpSpPr/>
            <p:nvPr/>
          </p:nvGrpSpPr>
          <p:grpSpPr>
            <a:xfrm>
              <a:off x="938160" y="917640"/>
              <a:ext cx="7863120" cy="4230360"/>
              <a:chOff x="938160" y="917640"/>
              <a:chExt cx="7863120" cy="4230360"/>
            </a:xfrm>
          </p:grpSpPr>
          <p:sp>
            <p:nvSpPr>
              <p:cNvPr id="1546" name=""/>
              <p:cNvSpPr/>
              <p:nvPr/>
            </p:nvSpPr>
            <p:spPr>
              <a:xfrm>
                <a:off x="995400" y="917640"/>
                <a:ext cx="7805880" cy="4173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995400" y="917640"/>
                <a:ext cx="7805880" cy="4173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995400" y="917640"/>
                <a:ext cx="1440" cy="417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938160" y="509112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938160" y="43941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938160" y="36990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938160" y="300528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938160" y="23097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938160" y="16146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938160" y="9176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995400" y="5091120"/>
                <a:ext cx="7805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995400" y="50907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2770200" y="50907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545000" y="50907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6318360" y="50907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8091360" y="50907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066680" y="1614600"/>
                <a:ext cx="69840" cy="3476520"/>
              </a:xfrm>
              <a:custGeom>
                <a:avLst/>
                <a:gdLst/>
                <a:ahLst/>
                <a:rect l="l" t="t" r="r" b="b"/>
                <a:pathLst>
                  <a:path w="44" h="2190">
                    <a:moveTo>
                      <a:pt x="0" y="2190"/>
                    </a:moveTo>
                    <a:lnTo>
                      <a:pt x="1" y="2120"/>
                    </a:lnTo>
                    <a:lnTo>
                      <a:pt x="3" y="2049"/>
                    </a:lnTo>
                    <a:lnTo>
                      <a:pt x="4" y="1975"/>
                    </a:lnTo>
                    <a:lnTo>
                      <a:pt x="5" y="1901"/>
                    </a:lnTo>
                    <a:lnTo>
                      <a:pt x="7" y="1825"/>
                    </a:lnTo>
                    <a:lnTo>
                      <a:pt x="8" y="1747"/>
                    </a:lnTo>
                    <a:lnTo>
                      <a:pt x="10" y="1670"/>
                    </a:lnTo>
                    <a:lnTo>
                      <a:pt x="11" y="1591"/>
                    </a:lnTo>
                    <a:lnTo>
                      <a:pt x="14" y="1432"/>
                    </a:lnTo>
                    <a:lnTo>
                      <a:pt x="16" y="1272"/>
                    </a:lnTo>
                    <a:lnTo>
                      <a:pt x="19" y="1114"/>
                    </a:lnTo>
                    <a:lnTo>
                      <a:pt x="20" y="1035"/>
                    </a:lnTo>
                    <a:lnTo>
                      <a:pt x="22" y="958"/>
                    </a:lnTo>
                    <a:lnTo>
                      <a:pt x="23" y="881"/>
                    </a:lnTo>
                    <a:lnTo>
                      <a:pt x="25" y="806"/>
                    </a:lnTo>
                    <a:lnTo>
                      <a:pt x="26" y="732"/>
                    </a:lnTo>
                    <a:lnTo>
                      <a:pt x="27" y="660"/>
                    </a:lnTo>
                    <a:lnTo>
                      <a:pt x="29" y="591"/>
                    </a:lnTo>
                    <a:lnTo>
                      <a:pt x="30" y="522"/>
                    </a:lnTo>
                    <a:lnTo>
                      <a:pt x="32" y="456"/>
                    </a:lnTo>
                    <a:lnTo>
                      <a:pt x="33" y="393"/>
                    </a:lnTo>
                    <a:lnTo>
                      <a:pt x="34" y="333"/>
                    </a:lnTo>
                    <a:lnTo>
                      <a:pt x="35" y="303"/>
                    </a:lnTo>
                    <a:lnTo>
                      <a:pt x="36" y="275"/>
                    </a:lnTo>
                    <a:lnTo>
                      <a:pt x="36" y="247"/>
                    </a:lnTo>
                    <a:lnTo>
                      <a:pt x="37" y="220"/>
                    </a:lnTo>
                    <a:lnTo>
                      <a:pt x="38" y="194"/>
                    </a:lnTo>
                    <a:lnTo>
                      <a:pt x="38" y="169"/>
                    </a:lnTo>
                    <a:lnTo>
                      <a:pt x="39" y="144"/>
                    </a:lnTo>
                    <a:lnTo>
                      <a:pt x="40" y="121"/>
                    </a:lnTo>
                    <a:lnTo>
                      <a:pt x="41" y="98"/>
                    </a:lnTo>
                    <a:lnTo>
                      <a:pt x="41" y="77"/>
                    </a:lnTo>
                    <a:lnTo>
                      <a:pt x="42" y="55"/>
                    </a:lnTo>
                    <a:lnTo>
                      <a:pt x="43" y="36"/>
                    </a:lnTo>
                    <a:lnTo>
                      <a:pt x="43" y="1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136520" y="159696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1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32" y="5"/>
                    </a:lnTo>
                    <a:lnTo>
                      <a:pt x="39" y="8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1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209600" y="160164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6" y="7"/>
                    </a:lnTo>
                    <a:lnTo>
                      <a:pt x="11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281240" y="1614600"/>
                <a:ext cx="69840" cy="14760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0" y="0"/>
                    </a:moveTo>
                    <a:lnTo>
                      <a:pt x="3" y="3"/>
                    </a:lnTo>
                    <a:lnTo>
                      <a:pt x="5" y="8"/>
                    </a:lnTo>
                    <a:lnTo>
                      <a:pt x="8" y="13"/>
                    </a:lnTo>
                    <a:lnTo>
                      <a:pt x="11" y="19"/>
                    </a:lnTo>
                    <a:lnTo>
                      <a:pt x="16" y="33"/>
                    </a:lnTo>
                    <a:lnTo>
                      <a:pt x="22" y="47"/>
                    </a:lnTo>
                    <a:lnTo>
                      <a:pt x="28" y="62"/>
                    </a:lnTo>
                    <a:lnTo>
                      <a:pt x="33" y="75"/>
                    </a:lnTo>
                    <a:lnTo>
                      <a:pt x="36" y="81"/>
                    </a:lnTo>
                    <a:lnTo>
                      <a:pt x="39" y="86"/>
                    </a:lnTo>
                    <a:lnTo>
                      <a:pt x="41" y="90"/>
                    </a:lnTo>
                    <a:lnTo>
                      <a:pt x="44" y="93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351080" y="173052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0"/>
                    </a:moveTo>
                    <a:lnTo>
                      <a:pt x="3" y="22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21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3" y="8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422360" y="171144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12"/>
                    </a:moveTo>
                    <a:lnTo>
                      <a:pt x="22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1492200" y="1697040"/>
                <a:ext cx="71640" cy="1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63840" y="168768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1635120" y="1679040"/>
                <a:ext cx="71280" cy="8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1706400" y="1672920"/>
                <a:ext cx="69840" cy="6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1776240" y="1666800"/>
                <a:ext cx="71640" cy="6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1847880" y="1661760"/>
                <a:ext cx="69840" cy="46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1917720" y="1658520"/>
                <a:ext cx="71280" cy="32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989000" y="165564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2060640" y="1652760"/>
                <a:ext cx="71280" cy="28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2131920" y="1650600"/>
                <a:ext cx="698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2201760" y="1647360"/>
                <a:ext cx="71640" cy="32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2273400" y="164628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2343240" y="1644120"/>
                <a:ext cx="7128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414520" y="164304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2486160" y="164160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57440" y="1641600"/>
                <a:ext cx="716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2629080" y="1639440"/>
                <a:ext cx="698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2698920" y="163836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770200" y="163836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840040" y="163656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2913120" y="163512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982960" y="163512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054240" y="163512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124080" y="16336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195720" y="16336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267000" y="163188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338640" y="1631880"/>
                <a:ext cx="698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408480" y="1631880"/>
                <a:ext cx="7128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479760" y="16304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549600" y="1630440"/>
                <a:ext cx="716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21240" y="16304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92520" y="16336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763800" y="1633680"/>
                <a:ext cx="716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835440" y="163368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05280" y="16318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76560" y="16304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3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046400" y="163188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0"/>
                    </a:moveTo>
                    <a:lnTo>
                      <a:pt x="11" y="2"/>
                    </a:lnTo>
                    <a:lnTo>
                      <a:pt x="22" y="6"/>
                    </a:lnTo>
                    <a:lnTo>
                      <a:pt x="34" y="9"/>
                    </a:lnTo>
                    <a:lnTo>
                      <a:pt x="46" y="11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119480" y="164772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189320" y="1647720"/>
                <a:ext cx="716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260960" y="16462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330800" y="164628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402080" y="164448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471920" y="164448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11" y="1"/>
                    </a:lnTo>
                    <a:lnTo>
                      <a:pt x="23" y="2"/>
                    </a:lnTo>
                    <a:lnTo>
                      <a:pt x="35" y="3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545000" y="16509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614840" y="1650960"/>
                <a:ext cx="716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686480" y="16495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756320" y="164952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827600" y="164772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898880" y="164772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70520" y="16509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40360" y="1650960"/>
                <a:ext cx="7128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111640" y="164952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183280" y="164952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253120" y="164772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0"/>
                    </a:lnTo>
                    <a:lnTo>
                      <a:pt x="34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26200" y="164772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396040" y="16556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67320" y="1655640"/>
                <a:ext cx="698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537160" y="16542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608800" y="165420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678640" y="165420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751360" y="165420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21200" y="16653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892840" y="16635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962680" y="1663560"/>
                <a:ext cx="7128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33960" y="16621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03800" y="16606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3" y="0"/>
                    </a:lnTo>
                    <a:lnTo>
                      <a:pt x="35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176880" y="166212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8"/>
                    </a:lnTo>
                    <a:lnTo>
                      <a:pt x="44" y="1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246720" y="167652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2" y="1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318360" y="167652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389640" y="16747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459480" y="1674720"/>
                <a:ext cx="716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531120" y="16732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602400" y="16732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673680" y="1674720"/>
                <a:ext cx="7020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43880" y="16732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15160" y="167472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7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885000" y="16876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958080" y="168768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027920" y="16858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099200" y="1685880"/>
                <a:ext cx="698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69040" y="168444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240680" y="168444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310520" y="16891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383600" y="16876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453440" y="1687680"/>
                <a:ext cx="7128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2" y="2"/>
                    </a:lnTo>
                    <a:lnTo>
                      <a:pt x="23" y="4"/>
                    </a:lnTo>
                    <a:lnTo>
                      <a:pt x="34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524720" y="17017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94560" y="17002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666200" y="1700280"/>
                <a:ext cx="7128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37480" y="16984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08760" y="1698480"/>
                <a:ext cx="71640" cy="1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80400" y="16984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50240" y="17002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021520" y="1700280"/>
                <a:ext cx="69840" cy="1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066680" y="1614600"/>
                <a:ext cx="69840" cy="3476520"/>
              </a:xfrm>
              <a:custGeom>
                <a:avLst/>
                <a:gdLst/>
                <a:ahLst/>
                <a:rect l="l" t="t" r="r" b="b"/>
                <a:pathLst>
                  <a:path w="44" h="2190">
                    <a:moveTo>
                      <a:pt x="0" y="2190"/>
                    </a:moveTo>
                    <a:lnTo>
                      <a:pt x="1" y="2120"/>
                    </a:lnTo>
                    <a:lnTo>
                      <a:pt x="3" y="2049"/>
                    </a:lnTo>
                    <a:lnTo>
                      <a:pt x="4" y="1975"/>
                    </a:lnTo>
                    <a:lnTo>
                      <a:pt x="5" y="1901"/>
                    </a:lnTo>
                    <a:lnTo>
                      <a:pt x="7" y="1825"/>
                    </a:lnTo>
                    <a:lnTo>
                      <a:pt x="8" y="1747"/>
                    </a:lnTo>
                    <a:lnTo>
                      <a:pt x="10" y="1670"/>
                    </a:lnTo>
                    <a:lnTo>
                      <a:pt x="11" y="1591"/>
                    </a:lnTo>
                    <a:lnTo>
                      <a:pt x="14" y="1432"/>
                    </a:lnTo>
                    <a:lnTo>
                      <a:pt x="16" y="1272"/>
                    </a:lnTo>
                    <a:lnTo>
                      <a:pt x="19" y="1114"/>
                    </a:lnTo>
                    <a:lnTo>
                      <a:pt x="20" y="1035"/>
                    </a:lnTo>
                    <a:lnTo>
                      <a:pt x="22" y="958"/>
                    </a:lnTo>
                    <a:lnTo>
                      <a:pt x="23" y="881"/>
                    </a:lnTo>
                    <a:lnTo>
                      <a:pt x="25" y="806"/>
                    </a:lnTo>
                    <a:lnTo>
                      <a:pt x="26" y="732"/>
                    </a:lnTo>
                    <a:lnTo>
                      <a:pt x="27" y="660"/>
                    </a:lnTo>
                    <a:lnTo>
                      <a:pt x="29" y="591"/>
                    </a:lnTo>
                    <a:lnTo>
                      <a:pt x="30" y="522"/>
                    </a:lnTo>
                    <a:lnTo>
                      <a:pt x="32" y="456"/>
                    </a:lnTo>
                    <a:lnTo>
                      <a:pt x="33" y="393"/>
                    </a:lnTo>
                    <a:lnTo>
                      <a:pt x="34" y="333"/>
                    </a:lnTo>
                    <a:lnTo>
                      <a:pt x="35" y="303"/>
                    </a:lnTo>
                    <a:lnTo>
                      <a:pt x="36" y="275"/>
                    </a:lnTo>
                    <a:lnTo>
                      <a:pt x="36" y="247"/>
                    </a:lnTo>
                    <a:lnTo>
                      <a:pt x="37" y="220"/>
                    </a:lnTo>
                    <a:lnTo>
                      <a:pt x="38" y="194"/>
                    </a:lnTo>
                    <a:lnTo>
                      <a:pt x="38" y="169"/>
                    </a:lnTo>
                    <a:lnTo>
                      <a:pt x="39" y="144"/>
                    </a:lnTo>
                    <a:lnTo>
                      <a:pt x="40" y="121"/>
                    </a:lnTo>
                    <a:lnTo>
                      <a:pt x="41" y="98"/>
                    </a:lnTo>
                    <a:lnTo>
                      <a:pt x="41" y="77"/>
                    </a:lnTo>
                    <a:lnTo>
                      <a:pt x="42" y="55"/>
                    </a:lnTo>
                    <a:lnTo>
                      <a:pt x="43" y="36"/>
                    </a:lnTo>
                    <a:lnTo>
                      <a:pt x="43" y="1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136520" y="159696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1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32" y="5"/>
                    </a:lnTo>
                    <a:lnTo>
                      <a:pt x="39" y="8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209600" y="160164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5" y="7"/>
                    </a:lnTo>
                    <a:lnTo>
                      <a:pt x="11" y="6"/>
                    </a:lnTo>
                    <a:lnTo>
                      <a:pt x="17" y="4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3"/>
                    </a:lnTo>
                    <a:lnTo>
                      <a:pt x="41" y="5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281240" y="1614600"/>
                <a:ext cx="69840" cy="161640"/>
              </a:xfrm>
              <a:custGeom>
                <a:avLst/>
                <a:gdLst/>
                <a:ahLst/>
                <a:rect l="l" t="t" r="r" b="b"/>
                <a:pathLst>
                  <a:path w="44" h="102">
                    <a:moveTo>
                      <a:pt x="0" y="0"/>
                    </a:moveTo>
                    <a:lnTo>
                      <a:pt x="3" y="4"/>
                    </a:lnTo>
                    <a:lnTo>
                      <a:pt x="5" y="9"/>
                    </a:lnTo>
                    <a:lnTo>
                      <a:pt x="8" y="14"/>
                    </a:lnTo>
                    <a:lnTo>
                      <a:pt x="11" y="21"/>
                    </a:lnTo>
                    <a:lnTo>
                      <a:pt x="16" y="36"/>
                    </a:lnTo>
                    <a:lnTo>
                      <a:pt x="22" y="52"/>
                    </a:lnTo>
                    <a:lnTo>
                      <a:pt x="28" y="68"/>
                    </a:lnTo>
                    <a:lnTo>
                      <a:pt x="33" y="83"/>
                    </a:lnTo>
                    <a:lnTo>
                      <a:pt x="36" y="89"/>
                    </a:lnTo>
                    <a:lnTo>
                      <a:pt x="39" y="95"/>
                    </a:lnTo>
                    <a:lnTo>
                      <a:pt x="41" y="99"/>
                    </a:lnTo>
                    <a:lnTo>
                      <a:pt x="44" y="10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351080" y="1743120"/>
                <a:ext cx="7128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21"/>
                    </a:moveTo>
                    <a:lnTo>
                      <a:pt x="3" y="23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11" y="24"/>
                    </a:lnTo>
                    <a:lnTo>
                      <a:pt x="16" y="22"/>
                    </a:lnTo>
                    <a:lnTo>
                      <a:pt x="22" y="18"/>
                    </a:lnTo>
                    <a:lnTo>
                      <a:pt x="28" y="13"/>
                    </a:lnTo>
                    <a:lnTo>
                      <a:pt x="33" y="8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22360" y="172080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14"/>
                    </a:moveTo>
                    <a:lnTo>
                      <a:pt x="11" y="10"/>
                    </a:lnTo>
                    <a:lnTo>
                      <a:pt x="22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92200" y="170496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10"/>
                    </a:moveTo>
                    <a:lnTo>
                      <a:pt x="22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563840" y="16938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635120" y="16858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5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1706400" y="1677960"/>
                <a:ext cx="69840" cy="7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1776240" y="1671480"/>
                <a:ext cx="71640" cy="6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1847880" y="1666440"/>
                <a:ext cx="698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1917720" y="166320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89000" y="1660680"/>
                <a:ext cx="7164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2060640" y="165708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2131920" y="165384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2201760" y="1652760"/>
                <a:ext cx="716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2273400" y="164916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343240" y="1647360"/>
                <a:ext cx="7128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414520" y="16462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486160" y="163656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7" y="5"/>
                    </a:lnTo>
                    <a:lnTo>
                      <a:pt x="12" y="4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557440" y="1644480"/>
                <a:ext cx="71640" cy="1130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  <a:lnTo>
                      <a:pt x="11" y="14"/>
                    </a:lnTo>
                    <a:lnTo>
                      <a:pt x="16" y="24"/>
                    </a:lnTo>
                    <a:lnTo>
                      <a:pt x="22" y="35"/>
                    </a:lnTo>
                    <a:lnTo>
                      <a:pt x="28" y="46"/>
                    </a:lnTo>
                    <a:lnTo>
                      <a:pt x="33" y="56"/>
                    </a:lnTo>
                    <a:lnTo>
                      <a:pt x="39" y="65"/>
                    </a:lnTo>
                    <a:lnTo>
                      <a:pt x="42" y="69"/>
                    </a:lnTo>
                    <a:lnTo>
                      <a:pt x="45" y="7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629080" y="175104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4"/>
                    </a:moveTo>
                    <a:lnTo>
                      <a:pt x="5" y="7"/>
                    </a:lnTo>
                    <a:lnTo>
                      <a:pt x="11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2698920" y="1746000"/>
                <a:ext cx="7128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2770200" y="1741320"/>
                <a:ext cx="69840" cy="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40040" y="173664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3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2913120" y="1730160"/>
                <a:ext cx="69840" cy="61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2982960" y="1725480"/>
                <a:ext cx="71280" cy="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3054240" y="1722600"/>
                <a:ext cx="69840" cy="2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124080" y="1717560"/>
                <a:ext cx="7164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195720" y="1714680"/>
                <a:ext cx="7128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3267000" y="1711080"/>
                <a:ext cx="716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3338640" y="170928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3408480" y="170604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3479760" y="1703520"/>
                <a:ext cx="69840" cy="2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3549600" y="1701360"/>
                <a:ext cx="716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621240" y="16984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3692520" y="1697040"/>
                <a:ext cx="7128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3763800" y="1693440"/>
                <a:ext cx="716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835440" y="168768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3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905280" y="1692360"/>
                <a:ext cx="7128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0"/>
                    </a:moveTo>
                    <a:lnTo>
                      <a:pt x="5" y="4"/>
                    </a:lnTo>
                    <a:lnTo>
                      <a:pt x="11" y="10"/>
                    </a:lnTo>
                    <a:lnTo>
                      <a:pt x="16" y="17"/>
                    </a:lnTo>
                    <a:lnTo>
                      <a:pt x="22" y="24"/>
                    </a:lnTo>
                    <a:lnTo>
                      <a:pt x="28" y="33"/>
                    </a:lnTo>
                    <a:lnTo>
                      <a:pt x="33" y="39"/>
                    </a:lnTo>
                    <a:lnTo>
                      <a:pt x="40" y="45"/>
                    </a:lnTo>
                    <a:lnTo>
                      <a:pt x="45" y="4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976560" y="17668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2"/>
                    </a:moveTo>
                    <a:lnTo>
                      <a:pt x="5" y="4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2" y="4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046400" y="17636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4119480" y="176004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4189320" y="1757520"/>
                <a:ext cx="71640" cy="2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4260960" y="175392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4330800" y="175068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4402080" y="174744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471920" y="174456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3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4545000" y="174312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4614840" y="1739520"/>
                <a:ext cx="716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4686480" y="173844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4756320" y="1733400"/>
                <a:ext cx="71280" cy="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827600" y="17319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898880" y="1730520"/>
                <a:ext cx="716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70520" y="172692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040360" y="1725120"/>
                <a:ext cx="7128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5111640" y="1724040"/>
                <a:ext cx="716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183280" y="17193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253120" y="1722600"/>
                <a:ext cx="73080" cy="5220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0"/>
                    </a:moveTo>
                    <a:lnTo>
                      <a:pt x="6" y="3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2" y="17"/>
                    </a:lnTo>
                    <a:lnTo>
                      <a:pt x="28" y="22"/>
                    </a:lnTo>
                    <a:lnTo>
                      <a:pt x="34" y="27"/>
                    </a:lnTo>
                    <a:lnTo>
                      <a:pt x="40" y="30"/>
                    </a:lnTo>
                    <a:lnTo>
                      <a:pt x="46" y="3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326200" y="177156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2"/>
                    </a:moveTo>
                    <a:lnTo>
                      <a:pt x="6" y="3"/>
                    </a:lnTo>
                    <a:lnTo>
                      <a:pt x="11" y="4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396040" y="1770120"/>
                <a:ext cx="7128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467320" y="176652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5537160" y="1765440"/>
                <a:ext cx="716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5608800" y="176184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678640" y="1757520"/>
                <a:ext cx="7272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5" y="0"/>
                    </a:lnTo>
                    <a:lnTo>
                      <a:pt x="40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751360" y="176040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22" y="14"/>
                    </a:lnTo>
                    <a:lnTo>
                      <a:pt x="33" y="22"/>
                    </a:lnTo>
                    <a:lnTo>
                      <a:pt x="39" y="26"/>
                    </a:lnTo>
                    <a:lnTo>
                      <a:pt x="44" y="2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21200" y="1803240"/>
                <a:ext cx="7164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1"/>
                    </a:moveTo>
                    <a:lnTo>
                      <a:pt x="5" y="2"/>
                    </a:lnTo>
                    <a:lnTo>
                      <a:pt x="11" y="3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5892840" y="1800360"/>
                <a:ext cx="69840" cy="2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62680" y="179676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6033960" y="179496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103800" y="179244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3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176880" y="1787400"/>
                <a:ext cx="69840" cy="504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246720" y="1789200"/>
                <a:ext cx="71640" cy="4104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23" y="13"/>
                    </a:lnTo>
                    <a:lnTo>
                      <a:pt x="34" y="21"/>
                    </a:lnTo>
                    <a:lnTo>
                      <a:pt x="40" y="24"/>
                    </a:lnTo>
                    <a:lnTo>
                      <a:pt x="45" y="2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318360" y="182736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2"/>
                    </a:moveTo>
                    <a:lnTo>
                      <a:pt x="5" y="3"/>
                    </a:lnTo>
                    <a:lnTo>
                      <a:pt x="11" y="3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6389640" y="182520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459480" y="1821960"/>
                <a:ext cx="716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531120" y="1819440"/>
                <a:ext cx="7128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6602400" y="1817280"/>
                <a:ext cx="7128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6673680" y="1814040"/>
                <a:ext cx="7020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743880" y="1812960"/>
                <a:ext cx="7128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6815160" y="180936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885000" y="18082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6958080" y="180468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27920" y="1802880"/>
                <a:ext cx="7128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1066680" y="1595520"/>
              <a:ext cx="7024680" cy="3495600"/>
              <a:chOff x="1066680" y="1595520"/>
              <a:chExt cx="7024680" cy="3495600"/>
            </a:xfrm>
          </p:grpSpPr>
          <p:sp>
            <p:nvSpPr>
              <p:cNvPr id="1747" name=""/>
              <p:cNvSpPr/>
              <p:nvPr/>
            </p:nvSpPr>
            <p:spPr>
              <a:xfrm>
                <a:off x="7099200" y="17985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69040" y="18003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0"/>
                    </a:moveTo>
                    <a:lnTo>
                      <a:pt x="5" y="2"/>
                    </a:lnTo>
                    <a:lnTo>
                      <a:pt x="11" y="4"/>
                    </a:lnTo>
                    <a:lnTo>
                      <a:pt x="23" y="11"/>
                    </a:lnTo>
                    <a:lnTo>
                      <a:pt x="34" y="18"/>
                    </a:lnTo>
                    <a:lnTo>
                      <a:pt x="40" y="20"/>
                    </a:lnTo>
                    <a:lnTo>
                      <a:pt x="45" y="2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240680" y="18334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10520" y="18302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3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383600" y="182880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7453440" y="182520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7524720" y="182412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594560" y="181944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2" y="2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666200" y="1820880"/>
                <a:ext cx="712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0" y="0"/>
                    </a:moveTo>
                    <a:lnTo>
                      <a:pt x="5" y="2"/>
                    </a:lnTo>
                    <a:lnTo>
                      <a:pt x="11" y="4"/>
                    </a:lnTo>
                    <a:lnTo>
                      <a:pt x="22" y="10"/>
                    </a:lnTo>
                    <a:lnTo>
                      <a:pt x="33" y="16"/>
                    </a:lnTo>
                    <a:lnTo>
                      <a:pt x="38" y="18"/>
                    </a:lnTo>
                    <a:lnTo>
                      <a:pt x="45" y="2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737480" y="185112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7808760" y="1847520"/>
                <a:ext cx="716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7880400" y="184644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7950240" y="184284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8021520" y="184104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066680" y="1614600"/>
                <a:ext cx="69840" cy="3476520"/>
              </a:xfrm>
              <a:custGeom>
                <a:avLst/>
                <a:gdLst/>
                <a:ahLst/>
                <a:rect l="l" t="t" r="r" b="b"/>
                <a:pathLst>
                  <a:path w="44" h="2190">
                    <a:moveTo>
                      <a:pt x="0" y="2190"/>
                    </a:moveTo>
                    <a:lnTo>
                      <a:pt x="1" y="2120"/>
                    </a:lnTo>
                    <a:lnTo>
                      <a:pt x="3" y="2049"/>
                    </a:lnTo>
                    <a:lnTo>
                      <a:pt x="4" y="1975"/>
                    </a:lnTo>
                    <a:lnTo>
                      <a:pt x="5" y="1901"/>
                    </a:lnTo>
                    <a:lnTo>
                      <a:pt x="7" y="1825"/>
                    </a:lnTo>
                    <a:lnTo>
                      <a:pt x="8" y="1747"/>
                    </a:lnTo>
                    <a:lnTo>
                      <a:pt x="10" y="1670"/>
                    </a:lnTo>
                    <a:lnTo>
                      <a:pt x="11" y="1591"/>
                    </a:lnTo>
                    <a:lnTo>
                      <a:pt x="14" y="1432"/>
                    </a:lnTo>
                    <a:lnTo>
                      <a:pt x="16" y="1272"/>
                    </a:lnTo>
                    <a:lnTo>
                      <a:pt x="19" y="1114"/>
                    </a:lnTo>
                    <a:lnTo>
                      <a:pt x="20" y="1035"/>
                    </a:lnTo>
                    <a:lnTo>
                      <a:pt x="22" y="958"/>
                    </a:lnTo>
                    <a:lnTo>
                      <a:pt x="23" y="881"/>
                    </a:lnTo>
                    <a:lnTo>
                      <a:pt x="25" y="806"/>
                    </a:lnTo>
                    <a:lnTo>
                      <a:pt x="26" y="732"/>
                    </a:lnTo>
                    <a:lnTo>
                      <a:pt x="27" y="660"/>
                    </a:lnTo>
                    <a:lnTo>
                      <a:pt x="29" y="591"/>
                    </a:lnTo>
                    <a:lnTo>
                      <a:pt x="30" y="522"/>
                    </a:lnTo>
                    <a:lnTo>
                      <a:pt x="32" y="456"/>
                    </a:lnTo>
                    <a:lnTo>
                      <a:pt x="33" y="393"/>
                    </a:lnTo>
                    <a:lnTo>
                      <a:pt x="34" y="333"/>
                    </a:lnTo>
                    <a:lnTo>
                      <a:pt x="35" y="303"/>
                    </a:lnTo>
                    <a:lnTo>
                      <a:pt x="36" y="275"/>
                    </a:lnTo>
                    <a:lnTo>
                      <a:pt x="36" y="247"/>
                    </a:lnTo>
                    <a:lnTo>
                      <a:pt x="37" y="220"/>
                    </a:lnTo>
                    <a:lnTo>
                      <a:pt x="38" y="194"/>
                    </a:lnTo>
                    <a:lnTo>
                      <a:pt x="38" y="169"/>
                    </a:lnTo>
                    <a:lnTo>
                      <a:pt x="39" y="144"/>
                    </a:lnTo>
                    <a:lnTo>
                      <a:pt x="40" y="121"/>
                    </a:lnTo>
                    <a:lnTo>
                      <a:pt x="41" y="98"/>
                    </a:lnTo>
                    <a:lnTo>
                      <a:pt x="41" y="77"/>
                    </a:lnTo>
                    <a:lnTo>
                      <a:pt x="42" y="55"/>
                    </a:lnTo>
                    <a:lnTo>
                      <a:pt x="43" y="36"/>
                    </a:lnTo>
                    <a:lnTo>
                      <a:pt x="43" y="1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136520" y="15955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12"/>
                    </a:moveTo>
                    <a:lnTo>
                      <a:pt x="1" y="8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39" y="7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209600" y="1614600"/>
                <a:ext cx="71640" cy="504720"/>
              </a:xfrm>
              <a:custGeom>
                <a:avLst/>
                <a:gdLst/>
                <a:ahLst/>
                <a:rect l="l" t="t" r="r" b="b"/>
                <a:pathLst>
                  <a:path w="45" h="318">
                    <a:moveTo>
                      <a:pt x="0" y="0"/>
                    </a:moveTo>
                    <a:lnTo>
                      <a:pt x="1" y="5"/>
                    </a:lnTo>
                    <a:lnTo>
                      <a:pt x="3" y="11"/>
                    </a:lnTo>
                    <a:lnTo>
                      <a:pt x="6" y="26"/>
                    </a:lnTo>
                    <a:lnTo>
                      <a:pt x="8" y="43"/>
                    </a:lnTo>
                    <a:lnTo>
                      <a:pt x="11" y="61"/>
                    </a:lnTo>
                    <a:lnTo>
                      <a:pt x="14" y="83"/>
                    </a:lnTo>
                    <a:lnTo>
                      <a:pt x="17" y="105"/>
                    </a:lnTo>
                    <a:lnTo>
                      <a:pt x="19" y="128"/>
                    </a:lnTo>
                    <a:lnTo>
                      <a:pt x="22" y="152"/>
                    </a:lnTo>
                    <a:lnTo>
                      <a:pt x="28" y="200"/>
                    </a:lnTo>
                    <a:lnTo>
                      <a:pt x="30" y="223"/>
                    </a:lnTo>
                    <a:lnTo>
                      <a:pt x="33" y="246"/>
                    </a:lnTo>
                    <a:lnTo>
                      <a:pt x="36" y="267"/>
                    </a:lnTo>
                    <a:lnTo>
                      <a:pt x="38" y="286"/>
                    </a:lnTo>
                    <a:lnTo>
                      <a:pt x="41" y="303"/>
                    </a:lnTo>
                    <a:lnTo>
                      <a:pt x="45" y="31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281240" y="2119320"/>
                <a:ext cx="69840" cy="173160"/>
              </a:xfrm>
              <a:custGeom>
                <a:avLst/>
                <a:gdLst/>
                <a:ahLst/>
                <a:rect l="l" t="t" r="r" b="b"/>
                <a:pathLst>
                  <a:path w="44" h="109">
                    <a:moveTo>
                      <a:pt x="0" y="0"/>
                    </a:moveTo>
                    <a:lnTo>
                      <a:pt x="5" y="22"/>
                    </a:lnTo>
                    <a:lnTo>
                      <a:pt x="10" y="41"/>
                    </a:lnTo>
                    <a:lnTo>
                      <a:pt x="16" y="59"/>
                    </a:lnTo>
                    <a:lnTo>
                      <a:pt x="22" y="75"/>
                    </a:lnTo>
                    <a:lnTo>
                      <a:pt x="28" y="88"/>
                    </a:lnTo>
                    <a:lnTo>
                      <a:pt x="31" y="93"/>
                    </a:lnTo>
                    <a:lnTo>
                      <a:pt x="34" y="99"/>
                    </a:lnTo>
                    <a:lnTo>
                      <a:pt x="37" y="103"/>
                    </a:lnTo>
                    <a:lnTo>
                      <a:pt x="39" y="106"/>
                    </a:lnTo>
                    <a:lnTo>
                      <a:pt x="42" y="108"/>
                    </a:lnTo>
                    <a:lnTo>
                      <a:pt x="44" y="10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351080" y="2155680"/>
                <a:ext cx="71280" cy="13680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0" y="86"/>
                    </a:moveTo>
                    <a:lnTo>
                      <a:pt x="3" y="86"/>
                    </a:lnTo>
                    <a:lnTo>
                      <a:pt x="5" y="84"/>
                    </a:lnTo>
                    <a:lnTo>
                      <a:pt x="8" y="82"/>
                    </a:lnTo>
                    <a:lnTo>
                      <a:pt x="11" y="78"/>
                    </a:lnTo>
                    <a:lnTo>
                      <a:pt x="14" y="73"/>
                    </a:lnTo>
                    <a:lnTo>
                      <a:pt x="16" y="66"/>
                    </a:lnTo>
                    <a:lnTo>
                      <a:pt x="22" y="53"/>
                    </a:lnTo>
                    <a:lnTo>
                      <a:pt x="28" y="38"/>
                    </a:lnTo>
                    <a:lnTo>
                      <a:pt x="33" y="24"/>
                    </a:lnTo>
                    <a:lnTo>
                      <a:pt x="40" y="11"/>
                    </a:lnTo>
                    <a:lnTo>
                      <a:pt x="42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22360" y="206532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5" y="48"/>
                    </a:lnTo>
                    <a:lnTo>
                      <a:pt x="11" y="37"/>
                    </a:lnTo>
                    <a:lnTo>
                      <a:pt x="16" y="27"/>
                    </a:lnTo>
                    <a:lnTo>
                      <a:pt x="22" y="18"/>
                    </a:lnTo>
                    <a:lnTo>
                      <a:pt x="28" y="10"/>
                    </a:lnTo>
                    <a:lnTo>
                      <a:pt x="33" y="4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92200" y="2065320"/>
                <a:ext cx="71640" cy="12852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0" y="0"/>
                    </a:moveTo>
                    <a:lnTo>
                      <a:pt x="3" y="1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1" y="13"/>
                    </a:lnTo>
                    <a:lnTo>
                      <a:pt x="14" y="19"/>
                    </a:lnTo>
                    <a:lnTo>
                      <a:pt x="16" y="26"/>
                    </a:lnTo>
                    <a:lnTo>
                      <a:pt x="22" y="39"/>
                    </a:lnTo>
                    <a:lnTo>
                      <a:pt x="27" y="54"/>
                    </a:lnTo>
                    <a:lnTo>
                      <a:pt x="33" y="67"/>
                    </a:lnTo>
                    <a:lnTo>
                      <a:pt x="37" y="72"/>
                    </a:lnTo>
                    <a:lnTo>
                      <a:pt x="39" y="76"/>
                    </a:lnTo>
                    <a:lnTo>
                      <a:pt x="42" y="79"/>
                    </a:lnTo>
                    <a:lnTo>
                      <a:pt x="45" y="81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563840" y="2120760"/>
                <a:ext cx="71280" cy="7488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46"/>
                    </a:moveTo>
                    <a:lnTo>
                      <a:pt x="3" y="47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11" y="43"/>
                    </a:lnTo>
                    <a:lnTo>
                      <a:pt x="17" y="38"/>
                    </a:lnTo>
                    <a:lnTo>
                      <a:pt x="22" y="31"/>
                    </a:lnTo>
                    <a:lnTo>
                      <a:pt x="28" y="23"/>
                    </a:lnTo>
                    <a:lnTo>
                      <a:pt x="34" y="14"/>
                    </a:lnTo>
                    <a:lnTo>
                      <a:pt x="39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635120" y="206532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35"/>
                    </a:moveTo>
                    <a:lnTo>
                      <a:pt x="11" y="25"/>
                    </a:lnTo>
                    <a:lnTo>
                      <a:pt x="22" y="1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706400" y="20210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lnTo>
                      <a:pt x="22" y="1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776240" y="1982880"/>
                <a:ext cx="7164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24"/>
                    </a:moveTo>
                    <a:lnTo>
                      <a:pt x="22" y="10"/>
                    </a:lnTo>
                    <a:lnTo>
                      <a:pt x="3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847880" y="19764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5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917720" y="194940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7"/>
                    </a:moveTo>
                    <a:lnTo>
                      <a:pt x="11" y="14"/>
                    </a:lnTo>
                    <a:lnTo>
                      <a:pt x="23" y="9"/>
                    </a:lnTo>
                    <a:lnTo>
                      <a:pt x="3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989000" y="192564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5"/>
                    </a:moveTo>
                    <a:lnTo>
                      <a:pt x="11" y="10"/>
                    </a:lnTo>
                    <a:lnTo>
                      <a:pt x="22" y="5"/>
                    </a:lnTo>
                    <a:lnTo>
                      <a:pt x="34" y="1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060640" y="192564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18" y="6"/>
                    </a:lnTo>
                    <a:lnTo>
                      <a:pt x="23" y="9"/>
                    </a:lnTo>
                    <a:lnTo>
                      <a:pt x="34" y="16"/>
                    </a:lnTo>
                    <a:lnTo>
                      <a:pt x="40" y="19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131920" y="195732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1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201760" y="196380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0"/>
                    </a:moveTo>
                    <a:lnTo>
                      <a:pt x="5" y="4"/>
                    </a:lnTo>
                    <a:lnTo>
                      <a:pt x="12" y="11"/>
                    </a:lnTo>
                    <a:lnTo>
                      <a:pt x="17" y="18"/>
                    </a:lnTo>
                    <a:lnTo>
                      <a:pt x="23" y="27"/>
                    </a:lnTo>
                    <a:lnTo>
                      <a:pt x="29" y="35"/>
                    </a:lnTo>
                    <a:lnTo>
                      <a:pt x="34" y="42"/>
                    </a:lnTo>
                    <a:lnTo>
                      <a:pt x="40" y="49"/>
                    </a:lnTo>
                    <a:lnTo>
                      <a:pt x="45" y="5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73400" y="204948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5" y="4"/>
                    </a:lnTo>
                    <a:lnTo>
                      <a:pt x="11" y="6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33" y="12"/>
                    </a:lnTo>
                    <a:lnTo>
                      <a:pt x="39" y="14"/>
                    </a:lnTo>
                    <a:lnTo>
                      <a:pt x="44" y="1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343240" y="207504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0"/>
                    </a:moveTo>
                    <a:lnTo>
                      <a:pt x="12" y="6"/>
                    </a:lnTo>
                    <a:lnTo>
                      <a:pt x="23" y="12"/>
                    </a:lnTo>
                    <a:lnTo>
                      <a:pt x="45" y="2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414520" y="211788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0"/>
                    </a:moveTo>
                    <a:lnTo>
                      <a:pt x="6" y="4"/>
                    </a:lnTo>
                    <a:lnTo>
                      <a:pt x="11" y="9"/>
                    </a:lnTo>
                    <a:lnTo>
                      <a:pt x="22" y="21"/>
                    </a:lnTo>
                    <a:lnTo>
                      <a:pt x="34" y="31"/>
                    </a:lnTo>
                    <a:lnTo>
                      <a:pt x="39" y="35"/>
                    </a:lnTo>
                    <a:lnTo>
                      <a:pt x="45" y="3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486160" y="217800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7" y="2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4" y="2"/>
                    </a:lnTo>
                    <a:lnTo>
                      <a:pt x="40" y="3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557440" y="218592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0"/>
                    </a:moveTo>
                    <a:lnTo>
                      <a:pt x="5" y="3"/>
                    </a:lnTo>
                    <a:lnTo>
                      <a:pt x="11" y="8"/>
                    </a:lnTo>
                    <a:lnTo>
                      <a:pt x="22" y="18"/>
                    </a:lnTo>
                    <a:lnTo>
                      <a:pt x="33" y="29"/>
                    </a:lnTo>
                    <a:lnTo>
                      <a:pt x="39" y="34"/>
                    </a:lnTo>
                    <a:lnTo>
                      <a:pt x="45" y="3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629080" y="224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0" y="0"/>
                    </a:moveTo>
                    <a:lnTo>
                      <a:pt x="11" y="6"/>
                    </a:lnTo>
                    <a:lnTo>
                      <a:pt x="22" y="10"/>
                    </a:lnTo>
                    <a:lnTo>
                      <a:pt x="33" y="15"/>
                    </a:lnTo>
                    <a:lnTo>
                      <a:pt x="44" y="1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698920" y="227664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11" y="4"/>
                    </a:lnTo>
                    <a:lnTo>
                      <a:pt x="22" y="7"/>
                    </a:lnTo>
                    <a:lnTo>
                      <a:pt x="33" y="11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770200" y="2301840"/>
                <a:ext cx="69840" cy="4932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0"/>
                    </a:moveTo>
                    <a:lnTo>
                      <a:pt x="5" y="3"/>
                    </a:lnTo>
                    <a:lnTo>
                      <a:pt x="11" y="7"/>
                    </a:lnTo>
                    <a:lnTo>
                      <a:pt x="22" y="16"/>
                    </a:lnTo>
                    <a:lnTo>
                      <a:pt x="33" y="25"/>
                    </a:lnTo>
                    <a:lnTo>
                      <a:pt x="38" y="28"/>
                    </a:lnTo>
                    <a:lnTo>
                      <a:pt x="44" y="31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40040" y="235116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6" y="2"/>
                    </a:lnTo>
                    <a:lnTo>
                      <a:pt x="11" y="3"/>
                    </a:lnTo>
                    <a:lnTo>
                      <a:pt x="22" y="3"/>
                    </a:lnTo>
                    <a:lnTo>
                      <a:pt x="35" y="4"/>
                    </a:lnTo>
                    <a:lnTo>
                      <a:pt x="40" y="5"/>
                    </a:lnTo>
                    <a:lnTo>
                      <a:pt x="46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13120" y="236232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22" y="16"/>
                    </a:lnTo>
                    <a:lnTo>
                      <a:pt x="33" y="27"/>
                    </a:lnTo>
                    <a:lnTo>
                      <a:pt x="39" y="31"/>
                    </a:lnTo>
                    <a:lnTo>
                      <a:pt x="44" y="3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82960" y="2416320"/>
                <a:ext cx="7128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5" y="2"/>
                    </a:lnTo>
                    <a:lnTo>
                      <a:pt x="11" y="4"/>
                    </a:lnTo>
                    <a:lnTo>
                      <a:pt x="22" y="5"/>
                    </a:lnTo>
                    <a:lnTo>
                      <a:pt x="34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54240" y="243036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0"/>
                    </a:moveTo>
                    <a:lnTo>
                      <a:pt x="11" y="4"/>
                    </a:lnTo>
                    <a:lnTo>
                      <a:pt x="22" y="9"/>
                    </a:lnTo>
                    <a:lnTo>
                      <a:pt x="44" y="2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124080" y="24620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11" y="6"/>
                    </a:lnTo>
                    <a:lnTo>
                      <a:pt x="22" y="11"/>
                    </a:lnTo>
                    <a:lnTo>
                      <a:pt x="34" y="17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195720" y="249552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3"/>
                    </a:lnTo>
                    <a:lnTo>
                      <a:pt x="34" y="4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267000" y="250668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23" y="12"/>
                    </a:lnTo>
                    <a:lnTo>
                      <a:pt x="34" y="20"/>
                    </a:lnTo>
                    <a:lnTo>
                      <a:pt x="45" y="2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38640" y="254628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33" y="7"/>
                    </a:lnTo>
                    <a:lnTo>
                      <a:pt x="44" y="1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408480" y="2562120"/>
                <a:ext cx="7128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23" y="7"/>
                    </a:lnTo>
                    <a:lnTo>
                      <a:pt x="45" y="1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79760" y="25858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0"/>
                    </a:moveTo>
                    <a:lnTo>
                      <a:pt x="11" y="6"/>
                    </a:lnTo>
                    <a:lnTo>
                      <a:pt x="22" y="12"/>
                    </a:lnTo>
                    <a:lnTo>
                      <a:pt x="33" y="18"/>
                    </a:lnTo>
                    <a:lnTo>
                      <a:pt x="39" y="20"/>
                    </a:lnTo>
                    <a:lnTo>
                      <a:pt x="44" y="2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549600" y="261792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2"/>
                    </a:moveTo>
                    <a:lnTo>
                      <a:pt x="5" y="3"/>
                    </a:lnTo>
                    <a:lnTo>
                      <a:pt x="12" y="3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621240" y="261792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4" y="12"/>
                    </a:lnTo>
                    <a:lnTo>
                      <a:pt x="45" y="1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92520" y="2644920"/>
                <a:ext cx="71280" cy="2988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0"/>
                    </a:moveTo>
                    <a:lnTo>
                      <a:pt x="12" y="5"/>
                    </a:lnTo>
                    <a:lnTo>
                      <a:pt x="23" y="11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5" y="1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763800" y="2657520"/>
                <a:ext cx="7164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11"/>
                    </a:moveTo>
                    <a:lnTo>
                      <a:pt x="5" y="11"/>
                    </a:lnTo>
                    <a:lnTo>
                      <a:pt x="11" y="10"/>
                    </a:lnTo>
                    <a:lnTo>
                      <a:pt x="22" y="7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835440" y="265752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905280" y="267192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1"/>
                    </a:lnTo>
                    <a:lnTo>
                      <a:pt x="45" y="13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976560" y="26877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046400" y="2687760"/>
                <a:ext cx="73080" cy="2052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6" y="13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119480" y="270828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11" y="4"/>
                    </a:lnTo>
                    <a:lnTo>
                      <a:pt x="22" y="9"/>
                    </a:lnTo>
                    <a:lnTo>
                      <a:pt x="33" y="13"/>
                    </a:lnTo>
                    <a:lnTo>
                      <a:pt x="44" y="1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189320" y="2724120"/>
                <a:ext cx="7164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22" y="3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260960" y="272412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30800" y="273672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4" y="11"/>
                    </a:lnTo>
                    <a:lnTo>
                      <a:pt x="45" y="13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402080" y="27558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471920" y="27576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11" y="2"/>
                    </a:lnTo>
                    <a:lnTo>
                      <a:pt x="23" y="5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45000" y="277668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11" y="4"/>
                    </a:lnTo>
                    <a:lnTo>
                      <a:pt x="22" y="9"/>
                    </a:lnTo>
                    <a:lnTo>
                      <a:pt x="33" y="13"/>
                    </a:lnTo>
                    <a:lnTo>
                      <a:pt x="44" y="1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614840" y="279072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5" y="7"/>
                    </a:lnTo>
                    <a:lnTo>
                      <a:pt x="11" y="7"/>
                    </a:lnTo>
                    <a:lnTo>
                      <a:pt x="23" y="4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686480" y="279072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756320" y="280188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2" y="2"/>
                    </a:lnTo>
                    <a:lnTo>
                      <a:pt x="23" y="5"/>
                    </a:lnTo>
                    <a:lnTo>
                      <a:pt x="34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827600" y="28162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898880" y="281772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2" y="2"/>
                    </a:lnTo>
                    <a:lnTo>
                      <a:pt x="23" y="5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970520" y="2836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0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040360" y="28512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2" y="3"/>
                    </a:lnTo>
                    <a:lnTo>
                      <a:pt x="23" y="2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111640" y="285120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183280" y="286236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0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253120" y="287496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326200" y="287496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396040" y="288612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4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67320" y="28972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537160" y="289728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608800" y="2908440"/>
                <a:ext cx="69840" cy="1404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8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678640" y="2917800"/>
                <a:ext cx="7272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751360" y="291780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821200" y="292752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3" y="6"/>
                    </a:lnTo>
                    <a:lnTo>
                      <a:pt x="34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892840" y="294012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962680" y="294012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3" y="2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033960" y="294948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8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103800" y="295740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12" y="4"/>
                    </a:lnTo>
                    <a:lnTo>
                      <a:pt x="23" y="2"/>
                    </a:lnTo>
                    <a:lnTo>
                      <a:pt x="35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176880" y="295740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246720" y="296532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2" y="2"/>
                    </a:lnTo>
                    <a:lnTo>
                      <a:pt x="23" y="4"/>
                    </a:lnTo>
                    <a:lnTo>
                      <a:pt x="34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318360" y="29750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389640" y="29750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459480" y="298296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31120" y="298944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602400" y="298944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73680" y="2995560"/>
                <a:ext cx="7020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743880" y="30034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815160" y="30034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885000" y="3011400"/>
                <a:ext cx="73080" cy="1296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5" y="7"/>
                    </a:lnTo>
                    <a:lnTo>
                      <a:pt x="46" y="8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958080" y="30178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27920" y="301788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099200" y="302256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169040" y="302904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1" y="1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240680" y="30290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310520" y="303696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2" y="2"/>
                    </a:lnTo>
                    <a:lnTo>
                      <a:pt x="23" y="4"/>
                    </a:lnTo>
                    <a:lnTo>
                      <a:pt x="35" y="6"/>
                    </a:lnTo>
                    <a:lnTo>
                      <a:pt x="46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83600" y="30416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453440" y="30416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524720" y="30448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594560" y="304956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2" y="2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666200" y="304956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737480" y="305748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4" y="6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808760" y="306072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5"/>
                    </a:moveTo>
                    <a:lnTo>
                      <a:pt x="11" y="5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880400" y="306072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50240" y="306720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8021520" y="30718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066680" y="1614600"/>
                <a:ext cx="69840" cy="3476520"/>
              </a:xfrm>
              <a:custGeom>
                <a:avLst/>
                <a:gdLst/>
                <a:ahLst/>
                <a:rect l="l" t="t" r="r" b="b"/>
                <a:pathLst>
                  <a:path w="44" h="2190">
                    <a:moveTo>
                      <a:pt x="0" y="2190"/>
                    </a:moveTo>
                    <a:lnTo>
                      <a:pt x="1" y="2120"/>
                    </a:lnTo>
                    <a:lnTo>
                      <a:pt x="3" y="2049"/>
                    </a:lnTo>
                    <a:lnTo>
                      <a:pt x="4" y="1975"/>
                    </a:lnTo>
                    <a:lnTo>
                      <a:pt x="5" y="1901"/>
                    </a:lnTo>
                    <a:lnTo>
                      <a:pt x="7" y="1825"/>
                    </a:lnTo>
                    <a:lnTo>
                      <a:pt x="8" y="1747"/>
                    </a:lnTo>
                    <a:lnTo>
                      <a:pt x="10" y="1670"/>
                    </a:lnTo>
                    <a:lnTo>
                      <a:pt x="11" y="1591"/>
                    </a:lnTo>
                    <a:lnTo>
                      <a:pt x="14" y="1432"/>
                    </a:lnTo>
                    <a:lnTo>
                      <a:pt x="16" y="1272"/>
                    </a:lnTo>
                    <a:lnTo>
                      <a:pt x="19" y="1114"/>
                    </a:lnTo>
                    <a:lnTo>
                      <a:pt x="20" y="1035"/>
                    </a:lnTo>
                    <a:lnTo>
                      <a:pt x="22" y="958"/>
                    </a:lnTo>
                    <a:lnTo>
                      <a:pt x="23" y="881"/>
                    </a:lnTo>
                    <a:lnTo>
                      <a:pt x="25" y="806"/>
                    </a:lnTo>
                    <a:lnTo>
                      <a:pt x="26" y="732"/>
                    </a:lnTo>
                    <a:lnTo>
                      <a:pt x="27" y="660"/>
                    </a:lnTo>
                    <a:lnTo>
                      <a:pt x="29" y="591"/>
                    </a:lnTo>
                    <a:lnTo>
                      <a:pt x="30" y="522"/>
                    </a:lnTo>
                    <a:lnTo>
                      <a:pt x="32" y="456"/>
                    </a:lnTo>
                    <a:lnTo>
                      <a:pt x="33" y="393"/>
                    </a:lnTo>
                    <a:lnTo>
                      <a:pt x="34" y="333"/>
                    </a:lnTo>
                    <a:lnTo>
                      <a:pt x="35" y="303"/>
                    </a:lnTo>
                    <a:lnTo>
                      <a:pt x="36" y="275"/>
                    </a:lnTo>
                    <a:lnTo>
                      <a:pt x="36" y="247"/>
                    </a:lnTo>
                    <a:lnTo>
                      <a:pt x="37" y="220"/>
                    </a:lnTo>
                    <a:lnTo>
                      <a:pt x="38" y="194"/>
                    </a:lnTo>
                    <a:lnTo>
                      <a:pt x="38" y="169"/>
                    </a:lnTo>
                    <a:lnTo>
                      <a:pt x="39" y="144"/>
                    </a:lnTo>
                    <a:lnTo>
                      <a:pt x="40" y="121"/>
                    </a:lnTo>
                    <a:lnTo>
                      <a:pt x="41" y="98"/>
                    </a:lnTo>
                    <a:lnTo>
                      <a:pt x="41" y="77"/>
                    </a:lnTo>
                    <a:lnTo>
                      <a:pt x="42" y="55"/>
                    </a:lnTo>
                    <a:lnTo>
                      <a:pt x="43" y="36"/>
                    </a:lnTo>
                    <a:lnTo>
                      <a:pt x="43" y="1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136520" y="15955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12"/>
                    </a:moveTo>
                    <a:lnTo>
                      <a:pt x="1" y="8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39" y="8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09600" y="1614600"/>
                <a:ext cx="71640" cy="47772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1" y="5"/>
                    </a:lnTo>
                    <a:lnTo>
                      <a:pt x="3" y="11"/>
                    </a:lnTo>
                    <a:lnTo>
                      <a:pt x="6" y="24"/>
                    </a:lnTo>
                    <a:lnTo>
                      <a:pt x="8" y="40"/>
                    </a:lnTo>
                    <a:lnTo>
                      <a:pt x="11" y="58"/>
                    </a:lnTo>
                    <a:lnTo>
                      <a:pt x="14" y="78"/>
                    </a:lnTo>
                    <a:lnTo>
                      <a:pt x="17" y="99"/>
                    </a:lnTo>
                    <a:lnTo>
                      <a:pt x="19" y="121"/>
                    </a:lnTo>
                    <a:lnTo>
                      <a:pt x="22" y="143"/>
                    </a:lnTo>
                    <a:lnTo>
                      <a:pt x="28" y="189"/>
                    </a:lnTo>
                    <a:lnTo>
                      <a:pt x="30" y="211"/>
                    </a:lnTo>
                    <a:lnTo>
                      <a:pt x="33" y="232"/>
                    </a:lnTo>
                    <a:lnTo>
                      <a:pt x="36" y="252"/>
                    </a:lnTo>
                    <a:lnTo>
                      <a:pt x="38" y="271"/>
                    </a:lnTo>
                    <a:lnTo>
                      <a:pt x="41" y="287"/>
                    </a:lnTo>
                    <a:lnTo>
                      <a:pt x="45" y="30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81240" y="2092320"/>
                <a:ext cx="69840" cy="182520"/>
              </a:xfrm>
              <a:custGeom>
                <a:avLst/>
                <a:gdLst/>
                <a:ahLst/>
                <a:rect l="l" t="t" r="r" b="b"/>
                <a:pathLst>
                  <a:path w="44" h="115">
                    <a:moveTo>
                      <a:pt x="0" y="0"/>
                    </a:moveTo>
                    <a:lnTo>
                      <a:pt x="5" y="22"/>
                    </a:lnTo>
                    <a:lnTo>
                      <a:pt x="10" y="43"/>
                    </a:lnTo>
                    <a:lnTo>
                      <a:pt x="16" y="62"/>
                    </a:lnTo>
                    <a:lnTo>
                      <a:pt x="22" y="78"/>
                    </a:lnTo>
                    <a:lnTo>
                      <a:pt x="28" y="92"/>
                    </a:lnTo>
                    <a:lnTo>
                      <a:pt x="31" y="98"/>
                    </a:lnTo>
                    <a:lnTo>
                      <a:pt x="34" y="103"/>
                    </a:lnTo>
                    <a:lnTo>
                      <a:pt x="36" y="107"/>
                    </a:lnTo>
                    <a:lnTo>
                      <a:pt x="39" y="110"/>
                    </a:lnTo>
                    <a:lnTo>
                      <a:pt x="42" y="114"/>
                    </a:lnTo>
                    <a:lnTo>
                      <a:pt x="44" y="11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351080" y="2141640"/>
                <a:ext cx="71280" cy="133200"/>
              </a:xfrm>
              <a:custGeom>
                <a:avLst/>
                <a:gdLst/>
                <a:ahLst/>
                <a:rect l="l" t="t" r="r" b="b"/>
                <a:pathLst>
                  <a:path w="45" h="84">
                    <a:moveTo>
                      <a:pt x="0" y="84"/>
                    </a:moveTo>
                    <a:lnTo>
                      <a:pt x="3" y="84"/>
                    </a:lnTo>
                    <a:lnTo>
                      <a:pt x="5" y="83"/>
                    </a:lnTo>
                    <a:lnTo>
                      <a:pt x="8" y="79"/>
                    </a:lnTo>
                    <a:lnTo>
                      <a:pt x="11" y="75"/>
                    </a:lnTo>
                    <a:lnTo>
                      <a:pt x="14" y="71"/>
                    </a:lnTo>
                    <a:lnTo>
                      <a:pt x="16" y="65"/>
                    </a:lnTo>
                    <a:lnTo>
                      <a:pt x="22" y="52"/>
                    </a:lnTo>
                    <a:lnTo>
                      <a:pt x="28" y="38"/>
                    </a:lnTo>
                    <a:lnTo>
                      <a:pt x="33" y="23"/>
                    </a:lnTo>
                    <a:lnTo>
                      <a:pt x="40" y="10"/>
                    </a:lnTo>
                    <a:lnTo>
                      <a:pt x="42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422360" y="205272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0" y="56"/>
                    </a:moveTo>
                    <a:lnTo>
                      <a:pt x="5" y="46"/>
                    </a:lnTo>
                    <a:lnTo>
                      <a:pt x="11" y="36"/>
                    </a:lnTo>
                    <a:lnTo>
                      <a:pt x="16" y="26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3" y="4"/>
                    </a:lnTo>
                    <a:lnTo>
                      <a:pt x="36" y="2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492200" y="2054160"/>
                <a:ext cx="71640" cy="146160"/>
              </a:xfrm>
              <a:custGeom>
                <a:avLst/>
                <a:gdLst/>
                <a:ahLst/>
                <a:rect l="l" t="t" r="r" b="b"/>
                <a:pathLst>
                  <a:path w="45" h="92">
                    <a:moveTo>
                      <a:pt x="0" y="0"/>
                    </a:moveTo>
                    <a:lnTo>
                      <a:pt x="3" y="2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6"/>
                    </a:lnTo>
                    <a:lnTo>
                      <a:pt x="14" y="22"/>
                    </a:lnTo>
                    <a:lnTo>
                      <a:pt x="16" y="29"/>
                    </a:lnTo>
                    <a:lnTo>
                      <a:pt x="22" y="45"/>
                    </a:lnTo>
                    <a:lnTo>
                      <a:pt x="27" y="61"/>
                    </a:lnTo>
                    <a:lnTo>
                      <a:pt x="30" y="69"/>
                    </a:lnTo>
                    <a:lnTo>
                      <a:pt x="33" y="75"/>
                    </a:lnTo>
                    <a:lnTo>
                      <a:pt x="37" y="81"/>
                    </a:lnTo>
                    <a:lnTo>
                      <a:pt x="39" y="86"/>
                    </a:lnTo>
                    <a:lnTo>
                      <a:pt x="42" y="90"/>
                    </a:lnTo>
                    <a:lnTo>
                      <a:pt x="45" y="9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563840" y="212724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46"/>
                    </a:moveTo>
                    <a:lnTo>
                      <a:pt x="3" y="47"/>
                    </a:lnTo>
                    <a:lnTo>
                      <a:pt x="6" y="47"/>
                    </a:lnTo>
                    <a:lnTo>
                      <a:pt x="8" y="46"/>
                    </a:lnTo>
                    <a:lnTo>
                      <a:pt x="11" y="44"/>
                    </a:lnTo>
                    <a:lnTo>
                      <a:pt x="17" y="39"/>
                    </a:lnTo>
                    <a:lnTo>
                      <a:pt x="22" y="31"/>
                    </a:lnTo>
                    <a:lnTo>
                      <a:pt x="28" y="23"/>
                    </a:lnTo>
                    <a:lnTo>
                      <a:pt x="34" y="15"/>
                    </a:lnTo>
                    <a:lnTo>
                      <a:pt x="39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635120" y="207000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22" y="1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706400" y="20257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lnTo>
                      <a:pt x="22" y="1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76240" y="19861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25"/>
                    </a:moveTo>
                    <a:lnTo>
                      <a:pt x="22" y="12"/>
                    </a:lnTo>
                    <a:lnTo>
                      <a:pt x="3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47880" y="197640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6"/>
                    </a:moveTo>
                    <a:lnTo>
                      <a:pt x="11" y="3"/>
                    </a:lnTo>
                    <a:lnTo>
                      <a:pt x="22" y="3"/>
                    </a:lnTo>
                    <a:lnTo>
                      <a:pt x="3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917720" y="194940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7"/>
                    </a:moveTo>
                    <a:lnTo>
                      <a:pt x="11" y="13"/>
                    </a:lnTo>
                    <a:lnTo>
                      <a:pt x="23" y="9"/>
                    </a:lnTo>
                    <a:lnTo>
                      <a:pt x="3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989000" y="192564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5"/>
                    </a:moveTo>
                    <a:lnTo>
                      <a:pt x="11" y="11"/>
                    </a:lnTo>
                    <a:lnTo>
                      <a:pt x="22" y="6"/>
                    </a:lnTo>
                    <a:lnTo>
                      <a:pt x="3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060640" y="1924200"/>
                <a:ext cx="7128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1"/>
                    </a:moveTo>
                    <a:lnTo>
                      <a:pt x="11" y="0"/>
                    </a:lnTo>
                    <a:lnTo>
                      <a:pt x="23" y="1"/>
                    </a:lnTo>
                    <a:lnTo>
                      <a:pt x="34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131920" y="1935000"/>
                <a:ext cx="69840" cy="5724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lnTo>
                      <a:pt x="5" y="3"/>
                    </a:lnTo>
                    <a:lnTo>
                      <a:pt x="11" y="8"/>
                    </a:lnTo>
                    <a:lnTo>
                      <a:pt x="16" y="13"/>
                    </a:lnTo>
                    <a:lnTo>
                      <a:pt x="22" y="19"/>
                    </a:lnTo>
                    <a:lnTo>
                      <a:pt x="28" y="24"/>
                    </a:lnTo>
                    <a:lnTo>
                      <a:pt x="33" y="29"/>
                    </a:lnTo>
                    <a:lnTo>
                      <a:pt x="39" y="33"/>
                    </a:lnTo>
                    <a:lnTo>
                      <a:pt x="44" y="3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201760" y="197964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8"/>
                    </a:moveTo>
                    <a:lnTo>
                      <a:pt x="5" y="9"/>
                    </a:lnTo>
                    <a:lnTo>
                      <a:pt x="12" y="8"/>
                    </a:lnTo>
                    <a:lnTo>
                      <a:pt x="17" y="7"/>
                    </a:lnTo>
                    <a:lnTo>
                      <a:pt x="23" y="5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273400" y="1981080"/>
                <a:ext cx="69840" cy="4932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0"/>
                    </a:moveTo>
                    <a:lnTo>
                      <a:pt x="5" y="2"/>
                    </a:lnTo>
                    <a:lnTo>
                      <a:pt x="11" y="4"/>
                    </a:lnTo>
                    <a:lnTo>
                      <a:pt x="22" y="12"/>
                    </a:lnTo>
                    <a:lnTo>
                      <a:pt x="33" y="21"/>
                    </a:lnTo>
                    <a:lnTo>
                      <a:pt x="44" y="3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343240" y="203040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0"/>
                    </a:moveTo>
                    <a:lnTo>
                      <a:pt x="5" y="5"/>
                    </a:lnTo>
                    <a:lnTo>
                      <a:pt x="12" y="12"/>
                    </a:lnTo>
                    <a:lnTo>
                      <a:pt x="23" y="26"/>
                    </a:lnTo>
                    <a:lnTo>
                      <a:pt x="28" y="33"/>
                    </a:lnTo>
                    <a:lnTo>
                      <a:pt x="34" y="39"/>
                    </a:lnTo>
                    <a:lnTo>
                      <a:pt x="39" y="44"/>
                    </a:lnTo>
                    <a:lnTo>
                      <a:pt x="45" y="47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414520" y="207972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6"/>
                    </a:moveTo>
                    <a:lnTo>
                      <a:pt x="6" y="17"/>
                    </a:lnTo>
                    <a:lnTo>
                      <a:pt x="11" y="16"/>
                    </a:lnTo>
                    <a:lnTo>
                      <a:pt x="17" y="14"/>
                    </a:lnTo>
                    <a:lnTo>
                      <a:pt x="22" y="11"/>
                    </a:lnTo>
                    <a:lnTo>
                      <a:pt x="34" y="4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486160" y="207792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1"/>
                    </a:moveTo>
                    <a:lnTo>
                      <a:pt x="12" y="0"/>
                    </a:lnTo>
                    <a:lnTo>
                      <a:pt x="23" y="1"/>
                    </a:lnTo>
                    <a:lnTo>
                      <a:pt x="34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557440" y="2089080"/>
                <a:ext cx="7164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0"/>
                    </a:moveTo>
                    <a:lnTo>
                      <a:pt x="5" y="3"/>
                    </a:lnTo>
                    <a:lnTo>
                      <a:pt x="11" y="7"/>
                    </a:lnTo>
                    <a:lnTo>
                      <a:pt x="22" y="16"/>
                    </a:lnTo>
                    <a:lnTo>
                      <a:pt x="33" y="25"/>
                    </a:lnTo>
                    <a:lnTo>
                      <a:pt x="39" y="30"/>
                    </a:lnTo>
                    <a:lnTo>
                      <a:pt x="45" y="3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29080" y="214164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39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698920" y="2147760"/>
                <a:ext cx="71280" cy="5580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0"/>
                    </a:moveTo>
                    <a:lnTo>
                      <a:pt x="5" y="3"/>
                    </a:lnTo>
                    <a:lnTo>
                      <a:pt x="11" y="7"/>
                    </a:lnTo>
                    <a:lnTo>
                      <a:pt x="22" y="16"/>
                    </a:lnTo>
                    <a:lnTo>
                      <a:pt x="33" y="25"/>
                    </a:lnTo>
                    <a:lnTo>
                      <a:pt x="45" y="3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770200" y="2203560"/>
                <a:ext cx="69840" cy="568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lnTo>
                      <a:pt x="11" y="10"/>
                    </a:lnTo>
                    <a:lnTo>
                      <a:pt x="22" y="20"/>
                    </a:lnTo>
                    <a:lnTo>
                      <a:pt x="27" y="25"/>
                    </a:lnTo>
                    <a:lnTo>
                      <a:pt x="33" y="30"/>
                    </a:lnTo>
                    <a:lnTo>
                      <a:pt x="38" y="33"/>
                    </a:lnTo>
                    <a:lnTo>
                      <a:pt x="44" y="3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840040" y="225432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4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913120" y="225576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0"/>
                    </a:moveTo>
                    <a:lnTo>
                      <a:pt x="11" y="4"/>
                    </a:lnTo>
                    <a:lnTo>
                      <a:pt x="22" y="10"/>
                    </a:lnTo>
                    <a:lnTo>
                      <a:pt x="33" y="16"/>
                    </a:lnTo>
                    <a:lnTo>
                      <a:pt x="44" y="2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982960" y="229248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0"/>
                    </a:moveTo>
                    <a:lnTo>
                      <a:pt x="11" y="8"/>
                    </a:lnTo>
                    <a:lnTo>
                      <a:pt x="22" y="16"/>
                    </a:lnTo>
                    <a:lnTo>
                      <a:pt x="34" y="24"/>
                    </a:lnTo>
                    <a:lnTo>
                      <a:pt x="40" y="28"/>
                    </a:lnTo>
                    <a:lnTo>
                      <a:pt x="45" y="3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054240" y="23400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5" y="1"/>
                    </a:lnTo>
                    <a:lnTo>
                      <a:pt x="11" y="2"/>
                    </a:lnTo>
                    <a:lnTo>
                      <a:pt x="22" y="1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24080" y="2343240"/>
                <a:ext cx="7164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11" y="4"/>
                    </a:lnTo>
                    <a:lnTo>
                      <a:pt x="22" y="10"/>
                    </a:lnTo>
                    <a:lnTo>
                      <a:pt x="34" y="17"/>
                    </a:lnTo>
                    <a:lnTo>
                      <a:pt x="45" y="24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95720" y="2381400"/>
                <a:ext cx="71280" cy="4896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0"/>
                    </a:moveTo>
                    <a:lnTo>
                      <a:pt x="11" y="8"/>
                    </a:lnTo>
                    <a:lnTo>
                      <a:pt x="22" y="18"/>
                    </a:lnTo>
                    <a:lnTo>
                      <a:pt x="34" y="26"/>
                    </a:lnTo>
                    <a:lnTo>
                      <a:pt x="39" y="29"/>
                    </a:lnTo>
                    <a:lnTo>
                      <a:pt x="45" y="3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267000" y="2427120"/>
                <a:ext cx="7164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2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23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338640" y="242712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3"/>
                    </a:lnTo>
                    <a:lnTo>
                      <a:pt x="44" y="18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408480" y="245592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11" y="6"/>
                    </a:lnTo>
                    <a:lnTo>
                      <a:pt x="23" y="12"/>
                    </a:lnTo>
                    <a:lnTo>
                      <a:pt x="34" y="18"/>
                    </a:lnTo>
                    <a:lnTo>
                      <a:pt x="45" y="2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479760" y="24922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5" y="1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549600" y="249876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0" y="0"/>
                    </a:moveTo>
                    <a:lnTo>
                      <a:pt x="12" y="4"/>
                    </a:lnTo>
                    <a:lnTo>
                      <a:pt x="23" y="9"/>
                    </a:lnTo>
                    <a:lnTo>
                      <a:pt x="45" y="2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621240" y="253044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11" y="7"/>
                    </a:lnTo>
                    <a:lnTo>
                      <a:pt x="22" y="14"/>
                    </a:lnTo>
                    <a:lnTo>
                      <a:pt x="34" y="21"/>
                    </a:lnTo>
                    <a:lnTo>
                      <a:pt x="39" y="23"/>
                    </a:lnTo>
                    <a:lnTo>
                      <a:pt x="45" y="2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692520" y="256392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4"/>
                    </a:moveTo>
                    <a:lnTo>
                      <a:pt x="7" y="5"/>
                    </a:lnTo>
                    <a:lnTo>
                      <a:pt x="12" y="5"/>
                    </a:lnTo>
                    <a:lnTo>
                      <a:pt x="23" y="3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763800" y="256392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835440" y="258300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0" y="0"/>
                    </a:moveTo>
                    <a:lnTo>
                      <a:pt x="11" y="4"/>
                    </a:lnTo>
                    <a:lnTo>
                      <a:pt x="22" y="10"/>
                    </a:lnTo>
                    <a:lnTo>
                      <a:pt x="33" y="14"/>
                    </a:lnTo>
                    <a:lnTo>
                      <a:pt x="44" y="18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905280" y="261144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976560" y="261612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0" y="0"/>
                    </a:moveTo>
                    <a:lnTo>
                      <a:pt x="11" y="3"/>
                    </a:lnTo>
                    <a:lnTo>
                      <a:pt x="22" y="8"/>
                    </a:lnTo>
                    <a:lnTo>
                      <a:pt x="33" y="13"/>
                    </a:lnTo>
                    <a:lnTo>
                      <a:pt x="44" y="18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046400" y="2644920"/>
                <a:ext cx="73080" cy="3168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11" y="5"/>
                    </a:lnTo>
                    <a:lnTo>
                      <a:pt x="22" y="11"/>
                    </a:lnTo>
                    <a:lnTo>
                      <a:pt x="34" y="17"/>
                    </a:lnTo>
                    <a:lnTo>
                      <a:pt x="46" y="2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119480" y="267192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3"/>
                    </a:moveTo>
                    <a:lnTo>
                      <a:pt x="6" y="4"/>
                    </a:lnTo>
                    <a:lnTo>
                      <a:pt x="11" y="3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189320" y="267192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260960" y="268776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3" y="12"/>
                    </a:lnTo>
                    <a:lnTo>
                      <a:pt x="44" y="1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330800" y="270972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402080" y="271152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4" y="1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471920" y="273204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0"/>
                    </a:moveTo>
                    <a:lnTo>
                      <a:pt x="11" y="4"/>
                    </a:lnTo>
                    <a:lnTo>
                      <a:pt x="23" y="9"/>
                    </a:lnTo>
                    <a:lnTo>
                      <a:pt x="35" y="13"/>
                    </a:lnTo>
                    <a:lnTo>
                      <a:pt x="46" y="1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545000" y="275112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614840" y="275112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1"/>
                    </a:lnTo>
                    <a:lnTo>
                      <a:pt x="23" y="3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686480" y="276552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0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56320" y="27846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1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827600" y="278460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898880" y="2803680"/>
                <a:ext cx="71640" cy="2196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0"/>
                    </a:moveTo>
                    <a:lnTo>
                      <a:pt x="12" y="4"/>
                    </a:lnTo>
                    <a:lnTo>
                      <a:pt x="23" y="8"/>
                    </a:lnTo>
                    <a:lnTo>
                      <a:pt x="34" y="12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970520" y="281952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040360" y="281952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2" y="1"/>
                    </a:lnTo>
                    <a:lnTo>
                      <a:pt x="23" y="2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111640" y="282888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183280" y="28447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253120" y="28447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6" y="1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326200" y="286056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0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96040" y="287172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5"/>
                    </a:moveTo>
                    <a:lnTo>
                      <a:pt x="11" y="5"/>
                    </a:lnTo>
                    <a:lnTo>
                      <a:pt x="22" y="3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467320" y="287172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0"/>
                    </a:ln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37160" y="287964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4" y="6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608800" y="28926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78640" y="2892600"/>
                <a:ext cx="72720" cy="1404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6" y="9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751360" y="290664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22" y="5"/>
                    </a:lnTo>
                    <a:lnTo>
                      <a:pt x="33" y="8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821200" y="291780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1" y="2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291780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962680" y="29275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3" y="6"/>
                    </a:lnTo>
                    <a:lnTo>
                      <a:pt x="34" y="9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033960" y="29368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103800" y="293688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12" y="1"/>
                    </a:lnTo>
                    <a:lnTo>
                      <a:pt x="23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176880" y="294480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246720" y="295416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2" y="2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18360" y="2954160"/>
                <a:ext cx="71280" cy="828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389640" y="296244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59480" y="297036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531120" y="297036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1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602400" y="297648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673680" y="2984400"/>
                <a:ext cx="7020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743880" y="298440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815160" y="299412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885000" y="299880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5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958080" y="299880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27920" y="300348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3" y="3"/>
                    </a:lnTo>
                    <a:lnTo>
                      <a:pt x="34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099200" y="301140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169040" y="3011400"/>
                <a:ext cx="7164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3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1066680" y="1600200"/>
              <a:ext cx="7024680" cy="3490920"/>
              <a:chOff x="1066680" y="1600200"/>
              <a:chExt cx="7024680" cy="3490920"/>
            </a:xfrm>
          </p:grpSpPr>
          <p:sp>
            <p:nvSpPr>
              <p:cNvPr id="1948" name=""/>
              <p:cNvSpPr/>
              <p:nvPr/>
            </p:nvSpPr>
            <p:spPr>
              <a:xfrm>
                <a:off x="7240680" y="302112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310520" y="302436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5"/>
                    </a:moveTo>
                    <a:lnTo>
                      <a:pt x="12" y="4"/>
                    </a:lnTo>
                    <a:lnTo>
                      <a:pt x="23" y="3"/>
                    </a:lnTo>
                    <a:lnTo>
                      <a:pt x="35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383600" y="30243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453440" y="302904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524720" y="30351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594560" y="30351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3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666200" y="304308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2" y="3"/>
                    </a:lnTo>
                    <a:lnTo>
                      <a:pt x="33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737480" y="304812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808760" y="304812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880400" y="305280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50240" y="305748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021520" y="30574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066680" y="1614600"/>
                <a:ext cx="69840" cy="3476520"/>
              </a:xfrm>
              <a:custGeom>
                <a:avLst/>
                <a:gdLst/>
                <a:ahLst/>
                <a:rect l="l" t="t" r="r" b="b"/>
                <a:pathLst>
                  <a:path w="44" h="2190">
                    <a:moveTo>
                      <a:pt x="0" y="2190"/>
                    </a:moveTo>
                    <a:lnTo>
                      <a:pt x="1" y="2120"/>
                    </a:lnTo>
                    <a:lnTo>
                      <a:pt x="3" y="2049"/>
                    </a:lnTo>
                    <a:lnTo>
                      <a:pt x="4" y="1975"/>
                    </a:lnTo>
                    <a:lnTo>
                      <a:pt x="5" y="1900"/>
                    </a:lnTo>
                    <a:lnTo>
                      <a:pt x="7" y="1824"/>
                    </a:lnTo>
                    <a:lnTo>
                      <a:pt x="8" y="1747"/>
                    </a:lnTo>
                    <a:lnTo>
                      <a:pt x="10" y="1668"/>
                    </a:lnTo>
                    <a:lnTo>
                      <a:pt x="11" y="1590"/>
                    </a:lnTo>
                    <a:lnTo>
                      <a:pt x="14" y="1431"/>
                    </a:lnTo>
                    <a:lnTo>
                      <a:pt x="16" y="1270"/>
                    </a:lnTo>
                    <a:lnTo>
                      <a:pt x="19" y="1111"/>
                    </a:lnTo>
                    <a:lnTo>
                      <a:pt x="20" y="1033"/>
                    </a:lnTo>
                    <a:lnTo>
                      <a:pt x="22" y="955"/>
                    </a:lnTo>
                    <a:lnTo>
                      <a:pt x="23" y="878"/>
                    </a:lnTo>
                    <a:lnTo>
                      <a:pt x="25" y="803"/>
                    </a:lnTo>
                    <a:lnTo>
                      <a:pt x="26" y="729"/>
                    </a:lnTo>
                    <a:lnTo>
                      <a:pt x="27" y="657"/>
                    </a:lnTo>
                    <a:lnTo>
                      <a:pt x="29" y="588"/>
                    </a:lnTo>
                    <a:lnTo>
                      <a:pt x="30" y="519"/>
                    </a:lnTo>
                    <a:lnTo>
                      <a:pt x="32" y="453"/>
                    </a:lnTo>
                    <a:lnTo>
                      <a:pt x="33" y="390"/>
                    </a:lnTo>
                    <a:lnTo>
                      <a:pt x="34" y="330"/>
                    </a:lnTo>
                    <a:lnTo>
                      <a:pt x="35" y="300"/>
                    </a:lnTo>
                    <a:lnTo>
                      <a:pt x="36" y="272"/>
                    </a:lnTo>
                    <a:lnTo>
                      <a:pt x="36" y="245"/>
                    </a:lnTo>
                    <a:lnTo>
                      <a:pt x="37" y="217"/>
                    </a:lnTo>
                    <a:lnTo>
                      <a:pt x="38" y="192"/>
                    </a:lnTo>
                    <a:lnTo>
                      <a:pt x="38" y="167"/>
                    </a:lnTo>
                    <a:lnTo>
                      <a:pt x="39" y="142"/>
                    </a:lnTo>
                    <a:lnTo>
                      <a:pt x="40" y="119"/>
                    </a:lnTo>
                    <a:lnTo>
                      <a:pt x="41" y="97"/>
                    </a:lnTo>
                    <a:lnTo>
                      <a:pt x="41" y="75"/>
                    </a:lnTo>
                    <a:lnTo>
                      <a:pt x="42" y="54"/>
                    </a:lnTo>
                    <a:lnTo>
                      <a:pt x="43" y="35"/>
                    </a:lnTo>
                    <a:lnTo>
                      <a:pt x="43" y="1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136520" y="16002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9"/>
                    </a:moveTo>
                    <a:lnTo>
                      <a:pt x="1" y="4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9" y="11"/>
                    </a:lnTo>
                    <a:lnTo>
                      <a:pt x="23" y="16"/>
                    </a:lnTo>
                    <a:lnTo>
                      <a:pt x="32" y="26"/>
                    </a:lnTo>
                    <a:lnTo>
                      <a:pt x="39" y="37"/>
                    </a:lnTo>
                    <a:lnTo>
                      <a:pt x="41" y="42"/>
                    </a:lnTo>
                    <a:lnTo>
                      <a:pt x="44" y="46"/>
                    </a:lnTo>
                    <a:lnTo>
                      <a:pt x="45" y="49"/>
                    </a:lnTo>
                    <a:lnTo>
                      <a:pt x="46" y="5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209600" y="1681200"/>
                <a:ext cx="71640" cy="797040"/>
              </a:xfrm>
              <a:custGeom>
                <a:avLst/>
                <a:gdLst/>
                <a:ahLst/>
                <a:rect l="l" t="t" r="r" b="b"/>
                <a:pathLst>
                  <a:path w="45" h="502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30"/>
                    </a:lnTo>
                    <a:lnTo>
                      <a:pt x="6" y="44"/>
                    </a:lnTo>
                    <a:lnTo>
                      <a:pt x="7" y="57"/>
                    </a:lnTo>
                    <a:lnTo>
                      <a:pt x="8" y="71"/>
                    </a:lnTo>
                    <a:lnTo>
                      <a:pt x="10" y="85"/>
                    </a:lnTo>
                    <a:lnTo>
                      <a:pt x="11" y="101"/>
                    </a:lnTo>
                    <a:lnTo>
                      <a:pt x="14" y="134"/>
                    </a:lnTo>
                    <a:lnTo>
                      <a:pt x="17" y="169"/>
                    </a:lnTo>
                    <a:lnTo>
                      <a:pt x="19" y="206"/>
                    </a:lnTo>
                    <a:lnTo>
                      <a:pt x="22" y="243"/>
                    </a:lnTo>
                    <a:lnTo>
                      <a:pt x="25" y="280"/>
                    </a:lnTo>
                    <a:lnTo>
                      <a:pt x="28" y="318"/>
                    </a:lnTo>
                    <a:lnTo>
                      <a:pt x="30" y="354"/>
                    </a:lnTo>
                    <a:lnTo>
                      <a:pt x="33" y="389"/>
                    </a:lnTo>
                    <a:lnTo>
                      <a:pt x="36" y="422"/>
                    </a:lnTo>
                    <a:lnTo>
                      <a:pt x="37" y="437"/>
                    </a:lnTo>
                    <a:lnTo>
                      <a:pt x="38" y="452"/>
                    </a:lnTo>
                    <a:lnTo>
                      <a:pt x="40" y="466"/>
                    </a:lnTo>
                    <a:lnTo>
                      <a:pt x="41" y="479"/>
                    </a:lnTo>
                    <a:lnTo>
                      <a:pt x="44" y="491"/>
                    </a:lnTo>
                    <a:lnTo>
                      <a:pt x="45" y="50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281240" y="2478240"/>
                <a:ext cx="69840" cy="268200"/>
              </a:xfrm>
              <a:custGeom>
                <a:avLst/>
                <a:gdLst/>
                <a:ahLst/>
                <a:rect l="l" t="t" r="r" b="b"/>
                <a:pathLst>
                  <a:path w="44" h="169">
                    <a:moveTo>
                      <a:pt x="0" y="0"/>
                    </a:moveTo>
                    <a:lnTo>
                      <a:pt x="5" y="31"/>
                    </a:lnTo>
                    <a:lnTo>
                      <a:pt x="10" y="61"/>
                    </a:lnTo>
                    <a:lnTo>
                      <a:pt x="16" y="87"/>
                    </a:lnTo>
                    <a:lnTo>
                      <a:pt x="19" y="99"/>
                    </a:lnTo>
                    <a:lnTo>
                      <a:pt x="22" y="110"/>
                    </a:lnTo>
                    <a:lnTo>
                      <a:pt x="25" y="122"/>
                    </a:lnTo>
                    <a:lnTo>
                      <a:pt x="28" y="131"/>
                    </a:lnTo>
                    <a:lnTo>
                      <a:pt x="31" y="140"/>
                    </a:lnTo>
                    <a:lnTo>
                      <a:pt x="34" y="148"/>
                    </a:lnTo>
                    <a:lnTo>
                      <a:pt x="37" y="155"/>
                    </a:lnTo>
                    <a:lnTo>
                      <a:pt x="39" y="161"/>
                    </a:lnTo>
                    <a:lnTo>
                      <a:pt x="42" y="165"/>
                    </a:lnTo>
                    <a:lnTo>
                      <a:pt x="44" y="169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351080" y="2687760"/>
                <a:ext cx="71280" cy="6660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0" y="37"/>
                    </a:moveTo>
                    <a:lnTo>
                      <a:pt x="3" y="40"/>
                    </a:lnTo>
                    <a:lnTo>
                      <a:pt x="5" y="42"/>
                    </a:lnTo>
                    <a:lnTo>
                      <a:pt x="8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6" y="34"/>
                    </a:lnTo>
                    <a:lnTo>
                      <a:pt x="22" y="26"/>
                    </a:lnTo>
                    <a:lnTo>
                      <a:pt x="28" y="17"/>
                    </a:lnTo>
                    <a:lnTo>
                      <a:pt x="33" y="8"/>
                    </a:lnTo>
                    <a:lnTo>
                      <a:pt x="36" y="5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422360" y="268776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22" y="19"/>
                    </a:lnTo>
                    <a:lnTo>
                      <a:pt x="28" y="27"/>
                    </a:lnTo>
                    <a:lnTo>
                      <a:pt x="33" y="34"/>
                    </a:lnTo>
                    <a:lnTo>
                      <a:pt x="39" y="40"/>
                    </a:lnTo>
                    <a:lnTo>
                      <a:pt x="44" y="4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492200" y="2759040"/>
                <a:ext cx="7164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0"/>
                    </a:moveTo>
                    <a:lnTo>
                      <a:pt x="11" y="8"/>
                    </a:lnTo>
                    <a:lnTo>
                      <a:pt x="16" y="12"/>
                    </a:lnTo>
                    <a:lnTo>
                      <a:pt x="22" y="15"/>
                    </a:lnTo>
                    <a:lnTo>
                      <a:pt x="27" y="17"/>
                    </a:lnTo>
                    <a:lnTo>
                      <a:pt x="33" y="18"/>
                    </a:lnTo>
                    <a:lnTo>
                      <a:pt x="39" y="17"/>
                    </a:lnTo>
                    <a:lnTo>
                      <a:pt x="45" y="1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563840" y="2633760"/>
                <a:ext cx="71280" cy="145800"/>
              </a:xfrm>
              <a:custGeom>
                <a:avLst/>
                <a:gdLst/>
                <a:ahLst/>
                <a:rect l="l" t="t" r="r" b="b"/>
                <a:pathLst>
                  <a:path w="45" h="92">
                    <a:moveTo>
                      <a:pt x="0" y="92"/>
                    </a:moveTo>
                    <a:lnTo>
                      <a:pt x="3" y="89"/>
                    </a:lnTo>
                    <a:lnTo>
                      <a:pt x="6" y="85"/>
                    </a:lnTo>
                    <a:lnTo>
                      <a:pt x="8" y="80"/>
                    </a:lnTo>
                    <a:lnTo>
                      <a:pt x="11" y="74"/>
                    </a:lnTo>
                    <a:lnTo>
                      <a:pt x="17" y="62"/>
                    </a:lnTo>
                    <a:lnTo>
                      <a:pt x="22" y="47"/>
                    </a:lnTo>
                    <a:lnTo>
                      <a:pt x="28" y="33"/>
                    </a:lnTo>
                    <a:lnTo>
                      <a:pt x="34" y="19"/>
                    </a:lnTo>
                    <a:lnTo>
                      <a:pt x="37" y="13"/>
                    </a:lnTo>
                    <a:lnTo>
                      <a:pt x="39" y="8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635120" y="26179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10"/>
                    </a:moveTo>
                    <a:lnTo>
                      <a:pt x="6" y="5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4" y="3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06400" y="263196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0" y="0"/>
                    </a:moveTo>
                    <a:lnTo>
                      <a:pt x="3" y="2"/>
                    </a:lnTo>
                    <a:lnTo>
                      <a:pt x="5" y="5"/>
                    </a:lnTo>
                    <a:lnTo>
                      <a:pt x="11" y="13"/>
                    </a:lnTo>
                    <a:lnTo>
                      <a:pt x="16" y="23"/>
                    </a:lnTo>
                    <a:lnTo>
                      <a:pt x="22" y="32"/>
                    </a:lnTo>
                    <a:lnTo>
                      <a:pt x="28" y="42"/>
                    </a:lnTo>
                    <a:lnTo>
                      <a:pt x="33" y="49"/>
                    </a:lnTo>
                    <a:lnTo>
                      <a:pt x="36" y="52"/>
                    </a:lnTo>
                    <a:lnTo>
                      <a:pt x="39" y="54"/>
                    </a:lnTo>
                    <a:lnTo>
                      <a:pt x="41" y="56"/>
                    </a:lnTo>
                    <a:lnTo>
                      <a:pt x="44" y="5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76240" y="2619360"/>
                <a:ext cx="71640" cy="10152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3" y="63"/>
                    </a:lnTo>
                    <a:lnTo>
                      <a:pt x="5" y="62"/>
                    </a:lnTo>
                    <a:lnTo>
                      <a:pt x="8" y="59"/>
                    </a:lnTo>
                    <a:lnTo>
                      <a:pt x="11" y="56"/>
                    </a:lnTo>
                    <a:lnTo>
                      <a:pt x="16" y="48"/>
                    </a:lnTo>
                    <a:lnTo>
                      <a:pt x="22" y="38"/>
                    </a:lnTo>
                    <a:lnTo>
                      <a:pt x="29" y="26"/>
                    </a:lnTo>
                    <a:lnTo>
                      <a:pt x="34" y="16"/>
                    </a:lnTo>
                    <a:lnTo>
                      <a:pt x="40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47880" y="2570040"/>
                <a:ext cx="69840" cy="4932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31"/>
                    </a:moveTo>
                    <a:lnTo>
                      <a:pt x="11" y="20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917720" y="257004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5" y="0"/>
                    </a:lnTo>
                    <a:lnTo>
                      <a:pt x="11" y="2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4" y="17"/>
                    </a:lnTo>
                    <a:lnTo>
                      <a:pt x="39" y="21"/>
                    </a:lnTo>
                    <a:lnTo>
                      <a:pt x="45" y="2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989000" y="260496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1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060640" y="261144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45" h="51">
                    <a:moveTo>
                      <a:pt x="0" y="0"/>
                    </a:moveTo>
                    <a:lnTo>
                      <a:pt x="6" y="4"/>
                    </a:lnTo>
                    <a:lnTo>
                      <a:pt x="11" y="10"/>
                    </a:lnTo>
                    <a:lnTo>
                      <a:pt x="18" y="16"/>
                    </a:lnTo>
                    <a:lnTo>
                      <a:pt x="23" y="24"/>
                    </a:lnTo>
                    <a:lnTo>
                      <a:pt x="34" y="39"/>
                    </a:lnTo>
                    <a:lnTo>
                      <a:pt x="40" y="46"/>
                    </a:lnTo>
                    <a:lnTo>
                      <a:pt x="45" y="5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131920" y="269244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0" y="0"/>
                    </a:moveTo>
                    <a:lnTo>
                      <a:pt x="11" y="8"/>
                    </a:lnTo>
                    <a:lnTo>
                      <a:pt x="22" y="14"/>
                    </a:lnTo>
                    <a:lnTo>
                      <a:pt x="33" y="19"/>
                    </a:lnTo>
                    <a:lnTo>
                      <a:pt x="44" y="2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201760" y="273060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0" y="0"/>
                    </a:moveTo>
                    <a:lnTo>
                      <a:pt x="12" y="5"/>
                    </a:lnTo>
                    <a:lnTo>
                      <a:pt x="23" y="9"/>
                    </a:lnTo>
                    <a:lnTo>
                      <a:pt x="34" y="14"/>
                    </a:lnTo>
                    <a:lnTo>
                      <a:pt x="45" y="2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273400" y="27622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0"/>
                    </a:moveTo>
                    <a:lnTo>
                      <a:pt x="5" y="4"/>
                    </a:lnTo>
                    <a:lnTo>
                      <a:pt x="11" y="9"/>
                    </a:lnTo>
                    <a:lnTo>
                      <a:pt x="22" y="19"/>
                    </a:lnTo>
                    <a:lnTo>
                      <a:pt x="33" y="30"/>
                    </a:lnTo>
                    <a:lnTo>
                      <a:pt x="44" y="39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343240" y="282420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12" y="7"/>
                    </a:lnTo>
                    <a:lnTo>
                      <a:pt x="23" y="13"/>
                    </a:lnTo>
                    <a:lnTo>
                      <a:pt x="34" y="19"/>
                    </a:lnTo>
                    <a:lnTo>
                      <a:pt x="45" y="2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414520" y="286380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0"/>
                    </a:moveTo>
                    <a:lnTo>
                      <a:pt x="22" y="13"/>
                    </a:lnTo>
                    <a:lnTo>
                      <a:pt x="34" y="20"/>
                    </a:lnTo>
                    <a:lnTo>
                      <a:pt x="45" y="2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486160" y="290844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0"/>
                    </a:moveTo>
                    <a:lnTo>
                      <a:pt x="12" y="9"/>
                    </a:lnTo>
                    <a:lnTo>
                      <a:pt x="23" y="20"/>
                    </a:lnTo>
                    <a:lnTo>
                      <a:pt x="34" y="30"/>
                    </a:lnTo>
                    <a:lnTo>
                      <a:pt x="40" y="34"/>
                    </a:lnTo>
                    <a:lnTo>
                      <a:pt x="45" y="37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57440" y="296712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5" y="2"/>
                    </a:lnTo>
                    <a:lnTo>
                      <a:pt x="11" y="3"/>
                    </a:lnTo>
                    <a:lnTo>
                      <a:pt x="22" y="4"/>
                    </a:lnTo>
                    <a:lnTo>
                      <a:pt x="33" y="5"/>
                    </a:lnTo>
                    <a:lnTo>
                      <a:pt x="39" y="6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629080" y="297972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0"/>
                    </a:moveTo>
                    <a:lnTo>
                      <a:pt x="11" y="6"/>
                    </a:lnTo>
                    <a:lnTo>
                      <a:pt x="22" y="13"/>
                    </a:lnTo>
                    <a:lnTo>
                      <a:pt x="33" y="20"/>
                    </a:lnTo>
                    <a:lnTo>
                      <a:pt x="44" y="2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698920" y="3024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0"/>
                    </a:moveTo>
                    <a:lnTo>
                      <a:pt x="11" y="8"/>
                    </a:lnTo>
                    <a:lnTo>
                      <a:pt x="22" y="16"/>
                    </a:lnTo>
                    <a:lnTo>
                      <a:pt x="33" y="24"/>
                    </a:lnTo>
                    <a:lnTo>
                      <a:pt x="40" y="28"/>
                    </a:lnTo>
                    <a:lnTo>
                      <a:pt x="45" y="3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770200" y="30700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40040" y="30700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35" y="11"/>
                    </a:lnTo>
                    <a:lnTo>
                      <a:pt x="46" y="1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13120" y="309564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0"/>
                    </a:moveTo>
                    <a:lnTo>
                      <a:pt x="11" y="6"/>
                    </a:lnTo>
                    <a:lnTo>
                      <a:pt x="22" y="12"/>
                    </a:lnTo>
                    <a:lnTo>
                      <a:pt x="33" y="19"/>
                    </a:lnTo>
                    <a:lnTo>
                      <a:pt x="39" y="21"/>
                    </a:lnTo>
                    <a:lnTo>
                      <a:pt x="44" y="2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982960" y="31320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054240" y="313380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0" y="0"/>
                    </a:moveTo>
                    <a:lnTo>
                      <a:pt x="11" y="3"/>
                    </a:lnTo>
                    <a:lnTo>
                      <a:pt x="22" y="8"/>
                    </a:lnTo>
                    <a:lnTo>
                      <a:pt x="44" y="1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124080" y="31622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11" y="5"/>
                    </a:lnTo>
                    <a:lnTo>
                      <a:pt x="22" y="12"/>
                    </a:lnTo>
                    <a:lnTo>
                      <a:pt x="34" y="17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195720" y="319572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22" y="1"/>
                    </a:lnTo>
                    <a:lnTo>
                      <a:pt x="34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67000" y="320040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11" y="3"/>
                    </a:lnTo>
                    <a:lnTo>
                      <a:pt x="23" y="6"/>
                    </a:lnTo>
                    <a:lnTo>
                      <a:pt x="45" y="1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338640" y="322416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0" y="0"/>
                    </a:moveTo>
                    <a:lnTo>
                      <a:pt x="11" y="5"/>
                    </a:lnTo>
                    <a:lnTo>
                      <a:pt x="22" y="10"/>
                    </a:lnTo>
                    <a:lnTo>
                      <a:pt x="33" y="15"/>
                    </a:lnTo>
                    <a:lnTo>
                      <a:pt x="44" y="19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08480" y="32544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1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79760" y="325764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44" y="1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549600" y="327960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12" y="4"/>
                    </a:lnTo>
                    <a:lnTo>
                      <a:pt x="23" y="9"/>
                    </a:lnTo>
                    <a:lnTo>
                      <a:pt x="34" y="13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621240" y="33051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692520" y="330840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0"/>
                    </a:moveTo>
                    <a:lnTo>
                      <a:pt x="12" y="2"/>
                    </a:lnTo>
                    <a:lnTo>
                      <a:pt x="23" y="5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763800" y="332568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11" y="5"/>
                    </a:lnTo>
                    <a:lnTo>
                      <a:pt x="22" y="9"/>
                    </a:lnTo>
                    <a:lnTo>
                      <a:pt x="33" y="13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835440" y="33512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905280" y="3352680"/>
                <a:ext cx="71280" cy="1764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976560" y="337032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3" y="11"/>
                    </a:lnTo>
                    <a:lnTo>
                      <a:pt x="44" y="1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46400" y="339264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119480" y="3392640"/>
                <a:ext cx="69840" cy="1404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189320" y="340668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4" y="10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260960" y="34257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330800" y="34257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402080" y="344160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33" y="9"/>
                    </a:lnTo>
                    <a:lnTo>
                      <a:pt x="44" y="1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471920" y="345744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11" y="1"/>
                    </a:lnTo>
                    <a:lnTo>
                      <a:pt x="23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545000" y="3457440"/>
                <a:ext cx="69840" cy="1296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614840" y="347040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3"/>
                    </a:lnTo>
                    <a:lnTo>
                      <a:pt x="23" y="5"/>
                    </a:lnTo>
                    <a:lnTo>
                      <a:pt x="34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686480" y="34862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4756320" y="348624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2" y="1"/>
                    </a:lnTo>
                    <a:lnTo>
                      <a:pt x="23" y="3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827600" y="349884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4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898880" y="351144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2" y="1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970520" y="351144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040360" y="352116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2" y="2"/>
                    </a:lnTo>
                    <a:lnTo>
                      <a:pt x="23" y="4"/>
                    </a:lnTo>
                    <a:lnTo>
                      <a:pt x="34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11640" y="35337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183280" y="353376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22" y="3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253120" y="3543480"/>
                <a:ext cx="73080" cy="1260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4" y="7"/>
                    </a:lnTo>
                    <a:lnTo>
                      <a:pt x="46" y="8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326200" y="355284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396040" y="355284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467320" y="356076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22" y="4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537160" y="357192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608800" y="357192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22" y="3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678640" y="3581280"/>
                <a:ext cx="7272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22" y="4"/>
                    </a:lnTo>
                    <a:lnTo>
                      <a:pt x="35" y="6"/>
                    </a:lnTo>
                    <a:lnTo>
                      <a:pt x="46" y="7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751360" y="35892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821200" y="3589200"/>
                <a:ext cx="7164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892840" y="3594240"/>
                <a:ext cx="69840" cy="1080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22" y="4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962680" y="36050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033960" y="3605040"/>
                <a:ext cx="69840" cy="828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103800" y="3613320"/>
                <a:ext cx="73080" cy="1080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2" y="2"/>
                    </a:lnTo>
                    <a:lnTo>
                      <a:pt x="23" y="4"/>
                    </a:lnTo>
                    <a:lnTo>
                      <a:pt x="35" y="6"/>
                    </a:lnTo>
                    <a:lnTo>
                      <a:pt x="46" y="7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176880" y="361944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46720" y="361944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318360" y="36226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389640" y="36306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459480" y="363060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531120" y="363996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602400" y="36464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673680" y="3646440"/>
                <a:ext cx="70200" cy="468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743880" y="365112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4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815160" y="36561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885000" y="365616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958080" y="36590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027920" y="36655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099200" y="366552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169040" y="367200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240680" y="36766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310520" y="367668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23" y="1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383600" y="368136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453440" y="36846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2" y="3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524720" y="36846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594560" y="368784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666200" y="36925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737480" y="369252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808760" y="369720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4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880400" y="370044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0240" y="37004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021520" y="3701880"/>
                <a:ext cx="69840" cy="504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066680" y="1614600"/>
                <a:ext cx="69840" cy="3476520"/>
              </a:xfrm>
              <a:custGeom>
                <a:avLst/>
                <a:gdLst/>
                <a:ahLst/>
                <a:rect l="l" t="t" r="r" b="b"/>
                <a:pathLst>
                  <a:path w="44" h="2190">
                    <a:moveTo>
                      <a:pt x="0" y="2190"/>
                    </a:moveTo>
                    <a:lnTo>
                      <a:pt x="1" y="2120"/>
                    </a:lnTo>
                    <a:lnTo>
                      <a:pt x="3" y="2049"/>
                    </a:lnTo>
                    <a:lnTo>
                      <a:pt x="4" y="1975"/>
                    </a:lnTo>
                    <a:lnTo>
                      <a:pt x="5" y="1900"/>
                    </a:lnTo>
                    <a:lnTo>
                      <a:pt x="7" y="1824"/>
                    </a:lnTo>
                    <a:lnTo>
                      <a:pt x="8" y="1747"/>
                    </a:lnTo>
                    <a:lnTo>
                      <a:pt x="10" y="1668"/>
                    </a:lnTo>
                    <a:lnTo>
                      <a:pt x="11" y="1590"/>
                    </a:lnTo>
                    <a:lnTo>
                      <a:pt x="14" y="1431"/>
                    </a:lnTo>
                    <a:lnTo>
                      <a:pt x="16" y="1270"/>
                    </a:lnTo>
                    <a:lnTo>
                      <a:pt x="19" y="1111"/>
                    </a:lnTo>
                    <a:lnTo>
                      <a:pt x="20" y="1033"/>
                    </a:lnTo>
                    <a:lnTo>
                      <a:pt x="22" y="955"/>
                    </a:lnTo>
                    <a:lnTo>
                      <a:pt x="23" y="878"/>
                    </a:lnTo>
                    <a:lnTo>
                      <a:pt x="25" y="803"/>
                    </a:lnTo>
                    <a:lnTo>
                      <a:pt x="26" y="729"/>
                    </a:lnTo>
                    <a:lnTo>
                      <a:pt x="27" y="657"/>
                    </a:lnTo>
                    <a:lnTo>
                      <a:pt x="29" y="587"/>
                    </a:lnTo>
                    <a:lnTo>
                      <a:pt x="30" y="519"/>
                    </a:lnTo>
                    <a:lnTo>
                      <a:pt x="32" y="453"/>
                    </a:lnTo>
                    <a:lnTo>
                      <a:pt x="33" y="390"/>
                    </a:lnTo>
                    <a:lnTo>
                      <a:pt x="34" y="330"/>
                    </a:lnTo>
                    <a:lnTo>
                      <a:pt x="35" y="300"/>
                    </a:lnTo>
                    <a:lnTo>
                      <a:pt x="36" y="272"/>
                    </a:lnTo>
                    <a:lnTo>
                      <a:pt x="36" y="245"/>
                    </a:lnTo>
                    <a:lnTo>
                      <a:pt x="37" y="217"/>
                    </a:lnTo>
                    <a:lnTo>
                      <a:pt x="38" y="192"/>
                    </a:lnTo>
                    <a:lnTo>
                      <a:pt x="38" y="167"/>
                    </a:lnTo>
                    <a:lnTo>
                      <a:pt x="39" y="142"/>
                    </a:lnTo>
                    <a:lnTo>
                      <a:pt x="40" y="119"/>
                    </a:lnTo>
                    <a:lnTo>
                      <a:pt x="41" y="97"/>
                    </a:lnTo>
                    <a:lnTo>
                      <a:pt x="41" y="75"/>
                    </a:lnTo>
                    <a:lnTo>
                      <a:pt x="42" y="54"/>
                    </a:lnTo>
                    <a:lnTo>
                      <a:pt x="43" y="35"/>
                    </a:lnTo>
                    <a:lnTo>
                      <a:pt x="43" y="1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136520" y="160020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9"/>
                    </a:moveTo>
                    <a:lnTo>
                      <a:pt x="1" y="4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9" y="11"/>
                    </a:lnTo>
                    <a:lnTo>
                      <a:pt x="23" y="16"/>
                    </a:lnTo>
                    <a:lnTo>
                      <a:pt x="32" y="27"/>
                    </a:lnTo>
                    <a:lnTo>
                      <a:pt x="39" y="38"/>
                    </a:lnTo>
                    <a:lnTo>
                      <a:pt x="41" y="42"/>
                    </a:lnTo>
                    <a:lnTo>
                      <a:pt x="44" y="47"/>
                    </a:lnTo>
                    <a:lnTo>
                      <a:pt x="45" y="50"/>
                    </a:lnTo>
                    <a:lnTo>
                      <a:pt x="46" y="5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209600" y="1682640"/>
                <a:ext cx="71640" cy="797040"/>
              </a:xfrm>
              <a:custGeom>
                <a:avLst/>
                <a:gdLst/>
                <a:ahLst/>
                <a:rect l="l" t="t" r="r" b="b"/>
                <a:pathLst>
                  <a:path w="45" h="502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30"/>
                    </a:lnTo>
                    <a:lnTo>
                      <a:pt x="6" y="44"/>
                    </a:lnTo>
                    <a:lnTo>
                      <a:pt x="7" y="57"/>
                    </a:lnTo>
                    <a:lnTo>
                      <a:pt x="8" y="71"/>
                    </a:lnTo>
                    <a:lnTo>
                      <a:pt x="10" y="86"/>
                    </a:lnTo>
                    <a:lnTo>
                      <a:pt x="11" y="101"/>
                    </a:lnTo>
                    <a:lnTo>
                      <a:pt x="14" y="135"/>
                    </a:lnTo>
                    <a:lnTo>
                      <a:pt x="17" y="170"/>
                    </a:lnTo>
                    <a:lnTo>
                      <a:pt x="19" y="207"/>
                    </a:lnTo>
                    <a:lnTo>
                      <a:pt x="22" y="244"/>
                    </a:lnTo>
                    <a:lnTo>
                      <a:pt x="25" y="281"/>
                    </a:lnTo>
                    <a:lnTo>
                      <a:pt x="28" y="319"/>
                    </a:lnTo>
                    <a:lnTo>
                      <a:pt x="30" y="355"/>
                    </a:lnTo>
                    <a:lnTo>
                      <a:pt x="33" y="390"/>
                    </a:lnTo>
                    <a:lnTo>
                      <a:pt x="36" y="422"/>
                    </a:lnTo>
                    <a:lnTo>
                      <a:pt x="37" y="437"/>
                    </a:lnTo>
                    <a:lnTo>
                      <a:pt x="38" y="453"/>
                    </a:lnTo>
                    <a:lnTo>
                      <a:pt x="40" y="467"/>
                    </a:lnTo>
                    <a:lnTo>
                      <a:pt x="41" y="479"/>
                    </a:lnTo>
                    <a:lnTo>
                      <a:pt x="44" y="491"/>
                    </a:lnTo>
                    <a:lnTo>
                      <a:pt x="45" y="50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281240" y="2479680"/>
                <a:ext cx="69840" cy="258840"/>
              </a:xfrm>
              <a:custGeom>
                <a:avLst/>
                <a:gdLst/>
                <a:ahLst/>
                <a:rect l="l" t="t" r="r" b="b"/>
                <a:pathLst>
                  <a:path w="44" h="163">
                    <a:moveTo>
                      <a:pt x="0" y="0"/>
                    </a:moveTo>
                    <a:lnTo>
                      <a:pt x="5" y="30"/>
                    </a:lnTo>
                    <a:lnTo>
                      <a:pt x="10" y="59"/>
                    </a:lnTo>
                    <a:lnTo>
                      <a:pt x="16" y="84"/>
                    </a:lnTo>
                    <a:lnTo>
                      <a:pt x="19" y="96"/>
                    </a:lnTo>
                    <a:lnTo>
                      <a:pt x="22" y="107"/>
                    </a:lnTo>
                    <a:lnTo>
                      <a:pt x="25" y="117"/>
                    </a:lnTo>
                    <a:lnTo>
                      <a:pt x="28" y="127"/>
                    </a:lnTo>
                    <a:lnTo>
                      <a:pt x="31" y="135"/>
                    </a:lnTo>
                    <a:lnTo>
                      <a:pt x="34" y="143"/>
                    </a:lnTo>
                    <a:lnTo>
                      <a:pt x="37" y="149"/>
                    </a:lnTo>
                    <a:lnTo>
                      <a:pt x="39" y="155"/>
                    </a:lnTo>
                    <a:lnTo>
                      <a:pt x="42" y="159"/>
                    </a:lnTo>
                    <a:lnTo>
                      <a:pt x="44" y="16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351080" y="2682720"/>
                <a:ext cx="71280" cy="6192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35"/>
                    </a:moveTo>
                    <a:lnTo>
                      <a:pt x="3" y="38"/>
                    </a:lnTo>
                    <a:lnTo>
                      <a:pt x="5" y="39"/>
                    </a:lnTo>
                    <a:lnTo>
                      <a:pt x="8" y="39"/>
                    </a:lnTo>
                    <a:lnTo>
                      <a:pt x="11" y="38"/>
                    </a:lnTo>
                    <a:lnTo>
                      <a:pt x="14" y="36"/>
                    </a:lnTo>
                    <a:lnTo>
                      <a:pt x="16" y="33"/>
                    </a:lnTo>
                    <a:lnTo>
                      <a:pt x="22" y="25"/>
                    </a:lnTo>
                    <a:lnTo>
                      <a:pt x="28" y="16"/>
                    </a:lnTo>
                    <a:lnTo>
                      <a:pt x="33" y="8"/>
                    </a:lnTo>
                    <a:lnTo>
                      <a:pt x="36" y="4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422360" y="2682720"/>
                <a:ext cx="69840" cy="7164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11" y="7"/>
                    </a:lnTo>
                    <a:lnTo>
                      <a:pt x="16" y="13"/>
                    </a:lnTo>
                    <a:lnTo>
                      <a:pt x="22" y="20"/>
                    </a:lnTo>
                    <a:lnTo>
                      <a:pt x="28" y="28"/>
                    </a:lnTo>
                    <a:lnTo>
                      <a:pt x="33" y="35"/>
                    </a:lnTo>
                    <a:lnTo>
                      <a:pt x="39" y="41"/>
                    </a:lnTo>
                    <a:lnTo>
                      <a:pt x="44" y="4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492200" y="2754360"/>
                <a:ext cx="7164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0"/>
                    </a:moveTo>
                    <a:lnTo>
                      <a:pt x="11" y="6"/>
                    </a:lnTo>
                    <a:lnTo>
                      <a:pt x="16" y="9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9" y="9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563840" y="2627280"/>
                <a:ext cx="71280" cy="135000"/>
              </a:xfrm>
              <a:custGeom>
                <a:avLst/>
                <a:gdLst/>
                <a:ahLst/>
                <a:rect l="l" t="t" r="r" b="b"/>
                <a:pathLst>
                  <a:path w="45" h="85">
                    <a:moveTo>
                      <a:pt x="0" y="85"/>
                    </a:moveTo>
                    <a:lnTo>
                      <a:pt x="3" y="82"/>
                    </a:lnTo>
                    <a:lnTo>
                      <a:pt x="6" y="78"/>
                    </a:lnTo>
                    <a:lnTo>
                      <a:pt x="8" y="74"/>
                    </a:lnTo>
                    <a:lnTo>
                      <a:pt x="11" y="68"/>
                    </a:lnTo>
                    <a:lnTo>
                      <a:pt x="17" y="56"/>
                    </a:lnTo>
                    <a:lnTo>
                      <a:pt x="22" y="43"/>
                    </a:lnTo>
                    <a:lnTo>
                      <a:pt x="28" y="30"/>
                    </a:lnTo>
                    <a:lnTo>
                      <a:pt x="34" y="17"/>
                    </a:lnTo>
                    <a:lnTo>
                      <a:pt x="37" y="12"/>
                    </a:lnTo>
                    <a:lnTo>
                      <a:pt x="39" y="7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635120" y="26161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7"/>
                    </a:moveTo>
                    <a:lnTo>
                      <a:pt x="6" y="3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706400" y="263196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0"/>
                    </a:moveTo>
                    <a:lnTo>
                      <a:pt x="5" y="4"/>
                    </a:lnTo>
                    <a:lnTo>
                      <a:pt x="11" y="11"/>
                    </a:lnTo>
                    <a:lnTo>
                      <a:pt x="16" y="18"/>
                    </a:lnTo>
                    <a:lnTo>
                      <a:pt x="22" y="28"/>
                    </a:lnTo>
                    <a:lnTo>
                      <a:pt x="28" y="35"/>
                    </a:lnTo>
                    <a:lnTo>
                      <a:pt x="33" y="41"/>
                    </a:lnTo>
                    <a:lnTo>
                      <a:pt x="36" y="44"/>
                    </a:lnTo>
                    <a:lnTo>
                      <a:pt x="39" y="45"/>
                    </a:lnTo>
                    <a:lnTo>
                      <a:pt x="41" y="46"/>
                    </a:lnTo>
                    <a:lnTo>
                      <a:pt x="44" y="4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776240" y="2604960"/>
                <a:ext cx="71640" cy="100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0" y="63"/>
                    </a:moveTo>
                    <a:lnTo>
                      <a:pt x="3" y="62"/>
                    </a:lnTo>
                    <a:lnTo>
                      <a:pt x="5" y="60"/>
                    </a:lnTo>
                    <a:lnTo>
                      <a:pt x="8" y="57"/>
                    </a:lnTo>
                    <a:lnTo>
                      <a:pt x="11" y="54"/>
                    </a:lnTo>
                    <a:lnTo>
                      <a:pt x="16" y="45"/>
                    </a:lnTo>
                    <a:lnTo>
                      <a:pt x="22" y="34"/>
                    </a:lnTo>
                    <a:lnTo>
                      <a:pt x="29" y="24"/>
                    </a:lnTo>
                    <a:lnTo>
                      <a:pt x="34" y="14"/>
                    </a:lnTo>
                    <a:lnTo>
                      <a:pt x="40" y="6"/>
                    </a:lnTo>
                    <a:lnTo>
                      <a:pt x="4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847880" y="259236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8"/>
                    </a:moveTo>
                    <a:lnTo>
                      <a:pt x="5" y="4"/>
                    </a:lnTo>
                    <a:lnTo>
                      <a:pt x="11" y="2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917720" y="2598840"/>
                <a:ext cx="7128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0"/>
                    </a:moveTo>
                    <a:lnTo>
                      <a:pt x="5" y="3"/>
                    </a:lnTo>
                    <a:lnTo>
                      <a:pt x="11" y="7"/>
                    </a:lnTo>
                    <a:lnTo>
                      <a:pt x="16" y="12"/>
                    </a:lnTo>
                    <a:lnTo>
                      <a:pt x="23" y="18"/>
                    </a:lnTo>
                    <a:lnTo>
                      <a:pt x="28" y="23"/>
                    </a:lnTo>
                    <a:lnTo>
                      <a:pt x="34" y="28"/>
                    </a:lnTo>
                    <a:lnTo>
                      <a:pt x="39" y="32"/>
                    </a:lnTo>
                    <a:lnTo>
                      <a:pt x="45" y="3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989000" y="2630520"/>
                <a:ext cx="7164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14"/>
                    </a:moveTo>
                    <a:lnTo>
                      <a:pt x="6" y="14"/>
                    </a:lnTo>
                    <a:lnTo>
                      <a:pt x="11" y="13"/>
                    </a:lnTo>
                    <a:lnTo>
                      <a:pt x="17" y="10"/>
                    </a:lnTo>
                    <a:lnTo>
                      <a:pt x="22" y="7"/>
                    </a:lnTo>
                    <a:lnTo>
                      <a:pt x="28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060640" y="2631960"/>
                <a:ext cx="71280" cy="6372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18" y="11"/>
                    </a:lnTo>
                    <a:lnTo>
                      <a:pt x="23" y="16"/>
                    </a:lnTo>
                    <a:lnTo>
                      <a:pt x="34" y="29"/>
                    </a:lnTo>
                    <a:lnTo>
                      <a:pt x="45" y="4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131920" y="269568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0"/>
                    </a:moveTo>
                    <a:lnTo>
                      <a:pt x="5" y="6"/>
                    </a:lnTo>
                    <a:lnTo>
                      <a:pt x="11" y="12"/>
                    </a:lnTo>
                    <a:lnTo>
                      <a:pt x="22" y="26"/>
                    </a:lnTo>
                    <a:lnTo>
                      <a:pt x="28" y="33"/>
                    </a:lnTo>
                    <a:lnTo>
                      <a:pt x="33" y="39"/>
                    </a:lnTo>
                    <a:lnTo>
                      <a:pt x="39" y="43"/>
                    </a:lnTo>
                    <a:lnTo>
                      <a:pt x="44" y="4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201760" y="274464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5"/>
                    </a:moveTo>
                    <a:lnTo>
                      <a:pt x="5" y="16"/>
                    </a:lnTo>
                    <a:lnTo>
                      <a:pt x="12" y="15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29" y="6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273400" y="274464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0"/>
                    </a:moveTo>
                    <a:lnTo>
                      <a:pt x="5" y="1"/>
                    </a:lnTo>
                    <a:lnTo>
                      <a:pt x="11" y="3"/>
                    </a:lnTo>
                    <a:lnTo>
                      <a:pt x="22" y="9"/>
                    </a:lnTo>
                    <a:lnTo>
                      <a:pt x="33" y="16"/>
                    </a:lnTo>
                    <a:lnTo>
                      <a:pt x="44" y="2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343240" y="2781360"/>
                <a:ext cx="71280" cy="5220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0"/>
                    </a:moveTo>
                    <a:lnTo>
                      <a:pt x="12" y="8"/>
                    </a:lnTo>
                    <a:lnTo>
                      <a:pt x="23" y="18"/>
                    </a:lnTo>
                    <a:lnTo>
                      <a:pt x="34" y="26"/>
                    </a:lnTo>
                    <a:lnTo>
                      <a:pt x="39" y="30"/>
                    </a:lnTo>
                    <a:lnTo>
                      <a:pt x="45" y="3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414520" y="283356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6" y="2"/>
                    </a:lnTo>
                    <a:lnTo>
                      <a:pt x="11" y="3"/>
                    </a:lnTo>
                    <a:lnTo>
                      <a:pt x="22" y="4"/>
                    </a:lnTo>
                    <a:lnTo>
                      <a:pt x="34" y="6"/>
                    </a:lnTo>
                    <a:lnTo>
                      <a:pt x="39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486160" y="2847960"/>
                <a:ext cx="7128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0"/>
                    </a:moveTo>
                    <a:lnTo>
                      <a:pt x="7" y="3"/>
                    </a:lnTo>
                    <a:lnTo>
                      <a:pt x="12" y="7"/>
                    </a:lnTo>
                    <a:lnTo>
                      <a:pt x="23" y="15"/>
                    </a:lnTo>
                    <a:lnTo>
                      <a:pt x="34" y="25"/>
                    </a:lnTo>
                    <a:lnTo>
                      <a:pt x="45" y="3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557440" y="290196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0"/>
                    </a:moveTo>
                    <a:lnTo>
                      <a:pt x="11" y="10"/>
                    </a:lnTo>
                    <a:lnTo>
                      <a:pt x="22" y="21"/>
                    </a:lnTo>
                    <a:lnTo>
                      <a:pt x="33" y="31"/>
                    </a:lnTo>
                    <a:lnTo>
                      <a:pt x="39" y="34"/>
                    </a:lnTo>
                    <a:lnTo>
                      <a:pt x="45" y="3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29080" y="29574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2"/>
                    </a:moveTo>
                    <a:lnTo>
                      <a:pt x="5" y="3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98920" y="2959200"/>
                <a:ext cx="712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0" y="0"/>
                    </a:moveTo>
                    <a:lnTo>
                      <a:pt x="11" y="3"/>
                    </a:lnTo>
                    <a:lnTo>
                      <a:pt x="22" y="8"/>
                    </a:lnTo>
                    <a:lnTo>
                      <a:pt x="33" y="14"/>
                    </a:lnTo>
                    <a:lnTo>
                      <a:pt x="45" y="2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770200" y="299088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0"/>
                    </a:moveTo>
                    <a:lnTo>
                      <a:pt x="11" y="6"/>
                    </a:lnTo>
                    <a:lnTo>
                      <a:pt x="22" y="14"/>
                    </a:lnTo>
                    <a:lnTo>
                      <a:pt x="33" y="20"/>
                    </a:lnTo>
                    <a:lnTo>
                      <a:pt x="44" y="2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840040" y="303228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0"/>
                    </a:moveTo>
                    <a:lnTo>
                      <a:pt x="11" y="3"/>
                    </a:lnTo>
                    <a:lnTo>
                      <a:pt x="22" y="5"/>
                    </a:lnTo>
                    <a:lnTo>
                      <a:pt x="35" y="7"/>
                    </a:lnTo>
                    <a:lnTo>
                      <a:pt x="46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13120" y="30481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0"/>
                    </a:moveTo>
                    <a:lnTo>
                      <a:pt x="11" y="5"/>
                    </a:lnTo>
                    <a:lnTo>
                      <a:pt x="22" y="13"/>
                    </a:lnTo>
                    <a:lnTo>
                      <a:pt x="33" y="20"/>
                    </a:lnTo>
                    <a:lnTo>
                      <a:pt x="44" y="2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982960" y="3090960"/>
                <a:ext cx="7128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11" y="7"/>
                    </a:lnTo>
                    <a:lnTo>
                      <a:pt x="22" y="13"/>
                    </a:lnTo>
                    <a:lnTo>
                      <a:pt x="34" y="19"/>
                    </a:lnTo>
                    <a:lnTo>
                      <a:pt x="45" y="2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54240" y="312912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5" y="1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33" y="3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124080" y="313524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45" y="1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195720" y="316224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0"/>
                    </a:moveTo>
                    <a:lnTo>
                      <a:pt x="11" y="6"/>
                    </a:lnTo>
                    <a:lnTo>
                      <a:pt x="22" y="12"/>
                    </a:lnTo>
                    <a:lnTo>
                      <a:pt x="34" y="18"/>
                    </a:lnTo>
                    <a:lnTo>
                      <a:pt x="45" y="2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267000" y="319716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2"/>
                    </a:lnTo>
                    <a:lnTo>
                      <a:pt x="11" y="3"/>
                    </a:lnTo>
                    <a:lnTo>
                      <a:pt x="23" y="2"/>
                    </a:lnTo>
                    <a:lnTo>
                      <a:pt x="34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338640" y="3201840"/>
                <a:ext cx="69840" cy="2412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44" y="1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408480" y="322596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0"/>
                    </a:moveTo>
                    <a:lnTo>
                      <a:pt x="11" y="5"/>
                    </a:lnTo>
                    <a:lnTo>
                      <a:pt x="23" y="10"/>
                    </a:lnTo>
                    <a:lnTo>
                      <a:pt x="34" y="14"/>
                    </a:lnTo>
                    <a:lnTo>
                      <a:pt x="45" y="1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479760" y="32544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11" y="2"/>
                    </a:lnTo>
                    <a:lnTo>
                      <a:pt x="22" y="2"/>
                    </a:lnTo>
                    <a:lnTo>
                      <a:pt x="33" y="3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549600" y="3260880"/>
                <a:ext cx="71640" cy="2196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0"/>
                    </a:moveTo>
                    <a:lnTo>
                      <a:pt x="12" y="3"/>
                    </a:lnTo>
                    <a:lnTo>
                      <a:pt x="23" y="6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621240" y="328284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1" y="4"/>
                    </a:lnTo>
                    <a:lnTo>
                      <a:pt x="22" y="9"/>
                    </a:lnTo>
                    <a:lnTo>
                      <a:pt x="34" y="14"/>
                    </a:lnTo>
                    <a:lnTo>
                      <a:pt x="45" y="1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692520" y="33098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1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763800" y="3311640"/>
                <a:ext cx="7164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835440" y="332892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3" y="11"/>
                    </a:lnTo>
                    <a:lnTo>
                      <a:pt x="44" y="1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905280" y="335124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3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976560" y="335592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046400" y="3375000"/>
                <a:ext cx="73080" cy="2232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4" y="12"/>
                    </a:lnTo>
                    <a:lnTo>
                      <a:pt x="46" y="1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4119480" y="339552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189320" y="339552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260960" y="340992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0"/>
                    </a:moveTo>
                    <a:lnTo>
                      <a:pt x="22" y="5"/>
                    </a:lnTo>
                    <a:lnTo>
                      <a:pt x="33" y="8"/>
                    </a:lnTo>
                    <a:lnTo>
                      <a:pt x="44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330800" y="34257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402080" y="342900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4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71920" y="344484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11" y="3"/>
                    </a:lnTo>
                    <a:lnTo>
                      <a:pt x="23" y="7"/>
                    </a:lnTo>
                    <a:lnTo>
                      <a:pt x="35" y="10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545000" y="34606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614840" y="346068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1"/>
                    </a:lnTo>
                    <a:lnTo>
                      <a:pt x="23" y="2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686480" y="347184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756320" y="34844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2" y="1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827600" y="348768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898880" y="350208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23" y="5"/>
                    </a:lnTo>
                    <a:lnTo>
                      <a:pt x="34" y="7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970520" y="351468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040360" y="35146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3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111640" y="352260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183280" y="353520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253120" y="3535200"/>
                <a:ext cx="73080" cy="972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0"/>
                    </a:moveTo>
                    <a:lnTo>
                      <a:pt x="22" y="3"/>
                    </a:lnTo>
                    <a:lnTo>
                      <a:pt x="46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326200" y="354492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396040" y="35542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467320" y="35542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537160" y="356076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4" y="6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608800" y="35719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78640" y="3571920"/>
                <a:ext cx="7272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22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751360" y="357984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821200" y="358776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892840" y="358776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962680" y="359424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3" y="4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3960" y="36036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103800" y="360360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23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176880" y="361152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246720" y="361800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2" y="3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318360" y="36180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389640" y="36226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459480" y="36291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531120" y="362916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602400" y="36370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3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673680" y="3645000"/>
                <a:ext cx="702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743880" y="36450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815160" y="36496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85000" y="365436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58080" y="36543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27920" y="365904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9200" y="36640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169040" y="366408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240680" y="366876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310520" y="36734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2" y="2"/>
                    </a:lnTo>
                    <a:lnTo>
                      <a:pt x="23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8" name=""/>
            <p:cNvSpPr/>
            <p:nvPr/>
          </p:nvSpPr>
          <p:spPr>
            <a:xfrm>
              <a:off x="7383600" y="3673440"/>
              <a:ext cx="69840" cy="324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0" y="0"/>
                  </a:moveTo>
                  <a:lnTo>
                    <a:pt x="22" y="1"/>
                  </a:lnTo>
                  <a:lnTo>
                    <a:pt x="4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53440" y="3676680"/>
              <a:ext cx="7128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23" y="2"/>
                  </a:lnTo>
                  <a:lnTo>
                    <a:pt x="45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24720" y="3681360"/>
              <a:ext cx="69840" cy="180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11" y="1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594560" y="3681360"/>
              <a:ext cx="7164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0"/>
                  </a:moveTo>
                  <a:lnTo>
                    <a:pt x="23" y="1"/>
                  </a:lnTo>
                  <a:lnTo>
                    <a:pt x="4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666200" y="3686040"/>
              <a:ext cx="71280" cy="792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0" y="0"/>
                  </a:moveTo>
                  <a:lnTo>
                    <a:pt x="11" y="1"/>
                  </a:lnTo>
                  <a:lnTo>
                    <a:pt x="22" y="3"/>
                  </a:lnTo>
                  <a:lnTo>
                    <a:pt x="33" y="4"/>
                  </a:lnTo>
                  <a:lnTo>
                    <a:pt x="4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37480" y="3689280"/>
              <a:ext cx="7128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3"/>
                  </a:moveTo>
                  <a:lnTo>
                    <a:pt x="11" y="3"/>
                  </a:lnTo>
                  <a:lnTo>
                    <a:pt x="22" y="2"/>
                  </a:lnTo>
                  <a:lnTo>
                    <a:pt x="34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08760" y="3689280"/>
              <a:ext cx="7164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0"/>
                  </a:moveTo>
                  <a:lnTo>
                    <a:pt x="22" y="1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80400" y="3692520"/>
              <a:ext cx="69840" cy="468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0"/>
                  </a:moveTo>
                  <a:lnTo>
                    <a:pt x="22" y="2"/>
                  </a:lnTo>
                  <a:lnTo>
                    <a:pt x="4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950240" y="3697200"/>
              <a:ext cx="7128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021520" y="3697200"/>
              <a:ext cx="69840" cy="468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90920" y="4976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58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800" y="3584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5800" y="2890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5800" y="2195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80680" y="1500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80680" y="803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986040" y="5246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706840" y="5246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481640" y="5246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254640" y="5246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976880" y="5246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667400" y="537228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rot="16200000">
              <a:off x="-1345680" y="2811240"/>
              <a:ext cx="336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umulative Food Sufficiency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1841400" y="5683320"/>
              <a:ext cx="7408800" cy="790560"/>
              <a:chOff x="1841400" y="5683320"/>
              <a:chExt cx="7408800" cy="790560"/>
            </a:xfrm>
          </p:grpSpPr>
          <p:sp>
            <p:nvSpPr>
              <p:cNvPr id="2173" name=""/>
              <p:cNvSpPr/>
              <p:nvPr/>
            </p:nvSpPr>
            <p:spPr>
              <a:xfrm>
                <a:off x="1841400" y="5683320"/>
                <a:ext cx="7408800" cy="790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898640" y="5797440"/>
                <a:ext cx="241200" cy="1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175120" y="5699160"/>
                <a:ext cx="3411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o Market, Pop. Dens.=15 persons/km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602320" y="5797440"/>
                <a:ext cx="241200" cy="1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878800" y="5699160"/>
                <a:ext cx="3114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Market, Pop. Dens.=15 persons/km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898640" y="6059520"/>
                <a:ext cx="241200" cy="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175120" y="5960880"/>
                <a:ext cx="3411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o Market, Pop. Dens.=30 persons/km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602320" y="6059520"/>
                <a:ext cx="241200" cy="10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878800" y="5960880"/>
                <a:ext cx="3114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Market, Pop. Dens.=30 persons/km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898640" y="6321240"/>
                <a:ext cx="241200" cy="144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175120" y="6222960"/>
                <a:ext cx="3411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o Market, Pop. Dens.=45 persons/km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602320" y="6321240"/>
                <a:ext cx="241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878800" y="6222960"/>
                <a:ext cx="3114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Market, Pop. Dens.=45 persons/km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RYING CAPACITY OF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489800" y="3664080"/>
              <a:ext cx="716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7561440" y="3668400"/>
              <a:ext cx="7272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634160" y="3668760"/>
              <a:ext cx="71640" cy="4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705800" y="3673440"/>
              <a:ext cx="7128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7777080" y="3677760"/>
              <a:ext cx="7164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48720" y="3678120"/>
              <a:ext cx="73080" cy="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921800" y="3683160"/>
              <a:ext cx="69840" cy="6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7991640" y="3685680"/>
              <a:ext cx="7272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064360" y="3686040"/>
              <a:ext cx="73080" cy="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029200" y="1828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persons k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29200" y="29718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persons k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029200" y="36576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persons k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752480" y="114300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mall effect of market ex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0" name=""/>
          <p:cNvGrpSpPr/>
          <p:nvPr/>
        </p:nvGrpSpPr>
        <p:grpSpPr>
          <a:xfrm>
            <a:off x="206280" y="25560"/>
            <a:ext cx="8772480" cy="6058440"/>
            <a:chOff x="206280" y="25560"/>
            <a:chExt cx="8772480" cy="6058440"/>
          </a:xfrm>
        </p:grpSpPr>
        <p:grpSp>
          <p:nvGrpSpPr>
            <p:cNvPr id="2201" name=""/>
            <p:cNvGrpSpPr/>
            <p:nvPr/>
          </p:nvGrpSpPr>
          <p:grpSpPr>
            <a:xfrm>
              <a:off x="938160" y="917640"/>
              <a:ext cx="7863120" cy="4492440"/>
              <a:chOff x="938160" y="917640"/>
              <a:chExt cx="7863120" cy="4492440"/>
            </a:xfrm>
          </p:grpSpPr>
          <p:sp>
            <p:nvSpPr>
              <p:cNvPr id="2202" name=""/>
              <p:cNvSpPr/>
              <p:nvPr/>
            </p:nvSpPr>
            <p:spPr>
              <a:xfrm>
                <a:off x="995400" y="917640"/>
                <a:ext cx="7805880" cy="4435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995400" y="917640"/>
                <a:ext cx="7805880" cy="4435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995400" y="917640"/>
                <a:ext cx="1440" cy="443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938160" y="53532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938160" y="46134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938160" y="38750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938160" y="31352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938160" y="23954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938160" y="16574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938160" y="9176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995400" y="5353200"/>
                <a:ext cx="7805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99540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277020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454500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31836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8091360" y="5353200"/>
                <a:ext cx="180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066680" y="1657440"/>
                <a:ext cx="69840" cy="3695760"/>
              </a:xfrm>
              <a:custGeom>
                <a:avLst/>
                <a:gdLst/>
                <a:ahLst/>
                <a:rect l="l" t="t" r="r" b="b"/>
                <a:pathLst>
                  <a:path w="44" h="2328">
                    <a:moveTo>
                      <a:pt x="0" y="2328"/>
                    </a:moveTo>
                    <a:lnTo>
                      <a:pt x="1" y="2254"/>
                    </a:lnTo>
                    <a:lnTo>
                      <a:pt x="3" y="2178"/>
                    </a:lnTo>
                    <a:lnTo>
                      <a:pt x="4" y="2100"/>
                    </a:lnTo>
                    <a:lnTo>
                      <a:pt x="5" y="2020"/>
                    </a:lnTo>
                    <a:lnTo>
                      <a:pt x="7" y="1939"/>
                    </a:lnTo>
                    <a:lnTo>
                      <a:pt x="8" y="1857"/>
                    </a:lnTo>
                    <a:lnTo>
                      <a:pt x="10" y="1774"/>
                    </a:lnTo>
                    <a:lnTo>
                      <a:pt x="11" y="1690"/>
                    </a:lnTo>
                    <a:lnTo>
                      <a:pt x="14" y="1520"/>
                    </a:lnTo>
                    <a:lnTo>
                      <a:pt x="16" y="1350"/>
                    </a:lnTo>
                    <a:lnTo>
                      <a:pt x="19" y="1181"/>
                    </a:lnTo>
                    <a:lnTo>
                      <a:pt x="20" y="1098"/>
                    </a:lnTo>
                    <a:lnTo>
                      <a:pt x="22" y="1015"/>
                    </a:lnTo>
                    <a:lnTo>
                      <a:pt x="23" y="934"/>
                    </a:lnTo>
                    <a:lnTo>
                      <a:pt x="25" y="854"/>
                    </a:lnTo>
                    <a:lnTo>
                      <a:pt x="26" y="775"/>
                    </a:lnTo>
                    <a:lnTo>
                      <a:pt x="27" y="699"/>
                    </a:lnTo>
                    <a:lnTo>
                      <a:pt x="29" y="624"/>
                    </a:lnTo>
                    <a:lnTo>
                      <a:pt x="30" y="553"/>
                    </a:lnTo>
                    <a:lnTo>
                      <a:pt x="32" y="482"/>
                    </a:lnTo>
                    <a:lnTo>
                      <a:pt x="33" y="415"/>
                    </a:lnTo>
                    <a:lnTo>
                      <a:pt x="34" y="382"/>
                    </a:lnTo>
                    <a:lnTo>
                      <a:pt x="34" y="351"/>
                    </a:lnTo>
                    <a:lnTo>
                      <a:pt x="35" y="320"/>
                    </a:lnTo>
                    <a:lnTo>
                      <a:pt x="36" y="289"/>
                    </a:lnTo>
                    <a:lnTo>
                      <a:pt x="36" y="260"/>
                    </a:lnTo>
                    <a:lnTo>
                      <a:pt x="37" y="232"/>
                    </a:lnTo>
                    <a:lnTo>
                      <a:pt x="38" y="204"/>
                    </a:lnTo>
                    <a:lnTo>
                      <a:pt x="38" y="177"/>
                    </a:lnTo>
                    <a:lnTo>
                      <a:pt x="39" y="152"/>
                    </a:lnTo>
                    <a:lnTo>
                      <a:pt x="40" y="126"/>
                    </a:lnTo>
                    <a:lnTo>
                      <a:pt x="41" y="103"/>
                    </a:lnTo>
                    <a:lnTo>
                      <a:pt x="41" y="80"/>
                    </a:lnTo>
                    <a:lnTo>
                      <a:pt x="42" y="59"/>
                    </a:lnTo>
                    <a:lnTo>
                      <a:pt x="43" y="37"/>
                    </a:lnTo>
                    <a:lnTo>
                      <a:pt x="43" y="1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136520" y="1644480"/>
                <a:ext cx="73080" cy="8424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8"/>
                    </a:moveTo>
                    <a:lnTo>
                      <a:pt x="1" y="3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2" y="3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3" y="16"/>
                    </a:lnTo>
                    <a:lnTo>
                      <a:pt x="32" y="27"/>
                    </a:lnTo>
                    <a:lnTo>
                      <a:pt x="39" y="38"/>
                    </a:lnTo>
                    <a:lnTo>
                      <a:pt x="41" y="43"/>
                    </a:lnTo>
                    <a:lnTo>
                      <a:pt x="44" y="47"/>
                    </a:lnTo>
                    <a:lnTo>
                      <a:pt x="45" y="51"/>
                    </a:lnTo>
                    <a:lnTo>
                      <a:pt x="46" y="5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209600" y="1728720"/>
                <a:ext cx="71640" cy="849240"/>
              </a:xfrm>
              <a:custGeom>
                <a:avLst/>
                <a:gdLst/>
                <a:ahLst/>
                <a:rect l="l" t="t" r="r" b="b"/>
                <a:pathLst>
                  <a:path w="45" h="535">
                    <a:moveTo>
                      <a:pt x="0" y="0"/>
                    </a:moveTo>
                    <a:lnTo>
                      <a:pt x="1" y="11"/>
                    </a:lnTo>
                    <a:lnTo>
                      <a:pt x="3" y="21"/>
                    </a:lnTo>
                    <a:lnTo>
                      <a:pt x="4" y="33"/>
                    </a:lnTo>
                    <a:lnTo>
                      <a:pt x="6" y="46"/>
                    </a:lnTo>
                    <a:lnTo>
                      <a:pt x="7" y="60"/>
                    </a:lnTo>
                    <a:lnTo>
                      <a:pt x="8" y="75"/>
                    </a:lnTo>
                    <a:lnTo>
                      <a:pt x="10" y="92"/>
                    </a:lnTo>
                    <a:lnTo>
                      <a:pt x="11" y="108"/>
                    </a:lnTo>
                    <a:lnTo>
                      <a:pt x="14" y="143"/>
                    </a:lnTo>
                    <a:lnTo>
                      <a:pt x="17" y="181"/>
                    </a:lnTo>
                    <a:lnTo>
                      <a:pt x="19" y="220"/>
                    </a:lnTo>
                    <a:lnTo>
                      <a:pt x="22" y="260"/>
                    </a:lnTo>
                    <a:lnTo>
                      <a:pt x="25" y="300"/>
                    </a:lnTo>
                    <a:lnTo>
                      <a:pt x="28" y="339"/>
                    </a:lnTo>
                    <a:lnTo>
                      <a:pt x="30" y="378"/>
                    </a:lnTo>
                    <a:lnTo>
                      <a:pt x="33" y="415"/>
                    </a:lnTo>
                    <a:lnTo>
                      <a:pt x="36" y="450"/>
                    </a:lnTo>
                    <a:lnTo>
                      <a:pt x="37" y="466"/>
                    </a:lnTo>
                    <a:lnTo>
                      <a:pt x="38" y="482"/>
                    </a:lnTo>
                    <a:lnTo>
                      <a:pt x="40" y="496"/>
                    </a:lnTo>
                    <a:lnTo>
                      <a:pt x="41" y="511"/>
                    </a:lnTo>
                    <a:lnTo>
                      <a:pt x="44" y="524"/>
                    </a:lnTo>
                    <a:lnTo>
                      <a:pt x="45" y="53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281240" y="257796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44" h="173">
                    <a:moveTo>
                      <a:pt x="0" y="0"/>
                    </a:moveTo>
                    <a:lnTo>
                      <a:pt x="5" y="32"/>
                    </a:lnTo>
                    <a:lnTo>
                      <a:pt x="10" y="62"/>
                    </a:lnTo>
                    <a:lnTo>
                      <a:pt x="16" y="89"/>
                    </a:lnTo>
                    <a:lnTo>
                      <a:pt x="19" y="102"/>
                    </a:lnTo>
                    <a:lnTo>
                      <a:pt x="22" y="113"/>
                    </a:lnTo>
                    <a:lnTo>
                      <a:pt x="25" y="124"/>
                    </a:lnTo>
                    <a:lnTo>
                      <a:pt x="28" y="134"/>
                    </a:lnTo>
                    <a:lnTo>
                      <a:pt x="31" y="144"/>
                    </a:lnTo>
                    <a:lnTo>
                      <a:pt x="34" y="152"/>
                    </a:lnTo>
                    <a:lnTo>
                      <a:pt x="37" y="159"/>
                    </a:lnTo>
                    <a:lnTo>
                      <a:pt x="39" y="164"/>
                    </a:lnTo>
                    <a:lnTo>
                      <a:pt x="42" y="169"/>
                    </a:lnTo>
                    <a:lnTo>
                      <a:pt x="44" y="17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51080" y="2792520"/>
                <a:ext cx="71280" cy="6804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0" y="38"/>
                    </a:moveTo>
                    <a:lnTo>
                      <a:pt x="3" y="41"/>
                    </a:lnTo>
                    <a:lnTo>
                      <a:pt x="5" y="43"/>
                    </a:lnTo>
                    <a:lnTo>
                      <a:pt x="8" y="43"/>
                    </a:lnTo>
                    <a:lnTo>
                      <a:pt x="11" y="41"/>
                    </a:lnTo>
                    <a:lnTo>
                      <a:pt x="14" y="39"/>
                    </a:lnTo>
                    <a:lnTo>
                      <a:pt x="16" y="36"/>
                    </a:lnTo>
                    <a:lnTo>
                      <a:pt x="22" y="27"/>
                    </a:lnTo>
                    <a:lnTo>
                      <a:pt x="28" y="18"/>
                    </a:lnTo>
                    <a:lnTo>
                      <a:pt x="33" y="9"/>
                    </a:lnTo>
                    <a:lnTo>
                      <a:pt x="36" y="6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422360" y="279252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11" y="8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28" y="30"/>
                    </a:lnTo>
                    <a:lnTo>
                      <a:pt x="33" y="38"/>
                    </a:lnTo>
                    <a:lnTo>
                      <a:pt x="39" y="44"/>
                    </a:lnTo>
                    <a:lnTo>
                      <a:pt x="44" y="4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92200" y="287028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1" y="6"/>
                    </a:lnTo>
                    <a:lnTo>
                      <a:pt x="16" y="9"/>
                    </a:lnTo>
                    <a:lnTo>
                      <a:pt x="22" y="11"/>
                    </a:lnTo>
                    <a:lnTo>
                      <a:pt x="27" y="12"/>
                    </a:lnTo>
                    <a:lnTo>
                      <a:pt x="33" y="11"/>
                    </a:lnTo>
                    <a:lnTo>
                      <a:pt x="39" y="9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563840" y="2733840"/>
                <a:ext cx="71280" cy="144360"/>
              </a:xfrm>
              <a:custGeom>
                <a:avLst/>
                <a:gdLst/>
                <a:ahLst/>
                <a:rect l="l" t="t" r="r" b="b"/>
                <a:pathLst>
                  <a:path w="45" h="91">
                    <a:moveTo>
                      <a:pt x="0" y="91"/>
                    </a:moveTo>
                    <a:lnTo>
                      <a:pt x="3" y="88"/>
                    </a:lnTo>
                    <a:lnTo>
                      <a:pt x="6" y="84"/>
                    </a:lnTo>
                    <a:lnTo>
                      <a:pt x="8" y="79"/>
                    </a:lnTo>
                    <a:lnTo>
                      <a:pt x="11" y="73"/>
                    </a:lnTo>
                    <a:lnTo>
                      <a:pt x="17" y="60"/>
                    </a:lnTo>
                    <a:lnTo>
                      <a:pt x="22" y="46"/>
                    </a:lnTo>
                    <a:lnTo>
                      <a:pt x="28" y="31"/>
                    </a:lnTo>
                    <a:lnTo>
                      <a:pt x="34" y="18"/>
                    </a:lnTo>
                    <a:lnTo>
                      <a:pt x="37" y="12"/>
                    </a:lnTo>
                    <a:lnTo>
                      <a:pt x="39" y="7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635120" y="272268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7"/>
                    </a:moveTo>
                    <a:lnTo>
                      <a:pt x="6" y="3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5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706400" y="273996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3" y="2"/>
                    </a:lnTo>
                    <a:lnTo>
                      <a:pt x="5" y="5"/>
                    </a:lnTo>
                    <a:lnTo>
                      <a:pt x="11" y="12"/>
                    </a:lnTo>
                    <a:lnTo>
                      <a:pt x="16" y="20"/>
                    </a:lnTo>
                    <a:lnTo>
                      <a:pt x="22" y="28"/>
                    </a:lnTo>
                    <a:lnTo>
                      <a:pt x="28" y="36"/>
                    </a:lnTo>
                    <a:lnTo>
                      <a:pt x="33" y="44"/>
                    </a:lnTo>
                    <a:lnTo>
                      <a:pt x="36" y="46"/>
                    </a:lnTo>
                    <a:lnTo>
                      <a:pt x="39" y="48"/>
                    </a:lnTo>
                    <a:lnTo>
                      <a:pt x="41" y="49"/>
                    </a:lnTo>
                    <a:lnTo>
                      <a:pt x="44" y="4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776240" y="2711520"/>
                <a:ext cx="71640" cy="10620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67"/>
                    </a:moveTo>
                    <a:lnTo>
                      <a:pt x="3" y="66"/>
                    </a:lnTo>
                    <a:lnTo>
                      <a:pt x="5" y="64"/>
                    </a:lnTo>
                    <a:lnTo>
                      <a:pt x="8" y="61"/>
                    </a:lnTo>
                    <a:lnTo>
                      <a:pt x="11" y="57"/>
                    </a:lnTo>
                    <a:lnTo>
                      <a:pt x="16" y="47"/>
                    </a:lnTo>
                    <a:lnTo>
                      <a:pt x="22" y="36"/>
                    </a:lnTo>
                    <a:lnTo>
                      <a:pt x="29" y="25"/>
                    </a:lnTo>
                    <a:lnTo>
                      <a:pt x="34" y="15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847880" y="269712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9"/>
                    </a:moveTo>
                    <a:lnTo>
                      <a:pt x="5" y="5"/>
                    </a:lnTo>
                    <a:lnTo>
                      <a:pt x="11" y="2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917720" y="2703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0"/>
                    </a:moveTo>
                    <a:lnTo>
                      <a:pt x="5" y="3"/>
                    </a:lnTo>
                    <a:lnTo>
                      <a:pt x="11" y="7"/>
                    </a:lnTo>
                    <a:lnTo>
                      <a:pt x="16" y="13"/>
                    </a:lnTo>
                    <a:lnTo>
                      <a:pt x="23" y="19"/>
                    </a:lnTo>
                    <a:lnTo>
                      <a:pt x="28" y="25"/>
                    </a:lnTo>
                    <a:lnTo>
                      <a:pt x="34" y="30"/>
                    </a:lnTo>
                    <a:lnTo>
                      <a:pt x="39" y="35"/>
                    </a:lnTo>
                    <a:lnTo>
                      <a:pt x="45" y="3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989000" y="273852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5"/>
                    </a:moveTo>
                    <a:lnTo>
                      <a:pt x="6" y="15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060640" y="2739960"/>
                <a:ext cx="71280" cy="6660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18" y="11"/>
                    </a:lnTo>
                    <a:lnTo>
                      <a:pt x="23" y="17"/>
                    </a:lnTo>
                    <a:lnTo>
                      <a:pt x="34" y="29"/>
                    </a:lnTo>
                    <a:lnTo>
                      <a:pt x="45" y="4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131920" y="280656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5" y="6"/>
                    </a:lnTo>
                    <a:lnTo>
                      <a:pt x="11" y="13"/>
                    </a:lnTo>
                    <a:lnTo>
                      <a:pt x="22" y="28"/>
                    </a:lnTo>
                    <a:lnTo>
                      <a:pt x="28" y="35"/>
                    </a:lnTo>
                    <a:lnTo>
                      <a:pt x="33" y="41"/>
                    </a:lnTo>
                    <a:lnTo>
                      <a:pt x="39" y="46"/>
                    </a:lnTo>
                    <a:lnTo>
                      <a:pt x="44" y="4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201760" y="286056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5"/>
                    </a:moveTo>
                    <a:lnTo>
                      <a:pt x="5" y="16"/>
                    </a:lnTo>
                    <a:lnTo>
                      <a:pt x="12" y="15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29" y="6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273400" y="286056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0" y="0"/>
                    </a:moveTo>
                    <a:lnTo>
                      <a:pt x="5" y="1"/>
                    </a:lnTo>
                    <a:lnTo>
                      <a:pt x="11" y="3"/>
                    </a:lnTo>
                    <a:lnTo>
                      <a:pt x="22" y="9"/>
                    </a:lnTo>
                    <a:lnTo>
                      <a:pt x="33" y="16"/>
                    </a:lnTo>
                    <a:lnTo>
                      <a:pt x="44" y="2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343240" y="2898720"/>
                <a:ext cx="7128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0"/>
                    </a:moveTo>
                    <a:lnTo>
                      <a:pt x="12" y="8"/>
                    </a:lnTo>
                    <a:lnTo>
                      <a:pt x="23" y="17"/>
                    </a:lnTo>
                    <a:lnTo>
                      <a:pt x="34" y="27"/>
                    </a:lnTo>
                    <a:lnTo>
                      <a:pt x="39" y="31"/>
                    </a:lnTo>
                    <a:lnTo>
                      <a:pt x="45" y="3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414520" y="295272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6" y="2"/>
                    </a:lnTo>
                    <a:lnTo>
                      <a:pt x="11" y="3"/>
                    </a:lnTo>
                    <a:lnTo>
                      <a:pt x="22" y="5"/>
                    </a:lnTo>
                    <a:lnTo>
                      <a:pt x="34" y="6"/>
                    </a:lnTo>
                    <a:lnTo>
                      <a:pt x="39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486160" y="296856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0"/>
                    </a:moveTo>
                    <a:lnTo>
                      <a:pt x="7" y="3"/>
                    </a:lnTo>
                    <a:lnTo>
                      <a:pt x="12" y="7"/>
                    </a:lnTo>
                    <a:lnTo>
                      <a:pt x="23" y="17"/>
                    </a:lnTo>
                    <a:lnTo>
                      <a:pt x="34" y="27"/>
                    </a:lnTo>
                    <a:lnTo>
                      <a:pt x="45" y="3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557440" y="3027240"/>
                <a:ext cx="71640" cy="6192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0"/>
                    </a:moveTo>
                    <a:lnTo>
                      <a:pt x="11" y="10"/>
                    </a:lnTo>
                    <a:lnTo>
                      <a:pt x="22" y="21"/>
                    </a:lnTo>
                    <a:lnTo>
                      <a:pt x="28" y="28"/>
                    </a:lnTo>
                    <a:lnTo>
                      <a:pt x="33" y="32"/>
                    </a:lnTo>
                    <a:lnTo>
                      <a:pt x="39" y="36"/>
                    </a:lnTo>
                    <a:lnTo>
                      <a:pt x="45" y="3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629080" y="308628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2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698920" y="308772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11" y="4"/>
                    </a:lnTo>
                    <a:lnTo>
                      <a:pt x="22" y="9"/>
                    </a:lnTo>
                    <a:lnTo>
                      <a:pt x="33" y="15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770200" y="312120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0"/>
                    </a:moveTo>
                    <a:lnTo>
                      <a:pt x="11" y="7"/>
                    </a:lnTo>
                    <a:lnTo>
                      <a:pt x="22" y="14"/>
                    </a:lnTo>
                    <a:lnTo>
                      <a:pt x="33" y="21"/>
                    </a:lnTo>
                    <a:lnTo>
                      <a:pt x="44" y="2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840040" y="3164040"/>
                <a:ext cx="73080" cy="1728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0"/>
                    </a:moveTo>
                    <a:lnTo>
                      <a:pt x="6" y="2"/>
                    </a:lnTo>
                    <a:lnTo>
                      <a:pt x="11" y="3"/>
                    </a:lnTo>
                    <a:lnTo>
                      <a:pt x="22" y="5"/>
                    </a:lnTo>
                    <a:lnTo>
                      <a:pt x="35" y="7"/>
                    </a:lnTo>
                    <a:lnTo>
                      <a:pt x="40" y="9"/>
                    </a:lnTo>
                    <a:lnTo>
                      <a:pt x="46" y="1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913120" y="31813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0"/>
                    </a:moveTo>
                    <a:lnTo>
                      <a:pt x="11" y="6"/>
                    </a:lnTo>
                    <a:lnTo>
                      <a:pt x="22" y="14"/>
                    </a:lnTo>
                    <a:lnTo>
                      <a:pt x="33" y="22"/>
                    </a:lnTo>
                    <a:lnTo>
                      <a:pt x="44" y="2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982960" y="322740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0"/>
                    </a:moveTo>
                    <a:lnTo>
                      <a:pt x="11" y="7"/>
                    </a:lnTo>
                    <a:lnTo>
                      <a:pt x="22" y="14"/>
                    </a:lnTo>
                    <a:lnTo>
                      <a:pt x="34" y="21"/>
                    </a:lnTo>
                    <a:lnTo>
                      <a:pt x="45" y="2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054240" y="326880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5" y="1"/>
                    </a:lnTo>
                    <a:lnTo>
                      <a:pt x="11" y="2"/>
                    </a:lnTo>
                    <a:lnTo>
                      <a:pt x="22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24080" y="3274920"/>
                <a:ext cx="71640" cy="2880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0"/>
                    </a:moveTo>
                    <a:lnTo>
                      <a:pt x="11" y="3"/>
                    </a:lnTo>
                    <a:lnTo>
                      <a:pt x="22" y="8"/>
                    </a:lnTo>
                    <a:lnTo>
                      <a:pt x="45" y="1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195720" y="3303720"/>
                <a:ext cx="7128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11" y="6"/>
                    </a:lnTo>
                    <a:lnTo>
                      <a:pt x="22" y="13"/>
                    </a:lnTo>
                    <a:lnTo>
                      <a:pt x="34" y="20"/>
                    </a:lnTo>
                    <a:lnTo>
                      <a:pt x="45" y="2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267000" y="334152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6" y="1"/>
                    </a:lnTo>
                    <a:lnTo>
                      <a:pt x="11" y="2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338640" y="334476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44" y="1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408480" y="337032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0"/>
                    </a:moveTo>
                    <a:lnTo>
                      <a:pt x="11" y="5"/>
                    </a:lnTo>
                    <a:lnTo>
                      <a:pt x="23" y="10"/>
                    </a:lnTo>
                    <a:lnTo>
                      <a:pt x="34" y="15"/>
                    </a:lnTo>
                    <a:lnTo>
                      <a:pt x="45" y="1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479760" y="340056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11" y="2"/>
                    </a:lnTo>
                    <a:lnTo>
                      <a:pt x="22" y="2"/>
                    </a:lnTo>
                    <a:lnTo>
                      <a:pt x="33" y="3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549600" y="340668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12" y="3"/>
                    </a:lnTo>
                    <a:lnTo>
                      <a:pt x="23" y="7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621240" y="343224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0"/>
                    </a:moveTo>
                    <a:lnTo>
                      <a:pt x="11" y="5"/>
                    </a:lnTo>
                    <a:lnTo>
                      <a:pt x="22" y="10"/>
                    </a:lnTo>
                    <a:lnTo>
                      <a:pt x="34" y="15"/>
                    </a:lnTo>
                    <a:lnTo>
                      <a:pt x="45" y="1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692520" y="34606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1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763800" y="3460680"/>
                <a:ext cx="7164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11" y="2"/>
                    </a:lnTo>
                    <a:lnTo>
                      <a:pt x="22" y="6"/>
                    </a:lnTo>
                    <a:lnTo>
                      <a:pt x="45" y="1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835440" y="348156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3" y="12"/>
                    </a:lnTo>
                    <a:lnTo>
                      <a:pt x="44" y="1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905280" y="3505320"/>
                <a:ext cx="7128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976560" y="35082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11" y="2"/>
                    </a:lnTo>
                    <a:lnTo>
                      <a:pt x="22" y="6"/>
                    </a:lnTo>
                    <a:lnTo>
                      <a:pt x="44" y="1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046400" y="3529080"/>
                <a:ext cx="73080" cy="23760"/>
              </a:xfrm>
              <a:custGeom>
                <a:avLst/>
                <a:gdLst/>
                <a:ahLst/>
                <a:rect l="l" t="t" r="r" b="b"/>
                <a:pathLst>
                  <a:path w="46" h="15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4" y="12"/>
                    </a:lnTo>
                    <a:lnTo>
                      <a:pt x="46" y="1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119480" y="3551400"/>
                <a:ext cx="69840" cy="28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189320" y="355140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260960" y="35654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33" y="9"/>
                    </a:lnTo>
                    <a:lnTo>
                      <a:pt x="44" y="1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330800" y="35830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402080" y="3586320"/>
                <a:ext cx="69840" cy="1872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471920" y="360504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11" y="3"/>
                    </a:lnTo>
                    <a:lnTo>
                      <a:pt x="23" y="7"/>
                    </a:lnTo>
                    <a:lnTo>
                      <a:pt x="35" y="10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545000" y="3621240"/>
                <a:ext cx="69840" cy="28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614840" y="362124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1"/>
                    </a:lnTo>
                    <a:lnTo>
                      <a:pt x="23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686480" y="363204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7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756320" y="36464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1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827600" y="36482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898880" y="366408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2" y="3"/>
                    </a:lnTo>
                    <a:lnTo>
                      <a:pt x="23" y="6"/>
                    </a:lnTo>
                    <a:lnTo>
                      <a:pt x="34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970520" y="36766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040360" y="367668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2" y="1"/>
                    </a:lnTo>
                    <a:lnTo>
                      <a:pt x="23" y="2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111640" y="368604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183280" y="36990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253120" y="369900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6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326200" y="371016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22" y="5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396040" y="371952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467320" y="371952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37160" y="372744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22" y="4"/>
                    </a:lnTo>
                    <a:lnTo>
                      <a:pt x="34" y="6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608800" y="37386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678640" y="3738600"/>
                <a:ext cx="72720" cy="936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0"/>
                    </a:moveTo>
                    <a:lnTo>
                      <a:pt x="22" y="3"/>
                    </a:lnTo>
                    <a:lnTo>
                      <a:pt x="46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751360" y="3747960"/>
                <a:ext cx="69840" cy="1296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821200" y="3755880"/>
                <a:ext cx="7164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892840" y="37558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962680" y="376236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3" y="3"/>
                    </a:lnTo>
                    <a:lnTo>
                      <a:pt x="34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033960" y="37720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103800" y="377208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23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176880" y="378000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7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46720" y="378612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2" y="4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318360" y="378612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389640" y="379080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459480" y="379872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531120" y="379872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602400" y="380844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3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673680" y="3814920"/>
                <a:ext cx="7020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743880" y="381492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815160" y="38210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85000" y="382572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958080" y="3825720"/>
                <a:ext cx="69840" cy="504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027920" y="383076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99200" y="38354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69040" y="383544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240680" y="384192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310520" y="384660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2" y="2"/>
                    </a:lnTo>
                    <a:lnTo>
                      <a:pt x="23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383600" y="38466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453440" y="384984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524720" y="38545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594560" y="38545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666200" y="386064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2" y="4"/>
                    </a:lnTo>
                    <a:lnTo>
                      <a:pt x="33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737480" y="386568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808760" y="38656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880400" y="386712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2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50240" y="38718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021520" y="38718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066680" y="1657440"/>
                <a:ext cx="69840" cy="3695760"/>
              </a:xfrm>
              <a:custGeom>
                <a:avLst/>
                <a:gdLst/>
                <a:ahLst/>
                <a:rect l="l" t="t" r="r" b="b"/>
                <a:pathLst>
                  <a:path w="44" h="2328">
                    <a:moveTo>
                      <a:pt x="0" y="2328"/>
                    </a:moveTo>
                    <a:lnTo>
                      <a:pt x="1" y="2254"/>
                    </a:lnTo>
                    <a:lnTo>
                      <a:pt x="3" y="2178"/>
                    </a:lnTo>
                    <a:lnTo>
                      <a:pt x="4" y="2100"/>
                    </a:lnTo>
                    <a:lnTo>
                      <a:pt x="5" y="2020"/>
                    </a:lnTo>
                    <a:lnTo>
                      <a:pt x="7" y="1939"/>
                    </a:lnTo>
                    <a:lnTo>
                      <a:pt x="8" y="1857"/>
                    </a:lnTo>
                    <a:lnTo>
                      <a:pt x="10" y="1774"/>
                    </a:lnTo>
                    <a:lnTo>
                      <a:pt x="11" y="1690"/>
                    </a:lnTo>
                    <a:lnTo>
                      <a:pt x="14" y="1520"/>
                    </a:lnTo>
                    <a:lnTo>
                      <a:pt x="16" y="1350"/>
                    </a:lnTo>
                    <a:lnTo>
                      <a:pt x="19" y="1181"/>
                    </a:lnTo>
                    <a:lnTo>
                      <a:pt x="20" y="1098"/>
                    </a:lnTo>
                    <a:lnTo>
                      <a:pt x="22" y="1015"/>
                    </a:lnTo>
                    <a:lnTo>
                      <a:pt x="23" y="934"/>
                    </a:lnTo>
                    <a:lnTo>
                      <a:pt x="25" y="854"/>
                    </a:lnTo>
                    <a:lnTo>
                      <a:pt x="26" y="775"/>
                    </a:lnTo>
                    <a:lnTo>
                      <a:pt x="27" y="698"/>
                    </a:lnTo>
                    <a:lnTo>
                      <a:pt x="29" y="624"/>
                    </a:lnTo>
                    <a:lnTo>
                      <a:pt x="30" y="551"/>
                    </a:lnTo>
                    <a:lnTo>
                      <a:pt x="32" y="482"/>
                    </a:lnTo>
                    <a:lnTo>
                      <a:pt x="33" y="415"/>
                    </a:lnTo>
                    <a:lnTo>
                      <a:pt x="34" y="382"/>
                    </a:lnTo>
                    <a:lnTo>
                      <a:pt x="34" y="350"/>
                    </a:lnTo>
                    <a:lnTo>
                      <a:pt x="35" y="320"/>
                    </a:lnTo>
                    <a:lnTo>
                      <a:pt x="36" y="289"/>
                    </a:lnTo>
                    <a:lnTo>
                      <a:pt x="36" y="260"/>
                    </a:lnTo>
                    <a:lnTo>
                      <a:pt x="37" y="232"/>
                    </a:lnTo>
                    <a:lnTo>
                      <a:pt x="38" y="203"/>
                    </a:lnTo>
                    <a:lnTo>
                      <a:pt x="38" y="177"/>
                    </a:lnTo>
                    <a:lnTo>
                      <a:pt x="39" y="152"/>
                    </a:lnTo>
                    <a:lnTo>
                      <a:pt x="40" y="126"/>
                    </a:lnTo>
                    <a:lnTo>
                      <a:pt x="41" y="103"/>
                    </a:lnTo>
                    <a:lnTo>
                      <a:pt x="41" y="80"/>
                    </a:lnTo>
                    <a:lnTo>
                      <a:pt x="42" y="59"/>
                    </a:lnTo>
                    <a:lnTo>
                      <a:pt x="43" y="37"/>
                    </a:lnTo>
                    <a:lnTo>
                      <a:pt x="43" y="1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136520" y="164448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0" y="8"/>
                    </a:moveTo>
                    <a:lnTo>
                      <a:pt x="1" y="3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15" y="7"/>
                    </a:lnTo>
                    <a:lnTo>
                      <a:pt x="19" y="11"/>
                    </a:lnTo>
                    <a:lnTo>
                      <a:pt x="23" y="17"/>
                    </a:lnTo>
                    <a:lnTo>
                      <a:pt x="32" y="28"/>
                    </a:lnTo>
                    <a:lnTo>
                      <a:pt x="39" y="40"/>
                    </a:lnTo>
                    <a:lnTo>
                      <a:pt x="41" y="46"/>
                    </a:lnTo>
                    <a:lnTo>
                      <a:pt x="44" y="50"/>
                    </a:lnTo>
                    <a:lnTo>
                      <a:pt x="45" y="54"/>
                    </a:lnTo>
                    <a:lnTo>
                      <a:pt x="46" y="5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09600" y="1733400"/>
                <a:ext cx="7164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0" y="0"/>
                    </a:moveTo>
                    <a:lnTo>
                      <a:pt x="1" y="11"/>
                    </a:lnTo>
                    <a:lnTo>
                      <a:pt x="3" y="21"/>
                    </a:lnTo>
                    <a:lnTo>
                      <a:pt x="4" y="33"/>
                    </a:lnTo>
                    <a:lnTo>
                      <a:pt x="6" y="46"/>
                    </a:lnTo>
                    <a:lnTo>
                      <a:pt x="7" y="60"/>
                    </a:lnTo>
                    <a:lnTo>
                      <a:pt x="8" y="75"/>
                    </a:lnTo>
                    <a:lnTo>
                      <a:pt x="10" y="92"/>
                    </a:lnTo>
                    <a:lnTo>
                      <a:pt x="11" y="108"/>
                    </a:lnTo>
                    <a:lnTo>
                      <a:pt x="14" y="143"/>
                    </a:lnTo>
                    <a:lnTo>
                      <a:pt x="17" y="181"/>
                    </a:lnTo>
                    <a:lnTo>
                      <a:pt x="19" y="219"/>
                    </a:lnTo>
                    <a:lnTo>
                      <a:pt x="22" y="260"/>
                    </a:lnTo>
                    <a:lnTo>
                      <a:pt x="25" y="299"/>
                    </a:lnTo>
                    <a:lnTo>
                      <a:pt x="28" y="339"/>
                    </a:lnTo>
                    <a:lnTo>
                      <a:pt x="30" y="377"/>
                    </a:lnTo>
                    <a:lnTo>
                      <a:pt x="33" y="414"/>
                    </a:lnTo>
                    <a:lnTo>
                      <a:pt x="36" y="449"/>
                    </a:lnTo>
                    <a:lnTo>
                      <a:pt x="37" y="465"/>
                    </a:lnTo>
                    <a:lnTo>
                      <a:pt x="38" y="481"/>
                    </a:lnTo>
                    <a:lnTo>
                      <a:pt x="40" y="495"/>
                    </a:lnTo>
                    <a:lnTo>
                      <a:pt x="41" y="510"/>
                    </a:lnTo>
                    <a:lnTo>
                      <a:pt x="44" y="522"/>
                    </a:lnTo>
                    <a:lnTo>
                      <a:pt x="45" y="53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281240" y="2581200"/>
                <a:ext cx="69840" cy="277920"/>
              </a:xfrm>
              <a:custGeom>
                <a:avLst/>
                <a:gdLst/>
                <a:ahLst/>
                <a:rect l="l" t="t" r="r" b="b"/>
                <a:pathLst>
                  <a:path w="44" h="175">
                    <a:moveTo>
                      <a:pt x="0" y="0"/>
                    </a:moveTo>
                    <a:lnTo>
                      <a:pt x="5" y="32"/>
                    </a:lnTo>
                    <a:lnTo>
                      <a:pt x="10" y="63"/>
                    </a:lnTo>
                    <a:lnTo>
                      <a:pt x="13" y="77"/>
                    </a:lnTo>
                    <a:lnTo>
                      <a:pt x="16" y="90"/>
                    </a:lnTo>
                    <a:lnTo>
                      <a:pt x="19" y="103"/>
                    </a:lnTo>
                    <a:lnTo>
                      <a:pt x="22" y="114"/>
                    </a:lnTo>
                    <a:lnTo>
                      <a:pt x="25" y="125"/>
                    </a:lnTo>
                    <a:lnTo>
                      <a:pt x="28" y="135"/>
                    </a:lnTo>
                    <a:lnTo>
                      <a:pt x="31" y="145"/>
                    </a:lnTo>
                    <a:lnTo>
                      <a:pt x="34" y="153"/>
                    </a:lnTo>
                    <a:lnTo>
                      <a:pt x="37" y="160"/>
                    </a:lnTo>
                    <a:lnTo>
                      <a:pt x="39" y="166"/>
                    </a:lnTo>
                    <a:lnTo>
                      <a:pt x="42" y="171"/>
                    </a:lnTo>
                    <a:lnTo>
                      <a:pt x="44" y="17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351080" y="2798640"/>
                <a:ext cx="71280" cy="684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0" y="38"/>
                    </a:moveTo>
                    <a:lnTo>
                      <a:pt x="3" y="41"/>
                    </a:lnTo>
                    <a:lnTo>
                      <a:pt x="5" y="43"/>
                    </a:lnTo>
                    <a:lnTo>
                      <a:pt x="8" y="43"/>
                    </a:lnTo>
                    <a:lnTo>
                      <a:pt x="11" y="42"/>
                    </a:lnTo>
                    <a:lnTo>
                      <a:pt x="14" y="39"/>
                    </a:lnTo>
                    <a:lnTo>
                      <a:pt x="16" y="36"/>
                    </a:lnTo>
                    <a:lnTo>
                      <a:pt x="22" y="27"/>
                    </a:lnTo>
                    <a:lnTo>
                      <a:pt x="28" y="18"/>
                    </a:lnTo>
                    <a:lnTo>
                      <a:pt x="33" y="9"/>
                    </a:lnTo>
                    <a:lnTo>
                      <a:pt x="36" y="6"/>
                    </a:lnTo>
                    <a:lnTo>
                      <a:pt x="40" y="3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422360" y="2798640"/>
                <a:ext cx="6984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0"/>
                    </a:moveTo>
                    <a:lnTo>
                      <a:pt x="5" y="3"/>
                    </a:lnTo>
                    <a:lnTo>
                      <a:pt x="11" y="6"/>
                    </a:lnTo>
                    <a:lnTo>
                      <a:pt x="16" y="11"/>
                    </a:lnTo>
                    <a:lnTo>
                      <a:pt x="22" y="17"/>
                    </a:lnTo>
                    <a:lnTo>
                      <a:pt x="28" y="24"/>
                    </a:lnTo>
                    <a:lnTo>
                      <a:pt x="33" y="32"/>
                    </a:lnTo>
                    <a:lnTo>
                      <a:pt x="44" y="4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492200" y="2874960"/>
                <a:ext cx="71640" cy="127080"/>
              </a:xfrm>
              <a:custGeom>
                <a:avLst/>
                <a:gdLst/>
                <a:ahLst/>
                <a:rect l="l" t="t" r="r" b="b"/>
                <a:pathLst>
                  <a:path w="45" h="80">
                    <a:moveTo>
                      <a:pt x="0" y="0"/>
                    </a:moveTo>
                    <a:lnTo>
                      <a:pt x="3" y="4"/>
                    </a:lnTo>
                    <a:lnTo>
                      <a:pt x="5" y="10"/>
                    </a:lnTo>
                    <a:lnTo>
                      <a:pt x="11" y="22"/>
                    </a:lnTo>
                    <a:lnTo>
                      <a:pt x="16" y="35"/>
                    </a:lnTo>
                    <a:lnTo>
                      <a:pt x="22" y="50"/>
                    </a:lnTo>
                    <a:lnTo>
                      <a:pt x="27" y="62"/>
                    </a:lnTo>
                    <a:lnTo>
                      <a:pt x="30" y="68"/>
                    </a:lnTo>
                    <a:lnTo>
                      <a:pt x="33" y="72"/>
                    </a:lnTo>
                    <a:lnTo>
                      <a:pt x="37" y="76"/>
                    </a:lnTo>
                    <a:lnTo>
                      <a:pt x="39" y="79"/>
                    </a:lnTo>
                    <a:lnTo>
                      <a:pt x="42" y="80"/>
                    </a:lnTo>
                    <a:lnTo>
                      <a:pt x="45" y="8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563840" y="2833560"/>
                <a:ext cx="71280" cy="168480"/>
              </a:xfrm>
              <a:custGeom>
                <a:avLst/>
                <a:gdLst/>
                <a:ahLst/>
                <a:rect l="l" t="t" r="r" b="b"/>
                <a:pathLst>
                  <a:path w="45" h="106">
                    <a:moveTo>
                      <a:pt x="0" y="106"/>
                    </a:moveTo>
                    <a:lnTo>
                      <a:pt x="3" y="104"/>
                    </a:lnTo>
                    <a:lnTo>
                      <a:pt x="6" y="102"/>
                    </a:lnTo>
                    <a:lnTo>
                      <a:pt x="8" y="97"/>
                    </a:lnTo>
                    <a:lnTo>
                      <a:pt x="11" y="92"/>
                    </a:lnTo>
                    <a:lnTo>
                      <a:pt x="14" y="86"/>
                    </a:lnTo>
                    <a:lnTo>
                      <a:pt x="17" y="79"/>
                    </a:lnTo>
                    <a:lnTo>
                      <a:pt x="22" y="64"/>
                    </a:lnTo>
                    <a:lnTo>
                      <a:pt x="28" y="46"/>
                    </a:lnTo>
                    <a:lnTo>
                      <a:pt x="34" y="29"/>
                    </a:lnTo>
                    <a:lnTo>
                      <a:pt x="39" y="13"/>
                    </a:lnTo>
                    <a:lnTo>
                      <a:pt x="42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635120" y="2703600"/>
                <a:ext cx="71280" cy="12996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0" y="82"/>
                    </a:moveTo>
                    <a:lnTo>
                      <a:pt x="11" y="59"/>
                    </a:lnTo>
                    <a:lnTo>
                      <a:pt x="22" y="38"/>
                    </a:lnTo>
                    <a:lnTo>
                      <a:pt x="34" y="1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706400" y="2598840"/>
                <a:ext cx="69840" cy="10476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0" y="66"/>
                    </a:moveTo>
                    <a:lnTo>
                      <a:pt x="11" y="48"/>
                    </a:lnTo>
                    <a:lnTo>
                      <a:pt x="22" y="31"/>
                    </a:lnTo>
                    <a:lnTo>
                      <a:pt x="33" y="1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776240" y="2511360"/>
                <a:ext cx="71640" cy="8748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0" y="55"/>
                    </a:moveTo>
                    <a:lnTo>
                      <a:pt x="22" y="2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847880" y="2441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44"/>
                    </a:moveTo>
                    <a:lnTo>
                      <a:pt x="11" y="32"/>
                    </a:lnTo>
                    <a:lnTo>
                      <a:pt x="22" y="2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917720" y="2381400"/>
                <a:ext cx="7128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23" y="1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989000" y="2328840"/>
                <a:ext cx="7164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22" y="1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060640" y="228456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28"/>
                    </a:moveTo>
                    <a:lnTo>
                      <a:pt x="23" y="1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131920" y="2244600"/>
                <a:ext cx="69840" cy="399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25"/>
                    </a:moveTo>
                    <a:lnTo>
                      <a:pt x="22" y="1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201760" y="221148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21"/>
                    </a:moveTo>
                    <a:lnTo>
                      <a:pt x="23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2273400" y="217980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20"/>
                    </a:moveTo>
                    <a:lnTo>
                      <a:pt x="22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343240" y="215280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7"/>
                    </a:moveTo>
                    <a:lnTo>
                      <a:pt x="23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414520" y="212724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6"/>
                    </a:moveTo>
                    <a:lnTo>
                      <a:pt x="22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486160" y="2104920"/>
                <a:ext cx="7128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14"/>
                    </a:moveTo>
                    <a:lnTo>
                      <a:pt x="23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557440" y="209088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9"/>
                    </a:moveTo>
                    <a:lnTo>
                      <a:pt x="11" y="6"/>
                    </a:lnTo>
                    <a:lnTo>
                      <a:pt x="22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629080" y="2071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12"/>
                    </a:moveTo>
                    <a:lnTo>
                      <a:pt x="22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698920" y="20559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10"/>
                    </a:moveTo>
                    <a:lnTo>
                      <a:pt x="22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770200" y="20494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840040" y="2035080"/>
                <a:ext cx="73080" cy="1440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0" y="9"/>
                    </a:moveTo>
                    <a:lnTo>
                      <a:pt x="11" y="7"/>
                    </a:lnTo>
                    <a:lnTo>
                      <a:pt x="22" y="4"/>
                    </a:lnTo>
                    <a:lnTo>
                      <a:pt x="35" y="2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913120" y="203184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982960" y="202572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054240" y="20224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124080" y="201600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195720" y="20160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34" y="2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267000" y="20131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1" y="3"/>
                    </a:lnTo>
                    <a:lnTo>
                      <a:pt x="23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338640" y="2013120"/>
                <a:ext cx="69840" cy="28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33" y="2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408480" y="20145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479760" y="201456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549600" y="20145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621240" y="20145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692520" y="20160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763800" y="201600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835440" y="201924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905280" y="20192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976560" y="202248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046400" y="202392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119480" y="20271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189320" y="202716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260960" y="203184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330800" y="20318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402080" y="203508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471920" y="203688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3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545000" y="203976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614840" y="204156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686480" y="20448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756320" y="20448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27600" y="20494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8880" y="204948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970520" y="205272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040360" y="20541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111640" y="20574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183280" y="20574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253120" y="206064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326200" y="20620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396040" y="20653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467320" y="206532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537160" y="20685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608800" y="206856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678640" y="207180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51360" y="207180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21200" y="2073240"/>
                <a:ext cx="716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892840" y="207504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962680" y="20764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033960" y="20764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103800" y="20797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176880" y="20797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46720" y="208116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18360" y="20811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89640" y="20844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459480" y="20844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531120" y="20858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602400" y="20858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673680" y="2087640"/>
                <a:ext cx="702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43880" y="20876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815160" y="20908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885000" y="20908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958080" y="209232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027920" y="20923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1066680" y="1644480"/>
              <a:ext cx="7024680" cy="3708720"/>
              <a:chOff x="1066680" y="1644480"/>
              <a:chExt cx="7024680" cy="3708720"/>
            </a:xfrm>
          </p:grpSpPr>
          <p:sp>
            <p:nvSpPr>
              <p:cNvPr id="2403" name=""/>
              <p:cNvSpPr/>
              <p:nvPr/>
            </p:nvSpPr>
            <p:spPr>
              <a:xfrm>
                <a:off x="7099200" y="209376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169040" y="209376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240680" y="209556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10520" y="20955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3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83600" y="2097000"/>
                <a:ext cx="698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453440" y="20970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524720" y="209880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594560" y="20988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66200" y="2100240"/>
                <a:ext cx="7128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737480" y="21002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808760" y="2101680"/>
                <a:ext cx="7164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880400" y="210168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50240" y="2103480"/>
                <a:ext cx="7128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021520" y="2103480"/>
                <a:ext cx="6984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066680" y="1657440"/>
                <a:ext cx="69840" cy="3695760"/>
              </a:xfrm>
              <a:custGeom>
                <a:avLst/>
                <a:gdLst/>
                <a:ahLst/>
                <a:rect l="l" t="t" r="r" b="b"/>
                <a:pathLst>
                  <a:path w="44" h="2328">
                    <a:moveTo>
                      <a:pt x="0" y="2328"/>
                    </a:moveTo>
                    <a:lnTo>
                      <a:pt x="1" y="2254"/>
                    </a:lnTo>
                    <a:lnTo>
                      <a:pt x="3" y="2178"/>
                    </a:lnTo>
                    <a:lnTo>
                      <a:pt x="4" y="2100"/>
                    </a:lnTo>
                    <a:lnTo>
                      <a:pt x="5" y="2020"/>
                    </a:lnTo>
                    <a:lnTo>
                      <a:pt x="7" y="1939"/>
                    </a:lnTo>
                    <a:lnTo>
                      <a:pt x="8" y="1857"/>
                    </a:lnTo>
                    <a:lnTo>
                      <a:pt x="10" y="1774"/>
                    </a:lnTo>
                    <a:lnTo>
                      <a:pt x="11" y="1690"/>
                    </a:lnTo>
                    <a:lnTo>
                      <a:pt x="14" y="1521"/>
                    </a:lnTo>
                    <a:lnTo>
                      <a:pt x="16" y="1350"/>
                    </a:lnTo>
                    <a:lnTo>
                      <a:pt x="19" y="1182"/>
                    </a:lnTo>
                    <a:lnTo>
                      <a:pt x="20" y="1098"/>
                    </a:lnTo>
                    <a:lnTo>
                      <a:pt x="22" y="1015"/>
                    </a:lnTo>
                    <a:lnTo>
                      <a:pt x="23" y="934"/>
                    </a:lnTo>
                    <a:lnTo>
                      <a:pt x="25" y="854"/>
                    </a:lnTo>
                    <a:lnTo>
                      <a:pt x="26" y="776"/>
                    </a:lnTo>
                    <a:lnTo>
                      <a:pt x="27" y="699"/>
                    </a:lnTo>
                    <a:lnTo>
                      <a:pt x="29" y="624"/>
                    </a:lnTo>
                    <a:lnTo>
                      <a:pt x="30" y="553"/>
                    </a:lnTo>
                    <a:lnTo>
                      <a:pt x="32" y="483"/>
                    </a:lnTo>
                    <a:lnTo>
                      <a:pt x="33" y="415"/>
                    </a:lnTo>
                    <a:lnTo>
                      <a:pt x="34" y="382"/>
                    </a:lnTo>
                    <a:lnTo>
                      <a:pt x="34" y="351"/>
                    </a:lnTo>
                    <a:lnTo>
                      <a:pt x="35" y="320"/>
                    </a:lnTo>
                    <a:lnTo>
                      <a:pt x="36" y="289"/>
                    </a:lnTo>
                    <a:lnTo>
                      <a:pt x="36" y="260"/>
                    </a:lnTo>
                    <a:lnTo>
                      <a:pt x="37" y="232"/>
                    </a:lnTo>
                    <a:lnTo>
                      <a:pt x="38" y="204"/>
                    </a:lnTo>
                    <a:lnTo>
                      <a:pt x="38" y="177"/>
                    </a:lnTo>
                    <a:lnTo>
                      <a:pt x="39" y="152"/>
                    </a:lnTo>
                    <a:lnTo>
                      <a:pt x="40" y="126"/>
                    </a:lnTo>
                    <a:lnTo>
                      <a:pt x="41" y="103"/>
                    </a:lnTo>
                    <a:lnTo>
                      <a:pt x="41" y="80"/>
                    </a:lnTo>
                    <a:lnTo>
                      <a:pt x="42" y="59"/>
                    </a:lnTo>
                    <a:lnTo>
                      <a:pt x="43" y="38"/>
                    </a:lnTo>
                    <a:lnTo>
                      <a:pt x="43" y="1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136520" y="164448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8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5" y="8"/>
                    </a:lnTo>
                    <a:lnTo>
                      <a:pt x="19" y="12"/>
                    </a:lnTo>
                    <a:lnTo>
                      <a:pt x="23" y="18"/>
                    </a:lnTo>
                    <a:lnTo>
                      <a:pt x="32" y="29"/>
                    </a:lnTo>
                    <a:lnTo>
                      <a:pt x="39" y="40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5" y="50"/>
                    </a:lnTo>
                    <a:lnTo>
                      <a:pt x="46" y="5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209600" y="170352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4"/>
                    </a:moveTo>
                    <a:lnTo>
                      <a:pt x="6" y="15"/>
                    </a:lnTo>
                    <a:lnTo>
                      <a:pt x="11" y="14"/>
                    </a:lnTo>
                    <a:lnTo>
                      <a:pt x="17" y="13"/>
                    </a:lnTo>
                    <a:lnTo>
                      <a:pt x="22" y="10"/>
                    </a:lnTo>
                    <a:lnTo>
                      <a:pt x="33" y="4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281240" y="169236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7"/>
                    </a:moveTo>
                    <a:lnTo>
                      <a:pt x="22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1351080" y="1684440"/>
                <a:ext cx="7128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1422360" y="1679400"/>
                <a:ext cx="6984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1492200" y="1676520"/>
                <a:ext cx="716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563840" y="167472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1635120" y="167328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1706400" y="16711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1776240" y="167004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1847880" y="166860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17720" y="166860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89000" y="166680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2060640" y="166680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131920" y="166536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201760" y="166536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273400" y="16653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343240" y="166536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414520" y="166356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486160" y="166356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557440" y="166356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629080" y="16635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698920" y="166356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770200" y="166356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840040" y="16732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913120" y="16732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982960" y="167796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3054240" y="16858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124080" y="16905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195720" y="169848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2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67000" y="170820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338640" y="17128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408480" y="1720800"/>
                <a:ext cx="7128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479760" y="1728720"/>
                <a:ext cx="69840" cy="9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549600" y="1738440"/>
                <a:ext cx="7164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621240" y="174636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2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3692520" y="175572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763800" y="1762200"/>
                <a:ext cx="7164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835440" y="1770120"/>
                <a:ext cx="6984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905280" y="1776240"/>
                <a:ext cx="71280" cy="8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976560" y="1784520"/>
                <a:ext cx="6984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046400" y="179064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22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119480" y="1798560"/>
                <a:ext cx="6984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189320" y="1805040"/>
                <a:ext cx="7164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260960" y="1811160"/>
                <a:ext cx="6984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330800" y="1817640"/>
                <a:ext cx="7128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402080" y="1824120"/>
                <a:ext cx="6984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471920" y="183024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23" y="2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545000" y="1836720"/>
                <a:ext cx="6984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614840" y="1843200"/>
                <a:ext cx="7164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686480" y="1847880"/>
                <a:ext cx="6984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756320" y="1854360"/>
                <a:ext cx="7128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827600" y="186048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898880" y="18651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3" y="3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970520" y="1873080"/>
                <a:ext cx="6984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040360" y="1878120"/>
                <a:ext cx="7128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11640" y="188280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83280" y="1886040"/>
                <a:ext cx="6984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53120" y="189072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22" y="1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26200" y="1895400"/>
                <a:ext cx="6984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96040" y="190008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67320" y="190332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37160" y="190800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608800" y="1911240"/>
                <a:ext cx="69840" cy="504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78640" y="1916280"/>
                <a:ext cx="7272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51360" y="191916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821200" y="192240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92840" y="192564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62680" y="193032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33960" y="193356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103800" y="193680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3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76880" y="194004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46720" y="194328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318360" y="194472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89640" y="194796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59480" y="1951200"/>
                <a:ext cx="716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531120" y="19540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602400" y="195588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73680" y="1959120"/>
                <a:ext cx="702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43880" y="196200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815160" y="196380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85000" y="196704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58080" y="196848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027920" y="19717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99200" y="19731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69040" y="197496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40680" y="197820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310520" y="19796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3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83600" y="19828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53440" y="19843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524720" y="19861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94560" y="198756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66200" y="198900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737480" y="19922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08760" y="199404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80400" y="19954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50240" y="19969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21520" y="19987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066680" y="1657440"/>
                <a:ext cx="69840" cy="3695760"/>
              </a:xfrm>
              <a:custGeom>
                <a:avLst/>
                <a:gdLst/>
                <a:ahLst/>
                <a:rect l="l" t="t" r="r" b="b"/>
                <a:pathLst>
                  <a:path w="44" h="2328">
                    <a:moveTo>
                      <a:pt x="0" y="2328"/>
                    </a:moveTo>
                    <a:lnTo>
                      <a:pt x="1" y="2254"/>
                    </a:lnTo>
                    <a:lnTo>
                      <a:pt x="3" y="2178"/>
                    </a:lnTo>
                    <a:lnTo>
                      <a:pt x="4" y="2100"/>
                    </a:lnTo>
                    <a:lnTo>
                      <a:pt x="5" y="2020"/>
                    </a:lnTo>
                    <a:lnTo>
                      <a:pt x="7" y="1939"/>
                    </a:lnTo>
                    <a:lnTo>
                      <a:pt x="8" y="1857"/>
                    </a:lnTo>
                    <a:lnTo>
                      <a:pt x="10" y="1774"/>
                    </a:lnTo>
                    <a:lnTo>
                      <a:pt x="11" y="1690"/>
                    </a:lnTo>
                    <a:lnTo>
                      <a:pt x="14" y="1520"/>
                    </a:lnTo>
                    <a:lnTo>
                      <a:pt x="16" y="1350"/>
                    </a:lnTo>
                    <a:lnTo>
                      <a:pt x="19" y="1181"/>
                    </a:lnTo>
                    <a:lnTo>
                      <a:pt x="20" y="1098"/>
                    </a:lnTo>
                    <a:lnTo>
                      <a:pt x="22" y="1015"/>
                    </a:lnTo>
                    <a:lnTo>
                      <a:pt x="23" y="934"/>
                    </a:lnTo>
                    <a:lnTo>
                      <a:pt x="25" y="854"/>
                    </a:lnTo>
                    <a:lnTo>
                      <a:pt x="26" y="775"/>
                    </a:lnTo>
                    <a:lnTo>
                      <a:pt x="27" y="699"/>
                    </a:lnTo>
                    <a:lnTo>
                      <a:pt x="29" y="624"/>
                    </a:lnTo>
                    <a:lnTo>
                      <a:pt x="30" y="551"/>
                    </a:lnTo>
                    <a:lnTo>
                      <a:pt x="32" y="482"/>
                    </a:lnTo>
                    <a:lnTo>
                      <a:pt x="33" y="415"/>
                    </a:lnTo>
                    <a:lnTo>
                      <a:pt x="34" y="382"/>
                    </a:lnTo>
                    <a:lnTo>
                      <a:pt x="34" y="350"/>
                    </a:lnTo>
                    <a:lnTo>
                      <a:pt x="35" y="320"/>
                    </a:lnTo>
                    <a:lnTo>
                      <a:pt x="36" y="289"/>
                    </a:lnTo>
                    <a:lnTo>
                      <a:pt x="36" y="260"/>
                    </a:lnTo>
                    <a:lnTo>
                      <a:pt x="37" y="232"/>
                    </a:lnTo>
                    <a:lnTo>
                      <a:pt x="38" y="204"/>
                    </a:lnTo>
                    <a:lnTo>
                      <a:pt x="38" y="177"/>
                    </a:lnTo>
                    <a:lnTo>
                      <a:pt x="39" y="152"/>
                    </a:lnTo>
                    <a:lnTo>
                      <a:pt x="40" y="126"/>
                    </a:lnTo>
                    <a:lnTo>
                      <a:pt x="41" y="103"/>
                    </a:lnTo>
                    <a:lnTo>
                      <a:pt x="41" y="80"/>
                    </a:lnTo>
                    <a:lnTo>
                      <a:pt x="42" y="59"/>
                    </a:lnTo>
                    <a:lnTo>
                      <a:pt x="43" y="37"/>
                    </a:lnTo>
                    <a:lnTo>
                      <a:pt x="43" y="1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136520" y="164448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8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5" y="8"/>
                    </a:lnTo>
                    <a:lnTo>
                      <a:pt x="19" y="13"/>
                    </a:lnTo>
                    <a:lnTo>
                      <a:pt x="23" y="19"/>
                    </a:lnTo>
                    <a:lnTo>
                      <a:pt x="32" y="31"/>
                    </a:lnTo>
                    <a:lnTo>
                      <a:pt x="39" y="43"/>
                    </a:lnTo>
                    <a:lnTo>
                      <a:pt x="41" y="48"/>
                    </a:lnTo>
                    <a:lnTo>
                      <a:pt x="44" y="52"/>
                    </a:lnTo>
                    <a:lnTo>
                      <a:pt x="45" y="54"/>
                    </a:lnTo>
                    <a:lnTo>
                      <a:pt x="46" y="5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209600" y="170640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6"/>
                    </a:moveTo>
                    <a:lnTo>
                      <a:pt x="6" y="17"/>
                    </a:lnTo>
                    <a:lnTo>
                      <a:pt x="11" y="16"/>
                    </a:lnTo>
                    <a:lnTo>
                      <a:pt x="17" y="14"/>
                    </a:lnTo>
                    <a:lnTo>
                      <a:pt x="22" y="11"/>
                    </a:lnTo>
                    <a:lnTo>
                      <a:pt x="33" y="5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281240" y="169380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8"/>
                    </a:moveTo>
                    <a:lnTo>
                      <a:pt x="22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351080" y="168768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1422360" y="1682640"/>
                <a:ext cx="6984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492200" y="167796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563840" y="16765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1635120" y="1672920"/>
                <a:ext cx="71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1706400" y="1671120"/>
                <a:ext cx="698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1776240" y="1670040"/>
                <a:ext cx="71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847880" y="1670040"/>
                <a:ext cx="69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917720" y="16686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989000" y="16686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2060640" y="16668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131920" y="1666800"/>
                <a:ext cx="698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201760" y="16653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273400" y="1665360"/>
                <a:ext cx="69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343240" y="1665360"/>
                <a:ext cx="71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2414520" y="16653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2486160" y="166356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557440" y="166356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629080" y="1665360"/>
                <a:ext cx="69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2698920" y="16653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770200" y="166536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840040" y="167148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913120" y="167148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982960" y="168120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054240" y="1687680"/>
                <a:ext cx="6984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124080" y="169380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195720" y="169848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4" y="6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267000" y="170964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1"/>
                    </a:ln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338640" y="17128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2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408480" y="1720800"/>
                <a:ext cx="7128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479760" y="1728720"/>
                <a:ext cx="6984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549600" y="173664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621240" y="174312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2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692520" y="1752480"/>
                <a:ext cx="7128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63800" y="175752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22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35440" y="17668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05280" y="1773360"/>
                <a:ext cx="712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76560" y="1779480"/>
                <a:ext cx="6984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046400" y="178596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22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119480" y="1793880"/>
                <a:ext cx="6984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189320" y="18003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3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260960" y="18082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330800" y="181296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402080" y="1820880"/>
                <a:ext cx="6984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471920" y="182736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23" y="2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545000" y="1833480"/>
                <a:ext cx="698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4614840" y="1838160"/>
                <a:ext cx="7164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686480" y="1844640"/>
                <a:ext cx="6984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756320" y="1851120"/>
                <a:ext cx="712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827600" y="1857240"/>
                <a:ext cx="7128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898880" y="186228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3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970520" y="1870200"/>
                <a:ext cx="698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040360" y="1874880"/>
                <a:ext cx="7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5111640" y="1879560"/>
                <a:ext cx="71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183280" y="18842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253120" y="189072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326200" y="189396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396040" y="19000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467320" y="1903320"/>
                <a:ext cx="698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5537160" y="1908000"/>
                <a:ext cx="7164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608800" y="1913040"/>
                <a:ext cx="698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678640" y="1917720"/>
                <a:ext cx="7272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751360" y="19209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821200" y="1925640"/>
                <a:ext cx="716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892840" y="19288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62680" y="1933560"/>
                <a:ext cx="71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033960" y="1936800"/>
                <a:ext cx="698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103800" y="19400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3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176880" y="19432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2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246720" y="19479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318360" y="19494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389640" y="1954080"/>
                <a:ext cx="698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459480" y="1957320"/>
                <a:ext cx="716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531120" y="19605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02400" y="1963800"/>
                <a:ext cx="71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73680" y="1967040"/>
                <a:ext cx="70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743880" y="1968480"/>
                <a:ext cx="71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815160" y="1971720"/>
                <a:ext cx="698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885000" y="197496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958080" y="1978200"/>
                <a:ext cx="69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027920" y="1979640"/>
                <a:ext cx="71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099200" y="1982880"/>
                <a:ext cx="698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169040" y="1986120"/>
                <a:ext cx="71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3" name=""/>
            <p:cNvSpPr/>
            <p:nvPr/>
          </p:nvSpPr>
          <p:spPr>
            <a:xfrm>
              <a:off x="7240680" y="1987560"/>
              <a:ext cx="698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310520" y="1990800"/>
              <a:ext cx="73080" cy="3240"/>
            </a:xfrm>
            <a:custGeom>
              <a:avLst/>
              <a:gdLst/>
              <a:ahLst/>
              <a:rect l="l" t="t" r="r" b="b"/>
              <a:pathLst>
                <a:path w="46" h="2">
                  <a:moveTo>
                    <a:pt x="0" y="0"/>
                  </a:moveTo>
                  <a:lnTo>
                    <a:pt x="23" y="1"/>
                  </a:lnTo>
                  <a:lnTo>
                    <a:pt x="46" y="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383600" y="1994040"/>
              <a:ext cx="69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453440" y="1995480"/>
              <a:ext cx="71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524720" y="1996920"/>
              <a:ext cx="698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594560" y="2000160"/>
              <a:ext cx="71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66200" y="2003400"/>
              <a:ext cx="71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737480" y="2004840"/>
              <a:ext cx="7128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0"/>
                  </a:moveTo>
                  <a:lnTo>
                    <a:pt x="22" y="1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808760" y="2008080"/>
              <a:ext cx="71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880400" y="2009880"/>
              <a:ext cx="69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950240" y="2011320"/>
              <a:ext cx="712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021520" y="2014560"/>
              <a:ext cx="69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909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5800" y="4498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5800" y="3760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5800" y="302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5800" y="2282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0680" y="1542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80680" y="803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98604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7068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4816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2546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976880" y="550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717080" y="582444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rot="16200000">
              <a:off x="-1345680" y="2943000"/>
              <a:ext cx="336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umulative Food Sufficiency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263840" y="3962520"/>
              <a:ext cx="228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ifting cul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652920" y="2133720"/>
              <a:ext cx="291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ifting cultivation + A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880800" y="1523880"/>
              <a:ext cx="3873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ifting cultivation + AF + NTF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658960" y="1270080"/>
              <a:ext cx="553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ifting cultivation + AF + NTFP + Plan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6000" y="2556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 45 persons k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 direct transition to AF is not possible, helped by transient NTFP’s it is…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523880" y="1676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514600" y="167652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429000" y="173520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26708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2" descr=""/>
          <p:cNvPicPr/>
          <p:nvPr/>
        </p:nvPicPr>
        <p:blipFill>
          <a:blip r:embed="rId1"/>
          <a:stretch/>
        </p:blipFill>
        <p:spPr>
          <a:xfrm>
            <a:off x="0" y="3240"/>
            <a:ext cx="91393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2639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100160" y="4549680"/>
              <a:ext cx="7753320" cy="1065240"/>
            </a:xfrm>
            <a:custGeom>
              <a:avLst/>
              <a:gdLst/>
              <a:ahLst/>
              <a:rect l="l" t="t" r="r" b="b"/>
              <a:pathLst>
                <a:path w="4884" h="671">
                  <a:moveTo>
                    <a:pt x="0" y="671"/>
                  </a:moveTo>
                  <a:lnTo>
                    <a:pt x="0" y="180"/>
                  </a:lnTo>
                  <a:lnTo>
                    <a:pt x="50" y="253"/>
                  </a:lnTo>
                  <a:lnTo>
                    <a:pt x="98" y="259"/>
                  </a:lnTo>
                  <a:lnTo>
                    <a:pt x="148" y="272"/>
                  </a:lnTo>
                  <a:lnTo>
                    <a:pt x="198" y="251"/>
                  </a:lnTo>
                  <a:lnTo>
                    <a:pt x="247" y="187"/>
                  </a:lnTo>
                  <a:lnTo>
                    <a:pt x="296" y="181"/>
                  </a:lnTo>
                  <a:lnTo>
                    <a:pt x="345" y="149"/>
                  </a:lnTo>
                  <a:lnTo>
                    <a:pt x="395" y="76"/>
                  </a:lnTo>
                  <a:lnTo>
                    <a:pt x="444" y="79"/>
                  </a:lnTo>
                  <a:lnTo>
                    <a:pt x="493" y="81"/>
                  </a:lnTo>
                  <a:lnTo>
                    <a:pt x="543" y="0"/>
                  </a:lnTo>
                  <a:lnTo>
                    <a:pt x="592" y="24"/>
                  </a:lnTo>
                  <a:lnTo>
                    <a:pt x="642" y="39"/>
                  </a:lnTo>
                  <a:lnTo>
                    <a:pt x="690" y="13"/>
                  </a:lnTo>
                  <a:lnTo>
                    <a:pt x="740" y="49"/>
                  </a:lnTo>
                  <a:lnTo>
                    <a:pt x="790" y="66"/>
                  </a:lnTo>
                  <a:lnTo>
                    <a:pt x="839" y="39"/>
                  </a:lnTo>
                  <a:lnTo>
                    <a:pt x="888" y="76"/>
                  </a:lnTo>
                  <a:lnTo>
                    <a:pt x="937" y="98"/>
                  </a:lnTo>
                  <a:lnTo>
                    <a:pt x="987" y="104"/>
                  </a:lnTo>
                  <a:lnTo>
                    <a:pt x="1036" y="137"/>
                  </a:lnTo>
                  <a:lnTo>
                    <a:pt x="1085" y="149"/>
                  </a:lnTo>
                  <a:lnTo>
                    <a:pt x="1135" y="140"/>
                  </a:lnTo>
                  <a:lnTo>
                    <a:pt x="1184" y="172"/>
                  </a:lnTo>
                  <a:lnTo>
                    <a:pt x="1234" y="190"/>
                  </a:lnTo>
                  <a:lnTo>
                    <a:pt x="1282" y="195"/>
                  </a:lnTo>
                  <a:lnTo>
                    <a:pt x="1332" y="222"/>
                  </a:lnTo>
                  <a:lnTo>
                    <a:pt x="1381" y="231"/>
                  </a:lnTo>
                  <a:lnTo>
                    <a:pt x="1431" y="225"/>
                  </a:lnTo>
                  <a:lnTo>
                    <a:pt x="1480" y="250"/>
                  </a:lnTo>
                  <a:lnTo>
                    <a:pt x="1529" y="262"/>
                  </a:lnTo>
                  <a:lnTo>
                    <a:pt x="1579" y="257"/>
                  </a:lnTo>
                  <a:lnTo>
                    <a:pt x="1628" y="279"/>
                  </a:lnTo>
                  <a:lnTo>
                    <a:pt x="1677" y="290"/>
                  </a:lnTo>
                  <a:lnTo>
                    <a:pt x="1727" y="288"/>
                  </a:lnTo>
                  <a:lnTo>
                    <a:pt x="1776" y="310"/>
                  </a:lnTo>
                  <a:lnTo>
                    <a:pt x="1826" y="317"/>
                  </a:lnTo>
                  <a:lnTo>
                    <a:pt x="1874" y="312"/>
                  </a:lnTo>
                  <a:lnTo>
                    <a:pt x="1924" y="330"/>
                  </a:lnTo>
                  <a:lnTo>
                    <a:pt x="1973" y="340"/>
                  </a:lnTo>
                  <a:lnTo>
                    <a:pt x="2023" y="337"/>
                  </a:lnTo>
                  <a:lnTo>
                    <a:pt x="2072" y="353"/>
                  </a:lnTo>
                  <a:lnTo>
                    <a:pt x="2121" y="360"/>
                  </a:lnTo>
                  <a:lnTo>
                    <a:pt x="2171" y="354"/>
                  </a:lnTo>
                  <a:lnTo>
                    <a:pt x="2220" y="369"/>
                  </a:lnTo>
                  <a:lnTo>
                    <a:pt x="2269" y="375"/>
                  </a:lnTo>
                  <a:lnTo>
                    <a:pt x="2319" y="373"/>
                  </a:lnTo>
                  <a:lnTo>
                    <a:pt x="2368" y="387"/>
                  </a:lnTo>
                  <a:lnTo>
                    <a:pt x="2418" y="392"/>
                  </a:lnTo>
                  <a:lnTo>
                    <a:pt x="2466" y="383"/>
                  </a:lnTo>
                  <a:lnTo>
                    <a:pt x="2516" y="397"/>
                  </a:lnTo>
                  <a:lnTo>
                    <a:pt x="2565" y="401"/>
                  </a:lnTo>
                  <a:lnTo>
                    <a:pt x="2615" y="401"/>
                  </a:lnTo>
                  <a:lnTo>
                    <a:pt x="2664" y="413"/>
                  </a:lnTo>
                  <a:lnTo>
                    <a:pt x="2713" y="415"/>
                  </a:lnTo>
                  <a:lnTo>
                    <a:pt x="2763" y="410"/>
                  </a:lnTo>
                  <a:lnTo>
                    <a:pt x="2812" y="420"/>
                  </a:lnTo>
                  <a:lnTo>
                    <a:pt x="2861" y="425"/>
                  </a:lnTo>
                  <a:lnTo>
                    <a:pt x="2911" y="421"/>
                  </a:lnTo>
                  <a:lnTo>
                    <a:pt x="2960" y="431"/>
                  </a:lnTo>
                  <a:lnTo>
                    <a:pt x="3010" y="434"/>
                  </a:lnTo>
                  <a:lnTo>
                    <a:pt x="3058" y="428"/>
                  </a:lnTo>
                  <a:lnTo>
                    <a:pt x="3108" y="437"/>
                  </a:lnTo>
                  <a:lnTo>
                    <a:pt x="3157" y="440"/>
                  </a:lnTo>
                  <a:lnTo>
                    <a:pt x="3207" y="436"/>
                  </a:lnTo>
                  <a:lnTo>
                    <a:pt x="3256" y="444"/>
                  </a:lnTo>
                  <a:lnTo>
                    <a:pt x="3305" y="448"/>
                  </a:lnTo>
                  <a:lnTo>
                    <a:pt x="3355" y="442"/>
                  </a:lnTo>
                  <a:lnTo>
                    <a:pt x="3404" y="449"/>
                  </a:lnTo>
                  <a:lnTo>
                    <a:pt x="3453" y="452"/>
                  </a:lnTo>
                  <a:lnTo>
                    <a:pt x="3503" y="448"/>
                  </a:lnTo>
                  <a:lnTo>
                    <a:pt x="3552" y="456"/>
                  </a:lnTo>
                  <a:lnTo>
                    <a:pt x="3602" y="458"/>
                  </a:lnTo>
                  <a:lnTo>
                    <a:pt x="3650" y="451"/>
                  </a:lnTo>
                  <a:lnTo>
                    <a:pt x="3700" y="458"/>
                  </a:lnTo>
                  <a:lnTo>
                    <a:pt x="3749" y="460"/>
                  </a:lnTo>
                  <a:lnTo>
                    <a:pt x="3799" y="458"/>
                  </a:lnTo>
                  <a:lnTo>
                    <a:pt x="3848" y="466"/>
                  </a:lnTo>
                  <a:lnTo>
                    <a:pt x="3897" y="467"/>
                  </a:lnTo>
                  <a:lnTo>
                    <a:pt x="3947" y="461"/>
                  </a:lnTo>
                  <a:lnTo>
                    <a:pt x="3996" y="468"/>
                  </a:lnTo>
                  <a:lnTo>
                    <a:pt x="4045" y="470"/>
                  </a:lnTo>
                  <a:lnTo>
                    <a:pt x="4095" y="464"/>
                  </a:lnTo>
                  <a:lnTo>
                    <a:pt x="4144" y="469"/>
                  </a:lnTo>
                  <a:lnTo>
                    <a:pt x="4194" y="472"/>
                  </a:lnTo>
                  <a:lnTo>
                    <a:pt x="4242" y="469"/>
                  </a:lnTo>
                  <a:lnTo>
                    <a:pt x="4292" y="475"/>
                  </a:lnTo>
                  <a:lnTo>
                    <a:pt x="4341" y="476"/>
                  </a:lnTo>
                  <a:lnTo>
                    <a:pt x="4391" y="470"/>
                  </a:lnTo>
                  <a:lnTo>
                    <a:pt x="4440" y="474"/>
                  </a:lnTo>
                  <a:lnTo>
                    <a:pt x="4489" y="476"/>
                  </a:lnTo>
                  <a:lnTo>
                    <a:pt x="4539" y="473"/>
                  </a:lnTo>
                  <a:lnTo>
                    <a:pt x="4588" y="479"/>
                  </a:lnTo>
                  <a:lnTo>
                    <a:pt x="4637" y="480"/>
                  </a:lnTo>
                  <a:lnTo>
                    <a:pt x="4687" y="473"/>
                  </a:lnTo>
                  <a:lnTo>
                    <a:pt x="4736" y="478"/>
                  </a:lnTo>
                  <a:lnTo>
                    <a:pt x="4786" y="478"/>
                  </a:lnTo>
                  <a:lnTo>
                    <a:pt x="4834" y="476"/>
                  </a:lnTo>
                  <a:lnTo>
                    <a:pt x="4884" y="482"/>
                  </a:lnTo>
                  <a:lnTo>
                    <a:pt x="4884" y="671"/>
                  </a:lnTo>
                  <a:lnTo>
                    <a:pt x="4834" y="671"/>
                  </a:lnTo>
                  <a:lnTo>
                    <a:pt x="4786" y="671"/>
                  </a:lnTo>
                  <a:lnTo>
                    <a:pt x="4736" y="671"/>
                  </a:lnTo>
                  <a:lnTo>
                    <a:pt x="4687" y="671"/>
                  </a:lnTo>
                  <a:lnTo>
                    <a:pt x="4637" y="671"/>
                  </a:lnTo>
                  <a:lnTo>
                    <a:pt x="4588" y="671"/>
                  </a:lnTo>
                  <a:lnTo>
                    <a:pt x="4539" y="671"/>
                  </a:lnTo>
                  <a:lnTo>
                    <a:pt x="4489" y="671"/>
                  </a:lnTo>
                  <a:lnTo>
                    <a:pt x="4440" y="671"/>
                  </a:lnTo>
                  <a:lnTo>
                    <a:pt x="4391" y="671"/>
                  </a:lnTo>
                  <a:lnTo>
                    <a:pt x="4341" y="671"/>
                  </a:lnTo>
                  <a:lnTo>
                    <a:pt x="4292" y="671"/>
                  </a:lnTo>
                  <a:lnTo>
                    <a:pt x="4242" y="671"/>
                  </a:lnTo>
                  <a:lnTo>
                    <a:pt x="4194" y="671"/>
                  </a:lnTo>
                  <a:lnTo>
                    <a:pt x="4144" y="671"/>
                  </a:lnTo>
                  <a:lnTo>
                    <a:pt x="4095" y="671"/>
                  </a:lnTo>
                  <a:lnTo>
                    <a:pt x="4045" y="671"/>
                  </a:lnTo>
                  <a:lnTo>
                    <a:pt x="3996" y="671"/>
                  </a:lnTo>
                  <a:lnTo>
                    <a:pt x="3947" y="671"/>
                  </a:lnTo>
                  <a:lnTo>
                    <a:pt x="3897" y="671"/>
                  </a:lnTo>
                  <a:lnTo>
                    <a:pt x="3848" y="671"/>
                  </a:lnTo>
                  <a:lnTo>
                    <a:pt x="3799" y="671"/>
                  </a:lnTo>
                  <a:lnTo>
                    <a:pt x="3749" y="671"/>
                  </a:lnTo>
                  <a:lnTo>
                    <a:pt x="3700" y="671"/>
                  </a:lnTo>
                  <a:lnTo>
                    <a:pt x="3650" y="671"/>
                  </a:lnTo>
                  <a:lnTo>
                    <a:pt x="3602" y="671"/>
                  </a:lnTo>
                  <a:lnTo>
                    <a:pt x="3552" y="671"/>
                  </a:lnTo>
                  <a:lnTo>
                    <a:pt x="3503" y="671"/>
                  </a:lnTo>
                  <a:lnTo>
                    <a:pt x="3453" y="671"/>
                  </a:lnTo>
                  <a:lnTo>
                    <a:pt x="3404" y="671"/>
                  </a:lnTo>
                  <a:lnTo>
                    <a:pt x="3355" y="671"/>
                  </a:lnTo>
                  <a:lnTo>
                    <a:pt x="3305" y="671"/>
                  </a:lnTo>
                  <a:lnTo>
                    <a:pt x="3256" y="671"/>
                  </a:lnTo>
                  <a:lnTo>
                    <a:pt x="3207" y="671"/>
                  </a:lnTo>
                  <a:lnTo>
                    <a:pt x="3157" y="671"/>
                  </a:lnTo>
                  <a:lnTo>
                    <a:pt x="3108" y="671"/>
                  </a:lnTo>
                  <a:lnTo>
                    <a:pt x="3058" y="671"/>
                  </a:lnTo>
                  <a:lnTo>
                    <a:pt x="3010" y="671"/>
                  </a:lnTo>
                  <a:lnTo>
                    <a:pt x="2960" y="671"/>
                  </a:lnTo>
                  <a:lnTo>
                    <a:pt x="2911" y="671"/>
                  </a:lnTo>
                  <a:lnTo>
                    <a:pt x="2861" y="671"/>
                  </a:lnTo>
                  <a:lnTo>
                    <a:pt x="2812" y="671"/>
                  </a:lnTo>
                  <a:lnTo>
                    <a:pt x="2763" y="671"/>
                  </a:lnTo>
                  <a:lnTo>
                    <a:pt x="2713" y="671"/>
                  </a:lnTo>
                  <a:lnTo>
                    <a:pt x="2664" y="671"/>
                  </a:lnTo>
                  <a:lnTo>
                    <a:pt x="2615" y="671"/>
                  </a:lnTo>
                  <a:lnTo>
                    <a:pt x="2565" y="671"/>
                  </a:lnTo>
                  <a:lnTo>
                    <a:pt x="2516" y="671"/>
                  </a:lnTo>
                  <a:lnTo>
                    <a:pt x="2466" y="671"/>
                  </a:lnTo>
                  <a:lnTo>
                    <a:pt x="2418" y="671"/>
                  </a:lnTo>
                  <a:lnTo>
                    <a:pt x="2368" y="671"/>
                  </a:lnTo>
                  <a:lnTo>
                    <a:pt x="2319" y="671"/>
                  </a:lnTo>
                  <a:lnTo>
                    <a:pt x="2269" y="671"/>
                  </a:lnTo>
                  <a:lnTo>
                    <a:pt x="2220" y="671"/>
                  </a:lnTo>
                  <a:lnTo>
                    <a:pt x="2171" y="671"/>
                  </a:lnTo>
                  <a:lnTo>
                    <a:pt x="2121" y="671"/>
                  </a:lnTo>
                  <a:lnTo>
                    <a:pt x="2072" y="671"/>
                  </a:lnTo>
                  <a:lnTo>
                    <a:pt x="2023" y="671"/>
                  </a:lnTo>
                  <a:lnTo>
                    <a:pt x="1973" y="671"/>
                  </a:lnTo>
                  <a:lnTo>
                    <a:pt x="1924" y="671"/>
                  </a:lnTo>
                  <a:lnTo>
                    <a:pt x="1874" y="671"/>
                  </a:lnTo>
                  <a:lnTo>
                    <a:pt x="1826" y="671"/>
                  </a:lnTo>
                  <a:lnTo>
                    <a:pt x="1776" y="671"/>
                  </a:lnTo>
                  <a:lnTo>
                    <a:pt x="1727" y="671"/>
                  </a:lnTo>
                  <a:lnTo>
                    <a:pt x="1677" y="671"/>
                  </a:lnTo>
                  <a:lnTo>
                    <a:pt x="1628" y="671"/>
                  </a:lnTo>
                  <a:lnTo>
                    <a:pt x="1579" y="671"/>
                  </a:lnTo>
                  <a:lnTo>
                    <a:pt x="1529" y="671"/>
                  </a:lnTo>
                  <a:lnTo>
                    <a:pt x="1480" y="671"/>
                  </a:lnTo>
                  <a:lnTo>
                    <a:pt x="1431" y="671"/>
                  </a:lnTo>
                  <a:lnTo>
                    <a:pt x="1381" y="671"/>
                  </a:lnTo>
                  <a:lnTo>
                    <a:pt x="1332" y="671"/>
                  </a:lnTo>
                  <a:lnTo>
                    <a:pt x="1282" y="671"/>
                  </a:lnTo>
                  <a:lnTo>
                    <a:pt x="1234" y="671"/>
                  </a:lnTo>
                  <a:lnTo>
                    <a:pt x="1184" y="671"/>
                  </a:lnTo>
                  <a:lnTo>
                    <a:pt x="1135" y="671"/>
                  </a:lnTo>
                  <a:lnTo>
                    <a:pt x="1085" y="671"/>
                  </a:lnTo>
                  <a:lnTo>
                    <a:pt x="1036" y="671"/>
                  </a:lnTo>
                  <a:lnTo>
                    <a:pt x="987" y="671"/>
                  </a:lnTo>
                  <a:lnTo>
                    <a:pt x="937" y="671"/>
                  </a:lnTo>
                  <a:lnTo>
                    <a:pt x="888" y="671"/>
                  </a:lnTo>
                  <a:lnTo>
                    <a:pt x="839" y="671"/>
                  </a:lnTo>
                  <a:lnTo>
                    <a:pt x="790" y="671"/>
                  </a:lnTo>
                  <a:lnTo>
                    <a:pt x="740" y="671"/>
                  </a:lnTo>
                  <a:lnTo>
                    <a:pt x="690" y="671"/>
                  </a:lnTo>
                  <a:lnTo>
                    <a:pt x="642" y="671"/>
                  </a:lnTo>
                  <a:lnTo>
                    <a:pt x="592" y="671"/>
                  </a:lnTo>
                  <a:lnTo>
                    <a:pt x="543" y="671"/>
                  </a:lnTo>
                  <a:lnTo>
                    <a:pt x="493" y="671"/>
                  </a:lnTo>
                  <a:lnTo>
                    <a:pt x="444" y="671"/>
                  </a:lnTo>
                  <a:lnTo>
                    <a:pt x="395" y="671"/>
                  </a:lnTo>
                  <a:lnTo>
                    <a:pt x="345" y="671"/>
                  </a:lnTo>
                  <a:lnTo>
                    <a:pt x="296" y="671"/>
                  </a:lnTo>
                  <a:lnTo>
                    <a:pt x="247" y="671"/>
                  </a:lnTo>
                  <a:lnTo>
                    <a:pt x="198" y="671"/>
                  </a:lnTo>
                  <a:lnTo>
                    <a:pt x="148" y="671"/>
                  </a:lnTo>
                  <a:lnTo>
                    <a:pt x="98" y="671"/>
                  </a:lnTo>
                  <a:lnTo>
                    <a:pt x="50" y="671"/>
                  </a:lnTo>
                  <a:lnTo>
                    <a:pt x="0" y="6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00160" y="1593720"/>
              <a:ext cx="7753320" cy="3721320"/>
            </a:xfrm>
            <a:custGeom>
              <a:avLst/>
              <a:gdLst/>
              <a:ahLst/>
              <a:rect l="l" t="t" r="r" b="b"/>
              <a:pathLst>
                <a:path w="4884" h="2344">
                  <a:moveTo>
                    <a:pt x="0" y="2042"/>
                  </a:moveTo>
                  <a:lnTo>
                    <a:pt x="0" y="832"/>
                  </a:lnTo>
                  <a:lnTo>
                    <a:pt x="50" y="999"/>
                  </a:lnTo>
                  <a:lnTo>
                    <a:pt x="98" y="951"/>
                  </a:lnTo>
                  <a:lnTo>
                    <a:pt x="148" y="987"/>
                  </a:lnTo>
                  <a:lnTo>
                    <a:pt x="198" y="912"/>
                  </a:lnTo>
                  <a:lnTo>
                    <a:pt x="247" y="681"/>
                  </a:lnTo>
                  <a:lnTo>
                    <a:pt x="296" y="671"/>
                  </a:lnTo>
                  <a:lnTo>
                    <a:pt x="345" y="577"/>
                  </a:lnTo>
                  <a:lnTo>
                    <a:pt x="395" y="327"/>
                  </a:lnTo>
                  <a:lnTo>
                    <a:pt x="444" y="324"/>
                  </a:lnTo>
                  <a:lnTo>
                    <a:pt x="493" y="325"/>
                  </a:lnTo>
                  <a:lnTo>
                    <a:pt x="543" y="59"/>
                  </a:lnTo>
                  <a:lnTo>
                    <a:pt x="592" y="108"/>
                  </a:lnTo>
                  <a:lnTo>
                    <a:pt x="642" y="118"/>
                  </a:lnTo>
                  <a:lnTo>
                    <a:pt x="690" y="17"/>
                  </a:lnTo>
                  <a:lnTo>
                    <a:pt x="740" y="111"/>
                  </a:lnTo>
                  <a:lnTo>
                    <a:pt x="790" y="131"/>
                  </a:lnTo>
                  <a:lnTo>
                    <a:pt x="839" y="0"/>
                  </a:lnTo>
                  <a:lnTo>
                    <a:pt x="888" y="83"/>
                  </a:lnTo>
                  <a:lnTo>
                    <a:pt x="937" y="108"/>
                  </a:lnTo>
                  <a:lnTo>
                    <a:pt x="987" y="84"/>
                  </a:lnTo>
                  <a:lnTo>
                    <a:pt x="1036" y="174"/>
                  </a:lnTo>
                  <a:lnTo>
                    <a:pt x="1085" y="185"/>
                  </a:lnTo>
                  <a:lnTo>
                    <a:pt x="1135" y="100"/>
                  </a:lnTo>
                  <a:lnTo>
                    <a:pt x="1184" y="183"/>
                  </a:lnTo>
                  <a:lnTo>
                    <a:pt x="1234" y="202"/>
                  </a:lnTo>
                  <a:lnTo>
                    <a:pt x="1282" y="177"/>
                  </a:lnTo>
                  <a:lnTo>
                    <a:pt x="1332" y="269"/>
                  </a:lnTo>
                  <a:lnTo>
                    <a:pt x="1381" y="268"/>
                  </a:lnTo>
                  <a:lnTo>
                    <a:pt x="1431" y="202"/>
                  </a:lnTo>
                  <a:lnTo>
                    <a:pt x="1480" y="280"/>
                  </a:lnTo>
                  <a:lnTo>
                    <a:pt x="1529" y="288"/>
                  </a:lnTo>
                  <a:lnTo>
                    <a:pt x="1579" y="221"/>
                  </a:lnTo>
                  <a:lnTo>
                    <a:pt x="1628" y="304"/>
                  </a:lnTo>
                  <a:lnTo>
                    <a:pt x="1677" y="318"/>
                  </a:lnTo>
                  <a:lnTo>
                    <a:pt x="1727" y="268"/>
                  </a:lnTo>
                  <a:lnTo>
                    <a:pt x="1776" y="360"/>
                  </a:lnTo>
                  <a:lnTo>
                    <a:pt x="1826" y="355"/>
                  </a:lnTo>
                  <a:lnTo>
                    <a:pt x="1874" y="282"/>
                  </a:lnTo>
                  <a:lnTo>
                    <a:pt x="1924" y="355"/>
                  </a:lnTo>
                  <a:lnTo>
                    <a:pt x="1973" y="374"/>
                  </a:lnTo>
                  <a:lnTo>
                    <a:pt x="2023" y="318"/>
                  </a:lnTo>
                  <a:lnTo>
                    <a:pt x="2072" y="397"/>
                  </a:lnTo>
                  <a:lnTo>
                    <a:pt x="2121" y="400"/>
                  </a:lnTo>
                  <a:lnTo>
                    <a:pt x="2171" y="329"/>
                  </a:lnTo>
                  <a:lnTo>
                    <a:pt x="2220" y="404"/>
                  </a:lnTo>
                  <a:lnTo>
                    <a:pt x="2269" y="406"/>
                  </a:lnTo>
                  <a:lnTo>
                    <a:pt x="2319" y="357"/>
                  </a:lnTo>
                  <a:lnTo>
                    <a:pt x="2368" y="443"/>
                  </a:lnTo>
                  <a:lnTo>
                    <a:pt x="2418" y="441"/>
                  </a:lnTo>
                  <a:lnTo>
                    <a:pt x="2466" y="336"/>
                  </a:lnTo>
                  <a:lnTo>
                    <a:pt x="2516" y="428"/>
                  </a:lnTo>
                  <a:lnTo>
                    <a:pt x="2565" y="423"/>
                  </a:lnTo>
                  <a:lnTo>
                    <a:pt x="2615" y="393"/>
                  </a:lnTo>
                  <a:lnTo>
                    <a:pt x="2664" y="469"/>
                  </a:lnTo>
                  <a:lnTo>
                    <a:pt x="2713" y="461"/>
                  </a:lnTo>
                  <a:lnTo>
                    <a:pt x="2763" y="379"/>
                  </a:lnTo>
                  <a:lnTo>
                    <a:pt x="2812" y="452"/>
                  </a:lnTo>
                  <a:lnTo>
                    <a:pt x="2861" y="467"/>
                  </a:lnTo>
                  <a:lnTo>
                    <a:pt x="2911" y="403"/>
                  </a:lnTo>
                  <a:lnTo>
                    <a:pt x="2960" y="478"/>
                  </a:lnTo>
                  <a:lnTo>
                    <a:pt x="3010" y="476"/>
                  </a:lnTo>
                  <a:lnTo>
                    <a:pt x="3058" y="400"/>
                  </a:lnTo>
                  <a:lnTo>
                    <a:pt x="3108" y="465"/>
                  </a:lnTo>
                  <a:lnTo>
                    <a:pt x="3157" y="474"/>
                  </a:lnTo>
                  <a:lnTo>
                    <a:pt x="3207" y="408"/>
                  </a:lnTo>
                  <a:lnTo>
                    <a:pt x="3256" y="491"/>
                  </a:lnTo>
                  <a:lnTo>
                    <a:pt x="3305" y="504"/>
                  </a:lnTo>
                  <a:lnTo>
                    <a:pt x="3355" y="407"/>
                  </a:lnTo>
                  <a:lnTo>
                    <a:pt x="3404" y="476"/>
                  </a:lnTo>
                  <a:lnTo>
                    <a:pt x="3453" y="485"/>
                  </a:lnTo>
                  <a:lnTo>
                    <a:pt x="3503" y="421"/>
                  </a:lnTo>
                  <a:lnTo>
                    <a:pt x="3552" y="512"/>
                  </a:lnTo>
                  <a:lnTo>
                    <a:pt x="3602" y="511"/>
                  </a:lnTo>
                  <a:lnTo>
                    <a:pt x="3650" y="407"/>
                  </a:lnTo>
                  <a:lnTo>
                    <a:pt x="3700" y="478"/>
                  </a:lnTo>
                  <a:lnTo>
                    <a:pt x="3749" y="488"/>
                  </a:lnTo>
                  <a:lnTo>
                    <a:pt x="3799" y="443"/>
                  </a:lnTo>
                  <a:lnTo>
                    <a:pt x="3848" y="531"/>
                  </a:lnTo>
                  <a:lnTo>
                    <a:pt x="3897" y="529"/>
                  </a:lnTo>
                  <a:lnTo>
                    <a:pt x="3947" y="439"/>
                  </a:lnTo>
                  <a:lnTo>
                    <a:pt x="3996" y="514"/>
                  </a:lnTo>
                  <a:lnTo>
                    <a:pt x="4045" y="529"/>
                  </a:lnTo>
                  <a:lnTo>
                    <a:pt x="4095" y="439"/>
                  </a:lnTo>
                  <a:lnTo>
                    <a:pt x="4144" y="498"/>
                  </a:lnTo>
                  <a:lnTo>
                    <a:pt x="4194" y="512"/>
                  </a:lnTo>
                  <a:lnTo>
                    <a:pt x="4242" y="460"/>
                  </a:lnTo>
                  <a:lnTo>
                    <a:pt x="4292" y="541"/>
                  </a:lnTo>
                  <a:lnTo>
                    <a:pt x="4341" y="539"/>
                  </a:lnTo>
                  <a:lnTo>
                    <a:pt x="4391" y="442"/>
                  </a:lnTo>
                  <a:lnTo>
                    <a:pt x="4440" y="498"/>
                  </a:lnTo>
                  <a:lnTo>
                    <a:pt x="4489" y="516"/>
                  </a:lnTo>
                  <a:lnTo>
                    <a:pt x="4539" y="468"/>
                  </a:lnTo>
                  <a:lnTo>
                    <a:pt x="4588" y="543"/>
                  </a:lnTo>
                  <a:lnTo>
                    <a:pt x="4637" y="537"/>
                  </a:lnTo>
                  <a:lnTo>
                    <a:pt x="4687" y="432"/>
                  </a:lnTo>
                  <a:lnTo>
                    <a:pt x="4736" y="506"/>
                  </a:lnTo>
                  <a:lnTo>
                    <a:pt x="4786" y="494"/>
                  </a:lnTo>
                  <a:lnTo>
                    <a:pt x="4834" y="467"/>
                  </a:lnTo>
                  <a:lnTo>
                    <a:pt x="4884" y="547"/>
                  </a:lnTo>
                  <a:lnTo>
                    <a:pt x="4884" y="2344"/>
                  </a:lnTo>
                  <a:lnTo>
                    <a:pt x="4834" y="2338"/>
                  </a:lnTo>
                  <a:lnTo>
                    <a:pt x="4786" y="2340"/>
                  </a:lnTo>
                  <a:lnTo>
                    <a:pt x="4736" y="2340"/>
                  </a:lnTo>
                  <a:lnTo>
                    <a:pt x="4687" y="2335"/>
                  </a:lnTo>
                  <a:lnTo>
                    <a:pt x="4637" y="2342"/>
                  </a:lnTo>
                  <a:lnTo>
                    <a:pt x="4588" y="2341"/>
                  </a:lnTo>
                  <a:lnTo>
                    <a:pt x="4539" y="2335"/>
                  </a:lnTo>
                  <a:lnTo>
                    <a:pt x="4489" y="2338"/>
                  </a:lnTo>
                  <a:lnTo>
                    <a:pt x="4440" y="2336"/>
                  </a:lnTo>
                  <a:lnTo>
                    <a:pt x="4391" y="2332"/>
                  </a:lnTo>
                  <a:lnTo>
                    <a:pt x="4341" y="2338"/>
                  </a:lnTo>
                  <a:lnTo>
                    <a:pt x="4292" y="2337"/>
                  </a:lnTo>
                  <a:lnTo>
                    <a:pt x="4242" y="2331"/>
                  </a:lnTo>
                  <a:lnTo>
                    <a:pt x="4194" y="2334"/>
                  </a:lnTo>
                  <a:lnTo>
                    <a:pt x="4144" y="2331"/>
                  </a:lnTo>
                  <a:lnTo>
                    <a:pt x="4095" y="2326"/>
                  </a:lnTo>
                  <a:lnTo>
                    <a:pt x="4045" y="2332"/>
                  </a:lnTo>
                  <a:lnTo>
                    <a:pt x="3996" y="2330"/>
                  </a:lnTo>
                  <a:lnTo>
                    <a:pt x="3947" y="2323"/>
                  </a:lnTo>
                  <a:lnTo>
                    <a:pt x="3897" y="2329"/>
                  </a:lnTo>
                  <a:lnTo>
                    <a:pt x="3848" y="2328"/>
                  </a:lnTo>
                  <a:lnTo>
                    <a:pt x="3799" y="2320"/>
                  </a:lnTo>
                  <a:lnTo>
                    <a:pt x="3749" y="2322"/>
                  </a:lnTo>
                  <a:lnTo>
                    <a:pt x="3700" y="2320"/>
                  </a:lnTo>
                  <a:lnTo>
                    <a:pt x="3650" y="2313"/>
                  </a:lnTo>
                  <a:lnTo>
                    <a:pt x="3602" y="2320"/>
                  </a:lnTo>
                  <a:lnTo>
                    <a:pt x="3552" y="2318"/>
                  </a:lnTo>
                  <a:lnTo>
                    <a:pt x="3503" y="2310"/>
                  </a:lnTo>
                  <a:lnTo>
                    <a:pt x="3453" y="2314"/>
                  </a:lnTo>
                  <a:lnTo>
                    <a:pt x="3404" y="2311"/>
                  </a:lnTo>
                  <a:lnTo>
                    <a:pt x="3355" y="2304"/>
                  </a:lnTo>
                  <a:lnTo>
                    <a:pt x="3305" y="2310"/>
                  </a:lnTo>
                  <a:lnTo>
                    <a:pt x="3256" y="2306"/>
                  </a:lnTo>
                  <a:lnTo>
                    <a:pt x="3207" y="2298"/>
                  </a:lnTo>
                  <a:lnTo>
                    <a:pt x="3157" y="2302"/>
                  </a:lnTo>
                  <a:lnTo>
                    <a:pt x="3108" y="2299"/>
                  </a:lnTo>
                  <a:lnTo>
                    <a:pt x="3058" y="2290"/>
                  </a:lnTo>
                  <a:lnTo>
                    <a:pt x="3010" y="2296"/>
                  </a:lnTo>
                  <a:lnTo>
                    <a:pt x="2960" y="2293"/>
                  </a:lnTo>
                  <a:lnTo>
                    <a:pt x="2911" y="2283"/>
                  </a:lnTo>
                  <a:lnTo>
                    <a:pt x="2861" y="2287"/>
                  </a:lnTo>
                  <a:lnTo>
                    <a:pt x="2812" y="2282"/>
                  </a:lnTo>
                  <a:lnTo>
                    <a:pt x="2763" y="2272"/>
                  </a:lnTo>
                  <a:lnTo>
                    <a:pt x="2713" y="2277"/>
                  </a:lnTo>
                  <a:lnTo>
                    <a:pt x="2664" y="2275"/>
                  </a:lnTo>
                  <a:lnTo>
                    <a:pt x="2615" y="2263"/>
                  </a:lnTo>
                  <a:lnTo>
                    <a:pt x="2565" y="2263"/>
                  </a:lnTo>
                  <a:lnTo>
                    <a:pt x="2516" y="2259"/>
                  </a:lnTo>
                  <a:lnTo>
                    <a:pt x="2466" y="2245"/>
                  </a:lnTo>
                  <a:lnTo>
                    <a:pt x="2418" y="2254"/>
                  </a:lnTo>
                  <a:lnTo>
                    <a:pt x="2368" y="2249"/>
                  </a:lnTo>
                  <a:lnTo>
                    <a:pt x="2319" y="2235"/>
                  </a:lnTo>
                  <a:lnTo>
                    <a:pt x="2269" y="2237"/>
                  </a:lnTo>
                  <a:lnTo>
                    <a:pt x="2220" y="2231"/>
                  </a:lnTo>
                  <a:lnTo>
                    <a:pt x="2171" y="2216"/>
                  </a:lnTo>
                  <a:lnTo>
                    <a:pt x="2121" y="2222"/>
                  </a:lnTo>
                  <a:lnTo>
                    <a:pt x="2072" y="2215"/>
                  </a:lnTo>
                  <a:lnTo>
                    <a:pt x="2023" y="2199"/>
                  </a:lnTo>
                  <a:lnTo>
                    <a:pt x="1973" y="2202"/>
                  </a:lnTo>
                  <a:lnTo>
                    <a:pt x="1924" y="2192"/>
                  </a:lnTo>
                  <a:lnTo>
                    <a:pt x="1874" y="2174"/>
                  </a:lnTo>
                  <a:lnTo>
                    <a:pt x="1826" y="2179"/>
                  </a:lnTo>
                  <a:lnTo>
                    <a:pt x="1776" y="2172"/>
                  </a:lnTo>
                  <a:lnTo>
                    <a:pt x="1727" y="2150"/>
                  </a:lnTo>
                  <a:lnTo>
                    <a:pt x="1677" y="2152"/>
                  </a:lnTo>
                  <a:lnTo>
                    <a:pt x="1628" y="2141"/>
                  </a:lnTo>
                  <a:lnTo>
                    <a:pt x="1579" y="2119"/>
                  </a:lnTo>
                  <a:lnTo>
                    <a:pt x="1529" y="2124"/>
                  </a:lnTo>
                  <a:lnTo>
                    <a:pt x="1480" y="2112"/>
                  </a:lnTo>
                  <a:lnTo>
                    <a:pt x="1431" y="2087"/>
                  </a:lnTo>
                  <a:lnTo>
                    <a:pt x="1381" y="2093"/>
                  </a:lnTo>
                  <a:lnTo>
                    <a:pt x="1332" y="2084"/>
                  </a:lnTo>
                  <a:lnTo>
                    <a:pt x="1282" y="2057"/>
                  </a:lnTo>
                  <a:lnTo>
                    <a:pt x="1234" y="2052"/>
                  </a:lnTo>
                  <a:lnTo>
                    <a:pt x="1184" y="2034"/>
                  </a:lnTo>
                  <a:lnTo>
                    <a:pt x="1135" y="2002"/>
                  </a:lnTo>
                  <a:lnTo>
                    <a:pt x="1085" y="2011"/>
                  </a:lnTo>
                  <a:lnTo>
                    <a:pt x="1036" y="1999"/>
                  </a:lnTo>
                  <a:lnTo>
                    <a:pt x="987" y="1966"/>
                  </a:lnTo>
                  <a:lnTo>
                    <a:pt x="937" y="1960"/>
                  </a:lnTo>
                  <a:lnTo>
                    <a:pt x="888" y="1938"/>
                  </a:lnTo>
                  <a:lnTo>
                    <a:pt x="839" y="1901"/>
                  </a:lnTo>
                  <a:lnTo>
                    <a:pt x="790" y="1928"/>
                  </a:lnTo>
                  <a:lnTo>
                    <a:pt x="740" y="1911"/>
                  </a:lnTo>
                  <a:lnTo>
                    <a:pt x="690" y="1875"/>
                  </a:lnTo>
                  <a:lnTo>
                    <a:pt x="642" y="1901"/>
                  </a:lnTo>
                  <a:lnTo>
                    <a:pt x="592" y="1886"/>
                  </a:lnTo>
                  <a:lnTo>
                    <a:pt x="543" y="1862"/>
                  </a:lnTo>
                  <a:lnTo>
                    <a:pt x="493" y="1943"/>
                  </a:lnTo>
                  <a:lnTo>
                    <a:pt x="444" y="1941"/>
                  </a:lnTo>
                  <a:lnTo>
                    <a:pt x="395" y="1938"/>
                  </a:lnTo>
                  <a:lnTo>
                    <a:pt x="345" y="2011"/>
                  </a:lnTo>
                  <a:lnTo>
                    <a:pt x="296" y="2043"/>
                  </a:lnTo>
                  <a:lnTo>
                    <a:pt x="247" y="2049"/>
                  </a:lnTo>
                  <a:lnTo>
                    <a:pt x="198" y="2113"/>
                  </a:lnTo>
                  <a:lnTo>
                    <a:pt x="148" y="2134"/>
                  </a:lnTo>
                  <a:lnTo>
                    <a:pt x="98" y="2121"/>
                  </a:lnTo>
                  <a:lnTo>
                    <a:pt x="50" y="2115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100160" y="4549680"/>
              <a:ext cx="7753320" cy="1065240"/>
            </a:xfrm>
            <a:custGeom>
              <a:avLst/>
              <a:gdLst/>
              <a:ahLst/>
              <a:rect l="l" t="t" r="r" b="b"/>
              <a:pathLst>
                <a:path w="4884" h="671">
                  <a:moveTo>
                    <a:pt x="0" y="671"/>
                  </a:moveTo>
                  <a:lnTo>
                    <a:pt x="0" y="180"/>
                  </a:lnTo>
                  <a:lnTo>
                    <a:pt x="50" y="253"/>
                  </a:lnTo>
                  <a:lnTo>
                    <a:pt x="98" y="259"/>
                  </a:lnTo>
                  <a:lnTo>
                    <a:pt x="148" y="272"/>
                  </a:lnTo>
                  <a:lnTo>
                    <a:pt x="198" y="251"/>
                  </a:lnTo>
                  <a:lnTo>
                    <a:pt x="247" y="187"/>
                  </a:lnTo>
                  <a:lnTo>
                    <a:pt x="296" y="181"/>
                  </a:lnTo>
                  <a:lnTo>
                    <a:pt x="345" y="149"/>
                  </a:lnTo>
                  <a:lnTo>
                    <a:pt x="395" y="76"/>
                  </a:lnTo>
                  <a:lnTo>
                    <a:pt x="444" y="79"/>
                  </a:lnTo>
                  <a:lnTo>
                    <a:pt x="493" y="81"/>
                  </a:lnTo>
                  <a:lnTo>
                    <a:pt x="543" y="0"/>
                  </a:lnTo>
                  <a:lnTo>
                    <a:pt x="592" y="24"/>
                  </a:lnTo>
                  <a:lnTo>
                    <a:pt x="642" y="39"/>
                  </a:lnTo>
                  <a:lnTo>
                    <a:pt x="690" y="13"/>
                  </a:lnTo>
                  <a:lnTo>
                    <a:pt x="740" y="49"/>
                  </a:lnTo>
                  <a:lnTo>
                    <a:pt x="790" y="66"/>
                  </a:lnTo>
                  <a:lnTo>
                    <a:pt x="839" y="39"/>
                  </a:lnTo>
                  <a:lnTo>
                    <a:pt x="888" y="76"/>
                  </a:lnTo>
                  <a:lnTo>
                    <a:pt x="937" y="98"/>
                  </a:lnTo>
                  <a:lnTo>
                    <a:pt x="987" y="104"/>
                  </a:lnTo>
                  <a:lnTo>
                    <a:pt x="1036" y="137"/>
                  </a:lnTo>
                  <a:lnTo>
                    <a:pt x="1085" y="149"/>
                  </a:lnTo>
                  <a:lnTo>
                    <a:pt x="1135" y="140"/>
                  </a:lnTo>
                  <a:lnTo>
                    <a:pt x="1184" y="172"/>
                  </a:lnTo>
                  <a:lnTo>
                    <a:pt x="1234" y="190"/>
                  </a:lnTo>
                  <a:lnTo>
                    <a:pt x="1282" y="195"/>
                  </a:lnTo>
                  <a:lnTo>
                    <a:pt x="1332" y="222"/>
                  </a:lnTo>
                  <a:lnTo>
                    <a:pt x="1381" y="231"/>
                  </a:lnTo>
                  <a:lnTo>
                    <a:pt x="1431" y="225"/>
                  </a:lnTo>
                  <a:lnTo>
                    <a:pt x="1480" y="250"/>
                  </a:lnTo>
                  <a:lnTo>
                    <a:pt x="1529" y="262"/>
                  </a:lnTo>
                  <a:lnTo>
                    <a:pt x="1579" y="257"/>
                  </a:lnTo>
                  <a:lnTo>
                    <a:pt x="1628" y="279"/>
                  </a:lnTo>
                  <a:lnTo>
                    <a:pt x="1677" y="290"/>
                  </a:lnTo>
                  <a:lnTo>
                    <a:pt x="1727" y="288"/>
                  </a:lnTo>
                  <a:lnTo>
                    <a:pt x="1776" y="310"/>
                  </a:lnTo>
                  <a:lnTo>
                    <a:pt x="1826" y="317"/>
                  </a:lnTo>
                  <a:lnTo>
                    <a:pt x="1874" y="312"/>
                  </a:lnTo>
                  <a:lnTo>
                    <a:pt x="1924" y="330"/>
                  </a:lnTo>
                  <a:lnTo>
                    <a:pt x="1973" y="340"/>
                  </a:lnTo>
                  <a:lnTo>
                    <a:pt x="2023" y="337"/>
                  </a:lnTo>
                  <a:lnTo>
                    <a:pt x="2072" y="353"/>
                  </a:lnTo>
                  <a:lnTo>
                    <a:pt x="2121" y="360"/>
                  </a:lnTo>
                  <a:lnTo>
                    <a:pt x="2171" y="354"/>
                  </a:lnTo>
                  <a:lnTo>
                    <a:pt x="2220" y="369"/>
                  </a:lnTo>
                  <a:lnTo>
                    <a:pt x="2269" y="375"/>
                  </a:lnTo>
                  <a:lnTo>
                    <a:pt x="2319" y="373"/>
                  </a:lnTo>
                  <a:lnTo>
                    <a:pt x="2368" y="387"/>
                  </a:lnTo>
                  <a:lnTo>
                    <a:pt x="2418" y="392"/>
                  </a:lnTo>
                  <a:lnTo>
                    <a:pt x="2466" y="383"/>
                  </a:lnTo>
                  <a:lnTo>
                    <a:pt x="2516" y="397"/>
                  </a:lnTo>
                  <a:lnTo>
                    <a:pt x="2565" y="401"/>
                  </a:lnTo>
                  <a:lnTo>
                    <a:pt x="2615" y="401"/>
                  </a:lnTo>
                  <a:lnTo>
                    <a:pt x="2664" y="413"/>
                  </a:lnTo>
                  <a:lnTo>
                    <a:pt x="2713" y="415"/>
                  </a:lnTo>
                  <a:lnTo>
                    <a:pt x="2763" y="410"/>
                  </a:lnTo>
                  <a:lnTo>
                    <a:pt x="2812" y="420"/>
                  </a:lnTo>
                  <a:lnTo>
                    <a:pt x="2861" y="425"/>
                  </a:lnTo>
                  <a:lnTo>
                    <a:pt x="2911" y="421"/>
                  </a:lnTo>
                  <a:lnTo>
                    <a:pt x="2960" y="431"/>
                  </a:lnTo>
                  <a:lnTo>
                    <a:pt x="3010" y="434"/>
                  </a:lnTo>
                  <a:lnTo>
                    <a:pt x="3058" y="428"/>
                  </a:lnTo>
                  <a:lnTo>
                    <a:pt x="3108" y="437"/>
                  </a:lnTo>
                  <a:lnTo>
                    <a:pt x="3157" y="440"/>
                  </a:lnTo>
                  <a:lnTo>
                    <a:pt x="3207" y="436"/>
                  </a:lnTo>
                  <a:lnTo>
                    <a:pt x="3256" y="444"/>
                  </a:lnTo>
                  <a:lnTo>
                    <a:pt x="3305" y="448"/>
                  </a:lnTo>
                  <a:lnTo>
                    <a:pt x="3355" y="442"/>
                  </a:lnTo>
                  <a:lnTo>
                    <a:pt x="3404" y="449"/>
                  </a:lnTo>
                  <a:lnTo>
                    <a:pt x="3453" y="452"/>
                  </a:lnTo>
                  <a:lnTo>
                    <a:pt x="3503" y="448"/>
                  </a:lnTo>
                  <a:lnTo>
                    <a:pt x="3552" y="456"/>
                  </a:lnTo>
                  <a:lnTo>
                    <a:pt x="3602" y="458"/>
                  </a:lnTo>
                  <a:lnTo>
                    <a:pt x="3650" y="451"/>
                  </a:lnTo>
                  <a:lnTo>
                    <a:pt x="3700" y="458"/>
                  </a:lnTo>
                  <a:lnTo>
                    <a:pt x="3749" y="460"/>
                  </a:lnTo>
                  <a:lnTo>
                    <a:pt x="3799" y="458"/>
                  </a:lnTo>
                  <a:lnTo>
                    <a:pt x="3848" y="466"/>
                  </a:lnTo>
                  <a:lnTo>
                    <a:pt x="3897" y="467"/>
                  </a:lnTo>
                  <a:lnTo>
                    <a:pt x="3947" y="461"/>
                  </a:lnTo>
                  <a:lnTo>
                    <a:pt x="3996" y="468"/>
                  </a:lnTo>
                  <a:lnTo>
                    <a:pt x="4045" y="470"/>
                  </a:lnTo>
                  <a:lnTo>
                    <a:pt x="4095" y="464"/>
                  </a:lnTo>
                  <a:lnTo>
                    <a:pt x="4144" y="469"/>
                  </a:lnTo>
                  <a:lnTo>
                    <a:pt x="4194" y="472"/>
                  </a:lnTo>
                  <a:lnTo>
                    <a:pt x="4242" y="469"/>
                  </a:lnTo>
                  <a:lnTo>
                    <a:pt x="4292" y="475"/>
                  </a:lnTo>
                  <a:lnTo>
                    <a:pt x="4341" y="476"/>
                  </a:lnTo>
                  <a:lnTo>
                    <a:pt x="4391" y="470"/>
                  </a:lnTo>
                  <a:lnTo>
                    <a:pt x="4440" y="474"/>
                  </a:lnTo>
                  <a:lnTo>
                    <a:pt x="4489" y="476"/>
                  </a:lnTo>
                  <a:lnTo>
                    <a:pt x="4539" y="473"/>
                  </a:lnTo>
                  <a:lnTo>
                    <a:pt x="4588" y="479"/>
                  </a:lnTo>
                  <a:lnTo>
                    <a:pt x="4637" y="480"/>
                  </a:lnTo>
                  <a:lnTo>
                    <a:pt x="4687" y="473"/>
                  </a:lnTo>
                  <a:lnTo>
                    <a:pt x="4736" y="478"/>
                  </a:lnTo>
                  <a:lnTo>
                    <a:pt x="4786" y="478"/>
                  </a:lnTo>
                  <a:lnTo>
                    <a:pt x="4834" y="476"/>
                  </a:lnTo>
                  <a:lnTo>
                    <a:pt x="4884" y="482"/>
                  </a:lnTo>
                  <a:lnTo>
                    <a:pt x="4884" y="671"/>
                  </a:lnTo>
                  <a:lnTo>
                    <a:pt x="4834" y="671"/>
                  </a:lnTo>
                  <a:lnTo>
                    <a:pt x="4786" y="671"/>
                  </a:lnTo>
                  <a:lnTo>
                    <a:pt x="4736" y="671"/>
                  </a:lnTo>
                  <a:lnTo>
                    <a:pt x="4687" y="671"/>
                  </a:lnTo>
                  <a:lnTo>
                    <a:pt x="4637" y="671"/>
                  </a:lnTo>
                  <a:lnTo>
                    <a:pt x="4588" y="671"/>
                  </a:lnTo>
                  <a:lnTo>
                    <a:pt x="4539" y="671"/>
                  </a:lnTo>
                  <a:lnTo>
                    <a:pt x="4489" y="671"/>
                  </a:lnTo>
                  <a:lnTo>
                    <a:pt x="4440" y="671"/>
                  </a:lnTo>
                  <a:lnTo>
                    <a:pt x="4391" y="671"/>
                  </a:lnTo>
                  <a:lnTo>
                    <a:pt x="4341" y="671"/>
                  </a:lnTo>
                  <a:lnTo>
                    <a:pt x="4292" y="671"/>
                  </a:lnTo>
                  <a:lnTo>
                    <a:pt x="4242" y="671"/>
                  </a:lnTo>
                  <a:lnTo>
                    <a:pt x="4194" y="671"/>
                  </a:lnTo>
                  <a:lnTo>
                    <a:pt x="4144" y="671"/>
                  </a:lnTo>
                  <a:lnTo>
                    <a:pt x="4095" y="671"/>
                  </a:lnTo>
                  <a:lnTo>
                    <a:pt x="4045" y="671"/>
                  </a:lnTo>
                  <a:lnTo>
                    <a:pt x="3996" y="671"/>
                  </a:lnTo>
                  <a:lnTo>
                    <a:pt x="3947" y="671"/>
                  </a:lnTo>
                  <a:lnTo>
                    <a:pt x="3897" y="671"/>
                  </a:lnTo>
                  <a:lnTo>
                    <a:pt x="3848" y="671"/>
                  </a:lnTo>
                  <a:lnTo>
                    <a:pt x="3799" y="671"/>
                  </a:lnTo>
                  <a:lnTo>
                    <a:pt x="3749" y="671"/>
                  </a:lnTo>
                  <a:lnTo>
                    <a:pt x="3700" y="671"/>
                  </a:lnTo>
                  <a:lnTo>
                    <a:pt x="3650" y="671"/>
                  </a:lnTo>
                  <a:lnTo>
                    <a:pt x="3602" y="671"/>
                  </a:lnTo>
                  <a:lnTo>
                    <a:pt x="3552" y="671"/>
                  </a:lnTo>
                  <a:lnTo>
                    <a:pt x="3503" y="671"/>
                  </a:lnTo>
                  <a:lnTo>
                    <a:pt x="3453" y="671"/>
                  </a:lnTo>
                  <a:lnTo>
                    <a:pt x="3404" y="671"/>
                  </a:lnTo>
                  <a:lnTo>
                    <a:pt x="3355" y="671"/>
                  </a:lnTo>
                  <a:lnTo>
                    <a:pt x="3305" y="671"/>
                  </a:lnTo>
                  <a:lnTo>
                    <a:pt x="3256" y="671"/>
                  </a:lnTo>
                  <a:lnTo>
                    <a:pt x="3207" y="671"/>
                  </a:lnTo>
                  <a:lnTo>
                    <a:pt x="3157" y="671"/>
                  </a:lnTo>
                  <a:lnTo>
                    <a:pt x="3108" y="671"/>
                  </a:lnTo>
                  <a:lnTo>
                    <a:pt x="3058" y="671"/>
                  </a:lnTo>
                  <a:lnTo>
                    <a:pt x="3010" y="671"/>
                  </a:lnTo>
                  <a:lnTo>
                    <a:pt x="2960" y="671"/>
                  </a:lnTo>
                  <a:lnTo>
                    <a:pt x="2911" y="671"/>
                  </a:lnTo>
                  <a:lnTo>
                    <a:pt x="2861" y="671"/>
                  </a:lnTo>
                  <a:lnTo>
                    <a:pt x="2812" y="671"/>
                  </a:lnTo>
                  <a:lnTo>
                    <a:pt x="2763" y="671"/>
                  </a:lnTo>
                  <a:lnTo>
                    <a:pt x="2713" y="671"/>
                  </a:lnTo>
                  <a:lnTo>
                    <a:pt x="2664" y="671"/>
                  </a:lnTo>
                  <a:lnTo>
                    <a:pt x="2615" y="671"/>
                  </a:lnTo>
                  <a:lnTo>
                    <a:pt x="2565" y="671"/>
                  </a:lnTo>
                  <a:lnTo>
                    <a:pt x="2516" y="671"/>
                  </a:lnTo>
                  <a:lnTo>
                    <a:pt x="2466" y="671"/>
                  </a:lnTo>
                  <a:lnTo>
                    <a:pt x="2418" y="671"/>
                  </a:lnTo>
                  <a:lnTo>
                    <a:pt x="2368" y="671"/>
                  </a:lnTo>
                  <a:lnTo>
                    <a:pt x="2319" y="671"/>
                  </a:lnTo>
                  <a:lnTo>
                    <a:pt x="2269" y="671"/>
                  </a:lnTo>
                  <a:lnTo>
                    <a:pt x="2220" y="671"/>
                  </a:lnTo>
                  <a:lnTo>
                    <a:pt x="2171" y="671"/>
                  </a:lnTo>
                  <a:lnTo>
                    <a:pt x="2121" y="671"/>
                  </a:lnTo>
                  <a:lnTo>
                    <a:pt x="2072" y="671"/>
                  </a:lnTo>
                  <a:lnTo>
                    <a:pt x="2023" y="671"/>
                  </a:lnTo>
                  <a:lnTo>
                    <a:pt x="1973" y="671"/>
                  </a:lnTo>
                  <a:lnTo>
                    <a:pt x="1924" y="671"/>
                  </a:lnTo>
                  <a:lnTo>
                    <a:pt x="1874" y="671"/>
                  </a:lnTo>
                  <a:lnTo>
                    <a:pt x="1826" y="671"/>
                  </a:lnTo>
                  <a:lnTo>
                    <a:pt x="1776" y="671"/>
                  </a:lnTo>
                  <a:lnTo>
                    <a:pt x="1727" y="671"/>
                  </a:lnTo>
                  <a:lnTo>
                    <a:pt x="1677" y="671"/>
                  </a:lnTo>
                  <a:lnTo>
                    <a:pt x="1628" y="671"/>
                  </a:lnTo>
                  <a:lnTo>
                    <a:pt x="1579" y="671"/>
                  </a:lnTo>
                  <a:lnTo>
                    <a:pt x="1529" y="671"/>
                  </a:lnTo>
                  <a:lnTo>
                    <a:pt x="1480" y="671"/>
                  </a:lnTo>
                  <a:lnTo>
                    <a:pt x="1431" y="671"/>
                  </a:lnTo>
                  <a:lnTo>
                    <a:pt x="1381" y="671"/>
                  </a:lnTo>
                  <a:lnTo>
                    <a:pt x="1332" y="671"/>
                  </a:lnTo>
                  <a:lnTo>
                    <a:pt x="1282" y="671"/>
                  </a:lnTo>
                  <a:lnTo>
                    <a:pt x="1234" y="671"/>
                  </a:lnTo>
                  <a:lnTo>
                    <a:pt x="1184" y="671"/>
                  </a:lnTo>
                  <a:lnTo>
                    <a:pt x="1135" y="671"/>
                  </a:lnTo>
                  <a:lnTo>
                    <a:pt x="1085" y="671"/>
                  </a:lnTo>
                  <a:lnTo>
                    <a:pt x="1036" y="671"/>
                  </a:lnTo>
                  <a:lnTo>
                    <a:pt x="987" y="671"/>
                  </a:lnTo>
                  <a:lnTo>
                    <a:pt x="937" y="671"/>
                  </a:lnTo>
                  <a:lnTo>
                    <a:pt x="888" y="671"/>
                  </a:lnTo>
                  <a:lnTo>
                    <a:pt x="839" y="671"/>
                  </a:lnTo>
                  <a:lnTo>
                    <a:pt x="790" y="671"/>
                  </a:lnTo>
                  <a:lnTo>
                    <a:pt x="740" y="671"/>
                  </a:lnTo>
                  <a:lnTo>
                    <a:pt x="690" y="671"/>
                  </a:lnTo>
                  <a:lnTo>
                    <a:pt x="642" y="671"/>
                  </a:lnTo>
                  <a:lnTo>
                    <a:pt x="592" y="671"/>
                  </a:lnTo>
                  <a:lnTo>
                    <a:pt x="543" y="671"/>
                  </a:lnTo>
                  <a:lnTo>
                    <a:pt x="493" y="671"/>
                  </a:lnTo>
                  <a:lnTo>
                    <a:pt x="444" y="671"/>
                  </a:lnTo>
                  <a:lnTo>
                    <a:pt x="395" y="671"/>
                  </a:lnTo>
                  <a:lnTo>
                    <a:pt x="345" y="671"/>
                  </a:lnTo>
                  <a:lnTo>
                    <a:pt x="296" y="671"/>
                  </a:lnTo>
                  <a:lnTo>
                    <a:pt x="247" y="671"/>
                  </a:lnTo>
                  <a:lnTo>
                    <a:pt x="198" y="671"/>
                  </a:lnTo>
                  <a:lnTo>
                    <a:pt x="148" y="671"/>
                  </a:lnTo>
                  <a:lnTo>
                    <a:pt x="98" y="671"/>
                  </a:lnTo>
                  <a:lnTo>
                    <a:pt x="50" y="671"/>
                  </a:lnTo>
                  <a:lnTo>
                    <a:pt x="0" y="6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00160" y="1593720"/>
              <a:ext cx="7753320" cy="3721320"/>
            </a:xfrm>
            <a:custGeom>
              <a:avLst/>
              <a:gdLst/>
              <a:ahLst/>
              <a:rect l="l" t="t" r="r" b="b"/>
              <a:pathLst>
                <a:path w="4884" h="2344">
                  <a:moveTo>
                    <a:pt x="0" y="2042"/>
                  </a:moveTo>
                  <a:lnTo>
                    <a:pt x="0" y="832"/>
                  </a:lnTo>
                  <a:lnTo>
                    <a:pt x="50" y="999"/>
                  </a:lnTo>
                  <a:lnTo>
                    <a:pt x="98" y="951"/>
                  </a:lnTo>
                  <a:lnTo>
                    <a:pt x="148" y="987"/>
                  </a:lnTo>
                  <a:lnTo>
                    <a:pt x="198" y="912"/>
                  </a:lnTo>
                  <a:lnTo>
                    <a:pt x="247" y="681"/>
                  </a:lnTo>
                  <a:lnTo>
                    <a:pt x="296" y="671"/>
                  </a:lnTo>
                  <a:lnTo>
                    <a:pt x="345" y="577"/>
                  </a:lnTo>
                  <a:lnTo>
                    <a:pt x="395" y="327"/>
                  </a:lnTo>
                  <a:lnTo>
                    <a:pt x="444" y="324"/>
                  </a:lnTo>
                  <a:lnTo>
                    <a:pt x="493" y="325"/>
                  </a:lnTo>
                  <a:lnTo>
                    <a:pt x="543" y="59"/>
                  </a:lnTo>
                  <a:lnTo>
                    <a:pt x="592" y="108"/>
                  </a:lnTo>
                  <a:lnTo>
                    <a:pt x="642" y="118"/>
                  </a:lnTo>
                  <a:lnTo>
                    <a:pt x="690" y="17"/>
                  </a:lnTo>
                  <a:lnTo>
                    <a:pt x="740" y="111"/>
                  </a:lnTo>
                  <a:lnTo>
                    <a:pt x="790" y="131"/>
                  </a:lnTo>
                  <a:lnTo>
                    <a:pt x="839" y="0"/>
                  </a:lnTo>
                  <a:lnTo>
                    <a:pt x="888" y="83"/>
                  </a:lnTo>
                  <a:lnTo>
                    <a:pt x="937" y="108"/>
                  </a:lnTo>
                  <a:lnTo>
                    <a:pt x="987" y="84"/>
                  </a:lnTo>
                  <a:lnTo>
                    <a:pt x="1036" y="174"/>
                  </a:lnTo>
                  <a:lnTo>
                    <a:pt x="1085" y="185"/>
                  </a:lnTo>
                  <a:lnTo>
                    <a:pt x="1135" y="100"/>
                  </a:lnTo>
                  <a:lnTo>
                    <a:pt x="1184" y="183"/>
                  </a:lnTo>
                  <a:lnTo>
                    <a:pt x="1234" y="202"/>
                  </a:lnTo>
                  <a:lnTo>
                    <a:pt x="1282" y="177"/>
                  </a:lnTo>
                  <a:lnTo>
                    <a:pt x="1332" y="269"/>
                  </a:lnTo>
                  <a:lnTo>
                    <a:pt x="1381" y="268"/>
                  </a:lnTo>
                  <a:lnTo>
                    <a:pt x="1431" y="202"/>
                  </a:lnTo>
                  <a:lnTo>
                    <a:pt x="1480" y="280"/>
                  </a:lnTo>
                  <a:lnTo>
                    <a:pt x="1529" y="288"/>
                  </a:lnTo>
                  <a:lnTo>
                    <a:pt x="1579" y="221"/>
                  </a:lnTo>
                  <a:lnTo>
                    <a:pt x="1628" y="304"/>
                  </a:lnTo>
                  <a:lnTo>
                    <a:pt x="1677" y="318"/>
                  </a:lnTo>
                  <a:lnTo>
                    <a:pt x="1727" y="268"/>
                  </a:lnTo>
                  <a:lnTo>
                    <a:pt x="1776" y="360"/>
                  </a:lnTo>
                  <a:lnTo>
                    <a:pt x="1826" y="355"/>
                  </a:lnTo>
                  <a:lnTo>
                    <a:pt x="1874" y="282"/>
                  </a:lnTo>
                  <a:lnTo>
                    <a:pt x="1924" y="355"/>
                  </a:lnTo>
                  <a:lnTo>
                    <a:pt x="1973" y="374"/>
                  </a:lnTo>
                  <a:lnTo>
                    <a:pt x="2023" y="318"/>
                  </a:lnTo>
                  <a:lnTo>
                    <a:pt x="2072" y="397"/>
                  </a:lnTo>
                  <a:lnTo>
                    <a:pt x="2121" y="400"/>
                  </a:lnTo>
                  <a:lnTo>
                    <a:pt x="2171" y="329"/>
                  </a:lnTo>
                  <a:lnTo>
                    <a:pt x="2220" y="404"/>
                  </a:lnTo>
                  <a:lnTo>
                    <a:pt x="2269" y="406"/>
                  </a:lnTo>
                  <a:lnTo>
                    <a:pt x="2319" y="357"/>
                  </a:lnTo>
                  <a:lnTo>
                    <a:pt x="2368" y="443"/>
                  </a:lnTo>
                  <a:lnTo>
                    <a:pt x="2418" y="441"/>
                  </a:lnTo>
                  <a:lnTo>
                    <a:pt x="2466" y="336"/>
                  </a:lnTo>
                  <a:lnTo>
                    <a:pt x="2516" y="428"/>
                  </a:lnTo>
                  <a:lnTo>
                    <a:pt x="2565" y="423"/>
                  </a:lnTo>
                  <a:lnTo>
                    <a:pt x="2615" y="393"/>
                  </a:lnTo>
                  <a:lnTo>
                    <a:pt x="2664" y="469"/>
                  </a:lnTo>
                  <a:lnTo>
                    <a:pt x="2713" y="461"/>
                  </a:lnTo>
                  <a:lnTo>
                    <a:pt x="2763" y="379"/>
                  </a:lnTo>
                  <a:lnTo>
                    <a:pt x="2812" y="452"/>
                  </a:lnTo>
                  <a:lnTo>
                    <a:pt x="2861" y="467"/>
                  </a:lnTo>
                  <a:lnTo>
                    <a:pt x="2911" y="403"/>
                  </a:lnTo>
                  <a:lnTo>
                    <a:pt x="2960" y="478"/>
                  </a:lnTo>
                  <a:lnTo>
                    <a:pt x="3010" y="476"/>
                  </a:lnTo>
                  <a:lnTo>
                    <a:pt x="3058" y="400"/>
                  </a:lnTo>
                  <a:lnTo>
                    <a:pt x="3108" y="465"/>
                  </a:lnTo>
                  <a:lnTo>
                    <a:pt x="3157" y="474"/>
                  </a:lnTo>
                  <a:lnTo>
                    <a:pt x="3207" y="408"/>
                  </a:lnTo>
                  <a:lnTo>
                    <a:pt x="3256" y="491"/>
                  </a:lnTo>
                  <a:lnTo>
                    <a:pt x="3305" y="504"/>
                  </a:lnTo>
                  <a:lnTo>
                    <a:pt x="3355" y="407"/>
                  </a:lnTo>
                  <a:lnTo>
                    <a:pt x="3404" y="476"/>
                  </a:lnTo>
                  <a:lnTo>
                    <a:pt x="3453" y="485"/>
                  </a:lnTo>
                  <a:lnTo>
                    <a:pt x="3503" y="421"/>
                  </a:lnTo>
                  <a:lnTo>
                    <a:pt x="3552" y="512"/>
                  </a:lnTo>
                  <a:lnTo>
                    <a:pt x="3602" y="511"/>
                  </a:lnTo>
                  <a:lnTo>
                    <a:pt x="3650" y="407"/>
                  </a:lnTo>
                  <a:lnTo>
                    <a:pt x="3700" y="478"/>
                  </a:lnTo>
                  <a:lnTo>
                    <a:pt x="3749" y="488"/>
                  </a:lnTo>
                  <a:lnTo>
                    <a:pt x="3799" y="443"/>
                  </a:lnTo>
                  <a:lnTo>
                    <a:pt x="3848" y="531"/>
                  </a:lnTo>
                  <a:lnTo>
                    <a:pt x="3897" y="529"/>
                  </a:lnTo>
                  <a:lnTo>
                    <a:pt x="3947" y="439"/>
                  </a:lnTo>
                  <a:lnTo>
                    <a:pt x="3996" y="514"/>
                  </a:lnTo>
                  <a:lnTo>
                    <a:pt x="4045" y="529"/>
                  </a:lnTo>
                  <a:lnTo>
                    <a:pt x="4095" y="439"/>
                  </a:lnTo>
                  <a:lnTo>
                    <a:pt x="4144" y="498"/>
                  </a:lnTo>
                  <a:lnTo>
                    <a:pt x="4194" y="512"/>
                  </a:lnTo>
                  <a:lnTo>
                    <a:pt x="4242" y="460"/>
                  </a:lnTo>
                  <a:lnTo>
                    <a:pt x="4292" y="541"/>
                  </a:lnTo>
                  <a:lnTo>
                    <a:pt x="4341" y="539"/>
                  </a:lnTo>
                  <a:lnTo>
                    <a:pt x="4391" y="442"/>
                  </a:lnTo>
                  <a:lnTo>
                    <a:pt x="4440" y="498"/>
                  </a:lnTo>
                  <a:lnTo>
                    <a:pt x="4489" y="516"/>
                  </a:lnTo>
                  <a:lnTo>
                    <a:pt x="4539" y="468"/>
                  </a:lnTo>
                  <a:lnTo>
                    <a:pt x="4588" y="543"/>
                  </a:lnTo>
                  <a:lnTo>
                    <a:pt x="4637" y="537"/>
                  </a:lnTo>
                  <a:lnTo>
                    <a:pt x="4687" y="432"/>
                  </a:lnTo>
                  <a:lnTo>
                    <a:pt x="4736" y="506"/>
                  </a:lnTo>
                  <a:lnTo>
                    <a:pt x="4786" y="494"/>
                  </a:lnTo>
                  <a:lnTo>
                    <a:pt x="4834" y="467"/>
                  </a:lnTo>
                  <a:lnTo>
                    <a:pt x="4884" y="547"/>
                  </a:lnTo>
                  <a:lnTo>
                    <a:pt x="4884" y="2344"/>
                  </a:lnTo>
                  <a:lnTo>
                    <a:pt x="4834" y="2338"/>
                  </a:lnTo>
                  <a:lnTo>
                    <a:pt x="4786" y="2340"/>
                  </a:lnTo>
                  <a:lnTo>
                    <a:pt x="4736" y="2340"/>
                  </a:lnTo>
                  <a:lnTo>
                    <a:pt x="4687" y="2335"/>
                  </a:lnTo>
                  <a:lnTo>
                    <a:pt x="4637" y="2342"/>
                  </a:lnTo>
                  <a:lnTo>
                    <a:pt x="4588" y="2341"/>
                  </a:lnTo>
                  <a:lnTo>
                    <a:pt x="4539" y="2335"/>
                  </a:lnTo>
                  <a:lnTo>
                    <a:pt x="4489" y="2338"/>
                  </a:lnTo>
                  <a:lnTo>
                    <a:pt x="4440" y="2336"/>
                  </a:lnTo>
                  <a:lnTo>
                    <a:pt x="4391" y="2332"/>
                  </a:lnTo>
                  <a:lnTo>
                    <a:pt x="4341" y="2338"/>
                  </a:lnTo>
                  <a:lnTo>
                    <a:pt x="4292" y="2337"/>
                  </a:lnTo>
                  <a:lnTo>
                    <a:pt x="4242" y="2331"/>
                  </a:lnTo>
                  <a:lnTo>
                    <a:pt x="4194" y="2334"/>
                  </a:lnTo>
                  <a:lnTo>
                    <a:pt x="4144" y="2331"/>
                  </a:lnTo>
                  <a:lnTo>
                    <a:pt x="4095" y="2326"/>
                  </a:lnTo>
                  <a:lnTo>
                    <a:pt x="4045" y="2332"/>
                  </a:lnTo>
                  <a:lnTo>
                    <a:pt x="3996" y="2330"/>
                  </a:lnTo>
                  <a:lnTo>
                    <a:pt x="3947" y="2323"/>
                  </a:lnTo>
                  <a:lnTo>
                    <a:pt x="3897" y="2329"/>
                  </a:lnTo>
                  <a:lnTo>
                    <a:pt x="3848" y="2328"/>
                  </a:lnTo>
                  <a:lnTo>
                    <a:pt x="3799" y="2320"/>
                  </a:lnTo>
                  <a:lnTo>
                    <a:pt x="3749" y="2322"/>
                  </a:lnTo>
                  <a:lnTo>
                    <a:pt x="3700" y="2320"/>
                  </a:lnTo>
                  <a:lnTo>
                    <a:pt x="3650" y="2313"/>
                  </a:lnTo>
                  <a:lnTo>
                    <a:pt x="3602" y="2320"/>
                  </a:lnTo>
                  <a:lnTo>
                    <a:pt x="3552" y="2318"/>
                  </a:lnTo>
                  <a:lnTo>
                    <a:pt x="3503" y="2310"/>
                  </a:lnTo>
                  <a:lnTo>
                    <a:pt x="3453" y="2314"/>
                  </a:lnTo>
                  <a:lnTo>
                    <a:pt x="3404" y="2311"/>
                  </a:lnTo>
                  <a:lnTo>
                    <a:pt x="3355" y="2304"/>
                  </a:lnTo>
                  <a:lnTo>
                    <a:pt x="3305" y="2310"/>
                  </a:lnTo>
                  <a:lnTo>
                    <a:pt x="3256" y="2306"/>
                  </a:lnTo>
                  <a:lnTo>
                    <a:pt x="3207" y="2298"/>
                  </a:lnTo>
                  <a:lnTo>
                    <a:pt x="3157" y="2302"/>
                  </a:lnTo>
                  <a:lnTo>
                    <a:pt x="3108" y="2299"/>
                  </a:lnTo>
                  <a:lnTo>
                    <a:pt x="3058" y="2290"/>
                  </a:lnTo>
                  <a:lnTo>
                    <a:pt x="3010" y="2296"/>
                  </a:lnTo>
                  <a:lnTo>
                    <a:pt x="2960" y="2293"/>
                  </a:lnTo>
                  <a:lnTo>
                    <a:pt x="2911" y="2283"/>
                  </a:lnTo>
                  <a:lnTo>
                    <a:pt x="2861" y="2287"/>
                  </a:lnTo>
                  <a:lnTo>
                    <a:pt x="2812" y="2282"/>
                  </a:lnTo>
                  <a:lnTo>
                    <a:pt x="2763" y="2272"/>
                  </a:lnTo>
                  <a:lnTo>
                    <a:pt x="2713" y="2277"/>
                  </a:lnTo>
                  <a:lnTo>
                    <a:pt x="2664" y="2275"/>
                  </a:lnTo>
                  <a:lnTo>
                    <a:pt x="2615" y="2263"/>
                  </a:lnTo>
                  <a:lnTo>
                    <a:pt x="2565" y="2263"/>
                  </a:lnTo>
                  <a:lnTo>
                    <a:pt x="2516" y="2259"/>
                  </a:lnTo>
                  <a:lnTo>
                    <a:pt x="2466" y="2245"/>
                  </a:lnTo>
                  <a:lnTo>
                    <a:pt x="2418" y="2254"/>
                  </a:lnTo>
                  <a:lnTo>
                    <a:pt x="2368" y="2249"/>
                  </a:lnTo>
                  <a:lnTo>
                    <a:pt x="2319" y="2235"/>
                  </a:lnTo>
                  <a:lnTo>
                    <a:pt x="2269" y="2237"/>
                  </a:lnTo>
                  <a:lnTo>
                    <a:pt x="2220" y="2231"/>
                  </a:lnTo>
                  <a:lnTo>
                    <a:pt x="2171" y="2216"/>
                  </a:lnTo>
                  <a:lnTo>
                    <a:pt x="2121" y="2222"/>
                  </a:lnTo>
                  <a:lnTo>
                    <a:pt x="2072" y="2215"/>
                  </a:lnTo>
                  <a:lnTo>
                    <a:pt x="2023" y="2199"/>
                  </a:lnTo>
                  <a:lnTo>
                    <a:pt x="1973" y="2202"/>
                  </a:lnTo>
                  <a:lnTo>
                    <a:pt x="1924" y="2192"/>
                  </a:lnTo>
                  <a:lnTo>
                    <a:pt x="1874" y="2174"/>
                  </a:lnTo>
                  <a:lnTo>
                    <a:pt x="1826" y="2179"/>
                  </a:lnTo>
                  <a:lnTo>
                    <a:pt x="1776" y="2172"/>
                  </a:lnTo>
                  <a:lnTo>
                    <a:pt x="1727" y="2150"/>
                  </a:lnTo>
                  <a:lnTo>
                    <a:pt x="1677" y="2152"/>
                  </a:lnTo>
                  <a:lnTo>
                    <a:pt x="1628" y="2141"/>
                  </a:lnTo>
                  <a:lnTo>
                    <a:pt x="1579" y="2119"/>
                  </a:lnTo>
                  <a:lnTo>
                    <a:pt x="1529" y="2124"/>
                  </a:lnTo>
                  <a:lnTo>
                    <a:pt x="1480" y="2112"/>
                  </a:lnTo>
                  <a:lnTo>
                    <a:pt x="1431" y="2087"/>
                  </a:lnTo>
                  <a:lnTo>
                    <a:pt x="1381" y="2093"/>
                  </a:lnTo>
                  <a:lnTo>
                    <a:pt x="1332" y="2084"/>
                  </a:lnTo>
                  <a:lnTo>
                    <a:pt x="1282" y="2057"/>
                  </a:lnTo>
                  <a:lnTo>
                    <a:pt x="1234" y="2052"/>
                  </a:lnTo>
                  <a:lnTo>
                    <a:pt x="1184" y="2034"/>
                  </a:lnTo>
                  <a:lnTo>
                    <a:pt x="1135" y="2002"/>
                  </a:lnTo>
                  <a:lnTo>
                    <a:pt x="1085" y="2011"/>
                  </a:lnTo>
                  <a:lnTo>
                    <a:pt x="1036" y="1999"/>
                  </a:lnTo>
                  <a:lnTo>
                    <a:pt x="987" y="1966"/>
                  </a:lnTo>
                  <a:lnTo>
                    <a:pt x="937" y="1960"/>
                  </a:lnTo>
                  <a:lnTo>
                    <a:pt x="888" y="1938"/>
                  </a:lnTo>
                  <a:lnTo>
                    <a:pt x="839" y="1901"/>
                  </a:lnTo>
                  <a:lnTo>
                    <a:pt x="790" y="1928"/>
                  </a:lnTo>
                  <a:lnTo>
                    <a:pt x="740" y="1911"/>
                  </a:lnTo>
                  <a:lnTo>
                    <a:pt x="690" y="1875"/>
                  </a:lnTo>
                  <a:lnTo>
                    <a:pt x="642" y="1901"/>
                  </a:lnTo>
                  <a:lnTo>
                    <a:pt x="592" y="1886"/>
                  </a:lnTo>
                  <a:lnTo>
                    <a:pt x="543" y="1862"/>
                  </a:lnTo>
                  <a:lnTo>
                    <a:pt x="493" y="1943"/>
                  </a:lnTo>
                  <a:lnTo>
                    <a:pt x="444" y="1941"/>
                  </a:lnTo>
                  <a:lnTo>
                    <a:pt x="395" y="1938"/>
                  </a:lnTo>
                  <a:lnTo>
                    <a:pt x="345" y="2011"/>
                  </a:lnTo>
                  <a:lnTo>
                    <a:pt x="296" y="2043"/>
                  </a:lnTo>
                  <a:lnTo>
                    <a:pt x="247" y="2049"/>
                  </a:lnTo>
                  <a:lnTo>
                    <a:pt x="198" y="2113"/>
                  </a:lnTo>
                  <a:lnTo>
                    <a:pt x="148" y="2134"/>
                  </a:lnTo>
                  <a:lnTo>
                    <a:pt x="98" y="2121"/>
                  </a:lnTo>
                  <a:lnTo>
                    <a:pt x="50" y="2115"/>
                  </a:lnTo>
                  <a:lnTo>
                    <a:pt x="0" y="20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10016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04292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42920" y="50925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042920" y="45705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042920" y="4049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042920" y="35272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042920" y="30052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042920" y="24829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042920" y="1962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042920" y="14400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04292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100160" y="5614920"/>
              <a:ext cx="775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89388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85440" y="4978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85440" y="4456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85440" y="3935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85440" y="3413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80680" y="28908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80680" y="23684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80680" y="18478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80680" y="132552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8068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09080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4828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819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211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603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995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86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778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17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62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52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343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735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127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518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10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3026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69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085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4772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94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16200000">
              <a:off x="-612000" y="3072600"/>
              <a:ext cx="189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ter height (m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285640" y="5181480"/>
              <a:ext cx="133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se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113360" y="3809880"/>
              <a:ext cx="166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ter Yie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OFORESTRY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100160" y="917640"/>
            <a:ext cx="7753320" cy="469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100160" y="917640"/>
            <a:ext cx="7753320" cy="469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100160" y="4287960"/>
            <a:ext cx="7753320" cy="1326960"/>
          </a:xfrm>
          <a:custGeom>
            <a:avLst/>
            <a:gdLst/>
            <a:ahLst/>
            <a:rect l="l" t="t" r="r" b="b"/>
            <a:pathLst>
              <a:path w="4884" h="836">
                <a:moveTo>
                  <a:pt x="0" y="836"/>
                </a:moveTo>
                <a:lnTo>
                  <a:pt x="0" y="348"/>
                </a:lnTo>
                <a:lnTo>
                  <a:pt x="50" y="419"/>
                </a:lnTo>
                <a:lnTo>
                  <a:pt x="98" y="421"/>
                </a:lnTo>
                <a:lnTo>
                  <a:pt x="148" y="433"/>
                </a:lnTo>
                <a:lnTo>
                  <a:pt x="198" y="417"/>
                </a:lnTo>
                <a:lnTo>
                  <a:pt x="247" y="353"/>
                </a:lnTo>
                <a:lnTo>
                  <a:pt x="296" y="348"/>
                </a:lnTo>
                <a:lnTo>
                  <a:pt x="345" y="336"/>
                </a:lnTo>
                <a:lnTo>
                  <a:pt x="395" y="239"/>
                </a:lnTo>
                <a:lnTo>
                  <a:pt x="444" y="243"/>
                </a:lnTo>
                <a:lnTo>
                  <a:pt x="493" y="249"/>
                </a:lnTo>
                <a:lnTo>
                  <a:pt x="543" y="239"/>
                </a:lnTo>
                <a:lnTo>
                  <a:pt x="592" y="238"/>
                </a:lnTo>
                <a:lnTo>
                  <a:pt x="642" y="234"/>
                </a:lnTo>
                <a:lnTo>
                  <a:pt x="690" y="192"/>
                </a:lnTo>
                <a:lnTo>
                  <a:pt x="740" y="200"/>
                </a:lnTo>
                <a:lnTo>
                  <a:pt x="790" y="211"/>
                </a:lnTo>
                <a:lnTo>
                  <a:pt x="839" y="200"/>
                </a:lnTo>
                <a:lnTo>
                  <a:pt x="888" y="220"/>
                </a:lnTo>
                <a:lnTo>
                  <a:pt x="937" y="231"/>
                </a:lnTo>
                <a:lnTo>
                  <a:pt x="987" y="216"/>
                </a:lnTo>
                <a:lnTo>
                  <a:pt x="1036" y="223"/>
                </a:lnTo>
                <a:lnTo>
                  <a:pt x="1085" y="230"/>
                </a:lnTo>
                <a:lnTo>
                  <a:pt x="1135" y="220"/>
                </a:lnTo>
                <a:lnTo>
                  <a:pt x="1184" y="228"/>
                </a:lnTo>
                <a:lnTo>
                  <a:pt x="1234" y="231"/>
                </a:lnTo>
                <a:lnTo>
                  <a:pt x="1282" y="224"/>
                </a:lnTo>
                <a:lnTo>
                  <a:pt x="1332" y="234"/>
                </a:lnTo>
                <a:lnTo>
                  <a:pt x="1381" y="233"/>
                </a:lnTo>
                <a:lnTo>
                  <a:pt x="1431" y="230"/>
                </a:lnTo>
                <a:lnTo>
                  <a:pt x="1480" y="241"/>
                </a:lnTo>
                <a:lnTo>
                  <a:pt x="1529" y="242"/>
                </a:lnTo>
                <a:lnTo>
                  <a:pt x="1579" y="235"/>
                </a:lnTo>
                <a:lnTo>
                  <a:pt x="1628" y="241"/>
                </a:lnTo>
                <a:lnTo>
                  <a:pt x="1677" y="237"/>
                </a:lnTo>
                <a:lnTo>
                  <a:pt x="1727" y="227"/>
                </a:lnTo>
                <a:lnTo>
                  <a:pt x="1776" y="233"/>
                </a:lnTo>
                <a:lnTo>
                  <a:pt x="1826" y="230"/>
                </a:lnTo>
                <a:lnTo>
                  <a:pt x="1874" y="224"/>
                </a:lnTo>
                <a:lnTo>
                  <a:pt x="1924" y="221"/>
                </a:lnTo>
                <a:lnTo>
                  <a:pt x="1973" y="218"/>
                </a:lnTo>
                <a:lnTo>
                  <a:pt x="2023" y="209"/>
                </a:lnTo>
                <a:lnTo>
                  <a:pt x="2072" y="209"/>
                </a:lnTo>
                <a:lnTo>
                  <a:pt x="2121" y="202"/>
                </a:lnTo>
                <a:lnTo>
                  <a:pt x="2171" y="194"/>
                </a:lnTo>
                <a:lnTo>
                  <a:pt x="2220" y="193"/>
                </a:lnTo>
                <a:lnTo>
                  <a:pt x="2269" y="180"/>
                </a:lnTo>
                <a:lnTo>
                  <a:pt x="2319" y="173"/>
                </a:lnTo>
                <a:lnTo>
                  <a:pt x="2368" y="173"/>
                </a:lnTo>
                <a:lnTo>
                  <a:pt x="2418" y="163"/>
                </a:lnTo>
                <a:lnTo>
                  <a:pt x="2466" y="156"/>
                </a:lnTo>
                <a:lnTo>
                  <a:pt x="2516" y="146"/>
                </a:lnTo>
                <a:lnTo>
                  <a:pt x="2565" y="137"/>
                </a:lnTo>
                <a:lnTo>
                  <a:pt x="2615" y="135"/>
                </a:lnTo>
                <a:lnTo>
                  <a:pt x="2664" y="132"/>
                </a:lnTo>
                <a:lnTo>
                  <a:pt x="2713" y="132"/>
                </a:lnTo>
                <a:lnTo>
                  <a:pt x="2763" y="121"/>
                </a:lnTo>
                <a:lnTo>
                  <a:pt x="2812" y="113"/>
                </a:lnTo>
                <a:lnTo>
                  <a:pt x="2861" y="111"/>
                </a:lnTo>
                <a:lnTo>
                  <a:pt x="2911" y="108"/>
                </a:lnTo>
                <a:lnTo>
                  <a:pt x="2960" y="111"/>
                </a:lnTo>
                <a:lnTo>
                  <a:pt x="3010" y="105"/>
                </a:lnTo>
                <a:lnTo>
                  <a:pt x="3058" y="99"/>
                </a:lnTo>
                <a:lnTo>
                  <a:pt x="3108" y="90"/>
                </a:lnTo>
                <a:lnTo>
                  <a:pt x="3157" y="87"/>
                </a:lnTo>
                <a:lnTo>
                  <a:pt x="3207" y="84"/>
                </a:lnTo>
                <a:lnTo>
                  <a:pt x="3256" y="83"/>
                </a:lnTo>
                <a:lnTo>
                  <a:pt x="3305" y="76"/>
                </a:lnTo>
                <a:lnTo>
                  <a:pt x="3355" y="75"/>
                </a:lnTo>
                <a:lnTo>
                  <a:pt x="3404" y="71"/>
                </a:lnTo>
                <a:lnTo>
                  <a:pt x="3453" y="68"/>
                </a:lnTo>
                <a:lnTo>
                  <a:pt x="3503" y="55"/>
                </a:lnTo>
                <a:lnTo>
                  <a:pt x="3552" y="58"/>
                </a:lnTo>
                <a:lnTo>
                  <a:pt x="3602" y="57"/>
                </a:lnTo>
                <a:lnTo>
                  <a:pt x="3650" y="51"/>
                </a:lnTo>
                <a:lnTo>
                  <a:pt x="3700" y="47"/>
                </a:lnTo>
                <a:lnTo>
                  <a:pt x="3749" y="47"/>
                </a:lnTo>
                <a:lnTo>
                  <a:pt x="3799" y="42"/>
                </a:lnTo>
                <a:lnTo>
                  <a:pt x="3848" y="41"/>
                </a:lnTo>
                <a:lnTo>
                  <a:pt x="3897" y="31"/>
                </a:lnTo>
                <a:lnTo>
                  <a:pt x="3947" y="29"/>
                </a:lnTo>
                <a:lnTo>
                  <a:pt x="3996" y="34"/>
                </a:lnTo>
                <a:lnTo>
                  <a:pt x="4045" y="31"/>
                </a:lnTo>
                <a:lnTo>
                  <a:pt x="4095" y="26"/>
                </a:lnTo>
                <a:lnTo>
                  <a:pt x="4144" y="24"/>
                </a:lnTo>
                <a:lnTo>
                  <a:pt x="4194" y="17"/>
                </a:lnTo>
                <a:lnTo>
                  <a:pt x="4242" y="23"/>
                </a:lnTo>
                <a:lnTo>
                  <a:pt x="4292" y="18"/>
                </a:lnTo>
                <a:lnTo>
                  <a:pt x="4341" y="13"/>
                </a:lnTo>
                <a:lnTo>
                  <a:pt x="4391" y="16"/>
                </a:lnTo>
                <a:lnTo>
                  <a:pt x="4440" y="14"/>
                </a:lnTo>
                <a:lnTo>
                  <a:pt x="4489" y="12"/>
                </a:lnTo>
                <a:lnTo>
                  <a:pt x="4539" y="5"/>
                </a:lnTo>
                <a:lnTo>
                  <a:pt x="4588" y="7"/>
                </a:lnTo>
                <a:lnTo>
                  <a:pt x="4637" y="4"/>
                </a:lnTo>
                <a:lnTo>
                  <a:pt x="4687" y="1"/>
                </a:lnTo>
                <a:lnTo>
                  <a:pt x="4736" y="3"/>
                </a:lnTo>
                <a:lnTo>
                  <a:pt x="4786" y="1"/>
                </a:lnTo>
                <a:lnTo>
                  <a:pt x="4834" y="3"/>
                </a:lnTo>
                <a:lnTo>
                  <a:pt x="4884" y="0"/>
                </a:lnTo>
                <a:lnTo>
                  <a:pt x="4884" y="836"/>
                </a:lnTo>
                <a:lnTo>
                  <a:pt x="4834" y="836"/>
                </a:lnTo>
                <a:lnTo>
                  <a:pt x="4786" y="836"/>
                </a:lnTo>
                <a:lnTo>
                  <a:pt x="4736" y="836"/>
                </a:lnTo>
                <a:lnTo>
                  <a:pt x="4687" y="836"/>
                </a:lnTo>
                <a:lnTo>
                  <a:pt x="4637" y="836"/>
                </a:lnTo>
                <a:lnTo>
                  <a:pt x="4588" y="836"/>
                </a:lnTo>
                <a:lnTo>
                  <a:pt x="4539" y="836"/>
                </a:lnTo>
                <a:lnTo>
                  <a:pt x="4489" y="836"/>
                </a:lnTo>
                <a:lnTo>
                  <a:pt x="4440" y="836"/>
                </a:lnTo>
                <a:lnTo>
                  <a:pt x="4391" y="836"/>
                </a:lnTo>
                <a:lnTo>
                  <a:pt x="4341" y="836"/>
                </a:lnTo>
                <a:lnTo>
                  <a:pt x="4292" y="836"/>
                </a:lnTo>
                <a:lnTo>
                  <a:pt x="4242" y="836"/>
                </a:lnTo>
                <a:lnTo>
                  <a:pt x="4194" y="836"/>
                </a:lnTo>
                <a:lnTo>
                  <a:pt x="4144" y="836"/>
                </a:lnTo>
                <a:lnTo>
                  <a:pt x="4095" y="836"/>
                </a:lnTo>
                <a:lnTo>
                  <a:pt x="4045" y="836"/>
                </a:lnTo>
                <a:lnTo>
                  <a:pt x="3996" y="836"/>
                </a:lnTo>
                <a:lnTo>
                  <a:pt x="3947" y="836"/>
                </a:lnTo>
                <a:lnTo>
                  <a:pt x="3897" y="836"/>
                </a:lnTo>
                <a:lnTo>
                  <a:pt x="3848" y="836"/>
                </a:lnTo>
                <a:lnTo>
                  <a:pt x="3799" y="836"/>
                </a:lnTo>
                <a:lnTo>
                  <a:pt x="3749" y="836"/>
                </a:lnTo>
                <a:lnTo>
                  <a:pt x="3700" y="836"/>
                </a:lnTo>
                <a:lnTo>
                  <a:pt x="3650" y="836"/>
                </a:lnTo>
                <a:lnTo>
                  <a:pt x="3602" y="836"/>
                </a:lnTo>
                <a:lnTo>
                  <a:pt x="3552" y="836"/>
                </a:lnTo>
                <a:lnTo>
                  <a:pt x="3503" y="836"/>
                </a:lnTo>
                <a:lnTo>
                  <a:pt x="3453" y="836"/>
                </a:lnTo>
                <a:lnTo>
                  <a:pt x="3404" y="836"/>
                </a:lnTo>
                <a:lnTo>
                  <a:pt x="3355" y="836"/>
                </a:lnTo>
                <a:lnTo>
                  <a:pt x="3305" y="836"/>
                </a:lnTo>
                <a:lnTo>
                  <a:pt x="3256" y="836"/>
                </a:lnTo>
                <a:lnTo>
                  <a:pt x="3207" y="836"/>
                </a:lnTo>
                <a:lnTo>
                  <a:pt x="3157" y="836"/>
                </a:lnTo>
                <a:lnTo>
                  <a:pt x="3108" y="836"/>
                </a:lnTo>
                <a:lnTo>
                  <a:pt x="3058" y="836"/>
                </a:lnTo>
                <a:lnTo>
                  <a:pt x="3010" y="836"/>
                </a:lnTo>
                <a:lnTo>
                  <a:pt x="2960" y="836"/>
                </a:lnTo>
                <a:lnTo>
                  <a:pt x="2911" y="836"/>
                </a:lnTo>
                <a:lnTo>
                  <a:pt x="2861" y="836"/>
                </a:lnTo>
                <a:lnTo>
                  <a:pt x="2812" y="836"/>
                </a:lnTo>
                <a:lnTo>
                  <a:pt x="2763" y="836"/>
                </a:lnTo>
                <a:lnTo>
                  <a:pt x="2713" y="836"/>
                </a:lnTo>
                <a:lnTo>
                  <a:pt x="2664" y="836"/>
                </a:lnTo>
                <a:lnTo>
                  <a:pt x="2615" y="836"/>
                </a:lnTo>
                <a:lnTo>
                  <a:pt x="2565" y="836"/>
                </a:lnTo>
                <a:lnTo>
                  <a:pt x="2516" y="836"/>
                </a:lnTo>
                <a:lnTo>
                  <a:pt x="2466" y="836"/>
                </a:lnTo>
                <a:lnTo>
                  <a:pt x="2418" y="836"/>
                </a:lnTo>
                <a:lnTo>
                  <a:pt x="2368" y="836"/>
                </a:lnTo>
                <a:lnTo>
                  <a:pt x="2319" y="836"/>
                </a:lnTo>
                <a:lnTo>
                  <a:pt x="2269" y="836"/>
                </a:lnTo>
                <a:lnTo>
                  <a:pt x="2220" y="836"/>
                </a:lnTo>
                <a:lnTo>
                  <a:pt x="2171" y="836"/>
                </a:lnTo>
                <a:lnTo>
                  <a:pt x="2121" y="836"/>
                </a:lnTo>
                <a:lnTo>
                  <a:pt x="2072" y="836"/>
                </a:lnTo>
                <a:lnTo>
                  <a:pt x="2023" y="836"/>
                </a:lnTo>
                <a:lnTo>
                  <a:pt x="1973" y="836"/>
                </a:lnTo>
                <a:lnTo>
                  <a:pt x="1924" y="836"/>
                </a:lnTo>
                <a:lnTo>
                  <a:pt x="1874" y="836"/>
                </a:lnTo>
                <a:lnTo>
                  <a:pt x="1826" y="836"/>
                </a:lnTo>
                <a:lnTo>
                  <a:pt x="1776" y="836"/>
                </a:lnTo>
                <a:lnTo>
                  <a:pt x="1727" y="836"/>
                </a:lnTo>
                <a:lnTo>
                  <a:pt x="1677" y="836"/>
                </a:lnTo>
                <a:lnTo>
                  <a:pt x="1628" y="836"/>
                </a:lnTo>
                <a:lnTo>
                  <a:pt x="1579" y="836"/>
                </a:lnTo>
                <a:lnTo>
                  <a:pt x="1529" y="836"/>
                </a:lnTo>
                <a:lnTo>
                  <a:pt x="1480" y="836"/>
                </a:lnTo>
                <a:lnTo>
                  <a:pt x="1431" y="836"/>
                </a:lnTo>
                <a:lnTo>
                  <a:pt x="1381" y="836"/>
                </a:lnTo>
                <a:lnTo>
                  <a:pt x="1332" y="836"/>
                </a:lnTo>
                <a:lnTo>
                  <a:pt x="1282" y="836"/>
                </a:lnTo>
                <a:lnTo>
                  <a:pt x="1234" y="836"/>
                </a:lnTo>
                <a:lnTo>
                  <a:pt x="1184" y="836"/>
                </a:lnTo>
                <a:lnTo>
                  <a:pt x="1135" y="836"/>
                </a:lnTo>
                <a:lnTo>
                  <a:pt x="1085" y="836"/>
                </a:lnTo>
                <a:lnTo>
                  <a:pt x="1036" y="836"/>
                </a:lnTo>
                <a:lnTo>
                  <a:pt x="987" y="836"/>
                </a:lnTo>
                <a:lnTo>
                  <a:pt x="937" y="836"/>
                </a:lnTo>
                <a:lnTo>
                  <a:pt x="888" y="836"/>
                </a:lnTo>
                <a:lnTo>
                  <a:pt x="839" y="836"/>
                </a:lnTo>
                <a:lnTo>
                  <a:pt x="790" y="836"/>
                </a:lnTo>
                <a:lnTo>
                  <a:pt x="740" y="836"/>
                </a:lnTo>
                <a:lnTo>
                  <a:pt x="690" y="836"/>
                </a:lnTo>
                <a:lnTo>
                  <a:pt x="642" y="836"/>
                </a:lnTo>
                <a:lnTo>
                  <a:pt x="592" y="836"/>
                </a:lnTo>
                <a:lnTo>
                  <a:pt x="543" y="836"/>
                </a:lnTo>
                <a:lnTo>
                  <a:pt x="493" y="836"/>
                </a:lnTo>
                <a:lnTo>
                  <a:pt x="444" y="836"/>
                </a:lnTo>
                <a:lnTo>
                  <a:pt x="395" y="836"/>
                </a:lnTo>
                <a:lnTo>
                  <a:pt x="345" y="836"/>
                </a:lnTo>
                <a:lnTo>
                  <a:pt x="296" y="836"/>
                </a:lnTo>
                <a:lnTo>
                  <a:pt x="247" y="836"/>
                </a:lnTo>
                <a:lnTo>
                  <a:pt x="198" y="836"/>
                </a:lnTo>
                <a:lnTo>
                  <a:pt x="148" y="836"/>
                </a:lnTo>
                <a:lnTo>
                  <a:pt x="98" y="836"/>
                </a:lnTo>
                <a:lnTo>
                  <a:pt x="50" y="836"/>
                </a:lnTo>
                <a:lnTo>
                  <a:pt x="0" y="83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1100160" y="2038320"/>
            <a:ext cx="7753320" cy="2936880"/>
          </a:xfrm>
          <a:custGeom>
            <a:avLst/>
            <a:gdLst/>
            <a:ahLst/>
            <a:rect l="l" t="t" r="r" b="b"/>
            <a:pathLst>
              <a:path w="4884" h="1850">
                <a:moveTo>
                  <a:pt x="0" y="1765"/>
                </a:moveTo>
                <a:lnTo>
                  <a:pt x="0" y="571"/>
                </a:lnTo>
                <a:lnTo>
                  <a:pt x="50" y="724"/>
                </a:lnTo>
                <a:lnTo>
                  <a:pt x="98" y="655"/>
                </a:lnTo>
                <a:lnTo>
                  <a:pt x="148" y="692"/>
                </a:lnTo>
                <a:lnTo>
                  <a:pt x="198" y="641"/>
                </a:lnTo>
                <a:lnTo>
                  <a:pt x="247" y="405"/>
                </a:lnTo>
                <a:lnTo>
                  <a:pt x="296" y="401"/>
                </a:lnTo>
                <a:lnTo>
                  <a:pt x="345" y="375"/>
                </a:lnTo>
                <a:lnTo>
                  <a:pt x="395" y="63"/>
                </a:lnTo>
                <a:lnTo>
                  <a:pt x="444" y="70"/>
                </a:lnTo>
                <a:lnTo>
                  <a:pt x="493" y="79"/>
                </a:lnTo>
                <a:lnTo>
                  <a:pt x="543" y="67"/>
                </a:lnTo>
                <a:lnTo>
                  <a:pt x="592" y="81"/>
                </a:lnTo>
                <a:lnTo>
                  <a:pt x="642" y="92"/>
                </a:lnTo>
                <a:lnTo>
                  <a:pt x="690" y="0"/>
                </a:lnTo>
                <a:lnTo>
                  <a:pt x="740" y="30"/>
                </a:lnTo>
                <a:lnTo>
                  <a:pt x="790" y="59"/>
                </a:lnTo>
                <a:lnTo>
                  <a:pt x="839" y="35"/>
                </a:lnTo>
                <a:lnTo>
                  <a:pt x="888" y="116"/>
                </a:lnTo>
                <a:lnTo>
                  <a:pt x="937" y="143"/>
                </a:lnTo>
                <a:lnTo>
                  <a:pt x="987" y="110"/>
                </a:lnTo>
                <a:lnTo>
                  <a:pt x="1036" y="136"/>
                </a:lnTo>
                <a:lnTo>
                  <a:pt x="1085" y="155"/>
                </a:lnTo>
                <a:lnTo>
                  <a:pt x="1135" y="133"/>
                </a:lnTo>
                <a:lnTo>
                  <a:pt x="1184" y="178"/>
                </a:lnTo>
                <a:lnTo>
                  <a:pt x="1234" y="186"/>
                </a:lnTo>
                <a:lnTo>
                  <a:pt x="1282" y="183"/>
                </a:lnTo>
                <a:lnTo>
                  <a:pt x="1332" y="230"/>
                </a:lnTo>
                <a:lnTo>
                  <a:pt x="1381" y="235"/>
                </a:lnTo>
                <a:lnTo>
                  <a:pt x="1431" y="243"/>
                </a:lnTo>
                <a:lnTo>
                  <a:pt x="1480" y="294"/>
                </a:lnTo>
                <a:lnTo>
                  <a:pt x="1529" y="301"/>
                </a:lnTo>
                <a:lnTo>
                  <a:pt x="1579" y="300"/>
                </a:lnTo>
                <a:lnTo>
                  <a:pt x="1628" y="335"/>
                </a:lnTo>
                <a:lnTo>
                  <a:pt x="1677" y="331"/>
                </a:lnTo>
                <a:lnTo>
                  <a:pt x="1727" y="324"/>
                </a:lnTo>
                <a:lnTo>
                  <a:pt x="1776" y="364"/>
                </a:lnTo>
                <a:lnTo>
                  <a:pt x="1826" y="362"/>
                </a:lnTo>
                <a:lnTo>
                  <a:pt x="1874" y="357"/>
                </a:lnTo>
                <a:lnTo>
                  <a:pt x="1924" y="371"/>
                </a:lnTo>
                <a:lnTo>
                  <a:pt x="1973" y="377"/>
                </a:lnTo>
                <a:lnTo>
                  <a:pt x="2023" y="363"/>
                </a:lnTo>
                <a:lnTo>
                  <a:pt x="2072" y="381"/>
                </a:lnTo>
                <a:lnTo>
                  <a:pt x="2121" y="378"/>
                </a:lnTo>
                <a:lnTo>
                  <a:pt x="2171" y="372"/>
                </a:lnTo>
                <a:lnTo>
                  <a:pt x="2220" y="387"/>
                </a:lnTo>
                <a:lnTo>
                  <a:pt x="2269" y="367"/>
                </a:lnTo>
                <a:lnTo>
                  <a:pt x="2319" y="367"/>
                </a:lnTo>
                <a:lnTo>
                  <a:pt x="2368" y="377"/>
                </a:lnTo>
                <a:lnTo>
                  <a:pt x="2418" y="365"/>
                </a:lnTo>
                <a:lnTo>
                  <a:pt x="2466" y="363"/>
                </a:lnTo>
                <a:lnTo>
                  <a:pt x="2516" y="355"/>
                </a:lnTo>
                <a:lnTo>
                  <a:pt x="2565" y="339"/>
                </a:lnTo>
                <a:lnTo>
                  <a:pt x="2615" y="351"/>
                </a:lnTo>
                <a:lnTo>
                  <a:pt x="2664" y="355"/>
                </a:lnTo>
                <a:lnTo>
                  <a:pt x="2713" y="365"/>
                </a:lnTo>
                <a:lnTo>
                  <a:pt x="2763" y="352"/>
                </a:lnTo>
                <a:lnTo>
                  <a:pt x="2812" y="346"/>
                </a:lnTo>
                <a:lnTo>
                  <a:pt x="2861" y="350"/>
                </a:lnTo>
                <a:lnTo>
                  <a:pt x="2911" y="360"/>
                </a:lnTo>
                <a:lnTo>
                  <a:pt x="2960" y="377"/>
                </a:lnTo>
                <a:lnTo>
                  <a:pt x="3010" y="372"/>
                </a:lnTo>
                <a:lnTo>
                  <a:pt x="3058" y="368"/>
                </a:lnTo>
                <a:lnTo>
                  <a:pt x="3108" y="353"/>
                </a:lnTo>
                <a:lnTo>
                  <a:pt x="3157" y="354"/>
                </a:lnTo>
                <a:lnTo>
                  <a:pt x="3207" y="352"/>
                </a:lnTo>
                <a:lnTo>
                  <a:pt x="3256" y="360"/>
                </a:lnTo>
                <a:lnTo>
                  <a:pt x="3305" y="350"/>
                </a:lnTo>
                <a:lnTo>
                  <a:pt x="3355" y="355"/>
                </a:lnTo>
                <a:lnTo>
                  <a:pt x="3404" y="360"/>
                </a:lnTo>
                <a:lnTo>
                  <a:pt x="3453" y="358"/>
                </a:lnTo>
                <a:lnTo>
                  <a:pt x="3503" y="338"/>
                </a:lnTo>
                <a:lnTo>
                  <a:pt x="3552" y="352"/>
                </a:lnTo>
                <a:lnTo>
                  <a:pt x="3602" y="357"/>
                </a:lnTo>
                <a:lnTo>
                  <a:pt x="3650" y="348"/>
                </a:lnTo>
                <a:lnTo>
                  <a:pt x="3700" y="347"/>
                </a:lnTo>
                <a:lnTo>
                  <a:pt x="3749" y="352"/>
                </a:lnTo>
                <a:lnTo>
                  <a:pt x="3799" y="344"/>
                </a:lnTo>
                <a:lnTo>
                  <a:pt x="3848" y="345"/>
                </a:lnTo>
                <a:lnTo>
                  <a:pt x="3897" y="327"/>
                </a:lnTo>
                <a:lnTo>
                  <a:pt x="3947" y="327"/>
                </a:lnTo>
                <a:lnTo>
                  <a:pt x="3996" y="345"/>
                </a:lnTo>
                <a:lnTo>
                  <a:pt x="4045" y="342"/>
                </a:lnTo>
                <a:lnTo>
                  <a:pt x="4095" y="330"/>
                </a:lnTo>
                <a:lnTo>
                  <a:pt x="4144" y="334"/>
                </a:lnTo>
                <a:lnTo>
                  <a:pt x="4194" y="319"/>
                </a:lnTo>
                <a:lnTo>
                  <a:pt x="4242" y="338"/>
                </a:lnTo>
                <a:lnTo>
                  <a:pt x="4292" y="329"/>
                </a:lnTo>
                <a:lnTo>
                  <a:pt x="4341" y="319"/>
                </a:lnTo>
                <a:lnTo>
                  <a:pt x="4391" y="328"/>
                </a:lnTo>
                <a:lnTo>
                  <a:pt x="4440" y="327"/>
                </a:lnTo>
                <a:lnTo>
                  <a:pt x="4489" y="326"/>
                </a:lnTo>
                <a:lnTo>
                  <a:pt x="4539" y="309"/>
                </a:lnTo>
                <a:lnTo>
                  <a:pt x="4588" y="316"/>
                </a:lnTo>
                <a:lnTo>
                  <a:pt x="4637" y="311"/>
                </a:lnTo>
                <a:lnTo>
                  <a:pt x="4687" y="308"/>
                </a:lnTo>
                <a:lnTo>
                  <a:pt x="4736" y="313"/>
                </a:lnTo>
                <a:lnTo>
                  <a:pt x="4786" y="309"/>
                </a:lnTo>
                <a:lnTo>
                  <a:pt x="4834" y="318"/>
                </a:lnTo>
                <a:lnTo>
                  <a:pt x="4884" y="309"/>
                </a:lnTo>
                <a:lnTo>
                  <a:pt x="4884" y="1417"/>
                </a:lnTo>
                <a:lnTo>
                  <a:pt x="4834" y="1420"/>
                </a:lnTo>
                <a:lnTo>
                  <a:pt x="4786" y="1418"/>
                </a:lnTo>
                <a:lnTo>
                  <a:pt x="4736" y="1420"/>
                </a:lnTo>
                <a:lnTo>
                  <a:pt x="4687" y="1418"/>
                </a:lnTo>
                <a:lnTo>
                  <a:pt x="4637" y="1421"/>
                </a:lnTo>
                <a:lnTo>
                  <a:pt x="4588" y="1424"/>
                </a:lnTo>
                <a:lnTo>
                  <a:pt x="4539" y="1422"/>
                </a:lnTo>
                <a:lnTo>
                  <a:pt x="4489" y="1429"/>
                </a:lnTo>
                <a:lnTo>
                  <a:pt x="4440" y="1431"/>
                </a:lnTo>
                <a:lnTo>
                  <a:pt x="4391" y="1433"/>
                </a:lnTo>
                <a:lnTo>
                  <a:pt x="4341" y="1430"/>
                </a:lnTo>
                <a:lnTo>
                  <a:pt x="4292" y="1435"/>
                </a:lnTo>
                <a:lnTo>
                  <a:pt x="4242" y="1440"/>
                </a:lnTo>
                <a:lnTo>
                  <a:pt x="4194" y="1434"/>
                </a:lnTo>
                <a:lnTo>
                  <a:pt x="4144" y="1441"/>
                </a:lnTo>
                <a:lnTo>
                  <a:pt x="4095" y="1443"/>
                </a:lnTo>
                <a:lnTo>
                  <a:pt x="4045" y="1448"/>
                </a:lnTo>
                <a:lnTo>
                  <a:pt x="3996" y="1451"/>
                </a:lnTo>
                <a:lnTo>
                  <a:pt x="3947" y="1446"/>
                </a:lnTo>
                <a:lnTo>
                  <a:pt x="3897" y="1448"/>
                </a:lnTo>
                <a:lnTo>
                  <a:pt x="3848" y="1458"/>
                </a:lnTo>
                <a:lnTo>
                  <a:pt x="3799" y="1459"/>
                </a:lnTo>
                <a:lnTo>
                  <a:pt x="3749" y="1464"/>
                </a:lnTo>
                <a:lnTo>
                  <a:pt x="3700" y="1464"/>
                </a:lnTo>
                <a:lnTo>
                  <a:pt x="3650" y="1468"/>
                </a:lnTo>
                <a:lnTo>
                  <a:pt x="3602" y="1474"/>
                </a:lnTo>
                <a:lnTo>
                  <a:pt x="3552" y="1475"/>
                </a:lnTo>
                <a:lnTo>
                  <a:pt x="3503" y="1472"/>
                </a:lnTo>
                <a:lnTo>
                  <a:pt x="3453" y="1485"/>
                </a:lnTo>
                <a:lnTo>
                  <a:pt x="3404" y="1488"/>
                </a:lnTo>
                <a:lnTo>
                  <a:pt x="3355" y="1492"/>
                </a:lnTo>
                <a:lnTo>
                  <a:pt x="3305" y="1493"/>
                </a:lnTo>
                <a:lnTo>
                  <a:pt x="3256" y="1500"/>
                </a:lnTo>
                <a:lnTo>
                  <a:pt x="3207" y="1501"/>
                </a:lnTo>
                <a:lnTo>
                  <a:pt x="3157" y="1504"/>
                </a:lnTo>
                <a:lnTo>
                  <a:pt x="3108" y="1507"/>
                </a:lnTo>
                <a:lnTo>
                  <a:pt x="3058" y="1516"/>
                </a:lnTo>
                <a:lnTo>
                  <a:pt x="3010" y="1522"/>
                </a:lnTo>
                <a:lnTo>
                  <a:pt x="2960" y="1528"/>
                </a:lnTo>
                <a:lnTo>
                  <a:pt x="2911" y="1525"/>
                </a:lnTo>
                <a:lnTo>
                  <a:pt x="2861" y="1528"/>
                </a:lnTo>
                <a:lnTo>
                  <a:pt x="2812" y="1530"/>
                </a:lnTo>
                <a:lnTo>
                  <a:pt x="2763" y="1538"/>
                </a:lnTo>
                <a:lnTo>
                  <a:pt x="2713" y="1549"/>
                </a:lnTo>
                <a:lnTo>
                  <a:pt x="2664" y="1549"/>
                </a:lnTo>
                <a:lnTo>
                  <a:pt x="2615" y="1552"/>
                </a:lnTo>
                <a:lnTo>
                  <a:pt x="2565" y="1554"/>
                </a:lnTo>
                <a:lnTo>
                  <a:pt x="2516" y="1563"/>
                </a:lnTo>
                <a:lnTo>
                  <a:pt x="2466" y="1573"/>
                </a:lnTo>
                <a:lnTo>
                  <a:pt x="2418" y="1580"/>
                </a:lnTo>
                <a:lnTo>
                  <a:pt x="2368" y="1590"/>
                </a:lnTo>
                <a:lnTo>
                  <a:pt x="2319" y="1590"/>
                </a:lnTo>
                <a:lnTo>
                  <a:pt x="2269" y="1597"/>
                </a:lnTo>
                <a:lnTo>
                  <a:pt x="2220" y="1610"/>
                </a:lnTo>
                <a:lnTo>
                  <a:pt x="2171" y="1611"/>
                </a:lnTo>
                <a:lnTo>
                  <a:pt x="2121" y="1619"/>
                </a:lnTo>
                <a:lnTo>
                  <a:pt x="2072" y="1626"/>
                </a:lnTo>
                <a:lnTo>
                  <a:pt x="2023" y="1626"/>
                </a:lnTo>
                <a:lnTo>
                  <a:pt x="1973" y="1635"/>
                </a:lnTo>
                <a:lnTo>
                  <a:pt x="1924" y="1638"/>
                </a:lnTo>
                <a:lnTo>
                  <a:pt x="1874" y="1641"/>
                </a:lnTo>
                <a:lnTo>
                  <a:pt x="1826" y="1647"/>
                </a:lnTo>
                <a:lnTo>
                  <a:pt x="1776" y="1650"/>
                </a:lnTo>
                <a:lnTo>
                  <a:pt x="1727" y="1644"/>
                </a:lnTo>
                <a:lnTo>
                  <a:pt x="1677" y="1654"/>
                </a:lnTo>
                <a:lnTo>
                  <a:pt x="1628" y="1658"/>
                </a:lnTo>
                <a:lnTo>
                  <a:pt x="1579" y="1652"/>
                </a:lnTo>
                <a:lnTo>
                  <a:pt x="1529" y="1659"/>
                </a:lnTo>
                <a:lnTo>
                  <a:pt x="1480" y="1658"/>
                </a:lnTo>
                <a:lnTo>
                  <a:pt x="1431" y="1647"/>
                </a:lnTo>
                <a:lnTo>
                  <a:pt x="1381" y="1650"/>
                </a:lnTo>
                <a:lnTo>
                  <a:pt x="1332" y="1651"/>
                </a:lnTo>
                <a:lnTo>
                  <a:pt x="1282" y="1641"/>
                </a:lnTo>
                <a:lnTo>
                  <a:pt x="1234" y="1648"/>
                </a:lnTo>
                <a:lnTo>
                  <a:pt x="1184" y="1645"/>
                </a:lnTo>
                <a:lnTo>
                  <a:pt x="1135" y="1637"/>
                </a:lnTo>
                <a:lnTo>
                  <a:pt x="1085" y="1647"/>
                </a:lnTo>
                <a:lnTo>
                  <a:pt x="1036" y="1640"/>
                </a:lnTo>
                <a:lnTo>
                  <a:pt x="987" y="1633"/>
                </a:lnTo>
                <a:lnTo>
                  <a:pt x="937" y="1648"/>
                </a:lnTo>
                <a:lnTo>
                  <a:pt x="888" y="1637"/>
                </a:lnTo>
                <a:lnTo>
                  <a:pt x="839" y="1617"/>
                </a:lnTo>
                <a:lnTo>
                  <a:pt x="790" y="1628"/>
                </a:lnTo>
                <a:lnTo>
                  <a:pt x="740" y="1617"/>
                </a:lnTo>
                <a:lnTo>
                  <a:pt x="690" y="1609"/>
                </a:lnTo>
                <a:lnTo>
                  <a:pt x="642" y="1651"/>
                </a:lnTo>
                <a:lnTo>
                  <a:pt x="592" y="1655"/>
                </a:lnTo>
                <a:lnTo>
                  <a:pt x="543" y="1656"/>
                </a:lnTo>
                <a:lnTo>
                  <a:pt x="493" y="1666"/>
                </a:lnTo>
                <a:lnTo>
                  <a:pt x="444" y="1660"/>
                </a:lnTo>
                <a:lnTo>
                  <a:pt x="395" y="1656"/>
                </a:lnTo>
                <a:lnTo>
                  <a:pt x="345" y="1753"/>
                </a:lnTo>
                <a:lnTo>
                  <a:pt x="296" y="1765"/>
                </a:lnTo>
                <a:lnTo>
                  <a:pt x="247" y="1770"/>
                </a:lnTo>
                <a:lnTo>
                  <a:pt x="198" y="1834"/>
                </a:lnTo>
                <a:lnTo>
                  <a:pt x="148" y="1850"/>
                </a:lnTo>
                <a:lnTo>
                  <a:pt x="98" y="1838"/>
                </a:lnTo>
                <a:lnTo>
                  <a:pt x="50" y="1836"/>
                </a:lnTo>
                <a:lnTo>
                  <a:pt x="0" y="176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100160" y="4287960"/>
            <a:ext cx="7753320" cy="1326960"/>
          </a:xfrm>
          <a:custGeom>
            <a:avLst/>
            <a:gdLst/>
            <a:ahLst/>
            <a:rect l="l" t="t" r="r" b="b"/>
            <a:pathLst>
              <a:path w="4884" h="836">
                <a:moveTo>
                  <a:pt x="0" y="836"/>
                </a:moveTo>
                <a:lnTo>
                  <a:pt x="0" y="348"/>
                </a:lnTo>
                <a:lnTo>
                  <a:pt x="50" y="419"/>
                </a:lnTo>
                <a:lnTo>
                  <a:pt x="98" y="421"/>
                </a:lnTo>
                <a:lnTo>
                  <a:pt x="148" y="433"/>
                </a:lnTo>
                <a:lnTo>
                  <a:pt x="198" y="417"/>
                </a:lnTo>
                <a:lnTo>
                  <a:pt x="247" y="353"/>
                </a:lnTo>
                <a:lnTo>
                  <a:pt x="296" y="348"/>
                </a:lnTo>
                <a:lnTo>
                  <a:pt x="345" y="336"/>
                </a:lnTo>
                <a:lnTo>
                  <a:pt x="395" y="239"/>
                </a:lnTo>
                <a:lnTo>
                  <a:pt x="444" y="243"/>
                </a:lnTo>
                <a:lnTo>
                  <a:pt x="493" y="249"/>
                </a:lnTo>
                <a:lnTo>
                  <a:pt x="543" y="239"/>
                </a:lnTo>
                <a:lnTo>
                  <a:pt x="592" y="238"/>
                </a:lnTo>
                <a:lnTo>
                  <a:pt x="642" y="234"/>
                </a:lnTo>
                <a:lnTo>
                  <a:pt x="690" y="192"/>
                </a:lnTo>
                <a:lnTo>
                  <a:pt x="740" y="200"/>
                </a:lnTo>
                <a:lnTo>
                  <a:pt x="790" y="211"/>
                </a:lnTo>
                <a:lnTo>
                  <a:pt x="839" y="200"/>
                </a:lnTo>
                <a:lnTo>
                  <a:pt x="888" y="220"/>
                </a:lnTo>
                <a:lnTo>
                  <a:pt x="937" y="231"/>
                </a:lnTo>
                <a:lnTo>
                  <a:pt x="987" y="216"/>
                </a:lnTo>
                <a:lnTo>
                  <a:pt x="1036" y="223"/>
                </a:lnTo>
                <a:lnTo>
                  <a:pt x="1085" y="230"/>
                </a:lnTo>
                <a:lnTo>
                  <a:pt x="1135" y="220"/>
                </a:lnTo>
                <a:lnTo>
                  <a:pt x="1184" y="228"/>
                </a:lnTo>
                <a:lnTo>
                  <a:pt x="1234" y="231"/>
                </a:lnTo>
                <a:lnTo>
                  <a:pt x="1282" y="224"/>
                </a:lnTo>
                <a:lnTo>
                  <a:pt x="1332" y="234"/>
                </a:lnTo>
                <a:lnTo>
                  <a:pt x="1381" y="233"/>
                </a:lnTo>
                <a:lnTo>
                  <a:pt x="1431" y="230"/>
                </a:lnTo>
                <a:lnTo>
                  <a:pt x="1480" y="241"/>
                </a:lnTo>
                <a:lnTo>
                  <a:pt x="1529" y="242"/>
                </a:lnTo>
                <a:lnTo>
                  <a:pt x="1579" y="235"/>
                </a:lnTo>
                <a:lnTo>
                  <a:pt x="1628" y="241"/>
                </a:lnTo>
                <a:lnTo>
                  <a:pt x="1677" y="237"/>
                </a:lnTo>
                <a:lnTo>
                  <a:pt x="1727" y="227"/>
                </a:lnTo>
                <a:lnTo>
                  <a:pt x="1776" y="233"/>
                </a:lnTo>
                <a:lnTo>
                  <a:pt x="1826" y="230"/>
                </a:lnTo>
                <a:lnTo>
                  <a:pt x="1874" y="224"/>
                </a:lnTo>
                <a:lnTo>
                  <a:pt x="1924" y="221"/>
                </a:lnTo>
                <a:lnTo>
                  <a:pt x="1973" y="218"/>
                </a:lnTo>
                <a:lnTo>
                  <a:pt x="2023" y="209"/>
                </a:lnTo>
                <a:lnTo>
                  <a:pt x="2072" y="209"/>
                </a:lnTo>
                <a:lnTo>
                  <a:pt x="2121" y="202"/>
                </a:lnTo>
                <a:lnTo>
                  <a:pt x="2171" y="194"/>
                </a:lnTo>
                <a:lnTo>
                  <a:pt x="2220" y="193"/>
                </a:lnTo>
                <a:lnTo>
                  <a:pt x="2269" y="180"/>
                </a:lnTo>
                <a:lnTo>
                  <a:pt x="2319" y="173"/>
                </a:lnTo>
                <a:lnTo>
                  <a:pt x="2368" y="173"/>
                </a:lnTo>
                <a:lnTo>
                  <a:pt x="2418" y="163"/>
                </a:lnTo>
                <a:lnTo>
                  <a:pt x="2466" y="156"/>
                </a:lnTo>
                <a:lnTo>
                  <a:pt x="2516" y="146"/>
                </a:lnTo>
                <a:lnTo>
                  <a:pt x="2565" y="137"/>
                </a:lnTo>
                <a:lnTo>
                  <a:pt x="2615" y="135"/>
                </a:lnTo>
                <a:lnTo>
                  <a:pt x="2664" y="132"/>
                </a:lnTo>
                <a:lnTo>
                  <a:pt x="2713" y="132"/>
                </a:lnTo>
                <a:lnTo>
                  <a:pt x="2763" y="121"/>
                </a:lnTo>
                <a:lnTo>
                  <a:pt x="2812" y="113"/>
                </a:lnTo>
                <a:lnTo>
                  <a:pt x="2861" y="111"/>
                </a:lnTo>
                <a:lnTo>
                  <a:pt x="2911" y="108"/>
                </a:lnTo>
                <a:lnTo>
                  <a:pt x="2960" y="111"/>
                </a:lnTo>
                <a:lnTo>
                  <a:pt x="3010" y="105"/>
                </a:lnTo>
                <a:lnTo>
                  <a:pt x="3058" y="99"/>
                </a:lnTo>
                <a:lnTo>
                  <a:pt x="3108" y="90"/>
                </a:lnTo>
                <a:lnTo>
                  <a:pt x="3157" y="87"/>
                </a:lnTo>
                <a:lnTo>
                  <a:pt x="3207" y="84"/>
                </a:lnTo>
                <a:lnTo>
                  <a:pt x="3256" y="83"/>
                </a:lnTo>
                <a:lnTo>
                  <a:pt x="3305" y="76"/>
                </a:lnTo>
                <a:lnTo>
                  <a:pt x="3355" y="75"/>
                </a:lnTo>
                <a:lnTo>
                  <a:pt x="3404" y="71"/>
                </a:lnTo>
                <a:lnTo>
                  <a:pt x="3453" y="68"/>
                </a:lnTo>
                <a:lnTo>
                  <a:pt x="3503" y="55"/>
                </a:lnTo>
                <a:lnTo>
                  <a:pt x="3552" y="58"/>
                </a:lnTo>
                <a:lnTo>
                  <a:pt x="3602" y="57"/>
                </a:lnTo>
                <a:lnTo>
                  <a:pt x="3650" y="51"/>
                </a:lnTo>
                <a:lnTo>
                  <a:pt x="3700" y="47"/>
                </a:lnTo>
                <a:lnTo>
                  <a:pt x="3749" y="47"/>
                </a:lnTo>
                <a:lnTo>
                  <a:pt x="3799" y="42"/>
                </a:lnTo>
                <a:lnTo>
                  <a:pt x="3848" y="41"/>
                </a:lnTo>
                <a:lnTo>
                  <a:pt x="3897" y="31"/>
                </a:lnTo>
                <a:lnTo>
                  <a:pt x="3947" y="29"/>
                </a:lnTo>
                <a:lnTo>
                  <a:pt x="3996" y="34"/>
                </a:lnTo>
                <a:lnTo>
                  <a:pt x="4045" y="31"/>
                </a:lnTo>
                <a:lnTo>
                  <a:pt x="4095" y="26"/>
                </a:lnTo>
                <a:lnTo>
                  <a:pt x="4144" y="24"/>
                </a:lnTo>
                <a:lnTo>
                  <a:pt x="4194" y="17"/>
                </a:lnTo>
                <a:lnTo>
                  <a:pt x="4242" y="23"/>
                </a:lnTo>
                <a:lnTo>
                  <a:pt x="4292" y="18"/>
                </a:lnTo>
                <a:lnTo>
                  <a:pt x="4341" y="13"/>
                </a:lnTo>
                <a:lnTo>
                  <a:pt x="4391" y="16"/>
                </a:lnTo>
                <a:lnTo>
                  <a:pt x="4440" y="14"/>
                </a:lnTo>
                <a:lnTo>
                  <a:pt x="4489" y="12"/>
                </a:lnTo>
                <a:lnTo>
                  <a:pt x="4539" y="5"/>
                </a:lnTo>
                <a:lnTo>
                  <a:pt x="4588" y="7"/>
                </a:lnTo>
                <a:lnTo>
                  <a:pt x="4637" y="4"/>
                </a:lnTo>
                <a:lnTo>
                  <a:pt x="4687" y="1"/>
                </a:lnTo>
                <a:lnTo>
                  <a:pt x="4736" y="3"/>
                </a:lnTo>
                <a:lnTo>
                  <a:pt x="4786" y="1"/>
                </a:lnTo>
                <a:lnTo>
                  <a:pt x="4834" y="3"/>
                </a:lnTo>
                <a:lnTo>
                  <a:pt x="4884" y="0"/>
                </a:lnTo>
                <a:lnTo>
                  <a:pt x="4884" y="836"/>
                </a:lnTo>
                <a:lnTo>
                  <a:pt x="4834" y="836"/>
                </a:lnTo>
                <a:lnTo>
                  <a:pt x="4786" y="836"/>
                </a:lnTo>
                <a:lnTo>
                  <a:pt x="4736" y="836"/>
                </a:lnTo>
                <a:lnTo>
                  <a:pt x="4687" y="836"/>
                </a:lnTo>
                <a:lnTo>
                  <a:pt x="4637" y="836"/>
                </a:lnTo>
                <a:lnTo>
                  <a:pt x="4588" y="836"/>
                </a:lnTo>
                <a:lnTo>
                  <a:pt x="4539" y="836"/>
                </a:lnTo>
                <a:lnTo>
                  <a:pt x="4489" y="836"/>
                </a:lnTo>
                <a:lnTo>
                  <a:pt x="4440" y="836"/>
                </a:lnTo>
                <a:lnTo>
                  <a:pt x="4391" y="836"/>
                </a:lnTo>
                <a:lnTo>
                  <a:pt x="4341" y="836"/>
                </a:lnTo>
                <a:lnTo>
                  <a:pt x="4292" y="836"/>
                </a:lnTo>
                <a:lnTo>
                  <a:pt x="4242" y="836"/>
                </a:lnTo>
                <a:lnTo>
                  <a:pt x="4194" y="836"/>
                </a:lnTo>
                <a:lnTo>
                  <a:pt x="4144" y="836"/>
                </a:lnTo>
                <a:lnTo>
                  <a:pt x="4095" y="836"/>
                </a:lnTo>
                <a:lnTo>
                  <a:pt x="4045" y="836"/>
                </a:lnTo>
                <a:lnTo>
                  <a:pt x="3996" y="836"/>
                </a:lnTo>
                <a:lnTo>
                  <a:pt x="3947" y="836"/>
                </a:lnTo>
                <a:lnTo>
                  <a:pt x="3897" y="836"/>
                </a:lnTo>
                <a:lnTo>
                  <a:pt x="3848" y="836"/>
                </a:lnTo>
                <a:lnTo>
                  <a:pt x="3799" y="836"/>
                </a:lnTo>
                <a:lnTo>
                  <a:pt x="3749" y="836"/>
                </a:lnTo>
                <a:lnTo>
                  <a:pt x="3700" y="836"/>
                </a:lnTo>
                <a:lnTo>
                  <a:pt x="3650" y="836"/>
                </a:lnTo>
                <a:lnTo>
                  <a:pt x="3602" y="836"/>
                </a:lnTo>
                <a:lnTo>
                  <a:pt x="3552" y="836"/>
                </a:lnTo>
                <a:lnTo>
                  <a:pt x="3503" y="836"/>
                </a:lnTo>
                <a:lnTo>
                  <a:pt x="3453" y="836"/>
                </a:lnTo>
                <a:lnTo>
                  <a:pt x="3404" y="836"/>
                </a:lnTo>
                <a:lnTo>
                  <a:pt x="3355" y="836"/>
                </a:lnTo>
                <a:lnTo>
                  <a:pt x="3305" y="836"/>
                </a:lnTo>
                <a:lnTo>
                  <a:pt x="3256" y="836"/>
                </a:lnTo>
                <a:lnTo>
                  <a:pt x="3207" y="836"/>
                </a:lnTo>
                <a:lnTo>
                  <a:pt x="3157" y="836"/>
                </a:lnTo>
                <a:lnTo>
                  <a:pt x="3108" y="836"/>
                </a:lnTo>
                <a:lnTo>
                  <a:pt x="3058" y="836"/>
                </a:lnTo>
                <a:lnTo>
                  <a:pt x="3010" y="836"/>
                </a:lnTo>
                <a:lnTo>
                  <a:pt x="2960" y="836"/>
                </a:lnTo>
                <a:lnTo>
                  <a:pt x="2911" y="836"/>
                </a:lnTo>
                <a:lnTo>
                  <a:pt x="2861" y="836"/>
                </a:lnTo>
                <a:lnTo>
                  <a:pt x="2812" y="836"/>
                </a:lnTo>
                <a:lnTo>
                  <a:pt x="2763" y="836"/>
                </a:lnTo>
                <a:lnTo>
                  <a:pt x="2713" y="836"/>
                </a:lnTo>
                <a:lnTo>
                  <a:pt x="2664" y="836"/>
                </a:lnTo>
                <a:lnTo>
                  <a:pt x="2615" y="836"/>
                </a:lnTo>
                <a:lnTo>
                  <a:pt x="2565" y="836"/>
                </a:lnTo>
                <a:lnTo>
                  <a:pt x="2516" y="836"/>
                </a:lnTo>
                <a:lnTo>
                  <a:pt x="2466" y="836"/>
                </a:lnTo>
                <a:lnTo>
                  <a:pt x="2418" y="836"/>
                </a:lnTo>
                <a:lnTo>
                  <a:pt x="2368" y="836"/>
                </a:lnTo>
                <a:lnTo>
                  <a:pt x="2319" y="836"/>
                </a:lnTo>
                <a:lnTo>
                  <a:pt x="2269" y="836"/>
                </a:lnTo>
                <a:lnTo>
                  <a:pt x="2220" y="836"/>
                </a:lnTo>
                <a:lnTo>
                  <a:pt x="2171" y="836"/>
                </a:lnTo>
                <a:lnTo>
                  <a:pt x="2121" y="836"/>
                </a:lnTo>
                <a:lnTo>
                  <a:pt x="2072" y="836"/>
                </a:lnTo>
                <a:lnTo>
                  <a:pt x="2023" y="836"/>
                </a:lnTo>
                <a:lnTo>
                  <a:pt x="1973" y="836"/>
                </a:lnTo>
                <a:lnTo>
                  <a:pt x="1924" y="836"/>
                </a:lnTo>
                <a:lnTo>
                  <a:pt x="1874" y="836"/>
                </a:lnTo>
                <a:lnTo>
                  <a:pt x="1826" y="836"/>
                </a:lnTo>
                <a:lnTo>
                  <a:pt x="1776" y="836"/>
                </a:lnTo>
                <a:lnTo>
                  <a:pt x="1727" y="836"/>
                </a:lnTo>
                <a:lnTo>
                  <a:pt x="1677" y="836"/>
                </a:lnTo>
                <a:lnTo>
                  <a:pt x="1628" y="836"/>
                </a:lnTo>
                <a:lnTo>
                  <a:pt x="1579" y="836"/>
                </a:lnTo>
                <a:lnTo>
                  <a:pt x="1529" y="836"/>
                </a:lnTo>
                <a:lnTo>
                  <a:pt x="1480" y="836"/>
                </a:lnTo>
                <a:lnTo>
                  <a:pt x="1431" y="836"/>
                </a:lnTo>
                <a:lnTo>
                  <a:pt x="1381" y="836"/>
                </a:lnTo>
                <a:lnTo>
                  <a:pt x="1332" y="836"/>
                </a:lnTo>
                <a:lnTo>
                  <a:pt x="1282" y="836"/>
                </a:lnTo>
                <a:lnTo>
                  <a:pt x="1234" y="836"/>
                </a:lnTo>
                <a:lnTo>
                  <a:pt x="1184" y="836"/>
                </a:lnTo>
                <a:lnTo>
                  <a:pt x="1135" y="836"/>
                </a:lnTo>
                <a:lnTo>
                  <a:pt x="1085" y="836"/>
                </a:lnTo>
                <a:lnTo>
                  <a:pt x="1036" y="836"/>
                </a:lnTo>
                <a:lnTo>
                  <a:pt x="987" y="836"/>
                </a:lnTo>
                <a:lnTo>
                  <a:pt x="937" y="836"/>
                </a:lnTo>
                <a:lnTo>
                  <a:pt x="888" y="836"/>
                </a:lnTo>
                <a:lnTo>
                  <a:pt x="839" y="836"/>
                </a:lnTo>
                <a:lnTo>
                  <a:pt x="790" y="836"/>
                </a:lnTo>
                <a:lnTo>
                  <a:pt x="740" y="836"/>
                </a:lnTo>
                <a:lnTo>
                  <a:pt x="690" y="836"/>
                </a:lnTo>
                <a:lnTo>
                  <a:pt x="642" y="836"/>
                </a:lnTo>
                <a:lnTo>
                  <a:pt x="592" y="836"/>
                </a:lnTo>
                <a:lnTo>
                  <a:pt x="543" y="836"/>
                </a:lnTo>
                <a:lnTo>
                  <a:pt x="493" y="836"/>
                </a:lnTo>
                <a:lnTo>
                  <a:pt x="444" y="836"/>
                </a:lnTo>
                <a:lnTo>
                  <a:pt x="395" y="836"/>
                </a:lnTo>
                <a:lnTo>
                  <a:pt x="345" y="836"/>
                </a:lnTo>
                <a:lnTo>
                  <a:pt x="296" y="836"/>
                </a:lnTo>
                <a:lnTo>
                  <a:pt x="247" y="836"/>
                </a:lnTo>
                <a:lnTo>
                  <a:pt x="198" y="836"/>
                </a:lnTo>
                <a:lnTo>
                  <a:pt x="148" y="836"/>
                </a:lnTo>
                <a:lnTo>
                  <a:pt x="98" y="836"/>
                </a:lnTo>
                <a:lnTo>
                  <a:pt x="50" y="836"/>
                </a:lnTo>
                <a:lnTo>
                  <a:pt x="0" y="8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100160" y="2038320"/>
            <a:ext cx="7753320" cy="2936880"/>
          </a:xfrm>
          <a:custGeom>
            <a:avLst/>
            <a:gdLst/>
            <a:ahLst/>
            <a:rect l="l" t="t" r="r" b="b"/>
            <a:pathLst>
              <a:path w="4884" h="1850">
                <a:moveTo>
                  <a:pt x="0" y="1765"/>
                </a:moveTo>
                <a:lnTo>
                  <a:pt x="0" y="571"/>
                </a:lnTo>
                <a:lnTo>
                  <a:pt x="50" y="724"/>
                </a:lnTo>
                <a:lnTo>
                  <a:pt x="98" y="655"/>
                </a:lnTo>
                <a:lnTo>
                  <a:pt x="148" y="692"/>
                </a:lnTo>
                <a:lnTo>
                  <a:pt x="198" y="641"/>
                </a:lnTo>
                <a:lnTo>
                  <a:pt x="247" y="405"/>
                </a:lnTo>
                <a:lnTo>
                  <a:pt x="296" y="401"/>
                </a:lnTo>
                <a:lnTo>
                  <a:pt x="345" y="375"/>
                </a:lnTo>
                <a:lnTo>
                  <a:pt x="395" y="63"/>
                </a:lnTo>
                <a:lnTo>
                  <a:pt x="444" y="70"/>
                </a:lnTo>
                <a:lnTo>
                  <a:pt x="493" y="79"/>
                </a:lnTo>
                <a:lnTo>
                  <a:pt x="543" y="67"/>
                </a:lnTo>
                <a:lnTo>
                  <a:pt x="592" y="81"/>
                </a:lnTo>
                <a:lnTo>
                  <a:pt x="642" y="92"/>
                </a:lnTo>
                <a:lnTo>
                  <a:pt x="690" y="0"/>
                </a:lnTo>
                <a:lnTo>
                  <a:pt x="740" y="30"/>
                </a:lnTo>
                <a:lnTo>
                  <a:pt x="790" y="59"/>
                </a:lnTo>
                <a:lnTo>
                  <a:pt x="839" y="35"/>
                </a:lnTo>
                <a:lnTo>
                  <a:pt x="888" y="116"/>
                </a:lnTo>
                <a:lnTo>
                  <a:pt x="937" y="143"/>
                </a:lnTo>
                <a:lnTo>
                  <a:pt x="987" y="110"/>
                </a:lnTo>
                <a:lnTo>
                  <a:pt x="1036" y="136"/>
                </a:lnTo>
                <a:lnTo>
                  <a:pt x="1085" y="155"/>
                </a:lnTo>
                <a:lnTo>
                  <a:pt x="1135" y="133"/>
                </a:lnTo>
                <a:lnTo>
                  <a:pt x="1184" y="178"/>
                </a:lnTo>
                <a:lnTo>
                  <a:pt x="1234" y="186"/>
                </a:lnTo>
                <a:lnTo>
                  <a:pt x="1282" y="183"/>
                </a:lnTo>
                <a:lnTo>
                  <a:pt x="1332" y="230"/>
                </a:lnTo>
                <a:lnTo>
                  <a:pt x="1381" y="235"/>
                </a:lnTo>
                <a:lnTo>
                  <a:pt x="1431" y="243"/>
                </a:lnTo>
                <a:lnTo>
                  <a:pt x="1480" y="294"/>
                </a:lnTo>
                <a:lnTo>
                  <a:pt x="1529" y="301"/>
                </a:lnTo>
                <a:lnTo>
                  <a:pt x="1579" y="300"/>
                </a:lnTo>
                <a:lnTo>
                  <a:pt x="1628" y="335"/>
                </a:lnTo>
                <a:lnTo>
                  <a:pt x="1677" y="331"/>
                </a:lnTo>
                <a:lnTo>
                  <a:pt x="1727" y="324"/>
                </a:lnTo>
                <a:lnTo>
                  <a:pt x="1776" y="364"/>
                </a:lnTo>
                <a:lnTo>
                  <a:pt x="1826" y="362"/>
                </a:lnTo>
                <a:lnTo>
                  <a:pt x="1874" y="357"/>
                </a:lnTo>
                <a:lnTo>
                  <a:pt x="1924" y="371"/>
                </a:lnTo>
                <a:lnTo>
                  <a:pt x="1973" y="377"/>
                </a:lnTo>
                <a:lnTo>
                  <a:pt x="2023" y="363"/>
                </a:lnTo>
                <a:lnTo>
                  <a:pt x="2072" y="381"/>
                </a:lnTo>
                <a:lnTo>
                  <a:pt x="2121" y="378"/>
                </a:lnTo>
                <a:lnTo>
                  <a:pt x="2171" y="372"/>
                </a:lnTo>
                <a:lnTo>
                  <a:pt x="2220" y="387"/>
                </a:lnTo>
                <a:lnTo>
                  <a:pt x="2269" y="367"/>
                </a:lnTo>
                <a:lnTo>
                  <a:pt x="2319" y="367"/>
                </a:lnTo>
                <a:lnTo>
                  <a:pt x="2368" y="377"/>
                </a:lnTo>
                <a:lnTo>
                  <a:pt x="2418" y="365"/>
                </a:lnTo>
                <a:lnTo>
                  <a:pt x="2466" y="363"/>
                </a:lnTo>
                <a:lnTo>
                  <a:pt x="2516" y="355"/>
                </a:lnTo>
                <a:lnTo>
                  <a:pt x="2565" y="339"/>
                </a:lnTo>
                <a:lnTo>
                  <a:pt x="2615" y="351"/>
                </a:lnTo>
                <a:lnTo>
                  <a:pt x="2664" y="355"/>
                </a:lnTo>
                <a:lnTo>
                  <a:pt x="2713" y="365"/>
                </a:lnTo>
                <a:lnTo>
                  <a:pt x="2763" y="352"/>
                </a:lnTo>
                <a:lnTo>
                  <a:pt x="2812" y="346"/>
                </a:lnTo>
                <a:lnTo>
                  <a:pt x="2861" y="350"/>
                </a:lnTo>
                <a:lnTo>
                  <a:pt x="2911" y="360"/>
                </a:lnTo>
                <a:lnTo>
                  <a:pt x="2960" y="377"/>
                </a:lnTo>
                <a:lnTo>
                  <a:pt x="3010" y="372"/>
                </a:lnTo>
                <a:lnTo>
                  <a:pt x="3058" y="368"/>
                </a:lnTo>
                <a:lnTo>
                  <a:pt x="3108" y="353"/>
                </a:lnTo>
                <a:lnTo>
                  <a:pt x="3157" y="354"/>
                </a:lnTo>
                <a:lnTo>
                  <a:pt x="3207" y="352"/>
                </a:lnTo>
                <a:lnTo>
                  <a:pt x="3256" y="360"/>
                </a:lnTo>
                <a:lnTo>
                  <a:pt x="3305" y="350"/>
                </a:lnTo>
                <a:lnTo>
                  <a:pt x="3355" y="355"/>
                </a:lnTo>
                <a:lnTo>
                  <a:pt x="3404" y="360"/>
                </a:lnTo>
                <a:lnTo>
                  <a:pt x="3453" y="358"/>
                </a:lnTo>
                <a:lnTo>
                  <a:pt x="3503" y="338"/>
                </a:lnTo>
                <a:lnTo>
                  <a:pt x="3552" y="352"/>
                </a:lnTo>
                <a:lnTo>
                  <a:pt x="3602" y="357"/>
                </a:lnTo>
                <a:lnTo>
                  <a:pt x="3650" y="348"/>
                </a:lnTo>
                <a:lnTo>
                  <a:pt x="3700" y="347"/>
                </a:lnTo>
                <a:lnTo>
                  <a:pt x="3749" y="352"/>
                </a:lnTo>
                <a:lnTo>
                  <a:pt x="3799" y="344"/>
                </a:lnTo>
                <a:lnTo>
                  <a:pt x="3848" y="345"/>
                </a:lnTo>
                <a:lnTo>
                  <a:pt x="3897" y="327"/>
                </a:lnTo>
                <a:lnTo>
                  <a:pt x="3947" y="327"/>
                </a:lnTo>
                <a:lnTo>
                  <a:pt x="3996" y="345"/>
                </a:lnTo>
                <a:lnTo>
                  <a:pt x="4045" y="342"/>
                </a:lnTo>
                <a:lnTo>
                  <a:pt x="4095" y="330"/>
                </a:lnTo>
                <a:lnTo>
                  <a:pt x="4144" y="334"/>
                </a:lnTo>
                <a:lnTo>
                  <a:pt x="4194" y="319"/>
                </a:lnTo>
                <a:lnTo>
                  <a:pt x="4242" y="338"/>
                </a:lnTo>
                <a:lnTo>
                  <a:pt x="4292" y="329"/>
                </a:lnTo>
                <a:lnTo>
                  <a:pt x="4341" y="319"/>
                </a:lnTo>
                <a:lnTo>
                  <a:pt x="4391" y="328"/>
                </a:lnTo>
                <a:lnTo>
                  <a:pt x="4440" y="327"/>
                </a:lnTo>
                <a:lnTo>
                  <a:pt x="4489" y="326"/>
                </a:lnTo>
                <a:lnTo>
                  <a:pt x="4539" y="309"/>
                </a:lnTo>
                <a:lnTo>
                  <a:pt x="4588" y="316"/>
                </a:lnTo>
                <a:lnTo>
                  <a:pt x="4637" y="311"/>
                </a:lnTo>
                <a:lnTo>
                  <a:pt x="4687" y="308"/>
                </a:lnTo>
                <a:lnTo>
                  <a:pt x="4736" y="313"/>
                </a:lnTo>
                <a:lnTo>
                  <a:pt x="4786" y="309"/>
                </a:lnTo>
                <a:lnTo>
                  <a:pt x="4834" y="318"/>
                </a:lnTo>
                <a:lnTo>
                  <a:pt x="4884" y="309"/>
                </a:lnTo>
                <a:lnTo>
                  <a:pt x="4884" y="1417"/>
                </a:lnTo>
                <a:lnTo>
                  <a:pt x="4834" y="1420"/>
                </a:lnTo>
                <a:lnTo>
                  <a:pt x="4786" y="1418"/>
                </a:lnTo>
                <a:lnTo>
                  <a:pt x="4736" y="1420"/>
                </a:lnTo>
                <a:lnTo>
                  <a:pt x="4687" y="1418"/>
                </a:lnTo>
                <a:lnTo>
                  <a:pt x="4637" y="1421"/>
                </a:lnTo>
                <a:lnTo>
                  <a:pt x="4588" y="1424"/>
                </a:lnTo>
                <a:lnTo>
                  <a:pt x="4539" y="1422"/>
                </a:lnTo>
                <a:lnTo>
                  <a:pt x="4489" y="1429"/>
                </a:lnTo>
                <a:lnTo>
                  <a:pt x="4440" y="1431"/>
                </a:lnTo>
                <a:lnTo>
                  <a:pt x="4391" y="1433"/>
                </a:lnTo>
                <a:lnTo>
                  <a:pt x="4341" y="1430"/>
                </a:lnTo>
                <a:lnTo>
                  <a:pt x="4292" y="1435"/>
                </a:lnTo>
                <a:lnTo>
                  <a:pt x="4242" y="1440"/>
                </a:lnTo>
                <a:lnTo>
                  <a:pt x="4194" y="1434"/>
                </a:lnTo>
                <a:lnTo>
                  <a:pt x="4144" y="1441"/>
                </a:lnTo>
                <a:lnTo>
                  <a:pt x="4095" y="1443"/>
                </a:lnTo>
                <a:lnTo>
                  <a:pt x="4045" y="1448"/>
                </a:lnTo>
                <a:lnTo>
                  <a:pt x="3996" y="1451"/>
                </a:lnTo>
                <a:lnTo>
                  <a:pt x="3947" y="1446"/>
                </a:lnTo>
                <a:lnTo>
                  <a:pt x="3897" y="1448"/>
                </a:lnTo>
                <a:lnTo>
                  <a:pt x="3848" y="1458"/>
                </a:lnTo>
                <a:lnTo>
                  <a:pt x="3799" y="1459"/>
                </a:lnTo>
                <a:lnTo>
                  <a:pt x="3749" y="1464"/>
                </a:lnTo>
                <a:lnTo>
                  <a:pt x="3700" y="1464"/>
                </a:lnTo>
                <a:lnTo>
                  <a:pt x="3650" y="1468"/>
                </a:lnTo>
                <a:lnTo>
                  <a:pt x="3602" y="1474"/>
                </a:lnTo>
                <a:lnTo>
                  <a:pt x="3552" y="1475"/>
                </a:lnTo>
                <a:lnTo>
                  <a:pt x="3503" y="1472"/>
                </a:lnTo>
                <a:lnTo>
                  <a:pt x="3453" y="1485"/>
                </a:lnTo>
                <a:lnTo>
                  <a:pt x="3404" y="1488"/>
                </a:lnTo>
                <a:lnTo>
                  <a:pt x="3355" y="1492"/>
                </a:lnTo>
                <a:lnTo>
                  <a:pt x="3305" y="1493"/>
                </a:lnTo>
                <a:lnTo>
                  <a:pt x="3256" y="1500"/>
                </a:lnTo>
                <a:lnTo>
                  <a:pt x="3207" y="1501"/>
                </a:lnTo>
                <a:lnTo>
                  <a:pt x="3157" y="1504"/>
                </a:lnTo>
                <a:lnTo>
                  <a:pt x="3108" y="1507"/>
                </a:lnTo>
                <a:lnTo>
                  <a:pt x="3058" y="1516"/>
                </a:lnTo>
                <a:lnTo>
                  <a:pt x="3010" y="1522"/>
                </a:lnTo>
                <a:lnTo>
                  <a:pt x="2960" y="1528"/>
                </a:lnTo>
                <a:lnTo>
                  <a:pt x="2911" y="1525"/>
                </a:lnTo>
                <a:lnTo>
                  <a:pt x="2861" y="1528"/>
                </a:lnTo>
                <a:lnTo>
                  <a:pt x="2812" y="1530"/>
                </a:lnTo>
                <a:lnTo>
                  <a:pt x="2763" y="1538"/>
                </a:lnTo>
                <a:lnTo>
                  <a:pt x="2713" y="1549"/>
                </a:lnTo>
                <a:lnTo>
                  <a:pt x="2664" y="1549"/>
                </a:lnTo>
                <a:lnTo>
                  <a:pt x="2615" y="1552"/>
                </a:lnTo>
                <a:lnTo>
                  <a:pt x="2565" y="1554"/>
                </a:lnTo>
                <a:lnTo>
                  <a:pt x="2516" y="1563"/>
                </a:lnTo>
                <a:lnTo>
                  <a:pt x="2466" y="1573"/>
                </a:lnTo>
                <a:lnTo>
                  <a:pt x="2418" y="1580"/>
                </a:lnTo>
                <a:lnTo>
                  <a:pt x="2368" y="1590"/>
                </a:lnTo>
                <a:lnTo>
                  <a:pt x="2319" y="1590"/>
                </a:lnTo>
                <a:lnTo>
                  <a:pt x="2269" y="1597"/>
                </a:lnTo>
                <a:lnTo>
                  <a:pt x="2220" y="1610"/>
                </a:lnTo>
                <a:lnTo>
                  <a:pt x="2171" y="1611"/>
                </a:lnTo>
                <a:lnTo>
                  <a:pt x="2121" y="1619"/>
                </a:lnTo>
                <a:lnTo>
                  <a:pt x="2072" y="1626"/>
                </a:lnTo>
                <a:lnTo>
                  <a:pt x="2023" y="1626"/>
                </a:lnTo>
                <a:lnTo>
                  <a:pt x="1973" y="1635"/>
                </a:lnTo>
                <a:lnTo>
                  <a:pt x="1924" y="1638"/>
                </a:lnTo>
                <a:lnTo>
                  <a:pt x="1874" y="1641"/>
                </a:lnTo>
                <a:lnTo>
                  <a:pt x="1826" y="1647"/>
                </a:lnTo>
                <a:lnTo>
                  <a:pt x="1776" y="1650"/>
                </a:lnTo>
                <a:lnTo>
                  <a:pt x="1727" y="1644"/>
                </a:lnTo>
                <a:lnTo>
                  <a:pt x="1677" y="1654"/>
                </a:lnTo>
                <a:lnTo>
                  <a:pt x="1628" y="1658"/>
                </a:lnTo>
                <a:lnTo>
                  <a:pt x="1579" y="1652"/>
                </a:lnTo>
                <a:lnTo>
                  <a:pt x="1529" y="1659"/>
                </a:lnTo>
                <a:lnTo>
                  <a:pt x="1480" y="1658"/>
                </a:lnTo>
                <a:lnTo>
                  <a:pt x="1431" y="1647"/>
                </a:lnTo>
                <a:lnTo>
                  <a:pt x="1381" y="1650"/>
                </a:lnTo>
                <a:lnTo>
                  <a:pt x="1332" y="1651"/>
                </a:lnTo>
                <a:lnTo>
                  <a:pt x="1282" y="1641"/>
                </a:lnTo>
                <a:lnTo>
                  <a:pt x="1234" y="1648"/>
                </a:lnTo>
                <a:lnTo>
                  <a:pt x="1184" y="1645"/>
                </a:lnTo>
                <a:lnTo>
                  <a:pt x="1135" y="1637"/>
                </a:lnTo>
                <a:lnTo>
                  <a:pt x="1085" y="1647"/>
                </a:lnTo>
                <a:lnTo>
                  <a:pt x="1036" y="1640"/>
                </a:lnTo>
                <a:lnTo>
                  <a:pt x="987" y="1633"/>
                </a:lnTo>
                <a:lnTo>
                  <a:pt x="937" y="1648"/>
                </a:lnTo>
                <a:lnTo>
                  <a:pt x="888" y="1637"/>
                </a:lnTo>
                <a:lnTo>
                  <a:pt x="839" y="1617"/>
                </a:lnTo>
                <a:lnTo>
                  <a:pt x="790" y="1628"/>
                </a:lnTo>
                <a:lnTo>
                  <a:pt x="740" y="1617"/>
                </a:lnTo>
                <a:lnTo>
                  <a:pt x="690" y="1609"/>
                </a:lnTo>
                <a:lnTo>
                  <a:pt x="642" y="1651"/>
                </a:lnTo>
                <a:lnTo>
                  <a:pt x="592" y="1655"/>
                </a:lnTo>
                <a:lnTo>
                  <a:pt x="543" y="1656"/>
                </a:lnTo>
                <a:lnTo>
                  <a:pt x="493" y="1666"/>
                </a:lnTo>
                <a:lnTo>
                  <a:pt x="444" y="1660"/>
                </a:lnTo>
                <a:lnTo>
                  <a:pt x="395" y="1656"/>
                </a:lnTo>
                <a:lnTo>
                  <a:pt x="345" y="1753"/>
                </a:lnTo>
                <a:lnTo>
                  <a:pt x="296" y="1765"/>
                </a:lnTo>
                <a:lnTo>
                  <a:pt x="247" y="1770"/>
                </a:lnTo>
                <a:lnTo>
                  <a:pt x="198" y="1834"/>
                </a:lnTo>
                <a:lnTo>
                  <a:pt x="148" y="1850"/>
                </a:lnTo>
                <a:lnTo>
                  <a:pt x="98" y="1838"/>
                </a:lnTo>
                <a:lnTo>
                  <a:pt x="50" y="1836"/>
                </a:lnTo>
                <a:lnTo>
                  <a:pt x="0" y="17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100160" y="917640"/>
            <a:ext cx="1440" cy="469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042920" y="561492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042920" y="50925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042920" y="45705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042920" y="404964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042920" y="35272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1042920" y="300528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042920" y="24829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042920" y="196200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042920" y="144000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042920" y="9176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100160" y="5614920"/>
            <a:ext cx="7753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893880" y="5500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85440" y="49784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85440" y="4456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85440" y="39355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85440" y="34131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80680" y="28908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80680" y="23684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80680" y="18478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80680" y="13255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80680" y="8031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090800" y="5770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482840" y="5770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81944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221148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260352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99556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38616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77820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17024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456264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495288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534348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573552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12756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651816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691020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30260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769464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08524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47728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794840" y="6086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rot="16200000">
            <a:off x="-612000" y="3072600"/>
            <a:ext cx="189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ater height (m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851280" y="6499080"/>
            <a:ext cx="224964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3908520" y="6581880"/>
            <a:ext cx="115920" cy="115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4107600" y="6527880"/>
            <a:ext cx="7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efl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4915080" y="6581880"/>
            <a:ext cx="114120" cy="1159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5113800" y="6527880"/>
            <a:ext cx="98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ater Y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285640" y="5181480"/>
            <a:ext cx="133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113360" y="3809880"/>
            <a:ext cx="166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0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2751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100160" y="4287960"/>
              <a:ext cx="7753320" cy="1326960"/>
            </a:xfrm>
            <a:custGeom>
              <a:avLst/>
              <a:gdLst/>
              <a:ahLst/>
              <a:rect l="l" t="t" r="r" b="b"/>
              <a:pathLst>
                <a:path w="4884" h="836">
                  <a:moveTo>
                    <a:pt x="0" y="836"/>
                  </a:moveTo>
                  <a:lnTo>
                    <a:pt x="0" y="347"/>
                  </a:lnTo>
                  <a:lnTo>
                    <a:pt x="50" y="418"/>
                  </a:lnTo>
                  <a:lnTo>
                    <a:pt x="98" y="423"/>
                  </a:lnTo>
                  <a:lnTo>
                    <a:pt x="148" y="435"/>
                  </a:lnTo>
                  <a:lnTo>
                    <a:pt x="198" y="414"/>
                  </a:lnTo>
                  <a:lnTo>
                    <a:pt x="247" y="352"/>
                  </a:lnTo>
                  <a:lnTo>
                    <a:pt x="296" y="347"/>
                  </a:lnTo>
                  <a:lnTo>
                    <a:pt x="345" y="350"/>
                  </a:lnTo>
                  <a:lnTo>
                    <a:pt x="395" y="268"/>
                  </a:lnTo>
                  <a:lnTo>
                    <a:pt x="444" y="268"/>
                  </a:lnTo>
                  <a:lnTo>
                    <a:pt x="493" y="262"/>
                  </a:lnTo>
                  <a:lnTo>
                    <a:pt x="543" y="216"/>
                  </a:lnTo>
                  <a:lnTo>
                    <a:pt x="592" y="219"/>
                  </a:lnTo>
                  <a:lnTo>
                    <a:pt x="642" y="214"/>
                  </a:lnTo>
                  <a:lnTo>
                    <a:pt x="690" y="172"/>
                  </a:lnTo>
                  <a:lnTo>
                    <a:pt x="740" y="180"/>
                  </a:lnTo>
                  <a:lnTo>
                    <a:pt x="790" y="191"/>
                  </a:lnTo>
                  <a:lnTo>
                    <a:pt x="839" y="181"/>
                  </a:lnTo>
                  <a:lnTo>
                    <a:pt x="888" y="196"/>
                  </a:lnTo>
                  <a:lnTo>
                    <a:pt x="937" y="204"/>
                  </a:lnTo>
                  <a:lnTo>
                    <a:pt x="987" y="187"/>
                  </a:lnTo>
                  <a:lnTo>
                    <a:pt x="1036" y="202"/>
                  </a:lnTo>
                  <a:lnTo>
                    <a:pt x="1085" y="206"/>
                  </a:lnTo>
                  <a:lnTo>
                    <a:pt x="1135" y="197"/>
                  </a:lnTo>
                  <a:lnTo>
                    <a:pt x="1184" y="208"/>
                  </a:lnTo>
                  <a:lnTo>
                    <a:pt x="1234" y="216"/>
                  </a:lnTo>
                  <a:lnTo>
                    <a:pt x="1282" y="203"/>
                  </a:lnTo>
                  <a:lnTo>
                    <a:pt x="1332" y="215"/>
                  </a:lnTo>
                  <a:lnTo>
                    <a:pt x="1381" y="220"/>
                  </a:lnTo>
                  <a:lnTo>
                    <a:pt x="1431" y="214"/>
                  </a:lnTo>
                  <a:lnTo>
                    <a:pt x="1480" y="223"/>
                  </a:lnTo>
                  <a:lnTo>
                    <a:pt x="1529" y="224"/>
                  </a:lnTo>
                  <a:lnTo>
                    <a:pt x="1579" y="217"/>
                  </a:lnTo>
                  <a:lnTo>
                    <a:pt x="1628" y="224"/>
                  </a:lnTo>
                  <a:lnTo>
                    <a:pt x="1677" y="225"/>
                  </a:lnTo>
                  <a:lnTo>
                    <a:pt x="1727" y="214"/>
                  </a:lnTo>
                  <a:lnTo>
                    <a:pt x="1776" y="224"/>
                  </a:lnTo>
                  <a:lnTo>
                    <a:pt x="1826" y="218"/>
                  </a:lnTo>
                  <a:lnTo>
                    <a:pt x="1874" y="208"/>
                  </a:lnTo>
                  <a:lnTo>
                    <a:pt x="1924" y="209"/>
                  </a:lnTo>
                  <a:lnTo>
                    <a:pt x="1973" y="208"/>
                  </a:lnTo>
                  <a:lnTo>
                    <a:pt x="2023" y="194"/>
                  </a:lnTo>
                  <a:lnTo>
                    <a:pt x="2072" y="200"/>
                  </a:lnTo>
                  <a:lnTo>
                    <a:pt x="2121" y="194"/>
                  </a:lnTo>
                  <a:lnTo>
                    <a:pt x="2171" y="187"/>
                  </a:lnTo>
                  <a:lnTo>
                    <a:pt x="2220" y="185"/>
                  </a:lnTo>
                  <a:lnTo>
                    <a:pt x="2269" y="180"/>
                  </a:lnTo>
                  <a:lnTo>
                    <a:pt x="2319" y="168"/>
                  </a:lnTo>
                  <a:lnTo>
                    <a:pt x="2368" y="167"/>
                  </a:lnTo>
                  <a:lnTo>
                    <a:pt x="2418" y="160"/>
                  </a:lnTo>
                  <a:lnTo>
                    <a:pt x="2466" y="153"/>
                  </a:lnTo>
                  <a:lnTo>
                    <a:pt x="2516" y="154"/>
                  </a:lnTo>
                  <a:lnTo>
                    <a:pt x="2565" y="143"/>
                  </a:lnTo>
                  <a:lnTo>
                    <a:pt x="2615" y="139"/>
                  </a:lnTo>
                  <a:lnTo>
                    <a:pt x="2664" y="134"/>
                  </a:lnTo>
                  <a:lnTo>
                    <a:pt x="2713" y="128"/>
                  </a:lnTo>
                  <a:lnTo>
                    <a:pt x="2763" y="121"/>
                  </a:lnTo>
                  <a:lnTo>
                    <a:pt x="2812" y="112"/>
                  </a:lnTo>
                  <a:lnTo>
                    <a:pt x="2861" y="111"/>
                  </a:lnTo>
                  <a:lnTo>
                    <a:pt x="2911" y="106"/>
                  </a:lnTo>
                  <a:lnTo>
                    <a:pt x="2960" y="99"/>
                  </a:lnTo>
                  <a:lnTo>
                    <a:pt x="3010" y="103"/>
                  </a:lnTo>
                  <a:lnTo>
                    <a:pt x="3058" y="91"/>
                  </a:lnTo>
                  <a:lnTo>
                    <a:pt x="3108" y="95"/>
                  </a:lnTo>
                  <a:lnTo>
                    <a:pt x="3157" y="88"/>
                  </a:lnTo>
                  <a:lnTo>
                    <a:pt x="3207" y="80"/>
                  </a:lnTo>
                  <a:lnTo>
                    <a:pt x="3256" y="88"/>
                  </a:lnTo>
                  <a:lnTo>
                    <a:pt x="3305" y="80"/>
                  </a:lnTo>
                  <a:lnTo>
                    <a:pt x="3355" y="63"/>
                  </a:lnTo>
                  <a:lnTo>
                    <a:pt x="3404" y="68"/>
                  </a:lnTo>
                  <a:lnTo>
                    <a:pt x="3453" y="66"/>
                  </a:lnTo>
                  <a:lnTo>
                    <a:pt x="3503" y="64"/>
                  </a:lnTo>
                  <a:lnTo>
                    <a:pt x="3552" y="60"/>
                  </a:lnTo>
                  <a:lnTo>
                    <a:pt x="3602" y="61"/>
                  </a:lnTo>
                  <a:lnTo>
                    <a:pt x="3650" y="54"/>
                  </a:lnTo>
                  <a:lnTo>
                    <a:pt x="3700" y="45"/>
                  </a:lnTo>
                  <a:lnTo>
                    <a:pt x="3749" y="43"/>
                  </a:lnTo>
                  <a:lnTo>
                    <a:pt x="3799" y="41"/>
                  </a:lnTo>
                  <a:lnTo>
                    <a:pt x="3848" y="41"/>
                  </a:lnTo>
                  <a:lnTo>
                    <a:pt x="3897" y="37"/>
                  </a:lnTo>
                  <a:lnTo>
                    <a:pt x="3947" y="28"/>
                  </a:lnTo>
                  <a:lnTo>
                    <a:pt x="3996" y="30"/>
                  </a:lnTo>
                  <a:lnTo>
                    <a:pt x="4045" y="29"/>
                  </a:lnTo>
                  <a:lnTo>
                    <a:pt x="4095" y="25"/>
                  </a:lnTo>
                  <a:lnTo>
                    <a:pt x="4144" y="28"/>
                  </a:lnTo>
                  <a:lnTo>
                    <a:pt x="4194" y="22"/>
                  </a:lnTo>
                  <a:lnTo>
                    <a:pt x="4242" y="15"/>
                  </a:lnTo>
                  <a:lnTo>
                    <a:pt x="4292" y="14"/>
                  </a:lnTo>
                  <a:lnTo>
                    <a:pt x="4341" y="15"/>
                  </a:lnTo>
                  <a:lnTo>
                    <a:pt x="4391" y="13"/>
                  </a:lnTo>
                  <a:lnTo>
                    <a:pt x="4440" y="10"/>
                  </a:lnTo>
                  <a:lnTo>
                    <a:pt x="4489" y="11"/>
                  </a:lnTo>
                  <a:lnTo>
                    <a:pt x="4539" y="9"/>
                  </a:lnTo>
                  <a:lnTo>
                    <a:pt x="4588" y="7"/>
                  </a:lnTo>
                  <a:lnTo>
                    <a:pt x="4637" y="6"/>
                  </a:lnTo>
                  <a:lnTo>
                    <a:pt x="4687" y="4"/>
                  </a:lnTo>
                  <a:lnTo>
                    <a:pt x="4736" y="4"/>
                  </a:lnTo>
                  <a:lnTo>
                    <a:pt x="4786" y="4"/>
                  </a:lnTo>
                  <a:lnTo>
                    <a:pt x="4834" y="6"/>
                  </a:lnTo>
                  <a:lnTo>
                    <a:pt x="4884" y="0"/>
                  </a:lnTo>
                  <a:lnTo>
                    <a:pt x="4884" y="836"/>
                  </a:lnTo>
                  <a:lnTo>
                    <a:pt x="4834" y="836"/>
                  </a:lnTo>
                  <a:lnTo>
                    <a:pt x="4786" y="836"/>
                  </a:lnTo>
                  <a:lnTo>
                    <a:pt x="4736" y="836"/>
                  </a:lnTo>
                  <a:lnTo>
                    <a:pt x="4687" y="836"/>
                  </a:lnTo>
                  <a:lnTo>
                    <a:pt x="4637" y="836"/>
                  </a:lnTo>
                  <a:lnTo>
                    <a:pt x="4588" y="836"/>
                  </a:lnTo>
                  <a:lnTo>
                    <a:pt x="4539" y="836"/>
                  </a:lnTo>
                  <a:lnTo>
                    <a:pt x="4489" y="836"/>
                  </a:lnTo>
                  <a:lnTo>
                    <a:pt x="4440" y="836"/>
                  </a:lnTo>
                  <a:lnTo>
                    <a:pt x="4391" y="836"/>
                  </a:lnTo>
                  <a:lnTo>
                    <a:pt x="4341" y="836"/>
                  </a:lnTo>
                  <a:lnTo>
                    <a:pt x="4292" y="836"/>
                  </a:lnTo>
                  <a:lnTo>
                    <a:pt x="4242" y="836"/>
                  </a:lnTo>
                  <a:lnTo>
                    <a:pt x="4194" y="836"/>
                  </a:lnTo>
                  <a:lnTo>
                    <a:pt x="4144" y="836"/>
                  </a:lnTo>
                  <a:lnTo>
                    <a:pt x="4095" y="836"/>
                  </a:lnTo>
                  <a:lnTo>
                    <a:pt x="4045" y="836"/>
                  </a:lnTo>
                  <a:lnTo>
                    <a:pt x="3996" y="836"/>
                  </a:lnTo>
                  <a:lnTo>
                    <a:pt x="3947" y="836"/>
                  </a:lnTo>
                  <a:lnTo>
                    <a:pt x="3897" y="836"/>
                  </a:lnTo>
                  <a:lnTo>
                    <a:pt x="3848" y="836"/>
                  </a:lnTo>
                  <a:lnTo>
                    <a:pt x="3799" y="836"/>
                  </a:lnTo>
                  <a:lnTo>
                    <a:pt x="3749" y="836"/>
                  </a:lnTo>
                  <a:lnTo>
                    <a:pt x="3700" y="836"/>
                  </a:lnTo>
                  <a:lnTo>
                    <a:pt x="3650" y="836"/>
                  </a:lnTo>
                  <a:lnTo>
                    <a:pt x="3602" y="836"/>
                  </a:lnTo>
                  <a:lnTo>
                    <a:pt x="3552" y="836"/>
                  </a:lnTo>
                  <a:lnTo>
                    <a:pt x="3503" y="836"/>
                  </a:lnTo>
                  <a:lnTo>
                    <a:pt x="3453" y="836"/>
                  </a:lnTo>
                  <a:lnTo>
                    <a:pt x="3404" y="836"/>
                  </a:lnTo>
                  <a:lnTo>
                    <a:pt x="3355" y="836"/>
                  </a:lnTo>
                  <a:lnTo>
                    <a:pt x="3305" y="836"/>
                  </a:lnTo>
                  <a:lnTo>
                    <a:pt x="3256" y="836"/>
                  </a:lnTo>
                  <a:lnTo>
                    <a:pt x="3207" y="836"/>
                  </a:lnTo>
                  <a:lnTo>
                    <a:pt x="3157" y="836"/>
                  </a:lnTo>
                  <a:lnTo>
                    <a:pt x="3108" y="836"/>
                  </a:lnTo>
                  <a:lnTo>
                    <a:pt x="3058" y="836"/>
                  </a:lnTo>
                  <a:lnTo>
                    <a:pt x="3010" y="836"/>
                  </a:lnTo>
                  <a:lnTo>
                    <a:pt x="2960" y="836"/>
                  </a:lnTo>
                  <a:lnTo>
                    <a:pt x="2911" y="836"/>
                  </a:lnTo>
                  <a:lnTo>
                    <a:pt x="2861" y="836"/>
                  </a:lnTo>
                  <a:lnTo>
                    <a:pt x="2812" y="836"/>
                  </a:lnTo>
                  <a:lnTo>
                    <a:pt x="2763" y="836"/>
                  </a:lnTo>
                  <a:lnTo>
                    <a:pt x="2713" y="836"/>
                  </a:lnTo>
                  <a:lnTo>
                    <a:pt x="2664" y="836"/>
                  </a:lnTo>
                  <a:lnTo>
                    <a:pt x="2615" y="836"/>
                  </a:lnTo>
                  <a:lnTo>
                    <a:pt x="2565" y="836"/>
                  </a:lnTo>
                  <a:lnTo>
                    <a:pt x="2516" y="836"/>
                  </a:lnTo>
                  <a:lnTo>
                    <a:pt x="2466" y="836"/>
                  </a:lnTo>
                  <a:lnTo>
                    <a:pt x="2418" y="836"/>
                  </a:lnTo>
                  <a:lnTo>
                    <a:pt x="2368" y="836"/>
                  </a:lnTo>
                  <a:lnTo>
                    <a:pt x="2319" y="836"/>
                  </a:lnTo>
                  <a:lnTo>
                    <a:pt x="2269" y="836"/>
                  </a:lnTo>
                  <a:lnTo>
                    <a:pt x="2220" y="836"/>
                  </a:lnTo>
                  <a:lnTo>
                    <a:pt x="2171" y="836"/>
                  </a:lnTo>
                  <a:lnTo>
                    <a:pt x="2121" y="836"/>
                  </a:lnTo>
                  <a:lnTo>
                    <a:pt x="2072" y="836"/>
                  </a:lnTo>
                  <a:lnTo>
                    <a:pt x="2023" y="836"/>
                  </a:lnTo>
                  <a:lnTo>
                    <a:pt x="1973" y="836"/>
                  </a:lnTo>
                  <a:lnTo>
                    <a:pt x="1924" y="836"/>
                  </a:lnTo>
                  <a:lnTo>
                    <a:pt x="1874" y="836"/>
                  </a:lnTo>
                  <a:lnTo>
                    <a:pt x="1826" y="836"/>
                  </a:lnTo>
                  <a:lnTo>
                    <a:pt x="1776" y="836"/>
                  </a:lnTo>
                  <a:lnTo>
                    <a:pt x="1727" y="836"/>
                  </a:lnTo>
                  <a:lnTo>
                    <a:pt x="1677" y="836"/>
                  </a:lnTo>
                  <a:lnTo>
                    <a:pt x="1628" y="836"/>
                  </a:lnTo>
                  <a:lnTo>
                    <a:pt x="1579" y="836"/>
                  </a:lnTo>
                  <a:lnTo>
                    <a:pt x="1529" y="836"/>
                  </a:lnTo>
                  <a:lnTo>
                    <a:pt x="1480" y="836"/>
                  </a:lnTo>
                  <a:lnTo>
                    <a:pt x="1431" y="836"/>
                  </a:lnTo>
                  <a:lnTo>
                    <a:pt x="1381" y="836"/>
                  </a:lnTo>
                  <a:lnTo>
                    <a:pt x="1332" y="836"/>
                  </a:lnTo>
                  <a:lnTo>
                    <a:pt x="1282" y="836"/>
                  </a:lnTo>
                  <a:lnTo>
                    <a:pt x="1234" y="836"/>
                  </a:lnTo>
                  <a:lnTo>
                    <a:pt x="1184" y="836"/>
                  </a:lnTo>
                  <a:lnTo>
                    <a:pt x="1135" y="836"/>
                  </a:lnTo>
                  <a:lnTo>
                    <a:pt x="1085" y="836"/>
                  </a:lnTo>
                  <a:lnTo>
                    <a:pt x="1036" y="836"/>
                  </a:lnTo>
                  <a:lnTo>
                    <a:pt x="987" y="836"/>
                  </a:lnTo>
                  <a:lnTo>
                    <a:pt x="937" y="836"/>
                  </a:lnTo>
                  <a:lnTo>
                    <a:pt x="888" y="836"/>
                  </a:lnTo>
                  <a:lnTo>
                    <a:pt x="839" y="836"/>
                  </a:lnTo>
                  <a:lnTo>
                    <a:pt x="790" y="836"/>
                  </a:lnTo>
                  <a:lnTo>
                    <a:pt x="740" y="836"/>
                  </a:lnTo>
                  <a:lnTo>
                    <a:pt x="690" y="836"/>
                  </a:lnTo>
                  <a:lnTo>
                    <a:pt x="642" y="836"/>
                  </a:lnTo>
                  <a:lnTo>
                    <a:pt x="592" y="836"/>
                  </a:lnTo>
                  <a:lnTo>
                    <a:pt x="543" y="836"/>
                  </a:lnTo>
                  <a:lnTo>
                    <a:pt x="493" y="836"/>
                  </a:lnTo>
                  <a:lnTo>
                    <a:pt x="444" y="836"/>
                  </a:lnTo>
                  <a:lnTo>
                    <a:pt x="395" y="836"/>
                  </a:lnTo>
                  <a:lnTo>
                    <a:pt x="345" y="836"/>
                  </a:lnTo>
                  <a:lnTo>
                    <a:pt x="296" y="836"/>
                  </a:lnTo>
                  <a:lnTo>
                    <a:pt x="247" y="836"/>
                  </a:lnTo>
                  <a:lnTo>
                    <a:pt x="198" y="836"/>
                  </a:lnTo>
                  <a:lnTo>
                    <a:pt x="148" y="836"/>
                  </a:lnTo>
                  <a:lnTo>
                    <a:pt x="98" y="836"/>
                  </a:lnTo>
                  <a:lnTo>
                    <a:pt x="50" y="836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100160" y="2019240"/>
              <a:ext cx="7753320" cy="2959200"/>
            </a:xfrm>
            <a:custGeom>
              <a:avLst/>
              <a:gdLst/>
              <a:ahLst/>
              <a:rect l="l" t="t" r="r" b="b"/>
              <a:pathLst>
                <a:path w="4884" h="1864">
                  <a:moveTo>
                    <a:pt x="0" y="1776"/>
                  </a:moveTo>
                  <a:lnTo>
                    <a:pt x="0" y="570"/>
                  </a:lnTo>
                  <a:lnTo>
                    <a:pt x="50" y="730"/>
                  </a:lnTo>
                  <a:lnTo>
                    <a:pt x="98" y="677"/>
                  </a:lnTo>
                  <a:lnTo>
                    <a:pt x="148" y="712"/>
                  </a:lnTo>
                  <a:lnTo>
                    <a:pt x="198" y="637"/>
                  </a:lnTo>
                  <a:lnTo>
                    <a:pt x="247" y="413"/>
                  </a:lnTo>
                  <a:lnTo>
                    <a:pt x="296" y="406"/>
                  </a:lnTo>
                  <a:lnTo>
                    <a:pt x="345" y="443"/>
                  </a:lnTo>
                  <a:lnTo>
                    <a:pt x="395" y="186"/>
                  </a:lnTo>
                  <a:lnTo>
                    <a:pt x="444" y="196"/>
                  </a:lnTo>
                  <a:lnTo>
                    <a:pt x="493" y="187"/>
                  </a:lnTo>
                  <a:lnTo>
                    <a:pt x="543" y="72"/>
                  </a:lnTo>
                  <a:lnTo>
                    <a:pt x="592" y="96"/>
                  </a:lnTo>
                  <a:lnTo>
                    <a:pt x="642" y="99"/>
                  </a:lnTo>
                  <a:lnTo>
                    <a:pt x="690" y="0"/>
                  </a:lnTo>
                  <a:lnTo>
                    <a:pt x="740" y="37"/>
                  </a:lnTo>
                  <a:lnTo>
                    <a:pt x="790" y="61"/>
                  </a:lnTo>
                  <a:lnTo>
                    <a:pt x="839" y="37"/>
                  </a:lnTo>
                  <a:lnTo>
                    <a:pt x="888" y="90"/>
                  </a:lnTo>
                  <a:lnTo>
                    <a:pt x="937" y="110"/>
                  </a:lnTo>
                  <a:lnTo>
                    <a:pt x="987" y="65"/>
                  </a:lnTo>
                  <a:lnTo>
                    <a:pt x="1036" y="124"/>
                  </a:lnTo>
                  <a:lnTo>
                    <a:pt x="1085" y="127"/>
                  </a:lnTo>
                  <a:lnTo>
                    <a:pt x="1135" y="104"/>
                  </a:lnTo>
                  <a:lnTo>
                    <a:pt x="1184" y="159"/>
                  </a:lnTo>
                  <a:lnTo>
                    <a:pt x="1234" y="185"/>
                  </a:lnTo>
                  <a:lnTo>
                    <a:pt x="1282" y="155"/>
                  </a:lnTo>
                  <a:lnTo>
                    <a:pt x="1332" y="204"/>
                  </a:lnTo>
                  <a:lnTo>
                    <a:pt x="1381" y="228"/>
                  </a:lnTo>
                  <a:lnTo>
                    <a:pt x="1431" y="221"/>
                  </a:lnTo>
                  <a:lnTo>
                    <a:pt x="1480" y="270"/>
                  </a:lnTo>
                  <a:lnTo>
                    <a:pt x="1529" y="281"/>
                  </a:lnTo>
                  <a:lnTo>
                    <a:pt x="1579" y="277"/>
                  </a:lnTo>
                  <a:lnTo>
                    <a:pt x="1628" y="313"/>
                  </a:lnTo>
                  <a:lnTo>
                    <a:pt x="1677" y="331"/>
                  </a:lnTo>
                  <a:lnTo>
                    <a:pt x="1727" y="308"/>
                  </a:lnTo>
                  <a:lnTo>
                    <a:pt x="1776" y="364"/>
                  </a:lnTo>
                  <a:lnTo>
                    <a:pt x="1826" y="359"/>
                  </a:lnTo>
                  <a:lnTo>
                    <a:pt x="1874" y="340"/>
                  </a:lnTo>
                  <a:lnTo>
                    <a:pt x="1924" y="366"/>
                  </a:lnTo>
                  <a:lnTo>
                    <a:pt x="1973" y="368"/>
                  </a:lnTo>
                  <a:lnTo>
                    <a:pt x="2023" y="346"/>
                  </a:lnTo>
                  <a:lnTo>
                    <a:pt x="2072" y="383"/>
                  </a:lnTo>
                  <a:lnTo>
                    <a:pt x="2121" y="377"/>
                  </a:lnTo>
                  <a:lnTo>
                    <a:pt x="2171" y="370"/>
                  </a:lnTo>
                  <a:lnTo>
                    <a:pt x="2220" y="383"/>
                  </a:lnTo>
                  <a:lnTo>
                    <a:pt x="2269" y="378"/>
                  </a:lnTo>
                  <a:lnTo>
                    <a:pt x="2319" y="360"/>
                  </a:lnTo>
                  <a:lnTo>
                    <a:pt x="2368" y="375"/>
                  </a:lnTo>
                  <a:lnTo>
                    <a:pt x="2418" y="374"/>
                  </a:lnTo>
                  <a:lnTo>
                    <a:pt x="2466" y="364"/>
                  </a:lnTo>
                  <a:lnTo>
                    <a:pt x="2516" y="383"/>
                  </a:lnTo>
                  <a:lnTo>
                    <a:pt x="2565" y="365"/>
                  </a:lnTo>
                  <a:lnTo>
                    <a:pt x="2615" y="371"/>
                  </a:lnTo>
                  <a:lnTo>
                    <a:pt x="2664" y="369"/>
                  </a:lnTo>
                  <a:lnTo>
                    <a:pt x="2713" y="366"/>
                  </a:lnTo>
                  <a:lnTo>
                    <a:pt x="2763" y="359"/>
                  </a:lnTo>
                  <a:lnTo>
                    <a:pt x="2812" y="349"/>
                  </a:lnTo>
                  <a:lnTo>
                    <a:pt x="2861" y="362"/>
                  </a:lnTo>
                  <a:lnTo>
                    <a:pt x="2911" y="363"/>
                  </a:lnTo>
                  <a:lnTo>
                    <a:pt x="2960" y="355"/>
                  </a:lnTo>
                  <a:lnTo>
                    <a:pt x="3010" y="376"/>
                  </a:lnTo>
                  <a:lnTo>
                    <a:pt x="3058" y="352"/>
                  </a:lnTo>
                  <a:lnTo>
                    <a:pt x="3108" y="375"/>
                  </a:lnTo>
                  <a:lnTo>
                    <a:pt x="3157" y="363"/>
                  </a:lnTo>
                  <a:lnTo>
                    <a:pt x="3207" y="349"/>
                  </a:lnTo>
                  <a:lnTo>
                    <a:pt x="3256" y="382"/>
                  </a:lnTo>
                  <a:lnTo>
                    <a:pt x="3305" y="365"/>
                  </a:lnTo>
                  <a:lnTo>
                    <a:pt x="3355" y="337"/>
                  </a:lnTo>
                  <a:lnTo>
                    <a:pt x="3404" y="361"/>
                  </a:lnTo>
                  <a:lnTo>
                    <a:pt x="3453" y="361"/>
                  </a:lnTo>
                  <a:lnTo>
                    <a:pt x="3503" y="364"/>
                  </a:lnTo>
                  <a:lnTo>
                    <a:pt x="3552" y="363"/>
                  </a:lnTo>
                  <a:lnTo>
                    <a:pt x="3602" y="373"/>
                  </a:lnTo>
                  <a:lnTo>
                    <a:pt x="3650" y="362"/>
                  </a:lnTo>
                  <a:lnTo>
                    <a:pt x="3700" y="344"/>
                  </a:lnTo>
                  <a:lnTo>
                    <a:pt x="3749" y="353"/>
                  </a:lnTo>
                  <a:lnTo>
                    <a:pt x="3799" y="348"/>
                  </a:lnTo>
                  <a:lnTo>
                    <a:pt x="3848" y="354"/>
                  </a:lnTo>
                  <a:lnTo>
                    <a:pt x="3897" y="349"/>
                  </a:lnTo>
                  <a:lnTo>
                    <a:pt x="3947" y="333"/>
                  </a:lnTo>
                  <a:lnTo>
                    <a:pt x="3996" y="343"/>
                  </a:lnTo>
                  <a:lnTo>
                    <a:pt x="4045" y="346"/>
                  </a:lnTo>
                  <a:lnTo>
                    <a:pt x="4095" y="340"/>
                  </a:lnTo>
                  <a:lnTo>
                    <a:pt x="4144" y="351"/>
                  </a:lnTo>
                  <a:lnTo>
                    <a:pt x="4194" y="336"/>
                  </a:lnTo>
                  <a:lnTo>
                    <a:pt x="4242" y="325"/>
                  </a:lnTo>
                  <a:lnTo>
                    <a:pt x="4292" y="326"/>
                  </a:lnTo>
                  <a:lnTo>
                    <a:pt x="4341" y="334"/>
                  </a:lnTo>
                  <a:lnTo>
                    <a:pt x="4391" y="328"/>
                  </a:lnTo>
                  <a:lnTo>
                    <a:pt x="4440" y="326"/>
                  </a:lnTo>
                  <a:lnTo>
                    <a:pt x="4489" y="334"/>
                  </a:lnTo>
                  <a:lnTo>
                    <a:pt x="4539" y="328"/>
                  </a:lnTo>
                  <a:lnTo>
                    <a:pt x="4588" y="326"/>
                  </a:lnTo>
                  <a:lnTo>
                    <a:pt x="4637" y="326"/>
                  </a:lnTo>
                  <a:lnTo>
                    <a:pt x="4687" y="320"/>
                  </a:lnTo>
                  <a:lnTo>
                    <a:pt x="4736" y="325"/>
                  </a:lnTo>
                  <a:lnTo>
                    <a:pt x="4786" y="326"/>
                  </a:lnTo>
                  <a:lnTo>
                    <a:pt x="4834" y="334"/>
                  </a:lnTo>
                  <a:lnTo>
                    <a:pt x="4884" y="319"/>
                  </a:lnTo>
                  <a:lnTo>
                    <a:pt x="4884" y="1429"/>
                  </a:lnTo>
                  <a:lnTo>
                    <a:pt x="4834" y="1435"/>
                  </a:lnTo>
                  <a:lnTo>
                    <a:pt x="4786" y="1433"/>
                  </a:lnTo>
                  <a:lnTo>
                    <a:pt x="4736" y="1433"/>
                  </a:lnTo>
                  <a:lnTo>
                    <a:pt x="4687" y="1433"/>
                  </a:lnTo>
                  <a:lnTo>
                    <a:pt x="4637" y="1435"/>
                  </a:lnTo>
                  <a:lnTo>
                    <a:pt x="4588" y="1436"/>
                  </a:lnTo>
                  <a:lnTo>
                    <a:pt x="4539" y="1438"/>
                  </a:lnTo>
                  <a:lnTo>
                    <a:pt x="4489" y="1440"/>
                  </a:lnTo>
                  <a:lnTo>
                    <a:pt x="4440" y="1439"/>
                  </a:lnTo>
                  <a:lnTo>
                    <a:pt x="4391" y="1442"/>
                  </a:lnTo>
                  <a:lnTo>
                    <a:pt x="4341" y="1444"/>
                  </a:lnTo>
                  <a:lnTo>
                    <a:pt x="4292" y="1443"/>
                  </a:lnTo>
                  <a:lnTo>
                    <a:pt x="4242" y="1444"/>
                  </a:lnTo>
                  <a:lnTo>
                    <a:pt x="4194" y="1451"/>
                  </a:lnTo>
                  <a:lnTo>
                    <a:pt x="4144" y="1457"/>
                  </a:lnTo>
                  <a:lnTo>
                    <a:pt x="4095" y="1454"/>
                  </a:lnTo>
                  <a:lnTo>
                    <a:pt x="4045" y="1458"/>
                  </a:lnTo>
                  <a:lnTo>
                    <a:pt x="3996" y="1459"/>
                  </a:lnTo>
                  <a:lnTo>
                    <a:pt x="3947" y="1457"/>
                  </a:lnTo>
                  <a:lnTo>
                    <a:pt x="3897" y="1466"/>
                  </a:lnTo>
                  <a:lnTo>
                    <a:pt x="3848" y="1470"/>
                  </a:lnTo>
                  <a:lnTo>
                    <a:pt x="3799" y="1470"/>
                  </a:lnTo>
                  <a:lnTo>
                    <a:pt x="3749" y="1472"/>
                  </a:lnTo>
                  <a:lnTo>
                    <a:pt x="3700" y="1474"/>
                  </a:lnTo>
                  <a:lnTo>
                    <a:pt x="3650" y="1483"/>
                  </a:lnTo>
                  <a:lnTo>
                    <a:pt x="3602" y="1490"/>
                  </a:lnTo>
                  <a:lnTo>
                    <a:pt x="3552" y="1489"/>
                  </a:lnTo>
                  <a:lnTo>
                    <a:pt x="3503" y="1493"/>
                  </a:lnTo>
                  <a:lnTo>
                    <a:pt x="3453" y="1495"/>
                  </a:lnTo>
                  <a:lnTo>
                    <a:pt x="3404" y="1497"/>
                  </a:lnTo>
                  <a:lnTo>
                    <a:pt x="3355" y="1492"/>
                  </a:lnTo>
                  <a:lnTo>
                    <a:pt x="3305" y="1509"/>
                  </a:lnTo>
                  <a:lnTo>
                    <a:pt x="3256" y="1517"/>
                  </a:lnTo>
                  <a:lnTo>
                    <a:pt x="3207" y="1509"/>
                  </a:lnTo>
                  <a:lnTo>
                    <a:pt x="3157" y="1517"/>
                  </a:lnTo>
                  <a:lnTo>
                    <a:pt x="3108" y="1524"/>
                  </a:lnTo>
                  <a:lnTo>
                    <a:pt x="3058" y="1520"/>
                  </a:lnTo>
                  <a:lnTo>
                    <a:pt x="3010" y="1532"/>
                  </a:lnTo>
                  <a:lnTo>
                    <a:pt x="2960" y="1528"/>
                  </a:lnTo>
                  <a:lnTo>
                    <a:pt x="2911" y="1535"/>
                  </a:lnTo>
                  <a:lnTo>
                    <a:pt x="2861" y="1540"/>
                  </a:lnTo>
                  <a:lnTo>
                    <a:pt x="2812" y="1541"/>
                  </a:lnTo>
                  <a:lnTo>
                    <a:pt x="2763" y="1550"/>
                  </a:lnTo>
                  <a:lnTo>
                    <a:pt x="2713" y="1557"/>
                  </a:lnTo>
                  <a:lnTo>
                    <a:pt x="2664" y="1563"/>
                  </a:lnTo>
                  <a:lnTo>
                    <a:pt x="2615" y="1568"/>
                  </a:lnTo>
                  <a:lnTo>
                    <a:pt x="2565" y="1572"/>
                  </a:lnTo>
                  <a:lnTo>
                    <a:pt x="2516" y="1583"/>
                  </a:lnTo>
                  <a:lnTo>
                    <a:pt x="2466" y="1582"/>
                  </a:lnTo>
                  <a:lnTo>
                    <a:pt x="2418" y="1589"/>
                  </a:lnTo>
                  <a:lnTo>
                    <a:pt x="2368" y="1596"/>
                  </a:lnTo>
                  <a:lnTo>
                    <a:pt x="2319" y="1597"/>
                  </a:lnTo>
                  <a:lnTo>
                    <a:pt x="2269" y="1609"/>
                  </a:lnTo>
                  <a:lnTo>
                    <a:pt x="2220" y="1614"/>
                  </a:lnTo>
                  <a:lnTo>
                    <a:pt x="2171" y="1616"/>
                  </a:lnTo>
                  <a:lnTo>
                    <a:pt x="2121" y="1623"/>
                  </a:lnTo>
                  <a:lnTo>
                    <a:pt x="2072" y="1629"/>
                  </a:lnTo>
                  <a:lnTo>
                    <a:pt x="2023" y="1623"/>
                  </a:lnTo>
                  <a:lnTo>
                    <a:pt x="1973" y="1637"/>
                  </a:lnTo>
                  <a:lnTo>
                    <a:pt x="1924" y="1638"/>
                  </a:lnTo>
                  <a:lnTo>
                    <a:pt x="1874" y="1637"/>
                  </a:lnTo>
                  <a:lnTo>
                    <a:pt x="1826" y="1647"/>
                  </a:lnTo>
                  <a:lnTo>
                    <a:pt x="1776" y="1653"/>
                  </a:lnTo>
                  <a:lnTo>
                    <a:pt x="1727" y="1643"/>
                  </a:lnTo>
                  <a:lnTo>
                    <a:pt x="1677" y="1654"/>
                  </a:lnTo>
                  <a:lnTo>
                    <a:pt x="1628" y="1653"/>
                  </a:lnTo>
                  <a:lnTo>
                    <a:pt x="1579" y="1646"/>
                  </a:lnTo>
                  <a:lnTo>
                    <a:pt x="1529" y="1653"/>
                  </a:lnTo>
                  <a:lnTo>
                    <a:pt x="1480" y="1652"/>
                  </a:lnTo>
                  <a:lnTo>
                    <a:pt x="1431" y="1643"/>
                  </a:lnTo>
                  <a:lnTo>
                    <a:pt x="1381" y="1649"/>
                  </a:lnTo>
                  <a:lnTo>
                    <a:pt x="1332" y="1644"/>
                  </a:lnTo>
                  <a:lnTo>
                    <a:pt x="1282" y="1632"/>
                  </a:lnTo>
                  <a:lnTo>
                    <a:pt x="1234" y="1645"/>
                  </a:lnTo>
                  <a:lnTo>
                    <a:pt x="1184" y="1637"/>
                  </a:lnTo>
                  <a:lnTo>
                    <a:pt x="1135" y="1626"/>
                  </a:lnTo>
                  <a:lnTo>
                    <a:pt x="1085" y="1635"/>
                  </a:lnTo>
                  <a:lnTo>
                    <a:pt x="1036" y="1631"/>
                  </a:lnTo>
                  <a:lnTo>
                    <a:pt x="987" y="1616"/>
                  </a:lnTo>
                  <a:lnTo>
                    <a:pt x="937" y="1633"/>
                  </a:lnTo>
                  <a:lnTo>
                    <a:pt x="888" y="1625"/>
                  </a:lnTo>
                  <a:lnTo>
                    <a:pt x="839" y="1610"/>
                  </a:lnTo>
                  <a:lnTo>
                    <a:pt x="790" y="1620"/>
                  </a:lnTo>
                  <a:lnTo>
                    <a:pt x="740" y="1609"/>
                  </a:lnTo>
                  <a:lnTo>
                    <a:pt x="690" y="1601"/>
                  </a:lnTo>
                  <a:lnTo>
                    <a:pt x="642" y="1643"/>
                  </a:lnTo>
                  <a:lnTo>
                    <a:pt x="592" y="1648"/>
                  </a:lnTo>
                  <a:lnTo>
                    <a:pt x="543" y="1645"/>
                  </a:lnTo>
                  <a:lnTo>
                    <a:pt x="493" y="1691"/>
                  </a:lnTo>
                  <a:lnTo>
                    <a:pt x="444" y="1697"/>
                  </a:lnTo>
                  <a:lnTo>
                    <a:pt x="395" y="1697"/>
                  </a:lnTo>
                  <a:lnTo>
                    <a:pt x="345" y="1779"/>
                  </a:lnTo>
                  <a:lnTo>
                    <a:pt x="296" y="1776"/>
                  </a:lnTo>
                  <a:lnTo>
                    <a:pt x="247" y="1781"/>
                  </a:lnTo>
                  <a:lnTo>
                    <a:pt x="198" y="1843"/>
                  </a:lnTo>
                  <a:lnTo>
                    <a:pt x="148" y="1864"/>
                  </a:lnTo>
                  <a:lnTo>
                    <a:pt x="98" y="1852"/>
                  </a:lnTo>
                  <a:lnTo>
                    <a:pt x="50" y="1847"/>
                  </a:lnTo>
                  <a:lnTo>
                    <a:pt x="0" y="177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100160" y="4287960"/>
              <a:ext cx="7753320" cy="1326960"/>
            </a:xfrm>
            <a:custGeom>
              <a:avLst/>
              <a:gdLst/>
              <a:ahLst/>
              <a:rect l="l" t="t" r="r" b="b"/>
              <a:pathLst>
                <a:path w="4884" h="836">
                  <a:moveTo>
                    <a:pt x="0" y="836"/>
                  </a:moveTo>
                  <a:lnTo>
                    <a:pt x="0" y="347"/>
                  </a:lnTo>
                  <a:lnTo>
                    <a:pt x="50" y="418"/>
                  </a:lnTo>
                  <a:lnTo>
                    <a:pt x="98" y="423"/>
                  </a:lnTo>
                  <a:lnTo>
                    <a:pt x="148" y="435"/>
                  </a:lnTo>
                  <a:lnTo>
                    <a:pt x="198" y="414"/>
                  </a:lnTo>
                  <a:lnTo>
                    <a:pt x="247" y="352"/>
                  </a:lnTo>
                  <a:lnTo>
                    <a:pt x="296" y="347"/>
                  </a:lnTo>
                  <a:lnTo>
                    <a:pt x="345" y="350"/>
                  </a:lnTo>
                  <a:lnTo>
                    <a:pt x="395" y="268"/>
                  </a:lnTo>
                  <a:lnTo>
                    <a:pt x="444" y="268"/>
                  </a:lnTo>
                  <a:lnTo>
                    <a:pt x="493" y="262"/>
                  </a:lnTo>
                  <a:lnTo>
                    <a:pt x="543" y="216"/>
                  </a:lnTo>
                  <a:lnTo>
                    <a:pt x="592" y="219"/>
                  </a:lnTo>
                  <a:lnTo>
                    <a:pt x="642" y="214"/>
                  </a:lnTo>
                  <a:lnTo>
                    <a:pt x="690" y="172"/>
                  </a:lnTo>
                  <a:lnTo>
                    <a:pt x="740" y="180"/>
                  </a:lnTo>
                  <a:lnTo>
                    <a:pt x="790" y="191"/>
                  </a:lnTo>
                  <a:lnTo>
                    <a:pt x="839" y="181"/>
                  </a:lnTo>
                  <a:lnTo>
                    <a:pt x="888" y="196"/>
                  </a:lnTo>
                  <a:lnTo>
                    <a:pt x="937" y="204"/>
                  </a:lnTo>
                  <a:lnTo>
                    <a:pt x="987" y="187"/>
                  </a:lnTo>
                  <a:lnTo>
                    <a:pt x="1036" y="202"/>
                  </a:lnTo>
                  <a:lnTo>
                    <a:pt x="1085" y="206"/>
                  </a:lnTo>
                  <a:lnTo>
                    <a:pt x="1135" y="197"/>
                  </a:lnTo>
                  <a:lnTo>
                    <a:pt x="1184" y="208"/>
                  </a:lnTo>
                  <a:lnTo>
                    <a:pt x="1234" y="216"/>
                  </a:lnTo>
                  <a:lnTo>
                    <a:pt x="1282" y="203"/>
                  </a:lnTo>
                  <a:lnTo>
                    <a:pt x="1332" y="215"/>
                  </a:lnTo>
                  <a:lnTo>
                    <a:pt x="1381" y="220"/>
                  </a:lnTo>
                  <a:lnTo>
                    <a:pt x="1431" y="214"/>
                  </a:lnTo>
                  <a:lnTo>
                    <a:pt x="1480" y="223"/>
                  </a:lnTo>
                  <a:lnTo>
                    <a:pt x="1529" y="224"/>
                  </a:lnTo>
                  <a:lnTo>
                    <a:pt x="1579" y="217"/>
                  </a:lnTo>
                  <a:lnTo>
                    <a:pt x="1628" y="224"/>
                  </a:lnTo>
                  <a:lnTo>
                    <a:pt x="1677" y="225"/>
                  </a:lnTo>
                  <a:lnTo>
                    <a:pt x="1727" y="214"/>
                  </a:lnTo>
                  <a:lnTo>
                    <a:pt x="1776" y="224"/>
                  </a:lnTo>
                  <a:lnTo>
                    <a:pt x="1826" y="218"/>
                  </a:lnTo>
                  <a:lnTo>
                    <a:pt x="1874" y="208"/>
                  </a:lnTo>
                  <a:lnTo>
                    <a:pt x="1924" y="209"/>
                  </a:lnTo>
                  <a:lnTo>
                    <a:pt x="1973" y="208"/>
                  </a:lnTo>
                  <a:lnTo>
                    <a:pt x="2023" y="194"/>
                  </a:lnTo>
                  <a:lnTo>
                    <a:pt x="2072" y="200"/>
                  </a:lnTo>
                  <a:lnTo>
                    <a:pt x="2121" y="194"/>
                  </a:lnTo>
                  <a:lnTo>
                    <a:pt x="2171" y="187"/>
                  </a:lnTo>
                  <a:lnTo>
                    <a:pt x="2220" y="185"/>
                  </a:lnTo>
                  <a:lnTo>
                    <a:pt x="2269" y="180"/>
                  </a:lnTo>
                  <a:lnTo>
                    <a:pt x="2319" y="168"/>
                  </a:lnTo>
                  <a:lnTo>
                    <a:pt x="2368" y="167"/>
                  </a:lnTo>
                  <a:lnTo>
                    <a:pt x="2418" y="160"/>
                  </a:lnTo>
                  <a:lnTo>
                    <a:pt x="2466" y="153"/>
                  </a:lnTo>
                  <a:lnTo>
                    <a:pt x="2516" y="154"/>
                  </a:lnTo>
                  <a:lnTo>
                    <a:pt x="2565" y="143"/>
                  </a:lnTo>
                  <a:lnTo>
                    <a:pt x="2615" y="139"/>
                  </a:lnTo>
                  <a:lnTo>
                    <a:pt x="2664" y="134"/>
                  </a:lnTo>
                  <a:lnTo>
                    <a:pt x="2713" y="128"/>
                  </a:lnTo>
                  <a:lnTo>
                    <a:pt x="2763" y="121"/>
                  </a:lnTo>
                  <a:lnTo>
                    <a:pt x="2812" y="112"/>
                  </a:lnTo>
                  <a:lnTo>
                    <a:pt x="2861" y="111"/>
                  </a:lnTo>
                  <a:lnTo>
                    <a:pt x="2911" y="106"/>
                  </a:lnTo>
                  <a:lnTo>
                    <a:pt x="2960" y="99"/>
                  </a:lnTo>
                  <a:lnTo>
                    <a:pt x="3010" y="103"/>
                  </a:lnTo>
                  <a:lnTo>
                    <a:pt x="3058" y="91"/>
                  </a:lnTo>
                  <a:lnTo>
                    <a:pt x="3108" y="95"/>
                  </a:lnTo>
                  <a:lnTo>
                    <a:pt x="3157" y="88"/>
                  </a:lnTo>
                  <a:lnTo>
                    <a:pt x="3207" y="80"/>
                  </a:lnTo>
                  <a:lnTo>
                    <a:pt x="3256" y="88"/>
                  </a:lnTo>
                  <a:lnTo>
                    <a:pt x="3305" y="80"/>
                  </a:lnTo>
                  <a:lnTo>
                    <a:pt x="3355" y="63"/>
                  </a:lnTo>
                  <a:lnTo>
                    <a:pt x="3404" y="68"/>
                  </a:lnTo>
                  <a:lnTo>
                    <a:pt x="3453" y="66"/>
                  </a:lnTo>
                  <a:lnTo>
                    <a:pt x="3503" y="64"/>
                  </a:lnTo>
                  <a:lnTo>
                    <a:pt x="3552" y="60"/>
                  </a:lnTo>
                  <a:lnTo>
                    <a:pt x="3602" y="61"/>
                  </a:lnTo>
                  <a:lnTo>
                    <a:pt x="3650" y="54"/>
                  </a:lnTo>
                  <a:lnTo>
                    <a:pt x="3700" y="45"/>
                  </a:lnTo>
                  <a:lnTo>
                    <a:pt x="3749" y="43"/>
                  </a:lnTo>
                  <a:lnTo>
                    <a:pt x="3799" y="41"/>
                  </a:lnTo>
                  <a:lnTo>
                    <a:pt x="3848" y="41"/>
                  </a:lnTo>
                  <a:lnTo>
                    <a:pt x="3897" y="37"/>
                  </a:lnTo>
                  <a:lnTo>
                    <a:pt x="3947" y="28"/>
                  </a:lnTo>
                  <a:lnTo>
                    <a:pt x="3996" y="30"/>
                  </a:lnTo>
                  <a:lnTo>
                    <a:pt x="4045" y="29"/>
                  </a:lnTo>
                  <a:lnTo>
                    <a:pt x="4095" y="25"/>
                  </a:lnTo>
                  <a:lnTo>
                    <a:pt x="4144" y="28"/>
                  </a:lnTo>
                  <a:lnTo>
                    <a:pt x="4194" y="22"/>
                  </a:lnTo>
                  <a:lnTo>
                    <a:pt x="4242" y="15"/>
                  </a:lnTo>
                  <a:lnTo>
                    <a:pt x="4292" y="14"/>
                  </a:lnTo>
                  <a:lnTo>
                    <a:pt x="4341" y="15"/>
                  </a:lnTo>
                  <a:lnTo>
                    <a:pt x="4391" y="13"/>
                  </a:lnTo>
                  <a:lnTo>
                    <a:pt x="4440" y="10"/>
                  </a:lnTo>
                  <a:lnTo>
                    <a:pt x="4489" y="11"/>
                  </a:lnTo>
                  <a:lnTo>
                    <a:pt x="4539" y="9"/>
                  </a:lnTo>
                  <a:lnTo>
                    <a:pt x="4588" y="7"/>
                  </a:lnTo>
                  <a:lnTo>
                    <a:pt x="4637" y="6"/>
                  </a:lnTo>
                  <a:lnTo>
                    <a:pt x="4687" y="4"/>
                  </a:lnTo>
                  <a:lnTo>
                    <a:pt x="4736" y="4"/>
                  </a:lnTo>
                  <a:lnTo>
                    <a:pt x="4786" y="4"/>
                  </a:lnTo>
                  <a:lnTo>
                    <a:pt x="4834" y="6"/>
                  </a:lnTo>
                  <a:lnTo>
                    <a:pt x="4884" y="0"/>
                  </a:lnTo>
                  <a:lnTo>
                    <a:pt x="4884" y="836"/>
                  </a:lnTo>
                  <a:lnTo>
                    <a:pt x="4834" y="836"/>
                  </a:lnTo>
                  <a:lnTo>
                    <a:pt x="4786" y="836"/>
                  </a:lnTo>
                  <a:lnTo>
                    <a:pt x="4736" y="836"/>
                  </a:lnTo>
                  <a:lnTo>
                    <a:pt x="4687" y="836"/>
                  </a:lnTo>
                  <a:lnTo>
                    <a:pt x="4637" y="836"/>
                  </a:lnTo>
                  <a:lnTo>
                    <a:pt x="4588" y="836"/>
                  </a:lnTo>
                  <a:lnTo>
                    <a:pt x="4539" y="836"/>
                  </a:lnTo>
                  <a:lnTo>
                    <a:pt x="4489" y="836"/>
                  </a:lnTo>
                  <a:lnTo>
                    <a:pt x="4440" y="836"/>
                  </a:lnTo>
                  <a:lnTo>
                    <a:pt x="4391" y="836"/>
                  </a:lnTo>
                  <a:lnTo>
                    <a:pt x="4341" y="836"/>
                  </a:lnTo>
                  <a:lnTo>
                    <a:pt x="4292" y="836"/>
                  </a:lnTo>
                  <a:lnTo>
                    <a:pt x="4242" y="836"/>
                  </a:lnTo>
                  <a:lnTo>
                    <a:pt x="4194" y="836"/>
                  </a:lnTo>
                  <a:lnTo>
                    <a:pt x="4144" y="836"/>
                  </a:lnTo>
                  <a:lnTo>
                    <a:pt x="4095" y="836"/>
                  </a:lnTo>
                  <a:lnTo>
                    <a:pt x="4045" y="836"/>
                  </a:lnTo>
                  <a:lnTo>
                    <a:pt x="3996" y="836"/>
                  </a:lnTo>
                  <a:lnTo>
                    <a:pt x="3947" y="836"/>
                  </a:lnTo>
                  <a:lnTo>
                    <a:pt x="3897" y="836"/>
                  </a:lnTo>
                  <a:lnTo>
                    <a:pt x="3848" y="836"/>
                  </a:lnTo>
                  <a:lnTo>
                    <a:pt x="3799" y="836"/>
                  </a:lnTo>
                  <a:lnTo>
                    <a:pt x="3749" y="836"/>
                  </a:lnTo>
                  <a:lnTo>
                    <a:pt x="3700" y="836"/>
                  </a:lnTo>
                  <a:lnTo>
                    <a:pt x="3650" y="836"/>
                  </a:lnTo>
                  <a:lnTo>
                    <a:pt x="3602" y="836"/>
                  </a:lnTo>
                  <a:lnTo>
                    <a:pt x="3552" y="836"/>
                  </a:lnTo>
                  <a:lnTo>
                    <a:pt x="3503" y="836"/>
                  </a:lnTo>
                  <a:lnTo>
                    <a:pt x="3453" y="836"/>
                  </a:lnTo>
                  <a:lnTo>
                    <a:pt x="3404" y="836"/>
                  </a:lnTo>
                  <a:lnTo>
                    <a:pt x="3355" y="836"/>
                  </a:lnTo>
                  <a:lnTo>
                    <a:pt x="3305" y="836"/>
                  </a:lnTo>
                  <a:lnTo>
                    <a:pt x="3256" y="836"/>
                  </a:lnTo>
                  <a:lnTo>
                    <a:pt x="3207" y="836"/>
                  </a:lnTo>
                  <a:lnTo>
                    <a:pt x="3157" y="836"/>
                  </a:lnTo>
                  <a:lnTo>
                    <a:pt x="3108" y="836"/>
                  </a:lnTo>
                  <a:lnTo>
                    <a:pt x="3058" y="836"/>
                  </a:lnTo>
                  <a:lnTo>
                    <a:pt x="3010" y="836"/>
                  </a:lnTo>
                  <a:lnTo>
                    <a:pt x="2960" y="836"/>
                  </a:lnTo>
                  <a:lnTo>
                    <a:pt x="2911" y="836"/>
                  </a:lnTo>
                  <a:lnTo>
                    <a:pt x="2861" y="836"/>
                  </a:lnTo>
                  <a:lnTo>
                    <a:pt x="2812" y="836"/>
                  </a:lnTo>
                  <a:lnTo>
                    <a:pt x="2763" y="836"/>
                  </a:lnTo>
                  <a:lnTo>
                    <a:pt x="2713" y="836"/>
                  </a:lnTo>
                  <a:lnTo>
                    <a:pt x="2664" y="836"/>
                  </a:lnTo>
                  <a:lnTo>
                    <a:pt x="2615" y="836"/>
                  </a:lnTo>
                  <a:lnTo>
                    <a:pt x="2565" y="836"/>
                  </a:lnTo>
                  <a:lnTo>
                    <a:pt x="2516" y="836"/>
                  </a:lnTo>
                  <a:lnTo>
                    <a:pt x="2466" y="836"/>
                  </a:lnTo>
                  <a:lnTo>
                    <a:pt x="2418" y="836"/>
                  </a:lnTo>
                  <a:lnTo>
                    <a:pt x="2368" y="836"/>
                  </a:lnTo>
                  <a:lnTo>
                    <a:pt x="2319" y="836"/>
                  </a:lnTo>
                  <a:lnTo>
                    <a:pt x="2269" y="836"/>
                  </a:lnTo>
                  <a:lnTo>
                    <a:pt x="2220" y="836"/>
                  </a:lnTo>
                  <a:lnTo>
                    <a:pt x="2171" y="836"/>
                  </a:lnTo>
                  <a:lnTo>
                    <a:pt x="2121" y="836"/>
                  </a:lnTo>
                  <a:lnTo>
                    <a:pt x="2072" y="836"/>
                  </a:lnTo>
                  <a:lnTo>
                    <a:pt x="2023" y="836"/>
                  </a:lnTo>
                  <a:lnTo>
                    <a:pt x="1973" y="836"/>
                  </a:lnTo>
                  <a:lnTo>
                    <a:pt x="1924" y="836"/>
                  </a:lnTo>
                  <a:lnTo>
                    <a:pt x="1874" y="836"/>
                  </a:lnTo>
                  <a:lnTo>
                    <a:pt x="1826" y="836"/>
                  </a:lnTo>
                  <a:lnTo>
                    <a:pt x="1776" y="836"/>
                  </a:lnTo>
                  <a:lnTo>
                    <a:pt x="1727" y="836"/>
                  </a:lnTo>
                  <a:lnTo>
                    <a:pt x="1677" y="836"/>
                  </a:lnTo>
                  <a:lnTo>
                    <a:pt x="1628" y="836"/>
                  </a:lnTo>
                  <a:lnTo>
                    <a:pt x="1579" y="836"/>
                  </a:lnTo>
                  <a:lnTo>
                    <a:pt x="1529" y="836"/>
                  </a:lnTo>
                  <a:lnTo>
                    <a:pt x="1480" y="836"/>
                  </a:lnTo>
                  <a:lnTo>
                    <a:pt x="1431" y="836"/>
                  </a:lnTo>
                  <a:lnTo>
                    <a:pt x="1381" y="836"/>
                  </a:lnTo>
                  <a:lnTo>
                    <a:pt x="1332" y="836"/>
                  </a:lnTo>
                  <a:lnTo>
                    <a:pt x="1282" y="836"/>
                  </a:lnTo>
                  <a:lnTo>
                    <a:pt x="1234" y="836"/>
                  </a:lnTo>
                  <a:lnTo>
                    <a:pt x="1184" y="836"/>
                  </a:lnTo>
                  <a:lnTo>
                    <a:pt x="1135" y="836"/>
                  </a:lnTo>
                  <a:lnTo>
                    <a:pt x="1085" y="836"/>
                  </a:lnTo>
                  <a:lnTo>
                    <a:pt x="1036" y="836"/>
                  </a:lnTo>
                  <a:lnTo>
                    <a:pt x="987" y="836"/>
                  </a:lnTo>
                  <a:lnTo>
                    <a:pt x="937" y="836"/>
                  </a:lnTo>
                  <a:lnTo>
                    <a:pt x="888" y="836"/>
                  </a:lnTo>
                  <a:lnTo>
                    <a:pt x="839" y="836"/>
                  </a:lnTo>
                  <a:lnTo>
                    <a:pt x="790" y="836"/>
                  </a:lnTo>
                  <a:lnTo>
                    <a:pt x="740" y="836"/>
                  </a:lnTo>
                  <a:lnTo>
                    <a:pt x="690" y="836"/>
                  </a:lnTo>
                  <a:lnTo>
                    <a:pt x="642" y="836"/>
                  </a:lnTo>
                  <a:lnTo>
                    <a:pt x="592" y="836"/>
                  </a:lnTo>
                  <a:lnTo>
                    <a:pt x="543" y="836"/>
                  </a:lnTo>
                  <a:lnTo>
                    <a:pt x="493" y="836"/>
                  </a:lnTo>
                  <a:lnTo>
                    <a:pt x="444" y="836"/>
                  </a:lnTo>
                  <a:lnTo>
                    <a:pt x="395" y="836"/>
                  </a:lnTo>
                  <a:lnTo>
                    <a:pt x="345" y="836"/>
                  </a:lnTo>
                  <a:lnTo>
                    <a:pt x="296" y="836"/>
                  </a:lnTo>
                  <a:lnTo>
                    <a:pt x="247" y="836"/>
                  </a:lnTo>
                  <a:lnTo>
                    <a:pt x="198" y="836"/>
                  </a:lnTo>
                  <a:lnTo>
                    <a:pt x="148" y="836"/>
                  </a:lnTo>
                  <a:lnTo>
                    <a:pt x="98" y="836"/>
                  </a:lnTo>
                  <a:lnTo>
                    <a:pt x="50" y="836"/>
                  </a:lnTo>
                  <a:lnTo>
                    <a:pt x="0" y="8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100160" y="2019240"/>
              <a:ext cx="7753320" cy="2959200"/>
            </a:xfrm>
            <a:custGeom>
              <a:avLst/>
              <a:gdLst/>
              <a:ahLst/>
              <a:rect l="l" t="t" r="r" b="b"/>
              <a:pathLst>
                <a:path w="4884" h="1864">
                  <a:moveTo>
                    <a:pt x="0" y="1776"/>
                  </a:moveTo>
                  <a:lnTo>
                    <a:pt x="0" y="570"/>
                  </a:lnTo>
                  <a:lnTo>
                    <a:pt x="50" y="730"/>
                  </a:lnTo>
                  <a:lnTo>
                    <a:pt x="98" y="677"/>
                  </a:lnTo>
                  <a:lnTo>
                    <a:pt x="148" y="712"/>
                  </a:lnTo>
                  <a:lnTo>
                    <a:pt x="198" y="637"/>
                  </a:lnTo>
                  <a:lnTo>
                    <a:pt x="247" y="413"/>
                  </a:lnTo>
                  <a:lnTo>
                    <a:pt x="296" y="406"/>
                  </a:lnTo>
                  <a:lnTo>
                    <a:pt x="345" y="443"/>
                  </a:lnTo>
                  <a:lnTo>
                    <a:pt x="395" y="186"/>
                  </a:lnTo>
                  <a:lnTo>
                    <a:pt x="444" y="196"/>
                  </a:lnTo>
                  <a:lnTo>
                    <a:pt x="493" y="187"/>
                  </a:lnTo>
                  <a:lnTo>
                    <a:pt x="543" y="72"/>
                  </a:lnTo>
                  <a:lnTo>
                    <a:pt x="592" y="96"/>
                  </a:lnTo>
                  <a:lnTo>
                    <a:pt x="642" y="99"/>
                  </a:lnTo>
                  <a:lnTo>
                    <a:pt x="690" y="0"/>
                  </a:lnTo>
                  <a:lnTo>
                    <a:pt x="740" y="37"/>
                  </a:lnTo>
                  <a:lnTo>
                    <a:pt x="790" y="61"/>
                  </a:lnTo>
                  <a:lnTo>
                    <a:pt x="839" y="37"/>
                  </a:lnTo>
                  <a:lnTo>
                    <a:pt x="888" y="90"/>
                  </a:lnTo>
                  <a:lnTo>
                    <a:pt x="937" y="110"/>
                  </a:lnTo>
                  <a:lnTo>
                    <a:pt x="987" y="65"/>
                  </a:lnTo>
                  <a:lnTo>
                    <a:pt x="1036" y="124"/>
                  </a:lnTo>
                  <a:lnTo>
                    <a:pt x="1085" y="127"/>
                  </a:lnTo>
                  <a:lnTo>
                    <a:pt x="1135" y="104"/>
                  </a:lnTo>
                  <a:lnTo>
                    <a:pt x="1184" y="159"/>
                  </a:lnTo>
                  <a:lnTo>
                    <a:pt x="1234" y="185"/>
                  </a:lnTo>
                  <a:lnTo>
                    <a:pt x="1282" y="155"/>
                  </a:lnTo>
                  <a:lnTo>
                    <a:pt x="1332" y="204"/>
                  </a:lnTo>
                  <a:lnTo>
                    <a:pt x="1381" y="228"/>
                  </a:lnTo>
                  <a:lnTo>
                    <a:pt x="1431" y="221"/>
                  </a:lnTo>
                  <a:lnTo>
                    <a:pt x="1480" y="270"/>
                  </a:lnTo>
                  <a:lnTo>
                    <a:pt x="1529" y="281"/>
                  </a:lnTo>
                  <a:lnTo>
                    <a:pt x="1579" y="277"/>
                  </a:lnTo>
                  <a:lnTo>
                    <a:pt x="1628" y="313"/>
                  </a:lnTo>
                  <a:lnTo>
                    <a:pt x="1677" y="331"/>
                  </a:lnTo>
                  <a:lnTo>
                    <a:pt x="1727" y="308"/>
                  </a:lnTo>
                  <a:lnTo>
                    <a:pt x="1776" y="364"/>
                  </a:lnTo>
                  <a:lnTo>
                    <a:pt x="1826" y="359"/>
                  </a:lnTo>
                  <a:lnTo>
                    <a:pt x="1874" y="340"/>
                  </a:lnTo>
                  <a:lnTo>
                    <a:pt x="1924" y="366"/>
                  </a:lnTo>
                  <a:lnTo>
                    <a:pt x="1973" y="368"/>
                  </a:lnTo>
                  <a:lnTo>
                    <a:pt x="2023" y="346"/>
                  </a:lnTo>
                  <a:lnTo>
                    <a:pt x="2072" y="383"/>
                  </a:lnTo>
                  <a:lnTo>
                    <a:pt x="2121" y="377"/>
                  </a:lnTo>
                  <a:lnTo>
                    <a:pt x="2171" y="370"/>
                  </a:lnTo>
                  <a:lnTo>
                    <a:pt x="2220" y="383"/>
                  </a:lnTo>
                  <a:lnTo>
                    <a:pt x="2269" y="378"/>
                  </a:lnTo>
                  <a:lnTo>
                    <a:pt x="2319" y="360"/>
                  </a:lnTo>
                  <a:lnTo>
                    <a:pt x="2368" y="375"/>
                  </a:lnTo>
                  <a:lnTo>
                    <a:pt x="2418" y="374"/>
                  </a:lnTo>
                  <a:lnTo>
                    <a:pt x="2466" y="364"/>
                  </a:lnTo>
                  <a:lnTo>
                    <a:pt x="2516" y="383"/>
                  </a:lnTo>
                  <a:lnTo>
                    <a:pt x="2565" y="365"/>
                  </a:lnTo>
                  <a:lnTo>
                    <a:pt x="2615" y="371"/>
                  </a:lnTo>
                  <a:lnTo>
                    <a:pt x="2664" y="369"/>
                  </a:lnTo>
                  <a:lnTo>
                    <a:pt x="2713" y="366"/>
                  </a:lnTo>
                  <a:lnTo>
                    <a:pt x="2763" y="359"/>
                  </a:lnTo>
                  <a:lnTo>
                    <a:pt x="2812" y="349"/>
                  </a:lnTo>
                  <a:lnTo>
                    <a:pt x="2861" y="362"/>
                  </a:lnTo>
                  <a:lnTo>
                    <a:pt x="2911" y="363"/>
                  </a:lnTo>
                  <a:lnTo>
                    <a:pt x="2960" y="355"/>
                  </a:lnTo>
                  <a:lnTo>
                    <a:pt x="3010" y="376"/>
                  </a:lnTo>
                  <a:lnTo>
                    <a:pt x="3058" y="352"/>
                  </a:lnTo>
                  <a:lnTo>
                    <a:pt x="3108" y="375"/>
                  </a:lnTo>
                  <a:lnTo>
                    <a:pt x="3157" y="363"/>
                  </a:lnTo>
                  <a:lnTo>
                    <a:pt x="3207" y="349"/>
                  </a:lnTo>
                  <a:lnTo>
                    <a:pt x="3256" y="382"/>
                  </a:lnTo>
                  <a:lnTo>
                    <a:pt x="3305" y="365"/>
                  </a:lnTo>
                  <a:lnTo>
                    <a:pt x="3355" y="337"/>
                  </a:lnTo>
                  <a:lnTo>
                    <a:pt x="3404" y="361"/>
                  </a:lnTo>
                  <a:lnTo>
                    <a:pt x="3453" y="361"/>
                  </a:lnTo>
                  <a:lnTo>
                    <a:pt x="3503" y="364"/>
                  </a:lnTo>
                  <a:lnTo>
                    <a:pt x="3552" y="363"/>
                  </a:lnTo>
                  <a:lnTo>
                    <a:pt x="3602" y="373"/>
                  </a:lnTo>
                  <a:lnTo>
                    <a:pt x="3650" y="362"/>
                  </a:lnTo>
                  <a:lnTo>
                    <a:pt x="3700" y="344"/>
                  </a:lnTo>
                  <a:lnTo>
                    <a:pt x="3749" y="353"/>
                  </a:lnTo>
                  <a:lnTo>
                    <a:pt x="3799" y="348"/>
                  </a:lnTo>
                  <a:lnTo>
                    <a:pt x="3848" y="354"/>
                  </a:lnTo>
                  <a:lnTo>
                    <a:pt x="3897" y="349"/>
                  </a:lnTo>
                  <a:lnTo>
                    <a:pt x="3947" y="333"/>
                  </a:lnTo>
                  <a:lnTo>
                    <a:pt x="3996" y="343"/>
                  </a:lnTo>
                  <a:lnTo>
                    <a:pt x="4045" y="346"/>
                  </a:lnTo>
                  <a:lnTo>
                    <a:pt x="4095" y="340"/>
                  </a:lnTo>
                  <a:lnTo>
                    <a:pt x="4144" y="351"/>
                  </a:lnTo>
                  <a:lnTo>
                    <a:pt x="4194" y="336"/>
                  </a:lnTo>
                  <a:lnTo>
                    <a:pt x="4242" y="325"/>
                  </a:lnTo>
                  <a:lnTo>
                    <a:pt x="4292" y="326"/>
                  </a:lnTo>
                  <a:lnTo>
                    <a:pt x="4341" y="334"/>
                  </a:lnTo>
                  <a:lnTo>
                    <a:pt x="4391" y="328"/>
                  </a:lnTo>
                  <a:lnTo>
                    <a:pt x="4440" y="326"/>
                  </a:lnTo>
                  <a:lnTo>
                    <a:pt x="4489" y="334"/>
                  </a:lnTo>
                  <a:lnTo>
                    <a:pt x="4539" y="328"/>
                  </a:lnTo>
                  <a:lnTo>
                    <a:pt x="4588" y="326"/>
                  </a:lnTo>
                  <a:lnTo>
                    <a:pt x="4637" y="326"/>
                  </a:lnTo>
                  <a:lnTo>
                    <a:pt x="4687" y="320"/>
                  </a:lnTo>
                  <a:lnTo>
                    <a:pt x="4736" y="325"/>
                  </a:lnTo>
                  <a:lnTo>
                    <a:pt x="4786" y="326"/>
                  </a:lnTo>
                  <a:lnTo>
                    <a:pt x="4834" y="334"/>
                  </a:lnTo>
                  <a:lnTo>
                    <a:pt x="4884" y="319"/>
                  </a:lnTo>
                  <a:lnTo>
                    <a:pt x="4884" y="1429"/>
                  </a:lnTo>
                  <a:lnTo>
                    <a:pt x="4834" y="1435"/>
                  </a:lnTo>
                  <a:lnTo>
                    <a:pt x="4786" y="1433"/>
                  </a:lnTo>
                  <a:lnTo>
                    <a:pt x="4736" y="1433"/>
                  </a:lnTo>
                  <a:lnTo>
                    <a:pt x="4687" y="1433"/>
                  </a:lnTo>
                  <a:lnTo>
                    <a:pt x="4637" y="1435"/>
                  </a:lnTo>
                  <a:lnTo>
                    <a:pt x="4588" y="1436"/>
                  </a:lnTo>
                  <a:lnTo>
                    <a:pt x="4539" y="1438"/>
                  </a:lnTo>
                  <a:lnTo>
                    <a:pt x="4489" y="1440"/>
                  </a:lnTo>
                  <a:lnTo>
                    <a:pt x="4440" y="1439"/>
                  </a:lnTo>
                  <a:lnTo>
                    <a:pt x="4391" y="1442"/>
                  </a:lnTo>
                  <a:lnTo>
                    <a:pt x="4341" y="1444"/>
                  </a:lnTo>
                  <a:lnTo>
                    <a:pt x="4292" y="1443"/>
                  </a:lnTo>
                  <a:lnTo>
                    <a:pt x="4242" y="1444"/>
                  </a:lnTo>
                  <a:lnTo>
                    <a:pt x="4194" y="1451"/>
                  </a:lnTo>
                  <a:lnTo>
                    <a:pt x="4144" y="1457"/>
                  </a:lnTo>
                  <a:lnTo>
                    <a:pt x="4095" y="1454"/>
                  </a:lnTo>
                  <a:lnTo>
                    <a:pt x="4045" y="1458"/>
                  </a:lnTo>
                  <a:lnTo>
                    <a:pt x="3996" y="1459"/>
                  </a:lnTo>
                  <a:lnTo>
                    <a:pt x="3947" y="1457"/>
                  </a:lnTo>
                  <a:lnTo>
                    <a:pt x="3897" y="1466"/>
                  </a:lnTo>
                  <a:lnTo>
                    <a:pt x="3848" y="1470"/>
                  </a:lnTo>
                  <a:lnTo>
                    <a:pt x="3799" y="1470"/>
                  </a:lnTo>
                  <a:lnTo>
                    <a:pt x="3749" y="1472"/>
                  </a:lnTo>
                  <a:lnTo>
                    <a:pt x="3700" y="1474"/>
                  </a:lnTo>
                  <a:lnTo>
                    <a:pt x="3650" y="1483"/>
                  </a:lnTo>
                  <a:lnTo>
                    <a:pt x="3602" y="1490"/>
                  </a:lnTo>
                  <a:lnTo>
                    <a:pt x="3552" y="1489"/>
                  </a:lnTo>
                  <a:lnTo>
                    <a:pt x="3503" y="1493"/>
                  </a:lnTo>
                  <a:lnTo>
                    <a:pt x="3453" y="1495"/>
                  </a:lnTo>
                  <a:lnTo>
                    <a:pt x="3404" y="1497"/>
                  </a:lnTo>
                  <a:lnTo>
                    <a:pt x="3355" y="1492"/>
                  </a:lnTo>
                  <a:lnTo>
                    <a:pt x="3305" y="1509"/>
                  </a:lnTo>
                  <a:lnTo>
                    <a:pt x="3256" y="1517"/>
                  </a:lnTo>
                  <a:lnTo>
                    <a:pt x="3207" y="1509"/>
                  </a:lnTo>
                  <a:lnTo>
                    <a:pt x="3157" y="1517"/>
                  </a:lnTo>
                  <a:lnTo>
                    <a:pt x="3108" y="1524"/>
                  </a:lnTo>
                  <a:lnTo>
                    <a:pt x="3058" y="1520"/>
                  </a:lnTo>
                  <a:lnTo>
                    <a:pt x="3010" y="1532"/>
                  </a:lnTo>
                  <a:lnTo>
                    <a:pt x="2960" y="1528"/>
                  </a:lnTo>
                  <a:lnTo>
                    <a:pt x="2911" y="1535"/>
                  </a:lnTo>
                  <a:lnTo>
                    <a:pt x="2861" y="1540"/>
                  </a:lnTo>
                  <a:lnTo>
                    <a:pt x="2812" y="1541"/>
                  </a:lnTo>
                  <a:lnTo>
                    <a:pt x="2763" y="1550"/>
                  </a:lnTo>
                  <a:lnTo>
                    <a:pt x="2713" y="1557"/>
                  </a:lnTo>
                  <a:lnTo>
                    <a:pt x="2664" y="1563"/>
                  </a:lnTo>
                  <a:lnTo>
                    <a:pt x="2615" y="1568"/>
                  </a:lnTo>
                  <a:lnTo>
                    <a:pt x="2565" y="1572"/>
                  </a:lnTo>
                  <a:lnTo>
                    <a:pt x="2516" y="1583"/>
                  </a:lnTo>
                  <a:lnTo>
                    <a:pt x="2466" y="1582"/>
                  </a:lnTo>
                  <a:lnTo>
                    <a:pt x="2418" y="1589"/>
                  </a:lnTo>
                  <a:lnTo>
                    <a:pt x="2368" y="1596"/>
                  </a:lnTo>
                  <a:lnTo>
                    <a:pt x="2319" y="1597"/>
                  </a:lnTo>
                  <a:lnTo>
                    <a:pt x="2269" y="1609"/>
                  </a:lnTo>
                  <a:lnTo>
                    <a:pt x="2220" y="1614"/>
                  </a:lnTo>
                  <a:lnTo>
                    <a:pt x="2171" y="1616"/>
                  </a:lnTo>
                  <a:lnTo>
                    <a:pt x="2121" y="1623"/>
                  </a:lnTo>
                  <a:lnTo>
                    <a:pt x="2072" y="1629"/>
                  </a:lnTo>
                  <a:lnTo>
                    <a:pt x="2023" y="1623"/>
                  </a:lnTo>
                  <a:lnTo>
                    <a:pt x="1973" y="1637"/>
                  </a:lnTo>
                  <a:lnTo>
                    <a:pt x="1924" y="1638"/>
                  </a:lnTo>
                  <a:lnTo>
                    <a:pt x="1874" y="1637"/>
                  </a:lnTo>
                  <a:lnTo>
                    <a:pt x="1826" y="1647"/>
                  </a:lnTo>
                  <a:lnTo>
                    <a:pt x="1776" y="1653"/>
                  </a:lnTo>
                  <a:lnTo>
                    <a:pt x="1727" y="1643"/>
                  </a:lnTo>
                  <a:lnTo>
                    <a:pt x="1677" y="1654"/>
                  </a:lnTo>
                  <a:lnTo>
                    <a:pt x="1628" y="1653"/>
                  </a:lnTo>
                  <a:lnTo>
                    <a:pt x="1579" y="1646"/>
                  </a:lnTo>
                  <a:lnTo>
                    <a:pt x="1529" y="1653"/>
                  </a:lnTo>
                  <a:lnTo>
                    <a:pt x="1480" y="1652"/>
                  </a:lnTo>
                  <a:lnTo>
                    <a:pt x="1431" y="1643"/>
                  </a:lnTo>
                  <a:lnTo>
                    <a:pt x="1381" y="1649"/>
                  </a:lnTo>
                  <a:lnTo>
                    <a:pt x="1332" y="1644"/>
                  </a:lnTo>
                  <a:lnTo>
                    <a:pt x="1282" y="1632"/>
                  </a:lnTo>
                  <a:lnTo>
                    <a:pt x="1234" y="1645"/>
                  </a:lnTo>
                  <a:lnTo>
                    <a:pt x="1184" y="1637"/>
                  </a:lnTo>
                  <a:lnTo>
                    <a:pt x="1135" y="1626"/>
                  </a:lnTo>
                  <a:lnTo>
                    <a:pt x="1085" y="1635"/>
                  </a:lnTo>
                  <a:lnTo>
                    <a:pt x="1036" y="1631"/>
                  </a:lnTo>
                  <a:lnTo>
                    <a:pt x="987" y="1616"/>
                  </a:lnTo>
                  <a:lnTo>
                    <a:pt x="937" y="1633"/>
                  </a:lnTo>
                  <a:lnTo>
                    <a:pt x="888" y="1625"/>
                  </a:lnTo>
                  <a:lnTo>
                    <a:pt x="839" y="1610"/>
                  </a:lnTo>
                  <a:lnTo>
                    <a:pt x="790" y="1620"/>
                  </a:lnTo>
                  <a:lnTo>
                    <a:pt x="740" y="1609"/>
                  </a:lnTo>
                  <a:lnTo>
                    <a:pt x="690" y="1601"/>
                  </a:lnTo>
                  <a:lnTo>
                    <a:pt x="642" y="1643"/>
                  </a:lnTo>
                  <a:lnTo>
                    <a:pt x="592" y="1648"/>
                  </a:lnTo>
                  <a:lnTo>
                    <a:pt x="543" y="1645"/>
                  </a:lnTo>
                  <a:lnTo>
                    <a:pt x="493" y="1691"/>
                  </a:lnTo>
                  <a:lnTo>
                    <a:pt x="444" y="1697"/>
                  </a:lnTo>
                  <a:lnTo>
                    <a:pt x="395" y="1697"/>
                  </a:lnTo>
                  <a:lnTo>
                    <a:pt x="345" y="1779"/>
                  </a:lnTo>
                  <a:lnTo>
                    <a:pt x="296" y="1776"/>
                  </a:lnTo>
                  <a:lnTo>
                    <a:pt x="247" y="1781"/>
                  </a:lnTo>
                  <a:lnTo>
                    <a:pt x="198" y="1843"/>
                  </a:lnTo>
                  <a:lnTo>
                    <a:pt x="148" y="1864"/>
                  </a:lnTo>
                  <a:lnTo>
                    <a:pt x="98" y="1852"/>
                  </a:lnTo>
                  <a:lnTo>
                    <a:pt x="50" y="1847"/>
                  </a:lnTo>
                  <a:lnTo>
                    <a:pt x="0" y="17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10016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04292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042920" y="50925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042920" y="45705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042920" y="4049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042920" y="35272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042920" y="30052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042920" y="24829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042920" y="1962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042920" y="14400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04292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100160" y="5614920"/>
              <a:ext cx="775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9388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85440" y="4978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85440" y="4456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85440" y="3935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85440" y="3413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80680" y="28908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80680" y="23684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80680" y="18478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80680" y="132552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8068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09080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828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819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211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603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995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86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778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7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562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952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43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735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127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518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910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3026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69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085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4772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94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rot="16200000">
              <a:off x="-612000" y="3072600"/>
              <a:ext cx="189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ter height (m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FP IN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2" name=""/>
          <p:cNvSpPr/>
          <p:nvPr/>
        </p:nvSpPr>
        <p:spPr>
          <a:xfrm>
            <a:off x="2285640" y="5181480"/>
            <a:ext cx="133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113360" y="3809880"/>
            <a:ext cx="166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4" name=""/>
          <p:cNvGrpSpPr/>
          <p:nvPr/>
        </p:nvGrpSpPr>
        <p:grpSpPr>
          <a:xfrm>
            <a:off x="0" y="0"/>
            <a:ext cx="9144000" cy="6084000"/>
            <a:chOff x="0" y="0"/>
            <a:chExt cx="9144000" cy="6084000"/>
          </a:xfrm>
        </p:grpSpPr>
        <p:sp>
          <p:nvSpPr>
            <p:cNvPr id="280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DIMENT LOSS OF ALL LAND-USE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885960" y="917640"/>
              <a:ext cx="7915320" cy="4492440"/>
              <a:chOff x="885960" y="917640"/>
              <a:chExt cx="7915320" cy="4492440"/>
            </a:xfrm>
          </p:grpSpPr>
          <p:sp>
            <p:nvSpPr>
              <p:cNvPr id="2807" name=""/>
              <p:cNvSpPr/>
              <p:nvPr/>
            </p:nvSpPr>
            <p:spPr>
              <a:xfrm>
                <a:off x="942840" y="917640"/>
                <a:ext cx="7858440" cy="4435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942840" y="917640"/>
                <a:ext cx="7858440" cy="4435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942840" y="917640"/>
                <a:ext cx="1800" cy="443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85960" y="5353200"/>
                <a:ext cx="56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85960" y="485928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85960" y="436716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85960" y="387504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85960" y="3381480"/>
                <a:ext cx="56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85960" y="2889360"/>
                <a:ext cx="56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85960" y="239544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85960" y="190332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85960" y="141120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85960" y="917640"/>
                <a:ext cx="56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42840" y="5353200"/>
                <a:ext cx="785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V="1">
                <a:off x="942840" y="5353200"/>
                <a:ext cx="180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V="1">
                <a:off x="2728800" y="5353200"/>
                <a:ext cx="180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451656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6300720" y="5353200"/>
                <a:ext cx="180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8086680" y="5353200"/>
                <a:ext cx="180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014480" y="53481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3" y="1"/>
                    </a:lnTo>
                    <a:lnTo>
                      <a:pt x="9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085760" y="4775040"/>
                <a:ext cx="71640" cy="57312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0" y="361"/>
                    </a:moveTo>
                    <a:lnTo>
                      <a:pt x="1" y="355"/>
                    </a:lnTo>
                    <a:lnTo>
                      <a:pt x="3" y="347"/>
                    </a:lnTo>
                    <a:lnTo>
                      <a:pt x="4" y="339"/>
                    </a:lnTo>
                    <a:lnTo>
                      <a:pt x="6" y="330"/>
                    </a:lnTo>
                    <a:lnTo>
                      <a:pt x="7" y="321"/>
                    </a:lnTo>
                    <a:lnTo>
                      <a:pt x="8" y="310"/>
                    </a:lnTo>
                    <a:lnTo>
                      <a:pt x="11" y="288"/>
                    </a:lnTo>
                    <a:lnTo>
                      <a:pt x="14" y="263"/>
                    </a:lnTo>
                    <a:lnTo>
                      <a:pt x="17" y="237"/>
                    </a:lnTo>
                    <a:lnTo>
                      <a:pt x="19" y="210"/>
                    </a:lnTo>
                    <a:lnTo>
                      <a:pt x="22" y="182"/>
                    </a:lnTo>
                    <a:lnTo>
                      <a:pt x="25" y="153"/>
                    </a:lnTo>
                    <a:lnTo>
                      <a:pt x="27" y="126"/>
                    </a:lnTo>
                    <a:lnTo>
                      <a:pt x="30" y="100"/>
                    </a:lnTo>
                    <a:lnTo>
                      <a:pt x="33" y="74"/>
                    </a:lnTo>
                    <a:lnTo>
                      <a:pt x="37" y="52"/>
                    </a:lnTo>
                    <a:lnTo>
                      <a:pt x="38" y="41"/>
                    </a:lnTo>
                    <a:lnTo>
                      <a:pt x="39" y="32"/>
                    </a:lnTo>
                    <a:lnTo>
                      <a:pt x="41" y="23"/>
                    </a:lnTo>
                    <a:lnTo>
                      <a:pt x="42" y="15"/>
                    </a:lnTo>
                    <a:lnTo>
                      <a:pt x="4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157400" y="474984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6"/>
                    </a:moveTo>
                    <a:lnTo>
                      <a:pt x="1" y="12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5" y="5"/>
                    </a:lnTo>
                    <a:lnTo>
                      <a:pt x="22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5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228680" y="4335480"/>
                <a:ext cx="71640" cy="414360"/>
              </a:xfrm>
              <a:custGeom>
                <a:avLst/>
                <a:gdLst/>
                <a:ahLst/>
                <a:rect l="l" t="t" r="r" b="b"/>
                <a:pathLst>
                  <a:path w="45" h="261">
                    <a:moveTo>
                      <a:pt x="0" y="261"/>
                    </a:moveTo>
                    <a:lnTo>
                      <a:pt x="3" y="252"/>
                    </a:lnTo>
                    <a:lnTo>
                      <a:pt x="6" y="240"/>
                    </a:lnTo>
                    <a:lnTo>
                      <a:pt x="8" y="228"/>
                    </a:lnTo>
                    <a:lnTo>
                      <a:pt x="11" y="214"/>
                    </a:lnTo>
                    <a:lnTo>
                      <a:pt x="14" y="197"/>
                    </a:lnTo>
                    <a:lnTo>
                      <a:pt x="17" y="181"/>
                    </a:lnTo>
                    <a:lnTo>
                      <a:pt x="19" y="164"/>
                    </a:lnTo>
                    <a:lnTo>
                      <a:pt x="22" y="147"/>
                    </a:lnTo>
                    <a:lnTo>
                      <a:pt x="27" y="109"/>
                    </a:lnTo>
                    <a:lnTo>
                      <a:pt x="34" y="72"/>
                    </a:lnTo>
                    <a:lnTo>
                      <a:pt x="39" y="34"/>
                    </a:lnTo>
                    <a:lnTo>
                      <a:pt x="42" y="1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300320" y="3909960"/>
                <a:ext cx="71280" cy="425520"/>
              </a:xfrm>
              <a:custGeom>
                <a:avLst/>
                <a:gdLst/>
                <a:ahLst/>
                <a:rect l="l" t="t" r="r" b="b"/>
                <a:pathLst>
                  <a:path w="45" h="268">
                    <a:moveTo>
                      <a:pt x="0" y="268"/>
                    </a:moveTo>
                    <a:lnTo>
                      <a:pt x="3" y="251"/>
                    </a:lnTo>
                    <a:lnTo>
                      <a:pt x="6" y="233"/>
                    </a:lnTo>
                    <a:lnTo>
                      <a:pt x="8" y="213"/>
                    </a:lnTo>
                    <a:lnTo>
                      <a:pt x="11" y="193"/>
                    </a:lnTo>
                    <a:lnTo>
                      <a:pt x="17" y="152"/>
                    </a:lnTo>
                    <a:lnTo>
                      <a:pt x="22" y="112"/>
                    </a:lnTo>
                    <a:lnTo>
                      <a:pt x="25" y="92"/>
                    </a:lnTo>
                    <a:lnTo>
                      <a:pt x="28" y="74"/>
                    </a:lnTo>
                    <a:lnTo>
                      <a:pt x="31" y="58"/>
                    </a:lnTo>
                    <a:lnTo>
                      <a:pt x="34" y="41"/>
                    </a:lnTo>
                    <a:lnTo>
                      <a:pt x="37" y="28"/>
                    </a:lnTo>
                    <a:lnTo>
                      <a:pt x="39" y="16"/>
                    </a:lnTo>
                    <a:lnTo>
                      <a:pt x="42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1371600" y="3903840"/>
                <a:ext cx="71280" cy="15696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0" y="4"/>
                    </a:move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1" y="7"/>
                    </a:lnTo>
                    <a:lnTo>
                      <a:pt x="14" y="14"/>
                    </a:lnTo>
                    <a:lnTo>
                      <a:pt x="17" y="22"/>
                    </a:lnTo>
                    <a:lnTo>
                      <a:pt x="19" y="31"/>
                    </a:lnTo>
                    <a:lnTo>
                      <a:pt x="22" y="41"/>
                    </a:lnTo>
                    <a:lnTo>
                      <a:pt x="28" y="63"/>
                    </a:lnTo>
                    <a:lnTo>
                      <a:pt x="31" y="73"/>
                    </a:lnTo>
                    <a:lnTo>
                      <a:pt x="34" y="81"/>
                    </a:lnTo>
                    <a:lnTo>
                      <a:pt x="37" y="89"/>
                    </a:lnTo>
                    <a:lnTo>
                      <a:pt x="39" y="95"/>
                    </a:lnTo>
                    <a:lnTo>
                      <a:pt x="42" y="98"/>
                    </a:lnTo>
                    <a:lnTo>
                      <a:pt x="45" y="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442880" y="3884760"/>
                <a:ext cx="71640" cy="176040"/>
              </a:xfrm>
              <a:custGeom>
                <a:avLst/>
                <a:gdLst/>
                <a:ahLst/>
                <a:rect l="l" t="t" r="r" b="b"/>
                <a:pathLst>
                  <a:path w="45" h="111">
                    <a:moveTo>
                      <a:pt x="0" y="111"/>
                    </a:moveTo>
                    <a:lnTo>
                      <a:pt x="2" y="110"/>
                    </a:lnTo>
                    <a:lnTo>
                      <a:pt x="4" y="108"/>
                    </a:lnTo>
                    <a:lnTo>
                      <a:pt x="7" y="105"/>
                    </a:lnTo>
                    <a:lnTo>
                      <a:pt x="10" y="101"/>
                    </a:lnTo>
                    <a:lnTo>
                      <a:pt x="13" y="96"/>
                    </a:lnTo>
                    <a:lnTo>
                      <a:pt x="16" y="91"/>
                    </a:lnTo>
                    <a:lnTo>
                      <a:pt x="19" y="84"/>
                    </a:lnTo>
                    <a:lnTo>
                      <a:pt x="22" y="77"/>
                    </a:lnTo>
                    <a:lnTo>
                      <a:pt x="29" y="60"/>
                    </a:lnTo>
                    <a:lnTo>
                      <a:pt x="35" y="42"/>
                    </a:lnTo>
                    <a:lnTo>
                      <a:pt x="41" y="2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514520" y="3252960"/>
                <a:ext cx="71280" cy="631800"/>
              </a:xfrm>
              <a:custGeom>
                <a:avLst/>
                <a:gdLst/>
                <a:ahLst/>
                <a:rect l="l" t="t" r="r" b="b"/>
                <a:pathLst>
                  <a:path w="45" h="398">
                    <a:moveTo>
                      <a:pt x="0" y="398"/>
                    </a:moveTo>
                    <a:lnTo>
                      <a:pt x="1" y="390"/>
                    </a:lnTo>
                    <a:lnTo>
                      <a:pt x="3" y="379"/>
                    </a:lnTo>
                    <a:lnTo>
                      <a:pt x="4" y="368"/>
                    </a:lnTo>
                    <a:lnTo>
                      <a:pt x="6" y="357"/>
                    </a:lnTo>
                    <a:lnTo>
                      <a:pt x="7" y="344"/>
                    </a:lnTo>
                    <a:lnTo>
                      <a:pt x="8" y="331"/>
                    </a:lnTo>
                    <a:lnTo>
                      <a:pt x="11" y="303"/>
                    </a:lnTo>
                    <a:lnTo>
                      <a:pt x="14" y="272"/>
                    </a:lnTo>
                    <a:lnTo>
                      <a:pt x="17" y="240"/>
                    </a:lnTo>
                    <a:lnTo>
                      <a:pt x="19" y="207"/>
                    </a:lnTo>
                    <a:lnTo>
                      <a:pt x="23" y="174"/>
                    </a:lnTo>
                    <a:lnTo>
                      <a:pt x="26" y="143"/>
                    </a:lnTo>
                    <a:lnTo>
                      <a:pt x="28" y="112"/>
                    </a:lnTo>
                    <a:lnTo>
                      <a:pt x="31" y="84"/>
                    </a:lnTo>
                    <a:lnTo>
                      <a:pt x="33" y="71"/>
                    </a:lnTo>
                    <a:lnTo>
                      <a:pt x="34" y="59"/>
                    </a:lnTo>
                    <a:lnTo>
                      <a:pt x="35" y="47"/>
                    </a:lnTo>
                    <a:lnTo>
                      <a:pt x="37" y="36"/>
                    </a:lnTo>
                    <a:lnTo>
                      <a:pt x="38" y="27"/>
                    </a:lnTo>
                    <a:lnTo>
                      <a:pt x="39" y="19"/>
                    </a:lnTo>
                    <a:lnTo>
                      <a:pt x="41" y="12"/>
                    </a:lnTo>
                    <a:lnTo>
                      <a:pt x="42" y="7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585800" y="3251160"/>
                <a:ext cx="71640" cy="446040"/>
              </a:xfrm>
              <a:custGeom>
                <a:avLst/>
                <a:gdLst/>
                <a:ahLst/>
                <a:rect l="l" t="t" r="r" b="b"/>
                <a:pathLst>
                  <a:path w="45" h="28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4"/>
                    </a:lnTo>
                    <a:lnTo>
                      <a:pt x="7" y="8"/>
                    </a:lnTo>
                    <a:lnTo>
                      <a:pt x="8" y="13"/>
                    </a:lnTo>
                    <a:lnTo>
                      <a:pt x="10" y="18"/>
                    </a:lnTo>
                    <a:lnTo>
                      <a:pt x="11" y="25"/>
                    </a:lnTo>
                    <a:lnTo>
                      <a:pt x="13" y="32"/>
                    </a:lnTo>
                    <a:lnTo>
                      <a:pt x="14" y="41"/>
                    </a:lnTo>
                    <a:lnTo>
                      <a:pt x="17" y="60"/>
                    </a:lnTo>
                    <a:lnTo>
                      <a:pt x="20" y="81"/>
                    </a:lnTo>
                    <a:lnTo>
                      <a:pt x="22" y="103"/>
                    </a:lnTo>
                    <a:lnTo>
                      <a:pt x="25" y="127"/>
                    </a:lnTo>
                    <a:lnTo>
                      <a:pt x="28" y="152"/>
                    </a:lnTo>
                    <a:lnTo>
                      <a:pt x="31" y="177"/>
                    </a:lnTo>
                    <a:lnTo>
                      <a:pt x="34" y="200"/>
                    </a:lnTo>
                    <a:lnTo>
                      <a:pt x="37" y="224"/>
                    </a:lnTo>
                    <a:lnTo>
                      <a:pt x="39" y="245"/>
                    </a:lnTo>
                    <a:lnTo>
                      <a:pt x="42" y="265"/>
                    </a:lnTo>
                    <a:lnTo>
                      <a:pt x="44" y="273"/>
                    </a:lnTo>
                    <a:lnTo>
                      <a:pt x="45" y="2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1657440" y="3697200"/>
                <a:ext cx="71280" cy="363600"/>
              </a:xfrm>
              <a:custGeom>
                <a:avLst/>
                <a:gdLst/>
                <a:ahLst/>
                <a:rect l="l" t="t" r="r" b="b"/>
                <a:pathLst>
                  <a:path w="45" h="229">
                    <a:moveTo>
                      <a:pt x="0" y="0"/>
                    </a:moveTo>
                    <a:lnTo>
                      <a:pt x="1" y="7"/>
                    </a:lnTo>
                    <a:lnTo>
                      <a:pt x="2" y="14"/>
                    </a:lnTo>
                    <a:lnTo>
                      <a:pt x="4" y="24"/>
                    </a:lnTo>
                    <a:lnTo>
                      <a:pt x="5" y="33"/>
                    </a:lnTo>
                    <a:lnTo>
                      <a:pt x="8" y="53"/>
                    </a:lnTo>
                    <a:lnTo>
                      <a:pt x="10" y="75"/>
                    </a:lnTo>
                    <a:lnTo>
                      <a:pt x="13" y="98"/>
                    </a:lnTo>
                    <a:lnTo>
                      <a:pt x="17" y="122"/>
                    </a:lnTo>
                    <a:lnTo>
                      <a:pt x="20" y="145"/>
                    </a:lnTo>
                    <a:lnTo>
                      <a:pt x="23" y="166"/>
                    </a:lnTo>
                    <a:lnTo>
                      <a:pt x="26" y="185"/>
                    </a:lnTo>
                    <a:lnTo>
                      <a:pt x="27" y="195"/>
                    </a:lnTo>
                    <a:lnTo>
                      <a:pt x="29" y="203"/>
                    </a:lnTo>
                    <a:lnTo>
                      <a:pt x="30" y="210"/>
                    </a:lnTo>
                    <a:lnTo>
                      <a:pt x="32" y="216"/>
                    </a:lnTo>
                    <a:lnTo>
                      <a:pt x="33" y="221"/>
                    </a:lnTo>
                    <a:lnTo>
                      <a:pt x="35" y="225"/>
                    </a:lnTo>
                    <a:lnTo>
                      <a:pt x="36" y="228"/>
                    </a:lnTo>
                    <a:lnTo>
                      <a:pt x="37" y="229"/>
                    </a:lnTo>
                    <a:lnTo>
                      <a:pt x="39" y="229"/>
                    </a:lnTo>
                    <a:lnTo>
                      <a:pt x="40" y="227"/>
                    </a:lnTo>
                    <a:lnTo>
                      <a:pt x="41" y="224"/>
                    </a:lnTo>
                    <a:lnTo>
                      <a:pt x="43" y="219"/>
                    </a:lnTo>
                    <a:lnTo>
                      <a:pt x="44" y="213"/>
                    </a:lnTo>
                    <a:lnTo>
                      <a:pt x="45" y="20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1728720" y="2535120"/>
                <a:ext cx="71640" cy="1486080"/>
              </a:xfrm>
              <a:custGeom>
                <a:avLst/>
                <a:gdLst/>
                <a:ahLst/>
                <a:rect l="l" t="t" r="r" b="b"/>
                <a:pathLst>
                  <a:path w="45" h="936">
                    <a:moveTo>
                      <a:pt x="0" y="936"/>
                    </a:moveTo>
                    <a:lnTo>
                      <a:pt x="1" y="930"/>
                    </a:lnTo>
                    <a:lnTo>
                      <a:pt x="1" y="923"/>
                    </a:lnTo>
                    <a:lnTo>
                      <a:pt x="2" y="914"/>
                    </a:lnTo>
                    <a:lnTo>
                      <a:pt x="3" y="905"/>
                    </a:lnTo>
                    <a:lnTo>
                      <a:pt x="3" y="896"/>
                    </a:lnTo>
                    <a:lnTo>
                      <a:pt x="4" y="885"/>
                    </a:lnTo>
                    <a:lnTo>
                      <a:pt x="5" y="874"/>
                    </a:lnTo>
                    <a:lnTo>
                      <a:pt x="6" y="862"/>
                    </a:lnTo>
                    <a:lnTo>
                      <a:pt x="7" y="836"/>
                    </a:lnTo>
                    <a:lnTo>
                      <a:pt x="8" y="808"/>
                    </a:lnTo>
                    <a:lnTo>
                      <a:pt x="10" y="777"/>
                    </a:lnTo>
                    <a:lnTo>
                      <a:pt x="11" y="744"/>
                    </a:lnTo>
                    <a:lnTo>
                      <a:pt x="13" y="709"/>
                    </a:lnTo>
                    <a:lnTo>
                      <a:pt x="14" y="674"/>
                    </a:lnTo>
                    <a:lnTo>
                      <a:pt x="15" y="636"/>
                    </a:lnTo>
                    <a:lnTo>
                      <a:pt x="17" y="598"/>
                    </a:lnTo>
                    <a:lnTo>
                      <a:pt x="18" y="558"/>
                    </a:lnTo>
                    <a:lnTo>
                      <a:pt x="20" y="519"/>
                    </a:lnTo>
                    <a:lnTo>
                      <a:pt x="22" y="438"/>
                    </a:lnTo>
                    <a:lnTo>
                      <a:pt x="25" y="359"/>
                    </a:lnTo>
                    <a:lnTo>
                      <a:pt x="27" y="320"/>
                    </a:lnTo>
                    <a:lnTo>
                      <a:pt x="28" y="283"/>
                    </a:lnTo>
                    <a:lnTo>
                      <a:pt x="30" y="246"/>
                    </a:lnTo>
                    <a:lnTo>
                      <a:pt x="31" y="211"/>
                    </a:lnTo>
                    <a:lnTo>
                      <a:pt x="32" y="179"/>
                    </a:lnTo>
                    <a:lnTo>
                      <a:pt x="34" y="147"/>
                    </a:lnTo>
                    <a:lnTo>
                      <a:pt x="35" y="118"/>
                    </a:lnTo>
                    <a:lnTo>
                      <a:pt x="37" y="92"/>
                    </a:lnTo>
                    <a:lnTo>
                      <a:pt x="38" y="68"/>
                    </a:lnTo>
                    <a:lnTo>
                      <a:pt x="39" y="57"/>
                    </a:lnTo>
                    <a:lnTo>
                      <a:pt x="39" y="47"/>
                    </a:lnTo>
                    <a:lnTo>
                      <a:pt x="40" y="38"/>
                    </a:lnTo>
                    <a:lnTo>
                      <a:pt x="41" y="30"/>
                    </a:lnTo>
                    <a:lnTo>
                      <a:pt x="41" y="23"/>
                    </a:lnTo>
                    <a:lnTo>
                      <a:pt x="42" y="16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1800360" y="2530440"/>
                <a:ext cx="71280" cy="1074600"/>
              </a:xfrm>
              <a:custGeom>
                <a:avLst/>
                <a:gdLst/>
                <a:ahLst/>
                <a:rect l="l" t="t" r="r" b="b"/>
                <a:pathLst>
                  <a:path w="45" h="677">
                    <a:moveTo>
                      <a:pt x="0" y="3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14"/>
                    </a:lnTo>
                    <a:lnTo>
                      <a:pt x="7" y="25"/>
                    </a:lnTo>
                    <a:lnTo>
                      <a:pt x="8" y="38"/>
                    </a:lnTo>
                    <a:lnTo>
                      <a:pt x="11" y="54"/>
                    </a:lnTo>
                    <a:lnTo>
                      <a:pt x="12" y="72"/>
                    </a:lnTo>
                    <a:lnTo>
                      <a:pt x="13" y="93"/>
                    </a:lnTo>
                    <a:lnTo>
                      <a:pt x="15" y="115"/>
                    </a:lnTo>
                    <a:lnTo>
                      <a:pt x="16" y="138"/>
                    </a:lnTo>
                    <a:lnTo>
                      <a:pt x="18" y="163"/>
                    </a:lnTo>
                    <a:lnTo>
                      <a:pt x="19" y="191"/>
                    </a:lnTo>
                    <a:lnTo>
                      <a:pt x="20" y="218"/>
                    </a:lnTo>
                    <a:lnTo>
                      <a:pt x="22" y="247"/>
                    </a:lnTo>
                    <a:lnTo>
                      <a:pt x="23" y="277"/>
                    </a:lnTo>
                    <a:lnTo>
                      <a:pt x="26" y="336"/>
                    </a:lnTo>
                    <a:lnTo>
                      <a:pt x="28" y="397"/>
                    </a:lnTo>
                    <a:lnTo>
                      <a:pt x="31" y="456"/>
                    </a:lnTo>
                    <a:lnTo>
                      <a:pt x="33" y="485"/>
                    </a:lnTo>
                    <a:lnTo>
                      <a:pt x="34" y="513"/>
                    </a:lnTo>
                    <a:lnTo>
                      <a:pt x="35" y="539"/>
                    </a:lnTo>
                    <a:lnTo>
                      <a:pt x="37" y="564"/>
                    </a:lnTo>
                    <a:lnTo>
                      <a:pt x="38" y="588"/>
                    </a:lnTo>
                    <a:lnTo>
                      <a:pt x="39" y="610"/>
                    </a:lnTo>
                    <a:lnTo>
                      <a:pt x="41" y="630"/>
                    </a:lnTo>
                    <a:lnTo>
                      <a:pt x="42" y="648"/>
                    </a:lnTo>
                    <a:lnTo>
                      <a:pt x="43" y="663"/>
                    </a:lnTo>
                    <a:lnTo>
                      <a:pt x="45" y="67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1871640" y="3605040"/>
                <a:ext cx="71640" cy="127080"/>
              </a:xfrm>
              <a:custGeom>
                <a:avLst/>
                <a:gdLst/>
                <a:ahLst/>
                <a:rect l="l" t="t" r="r" b="b"/>
                <a:pathLst>
                  <a:path w="45" h="80">
                    <a:moveTo>
                      <a:pt x="0" y="0"/>
                    </a:moveTo>
                    <a:lnTo>
                      <a:pt x="3" y="16"/>
                    </a:lnTo>
                    <a:lnTo>
                      <a:pt x="8" y="33"/>
                    </a:lnTo>
                    <a:lnTo>
                      <a:pt x="15" y="49"/>
                    </a:lnTo>
                    <a:lnTo>
                      <a:pt x="19" y="56"/>
                    </a:lnTo>
                    <a:lnTo>
                      <a:pt x="22" y="62"/>
                    </a:lnTo>
                    <a:lnTo>
                      <a:pt x="26" y="68"/>
                    </a:lnTo>
                    <a:lnTo>
                      <a:pt x="30" y="72"/>
                    </a:lnTo>
                    <a:lnTo>
                      <a:pt x="33" y="76"/>
                    </a:lnTo>
                    <a:lnTo>
                      <a:pt x="37" y="78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4" y="77"/>
                    </a:lnTo>
                    <a:lnTo>
                      <a:pt x="45" y="7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1943280" y="2884320"/>
                <a:ext cx="71280" cy="836640"/>
              </a:xfrm>
              <a:custGeom>
                <a:avLst/>
                <a:gdLst/>
                <a:ahLst/>
                <a:rect l="l" t="t" r="r" b="b"/>
                <a:pathLst>
                  <a:path w="45" h="527">
                    <a:moveTo>
                      <a:pt x="0" y="527"/>
                    </a:moveTo>
                    <a:lnTo>
                      <a:pt x="1" y="519"/>
                    </a:lnTo>
                    <a:lnTo>
                      <a:pt x="3" y="508"/>
                    </a:lnTo>
                    <a:lnTo>
                      <a:pt x="5" y="496"/>
                    </a:lnTo>
                    <a:lnTo>
                      <a:pt x="7" y="482"/>
                    </a:lnTo>
                    <a:lnTo>
                      <a:pt x="8" y="466"/>
                    </a:lnTo>
                    <a:lnTo>
                      <a:pt x="9" y="447"/>
                    </a:lnTo>
                    <a:lnTo>
                      <a:pt x="11" y="428"/>
                    </a:lnTo>
                    <a:lnTo>
                      <a:pt x="12" y="408"/>
                    </a:lnTo>
                    <a:lnTo>
                      <a:pt x="13" y="387"/>
                    </a:lnTo>
                    <a:lnTo>
                      <a:pt x="15" y="363"/>
                    </a:lnTo>
                    <a:lnTo>
                      <a:pt x="18" y="317"/>
                    </a:lnTo>
                    <a:lnTo>
                      <a:pt x="20" y="269"/>
                    </a:lnTo>
                    <a:lnTo>
                      <a:pt x="23" y="221"/>
                    </a:lnTo>
                    <a:lnTo>
                      <a:pt x="26" y="174"/>
                    </a:lnTo>
                    <a:lnTo>
                      <a:pt x="27" y="152"/>
                    </a:lnTo>
                    <a:lnTo>
                      <a:pt x="28" y="131"/>
                    </a:lnTo>
                    <a:lnTo>
                      <a:pt x="30" y="109"/>
                    </a:lnTo>
                    <a:lnTo>
                      <a:pt x="31" y="90"/>
                    </a:lnTo>
                    <a:lnTo>
                      <a:pt x="33" y="72"/>
                    </a:lnTo>
                    <a:lnTo>
                      <a:pt x="34" y="56"/>
                    </a:lnTo>
                    <a:lnTo>
                      <a:pt x="35" y="42"/>
                    </a:lnTo>
                    <a:lnTo>
                      <a:pt x="37" y="28"/>
                    </a:lnTo>
                    <a:lnTo>
                      <a:pt x="38" y="18"/>
                    </a:lnTo>
                    <a:lnTo>
                      <a:pt x="39" y="9"/>
                    </a:lnTo>
                    <a:lnTo>
                      <a:pt x="41" y="4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2014560" y="2887560"/>
                <a:ext cx="73080" cy="1228680"/>
              </a:xfrm>
              <a:custGeom>
                <a:avLst/>
                <a:gdLst/>
                <a:ahLst/>
                <a:rect l="l" t="t" r="r" b="b"/>
                <a:pathLst>
                  <a:path w="46" h="774">
                    <a:moveTo>
                      <a:pt x="0" y="0"/>
                    </a:moveTo>
                    <a:lnTo>
                      <a:pt x="1" y="2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3" y="14"/>
                    </a:lnTo>
                    <a:lnTo>
                      <a:pt x="4" y="26"/>
                    </a:lnTo>
                    <a:lnTo>
                      <a:pt x="6" y="41"/>
                    </a:lnTo>
                    <a:lnTo>
                      <a:pt x="7" y="57"/>
                    </a:lnTo>
                    <a:lnTo>
                      <a:pt x="8" y="77"/>
                    </a:lnTo>
                    <a:lnTo>
                      <a:pt x="10" y="98"/>
                    </a:lnTo>
                    <a:lnTo>
                      <a:pt x="11" y="122"/>
                    </a:lnTo>
                    <a:lnTo>
                      <a:pt x="13" y="147"/>
                    </a:lnTo>
                    <a:lnTo>
                      <a:pt x="14" y="173"/>
                    </a:lnTo>
                    <a:lnTo>
                      <a:pt x="15" y="202"/>
                    </a:lnTo>
                    <a:lnTo>
                      <a:pt x="17" y="231"/>
                    </a:lnTo>
                    <a:lnTo>
                      <a:pt x="18" y="261"/>
                    </a:lnTo>
                    <a:lnTo>
                      <a:pt x="20" y="293"/>
                    </a:lnTo>
                    <a:lnTo>
                      <a:pt x="22" y="357"/>
                    </a:lnTo>
                    <a:lnTo>
                      <a:pt x="25" y="422"/>
                    </a:lnTo>
                    <a:lnTo>
                      <a:pt x="28" y="487"/>
                    </a:lnTo>
                    <a:lnTo>
                      <a:pt x="30" y="518"/>
                    </a:lnTo>
                    <a:lnTo>
                      <a:pt x="31" y="550"/>
                    </a:lnTo>
                    <a:lnTo>
                      <a:pt x="32" y="579"/>
                    </a:lnTo>
                    <a:lnTo>
                      <a:pt x="34" y="608"/>
                    </a:lnTo>
                    <a:lnTo>
                      <a:pt x="35" y="636"/>
                    </a:lnTo>
                    <a:lnTo>
                      <a:pt x="37" y="661"/>
                    </a:lnTo>
                    <a:lnTo>
                      <a:pt x="38" y="685"/>
                    </a:lnTo>
                    <a:lnTo>
                      <a:pt x="39" y="708"/>
                    </a:lnTo>
                    <a:lnTo>
                      <a:pt x="41" y="728"/>
                    </a:lnTo>
                    <a:lnTo>
                      <a:pt x="42" y="746"/>
                    </a:lnTo>
                    <a:lnTo>
                      <a:pt x="43" y="761"/>
                    </a:lnTo>
                    <a:lnTo>
                      <a:pt x="46" y="77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2087640" y="404640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0" y="44"/>
                    </a:moveTo>
                    <a:lnTo>
                      <a:pt x="1" y="47"/>
                    </a:lnTo>
                    <a:lnTo>
                      <a:pt x="2" y="49"/>
                    </a:lnTo>
                    <a:lnTo>
                      <a:pt x="5" y="50"/>
                    </a:lnTo>
                    <a:lnTo>
                      <a:pt x="8" y="50"/>
                    </a:lnTo>
                    <a:lnTo>
                      <a:pt x="11" y="49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2" y="41"/>
                    </a:lnTo>
                    <a:lnTo>
                      <a:pt x="30" y="33"/>
                    </a:lnTo>
                    <a:lnTo>
                      <a:pt x="36" y="23"/>
                    </a:lnTo>
                    <a:lnTo>
                      <a:pt x="42" y="12"/>
                    </a:lnTo>
                    <a:lnTo>
                      <a:pt x="4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2157480" y="2311560"/>
                <a:ext cx="73080" cy="1734840"/>
              </a:xfrm>
              <a:custGeom>
                <a:avLst/>
                <a:gdLst/>
                <a:ahLst/>
                <a:rect l="l" t="t" r="r" b="b"/>
                <a:pathLst>
                  <a:path w="46" h="1093">
                    <a:moveTo>
                      <a:pt x="0" y="1093"/>
                    </a:moveTo>
                    <a:lnTo>
                      <a:pt x="1" y="1084"/>
                    </a:lnTo>
                    <a:lnTo>
                      <a:pt x="1" y="1074"/>
                    </a:lnTo>
                    <a:lnTo>
                      <a:pt x="2" y="1061"/>
                    </a:lnTo>
                    <a:lnTo>
                      <a:pt x="3" y="1050"/>
                    </a:lnTo>
                    <a:lnTo>
                      <a:pt x="3" y="1037"/>
                    </a:lnTo>
                    <a:lnTo>
                      <a:pt x="4" y="1023"/>
                    </a:lnTo>
                    <a:lnTo>
                      <a:pt x="5" y="1009"/>
                    </a:lnTo>
                    <a:lnTo>
                      <a:pt x="6" y="994"/>
                    </a:lnTo>
                    <a:lnTo>
                      <a:pt x="7" y="960"/>
                    </a:lnTo>
                    <a:lnTo>
                      <a:pt x="8" y="926"/>
                    </a:lnTo>
                    <a:lnTo>
                      <a:pt x="10" y="888"/>
                    </a:lnTo>
                    <a:lnTo>
                      <a:pt x="11" y="849"/>
                    </a:lnTo>
                    <a:lnTo>
                      <a:pt x="13" y="807"/>
                    </a:lnTo>
                    <a:lnTo>
                      <a:pt x="14" y="765"/>
                    </a:lnTo>
                    <a:lnTo>
                      <a:pt x="15" y="720"/>
                    </a:lnTo>
                    <a:lnTo>
                      <a:pt x="17" y="676"/>
                    </a:lnTo>
                    <a:lnTo>
                      <a:pt x="20" y="585"/>
                    </a:lnTo>
                    <a:lnTo>
                      <a:pt x="22" y="493"/>
                    </a:lnTo>
                    <a:lnTo>
                      <a:pt x="24" y="447"/>
                    </a:lnTo>
                    <a:lnTo>
                      <a:pt x="25" y="403"/>
                    </a:lnTo>
                    <a:lnTo>
                      <a:pt x="27" y="359"/>
                    </a:lnTo>
                    <a:lnTo>
                      <a:pt x="28" y="317"/>
                    </a:lnTo>
                    <a:lnTo>
                      <a:pt x="30" y="275"/>
                    </a:lnTo>
                    <a:lnTo>
                      <a:pt x="31" y="236"/>
                    </a:lnTo>
                    <a:lnTo>
                      <a:pt x="32" y="199"/>
                    </a:lnTo>
                    <a:lnTo>
                      <a:pt x="34" y="164"/>
                    </a:lnTo>
                    <a:lnTo>
                      <a:pt x="35" y="131"/>
                    </a:lnTo>
                    <a:lnTo>
                      <a:pt x="36" y="116"/>
                    </a:lnTo>
                    <a:lnTo>
                      <a:pt x="37" y="102"/>
                    </a:lnTo>
                    <a:lnTo>
                      <a:pt x="37" y="88"/>
                    </a:lnTo>
                    <a:lnTo>
                      <a:pt x="38" y="76"/>
                    </a:lnTo>
                    <a:lnTo>
                      <a:pt x="40" y="64"/>
                    </a:lnTo>
                    <a:lnTo>
                      <a:pt x="40" y="52"/>
                    </a:lnTo>
                    <a:lnTo>
                      <a:pt x="41" y="42"/>
                    </a:lnTo>
                    <a:lnTo>
                      <a:pt x="42" y="33"/>
                    </a:lnTo>
                    <a:lnTo>
                      <a:pt x="43" y="25"/>
                    </a:lnTo>
                    <a:lnTo>
                      <a:pt x="43" y="18"/>
                    </a:lnTo>
                    <a:lnTo>
                      <a:pt x="44" y="12"/>
                    </a:lnTo>
                    <a:lnTo>
                      <a:pt x="45" y="7"/>
                    </a:lnTo>
                    <a:lnTo>
                      <a:pt x="45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2230560" y="2308320"/>
                <a:ext cx="69840" cy="1288800"/>
              </a:xfrm>
              <a:custGeom>
                <a:avLst/>
                <a:gdLst/>
                <a:ahLst/>
                <a:rect l="l" t="t" r="r" b="b"/>
                <a:pathLst>
                  <a:path w="44" h="81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4" y="8"/>
                    </a:lnTo>
                    <a:lnTo>
                      <a:pt x="5" y="13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7" y="31"/>
                    </a:lnTo>
                    <a:lnTo>
                      <a:pt x="8" y="39"/>
                    </a:lnTo>
                    <a:lnTo>
                      <a:pt x="8" y="48"/>
                    </a:lnTo>
                    <a:lnTo>
                      <a:pt x="9" y="57"/>
                    </a:lnTo>
                    <a:lnTo>
                      <a:pt x="10" y="69"/>
                    </a:lnTo>
                    <a:lnTo>
                      <a:pt x="11" y="91"/>
                    </a:lnTo>
                    <a:lnTo>
                      <a:pt x="12" y="116"/>
                    </a:lnTo>
                    <a:lnTo>
                      <a:pt x="14" y="144"/>
                    </a:lnTo>
                    <a:lnTo>
                      <a:pt x="15" y="173"/>
                    </a:lnTo>
                    <a:lnTo>
                      <a:pt x="17" y="204"/>
                    </a:lnTo>
                    <a:lnTo>
                      <a:pt x="18" y="237"/>
                    </a:lnTo>
                    <a:lnTo>
                      <a:pt x="19" y="271"/>
                    </a:lnTo>
                    <a:lnTo>
                      <a:pt x="21" y="306"/>
                    </a:lnTo>
                    <a:lnTo>
                      <a:pt x="22" y="342"/>
                    </a:lnTo>
                    <a:lnTo>
                      <a:pt x="25" y="415"/>
                    </a:lnTo>
                    <a:lnTo>
                      <a:pt x="27" y="488"/>
                    </a:lnTo>
                    <a:lnTo>
                      <a:pt x="29" y="524"/>
                    </a:lnTo>
                    <a:lnTo>
                      <a:pt x="30" y="558"/>
                    </a:lnTo>
                    <a:lnTo>
                      <a:pt x="32" y="593"/>
                    </a:lnTo>
                    <a:lnTo>
                      <a:pt x="33" y="625"/>
                    </a:lnTo>
                    <a:lnTo>
                      <a:pt x="34" y="657"/>
                    </a:lnTo>
                    <a:lnTo>
                      <a:pt x="36" y="686"/>
                    </a:lnTo>
                    <a:lnTo>
                      <a:pt x="37" y="714"/>
                    </a:lnTo>
                    <a:lnTo>
                      <a:pt x="38" y="740"/>
                    </a:lnTo>
                    <a:lnTo>
                      <a:pt x="40" y="762"/>
                    </a:lnTo>
                    <a:lnTo>
                      <a:pt x="41" y="782"/>
                    </a:lnTo>
                    <a:lnTo>
                      <a:pt x="42" y="791"/>
                    </a:lnTo>
                    <a:lnTo>
                      <a:pt x="42" y="798"/>
                    </a:lnTo>
                    <a:lnTo>
                      <a:pt x="43" y="806"/>
                    </a:lnTo>
                    <a:lnTo>
                      <a:pt x="44" y="81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2300400" y="3522600"/>
                <a:ext cx="71280" cy="90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47"/>
                    </a:moveTo>
                    <a:lnTo>
                      <a:pt x="1" y="53"/>
                    </a:lnTo>
                    <a:lnTo>
                      <a:pt x="3" y="56"/>
                    </a:lnTo>
                    <a:lnTo>
                      <a:pt x="5" y="57"/>
                    </a:lnTo>
                    <a:lnTo>
                      <a:pt x="8" y="57"/>
                    </a:lnTo>
                    <a:lnTo>
                      <a:pt x="11" y="56"/>
                    </a:lnTo>
                    <a:lnTo>
                      <a:pt x="15" y="53"/>
                    </a:lnTo>
                    <a:lnTo>
                      <a:pt x="18" y="49"/>
                    </a:lnTo>
                    <a:lnTo>
                      <a:pt x="22" y="44"/>
                    </a:lnTo>
                    <a:lnTo>
                      <a:pt x="29" y="33"/>
                    </a:lnTo>
                    <a:lnTo>
                      <a:pt x="37" y="21"/>
                    </a:lnTo>
                    <a:lnTo>
                      <a:pt x="42" y="10"/>
                    </a:lnTo>
                    <a:lnTo>
                      <a:pt x="4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2371680" y="2727360"/>
                <a:ext cx="71640" cy="795240"/>
              </a:xfrm>
              <a:custGeom>
                <a:avLst/>
                <a:gdLst/>
                <a:ahLst/>
                <a:rect l="l" t="t" r="r" b="b"/>
                <a:pathLst>
                  <a:path w="45" h="501">
                    <a:moveTo>
                      <a:pt x="0" y="501"/>
                    </a:moveTo>
                    <a:lnTo>
                      <a:pt x="1" y="492"/>
                    </a:lnTo>
                    <a:lnTo>
                      <a:pt x="3" y="480"/>
                    </a:lnTo>
                    <a:lnTo>
                      <a:pt x="4" y="467"/>
                    </a:lnTo>
                    <a:lnTo>
                      <a:pt x="6" y="451"/>
                    </a:lnTo>
                    <a:lnTo>
                      <a:pt x="7" y="434"/>
                    </a:lnTo>
                    <a:lnTo>
                      <a:pt x="8" y="417"/>
                    </a:lnTo>
                    <a:lnTo>
                      <a:pt x="10" y="398"/>
                    </a:lnTo>
                    <a:lnTo>
                      <a:pt x="11" y="377"/>
                    </a:lnTo>
                    <a:lnTo>
                      <a:pt x="13" y="356"/>
                    </a:lnTo>
                    <a:lnTo>
                      <a:pt x="14" y="334"/>
                    </a:lnTo>
                    <a:lnTo>
                      <a:pt x="17" y="289"/>
                    </a:lnTo>
                    <a:lnTo>
                      <a:pt x="20" y="243"/>
                    </a:lnTo>
                    <a:lnTo>
                      <a:pt x="22" y="197"/>
                    </a:lnTo>
                    <a:lnTo>
                      <a:pt x="25" y="154"/>
                    </a:lnTo>
                    <a:lnTo>
                      <a:pt x="27" y="133"/>
                    </a:lnTo>
                    <a:lnTo>
                      <a:pt x="28" y="113"/>
                    </a:lnTo>
                    <a:lnTo>
                      <a:pt x="30" y="94"/>
                    </a:lnTo>
                    <a:lnTo>
                      <a:pt x="31" y="77"/>
                    </a:lnTo>
                    <a:lnTo>
                      <a:pt x="32" y="61"/>
                    </a:lnTo>
                    <a:lnTo>
                      <a:pt x="34" y="45"/>
                    </a:lnTo>
                    <a:lnTo>
                      <a:pt x="35" y="32"/>
                    </a:lnTo>
                    <a:lnTo>
                      <a:pt x="37" y="21"/>
                    </a:lnTo>
                    <a:lnTo>
                      <a:pt x="38" y="12"/>
                    </a:lnTo>
                    <a:lnTo>
                      <a:pt x="39" y="6"/>
                    </a:lnTo>
                    <a:lnTo>
                      <a:pt x="41" y="1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2443320" y="2733840"/>
                <a:ext cx="71280" cy="1315800"/>
              </a:xfrm>
              <a:custGeom>
                <a:avLst/>
                <a:gdLst/>
                <a:ahLst/>
                <a:rect l="l" t="t" r="r" b="b"/>
                <a:pathLst>
                  <a:path w="45" h="829">
                    <a:moveTo>
                      <a:pt x="0" y="0"/>
                    </a:moveTo>
                    <a:lnTo>
                      <a:pt x="1" y="3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6" y="47"/>
                    </a:lnTo>
                    <a:lnTo>
                      <a:pt x="7" y="65"/>
                    </a:lnTo>
                    <a:lnTo>
                      <a:pt x="8" y="86"/>
                    </a:lnTo>
                    <a:lnTo>
                      <a:pt x="10" y="109"/>
                    </a:lnTo>
                    <a:lnTo>
                      <a:pt x="11" y="135"/>
                    </a:lnTo>
                    <a:lnTo>
                      <a:pt x="12" y="161"/>
                    </a:lnTo>
                    <a:lnTo>
                      <a:pt x="14" y="190"/>
                    </a:lnTo>
                    <a:lnTo>
                      <a:pt x="15" y="221"/>
                    </a:lnTo>
                    <a:lnTo>
                      <a:pt x="17" y="252"/>
                    </a:lnTo>
                    <a:lnTo>
                      <a:pt x="18" y="284"/>
                    </a:lnTo>
                    <a:lnTo>
                      <a:pt x="19" y="318"/>
                    </a:lnTo>
                    <a:lnTo>
                      <a:pt x="22" y="386"/>
                    </a:lnTo>
                    <a:lnTo>
                      <a:pt x="25" y="454"/>
                    </a:lnTo>
                    <a:lnTo>
                      <a:pt x="27" y="523"/>
                    </a:lnTo>
                    <a:lnTo>
                      <a:pt x="30" y="557"/>
                    </a:lnTo>
                    <a:lnTo>
                      <a:pt x="31" y="589"/>
                    </a:lnTo>
                    <a:lnTo>
                      <a:pt x="33" y="621"/>
                    </a:lnTo>
                    <a:lnTo>
                      <a:pt x="34" y="652"/>
                    </a:lnTo>
                    <a:lnTo>
                      <a:pt x="35" y="680"/>
                    </a:lnTo>
                    <a:lnTo>
                      <a:pt x="37" y="708"/>
                    </a:lnTo>
                    <a:lnTo>
                      <a:pt x="38" y="734"/>
                    </a:lnTo>
                    <a:lnTo>
                      <a:pt x="39" y="758"/>
                    </a:lnTo>
                    <a:lnTo>
                      <a:pt x="41" y="779"/>
                    </a:lnTo>
                    <a:lnTo>
                      <a:pt x="42" y="799"/>
                    </a:lnTo>
                    <a:lnTo>
                      <a:pt x="43" y="815"/>
                    </a:lnTo>
                    <a:lnTo>
                      <a:pt x="45" y="82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2514600" y="3989520"/>
                <a:ext cx="71280" cy="6984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0" y="38"/>
                    </a:moveTo>
                    <a:lnTo>
                      <a:pt x="1" y="41"/>
                    </a:lnTo>
                    <a:lnTo>
                      <a:pt x="2" y="43"/>
                    </a:lnTo>
                    <a:lnTo>
                      <a:pt x="5" y="44"/>
                    </a:lnTo>
                    <a:lnTo>
                      <a:pt x="8" y="44"/>
                    </a:lnTo>
                    <a:lnTo>
                      <a:pt x="11" y="43"/>
                    </a:lnTo>
                    <a:lnTo>
                      <a:pt x="15" y="42"/>
                    </a:lnTo>
                    <a:lnTo>
                      <a:pt x="22" y="37"/>
                    </a:lnTo>
                    <a:lnTo>
                      <a:pt x="30" y="30"/>
                    </a:lnTo>
                    <a:lnTo>
                      <a:pt x="37" y="22"/>
                    </a:lnTo>
                    <a:lnTo>
                      <a:pt x="43" y="12"/>
                    </a:lnTo>
                    <a:lnTo>
                      <a:pt x="4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585880" y="2004840"/>
                <a:ext cx="71640" cy="1984680"/>
              </a:xfrm>
              <a:custGeom>
                <a:avLst/>
                <a:gdLst/>
                <a:ahLst/>
                <a:rect l="l" t="t" r="r" b="b"/>
                <a:pathLst>
                  <a:path w="45" h="1250">
                    <a:moveTo>
                      <a:pt x="0" y="1250"/>
                    </a:moveTo>
                    <a:lnTo>
                      <a:pt x="1" y="1240"/>
                    </a:lnTo>
                    <a:lnTo>
                      <a:pt x="1" y="1228"/>
                    </a:lnTo>
                    <a:lnTo>
                      <a:pt x="2" y="1215"/>
                    </a:lnTo>
                    <a:lnTo>
                      <a:pt x="3" y="1202"/>
                    </a:lnTo>
                    <a:lnTo>
                      <a:pt x="3" y="1187"/>
                    </a:lnTo>
                    <a:lnTo>
                      <a:pt x="4" y="1172"/>
                    </a:lnTo>
                    <a:lnTo>
                      <a:pt x="5" y="1155"/>
                    </a:lnTo>
                    <a:lnTo>
                      <a:pt x="6" y="1137"/>
                    </a:lnTo>
                    <a:lnTo>
                      <a:pt x="6" y="1119"/>
                    </a:lnTo>
                    <a:lnTo>
                      <a:pt x="7" y="1101"/>
                    </a:lnTo>
                    <a:lnTo>
                      <a:pt x="8" y="1060"/>
                    </a:lnTo>
                    <a:lnTo>
                      <a:pt x="10" y="1018"/>
                    </a:lnTo>
                    <a:lnTo>
                      <a:pt x="11" y="972"/>
                    </a:lnTo>
                    <a:lnTo>
                      <a:pt x="12" y="926"/>
                    </a:lnTo>
                    <a:lnTo>
                      <a:pt x="14" y="877"/>
                    </a:lnTo>
                    <a:lnTo>
                      <a:pt x="15" y="826"/>
                    </a:lnTo>
                    <a:lnTo>
                      <a:pt x="16" y="776"/>
                    </a:lnTo>
                    <a:lnTo>
                      <a:pt x="18" y="724"/>
                    </a:lnTo>
                    <a:lnTo>
                      <a:pt x="19" y="672"/>
                    </a:lnTo>
                    <a:lnTo>
                      <a:pt x="22" y="566"/>
                    </a:lnTo>
                    <a:lnTo>
                      <a:pt x="24" y="515"/>
                    </a:lnTo>
                    <a:lnTo>
                      <a:pt x="26" y="463"/>
                    </a:lnTo>
                    <a:lnTo>
                      <a:pt x="27" y="413"/>
                    </a:lnTo>
                    <a:lnTo>
                      <a:pt x="28" y="364"/>
                    </a:lnTo>
                    <a:lnTo>
                      <a:pt x="30" y="317"/>
                    </a:lnTo>
                    <a:lnTo>
                      <a:pt x="31" y="273"/>
                    </a:lnTo>
                    <a:lnTo>
                      <a:pt x="33" y="229"/>
                    </a:lnTo>
                    <a:lnTo>
                      <a:pt x="34" y="190"/>
                    </a:lnTo>
                    <a:lnTo>
                      <a:pt x="35" y="171"/>
                    </a:lnTo>
                    <a:lnTo>
                      <a:pt x="35" y="152"/>
                    </a:lnTo>
                    <a:lnTo>
                      <a:pt x="36" y="135"/>
                    </a:lnTo>
                    <a:lnTo>
                      <a:pt x="37" y="118"/>
                    </a:lnTo>
                    <a:lnTo>
                      <a:pt x="37" y="103"/>
                    </a:lnTo>
                    <a:lnTo>
                      <a:pt x="38" y="88"/>
                    </a:lnTo>
                    <a:lnTo>
                      <a:pt x="39" y="74"/>
                    </a:lnTo>
                    <a:lnTo>
                      <a:pt x="39" y="61"/>
                    </a:lnTo>
                    <a:lnTo>
                      <a:pt x="40" y="49"/>
                    </a:lnTo>
                    <a:lnTo>
                      <a:pt x="41" y="39"/>
                    </a:lnTo>
                    <a:lnTo>
                      <a:pt x="42" y="29"/>
                    </a:lnTo>
                    <a:lnTo>
                      <a:pt x="42" y="21"/>
                    </a:lnTo>
                    <a:lnTo>
                      <a:pt x="43" y="14"/>
                    </a:lnTo>
                    <a:lnTo>
                      <a:pt x="44" y="8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657520" y="1998720"/>
                <a:ext cx="71280" cy="1433520"/>
              </a:xfrm>
              <a:custGeom>
                <a:avLst/>
                <a:gdLst/>
                <a:ahLst/>
                <a:rect l="l" t="t" r="r" b="b"/>
                <a:pathLst>
                  <a:path w="45" h="903">
                    <a:moveTo>
                      <a:pt x="0" y="4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5" y="14"/>
                    </a:lnTo>
                    <a:lnTo>
                      <a:pt x="6" y="20"/>
                    </a:lnTo>
                    <a:lnTo>
                      <a:pt x="6" y="26"/>
                    </a:lnTo>
                    <a:lnTo>
                      <a:pt x="7" y="34"/>
                    </a:lnTo>
                    <a:lnTo>
                      <a:pt x="8" y="43"/>
                    </a:lnTo>
                    <a:lnTo>
                      <a:pt x="8" y="52"/>
                    </a:lnTo>
                    <a:lnTo>
                      <a:pt x="9" y="63"/>
                    </a:lnTo>
                    <a:lnTo>
                      <a:pt x="10" y="74"/>
                    </a:lnTo>
                    <a:lnTo>
                      <a:pt x="10" y="87"/>
                    </a:lnTo>
                    <a:lnTo>
                      <a:pt x="11" y="99"/>
                    </a:lnTo>
                    <a:lnTo>
                      <a:pt x="13" y="127"/>
                    </a:lnTo>
                    <a:lnTo>
                      <a:pt x="14" y="156"/>
                    </a:lnTo>
                    <a:lnTo>
                      <a:pt x="15" y="190"/>
                    </a:lnTo>
                    <a:lnTo>
                      <a:pt x="17" y="224"/>
                    </a:lnTo>
                    <a:lnTo>
                      <a:pt x="18" y="261"/>
                    </a:lnTo>
                    <a:lnTo>
                      <a:pt x="20" y="298"/>
                    </a:lnTo>
                    <a:lnTo>
                      <a:pt x="21" y="336"/>
                    </a:lnTo>
                    <a:lnTo>
                      <a:pt x="22" y="377"/>
                    </a:lnTo>
                    <a:lnTo>
                      <a:pt x="25" y="458"/>
                    </a:lnTo>
                    <a:lnTo>
                      <a:pt x="28" y="539"/>
                    </a:lnTo>
                    <a:lnTo>
                      <a:pt x="30" y="578"/>
                    </a:lnTo>
                    <a:lnTo>
                      <a:pt x="31" y="618"/>
                    </a:lnTo>
                    <a:lnTo>
                      <a:pt x="32" y="656"/>
                    </a:lnTo>
                    <a:lnTo>
                      <a:pt x="34" y="693"/>
                    </a:lnTo>
                    <a:lnTo>
                      <a:pt x="35" y="728"/>
                    </a:lnTo>
                    <a:lnTo>
                      <a:pt x="37" y="761"/>
                    </a:lnTo>
                    <a:lnTo>
                      <a:pt x="38" y="792"/>
                    </a:lnTo>
                    <a:lnTo>
                      <a:pt x="39" y="820"/>
                    </a:lnTo>
                    <a:lnTo>
                      <a:pt x="40" y="833"/>
                    </a:lnTo>
                    <a:lnTo>
                      <a:pt x="41" y="846"/>
                    </a:lnTo>
                    <a:lnTo>
                      <a:pt x="41" y="858"/>
                    </a:lnTo>
                    <a:lnTo>
                      <a:pt x="42" y="868"/>
                    </a:lnTo>
                    <a:lnTo>
                      <a:pt x="43" y="878"/>
                    </a:lnTo>
                    <a:lnTo>
                      <a:pt x="43" y="887"/>
                    </a:lnTo>
                    <a:lnTo>
                      <a:pt x="44" y="896"/>
                    </a:lnTo>
                    <a:lnTo>
                      <a:pt x="45" y="90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2728800" y="3395520"/>
                <a:ext cx="71640" cy="5112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23"/>
                    </a:moveTo>
                    <a:lnTo>
                      <a:pt x="1" y="27"/>
                    </a:lnTo>
                    <a:lnTo>
                      <a:pt x="3" y="30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1" y="31"/>
                    </a:lnTo>
                    <a:lnTo>
                      <a:pt x="14" y="30"/>
                    </a:lnTo>
                    <a:lnTo>
                      <a:pt x="23" y="25"/>
                    </a:lnTo>
                    <a:lnTo>
                      <a:pt x="31" y="19"/>
                    </a:lnTo>
                    <a:lnTo>
                      <a:pt x="37" y="12"/>
                    </a:lnTo>
                    <a:lnTo>
                      <a:pt x="42" y="6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800440" y="2716200"/>
                <a:ext cx="71280" cy="679320"/>
              </a:xfrm>
              <a:custGeom>
                <a:avLst/>
                <a:gdLst/>
                <a:ahLst/>
                <a:rect l="l" t="t" r="r" b="b"/>
                <a:pathLst>
                  <a:path w="45" h="428">
                    <a:moveTo>
                      <a:pt x="0" y="428"/>
                    </a:moveTo>
                    <a:lnTo>
                      <a:pt x="1" y="420"/>
                    </a:lnTo>
                    <a:lnTo>
                      <a:pt x="3" y="411"/>
                    </a:lnTo>
                    <a:lnTo>
                      <a:pt x="4" y="399"/>
                    </a:lnTo>
                    <a:lnTo>
                      <a:pt x="6" y="385"/>
                    </a:lnTo>
                    <a:lnTo>
                      <a:pt x="7" y="371"/>
                    </a:lnTo>
                    <a:lnTo>
                      <a:pt x="8" y="356"/>
                    </a:lnTo>
                    <a:lnTo>
                      <a:pt x="10" y="339"/>
                    </a:lnTo>
                    <a:lnTo>
                      <a:pt x="11" y="322"/>
                    </a:lnTo>
                    <a:lnTo>
                      <a:pt x="13" y="302"/>
                    </a:lnTo>
                    <a:lnTo>
                      <a:pt x="14" y="283"/>
                    </a:lnTo>
                    <a:lnTo>
                      <a:pt x="17" y="244"/>
                    </a:lnTo>
                    <a:lnTo>
                      <a:pt x="20" y="203"/>
                    </a:lnTo>
                    <a:lnTo>
                      <a:pt x="22" y="164"/>
                    </a:lnTo>
                    <a:lnTo>
                      <a:pt x="25" y="125"/>
                    </a:lnTo>
                    <a:lnTo>
                      <a:pt x="27" y="107"/>
                    </a:lnTo>
                    <a:lnTo>
                      <a:pt x="28" y="90"/>
                    </a:lnTo>
                    <a:lnTo>
                      <a:pt x="30" y="74"/>
                    </a:lnTo>
                    <a:lnTo>
                      <a:pt x="31" y="59"/>
                    </a:lnTo>
                    <a:lnTo>
                      <a:pt x="32" y="45"/>
                    </a:lnTo>
                    <a:lnTo>
                      <a:pt x="34" y="33"/>
                    </a:lnTo>
                    <a:lnTo>
                      <a:pt x="35" y="22"/>
                    </a:lnTo>
                    <a:lnTo>
                      <a:pt x="37" y="14"/>
                    </a:lnTo>
                    <a:lnTo>
                      <a:pt x="38" y="7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871720" y="2727360"/>
                <a:ext cx="71640" cy="1328760"/>
              </a:xfrm>
              <a:custGeom>
                <a:avLst/>
                <a:gdLst/>
                <a:ahLst/>
                <a:rect l="l" t="t" r="r" b="b"/>
                <a:pathLst>
                  <a:path w="45" h="837">
                    <a:moveTo>
                      <a:pt x="0" y="0"/>
                    </a:moveTo>
                    <a:lnTo>
                      <a:pt x="1" y="4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4" y="33"/>
                    </a:lnTo>
                    <a:lnTo>
                      <a:pt x="6" y="51"/>
                    </a:lnTo>
                    <a:lnTo>
                      <a:pt x="7" y="71"/>
                    </a:lnTo>
                    <a:lnTo>
                      <a:pt x="8" y="93"/>
                    </a:lnTo>
                    <a:lnTo>
                      <a:pt x="10" y="117"/>
                    </a:lnTo>
                    <a:lnTo>
                      <a:pt x="11" y="144"/>
                    </a:lnTo>
                    <a:lnTo>
                      <a:pt x="13" y="171"/>
                    </a:lnTo>
                    <a:lnTo>
                      <a:pt x="15" y="201"/>
                    </a:lnTo>
                    <a:lnTo>
                      <a:pt x="16" y="232"/>
                    </a:lnTo>
                    <a:lnTo>
                      <a:pt x="18" y="264"/>
                    </a:lnTo>
                    <a:lnTo>
                      <a:pt x="19" y="298"/>
                    </a:lnTo>
                    <a:lnTo>
                      <a:pt x="20" y="331"/>
                    </a:lnTo>
                    <a:lnTo>
                      <a:pt x="23" y="400"/>
                    </a:lnTo>
                    <a:lnTo>
                      <a:pt x="26" y="470"/>
                    </a:lnTo>
                    <a:lnTo>
                      <a:pt x="28" y="538"/>
                    </a:lnTo>
                    <a:lnTo>
                      <a:pt x="30" y="572"/>
                    </a:lnTo>
                    <a:lnTo>
                      <a:pt x="31" y="604"/>
                    </a:lnTo>
                    <a:lnTo>
                      <a:pt x="33" y="636"/>
                    </a:lnTo>
                    <a:lnTo>
                      <a:pt x="34" y="666"/>
                    </a:lnTo>
                    <a:lnTo>
                      <a:pt x="35" y="694"/>
                    </a:lnTo>
                    <a:lnTo>
                      <a:pt x="37" y="722"/>
                    </a:lnTo>
                    <a:lnTo>
                      <a:pt x="38" y="747"/>
                    </a:lnTo>
                    <a:lnTo>
                      <a:pt x="39" y="770"/>
                    </a:lnTo>
                    <a:lnTo>
                      <a:pt x="41" y="790"/>
                    </a:lnTo>
                    <a:lnTo>
                      <a:pt x="42" y="809"/>
                    </a:lnTo>
                    <a:lnTo>
                      <a:pt x="43" y="824"/>
                    </a:lnTo>
                    <a:lnTo>
                      <a:pt x="44" y="831"/>
                    </a:lnTo>
                    <a:lnTo>
                      <a:pt x="45" y="83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943360" y="3849840"/>
                <a:ext cx="71280" cy="223560"/>
              </a:xfrm>
              <a:custGeom>
                <a:avLst/>
                <a:gdLst/>
                <a:ahLst/>
                <a:rect l="l" t="t" r="r" b="b"/>
                <a:pathLst>
                  <a:path w="45" h="141">
                    <a:moveTo>
                      <a:pt x="0" y="130"/>
                    </a:moveTo>
                    <a:lnTo>
                      <a:pt x="1" y="134"/>
                    </a:lnTo>
                    <a:lnTo>
                      <a:pt x="1" y="137"/>
                    </a:lnTo>
                    <a:lnTo>
                      <a:pt x="2" y="139"/>
                    </a:lnTo>
                    <a:lnTo>
                      <a:pt x="3" y="141"/>
                    </a:lnTo>
                    <a:lnTo>
                      <a:pt x="5" y="141"/>
                    </a:lnTo>
                    <a:lnTo>
                      <a:pt x="6" y="141"/>
                    </a:lnTo>
                    <a:lnTo>
                      <a:pt x="9" y="139"/>
                    </a:lnTo>
                    <a:lnTo>
                      <a:pt x="12" y="134"/>
                    </a:lnTo>
                    <a:lnTo>
                      <a:pt x="15" y="128"/>
                    </a:lnTo>
                    <a:lnTo>
                      <a:pt x="19" y="119"/>
                    </a:lnTo>
                    <a:lnTo>
                      <a:pt x="22" y="109"/>
                    </a:lnTo>
                    <a:lnTo>
                      <a:pt x="26" y="97"/>
                    </a:lnTo>
                    <a:lnTo>
                      <a:pt x="30" y="83"/>
                    </a:lnTo>
                    <a:lnTo>
                      <a:pt x="33" y="70"/>
                    </a:lnTo>
                    <a:lnTo>
                      <a:pt x="36" y="56"/>
                    </a:lnTo>
                    <a:lnTo>
                      <a:pt x="42" y="28"/>
                    </a:lnTo>
                    <a:lnTo>
                      <a:pt x="44" y="1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014640" y="2422440"/>
                <a:ext cx="71640" cy="1427400"/>
              </a:xfrm>
              <a:custGeom>
                <a:avLst/>
                <a:gdLst/>
                <a:ahLst/>
                <a:rect l="l" t="t" r="r" b="b"/>
                <a:pathLst>
                  <a:path w="45" h="899">
                    <a:moveTo>
                      <a:pt x="0" y="899"/>
                    </a:moveTo>
                    <a:lnTo>
                      <a:pt x="1" y="891"/>
                    </a:lnTo>
                    <a:lnTo>
                      <a:pt x="1" y="882"/>
                    </a:lnTo>
                    <a:lnTo>
                      <a:pt x="3" y="861"/>
                    </a:lnTo>
                    <a:lnTo>
                      <a:pt x="4" y="839"/>
                    </a:lnTo>
                    <a:lnTo>
                      <a:pt x="6" y="812"/>
                    </a:lnTo>
                    <a:lnTo>
                      <a:pt x="8" y="785"/>
                    </a:lnTo>
                    <a:lnTo>
                      <a:pt x="9" y="756"/>
                    </a:lnTo>
                    <a:lnTo>
                      <a:pt x="11" y="724"/>
                    </a:lnTo>
                    <a:lnTo>
                      <a:pt x="12" y="691"/>
                    </a:lnTo>
                    <a:lnTo>
                      <a:pt x="13" y="656"/>
                    </a:lnTo>
                    <a:lnTo>
                      <a:pt x="15" y="621"/>
                    </a:lnTo>
                    <a:lnTo>
                      <a:pt x="16" y="585"/>
                    </a:lnTo>
                    <a:lnTo>
                      <a:pt x="18" y="548"/>
                    </a:lnTo>
                    <a:lnTo>
                      <a:pt x="20" y="473"/>
                    </a:lnTo>
                    <a:lnTo>
                      <a:pt x="23" y="397"/>
                    </a:lnTo>
                    <a:lnTo>
                      <a:pt x="24" y="361"/>
                    </a:lnTo>
                    <a:lnTo>
                      <a:pt x="26" y="324"/>
                    </a:lnTo>
                    <a:lnTo>
                      <a:pt x="27" y="288"/>
                    </a:lnTo>
                    <a:lnTo>
                      <a:pt x="28" y="254"/>
                    </a:lnTo>
                    <a:lnTo>
                      <a:pt x="30" y="220"/>
                    </a:lnTo>
                    <a:lnTo>
                      <a:pt x="31" y="189"/>
                    </a:lnTo>
                    <a:lnTo>
                      <a:pt x="33" y="159"/>
                    </a:lnTo>
                    <a:lnTo>
                      <a:pt x="34" y="130"/>
                    </a:lnTo>
                    <a:lnTo>
                      <a:pt x="35" y="104"/>
                    </a:lnTo>
                    <a:lnTo>
                      <a:pt x="37" y="81"/>
                    </a:lnTo>
                    <a:lnTo>
                      <a:pt x="38" y="59"/>
                    </a:lnTo>
                    <a:lnTo>
                      <a:pt x="39" y="40"/>
                    </a:lnTo>
                    <a:lnTo>
                      <a:pt x="40" y="32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2" y="13"/>
                    </a:lnTo>
                    <a:lnTo>
                      <a:pt x="43" y="8"/>
                    </a:lnTo>
                    <a:lnTo>
                      <a:pt x="43" y="5"/>
                    </a:lnTo>
                    <a:lnTo>
                      <a:pt x="4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086280" y="2421000"/>
                <a:ext cx="71280" cy="1109520"/>
              </a:xfrm>
              <a:custGeom>
                <a:avLst/>
                <a:gdLst/>
                <a:ahLst/>
                <a:rect l="l" t="t" r="r" b="b"/>
                <a:pathLst>
                  <a:path w="45" h="699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7"/>
                    </a:lnTo>
                    <a:lnTo>
                      <a:pt x="5" y="11"/>
                    </a:lnTo>
                    <a:lnTo>
                      <a:pt x="6" y="16"/>
                    </a:lnTo>
                    <a:lnTo>
                      <a:pt x="7" y="27"/>
                    </a:lnTo>
                    <a:lnTo>
                      <a:pt x="8" y="41"/>
                    </a:lnTo>
                    <a:lnTo>
                      <a:pt x="10" y="58"/>
                    </a:lnTo>
                    <a:lnTo>
                      <a:pt x="11" y="77"/>
                    </a:lnTo>
                    <a:lnTo>
                      <a:pt x="13" y="98"/>
                    </a:lnTo>
                    <a:lnTo>
                      <a:pt x="14" y="121"/>
                    </a:lnTo>
                    <a:lnTo>
                      <a:pt x="15" y="145"/>
                    </a:lnTo>
                    <a:lnTo>
                      <a:pt x="17" y="172"/>
                    </a:lnTo>
                    <a:lnTo>
                      <a:pt x="18" y="199"/>
                    </a:lnTo>
                    <a:lnTo>
                      <a:pt x="20" y="228"/>
                    </a:lnTo>
                    <a:lnTo>
                      <a:pt x="21" y="258"/>
                    </a:lnTo>
                    <a:lnTo>
                      <a:pt x="22" y="287"/>
                    </a:lnTo>
                    <a:lnTo>
                      <a:pt x="25" y="349"/>
                    </a:lnTo>
                    <a:lnTo>
                      <a:pt x="28" y="411"/>
                    </a:lnTo>
                    <a:lnTo>
                      <a:pt x="31" y="471"/>
                    </a:lnTo>
                    <a:lnTo>
                      <a:pt x="32" y="501"/>
                    </a:lnTo>
                    <a:lnTo>
                      <a:pt x="34" y="529"/>
                    </a:lnTo>
                    <a:lnTo>
                      <a:pt x="35" y="556"/>
                    </a:lnTo>
                    <a:lnTo>
                      <a:pt x="37" y="583"/>
                    </a:lnTo>
                    <a:lnTo>
                      <a:pt x="38" y="607"/>
                    </a:lnTo>
                    <a:lnTo>
                      <a:pt x="39" y="630"/>
                    </a:lnTo>
                    <a:lnTo>
                      <a:pt x="41" y="650"/>
                    </a:lnTo>
                    <a:lnTo>
                      <a:pt x="42" y="670"/>
                    </a:lnTo>
                    <a:lnTo>
                      <a:pt x="43" y="686"/>
                    </a:lnTo>
                    <a:lnTo>
                      <a:pt x="45" y="6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157560" y="3532320"/>
                <a:ext cx="71280" cy="188640"/>
              </a:xfrm>
              <a:custGeom>
                <a:avLst/>
                <a:gdLst/>
                <a:ahLst/>
                <a:rect l="l" t="t" r="r" b="b"/>
                <a:pathLst>
                  <a:path w="45" h="119">
                    <a:moveTo>
                      <a:pt x="0" y="0"/>
                    </a:moveTo>
                    <a:lnTo>
                      <a:pt x="1" y="10"/>
                    </a:lnTo>
                    <a:lnTo>
                      <a:pt x="4" y="21"/>
                    </a:lnTo>
                    <a:lnTo>
                      <a:pt x="7" y="32"/>
                    </a:lnTo>
                    <a:lnTo>
                      <a:pt x="9" y="4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3" y="92"/>
                    </a:lnTo>
                    <a:lnTo>
                      <a:pt x="27" y="101"/>
                    </a:lnTo>
                    <a:lnTo>
                      <a:pt x="30" y="109"/>
                    </a:lnTo>
                    <a:lnTo>
                      <a:pt x="33" y="115"/>
                    </a:lnTo>
                    <a:lnTo>
                      <a:pt x="37" y="118"/>
                    </a:lnTo>
                    <a:lnTo>
                      <a:pt x="39" y="119"/>
                    </a:lnTo>
                    <a:lnTo>
                      <a:pt x="41" y="119"/>
                    </a:lnTo>
                    <a:lnTo>
                      <a:pt x="42" y="118"/>
                    </a:lnTo>
                    <a:lnTo>
                      <a:pt x="43" y="115"/>
                    </a:lnTo>
                    <a:lnTo>
                      <a:pt x="44" y="113"/>
                    </a:lnTo>
                    <a:lnTo>
                      <a:pt x="44" y="109"/>
                    </a:lnTo>
                    <a:lnTo>
                      <a:pt x="45" y="10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228840" y="2073240"/>
                <a:ext cx="73080" cy="1623960"/>
              </a:xfrm>
              <a:custGeom>
                <a:avLst/>
                <a:gdLst/>
                <a:ahLst/>
                <a:rect l="l" t="t" r="r" b="b"/>
                <a:pathLst>
                  <a:path w="46" h="1023">
                    <a:moveTo>
                      <a:pt x="0" y="1023"/>
                    </a:moveTo>
                    <a:lnTo>
                      <a:pt x="1" y="1015"/>
                    </a:lnTo>
                    <a:lnTo>
                      <a:pt x="1" y="1007"/>
                    </a:lnTo>
                    <a:lnTo>
                      <a:pt x="2" y="997"/>
                    </a:lnTo>
                    <a:lnTo>
                      <a:pt x="3" y="987"/>
                    </a:lnTo>
                    <a:lnTo>
                      <a:pt x="3" y="975"/>
                    </a:lnTo>
                    <a:lnTo>
                      <a:pt x="4" y="963"/>
                    </a:lnTo>
                    <a:lnTo>
                      <a:pt x="5" y="949"/>
                    </a:lnTo>
                    <a:lnTo>
                      <a:pt x="6" y="936"/>
                    </a:lnTo>
                    <a:lnTo>
                      <a:pt x="7" y="906"/>
                    </a:lnTo>
                    <a:lnTo>
                      <a:pt x="8" y="872"/>
                    </a:lnTo>
                    <a:lnTo>
                      <a:pt x="10" y="838"/>
                    </a:lnTo>
                    <a:lnTo>
                      <a:pt x="11" y="801"/>
                    </a:lnTo>
                    <a:lnTo>
                      <a:pt x="13" y="761"/>
                    </a:lnTo>
                    <a:lnTo>
                      <a:pt x="14" y="721"/>
                    </a:lnTo>
                    <a:lnTo>
                      <a:pt x="15" y="678"/>
                    </a:lnTo>
                    <a:lnTo>
                      <a:pt x="17" y="635"/>
                    </a:lnTo>
                    <a:lnTo>
                      <a:pt x="20" y="547"/>
                    </a:lnTo>
                    <a:lnTo>
                      <a:pt x="22" y="459"/>
                    </a:lnTo>
                    <a:lnTo>
                      <a:pt x="24" y="414"/>
                    </a:lnTo>
                    <a:lnTo>
                      <a:pt x="25" y="371"/>
                    </a:lnTo>
                    <a:lnTo>
                      <a:pt x="27" y="329"/>
                    </a:lnTo>
                    <a:lnTo>
                      <a:pt x="28" y="287"/>
                    </a:lnTo>
                    <a:lnTo>
                      <a:pt x="30" y="249"/>
                    </a:lnTo>
                    <a:lnTo>
                      <a:pt x="31" y="211"/>
                    </a:lnTo>
                    <a:lnTo>
                      <a:pt x="32" y="175"/>
                    </a:lnTo>
                    <a:lnTo>
                      <a:pt x="34" y="143"/>
                    </a:lnTo>
                    <a:lnTo>
                      <a:pt x="35" y="112"/>
                    </a:lnTo>
                    <a:lnTo>
                      <a:pt x="36" y="98"/>
                    </a:lnTo>
                    <a:lnTo>
                      <a:pt x="37" y="85"/>
                    </a:lnTo>
                    <a:lnTo>
                      <a:pt x="37" y="73"/>
                    </a:lnTo>
                    <a:lnTo>
                      <a:pt x="38" y="61"/>
                    </a:lnTo>
                    <a:lnTo>
                      <a:pt x="39" y="51"/>
                    </a:lnTo>
                    <a:lnTo>
                      <a:pt x="39" y="41"/>
                    </a:lnTo>
                    <a:lnTo>
                      <a:pt x="40" y="31"/>
                    </a:lnTo>
                    <a:lnTo>
                      <a:pt x="42" y="23"/>
                    </a:lnTo>
                    <a:lnTo>
                      <a:pt x="42" y="17"/>
                    </a:lnTo>
                    <a:lnTo>
                      <a:pt x="43" y="11"/>
                    </a:lnTo>
                    <a:lnTo>
                      <a:pt x="44" y="6"/>
                    </a:lnTo>
                    <a:lnTo>
                      <a:pt x="44" y="3"/>
                    </a:lnTo>
                    <a:lnTo>
                      <a:pt x="45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01920" y="2073240"/>
                <a:ext cx="69840" cy="1523880"/>
              </a:xfrm>
              <a:custGeom>
                <a:avLst/>
                <a:gdLst/>
                <a:ahLst/>
                <a:rect l="l" t="t" r="r" b="b"/>
                <a:pathLst>
                  <a:path w="44" h="960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24"/>
                    </a:lnTo>
                    <a:lnTo>
                      <a:pt x="6" y="31"/>
                    </a:lnTo>
                    <a:lnTo>
                      <a:pt x="6" y="41"/>
                    </a:lnTo>
                    <a:lnTo>
                      <a:pt x="7" y="50"/>
                    </a:lnTo>
                    <a:lnTo>
                      <a:pt x="8" y="60"/>
                    </a:lnTo>
                    <a:lnTo>
                      <a:pt x="8" y="71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1" y="124"/>
                    </a:lnTo>
                    <a:lnTo>
                      <a:pt x="12" y="154"/>
                    </a:lnTo>
                    <a:lnTo>
                      <a:pt x="14" y="186"/>
                    </a:lnTo>
                    <a:lnTo>
                      <a:pt x="15" y="222"/>
                    </a:lnTo>
                    <a:lnTo>
                      <a:pt x="17" y="258"/>
                    </a:lnTo>
                    <a:lnTo>
                      <a:pt x="18" y="296"/>
                    </a:lnTo>
                    <a:lnTo>
                      <a:pt x="19" y="336"/>
                    </a:lnTo>
                    <a:lnTo>
                      <a:pt x="21" y="377"/>
                    </a:lnTo>
                    <a:lnTo>
                      <a:pt x="22" y="417"/>
                    </a:lnTo>
                    <a:lnTo>
                      <a:pt x="25" y="501"/>
                    </a:lnTo>
                    <a:lnTo>
                      <a:pt x="27" y="585"/>
                    </a:lnTo>
                    <a:lnTo>
                      <a:pt x="29" y="626"/>
                    </a:lnTo>
                    <a:lnTo>
                      <a:pt x="30" y="666"/>
                    </a:lnTo>
                    <a:lnTo>
                      <a:pt x="32" y="704"/>
                    </a:lnTo>
                    <a:lnTo>
                      <a:pt x="33" y="743"/>
                    </a:lnTo>
                    <a:lnTo>
                      <a:pt x="34" y="778"/>
                    </a:lnTo>
                    <a:lnTo>
                      <a:pt x="36" y="813"/>
                    </a:lnTo>
                    <a:lnTo>
                      <a:pt x="37" y="844"/>
                    </a:lnTo>
                    <a:lnTo>
                      <a:pt x="38" y="873"/>
                    </a:lnTo>
                    <a:lnTo>
                      <a:pt x="40" y="900"/>
                    </a:lnTo>
                    <a:lnTo>
                      <a:pt x="40" y="912"/>
                    </a:lnTo>
                    <a:lnTo>
                      <a:pt x="41" y="923"/>
                    </a:lnTo>
                    <a:lnTo>
                      <a:pt x="42" y="934"/>
                    </a:lnTo>
                    <a:lnTo>
                      <a:pt x="42" y="943"/>
                    </a:lnTo>
                    <a:lnTo>
                      <a:pt x="43" y="952"/>
                    </a:lnTo>
                    <a:lnTo>
                      <a:pt x="44" y="96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71760" y="357012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17"/>
                    </a:moveTo>
                    <a:lnTo>
                      <a:pt x="1" y="22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8" y="28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22" y="26"/>
                    </a:lnTo>
                    <a:lnTo>
                      <a:pt x="30" y="22"/>
                    </a:lnTo>
                    <a:lnTo>
                      <a:pt x="38" y="15"/>
                    </a:lnTo>
                    <a:lnTo>
                      <a:pt x="44" y="8"/>
                    </a:lnTo>
                    <a:lnTo>
                      <a:pt x="45" y="4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444840" y="2316240"/>
                <a:ext cx="69840" cy="1253880"/>
              </a:xfrm>
              <a:custGeom>
                <a:avLst/>
                <a:gdLst/>
                <a:ahLst/>
                <a:rect l="l" t="t" r="r" b="b"/>
                <a:pathLst>
                  <a:path w="44" h="790">
                    <a:moveTo>
                      <a:pt x="0" y="790"/>
                    </a:moveTo>
                    <a:lnTo>
                      <a:pt x="1" y="783"/>
                    </a:lnTo>
                    <a:lnTo>
                      <a:pt x="1" y="776"/>
                    </a:lnTo>
                    <a:lnTo>
                      <a:pt x="3" y="759"/>
                    </a:lnTo>
                    <a:lnTo>
                      <a:pt x="4" y="740"/>
                    </a:lnTo>
                    <a:lnTo>
                      <a:pt x="6" y="717"/>
                    </a:lnTo>
                    <a:lnTo>
                      <a:pt x="7" y="692"/>
                    </a:lnTo>
                    <a:lnTo>
                      <a:pt x="8" y="666"/>
                    </a:lnTo>
                    <a:lnTo>
                      <a:pt x="10" y="637"/>
                    </a:lnTo>
                    <a:lnTo>
                      <a:pt x="11" y="607"/>
                    </a:lnTo>
                    <a:lnTo>
                      <a:pt x="12" y="576"/>
                    </a:lnTo>
                    <a:lnTo>
                      <a:pt x="14" y="543"/>
                    </a:lnTo>
                    <a:lnTo>
                      <a:pt x="15" y="510"/>
                    </a:lnTo>
                    <a:lnTo>
                      <a:pt x="17" y="477"/>
                    </a:lnTo>
                    <a:lnTo>
                      <a:pt x="19" y="407"/>
                    </a:lnTo>
                    <a:lnTo>
                      <a:pt x="22" y="338"/>
                    </a:lnTo>
                    <a:lnTo>
                      <a:pt x="23" y="303"/>
                    </a:lnTo>
                    <a:lnTo>
                      <a:pt x="25" y="270"/>
                    </a:lnTo>
                    <a:lnTo>
                      <a:pt x="26" y="238"/>
                    </a:lnTo>
                    <a:lnTo>
                      <a:pt x="27" y="206"/>
                    </a:lnTo>
                    <a:lnTo>
                      <a:pt x="29" y="177"/>
                    </a:lnTo>
                    <a:lnTo>
                      <a:pt x="30" y="149"/>
                    </a:lnTo>
                    <a:lnTo>
                      <a:pt x="32" y="121"/>
                    </a:lnTo>
                    <a:lnTo>
                      <a:pt x="33" y="97"/>
                    </a:lnTo>
                    <a:lnTo>
                      <a:pt x="34" y="75"/>
                    </a:lnTo>
                    <a:lnTo>
                      <a:pt x="36" y="55"/>
                    </a:lnTo>
                    <a:lnTo>
                      <a:pt x="37" y="37"/>
                    </a:lnTo>
                    <a:lnTo>
                      <a:pt x="38" y="30"/>
                    </a:lnTo>
                    <a:lnTo>
                      <a:pt x="38" y="23"/>
                    </a:lnTo>
                    <a:lnTo>
                      <a:pt x="39" y="18"/>
                    </a:lnTo>
                    <a:lnTo>
                      <a:pt x="40" y="13"/>
                    </a:lnTo>
                    <a:lnTo>
                      <a:pt x="40" y="8"/>
                    </a:lnTo>
                    <a:lnTo>
                      <a:pt x="41" y="5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514680" y="2317680"/>
                <a:ext cx="71640" cy="1440000"/>
              </a:xfrm>
              <a:custGeom>
                <a:avLst/>
                <a:gdLst/>
                <a:ahLst/>
                <a:rect l="l" t="t" r="r" b="b"/>
                <a:pathLst>
                  <a:path w="45" h="907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4" y="23"/>
                    </a:lnTo>
                    <a:lnTo>
                      <a:pt x="5" y="30"/>
                    </a:lnTo>
                    <a:lnTo>
                      <a:pt x="5" y="38"/>
                    </a:lnTo>
                    <a:lnTo>
                      <a:pt x="6" y="47"/>
                    </a:lnTo>
                    <a:lnTo>
                      <a:pt x="7" y="57"/>
                    </a:lnTo>
                    <a:lnTo>
                      <a:pt x="8" y="78"/>
                    </a:lnTo>
                    <a:lnTo>
                      <a:pt x="10" y="102"/>
                    </a:lnTo>
                    <a:lnTo>
                      <a:pt x="11" y="129"/>
                    </a:lnTo>
                    <a:lnTo>
                      <a:pt x="12" y="158"/>
                    </a:lnTo>
                    <a:lnTo>
                      <a:pt x="14" y="189"/>
                    </a:lnTo>
                    <a:lnTo>
                      <a:pt x="15" y="223"/>
                    </a:lnTo>
                    <a:lnTo>
                      <a:pt x="16" y="257"/>
                    </a:lnTo>
                    <a:lnTo>
                      <a:pt x="18" y="292"/>
                    </a:lnTo>
                    <a:lnTo>
                      <a:pt x="19" y="330"/>
                    </a:lnTo>
                    <a:lnTo>
                      <a:pt x="21" y="367"/>
                    </a:lnTo>
                    <a:lnTo>
                      <a:pt x="22" y="406"/>
                    </a:lnTo>
                    <a:lnTo>
                      <a:pt x="25" y="484"/>
                    </a:lnTo>
                    <a:lnTo>
                      <a:pt x="27" y="561"/>
                    </a:lnTo>
                    <a:lnTo>
                      <a:pt x="29" y="598"/>
                    </a:lnTo>
                    <a:lnTo>
                      <a:pt x="30" y="635"/>
                    </a:lnTo>
                    <a:lnTo>
                      <a:pt x="32" y="671"/>
                    </a:lnTo>
                    <a:lnTo>
                      <a:pt x="34" y="705"/>
                    </a:lnTo>
                    <a:lnTo>
                      <a:pt x="35" y="739"/>
                    </a:lnTo>
                    <a:lnTo>
                      <a:pt x="37" y="770"/>
                    </a:lnTo>
                    <a:lnTo>
                      <a:pt x="38" y="799"/>
                    </a:lnTo>
                    <a:lnTo>
                      <a:pt x="39" y="826"/>
                    </a:lnTo>
                    <a:lnTo>
                      <a:pt x="41" y="851"/>
                    </a:lnTo>
                    <a:lnTo>
                      <a:pt x="42" y="872"/>
                    </a:lnTo>
                    <a:lnTo>
                      <a:pt x="43" y="882"/>
                    </a:lnTo>
                    <a:lnTo>
                      <a:pt x="43" y="891"/>
                    </a:lnTo>
                    <a:lnTo>
                      <a:pt x="44" y="899"/>
                    </a:lnTo>
                    <a:lnTo>
                      <a:pt x="45" y="90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586320" y="3713040"/>
                <a:ext cx="71280" cy="5580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28"/>
                    </a:moveTo>
                    <a:lnTo>
                      <a:pt x="1" y="31"/>
                    </a:lnTo>
                    <a:lnTo>
                      <a:pt x="2" y="33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5" y="34"/>
                    </a:lnTo>
                    <a:lnTo>
                      <a:pt x="22" y="31"/>
                    </a:lnTo>
                    <a:lnTo>
                      <a:pt x="30" y="26"/>
                    </a:lnTo>
                    <a:lnTo>
                      <a:pt x="37" y="19"/>
                    </a:lnTo>
                    <a:lnTo>
                      <a:pt x="43" y="9"/>
                    </a:lnTo>
                    <a:lnTo>
                      <a:pt x="4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657600" y="1655640"/>
                <a:ext cx="71280" cy="2057400"/>
              </a:xfrm>
              <a:custGeom>
                <a:avLst/>
                <a:gdLst/>
                <a:ahLst/>
                <a:rect l="l" t="t" r="r" b="b"/>
                <a:pathLst>
                  <a:path w="45" h="1296">
                    <a:moveTo>
                      <a:pt x="0" y="1296"/>
                    </a:moveTo>
                    <a:lnTo>
                      <a:pt x="1" y="1285"/>
                    </a:lnTo>
                    <a:lnTo>
                      <a:pt x="1" y="1273"/>
                    </a:lnTo>
                    <a:lnTo>
                      <a:pt x="2" y="1260"/>
                    </a:lnTo>
                    <a:lnTo>
                      <a:pt x="3" y="1246"/>
                    </a:lnTo>
                    <a:lnTo>
                      <a:pt x="3" y="1231"/>
                    </a:lnTo>
                    <a:lnTo>
                      <a:pt x="4" y="1214"/>
                    </a:lnTo>
                    <a:lnTo>
                      <a:pt x="5" y="1197"/>
                    </a:lnTo>
                    <a:lnTo>
                      <a:pt x="6" y="1179"/>
                    </a:lnTo>
                    <a:lnTo>
                      <a:pt x="6" y="1160"/>
                    </a:lnTo>
                    <a:lnTo>
                      <a:pt x="7" y="1139"/>
                    </a:lnTo>
                    <a:lnTo>
                      <a:pt x="8" y="1119"/>
                    </a:lnTo>
                    <a:lnTo>
                      <a:pt x="8" y="1098"/>
                    </a:lnTo>
                    <a:lnTo>
                      <a:pt x="10" y="1053"/>
                    </a:lnTo>
                    <a:lnTo>
                      <a:pt x="11" y="1006"/>
                    </a:lnTo>
                    <a:lnTo>
                      <a:pt x="12" y="956"/>
                    </a:lnTo>
                    <a:lnTo>
                      <a:pt x="14" y="906"/>
                    </a:lnTo>
                    <a:lnTo>
                      <a:pt x="15" y="853"/>
                    </a:lnTo>
                    <a:lnTo>
                      <a:pt x="16" y="798"/>
                    </a:lnTo>
                    <a:lnTo>
                      <a:pt x="18" y="745"/>
                    </a:lnTo>
                    <a:lnTo>
                      <a:pt x="19" y="689"/>
                    </a:lnTo>
                    <a:lnTo>
                      <a:pt x="22" y="579"/>
                    </a:lnTo>
                    <a:lnTo>
                      <a:pt x="23" y="525"/>
                    </a:lnTo>
                    <a:lnTo>
                      <a:pt x="26" y="472"/>
                    </a:lnTo>
                    <a:lnTo>
                      <a:pt x="27" y="419"/>
                    </a:lnTo>
                    <a:lnTo>
                      <a:pt x="28" y="368"/>
                    </a:lnTo>
                    <a:lnTo>
                      <a:pt x="30" y="320"/>
                    </a:lnTo>
                    <a:lnTo>
                      <a:pt x="31" y="272"/>
                    </a:lnTo>
                    <a:lnTo>
                      <a:pt x="33" y="229"/>
                    </a:lnTo>
                    <a:lnTo>
                      <a:pt x="33" y="207"/>
                    </a:lnTo>
                    <a:lnTo>
                      <a:pt x="34" y="187"/>
                    </a:lnTo>
                    <a:lnTo>
                      <a:pt x="35" y="168"/>
                    </a:lnTo>
                    <a:lnTo>
                      <a:pt x="35" y="149"/>
                    </a:lnTo>
                    <a:lnTo>
                      <a:pt x="36" y="131"/>
                    </a:lnTo>
                    <a:lnTo>
                      <a:pt x="37" y="114"/>
                    </a:lnTo>
                    <a:lnTo>
                      <a:pt x="37" y="98"/>
                    </a:lnTo>
                    <a:lnTo>
                      <a:pt x="38" y="84"/>
                    </a:lnTo>
                    <a:lnTo>
                      <a:pt x="39" y="70"/>
                    </a:lnTo>
                    <a:lnTo>
                      <a:pt x="39" y="58"/>
                    </a:lnTo>
                    <a:lnTo>
                      <a:pt x="40" y="45"/>
                    </a:lnTo>
                    <a:lnTo>
                      <a:pt x="41" y="35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3" y="11"/>
                    </a:lnTo>
                    <a:lnTo>
                      <a:pt x="44" y="6"/>
                    </a:lnTo>
                    <a:lnTo>
                      <a:pt x="4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728880" y="1654200"/>
                <a:ext cx="71640" cy="1708200"/>
              </a:xfrm>
              <a:custGeom>
                <a:avLst/>
                <a:gdLst/>
                <a:ahLst/>
                <a:rect l="l" t="t" r="r" b="b"/>
                <a:pathLst>
                  <a:path w="45" h="1076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4" y="15"/>
                    </a:lnTo>
                    <a:lnTo>
                      <a:pt x="5" y="21"/>
                    </a:lnTo>
                    <a:lnTo>
                      <a:pt x="6" y="29"/>
                    </a:lnTo>
                    <a:lnTo>
                      <a:pt x="6" y="38"/>
                    </a:lnTo>
                    <a:lnTo>
                      <a:pt x="7" y="48"/>
                    </a:lnTo>
                    <a:lnTo>
                      <a:pt x="8" y="60"/>
                    </a:lnTo>
                    <a:lnTo>
                      <a:pt x="8" y="72"/>
                    </a:lnTo>
                    <a:lnTo>
                      <a:pt x="9" y="84"/>
                    </a:lnTo>
                    <a:lnTo>
                      <a:pt x="10" y="98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5"/>
                    </a:lnTo>
                    <a:lnTo>
                      <a:pt x="13" y="162"/>
                    </a:lnTo>
                    <a:lnTo>
                      <a:pt x="14" y="198"/>
                    </a:lnTo>
                    <a:lnTo>
                      <a:pt x="15" y="237"/>
                    </a:lnTo>
                    <a:lnTo>
                      <a:pt x="17" y="278"/>
                    </a:lnTo>
                    <a:lnTo>
                      <a:pt x="18" y="322"/>
                    </a:lnTo>
                    <a:lnTo>
                      <a:pt x="20" y="366"/>
                    </a:lnTo>
                    <a:lnTo>
                      <a:pt x="21" y="412"/>
                    </a:lnTo>
                    <a:lnTo>
                      <a:pt x="22" y="458"/>
                    </a:lnTo>
                    <a:lnTo>
                      <a:pt x="25" y="553"/>
                    </a:lnTo>
                    <a:lnTo>
                      <a:pt x="28" y="649"/>
                    </a:lnTo>
                    <a:lnTo>
                      <a:pt x="30" y="695"/>
                    </a:lnTo>
                    <a:lnTo>
                      <a:pt x="31" y="741"/>
                    </a:lnTo>
                    <a:lnTo>
                      <a:pt x="32" y="785"/>
                    </a:lnTo>
                    <a:lnTo>
                      <a:pt x="34" y="828"/>
                    </a:lnTo>
                    <a:lnTo>
                      <a:pt x="35" y="869"/>
                    </a:lnTo>
                    <a:lnTo>
                      <a:pt x="37" y="908"/>
                    </a:lnTo>
                    <a:lnTo>
                      <a:pt x="38" y="944"/>
                    </a:lnTo>
                    <a:lnTo>
                      <a:pt x="39" y="961"/>
                    </a:lnTo>
                    <a:lnTo>
                      <a:pt x="39" y="978"/>
                    </a:lnTo>
                    <a:lnTo>
                      <a:pt x="40" y="993"/>
                    </a:lnTo>
                    <a:lnTo>
                      <a:pt x="41" y="1008"/>
                    </a:lnTo>
                    <a:lnTo>
                      <a:pt x="42" y="1021"/>
                    </a:lnTo>
                    <a:lnTo>
                      <a:pt x="42" y="1034"/>
                    </a:lnTo>
                    <a:lnTo>
                      <a:pt x="43" y="1046"/>
                    </a:lnTo>
                    <a:lnTo>
                      <a:pt x="44" y="1058"/>
                    </a:lnTo>
                    <a:lnTo>
                      <a:pt x="44" y="1067"/>
                    </a:lnTo>
                    <a:lnTo>
                      <a:pt x="45" y="107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800520" y="333540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17"/>
                    </a:moveTo>
                    <a:lnTo>
                      <a:pt x="1" y="21"/>
                    </a:lnTo>
                    <a:lnTo>
                      <a:pt x="2" y="24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23" y="24"/>
                    </a:lnTo>
                    <a:lnTo>
                      <a:pt x="31" y="19"/>
                    </a:lnTo>
                    <a:lnTo>
                      <a:pt x="38" y="13"/>
                    </a:lnTo>
                    <a:lnTo>
                      <a:pt x="43" y="7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871800" y="2092320"/>
                <a:ext cx="71640" cy="1243080"/>
              </a:xfrm>
              <a:custGeom>
                <a:avLst/>
                <a:gdLst/>
                <a:ahLst/>
                <a:rect l="l" t="t" r="r" b="b"/>
                <a:pathLst>
                  <a:path w="45" h="783">
                    <a:moveTo>
                      <a:pt x="0" y="783"/>
                    </a:moveTo>
                    <a:lnTo>
                      <a:pt x="1" y="775"/>
                    </a:lnTo>
                    <a:lnTo>
                      <a:pt x="1" y="768"/>
                    </a:lnTo>
                    <a:lnTo>
                      <a:pt x="2" y="760"/>
                    </a:lnTo>
                    <a:lnTo>
                      <a:pt x="3" y="751"/>
                    </a:lnTo>
                    <a:lnTo>
                      <a:pt x="4" y="732"/>
                    </a:lnTo>
                    <a:lnTo>
                      <a:pt x="6" y="709"/>
                    </a:lnTo>
                    <a:lnTo>
                      <a:pt x="7" y="684"/>
                    </a:lnTo>
                    <a:lnTo>
                      <a:pt x="8" y="657"/>
                    </a:lnTo>
                    <a:lnTo>
                      <a:pt x="10" y="629"/>
                    </a:lnTo>
                    <a:lnTo>
                      <a:pt x="11" y="598"/>
                    </a:lnTo>
                    <a:lnTo>
                      <a:pt x="13" y="567"/>
                    </a:lnTo>
                    <a:lnTo>
                      <a:pt x="14" y="534"/>
                    </a:lnTo>
                    <a:lnTo>
                      <a:pt x="15" y="500"/>
                    </a:lnTo>
                    <a:lnTo>
                      <a:pt x="17" y="466"/>
                    </a:lnTo>
                    <a:lnTo>
                      <a:pt x="20" y="396"/>
                    </a:lnTo>
                    <a:lnTo>
                      <a:pt x="22" y="326"/>
                    </a:lnTo>
                    <a:lnTo>
                      <a:pt x="24" y="292"/>
                    </a:lnTo>
                    <a:lnTo>
                      <a:pt x="25" y="258"/>
                    </a:lnTo>
                    <a:lnTo>
                      <a:pt x="27" y="226"/>
                    </a:lnTo>
                    <a:lnTo>
                      <a:pt x="28" y="195"/>
                    </a:lnTo>
                    <a:lnTo>
                      <a:pt x="30" y="165"/>
                    </a:lnTo>
                    <a:lnTo>
                      <a:pt x="31" y="137"/>
                    </a:lnTo>
                    <a:lnTo>
                      <a:pt x="32" y="110"/>
                    </a:lnTo>
                    <a:lnTo>
                      <a:pt x="34" y="87"/>
                    </a:lnTo>
                    <a:lnTo>
                      <a:pt x="35" y="65"/>
                    </a:lnTo>
                    <a:lnTo>
                      <a:pt x="37" y="47"/>
                    </a:lnTo>
                    <a:lnTo>
                      <a:pt x="37" y="38"/>
                    </a:lnTo>
                    <a:lnTo>
                      <a:pt x="38" y="31"/>
                    </a:lnTo>
                    <a:lnTo>
                      <a:pt x="39" y="23"/>
                    </a:lnTo>
                    <a:lnTo>
                      <a:pt x="39" y="17"/>
                    </a:lnTo>
                    <a:lnTo>
                      <a:pt x="40" y="12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42" y="2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943440" y="2097000"/>
                <a:ext cx="71280" cy="1675080"/>
              </a:xfrm>
              <a:custGeom>
                <a:avLst/>
                <a:gdLst/>
                <a:ahLst/>
                <a:rect l="l" t="t" r="r" b="b"/>
                <a:pathLst>
                  <a:path w="45" h="1055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3" y="25"/>
                    </a:lnTo>
                    <a:lnTo>
                      <a:pt x="4" y="33"/>
                    </a:lnTo>
                    <a:lnTo>
                      <a:pt x="5" y="42"/>
                    </a:lnTo>
                    <a:lnTo>
                      <a:pt x="6" y="52"/>
                    </a:lnTo>
                    <a:lnTo>
                      <a:pt x="6" y="62"/>
                    </a:lnTo>
                    <a:lnTo>
                      <a:pt x="7" y="74"/>
                    </a:lnTo>
                    <a:lnTo>
                      <a:pt x="8" y="86"/>
                    </a:lnTo>
                    <a:lnTo>
                      <a:pt x="8" y="99"/>
                    </a:lnTo>
                    <a:lnTo>
                      <a:pt x="10" y="129"/>
                    </a:lnTo>
                    <a:lnTo>
                      <a:pt x="11" y="160"/>
                    </a:lnTo>
                    <a:lnTo>
                      <a:pt x="12" y="194"/>
                    </a:lnTo>
                    <a:lnTo>
                      <a:pt x="14" y="230"/>
                    </a:lnTo>
                    <a:lnTo>
                      <a:pt x="16" y="268"/>
                    </a:lnTo>
                    <a:lnTo>
                      <a:pt x="17" y="308"/>
                    </a:lnTo>
                    <a:lnTo>
                      <a:pt x="19" y="349"/>
                    </a:lnTo>
                    <a:lnTo>
                      <a:pt x="20" y="392"/>
                    </a:lnTo>
                    <a:lnTo>
                      <a:pt x="22" y="435"/>
                    </a:lnTo>
                    <a:lnTo>
                      <a:pt x="23" y="480"/>
                    </a:lnTo>
                    <a:lnTo>
                      <a:pt x="26" y="569"/>
                    </a:lnTo>
                    <a:lnTo>
                      <a:pt x="28" y="657"/>
                    </a:lnTo>
                    <a:lnTo>
                      <a:pt x="30" y="701"/>
                    </a:lnTo>
                    <a:lnTo>
                      <a:pt x="31" y="742"/>
                    </a:lnTo>
                    <a:lnTo>
                      <a:pt x="33" y="784"/>
                    </a:lnTo>
                    <a:lnTo>
                      <a:pt x="34" y="823"/>
                    </a:lnTo>
                    <a:lnTo>
                      <a:pt x="35" y="861"/>
                    </a:lnTo>
                    <a:lnTo>
                      <a:pt x="37" y="897"/>
                    </a:lnTo>
                    <a:lnTo>
                      <a:pt x="38" y="930"/>
                    </a:lnTo>
                    <a:lnTo>
                      <a:pt x="39" y="962"/>
                    </a:lnTo>
                    <a:lnTo>
                      <a:pt x="40" y="976"/>
                    </a:lnTo>
                    <a:lnTo>
                      <a:pt x="41" y="990"/>
                    </a:lnTo>
                    <a:lnTo>
                      <a:pt x="42" y="1003"/>
                    </a:lnTo>
                    <a:lnTo>
                      <a:pt x="42" y="1015"/>
                    </a:lnTo>
                    <a:lnTo>
                      <a:pt x="43" y="1026"/>
                    </a:lnTo>
                    <a:lnTo>
                      <a:pt x="44" y="1037"/>
                    </a:lnTo>
                    <a:lnTo>
                      <a:pt x="44" y="1046"/>
                    </a:lnTo>
                    <a:lnTo>
                      <a:pt x="45" y="105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014720" y="3749760"/>
                <a:ext cx="7164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14"/>
                    </a:moveTo>
                    <a:lnTo>
                      <a:pt x="1" y="17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15" y="24"/>
                    </a:lnTo>
                    <a:lnTo>
                      <a:pt x="22" y="23"/>
                    </a:lnTo>
                    <a:lnTo>
                      <a:pt x="30" y="20"/>
                    </a:lnTo>
                    <a:lnTo>
                      <a:pt x="38" y="15"/>
                    </a:lnTo>
                    <a:lnTo>
                      <a:pt x="43" y="8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086360" y="1714680"/>
                <a:ext cx="71280" cy="2035080"/>
              </a:xfrm>
              <a:custGeom>
                <a:avLst/>
                <a:gdLst/>
                <a:ahLst/>
                <a:rect l="l" t="t" r="r" b="b"/>
                <a:pathLst>
                  <a:path w="45" h="1282">
                    <a:moveTo>
                      <a:pt x="0" y="1282"/>
                    </a:moveTo>
                    <a:lnTo>
                      <a:pt x="1" y="1271"/>
                    </a:lnTo>
                    <a:lnTo>
                      <a:pt x="1" y="1259"/>
                    </a:lnTo>
                    <a:lnTo>
                      <a:pt x="2" y="1246"/>
                    </a:lnTo>
                    <a:lnTo>
                      <a:pt x="3" y="1232"/>
                    </a:lnTo>
                    <a:lnTo>
                      <a:pt x="3" y="1217"/>
                    </a:lnTo>
                    <a:lnTo>
                      <a:pt x="4" y="1202"/>
                    </a:lnTo>
                    <a:lnTo>
                      <a:pt x="5" y="1184"/>
                    </a:lnTo>
                    <a:lnTo>
                      <a:pt x="6" y="1166"/>
                    </a:lnTo>
                    <a:lnTo>
                      <a:pt x="6" y="1148"/>
                    </a:lnTo>
                    <a:lnTo>
                      <a:pt x="7" y="1129"/>
                    </a:lnTo>
                    <a:lnTo>
                      <a:pt x="8" y="1109"/>
                    </a:lnTo>
                    <a:lnTo>
                      <a:pt x="8" y="1087"/>
                    </a:lnTo>
                    <a:lnTo>
                      <a:pt x="11" y="1044"/>
                    </a:lnTo>
                    <a:lnTo>
                      <a:pt x="12" y="997"/>
                    </a:lnTo>
                    <a:lnTo>
                      <a:pt x="13" y="949"/>
                    </a:lnTo>
                    <a:lnTo>
                      <a:pt x="15" y="899"/>
                    </a:lnTo>
                    <a:lnTo>
                      <a:pt x="16" y="847"/>
                    </a:lnTo>
                    <a:lnTo>
                      <a:pt x="17" y="795"/>
                    </a:lnTo>
                    <a:lnTo>
                      <a:pt x="19" y="741"/>
                    </a:lnTo>
                    <a:lnTo>
                      <a:pt x="20" y="687"/>
                    </a:lnTo>
                    <a:lnTo>
                      <a:pt x="23" y="579"/>
                    </a:lnTo>
                    <a:lnTo>
                      <a:pt x="24" y="526"/>
                    </a:lnTo>
                    <a:lnTo>
                      <a:pt x="26" y="473"/>
                    </a:lnTo>
                    <a:lnTo>
                      <a:pt x="27" y="421"/>
                    </a:lnTo>
                    <a:lnTo>
                      <a:pt x="28" y="371"/>
                    </a:lnTo>
                    <a:lnTo>
                      <a:pt x="30" y="322"/>
                    </a:lnTo>
                    <a:lnTo>
                      <a:pt x="31" y="277"/>
                    </a:lnTo>
                    <a:lnTo>
                      <a:pt x="33" y="232"/>
                    </a:lnTo>
                    <a:lnTo>
                      <a:pt x="33" y="212"/>
                    </a:lnTo>
                    <a:lnTo>
                      <a:pt x="34" y="192"/>
                    </a:lnTo>
                    <a:lnTo>
                      <a:pt x="35" y="172"/>
                    </a:lnTo>
                    <a:lnTo>
                      <a:pt x="35" y="153"/>
                    </a:lnTo>
                    <a:lnTo>
                      <a:pt x="36" y="136"/>
                    </a:lnTo>
                    <a:lnTo>
                      <a:pt x="37" y="119"/>
                    </a:lnTo>
                    <a:lnTo>
                      <a:pt x="37" y="103"/>
                    </a:lnTo>
                    <a:lnTo>
                      <a:pt x="38" y="87"/>
                    </a:lnTo>
                    <a:lnTo>
                      <a:pt x="39" y="74"/>
                    </a:lnTo>
                    <a:lnTo>
                      <a:pt x="39" y="61"/>
                    </a:lnTo>
                    <a:lnTo>
                      <a:pt x="40" y="49"/>
                    </a:lnTo>
                    <a:lnTo>
                      <a:pt x="41" y="39"/>
                    </a:lnTo>
                    <a:lnTo>
                      <a:pt x="42" y="29"/>
                    </a:lnTo>
                    <a:lnTo>
                      <a:pt x="42" y="21"/>
                    </a:lnTo>
                    <a:lnTo>
                      <a:pt x="43" y="14"/>
                    </a:lnTo>
                    <a:lnTo>
                      <a:pt x="44" y="7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57640" y="1711440"/>
                <a:ext cx="71640" cy="1557360"/>
              </a:xfrm>
              <a:custGeom>
                <a:avLst/>
                <a:gdLst/>
                <a:ahLst/>
                <a:rect l="l" t="t" r="r" b="b"/>
                <a:pathLst>
                  <a:path w="45" h="981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4" y="11"/>
                    </a:lnTo>
                    <a:lnTo>
                      <a:pt x="5" y="17"/>
                    </a:lnTo>
                    <a:lnTo>
                      <a:pt x="6" y="24"/>
                    </a:lnTo>
                    <a:lnTo>
                      <a:pt x="6" y="31"/>
                    </a:lnTo>
                    <a:lnTo>
                      <a:pt x="7" y="40"/>
                    </a:lnTo>
                    <a:lnTo>
                      <a:pt x="8" y="50"/>
                    </a:lnTo>
                    <a:lnTo>
                      <a:pt x="8" y="60"/>
                    </a:lnTo>
                    <a:lnTo>
                      <a:pt x="9" y="72"/>
                    </a:lnTo>
                    <a:lnTo>
                      <a:pt x="10" y="84"/>
                    </a:lnTo>
                    <a:lnTo>
                      <a:pt x="10" y="97"/>
                    </a:lnTo>
                    <a:lnTo>
                      <a:pt x="11" y="112"/>
                    </a:lnTo>
                    <a:lnTo>
                      <a:pt x="13" y="142"/>
                    </a:lnTo>
                    <a:lnTo>
                      <a:pt x="14" y="174"/>
                    </a:lnTo>
                    <a:lnTo>
                      <a:pt x="15" y="210"/>
                    </a:lnTo>
                    <a:lnTo>
                      <a:pt x="17" y="247"/>
                    </a:lnTo>
                    <a:lnTo>
                      <a:pt x="18" y="287"/>
                    </a:lnTo>
                    <a:lnTo>
                      <a:pt x="20" y="328"/>
                    </a:lnTo>
                    <a:lnTo>
                      <a:pt x="21" y="370"/>
                    </a:lnTo>
                    <a:lnTo>
                      <a:pt x="22" y="413"/>
                    </a:lnTo>
                    <a:lnTo>
                      <a:pt x="25" y="500"/>
                    </a:lnTo>
                    <a:lnTo>
                      <a:pt x="28" y="588"/>
                    </a:lnTo>
                    <a:lnTo>
                      <a:pt x="30" y="631"/>
                    </a:lnTo>
                    <a:lnTo>
                      <a:pt x="31" y="673"/>
                    </a:lnTo>
                    <a:lnTo>
                      <a:pt x="32" y="714"/>
                    </a:lnTo>
                    <a:lnTo>
                      <a:pt x="34" y="753"/>
                    </a:lnTo>
                    <a:lnTo>
                      <a:pt x="35" y="792"/>
                    </a:lnTo>
                    <a:lnTo>
                      <a:pt x="37" y="827"/>
                    </a:lnTo>
                    <a:lnTo>
                      <a:pt x="38" y="861"/>
                    </a:lnTo>
                    <a:lnTo>
                      <a:pt x="39" y="891"/>
                    </a:lnTo>
                    <a:lnTo>
                      <a:pt x="40" y="905"/>
                    </a:lnTo>
                    <a:lnTo>
                      <a:pt x="41" y="918"/>
                    </a:lnTo>
                    <a:lnTo>
                      <a:pt x="41" y="931"/>
                    </a:lnTo>
                    <a:lnTo>
                      <a:pt x="42" y="944"/>
                    </a:lnTo>
                    <a:lnTo>
                      <a:pt x="43" y="954"/>
                    </a:lnTo>
                    <a:lnTo>
                      <a:pt x="43" y="964"/>
                    </a:lnTo>
                    <a:lnTo>
                      <a:pt x="44" y="973"/>
                    </a:lnTo>
                    <a:lnTo>
                      <a:pt x="45" y="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229280" y="3236760"/>
                <a:ext cx="71280" cy="4788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20"/>
                    </a:moveTo>
                    <a:lnTo>
                      <a:pt x="1" y="24"/>
                    </a:lnTo>
                    <a:lnTo>
                      <a:pt x="2" y="27"/>
                    </a:lnTo>
                    <a:lnTo>
                      <a:pt x="6" y="29"/>
                    </a:lnTo>
                    <a:lnTo>
                      <a:pt x="9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7" y="15"/>
                    </a:lnTo>
                    <a:lnTo>
                      <a:pt x="43" y="8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300560" y="1944720"/>
                <a:ext cx="73080" cy="1292040"/>
              </a:xfrm>
              <a:custGeom>
                <a:avLst/>
                <a:gdLst/>
                <a:ahLst/>
                <a:rect l="l" t="t" r="r" b="b"/>
                <a:pathLst>
                  <a:path w="46" h="814">
                    <a:moveTo>
                      <a:pt x="0" y="814"/>
                    </a:moveTo>
                    <a:lnTo>
                      <a:pt x="1" y="807"/>
                    </a:lnTo>
                    <a:lnTo>
                      <a:pt x="1" y="800"/>
                    </a:lnTo>
                    <a:lnTo>
                      <a:pt x="2" y="791"/>
                    </a:lnTo>
                    <a:lnTo>
                      <a:pt x="3" y="781"/>
                    </a:lnTo>
                    <a:lnTo>
                      <a:pt x="4" y="760"/>
                    </a:lnTo>
                    <a:lnTo>
                      <a:pt x="6" y="737"/>
                    </a:lnTo>
                    <a:lnTo>
                      <a:pt x="7" y="712"/>
                    </a:lnTo>
                    <a:lnTo>
                      <a:pt x="8" y="683"/>
                    </a:lnTo>
                    <a:lnTo>
                      <a:pt x="10" y="653"/>
                    </a:lnTo>
                    <a:lnTo>
                      <a:pt x="11" y="621"/>
                    </a:lnTo>
                    <a:lnTo>
                      <a:pt x="13" y="588"/>
                    </a:lnTo>
                    <a:lnTo>
                      <a:pt x="14" y="554"/>
                    </a:lnTo>
                    <a:lnTo>
                      <a:pt x="15" y="518"/>
                    </a:lnTo>
                    <a:lnTo>
                      <a:pt x="17" y="483"/>
                    </a:lnTo>
                    <a:lnTo>
                      <a:pt x="20" y="410"/>
                    </a:lnTo>
                    <a:lnTo>
                      <a:pt x="22" y="337"/>
                    </a:lnTo>
                    <a:lnTo>
                      <a:pt x="24" y="301"/>
                    </a:lnTo>
                    <a:lnTo>
                      <a:pt x="25" y="266"/>
                    </a:lnTo>
                    <a:lnTo>
                      <a:pt x="27" y="233"/>
                    </a:lnTo>
                    <a:lnTo>
                      <a:pt x="28" y="199"/>
                    </a:lnTo>
                    <a:lnTo>
                      <a:pt x="30" y="169"/>
                    </a:lnTo>
                    <a:lnTo>
                      <a:pt x="31" y="140"/>
                    </a:lnTo>
                    <a:lnTo>
                      <a:pt x="32" y="112"/>
                    </a:lnTo>
                    <a:lnTo>
                      <a:pt x="34" y="88"/>
                    </a:lnTo>
                    <a:lnTo>
                      <a:pt x="35" y="66"/>
                    </a:lnTo>
                    <a:lnTo>
                      <a:pt x="36" y="56"/>
                    </a:lnTo>
                    <a:lnTo>
                      <a:pt x="37" y="47"/>
                    </a:lnTo>
                    <a:lnTo>
                      <a:pt x="37" y="38"/>
                    </a:lnTo>
                    <a:lnTo>
                      <a:pt x="38" y="30"/>
                    </a:lnTo>
                    <a:lnTo>
                      <a:pt x="39" y="23"/>
                    </a:lnTo>
                    <a:lnTo>
                      <a:pt x="39" y="17"/>
                    </a:lnTo>
                    <a:lnTo>
                      <a:pt x="40" y="12"/>
                    </a:lnTo>
                    <a:lnTo>
                      <a:pt x="41" y="7"/>
                    </a:lnTo>
                    <a:lnTo>
                      <a:pt x="41" y="4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373640" y="1949400"/>
                <a:ext cx="69840" cy="1789200"/>
              </a:xfrm>
              <a:custGeom>
                <a:avLst/>
                <a:gdLst/>
                <a:ahLst/>
                <a:rect l="l" t="t" r="r" b="b"/>
                <a:pathLst>
                  <a:path w="44" h="1127">
                    <a:moveTo>
                      <a:pt x="0" y="0"/>
                    </a:moveTo>
                    <a:lnTo>
                      <a:pt x="1" y="3"/>
                    </a:lnTo>
                    <a:lnTo>
                      <a:pt x="1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7"/>
                    </a:lnTo>
                    <a:lnTo>
                      <a:pt x="4" y="36"/>
                    </a:lnTo>
                    <a:lnTo>
                      <a:pt x="5" y="46"/>
                    </a:lnTo>
                    <a:lnTo>
                      <a:pt x="6" y="56"/>
                    </a:lnTo>
                    <a:lnTo>
                      <a:pt x="6" y="68"/>
                    </a:lnTo>
                    <a:lnTo>
                      <a:pt x="7" y="80"/>
                    </a:lnTo>
                    <a:lnTo>
                      <a:pt x="8" y="93"/>
                    </a:lnTo>
                    <a:lnTo>
                      <a:pt x="8" y="107"/>
                    </a:lnTo>
                    <a:lnTo>
                      <a:pt x="9" y="123"/>
                    </a:lnTo>
                    <a:lnTo>
                      <a:pt x="10" y="139"/>
                    </a:lnTo>
                    <a:lnTo>
                      <a:pt x="11" y="172"/>
                    </a:lnTo>
                    <a:lnTo>
                      <a:pt x="12" y="209"/>
                    </a:lnTo>
                    <a:lnTo>
                      <a:pt x="14" y="247"/>
                    </a:lnTo>
                    <a:lnTo>
                      <a:pt x="15" y="289"/>
                    </a:lnTo>
                    <a:lnTo>
                      <a:pt x="16" y="331"/>
                    </a:lnTo>
                    <a:lnTo>
                      <a:pt x="18" y="375"/>
                    </a:lnTo>
                    <a:lnTo>
                      <a:pt x="19" y="420"/>
                    </a:lnTo>
                    <a:lnTo>
                      <a:pt x="21" y="467"/>
                    </a:lnTo>
                    <a:lnTo>
                      <a:pt x="22" y="513"/>
                    </a:lnTo>
                    <a:lnTo>
                      <a:pt x="25" y="608"/>
                    </a:lnTo>
                    <a:lnTo>
                      <a:pt x="27" y="702"/>
                    </a:lnTo>
                    <a:lnTo>
                      <a:pt x="29" y="748"/>
                    </a:lnTo>
                    <a:lnTo>
                      <a:pt x="30" y="794"/>
                    </a:lnTo>
                    <a:lnTo>
                      <a:pt x="32" y="837"/>
                    </a:lnTo>
                    <a:lnTo>
                      <a:pt x="33" y="880"/>
                    </a:lnTo>
                    <a:lnTo>
                      <a:pt x="34" y="920"/>
                    </a:lnTo>
                    <a:lnTo>
                      <a:pt x="36" y="959"/>
                    </a:lnTo>
                    <a:lnTo>
                      <a:pt x="37" y="994"/>
                    </a:lnTo>
                    <a:lnTo>
                      <a:pt x="38" y="1027"/>
                    </a:lnTo>
                    <a:lnTo>
                      <a:pt x="39" y="1043"/>
                    </a:lnTo>
                    <a:lnTo>
                      <a:pt x="40" y="1057"/>
                    </a:lnTo>
                    <a:lnTo>
                      <a:pt x="41" y="1071"/>
                    </a:lnTo>
                    <a:lnTo>
                      <a:pt x="41" y="1084"/>
                    </a:lnTo>
                    <a:lnTo>
                      <a:pt x="42" y="1096"/>
                    </a:lnTo>
                    <a:lnTo>
                      <a:pt x="43" y="1107"/>
                    </a:lnTo>
                    <a:lnTo>
                      <a:pt x="43" y="1117"/>
                    </a:lnTo>
                    <a:lnTo>
                      <a:pt x="44" y="112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443480" y="3718080"/>
                <a:ext cx="7308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13"/>
                    </a:moveTo>
                    <a:lnTo>
                      <a:pt x="1" y="16"/>
                    </a:lnTo>
                    <a:lnTo>
                      <a:pt x="2" y="18"/>
                    </a:lnTo>
                    <a:lnTo>
                      <a:pt x="7" y="22"/>
                    </a:lnTo>
                    <a:lnTo>
                      <a:pt x="14" y="23"/>
                    </a:lnTo>
                    <a:lnTo>
                      <a:pt x="22" y="22"/>
                    </a:lnTo>
                    <a:lnTo>
                      <a:pt x="31" y="20"/>
                    </a:lnTo>
                    <a:lnTo>
                      <a:pt x="38" y="15"/>
                    </a:lnTo>
                    <a:lnTo>
                      <a:pt x="44" y="9"/>
                    </a:lnTo>
                    <a:lnTo>
                      <a:pt x="45" y="4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516560" y="1338120"/>
                <a:ext cx="69840" cy="2379960"/>
              </a:xfrm>
              <a:custGeom>
                <a:avLst/>
                <a:gdLst/>
                <a:ahLst/>
                <a:rect l="l" t="t" r="r" b="b"/>
                <a:pathLst>
                  <a:path w="44" h="1499">
                    <a:moveTo>
                      <a:pt x="0" y="1499"/>
                    </a:moveTo>
                    <a:lnTo>
                      <a:pt x="1" y="1487"/>
                    </a:lnTo>
                    <a:lnTo>
                      <a:pt x="1" y="1473"/>
                    </a:lnTo>
                    <a:lnTo>
                      <a:pt x="2" y="1458"/>
                    </a:lnTo>
                    <a:lnTo>
                      <a:pt x="3" y="1442"/>
                    </a:lnTo>
                    <a:lnTo>
                      <a:pt x="3" y="1425"/>
                    </a:lnTo>
                    <a:lnTo>
                      <a:pt x="4" y="1405"/>
                    </a:lnTo>
                    <a:lnTo>
                      <a:pt x="5" y="1386"/>
                    </a:lnTo>
                    <a:lnTo>
                      <a:pt x="6" y="1365"/>
                    </a:lnTo>
                    <a:lnTo>
                      <a:pt x="6" y="1343"/>
                    </a:lnTo>
                    <a:lnTo>
                      <a:pt x="7" y="1320"/>
                    </a:lnTo>
                    <a:lnTo>
                      <a:pt x="8" y="1296"/>
                    </a:lnTo>
                    <a:lnTo>
                      <a:pt x="8" y="1272"/>
                    </a:lnTo>
                    <a:lnTo>
                      <a:pt x="9" y="1246"/>
                    </a:lnTo>
                    <a:lnTo>
                      <a:pt x="10" y="1220"/>
                    </a:lnTo>
                    <a:lnTo>
                      <a:pt x="11" y="1166"/>
                    </a:lnTo>
                    <a:lnTo>
                      <a:pt x="12" y="1110"/>
                    </a:lnTo>
                    <a:lnTo>
                      <a:pt x="14" y="1050"/>
                    </a:lnTo>
                    <a:lnTo>
                      <a:pt x="15" y="990"/>
                    </a:lnTo>
                    <a:lnTo>
                      <a:pt x="16" y="928"/>
                    </a:lnTo>
                    <a:lnTo>
                      <a:pt x="18" y="865"/>
                    </a:lnTo>
                    <a:lnTo>
                      <a:pt x="19" y="802"/>
                    </a:lnTo>
                    <a:lnTo>
                      <a:pt x="22" y="675"/>
                    </a:lnTo>
                    <a:lnTo>
                      <a:pt x="23" y="612"/>
                    </a:lnTo>
                    <a:lnTo>
                      <a:pt x="25" y="550"/>
                    </a:lnTo>
                    <a:lnTo>
                      <a:pt x="26" y="489"/>
                    </a:lnTo>
                    <a:lnTo>
                      <a:pt x="27" y="431"/>
                    </a:lnTo>
                    <a:lnTo>
                      <a:pt x="29" y="374"/>
                    </a:lnTo>
                    <a:lnTo>
                      <a:pt x="30" y="320"/>
                    </a:lnTo>
                    <a:lnTo>
                      <a:pt x="31" y="294"/>
                    </a:lnTo>
                    <a:lnTo>
                      <a:pt x="32" y="269"/>
                    </a:lnTo>
                    <a:lnTo>
                      <a:pt x="32" y="244"/>
                    </a:lnTo>
                    <a:lnTo>
                      <a:pt x="33" y="221"/>
                    </a:lnTo>
                    <a:lnTo>
                      <a:pt x="34" y="198"/>
                    </a:lnTo>
                    <a:lnTo>
                      <a:pt x="34" y="177"/>
                    </a:lnTo>
                    <a:lnTo>
                      <a:pt x="35" y="155"/>
                    </a:lnTo>
                    <a:lnTo>
                      <a:pt x="36" y="136"/>
                    </a:lnTo>
                    <a:lnTo>
                      <a:pt x="36" y="117"/>
                    </a:lnTo>
                    <a:lnTo>
                      <a:pt x="37" y="100"/>
                    </a:lnTo>
                    <a:lnTo>
                      <a:pt x="38" y="84"/>
                    </a:lnTo>
                    <a:lnTo>
                      <a:pt x="38" y="68"/>
                    </a:lnTo>
                    <a:lnTo>
                      <a:pt x="39" y="55"/>
                    </a:lnTo>
                    <a:lnTo>
                      <a:pt x="40" y="43"/>
                    </a:lnTo>
                    <a:lnTo>
                      <a:pt x="41" y="32"/>
                    </a:lnTo>
                    <a:lnTo>
                      <a:pt x="41" y="23"/>
                    </a:lnTo>
                    <a:lnTo>
                      <a:pt x="42" y="15"/>
                    </a:lnTo>
                    <a:lnTo>
                      <a:pt x="43" y="8"/>
                    </a:lnTo>
                    <a:lnTo>
                      <a:pt x="43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586400" y="1333440"/>
                <a:ext cx="73080" cy="1881360"/>
              </a:xfrm>
              <a:custGeom>
                <a:avLst/>
                <a:gdLst/>
                <a:ahLst/>
                <a:rect l="l" t="t" r="r" b="b"/>
                <a:pathLst>
                  <a:path w="46" h="1185">
                    <a:moveTo>
                      <a:pt x="0" y="3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4" y="15"/>
                    </a:lnTo>
                    <a:lnTo>
                      <a:pt x="5" y="22"/>
                    </a:lnTo>
                    <a:lnTo>
                      <a:pt x="6" y="30"/>
                    </a:lnTo>
                    <a:lnTo>
                      <a:pt x="6" y="40"/>
                    </a:lnTo>
                    <a:lnTo>
                      <a:pt x="7" y="50"/>
                    </a:lnTo>
                    <a:lnTo>
                      <a:pt x="8" y="62"/>
                    </a:lnTo>
                    <a:lnTo>
                      <a:pt x="8" y="75"/>
                    </a:lnTo>
                    <a:lnTo>
                      <a:pt x="9" y="90"/>
                    </a:lnTo>
                    <a:lnTo>
                      <a:pt x="10" y="105"/>
                    </a:lnTo>
                    <a:lnTo>
                      <a:pt x="10" y="121"/>
                    </a:lnTo>
                    <a:lnTo>
                      <a:pt x="11" y="138"/>
                    </a:lnTo>
                    <a:lnTo>
                      <a:pt x="12" y="155"/>
                    </a:lnTo>
                    <a:lnTo>
                      <a:pt x="13" y="175"/>
                    </a:lnTo>
                    <a:lnTo>
                      <a:pt x="13" y="194"/>
                    </a:lnTo>
                    <a:lnTo>
                      <a:pt x="14" y="214"/>
                    </a:lnTo>
                    <a:lnTo>
                      <a:pt x="15" y="258"/>
                    </a:lnTo>
                    <a:lnTo>
                      <a:pt x="17" y="302"/>
                    </a:lnTo>
                    <a:lnTo>
                      <a:pt x="18" y="350"/>
                    </a:lnTo>
                    <a:lnTo>
                      <a:pt x="20" y="399"/>
                    </a:lnTo>
                    <a:lnTo>
                      <a:pt x="21" y="450"/>
                    </a:lnTo>
                    <a:lnTo>
                      <a:pt x="22" y="501"/>
                    </a:lnTo>
                    <a:lnTo>
                      <a:pt x="25" y="607"/>
                    </a:lnTo>
                    <a:lnTo>
                      <a:pt x="28" y="712"/>
                    </a:lnTo>
                    <a:lnTo>
                      <a:pt x="30" y="764"/>
                    </a:lnTo>
                    <a:lnTo>
                      <a:pt x="31" y="814"/>
                    </a:lnTo>
                    <a:lnTo>
                      <a:pt x="32" y="864"/>
                    </a:lnTo>
                    <a:lnTo>
                      <a:pt x="35" y="911"/>
                    </a:lnTo>
                    <a:lnTo>
                      <a:pt x="36" y="957"/>
                    </a:lnTo>
                    <a:lnTo>
                      <a:pt x="38" y="999"/>
                    </a:lnTo>
                    <a:lnTo>
                      <a:pt x="38" y="1020"/>
                    </a:lnTo>
                    <a:lnTo>
                      <a:pt x="39" y="1040"/>
                    </a:lnTo>
                    <a:lnTo>
                      <a:pt x="40" y="1058"/>
                    </a:lnTo>
                    <a:lnTo>
                      <a:pt x="40" y="1076"/>
                    </a:lnTo>
                    <a:lnTo>
                      <a:pt x="41" y="1094"/>
                    </a:lnTo>
                    <a:lnTo>
                      <a:pt x="42" y="1110"/>
                    </a:lnTo>
                    <a:lnTo>
                      <a:pt x="43" y="1125"/>
                    </a:lnTo>
                    <a:lnTo>
                      <a:pt x="43" y="1139"/>
                    </a:lnTo>
                    <a:lnTo>
                      <a:pt x="44" y="1152"/>
                    </a:lnTo>
                    <a:lnTo>
                      <a:pt x="45" y="1164"/>
                    </a:lnTo>
                    <a:lnTo>
                      <a:pt x="45" y="1174"/>
                    </a:lnTo>
                    <a:lnTo>
                      <a:pt x="46" y="118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659480" y="317484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0" y="25"/>
                    </a:moveTo>
                    <a:lnTo>
                      <a:pt x="1" y="29"/>
                    </a:lnTo>
                    <a:lnTo>
                      <a:pt x="2" y="32"/>
                    </a:lnTo>
                    <a:lnTo>
                      <a:pt x="5" y="33"/>
                    </a:lnTo>
                    <a:lnTo>
                      <a:pt x="7" y="34"/>
                    </a:lnTo>
                    <a:lnTo>
                      <a:pt x="11" y="33"/>
                    </a:lnTo>
                    <a:lnTo>
                      <a:pt x="14" y="32"/>
                    </a:lnTo>
                    <a:lnTo>
                      <a:pt x="22" y="27"/>
                    </a:lnTo>
                    <a:lnTo>
                      <a:pt x="30" y="21"/>
                    </a:lnTo>
                    <a:lnTo>
                      <a:pt x="37" y="13"/>
                    </a:lnTo>
                    <a:lnTo>
                      <a:pt x="42" y="6"/>
                    </a:lnTo>
                    <a:lnTo>
                      <a:pt x="43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729320" y="2209680"/>
                <a:ext cx="72720" cy="965160"/>
              </a:xfrm>
              <a:custGeom>
                <a:avLst/>
                <a:gdLst/>
                <a:ahLst/>
                <a:rect l="l" t="t" r="r" b="b"/>
                <a:pathLst>
                  <a:path w="46" h="608">
                    <a:moveTo>
                      <a:pt x="0" y="608"/>
                    </a:moveTo>
                    <a:lnTo>
                      <a:pt x="1" y="597"/>
                    </a:lnTo>
                    <a:lnTo>
                      <a:pt x="3" y="584"/>
                    </a:lnTo>
                    <a:lnTo>
                      <a:pt x="4" y="568"/>
                    </a:lnTo>
                    <a:lnTo>
                      <a:pt x="6" y="550"/>
                    </a:lnTo>
                    <a:lnTo>
                      <a:pt x="7" y="529"/>
                    </a:lnTo>
                    <a:lnTo>
                      <a:pt x="8" y="508"/>
                    </a:lnTo>
                    <a:lnTo>
                      <a:pt x="10" y="485"/>
                    </a:lnTo>
                    <a:lnTo>
                      <a:pt x="11" y="461"/>
                    </a:lnTo>
                    <a:lnTo>
                      <a:pt x="13" y="435"/>
                    </a:lnTo>
                    <a:lnTo>
                      <a:pt x="14" y="409"/>
                    </a:lnTo>
                    <a:lnTo>
                      <a:pt x="17" y="353"/>
                    </a:lnTo>
                    <a:lnTo>
                      <a:pt x="20" y="298"/>
                    </a:lnTo>
                    <a:lnTo>
                      <a:pt x="22" y="242"/>
                    </a:lnTo>
                    <a:lnTo>
                      <a:pt x="24" y="216"/>
                    </a:lnTo>
                    <a:lnTo>
                      <a:pt x="25" y="188"/>
                    </a:lnTo>
                    <a:lnTo>
                      <a:pt x="27" y="163"/>
                    </a:lnTo>
                    <a:lnTo>
                      <a:pt x="29" y="139"/>
                    </a:lnTo>
                    <a:lnTo>
                      <a:pt x="31" y="115"/>
                    </a:lnTo>
                    <a:lnTo>
                      <a:pt x="32" y="94"/>
                    </a:lnTo>
                    <a:lnTo>
                      <a:pt x="33" y="74"/>
                    </a:lnTo>
                    <a:lnTo>
                      <a:pt x="35" y="57"/>
                    </a:lnTo>
                    <a:lnTo>
                      <a:pt x="36" y="41"/>
                    </a:lnTo>
                    <a:lnTo>
                      <a:pt x="38" y="26"/>
                    </a:lnTo>
                    <a:lnTo>
                      <a:pt x="39" y="15"/>
                    </a:lnTo>
                    <a:lnTo>
                      <a:pt x="40" y="7"/>
                    </a:lnTo>
                    <a:lnTo>
                      <a:pt x="41" y="4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1"/>
                    </a:lnTo>
                    <a:lnTo>
                      <a:pt x="45" y="2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802040" y="2217600"/>
                <a:ext cx="69840" cy="1598760"/>
              </a:xfrm>
              <a:custGeom>
                <a:avLst/>
                <a:gdLst/>
                <a:ahLst/>
                <a:rect l="l" t="t" r="r" b="b"/>
                <a:pathLst>
                  <a:path w="44" h="1007">
                    <a:moveTo>
                      <a:pt x="0" y="0"/>
                    </a:moveTo>
                    <a:lnTo>
                      <a:pt x="1" y="4"/>
                    </a:lnTo>
                    <a:lnTo>
                      <a:pt x="1" y="8"/>
                    </a:lnTo>
                    <a:lnTo>
                      <a:pt x="2" y="14"/>
                    </a:lnTo>
                    <a:lnTo>
                      <a:pt x="3" y="20"/>
                    </a:lnTo>
                    <a:lnTo>
                      <a:pt x="3" y="28"/>
                    </a:lnTo>
                    <a:lnTo>
                      <a:pt x="4" y="37"/>
                    </a:lnTo>
                    <a:lnTo>
                      <a:pt x="5" y="47"/>
                    </a:lnTo>
                    <a:lnTo>
                      <a:pt x="6" y="57"/>
                    </a:lnTo>
                    <a:lnTo>
                      <a:pt x="6" y="68"/>
                    </a:lnTo>
                    <a:lnTo>
                      <a:pt x="7" y="79"/>
                    </a:lnTo>
                    <a:lnTo>
                      <a:pt x="8" y="105"/>
                    </a:lnTo>
                    <a:lnTo>
                      <a:pt x="10" y="134"/>
                    </a:lnTo>
                    <a:lnTo>
                      <a:pt x="11" y="164"/>
                    </a:lnTo>
                    <a:lnTo>
                      <a:pt x="12" y="197"/>
                    </a:lnTo>
                    <a:lnTo>
                      <a:pt x="14" y="233"/>
                    </a:lnTo>
                    <a:lnTo>
                      <a:pt x="15" y="270"/>
                    </a:lnTo>
                    <a:lnTo>
                      <a:pt x="17" y="309"/>
                    </a:lnTo>
                    <a:lnTo>
                      <a:pt x="18" y="348"/>
                    </a:lnTo>
                    <a:lnTo>
                      <a:pt x="19" y="389"/>
                    </a:lnTo>
                    <a:lnTo>
                      <a:pt x="22" y="472"/>
                    </a:lnTo>
                    <a:lnTo>
                      <a:pt x="25" y="557"/>
                    </a:lnTo>
                    <a:lnTo>
                      <a:pt x="27" y="640"/>
                    </a:lnTo>
                    <a:lnTo>
                      <a:pt x="29" y="680"/>
                    </a:lnTo>
                    <a:lnTo>
                      <a:pt x="30" y="720"/>
                    </a:lnTo>
                    <a:lnTo>
                      <a:pt x="32" y="758"/>
                    </a:lnTo>
                    <a:lnTo>
                      <a:pt x="33" y="796"/>
                    </a:lnTo>
                    <a:lnTo>
                      <a:pt x="34" y="830"/>
                    </a:lnTo>
                    <a:lnTo>
                      <a:pt x="36" y="863"/>
                    </a:lnTo>
                    <a:lnTo>
                      <a:pt x="37" y="895"/>
                    </a:lnTo>
                    <a:lnTo>
                      <a:pt x="38" y="923"/>
                    </a:lnTo>
                    <a:lnTo>
                      <a:pt x="40" y="948"/>
                    </a:lnTo>
                    <a:lnTo>
                      <a:pt x="40" y="961"/>
                    </a:lnTo>
                    <a:lnTo>
                      <a:pt x="41" y="972"/>
                    </a:lnTo>
                    <a:lnTo>
                      <a:pt x="42" y="982"/>
                    </a:lnTo>
                    <a:lnTo>
                      <a:pt x="42" y="991"/>
                    </a:lnTo>
                    <a:lnTo>
                      <a:pt x="43" y="999"/>
                    </a:lnTo>
                    <a:lnTo>
                      <a:pt x="44" y="100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871880" y="3662280"/>
                <a:ext cx="71640" cy="166680"/>
              </a:xfrm>
              <a:custGeom>
                <a:avLst/>
                <a:gdLst/>
                <a:ahLst/>
                <a:rect l="l" t="t" r="r" b="b"/>
                <a:pathLst>
                  <a:path w="45" h="105">
                    <a:moveTo>
                      <a:pt x="0" y="97"/>
                    </a:moveTo>
                    <a:lnTo>
                      <a:pt x="1" y="102"/>
                    </a:lnTo>
                    <a:lnTo>
                      <a:pt x="3" y="105"/>
                    </a:lnTo>
                    <a:lnTo>
                      <a:pt x="5" y="105"/>
                    </a:lnTo>
                    <a:lnTo>
                      <a:pt x="8" y="104"/>
                    </a:lnTo>
                    <a:lnTo>
                      <a:pt x="11" y="100"/>
                    </a:lnTo>
                    <a:lnTo>
                      <a:pt x="14" y="95"/>
                    </a:lnTo>
                    <a:lnTo>
                      <a:pt x="18" y="89"/>
                    </a:lnTo>
                    <a:lnTo>
                      <a:pt x="22" y="81"/>
                    </a:lnTo>
                    <a:lnTo>
                      <a:pt x="27" y="73"/>
                    </a:lnTo>
                    <a:lnTo>
                      <a:pt x="31" y="63"/>
                    </a:lnTo>
                    <a:lnTo>
                      <a:pt x="37" y="42"/>
                    </a:lnTo>
                    <a:lnTo>
                      <a:pt x="42" y="21"/>
                    </a:lnTo>
                    <a:lnTo>
                      <a:pt x="4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943520" y="1541520"/>
                <a:ext cx="71280" cy="2120760"/>
              </a:xfrm>
              <a:custGeom>
                <a:avLst/>
                <a:gdLst/>
                <a:ahLst/>
                <a:rect l="l" t="t" r="r" b="b"/>
                <a:pathLst>
                  <a:path w="45" h="1336">
                    <a:moveTo>
                      <a:pt x="0" y="1336"/>
                    </a:moveTo>
                    <a:lnTo>
                      <a:pt x="1" y="1324"/>
                    </a:lnTo>
                    <a:lnTo>
                      <a:pt x="1" y="1312"/>
                    </a:lnTo>
                    <a:lnTo>
                      <a:pt x="2" y="1298"/>
                    </a:lnTo>
                    <a:lnTo>
                      <a:pt x="3" y="1282"/>
                    </a:lnTo>
                    <a:lnTo>
                      <a:pt x="3" y="1266"/>
                    </a:lnTo>
                    <a:lnTo>
                      <a:pt x="4" y="1249"/>
                    </a:lnTo>
                    <a:lnTo>
                      <a:pt x="5" y="1231"/>
                    </a:lnTo>
                    <a:lnTo>
                      <a:pt x="6" y="1213"/>
                    </a:lnTo>
                    <a:lnTo>
                      <a:pt x="6" y="1192"/>
                    </a:lnTo>
                    <a:lnTo>
                      <a:pt x="7" y="1172"/>
                    </a:lnTo>
                    <a:lnTo>
                      <a:pt x="8" y="1151"/>
                    </a:lnTo>
                    <a:lnTo>
                      <a:pt x="8" y="1129"/>
                    </a:lnTo>
                    <a:lnTo>
                      <a:pt x="10" y="1083"/>
                    </a:lnTo>
                    <a:lnTo>
                      <a:pt x="11" y="1034"/>
                    </a:lnTo>
                    <a:lnTo>
                      <a:pt x="13" y="984"/>
                    </a:lnTo>
                    <a:lnTo>
                      <a:pt x="14" y="931"/>
                    </a:lnTo>
                    <a:lnTo>
                      <a:pt x="15" y="878"/>
                    </a:lnTo>
                    <a:lnTo>
                      <a:pt x="17" y="823"/>
                    </a:lnTo>
                    <a:lnTo>
                      <a:pt x="18" y="767"/>
                    </a:lnTo>
                    <a:lnTo>
                      <a:pt x="20" y="712"/>
                    </a:lnTo>
                    <a:lnTo>
                      <a:pt x="22" y="599"/>
                    </a:lnTo>
                    <a:lnTo>
                      <a:pt x="24" y="544"/>
                    </a:lnTo>
                    <a:lnTo>
                      <a:pt x="25" y="489"/>
                    </a:lnTo>
                    <a:lnTo>
                      <a:pt x="27" y="435"/>
                    </a:lnTo>
                    <a:lnTo>
                      <a:pt x="28" y="384"/>
                    </a:lnTo>
                    <a:lnTo>
                      <a:pt x="30" y="334"/>
                    </a:lnTo>
                    <a:lnTo>
                      <a:pt x="31" y="286"/>
                    </a:lnTo>
                    <a:lnTo>
                      <a:pt x="32" y="241"/>
                    </a:lnTo>
                    <a:lnTo>
                      <a:pt x="33" y="219"/>
                    </a:lnTo>
                    <a:lnTo>
                      <a:pt x="34" y="198"/>
                    </a:lnTo>
                    <a:lnTo>
                      <a:pt x="34" y="178"/>
                    </a:lnTo>
                    <a:lnTo>
                      <a:pt x="35" y="159"/>
                    </a:lnTo>
                    <a:lnTo>
                      <a:pt x="36" y="141"/>
                    </a:lnTo>
                    <a:lnTo>
                      <a:pt x="37" y="124"/>
                    </a:lnTo>
                    <a:lnTo>
                      <a:pt x="37" y="106"/>
                    </a:lnTo>
                    <a:lnTo>
                      <a:pt x="38" y="91"/>
                    </a:lnTo>
                    <a:lnTo>
                      <a:pt x="39" y="77"/>
                    </a:lnTo>
                    <a:lnTo>
                      <a:pt x="39" y="64"/>
                    </a:lnTo>
                    <a:lnTo>
                      <a:pt x="40" y="51"/>
                    </a:lnTo>
                    <a:lnTo>
                      <a:pt x="41" y="40"/>
                    </a:lnTo>
                    <a:lnTo>
                      <a:pt x="42" y="30"/>
                    </a:lnTo>
                    <a:lnTo>
                      <a:pt x="42" y="21"/>
                    </a:lnTo>
                    <a:lnTo>
                      <a:pt x="43" y="14"/>
                    </a:lnTo>
                    <a:lnTo>
                      <a:pt x="44" y="8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014800" y="1538280"/>
                <a:ext cx="71640" cy="1601640"/>
              </a:xfrm>
              <a:custGeom>
                <a:avLst/>
                <a:gdLst/>
                <a:ahLst/>
                <a:rect l="l" t="t" r="r" b="b"/>
                <a:pathLst>
                  <a:path w="45" h="1009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4" y="10"/>
                    </a:lnTo>
                    <a:lnTo>
                      <a:pt x="5" y="15"/>
                    </a:lnTo>
                    <a:lnTo>
                      <a:pt x="6" y="22"/>
                    </a:lnTo>
                    <a:lnTo>
                      <a:pt x="6" y="29"/>
                    </a:lnTo>
                    <a:lnTo>
                      <a:pt x="7" y="38"/>
                    </a:lnTo>
                    <a:lnTo>
                      <a:pt x="8" y="49"/>
                    </a:lnTo>
                    <a:lnTo>
                      <a:pt x="8" y="59"/>
                    </a:lnTo>
                    <a:lnTo>
                      <a:pt x="9" y="71"/>
                    </a:lnTo>
                    <a:lnTo>
                      <a:pt x="10" y="83"/>
                    </a:lnTo>
                    <a:lnTo>
                      <a:pt x="10" y="96"/>
                    </a:lnTo>
                    <a:lnTo>
                      <a:pt x="11" y="110"/>
                    </a:lnTo>
                    <a:lnTo>
                      <a:pt x="12" y="126"/>
                    </a:lnTo>
                    <a:lnTo>
                      <a:pt x="12" y="141"/>
                    </a:lnTo>
                    <a:lnTo>
                      <a:pt x="14" y="174"/>
                    </a:lnTo>
                    <a:lnTo>
                      <a:pt x="15" y="211"/>
                    </a:lnTo>
                    <a:lnTo>
                      <a:pt x="18" y="248"/>
                    </a:lnTo>
                    <a:lnTo>
                      <a:pt x="19" y="288"/>
                    </a:lnTo>
                    <a:lnTo>
                      <a:pt x="20" y="330"/>
                    </a:lnTo>
                    <a:lnTo>
                      <a:pt x="22" y="372"/>
                    </a:lnTo>
                    <a:lnTo>
                      <a:pt x="23" y="416"/>
                    </a:lnTo>
                    <a:lnTo>
                      <a:pt x="26" y="506"/>
                    </a:lnTo>
                    <a:lnTo>
                      <a:pt x="28" y="595"/>
                    </a:lnTo>
                    <a:lnTo>
                      <a:pt x="30" y="640"/>
                    </a:lnTo>
                    <a:lnTo>
                      <a:pt x="31" y="683"/>
                    </a:lnTo>
                    <a:lnTo>
                      <a:pt x="33" y="726"/>
                    </a:lnTo>
                    <a:lnTo>
                      <a:pt x="34" y="767"/>
                    </a:lnTo>
                    <a:lnTo>
                      <a:pt x="35" y="806"/>
                    </a:lnTo>
                    <a:lnTo>
                      <a:pt x="37" y="843"/>
                    </a:lnTo>
                    <a:lnTo>
                      <a:pt x="38" y="878"/>
                    </a:lnTo>
                    <a:lnTo>
                      <a:pt x="39" y="911"/>
                    </a:lnTo>
                    <a:lnTo>
                      <a:pt x="40" y="926"/>
                    </a:lnTo>
                    <a:lnTo>
                      <a:pt x="41" y="940"/>
                    </a:lnTo>
                    <a:lnTo>
                      <a:pt x="41" y="954"/>
                    </a:lnTo>
                    <a:lnTo>
                      <a:pt x="42" y="967"/>
                    </a:lnTo>
                    <a:lnTo>
                      <a:pt x="43" y="979"/>
                    </a:lnTo>
                    <a:lnTo>
                      <a:pt x="43" y="990"/>
                    </a:lnTo>
                    <a:lnTo>
                      <a:pt x="44" y="1000"/>
                    </a:lnTo>
                    <a:lnTo>
                      <a:pt x="45" y="100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086440" y="3139920"/>
                <a:ext cx="71280" cy="158760"/>
              </a:xfrm>
              <a:custGeom>
                <a:avLst/>
                <a:gdLst/>
                <a:ahLst/>
                <a:rect l="l" t="t" r="r" b="b"/>
                <a:pathLst>
                  <a:path w="45" h="100">
                    <a:moveTo>
                      <a:pt x="0" y="0"/>
                    </a:moveTo>
                    <a:lnTo>
                      <a:pt x="1" y="10"/>
                    </a:lnTo>
                    <a:lnTo>
                      <a:pt x="3" y="20"/>
                    </a:lnTo>
                    <a:lnTo>
                      <a:pt x="8" y="41"/>
                    </a:lnTo>
                    <a:lnTo>
                      <a:pt x="15" y="61"/>
                    </a:lnTo>
                    <a:lnTo>
                      <a:pt x="19" y="70"/>
                    </a:lnTo>
                    <a:lnTo>
                      <a:pt x="22" y="78"/>
                    </a:lnTo>
                    <a:lnTo>
                      <a:pt x="26" y="85"/>
                    </a:lnTo>
                    <a:lnTo>
                      <a:pt x="30" y="91"/>
                    </a:lnTo>
                    <a:lnTo>
                      <a:pt x="34" y="96"/>
                    </a:lnTo>
                    <a:lnTo>
                      <a:pt x="37" y="99"/>
                    </a:lnTo>
                    <a:lnTo>
                      <a:pt x="40" y="100"/>
                    </a:lnTo>
                    <a:lnTo>
                      <a:pt x="42" y="98"/>
                    </a:lnTo>
                    <a:lnTo>
                      <a:pt x="44" y="95"/>
                    </a:lnTo>
                    <a:lnTo>
                      <a:pt x="45" y="8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157720" y="1763640"/>
                <a:ext cx="71640" cy="1517760"/>
              </a:xfrm>
              <a:custGeom>
                <a:avLst/>
                <a:gdLst/>
                <a:ahLst/>
                <a:rect l="l" t="t" r="r" b="b"/>
                <a:pathLst>
                  <a:path w="45" h="956">
                    <a:moveTo>
                      <a:pt x="0" y="956"/>
                    </a:moveTo>
                    <a:lnTo>
                      <a:pt x="1" y="949"/>
                    </a:lnTo>
                    <a:lnTo>
                      <a:pt x="1" y="941"/>
                    </a:lnTo>
                    <a:lnTo>
                      <a:pt x="2" y="932"/>
                    </a:lnTo>
                    <a:lnTo>
                      <a:pt x="3" y="922"/>
                    </a:lnTo>
                    <a:lnTo>
                      <a:pt x="3" y="911"/>
                    </a:lnTo>
                    <a:lnTo>
                      <a:pt x="4" y="898"/>
                    </a:lnTo>
                    <a:lnTo>
                      <a:pt x="5" y="885"/>
                    </a:lnTo>
                    <a:lnTo>
                      <a:pt x="6" y="872"/>
                    </a:lnTo>
                    <a:lnTo>
                      <a:pt x="7" y="844"/>
                    </a:lnTo>
                    <a:lnTo>
                      <a:pt x="8" y="811"/>
                    </a:lnTo>
                    <a:lnTo>
                      <a:pt x="10" y="778"/>
                    </a:lnTo>
                    <a:lnTo>
                      <a:pt x="11" y="742"/>
                    </a:lnTo>
                    <a:lnTo>
                      <a:pt x="13" y="704"/>
                    </a:lnTo>
                    <a:lnTo>
                      <a:pt x="15" y="665"/>
                    </a:lnTo>
                    <a:lnTo>
                      <a:pt x="16" y="624"/>
                    </a:lnTo>
                    <a:lnTo>
                      <a:pt x="18" y="582"/>
                    </a:lnTo>
                    <a:lnTo>
                      <a:pt x="20" y="498"/>
                    </a:lnTo>
                    <a:lnTo>
                      <a:pt x="23" y="413"/>
                    </a:lnTo>
                    <a:lnTo>
                      <a:pt x="24" y="371"/>
                    </a:lnTo>
                    <a:lnTo>
                      <a:pt x="26" y="330"/>
                    </a:lnTo>
                    <a:lnTo>
                      <a:pt x="27" y="290"/>
                    </a:lnTo>
                    <a:lnTo>
                      <a:pt x="28" y="251"/>
                    </a:lnTo>
                    <a:lnTo>
                      <a:pt x="30" y="214"/>
                    </a:lnTo>
                    <a:lnTo>
                      <a:pt x="31" y="179"/>
                    </a:lnTo>
                    <a:lnTo>
                      <a:pt x="33" y="146"/>
                    </a:lnTo>
                    <a:lnTo>
                      <a:pt x="34" y="116"/>
                    </a:lnTo>
                    <a:lnTo>
                      <a:pt x="35" y="102"/>
                    </a:lnTo>
                    <a:lnTo>
                      <a:pt x="35" y="89"/>
                    </a:lnTo>
                    <a:lnTo>
                      <a:pt x="36" y="77"/>
                    </a:lnTo>
                    <a:lnTo>
                      <a:pt x="37" y="64"/>
                    </a:lnTo>
                    <a:lnTo>
                      <a:pt x="37" y="53"/>
                    </a:lnTo>
                    <a:lnTo>
                      <a:pt x="38" y="44"/>
                    </a:lnTo>
                    <a:lnTo>
                      <a:pt x="39" y="35"/>
                    </a:lnTo>
                    <a:lnTo>
                      <a:pt x="39" y="26"/>
                    </a:lnTo>
                    <a:lnTo>
                      <a:pt x="40" y="19"/>
                    </a:lnTo>
                    <a:lnTo>
                      <a:pt x="41" y="13"/>
                    </a:lnTo>
                    <a:lnTo>
                      <a:pt x="41" y="8"/>
                    </a:lnTo>
                    <a:lnTo>
                      <a:pt x="42" y="4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229360" y="1765440"/>
                <a:ext cx="71280" cy="1812960"/>
              </a:xfrm>
              <a:custGeom>
                <a:avLst/>
                <a:gdLst/>
                <a:ahLst/>
                <a:rect l="l" t="t" r="r" b="b"/>
                <a:pathLst>
                  <a:path w="45" h="1142">
                    <a:moveTo>
                      <a:pt x="0" y="0"/>
                    </a:moveTo>
                    <a:lnTo>
                      <a:pt x="1" y="2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6"/>
                    </a:lnTo>
                    <a:lnTo>
                      <a:pt x="3" y="23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6" y="50"/>
                    </a:lnTo>
                    <a:lnTo>
                      <a:pt x="6" y="61"/>
                    </a:lnTo>
                    <a:lnTo>
                      <a:pt x="7" y="74"/>
                    </a:lnTo>
                    <a:lnTo>
                      <a:pt x="8" y="87"/>
                    </a:lnTo>
                    <a:lnTo>
                      <a:pt x="8" y="100"/>
                    </a:lnTo>
                    <a:lnTo>
                      <a:pt x="9" y="115"/>
                    </a:lnTo>
                    <a:lnTo>
                      <a:pt x="10" y="131"/>
                    </a:lnTo>
                    <a:lnTo>
                      <a:pt x="10" y="147"/>
                    </a:lnTo>
                    <a:lnTo>
                      <a:pt x="11" y="165"/>
                    </a:lnTo>
                    <a:lnTo>
                      <a:pt x="13" y="201"/>
                    </a:lnTo>
                    <a:lnTo>
                      <a:pt x="14" y="240"/>
                    </a:lnTo>
                    <a:lnTo>
                      <a:pt x="15" y="281"/>
                    </a:lnTo>
                    <a:lnTo>
                      <a:pt x="17" y="325"/>
                    </a:lnTo>
                    <a:lnTo>
                      <a:pt x="18" y="369"/>
                    </a:lnTo>
                    <a:lnTo>
                      <a:pt x="20" y="416"/>
                    </a:lnTo>
                    <a:lnTo>
                      <a:pt x="21" y="463"/>
                    </a:lnTo>
                    <a:lnTo>
                      <a:pt x="22" y="511"/>
                    </a:lnTo>
                    <a:lnTo>
                      <a:pt x="25" y="608"/>
                    </a:lnTo>
                    <a:lnTo>
                      <a:pt x="28" y="705"/>
                    </a:lnTo>
                    <a:lnTo>
                      <a:pt x="30" y="753"/>
                    </a:lnTo>
                    <a:lnTo>
                      <a:pt x="31" y="798"/>
                    </a:lnTo>
                    <a:lnTo>
                      <a:pt x="32" y="844"/>
                    </a:lnTo>
                    <a:lnTo>
                      <a:pt x="34" y="887"/>
                    </a:lnTo>
                    <a:lnTo>
                      <a:pt x="35" y="929"/>
                    </a:lnTo>
                    <a:lnTo>
                      <a:pt x="37" y="968"/>
                    </a:lnTo>
                    <a:lnTo>
                      <a:pt x="38" y="1006"/>
                    </a:lnTo>
                    <a:lnTo>
                      <a:pt x="39" y="1023"/>
                    </a:lnTo>
                    <a:lnTo>
                      <a:pt x="39" y="1039"/>
                    </a:lnTo>
                    <a:lnTo>
                      <a:pt x="40" y="1055"/>
                    </a:lnTo>
                    <a:lnTo>
                      <a:pt x="41" y="1070"/>
                    </a:lnTo>
                    <a:lnTo>
                      <a:pt x="42" y="1085"/>
                    </a:lnTo>
                    <a:lnTo>
                      <a:pt x="42" y="1098"/>
                    </a:lnTo>
                    <a:lnTo>
                      <a:pt x="43" y="1111"/>
                    </a:lnTo>
                    <a:lnTo>
                      <a:pt x="44" y="1122"/>
                    </a:lnTo>
                    <a:lnTo>
                      <a:pt x="44" y="1133"/>
                    </a:lnTo>
                    <a:lnTo>
                      <a:pt x="45" y="114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300640" y="357840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8" y="14"/>
                    </a:lnTo>
                    <a:lnTo>
                      <a:pt x="15" y="18"/>
                    </a:lnTo>
                    <a:lnTo>
                      <a:pt x="23" y="20"/>
                    </a:lnTo>
                    <a:lnTo>
                      <a:pt x="31" y="21"/>
                    </a:lnTo>
                    <a:lnTo>
                      <a:pt x="38" y="19"/>
                    </a:lnTo>
                    <a:lnTo>
                      <a:pt x="43" y="15"/>
                    </a:lnTo>
                    <a:lnTo>
                      <a:pt x="44" y="11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372280" y="1589040"/>
                <a:ext cx="71280" cy="2000160"/>
              </a:xfrm>
              <a:custGeom>
                <a:avLst/>
                <a:gdLst/>
                <a:ahLst/>
                <a:rect l="l" t="t" r="r" b="b"/>
                <a:pathLst>
                  <a:path w="45" h="1260">
                    <a:moveTo>
                      <a:pt x="0" y="1260"/>
                    </a:moveTo>
                    <a:lnTo>
                      <a:pt x="1" y="1250"/>
                    </a:lnTo>
                    <a:lnTo>
                      <a:pt x="1" y="1238"/>
                    </a:lnTo>
                    <a:lnTo>
                      <a:pt x="2" y="1226"/>
                    </a:lnTo>
                    <a:lnTo>
                      <a:pt x="3" y="1212"/>
                    </a:lnTo>
                    <a:lnTo>
                      <a:pt x="3" y="1198"/>
                    </a:lnTo>
                    <a:lnTo>
                      <a:pt x="4" y="1181"/>
                    </a:lnTo>
                    <a:lnTo>
                      <a:pt x="5" y="1165"/>
                    </a:lnTo>
                    <a:lnTo>
                      <a:pt x="6" y="1148"/>
                    </a:lnTo>
                    <a:lnTo>
                      <a:pt x="6" y="1129"/>
                    </a:lnTo>
                    <a:lnTo>
                      <a:pt x="7" y="1111"/>
                    </a:lnTo>
                    <a:lnTo>
                      <a:pt x="8" y="1090"/>
                    </a:lnTo>
                    <a:lnTo>
                      <a:pt x="8" y="1069"/>
                    </a:lnTo>
                    <a:lnTo>
                      <a:pt x="10" y="1026"/>
                    </a:lnTo>
                    <a:lnTo>
                      <a:pt x="11" y="980"/>
                    </a:lnTo>
                    <a:lnTo>
                      <a:pt x="13" y="933"/>
                    </a:lnTo>
                    <a:lnTo>
                      <a:pt x="14" y="883"/>
                    </a:lnTo>
                    <a:lnTo>
                      <a:pt x="15" y="831"/>
                    </a:lnTo>
                    <a:lnTo>
                      <a:pt x="17" y="779"/>
                    </a:lnTo>
                    <a:lnTo>
                      <a:pt x="18" y="726"/>
                    </a:lnTo>
                    <a:lnTo>
                      <a:pt x="20" y="672"/>
                    </a:lnTo>
                    <a:lnTo>
                      <a:pt x="22" y="565"/>
                    </a:lnTo>
                    <a:lnTo>
                      <a:pt x="24" y="512"/>
                    </a:lnTo>
                    <a:lnTo>
                      <a:pt x="25" y="460"/>
                    </a:lnTo>
                    <a:lnTo>
                      <a:pt x="27" y="408"/>
                    </a:lnTo>
                    <a:lnTo>
                      <a:pt x="28" y="359"/>
                    </a:lnTo>
                    <a:lnTo>
                      <a:pt x="30" y="311"/>
                    </a:lnTo>
                    <a:lnTo>
                      <a:pt x="31" y="266"/>
                    </a:lnTo>
                    <a:lnTo>
                      <a:pt x="32" y="223"/>
                    </a:lnTo>
                    <a:lnTo>
                      <a:pt x="33" y="202"/>
                    </a:lnTo>
                    <a:lnTo>
                      <a:pt x="34" y="183"/>
                    </a:lnTo>
                    <a:lnTo>
                      <a:pt x="34" y="163"/>
                    </a:lnTo>
                    <a:lnTo>
                      <a:pt x="35" y="145"/>
                    </a:lnTo>
                    <a:lnTo>
                      <a:pt x="36" y="128"/>
                    </a:lnTo>
                    <a:lnTo>
                      <a:pt x="37" y="112"/>
                    </a:lnTo>
                    <a:lnTo>
                      <a:pt x="37" y="97"/>
                    </a:lnTo>
                    <a:lnTo>
                      <a:pt x="38" y="81"/>
                    </a:lnTo>
                    <a:lnTo>
                      <a:pt x="39" y="68"/>
                    </a:lnTo>
                    <a:lnTo>
                      <a:pt x="39" y="56"/>
                    </a:lnTo>
                    <a:lnTo>
                      <a:pt x="40" y="45"/>
                    </a:lnTo>
                    <a:lnTo>
                      <a:pt x="41" y="35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3" y="12"/>
                    </a:lnTo>
                    <a:lnTo>
                      <a:pt x="44" y="6"/>
                    </a:lnTo>
                    <a:lnTo>
                      <a:pt x="4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443560" y="1587600"/>
                <a:ext cx="71280" cy="1674720"/>
              </a:xfrm>
              <a:custGeom>
                <a:avLst/>
                <a:gdLst/>
                <a:ahLst/>
                <a:rect l="l" t="t" r="r" b="b"/>
                <a:pathLst>
                  <a:path w="45" h="1055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5" y="16"/>
                    </a:lnTo>
                    <a:lnTo>
                      <a:pt x="6" y="22"/>
                    </a:lnTo>
                    <a:lnTo>
                      <a:pt x="7" y="30"/>
                    </a:lnTo>
                    <a:lnTo>
                      <a:pt x="7" y="39"/>
                    </a:lnTo>
                    <a:lnTo>
                      <a:pt x="8" y="48"/>
                    </a:lnTo>
                    <a:lnTo>
                      <a:pt x="9" y="59"/>
                    </a:lnTo>
                    <a:lnTo>
                      <a:pt x="9" y="71"/>
                    </a:lnTo>
                    <a:lnTo>
                      <a:pt x="10" y="83"/>
                    </a:lnTo>
                    <a:lnTo>
                      <a:pt x="11" y="98"/>
                    </a:lnTo>
                    <a:lnTo>
                      <a:pt x="11" y="112"/>
                    </a:lnTo>
                    <a:lnTo>
                      <a:pt x="12" y="127"/>
                    </a:lnTo>
                    <a:lnTo>
                      <a:pt x="13" y="143"/>
                    </a:lnTo>
                    <a:lnTo>
                      <a:pt x="13" y="159"/>
                    </a:lnTo>
                    <a:lnTo>
                      <a:pt x="15" y="196"/>
                    </a:lnTo>
                    <a:lnTo>
                      <a:pt x="16" y="233"/>
                    </a:lnTo>
                    <a:lnTo>
                      <a:pt x="17" y="274"/>
                    </a:lnTo>
                    <a:lnTo>
                      <a:pt x="19" y="315"/>
                    </a:lnTo>
                    <a:lnTo>
                      <a:pt x="20" y="359"/>
                    </a:lnTo>
                    <a:lnTo>
                      <a:pt x="22" y="404"/>
                    </a:lnTo>
                    <a:lnTo>
                      <a:pt x="23" y="450"/>
                    </a:lnTo>
                    <a:lnTo>
                      <a:pt x="26" y="543"/>
                    </a:lnTo>
                    <a:lnTo>
                      <a:pt x="28" y="636"/>
                    </a:lnTo>
                    <a:lnTo>
                      <a:pt x="30" y="682"/>
                    </a:lnTo>
                    <a:lnTo>
                      <a:pt x="31" y="726"/>
                    </a:lnTo>
                    <a:lnTo>
                      <a:pt x="33" y="770"/>
                    </a:lnTo>
                    <a:lnTo>
                      <a:pt x="34" y="812"/>
                    </a:lnTo>
                    <a:lnTo>
                      <a:pt x="35" y="852"/>
                    </a:lnTo>
                    <a:lnTo>
                      <a:pt x="37" y="890"/>
                    </a:lnTo>
                    <a:lnTo>
                      <a:pt x="38" y="925"/>
                    </a:lnTo>
                    <a:lnTo>
                      <a:pt x="39" y="942"/>
                    </a:lnTo>
                    <a:lnTo>
                      <a:pt x="39" y="958"/>
                    </a:lnTo>
                    <a:lnTo>
                      <a:pt x="40" y="973"/>
                    </a:lnTo>
                    <a:lnTo>
                      <a:pt x="41" y="987"/>
                    </a:lnTo>
                    <a:lnTo>
                      <a:pt x="42" y="1001"/>
                    </a:lnTo>
                    <a:lnTo>
                      <a:pt x="42" y="1013"/>
                    </a:lnTo>
                    <a:lnTo>
                      <a:pt x="43" y="1026"/>
                    </a:lnTo>
                    <a:lnTo>
                      <a:pt x="44" y="1037"/>
                    </a:lnTo>
                    <a:lnTo>
                      <a:pt x="44" y="1046"/>
                    </a:lnTo>
                    <a:lnTo>
                      <a:pt x="45" y="105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514840" y="3257640"/>
                <a:ext cx="73080" cy="2520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3"/>
                    </a:moveTo>
                    <a:lnTo>
                      <a:pt x="1" y="7"/>
                    </a:lnTo>
                    <a:lnTo>
                      <a:pt x="2" y="10"/>
                    </a:lnTo>
                    <a:lnTo>
                      <a:pt x="8" y="14"/>
                    </a:lnTo>
                    <a:lnTo>
                      <a:pt x="15" y="16"/>
                    </a:lnTo>
                    <a:lnTo>
                      <a:pt x="22" y="16"/>
                    </a:lnTo>
                    <a:lnTo>
                      <a:pt x="30" y="14"/>
                    </a:lnTo>
                    <a:lnTo>
                      <a:pt x="37" y="10"/>
                    </a:lnTo>
                    <a:lnTo>
                      <a:pt x="44" y="6"/>
                    </a:lnTo>
                    <a:lnTo>
                      <a:pt x="45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587920" y="2065320"/>
                <a:ext cx="69840" cy="1192320"/>
              </a:xfrm>
              <a:custGeom>
                <a:avLst/>
                <a:gdLst/>
                <a:ahLst/>
                <a:rect l="l" t="t" r="r" b="b"/>
                <a:pathLst>
                  <a:path w="44" h="751">
                    <a:moveTo>
                      <a:pt x="0" y="751"/>
                    </a:moveTo>
                    <a:lnTo>
                      <a:pt x="1" y="745"/>
                    </a:lnTo>
                    <a:lnTo>
                      <a:pt x="1" y="738"/>
                    </a:lnTo>
                    <a:lnTo>
                      <a:pt x="3" y="722"/>
                    </a:lnTo>
                    <a:lnTo>
                      <a:pt x="4" y="702"/>
                    </a:lnTo>
                    <a:lnTo>
                      <a:pt x="6" y="681"/>
                    </a:lnTo>
                    <a:lnTo>
                      <a:pt x="7" y="657"/>
                    </a:lnTo>
                    <a:lnTo>
                      <a:pt x="8" y="632"/>
                    </a:lnTo>
                    <a:lnTo>
                      <a:pt x="10" y="604"/>
                    </a:lnTo>
                    <a:lnTo>
                      <a:pt x="11" y="575"/>
                    </a:lnTo>
                    <a:lnTo>
                      <a:pt x="12" y="544"/>
                    </a:lnTo>
                    <a:lnTo>
                      <a:pt x="14" y="513"/>
                    </a:lnTo>
                    <a:lnTo>
                      <a:pt x="15" y="481"/>
                    </a:lnTo>
                    <a:lnTo>
                      <a:pt x="17" y="447"/>
                    </a:lnTo>
                    <a:lnTo>
                      <a:pt x="19" y="380"/>
                    </a:lnTo>
                    <a:lnTo>
                      <a:pt x="22" y="313"/>
                    </a:lnTo>
                    <a:lnTo>
                      <a:pt x="23" y="279"/>
                    </a:lnTo>
                    <a:lnTo>
                      <a:pt x="25" y="248"/>
                    </a:lnTo>
                    <a:lnTo>
                      <a:pt x="26" y="217"/>
                    </a:lnTo>
                    <a:lnTo>
                      <a:pt x="27" y="186"/>
                    </a:lnTo>
                    <a:lnTo>
                      <a:pt x="29" y="158"/>
                    </a:lnTo>
                    <a:lnTo>
                      <a:pt x="30" y="131"/>
                    </a:lnTo>
                    <a:lnTo>
                      <a:pt x="32" y="105"/>
                    </a:lnTo>
                    <a:lnTo>
                      <a:pt x="33" y="82"/>
                    </a:lnTo>
                    <a:lnTo>
                      <a:pt x="34" y="62"/>
                    </a:lnTo>
                    <a:lnTo>
                      <a:pt x="36" y="43"/>
                    </a:lnTo>
                    <a:lnTo>
                      <a:pt x="37" y="28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9" y="11"/>
                    </a:lnTo>
                    <a:lnTo>
                      <a:pt x="40" y="7"/>
                    </a:lnTo>
                    <a:lnTo>
                      <a:pt x="40" y="4"/>
                    </a:lnTo>
                    <a:lnTo>
                      <a:pt x="41" y="1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657760" y="2068560"/>
                <a:ext cx="73080" cy="1614600"/>
              </a:xfrm>
              <a:custGeom>
                <a:avLst/>
                <a:gdLst/>
                <a:ahLst/>
                <a:rect l="l" t="t" r="r" b="b"/>
                <a:pathLst>
                  <a:path w="46" h="1017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3" y="23"/>
                    </a:lnTo>
                    <a:lnTo>
                      <a:pt x="4" y="31"/>
                    </a:lnTo>
                    <a:lnTo>
                      <a:pt x="5" y="40"/>
                    </a:lnTo>
                    <a:lnTo>
                      <a:pt x="6" y="50"/>
                    </a:lnTo>
                    <a:lnTo>
                      <a:pt x="6" y="60"/>
                    </a:lnTo>
                    <a:lnTo>
                      <a:pt x="7" y="71"/>
                    </a:lnTo>
                    <a:lnTo>
                      <a:pt x="8" y="83"/>
                    </a:lnTo>
                    <a:lnTo>
                      <a:pt x="8" y="96"/>
                    </a:lnTo>
                    <a:lnTo>
                      <a:pt x="10" y="123"/>
                    </a:lnTo>
                    <a:lnTo>
                      <a:pt x="11" y="154"/>
                    </a:lnTo>
                    <a:lnTo>
                      <a:pt x="13" y="186"/>
                    </a:lnTo>
                    <a:lnTo>
                      <a:pt x="14" y="222"/>
                    </a:lnTo>
                    <a:lnTo>
                      <a:pt x="15" y="258"/>
                    </a:lnTo>
                    <a:lnTo>
                      <a:pt x="17" y="297"/>
                    </a:lnTo>
                    <a:lnTo>
                      <a:pt x="18" y="337"/>
                    </a:lnTo>
                    <a:lnTo>
                      <a:pt x="20" y="378"/>
                    </a:lnTo>
                    <a:lnTo>
                      <a:pt x="21" y="419"/>
                    </a:lnTo>
                    <a:lnTo>
                      <a:pt x="22" y="462"/>
                    </a:lnTo>
                    <a:lnTo>
                      <a:pt x="25" y="548"/>
                    </a:lnTo>
                    <a:lnTo>
                      <a:pt x="28" y="633"/>
                    </a:lnTo>
                    <a:lnTo>
                      <a:pt x="30" y="674"/>
                    </a:lnTo>
                    <a:lnTo>
                      <a:pt x="31" y="716"/>
                    </a:lnTo>
                    <a:lnTo>
                      <a:pt x="32" y="755"/>
                    </a:lnTo>
                    <a:lnTo>
                      <a:pt x="34" y="792"/>
                    </a:lnTo>
                    <a:lnTo>
                      <a:pt x="35" y="830"/>
                    </a:lnTo>
                    <a:lnTo>
                      <a:pt x="38" y="864"/>
                    </a:lnTo>
                    <a:lnTo>
                      <a:pt x="39" y="897"/>
                    </a:lnTo>
                    <a:lnTo>
                      <a:pt x="40" y="926"/>
                    </a:lnTo>
                    <a:lnTo>
                      <a:pt x="42" y="953"/>
                    </a:lnTo>
                    <a:lnTo>
                      <a:pt x="42" y="967"/>
                    </a:lnTo>
                    <a:lnTo>
                      <a:pt x="43" y="978"/>
                    </a:lnTo>
                    <a:lnTo>
                      <a:pt x="44" y="989"/>
                    </a:lnTo>
                    <a:lnTo>
                      <a:pt x="44" y="999"/>
                    </a:lnTo>
                    <a:lnTo>
                      <a:pt x="45" y="1008"/>
                    </a:lnTo>
                    <a:lnTo>
                      <a:pt x="46" y="101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730840" y="368136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4" y="14"/>
                    </a:lnTo>
                    <a:lnTo>
                      <a:pt x="22" y="15"/>
                    </a:lnTo>
                    <a:lnTo>
                      <a:pt x="30" y="14"/>
                    </a:lnTo>
                    <a:lnTo>
                      <a:pt x="37" y="12"/>
                    </a:lnTo>
                    <a:lnTo>
                      <a:pt x="42" y="7"/>
                    </a:lnTo>
                    <a:lnTo>
                      <a:pt x="43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800680" y="1515960"/>
                <a:ext cx="73080" cy="2165400"/>
              </a:xfrm>
              <a:custGeom>
                <a:avLst/>
                <a:gdLst/>
                <a:ahLst/>
                <a:rect l="l" t="t" r="r" b="b"/>
                <a:pathLst>
                  <a:path w="46" h="1364">
                    <a:moveTo>
                      <a:pt x="0" y="1364"/>
                    </a:moveTo>
                    <a:lnTo>
                      <a:pt x="1" y="1353"/>
                    </a:lnTo>
                    <a:lnTo>
                      <a:pt x="1" y="1340"/>
                    </a:lnTo>
                    <a:lnTo>
                      <a:pt x="2" y="1327"/>
                    </a:lnTo>
                    <a:lnTo>
                      <a:pt x="3" y="1311"/>
                    </a:lnTo>
                    <a:lnTo>
                      <a:pt x="3" y="1296"/>
                    </a:lnTo>
                    <a:lnTo>
                      <a:pt x="4" y="1279"/>
                    </a:lnTo>
                    <a:lnTo>
                      <a:pt x="5" y="1261"/>
                    </a:lnTo>
                    <a:lnTo>
                      <a:pt x="6" y="1242"/>
                    </a:lnTo>
                    <a:lnTo>
                      <a:pt x="6" y="1222"/>
                    </a:lnTo>
                    <a:lnTo>
                      <a:pt x="7" y="1201"/>
                    </a:lnTo>
                    <a:lnTo>
                      <a:pt x="8" y="1180"/>
                    </a:lnTo>
                    <a:lnTo>
                      <a:pt x="8" y="1158"/>
                    </a:lnTo>
                    <a:lnTo>
                      <a:pt x="10" y="1111"/>
                    </a:lnTo>
                    <a:lnTo>
                      <a:pt x="11" y="1062"/>
                    </a:lnTo>
                    <a:lnTo>
                      <a:pt x="13" y="1010"/>
                    </a:lnTo>
                    <a:lnTo>
                      <a:pt x="14" y="956"/>
                    </a:lnTo>
                    <a:lnTo>
                      <a:pt x="15" y="902"/>
                    </a:lnTo>
                    <a:lnTo>
                      <a:pt x="17" y="845"/>
                    </a:lnTo>
                    <a:lnTo>
                      <a:pt x="18" y="788"/>
                    </a:lnTo>
                    <a:lnTo>
                      <a:pt x="20" y="731"/>
                    </a:lnTo>
                    <a:lnTo>
                      <a:pt x="22" y="614"/>
                    </a:lnTo>
                    <a:lnTo>
                      <a:pt x="24" y="558"/>
                    </a:lnTo>
                    <a:lnTo>
                      <a:pt x="25" y="501"/>
                    </a:lnTo>
                    <a:lnTo>
                      <a:pt x="27" y="446"/>
                    </a:lnTo>
                    <a:lnTo>
                      <a:pt x="28" y="393"/>
                    </a:lnTo>
                    <a:lnTo>
                      <a:pt x="30" y="341"/>
                    </a:lnTo>
                    <a:lnTo>
                      <a:pt x="32" y="291"/>
                    </a:lnTo>
                    <a:lnTo>
                      <a:pt x="33" y="245"/>
                    </a:lnTo>
                    <a:lnTo>
                      <a:pt x="34" y="223"/>
                    </a:lnTo>
                    <a:lnTo>
                      <a:pt x="35" y="201"/>
                    </a:lnTo>
                    <a:lnTo>
                      <a:pt x="35" y="181"/>
                    </a:lnTo>
                    <a:lnTo>
                      <a:pt x="36" y="161"/>
                    </a:lnTo>
                    <a:lnTo>
                      <a:pt x="37" y="142"/>
                    </a:lnTo>
                    <a:lnTo>
                      <a:pt x="38" y="124"/>
                    </a:lnTo>
                    <a:lnTo>
                      <a:pt x="38" y="107"/>
                    </a:lnTo>
                    <a:lnTo>
                      <a:pt x="39" y="91"/>
                    </a:lnTo>
                    <a:lnTo>
                      <a:pt x="40" y="77"/>
                    </a:lnTo>
                    <a:lnTo>
                      <a:pt x="40" y="63"/>
                    </a:lnTo>
                    <a:lnTo>
                      <a:pt x="41" y="50"/>
                    </a:lnTo>
                    <a:lnTo>
                      <a:pt x="42" y="39"/>
                    </a:lnTo>
                    <a:lnTo>
                      <a:pt x="43" y="29"/>
                    </a:lnTo>
                    <a:lnTo>
                      <a:pt x="43" y="21"/>
                    </a:lnTo>
                    <a:lnTo>
                      <a:pt x="44" y="13"/>
                    </a:lnTo>
                    <a:lnTo>
                      <a:pt x="45" y="7"/>
                    </a:lnTo>
                    <a:lnTo>
                      <a:pt x="45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873760" y="1512720"/>
                <a:ext cx="69840" cy="1710000"/>
              </a:xfrm>
              <a:custGeom>
                <a:avLst/>
                <a:gdLst/>
                <a:ahLst/>
                <a:rect l="l" t="t" r="r" b="b"/>
                <a:pathLst>
                  <a:path w="44" h="1077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8"/>
                    </a:lnTo>
                    <a:lnTo>
                      <a:pt x="4" y="13"/>
                    </a:lnTo>
                    <a:lnTo>
                      <a:pt x="5" y="19"/>
                    </a:lnTo>
                    <a:lnTo>
                      <a:pt x="6" y="27"/>
                    </a:lnTo>
                    <a:lnTo>
                      <a:pt x="6" y="35"/>
                    </a:lnTo>
                    <a:lnTo>
                      <a:pt x="7" y="45"/>
                    </a:lnTo>
                    <a:lnTo>
                      <a:pt x="8" y="56"/>
                    </a:lnTo>
                    <a:lnTo>
                      <a:pt x="8" y="68"/>
                    </a:lnTo>
                    <a:lnTo>
                      <a:pt x="9" y="81"/>
                    </a:lnTo>
                    <a:lnTo>
                      <a:pt x="10" y="95"/>
                    </a:lnTo>
                    <a:lnTo>
                      <a:pt x="10" y="109"/>
                    </a:lnTo>
                    <a:lnTo>
                      <a:pt x="11" y="124"/>
                    </a:lnTo>
                    <a:lnTo>
                      <a:pt x="12" y="141"/>
                    </a:lnTo>
                    <a:lnTo>
                      <a:pt x="12" y="158"/>
                    </a:lnTo>
                    <a:lnTo>
                      <a:pt x="14" y="194"/>
                    </a:lnTo>
                    <a:lnTo>
                      <a:pt x="15" y="233"/>
                    </a:lnTo>
                    <a:lnTo>
                      <a:pt x="16" y="274"/>
                    </a:lnTo>
                    <a:lnTo>
                      <a:pt x="18" y="318"/>
                    </a:lnTo>
                    <a:lnTo>
                      <a:pt x="19" y="362"/>
                    </a:lnTo>
                    <a:lnTo>
                      <a:pt x="21" y="408"/>
                    </a:lnTo>
                    <a:lnTo>
                      <a:pt x="22" y="455"/>
                    </a:lnTo>
                    <a:lnTo>
                      <a:pt x="25" y="550"/>
                    </a:lnTo>
                    <a:lnTo>
                      <a:pt x="27" y="647"/>
                    </a:lnTo>
                    <a:lnTo>
                      <a:pt x="29" y="693"/>
                    </a:lnTo>
                    <a:lnTo>
                      <a:pt x="30" y="740"/>
                    </a:lnTo>
                    <a:lnTo>
                      <a:pt x="32" y="784"/>
                    </a:lnTo>
                    <a:lnTo>
                      <a:pt x="33" y="828"/>
                    </a:lnTo>
                    <a:lnTo>
                      <a:pt x="34" y="868"/>
                    </a:lnTo>
                    <a:lnTo>
                      <a:pt x="36" y="908"/>
                    </a:lnTo>
                    <a:lnTo>
                      <a:pt x="37" y="944"/>
                    </a:lnTo>
                    <a:lnTo>
                      <a:pt x="38" y="961"/>
                    </a:lnTo>
                    <a:lnTo>
                      <a:pt x="38" y="977"/>
                    </a:lnTo>
                    <a:lnTo>
                      <a:pt x="39" y="994"/>
                    </a:lnTo>
                    <a:lnTo>
                      <a:pt x="40" y="1008"/>
                    </a:lnTo>
                    <a:lnTo>
                      <a:pt x="41" y="1022"/>
                    </a:lnTo>
                    <a:lnTo>
                      <a:pt x="41" y="1035"/>
                    </a:lnTo>
                    <a:lnTo>
                      <a:pt x="42" y="1047"/>
                    </a:lnTo>
                    <a:lnTo>
                      <a:pt x="43" y="1057"/>
                    </a:lnTo>
                    <a:lnTo>
                      <a:pt x="43" y="1068"/>
                    </a:lnTo>
                    <a:lnTo>
                      <a:pt x="44" y="107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943600" y="3200400"/>
                <a:ext cx="73080" cy="3816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0" y="14"/>
                    </a:moveTo>
                    <a:lnTo>
                      <a:pt x="1" y="18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8" y="24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22" y="22"/>
                    </a:lnTo>
                    <a:lnTo>
                      <a:pt x="31" y="18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5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016680" y="2073240"/>
                <a:ext cx="69840" cy="1127160"/>
              </a:xfrm>
              <a:custGeom>
                <a:avLst/>
                <a:gdLst/>
                <a:ahLst/>
                <a:rect l="l" t="t" r="r" b="b"/>
                <a:pathLst>
                  <a:path w="44" h="710">
                    <a:moveTo>
                      <a:pt x="0" y="710"/>
                    </a:moveTo>
                    <a:lnTo>
                      <a:pt x="1" y="703"/>
                    </a:lnTo>
                    <a:lnTo>
                      <a:pt x="1" y="696"/>
                    </a:lnTo>
                    <a:lnTo>
                      <a:pt x="3" y="681"/>
                    </a:lnTo>
                    <a:lnTo>
                      <a:pt x="4" y="663"/>
                    </a:lnTo>
                    <a:lnTo>
                      <a:pt x="6" y="643"/>
                    </a:lnTo>
                    <a:lnTo>
                      <a:pt x="7" y="619"/>
                    </a:lnTo>
                    <a:lnTo>
                      <a:pt x="8" y="595"/>
                    </a:lnTo>
                    <a:lnTo>
                      <a:pt x="10" y="569"/>
                    </a:lnTo>
                    <a:lnTo>
                      <a:pt x="11" y="540"/>
                    </a:lnTo>
                    <a:lnTo>
                      <a:pt x="12" y="512"/>
                    </a:lnTo>
                    <a:lnTo>
                      <a:pt x="14" y="482"/>
                    </a:lnTo>
                    <a:lnTo>
                      <a:pt x="15" y="450"/>
                    </a:lnTo>
                    <a:lnTo>
                      <a:pt x="17" y="419"/>
                    </a:lnTo>
                    <a:lnTo>
                      <a:pt x="19" y="354"/>
                    </a:lnTo>
                    <a:lnTo>
                      <a:pt x="22" y="291"/>
                    </a:lnTo>
                    <a:lnTo>
                      <a:pt x="23" y="259"/>
                    </a:lnTo>
                    <a:lnTo>
                      <a:pt x="25" y="229"/>
                    </a:lnTo>
                    <a:lnTo>
                      <a:pt x="26" y="199"/>
                    </a:lnTo>
                    <a:lnTo>
                      <a:pt x="27" y="171"/>
                    </a:lnTo>
                    <a:lnTo>
                      <a:pt x="29" y="144"/>
                    </a:lnTo>
                    <a:lnTo>
                      <a:pt x="30" y="118"/>
                    </a:lnTo>
                    <a:lnTo>
                      <a:pt x="32" y="95"/>
                    </a:lnTo>
                    <a:lnTo>
                      <a:pt x="33" y="74"/>
                    </a:lnTo>
                    <a:lnTo>
                      <a:pt x="34" y="55"/>
                    </a:lnTo>
                    <a:lnTo>
                      <a:pt x="36" y="37"/>
                    </a:lnTo>
                    <a:lnTo>
                      <a:pt x="37" y="23"/>
                    </a:lnTo>
                    <a:lnTo>
                      <a:pt x="38" y="18"/>
                    </a:lnTo>
                    <a:lnTo>
                      <a:pt x="38" y="13"/>
                    </a:lnTo>
                    <a:lnTo>
                      <a:pt x="39" y="8"/>
                    </a:lnTo>
                    <a:lnTo>
                      <a:pt x="40" y="5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086520" y="2077920"/>
                <a:ext cx="73080" cy="1636920"/>
              </a:xfrm>
              <a:custGeom>
                <a:avLst/>
                <a:gdLst/>
                <a:ahLst/>
                <a:rect l="l" t="t" r="r" b="b"/>
                <a:pathLst>
                  <a:path w="46" h="1031">
                    <a:moveTo>
                      <a:pt x="0" y="0"/>
                    </a:moveTo>
                    <a:lnTo>
                      <a:pt x="1" y="3"/>
                    </a:lnTo>
                    <a:lnTo>
                      <a:pt x="1" y="7"/>
                    </a:lnTo>
                    <a:lnTo>
                      <a:pt x="2" y="12"/>
                    </a:lnTo>
                    <a:lnTo>
                      <a:pt x="3" y="18"/>
                    </a:lnTo>
                    <a:lnTo>
                      <a:pt x="3" y="26"/>
                    </a:lnTo>
                    <a:lnTo>
                      <a:pt x="4" y="34"/>
                    </a:lnTo>
                    <a:lnTo>
                      <a:pt x="5" y="44"/>
                    </a:lnTo>
                    <a:lnTo>
                      <a:pt x="6" y="53"/>
                    </a:lnTo>
                    <a:lnTo>
                      <a:pt x="6" y="64"/>
                    </a:lnTo>
                    <a:lnTo>
                      <a:pt x="7" y="75"/>
                    </a:lnTo>
                    <a:lnTo>
                      <a:pt x="8" y="88"/>
                    </a:lnTo>
                    <a:lnTo>
                      <a:pt x="8" y="101"/>
                    </a:lnTo>
                    <a:lnTo>
                      <a:pt x="10" y="130"/>
                    </a:lnTo>
                    <a:lnTo>
                      <a:pt x="11" y="161"/>
                    </a:lnTo>
                    <a:lnTo>
                      <a:pt x="13" y="194"/>
                    </a:lnTo>
                    <a:lnTo>
                      <a:pt x="14" y="230"/>
                    </a:lnTo>
                    <a:lnTo>
                      <a:pt x="15" y="267"/>
                    </a:lnTo>
                    <a:lnTo>
                      <a:pt x="17" y="306"/>
                    </a:lnTo>
                    <a:lnTo>
                      <a:pt x="18" y="346"/>
                    </a:lnTo>
                    <a:lnTo>
                      <a:pt x="21" y="388"/>
                    </a:lnTo>
                    <a:lnTo>
                      <a:pt x="22" y="430"/>
                    </a:lnTo>
                    <a:lnTo>
                      <a:pt x="23" y="473"/>
                    </a:lnTo>
                    <a:lnTo>
                      <a:pt x="26" y="560"/>
                    </a:lnTo>
                    <a:lnTo>
                      <a:pt x="29" y="646"/>
                    </a:lnTo>
                    <a:lnTo>
                      <a:pt x="31" y="687"/>
                    </a:lnTo>
                    <a:lnTo>
                      <a:pt x="32" y="729"/>
                    </a:lnTo>
                    <a:lnTo>
                      <a:pt x="33" y="768"/>
                    </a:lnTo>
                    <a:lnTo>
                      <a:pt x="35" y="807"/>
                    </a:lnTo>
                    <a:lnTo>
                      <a:pt x="36" y="844"/>
                    </a:lnTo>
                    <a:lnTo>
                      <a:pt x="38" y="879"/>
                    </a:lnTo>
                    <a:lnTo>
                      <a:pt x="39" y="911"/>
                    </a:lnTo>
                    <a:lnTo>
                      <a:pt x="40" y="941"/>
                    </a:lnTo>
                    <a:lnTo>
                      <a:pt x="42" y="969"/>
                    </a:lnTo>
                    <a:lnTo>
                      <a:pt x="42" y="982"/>
                    </a:lnTo>
                    <a:lnTo>
                      <a:pt x="43" y="993"/>
                    </a:lnTo>
                    <a:lnTo>
                      <a:pt x="44" y="1004"/>
                    </a:lnTo>
                    <a:lnTo>
                      <a:pt x="44" y="1014"/>
                    </a:lnTo>
                    <a:lnTo>
                      <a:pt x="45" y="1023"/>
                    </a:lnTo>
                    <a:lnTo>
                      <a:pt x="46" y="103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159600" y="368784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18"/>
                    </a:moveTo>
                    <a:lnTo>
                      <a:pt x="1" y="21"/>
                    </a:lnTo>
                    <a:lnTo>
                      <a:pt x="2" y="23"/>
                    </a:lnTo>
                    <a:lnTo>
                      <a:pt x="7" y="25"/>
                    </a:lnTo>
                    <a:lnTo>
                      <a:pt x="14" y="26"/>
                    </a:lnTo>
                    <a:lnTo>
                      <a:pt x="22" y="24"/>
                    </a:lnTo>
                    <a:lnTo>
                      <a:pt x="30" y="20"/>
                    </a:lnTo>
                    <a:lnTo>
                      <a:pt x="37" y="15"/>
                    </a:lnTo>
                    <a:lnTo>
                      <a:pt x="42" y="8"/>
                    </a:lnTo>
                    <a:lnTo>
                      <a:pt x="43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229440" y="1409760"/>
                <a:ext cx="71280" cy="2278080"/>
              </a:xfrm>
              <a:custGeom>
                <a:avLst/>
                <a:gdLst/>
                <a:ahLst/>
                <a:rect l="l" t="t" r="r" b="b"/>
                <a:pathLst>
                  <a:path w="45" h="1435">
                    <a:moveTo>
                      <a:pt x="0" y="1435"/>
                    </a:moveTo>
                    <a:lnTo>
                      <a:pt x="1" y="1423"/>
                    </a:lnTo>
                    <a:lnTo>
                      <a:pt x="1" y="1410"/>
                    </a:lnTo>
                    <a:lnTo>
                      <a:pt x="2" y="1396"/>
                    </a:lnTo>
                    <a:lnTo>
                      <a:pt x="3" y="1380"/>
                    </a:lnTo>
                    <a:lnTo>
                      <a:pt x="3" y="1363"/>
                    </a:lnTo>
                    <a:lnTo>
                      <a:pt x="4" y="1345"/>
                    </a:lnTo>
                    <a:lnTo>
                      <a:pt x="5" y="1327"/>
                    </a:lnTo>
                    <a:lnTo>
                      <a:pt x="5" y="1307"/>
                    </a:lnTo>
                    <a:lnTo>
                      <a:pt x="6" y="1286"/>
                    </a:lnTo>
                    <a:lnTo>
                      <a:pt x="7" y="1264"/>
                    </a:lnTo>
                    <a:lnTo>
                      <a:pt x="8" y="1242"/>
                    </a:lnTo>
                    <a:lnTo>
                      <a:pt x="8" y="1219"/>
                    </a:lnTo>
                    <a:lnTo>
                      <a:pt x="9" y="1194"/>
                    </a:lnTo>
                    <a:lnTo>
                      <a:pt x="10" y="1170"/>
                    </a:lnTo>
                    <a:lnTo>
                      <a:pt x="11" y="1118"/>
                    </a:lnTo>
                    <a:lnTo>
                      <a:pt x="12" y="1064"/>
                    </a:lnTo>
                    <a:lnTo>
                      <a:pt x="14" y="1008"/>
                    </a:lnTo>
                    <a:lnTo>
                      <a:pt x="16" y="950"/>
                    </a:lnTo>
                    <a:lnTo>
                      <a:pt x="17" y="892"/>
                    </a:lnTo>
                    <a:lnTo>
                      <a:pt x="19" y="833"/>
                    </a:lnTo>
                    <a:lnTo>
                      <a:pt x="20" y="772"/>
                    </a:lnTo>
                    <a:lnTo>
                      <a:pt x="23" y="652"/>
                    </a:lnTo>
                    <a:lnTo>
                      <a:pt x="24" y="592"/>
                    </a:lnTo>
                    <a:lnTo>
                      <a:pt x="26" y="533"/>
                    </a:lnTo>
                    <a:lnTo>
                      <a:pt x="27" y="476"/>
                    </a:lnTo>
                    <a:lnTo>
                      <a:pt x="28" y="419"/>
                    </a:lnTo>
                    <a:lnTo>
                      <a:pt x="30" y="365"/>
                    </a:lnTo>
                    <a:lnTo>
                      <a:pt x="31" y="314"/>
                    </a:lnTo>
                    <a:lnTo>
                      <a:pt x="33" y="264"/>
                    </a:lnTo>
                    <a:lnTo>
                      <a:pt x="33" y="241"/>
                    </a:lnTo>
                    <a:lnTo>
                      <a:pt x="34" y="219"/>
                    </a:lnTo>
                    <a:lnTo>
                      <a:pt x="35" y="196"/>
                    </a:lnTo>
                    <a:lnTo>
                      <a:pt x="35" y="175"/>
                    </a:lnTo>
                    <a:lnTo>
                      <a:pt x="36" y="156"/>
                    </a:lnTo>
                    <a:lnTo>
                      <a:pt x="37" y="137"/>
                    </a:lnTo>
                    <a:lnTo>
                      <a:pt x="37" y="118"/>
                    </a:lnTo>
                    <a:lnTo>
                      <a:pt x="38" y="101"/>
                    </a:lnTo>
                    <a:lnTo>
                      <a:pt x="39" y="86"/>
                    </a:lnTo>
                    <a:lnTo>
                      <a:pt x="39" y="71"/>
                    </a:lnTo>
                    <a:lnTo>
                      <a:pt x="40" y="58"/>
                    </a:lnTo>
                    <a:lnTo>
                      <a:pt x="41" y="46"/>
                    </a:lnTo>
                    <a:lnTo>
                      <a:pt x="42" y="34"/>
                    </a:lnTo>
                    <a:lnTo>
                      <a:pt x="42" y="24"/>
                    </a:lnTo>
                    <a:lnTo>
                      <a:pt x="43" y="16"/>
                    </a:lnTo>
                    <a:lnTo>
                      <a:pt x="44" y="9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300720" y="1405080"/>
                <a:ext cx="71640" cy="1647720"/>
              </a:xfrm>
              <a:custGeom>
                <a:avLst/>
                <a:gdLst/>
                <a:ahLst/>
                <a:rect l="l" t="t" r="r" b="b"/>
                <a:pathLst>
                  <a:path w="45" h="1038">
                    <a:moveTo>
                      <a:pt x="0" y="3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5" y="14"/>
                    </a:lnTo>
                    <a:lnTo>
                      <a:pt x="6" y="21"/>
                    </a:lnTo>
                    <a:lnTo>
                      <a:pt x="6" y="29"/>
                    </a:lnTo>
                    <a:lnTo>
                      <a:pt x="7" y="37"/>
                    </a:lnTo>
                    <a:lnTo>
                      <a:pt x="8" y="48"/>
                    </a:lnTo>
                    <a:lnTo>
                      <a:pt x="8" y="59"/>
                    </a:lnTo>
                    <a:lnTo>
                      <a:pt x="9" y="71"/>
                    </a:lnTo>
                    <a:lnTo>
                      <a:pt x="10" y="84"/>
                    </a:lnTo>
                    <a:lnTo>
                      <a:pt x="10" y="97"/>
                    </a:lnTo>
                    <a:lnTo>
                      <a:pt x="11" y="112"/>
                    </a:lnTo>
                    <a:lnTo>
                      <a:pt x="12" y="128"/>
                    </a:lnTo>
                    <a:lnTo>
                      <a:pt x="13" y="144"/>
                    </a:lnTo>
                    <a:lnTo>
                      <a:pt x="14" y="178"/>
                    </a:lnTo>
                    <a:lnTo>
                      <a:pt x="15" y="216"/>
                    </a:lnTo>
                    <a:lnTo>
                      <a:pt x="17" y="255"/>
                    </a:lnTo>
                    <a:lnTo>
                      <a:pt x="18" y="297"/>
                    </a:lnTo>
                    <a:lnTo>
                      <a:pt x="20" y="340"/>
                    </a:lnTo>
                    <a:lnTo>
                      <a:pt x="21" y="385"/>
                    </a:lnTo>
                    <a:lnTo>
                      <a:pt x="22" y="430"/>
                    </a:lnTo>
                    <a:lnTo>
                      <a:pt x="25" y="523"/>
                    </a:lnTo>
                    <a:lnTo>
                      <a:pt x="28" y="616"/>
                    </a:lnTo>
                    <a:lnTo>
                      <a:pt x="30" y="662"/>
                    </a:lnTo>
                    <a:lnTo>
                      <a:pt x="31" y="707"/>
                    </a:lnTo>
                    <a:lnTo>
                      <a:pt x="32" y="751"/>
                    </a:lnTo>
                    <a:lnTo>
                      <a:pt x="34" y="793"/>
                    </a:lnTo>
                    <a:lnTo>
                      <a:pt x="35" y="834"/>
                    </a:lnTo>
                    <a:lnTo>
                      <a:pt x="37" y="872"/>
                    </a:lnTo>
                    <a:lnTo>
                      <a:pt x="38" y="908"/>
                    </a:lnTo>
                    <a:lnTo>
                      <a:pt x="39" y="925"/>
                    </a:lnTo>
                    <a:lnTo>
                      <a:pt x="39" y="940"/>
                    </a:lnTo>
                    <a:lnTo>
                      <a:pt x="40" y="956"/>
                    </a:lnTo>
                    <a:lnTo>
                      <a:pt x="41" y="971"/>
                    </a:lnTo>
                    <a:lnTo>
                      <a:pt x="41" y="984"/>
                    </a:lnTo>
                    <a:lnTo>
                      <a:pt x="42" y="997"/>
                    </a:lnTo>
                    <a:lnTo>
                      <a:pt x="43" y="1009"/>
                    </a:lnTo>
                    <a:lnTo>
                      <a:pt x="43" y="1019"/>
                    </a:lnTo>
                    <a:lnTo>
                      <a:pt x="44" y="1029"/>
                    </a:lnTo>
                    <a:lnTo>
                      <a:pt x="45" y="103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372360" y="305280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1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15" y="18"/>
                    </a:lnTo>
                    <a:lnTo>
                      <a:pt x="23" y="20"/>
                    </a:lnTo>
                    <a:lnTo>
                      <a:pt x="31" y="21"/>
                    </a:lnTo>
                    <a:lnTo>
                      <a:pt x="38" y="20"/>
                    </a:lnTo>
                    <a:lnTo>
                      <a:pt x="43" y="18"/>
                    </a:lnTo>
                    <a:lnTo>
                      <a:pt x="44" y="16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443640" y="2179800"/>
                <a:ext cx="71640" cy="895320"/>
              </a:xfrm>
              <a:custGeom>
                <a:avLst/>
                <a:gdLst/>
                <a:ahLst/>
                <a:rect l="l" t="t" r="r" b="b"/>
                <a:pathLst>
                  <a:path w="45" h="564">
                    <a:moveTo>
                      <a:pt x="0" y="564"/>
                    </a:moveTo>
                    <a:lnTo>
                      <a:pt x="1" y="553"/>
                    </a:lnTo>
                    <a:lnTo>
                      <a:pt x="3" y="541"/>
                    </a:lnTo>
                    <a:lnTo>
                      <a:pt x="4" y="527"/>
                    </a:lnTo>
                    <a:lnTo>
                      <a:pt x="6" y="511"/>
                    </a:lnTo>
                    <a:lnTo>
                      <a:pt x="7" y="492"/>
                    </a:lnTo>
                    <a:lnTo>
                      <a:pt x="8" y="471"/>
                    </a:lnTo>
                    <a:lnTo>
                      <a:pt x="10" y="450"/>
                    </a:lnTo>
                    <a:lnTo>
                      <a:pt x="11" y="428"/>
                    </a:lnTo>
                    <a:lnTo>
                      <a:pt x="13" y="404"/>
                    </a:lnTo>
                    <a:lnTo>
                      <a:pt x="14" y="378"/>
                    </a:lnTo>
                    <a:lnTo>
                      <a:pt x="17" y="327"/>
                    </a:lnTo>
                    <a:lnTo>
                      <a:pt x="20" y="274"/>
                    </a:lnTo>
                    <a:lnTo>
                      <a:pt x="22" y="222"/>
                    </a:lnTo>
                    <a:lnTo>
                      <a:pt x="24" y="196"/>
                    </a:lnTo>
                    <a:lnTo>
                      <a:pt x="25" y="172"/>
                    </a:lnTo>
                    <a:lnTo>
                      <a:pt x="27" y="148"/>
                    </a:lnTo>
                    <a:lnTo>
                      <a:pt x="28" y="125"/>
                    </a:lnTo>
                    <a:lnTo>
                      <a:pt x="30" y="103"/>
                    </a:lnTo>
                    <a:lnTo>
                      <a:pt x="31" y="84"/>
                    </a:lnTo>
                    <a:lnTo>
                      <a:pt x="32" y="65"/>
                    </a:lnTo>
                    <a:lnTo>
                      <a:pt x="34" y="48"/>
                    </a:lnTo>
                    <a:lnTo>
                      <a:pt x="35" y="34"/>
                    </a:lnTo>
                    <a:lnTo>
                      <a:pt x="37" y="22"/>
                    </a:lnTo>
                    <a:lnTo>
                      <a:pt x="38" y="12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4" y="5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515280" y="2192400"/>
                <a:ext cx="71280" cy="1636560"/>
              </a:xfrm>
              <a:custGeom>
                <a:avLst/>
                <a:gdLst/>
                <a:ahLst/>
                <a:rect l="l" t="t" r="r" b="b"/>
                <a:pathLst>
                  <a:path w="45" h="1031">
                    <a:moveTo>
                      <a:pt x="0" y="0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6"/>
                    </a:lnTo>
                    <a:lnTo>
                      <a:pt x="3" y="23"/>
                    </a:lnTo>
                    <a:lnTo>
                      <a:pt x="3" y="31"/>
                    </a:lnTo>
                    <a:lnTo>
                      <a:pt x="5" y="40"/>
                    </a:lnTo>
                    <a:lnTo>
                      <a:pt x="6" y="51"/>
                    </a:lnTo>
                    <a:lnTo>
                      <a:pt x="7" y="62"/>
                    </a:lnTo>
                    <a:lnTo>
                      <a:pt x="7" y="73"/>
                    </a:lnTo>
                    <a:lnTo>
                      <a:pt x="8" y="85"/>
                    </a:lnTo>
                    <a:lnTo>
                      <a:pt x="9" y="112"/>
                    </a:lnTo>
                    <a:lnTo>
                      <a:pt x="11" y="143"/>
                    </a:lnTo>
                    <a:lnTo>
                      <a:pt x="12" y="175"/>
                    </a:lnTo>
                    <a:lnTo>
                      <a:pt x="13" y="209"/>
                    </a:lnTo>
                    <a:lnTo>
                      <a:pt x="15" y="246"/>
                    </a:lnTo>
                    <a:lnTo>
                      <a:pt x="16" y="284"/>
                    </a:lnTo>
                    <a:lnTo>
                      <a:pt x="18" y="324"/>
                    </a:lnTo>
                    <a:lnTo>
                      <a:pt x="19" y="365"/>
                    </a:lnTo>
                    <a:lnTo>
                      <a:pt x="20" y="407"/>
                    </a:lnTo>
                    <a:lnTo>
                      <a:pt x="23" y="493"/>
                    </a:lnTo>
                    <a:lnTo>
                      <a:pt x="26" y="579"/>
                    </a:lnTo>
                    <a:lnTo>
                      <a:pt x="27" y="621"/>
                    </a:lnTo>
                    <a:lnTo>
                      <a:pt x="28" y="664"/>
                    </a:lnTo>
                    <a:lnTo>
                      <a:pt x="30" y="705"/>
                    </a:lnTo>
                    <a:lnTo>
                      <a:pt x="31" y="746"/>
                    </a:lnTo>
                    <a:lnTo>
                      <a:pt x="33" y="784"/>
                    </a:lnTo>
                    <a:lnTo>
                      <a:pt x="34" y="822"/>
                    </a:lnTo>
                    <a:lnTo>
                      <a:pt x="35" y="857"/>
                    </a:lnTo>
                    <a:lnTo>
                      <a:pt x="37" y="891"/>
                    </a:lnTo>
                    <a:lnTo>
                      <a:pt x="38" y="921"/>
                    </a:lnTo>
                    <a:lnTo>
                      <a:pt x="39" y="949"/>
                    </a:lnTo>
                    <a:lnTo>
                      <a:pt x="40" y="962"/>
                    </a:lnTo>
                    <a:lnTo>
                      <a:pt x="41" y="975"/>
                    </a:lnTo>
                    <a:lnTo>
                      <a:pt x="41" y="987"/>
                    </a:lnTo>
                    <a:lnTo>
                      <a:pt x="42" y="997"/>
                    </a:lnTo>
                    <a:lnTo>
                      <a:pt x="43" y="1007"/>
                    </a:lnTo>
                    <a:lnTo>
                      <a:pt x="43" y="1016"/>
                    </a:lnTo>
                    <a:lnTo>
                      <a:pt x="44" y="1024"/>
                    </a:lnTo>
                    <a:lnTo>
                      <a:pt x="45" y="103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586560" y="3533760"/>
                <a:ext cx="73080" cy="320760"/>
              </a:xfrm>
              <a:custGeom>
                <a:avLst/>
                <a:gdLst/>
                <a:ahLst/>
                <a:rect l="l" t="t" r="r" b="b"/>
                <a:pathLst>
                  <a:path w="46" h="202">
                    <a:moveTo>
                      <a:pt x="0" y="186"/>
                    </a:moveTo>
                    <a:lnTo>
                      <a:pt x="1" y="192"/>
                    </a:lnTo>
                    <a:lnTo>
                      <a:pt x="2" y="196"/>
                    </a:lnTo>
                    <a:lnTo>
                      <a:pt x="3" y="199"/>
                    </a:lnTo>
                    <a:lnTo>
                      <a:pt x="4" y="201"/>
                    </a:lnTo>
                    <a:lnTo>
                      <a:pt x="5" y="202"/>
                    </a:lnTo>
                    <a:lnTo>
                      <a:pt x="6" y="202"/>
                    </a:lnTo>
                    <a:lnTo>
                      <a:pt x="8" y="201"/>
                    </a:lnTo>
                    <a:lnTo>
                      <a:pt x="9" y="199"/>
                    </a:lnTo>
                    <a:lnTo>
                      <a:pt x="11" y="196"/>
                    </a:lnTo>
                    <a:lnTo>
                      <a:pt x="12" y="192"/>
                    </a:lnTo>
                    <a:lnTo>
                      <a:pt x="14" y="188"/>
                    </a:lnTo>
                    <a:lnTo>
                      <a:pt x="15" y="182"/>
                    </a:lnTo>
                    <a:lnTo>
                      <a:pt x="19" y="170"/>
                    </a:lnTo>
                    <a:lnTo>
                      <a:pt x="22" y="155"/>
                    </a:lnTo>
                    <a:lnTo>
                      <a:pt x="26" y="138"/>
                    </a:lnTo>
                    <a:lnTo>
                      <a:pt x="30" y="119"/>
                    </a:lnTo>
                    <a:lnTo>
                      <a:pt x="33" y="99"/>
                    </a:lnTo>
                    <a:lnTo>
                      <a:pt x="36" y="79"/>
                    </a:lnTo>
                    <a:lnTo>
                      <a:pt x="41" y="38"/>
                    </a:lnTo>
                    <a:lnTo>
                      <a:pt x="43" y="18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659640" y="1952640"/>
                <a:ext cx="69840" cy="1581120"/>
              </a:xfrm>
              <a:custGeom>
                <a:avLst/>
                <a:gdLst/>
                <a:ahLst/>
                <a:rect l="l" t="t" r="r" b="b"/>
                <a:pathLst>
                  <a:path w="44" h="996">
                    <a:moveTo>
                      <a:pt x="0" y="996"/>
                    </a:moveTo>
                    <a:lnTo>
                      <a:pt x="1" y="986"/>
                    </a:lnTo>
                    <a:lnTo>
                      <a:pt x="1" y="976"/>
                    </a:lnTo>
                    <a:lnTo>
                      <a:pt x="2" y="965"/>
                    </a:lnTo>
                    <a:lnTo>
                      <a:pt x="3" y="952"/>
                    </a:lnTo>
                    <a:lnTo>
                      <a:pt x="4" y="926"/>
                    </a:lnTo>
                    <a:lnTo>
                      <a:pt x="6" y="898"/>
                    </a:lnTo>
                    <a:lnTo>
                      <a:pt x="7" y="866"/>
                    </a:lnTo>
                    <a:lnTo>
                      <a:pt x="8" y="833"/>
                    </a:lnTo>
                    <a:lnTo>
                      <a:pt x="10" y="798"/>
                    </a:lnTo>
                    <a:lnTo>
                      <a:pt x="11" y="761"/>
                    </a:lnTo>
                    <a:lnTo>
                      <a:pt x="12" y="723"/>
                    </a:lnTo>
                    <a:lnTo>
                      <a:pt x="14" y="683"/>
                    </a:lnTo>
                    <a:lnTo>
                      <a:pt x="15" y="642"/>
                    </a:lnTo>
                    <a:lnTo>
                      <a:pt x="17" y="601"/>
                    </a:lnTo>
                    <a:lnTo>
                      <a:pt x="19" y="517"/>
                    </a:lnTo>
                    <a:lnTo>
                      <a:pt x="22" y="433"/>
                    </a:lnTo>
                    <a:lnTo>
                      <a:pt x="23" y="393"/>
                    </a:lnTo>
                    <a:lnTo>
                      <a:pt x="25" y="352"/>
                    </a:lnTo>
                    <a:lnTo>
                      <a:pt x="26" y="313"/>
                    </a:lnTo>
                    <a:lnTo>
                      <a:pt x="27" y="274"/>
                    </a:lnTo>
                    <a:lnTo>
                      <a:pt x="29" y="238"/>
                    </a:lnTo>
                    <a:lnTo>
                      <a:pt x="30" y="203"/>
                    </a:lnTo>
                    <a:lnTo>
                      <a:pt x="32" y="169"/>
                    </a:lnTo>
                    <a:lnTo>
                      <a:pt x="33" y="139"/>
                    </a:lnTo>
                    <a:lnTo>
                      <a:pt x="34" y="110"/>
                    </a:lnTo>
                    <a:lnTo>
                      <a:pt x="36" y="84"/>
                    </a:lnTo>
                    <a:lnTo>
                      <a:pt x="36" y="73"/>
                    </a:lnTo>
                    <a:lnTo>
                      <a:pt x="37" y="62"/>
                    </a:lnTo>
                    <a:lnTo>
                      <a:pt x="38" y="51"/>
                    </a:lnTo>
                    <a:lnTo>
                      <a:pt x="38" y="42"/>
                    </a:lnTo>
                    <a:lnTo>
                      <a:pt x="39" y="34"/>
                    </a:lnTo>
                    <a:lnTo>
                      <a:pt x="40" y="25"/>
                    </a:lnTo>
                    <a:lnTo>
                      <a:pt x="40" y="18"/>
                    </a:lnTo>
                    <a:lnTo>
                      <a:pt x="41" y="13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729480" y="1951200"/>
                <a:ext cx="73080" cy="1342800"/>
              </a:xfrm>
              <a:custGeom>
                <a:avLst/>
                <a:gdLst/>
                <a:ahLst/>
                <a:rect l="l" t="t" r="r" b="b"/>
                <a:pathLst>
                  <a:path w="46" h="846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5" y="17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7" y="38"/>
                    </a:lnTo>
                    <a:lnTo>
                      <a:pt x="8" y="46"/>
                    </a:lnTo>
                    <a:lnTo>
                      <a:pt x="8" y="55"/>
                    </a:lnTo>
                    <a:lnTo>
                      <a:pt x="10" y="76"/>
                    </a:lnTo>
                    <a:lnTo>
                      <a:pt x="11" y="98"/>
                    </a:lnTo>
                    <a:lnTo>
                      <a:pt x="13" y="124"/>
                    </a:lnTo>
                    <a:lnTo>
                      <a:pt x="14" y="152"/>
                    </a:lnTo>
                    <a:lnTo>
                      <a:pt x="15" y="181"/>
                    </a:lnTo>
                    <a:lnTo>
                      <a:pt x="17" y="213"/>
                    </a:lnTo>
                    <a:lnTo>
                      <a:pt x="18" y="245"/>
                    </a:lnTo>
                    <a:lnTo>
                      <a:pt x="20" y="279"/>
                    </a:lnTo>
                    <a:lnTo>
                      <a:pt x="21" y="314"/>
                    </a:lnTo>
                    <a:lnTo>
                      <a:pt x="22" y="350"/>
                    </a:lnTo>
                    <a:lnTo>
                      <a:pt x="25" y="423"/>
                    </a:lnTo>
                    <a:lnTo>
                      <a:pt x="28" y="497"/>
                    </a:lnTo>
                    <a:lnTo>
                      <a:pt x="30" y="533"/>
                    </a:lnTo>
                    <a:lnTo>
                      <a:pt x="31" y="570"/>
                    </a:lnTo>
                    <a:lnTo>
                      <a:pt x="32" y="604"/>
                    </a:lnTo>
                    <a:lnTo>
                      <a:pt x="34" y="639"/>
                    </a:lnTo>
                    <a:lnTo>
                      <a:pt x="35" y="671"/>
                    </a:lnTo>
                    <a:lnTo>
                      <a:pt x="37" y="703"/>
                    </a:lnTo>
                    <a:lnTo>
                      <a:pt x="38" y="732"/>
                    </a:lnTo>
                    <a:lnTo>
                      <a:pt x="40" y="760"/>
                    </a:lnTo>
                    <a:lnTo>
                      <a:pt x="42" y="785"/>
                    </a:lnTo>
                    <a:lnTo>
                      <a:pt x="43" y="809"/>
                    </a:lnTo>
                    <a:lnTo>
                      <a:pt x="44" y="829"/>
                    </a:lnTo>
                    <a:lnTo>
                      <a:pt x="45" y="838"/>
                    </a:lnTo>
                    <a:lnTo>
                      <a:pt x="46" y="84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802560" y="3294000"/>
                <a:ext cx="69840" cy="32544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0" y="0"/>
                    </a:moveTo>
                    <a:lnTo>
                      <a:pt x="2" y="16"/>
                    </a:lnTo>
                    <a:lnTo>
                      <a:pt x="4" y="35"/>
                    </a:lnTo>
                    <a:lnTo>
                      <a:pt x="6" y="54"/>
                    </a:lnTo>
                    <a:lnTo>
                      <a:pt x="9" y="74"/>
                    </a:lnTo>
                    <a:lnTo>
                      <a:pt x="12" y="95"/>
                    </a:lnTo>
                    <a:lnTo>
                      <a:pt x="15" y="116"/>
                    </a:lnTo>
                    <a:lnTo>
                      <a:pt x="19" y="136"/>
                    </a:lnTo>
                    <a:lnTo>
                      <a:pt x="22" y="154"/>
                    </a:lnTo>
                    <a:lnTo>
                      <a:pt x="25" y="170"/>
                    </a:lnTo>
                    <a:lnTo>
                      <a:pt x="27" y="178"/>
                    </a:lnTo>
                    <a:lnTo>
                      <a:pt x="29" y="184"/>
                    </a:lnTo>
                    <a:lnTo>
                      <a:pt x="31" y="190"/>
                    </a:lnTo>
                    <a:lnTo>
                      <a:pt x="32" y="196"/>
                    </a:lnTo>
                    <a:lnTo>
                      <a:pt x="34" y="200"/>
                    </a:lnTo>
                    <a:lnTo>
                      <a:pt x="35" y="203"/>
                    </a:lnTo>
                    <a:lnTo>
                      <a:pt x="37" y="204"/>
                    </a:lnTo>
                    <a:lnTo>
                      <a:pt x="38" y="205"/>
                    </a:lnTo>
                    <a:lnTo>
                      <a:pt x="39" y="205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2" y="195"/>
                    </a:lnTo>
                    <a:lnTo>
                      <a:pt x="43" y="188"/>
                    </a:lnTo>
                    <a:lnTo>
                      <a:pt x="44" y="18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872400" y="1365120"/>
                <a:ext cx="73080" cy="2214720"/>
              </a:xfrm>
              <a:custGeom>
                <a:avLst/>
                <a:gdLst/>
                <a:ahLst/>
                <a:rect l="l" t="t" r="r" b="b"/>
                <a:pathLst>
                  <a:path w="46" h="1395">
                    <a:moveTo>
                      <a:pt x="0" y="1395"/>
                    </a:moveTo>
                    <a:lnTo>
                      <a:pt x="1" y="1385"/>
                    </a:lnTo>
                    <a:lnTo>
                      <a:pt x="1" y="1374"/>
                    </a:lnTo>
                    <a:lnTo>
                      <a:pt x="2" y="1361"/>
                    </a:lnTo>
                    <a:lnTo>
                      <a:pt x="3" y="1347"/>
                    </a:lnTo>
                    <a:lnTo>
                      <a:pt x="3" y="1332"/>
                    </a:lnTo>
                    <a:lnTo>
                      <a:pt x="4" y="1315"/>
                    </a:lnTo>
                    <a:lnTo>
                      <a:pt x="5" y="1297"/>
                    </a:lnTo>
                    <a:lnTo>
                      <a:pt x="6" y="1279"/>
                    </a:lnTo>
                    <a:lnTo>
                      <a:pt x="6" y="1259"/>
                    </a:lnTo>
                    <a:lnTo>
                      <a:pt x="7" y="1238"/>
                    </a:lnTo>
                    <a:lnTo>
                      <a:pt x="8" y="1217"/>
                    </a:lnTo>
                    <a:lnTo>
                      <a:pt x="8" y="1195"/>
                    </a:lnTo>
                    <a:lnTo>
                      <a:pt x="9" y="1172"/>
                    </a:lnTo>
                    <a:lnTo>
                      <a:pt x="10" y="1147"/>
                    </a:lnTo>
                    <a:lnTo>
                      <a:pt x="11" y="1098"/>
                    </a:lnTo>
                    <a:lnTo>
                      <a:pt x="13" y="1044"/>
                    </a:lnTo>
                    <a:lnTo>
                      <a:pt x="14" y="990"/>
                    </a:lnTo>
                    <a:lnTo>
                      <a:pt x="15" y="933"/>
                    </a:lnTo>
                    <a:lnTo>
                      <a:pt x="17" y="875"/>
                    </a:lnTo>
                    <a:lnTo>
                      <a:pt x="18" y="816"/>
                    </a:lnTo>
                    <a:lnTo>
                      <a:pt x="20" y="756"/>
                    </a:lnTo>
                    <a:lnTo>
                      <a:pt x="22" y="636"/>
                    </a:lnTo>
                    <a:lnTo>
                      <a:pt x="24" y="577"/>
                    </a:lnTo>
                    <a:lnTo>
                      <a:pt x="25" y="518"/>
                    </a:lnTo>
                    <a:lnTo>
                      <a:pt x="27" y="461"/>
                    </a:lnTo>
                    <a:lnTo>
                      <a:pt x="28" y="406"/>
                    </a:lnTo>
                    <a:lnTo>
                      <a:pt x="30" y="351"/>
                    </a:lnTo>
                    <a:lnTo>
                      <a:pt x="31" y="300"/>
                    </a:lnTo>
                    <a:lnTo>
                      <a:pt x="32" y="275"/>
                    </a:lnTo>
                    <a:lnTo>
                      <a:pt x="32" y="252"/>
                    </a:lnTo>
                    <a:lnTo>
                      <a:pt x="34" y="228"/>
                    </a:lnTo>
                    <a:lnTo>
                      <a:pt x="35" y="206"/>
                    </a:lnTo>
                    <a:lnTo>
                      <a:pt x="35" y="184"/>
                    </a:lnTo>
                    <a:lnTo>
                      <a:pt x="36" y="164"/>
                    </a:lnTo>
                    <a:lnTo>
                      <a:pt x="37" y="144"/>
                    </a:lnTo>
                    <a:lnTo>
                      <a:pt x="38" y="125"/>
                    </a:lnTo>
                    <a:lnTo>
                      <a:pt x="38" y="108"/>
                    </a:lnTo>
                    <a:lnTo>
                      <a:pt x="39" y="92"/>
                    </a:lnTo>
                    <a:lnTo>
                      <a:pt x="40" y="77"/>
                    </a:lnTo>
                    <a:lnTo>
                      <a:pt x="40" y="62"/>
                    </a:lnTo>
                    <a:lnTo>
                      <a:pt x="41" y="50"/>
                    </a:lnTo>
                    <a:lnTo>
                      <a:pt x="42" y="38"/>
                    </a:lnTo>
                    <a:lnTo>
                      <a:pt x="43" y="28"/>
                    </a:lnTo>
                    <a:lnTo>
                      <a:pt x="43" y="20"/>
                    </a:lnTo>
                    <a:lnTo>
                      <a:pt x="44" y="12"/>
                    </a:lnTo>
                    <a:lnTo>
                      <a:pt x="45" y="7"/>
                    </a:lnTo>
                    <a:lnTo>
                      <a:pt x="45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945480" y="1363680"/>
                <a:ext cx="69840" cy="1843200"/>
              </a:xfrm>
              <a:custGeom>
                <a:avLst/>
                <a:gdLst/>
                <a:ahLst/>
                <a:rect l="l" t="t" r="r" b="b"/>
                <a:pathLst>
                  <a:path w="44" h="116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4" y="16"/>
                    </a:lnTo>
                    <a:lnTo>
                      <a:pt x="5" y="23"/>
                    </a:lnTo>
                    <a:lnTo>
                      <a:pt x="6" y="31"/>
                    </a:lnTo>
                    <a:lnTo>
                      <a:pt x="6" y="41"/>
                    </a:lnTo>
                    <a:lnTo>
                      <a:pt x="7" y="51"/>
                    </a:lnTo>
                    <a:lnTo>
                      <a:pt x="8" y="63"/>
                    </a:lnTo>
                    <a:lnTo>
                      <a:pt x="8" y="77"/>
                    </a:lnTo>
                    <a:lnTo>
                      <a:pt x="9" y="91"/>
                    </a:lnTo>
                    <a:lnTo>
                      <a:pt x="10" y="105"/>
                    </a:lnTo>
                    <a:lnTo>
                      <a:pt x="10" y="121"/>
                    </a:lnTo>
                    <a:lnTo>
                      <a:pt x="11" y="138"/>
                    </a:lnTo>
                    <a:lnTo>
                      <a:pt x="12" y="156"/>
                    </a:lnTo>
                    <a:lnTo>
                      <a:pt x="12" y="174"/>
                    </a:lnTo>
                    <a:lnTo>
                      <a:pt x="13" y="193"/>
                    </a:lnTo>
                    <a:lnTo>
                      <a:pt x="14" y="213"/>
                    </a:lnTo>
                    <a:lnTo>
                      <a:pt x="15" y="255"/>
                    </a:lnTo>
                    <a:lnTo>
                      <a:pt x="16" y="299"/>
                    </a:lnTo>
                    <a:lnTo>
                      <a:pt x="18" y="346"/>
                    </a:lnTo>
                    <a:lnTo>
                      <a:pt x="19" y="393"/>
                    </a:lnTo>
                    <a:lnTo>
                      <a:pt x="21" y="443"/>
                    </a:lnTo>
                    <a:lnTo>
                      <a:pt x="22" y="493"/>
                    </a:lnTo>
                    <a:lnTo>
                      <a:pt x="25" y="596"/>
                    </a:lnTo>
                    <a:lnTo>
                      <a:pt x="27" y="698"/>
                    </a:lnTo>
                    <a:lnTo>
                      <a:pt x="29" y="749"/>
                    </a:lnTo>
                    <a:lnTo>
                      <a:pt x="30" y="797"/>
                    </a:lnTo>
                    <a:lnTo>
                      <a:pt x="32" y="846"/>
                    </a:lnTo>
                    <a:lnTo>
                      <a:pt x="33" y="892"/>
                    </a:lnTo>
                    <a:lnTo>
                      <a:pt x="34" y="936"/>
                    </a:lnTo>
                    <a:lnTo>
                      <a:pt x="36" y="978"/>
                    </a:lnTo>
                    <a:lnTo>
                      <a:pt x="36" y="998"/>
                    </a:lnTo>
                    <a:lnTo>
                      <a:pt x="37" y="1017"/>
                    </a:lnTo>
                    <a:lnTo>
                      <a:pt x="38" y="1036"/>
                    </a:lnTo>
                    <a:lnTo>
                      <a:pt x="38" y="1053"/>
                    </a:lnTo>
                    <a:lnTo>
                      <a:pt x="39" y="1070"/>
                    </a:lnTo>
                    <a:lnTo>
                      <a:pt x="40" y="1086"/>
                    </a:lnTo>
                    <a:lnTo>
                      <a:pt x="41" y="1101"/>
                    </a:lnTo>
                    <a:lnTo>
                      <a:pt x="41" y="1115"/>
                    </a:lnTo>
                    <a:lnTo>
                      <a:pt x="42" y="1128"/>
                    </a:lnTo>
                    <a:lnTo>
                      <a:pt x="43" y="1140"/>
                    </a:lnTo>
                    <a:lnTo>
                      <a:pt x="43" y="1150"/>
                    </a:lnTo>
                    <a:lnTo>
                      <a:pt x="44" y="116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015320" y="3206880"/>
                <a:ext cx="72720" cy="2520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8" y="12"/>
                    </a:lnTo>
                    <a:lnTo>
                      <a:pt x="15" y="15"/>
                    </a:lnTo>
                    <a:lnTo>
                      <a:pt x="22" y="16"/>
                    </a:lnTo>
                    <a:lnTo>
                      <a:pt x="31" y="15"/>
                    </a:lnTo>
                    <a:lnTo>
                      <a:pt x="38" y="13"/>
                    </a:lnTo>
                    <a:lnTo>
                      <a:pt x="44" y="9"/>
                    </a:lnTo>
                    <a:lnTo>
                      <a:pt x="45" y="7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088040" y="1962000"/>
                <a:ext cx="69840" cy="1251000"/>
              </a:xfrm>
              <a:custGeom>
                <a:avLst/>
                <a:gdLst/>
                <a:ahLst/>
                <a:rect l="l" t="t" r="r" b="b"/>
                <a:pathLst>
                  <a:path w="44" h="788">
                    <a:moveTo>
                      <a:pt x="0" y="788"/>
                    </a:moveTo>
                    <a:lnTo>
                      <a:pt x="1" y="782"/>
                    </a:lnTo>
                    <a:lnTo>
                      <a:pt x="1" y="773"/>
                    </a:lnTo>
                    <a:lnTo>
                      <a:pt x="2" y="765"/>
                    </a:lnTo>
                    <a:lnTo>
                      <a:pt x="3" y="757"/>
                    </a:lnTo>
                    <a:lnTo>
                      <a:pt x="4" y="737"/>
                    </a:lnTo>
                    <a:lnTo>
                      <a:pt x="6" y="715"/>
                    </a:lnTo>
                    <a:lnTo>
                      <a:pt x="7" y="689"/>
                    </a:lnTo>
                    <a:lnTo>
                      <a:pt x="8" y="663"/>
                    </a:lnTo>
                    <a:lnTo>
                      <a:pt x="10" y="634"/>
                    </a:lnTo>
                    <a:lnTo>
                      <a:pt x="11" y="603"/>
                    </a:lnTo>
                    <a:lnTo>
                      <a:pt x="12" y="571"/>
                    </a:lnTo>
                    <a:lnTo>
                      <a:pt x="14" y="539"/>
                    </a:lnTo>
                    <a:lnTo>
                      <a:pt x="15" y="504"/>
                    </a:lnTo>
                    <a:lnTo>
                      <a:pt x="17" y="470"/>
                    </a:lnTo>
                    <a:lnTo>
                      <a:pt x="19" y="399"/>
                    </a:lnTo>
                    <a:lnTo>
                      <a:pt x="22" y="329"/>
                    </a:lnTo>
                    <a:lnTo>
                      <a:pt x="23" y="294"/>
                    </a:lnTo>
                    <a:lnTo>
                      <a:pt x="25" y="260"/>
                    </a:lnTo>
                    <a:lnTo>
                      <a:pt x="26" y="228"/>
                    </a:lnTo>
                    <a:lnTo>
                      <a:pt x="27" y="196"/>
                    </a:lnTo>
                    <a:lnTo>
                      <a:pt x="29" y="166"/>
                    </a:lnTo>
                    <a:lnTo>
                      <a:pt x="30" y="138"/>
                    </a:lnTo>
                    <a:lnTo>
                      <a:pt x="32" y="112"/>
                    </a:lnTo>
                    <a:lnTo>
                      <a:pt x="33" y="87"/>
                    </a:lnTo>
                    <a:lnTo>
                      <a:pt x="34" y="65"/>
                    </a:lnTo>
                    <a:lnTo>
                      <a:pt x="36" y="47"/>
                    </a:lnTo>
                    <a:lnTo>
                      <a:pt x="36" y="38"/>
                    </a:lnTo>
                    <a:lnTo>
                      <a:pt x="37" y="31"/>
                    </a:lnTo>
                    <a:lnTo>
                      <a:pt x="38" y="23"/>
                    </a:lnTo>
                    <a:lnTo>
                      <a:pt x="38" y="17"/>
                    </a:lnTo>
                    <a:lnTo>
                      <a:pt x="39" y="12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41" y="2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157880" y="1967040"/>
                <a:ext cx="73080" cy="1701720"/>
              </a:xfrm>
              <a:custGeom>
                <a:avLst/>
                <a:gdLst/>
                <a:ahLst/>
                <a:rect l="l" t="t" r="r" b="b"/>
                <a:pathLst>
                  <a:path w="46" h="1072">
                    <a:moveTo>
                      <a:pt x="0" y="0"/>
                    </a:moveTo>
                    <a:lnTo>
                      <a:pt x="1" y="3"/>
                    </a:lnTo>
                    <a:lnTo>
                      <a:pt x="1" y="7"/>
                    </a:lnTo>
                    <a:lnTo>
                      <a:pt x="2" y="12"/>
                    </a:lnTo>
                    <a:lnTo>
                      <a:pt x="3" y="18"/>
                    </a:lnTo>
                    <a:lnTo>
                      <a:pt x="3" y="26"/>
                    </a:lnTo>
                    <a:lnTo>
                      <a:pt x="4" y="34"/>
                    </a:lnTo>
                    <a:lnTo>
                      <a:pt x="5" y="43"/>
                    </a:lnTo>
                    <a:lnTo>
                      <a:pt x="6" y="53"/>
                    </a:lnTo>
                    <a:lnTo>
                      <a:pt x="6" y="64"/>
                    </a:lnTo>
                    <a:lnTo>
                      <a:pt x="7" y="75"/>
                    </a:lnTo>
                    <a:lnTo>
                      <a:pt x="8" y="88"/>
                    </a:lnTo>
                    <a:lnTo>
                      <a:pt x="8" y="101"/>
                    </a:lnTo>
                    <a:lnTo>
                      <a:pt x="9" y="116"/>
                    </a:lnTo>
                    <a:lnTo>
                      <a:pt x="10" y="131"/>
                    </a:lnTo>
                    <a:lnTo>
                      <a:pt x="11" y="163"/>
                    </a:lnTo>
                    <a:lnTo>
                      <a:pt x="13" y="198"/>
                    </a:lnTo>
                    <a:lnTo>
                      <a:pt x="14" y="234"/>
                    </a:lnTo>
                    <a:lnTo>
                      <a:pt x="15" y="272"/>
                    </a:lnTo>
                    <a:lnTo>
                      <a:pt x="17" y="313"/>
                    </a:lnTo>
                    <a:lnTo>
                      <a:pt x="18" y="355"/>
                    </a:lnTo>
                    <a:lnTo>
                      <a:pt x="20" y="398"/>
                    </a:lnTo>
                    <a:lnTo>
                      <a:pt x="21" y="443"/>
                    </a:lnTo>
                    <a:lnTo>
                      <a:pt x="22" y="487"/>
                    </a:lnTo>
                    <a:lnTo>
                      <a:pt x="26" y="577"/>
                    </a:lnTo>
                    <a:lnTo>
                      <a:pt x="29" y="667"/>
                    </a:lnTo>
                    <a:lnTo>
                      <a:pt x="31" y="711"/>
                    </a:lnTo>
                    <a:lnTo>
                      <a:pt x="32" y="754"/>
                    </a:lnTo>
                    <a:lnTo>
                      <a:pt x="33" y="796"/>
                    </a:lnTo>
                    <a:lnTo>
                      <a:pt x="35" y="836"/>
                    </a:lnTo>
                    <a:lnTo>
                      <a:pt x="36" y="875"/>
                    </a:lnTo>
                    <a:lnTo>
                      <a:pt x="38" y="911"/>
                    </a:lnTo>
                    <a:lnTo>
                      <a:pt x="39" y="945"/>
                    </a:lnTo>
                    <a:lnTo>
                      <a:pt x="40" y="977"/>
                    </a:lnTo>
                    <a:lnTo>
                      <a:pt x="41" y="991"/>
                    </a:lnTo>
                    <a:lnTo>
                      <a:pt x="42" y="1005"/>
                    </a:lnTo>
                    <a:lnTo>
                      <a:pt x="43" y="1018"/>
                    </a:lnTo>
                    <a:lnTo>
                      <a:pt x="43" y="1032"/>
                    </a:lnTo>
                    <a:lnTo>
                      <a:pt x="44" y="1043"/>
                    </a:lnTo>
                    <a:lnTo>
                      <a:pt x="45" y="1054"/>
                    </a:lnTo>
                    <a:lnTo>
                      <a:pt x="45" y="1063"/>
                    </a:lnTo>
                    <a:lnTo>
                      <a:pt x="46" y="107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230960" y="366876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7" y="10"/>
                    </a:lnTo>
                    <a:lnTo>
                      <a:pt x="14" y="13"/>
                    </a:lnTo>
                    <a:lnTo>
                      <a:pt x="22" y="15"/>
                    </a:lnTo>
                    <a:lnTo>
                      <a:pt x="30" y="15"/>
                    </a:lnTo>
                    <a:lnTo>
                      <a:pt x="37" y="12"/>
                    </a:lnTo>
                    <a:lnTo>
                      <a:pt x="42" y="8"/>
                    </a:lnTo>
                    <a:lnTo>
                      <a:pt x="43" y="5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300800" y="1352520"/>
                <a:ext cx="73080" cy="2317680"/>
              </a:xfrm>
              <a:custGeom>
                <a:avLst/>
                <a:gdLst/>
                <a:ahLst/>
                <a:rect l="l" t="t" r="r" b="b"/>
                <a:pathLst>
                  <a:path w="46" h="1460">
                    <a:moveTo>
                      <a:pt x="0" y="1460"/>
                    </a:moveTo>
                    <a:lnTo>
                      <a:pt x="1" y="1448"/>
                    </a:lnTo>
                    <a:lnTo>
                      <a:pt x="1" y="1435"/>
                    </a:lnTo>
                    <a:lnTo>
                      <a:pt x="2" y="1420"/>
                    </a:lnTo>
                    <a:lnTo>
                      <a:pt x="3" y="1404"/>
                    </a:lnTo>
                    <a:lnTo>
                      <a:pt x="3" y="1387"/>
                    </a:lnTo>
                    <a:lnTo>
                      <a:pt x="4" y="1369"/>
                    </a:lnTo>
                    <a:lnTo>
                      <a:pt x="5" y="1350"/>
                    </a:lnTo>
                    <a:lnTo>
                      <a:pt x="6" y="1330"/>
                    </a:lnTo>
                    <a:lnTo>
                      <a:pt x="6" y="1309"/>
                    </a:lnTo>
                    <a:lnTo>
                      <a:pt x="7" y="1287"/>
                    </a:lnTo>
                    <a:lnTo>
                      <a:pt x="8" y="1264"/>
                    </a:lnTo>
                    <a:lnTo>
                      <a:pt x="8" y="1240"/>
                    </a:lnTo>
                    <a:lnTo>
                      <a:pt x="9" y="1216"/>
                    </a:lnTo>
                    <a:lnTo>
                      <a:pt x="10" y="1191"/>
                    </a:lnTo>
                    <a:lnTo>
                      <a:pt x="11" y="1138"/>
                    </a:lnTo>
                    <a:lnTo>
                      <a:pt x="13" y="1084"/>
                    </a:lnTo>
                    <a:lnTo>
                      <a:pt x="14" y="1026"/>
                    </a:lnTo>
                    <a:lnTo>
                      <a:pt x="15" y="967"/>
                    </a:lnTo>
                    <a:lnTo>
                      <a:pt x="18" y="907"/>
                    </a:lnTo>
                    <a:lnTo>
                      <a:pt x="19" y="847"/>
                    </a:lnTo>
                    <a:lnTo>
                      <a:pt x="21" y="785"/>
                    </a:lnTo>
                    <a:lnTo>
                      <a:pt x="23" y="663"/>
                    </a:lnTo>
                    <a:lnTo>
                      <a:pt x="25" y="601"/>
                    </a:lnTo>
                    <a:lnTo>
                      <a:pt x="26" y="541"/>
                    </a:lnTo>
                    <a:lnTo>
                      <a:pt x="28" y="482"/>
                    </a:lnTo>
                    <a:lnTo>
                      <a:pt x="29" y="425"/>
                    </a:lnTo>
                    <a:lnTo>
                      <a:pt x="31" y="370"/>
                    </a:lnTo>
                    <a:lnTo>
                      <a:pt x="32" y="317"/>
                    </a:lnTo>
                    <a:lnTo>
                      <a:pt x="33" y="292"/>
                    </a:lnTo>
                    <a:lnTo>
                      <a:pt x="33" y="267"/>
                    </a:lnTo>
                    <a:lnTo>
                      <a:pt x="34" y="244"/>
                    </a:lnTo>
                    <a:lnTo>
                      <a:pt x="35" y="220"/>
                    </a:lnTo>
                    <a:lnTo>
                      <a:pt x="35" y="198"/>
                    </a:lnTo>
                    <a:lnTo>
                      <a:pt x="36" y="177"/>
                    </a:lnTo>
                    <a:lnTo>
                      <a:pt x="37" y="156"/>
                    </a:lnTo>
                    <a:lnTo>
                      <a:pt x="38" y="137"/>
                    </a:lnTo>
                    <a:lnTo>
                      <a:pt x="38" y="119"/>
                    </a:lnTo>
                    <a:lnTo>
                      <a:pt x="39" y="102"/>
                    </a:lnTo>
                    <a:lnTo>
                      <a:pt x="40" y="86"/>
                    </a:lnTo>
                    <a:lnTo>
                      <a:pt x="40" y="70"/>
                    </a:lnTo>
                    <a:lnTo>
                      <a:pt x="41" y="56"/>
                    </a:lnTo>
                    <a:lnTo>
                      <a:pt x="42" y="44"/>
                    </a:lnTo>
                    <a:lnTo>
                      <a:pt x="43" y="33"/>
                    </a:lnTo>
                    <a:lnTo>
                      <a:pt x="43" y="24"/>
                    </a:lnTo>
                    <a:lnTo>
                      <a:pt x="44" y="16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373880" y="1347840"/>
                <a:ext cx="69840" cy="1725480"/>
              </a:xfrm>
              <a:custGeom>
                <a:avLst/>
                <a:gdLst/>
                <a:ahLst/>
                <a:rect l="l" t="t" r="r" b="b"/>
                <a:pathLst>
                  <a:path w="44" h="1087">
                    <a:moveTo>
                      <a:pt x="0" y="3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4" y="11"/>
                    </a:lnTo>
                    <a:lnTo>
                      <a:pt x="5" y="17"/>
                    </a:lnTo>
                    <a:lnTo>
                      <a:pt x="6" y="24"/>
                    </a:lnTo>
                    <a:lnTo>
                      <a:pt x="6" y="32"/>
                    </a:lnTo>
                    <a:lnTo>
                      <a:pt x="7" y="41"/>
                    </a:lnTo>
                    <a:lnTo>
                      <a:pt x="8" y="52"/>
                    </a:lnTo>
                    <a:lnTo>
                      <a:pt x="8" y="63"/>
                    </a:lnTo>
                    <a:lnTo>
                      <a:pt x="9" y="76"/>
                    </a:lnTo>
                    <a:lnTo>
                      <a:pt x="10" y="90"/>
                    </a:lnTo>
                    <a:lnTo>
                      <a:pt x="10" y="105"/>
                    </a:lnTo>
                    <a:lnTo>
                      <a:pt x="11" y="120"/>
                    </a:lnTo>
                    <a:lnTo>
                      <a:pt x="12" y="136"/>
                    </a:lnTo>
                    <a:lnTo>
                      <a:pt x="12" y="153"/>
                    </a:lnTo>
                    <a:lnTo>
                      <a:pt x="13" y="171"/>
                    </a:lnTo>
                    <a:lnTo>
                      <a:pt x="14" y="190"/>
                    </a:lnTo>
                    <a:lnTo>
                      <a:pt x="15" y="228"/>
                    </a:lnTo>
                    <a:lnTo>
                      <a:pt x="16" y="270"/>
                    </a:lnTo>
                    <a:lnTo>
                      <a:pt x="18" y="313"/>
                    </a:lnTo>
                    <a:lnTo>
                      <a:pt x="19" y="359"/>
                    </a:lnTo>
                    <a:lnTo>
                      <a:pt x="21" y="405"/>
                    </a:lnTo>
                    <a:lnTo>
                      <a:pt x="22" y="453"/>
                    </a:lnTo>
                    <a:lnTo>
                      <a:pt x="25" y="550"/>
                    </a:lnTo>
                    <a:lnTo>
                      <a:pt x="28" y="647"/>
                    </a:lnTo>
                    <a:lnTo>
                      <a:pt x="29" y="695"/>
                    </a:lnTo>
                    <a:lnTo>
                      <a:pt x="30" y="741"/>
                    </a:lnTo>
                    <a:lnTo>
                      <a:pt x="32" y="787"/>
                    </a:lnTo>
                    <a:lnTo>
                      <a:pt x="33" y="832"/>
                    </a:lnTo>
                    <a:lnTo>
                      <a:pt x="34" y="874"/>
                    </a:lnTo>
                    <a:lnTo>
                      <a:pt x="36" y="913"/>
                    </a:lnTo>
                    <a:lnTo>
                      <a:pt x="37" y="951"/>
                    </a:lnTo>
                    <a:lnTo>
                      <a:pt x="38" y="968"/>
                    </a:lnTo>
                    <a:lnTo>
                      <a:pt x="39" y="985"/>
                    </a:lnTo>
                    <a:lnTo>
                      <a:pt x="39" y="1002"/>
                    </a:lnTo>
                    <a:lnTo>
                      <a:pt x="40" y="1016"/>
                    </a:lnTo>
                    <a:lnTo>
                      <a:pt x="41" y="1030"/>
                    </a:lnTo>
                    <a:lnTo>
                      <a:pt x="41" y="1044"/>
                    </a:lnTo>
                    <a:lnTo>
                      <a:pt x="42" y="1056"/>
                    </a:lnTo>
                    <a:lnTo>
                      <a:pt x="43" y="1067"/>
                    </a:lnTo>
                    <a:lnTo>
                      <a:pt x="43" y="1077"/>
                    </a:lnTo>
                    <a:lnTo>
                      <a:pt x="44" y="108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443720" y="3073320"/>
                <a:ext cx="71640" cy="3024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7" y="13"/>
                    </a:lnTo>
                    <a:lnTo>
                      <a:pt x="15" y="17"/>
                    </a:lnTo>
                    <a:lnTo>
                      <a:pt x="23" y="19"/>
                    </a:lnTo>
                    <a:lnTo>
                      <a:pt x="31" y="19"/>
                    </a:lnTo>
                    <a:lnTo>
                      <a:pt x="38" y="17"/>
                    </a:lnTo>
                    <a:lnTo>
                      <a:pt x="43" y="14"/>
                    </a:lnTo>
                    <a:lnTo>
                      <a:pt x="44" y="12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515360" y="1996920"/>
                <a:ext cx="71280" cy="1092240"/>
              </a:xfrm>
              <a:custGeom>
                <a:avLst/>
                <a:gdLst/>
                <a:ahLst/>
                <a:rect l="l" t="t" r="r" b="b"/>
                <a:pathLst>
                  <a:path w="45" h="688">
                    <a:moveTo>
                      <a:pt x="0" y="688"/>
                    </a:moveTo>
                    <a:lnTo>
                      <a:pt x="1" y="682"/>
                    </a:lnTo>
                    <a:lnTo>
                      <a:pt x="1" y="676"/>
                    </a:lnTo>
                    <a:lnTo>
                      <a:pt x="3" y="660"/>
                    </a:lnTo>
                    <a:lnTo>
                      <a:pt x="4" y="643"/>
                    </a:lnTo>
                    <a:lnTo>
                      <a:pt x="6" y="624"/>
                    </a:lnTo>
                    <a:lnTo>
                      <a:pt x="7" y="602"/>
                    </a:lnTo>
                    <a:lnTo>
                      <a:pt x="8" y="577"/>
                    </a:lnTo>
                    <a:lnTo>
                      <a:pt x="10" y="551"/>
                    </a:lnTo>
                    <a:lnTo>
                      <a:pt x="11" y="524"/>
                    </a:lnTo>
                    <a:lnTo>
                      <a:pt x="13" y="495"/>
                    </a:lnTo>
                    <a:lnTo>
                      <a:pt x="14" y="466"/>
                    </a:lnTo>
                    <a:lnTo>
                      <a:pt x="15" y="436"/>
                    </a:lnTo>
                    <a:lnTo>
                      <a:pt x="17" y="404"/>
                    </a:lnTo>
                    <a:lnTo>
                      <a:pt x="20" y="342"/>
                    </a:lnTo>
                    <a:lnTo>
                      <a:pt x="22" y="279"/>
                    </a:lnTo>
                    <a:lnTo>
                      <a:pt x="24" y="248"/>
                    </a:lnTo>
                    <a:lnTo>
                      <a:pt x="25" y="218"/>
                    </a:lnTo>
                    <a:lnTo>
                      <a:pt x="27" y="190"/>
                    </a:lnTo>
                    <a:lnTo>
                      <a:pt x="28" y="161"/>
                    </a:lnTo>
                    <a:lnTo>
                      <a:pt x="30" y="135"/>
                    </a:lnTo>
                    <a:lnTo>
                      <a:pt x="31" y="111"/>
                    </a:lnTo>
                    <a:lnTo>
                      <a:pt x="32" y="89"/>
                    </a:lnTo>
                    <a:lnTo>
                      <a:pt x="34" y="67"/>
                    </a:lnTo>
                    <a:lnTo>
                      <a:pt x="35" y="49"/>
                    </a:lnTo>
                    <a:lnTo>
                      <a:pt x="37" y="34"/>
                    </a:lnTo>
                    <a:lnTo>
                      <a:pt x="38" y="21"/>
                    </a:lnTo>
                    <a:lnTo>
                      <a:pt x="39" y="16"/>
                    </a:lnTo>
                    <a:lnTo>
                      <a:pt x="39" y="11"/>
                    </a:lnTo>
                    <a:lnTo>
                      <a:pt x="40" y="7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586640" y="2008080"/>
                <a:ext cx="71640" cy="1747800"/>
              </a:xfrm>
              <a:custGeom>
                <a:avLst/>
                <a:gdLst/>
                <a:ahLst/>
                <a:rect l="l" t="t" r="r" b="b"/>
                <a:pathLst>
                  <a:path w="45" h="1101">
                    <a:moveTo>
                      <a:pt x="0" y="0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5"/>
                    </a:lnTo>
                    <a:lnTo>
                      <a:pt x="3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6" y="59"/>
                    </a:lnTo>
                    <a:lnTo>
                      <a:pt x="6" y="71"/>
                    </a:lnTo>
                    <a:lnTo>
                      <a:pt x="8" y="84"/>
                    </a:lnTo>
                    <a:lnTo>
                      <a:pt x="9" y="98"/>
                    </a:lnTo>
                    <a:lnTo>
                      <a:pt x="9" y="112"/>
                    </a:lnTo>
                    <a:lnTo>
                      <a:pt x="11" y="142"/>
                    </a:lnTo>
                    <a:lnTo>
                      <a:pt x="12" y="176"/>
                    </a:lnTo>
                    <a:lnTo>
                      <a:pt x="13" y="211"/>
                    </a:lnTo>
                    <a:lnTo>
                      <a:pt x="15" y="250"/>
                    </a:lnTo>
                    <a:lnTo>
                      <a:pt x="16" y="289"/>
                    </a:lnTo>
                    <a:lnTo>
                      <a:pt x="17" y="330"/>
                    </a:lnTo>
                    <a:lnTo>
                      <a:pt x="19" y="373"/>
                    </a:lnTo>
                    <a:lnTo>
                      <a:pt x="20" y="418"/>
                    </a:lnTo>
                    <a:lnTo>
                      <a:pt x="22" y="462"/>
                    </a:lnTo>
                    <a:lnTo>
                      <a:pt x="23" y="508"/>
                    </a:lnTo>
                    <a:lnTo>
                      <a:pt x="26" y="600"/>
                    </a:lnTo>
                    <a:lnTo>
                      <a:pt x="28" y="691"/>
                    </a:lnTo>
                    <a:lnTo>
                      <a:pt x="30" y="735"/>
                    </a:lnTo>
                    <a:lnTo>
                      <a:pt x="31" y="779"/>
                    </a:lnTo>
                    <a:lnTo>
                      <a:pt x="33" y="820"/>
                    </a:lnTo>
                    <a:lnTo>
                      <a:pt x="34" y="862"/>
                    </a:lnTo>
                    <a:lnTo>
                      <a:pt x="35" y="900"/>
                    </a:lnTo>
                    <a:lnTo>
                      <a:pt x="37" y="938"/>
                    </a:lnTo>
                    <a:lnTo>
                      <a:pt x="38" y="972"/>
                    </a:lnTo>
                    <a:lnTo>
                      <a:pt x="39" y="1004"/>
                    </a:lnTo>
                    <a:lnTo>
                      <a:pt x="40" y="1019"/>
                    </a:lnTo>
                    <a:lnTo>
                      <a:pt x="41" y="1033"/>
                    </a:lnTo>
                    <a:lnTo>
                      <a:pt x="42" y="1046"/>
                    </a:lnTo>
                    <a:lnTo>
                      <a:pt x="42" y="1059"/>
                    </a:lnTo>
                    <a:lnTo>
                      <a:pt x="43" y="1070"/>
                    </a:lnTo>
                    <a:lnTo>
                      <a:pt x="44" y="1081"/>
                    </a:lnTo>
                    <a:lnTo>
                      <a:pt x="44" y="1092"/>
                    </a:lnTo>
                    <a:lnTo>
                      <a:pt x="45" y="11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658280" y="374652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6"/>
                    </a:moveTo>
                    <a:lnTo>
                      <a:pt x="1" y="9"/>
                    </a:lnTo>
                    <a:lnTo>
                      <a:pt x="2" y="11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2" y="17"/>
                    </a:lnTo>
                    <a:lnTo>
                      <a:pt x="31" y="16"/>
                    </a:lnTo>
                    <a:lnTo>
                      <a:pt x="38" y="13"/>
                    </a:lnTo>
                    <a:lnTo>
                      <a:pt x="43" y="7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729560" y="1100160"/>
                <a:ext cx="71280" cy="2646360"/>
              </a:xfrm>
              <a:custGeom>
                <a:avLst/>
                <a:gdLst/>
                <a:ahLst/>
                <a:rect l="l" t="t" r="r" b="b"/>
                <a:pathLst>
                  <a:path w="45" h="1667">
                    <a:moveTo>
                      <a:pt x="0" y="1667"/>
                    </a:moveTo>
                    <a:lnTo>
                      <a:pt x="1" y="1652"/>
                    </a:lnTo>
                    <a:lnTo>
                      <a:pt x="1" y="1637"/>
                    </a:lnTo>
                    <a:lnTo>
                      <a:pt x="3" y="1621"/>
                    </a:lnTo>
                    <a:lnTo>
                      <a:pt x="4" y="1603"/>
                    </a:lnTo>
                    <a:lnTo>
                      <a:pt x="4" y="1584"/>
                    </a:lnTo>
                    <a:lnTo>
                      <a:pt x="5" y="1563"/>
                    </a:lnTo>
                    <a:lnTo>
                      <a:pt x="6" y="1541"/>
                    </a:lnTo>
                    <a:lnTo>
                      <a:pt x="7" y="1519"/>
                    </a:lnTo>
                    <a:lnTo>
                      <a:pt x="7" y="1495"/>
                    </a:lnTo>
                    <a:lnTo>
                      <a:pt x="8" y="1469"/>
                    </a:lnTo>
                    <a:lnTo>
                      <a:pt x="9" y="1443"/>
                    </a:lnTo>
                    <a:lnTo>
                      <a:pt x="9" y="1417"/>
                    </a:lnTo>
                    <a:lnTo>
                      <a:pt x="10" y="1388"/>
                    </a:lnTo>
                    <a:lnTo>
                      <a:pt x="11" y="1360"/>
                    </a:lnTo>
                    <a:lnTo>
                      <a:pt x="11" y="1331"/>
                    </a:lnTo>
                    <a:lnTo>
                      <a:pt x="12" y="1300"/>
                    </a:lnTo>
                    <a:lnTo>
                      <a:pt x="13" y="1239"/>
                    </a:lnTo>
                    <a:lnTo>
                      <a:pt x="15" y="1174"/>
                    </a:lnTo>
                    <a:lnTo>
                      <a:pt x="16" y="1107"/>
                    </a:lnTo>
                    <a:lnTo>
                      <a:pt x="17" y="1039"/>
                    </a:lnTo>
                    <a:lnTo>
                      <a:pt x="19" y="969"/>
                    </a:lnTo>
                    <a:lnTo>
                      <a:pt x="20" y="900"/>
                    </a:lnTo>
                    <a:lnTo>
                      <a:pt x="23" y="760"/>
                    </a:lnTo>
                    <a:lnTo>
                      <a:pt x="24" y="691"/>
                    </a:lnTo>
                    <a:lnTo>
                      <a:pt x="26" y="622"/>
                    </a:lnTo>
                    <a:lnTo>
                      <a:pt x="27" y="555"/>
                    </a:lnTo>
                    <a:lnTo>
                      <a:pt x="28" y="491"/>
                    </a:lnTo>
                    <a:lnTo>
                      <a:pt x="30" y="428"/>
                    </a:lnTo>
                    <a:lnTo>
                      <a:pt x="31" y="367"/>
                    </a:lnTo>
                    <a:lnTo>
                      <a:pt x="32" y="339"/>
                    </a:lnTo>
                    <a:lnTo>
                      <a:pt x="33" y="310"/>
                    </a:lnTo>
                    <a:lnTo>
                      <a:pt x="33" y="283"/>
                    </a:lnTo>
                    <a:lnTo>
                      <a:pt x="34" y="257"/>
                    </a:lnTo>
                    <a:lnTo>
                      <a:pt x="35" y="231"/>
                    </a:lnTo>
                    <a:lnTo>
                      <a:pt x="35" y="206"/>
                    </a:lnTo>
                    <a:lnTo>
                      <a:pt x="36" y="183"/>
                    </a:lnTo>
                    <a:lnTo>
                      <a:pt x="37" y="161"/>
                    </a:lnTo>
                    <a:lnTo>
                      <a:pt x="37" y="139"/>
                    </a:lnTo>
                    <a:lnTo>
                      <a:pt x="38" y="120"/>
                    </a:lnTo>
                    <a:lnTo>
                      <a:pt x="39" y="101"/>
                    </a:lnTo>
                    <a:lnTo>
                      <a:pt x="39" y="84"/>
                    </a:lnTo>
                    <a:lnTo>
                      <a:pt x="40" y="69"/>
                    </a:lnTo>
                    <a:lnTo>
                      <a:pt x="41" y="53"/>
                    </a:lnTo>
                    <a:lnTo>
                      <a:pt x="42" y="41"/>
                    </a:lnTo>
                    <a:lnTo>
                      <a:pt x="42" y="29"/>
                    </a:lnTo>
                    <a:lnTo>
                      <a:pt x="43" y="19"/>
                    </a:lnTo>
                    <a:lnTo>
                      <a:pt x="44" y="11"/>
                    </a:lnTo>
                    <a:lnTo>
                      <a:pt x="4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800840" y="1092240"/>
                <a:ext cx="73080" cy="1851120"/>
              </a:xfrm>
              <a:custGeom>
                <a:avLst/>
                <a:gdLst/>
                <a:ahLst/>
                <a:rect l="l" t="t" r="r" b="b"/>
                <a:pathLst>
                  <a:path w="46" h="1166">
                    <a:moveTo>
                      <a:pt x="0" y="5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4" y="10"/>
                    </a:lnTo>
                    <a:lnTo>
                      <a:pt x="5" y="15"/>
                    </a:lnTo>
                    <a:lnTo>
                      <a:pt x="6" y="23"/>
                    </a:lnTo>
                    <a:lnTo>
                      <a:pt x="6" y="31"/>
                    </a:lnTo>
                    <a:lnTo>
                      <a:pt x="7" y="41"/>
                    </a:lnTo>
                    <a:lnTo>
                      <a:pt x="8" y="52"/>
                    </a:lnTo>
                    <a:lnTo>
                      <a:pt x="8" y="64"/>
                    </a:lnTo>
                    <a:lnTo>
                      <a:pt x="9" y="78"/>
                    </a:lnTo>
                    <a:lnTo>
                      <a:pt x="10" y="92"/>
                    </a:lnTo>
                    <a:lnTo>
                      <a:pt x="10" y="107"/>
                    </a:lnTo>
                    <a:lnTo>
                      <a:pt x="11" y="123"/>
                    </a:lnTo>
                    <a:lnTo>
                      <a:pt x="12" y="140"/>
                    </a:lnTo>
                    <a:lnTo>
                      <a:pt x="13" y="159"/>
                    </a:lnTo>
                    <a:lnTo>
                      <a:pt x="13" y="178"/>
                    </a:lnTo>
                    <a:lnTo>
                      <a:pt x="14" y="198"/>
                    </a:lnTo>
                    <a:lnTo>
                      <a:pt x="15" y="240"/>
                    </a:lnTo>
                    <a:lnTo>
                      <a:pt x="17" y="284"/>
                    </a:lnTo>
                    <a:lnTo>
                      <a:pt x="18" y="331"/>
                    </a:lnTo>
                    <a:lnTo>
                      <a:pt x="20" y="379"/>
                    </a:lnTo>
                    <a:lnTo>
                      <a:pt x="21" y="430"/>
                    </a:lnTo>
                    <a:lnTo>
                      <a:pt x="22" y="481"/>
                    </a:lnTo>
                    <a:lnTo>
                      <a:pt x="24" y="533"/>
                    </a:lnTo>
                    <a:lnTo>
                      <a:pt x="25" y="587"/>
                    </a:lnTo>
                    <a:lnTo>
                      <a:pt x="28" y="691"/>
                    </a:lnTo>
                    <a:lnTo>
                      <a:pt x="30" y="744"/>
                    </a:lnTo>
                    <a:lnTo>
                      <a:pt x="31" y="794"/>
                    </a:lnTo>
                    <a:lnTo>
                      <a:pt x="32" y="844"/>
                    </a:lnTo>
                    <a:lnTo>
                      <a:pt x="34" y="891"/>
                    </a:lnTo>
                    <a:lnTo>
                      <a:pt x="35" y="937"/>
                    </a:lnTo>
                    <a:lnTo>
                      <a:pt x="37" y="979"/>
                    </a:lnTo>
                    <a:lnTo>
                      <a:pt x="37" y="1001"/>
                    </a:lnTo>
                    <a:lnTo>
                      <a:pt x="38" y="1020"/>
                    </a:lnTo>
                    <a:lnTo>
                      <a:pt x="39" y="1039"/>
                    </a:lnTo>
                    <a:lnTo>
                      <a:pt x="39" y="1057"/>
                    </a:lnTo>
                    <a:lnTo>
                      <a:pt x="40" y="1074"/>
                    </a:lnTo>
                    <a:lnTo>
                      <a:pt x="42" y="1091"/>
                    </a:lnTo>
                    <a:lnTo>
                      <a:pt x="43" y="1106"/>
                    </a:lnTo>
                    <a:lnTo>
                      <a:pt x="43" y="1120"/>
                    </a:lnTo>
                    <a:lnTo>
                      <a:pt x="44" y="1133"/>
                    </a:lnTo>
                    <a:lnTo>
                      <a:pt x="45" y="1145"/>
                    </a:lnTo>
                    <a:lnTo>
                      <a:pt x="45" y="1155"/>
                    </a:lnTo>
                    <a:lnTo>
                      <a:pt x="46" y="116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873920" y="293544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5"/>
                    </a:moveTo>
                    <a:lnTo>
                      <a:pt x="1" y="9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5"/>
                    </a:lnTo>
                    <a:lnTo>
                      <a:pt x="14" y="16"/>
                    </a:lnTo>
                    <a:lnTo>
                      <a:pt x="22" y="14"/>
                    </a:lnTo>
                    <a:lnTo>
                      <a:pt x="30" y="12"/>
                    </a:lnTo>
                    <a:lnTo>
                      <a:pt x="37" y="8"/>
                    </a:lnTo>
                    <a:lnTo>
                      <a:pt x="42" y="4"/>
                    </a:lnTo>
                    <a:lnTo>
                      <a:pt x="4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43760" y="2139840"/>
                <a:ext cx="73080" cy="795600"/>
              </a:xfrm>
              <a:custGeom>
                <a:avLst/>
                <a:gdLst/>
                <a:ahLst/>
                <a:rect l="l" t="t" r="r" b="b"/>
                <a:pathLst>
                  <a:path w="46" h="501">
                    <a:moveTo>
                      <a:pt x="0" y="501"/>
                    </a:moveTo>
                    <a:lnTo>
                      <a:pt x="1" y="491"/>
                    </a:lnTo>
                    <a:lnTo>
                      <a:pt x="3" y="480"/>
                    </a:lnTo>
                    <a:lnTo>
                      <a:pt x="4" y="467"/>
                    </a:lnTo>
                    <a:lnTo>
                      <a:pt x="6" y="452"/>
                    </a:lnTo>
                    <a:lnTo>
                      <a:pt x="7" y="435"/>
                    </a:lnTo>
                    <a:lnTo>
                      <a:pt x="8" y="417"/>
                    </a:lnTo>
                    <a:lnTo>
                      <a:pt x="10" y="396"/>
                    </a:lnTo>
                    <a:lnTo>
                      <a:pt x="11" y="376"/>
                    </a:lnTo>
                    <a:lnTo>
                      <a:pt x="13" y="354"/>
                    </a:lnTo>
                    <a:lnTo>
                      <a:pt x="14" y="331"/>
                    </a:lnTo>
                    <a:lnTo>
                      <a:pt x="17" y="284"/>
                    </a:lnTo>
                    <a:lnTo>
                      <a:pt x="20" y="236"/>
                    </a:lnTo>
                    <a:lnTo>
                      <a:pt x="22" y="189"/>
                    </a:lnTo>
                    <a:lnTo>
                      <a:pt x="24" y="167"/>
                    </a:lnTo>
                    <a:lnTo>
                      <a:pt x="25" y="144"/>
                    </a:lnTo>
                    <a:lnTo>
                      <a:pt x="27" y="122"/>
                    </a:lnTo>
                    <a:lnTo>
                      <a:pt x="28" y="102"/>
                    </a:lnTo>
                    <a:lnTo>
                      <a:pt x="30" y="84"/>
                    </a:lnTo>
                    <a:lnTo>
                      <a:pt x="31" y="65"/>
                    </a:lnTo>
                    <a:lnTo>
                      <a:pt x="32" y="50"/>
                    </a:lnTo>
                    <a:lnTo>
                      <a:pt x="34" y="36"/>
                    </a:lnTo>
                    <a:lnTo>
                      <a:pt x="35" y="24"/>
                    </a:lnTo>
                    <a:lnTo>
                      <a:pt x="38" y="14"/>
                    </a:lnTo>
                    <a:lnTo>
                      <a:pt x="39" y="7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5" y="5"/>
                    </a:lnTo>
                    <a:lnTo>
                      <a:pt x="45" y="8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016840" y="2158920"/>
                <a:ext cx="69840" cy="1695600"/>
              </a:xfrm>
              <a:custGeom>
                <a:avLst/>
                <a:gdLst/>
                <a:ahLst/>
                <a:rect l="l" t="t" r="r" b="b"/>
                <a:pathLst>
                  <a:path w="44" h="1068">
                    <a:moveTo>
                      <a:pt x="0" y="0"/>
                    </a:moveTo>
                    <a:lnTo>
                      <a:pt x="1" y="5"/>
                    </a:lnTo>
                    <a:lnTo>
                      <a:pt x="1" y="10"/>
                    </a:lnTo>
                    <a:lnTo>
                      <a:pt x="3" y="24"/>
                    </a:lnTo>
                    <a:lnTo>
                      <a:pt x="4" y="40"/>
                    </a:lnTo>
                    <a:lnTo>
                      <a:pt x="6" y="58"/>
                    </a:lnTo>
                    <a:lnTo>
                      <a:pt x="7" y="80"/>
                    </a:lnTo>
                    <a:lnTo>
                      <a:pt x="8" y="104"/>
                    </a:lnTo>
                    <a:lnTo>
                      <a:pt x="10" y="129"/>
                    </a:lnTo>
                    <a:lnTo>
                      <a:pt x="11" y="158"/>
                    </a:lnTo>
                    <a:lnTo>
                      <a:pt x="12" y="187"/>
                    </a:lnTo>
                    <a:lnTo>
                      <a:pt x="14" y="218"/>
                    </a:lnTo>
                    <a:lnTo>
                      <a:pt x="15" y="252"/>
                    </a:lnTo>
                    <a:lnTo>
                      <a:pt x="16" y="286"/>
                    </a:lnTo>
                    <a:lnTo>
                      <a:pt x="18" y="323"/>
                    </a:lnTo>
                    <a:lnTo>
                      <a:pt x="19" y="359"/>
                    </a:lnTo>
                    <a:lnTo>
                      <a:pt x="21" y="397"/>
                    </a:lnTo>
                    <a:lnTo>
                      <a:pt x="22" y="437"/>
                    </a:lnTo>
                    <a:lnTo>
                      <a:pt x="23" y="476"/>
                    </a:lnTo>
                    <a:lnTo>
                      <a:pt x="25" y="517"/>
                    </a:lnTo>
                    <a:lnTo>
                      <a:pt x="27" y="599"/>
                    </a:lnTo>
                    <a:lnTo>
                      <a:pt x="30" y="682"/>
                    </a:lnTo>
                    <a:lnTo>
                      <a:pt x="33" y="765"/>
                    </a:lnTo>
                    <a:lnTo>
                      <a:pt x="36" y="846"/>
                    </a:lnTo>
                    <a:lnTo>
                      <a:pt x="37" y="885"/>
                    </a:lnTo>
                    <a:lnTo>
                      <a:pt x="38" y="924"/>
                    </a:lnTo>
                    <a:lnTo>
                      <a:pt x="40" y="962"/>
                    </a:lnTo>
                    <a:lnTo>
                      <a:pt x="41" y="999"/>
                    </a:lnTo>
                    <a:lnTo>
                      <a:pt x="43" y="1034"/>
                    </a:lnTo>
                    <a:lnTo>
                      <a:pt x="44" y="106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1014480" y="53481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3" y="1"/>
                    </a:lnTo>
                    <a:lnTo>
                      <a:pt x="9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1085760" y="4776840"/>
                <a:ext cx="71640" cy="571320"/>
              </a:xfrm>
              <a:custGeom>
                <a:avLst/>
                <a:gdLst/>
                <a:ahLst/>
                <a:rect l="l" t="t" r="r" b="b"/>
                <a:pathLst>
                  <a:path w="45" h="360">
                    <a:moveTo>
                      <a:pt x="0" y="360"/>
                    </a:moveTo>
                    <a:lnTo>
                      <a:pt x="1" y="354"/>
                    </a:lnTo>
                    <a:lnTo>
                      <a:pt x="3" y="346"/>
                    </a:lnTo>
                    <a:lnTo>
                      <a:pt x="4" y="338"/>
                    </a:lnTo>
                    <a:lnTo>
                      <a:pt x="6" y="329"/>
                    </a:lnTo>
                    <a:lnTo>
                      <a:pt x="7" y="320"/>
                    </a:lnTo>
                    <a:lnTo>
                      <a:pt x="8" y="310"/>
                    </a:lnTo>
                    <a:lnTo>
                      <a:pt x="11" y="287"/>
                    </a:lnTo>
                    <a:lnTo>
                      <a:pt x="14" y="262"/>
                    </a:lnTo>
                    <a:lnTo>
                      <a:pt x="17" y="236"/>
                    </a:lnTo>
                    <a:lnTo>
                      <a:pt x="19" y="209"/>
                    </a:lnTo>
                    <a:lnTo>
                      <a:pt x="22" y="181"/>
                    </a:lnTo>
                    <a:lnTo>
                      <a:pt x="25" y="153"/>
                    </a:lnTo>
                    <a:lnTo>
                      <a:pt x="27" y="126"/>
                    </a:lnTo>
                    <a:lnTo>
                      <a:pt x="30" y="100"/>
                    </a:lnTo>
                    <a:lnTo>
                      <a:pt x="33" y="74"/>
                    </a:lnTo>
                    <a:lnTo>
                      <a:pt x="37" y="52"/>
                    </a:lnTo>
                    <a:lnTo>
                      <a:pt x="38" y="41"/>
                    </a:lnTo>
                    <a:lnTo>
                      <a:pt x="39" y="31"/>
                    </a:lnTo>
                    <a:lnTo>
                      <a:pt x="41" y="23"/>
                    </a:lnTo>
                    <a:lnTo>
                      <a:pt x="42" y="14"/>
                    </a:lnTo>
                    <a:lnTo>
                      <a:pt x="4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1157400" y="4754520"/>
                <a:ext cx="7128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14"/>
                    </a:moveTo>
                    <a:lnTo>
                      <a:pt x="1" y="10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15" y="4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5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1228680" y="4336920"/>
                <a:ext cx="71640" cy="417600"/>
              </a:xfrm>
              <a:custGeom>
                <a:avLst/>
                <a:gdLst/>
                <a:ahLst/>
                <a:rect l="l" t="t" r="r" b="b"/>
                <a:pathLst>
                  <a:path w="45" h="263">
                    <a:moveTo>
                      <a:pt x="0" y="263"/>
                    </a:moveTo>
                    <a:lnTo>
                      <a:pt x="3" y="254"/>
                    </a:lnTo>
                    <a:lnTo>
                      <a:pt x="6" y="243"/>
                    </a:lnTo>
                    <a:lnTo>
                      <a:pt x="8" y="230"/>
                    </a:lnTo>
                    <a:lnTo>
                      <a:pt x="11" y="217"/>
                    </a:lnTo>
                    <a:lnTo>
                      <a:pt x="14" y="201"/>
                    </a:lnTo>
                    <a:lnTo>
                      <a:pt x="17" y="185"/>
                    </a:lnTo>
                    <a:lnTo>
                      <a:pt x="19" y="168"/>
                    </a:lnTo>
                    <a:lnTo>
                      <a:pt x="22" y="151"/>
                    </a:lnTo>
                    <a:lnTo>
                      <a:pt x="27" y="113"/>
                    </a:lnTo>
                    <a:lnTo>
                      <a:pt x="34" y="75"/>
                    </a:lnTo>
                    <a:lnTo>
                      <a:pt x="39" y="3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300320" y="3836880"/>
                <a:ext cx="71280" cy="500040"/>
              </a:xfrm>
              <a:custGeom>
                <a:avLst/>
                <a:gdLst/>
                <a:ahLst/>
                <a:rect l="l" t="t" r="r" b="b"/>
                <a:pathLst>
                  <a:path w="45" h="315">
                    <a:moveTo>
                      <a:pt x="0" y="315"/>
                    </a:moveTo>
                    <a:lnTo>
                      <a:pt x="3" y="296"/>
                    </a:lnTo>
                    <a:lnTo>
                      <a:pt x="6" y="276"/>
                    </a:lnTo>
                    <a:lnTo>
                      <a:pt x="8" y="253"/>
                    </a:lnTo>
                    <a:lnTo>
                      <a:pt x="11" y="231"/>
                    </a:lnTo>
                    <a:lnTo>
                      <a:pt x="17" y="183"/>
                    </a:lnTo>
                    <a:lnTo>
                      <a:pt x="22" y="136"/>
                    </a:lnTo>
                    <a:lnTo>
                      <a:pt x="25" y="114"/>
                    </a:lnTo>
                    <a:lnTo>
                      <a:pt x="28" y="91"/>
                    </a:lnTo>
                    <a:lnTo>
                      <a:pt x="31" y="71"/>
                    </a:lnTo>
                    <a:lnTo>
                      <a:pt x="34" y="53"/>
                    </a:lnTo>
                    <a:lnTo>
                      <a:pt x="37" y="36"/>
                    </a:lnTo>
                    <a:lnTo>
                      <a:pt x="39" y="22"/>
                    </a:lnTo>
                    <a:lnTo>
                      <a:pt x="42" y="9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371600" y="3821040"/>
                <a:ext cx="71280" cy="141480"/>
              </a:xfrm>
              <a:custGeom>
                <a:avLst/>
                <a:gdLst/>
                <a:ahLst/>
                <a:rect l="l" t="t" r="r" b="b"/>
                <a:pathLst>
                  <a:path w="45" h="89">
                    <a:moveTo>
                      <a:pt x="0" y="10"/>
                    </a:moveTo>
                    <a:lnTo>
                      <a:pt x="3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4"/>
                    </a:lnTo>
                    <a:lnTo>
                      <a:pt x="17" y="8"/>
                    </a:lnTo>
                    <a:lnTo>
                      <a:pt x="19" y="14"/>
                    </a:lnTo>
                    <a:lnTo>
                      <a:pt x="22" y="21"/>
                    </a:lnTo>
                    <a:lnTo>
                      <a:pt x="26" y="30"/>
                    </a:lnTo>
                    <a:lnTo>
                      <a:pt x="28" y="38"/>
                    </a:lnTo>
                    <a:lnTo>
                      <a:pt x="34" y="56"/>
                    </a:lnTo>
                    <a:lnTo>
                      <a:pt x="39" y="74"/>
                    </a:lnTo>
                    <a:lnTo>
                      <a:pt x="42" y="82"/>
                    </a:lnTo>
                    <a:lnTo>
                      <a:pt x="45" y="8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1442880" y="3962520"/>
                <a:ext cx="71640" cy="249120"/>
              </a:xfrm>
              <a:custGeom>
                <a:avLst/>
                <a:gdLst/>
                <a:ahLst/>
                <a:rect l="l" t="t" r="r" b="b"/>
                <a:pathLst>
                  <a:path w="45" h="157">
                    <a:moveTo>
                      <a:pt x="0" y="0"/>
                    </a:moveTo>
                    <a:lnTo>
                      <a:pt x="1" y="3"/>
                    </a:lnTo>
                    <a:lnTo>
                      <a:pt x="2" y="7"/>
                    </a:lnTo>
                    <a:lnTo>
                      <a:pt x="5" y="17"/>
                    </a:lnTo>
                    <a:lnTo>
                      <a:pt x="7" y="30"/>
                    </a:lnTo>
                    <a:lnTo>
                      <a:pt x="10" y="44"/>
                    </a:lnTo>
                    <a:lnTo>
                      <a:pt x="13" y="60"/>
                    </a:lnTo>
                    <a:lnTo>
                      <a:pt x="16" y="76"/>
                    </a:lnTo>
                    <a:lnTo>
                      <a:pt x="19" y="92"/>
                    </a:lnTo>
                    <a:lnTo>
                      <a:pt x="22" y="108"/>
                    </a:lnTo>
                    <a:lnTo>
                      <a:pt x="26" y="123"/>
                    </a:lnTo>
                    <a:lnTo>
                      <a:pt x="29" y="135"/>
                    </a:lnTo>
                    <a:lnTo>
                      <a:pt x="32" y="145"/>
                    </a:lnTo>
                    <a:lnTo>
                      <a:pt x="33" y="149"/>
                    </a:lnTo>
                    <a:lnTo>
                      <a:pt x="35" y="153"/>
                    </a:lnTo>
                    <a:lnTo>
                      <a:pt x="36" y="155"/>
                    </a:lnTo>
                    <a:lnTo>
                      <a:pt x="38" y="156"/>
                    </a:lnTo>
                    <a:lnTo>
                      <a:pt x="39" y="157"/>
                    </a:lnTo>
                    <a:lnTo>
                      <a:pt x="40" y="156"/>
                    </a:lnTo>
                    <a:lnTo>
                      <a:pt x="41" y="154"/>
                    </a:lnTo>
                    <a:lnTo>
                      <a:pt x="43" y="151"/>
                    </a:lnTo>
                    <a:lnTo>
                      <a:pt x="44" y="146"/>
                    </a:lnTo>
                    <a:lnTo>
                      <a:pt x="45" y="14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514520" y="3079800"/>
                <a:ext cx="71280" cy="1104840"/>
              </a:xfrm>
              <a:custGeom>
                <a:avLst/>
                <a:gdLst/>
                <a:ahLst/>
                <a:rect l="l" t="t" r="r" b="b"/>
                <a:pathLst>
                  <a:path w="45" h="696">
                    <a:moveTo>
                      <a:pt x="0" y="696"/>
                    </a:moveTo>
                    <a:lnTo>
                      <a:pt x="1" y="686"/>
                    </a:lnTo>
                    <a:lnTo>
                      <a:pt x="3" y="674"/>
                    </a:lnTo>
                    <a:lnTo>
                      <a:pt x="4" y="658"/>
                    </a:lnTo>
                    <a:lnTo>
                      <a:pt x="6" y="642"/>
                    </a:lnTo>
                    <a:lnTo>
                      <a:pt x="7" y="623"/>
                    </a:lnTo>
                    <a:lnTo>
                      <a:pt x="8" y="603"/>
                    </a:lnTo>
                    <a:lnTo>
                      <a:pt x="10" y="581"/>
                    </a:lnTo>
                    <a:lnTo>
                      <a:pt x="11" y="557"/>
                    </a:lnTo>
                    <a:lnTo>
                      <a:pt x="12" y="532"/>
                    </a:lnTo>
                    <a:lnTo>
                      <a:pt x="14" y="506"/>
                    </a:lnTo>
                    <a:lnTo>
                      <a:pt x="15" y="479"/>
                    </a:lnTo>
                    <a:lnTo>
                      <a:pt x="17" y="451"/>
                    </a:lnTo>
                    <a:lnTo>
                      <a:pt x="19" y="394"/>
                    </a:lnTo>
                    <a:lnTo>
                      <a:pt x="23" y="337"/>
                    </a:lnTo>
                    <a:lnTo>
                      <a:pt x="26" y="279"/>
                    </a:lnTo>
                    <a:lnTo>
                      <a:pt x="27" y="251"/>
                    </a:lnTo>
                    <a:lnTo>
                      <a:pt x="28" y="223"/>
                    </a:lnTo>
                    <a:lnTo>
                      <a:pt x="30" y="196"/>
                    </a:lnTo>
                    <a:lnTo>
                      <a:pt x="31" y="171"/>
                    </a:lnTo>
                    <a:lnTo>
                      <a:pt x="33" y="145"/>
                    </a:lnTo>
                    <a:lnTo>
                      <a:pt x="34" y="122"/>
                    </a:lnTo>
                    <a:lnTo>
                      <a:pt x="35" y="100"/>
                    </a:lnTo>
                    <a:lnTo>
                      <a:pt x="37" y="80"/>
                    </a:lnTo>
                    <a:lnTo>
                      <a:pt x="38" y="60"/>
                    </a:lnTo>
                    <a:lnTo>
                      <a:pt x="39" y="44"/>
                    </a:lnTo>
                    <a:lnTo>
                      <a:pt x="41" y="29"/>
                    </a:lnTo>
                    <a:lnTo>
                      <a:pt x="42" y="17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85800" y="3067200"/>
                <a:ext cx="71640" cy="519120"/>
              </a:xfrm>
              <a:custGeom>
                <a:avLst/>
                <a:gdLst/>
                <a:ahLst/>
                <a:rect l="l" t="t" r="r" b="b"/>
                <a:pathLst>
                  <a:path w="45" h="327">
                    <a:moveTo>
                      <a:pt x="0" y="8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4"/>
                    </a:lnTo>
                    <a:lnTo>
                      <a:pt x="8" y="9"/>
                    </a:lnTo>
                    <a:lnTo>
                      <a:pt x="10" y="15"/>
                    </a:lnTo>
                    <a:lnTo>
                      <a:pt x="11" y="22"/>
                    </a:lnTo>
                    <a:lnTo>
                      <a:pt x="13" y="31"/>
                    </a:lnTo>
                    <a:lnTo>
                      <a:pt x="14" y="41"/>
                    </a:lnTo>
                    <a:lnTo>
                      <a:pt x="15" y="52"/>
                    </a:lnTo>
                    <a:lnTo>
                      <a:pt x="17" y="64"/>
                    </a:lnTo>
                    <a:lnTo>
                      <a:pt x="18" y="77"/>
                    </a:lnTo>
                    <a:lnTo>
                      <a:pt x="20" y="91"/>
                    </a:lnTo>
                    <a:lnTo>
                      <a:pt x="22" y="120"/>
                    </a:lnTo>
                    <a:lnTo>
                      <a:pt x="25" y="150"/>
                    </a:lnTo>
                    <a:lnTo>
                      <a:pt x="28" y="182"/>
                    </a:lnTo>
                    <a:lnTo>
                      <a:pt x="31" y="212"/>
                    </a:lnTo>
                    <a:lnTo>
                      <a:pt x="34" y="241"/>
                    </a:lnTo>
                    <a:lnTo>
                      <a:pt x="35" y="256"/>
                    </a:lnTo>
                    <a:lnTo>
                      <a:pt x="37" y="269"/>
                    </a:lnTo>
                    <a:lnTo>
                      <a:pt x="38" y="281"/>
                    </a:lnTo>
                    <a:lnTo>
                      <a:pt x="39" y="293"/>
                    </a:lnTo>
                    <a:lnTo>
                      <a:pt x="41" y="303"/>
                    </a:lnTo>
                    <a:lnTo>
                      <a:pt x="42" y="312"/>
                    </a:lnTo>
                    <a:lnTo>
                      <a:pt x="44" y="320"/>
                    </a:lnTo>
                    <a:lnTo>
                      <a:pt x="45" y="32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657440" y="358632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0" y="0"/>
                    </a:moveTo>
                    <a:lnTo>
                      <a:pt x="3" y="10"/>
                    </a:lnTo>
                    <a:lnTo>
                      <a:pt x="9" y="17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30" y="35"/>
                    </a:lnTo>
                    <a:lnTo>
                      <a:pt x="36" y="43"/>
                    </a:lnTo>
                    <a:lnTo>
                      <a:pt x="42" y="53"/>
                    </a:lnTo>
                    <a:lnTo>
                      <a:pt x="44" y="59"/>
                    </a:lnTo>
                    <a:lnTo>
                      <a:pt x="45" y="6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728720" y="3691080"/>
                <a:ext cx="71640" cy="811080"/>
              </a:xfrm>
              <a:custGeom>
                <a:avLst/>
                <a:gdLst/>
                <a:ahLst/>
                <a:rect l="l" t="t" r="r" b="b"/>
                <a:pathLst>
                  <a:path w="45" h="511">
                    <a:moveTo>
                      <a:pt x="0" y="0"/>
                    </a:moveTo>
                    <a:lnTo>
                      <a:pt x="1" y="9"/>
                    </a:lnTo>
                    <a:lnTo>
                      <a:pt x="3" y="20"/>
                    </a:lnTo>
                    <a:lnTo>
                      <a:pt x="4" y="33"/>
                    </a:lnTo>
                    <a:lnTo>
                      <a:pt x="6" y="45"/>
                    </a:lnTo>
                    <a:lnTo>
                      <a:pt x="7" y="59"/>
                    </a:lnTo>
                    <a:lnTo>
                      <a:pt x="8" y="73"/>
                    </a:lnTo>
                    <a:lnTo>
                      <a:pt x="10" y="88"/>
                    </a:lnTo>
                    <a:lnTo>
                      <a:pt x="11" y="104"/>
                    </a:lnTo>
                    <a:lnTo>
                      <a:pt x="14" y="139"/>
                    </a:lnTo>
                    <a:lnTo>
                      <a:pt x="17" y="174"/>
                    </a:lnTo>
                    <a:lnTo>
                      <a:pt x="20" y="211"/>
                    </a:lnTo>
                    <a:lnTo>
                      <a:pt x="22" y="249"/>
                    </a:lnTo>
                    <a:lnTo>
                      <a:pt x="25" y="288"/>
                    </a:lnTo>
                    <a:lnTo>
                      <a:pt x="28" y="325"/>
                    </a:lnTo>
                    <a:lnTo>
                      <a:pt x="31" y="362"/>
                    </a:lnTo>
                    <a:lnTo>
                      <a:pt x="34" y="397"/>
                    </a:lnTo>
                    <a:lnTo>
                      <a:pt x="37" y="430"/>
                    </a:lnTo>
                    <a:lnTo>
                      <a:pt x="38" y="446"/>
                    </a:lnTo>
                    <a:lnTo>
                      <a:pt x="39" y="461"/>
                    </a:lnTo>
                    <a:lnTo>
                      <a:pt x="41" y="475"/>
                    </a:lnTo>
                    <a:lnTo>
                      <a:pt x="42" y="488"/>
                    </a:lnTo>
                    <a:lnTo>
                      <a:pt x="44" y="500"/>
                    </a:lnTo>
                    <a:lnTo>
                      <a:pt x="45" y="51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1800360" y="4502160"/>
                <a:ext cx="71280" cy="274680"/>
              </a:xfrm>
              <a:custGeom>
                <a:avLst/>
                <a:gdLst/>
                <a:ahLst/>
                <a:rect l="l" t="t" r="r" b="b"/>
                <a:pathLst>
                  <a:path w="45" h="173">
                    <a:moveTo>
                      <a:pt x="0" y="0"/>
                    </a:moveTo>
                    <a:lnTo>
                      <a:pt x="5" y="33"/>
                    </a:lnTo>
                    <a:lnTo>
                      <a:pt x="11" y="62"/>
                    </a:lnTo>
                    <a:lnTo>
                      <a:pt x="17" y="88"/>
                    </a:lnTo>
                    <a:lnTo>
                      <a:pt x="20" y="100"/>
                    </a:lnTo>
                    <a:lnTo>
                      <a:pt x="23" y="113"/>
                    </a:lnTo>
                    <a:lnTo>
                      <a:pt x="26" y="123"/>
                    </a:lnTo>
                    <a:lnTo>
                      <a:pt x="29" y="133"/>
                    </a:lnTo>
                    <a:lnTo>
                      <a:pt x="32" y="142"/>
                    </a:lnTo>
                    <a:lnTo>
                      <a:pt x="35" y="150"/>
                    </a:lnTo>
                    <a:lnTo>
                      <a:pt x="38" y="157"/>
                    </a:lnTo>
                    <a:lnTo>
                      <a:pt x="40" y="164"/>
                    </a:lnTo>
                    <a:lnTo>
                      <a:pt x="43" y="169"/>
                    </a:lnTo>
                    <a:lnTo>
                      <a:pt x="45" y="17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871640" y="474984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17"/>
                    </a:moveTo>
                    <a:lnTo>
                      <a:pt x="4" y="22"/>
                    </a:lnTo>
                    <a:lnTo>
                      <a:pt x="10" y="25"/>
                    </a:lnTo>
                    <a:lnTo>
                      <a:pt x="16" y="25"/>
                    </a:lnTo>
                    <a:lnTo>
                      <a:pt x="22" y="23"/>
                    </a:lnTo>
                    <a:lnTo>
                      <a:pt x="29" y="20"/>
                    </a:lnTo>
                    <a:lnTo>
                      <a:pt x="35" y="14"/>
                    </a:lnTo>
                    <a:lnTo>
                      <a:pt x="41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1943280" y="4462560"/>
                <a:ext cx="71280" cy="28728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0" y="181"/>
                    </a:moveTo>
                    <a:lnTo>
                      <a:pt x="3" y="174"/>
                    </a:lnTo>
                    <a:lnTo>
                      <a:pt x="7" y="165"/>
                    </a:lnTo>
                    <a:lnTo>
                      <a:pt x="9" y="154"/>
                    </a:lnTo>
                    <a:lnTo>
                      <a:pt x="12" y="142"/>
                    </a:lnTo>
                    <a:lnTo>
                      <a:pt x="15" y="129"/>
                    </a:lnTo>
                    <a:lnTo>
                      <a:pt x="18" y="115"/>
                    </a:lnTo>
                    <a:lnTo>
                      <a:pt x="23" y="86"/>
                    </a:lnTo>
                    <a:lnTo>
                      <a:pt x="28" y="58"/>
                    </a:lnTo>
                    <a:lnTo>
                      <a:pt x="31" y="45"/>
                    </a:lnTo>
                    <a:lnTo>
                      <a:pt x="34" y="32"/>
                    </a:lnTo>
                    <a:lnTo>
                      <a:pt x="37" y="22"/>
                    </a:lnTo>
                    <a:lnTo>
                      <a:pt x="39" y="12"/>
                    </a:lnTo>
                    <a:lnTo>
                      <a:pt x="42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014560" y="445608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4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4" y="6"/>
                    </a:lnTo>
                    <a:lnTo>
                      <a:pt x="17" y="10"/>
                    </a:lnTo>
                    <a:lnTo>
                      <a:pt x="20" y="15"/>
                    </a:lnTo>
                    <a:lnTo>
                      <a:pt x="22" y="21"/>
                    </a:lnTo>
                    <a:lnTo>
                      <a:pt x="28" y="33"/>
                    </a:lnTo>
                    <a:lnTo>
                      <a:pt x="34" y="44"/>
                    </a:lnTo>
                    <a:lnTo>
                      <a:pt x="37" y="50"/>
                    </a:lnTo>
                    <a:lnTo>
                      <a:pt x="39" y="53"/>
                    </a:lnTo>
                    <a:lnTo>
                      <a:pt x="42" y="56"/>
                    </a:lnTo>
                    <a:lnTo>
                      <a:pt x="46" y="5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087640" y="450540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7"/>
                    </a:moveTo>
                    <a:lnTo>
                      <a:pt x="3" y="27"/>
                    </a:lnTo>
                    <a:lnTo>
                      <a:pt x="6" y="27"/>
                    </a:lnTo>
                    <a:lnTo>
                      <a:pt x="8" y="26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22" y="11"/>
                    </a:lnTo>
                    <a:lnTo>
                      <a:pt x="27" y="6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157480" y="4508640"/>
                <a:ext cx="73080" cy="156960"/>
              </a:xfrm>
              <a:custGeom>
                <a:avLst/>
                <a:gdLst/>
                <a:ahLst/>
                <a:rect l="l" t="t" r="r" b="b"/>
                <a:pathLst>
                  <a:path w="46" h="99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8" y="11"/>
                    </a:lnTo>
                    <a:lnTo>
                      <a:pt x="11" y="17"/>
                    </a:lnTo>
                    <a:lnTo>
                      <a:pt x="17" y="29"/>
                    </a:lnTo>
                    <a:lnTo>
                      <a:pt x="22" y="43"/>
                    </a:lnTo>
                    <a:lnTo>
                      <a:pt x="28" y="58"/>
                    </a:lnTo>
                    <a:lnTo>
                      <a:pt x="34" y="72"/>
                    </a:lnTo>
                    <a:lnTo>
                      <a:pt x="40" y="86"/>
                    </a:lnTo>
                    <a:lnTo>
                      <a:pt x="46" y="9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230560" y="4665600"/>
                <a:ext cx="69840" cy="1270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0" y="0"/>
                    </a:moveTo>
                    <a:lnTo>
                      <a:pt x="6" y="11"/>
                    </a:lnTo>
                    <a:lnTo>
                      <a:pt x="11" y="24"/>
                    </a:lnTo>
                    <a:lnTo>
                      <a:pt x="17" y="36"/>
                    </a:lnTo>
                    <a:lnTo>
                      <a:pt x="22" y="47"/>
                    </a:lnTo>
                    <a:lnTo>
                      <a:pt x="28" y="58"/>
                    </a:lnTo>
                    <a:lnTo>
                      <a:pt x="33" y="67"/>
                    </a:lnTo>
                    <a:lnTo>
                      <a:pt x="39" y="75"/>
                    </a:lnTo>
                    <a:lnTo>
                      <a:pt x="44" y="8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300400" y="476100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0"/>
                    </a:moveTo>
                    <a:lnTo>
                      <a:pt x="3" y="21"/>
                    </a:lnTo>
                    <a:lnTo>
                      <a:pt x="5" y="23"/>
                    </a:lnTo>
                    <a:lnTo>
                      <a:pt x="11" y="21"/>
                    </a:lnTo>
                    <a:lnTo>
                      <a:pt x="16" y="18"/>
                    </a:lnTo>
                    <a:lnTo>
                      <a:pt x="22" y="13"/>
                    </a:lnTo>
                    <a:lnTo>
                      <a:pt x="27" y="8"/>
                    </a:lnTo>
                    <a:lnTo>
                      <a:pt x="34" y="4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371680" y="4761000"/>
                <a:ext cx="7164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17" y="5"/>
                    </a:lnTo>
                    <a:lnTo>
                      <a:pt x="22" y="8"/>
                    </a:lnTo>
                    <a:lnTo>
                      <a:pt x="34" y="16"/>
                    </a:lnTo>
                    <a:lnTo>
                      <a:pt x="45" y="2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443320" y="4805280"/>
                <a:ext cx="71280" cy="1033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0"/>
                    </a:moveTo>
                    <a:lnTo>
                      <a:pt x="6" y="7"/>
                    </a:lnTo>
                    <a:lnTo>
                      <a:pt x="11" y="16"/>
                    </a:lnTo>
                    <a:lnTo>
                      <a:pt x="17" y="25"/>
                    </a:lnTo>
                    <a:lnTo>
                      <a:pt x="22" y="36"/>
                    </a:lnTo>
                    <a:lnTo>
                      <a:pt x="27" y="45"/>
                    </a:lnTo>
                    <a:lnTo>
                      <a:pt x="34" y="54"/>
                    </a:lnTo>
                    <a:lnTo>
                      <a:pt x="39" y="61"/>
                    </a:lnTo>
                    <a:lnTo>
                      <a:pt x="42" y="63"/>
                    </a:lnTo>
                    <a:lnTo>
                      <a:pt x="45" y="6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514600" y="487368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2"/>
                    </a:moveTo>
                    <a:lnTo>
                      <a:pt x="3" y="23"/>
                    </a:lnTo>
                    <a:lnTo>
                      <a:pt x="6" y="23"/>
                    </a:lnTo>
                    <a:lnTo>
                      <a:pt x="11" y="21"/>
                    </a:lnTo>
                    <a:lnTo>
                      <a:pt x="17" y="18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4" y="4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585880" y="487368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6" y="1"/>
                    </a:lnTo>
                    <a:lnTo>
                      <a:pt x="11" y="2"/>
                    </a:lnTo>
                    <a:lnTo>
                      <a:pt x="17" y="5"/>
                    </a:lnTo>
                    <a:lnTo>
                      <a:pt x="22" y="8"/>
                    </a:lnTo>
                    <a:lnTo>
                      <a:pt x="34" y="16"/>
                    </a:lnTo>
                    <a:lnTo>
                      <a:pt x="45" y="2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657520" y="491328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6" y="5"/>
                    </a:lnTo>
                    <a:lnTo>
                      <a:pt x="11" y="13"/>
                    </a:lnTo>
                    <a:lnTo>
                      <a:pt x="22" y="27"/>
                    </a:lnTo>
                    <a:lnTo>
                      <a:pt x="28" y="34"/>
                    </a:lnTo>
                    <a:lnTo>
                      <a:pt x="34" y="40"/>
                    </a:lnTo>
                    <a:lnTo>
                      <a:pt x="39" y="45"/>
                    </a:lnTo>
                    <a:lnTo>
                      <a:pt x="45" y="4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728800" y="4962600"/>
                <a:ext cx="7164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7"/>
                    </a:moveTo>
                    <a:lnTo>
                      <a:pt x="6" y="18"/>
                    </a:lnTo>
                    <a:lnTo>
                      <a:pt x="11" y="16"/>
                    </a:lnTo>
                    <a:lnTo>
                      <a:pt x="18" y="13"/>
                    </a:lnTo>
                    <a:lnTo>
                      <a:pt x="23" y="9"/>
                    </a:lnTo>
                    <a:lnTo>
                      <a:pt x="28" y="5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800440" y="4962600"/>
                <a:ext cx="71280" cy="6192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17" y="11"/>
                    </a:lnTo>
                    <a:lnTo>
                      <a:pt x="22" y="16"/>
                    </a:lnTo>
                    <a:lnTo>
                      <a:pt x="34" y="28"/>
                    </a:lnTo>
                    <a:lnTo>
                      <a:pt x="39" y="34"/>
                    </a:lnTo>
                    <a:lnTo>
                      <a:pt x="45" y="3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871720" y="5024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0"/>
                    </a:moveTo>
                    <a:lnTo>
                      <a:pt x="11" y="10"/>
                    </a:lnTo>
                    <a:lnTo>
                      <a:pt x="23" y="21"/>
                    </a:lnTo>
                    <a:lnTo>
                      <a:pt x="28" y="27"/>
                    </a:lnTo>
                    <a:lnTo>
                      <a:pt x="34" y="32"/>
                    </a:lnTo>
                    <a:lnTo>
                      <a:pt x="39" y="35"/>
                    </a:lnTo>
                    <a:lnTo>
                      <a:pt x="45" y="3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943360" y="5060880"/>
                <a:ext cx="7128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14"/>
                    </a:moveTo>
                    <a:lnTo>
                      <a:pt x="6" y="14"/>
                    </a:lnTo>
                    <a:lnTo>
                      <a:pt x="11" y="13"/>
                    </a:lnTo>
                    <a:lnTo>
                      <a:pt x="17" y="11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4" y="3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014640" y="506088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23" y="8"/>
                    </a:lnTo>
                    <a:lnTo>
                      <a:pt x="34" y="14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086280" y="509436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0"/>
                    </a:moveTo>
                    <a:lnTo>
                      <a:pt x="6" y="4"/>
                    </a:lnTo>
                    <a:lnTo>
                      <a:pt x="11" y="9"/>
                    </a:lnTo>
                    <a:lnTo>
                      <a:pt x="22" y="19"/>
                    </a:lnTo>
                    <a:lnTo>
                      <a:pt x="28" y="25"/>
                    </a:lnTo>
                    <a:lnTo>
                      <a:pt x="34" y="29"/>
                    </a:lnTo>
                    <a:lnTo>
                      <a:pt x="39" y="33"/>
                    </a:lnTo>
                    <a:lnTo>
                      <a:pt x="45" y="3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157560" y="513072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2"/>
                    </a:moveTo>
                    <a:lnTo>
                      <a:pt x="7" y="13"/>
                    </a:lnTo>
                    <a:lnTo>
                      <a:pt x="12" y="12"/>
                    </a:lnTo>
                    <a:lnTo>
                      <a:pt x="18" y="10"/>
                    </a:lnTo>
                    <a:lnTo>
                      <a:pt x="23" y="7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28840" y="513072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0"/>
                    </a:moveTo>
                    <a:lnTo>
                      <a:pt x="6" y="1"/>
                    </a:lnTo>
                    <a:lnTo>
                      <a:pt x="11" y="2"/>
                    </a:lnTo>
                    <a:lnTo>
                      <a:pt x="22" y="6"/>
                    </a:lnTo>
                    <a:lnTo>
                      <a:pt x="34" y="11"/>
                    </a:lnTo>
                    <a:lnTo>
                      <a:pt x="46" y="1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301920" y="515628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0" y="0"/>
                    </a:moveTo>
                    <a:lnTo>
                      <a:pt x="11" y="5"/>
                    </a:lnTo>
                    <a:lnTo>
                      <a:pt x="22" y="11"/>
                    </a:lnTo>
                    <a:lnTo>
                      <a:pt x="33" y="16"/>
                    </a:lnTo>
                    <a:lnTo>
                      <a:pt x="38" y="18"/>
                    </a:lnTo>
                    <a:lnTo>
                      <a:pt x="44" y="1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371760" y="5173560"/>
                <a:ext cx="73080" cy="1296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8"/>
                    </a:moveTo>
                    <a:lnTo>
                      <a:pt x="6" y="8"/>
                    </a:lnTo>
                    <a:lnTo>
                      <a:pt x="11" y="7"/>
                    </a:lnTo>
                    <a:lnTo>
                      <a:pt x="22" y="4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444840" y="517356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3" y="12"/>
                    </a:lnTo>
                    <a:lnTo>
                      <a:pt x="44" y="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14680" y="520236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22" y="8"/>
                    </a:lnTo>
                    <a:lnTo>
                      <a:pt x="34" y="11"/>
                    </a:lnTo>
                    <a:lnTo>
                      <a:pt x="45" y="1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586320" y="52182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657600" y="521820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728880" y="5230800"/>
                <a:ext cx="71640" cy="1764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34" y="9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800520" y="524196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1" y="4"/>
                    </a:lnTo>
                    <a:lnTo>
                      <a:pt x="23" y="2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871800" y="5241960"/>
                <a:ext cx="7164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0"/>
                    </a:moveTo>
                    <a:lnTo>
                      <a:pt x="11" y="2"/>
                    </a:lnTo>
                    <a:lnTo>
                      <a:pt x="22" y="6"/>
                    </a:lnTo>
                    <a:lnTo>
                      <a:pt x="34" y="10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943440" y="5264280"/>
                <a:ext cx="7128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23" y="6"/>
                    </a:lnTo>
                    <a:lnTo>
                      <a:pt x="34" y="8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014720" y="5275440"/>
                <a:ext cx="7164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086360" y="52754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157640" y="527688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4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229280" y="528156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2" y="3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300560" y="528156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4" y="8"/>
                    </a:lnTo>
                    <a:lnTo>
                      <a:pt x="46" y="1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373640" y="529920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22" y="3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443480" y="530208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516560" y="53006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586400" y="530064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5" y="3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659480" y="530064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729320" y="5300640"/>
                <a:ext cx="72720" cy="1260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35" y="6"/>
                    </a:lnTo>
                    <a:lnTo>
                      <a:pt x="46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802040" y="53132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3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871880" y="531648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943520" y="53164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4" y="4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014800" y="532440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086440" y="53244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157720" y="5324400"/>
                <a:ext cx="7164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3" y="3"/>
                    </a:lnTo>
                    <a:lnTo>
                      <a:pt x="34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229360" y="53341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300640" y="533232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372280" y="533232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4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443560" y="53355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514840" y="53341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587920" y="53341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57760" y="53341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30840" y="53323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800680" y="533232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5" y="2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873760" y="533556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943600" y="53341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016680" y="533412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086520" y="534024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3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159600" y="53388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229440" y="53388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300720" y="53388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372360" y="53370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443640" y="533700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515280" y="53370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586560" y="533412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2" y="1"/>
                    </a:lnTo>
                    <a:lnTo>
                      <a:pt x="34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659640" y="533412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729480" y="534024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802560" y="53370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7" name=""/>
            <p:cNvGrpSpPr/>
            <p:nvPr/>
          </p:nvGrpSpPr>
          <p:grpSpPr>
            <a:xfrm>
              <a:off x="1014480" y="3763800"/>
              <a:ext cx="7072200" cy="1600200"/>
              <a:chOff x="1014480" y="3763800"/>
              <a:chExt cx="7072200" cy="1600200"/>
            </a:xfrm>
          </p:grpSpPr>
          <p:sp>
            <p:nvSpPr>
              <p:cNvPr id="3008" name=""/>
              <p:cNvSpPr/>
              <p:nvPr/>
            </p:nvSpPr>
            <p:spPr>
              <a:xfrm>
                <a:off x="6872400" y="533700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5" y="3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945480" y="534348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015320" y="534204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088040" y="53420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157880" y="533880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230960" y="533700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300800" y="5337000"/>
                <a:ext cx="73080" cy="504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11" y="1"/>
                    </a:lnTo>
                    <a:lnTo>
                      <a:pt x="23" y="2"/>
                    </a:lnTo>
                    <a:lnTo>
                      <a:pt x="35" y="3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373880" y="53388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443720" y="533556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3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515360" y="533556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4" y="4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586640" y="534204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658280" y="53402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729560" y="5340240"/>
                <a:ext cx="71280" cy="18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00840" y="534024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873920" y="53370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43760" y="533700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4" y="3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016840" y="53420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1014480" y="53481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3" y="1"/>
                    </a:lnTo>
                    <a:lnTo>
                      <a:pt x="9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1085760" y="4770360"/>
                <a:ext cx="71640" cy="577800"/>
              </a:xfrm>
              <a:custGeom>
                <a:avLst/>
                <a:gdLst/>
                <a:ahLst/>
                <a:rect l="l" t="t" r="r" b="b"/>
                <a:pathLst>
                  <a:path w="45" h="364">
                    <a:moveTo>
                      <a:pt x="0" y="364"/>
                    </a:moveTo>
                    <a:lnTo>
                      <a:pt x="1" y="358"/>
                    </a:lnTo>
                    <a:lnTo>
                      <a:pt x="3" y="350"/>
                    </a:lnTo>
                    <a:lnTo>
                      <a:pt x="4" y="342"/>
                    </a:lnTo>
                    <a:lnTo>
                      <a:pt x="6" y="333"/>
                    </a:lnTo>
                    <a:lnTo>
                      <a:pt x="7" y="323"/>
                    </a:lnTo>
                    <a:lnTo>
                      <a:pt x="8" y="313"/>
                    </a:lnTo>
                    <a:lnTo>
                      <a:pt x="11" y="290"/>
                    </a:lnTo>
                    <a:lnTo>
                      <a:pt x="14" y="265"/>
                    </a:lnTo>
                    <a:lnTo>
                      <a:pt x="17" y="239"/>
                    </a:lnTo>
                    <a:lnTo>
                      <a:pt x="19" y="211"/>
                    </a:lnTo>
                    <a:lnTo>
                      <a:pt x="22" y="183"/>
                    </a:lnTo>
                    <a:lnTo>
                      <a:pt x="25" y="155"/>
                    </a:lnTo>
                    <a:lnTo>
                      <a:pt x="27" y="127"/>
                    </a:lnTo>
                    <a:lnTo>
                      <a:pt x="30" y="101"/>
                    </a:lnTo>
                    <a:lnTo>
                      <a:pt x="33" y="75"/>
                    </a:lnTo>
                    <a:lnTo>
                      <a:pt x="37" y="52"/>
                    </a:lnTo>
                    <a:lnTo>
                      <a:pt x="38" y="42"/>
                    </a:lnTo>
                    <a:lnTo>
                      <a:pt x="39" y="32"/>
                    </a:lnTo>
                    <a:lnTo>
                      <a:pt x="41" y="23"/>
                    </a:lnTo>
                    <a:lnTo>
                      <a:pt x="42" y="14"/>
                    </a:lnTo>
                    <a:lnTo>
                      <a:pt x="4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1157400" y="474336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7"/>
                    </a:moveTo>
                    <a:lnTo>
                      <a:pt x="1" y="13"/>
                    </a:lnTo>
                    <a:lnTo>
                      <a:pt x="3" y="10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5" y="6"/>
                    </a:lnTo>
                    <a:lnTo>
                      <a:pt x="22" y="6"/>
                    </a:lnTo>
                    <a:lnTo>
                      <a:pt x="30" y="7"/>
                    </a:lnTo>
                    <a:lnTo>
                      <a:pt x="36" y="7"/>
                    </a:lnTo>
                    <a:lnTo>
                      <a:pt x="42" y="5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1228680" y="4330800"/>
                <a:ext cx="71640" cy="412560"/>
              </a:xfrm>
              <a:custGeom>
                <a:avLst/>
                <a:gdLst/>
                <a:ahLst/>
                <a:rect l="l" t="t" r="r" b="b"/>
                <a:pathLst>
                  <a:path w="45" h="260">
                    <a:moveTo>
                      <a:pt x="0" y="260"/>
                    </a:moveTo>
                    <a:lnTo>
                      <a:pt x="3" y="251"/>
                    </a:lnTo>
                    <a:lnTo>
                      <a:pt x="6" y="240"/>
                    </a:lnTo>
                    <a:lnTo>
                      <a:pt x="8" y="228"/>
                    </a:lnTo>
                    <a:lnTo>
                      <a:pt x="11" y="215"/>
                    </a:lnTo>
                    <a:lnTo>
                      <a:pt x="14" y="199"/>
                    </a:lnTo>
                    <a:lnTo>
                      <a:pt x="17" y="184"/>
                    </a:lnTo>
                    <a:lnTo>
                      <a:pt x="19" y="168"/>
                    </a:lnTo>
                    <a:lnTo>
                      <a:pt x="22" y="151"/>
                    </a:lnTo>
                    <a:lnTo>
                      <a:pt x="27" y="114"/>
                    </a:lnTo>
                    <a:lnTo>
                      <a:pt x="34" y="77"/>
                    </a:lnTo>
                    <a:lnTo>
                      <a:pt x="39" y="3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1300320" y="3778200"/>
                <a:ext cx="71280" cy="552600"/>
              </a:xfrm>
              <a:custGeom>
                <a:avLst/>
                <a:gdLst/>
                <a:ahLst/>
                <a:rect l="l" t="t" r="r" b="b"/>
                <a:pathLst>
                  <a:path w="45" h="348">
                    <a:moveTo>
                      <a:pt x="0" y="348"/>
                    </a:moveTo>
                    <a:lnTo>
                      <a:pt x="3" y="328"/>
                    </a:lnTo>
                    <a:lnTo>
                      <a:pt x="6" y="305"/>
                    </a:lnTo>
                    <a:lnTo>
                      <a:pt x="8" y="282"/>
                    </a:lnTo>
                    <a:lnTo>
                      <a:pt x="11" y="257"/>
                    </a:lnTo>
                    <a:lnTo>
                      <a:pt x="14" y="232"/>
                    </a:lnTo>
                    <a:lnTo>
                      <a:pt x="17" y="205"/>
                    </a:lnTo>
                    <a:lnTo>
                      <a:pt x="22" y="153"/>
                    </a:lnTo>
                    <a:lnTo>
                      <a:pt x="25" y="126"/>
                    </a:lnTo>
                    <a:lnTo>
                      <a:pt x="28" y="102"/>
                    </a:lnTo>
                    <a:lnTo>
                      <a:pt x="31" y="80"/>
                    </a:lnTo>
                    <a:lnTo>
                      <a:pt x="34" y="59"/>
                    </a:lnTo>
                    <a:lnTo>
                      <a:pt x="37" y="39"/>
                    </a:lnTo>
                    <a:lnTo>
                      <a:pt x="39" y="23"/>
                    </a:lnTo>
                    <a:lnTo>
                      <a:pt x="41" y="16"/>
                    </a:lnTo>
                    <a:lnTo>
                      <a:pt x="42" y="10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1371600" y="3763800"/>
                <a:ext cx="71280" cy="15084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9"/>
                    </a:moveTo>
                    <a:lnTo>
                      <a:pt x="2" y="4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3" y="4"/>
                    </a:lnTo>
                    <a:lnTo>
                      <a:pt x="16" y="9"/>
                    </a:lnTo>
                    <a:lnTo>
                      <a:pt x="19" y="14"/>
                    </a:lnTo>
                    <a:lnTo>
                      <a:pt x="22" y="21"/>
                    </a:lnTo>
                    <a:lnTo>
                      <a:pt x="26" y="29"/>
                    </a:lnTo>
                    <a:lnTo>
                      <a:pt x="29" y="38"/>
                    </a:lnTo>
                    <a:lnTo>
                      <a:pt x="35" y="56"/>
                    </a:lnTo>
                    <a:lnTo>
                      <a:pt x="40" y="77"/>
                    </a:lnTo>
                    <a:lnTo>
                      <a:pt x="45" y="9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1442880" y="3914640"/>
                <a:ext cx="71640" cy="425520"/>
              </a:xfrm>
              <a:custGeom>
                <a:avLst/>
                <a:gdLst/>
                <a:ahLst/>
                <a:rect l="l" t="t" r="r" b="b"/>
                <a:pathLst>
                  <a:path w="45" h="268">
                    <a:moveTo>
                      <a:pt x="0" y="0"/>
                    </a:moveTo>
                    <a:lnTo>
                      <a:pt x="1" y="6"/>
                    </a:lnTo>
                    <a:lnTo>
                      <a:pt x="3" y="13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8" y="47"/>
                    </a:lnTo>
                    <a:lnTo>
                      <a:pt x="11" y="68"/>
                    </a:lnTo>
                    <a:lnTo>
                      <a:pt x="14" y="90"/>
                    </a:lnTo>
                    <a:lnTo>
                      <a:pt x="17" y="113"/>
                    </a:lnTo>
                    <a:lnTo>
                      <a:pt x="20" y="137"/>
                    </a:lnTo>
                    <a:lnTo>
                      <a:pt x="22" y="160"/>
                    </a:lnTo>
                    <a:lnTo>
                      <a:pt x="25" y="182"/>
                    </a:lnTo>
                    <a:lnTo>
                      <a:pt x="28" y="202"/>
                    </a:lnTo>
                    <a:lnTo>
                      <a:pt x="31" y="222"/>
                    </a:lnTo>
                    <a:lnTo>
                      <a:pt x="32" y="231"/>
                    </a:lnTo>
                    <a:lnTo>
                      <a:pt x="34" y="238"/>
                    </a:lnTo>
                    <a:lnTo>
                      <a:pt x="35" y="245"/>
                    </a:lnTo>
                    <a:lnTo>
                      <a:pt x="37" y="252"/>
                    </a:lnTo>
                    <a:lnTo>
                      <a:pt x="38" y="257"/>
                    </a:lnTo>
                    <a:lnTo>
                      <a:pt x="39" y="261"/>
                    </a:lnTo>
                    <a:lnTo>
                      <a:pt x="41" y="265"/>
                    </a:lnTo>
                    <a:lnTo>
                      <a:pt x="42" y="267"/>
                    </a:lnTo>
                    <a:lnTo>
                      <a:pt x="44" y="268"/>
                    </a:lnTo>
                    <a:lnTo>
                      <a:pt x="45" y="26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1514520" y="3832200"/>
                <a:ext cx="71280" cy="507960"/>
              </a:xfrm>
              <a:custGeom>
                <a:avLst/>
                <a:gdLst/>
                <a:ahLst/>
                <a:rect l="l" t="t" r="r" b="b"/>
                <a:pathLst>
                  <a:path w="45" h="320">
                    <a:moveTo>
                      <a:pt x="0" y="320"/>
                    </a:moveTo>
                    <a:lnTo>
                      <a:pt x="1" y="318"/>
                    </a:lnTo>
                    <a:lnTo>
                      <a:pt x="3" y="315"/>
                    </a:lnTo>
                    <a:lnTo>
                      <a:pt x="4" y="311"/>
                    </a:lnTo>
                    <a:lnTo>
                      <a:pt x="6" y="305"/>
                    </a:lnTo>
                    <a:lnTo>
                      <a:pt x="7" y="298"/>
                    </a:lnTo>
                    <a:lnTo>
                      <a:pt x="8" y="290"/>
                    </a:lnTo>
                    <a:lnTo>
                      <a:pt x="10" y="280"/>
                    </a:lnTo>
                    <a:lnTo>
                      <a:pt x="11" y="269"/>
                    </a:lnTo>
                    <a:lnTo>
                      <a:pt x="12" y="258"/>
                    </a:lnTo>
                    <a:lnTo>
                      <a:pt x="14" y="246"/>
                    </a:lnTo>
                    <a:lnTo>
                      <a:pt x="17" y="221"/>
                    </a:lnTo>
                    <a:lnTo>
                      <a:pt x="19" y="194"/>
                    </a:lnTo>
                    <a:lnTo>
                      <a:pt x="23" y="165"/>
                    </a:lnTo>
                    <a:lnTo>
                      <a:pt x="26" y="137"/>
                    </a:lnTo>
                    <a:lnTo>
                      <a:pt x="28" y="110"/>
                    </a:lnTo>
                    <a:lnTo>
                      <a:pt x="31" y="83"/>
                    </a:lnTo>
                    <a:lnTo>
                      <a:pt x="34" y="59"/>
                    </a:lnTo>
                    <a:lnTo>
                      <a:pt x="35" y="48"/>
                    </a:lnTo>
                    <a:lnTo>
                      <a:pt x="37" y="38"/>
                    </a:lnTo>
                    <a:lnTo>
                      <a:pt x="38" y="29"/>
                    </a:lnTo>
                    <a:lnTo>
                      <a:pt x="39" y="21"/>
                    </a:lnTo>
                    <a:lnTo>
                      <a:pt x="41" y="13"/>
                    </a:lnTo>
                    <a:lnTo>
                      <a:pt x="42" y="7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1585800" y="3828960"/>
                <a:ext cx="71640" cy="29232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8" y="8"/>
                    </a:lnTo>
                    <a:lnTo>
                      <a:pt x="10" y="12"/>
                    </a:lnTo>
                    <a:lnTo>
                      <a:pt x="11" y="17"/>
                    </a:lnTo>
                    <a:lnTo>
                      <a:pt x="14" y="30"/>
                    </a:lnTo>
                    <a:lnTo>
                      <a:pt x="17" y="44"/>
                    </a:lnTo>
                    <a:lnTo>
                      <a:pt x="20" y="59"/>
                    </a:lnTo>
                    <a:lnTo>
                      <a:pt x="22" y="76"/>
                    </a:lnTo>
                    <a:lnTo>
                      <a:pt x="28" y="111"/>
                    </a:lnTo>
                    <a:lnTo>
                      <a:pt x="31" y="128"/>
                    </a:lnTo>
                    <a:lnTo>
                      <a:pt x="34" y="143"/>
                    </a:lnTo>
                    <a:lnTo>
                      <a:pt x="37" y="157"/>
                    </a:lnTo>
                    <a:lnTo>
                      <a:pt x="39" y="169"/>
                    </a:lnTo>
                    <a:lnTo>
                      <a:pt x="41" y="174"/>
                    </a:lnTo>
                    <a:lnTo>
                      <a:pt x="42" y="178"/>
                    </a:lnTo>
                    <a:lnTo>
                      <a:pt x="44" y="181"/>
                    </a:lnTo>
                    <a:lnTo>
                      <a:pt x="45" y="18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1657440" y="4051440"/>
                <a:ext cx="71280" cy="7596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44"/>
                    </a:moveTo>
                    <a:lnTo>
                      <a:pt x="3" y="47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8" y="38"/>
                    </a:lnTo>
                    <a:lnTo>
                      <a:pt x="23" y="28"/>
                    </a:lnTo>
                    <a:lnTo>
                      <a:pt x="28" y="17"/>
                    </a:lnTo>
                    <a:lnTo>
                      <a:pt x="31" y="12"/>
                    </a:lnTo>
                    <a:lnTo>
                      <a:pt x="34" y="7"/>
                    </a:lnTo>
                    <a:lnTo>
                      <a:pt x="37" y="4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1728720" y="4052880"/>
                <a:ext cx="71640" cy="155520"/>
              </a:xfrm>
              <a:custGeom>
                <a:avLst/>
                <a:gdLst/>
                <a:ahLst/>
                <a:rect l="l" t="t" r="r" b="b"/>
                <a:pathLst>
                  <a:path w="45" h="98">
                    <a:moveTo>
                      <a:pt x="0" y="0"/>
                    </a:moveTo>
                    <a:lnTo>
                      <a:pt x="6" y="5"/>
                    </a:lnTo>
                    <a:lnTo>
                      <a:pt x="11" y="12"/>
                    </a:lnTo>
                    <a:lnTo>
                      <a:pt x="17" y="22"/>
                    </a:lnTo>
                    <a:lnTo>
                      <a:pt x="22" y="34"/>
                    </a:lnTo>
                    <a:lnTo>
                      <a:pt x="28" y="47"/>
                    </a:lnTo>
                    <a:lnTo>
                      <a:pt x="34" y="64"/>
                    </a:lnTo>
                    <a:lnTo>
                      <a:pt x="39" y="80"/>
                    </a:lnTo>
                    <a:lnTo>
                      <a:pt x="45" y="9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1800360" y="4208400"/>
                <a:ext cx="71280" cy="309600"/>
              </a:xfrm>
              <a:custGeom>
                <a:avLst/>
                <a:gdLst/>
                <a:ahLst/>
                <a:rect l="l" t="t" r="r" b="b"/>
                <a:pathLst>
                  <a:path w="45" h="195">
                    <a:moveTo>
                      <a:pt x="0" y="0"/>
                    </a:moveTo>
                    <a:lnTo>
                      <a:pt x="3" y="10"/>
                    </a:lnTo>
                    <a:lnTo>
                      <a:pt x="6" y="21"/>
                    </a:lnTo>
                    <a:lnTo>
                      <a:pt x="8" y="33"/>
                    </a:lnTo>
                    <a:lnTo>
                      <a:pt x="12" y="48"/>
                    </a:lnTo>
                    <a:lnTo>
                      <a:pt x="18" y="76"/>
                    </a:lnTo>
                    <a:lnTo>
                      <a:pt x="23" y="106"/>
                    </a:lnTo>
                    <a:lnTo>
                      <a:pt x="28" y="135"/>
                    </a:lnTo>
                    <a:lnTo>
                      <a:pt x="31" y="148"/>
                    </a:lnTo>
                    <a:lnTo>
                      <a:pt x="34" y="160"/>
                    </a:lnTo>
                    <a:lnTo>
                      <a:pt x="37" y="171"/>
                    </a:lnTo>
                    <a:lnTo>
                      <a:pt x="39" y="181"/>
                    </a:lnTo>
                    <a:lnTo>
                      <a:pt x="42" y="189"/>
                    </a:lnTo>
                    <a:lnTo>
                      <a:pt x="45" y="19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1871640" y="4467240"/>
                <a:ext cx="71640" cy="6336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32"/>
                    </a:moveTo>
                    <a:lnTo>
                      <a:pt x="3" y="36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0"/>
                    </a:lnTo>
                    <a:lnTo>
                      <a:pt x="14" y="37"/>
                    </a:lnTo>
                    <a:lnTo>
                      <a:pt x="17" y="35"/>
                    </a:lnTo>
                    <a:lnTo>
                      <a:pt x="22" y="29"/>
                    </a:lnTo>
                    <a:lnTo>
                      <a:pt x="28" y="21"/>
                    </a:lnTo>
                    <a:lnTo>
                      <a:pt x="34" y="13"/>
                    </a:lnTo>
                    <a:lnTo>
                      <a:pt x="40" y="6"/>
                    </a:lnTo>
                    <a:lnTo>
                      <a:pt x="4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1943280" y="43959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5"/>
                    </a:moveTo>
                    <a:lnTo>
                      <a:pt x="7" y="39"/>
                    </a:lnTo>
                    <a:lnTo>
                      <a:pt x="12" y="32"/>
                    </a:lnTo>
                    <a:lnTo>
                      <a:pt x="18" y="23"/>
                    </a:lnTo>
                    <a:lnTo>
                      <a:pt x="23" y="15"/>
                    </a:lnTo>
                    <a:lnTo>
                      <a:pt x="28" y="8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2014560" y="4400640"/>
                <a:ext cx="73080" cy="183960"/>
              </a:xfrm>
              <a:custGeom>
                <a:avLst/>
                <a:gdLst/>
                <a:ahLst/>
                <a:rect l="l" t="t" r="r" b="b"/>
                <a:pathLst>
                  <a:path w="46" h="116">
                    <a:moveTo>
                      <a:pt x="0" y="0"/>
                    </a:moveTo>
                    <a:lnTo>
                      <a:pt x="3" y="3"/>
                    </a:lnTo>
                    <a:lnTo>
                      <a:pt x="6" y="8"/>
                    </a:lnTo>
                    <a:lnTo>
                      <a:pt x="8" y="14"/>
                    </a:lnTo>
                    <a:lnTo>
                      <a:pt x="11" y="21"/>
                    </a:lnTo>
                    <a:lnTo>
                      <a:pt x="14" y="29"/>
                    </a:lnTo>
                    <a:lnTo>
                      <a:pt x="17" y="38"/>
                    </a:lnTo>
                    <a:lnTo>
                      <a:pt x="22" y="56"/>
                    </a:lnTo>
                    <a:lnTo>
                      <a:pt x="28" y="75"/>
                    </a:lnTo>
                    <a:lnTo>
                      <a:pt x="31" y="85"/>
                    </a:lnTo>
                    <a:lnTo>
                      <a:pt x="34" y="93"/>
                    </a:lnTo>
                    <a:lnTo>
                      <a:pt x="37" y="101"/>
                    </a:lnTo>
                    <a:lnTo>
                      <a:pt x="39" y="107"/>
                    </a:lnTo>
                    <a:lnTo>
                      <a:pt x="42" y="112"/>
                    </a:lnTo>
                    <a:lnTo>
                      <a:pt x="46" y="11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2087640" y="454500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5"/>
                    </a:moveTo>
                    <a:lnTo>
                      <a:pt x="3" y="27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1" y="27"/>
                    </a:lnTo>
                    <a:lnTo>
                      <a:pt x="14" y="25"/>
                    </a:lnTo>
                    <a:lnTo>
                      <a:pt x="17" y="22"/>
                    </a:lnTo>
                    <a:lnTo>
                      <a:pt x="22" y="16"/>
                    </a:lnTo>
                    <a:lnTo>
                      <a:pt x="27" y="10"/>
                    </a:lnTo>
                    <a:lnTo>
                      <a:pt x="33" y="4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2157480" y="4546440"/>
                <a:ext cx="73080" cy="100080"/>
              </a:xfrm>
              <a:custGeom>
                <a:avLst/>
                <a:gdLst/>
                <a:ahLst/>
                <a:rect l="l" t="t" r="r" b="b"/>
                <a:pathLst>
                  <a:path w="46" h="63">
                    <a:moveTo>
                      <a:pt x="0" y="0"/>
                    </a:moveTo>
                    <a:lnTo>
                      <a:pt x="6" y="4"/>
                    </a:lnTo>
                    <a:lnTo>
                      <a:pt x="11" y="9"/>
                    </a:lnTo>
                    <a:lnTo>
                      <a:pt x="17" y="16"/>
                    </a:lnTo>
                    <a:lnTo>
                      <a:pt x="22" y="25"/>
                    </a:lnTo>
                    <a:lnTo>
                      <a:pt x="28" y="34"/>
                    </a:lnTo>
                    <a:lnTo>
                      <a:pt x="34" y="44"/>
                    </a:lnTo>
                    <a:lnTo>
                      <a:pt x="46" y="6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2230560" y="4646520"/>
                <a:ext cx="69840" cy="13356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0" y="0"/>
                    </a:moveTo>
                    <a:lnTo>
                      <a:pt x="6" y="11"/>
                    </a:lnTo>
                    <a:lnTo>
                      <a:pt x="11" y="23"/>
                    </a:lnTo>
                    <a:lnTo>
                      <a:pt x="17" y="35"/>
                    </a:lnTo>
                    <a:lnTo>
                      <a:pt x="22" y="48"/>
                    </a:lnTo>
                    <a:lnTo>
                      <a:pt x="28" y="60"/>
                    </a:lnTo>
                    <a:lnTo>
                      <a:pt x="33" y="70"/>
                    </a:lnTo>
                    <a:lnTo>
                      <a:pt x="39" y="79"/>
                    </a:lnTo>
                    <a:lnTo>
                      <a:pt x="41" y="82"/>
                    </a:lnTo>
                    <a:lnTo>
                      <a:pt x="44" y="8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2300400" y="4745160"/>
                <a:ext cx="7128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22"/>
                    </a:moveTo>
                    <a:lnTo>
                      <a:pt x="3" y="23"/>
                    </a:lnTo>
                    <a:lnTo>
                      <a:pt x="5" y="24"/>
                    </a:lnTo>
                    <a:lnTo>
                      <a:pt x="11" y="23"/>
                    </a:lnTo>
                    <a:lnTo>
                      <a:pt x="16" y="20"/>
                    </a:lnTo>
                    <a:lnTo>
                      <a:pt x="22" y="15"/>
                    </a:lnTo>
                    <a:lnTo>
                      <a:pt x="27" y="10"/>
                    </a:lnTo>
                    <a:lnTo>
                      <a:pt x="34" y="6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2371680" y="474336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39" y="7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2443320" y="476244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45" h="74">
                    <a:moveTo>
                      <a:pt x="0" y="0"/>
                    </a:moveTo>
                    <a:lnTo>
                      <a:pt x="3" y="3"/>
                    </a:lnTo>
                    <a:lnTo>
                      <a:pt x="6" y="7"/>
                    </a:lnTo>
                    <a:lnTo>
                      <a:pt x="11" y="16"/>
                    </a:lnTo>
                    <a:lnTo>
                      <a:pt x="17" y="28"/>
                    </a:lnTo>
                    <a:lnTo>
                      <a:pt x="22" y="40"/>
                    </a:lnTo>
                    <a:lnTo>
                      <a:pt x="27" y="51"/>
                    </a:lnTo>
                    <a:lnTo>
                      <a:pt x="34" y="61"/>
                    </a:lnTo>
                    <a:lnTo>
                      <a:pt x="37" y="66"/>
                    </a:lnTo>
                    <a:lnTo>
                      <a:pt x="39" y="69"/>
                    </a:lnTo>
                    <a:lnTo>
                      <a:pt x="42" y="72"/>
                    </a:lnTo>
                    <a:lnTo>
                      <a:pt x="45" y="7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2514600" y="483876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6"/>
                    </a:moveTo>
                    <a:lnTo>
                      <a:pt x="3" y="27"/>
                    </a:lnTo>
                    <a:lnTo>
                      <a:pt x="6" y="2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17" y="20"/>
                    </a:lnTo>
                    <a:lnTo>
                      <a:pt x="22" y="14"/>
                    </a:lnTo>
                    <a:lnTo>
                      <a:pt x="28" y="8"/>
                    </a:lnTo>
                    <a:lnTo>
                      <a:pt x="34" y="3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2585880" y="4838760"/>
                <a:ext cx="71640" cy="81000"/>
              </a:xfrm>
              <a:custGeom>
                <a:avLst/>
                <a:gdLst/>
                <a:ahLst/>
                <a:rect l="l" t="t" r="r" b="b"/>
                <a:pathLst>
                  <a:path w="45" h="51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17" y="14"/>
                    </a:lnTo>
                    <a:lnTo>
                      <a:pt x="22" y="21"/>
                    </a:lnTo>
                    <a:lnTo>
                      <a:pt x="34" y="37"/>
                    </a:lnTo>
                    <a:lnTo>
                      <a:pt x="39" y="44"/>
                    </a:lnTo>
                    <a:lnTo>
                      <a:pt x="45" y="5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2657520" y="4919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0"/>
                    </a:moveTo>
                    <a:lnTo>
                      <a:pt x="11" y="14"/>
                    </a:lnTo>
                    <a:lnTo>
                      <a:pt x="22" y="27"/>
                    </a:lnTo>
                    <a:lnTo>
                      <a:pt x="28" y="33"/>
                    </a:lnTo>
                    <a:lnTo>
                      <a:pt x="34" y="38"/>
                    </a:lnTo>
                    <a:lnTo>
                      <a:pt x="39" y="42"/>
                    </a:lnTo>
                    <a:lnTo>
                      <a:pt x="45" y="4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728800" y="4968720"/>
                <a:ext cx="71640" cy="2412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4"/>
                    </a:moveTo>
                    <a:lnTo>
                      <a:pt x="6" y="15"/>
                    </a:lnTo>
                    <a:lnTo>
                      <a:pt x="11" y="14"/>
                    </a:lnTo>
                    <a:lnTo>
                      <a:pt x="18" y="12"/>
                    </a:lnTo>
                    <a:lnTo>
                      <a:pt x="23" y="10"/>
                    </a:lnTo>
                    <a:lnTo>
                      <a:pt x="34" y="4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2800440" y="496260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1" y="2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871720" y="4967280"/>
                <a:ext cx="71640" cy="6336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0"/>
                    </a:moveTo>
                    <a:lnTo>
                      <a:pt x="6" y="3"/>
                    </a:lnTo>
                    <a:lnTo>
                      <a:pt x="11" y="8"/>
                    </a:lnTo>
                    <a:lnTo>
                      <a:pt x="18" y="14"/>
                    </a:lnTo>
                    <a:lnTo>
                      <a:pt x="23" y="21"/>
                    </a:lnTo>
                    <a:lnTo>
                      <a:pt x="28" y="27"/>
                    </a:lnTo>
                    <a:lnTo>
                      <a:pt x="34" y="33"/>
                    </a:lnTo>
                    <a:lnTo>
                      <a:pt x="39" y="37"/>
                    </a:lnTo>
                    <a:lnTo>
                      <a:pt x="45" y="4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943360" y="501156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2"/>
                    </a:moveTo>
                    <a:lnTo>
                      <a:pt x="6" y="13"/>
                    </a:lnTo>
                    <a:lnTo>
                      <a:pt x="11" y="11"/>
                    </a:lnTo>
                    <a:lnTo>
                      <a:pt x="17" y="9"/>
                    </a:lnTo>
                    <a:lnTo>
                      <a:pt x="22" y="6"/>
                    </a:lnTo>
                    <a:lnTo>
                      <a:pt x="28" y="3"/>
                    </a:lnTo>
                    <a:lnTo>
                      <a:pt x="34" y="1"/>
                    </a:lnTo>
                    <a:lnTo>
                      <a:pt x="39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014640" y="5013360"/>
                <a:ext cx="7164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8" y="14"/>
                    </a:lnTo>
                    <a:lnTo>
                      <a:pt x="23" y="20"/>
                    </a:lnTo>
                    <a:lnTo>
                      <a:pt x="34" y="35"/>
                    </a:lnTo>
                    <a:lnTo>
                      <a:pt x="39" y="42"/>
                    </a:lnTo>
                    <a:lnTo>
                      <a:pt x="45" y="4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086280" y="508788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0"/>
                    </a:moveTo>
                    <a:lnTo>
                      <a:pt x="11" y="10"/>
                    </a:lnTo>
                    <a:lnTo>
                      <a:pt x="22" y="18"/>
                    </a:lnTo>
                    <a:lnTo>
                      <a:pt x="34" y="26"/>
                    </a:lnTo>
                    <a:lnTo>
                      <a:pt x="39" y="28"/>
                    </a:lnTo>
                    <a:lnTo>
                      <a:pt x="45" y="3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157560" y="51213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9"/>
                    </a:moveTo>
                    <a:lnTo>
                      <a:pt x="7" y="10"/>
                    </a:lnTo>
                    <a:lnTo>
                      <a:pt x="12" y="9"/>
                    </a:lnTo>
                    <a:lnTo>
                      <a:pt x="18" y="8"/>
                    </a:lnTo>
                    <a:lnTo>
                      <a:pt x="23" y="6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228840" y="511956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1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301920" y="512280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0"/>
                    </a:moveTo>
                    <a:lnTo>
                      <a:pt x="6" y="2"/>
                    </a:lnTo>
                    <a:lnTo>
                      <a:pt x="11" y="4"/>
                    </a:lnTo>
                    <a:lnTo>
                      <a:pt x="22" y="11"/>
                    </a:lnTo>
                    <a:lnTo>
                      <a:pt x="33" y="17"/>
                    </a:lnTo>
                    <a:lnTo>
                      <a:pt x="38" y="20"/>
                    </a:lnTo>
                    <a:lnTo>
                      <a:pt x="44" y="2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371760" y="514512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7"/>
                    </a:moveTo>
                    <a:lnTo>
                      <a:pt x="6" y="7"/>
                    </a:lnTo>
                    <a:lnTo>
                      <a:pt x="11" y="7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444840" y="51465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22" y="13"/>
                    </a:lnTo>
                    <a:lnTo>
                      <a:pt x="33" y="22"/>
                    </a:lnTo>
                    <a:lnTo>
                      <a:pt x="39" y="26"/>
                    </a:lnTo>
                    <a:lnTo>
                      <a:pt x="44" y="2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514680" y="519264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1" y="6"/>
                    </a:lnTo>
                    <a:lnTo>
                      <a:pt x="22" y="11"/>
                    </a:lnTo>
                    <a:lnTo>
                      <a:pt x="34" y="15"/>
                    </a:lnTo>
                    <a:lnTo>
                      <a:pt x="45" y="1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586320" y="521172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5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22" y="3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657600" y="521172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28880" y="521496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00520" y="522144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6" y="6"/>
                    </a:lnTo>
                    <a:lnTo>
                      <a:pt x="11" y="5"/>
                    </a:lnTo>
                    <a:lnTo>
                      <a:pt x="23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871800" y="5221440"/>
                <a:ext cx="7164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4" y="12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943440" y="524664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23" y="5"/>
                    </a:lnTo>
                    <a:lnTo>
                      <a:pt x="34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014720" y="52531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2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86360" y="525312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1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157640" y="525924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4" y="8"/>
                    </a:lnTo>
                    <a:lnTo>
                      <a:pt x="45" y="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229280" y="526428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12" y="5"/>
                    </a:lnTo>
                    <a:lnTo>
                      <a:pt x="23" y="3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300560" y="5264280"/>
                <a:ext cx="73080" cy="1404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34" y="6"/>
                    </a:lnTo>
                    <a:lnTo>
                      <a:pt x="46" y="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373640" y="527832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0"/>
                    </a:moveTo>
                    <a:lnTo>
                      <a:pt x="11" y="3"/>
                    </a:lnTo>
                    <a:lnTo>
                      <a:pt x="22" y="6"/>
                    </a:lnTo>
                    <a:lnTo>
                      <a:pt x="33" y="8"/>
                    </a:lnTo>
                    <a:lnTo>
                      <a:pt x="44" y="1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443480" y="529128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516560" y="52912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586400" y="529596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22" y="2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659480" y="53006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729320" y="5300640"/>
                <a:ext cx="7272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22" y="1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802040" y="530532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871880" y="531504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943520" y="53132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014800" y="531324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086440" y="53118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11" y="1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157720" y="531180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1" y="2"/>
                    </a:lnTo>
                    <a:lnTo>
                      <a:pt x="23" y="5"/>
                    </a:lnTo>
                    <a:lnTo>
                      <a:pt x="34" y="9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229360" y="53290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300640" y="5326200"/>
                <a:ext cx="7164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372280" y="532620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11" y="2"/>
                    </a:lnTo>
                    <a:lnTo>
                      <a:pt x="22" y="2"/>
                    </a:lnTo>
                    <a:lnTo>
                      <a:pt x="34" y="3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443560" y="53308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514840" y="532440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587920" y="532440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657760" y="533232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730840" y="532908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800680" y="532908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5" y="4"/>
                    </a:lnTo>
                    <a:lnTo>
                      <a:pt x="46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873760" y="5334120"/>
                <a:ext cx="69840" cy="28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943600" y="533088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016680" y="53308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086520" y="533880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159600" y="533556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229440" y="53355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300720" y="53355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372360" y="533232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443640" y="533232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4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515280" y="5334120"/>
                <a:ext cx="7128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586560" y="533232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659640" y="533232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3" y="4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729480" y="534024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802560" y="53370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872400" y="533700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6945480" y="533664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015320" y="5334120"/>
                <a:ext cx="7272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088040" y="533412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157880" y="53402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2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7230960" y="533880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300800" y="533880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3" y="1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373880" y="53370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443720" y="533700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515360" y="53370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586640" y="53388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658280" y="53355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729560" y="533556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2" y="1"/>
                    </a:lnTo>
                    <a:lnTo>
                      <a:pt x="23" y="3"/>
                    </a:lnTo>
                    <a:lnTo>
                      <a:pt x="34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800840" y="534348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1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873920" y="53420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43760" y="534204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8016840" y="53420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1014480" y="53481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3" y="1"/>
                    </a:lnTo>
                    <a:lnTo>
                      <a:pt x="9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1085760" y="4781520"/>
                <a:ext cx="71640" cy="566640"/>
              </a:xfrm>
              <a:custGeom>
                <a:avLst/>
                <a:gdLst/>
                <a:ahLst/>
                <a:rect l="l" t="t" r="r" b="b"/>
                <a:pathLst>
                  <a:path w="45" h="357">
                    <a:moveTo>
                      <a:pt x="0" y="357"/>
                    </a:moveTo>
                    <a:lnTo>
                      <a:pt x="1" y="351"/>
                    </a:lnTo>
                    <a:lnTo>
                      <a:pt x="3" y="343"/>
                    </a:lnTo>
                    <a:lnTo>
                      <a:pt x="4" y="335"/>
                    </a:lnTo>
                    <a:lnTo>
                      <a:pt x="6" y="327"/>
                    </a:lnTo>
                    <a:lnTo>
                      <a:pt x="7" y="317"/>
                    </a:lnTo>
                    <a:lnTo>
                      <a:pt x="8" y="307"/>
                    </a:lnTo>
                    <a:lnTo>
                      <a:pt x="11" y="285"/>
                    </a:lnTo>
                    <a:lnTo>
                      <a:pt x="14" y="261"/>
                    </a:lnTo>
                    <a:lnTo>
                      <a:pt x="17" y="234"/>
                    </a:lnTo>
                    <a:lnTo>
                      <a:pt x="19" y="208"/>
                    </a:lnTo>
                    <a:lnTo>
                      <a:pt x="22" y="180"/>
                    </a:lnTo>
                    <a:lnTo>
                      <a:pt x="25" y="152"/>
                    </a:lnTo>
                    <a:lnTo>
                      <a:pt x="27" y="125"/>
                    </a:lnTo>
                    <a:lnTo>
                      <a:pt x="30" y="99"/>
                    </a:lnTo>
                    <a:lnTo>
                      <a:pt x="33" y="74"/>
                    </a:lnTo>
                    <a:lnTo>
                      <a:pt x="37" y="52"/>
                    </a:lnTo>
                    <a:lnTo>
                      <a:pt x="39" y="32"/>
                    </a:lnTo>
                    <a:lnTo>
                      <a:pt x="41" y="23"/>
                    </a:lnTo>
                    <a:lnTo>
                      <a:pt x="42" y="15"/>
                    </a:lnTo>
                    <a:lnTo>
                      <a:pt x="4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1157400" y="474660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22"/>
                    </a:moveTo>
                    <a:lnTo>
                      <a:pt x="1" y="18"/>
                    </a:lnTo>
                    <a:lnTo>
                      <a:pt x="3" y="15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5" y="9"/>
                    </a:lnTo>
                    <a:lnTo>
                      <a:pt x="22" y="9"/>
                    </a:lnTo>
                    <a:lnTo>
                      <a:pt x="30" y="9"/>
                    </a:lnTo>
                    <a:lnTo>
                      <a:pt x="36" y="8"/>
                    </a:lnTo>
                    <a:lnTo>
                      <a:pt x="42" y="5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28680" y="4329000"/>
                <a:ext cx="71640" cy="417600"/>
              </a:xfrm>
              <a:custGeom>
                <a:avLst/>
                <a:gdLst/>
                <a:ahLst/>
                <a:rect l="l" t="t" r="r" b="b"/>
                <a:pathLst>
                  <a:path w="45" h="263">
                    <a:moveTo>
                      <a:pt x="0" y="263"/>
                    </a:moveTo>
                    <a:lnTo>
                      <a:pt x="3" y="253"/>
                    </a:lnTo>
                    <a:lnTo>
                      <a:pt x="6" y="242"/>
                    </a:lnTo>
                    <a:lnTo>
                      <a:pt x="8" y="230"/>
                    </a:lnTo>
                    <a:lnTo>
                      <a:pt x="11" y="216"/>
                    </a:lnTo>
                    <a:lnTo>
                      <a:pt x="14" y="200"/>
                    </a:lnTo>
                    <a:lnTo>
                      <a:pt x="17" y="184"/>
                    </a:lnTo>
                    <a:lnTo>
                      <a:pt x="19" y="167"/>
                    </a:lnTo>
                    <a:lnTo>
                      <a:pt x="22" y="149"/>
                    </a:lnTo>
                    <a:lnTo>
                      <a:pt x="27" y="112"/>
                    </a:lnTo>
                    <a:lnTo>
                      <a:pt x="34" y="74"/>
                    </a:lnTo>
                    <a:lnTo>
                      <a:pt x="39" y="3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1300320" y="3846600"/>
                <a:ext cx="71280" cy="482400"/>
              </a:xfrm>
              <a:custGeom>
                <a:avLst/>
                <a:gdLst/>
                <a:ahLst/>
                <a:rect l="l" t="t" r="r" b="b"/>
                <a:pathLst>
                  <a:path w="45" h="304">
                    <a:moveTo>
                      <a:pt x="0" y="304"/>
                    </a:moveTo>
                    <a:lnTo>
                      <a:pt x="3" y="286"/>
                    </a:lnTo>
                    <a:lnTo>
                      <a:pt x="6" y="266"/>
                    </a:lnTo>
                    <a:lnTo>
                      <a:pt x="8" y="244"/>
                    </a:lnTo>
                    <a:lnTo>
                      <a:pt x="11" y="222"/>
                    </a:lnTo>
                    <a:lnTo>
                      <a:pt x="17" y="176"/>
                    </a:lnTo>
                    <a:lnTo>
                      <a:pt x="22" y="131"/>
                    </a:lnTo>
                    <a:lnTo>
                      <a:pt x="25" y="110"/>
                    </a:lnTo>
                    <a:lnTo>
                      <a:pt x="28" y="88"/>
                    </a:lnTo>
                    <a:lnTo>
                      <a:pt x="31" y="69"/>
                    </a:lnTo>
                    <a:lnTo>
                      <a:pt x="34" y="51"/>
                    </a:lnTo>
                    <a:lnTo>
                      <a:pt x="37" y="35"/>
                    </a:lnTo>
                    <a:lnTo>
                      <a:pt x="39" y="21"/>
                    </a:lnTo>
                    <a:lnTo>
                      <a:pt x="42" y="9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1371600" y="3835440"/>
                <a:ext cx="71280" cy="127080"/>
              </a:xfrm>
              <a:custGeom>
                <a:avLst/>
                <a:gdLst/>
                <a:ahLst/>
                <a:rect l="l" t="t" r="r" b="b"/>
                <a:pathLst>
                  <a:path w="45" h="80">
                    <a:moveTo>
                      <a:pt x="0" y="7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3" y="3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2" y="17"/>
                    </a:lnTo>
                    <a:lnTo>
                      <a:pt x="26" y="25"/>
                    </a:lnTo>
                    <a:lnTo>
                      <a:pt x="29" y="32"/>
                    </a:lnTo>
                    <a:lnTo>
                      <a:pt x="35" y="48"/>
                    </a:lnTo>
                    <a:lnTo>
                      <a:pt x="40" y="64"/>
                    </a:lnTo>
                    <a:lnTo>
                      <a:pt x="45" y="8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42880" y="3962520"/>
                <a:ext cx="71640" cy="409320"/>
              </a:xfrm>
              <a:custGeom>
                <a:avLst/>
                <a:gdLst/>
                <a:ahLst/>
                <a:rect l="l" t="t" r="r" b="b"/>
                <a:pathLst>
                  <a:path w="45" h="258">
                    <a:moveTo>
                      <a:pt x="0" y="0"/>
                    </a:moveTo>
                    <a:lnTo>
                      <a:pt x="1" y="6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6" y="28"/>
                    </a:lnTo>
                    <a:lnTo>
                      <a:pt x="8" y="46"/>
                    </a:lnTo>
                    <a:lnTo>
                      <a:pt x="11" y="66"/>
                    </a:lnTo>
                    <a:lnTo>
                      <a:pt x="14" y="87"/>
                    </a:lnTo>
                    <a:lnTo>
                      <a:pt x="17" y="110"/>
                    </a:lnTo>
                    <a:lnTo>
                      <a:pt x="20" y="133"/>
                    </a:lnTo>
                    <a:lnTo>
                      <a:pt x="22" y="155"/>
                    </a:lnTo>
                    <a:lnTo>
                      <a:pt x="25" y="176"/>
                    </a:lnTo>
                    <a:lnTo>
                      <a:pt x="28" y="197"/>
                    </a:lnTo>
                    <a:lnTo>
                      <a:pt x="31" y="215"/>
                    </a:lnTo>
                    <a:lnTo>
                      <a:pt x="32" y="224"/>
                    </a:lnTo>
                    <a:lnTo>
                      <a:pt x="34" y="231"/>
                    </a:lnTo>
                    <a:lnTo>
                      <a:pt x="35" y="238"/>
                    </a:lnTo>
                    <a:lnTo>
                      <a:pt x="37" y="244"/>
                    </a:lnTo>
                    <a:lnTo>
                      <a:pt x="38" y="249"/>
                    </a:lnTo>
                    <a:lnTo>
                      <a:pt x="39" y="252"/>
                    </a:lnTo>
                    <a:lnTo>
                      <a:pt x="41" y="255"/>
                    </a:lnTo>
                    <a:lnTo>
                      <a:pt x="42" y="257"/>
                    </a:lnTo>
                    <a:lnTo>
                      <a:pt x="44" y="258"/>
                    </a:lnTo>
                    <a:lnTo>
                      <a:pt x="45" y="25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14520" y="3822840"/>
                <a:ext cx="71280" cy="547560"/>
              </a:xfrm>
              <a:custGeom>
                <a:avLst/>
                <a:gdLst/>
                <a:ahLst/>
                <a:rect l="l" t="t" r="r" b="b"/>
                <a:pathLst>
                  <a:path w="45" h="345">
                    <a:moveTo>
                      <a:pt x="0" y="345"/>
                    </a:moveTo>
                    <a:lnTo>
                      <a:pt x="1" y="343"/>
                    </a:lnTo>
                    <a:lnTo>
                      <a:pt x="3" y="339"/>
                    </a:lnTo>
                    <a:lnTo>
                      <a:pt x="4" y="334"/>
                    </a:lnTo>
                    <a:lnTo>
                      <a:pt x="6" y="327"/>
                    </a:lnTo>
                    <a:lnTo>
                      <a:pt x="7" y="319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1" y="289"/>
                    </a:lnTo>
                    <a:lnTo>
                      <a:pt x="12" y="276"/>
                    </a:lnTo>
                    <a:lnTo>
                      <a:pt x="14" y="264"/>
                    </a:lnTo>
                    <a:lnTo>
                      <a:pt x="17" y="237"/>
                    </a:lnTo>
                    <a:lnTo>
                      <a:pt x="19" y="208"/>
                    </a:lnTo>
                    <a:lnTo>
                      <a:pt x="23" y="177"/>
                    </a:lnTo>
                    <a:lnTo>
                      <a:pt x="26" y="147"/>
                    </a:lnTo>
                    <a:lnTo>
                      <a:pt x="28" y="118"/>
                    </a:lnTo>
                    <a:lnTo>
                      <a:pt x="31" y="89"/>
                    </a:lnTo>
                    <a:lnTo>
                      <a:pt x="33" y="76"/>
                    </a:lnTo>
                    <a:lnTo>
                      <a:pt x="34" y="63"/>
                    </a:lnTo>
                    <a:lnTo>
                      <a:pt x="35" y="52"/>
                    </a:lnTo>
                    <a:lnTo>
                      <a:pt x="37" y="41"/>
                    </a:lnTo>
                    <a:lnTo>
                      <a:pt x="38" y="31"/>
                    </a:lnTo>
                    <a:lnTo>
                      <a:pt x="39" y="22"/>
                    </a:lnTo>
                    <a:lnTo>
                      <a:pt x="41" y="14"/>
                    </a:lnTo>
                    <a:lnTo>
                      <a:pt x="42" y="8"/>
                    </a:lnTo>
                    <a:lnTo>
                      <a:pt x="4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85800" y="3817800"/>
                <a:ext cx="71640" cy="300240"/>
              </a:xfrm>
              <a:custGeom>
                <a:avLst/>
                <a:gdLst/>
                <a:ahLst/>
                <a:rect l="l" t="t" r="r" b="b"/>
                <a:pathLst>
                  <a:path w="45" h="189">
                    <a:moveTo>
                      <a:pt x="0" y="3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8" y="8"/>
                    </a:lnTo>
                    <a:lnTo>
                      <a:pt x="10" y="12"/>
                    </a:lnTo>
                    <a:lnTo>
                      <a:pt x="11" y="17"/>
                    </a:lnTo>
                    <a:lnTo>
                      <a:pt x="14" y="30"/>
                    </a:lnTo>
                    <a:lnTo>
                      <a:pt x="17" y="44"/>
                    </a:lnTo>
                    <a:lnTo>
                      <a:pt x="20" y="60"/>
                    </a:lnTo>
                    <a:lnTo>
                      <a:pt x="22" y="77"/>
                    </a:lnTo>
                    <a:lnTo>
                      <a:pt x="28" y="112"/>
                    </a:lnTo>
                    <a:lnTo>
                      <a:pt x="31" y="130"/>
                    </a:lnTo>
                    <a:lnTo>
                      <a:pt x="34" y="146"/>
                    </a:lnTo>
                    <a:lnTo>
                      <a:pt x="37" y="161"/>
                    </a:lnTo>
                    <a:lnTo>
                      <a:pt x="39" y="173"/>
                    </a:lnTo>
                    <a:lnTo>
                      <a:pt x="41" y="178"/>
                    </a:lnTo>
                    <a:lnTo>
                      <a:pt x="42" y="183"/>
                    </a:lnTo>
                    <a:lnTo>
                      <a:pt x="44" y="186"/>
                    </a:lnTo>
                    <a:lnTo>
                      <a:pt x="45" y="189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1657440" y="405144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42"/>
                    </a:moveTo>
                    <a:lnTo>
                      <a:pt x="3" y="45"/>
                    </a:lnTo>
                    <a:lnTo>
                      <a:pt x="6" y="47"/>
                    </a:lnTo>
                    <a:lnTo>
                      <a:pt x="8" y="46"/>
                    </a:lnTo>
                    <a:lnTo>
                      <a:pt x="11" y="44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3" y="25"/>
                    </a:lnTo>
                    <a:lnTo>
                      <a:pt x="28" y="14"/>
                    </a:lnTo>
                    <a:lnTo>
                      <a:pt x="31" y="9"/>
                    </a:lnTo>
                    <a:lnTo>
                      <a:pt x="34" y="5"/>
                    </a:lnTo>
                    <a:lnTo>
                      <a:pt x="37" y="2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1728720" y="4054320"/>
                <a:ext cx="71640" cy="21600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0" y="0"/>
                    </a:moveTo>
                    <a:lnTo>
                      <a:pt x="3" y="4"/>
                    </a:lnTo>
                    <a:lnTo>
                      <a:pt x="6" y="8"/>
                    </a:lnTo>
                    <a:lnTo>
                      <a:pt x="8" y="14"/>
                    </a:lnTo>
                    <a:lnTo>
                      <a:pt x="11" y="20"/>
                    </a:lnTo>
                    <a:lnTo>
                      <a:pt x="14" y="27"/>
                    </a:lnTo>
                    <a:lnTo>
                      <a:pt x="17" y="35"/>
                    </a:lnTo>
                    <a:lnTo>
                      <a:pt x="22" y="54"/>
                    </a:lnTo>
                    <a:lnTo>
                      <a:pt x="28" y="74"/>
                    </a:lnTo>
                    <a:lnTo>
                      <a:pt x="34" y="94"/>
                    </a:lnTo>
                    <a:lnTo>
                      <a:pt x="39" y="115"/>
                    </a:lnTo>
                    <a:lnTo>
                      <a:pt x="45" y="13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1800360" y="4270320"/>
                <a:ext cx="71280" cy="29232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0" y="0"/>
                    </a:moveTo>
                    <a:lnTo>
                      <a:pt x="3" y="10"/>
                    </a:lnTo>
                    <a:lnTo>
                      <a:pt x="6" y="22"/>
                    </a:lnTo>
                    <a:lnTo>
                      <a:pt x="8" y="34"/>
                    </a:lnTo>
                    <a:lnTo>
                      <a:pt x="12" y="47"/>
                    </a:lnTo>
                    <a:lnTo>
                      <a:pt x="18" y="75"/>
                    </a:lnTo>
                    <a:lnTo>
                      <a:pt x="23" y="103"/>
                    </a:lnTo>
                    <a:lnTo>
                      <a:pt x="28" y="129"/>
                    </a:lnTo>
                    <a:lnTo>
                      <a:pt x="31" y="141"/>
                    </a:lnTo>
                    <a:lnTo>
                      <a:pt x="34" y="152"/>
                    </a:lnTo>
                    <a:lnTo>
                      <a:pt x="37" y="162"/>
                    </a:lnTo>
                    <a:lnTo>
                      <a:pt x="39" y="172"/>
                    </a:lnTo>
                    <a:lnTo>
                      <a:pt x="42" y="179"/>
                    </a:lnTo>
                    <a:lnTo>
                      <a:pt x="45" y="18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871640" y="4494240"/>
                <a:ext cx="7164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43"/>
                    </a:moveTo>
                    <a:lnTo>
                      <a:pt x="3" y="46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4" y="46"/>
                    </a:lnTo>
                    <a:lnTo>
                      <a:pt x="17" y="43"/>
                    </a:lnTo>
                    <a:lnTo>
                      <a:pt x="20" y="39"/>
                    </a:lnTo>
                    <a:lnTo>
                      <a:pt x="22" y="35"/>
                    </a:lnTo>
                    <a:lnTo>
                      <a:pt x="28" y="26"/>
                    </a:lnTo>
                    <a:lnTo>
                      <a:pt x="34" y="15"/>
                    </a:lnTo>
                    <a:lnTo>
                      <a:pt x="39" y="6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1943280" y="444348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32"/>
                    </a:moveTo>
                    <a:lnTo>
                      <a:pt x="7" y="27"/>
                    </a:lnTo>
                    <a:lnTo>
                      <a:pt x="12" y="21"/>
                    </a:lnTo>
                    <a:lnTo>
                      <a:pt x="18" y="14"/>
                    </a:lnTo>
                    <a:lnTo>
                      <a:pt x="23" y="9"/>
                    </a:lnTo>
                    <a:lnTo>
                      <a:pt x="28" y="4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014560" y="4448160"/>
                <a:ext cx="73080" cy="162000"/>
              </a:xfrm>
              <a:custGeom>
                <a:avLst/>
                <a:gdLst/>
                <a:ahLst/>
                <a:rect l="l" t="t" r="r" b="b"/>
                <a:pathLst>
                  <a:path w="46" h="102">
                    <a:moveTo>
                      <a:pt x="0" y="0"/>
                    </a:moveTo>
                    <a:lnTo>
                      <a:pt x="3" y="3"/>
                    </a:lnTo>
                    <a:lnTo>
                      <a:pt x="6" y="7"/>
                    </a:lnTo>
                    <a:lnTo>
                      <a:pt x="8" y="13"/>
                    </a:lnTo>
                    <a:lnTo>
                      <a:pt x="11" y="19"/>
                    </a:lnTo>
                    <a:lnTo>
                      <a:pt x="14" y="27"/>
                    </a:lnTo>
                    <a:lnTo>
                      <a:pt x="17" y="34"/>
                    </a:lnTo>
                    <a:lnTo>
                      <a:pt x="22" y="52"/>
                    </a:lnTo>
                    <a:lnTo>
                      <a:pt x="28" y="69"/>
                    </a:lnTo>
                    <a:lnTo>
                      <a:pt x="31" y="76"/>
                    </a:lnTo>
                    <a:lnTo>
                      <a:pt x="34" y="83"/>
                    </a:lnTo>
                    <a:lnTo>
                      <a:pt x="37" y="90"/>
                    </a:lnTo>
                    <a:lnTo>
                      <a:pt x="39" y="95"/>
                    </a:lnTo>
                    <a:lnTo>
                      <a:pt x="42" y="99"/>
                    </a:lnTo>
                    <a:lnTo>
                      <a:pt x="46" y="10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087640" y="4551480"/>
                <a:ext cx="69840" cy="6012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7"/>
                    </a:moveTo>
                    <a:lnTo>
                      <a:pt x="3" y="38"/>
                    </a:lnTo>
                    <a:lnTo>
                      <a:pt x="6" y="38"/>
                    </a:lnTo>
                    <a:lnTo>
                      <a:pt x="8" y="38"/>
                    </a:lnTo>
                    <a:lnTo>
                      <a:pt x="11" y="36"/>
                    </a:lnTo>
                    <a:lnTo>
                      <a:pt x="17" y="30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3" y="7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41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157480" y="4551480"/>
                <a:ext cx="73080" cy="601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8" y="16"/>
                    </a:lnTo>
                    <a:lnTo>
                      <a:pt x="34" y="22"/>
                    </a:lnTo>
                    <a:lnTo>
                      <a:pt x="40" y="30"/>
                    </a:lnTo>
                    <a:lnTo>
                      <a:pt x="46" y="3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230560" y="4611600"/>
                <a:ext cx="69840" cy="1605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0" y="0"/>
                    </a:moveTo>
                    <a:lnTo>
                      <a:pt x="3" y="5"/>
                    </a:lnTo>
                    <a:lnTo>
                      <a:pt x="6" y="10"/>
                    </a:lnTo>
                    <a:lnTo>
                      <a:pt x="11" y="24"/>
                    </a:lnTo>
                    <a:lnTo>
                      <a:pt x="17" y="40"/>
                    </a:lnTo>
                    <a:lnTo>
                      <a:pt x="22" y="55"/>
                    </a:lnTo>
                    <a:lnTo>
                      <a:pt x="28" y="70"/>
                    </a:lnTo>
                    <a:lnTo>
                      <a:pt x="33" y="83"/>
                    </a:lnTo>
                    <a:lnTo>
                      <a:pt x="36" y="89"/>
                    </a:lnTo>
                    <a:lnTo>
                      <a:pt x="39" y="94"/>
                    </a:lnTo>
                    <a:lnTo>
                      <a:pt x="41" y="98"/>
                    </a:lnTo>
                    <a:lnTo>
                      <a:pt x="44" y="10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300400" y="4729320"/>
                <a:ext cx="71280" cy="457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7"/>
                    </a:moveTo>
                    <a:lnTo>
                      <a:pt x="3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11" y="28"/>
                    </a:lnTo>
                    <a:lnTo>
                      <a:pt x="16" y="23"/>
                    </a:lnTo>
                    <a:lnTo>
                      <a:pt x="22" y="17"/>
                    </a:lnTo>
                    <a:lnTo>
                      <a:pt x="27" y="11"/>
                    </a:lnTo>
                    <a:lnTo>
                      <a:pt x="34" y="5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371680" y="472932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0"/>
                    </a:moveTo>
                    <a:lnTo>
                      <a:pt x="6" y="1"/>
                    </a:lnTo>
                    <a:lnTo>
                      <a:pt x="11" y="4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34" y="25"/>
                    </a:lnTo>
                    <a:lnTo>
                      <a:pt x="45" y="3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443320" y="4789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0"/>
                    </a:moveTo>
                    <a:lnTo>
                      <a:pt x="6" y="8"/>
                    </a:lnTo>
                    <a:lnTo>
                      <a:pt x="11" y="17"/>
                    </a:lnTo>
                    <a:lnTo>
                      <a:pt x="17" y="26"/>
                    </a:lnTo>
                    <a:lnTo>
                      <a:pt x="22" y="36"/>
                    </a:lnTo>
                    <a:lnTo>
                      <a:pt x="27" y="45"/>
                    </a:lnTo>
                    <a:lnTo>
                      <a:pt x="34" y="54"/>
                    </a:lnTo>
                    <a:lnTo>
                      <a:pt x="39" y="60"/>
                    </a:lnTo>
                    <a:lnTo>
                      <a:pt x="45" y="6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514600" y="485928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20"/>
                    </a:moveTo>
                    <a:lnTo>
                      <a:pt x="3" y="21"/>
                    </a:lnTo>
                    <a:lnTo>
                      <a:pt x="6" y="21"/>
                    </a:lnTo>
                    <a:lnTo>
                      <a:pt x="11" y="20"/>
                    </a:lnTo>
                    <a:lnTo>
                      <a:pt x="17" y="17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4" y="5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585880" y="4857840"/>
                <a:ext cx="7164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1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39" y="7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2657520" y="4875120"/>
                <a:ext cx="71280" cy="100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11" y="14"/>
                    </a:lnTo>
                    <a:lnTo>
                      <a:pt x="17" y="23"/>
                    </a:lnTo>
                    <a:lnTo>
                      <a:pt x="22" y="33"/>
                    </a:lnTo>
                    <a:lnTo>
                      <a:pt x="28" y="44"/>
                    </a:lnTo>
                    <a:lnTo>
                      <a:pt x="34" y="53"/>
                    </a:lnTo>
                    <a:lnTo>
                      <a:pt x="39" y="59"/>
                    </a:lnTo>
                    <a:lnTo>
                      <a:pt x="42" y="62"/>
                    </a:lnTo>
                    <a:lnTo>
                      <a:pt x="45" y="6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728800" y="4930920"/>
                <a:ext cx="71640" cy="457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8"/>
                    </a:moveTo>
                    <a:lnTo>
                      <a:pt x="3" y="29"/>
                    </a:lnTo>
                    <a:lnTo>
                      <a:pt x="6" y="28"/>
                    </a:lnTo>
                    <a:lnTo>
                      <a:pt x="11" y="26"/>
                    </a:lnTo>
                    <a:lnTo>
                      <a:pt x="18" y="22"/>
                    </a:lnTo>
                    <a:lnTo>
                      <a:pt x="23" y="16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2800440" y="4930920"/>
                <a:ext cx="71280" cy="4104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0"/>
                    </a:moveTo>
                    <a:lnTo>
                      <a:pt x="6" y="1"/>
                    </a:lnTo>
                    <a:lnTo>
                      <a:pt x="11" y="2"/>
                    </a:lnTo>
                    <a:lnTo>
                      <a:pt x="17" y="5"/>
                    </a:lnTo>
                    <a:lnTo>
                      <a:pt x="22" y="9"/>
                    </a:lnTo>
                    <a:lnTo>
                      <a:pt x="34" y="18"/>
                    </a:lnTo>
                    <a:lnTo>
                      <a:pt x="45" y="2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2871720" y="497196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0"/>
                    </a:moveTo>
                    <a:lnTo>
                      <a:pt x="6" y="5"/>
                    </a:lnTo>
                    <a:lnTo>
                      <a:pt x="11" y="10"/>
                    </a:lnTo>
                    <a:lnTo>
                      <a:pt x="23" y="22"/>
                    </a:lnTo>
                    <a:lnTo>
                      <a:pt x="28" y="27"/>
                    </a:lnTo>
                    <a:lnTo>
                      <a:pt x="34" y="32"/>
                    </a:lnTo>
                    <a:lnTo>
                      <a:pt x="39" y="35"/>
                    </a:lnTo>
                    <a:lnTo>
                      <a:pt x="45" y="3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2943360" y="4968720"/>
                <a:ext cx="7128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3" y="38"/>
                    </a:lnTo>
                    <a:lnTo>
                      <a:pt x="6" y="36"/>
                    </a:lnTo>
                    <a:lnTo>
                      <a:pt x="11" y="33"/>
                    </a:lnTo>
                    <a:lnTo>
                      <a:pt x="17" y="27"/>
                    </a:lnTo>
                    <a:lnTo>
                      <a:pt x="22" y="21"/>
                    </a:lnTo>
                    <a:lnTo>
                      <a:pt x="28" y="14"/>
                    </a:lnTo>
                    <a:lnTo>
                      <a:pt x="34" y="8"/>
                    </a:lnTo>
                    <a:lnTo>
                      <a:pt x="39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014640" y="496728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1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34" y="6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086280" y="498312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22" y="13"/>
                    </a:lnTo>
                    <a:lnTo>
                      <a:pt x="28" y="17"/>
                    </a:lnTo>
                    <a:lnTo>
                      <a:pt x="34" y="19"/>
                    </a:lnTo>
                    <a:lnTo>
                      <a:pt x="39" y="21"/>
                    </a:lnTo>
                    <a:lnTo>
                      <a:pt x="45" y="2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157560" y="494028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47"/>
                    </a:moveTo>
                    <a:lnTo>
                      <a:pt x="7" y="44"/>
                    </a:lnTo>
                    <a:lnTo>
                      <a:pt x="12" y="39"/>
                    </a:lnTo>
                    <a:lnTo>
                      <a:pt x="18" y="32"/>
                    </a:lnTo>
                    <a:lnTo>
                      <a:pt x="23" y="24"/>
                    </a:lnTo>
                    <a:lnTo>
                      <a:pt x="28" y="17"/>
                    </a:lnTo>
                    <a:lnTo>
                      <a:pt x="34" y="10"/>
                    </a:lnTo>
                    <a:lnTo>
                      <a:pt x="39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228840" y="493560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3"/>
                    </a:moveTo>
                    <a:lnTo>
                      <a:pt x="6" y="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34" y="5"/>
                    </a:lnTo>
                    <a:lnTo>
                      <a:pt x="46" y="1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301920" y="4951440"/>
                <a:ext cx="69840" cy="6660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0" y="0"/>
                    </a:moveTo>
                    <a:lnTo>
                      <a:pt x="6" y="4"/>
                    </a:lnTo>
                    <a:lnTo>
                      <a:pt x="11" y="10"/>
                    </a:lnTo>
                    <a:lnTo>
                      <a:pt x="17" y="17"/>
                    </a:lnTo>
                    <a:lnTo>
                      <a:pt x="22" y="24"/>
                    </a:lnTo>
                    <a:lnTo>
                      <a:pt x="27" y="30"/>
                    </a:lnTo>
                    <a:lnTo>
                      <a:pt x="33" y="36"/>
                    </a:lnTo>
                    <a:lnTo>
                      <a:pt x="38" y="40"/>
                    </a:lnTo>
                    <a:lnTo>
                      <a:pt x="41" y="41"/>
                    </a:lnTo>
                    <a:lnTo>
                      <a:pt x="44" y="4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371760" y="495936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37"/>
                    </a:moveTo>
                    <a:lnTo>
                      <a:pt x="3" y="37"/>
                    </a:lnTo>
                    <a:lnTo>
                      <a:pt x="6" y="36"/>
                    </a:lnTo>
                    <a:lnTo>
                      <a:pt x="11" y="32"/>
                    </a:lnTo>
                    <a:lnTo>
                      <a:pt x="17" y="27"/>
                    </a:lnTo>
                    <a:lnTo>
                      <a:pt x="22" y="21"/>
                    </a:lnTo>
                    <a:lnTo>
                      <a:pt x="28" y="14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444840" y="495468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3"/>
                    </a:moveTo>
                    <a:lnTo>
                      <a:pt x="6" y="1"/>
                    </a:lnTo>
                    <a:lnTo>
                      <a:pt x="11" y="0"/>
                    </a:lnTo>
                    <a:lnTo>
                      <a:pt x="22" y="1"/>
                    </a:lnTo>
                    <a:lnTo>
                      <a:pt x="33" y="3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4680" y="4965840"/>
                <a:ext cx="71640" cy="5220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0"/>
                    </a:moveTo>
                    <a:lnTo>
                      <a:pt x="5" y="3"/>
                    </a:lnTo>
                    <a:lnTo>
                      <a:pt x="11" y="8"/>
                    </a:lnTo>
                    <a:lnTo>
                      <a:pt x="16" y="14"/>
                    </a:lnTo>
                    <a:lnTo>
                      <a:pt x="22" y="19"/>
                    </a:lnTo>
                    <a:lnTo>
                      <a:pt x="27" y="25"/>
                    </a:lnTo>
                    <a:lnTo>
                      <a:pt x="34" y="29"/>
                    </a:lnTo>
                    <a:lnTo>
                      <a:pt x="39" y="32"/>
                    </a:lnTo>
                    <a:lnTo>
                      <a:pt x="45" y="3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86320" y="4948200"/>
                <a:ext cx="71280" cy="6984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0" y="44"/>
                    </a:moveTo>
                    <a:lnTo>
                      <a:pt x="3" y="43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7" y="29"/>
                    </a:lnTo>
                    <a:lnTo>
                      <a:pt x="22" y="21"/>
                    </a:lnTo>
                    <a:lnTo>
                      <a:pt x="28" y="13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657600" y="4948200"/>
                <a:ext cx="7128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0"/>
                    </a:moveTo>
                    <a:lnTo>
                      <a:pt x="3" y="1"/>
                    </a:lnTo>
                    <a:lnTo>
                      <a:pt x="6" y="2"/>
                    </a:lnTo>
                    <a:lnTo>
                      <a:pt x="11" y="6"/>
                    </a:lnTo>
                    <a:lnTo>
                      <a:pt x="17" y="13"/>
                    </a:lnTo>
                    <a:lnTo>
                      <a:pt x="22" y="20"/>
                    </a:lnTo>
                    <a:lnTo>
                      <a:pt x="28" y="28"/>
                    </a:lnTo>
                    <a:lnTo>
                      <a:pt x="34" y="36"/>
                    </a:lnTo>
                    <a:lnTo>
                      <a:pt x="39" y="43"/>
                    </a:lnTo>
                    <a:lnTo>
                      <a:pt x="45" y="49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728880" y="502596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0"/>
                    </a:moveTo>
                    <a:lnTo>
                      <a:pt x="11" y="10"/>
                    </a:lnTo>
                    <a:lnTo>
                      <a:pt x="22" y="19"/>
                    </a:lnTo>
                    <a:lnTo>
                      <a:pt x="28" y="24"/>
                    </a:lnTo>
                    <a:lnTo>
                      <a:pt x="34" y="26"/>
                    </a:lnTo>
                    <a:lnTo>
                      <a:pt x="39" y="28"/>
                    </a:lnTo>
                    <a:lnTo>
                      <a:pt x="45" y="2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800520" y="5006880"/>
                <a:ext cx="71280" cy="6372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40"/>
                    </a:moveTo>
                    <a:lnTo>
                      <a:pt x="6" y="38"/>
                    </a:lnTo>
                    <a:lnTo>
                      <a:pt x="11" y="33"/>
                    </a:lnTo>
                    <a:lnTo>
                      <a:pt x="17" y="27"/>
                    </a:lnTo>
                    <a:lnTo>
                      <a:pt x="23" y="20"/>
                    </a:lnTo>
                    <a:lnTo>
                      <a:pt x="28" y="14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871800" y="5005440"/>
                <a:ext cx="7164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"/>
                    </a:moveTo>
                    <a:lnTo>
                      <a:pt x="6" y="0"/>
                    </a:lnTo>
                    <a:lnTo>
                      <a:pt x="11" y="1"/>
                    </a:lnTo>
                    <a:lnTo>
                      <a:pt x="17" y="3"/>
                    </a:lnTo>
                    <a:lnTo>
                      <a:pt x="22" y="5"/>
                    </a:lnTo>
                    <a:lnTo>
                      <a:pt x="34" y="11"/>
                    </a:lnTo>
                    <a:lnTo>
                      <a:pt x="39" y="14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3943440" y="5030640"/>
                <a:ext cx="71280" cy="2412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11" y="5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4" y="14"/>
                    </a:lnTo>
                    <a:lnTo>
                      <a:pt x="39" y="15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014720" y="499752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35"/>
                    </a:moveTo>
                    <a:lnTo>
                      <a:pt x="6" y="33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4" y="6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086360" y="4995720"/>
                <a:ext cx="7128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"/>
                    </a:moveTo>
                    <a:lnTo>
                      <a:pt x="6" y="0"/>
                    </a:lnTo>
                    <a:lnTo>
                      <a:pt x="12" y="1"/>
                    </a:lnTo>
                    <a:lnTo>
                      <a:pt x="18" y="2"/>
                    </a:lnTo>
                    <a:lnTo>
                      <a:pt x="23" y="5"/>
                    </a:lnTo>
                    <a:lnTo>
                      <a:pt x="34" y="10"/>
                    </a:lnTo>
                    <a:lnTo>
                      <a:pt x="45" y="1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157640" y="50212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28" y="21"/>
                    </a:lnTo>
                    <a:lnTo>
                      <a:pt x="34" y="25"/>
                    </a:lnTo>
                    <a:lnTo>
                      <a:pt x="39" y="28"/>
                    </a:lnTo>
                    <a:lnTo>
                      <a:pt x="45" y="29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229280" y="5021280"/>
                <a:ext cx="7128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9"/>
                    </a:moveTo>
                    <a:lnTo>
                      <a:pt x="7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3" y="14"/>
                    </a:lnTo>
                    <a:lnTo>
                      <a:pt x="28" y="9"/>
                    </a:lnTo>
                    <a:lnTo>
                      <a:pt x="34" y="4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00560" y="5021280"/>
                <a:ext cx="73080" cy="5220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0"/>
                    </a:moveTo>
                    <a:lnTo>
                      <a:pt x="6" y="1"/>
                    </a:lnTo>
                    <a:lnTo>
                      <a:pt x="11" y="4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34" y="23"/>
                    </a:lnTo>
                    <a:lnTo>
                      <a:pt x="39" y="29"/>
                    </a:lnTo>
                    <a:lnTo>
                      <a:pt x="46" y="3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373640" y="507348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0"/>
                    </a:moveTo>
                    <a:lnTo>
                      <a:pt x="11" y="7"/>
                    </a:lnTo>
                    <a:lnTo>
                      <a:pt x="22" y="13"/>
                    </a:lnTo>
                    <a:lnTo>
                      <a:pt x="33" y="19"/>
                    </a:lnTo>
                    <a:lnTo>
                      <a:pt x="38" y="20"/>
                    </a:lnTo>
                    <a:lnTo>
                      <a:pt x="44" y="2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443480" y="5081760"/>
                <a:ext cx="73080" cy="2520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16"/>
                    </a:moveTo>
                    <a:lnTo>
                      <a:pt x="6" y="16"/>
                    </a:lnTo>
                    <a:lnTo>
                      <a:pt x="11" y="14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34" y="4"/>
                    </a:lnTo>
                    <a:lnTo>
                      <a:pt x="40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516560" y="507996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586400" y="5083200"/>
                <a:ext cx="73080" cy="1728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5" y="10"/>
                    </a:lnTo>
                    <a:lnTo>
                      <a:pt x="40" y="11"/>
                    </a:lnTo>
                    <a:lnTo>
                      <a:pt x="46" y="1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659480" y="506880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20"/>
                    </a:moveTo>
                    <a:lnTo>
                      <a:pt x="6" y="19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7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729320" y="5068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5" y="25"/>
                    </a:lnTo>
                    <a:lnTo>
                      <a:pt x="40" y="29"/>
                    </a:lnTo>
                    <a:lnTo>
                      <a:pt x="46" y="3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802040" y="512136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0"/>
                    </a:moveTo>
                    <a:lnTo>
                      <a:pt x="11" y="5"/>
                    </a:lnTo>
                    <a:lnTo>
                      <a:pt x="22" y="10"/>
                    </a:lnTo>
                    <a:lnTo>
                      <a:pt x="33" y="13"/>
                    </a:lnTo>
                    <a:lnTo>
                      <a:pt x="44" y="1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871880" y="512928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9"/>
                    </a:moveTo>
                    <a:lnTo>
                      <a:pt x="5" y="9"/>
                    </a:lnTo>
                    <a:lnTo>
                      <a:pt x="11" y="8"/>
                    </a:lnTo>
                    <a:lnTo>
                      <a:pt x="22" y="5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943520" y="512928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014800" y="513540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2"/>
                    </a:lnTo>
                    <a:lnTo>
                      <a:pt x="23" y="5"/>
                    </a:lnTo>
                    <a:lnTo>
                      <a:pt x="34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086440" y="51372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11" y="6"/>
                    </a:lnTo>
                    <a:lnTo>
                      <a:pt x="22" y="4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157720" y="5135400"/>
                <a:ext cx="7164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1"/>
                    </a:moveTo>
                    <a:lnTo>
                      <a:pt x="11" y="0"/>
                    </a:lnTo>
                    <a:lnTo>
                      <a:pt x="23" y="0"/>
                    </a:lnTo>
                    <a:lnTo>
                      <a:pt x="34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229360" y="514044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22" y="12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5" y="2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300640" y="516564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6"/>
                    </a:moveTo>
                    <a:lnTo>
                      <a:pt x="6" y="7"/>
                    </a:lnTo>
                    <a:lnTo>
                      <a:pt x="12" y="6"/>
                    </a:lnTo>
                    <a:lnTo>
                      <a:pt x="23" y="5"/>
                    </a:lnTo>
                    <a:lnTo>
                      <a:pt x="3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372280" y="515772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5"/>
                    </a:moveTo>
                    <a:lnTo>
                      <a:pt x="11" y="3"/>
                    </a:lnTo>
                    <a:lnTo>
                      <a:pt x="22" y="2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443560" y="515952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7" y="1"/>
                    </a:lnTo>
                    <a:lnTo>
                      <a:pt x="12" y="3"/>
                    </a:lnTo>
                    <a:lnTo>
                      <a:pt x="23" y="9"/>
                    </a:lnTo>
                    <a:lnTo>
                      <a:pt x="34" y="14"/>
                    </a:lnTo>
                    <a:lnTo>
                      <a:pt x="39" y="16"/>
                    </a:lnTo>
                    <a:lnTo>
                      <a:pt x="45" y="1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514840" y="517860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5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22" y="3"/>
                    </a:lnTo>
                    <a:lnTo>
                      <a:pt x="34" y="1"/>
                    </a:lnTo>
                    <a:lnTo>
                      <a:pt x="39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87920" y="517860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44" y="1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657760" y="519588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1" y="4"/>
                    </a:lnTo>
                    <a:lnTo>
                      <a:pt x="22" y="9"/>
                    </a:lnTo>
                    <a:lnTo>
                      <a:pt x="34" y="14"/>
                    </a:lnTo>
                    <a:lnTo>
                      <a:pt x="46" y="1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730840" y="5221440"/>
                <a:ext cx="69840" cy="28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1"/>
                    </a:moveTo>
                    <a:lnTo>
                      <a:pt x="11" y="2"/>
                    </a:lnTo>
                    <a:lnTo>
                      <a:pt x="22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800680" y="521352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5"/>
                    </a:moveTo>
                    <a:lnTo>
                      <a:pt x="11" y="4"/>
                    </a:ln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873760" y="5213520"/>
                <a:ext cx="69840" cy="266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22" y="8"/>
                    </a:lnTo>
                    <a:lnTo>
                      <a:pt x="33" y="13"/>
                    </a:lnTo>
                    <a:lnTo>
                      <a:pt x="38" y="16"/>
                    </a:lnTo>
                    <a:lnTo>
                      <a:pt x="44" y="1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943600" y="524016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016680" y="523404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086520" y="5235480"/>
                <a:ext cx="73080" cy="2880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0" y="0"/>
                    </a:moveTo>
                    <a:lnTo>
                      <a:pt x="6" y="1"/>
                    </a:lnTo>
                    <a:lnTo>
                      <a:pt x="11" y="4"/>
                    </a:lnTo>
                    <a:lnTo>
                      <a:pt x="23" y="9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6" y="1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159600" y="52578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229440" y="525780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3" y="2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300720" y="5267160"/>
                <a:ext cx="71640" cy="1620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4" y="8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372360" y="52833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1"/>
                    </a:ln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443640" y="52833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515280" y="52848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2" y="1"/>
                    </a:lnTo>
                    <a:lnTo>
                      <a:pt x="23" y="3"/>
                    </a:lnTo>
                    <a:lnTo>
                      <a:pt x="34" y="5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586560" y="529596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659640" y="52992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729480" y="5300640"/>
                <a:ext cx="73080" cy="972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4" y="5"/>
                    </a:lnTo>
                    <a:lnTo>
                      <a:pt x="46" y="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802560" y="531036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1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872400" y="530712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5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945480" y="530712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8" name=""/>
            <p:cNvSpPr/>
            <p:nvPr/>
          </p:nvSpPr>
          <p:spPr>
            <a:xfrm>
              <a:off x="7015320" y="5319720"/>
              <a:ext cx="72720" cy="144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0"/>
                  </a:moveTo>
                  <a:lnTo>
                    <a:pt x="11" y="1"/>
                  </a:lnTo>
                  <a:lnTo>
                    <a:pt x="22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088040" y="5319720"/>
              <a:ext cx="69840" cy="324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0" y="0"/>
                  </a:moveTo>
                  <a:lnTo>
                    <a:pt x="22" y="1"/>
                  </a:lnTo>
                  <a:lnTo>
                    <a:pt x="44" y="2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157880" y="5322960"/>
              <a:ext cx="73080" cy="612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0"/>
                  </a:moveTo>
                  <a:lnTo>
                    <a:pt x="22" y="2"/>
                  </a:lnTo>
                  <a:lnTo>
                    <a:pt x="46" y="4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230960" y="5329080"/>
              <a:ext cx="69840" cy="180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300800" y="5329080"/>
              <a:ext cx="73080" cy="180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0"/>
                  </a:moveTo>
                  <a:lnTo>
                    <a:pt x="23" y="0"/>
                  </a:lnTo>
                  <a:lnTo>
                    <a:pt x="46" y="1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373880" y="5330880"/>
              <a:ext cx="69840" cy="468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0"/>
                  </a:moveTo>
                  <a:lnTo>
                    <a:pt x="22" y="2"/>
                  </a:lnTo>
                  <a:lnTo>
                    <a:pt x="44" y="3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443720" y="533556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3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515360" y="5335560"/>
              <a:ext cx="7128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0"/>
                  </a:moveTo>
                  <a:lnTo>
                    <a:pt x="22" y="1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586640" y="5338800"/>
              <a:ext cx="71640" cy="1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658280" y="5340240"/>
              <a:ext cx="7128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29560" y="5338800"/>
              <a:ext cx="71280" cy="144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3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800840" y="5338800"/>
              <a:ext cx="73080" cy="3240"/>
            </a:xfrm>
            <a:custGeom>
              <a:avLst/>
              <a:gdLst/>
              <a:ahLst/>
              <a:rect l="l" t="t" r="r" b="b"/>
              <a:pathLst>
                <a:path w="46" h="2">
                  <a:moveTo>
                    <a:pt x="0" y="0"/>
                  </a:moveTo>
                  <a:lnTo>
                    <a:pt x="22" y="1"/>
                  </a:lnTo>
                  <a:lnTo>
                    <a:pt x="46" y="2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873920" y="5342040"/>
              <a:ext cx="69840" cy="1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943760" y="5343480"/>
              <a:ext cx="73080" cy="3240"/>
            </a:xfrm>
            <a:custGeom>
              <a:avLst/>
              <a:gdLst/>
              <a:ahLst/>
              <a:rect l="l" t="t" r="r" b="b"/>
              <a:pathLst>
                <a:path w="46" h="2">
                  <a:moveTo>
                    <a:pt x="0" y="0"/>
                  </a:moveTo>
                  <a:lnTo>
                    <a:pt x="22" y="1"/>
                  </a:lnTo>
                  <a:lnTo>
                    <a:pt x="46" y="2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016840" y="5345280"/>
              <a:ext cx="698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81400" y="52387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81400" y="47451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81400" y="42530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81400" y="37609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81400" y="32670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81400" y="27748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81400" y="22827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81400" y="17892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81400" y="12970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81400" y="8031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93348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66688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4528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23736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972200" y="550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691520" y="582444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rot="16200000">
              <a:off x="-847440" y="2941920"/>
              <a:ext cx="236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diment Loss (Mg/ha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678680" y="1828800"/>
              <a:ext cx="245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378800" y="5029200"/>
              <a:ext cx="319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ing cultivation + 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895480" y="5410080"/>
              <a:ext cx="433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ing cultivation + AF + N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515320" y="4267080"/>
              <a:ext cx="618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ing cultivation + AF + NTFP + Plan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H="1" flipV="1">
              <a:off x="5181480" y="4571640"/>
              <a:ext cx="7632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3246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100160" y="5010120"/>
              <a:ext cx="7753320" cy="604800"/>
            </a:xfrm>
            <a:custGeom>
              <a:avLst/>
              <a:gdLst/>
              <a:ahLst/>
              <a:rect l="l" t="t" r="r" b="b"/>
              <a:pathLst>
                <a:path w="4884" h="381">
                  <a:moveTo>
                    <a:pt x="0" y="381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98" y="47"/>
                  </a:lnTo>
                  <a:lnTo>
                    <a:pt x="148" y="47"/>
                  </a:lnTo>
                  <a:lnTo>
                    <a:pt x="198" y="77"/>
                  </a:lnTo>
                  <a:lnTo>
                    <a:pt x="247" y="155"/>
                  </a:lnTo>
                  <a:lnTo>
                    <a:pt x="296" y="153"/>
                  </a:lnTo>
                  <a:lnTo>
                    <a:pt x="345" y="191"/>
                  </a:lnTo>
                  <a:lnTo>
                    <a:pt x="395" y="272"/>
                  </a:lnTo>
                  <a:lnTo>
                    <a:pt x="444" y="268"/>
                  </a:lnTo>
                  <a:lnTo>
                    <a:pt x="493" y="272"/>
                  </a:lnTo>
                  <a:lnTo>
                    <a:pt x="543" y="341"/>
                  </a:lnTo>
                  <a:lnTo>
                    <a:pt x="592" y="337"/>
                  </a:lnTo>
                  <a:lnTo>
                    <a:pt x="642" y="333"/>
                  </a:lnTo>
                  <a:lnTo>
                    <a:pt x="690" y="358"/>
                  </a:lnTo>
                  <a:lnTo>
                    <a:pt x="740" y="353"/>
                  </a:lnTo>
                  <a:lnTo>
                    <a:pt x="790" y="348"/>
                  </a:lnTo>
                  <a:lnTo>
                    <a:pt x="839" y="369"/>
                  </a:lnTo>
                  <a:lnTo>
                    <a:pt x="888" y="363"/>
                  </a:lnTo>
                  <a:lnTo>
                    <a:pt x="937" y="359"/>
                  </a:lnTo>
                  <a:lnTo>
                    <a:pt x="987" y="381"/>
                  </a:lnTo>
                  <a:lnTo>
                    <a:pt x="1036" y="381"/>
                  </a:lnTo>
                  <a:lnTo>
                    <a:pt x="1085" y="357"/>
                  </a:lnTo>
                  <a:lnTo>
                    <a:pt x="1135" y="370"/>
                  </a:lnTo>
                  <a:lnTo>
                    <a:pt x="1184" y="364"/>
                  </a:lnTo>
                  <a:lnTo>
                    <a:pt x="1234" y="359"/>
                  </a:lnTo>
                  <a:lnTo>
                    <a:pt x="1282" y="367"/>
                  </a:lnTo>
                  <a:lnTo>
                    <a:pt x="1332" y="361"/>
                  </a:lnTo>
                  <a:lnTo>
                    <a:pt x="1381" y="357"/>
                  </a:lnTo>
                  <a:lnTo>
                    <a:pt x="1431" y="367"/>
                  </a:lnTo>
                  <a:lnTo>
                    <a:pt x="1480" y="362"/>
                  </a:lnTo>
                  <a:lnTo>
                    <a:pt x="1529" y="357"/>
                  </a:lnTo>
                  <a:lnTo>
                    <a:pt x="1579" y="369"/>
                  </a:lnTo>
                  <a:lnTo>
                    <a:pt x="1628" y="363"/>
                  </a:lnTo>
                  <a:lnTo>
                    <a:pt x="1677" y="358"/>
                  </a:lnTo>
                  <a:lnTo>
                    <a:pt x="1727" y="367"/>
                  </a:lnTo>
                  <a:lnTo>
                    <a:pt x="1776" y="362"/>
                  </a:lnTo>
                  <a:lnTo>
                    <a:pt x="1826" y="357"/>
                  </a:lnTo>
                  <a:lnTo>
                    <a:pt x="1874" y="369"/>
                  </a:lnTo>
                  <a:lnTo>
                    <a:pt x="1924" y="363"/>
                  </a:lnTo>
                  <a:lnTo>
                    <a:pt x="1973" y="359"/>
                  </a:lnTo>
                  <a:lnTo>
                    <a:pt x="2023" y="367"/>
                  </a:lnTo>
                  <a:lnTo>
                    <a:pt x="2072" y="362"/>
                  </a:lnTo>
                  <a:lnTo>
                    <a:pt x="2121" y="357"/>
                  </a:lnTo>
                  <a:lnTo>
                    <a:pt x="2171" y="369"/>
                  </a:lnTo>
                  <a:lnTo>
                    <a:pt x="2220" y="363"/>
                  </a:lnTo>
                  <a:lnTo>
                    <a:pt x="2269" y="359"/>
                  </a:lnTo>
                  <a:lnTo>
                    <a:pt x="2319" y="367"/>
                  </a:lnTo>
                  <a:lnTo>
                    <a:pt x="2368" y="362"/>
                  </a:lnTo>
                  <a:lnTo>
                    <a:pt x="2418" y="356"/>
                  </a:lnTo>
                  <a:lnTo>
                    <a:pt x="2466" y="370"/>
                  </a:lnTo>
                  <a:lnTo>
                    <a:pt x="2516" y="364"/>
                  </a:lnTo>
                  <a:lnTo>
                    <a:pt x="2565" y="359"/>
                  </a:lnTo>
                  <a:lnTo>
                    <a:pt x="2615" y="367"/>
                  </a:lnTo>
                  <a:lnTo>
                    <a:pt x="2664" y="361"/>
                  </a:lnTo>
                  <a:lnTo>
                    <a:pt x="2713" y="357"/>
                  </a:lnTo>
                  <a:lnTo>
                    <a:pt x="2763" y="367"/>
                  </a:lnTo>
                  <a:lnTo>
                    <a:pt x="2812" y="363"/>
                  </a:lnTo>
                  <a:lnTo>
                    <a:pt x="2861" y="358"/>
                  </a:lnTo>
                  <a:lnTo>
                    <a:pt x="2911" y="367"/>
                  </a:lnTo>
                  <a:lnTo>
                    <a:pt x="2960" y="362"/>
                  </a:lnTo>
                  <a:lnTo>
                    <a:pt x="3010" y="357"/>
                  </a:lnTo>
                  <a:lnTo>
                    <a:pt x="3058" y="369"/>
                  </a:lnTo>
                  <a:lnTo>
                    <a:pt x="3108" y="363"/>
                  </a:lnTo>
                  <a:lnTo>
                    <a:pt x="3157" y="359"/>
                  </a:lnTo>
                  <a:lnTo>
                    <a:pt x="3207" y="367"/>
                  </a:lnTo>
                  <a:lnTo>
                    <a:pt x="3256" y="362"/>
                  </a:lnTo>
                  <a:lnTo>
                    <a:pt x="3305" y="357"/>
                  </a:lnTo>
                  <a:lnTo>
                    <a:pt x="3355" y="370"/>
                  </a:lnTo>
                  <a:lnTo>
                    <a:pt x="3404" y="364"/>
                  </a:lnTo>
                  <a:lnTo>
                    <a:pt x="3453" y="359"/>
                  </a:lnTo>
                  <a:lnTo>
                    <a:pt x="3503" y="367"/>
                  </a:lnTo>
                  <a:lnTo>
                    <a:pt x="3552" y="361"/>
                  </a:lnTo>
                  <a:lnTo>
                    <a:pt x="3602" y="356"/>
                  </a:lnTo>
                  <a:lnTo>
                    <a:pt x="3650" y="370"/>
                  </a:lnTo>
                  <a:lnTo>
                    <a:pt x="3700" y="364"/>
                  </a:lnTo>
                  <a:lnTo>
                    <a:pt x="3749" y="360"/>
                  </a:lnTo>
                  <a:lnTo>
                    <a:pt x="3799" y="367"/>
                  </a:lnTo>
                  <a:lnTo>
                    <a:pt x="3848" y="361"/>
                  </a:lnTo>
                  <a:lnTo>
                    <a:pt x="3897" y="358"/>
                  </a:lnTo>
                  <a:lnTo>
                    <a:pt x="3947" y="366"/>
                  </a:lnTo>
                  <a:lnTo>
                    <a:pt x="3996" y="361"/>
                  </a:lnTo>
                  <a:lnTo>
                    <a:pt x="4045" y="356"/>
                  </a:lnTo>
                  <a:lnTo>
                    <a:pt x="4095" y="369"/>
                  </a:lnTo>
                  <a:lnTo>
                    <a:pt x="4144" y="363"/>
                  </a:lnTo>
                  <a:lnTo>
                    <a:pt x="4194" y="358"/>
                  </a:lnTo>
                  <a:lnTo>
                    <a:pt x="4242" y="367"/>
                  </a:lnTo>
                  <a:lnTo>
                    <a:pt x="4292" y="362"/>
                  </a:lnTo>
                  <a:lnTo>
                    <a:pt x="4341" y="356"/>
                  </a:lnTo>
                  <a:lnTo>
                    <a:pt x="4391" y="369"/>
                  </a:lnTo>
                  <a:lnTo>
                    <a:pt x="4440" y="363"/>
                  </a:lnTo>
                  <a:lnTo>
                    <a:pt x="4489" y="359"/>
                  </a:lnTo>
                  <a:lnTo>
                    <a:pt x="4539" y="367"/>
                  </a:lnTo>
                  <a:lnTo>
                    <a:pt x="4588" y="361"/>
                  </a:lnTo>
                  <a:lnTo>
                    <a:pt x="4637" y="356"/>
                  </a:lnTo>
                  <a:lnTo>
                    <a:pt x="4687" y="370"/>
                  </a:lnTo>
                  <a:lnTo>
                    <a:pt x="4736" y="364"/>
                  </a:lnTo>
                  <a:lnTo>
                    <a:pt x="4786" y="360"/>
                  </a:lnTo>
                  <a:lnTo>
                    <a:pt x="4834" y="367"/>
                  </a:lnTo>
                  <a:lnTo>
                    <a:pt x="4884" y="361"/>
                  </a:lnTo>
                  <a:lnTo>
                    <a:pt x="4884" y="381"/>
                  </a:lnTo>
                  <a:lnTo>
                    <a:pt x="4834" y="381"/>
                  </a:lnTo>
                  <a:lnTo>
                    <a:pt x="4786" y="381"/>
                  </a:lnTo>
                  <a:lnTo>
                    <a:pt x="4736" y="381"/>
                  </a:lnTo>
                  <a:lnTo>
                    <a:pt x="4687" y="381"/>
                  </a:lnTo>
                  <a:lnTo>
                    <a:pt x="4637" y="381"/>
                  </a:lnTo>
                  <a:lnTo>
                    <a:pt x="4588" y="381"/>
                  </a:lnTo>
                  <a:lnTo>
                    <a:pt x="4539" y="381"/>
                  </a:lnTo>
                  <a:lnTo>
                    <a:pt x="4489" y="381"/>
                  </a:lnTo>
                  <a:lnTo>
                    <a:pt x="4440" y="381"/>
                  </a:lnTo>
                  <a:lnTo>
                    <a:pt x="4391" y="381"/>
                  </a:lnTo>
                  <a:lnTo>
                    <a:pt x="4341" y="381"/>
                  </a:lnTo>
                  <a:lnTo>
                    <a:pt x="4292" y="381"/>
                  </a:lnTo>
                  <a:lnTo>
                    <a:pt x="4242" y="381"/>
                  </a:lnTo>
                  <a:lnTo>
                    <a:pt x="4194" y="381"/>
                  </a:lnTo>
                  <a:lnTo>
                    <a:pt x="4144" y="381"/>
                  </a:lnTo>
                  <a:lnTo>
                    <a:pt x="4095" y="381"/>
                  </a:lnTo>
                  <a:lnTo>
                    <a:pt x="4045" y="381"/>
                  </a:lnTo>
                  <a:lnTo>
                    <a:pt x="3996" y="381"/>
                  </a:lnTo>
                  <a:lnTo>
                    <a:pt x="3947" y="381"/>
                  </a:lnTo>
                  <a:lnTo>
                    <a:pt x="3897" y="381"/>
                  </a:lnTo>
                  <a:lnTo>
                    <a:pt x="3848" y="381"/>
                  </a:lnTo>
                  <a:lnTo>
                    <a:pt x="3799" y="381"/>
                  </a:lnTo>
                  <a:lnTo>
                    <a:pt x="3749" y="381"/>
                  </a:lnTo>
                  <a:lnTo>
                    <a:pt x="3700" y="381"/>
                  </a:lnTo>
                  <a:lnTo>
                    <a:pt x="3650" y="381"/>
                  </a:lnTo>
                  <a:lnTo>
                    <a:pt x="3602" y="381"/>
                  </a:lnTo>
                  <a:lnTo>
                    <a:pt x="3552" y="381"/>
                  </a:lnTo>
                  <a:lnTo>
                    <a:pt x="3503" y="381"/>
                  </a:lnTo>
                  <a:lnTo>
                    <a:pt x="3453" y="381"/>
                  </a:lnTo>
                  <a:lnTo>
                    <a:pt x="3404" y="381"/>
                  </a:lnTo>
                  <a:lnTo>
                    <a:pt x="3355" y="381"/>
                  </a:lnTo>
                  <a:lnTo>
                    <a:pt x="3305" y="381"/>
                  </a:lnTo>
                  <a:lnTo>
                    <a:pt x="3256" y="381"/>
                  </a:lnTo>
                  <a:lnTo>
                    <a:pt x="3207" y="381"/>
                  </a:lnTo>
                  <a:lnTo>
                    <a:pt x="3157" y="381"/>
                  </a:lnTo>
                  <a:lnTo>
                    <a:pt x="3108" y="381"/>
                  </a:lnTo>
                  <a:lnTo>
                    <a:pt x="3058" y="381"/>
                  </a:lnTo>
                  <a:lnTo>
                    <a:pt x="3010" y="381"/>
                  </a:lnTo>
                  <a:lnTo>
                    <a:pt x="2960" y="381"/>
                  </a:lnTo>
                  <a:lnTo>
                    <a:pt x="2911" y="381"/>
                  </a:lnTo>
                  <a:lnTo>
                    <a:pt x="2861" y="381"/>
                  </a:lnTo>
                  <a:lnTo>
                    <a:pt x="2812" y="381"/>
                  </a:lnTo>
                  <a:lnTo>
                    <a:pt x="2763" y="381"/>
                  </a:lnTo>
                  <a:lnTo>
                    <a:pt x="2713" y="381"/>
                  </a:lnTo>
                  <a:lnTo>
                    <a:pt x="2664" y="381"/>
                  </a:lnTo>
                  <a:lnTo>
                    <a:pt x="2615" y="381"/>
                  </a:lnTo>
                  <a:lnTo>
                    <a:pt x="2565" y="381"/>
                  </a:lnTo>
                  <a:lnTo>
                    <a:pt x="2516" y="381"/>
                  </a:lnTo>
                  <a:lnTo>
                    <a:pt x="2466" y="381"/>
                  </a:lnTo>
                  <a:lnTo>
                    <a:pt x="2418" y="381"/>
                  </a:lnTo>
                  <a:lnTo>
                    <a:pt x="2368" y="381"/>
                  </a:lnTo>
                  <a:lnTo>
                    <a:pt x="2319" y="381"/>
                  </a:lnTo>
                  <a:lnTo>
                    <a:pt x="2269" y="381"/>
                  </a:lnTo>
                  <a:lnTo>
                    <a:pt x="2220" y="381"/>
                  </a:lnTo>
                  <a:lnTo>
                    <a:pt x="2171" y="381"/>
                  </a:lnTo>
                  <a:lnTo>
                    <a:pt x="2121" y="381"/>
                  </a:lnTo>
                  <a:lnTo>
                    <a:pt x="2072" y="381"/>
                  </a:lnTo>
                  <a:lnTo>
                    <a:pt x="2023" y="381"/>
                  </a:lnTo>
                  <a:lnTo>
                    <a:pt x="1973" y="381"/>
                  </a:lnTo>
                  <a:lnTo>
                    <a:pt x="1924" y="381"/>
                  </a:lnTo>
                  <a:lnTo>
                    <a:pt x="1874" y="381"/>
                  </a:lnTo>
                  <a:lnTo>
                    <a:pt x="1826" y="381"/>
                  </a:lnTo>
                  <a:lnTo>
                    <a:pt x="1776" y="381"/>
                  </a:lnTo>
                  <a:lnTo>
                    <a:pt x="1727" y="381"/>
                  </a:lnTo>
                  <a:lnTo>
                    <a:pt x="1677" y="381"/>
                  </a:lnTo>
                  <a:lnTo>
                    <a:pt x="1628" y="381"/>
                  </a:lnTo>
                  <a:lnTo>
                    <a:pt x="1579" y="381"/>
                  </a:lnTo>
                  <a:lnTo>
                    <a:pt x="1529" y="381"/>
                  </a:lnTo>
                  <a:lnTo>
                    <a:pt x="1480" y="381"/>
                  </a:lnTo>
                  <a:lnTo>
                    <a:pt x="1431" y="381"/>
                  </a:lnTo>
                  <a:lnTo>
                    <a:pt x="1381" y="381"/>
                  </a:lnTo>
                  <a:lnTo>
                    <a:pt x="1332" y="381"/>
                  </a:lnTo>
                  <a:lnTo>
                    <a:pt x="1282" y="381"/>
                  </a:lnTo>
                  <a:lnTo>
                    <a:pt x="1234" y="381"/>
                  </a:lnTo>
                  <a:lnTo>
                    <a:pt x="1184" y="381"/>
                  </a:lnTo>
                  <a:lnTo>
                    <a:pt x="1135" y="381"/>
                  </a:lnTo>
                  <a:lnTo>
                    <a:pt x="1085" y="381"/>
                  </a:lnTo>
                  <a:lnTo>
                    <a:pt x="1036" y="381"/>
                  </a:lnTo>
                  <a:lnTo>
                    <a:pt x="987" y="381"/>
                  </a:lnTo>
                  <a:lnTo>
                    <a:pt x="937" y="381"/>
                  </a:lnTo>
                  <a:lnTo>
                    <a:pt x="888" y="381"/>
                  </a:lnTo>
                  <a:lnTo>
                    <a:pt x="839" y="381"/>
                  </a:lnTo>
                  <a:lnTo>
                    <a:pt x="790" y="381"/>
                  </a:lnTo>
                  <a:lnTo>
                    <a:pt x="740" y="381"/>
                  </a:lnTo>
                  <a:lnTo>
                    <a:pt x="690" y="381"/>
                  </a:lnTo>
                  <a:lnTo>
                    <a:pt x="642" y="381"/>
                  </a:lnTo>
                  <a:lnTo>
                    <a:pt x="592" y="381"/>
                  </a:lnTo>
                  <a:lnTo>
                    <a:pt x="543" y="381"/>
                  </a:lnTo>
                  <a:lnTo>
                    <a:pt x="493" y="381"/>
                  </a:lnTo>
                  <a:lnTo>
                    <a:pt x="444" y="381"/>
                  </a:lnTo>
                  <a:lnTo>
                    <a:pt x="395" y="381"/>
                  </a:lnTo>
                  <a:lnTo>
                    <a:pt x="345" y="381"/>
                  </a:lnTo>
                  <a:lnTo>
                    <a:pt x="296" y="381"/>
                  </a:lnTo>
                  <a:lnTo>
                    <a:pt x="247" y="381"/>
                  </a:lnTo>
                  <a:lnTo>
                    <a:pt x="198" y="381"/>
                  </a:lnTo>
                  <a:lnTo>
                    <a:pt x="148" y="381"/>
                  </a:lnTo>
                  <a:lnTo>
                    <a:pt x="98" y="381"/>
                  </a:lnTo>
                  <a:lnTo>
                    <a:pt x="50" y="381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100160" y="1206360"/>
              <a:ext cx="7753320" cy="4408560"/>
            </a:xfrm>
            <a:custGeom>
              <a:avLst/>
              <a:gdLst/>
              <a:ahLst/>
              <a:rect l="l" t="t" r="r" b="b"/>
              <a:pathLst>
                <a:path w="4884" h="2777">
                  <a:moveTo>
                    <a:pt x="0" y="2397"/>
                  </a:moveTo>
                  <a:lnTo>
                    <a:pt x="0" y="6"/>
                  </a:lnTo>
                  <a:lnTo>
                    <a:pt x="50" y="0"/>
                  </a:lnTo>
                  <a:lnTo>
                    <a:pt x="98" y="104"/>
                  </a:lnTo>
                  <a:lnTo>
                    <a:pt x="148" y="98"/>
                  </a:lnTo>
                  <a:lnTo>
                    <a:pt x="198" y="170"/>
                  </a:lnTo>
                  <a:lnTo>
                    <a:pt x="247" y="324"/>
                  </a:lnTo>
                  <a:lnTo>
                    <a:pt x="296" y="278"/>
                  </a:lnTo>
                  <a:lnTo>
                    <a:pt x="345" y="369"/>
                  </a:lnTo>
                  <a:lnTo>
                    <a:pt x="395" y="650"/>
                  </a:lnTo>
                  <a:lnTo>
                    <a:pt x="444" y="608"/>
                  </a:lnTo>
                  <a:lnTo>
                    <a:pt x="493" y="605"/>
                  </a:lnTo>
                  <a:lnTo>
                    <a:pt x="543" y="1006"/>
                  </a:lnTo>
                  <a:lnTo>
                    <a:pt x="592" y="981"/>
                  </a:lnTo>
                  <a:lnTo>
                    <a:pt x="642" y="925"/>
                  </a:lnTo>
                  <a:lnTo>
                    <a:pt x="690" y="1211"/>
                  </a:lnTo>
                  <a:lnTo>
                    <a:pt x="740" y="1177"/>
                  </a:lnTo>
                  <a:lnTo>
                    <a:pt x="790" y="1142"/>
                  </a:lnTo>
                  <a:lnTo>
                    <a:pt x="839" y="1632"/>
                  </a:lnTo>
                  <a:lnTo>
                    <a:pt x="888" y="1603"/>
                  </a:lnTo>
                  <a:lnTo>
                    <a:pt x="937" y="1571"/>
                  </a:lnTo>
                  <a:lnTo>
                    <a:pt x="987" y="1744"/>
                  </a:lnTo>
                  <a:lnTo>
                    <a:pt x="1036" y="1715"/>
                  </a:lnTo>
                  <a:lnTo>
                    <a:pt x="1085" y="2238"/>
                  </a:lnTo>
                  <a:lnTo>
                    <a:pt x="1135" y="2311"/>
                  </a:lnTo>
                  <a:lnTo>
                    <a:pt x="1184" y="2265"/>
                  </a:lnTo>
                  <a:lnTo>
                    <a:pt x="1234" y="2218"/>
                  </a:lnTo>
                  <a:lnTo>
                    <a:pt x="1282" y="2270"/>
                  </a:lnTo>
                  <a:lnTo>
                    <a:pt x="1332" y="2228"/>
                  </a:lnTo>
                  <a:lnTo>
                    <a:pt x="1381" y="2219"/>
                  </a:lnTo>
                  <a:lnTo>
                    <a:pt x="1431" y="2279"/>
                  </a:lnTo>
                  <a:lnTo>
                    <a:pt x="1480" y="2235"/>
                  </a:lnTo>
                  <a:lnTo>
                    <a:pt x="1529" y="2190"/>
                  </a:lnTo>
                  <a:lnTo>
                    <a:pt x="1579" y="2276"/>
                  </a:lnTo>
                  <a:lnTo>
                    <a:pt x="1628" y="2237"/>
                  </a:lnTo>
                  <a:lnTo>
                    <a:pt x="1677" y="2190"/>
                  </a:lnTo>
                  <a:lnTo>
                    <a:pt x="1727" y="2274"/>
                  </a:lnTo>
                  <a:lnTo>
                    <a:pt x="1776" y="2232"/>
                  </a:lnTo>
                  <a:lnTo>
                    <a:pt x="1826" y="2184"/>
                  </a:lnTo>
                  <a:lnTo>
                    <a:pt x="1874" y="2285"/>
                  </a:lnTo>
                  <a:lnTo>
                    <a:pt x="1924" y="2248"/>
                  </a:lnTo>
                  <a:lnTo>
                    <a:pt x="1973" y="2202"/>
                  </a:lnTo>
                  <a:lnTo>
                    <a:pt x="2023" y="2277"/>
                  </a:lnTo>
                  <a:lnTo>
                    <a:pt x="2072" y="2236"/>
                  </a:lnTo>
                  <a:lnTo>
                    <a:pt x="2121" y="2189"/>
                  </a:lnTo>
                  <a:lnTo>
                    <a:pt x="2171" y="2284"/>
                  </a:lnTo>
                  <a:lnTo>
                    <a:pt x="2220" y="2246"/>
                  </a:lnTo>
                  <a:lnTo>
                    <a:pt x="2269" y="2200"/>
                  </a:lnTo>
                  <a:lnTo>
                    <a:pt x="2319" y="2269"/>
                  </a:lnTo>
                  <a:lnTo>
                    <a:pt x="2368" y="2230"/>
                  </a:lnTo>
                  <a:lnTo>
                    <a:pt x="2418" y="2183"/>
                  </a:lnTo>
                  <a:lnTo>
                    <a:pt x="2466" y="2290"/>
                  </a:lnTo>
                  <a:lnTo>
                    <a:pt x="2516" y="2254"/>
                  </a:lnTo>
                  <a:lnTo>
                    <a:pt x="2565" y="2208"/>
                  </a:lnTo>
                  <a:lnTo>
                    <a:pt x="2615" y="2278"/>
                  </a:lnTo>
                  <a:lnTo>
                    <a:pt x="2664" y="2236"/>
                  </a:lnTo>
                  <a:lnTo>
                    <a:pt x="2713" y="2217"/>
                  </a:lnTo>
                  <a:lnTo>
                    <a:pt x="2763" y="2273"/>
                  </a:lnTo>
                  <a:lnTo>
                    <a:pt x="2812" y="2232"/>
                  </a:lnTo>
                  <a:lnTo>
                    <a:pt x="2861" y="2186"/>
                  </a:lnTo>
                  <a:lnTo>
                    <a:pt x="2911" y="2259"/>
                  </a:lnTo>
                  <a:lnTo>
                    <a:pt x="2960" y="2226"/>
                  </a:lnTo>
                  <a:lnTo>
                    <a:pt x="3010" y="2179"/>
                  </a:lnTo>
                  <a:lnTo>
                    <a:pt x="3058" y="2274"/>
                  </a:lnTo>
                  <a:lnTo>
                    <a:pt x="3108" y="2238"/>
                  </a:lnTo>
                  <a:lnTo>
                    <a:pt x="3157" y="2192"/>
                  </a:lnTo>
                  <a:lnTo>
                    <a:pt x="3207" y="2281"/>
                  </a:lnTo>
                  <a:lnTo>
                    <a:pt x="3256" y="2245"/>
                  </a:lnTo>
                  <a:lnTo>
                    <a:pt x="3305" y="2199"/>
                  </a:lnTo>
                  <a:lnTo>
                    <a:pt x="3355" y="2300"/>
                  </a:lnTo>
                  <a:lnTo>
                    <a:pt x="3404" y="2259"/>
                  </a:lnTo>
                  <a:lnTo>
                    <a:pt x="3453" y="2213"/>
                  </a:lnTo>
                  <a:lnTo>
                    <a:pt x="3503" y="2286"/>
                  </a:lnTo>
                  <a:lnTo>
                    <a:pt x="3552" y="2242"/>
                  </a:lnTo>
                  <a:lnTo>
                    <a:pt x="3602" y="2205"/>
                  </a:lnTo>
                  <a:lnTo>
                    <a:pt x="3650" y="2301"/>
                  </a:lnTo>
                  <a:lnTo>
                    <a:pt x="3700" y="2258"/>
                  </a:lnTo>
                  <a:lnTo>
                    <a:pt x="3749" y="2213"/>
                  </a:lnTo>
                  <a:lnTo>
                    <a:pt x="3799" y="2275"/>
                  </a:lnTo>
                  <a:lnTo>
                    <a:pt x="3848" y="2233"/>
                  </a:lnTo>
                  <a:lnTo>
                    <a:pt x="3897" y="2220"/>
                  </a:lnTo>
                  <a:lnTo>
                    <a:pt x="3947" y="2262"/>
                  </a:lnTo>
                  <a:lnTo>
                    <a:pt x="3996" y="2219"/>
                  </a:lnTo>
                  <a:lnTo>
                    <a:pt x="4045" y="2174"/>
                  </a:lnTo>
                  <a:lnTo>
                    <a:pt x="4095" y="2255"/>
                  </a:lnTo>
                  <a:lnTo>
                    <a:pt x="4144" y="2224"/>
                  </a:lnTo>
                  <a:lnTo>
                    <a:pt x="4194" y="2179"/>
                  </a:lnTo>
                  <a:lnTo>
                    <a:pt x="4242" y="2262"/>
                  </a:lnTo>
                  <a:lnTo>
                    <a:pt x="4292" y="2222"/>
                  </a:lnTo>
                  <a:lnTo>
                    <a:pt x="4341" y="2172"/>
                  </a:lnTo>
                  <a:lnTo>
                    <a:pt x="4391" y="2271"/>
                  </a:lnTo>
                  <a:lnTo>
                    <a:pt x="4440" y="2238"/>
                  </a:lnTo>
                  <a:lnTo>
                    <a:pt x="4489" y="2193"/>
                  </a:lnTo>
                  <a:lnTo>
                    <a:pt x="4539" y="2269"/>
                  </a:lnTo>
                  <a:lnTo>
                    <a:pt x="4588" y="2232"/>
                  </a:lnTo>
                  <a:lnTo>
                    <a:pt x="4637" y="2185"/>
                  </a:lnTo>
                  <a:lnTo>
                    <a:pt x="4687" y="2295"/>
                  </a:lnTo>
                  <a:lnTo>
                    <a:pt x="4736" y="2255"/>
                  </a:lnTo>
                  <a:lnTo>
                    <a:pt x="4786" y="2209"/>
                  </a:lnTo>
                  <a:lnTo>
                    <a:pt x="4834" y="2275"/>
                  </a:lnTo>
                  <a:lnTo>
                    <a:pt x="4884" y="2233"/>
                  </a:lnTo>
                  <a:lnTo>
                    <a:pt x="4884" y="2757"/>
                  </a:lnTo>
                  <a:lnTo>
                    <a:pt x="4834" y="2763"/>
                  </a:lnTo>
                  <a:lnTo>
                    <a:pt x="4786" y="2756"/>
                  </a:lnTo>
                  <a:lnTo>
                    <a:pt x="4736" y="2760"/>
                  </a:lnTo>
                  <a:lnTo>
                    <a:pt x="4687" y="2766"/>
                  </a:lnTo>
                  <a:lnTo>
                    <a:pt x="4637" y="2752"/>
                  </a:lnTo>
                  <a:lnTo>
                    <a:pt x="4588" y="2757"/>
                  </a:lnTo>
                  <a:lnTo>
                    <a:pt x="4539" y="2763"/>
                  </a:lnTo>
                  <a:lnTo>
                    <a:pt x="4489" y="2755"/>
                  </a:lnTo>
                  <a:lnTo>
                    <a:pt x="4440" y="2759"/>
                  </a:lnTo>
                  <a:lnTo>
                    <a:pt x="4391" y="2765"/>
                  </a:lnTo>
                  <a:lnTo>
                    <a:pt x="4341" y="2752"/>
                  </a:lnTo>
                  <a:lnTo>
                    <a:pt x="4292" y="2758"/>
                  </a:lnTo>
                  <a:lnTo>
                    <a:pt x="4242" y="2763"/>
                  </a:lnTo>
                  <a:lnTo>
                    <a:pt x="4194" y="2754"/>
                  </a:lnTo>
                  <a:lnTo>
                    <a:pt x="4144" y="2759"/>
                  </a:lnTo>
                  <a:lnTo>
                    <a:pt x="4095" y="2765"/>
                  </a:lnTo>
                  <a:lnTo>
                    <a:pt x="4045" y="2752"/>
                  </a:lnTo>
                  <a:lnTo>
                    <a:pt x="3996" y="2757"/>
                  </a:lnTo>
                  <a:lnTo>
                    <a:pt x="3947" y="2762"/>
                  </a:lnTo>
                  <a:lnTo>
                    <a:pt x="3897" y="2754"/>
                  </a:lnTo>
                  <a:lnTo>
                    <a:pt x="3848" y="2757"/>
                  </a:lnTo>
                  <a:lnTo>
                    <a:pt x="3799" y="2763"/>
                  </a:lnTo>
                  <a:lnTo>
                    <a:pt x="3749" y="2756"/>
                  </a:lnTo>
                  <a:lnTo>
                    <a:pt x="3700" y="2760"/>
                  </a:lnTo>
                  <a:lnTo>
                    <a:pt x="3650" y="2766"/>
                  </a:lnTo>
                  <a:lnTo>
                    <a:pt x="3602" y="2752"/>
                  </a:lnTo>
                  <a:lnTo>
                    <a:pt x="3552" y="2757"/>
                  </a:lnTo>
                  <a:lnTo>
                    <a:pt x="3503" y="2763"/>
                  </a:lnTo>
                  <a:lnTo>
                    <a:pt x="3453" y="2755"/>
                  </a:lnTo>
                  <a:lnTo>
                    <a:pt x="3404" y="2760"/>
                  </a:lnTo>
                  <a:lnTo>
                    <a:pt x="3355" y="2766"/>
                  </a:lnTo>
                  <a:lnTo>
                    <a:pt x="3305" y="2753"/>
                  </a:lnTo>
                  <a:lnTo>
                    <a:pt x="3256" y="2758"/>
                  </a:lnTo>
                  <a:lnTo>
                    <a:pt x="3207" y="2763"/>
                  </a:lnTo>
                  <a:lnTo>
                    <a:pt x="3157" y="2755"/>
                  </a:lnTo>
                  <a:lnTo>
                    <a:pt x="3108" y="2759"/>
                  </a:lnTo>
                  <a:lnTo>
                    <a:pt x="3058" y="2765"/>
                  </a:lnTo>
                  <a:lnTo>
                    <a:pt x="3010" y="2753"/>
                  </a:lnTo>
                  <a:lnTo>
                    <a:pt x="2960" y="2758"/>
                  </a:lnTo>
                  <a:lnTo>
                    <a:pt x="2911" y="2763"/>
                  </a:lnTo>
                  <a:lnTo>
                    <a:pt x="2861" y="2754"/>
                  </a:lnTo>
                  <a:lnTo>
                    <a:pt x="2812" y="2759"/>
                  </a:lnTo>
                  <a:lnTo>
                    <a:pt x="2763" y="2763"/>
                  </a:lnTo>
                  <a:lnTo>
                    <a:pt x="2713" y="2753"/>
                  </a:lnTo>
                  <a:lnTo>
                    <a:pt x="2664" y="2757"/>
                  </a:lnTo>
                  <a:lnTo>
                    <a:pt x="2615" y="2763"/>
                  </a:lnTo>
                  <a:lnTo>
                    <a:pt x="2565" y="2755"/>
                  </a:lnTo>
                  <a:lnTo>
                    <a:pt x="2516" y="2760"/>
                  </a:lnTo>
                  <a:lnTo>
                    <a:pt x="2466" y="2766"/>
                  </a:lnTo>
                  <a:lnTo>
                    <a:pt x="2418" y="2752"/>
                  </a:lnTo>
                  <a:lnTo>
                    <a:pt x="2368" y="2758"/>
                  </a:lnTo>
                  <a:lnTo>
                    <a:pt x="2319" y="2763"/>
                  </a:lnTo>
                  <a:lnTo>
                    <a:pt x="2269" y="2755"/>
                  </a:lnTo>
                  <a:lnTo>
                    <a:pt x="2220" y="2759"/>
                  </a:lnTo>
                  <a:lnTo>
                    <a:pt x="2171" y="2765"/>
                  </a:lnTo>
                  <a:lnTo>
                    <a:pt x="2121" y="2753"/>
                  </a:lnTo>
                  <a:lnTo>
                    <a:pt x="2072" y="2758"/>
                  </a:lnTo>
                  <a:lnTo>
                    <a:pt x="2023" y="2763"/>
                  </a:lnTo>
                  <a:lnTo>
                    <a:pt x="1973" y="2755"/>
                  </a:lnTo>
                  <a:lnTo>
                    <a:pt x="1924" y="2759"/>
                  </a:lnTo>
                  <a:lnTo>
                    <a:pt x="1874" y="2765"/>
                  </a:lnTo>
                  <a:lnTo>
                    <a:pt x="1826" y="2753"/>
                  </a:lnTo>
                  <a:lnTo>
                    <a:pt x="1776" y="2758"/>
                  </a:lnTo>
                  <a:lnTo>
                    <a:pt x="1727" y="2763"/>
                  </a:lnTo>
                  <a:lnTo>
                    <a:pt x="1677" y="2754"/>
                  </a:lnTo>
                  <a:lnTo>
                    <a:pt x="1628" y="2759"/>
                  </a:lnTo>
                  <a:lnTo>
                    <a:pt x="1579" y="2765"/>
                  </a:lnTo>
                  <a:lnTo>
                    <a:pt x="1529" y="2753"/>
                  </a:lnTo>
                  <a:lnTo>
                    <a:pt x="1480" y="2758"/>
                  </a:lnTo>
                  <a:lnTo>
                    <a:pt x="1431" y="2763"/>
                  </a:lnTo>
                  <a:lnTo>
                    <a:pt x="1381" y="2753"/>
                  </a:lnTo>
                  <a:lnTo>
                    <a:pt x="1332" y="2757"/>
                  </a:lnTo>
                  <a:lnTo>
                    <a:pt x="1282" y="2763"/>
                  </a:lnTo>
                  <a:lnTo>
                    <a:pt x="1234" y="2755"/>
                  </a:lnTo>
                  <a:lnTo>
                    <a:pt x="1184" y="2760"/>
                  </a:lnTo>
                  <a:lnTo>
                    <a:pt x="1135" y="2766"/>
                  </a:lnTo>
                  <a:lnTo>
                    <a:pt x="1085" y="2753"/>
                  </a:lnTo>
                  <a:lnTo>
                    <a:pt x="1036" y="2777"/>
                  </a:lnTo>
                  <a:lnTo>
                    <a:pt x="987" y="2777"/>
                  </a:lnTo>
                  <a:lnTo>
                    <a:pt x="937" y="2755"/>
                  </a:lnTo>
                  <a:lnTo>
                    <a:pt x="888" y="2759"/>
                  </a:lnTo>
                  <a:lnTo>
                    <a:pt x="839" y="2765"/>
                  </a:lnTo>
                  <a:lnTo>
                    <a:pt x="790" y="2744"/>
                  </a:lnTo>
                  <a:lnTo>
                    <a:pt x="740" y="2749"/>
                  </a:lnTo>
                  <a:lnTo>
                    <a:pt x="690" y="2754"/>
                  </a:lnTo>
                  <a:lnTo>
                    <a:pt x="642" y="2729"/>
                  </a:lnTo>
                  <a:lnTo>
                    <a:pt x="592" y="2733"/>
                  </a:lnTo>
                  <a:lnTo>
                    <a:pt x="543" y="2737"/>
                  </a:lnTo>
                  <a:lnTo>
                    <a:pt x="493" y="2668"/>
                  </a:lnTo>
                  <a:lnTo>
                    <a:pt x="444" y="2664"/>
                  </a:lnTo>
                  <a:lnTo>
                    <a:pt x="395" y="2668"/>
                  </a:lnTo>
                  <a:lnTo>
                    <a:pt x="345" y="2587"/>
                  </a:lnTo>
                  <a:lnTo>
                    <a:pt x="296" y="2549"/>
                  </a:lnTo>
                  <a:lnTo>
                    <a:pt x="247" y="2551"/>
                  </a:lnTo>
                  <a:lnTo>
                    <a:pt x="198" y="2473"/>
                  </a:lnTo>
                  <a:lnTo>
                    <a:pt x="148" y="2443"/>
                  </a:lnTo>
                  <a:lnTo>
                    <a:pt x="98" y="2443"/>
                  </a:lnTo>
                  <a:lnTo>
                    <a:pt x="50" y="2396"/>
                  </a:lnTo>
                  <a:lnTo>
                    <a:pt x="0" y="23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100160" y="5010120"/>
              <a:ext cx="7753320" cy="604800"/>
            </a:xfrm>
            <a:custGeom>
              <a:avLst/>
              <a:gdLst/>
              <a:ahLst/>
              <a:rect l="l" t="t" r="r" b="b"/>
              <a:pathLst>
                <a:path w="4884" h="381">
                  <a:moveTo>
                    <a:pt x="0" y="381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98" y="47"/>
                  </a:lnTo>
                  <a:lnTo>
                    <a:pt x="148" y="47"/>
                  </a:lnTo>
                  <a:lnTo>
                    <a:pt x="198" y="77"/>
                  </a:lnTo>
                  <a:lnTo>
                    <a:pt x="247" y="155"/>
                  </a:lnTo>
                  <a:lnTo>
                    <a:pt x="296" y="153"/>
                  </a:lnTo>
                  <a:lnTo>
                    <a:pt x="345" y="191"/>
                  </a:lnTo>
                  <a:lnTo>
                    <a:pt x="395" y="272"/>
                  </a:lnTo>
                  <a:lnTo>
                    <a:pt x="444" y="268"/>
                  </a:lnTo>
                  <a:lnTo>
                    <a:pt x="493" y="272"/>
                  </a:lnTo>
                  <a:lnTo>
                    <a:pt x="543" y="341"/>
                  </a:lnTo>
                  <a:lnTo>
                    <a:pt x="592" y="337"/>
                  </a:lnTo>
                  <a:lnTo>
                    <a:pt x="642" y="333"/>
                  </a:lnTo>
                  <a:lnTo>
                    <a:pt x="690" y="358"/>
                  </a:lnTo>
                  <a:lnTo>
                    <a:pt x="740" y="353"/>
                  </a:lnTo>
                  <a:lnTo>
                    <a:pt x="790" y="348"/>
                  </a:lnTo>
                  <a:lnTo>
                    <a:pt x="839" y="369"/>
                  </a:lnTo>
                  <a:lnTo>
                    <a:pt x="888" y="363"/>
                  </a:lnTo>
                  <a:lnTo>
                    <a:pt x="937" y="359"/>
                  </a:lnTo>
                  <a:lnTo>
                    <a:pt x="987" y="381"/>
                  </a:lnTo>
                  <a:lnTo>
                    <a:pt x="1036" y="381"/>
                  </a:lnTo>
                  <a:lnTo>
                    <a:pt x="1085" y="357"/>
                  </a:lnTo>
                  <a:lnTo>
                    <a:pt x="1135" y="370"/>
                  </a:lnTo>
                  <a:lnTo>
                    <a:pt x="1184" y="364"/>
                  </a:lnTo>
                  <a:lnTo>
                    <a:pt x="1234" y="359"/>
                  </a:lnTo>
                  <a:lnTo>
                    <a:pt x="1282" y="367"/>
                  </a:lnTo>
                  <a:lnTo>
                    <a:pt x="1332" y="361"/>
                  </a:lnTo>
                  <a:lnTo>
                    <a:pt x="1381" y="357"/>
                  </a:lnTo>
                  <a:lnTo>
                    <a:pt x="1431" y="367"/>
                  </a:lnTo>
                  <a:lnTo>
                    <a:pt x="1480" y="362"/>
                  </a:lnTo>
                  <a:lnTo>
                    <a:pt x="1529" y="357"/>
                  </a:lnTo>
                  <a:lnTo>
                    <a:pt x="1579" y="369"/>
                  </a:lnTo>
                  <a:lnTo>
                    <a:pt x="1628" y="363"/>
                  </a:lnTo>
                  <a:lnTo>
                    <a:pt x="1677" y="358"/>
                  </a:lnTo>
                  <a:lnTo>
                    <a:pt x="1727" y="367"/>
                  </a:lnTo>
                  <a:lnTo>
                    <a:pt x="1776" y="362"/>
                  </a:lnTo>
                  <a:lnTo>
                    <a:pt x="1826" y="357"/>
                  </a:lnTo>
                  <a:lnTo>
                    <a:pt x="1874" y="369"/>
                  </a:lnTo>
                  <a:lnTo>
                    <a:pt x="1924" y="363"/>
                  </a:lnTo>
                  <a:lnTo>
                    <a:pt x="1973" y="359"/>
                  </a:lnTo>
                  <a:lnTo>
                    <a:pt x="2023" y="367"/>
                  </a:lnTo>
                  <a:lnTo>
                    <a:pt x="2072" y="362"/>
                  </a:lnTo>
                  <a:lnTo>
                    <a:pt x="2121" y="357"/>
                  </a:lnTo>
                  <a:lnTo>
                    <a:pt x="2171" y="369"/>
                  </a:lnTo>
                  <a:lnTo>
                    <a:pt x="2220" y="363"/>
                  </a:lnTo>
                  <a:lnTo>
                    <a:pt x="2269" y="359"/>
                  </a:lnTo>
                  <a:lnTo>
                    <a:pt x="2319" y="367"/>
                  </a:lnTo>
                  <a:lnTo>
                    <a:pt x="2368" y="362"/>
                  </a:lnTo>
                  <a:lnTo>
                    <a:pt x="2418" y="356"/>
                  </a:lnTo>
                  <a:lnTo>
                    <a:pt x="2466" y="370"/>
                  </a:lnTo>
                  <a:lnTo>
                    <a:pt x="2516" y="364"/>
                  </a:lnTo>
                  <a:lnTo>
                    <a:pt x="2565" y="359"/>
                  </a:lnTo>
                  <a:lnTo>
                    <a:pt x="2615" y="367"/>
                  </a:lnTo>
                  <a:lnTo>
                    <a:pt x="2664" y="361"/>
                  </a:lnTo>
                  <a:lnTo>
                    <a:pt x="2713" y="357"/>
                  </a:lnTo>
                  <a:lnTo>
                    <a:pt x="2763" y="367"/>
                  </a:lnTo>
                  <a:lnTo>
                    <a:pt x="2812" y="363"/>
                  </a:lnTo>
                  <a:lnTo>
                    <a:pt x="2861" y="358"/>
                  </a:lnTo>
                  <a:lnTo>
                    <a:pt x="2911" y="367"/>
                  </a:lnTo>
                  <a:lnTo>
                    <a:pt x="2960" y="362"/>
                  </a:lnTo>
                  <a:lnTo>
                    <a:pt x="3010" y="357"/>
                  </a:lnTo>
                  <a:lnTo>
                    <a:pt x="3058" y="369"/>
                  </a:lnTo>
                  <a:lnTo>
                    <a:pt x="3108" y="363"/>
                  </a:lnTo>
                  <a:lnTo>
                    <a:pt x="3157" y="359"/>
                  </a:lnTo>
                  <a:lnTo>
                    <a:pt x="3207" y="367"/>
                  </a:lnTo>
                  <a:lnTo>
                    <a:pt x="3256" y="362"/>
                  </a:lnTo>
                  <a:lnTo>
                    <a:pt x="3305" y="357"/>
                  </a:lnTo>
                  <a:lnTo>
                    <a:pt x="3355" y="370"/>
                  </a:lnTo>
                  <a:lnTo>
                    <a:pt x="3404" y="364"/>
                  </a:lnTo>
                  <a:lnTo>
                    <a:pt x="3453" y="359"/>
                  </a:lnTo>
                  <a:lnTo>
                    <a:pt x="3503" y="367"/>
                  </a:lnTo>
                  <a:lnTo>
                    <a:pt x="3552" y="361"/>
                  </a:lnTo>
                  <a:lnTo>
                    <a:pt x="3602" y="356"/>
                  </a:lnTo>
                  <a:lnTo>
                    <a:pt x="3650" y="370"/>
                  </a:lnTo>
                  <a:lnTo>
                    <a:pt x="3700" y="364"/>
                  </a:lnTo>
                  <a:lnTo>
                    <a:pt x="3749" y="360"/>
                  </a:lnTo>
                  <a:lnTo>
                    <a:pt x="3799" y="367"/>
                  </a:lnTo>
                  <a:lnTo>
                    <a:pt x="3848" y="361"/>
                  </a:lnTo>
                  <a:lnTo>
                    <a:pt x="3897" y="358"/>
                  </a:lnTo>
                  <a:lnTo>
                    <a:pt x="3947" y="366"/>
                  </a:lnTo>
                  <a:lnTo>
                    <a:pt x="3996" y="361"/>
                  </a:lnTo>
                  <a:lnTo>
                    <a:pt x="4045" y="356"/>
                  </a:lnTo>
                  <a:lnTo>
                    <a:pt x="4095" y="369"/>
                  </a:lnTo>
                  <a:lnTo>
                    <a:pt x="4144" y="363"/>
                  </a:lnTo>
                  <a:lnTo>
                    <a:pt x="4194" y="358"/>
                  </a:lnTo>
                  <a:lnTo>
                    <a:pt x="4242" y="367"/>
                  </a:lnTo>
                  <a:lnTo>
                    <a:pt x="4292" y="362"/>
                  </a:lnTo>
                  <a:lnTo>
                    <a:pt x="4341" y="356"/>
                  </a:lnTo>
                  <a:lnTo>
                    <a:pt x="4391" y="369"/>
                  </a:lnTo>
                  <a:lnTo>
                    <a:pt x="4440" y="363"/>
                  </a:lnTo>
                  <a:lnTo>
                    <a:pt x="4489" y="359"/>
                  </a:lnTo>
                  <a:lnTo>
                    <a:pt x="4539" y="367"/>
                  </a:lnTo>
                  <a:lnTo>
                    <a:pt x="4588" y="361"/>
                  </a:lnTo>
                  <a:lnTo>
                    <a:pt x="4637" y="356"/>
                  </a:lnTo>
                  <a:lnTo>
                    <a:pt x="4687" y="370"/>
                  </a:lnTo>
                  <a:lnTo>
                    <a:pt x="4736" y="364"/>
                  </a:lnTo>
                  <a:lnTo>
                    <a:pt x="4786" y="360"/>
                  </a:lnTo>
                  <a:lnTo>
                    <a:pt x="4834" y="367"/>
                  </a:lnTo>
                  <a:lnTo>
                    <a:pt x="4884" y="361"/>
                  </a:lnTo>
                  <a:lnTo>
                    <a:pt x="4884" y="381"/>
                  </a:lnTo>
                  <a:lnTo>
                    <a:pt x="4834" y="381"/>
                  </a:lnTo>
                  <a:lnTo>
                    <a:pt x="4786" y="381"/>
                  </a:lnTo>
                  <a:lnTo>
                    <a:pt x="4736" y="381"/>
                  </a:lnTo>
                  <a:lnTo>
                    <a:pt x="4687" y="381"/>
                  </a:lnTo>
                  <a:lnTo>
                    <a:pt x="4637" y="381"/>
                  </a:lnTo>
                  <a:lnTo>
                    <a:pt x="4588" y="381"/>
                  </a:lnTo>
                  <a:lnTo>
                    <a:pt x="4539" y="381"/>
                  </a:lnTo>
                  <a:lnTo>
                    <a:pt x="4489" y="381"/>
                  </a:lnTo>
                  <a:lnTo>
                    <a:pt x="4440" y="381"/>
                  </a:lnTo>
                  <a:lnTo>
                    <a:pt x="4391" y="381"/>
                  </a:lnTo>
                  <a:lnTo>
                    <a:pt x="4341" y="381"/>
                  </a:lnTo>
                  <a:lnTo>
                    <a:pt x="4292" y="381"/>
                  </a:lnTo>
                  <a:lnTo>
                    <a:pt x="4242" y="381"/>
                  </a:lnTo>
                  <a:lnTo>
                    <a:pt x="4194" y="381"/>
                  </a:lnTo>
                  <a:lnTo>
                    <a:pt x="4144" y="381"/>
                  </a:lnTo>
                  <a:lnTo>
                    <a:pt x="4095" y="381"/>
                  </a:lnTo>
                  <a:lnTo>
                    <a:pt x="4045" y="381"/>
                  </a:lnTo>
                  <a:lnTo>
                    <a:pt x="3996" y="381"/>
                  </a:lnTo>
                  <a:lnTo>
                    <a:pt x="3947" y="381"/>
                  </a:lnTo>
                  <a:lnTo>
                    <a:pt x="3897" y="381"/>
                  </a:lnTo>
                  <a:lnTo>
                    <a:pt x="3848" y="381"/>
                  </a:lnTo>
                  <a:lnTo>
                    <a:pt x="3799" y="381"/>
                  </a:lnTo>
                  <a:lnTo>
                    <a:pt x="3749" y="381"/>
                  </a:lnTo>
                  <a:lnTo>
                    <a:pt x="3700" y="381"/>
                  </a:lnTo>
                  <a:lnTo>
                    <a:pt x="3650" y="381"/>
                  </a:lnTo>
                  <a:lnTo>
                    <a:pt x="3602" y="381"/>
                  </a:lnTo>
                  <a:lnTo>
                    <a:pt x="3552" y="381"/>
                  </a:lnTo>
                  <a:lnTo>
                    <a:pt x="3503" y="381"/>
                  </a:lnTo>
                  <a:lnTo>
                    <a:pt x="3453" y="381"/>
                  </a:lnTo>
                  <a:lnTo>
                    <a:pt x="3404" y="381"/>
                  </a:lnTo>
                  <a:lnTo>
                    <a:pt x="3355" y="381"/>
                  </a:lnTo>
                  <a:lnTo>
                    <a:pt x="3305" y="381"/>
                  </a:lnTo>
                  <a:lnTo>
                    <a:pt x="3256" y="381"/>
                  </a:lnTo>
                  <a:lnTo>
                    <a:pt x="3207" y="381"/>
                  </a:lnTo>
                  <a:lnTo>
                    <a:pt x="3157" y="381"/>
                  </a:lnTo>
                  <a:lnTo>
                    <a:pt x="3108" y="381"/>
                  </a:lnTo>
                  <a:lnTo>
                    <a:pt x="3058" y="381"/>
                  </a:lnTo>
                  <a:lnTo>
                    <a:pt x="3010" y="381"/>
                  </a:lnTo>
                  <a:lnTo>
                    <a:pt x="2960" y="381"/>
                  </a:lnTo>
                  <a:lnTo>
                    <a:pt x="2911" y="381"/>
                  </a:lnTo>
                  <a:lnTo>
                    <a:pt x="2861" y="381"/>
                  </a:lnTo>
                  <a:lnTo>
                    <a:pt x="2812" y="381"/>
                  </a:lnTo>
                  <a:lnTo>
                    <a:pt x="2763" y="381"/>
                  </a:lnTo>
                  <a:lnTo>
                    <a:pt x="2713" y="381"/>
                  </a:lnTo>
                  <a:lnTo>
                    <a:pt x="2664" y="381"/>
                  </a:lnTo>
                  <a:lnTo>
                    <a:pt x="2615" y="381"/>
                  </a:lnTo>
                  <a:lnTo>
                    <a:pt x="2565" y="381"/>
                  </a:lnTo>
                  <a:lnTo>
                    <a:pt x="2516" y="381"/>
                  </a:lnTo>
                  <a:lnTo>
                    <a:pt x="2466" y="381"/>
                  </a:lnTo>
                  <a:lnTo>
                    <a:pt x="2418" y="381"/>
                  </a:lnTo>
                  <a:lnTo>
                    <a:pt x="2368" y="381"/>
                  </a:lnTo>
                  <a:lnTo>
                    <a:pt x="2319" y="381"/>
                  </a:lnTo>
                  <a:lnTo>
                    <a:pt x="2269" y="381"/>
                  </a:lnTo>
                  <a:lnTo>
                    <a:pt x="2220" y="381"/>
                  </a:lnTo>
                  <a:lnTo>
                    <a:pt x="2171" y="381"/>
                  </a:lnTo>
                  <a:lnTo>
                    <a:pt x="2121" y="381"/>
                  </a:lnTo>
                  <a:lnTo>
                    <a:pt x="2072" y="381"/>
                  </a:lnTo>
                  <a:lnTo>
                    <a:pt x="2023" y="381"/>
                  </a:lnTo>
                  <a:lnTo>
                    <a:pt x="1973" y="381"/>
                  </a:lnTo>
                  <a:lnTo>
                    <a:pt x="1924" y="381"/>
                  </a:lnTo>
                  <a:lnTo>
                    <a:pt x="1874" y="381"/>
                  </a:lnTo>
                  <a:lnTo>
                    <a:pt x="1826" y="381"/>
                  </a:lnTo>
                  <a:lnTo>
                    <a:pt x="1776" y="381"/>
                  </a:lnTo>
                  <a:lnTo>
                    <a:pt x="1727" y="381"/>
                  </a:lnTo>
                  <a:lnTo>
                    <a:pt x="1677" y="381"/>
                  </a:lnTo>
                  <a:lnTo>
                    <a:pt x="1628" y="381"/>
                  </a:lnTo>
                  <a:lnTo>
                    <a:pt x="1579" y="381"/>
                  </a:lnTo>
                  <a:lnTo>
                    <a:pt x="1529" y="381"/>
                  </a:lnTo>
                  <a:lnTo>
                    <a:pt x="1480" y="381"/>
                  </a:lnTo>
                  <a:lnTo>
                    <a:pt x="1431" y="381"/>
                  </a:lnTo>
                  <a:lnTo>
                    <a:pt x="1381" y="381"/>
                  </a:lnTo>
                  <a:lnTo>
                    <a:pt x="1332" y="381"/>
                  </a:lnTo>
                  <a:lnTo>
                    <a:pt x="1282" y="381"/>
                  </a:lnTo>
                  <a:lnTo>
                    <a:pt x="1234" y="381"/>
                  </a:lnTo>
                  <a:lnTo>
                    <a:pt x="1184" y="381"/>
                  </a:lnTo>
                  <a:lnTo>
                    <a:pt x="1135" y="381"/>
                  </a:lnTo>
                  <a:lnTo>
                    <a:pt x="1085" y="381"/>
                  </a:lnTo>
                  <a:lnTo>
                    <a:pt x="1036" y="381"/>
                  </a:lnTo>
                  <a:lnTo>
                    <a:pt x="987" y="381"/>
                  </a:lnTo>
                  <a:lnTo>
                    <a:pt x="937" y="381"/>
                  </a:lnTo>
                  <a:lnTo>
                    <a:pt x="888" y="381"/>
                  </a:lnTo>
                  <a:lnTo>
                    <a:pt x="839" y="381"/>
                  </a:lnTo>
                  <a:lnTo>
                    <a:pt x="790" y="381"/>
                  </a:lnTo>
                  <a:lnTo>
                    <a:pt x="740" y="381"/>
                  </a:lnTo>
                  <a:lnTo>
                    <a:pt x="690" y="381"/>
                  </a:lnTo>
                  <a:lnTo>
                    <a:pt x="642" y="381"/>
                  </a:lnTo>
                  <a:lnTo>
                    <a:pt x="592" y="381"/>
                  </a:lnTo>
                  <a:lnTo>
                    <a:pt x="543" y="381"/>
                  </a:lnTo>
                  <a:lnTo>
                    <a:pt x="493" y="381"/>
                  </a:lnTo>
                  <a:lnTo>
                    <a:pt x="444" y="381"/>
                  </a:lnTo>
                  <a:lnTo>
                    <a:pt x="395" y="381"/>
                  </a:lnTo>
                  <a:lnTo>
                    <a:pt x="345" y="381"/>
                  </a:lnTo>
                  <a:lnTo>
                    <a:pt x="296" y="381"/>
                  </a:lnTo>
                  <a:lnTo>
                    <a:pt x="247" y="381"/>
                  </a:lnTo>
                  <a:lnTo>
                    <a:pt x="198" y="381"/>
                  </a:lnTo>
                  <a:lnTo>
                    <a:pt x="148" y="381"/>
                  </a:lnTo>
                  <a:lnTo>
                    <a:pt x="98" y="381"/>
                  </a:lnTo>
                  <a:lnTo>
                    <a:pt x="50" y="381"/>
                  </a:lnTo>
                  <a:lnTo>
                    <a:pt x="0" y="3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100160" y="1206360"/>
              <a:ext cx="7753320" cy="4408560"/>
            </a:xfrm>
            <a:custGeom>
              <a:avLst/>
              <a:gdLst/>
              <a:ahLst/>
              <a:rect l="l" t="t" r="r" b="b"/>
              <a:pathLst>
                <a:path w="4884" h="2777">
                  <a:moveTo>
                    <a:pt x="0" y="2397"/>
                  </a:moveTo>
                  <a:lnTo>
                    <a:pt x="0" y="6"/>
                  </a:lnTo>
                  <a:lnTo>
                    <a:pt x="50" y="0"/>
                  </a:lnTo>
                  <a:lnTo>
                    <a:pt x="98" y="104"/>
                  </a:lnTo>
                  <a:lnTo>
                    <a:pt x="148" y="98"/>
                  </a:lnTo>
                  <a:lnTo>
                    <a:pt x="198" y="170"/>
                  </a:lnTo>
                  <a:lnTo>
                    <a:pt x="247" y="324"/>
                  </a:lnTo>
                  <a:lnTo>
                    <a:pt x="296" y="278"/>
                  </a:lnTo>
                  <a:lnTo>
                    <a:pt x="345" y="369"/>
                  </a:lnTo>
                  <a:lnTo>
                    <a:pt x="395" y="650"/>
                  </a:lnTo>
                  <a:lnTo>
                    <a:pt x="444" y="608"/>
                  </a:lnTo>
                  <a:lnTo>
                    <a:pt x="493" y="605"/>
                  </a:lnTo>
                  <a:lnTo>
                    <a:pt x="543" y="1006"/>
                  </a:lnTo>
                  <a:lnTo>
                    <a:pt x="592" y="981"/>
                  </a:lnTo>
                  <a:lnTo>
                    <a:pt x="642" y="925"/>
                  </a:lnTo>
                  <a:lnTo>
                    <a:pt x="690" y="1211"/>
                  </a:lnTo>
                  <a:lnTo>
                    <a:pt x="740" y="1177"/>
                  </a:lnTo>
                  <a:lnTo>
                    <a:pt x="790" y="1142"/>
                  </a:lnTo>
                  <a:lnTo>
                    <a:pt x="839" y="1632"/>
                  </a:lnTo>
                  <a:lnTo>
                    <a:pt x="888" y="1603"/>
                  </a:lnTo>
                  <a:lnTo>
                    <a:pt x="937" y="1571"/>
                  </a:lnTo>
                  <a:lnTo>
                    <a:pt x="987" y="1744"/>
                  </a:lnTo>
                  <a:lnTo>
                    <a:pt x="1036" y="1715"/>
                  </a:lnTo>
                  <a:lnTo>
                    <a:pt x="1085" y="2238"/>
                  </a:lnTo>
                  <a:lnTo>
                    <a:pt x="1135" y="2311"/>
                  </a:lnTo>
                  <a:lnTo>
                    <a:pt x="1184" y="2265"/>
                  </a:lnTo>
                  <a:lnTo>
                    <a:pt x="1234" y="2218"/>
                  </a:lnTo>
                  <a:lnTo>
                    <a:pt x="1282" y="2270"/>
                  </a:lnTo>
                  <a:lnTo>
                    <a:pt x="1332" y="2228"/>
                  </a:lnTo>
                  <a:lnTo>
                    <a:pt x="1381" y="2219"/>
                  </a:lnTo>
                  <a:lnTo>
                    <a:pt x="1431" y="2279"/>
                  </a:lnTo>
                  <a:lnTo>
                    <a:pt x="1480" y="2235"/>
                  </a:lnTo>
                  <a:lnTo>
                    <a:pt x="1529" y="2190"/>
                  </a:lnTo>
                  <a:lnTo>
                    <a:pt x="1579" y="2276"/>
                  </a:lnTo>
                  <a:lnTo>
                    <a:pt x="1628" y="2237"/>
                  </a:lnTo>
                  <a:lnTo>
                    <a:pt x="1677" y="2190"/>
                  </a:lnTo>
                  <a:lnTo>
                    <a:pt x="1727" y="2274"/>
                  </a:lnTo>
                  <a:lnTo>
                    <a:pt x="1776" y="2232"/>
                  </a:lnTo>
                  <a:lnTo>
                    <a:pt x="1826" y="2184"/>
                  </a:lnTo>
                  <a:lnTo>
                    <a:pt x="1874" y="2285"/>
                  </a:lnTo>
                  <a:lnTo>
                    <a:pt x="1924" y="2248"/>
                  </a:lnTo>
                  <a:lnTo>
                    <a:pt x="1973" y="2202"/>
                  </a:lnTo>
                  <a:lnTo>
                    <a:pt x="2023" y="2277"/>
                  </a:lnTo>
                  <a:lnTo>
                    <a:pt x="2072" y="2236"/>
                  </a:lnTo>
                  <a:lnTo>
                    <a:pt x="2121" y="2189"/>
                  </a:lnTo>
                  <a:lnTo>
                    <a:pt x="2171" y="2284"/>
                  </a:lnTo>
                  <a:lnTo>
                    <a:pt x="2220" y="2246"/>
                  </a:lnTo>
                  <a:lnTo>
                    <a:pt x="2269" y="2200"/>
                  </a:lnTo>
                  <a:lnTo>
                    <a:pt x="2319" y="2269"/>
                  </a:lnTo>
                  <a:lnTo>
                    <a:pt x="2368" y="2230"/>
                  </a:lnTo>
                  <a:lnTo>
                    <a:pt x="2418" y="2183"/>
                  </a:lnTo>
                  <a:lnTo>
                    <a:pt x="2466" y="2290"/>
                  </a:lnTo>
                  <a:lnTo>
                    <a:pt x="2516" y="2254"/>
                  </a:lnTo>
                  <a:lnTo>
                    <a:pt x="2565" y="2208"/>
                  </a:lnTo>
                  <a:lnTo>
                    <a:pt x="2615" y="2278"/>
                  </a:lnTo>
                  <a:lnTo>
                    <a:pt x="2664" y="2236"/>
                  </a:lnTo>
                  <a:lnTo>
                    <a:pt x="2713" y="2217"/>
                  </a:lnTo>
                  <a:lnTo>
                    <a:pt x="2763" y="2273"/>
                  </a:lnTo>
                  <a:lnTo>
                    <a:pt x="2812" y="2232"/>
                  </a:lnTo>
                  <a:lnTo>
                    <a:pt x="2861" y="2186"/>
                  </a:lnTo>
                  <a:lnTo>
                    <a:pt x="2911" y="2259"/>
                  </a:lnTo>
                  <a:lnTo>
                    <a:pt x="2960" y="2226"/>
                  </a:lnTo>
                  <a:lnTo>
                    <a:pt x="3010" y="2179"/>
                  </a:lnTo>
                  <a:lnTo>
                    <a:pt x="3058" y="2274"/>
                  </a:lnTo>
                  <a:lnTo>
                    <a:pt x="3108" y="2238"/>
                  </a:lnTo>
                  <a:lnTo>
                    <a:pt x="3157" y="2192"/>
                  </a:lnTo>
                  <a:lnTo>
                    <a:pt x="3207" y="2281"/>
                  </a:lnTo>
                  <a:lnTo>
                    <a:pt x="3256" y="2245"/>
                  </a:lnTo>
                  <a:lnTo>
                    <a:pt x="3305" y="2199"/>
                  </a:lnTo>
                  <a:lnTo>
                    <a:pt x="3355" y="2300"/>
                  </a:lnTo>
                  <a:lnTo>
                    <a:pt x="3404" y="2259"/>
                  </a:lnTo>
                  <a:lnTo>
                    <a:pt x="3453" y="2213"/>
                  </a:lnTo>
                  <a:lnTo>
                    <a:pt x="3503" y="2286"/>
                  </a:lnTo>
                  <a:lnTo>
                    <a:pt x="3552" y="2242"/>
                  </a:lnTo>
                  <a:lnTo>
                    <a:pt x="3602" y="2205"/>
                  </a:lnTo>
                  <a:lnTo>
                    <a:pt x="3650" y="2301"/>
                  </a:lnTo>
                  <a:lnTo>
                    <a:pt x="3700" y="2258"/>
                  </a:lnTo>
                  <a:lnTo>
                    <a:pt x="3749" y="2213"/>
                  </a:lnTo>
                  <a:lnTo>
                    <a:pt x="3799" y="2275"/>
                  </a:lnTo>
                  <a:lnTo>
                    <a:pt x="3848" y="2233"/>
                  </a:lnTo>
                  <a:lnTo>
                    <a:pt x="3897" y="2220"/>
                  </a:lnTo>
                  <a:lnTo>
                    <a:pt x="3947" y="2262"/>
                  </a:lnTo>
                  <a:lnTo>
                    <a:pt x="3996" y="2219"/>
                  </a:lnTo>
                  <a:lnTo>
                    <a:pt x="4045" y="2174"/>
                  </a:lnTo>
                  <a:lnTo>
                    <a:pt x="4095" y="2255"/>
                  </a:lnTo>
                  <a:lnTo>
                    <a:pt x="4144" y="2224"/>
                  </a:lnTo>
                  <a:lnTo>
                    <a:pt x="4194" y="2179"/>
                  </a:lnTo>
                  <a:lnTo>
                    <a:pt x="4242" y="2262"/>
                  </a:lnTo>
                  <a:lnTo>
                    <a:pt x="4292" y="2222"/>
                  </a:lnTo>
                  <a:lnTo>
                    <a:pt x="4341" y="2172"/>
                  </a:lnTo>
                  <a:lnTo>
                    <a:pt x="4391" y="2271"/>
                  </a:lnTo>
                  <a:lnTo>
                    <a:pt x="4440" y="2238"/>
                  </a:lnTo>
                  <a:lnTo>
                    <a:pt x="4489" y="2193"/>
                  </a:lnTo>
                  <a:lnTo>
                    <a:pt x="4539" y="2269"/>
                  </a:lnTo>
                  <a:lnTo>
                    <a:pt x="4588" y="2232"/>
                  </a:lnTo>
                  <a:lnTo>
                    <a:pt x="4637" y="2185"/>
                  </a:lnTo>
                  <a:lnTo>
                    <a:pt x="4687" y="2295"/>
                  </a:lnTo>
                  <a:lnTo>
                    <a:pt x="4736" y="2255"/>
                  </a:lnTo>
                  <a:lnTo>
                    <a:pt x="4786" y="2209"/>
                  </a:lnTo>
                  <a:lnTo>
                    <a:pt x="4834" y="2275"/>
                  </a:lnTo>
                  <a:lnTo>
                    <a:pt x="4884" y="2233"/>
                  </a:lnTo>
                  <a:lnTo>
                    <a:pt x="4884" y="2757"/>
                  </a:lnTo>
                  <a:lnTo>
                    <a:pt x="4834" y="2763"/>
                  </a:lnTo>
                  <a:lnTo>
                    <a:pt x="4786" y="2756"/>
                  </a:lnTo>
                  <a:lnTo>
                    <a:pt x="4736" y="2760"/>
                  </a:lnTo>
                  <a:lnTo>
                    <a:pt x="4687" y="2766"/>
                  </a:lnTo>
                  <a:lnTo>
                    <a:pt x="4637" y="2752"/>
                  </a:lnTo>
                  <a:lnTo>
                    <a:pt x="4588" y="2757"/>
                  </a:lnTo>
                  <a:lnTo>
                    <a:pt x="4539" y="2763"/>
                  </a:lnTo>
                  <a:lnTo>
                    <a:pt x="4489" y="2755"/>
                  </a:lnTo>
                  <a:lnTo>
                    <a:pt x="4440" y="2759"/>
                  </a:lnTo>
                  <a:lnTo>
                    <a:pt x="4391" y="2765"/>
                  </a:lnTo>
                  <a:lnTo>
                    <a:pt x="4341" y="2752"/>
                  </a:lnTo>
                  <a:lnTo>
                    <a:pt x="4292" y="2758"/>
                  </a:lnTo>
                  <a:lnTo>
                    <a:pt x="4242" y="2763"/>
                  </a:lnTo>
                  <a:lnTo>
                    <a:pt x="4194" y="2754"/>
                  </a:lnTo>
                  <a:lnTo>
                    <a:pt x="4144" y="2759"/>
                  </a:lnTo>
                  <a:lnTo>
                    <a:pt x="4095" y="2765"/>
                  </a:lnTo>
                  <a:lnTo>
                    <a:pt x="4045" y="2752"/>
                  </a:lnTo>
                  <a:lnTo>
                    <a:pt x="3996" y="2757"/>
                  </a:lnTo>
                  <a:lnTo>
                    <a:pt x="3947" y="2762"/>
                  </a:lnTo>
                  <a:lnTo>
                    <a:pt x="3897" y="2754"/>
                  </a:lnTo>
                  <a:lnTo>
                    <a:pt x="3848" y="2757"/>
                  </a:lnTo>
                  <a:lnTo>
                    <a:pt x="3799" y="2763"/>
                  </a:lnTo>
                  <a:lnTo>
                    <a:pt x="3749" y="2756"/>
                  </a:lnTo>
                  <a:lnTo>
                    <a:pt x="3700" y="2760"/>
                  </a:lnTo>
                  <a:lnTo>
                    <a:pt x="3650" y="2766"/>
                  </a:lnTo>
                  <a:lnTo>
                    <a:pt x="3602" y="2752"/>
                  </a:lnTo>
                  <a:lnTo>
                    <a:pt x="3552" y="2757"/>
                  </a:lnTo>
                  <a:lnTo>
                    <a:pt x="3503" y="2763"/>
                  </a:lnTo>
                  <a:lnTo>
                    <a:pt x="3453" y="2755"/>
                  </a:lnTo>
                  <a:lnTo>
                    <a:pt x="3404" y="2760"/>
                  </a:lnTo>
                  <a:lnTo>
                    <a:pt x="3355" y="2766"/>
                  </a:lnTo>
                  <a:lnTo>
                    <a:pt x="3305" y="2753"/>
                  </a:lnTo>
                  <a:lnTo>
                    <a:pt x="3256" y="2758"/>
                  </a:lnTo>
                  <a:lnTo>
                    <a:pt x="3207" y="2763"/>
                  </a:lnTo>
                  <a:lnTo>
                    <a:pt x="3157" y="2755"/>
                  </a:lnTo>
                  <a:lnTo>
                    <a:pt x="3108" y="2759"/>
                  </a:lnTo>
                  <a:lnTo>
                    <a:pt x="3058" y="2765"/>
                  </a:lnTo>
                  <a:lnTo>
                    <a:pt x="3010" y="2753"/>
                  </a:lnTo>
                  <a:lnTo>
                    <a:pt x="2960" y="2758"/>
                  </a:lnTo>
                  <a:lnTo>
                    <a:pt x="2911" y="2763"/>
                  </a:lnTo>
                  <a:lnTo>
                    <a:pt x="2861" y="2754"/>
                  </a:lnTo>
                  <a:lnTo>
                    <a:pt x="2812" y="2759"/>
                  </a:lnTo>
                  <a:lnTo>
                    <a:pt x="2763" y="2763"/>
                  </a:lnTo>
                  <a:lnTo>
                    <a:pt x="2713" y="2753"/>
                  </a:lnTo>
                  <a:lnTo>
                    <a:pt x="2664" y="2757"/>
                  </a:lnTo>
                  <a:lnTo>
                    <a:pt x="2615" y="2763"/>
                  </a:lnTo>
                  <a:lnTo>
                    <a:pt x="2565" y="2755"/>
                  </a:lnTo>
                  <a:lnTo>
                    <a:pt x="2516" y="2760"/>
                  </a:lnTo>
                  <a:lnTo>
                    <a:pt x="2466" y="2766"/>
                  </a:lnTo>
                  <a:lnTo>
                    <a:pt x="2418" y="2752"/>
                  </a:lnTo>
                  <a:lnTo>
                    <a:pt x="2368" y="2758"/>
                  </a:lnTo>
                  <a:lnTo>
                    <a:pt x="2319" y="2763"/>
                  </a:lnTo>
                  <a:lnTo>
                    <a:pt x="2269" y="2755"/>
                  </a:lnTo>
                  <a:lnTo>
                    <a:pt x="2220" y="2759"/>
                  </a:lnTo>
                  <a:lnTo>
                    <a:pt x="2171" y="2765"/>
                  </a:lnTo>
                  <a:lnTo>
                    <a:pt x="2121" y="2753"/>
                  </a:lnTo>
                  <a:lnTo>
                    <a:pt x="2072" y="2758"/>
                  </a:lnTo>
                  <a:lnTo>
                    <a:pt x="2023" y="2763"/>
                  </a:lnTo>
                  <a:lnTo>
                    <a:pt x="1973" y="2755"/>
                  </a:lnTo>
                  <a:lnTo>
                    <a:pt x="1924" y="2759"/>
                  </a:lnTo>
                  <a:lnTo>
                    <a:pt x="1874" y="2765"/>
                  </a:lnTo>
                  <a:lnTo>
                    <a:pt x="1826" y="2753"/>
                  </a:lnTo>
                  <a:lnTo>
                    <a:pt x="1776" y="2758"/>
                  </a:lnTo>
                  <a:lnTo>
                    <a:pt x="1727" y="2763"/>
                  </a:lnTo>
                  <a:lnTo>
                    <a:pt x="1677" y="2754"/>
                  </a:lnTo>
                  <a:lnTo>
                    <a:pt x="1628" y="2759"/>
                  </a:lnTo>
                  <a:lnTo>
                    <a:pt x="1579" y="2765"/>
                  </a:lnTo>
                  <a:lnTo>
                    <a:pt x="1529" y="2753"/>
                  </a:lnTo>
                  <a:lnTo>
                    <a:pt x="1480" y="2758"/>
                  </a:lnTo>
                  <a:lnTo>
                    <a:pt x="1431" y="2763"/>
                  </a:lnTo>
                  <a:lnTo>
                    <a:pt x="1381" y="2753"/>
                  </a:lnTo>
                  <a:lnTo>
                    <a:pt x="1332" y="2757"/>
                  </a:lnTo>
                  <a:lnTo>
                    <a:pt x="1282" y="2763"/>
                  </a:lnTo>
                  <a:lnTo>
                    <a:pt x="1234" y="2755"/>
                  </a:lnTo>
                  <a:lnTo>
                    <a:pt x="1184" y="2760"/>
                  </a:lnTo>
                  <a:lnTo>
                    <a:pt x="1135" y="2766"/>
                  </a:lnTo>
                  <a:lnTo>
                    <a:pt x="1085" y="2753"/>
                  </a:lnTo>
                  <a:lnTo>
                    <a:pt x="1036" y="2777"/>
                  </a:lnTo>
                  <a:lnTo>
                    <a:pt x="987" y="2777"/>
                  </a:lnTo>
                  <a:lnTo>
                    <a:pt x="937" y="2755"/>
                  </a:lnTo>
                  <a:lnTo>
                    <a:pt x="888" y="2759"/>
                  </a:lnTo>
                  <a:lnTo>
                    <a:pt x="839" y="2765"/>
                  </a:lnTo>
                  <a:lnTo>
                    <a:pt x="790" y="2744"/>
                  </a:lnTo>
                  <a:lnTo>
                    <a:pt x="740" y="2749"/>
                  </a:lnTo>
                  <a:lnTo>
                    <a:pt x="690" y="2754"/>
                  </a:lnTo>
                  <a:lnTo>
                    <a:pt x="642" y="2729"/>
                  </a:lnTo>
                  <a:lnTo>
                    <a:pt x="592" y="2733"/>
                  </a:lnTo>
                  <a:lnTo>
                    <a:pt x="543" y="2737"/>
                  </a:lnTo>
                  <a:lnTo>
                    <a:pt x="493" y="2668"/>
                  </a:lnTo>
                  <a:lnTo>
                    <a:pt x="444" y="2664"/>
                  </a:lnTo>
                  <a:lnTo>
                    <a:pt x="395" y="2668"/>
                  </a:lnTo>
                  <a:lnTo>
                    <a:pt x="345" y="2587"/>
                  </a:lnTo>
                  <a:lnTo>
                    <a:pt x="296" y="2549"/>
                  </a:lnTo>
                  <a:lnTo>
                    <a:pt x="247" y="2551"/>
                  </a:lnTo>
                  <a:lnTo>
                    <a:pt x="198" y="2473"/>
                  </a:lnTo>
                  <a:lnTo>
                    <a:pt x="148" y="2443"/>
                  </a:lnTo>
                  <a:lnTo>
                    <a:pt x="98" y="2443"/>
                  </a:lnTo>
                  <a:lnTo>
                    <a:pt x="50" y="2396"/>
                  </a:lnTo>
                  <a:lnTo>
                    <a:pt x="0" y="23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10016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04292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042920" y="48322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042920" y="4049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042920" y="3267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042920" y="24829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042920" y="17002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04292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1100160" y="5614920"/>
              <a:ext cx="775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9388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85440" y="471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85440" y="3935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85440" y="3152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85440" y="2368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80680" y="15858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8068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09080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4828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819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211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603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995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386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778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17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562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952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343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735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127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6518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6910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3026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69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085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4772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794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rot="16200000">
              <a:off x="-500040" y="307512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pecies 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142640" y="5257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l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083600" y="42591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3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329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ROFORESTRY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100160" y="5010120"/>
              <a:ext cx="7753320" cy="604800"/>
            </a:xfrm>
            <a:custGeom>
              <a:avLst/>
              <a:gdLst/>
              <a:ahLst/>
              <a:rect l="l" t="t" r="r" b="b"/>
              <a:pathLst>
                <a:path w="4884" h="381">
                  <a:moveTo>
                    <a:pt x="0" y="381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98" y="47"/>
                  </a:lnTo>
                  <a:lnTo>
                    <a:pt x="148" y="46"/>
                  </a:lnTo>
                  <a:lnTo>
                    <a:pt x="198" y="77"/>
                  </a:lnTo>
                  <a:lnTo>
                    <a:pt x="247" y="155"/>
                  </a:lnTo>
                  <a:lnTo>
                    <a:pt x="296" y="153"/>
                  </a:lnTo>
                  <a:lnTo>
                    <a:pt x="345" y="161"/>
                  </a:lnTo>
                  <a:lnTo>
                    <a:pt x="395" y="264"/>
                  </a:lnTo>
                  <a:lnTo>
                    <a:pt x="444" y="260"/>
                  </a:lnTo>
                  <a:lnTo>
                    <a:pt x="493" y="255"/>
                  </a:lnTo>
                  <a:lnTo>
                    <a:pt x="543" y="278"/>
                  </a:lnTo>
                  <a:lnTo>
                    <a:pt x="592" y="271"/>
                  </a:lnTo>
                  <a:lnTo>
                    <a:pt x="642" y="264"/>
                  </a:lnTo>
                  <a:lnTo>
                    <a:pt x="690" y="290"/>
                  </a:lnTo>
                  <a:lnTo>
                    <a:pt x="740" y="283"/>
                  </a:lnTo>
                  <a:lnTo>
                    <a:pt x="790" y="278"/>
                  </a:lnTo>
                  <a:lnTo>
                    <a:pt x="839" y="294"/>
                  </a:lnTo>
                  <a:lnTo>
                    <a:pt x="888" y="288"/>
                  </a:lnTo>
                  <a:lnTo>
                    <a:pt x="937" y="282"/>
                  </a:lnTo>
                  <a:lnTo>
                    <a:pt x="987" y="295"/>
                  </a:lnTo>
                  <a:lnTo>
                    <a:pt x="1036" y="290"/>
                  </a:lnTo>
                  <a:lnTo>
                    <a:pt x="1085" y="285"/>
                  </a:lnTo>
                  <a:lnTo>
                    <a:pt x="1135" y="293"/>
                  </a:lnTo>
                  <a:lnTo>
                    <a:pt x="1184" y="288"/>
                  </a:lnTo>
                  <a:lnTo>
                    <a:pt x="1234" y="282"/>
                  </a:lnTo>
                  <a:lnTo>
                    <a:pt x="1282" y="288"/>
                  </a:lnTo>
                  <a:lnTo>
                    <a:pt x="1332" y="282"/>
                  </a:lnTo>
                  <a:lnTo>
                    <a:pt x="1381" y="277"/>
                  </a:lnTo>
                  <a:lnTo>
                    <a:pt x="1431" y="280"/>
                  </a:lnTo>
                  <a:lnTo>
                    <a:pt x="1480" y="276"/>
                  </a:lnTo>
                  <a:lnTo>
                    <a:pt x="1529" y="272"/>
                  </a:lnTo>
                  <a:lnTo>
                    <a:pt x="1579" y="273"/>
                  </a:lnTo>
                  <a:lnTo>
                    <a:pt x="1628" y="269"/>
                  </a:lnTo>
                  <a:lnTo>
                    <a:pt x="1677" y="265"/>
                  </a:lnTo>
                  <a:lnTo>
                    <a:pt x="1727" y="266"/>
                  </a:lnTo>
                  <a:lnTo>
                    <a:pt x="1776" y="262"/>
                  </a:lnTo>
                  <a:lnTo>
                    <a:pt x="1826" y="258"/>
                  </a:lnTo>
                  <a:lnTo>
                    <a:pt x="1874" y="259"/>
                  </a:lnTo>
                  <a:lnTo>
                    <a:pt x="1924" y="256"/>
                  </a:lnTo>
                  <a:lnTo>
                    <a:pt x="1973" y="252"/>
                  </a:lnTo>
                  <a:lnTo>
                    <a:pt x="2023" y="252"/>
                  </a:lnTo>
                  <a:lnTo>
                    <a:pt x="2072" y="249"/>
                  </a:lnTo>
                  <a:lnTo>
                    <a:pt x="2121" y="246"/>
                  </a:lnTo>
                  <a:lnTo>
                    <a:pt x="2171" y="245"/>
                  </a:lnTo>
                  <a:lnTo>
                    <a:pt x="2220" y="242"/>
                  </a:lnTo>
                  <a:lnTo>
                    <a:pt x="2269" y="239"/>
                  </a:lnTo>
                  <a:lnTo>
                    <a:pt x="2319" y="238"/>
                  </a:lnTo>
                  <a:lnTo>
                    <a:pt x="2368" y="235"/>
                  </a:lnTo>
                  <a:lnTo>
                    <a:pt x="2418" y="232"/>
                  </a:lnTo>
                  <a:lnTo>
                    <a:pt x="2466" y="231"/>
                  </a:lnTo>
                  <a:lnTo>
                    <a:pt x="2516" y="229"/>
                  </a:lnTo>
                  <a:lnTo>
                    <a:pt x="2565" y="227"/>
                  </a:lnTo>
                  <a:lnTo>
                    <a:pt x="2615" y="225"/>
                  </a:lnTo>
                  <a:lnTo>
                    <a:pt x="2664" y="223"/>
                  </a:lnTo>
                  <a:lnTo>
                    <a:pt x="2713" y="221"/>
                  </a:lnTo>
                  <a:lnTo>
                    <a:pt x="2763" y="220"/>
                  </a:lnTo>
                  <a:lnTo>
                    <a:pt x="2812" y="217"/>
                  </a:lnTo>
                  <a:lnTo>
                    <a:pt x="2861" y="215"/>
                  </a:lnTo>
                  <a:lnTo>
                    <a:pt x="2911" y="214"/>
                  </a:lnTo>
                  <a:lnTo>
                    <a:pt x="2960" y="213"/>
                  </a:lnTo>
                  <a:lnTo>
                    <a:pt x="3010" y="211"/>
                  </a:lnTo>
                  <a:lnTo>
                    <a:pt x="3058" y="210"/>
                  </a:lnTo>
                  <a:lnTo>
                    <a:pt x="3108" y="208"/>
                  </a:lnTo>
                  <a:lnTo>
                    <a:pt x="3157" y="206"/>
                  </a:lnTo>
                  <a:lnTo>
                    <a:pt x="3207" y="206"/>
                  </a:lnTo>
                  <a:lnTo>
                    <a:pt x="3256" y="204"/>
                  </a:lnTo>
                  <a:lnTo>
                    <a:pt x="3305" y="202"/>
                  </a:lnTo>
                  <a:lnTo>
                    <a:pt x="3355" y="202"/>
                  </a:lnTo>
                  <a:lnTo>
                    <a:pt x="3404" y="199"/>
                  </a:lnTo>
                  <a:lnTo>
                    <a:pt x="3453" y="198"/>
                  </a:lnTo>
                  <a:lnTo>
                    <a:pt x="3503" y="197"/>
                  </a:lnTo>
                  <a:lnTo>
                    <a:pt x="3552" y="196"/>
                  </a:lnTo>
                  <a:lnTo>
                    <a:pt x="3602" y="194"/>
                  </a:lnTo>
                  <a:lnTo>
                    <a:pt x="3650" y="194"/>
                  </a:lnTo>
                  <a:lnTo>
                    <a:pt x="3700" y="192"/>
                  </a:lnTo>
                  <a:lnTo>
                    <a:pt x="3749" y="191"/>
                  </a:lnTo>
                  <a:lnTo>
                    <a:pt x="3799" y="191"/>
                  </a:lnTo>
                  <a:lnTo>
                    <a:pt x="3848" y="190"/>
                  </a:lnTo>
                  <a:lnTo>
                    <a:pt x="3897" y="188"/>
                  </a:lnTo>
                  <a:lnTo>
                    <a:pt x="3947" y="188"/>
                  </a:lnTo>
                  <a:lnTo>
                    <a:pt x="3996" y="187"/>
                  </a:lnTo>
                  <a:lnTo>
                    <a:pt x="4045" y="185"/>
                  </a:lnTo>
                  <a:lnTo>
                    <a:pt x="4095" y="185"/>
                  </a:lnTo>
                  <a:lnTo>
                    <a:pt x="4144" y="184"/>
                  </a:lnTo>
                  <a:lnTo>
                    <a:pt x="4194" y="183"/>
                  </a:lnTo>
                  <a:lnTo>
                    <a:pt x="4242" y="182"/>
                  </a:lnTo>
                  <a:lnTo>
                    <a:pt x="4292" y="181"/>
                  </a:lnTo>
                  <a:lnTo>
                    <a:pt x="4341" y="180"/>
                  </a:lnTo>
                  <a:lnTo>
                    <a:pt x="4391" y="180"/>
                  </a:lnTo>
                  <a:lnTo>
                    <a:pt x="4440" y="179"/>
                  </a:lnTo>
                  <a:lnTo>
                    <a:pt x="4489" y="178"/>
                  </a:lnTo>
                  <a:lnTo>
                    <a:pt x="4539" y="178"/>
                  </a:lnTo>
                  <a:lnTo>
                    <a:pt x="4588" y="177"/>
                  </a:lnTo>
                  <a:lnTo>
                    <a:pt x="4637" y="176"/>
                  </a:lnTo>
                  <a:lnTo>
                    <a:pt x="4687" y="176"/>
                  </a:lnTo>
                  <a:lnTo>
                    <a:pt x="4736" y="175"/>
                  </a:lnTo>
                  <a:lnTo>
                    <a:pt x="4786" y="174"/>
                  </a:lnTo>
                  <a:lnTo>
                    <a:pt x="4834" y="174"/>
                  </a:lnTo>
                  <a:lnTo>
                    <a:pt x="4884" y="173"/>
                  </a:lnTo>
                  <a:lnTo>
                    <a:pt x="4884" y="381"/>
                  </a:lnTo>
                  <a:lnTo>
                    <a:pt x="4834" y="381"/>
                  </a:lnTo>
                  <a:lnTo>
                    <a:pt x="4786" y="381"/>
                  </a:lnTo>
                  <a:lnTo>
                    <a:pt x="4736" y="381"/>
                  </a:lnTo>
                  <a:lnTo>
                    <a:pt x="4687" y="381"/>
                  </a:lnTo>
                  <a:lnTo>
                    <a:pt x="4637" y="381"/>
                  </a:lnTo>
                  <a:lnTo>
                    <a:pt x="4588" y="381"/>
                  </a:lnTo>
                  <a:lnTo>
                    <a:pt x="4539" y="381"/>
                  </a:lnTo>
                  <a:lnTo>
                    <a:pt x="4489" y="381"/>
                  </a:lnTo>
                  <a:lnTo>
                    <a:pt x="4440" y="381"/>
                  </a:lnTo>
                  <a:lnTo>
                    <a:pt x="4391" y="381"/>
                  </a:lnTo>
                  <a:lnTo>
                    <a:pt x="4341" y="381"/>
                  </a:lnTo>
                  <a:lnTo>
                    <a:pt x="4292" y="381"/>
                  </a:lnTo>
                  <a:lnTo>
                    <a:pt x="4242" y="381"/>
                  </a:lnTo>
                  <a:lnTo>
                    <a:pt x="4194" y="381"/>
                  </a:lnTo>
                  <a:lnTo>
                    <a:pt x="4144" y="381"/>
                  </a:lnTo>
                  <a:lnTo>
                    <a:pt x="4095" y="381"/>
                  </a:lnTo>
                  <a:lnTo>
                    <a:pt x="4045" y="381"/>
                  </a:lnTo>
                  <a:lnTo>
                    <a:pt x="3996" y="381"/>
                  </a:lnTo>
                  <a:lnTo>
                    <a:pt x="3947" y="381"/>
                  </a:lnTo>
                  <a:lnTo>
                    <a:pt x="3897" y="381"/>
                  </a:lnTo>
                  <a:lnTo>
                    <a:pt x="3848" y="381"/>
                  </a:lnTo>
                  <a:lnTo>
                    <a:pt x="3799" y="381"/>
                  </a:lnTo>
                  <a:lnTo>
                    <a:pt x="3749" y="381"/>
                  </a:lnTo>
                  <a:lnTo>
                    <a:pt x="3700" y="381"/>
                  </a:lnTo>
                  <a:lnTo>
                    <a:pt x="3650" y="381"/>
                  </a:lnTo>
                  <a:lnTo>
                    <a:pt x="3602" y="381"/>
                  </a:lnTo>
                  <a:lnTo>
                    <a:pt x="3552" y="381"/>
                  </a:lnTo>
                  <a:lnTo>
                    <a:pt x="3503" y="381"/>
                  </a:lnTo>
                  <a:lnTo>
                    <a:pt x="3453" y="381"/>
                  </a:lnTo>
                  <a:lnTo>
                    <a:pt x="3404" y="381"/>
                  </a:lnTo>
                  <a:lnTo>
                    <a:pt x="3355" y="381"/>
                  </a:lnTo>
                  <a:lnTo>
                    <a:pt x="3305" y="381"/>
                  </a:lnTo>
                  <a:lnTo>
                    <a:pt x="3256" y="381"/>
                  </a:lnTo>
                  <a:lnTo>
                    <a:pt x="3207" y="381"/>
                  </a:lnTo>
                  <a:lnTo>
                    <a:pt x="3157" y="381"/>
                  </a:lnTo>
                  <a:lnTo>
                    <a:pt x="3108" y="381"/>
                  </a:lnTo>
                  <a:lnTo>
                    <a:pt x="3058" y="381"/>
                  </a:lnTo>
                  <a:lnTo>
                    <a:pt x="3010" y="381"/>
                  </a:lnTo>
                  <a:lnTo>
                    <a:pt x="2960" y="381"/>
                  </a:lnTo>
                  <a:lnTo>
                    <a:pt x="2911" y="381"/>
                  </a:lnTo>
                  <a:lnTo>
                    <a:pt x="2861" y="381"/>
                  </a:lnTo>
                  <a:lnTo>
                    <a:pt x="2812" y="381"/>
                  </a:lnTo>
                  <a:lnTo>
                    <a:pt x="2763" y="381"/>
                  </a:lnTo>
                  <a:lnTo>
                    <a:pt x="2713" y="381"/>
                  </a:lnTo>
                  <a:lnTo>
                    <a:pt x="2664" y="381"/>
                  </a:lnTo>
                  <a:lnTo>
                    <a:pt x="2615" y="381"/>
                  </a:lnTo>
                  <a:lnTo>
                    <a:pt x="2565" y="381"/>
                  </a:lnTo>
                  <a:lnTo>
                    <a:pt x="2516" y="381"/>
                  </a:lnTo>
                  <a:lnTo>
                    <a:pt x="2466" y="381"/>
                  </a:lnTo>
                  <a:lnTo>
                    <a:pt x="2418" y="381"/>
                  </a:lnTo>
                  <a:lnTo>
                    <a:pt x="2368" y="381"/>
                  </a:lnTo>
                  <a:lnTo>
                    <a:pt x="2319" y="381"/>
                  </a:lnTo>
                  <a:lnTo>
                    <a:pt x="2269" y="381"/>
                  </a:lnTo>
                  <a:lnTo>
                    <a:pt x="2220" y="381"/>
                  </a:lnTo>
                  <a:lnTo>
                    <a:pt x="2171" y="381"/>
                  </a:lnTo>
                  <a:lnTo>
                    <a:pt x="2121" y="381"/>
                  </a:lnTo>
                  <a:lnTo>
                    <a:pt x="2072" y="381"/>
                  </a:lnTo>
                  <a:lnTo>
                    <a:pt x="2023" y="381"/>
                  </a:lnTo>
                  <a:lnTo>
                    <a:pt x="1973" y="381"/>
                  </a:lnTo>
                  <a:lnTo>
                    <a:pt x="1924" y="381"/>
                  </a:lnTo>
                  <a:lnTo>
                    <a:pt x="1874" y="381"/>
                  </a:lnTo>
                  <a:lnTo>
                    <a:pt x="1826" y="381"/>
                  </a:lnTo>
                  <a:lnTo>
                    <a:pt x="1776" y="381"/>
                  </a:lnTo>
                  <a:lnTo>
                    <a:pt x="1727" y="381"/>
                  </a:lnTo>
                  <a:lnTo>
                    <a:pt x="1677" y="381"/>
                  </a:lnTo>
                  <a:lnTo>
                    <a:pt x="1628" y="381"/>
                  </a:lnTo>
                  <a:lnTo>
                    <a:pt x="1579" y="381"/>
                  </a:lnTo>
                  <a:lnTo>
                    <a:pt x="1529" y="381"/>
                  </a:lnTo>
                  <a:lnTo>
                    <a:pt x="1480" y="381"/>
                  </a:lnTo>
                  <a:lnTo>
                    <a:pt x="1431" y="381"/>
                  </a:lnTo>
                  <a:lnTo>
                    <a:pt x="1381" y="381"/>
                  </a:lnTo>
                  <a:lnTo>
                    <a:pt x="1332" y="381"/>
                  </a:lnTo>
                  <a:lnTo>
                    <a:pt x="1282" y="381"/>
                  </a:lnTo>
                  <a:lnTo>
                    <a:pt x="1234" y="381"/>
                  </a:lnTo>
                  <a:lnTo>
                    <a:pt x="1184" y="381"/>
                  </a:lnTo>
                  <a:lnTo>
                    <a:pt x="1135" y="381"/>
                  </a:lnTo>
                  <a:lnTo>
                    <a:pt x="1085" y="381"/>
                  </a:lnTo>
                  <a:lnTo>
                    <a:pt x="1036" y="381"/>
                  </a:lnTo>
                  <a:lnTo>
                    <a:pt x="987" y="381"/>
                  </a:lnTo>
                  <a:lnTo>
                    <a:pt x="937" y="381"/>
                  </a:lnTo>
                  <a:lnTo>
                    <a:pt x="888" y="381"/>
                  </a:lnTo>
                  <a:lnTo>
                    <a:pt x="839" y="381"/>
                  </a:lnTo>
                  <a:lnTo>
                    <a:pt x="790" y="381"/>
                  </a:lnTo>
                  <a:lnTo>
                    <a:pt x="740" y="381"/>
                  </a:lnTo>
                  <a:lnTo>
                    <a:pt x="690" y="381"/>
                  </a:lnTo>
                  <a:lnTo>
                    <a:pt x="642" y="381"/>
                  </a:lnTo>
                  <a:lnTo>
                    <a:pt x="592" y="381"/>
                  </a:lnTo>
                  <a:lnTo>
                    <a:pt x="543" y="381"/>
                  </a:lnTo>
                  <a:lnTo>
                    <a:pt x="493" y="381"/>
                  </a:lnTo>
                  <a:lnTo>
                    <a:pt x="444" y="381"/>
                  </a:lnTo>
                  <a:lnTo>
                    <a:pt x="395" y="381"/>
                  </a:lnTo>
                  <a:lnTo>
                    <a:pt x="345" y="381"/>
                  </a:lnTo>
                  <a:lnTo>
                    <a:pt x="296" y="381"/>
                  </a:lnTo>
                  <a:lnTo>
                    <a:pt x="247" y="381"/>
                  </a:lnTo>
                  <a:lnTo>
                    <a:pt x="198" y="381"/>
                  </a:lnTo>
                  <a:lnTo>
                    <a:pt x="148" y="381"/>
                  </a:lnTo>
                  <a:lnTo>
                    <a:pt x="98" y="381"/>
                  </a:lnTo>
                  <a:lnTo>
                    <a:pt x="50" y="381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1206360"/>
              <a:ext cx="7753320" cy="4272120"/>
            </a:xfrm>
            <a:custGeom>
              <a:avLst/>
              <a:gdLst/>
              <a:ahLst/>
              <a:rect l="l" t="t" r="r" b="b"/>
              <a:pathLst>
                <a:path w="4884" h="2691">
                  <a:moveTo>
                    <a:pt x="0" y="2397"/>
                  </a:moveTo>
                  <a:lnTo>
                    <a:pt x="0" y="6"/>
                  </a:lnTo>
                  <a:lnTo>
                    <a:pt x="50" y="0"/>
                  </a:lnTo>
                  <a:lnTo>
                    <a:pt x="98" y="103"/>
                  </a:lnTo>
                  <a:lnTo>
                    <a:pt x="148" y="98"/>
                  </a:lnTo>
                  <a:lnTo>
                    <a:pt x="198" y="169"/>
                  </a:lnTo>
                  <a:lnTo>
                    <a:pt x="247" y="374"/>
                  </a:lnTo>
                  <a:lnTo>
                    <a:pt x="296" y="366"/>
                  </a:lnTo>
                  <a:lnTo>
                    <a:pt x="345" y="360"/>
                  </a:lnTo>
                  <a:lnTo>
                    <a:pt x="395" y="704"/>
                  </a:lnTo>
                  <a:lnTo>
                    <a:pt x="444" y="663"/>
                  </a:lnTo>
                  <a:lnTo>
                    <a:pt x="493" y="607"/>
                  </a:lnTo>
                  <a:lnTo>
                    <a:pt x="543" y="733"/>
                  </a:lnTo>
                  <a:lnTo>
                    <a:pt x="592" y="697"/>
                  </a:lnTo>
                  <a:lnTo>
                    <a:pt x="642" y="635"/>
                  </a:lnTo>
                  <a:lnTo>
                    <a:pt x="690" y="764"/>
                  </a:lnTo>
                  <a:lnTo>
                    <a:pt x="740" y="743"/>
                  </a:lnTo>
                  <a:lnTo>
                    <a:pt x="790" y="712"/>
                  </a:lnTo>
                  <a:lnTo>
                    <a:pt x="839" y="833"/>
                  </a:lnTo>
                  <a:lnTo>
                    <a:pt x="888" y="872"/>
                  </a:lnTo>
                  <a:lnTo>
                    <a:pt x="937" y="822"/>
                  </a:lnTo>
                  <a:lnTo>
                    <a:pt x="987" y="890"/>
                  </a:lnTo>
                  <a:lnTo>
                    <a:pt x="1036" y="861"/>
                  </a:lnTo>
                  <a:lnTo>
                    <a:pt x="1085" y="810"/>
                  </a:lnTo>
                  <a:lnTo>
                    <a:pt x="1135" y="869"/>
                  </a:lnTo>
                  <a:lnTo>
                    <a:pt x="1184" y="882"/>
                  </a:lnTo>
                  <a:lnTo>
                    <a:pt x="1234" y="844"/>
                  </a:lnTo>
                  <a:lnTo>
                    <a:pt x="1282" y="898"/>
                  </a:lnTo>
                  <a:lnTo>
                    <a:pt x="1332" y="917"/>
                  </a:lnTo>
                  <a:lnTo>
                    <a:pt x="1381" y="901"/>
                  </a:lnTo>
                  <a:lnTo>
                    <a:pt x="1431" y="945"/>
                  </a:lnTo>
                  <a:lnTo>
                    <a:pt x="1480" y="1031"/>
                  </a:lnTo>
                  <a:lnTo>
                    <a:pt x="1529" y="1017"/>
                  </a:lnTo>
                  <a:lnTo>
                    <a:pt x="1579" y="1044"/>
                  </a:lnTo>
                  <a:lnTo>
                    <a:pt x="1628" y="1078"/>
                  </a:lnTo>
                  <a:lnTo>
                    <a:pt x="1677" y="1052"/>
                  </a:lnTo>
                  <a:lnTo>
                    <a:pt x="1727" y="1073"/>
                  </a:lnTo>
                  <a:lnTo>
                    <a:pt x="1776" y="1117"/>
                  </a:lnTo>
                  <a:lnTo>
                    <a:pt x="1826" y="1092"/>
                  </a:lnTo>
                  <a:lnTo>
                    <a:pt x="1874" y="1103"/>
                  </a:lnTo>
                  <a:lnTo>
                    <a:pt x="1924" y="1094"/>
                  </a:lnTo>
                  <a:lnTo>
                    <a:pt x="1973" y="1070"/>
                  </a:lnTo>
                  <a:lnTo>
                    <a:pt x="2023" y="1077"/>
                  </a:lnTo>
                  <a:lnTo>
                    <a:pt x="2072" y="1072"/>
                  </a:lnTo>
                  <a:lnTo>
                    <a:pt x="2121" y="1051"/>
                  </a:lnTo>
                  <a:lnTo>
                    <a:pt x="2171" y="1056"/>
                  </a:lnTo>
                  <a:lnTo>
                    <a:pt x="2220" y="1053"/>
                  </a:lnTo>
                  <a:lnTo>
                    <a:pt x="2269" y="1034"/>
                  </a:lnTo>
                  <a:lnTo>
                    <a:pt x="2319" y="1031"/>
                  </a:lnTo>
                  <a:lnTo>
                    <a:pt x="2368" y="1030"/>
                  </a:lnTo>
                  <a:lnTo>
                    <a:pt x="2418" y="1011"/>
                  </a:lnTo>
                  <a:lnTo>
                    <a:pt x="2466" y="1019"/>
                  </a:lnTo>
                  <a:lnTo>
                    <a:pt x="2516" y="1017"/>
                  </a:lnTo>
                  <a:lnTo>
                    <a:pt x="2565" y="998"/>
                  </a:lnTo>
                  <a:lnTo>
                    <a:pt x="2615" y="998"/>
                  </a:lnTo>
                  <a:lnTo>
                    <a:pt x="2664" y="1005"/>
                  </a:lnTo>
                  <a:lnTo>
                    <a:pt x="2713" y="988"/>
                  </a:lnTo>
                  <a:lnTo>
                    <a:pt x="2763" y="978"/>
                  </a:lnTo>
                  <a:lnTo>
                    <a:pt x="2812" y="947"/>
                  </a:lnTo>
                  <a:lnTo>
                    <a:pt x="2861" y="903"/>
                  </a:lnTo>
                  <a:lnTo>
                    <a:pt x="2911" y="887"/>
                  </a:lnTo>
                  <a:lnTo>
                    <a:pt x="2960" y="848"/>
                  </a:lnTo>
                  <a:lnTo>
                    <a:pt x="3010" y="837"/>
                  </a:lnTo>
                  <a:lnTo>
                    <a:pt x="3058" y="819"/>
                  </a:lnTo>
                  <a:lnTo>
                    <a:pt x="3108" y="837"/>
                  </a:lnTo>
                  <a:lnTo>
                    <a:pt x="3157" y="822"/>
                  </a:lnTo>
                  <a:lnTo>
                    <a:pt x="3207" y="805"/>
                  </a:lnTo>
                  <a:lnTo>
                    <a:pt x="3256" y="858"/>
                  </a:lnTo>
                  <a:lnTo>
                    <a:pt x="3305" y="853"/>
                  </a:lnTo>
                  <a:lnTo>
                    <a:pt x="3355" y="835"/>
                  </a:lnTo>
                  <a:lnTo>
                    <a:pt x="3404" y="891"/>
                  </a:lnTo>
                  <a:lnTo>
                    <a:pt x="3453" y="888"/>
                  </a:lnTo>
                  <a:lnTo>
                    <a:pt x="3503" y="871"/>
                  </a:lnTo>
                  <a:lnTo>
                    <a:pt x="3552" y="860"/>
                  </a:lnTo>
                  <a:lnTo>
                    <a:pt x="3602" y="847"/>
                  </a:lnTo>
                  <a:lnTo>
                    <a:pt x="3650" y="842"/>
                  </a:lnTo>
                  <a:lnTo>
                    <a:pt x="3700" y="820"/>
                  </a:lnTo>
                  <a:lnTo>
                    <a:pt x="3749" y="811"/>
                  </a:lnTo>
                  <a:lnTo>
                    <a:pt x="3799" y="807"/>
                  </a:lnTo>
                  <a:lnTo>
                    <a:pt x="3848" y="792"/>
                  </a:lnTo>
                  <a:lnTo>
                    <a:pt x="3897" y="784"/>
                  </a:lnTo>
                  <a:lnTo>
                    <a:pt x="3947" y="779"/>
                  </a:lnTo>
                  <a:lnTo>
                    <a:pt x="3996" y="766"/>
                  </a:lnTo>
                  <a:lnTo>
                    <a:pt x="4045" y="760"/>
                  </a:lnTo>
                  <a:lnTo>
                    <a:pt x="4095" y="755"/>
                  </a:lnTo>
                  <a:lnTo>
                    <a:pt x="4144" y="743"/>
                  </a:lnTo>
                  <a:lnTo>
                    <a:pt x="4194" y="737"/>
                  </a:lnTo>
                  <a:lnTo>
                    <a:pt x="4242" y="733"/>
                  </a:lnTo>
                  <a:lnTo>
                    <a:pt x="4292" y="722"/>
                  </a:lnTo>
                  <a:lnTo>
                    <a:pt x="4341" y="717"/>
                  </a:lnTo>
                  <a:lnTo>
                    <a:pt x="4391" y="715"/>
                  </a:lnTo>
                  <a:lnTo>
                    <a:pt x="4440" y="704"/>
                  </a:lnTo>
                  <a:lnTo>
                    <a:pt x="4489" y="700"/>
                  </a:lnTo>
                  <a:lnTo>
                    <a:pt x="4539" y="697"/>
                  </a:lnTo>
                  <a:lnTo>
                    <a:pt x="4588" y="687"/>
                  </a:lnTo>
                  <a:lnTo>
                    <a:pt x="4637" y="682"/>
                  </a:lnTo>
                  <a:lnTo>
                    <a:pt x="4687" y="680"/>
                  </a:lnTo>
                  <a:lnTo>
                    <a:pt x="4736" y="668"/>
                  </a:lnTo>
                  <a:lnTo>
                    <a:pt x="4786" y="664"/>
                  </a:lnTo>
                  <a:lnTo>
                    <a:pt x="4834" y="661"/>
                  </a:lnTo>
                  <a:lnTo>
                    <a:pt x="4884" y="648"/>
                  </a:lnTo>
                  <a:lnTo>
                    <a:pt x="4884" y="2569"/>
                  </a:lnTo>
                  <a:lnTo>
                    <a:pt x="4834" y="2570"/>
                  </a:lnTo>
                  <a:lnTo>
                    <a:pt x="4786" y="2570"/>
                  </a:lnTo>
                  <a:lnTo>
                    <a:pt x="4736" y="2571"/>
                  </a:lnTo>
                  <a:lnTo>
                    <a:pt x="4687" y="2572"/>
                  </a:lnTo>
                  <a:lnTo>
                    <a:pt x="4637" y="2572"/>
                  </a:lnTo>
                  <a:lnTo>
                    <a:pt x="4588" y="2573"/>
                  </a:lnTo>
                  <a:lnTo>
                    <a:pt x="4539" y="2574"/>
                  </a:lnTo>
                  <a:lnTo>
                    <a:pt x="4489" y="2574"/>
                  </a:lnTo>
                  <a:lnTo>
                    <a:pt x="4440" y="2575"/>
                  </a:lnTo>
                  <a:lnTo>
                    <a:pt x="4391" y="2576"/>
                  </a:lnTo>
                  <a:lnTo>
                    <a:pt x="4341" y="2576"/>
                  </a:lnTo>
                  <a:lnTo>
                    <a:pt x="4292" y="2577"/>
                  </a:lnTo>
                  <a:lnTo>
                    <a:pt x="4242" y="2578"/>
                  </a:lnTo>
                  <a:lnTo>
                    <a:pt x="4194" y="2579"/>
                  </a:lnTo>
                  <a:lnTo>
                    <a:pt x="4144" y="2580"/>
                  </a:lnTo>
                  <a:lnTo>
                    <a:pt x="4095" y="2581"/>
                  </a:lnTo>
                  <a:lnTo>
                    <a:pt x="4045" y="2581"/>
                  </a:lnTo>
                  <a:lnTo>
                    <a:pt x="3996" y="2583"/>
                  </a:lnTo>
                  <a:lnTo>
                    <a:pt x="3947" y="2584"/>
                  </a:lnTo>
                  <a:lnTo>
                    <a:pt x="3897" y="2584"/>
                  </a:lnTo>
                  <a:lnTo>
                    <a:pt x="3848" y="2586"/>
                  </a:lnTo>
                  <a:lnTo>
                    <a:pt x="3799" y="2587"/>
                  </a:lnTo>
                  <a:lnTo>
                    <a:pt x="3749" y="2587"/>
                  </a:lnTo>
                  <a:lnTo>
                    <a:pt x="3700" y="2588"/>
                  </a:lnTo>
                  <a:lnTo>
                    <a:pt x="3650" y="2590"/>
                  </a:lnTo>
                  <a:lnTo>
                    <a:pt x="3602" y="2590"/>
                  </a:lnTo>
                  <a:lnTo>
                    <a:pt x="3552" y="2592"/>
                  </a:lnTo>
                  <a:lnTo>
                    <a:pt x="3503" y="2593"/>
                  </a:lnTo>
                  <a:lnTo>
                    <a:pt x="3453" y="2594"/>
                  </a:lnTo>
                  <a:lnTo>
                    <a:pt x="3404" y="2595"/>
                  </a:lnTo>
                  <a:lnTo>
                    <a:pt x="3355" y="2598"/>
                  </a:lnTo>
                  <a:lnTo>
                    <a:pt x="3305" y="2598"/>
                  </a:lnTo>
                  <a:lnTo>
                    <a:pt x="3256" y="2600"/>
                  </a:lnTo>
                  <a:lnTo>
                    <a:pt x="3207" y="2602"/>
                  </a:lnTo>
                  <a:lnTo>
                    <a:pt x="3157" y="2602"/>
                  </a:lnTo>
                  <a:lnTo>
                    <a:pt x="3108" y="2604"/>
                  </a:lnTo>
                  <a:lnTo>
                    <a:pt x="3058" y="2606"/>
                  </a:lnTo>
                  <a:lnTo>
                    <a:pt x="3010" y="2607"/>
                  </a:lnTo>
                  <a:lnTo>
                    <a:pt x="2960" y="2609"/>
                  </a:lnTo>
                  <a:lnTo>
                    <a:pt x="2911" y="2610"/>
                  </a:lnTo>
                  <a:lnTo>
                    <a:pt x="2861" y="2611"/>
                  </a:lnTo>
                  <a:lnTo>
                    <a:pt x="2812" y="2613"/>
                  </a:lnTo>
                  <a:lnTo>
                    <a:pt x="2763" y="2616"/>
                  </a:lnTo>
                  <a:lnTo>
                    <a:pt x="2713" y="2617"/>
                  </a:lnTo>
                  <a:lnTo>
                    <a:pt x="2664" y="2619"/>
                  </a:lnTo>
                  <a:lnTo>
                    <a:pt x="2615" y="2621"/>
                  </a:lnTo>
                  <a:lnTo>
                    <a:pt x="2565" y="2623"/>
                  </a:lnTo>
                  <a:lnTo>
                    <a:pt x="2516" y="2625"/>
                  </a:lnTo>
                  <a:lnTo>
                    <a:pt x="2466" y="2627"/>
                  </a:lnTo>
                  <a:lnTo>
                    <a:pt x="2418" y="2628"/>
                  </a:lnTo>
                  <a:lnTo>
                    <a:pt x="2368" y="2631"/>
                  </a:lnTo>
                  <a:lnTo>
                    <a:pt x="2319" y="2634"/>
                  </a:lnTo>
                  <a:lnTo>
                    <a:pt x="2269" y="2635"/>
                  </a:lnTo>
                  <a:lnTo>
                    <a:pt x="2220" y="2638"/>
                  </a:lnTo>
                  <a:lnTo>
                    <a:pt x="2171" y="2641"/>
                  </a:lnTo>
                  <a:lnTo>
                    <a:pt x="2121" y="2642"/>
                  </a:lnTo>
                  <a:lnTo>
                    <a:pt x="2072" y="2645"/>
                  </a:lnTo>
                  <a:lnTo>
                    <a:pt x="2023" y="2648"/>
                  </a:lnTo>
                  <a:lnTo>
                    <a:pt x="1973" y="2648"/>
                  </a:lnTo>
                  <a:lnTo>
                    <a:pt x="1924" y="2652"/>
                  </a:lnTo>
                  <a:lnTo>
                    <a:pt x="1874" y="2655"/>
                  </a:lnTo>
                  <a:lnTo>
                    <a:pt x="1826" y="2654"/>
                  </a:lnTo>
                  <a:lnTo>
                    <a:pt x="1776" y="2658"/>
                  </a:lnTo>
                  <a:lnTo>
                    <a:pt x="1727" y="2662"/>
                  </a:lnTo>
                  <a:lnTo>
                    <a:pt x="1677" y="2661"/>
                  </a:lnTo>
                  <a:lnTo>
                    <a:pt x="1628" y="2665"/>
                  </a:lnTo>
                  <a:lnTo>
                    <a:pt x="1579" y="2669"/>
                  </a:lnTo>
                  <a:lnTo>
                    <a:pt x="1529" y="2668"/>
                  </a:lnTo>
                  <a:lnTo>
                    <a:pt x="1480" y="2672"/>
                  </a:lnTo>
                  <a:lnTo>
                    <a:pt x="1431" y="2676"/>
                  </a:lnTo>
                  <a:lnTo>
                    <a:pt x="1381" y="2673"/>
                  </a:lnTo>
                  <a:lnTo>
                    <a:pt x="1332" y="2678"/>
                  </a:lnTo>
                  <a:lnTo>
                    <a:pt x="1282" y="2684"/>
                  </a:lnTo>
                  <a:lnTo>
                    <a:pt x="1234" y="2678"/>
                  </a:lnTo>
                  <a:lnTo>
                    <a:pt x="1184" y="2684"/>
                  </a:lnTo>
                  <a:lnTo>
                    <a:pt x="1135" y="2689"/>
                  </a:lnTo>
                  <a:lnTo>
                    <a:pt x="1085" y="2681"/>
                  </a:lnTo>
                  <a:lnTo>
                    <a:pt x="1036" y="2686"/>
                  </a:lnTo>
                  <a:lnTo>
                    <a:pt x="987" y="2691"/>
                  </a:lnTo>
                  <a:lnTo>
                    <a:pt x="937" y="2678"/>
                  </a:lnTo>
                  <a:lnTo>
                    <a:pt x="888" y="2684"/>
                  </a:lnTo>
                  <a:lnTo>
                    <a:pt x="839" y="2690"/>
                  </a:lnTo>
                  <a:lnTo>
                    <a:pt x="790" y="2674"/>
                  </a:lnTo>
                  <a:lnTo>
                    <a:pt x="740" y="2679"/>
                  </a:lnTo>
                  <a:lnTo>
                    <a:pt x="690" y="2686"/>
                  </a:lnTo>
                  <a:lnTo>
                    <a:pt x="642" y="2660"/>
                  </a:lnTo>
                  <a:lnTo>
                    <a:pt x="592" y="2667"/>
                  </a:lnTo>
                  <a:lnTo>
                    <a:pt x="543" y="2674"/>
                  </a:lnTo>
                  <a:lnTo>
                    <a:pt x="493" y="2651"/>
                  </a:lnTo>
                  <a:lnTo>
                    <a:pt x="444" y="2656"/>
                  </a:lnTo>
                  <a:lnTo>
                    <a:pt x="395" y="2660"/>
                  </a:lnTo>
                  <a:lnTo>
                    <a:pt x="345" y="2557"/>
                  </a:lnTo>
                  <a:lnTo>
                    <a:pt x="296" y="2549"/>
                  </a:lnTo>
                  <a:lnTo>
                    <a:pt x="247" y="2551"/>
                  </a:lnTo>
                  <a:lnTo>
                    <a:pt x="198" y="2473"/>
                  </a:lnTo>
                  <a:lnTo>
                    <a:pt x="148" y="2442"/>
                  </a:lnTo>
                  <a:lnTo>
                    <a:pt x="98" y="2443"/>
                  </a:lnTo>
                  <a:lnTo>
                    <a:pt x="50" y="2396"/>
                  </a:lnTo>
                  <a:lnTo>
                    <a:pt x="0" y="23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00160" y="5010120"/>
              <a:ext cx="7753320" cy="604800"/>
            </a:xfrm>
            <a:custGeom>
              <a:avLst/>
              <a:gdLst/>
              <a:ahLst/>
              <a:rect l="l" t="t" r="r" b="b"/>
              <a:pathLst>
                <a:path w="4884" h="381">
                  <a:moveTo>
                    <a:pt x="0" y="381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98" y="47"/>
                  </a:lnTo>
                  <a:lnTo>
                    <a:pt x="148" y="46"/>
                  </a:lnTo>
                  <a:lnTo>
                    <a:pt x="198" y="77"/>
                  </a:lnTo>
                  <a:lnTo>
                    <a:pt x="247" y="155"/>
                  </a:lnTo>
                  <a:lnTo>
                    <a:pt x="296" y="153"/>
                  </a:lnTo>
                  <a:lnTo>
                    <a:pt x="345" y="161"/>
                  </a:lnTo>
                  <a:lnTo>
                    <a:pt x="395" y="264"/>
                  </a:lnTo>
                  <a:lnTo>
                    <a:pt x="444" y="260"/>
                  </a:lnTo>
                  <a:lnTo>
                    <a:pt x="493" y="255"/>
                  </a:lnTo>
                  <a:lnTo>
                    <a:pt x="543" y="278"/>
                  </a:lnTo>
                  <a:lnTo>
                    <a:pt x="592" y="271"/>
                  </a:lnTo>
                  <a:lnTo>
                    <a:pt x="642" y="264"/>
                  </a:lnTo>
                  <a:lnTo>
                    <a:pt x="690" y="290"/>
                  </a:lnTo>
                  <a:lnTo>
                    <a:pt x="740" y="283"/>
                  </a:lnTo>
                  <a:lnTo>
                    <a:pt x="790" y="278"/>
                  </a:lnTo>
                  <a:lnTo>
                    <a:pt x="839" y="294"/>
                  </a:lnTo>
                  <a:lnTo>
                    <a:pt x="888" y="288"/>
                  </a:lnTo>
                  <a:lnTo>
                    <a:pt x="937" y="282"/>
                  </a:lnTo>
                  <a:lnTo>
                    <a:pt x="987" y="295"/>
                  </a:lnTo>
                  <a:lnTo>
                    <a:pt x="1036" y="290"/>
                  </a:lnTo>
                  <a:lnTo>
                    <a:pt x="1085" y="285"/>
                  </a:lnTo>
                  <a:lnTo>
                    <a:pt x="1135" y="293"/>
                  </a:lnTo>
                  <a:lnTo>
                    <a:pt x="1184" y="288"/>
                  </a:lnTo>
                  <a:lnTo>
                    <a:pt x="1234" y="282"/>
                  </a:lnTo>
                  <a:lnTo>
                    <a:pt x="1282" y="288"/>
                  </a:lnTo>
                  <a:lnTo>
                    <a:pt x="1332" y="282"/>
                  </a:lnTo>
                  <a:lnTo>
                    <a:pt x="1381" y="277"/>
                  </a:lnTo>
                  <a:lnTo>
                    <a:pt x="1431" y="280"/>
                  </a:lnTo>
                  <a:lnTo>
                    <a:pt x="1480" y="276"/>
                  </a:lnTo>
                  <a:lnTo>
                    <a:pt x="1529" y="272"/>
                  </a:lnTo>
                  <a:lnTo>
                    <a:pt x="1579" y="273"/>
                  </a:lnTo>
                  <a:lnTo>
                    <a:pt x="1628" y="269"/>
                  </a:lnTo>
                  <a:lnTo>
                    <a:pt x="1677" y="265"/>
                  </a:lnTo>
                  <a:lnTo>
                    <a:pt x="1727" y="266"/>
                  </a:lnTo>
                  <a:lnTo>
                    <a:pt x="1776" y="262"/>
                  </a:lnTo>
                  <a:lnTo>
                    <a:pt x="1826" y="258"/>
                  </a:lnTo>
                  <a:lnTo>
                    <a:pt x="1874" y="259"/>
                  </a:lnTo>
                  <a:lnTo>
                    <a:pt x="1924" y="256"/>
                  </a:lnTo>
                  <a:lnTo>
                    <a:pt x="1973" y="252"/>
                  </a:lnTo>
                  <a:lnTo>
                    <a:pt x="2023" y="252"/>
                  </a:lnTo>
                  <a:lnTo>
                    <a:pt x="2072" y="249"/>
                  </a:lnTo>
                  <a:lnTo>
                    <a:pt x="2121" y="246"/>
                  </a:lnTo>
                  <a:lnTo>
                    <a:pt x="2171" y="245"/>
                  </a:lnTo>
                  <a:lnTo>
                    <a:pt x="2220" y="242"/>
                  </a:lnTo>
                  <a:lnTo>
                    <a:pt x="2269" y="239"/>
                  </a:lnTo>
                  <a:lnTo>
                    <a:pt x="2319" y="238"/>
                  </a:lnTo>
                  <a:lnTo>
                    <a:pt x="2368" y="235"/>
                  </a:lnTo>
                  <a:lnTo>
                    <a:pt x="2418" y="232"/>
                  </a:lnTo>
                  <a:lnTo>
                    <a:pt x="2466" y="231"/>
                  </a:lnTo>
                  <a:lnTo>
                    <a:pt x="2516" y="229"/>
                  </a:lnTo>
                  <a:lnTo>
                    <a:pt x="2565" y="227"/>
                  </a:lnTo>
                  <a:lnTo>
                    <a:pt x="2615" y="225"/>
                  </a:lnTo>
                  <a:lnTo>
                    <a:pt x="2664" y="223"/>
                  </a:lnTo>
                  <a:lnTo>
                    <a:pt x="2713" y="221"/>
                  </a:lnTo>
                  <a:lnTo>
                    <a:pt x="2763" y="220"/>
                  </a:lnTo>
                  <a:lnTo>
                    <a:pt x="2812" y="217"/>
                  </a:lnTo>
                  <a:lnTo>
                    <a:pt x="2861" y="215"/>
                  </a:lnTo>
                  <a:lnTo>
                    <a:pt x="2911" y="214"/>
                  </a:lnTo>
                  <a:lnTo>
                    <a:pt x="2960" y="213"/>
                  </a:lnTo>
                  <a:lnTo>
                    <a:pt x="3010" y="211"/>
                  </a:lnTo>
                  <a:lnTo>
                    <a:pt x="3058" y="210"/>
                  </a:lnTo>
                  <a:lnTo>
                    <a:pt x="3108" y="208"/>
                  </a:lnTo>
                  <a:lnTo>
                    <a:pt x="3157" y="206"/>
                  </a:lnTo>
                  <a:lnTo>
                    <a:pt x="3207" y="206"/>
                  </a:lnTo>
                  <a:lnTo>
                    <a:pt x="3256" y="204"/>
                  </a:lnTo>
                  <a:lnTo>
                    <a:pt x="3305" y="202"/>
                  </a:lnTo>
                  <a:lnTo>
                    <a:pt x="3355" y="202"/>
                  </a:lnTo>
                  <a:lnTo>
                    <a:pt x="3404" y="199"/>
                  </a:lnTo>
                  <a:lnTo>
                    <a:pt x="3453" y="198"/>
                  </a:lnTo>
                  <a:lnTo>
                    <a:pt x="3503" y="197"/>
                  </a:lnTo>
                  <a:lnTo>
                    <a:pt x="3552" y="196"/>
                  </a:lnTo>
                  <a:lnTo>
                    <a:pt x="3602" y="194"/>
                  </a:lnTo>
                  <a:lnTo>
                    <a:pt x="3650" y="194"/>
                  </a:lnTo>
                  <a:lnTo>
                    <a:pt x="3700" y="192"/>
                  </a:lnTo>
                  <a:lnTo>
                    <a:pt x="3749" y="191"/>
                  </a:lnTo>
                  <a:lnTo>
                    <a:pt x="3799" y="191"/>
                  </a:lnTo>
                  <a:lnTo>
                    <a:pt x="3848" y="190"/>
                  </a:lnTo>
                  <a:lnTo>
                    <a:pt x="3897" y="188"/>
                  </a:lnTo>
                  <a:lnTo>
                    <a:pt x="3947" y="188"/>
                  </a:lnTo>
                  <a:lnTo>
                    <a:pt x="3996" y="187"/>
                  </a:lnTo>
                  <a:lnTo>
                    <a:pt x="4045" y="185"/>
                  </a:lnTo>
                  <a:lnTo>
                    <a:pt x="4095" y="185"/>
                  </a:lnTo>
                  <a:lnTo>
                    <a:pt x="4144" y="184"/>
                  </a:lnTo>
                  <a:lnTo>
                    <a:pt x="4194" y="183"/>
                  </a:lnTo>
                  <a:lnTo>
                    <a:pt x="4242" y="182"/>
                  </a:lnTo>
                  <a:lnTo>
                    <a:pt x="4292" y="181"/>
                  </a:lnTo>
                  <a:lnTo>
                    <a:pt x="4341" y="180"/>
                  </a:lnTo>
                  <a:lnTo>
                    <a:pt x="4391" y="180"/>
                  </a:lnTo>
                  <a:lnTo>
                    <a:pt x="4440" y="179"/>
                  </a:lnTo>
                  <a:lnTo>
                    <a:pt x="4489" y="178"/>
                  </a:lnTo>
                  <a:lnTo>
                    <a:pt x="4539" y="178"/>
                  </a:lnTo>
                  <a:lnTo>
                    <a:pt x="4588" y="177"/>
                  </a:lnTo>
                  <a:lnTo>
                    <a:pt x="4637" y="176"/>
                  </a:lnTo>
                  <a:lnTo>
                    <a:pt x="4687" y="176"/>
                  </a:lnTo>
                  <a:lnTo>
                    <a:pt x="4736" y="175"/>
                  </a:lnTo>
                  <a:lnTo>
                    <a:pt x="4786" y="174"/>
                  </a:lnTo>
                  <a:lnTo>
                    <a:pt x="4834" y="174"/>
                  </a:lnTo>
                  <a:lnTo>
                    <a:pt x="4884" y="173"/>
                  </a:lnTo>
                  <a:lnTo>
                    <a:pt x="4884" y="381"/>
                  </a:lnTo>
                  <a:lnTo>
                    <a:pt x="4834" y="381"/>
                  </a:lnTo>
                  <a:lnTo>
                    <a:pt x="4786" y="381"/>
                  </a:lnTo>
                  <a:lnTo>
                    <a:pt x="4736" y="381"/>
                  </a:lnTo>
                  <a:lnTo>
                    <a:pt x="4687" y="381"/>
                  </a:lnTo>
                  <a:lnTo>
                    <a:pt x="4637" y="381"/>
                  </a:lnTo>
                  <a:lnTo>
                    <a:pt x="4588" y="381"/>
                  </a:lnTo>
                  <a:lnTo>
                    <a:pt x="4539" y="381"/>
                  </a:lnTo>
                  <a:lnTo>
                    <a:pt x="4489" y="381"/>
                  </a:lnTo>
                  <a:lnTo>
                    <a:pt x="4440" y="381"/>
                  </a:lnTo>
                  <a:lnTo>
                    <a:pt x="4391" y="381"/>
                  </a:lnTo>
                  <a:lnTo>
                    <a:pt x="4341" y="381"/>
                  </a:lnTo>
                  <a:lnTo>
                    <a:pt x="4292" y="381"/>
                  </a:lnTo>
                  <a:lnTo>
                    <a:pt x="4242" y="381"/>
                  </a:lnTo>
                  <a:lnTo>
                    <a:pt x="4194" y="381"/>
                  </a:lnTo>
                  <a:lnTo>
                    <a:pt x="4144" y="381"/>
                  </a:lnTo>
                  <a:lnTo>
                    <a:pt x="4095" y="381"/>
                  </a:lnTo>
                  <a:lnTo>
                    <a:pt x="4045" y="381"/>
                  </a:lnTo>
                  <a:lnTo>
                    <a:pt x="3996" y="381"/>
                  </a:lnTo>
                  <a:lnTo>
                    <a:pt x="3947" y="381"/>
                  </a:lnTo>
                  <a:lnTo>
                    <a:pt x="3897" y="381"/>
                  </a:lnTo>
                  <a:lnTo>
                    <a:pt x="3848" y="381"/>
                  </a:lnTo>
                  <a:lnTo>
                    <a:pt x="3799" y="381"/>
                  </a:lnTo>
                  <a:lnTo>
                    <a:pt x="3749" y="381"/>
                  </a:lnTo>
                  <a:lnTo>
                    <a:pt x="3700" y="381"/>
                  </a:lnTo>
                  <a:lnTo>
                    <a:pt x="3650" y="381"/>
                  </a:lnTo>
                  <a:lnTo>
                    <a:pt x="3602" y="381"/>
                  </a:lnTo>
                  <a:lnTo>
                    <a:pt x="3552" y="381"/>
                  </a:lnTo>
                  <a:lnTo>
                    <a:pt x="3503" y="381"/>
                  </a:lnTo>
                  <a:lnTo>
                    <a:pt x="3453" y="381"/>
                  </a:lnTo>
                  <a:lnTo>
                    <a:pt x="3404" y="381"/>
                  </a:lnTo>
                  <a:lnTo>
                    <a:pt x="3355" y="381"/>
                  </a:lnTo>
                  <a:lnTo>
                    <a:pt x="3305" y="381"/>
                  </a:lnTo>
                  <a:lnTo>
                    <a:pt x="3256" y="381"/>
                  </a:lnTo>
                  <a:lnTo>
                    <a:pt x="3207" y="381"/>
                  </a:lnTo>
                  <a:lnTo>
                    <a:pt x="3157" y="381"/>
                  </a:lnTo>
                  <a:lnTo>
                    <a:pt x="3108" y="381"/>
                  </a:lnTo>
                  <a:lnTo>
                    <a:pt x="3058" y="381"/>
                  </a:lnTo>
                  <a:lnTo>
                    <a:pt x="3010" y="381"/>
                  </a:lnTo>
                  <a:lnTo>
                    <a:pt x="2960" y="381"/>
                  </a:lnTo>
                  <a:lnTo>
                    <a:pt x="2911" y="381"/>
                  </a:lnTo>
                  <a:lnTo>
                    <a:pt x="2861" y="381"/>
                  </a:lnTo>
                  <a:lnTo>
                    <a:pt x="2812" y="381"/>
                  </a:lnTo>
                  <a:lnTo>
                    <a:pt x="2763" y="381"/>
                  </a:lnTo>
                  <a:lnTo>
                    <a:pt x="2713" y="381"/>
                  </a:lnTo>
                  <a:lnTo>
                    <a:pt x="2664" y="381"/>
                  </a:lnTo>
                  <a:lnTo>
                    <a:pt x="2615" y="381"/>
                  </a:lnTo>
                  <a:lnTo>
                    <a:pt x="2565" y="381"/>
                  </a:lnTo>
                  <a:lnTo>
                    <a:pt x="2516" y="381"/>
                  </a:lnTo>
                  <a:lnTo>
                    <a:pt x="2466" y="381"/>
                  </a:lnTo>
                  <a:lnTo>
                    <a:pt x="2418" y="381"/>
                  </a:lnTo>
                  <a:lnTo>
                    <a:pt x="2368" y="381"/>
                  </a:lnTo>
                  <a:lnTo>
                    <a:pt x="2319" y="381"/>
                  </a:lnTo>
                  <a:lnTo>
                    <a:pt x="2269" y="381"/>
                  </a:lnTo>
                  <a:lnTo>
                    <a:pt x="2220" y="381"/>
                  </a:lnTo>
                  <a:lnTo>
                    <a:pt x="2171" y="381"/>
                  </a:lnTo>
                  <a:lnTo>
                    <a:pt x="2121" y="381"/>
                  </a:lnTo>
                  <a:lnTo>
                    <a:pt x="2072" y="381"/>
                  </a:lnTo>
                  <a:lnTo>
                    <a:pt x="2023" y="381"/>
                  </a:lnTo>
                  <a:lnTo>
                    <a:pt x="1973" y="381"/>
                  </a:lnTo>
                  <a:lnTo>
                    <a:pt x="1924" y="381"/>
                  </a:lnTo>
                  <a:lnTo>
                    <a:pt x="1874" y="381"/>
                  </a:lnTo>
                  <a:lnTo>
                    <a:pt x="1826" y="381"/>
                  </a:lnTo>
                  <a:lnTo>
                    <a:pt x="1776" y="381"/>
                  </a:lnTo>
                  <a:lnTo>
                    <a:pt x="1727" y="381"/>
                  </a:lnTo>
                  <a:lnTo>
                    <a:pt x="1677" y="381"/>
                  </a:lnTo>
                  <a:lnTo>
                    <a:pt x="1628" y="381"/>
                  </a:lnTo>
                  <a:lnTo>
                    <a:pt x="1579" y="381"/>
                  </a:lnTo>
                  <a:lnTo>
                    <a:pt x="1529" y="381"/>
                  </a:lnTo>
                  <a:lnTo>
                    <a:pt x="1480" y="381"/>
                  </a:lnTo>
                  <a:lnTo>
                    <a:pt x="1431" y="381"/>
                  </a:lnTo>
                  <a:lnTo>
                    <a:pt x="1381" y="381"/>
                  </a:lnTo>
                  <a:lnTo>
                    <a:pt x="1332" y="381"/>
                  </a:lnTo>
                  <a:lnTo>
                    <a:pt x="1282" y="381"/>
                  </a:lnTo>
                  <a:lnTo>
                    <a:pt x="1234" y="381"/>
                  </a:lnTo>
                  <a:lnTo>
                    <a:pt x="1184" y="381"/>
                  </a:lnTo>
                  <a:lnTo>
                    <a:pt x="1135" y="381"/>
                  </a:lnTo>
                  <a:lnTo>
                    <a:pt x="1085" y="381"/>
                  </a:lnTo>
                  <a:lnTo>
                    <a:pt x="1036" y="381"/>
                  </a:lnTo>
                  <a:lnTo>
                    <a:pt x="987" y="381"/>
                  </a:lnTo>
                  <a:lnTo>
                    <a:pt x="937" y="381"/>
                  </a:lnTo>
                  <a:lnTo>
                    <a:pt x="888" y="381"/>
                  </a:lnTo>
                  <a:lnTo>
                    <a:pt x="839" y="381"/>
                  </a:lnTo>
                  <a:lnTo>
                    <a:pt x="790" y="381"/>
                  </a:lnTo>
                  <a:lnTo>
                    <a:pt x="740" y="381"/>
                  </a:lnTo>
                  <a:lnTo>
                    <a:pt x="690" y="381"/>
                  </a:lnTo>
                  <a:lnTo>
                    <a:pt x="642" y="381"/>
                  </a:lnTo>
                  <a:lnTo>
                    <a:pt x="592" y="381"/>
                  </a:lnTo>
                  <a:lnTo>
                    <a:pt x="543" y="381"/>
                  </a:lnTo>
                  <a:lnTo>
                    <a:pt x="493" y="381"/>
                  </a:lnTo>
                  <a:lnTo>
                    <a:pt x="444" y="381"/>
                  </a:lnTo>
                  <a:lnTo>
                    <a:pt x="395" y="381"/>
                  </a:lnTo>
                  <a:lnTo>
                    <a:pt x="345" y="381"/>
                  </a:lnTo>
                  <a:lnTo>
                    <a:pt x="296" y="381"/>
                  </a:lnTo>
                  <a:lnTo>
                    <a:pt x="247" y="381"/>
                  </a:lnTo>
                  <a:lnTo>
                    <a:pt x="198" y="381"/>
                  </a:lnTo>
                  <a:lnTo>
                    <a:pt x="148" y="381"/>
                  </a:lnTo>
                  <a:lnTo>
                    <a:pt x="98" y="381"/>
                  </a:lnTo>
                  <a:lnTo>
                    <a:pt x="50" y="381"/>
                  </a:lnTo>
                  <a:lnTo>
                    <a:pt x="0" y="3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100160" y="1206360"/>
              <a:ext cx="7753320" cy="4272120"/>
            </a:xfrm>
            <a:custGeom>
              <a:avLst/>
              <a:gdLst/>
              <a:ahLst/>
              <a:rect l="l" t="t" r="r" b="b"/>
              <a:pathLst>
                <a:path w="4884" h="2691">
                  <a:moveTo>
                    <a:pt x="0" y="2397"/>
                  </a:moveTo>
                  <a:lnTo>
                    <a:pt x="0" y="6"/>
                  </a:lnTo>
                  <a:lnTo>
                    <a:pt x="50" y="0"/>
                  </a:lnTo>
                  <a:lnTo>
                    <a:pt x="98" y="103"/>
                  </a:lnTo>
                  <a:lnTo>
                    <a:pt x="148" y="98"/>
                  </a:lnTo>
                  <a:lnTo>
                    <a:pt x="198" y="169"/>
                  </a:lnTo>
                  <a:lnTo>
                    <a:pt x="247" y="374"/>
                  </a:lnTo>
                  <a:lnTo>
                    <a:pt x="296" y="366"/>
                  </a:lnTo>
                  <a:lnTo>
                    <a:pt x="345" y="360"/>
                  </a:lnTo>
                  <a:lnTo>
                    <a:pt x="395" y="704"/>
                  </a:lnTo>
                  <a:lnTo>
                    <a:pt x="444" y="663"/>
                  </a:lnTo>
                  <a:lnTo>
                    <a:pt x="493" y="607"/>
                  </a:lnTo>
                  <a:lnTo>
                    <a:pt x="543" y="733"/>
                  </a:lnTo>
                  <a:lnTo>
                    <a:pt x="592" y="697"/>
                  </a:lnTo>
                  <a:lnTo>
                    <a:pt x="642" y="635"/>
                  </a:lnTo>
                  <a:lnTo>
                    <a:pt x="690" y="764"/>
                  </a:lnTo>
                  <a:lnTo>
                    <a:pt x="740" y="743"/>
                  </a:lnTo>
                  <a:lnTo>
                    <a:pt x="790" y="712"/>
                  </a:lnTo>
                  <a:lnTo>
                    <a:pt x="839" y="833"/>
                  </a:lnTo>
                  <a:lnTo>
                    <a:pt x="888" y="872"/>
                  </a:lnTo>
                  <a:lnTo>
                    <a:pt x="937" y="822"/>
                  </a:lnTo>
                  <a:lnTo>
                    <a:pt x="987" y="890"/>
                  </a:lnTo>
                  <a:lnTo>
                    <a:pt x="1036" y="861"/>
                  </a:lnTo>
                  <a:lnTo>
                    <a:pt x="1085" y="810"/>
                  </a:lnTo>
                  <a:lnTo>
                    <a:pt x="1135" y="869"/>
                  </a:lnTo>
                  <a:lnTo>
                    <a:pt x="1184" y="882"/>
                  </a:lnTo>
                  <a:lnTo>
                    <a:pt x="1234" y="844"/>
                  </a:lnTo>
                  <a:lnTo>
                    <a:pt x="1282" y="898"/>
                  </a:lnTo>
                  <a:lnTo>
                    <a:pt x="1332" y="917"/>
                  </a:lnTo>
                  <a:lnTo>
                    <a:pt x="1381" y="901"/>
                  </a:lnTo>
                  <a:lnTo>
                    <a:pt x="1431" y="945"/>
                  </a:lnTo>
                  <a:lnTo>
                    <a:pt x="1480" y="1031"/>
                  </a:lnTo>
                  <a:lnTo>
                    <a:pt x="1529" y="1017"/>
                  </a:lnTo>
                  <a:lnTo>
                    <a:pt x="1579" y="1044"/>
                  </a:lnTo>
                  <a:lnTo>
                    <a:pt x="1628" y="1078"/>
                  </a:lnTo>
                  <a:lnTo>
                    <a:pt x="1677" y="1052"/>
                  </a:lnTo>
                  <a:lnTo>
                    <a:pt x="1727" y="1073"/>
                  </a:lnTo>
                  <a:lnTo>
                    <a:pt x="1776" y="1117"/>
                  </a:lnTo>
                  <a:lnTo>
                    <a:pt x="1826" y="1092"/>
                  </a:lnTo>
                  <a:lnTo>
                    <a:pt x="1874" y="1103"/>
                  </a:lnTo>
                  <a:lnTo>
                    <a:pt x="1924" y="1094"/>
                  </a:lnTo>
                  <a:lnTo>
                    <a:pt x="1973" y="1070"/>
                  </a:lnTo>
                  <a:lnTo>
                    <a:pt x="2023" y="1077"/>
                  </a:lnTo>
                  <a:lnTo>
                    <a:pt x="2072" y="1072"/>
                  </a:lnTo>
                  <a:lnTo>
                    <a:pt x="2121" y="1051"/>
                  </a:lnTo>
                  <a:lnTo>
                    <a:pt x="2171" y="1056"/>
                  </a:lnTo>
                  <a:lnTo>
                    <a:pt x="2220" y="1053"/>
                  </a:lnTo>
                  <a:lnTo>
                    <a:pt x="2269" y="1034"/>
                  </a:lnTo>
                  <a:lnTo>
                    <a:pt x="2319" y="1031"/>
                  </a:lnTo>
                  <a:lnTo>
                    <a:pt x="2368" y="1030"/>
                  </a:lnTo>
                  <a:lnTo>
                    <a:pt x="2418" y="1011"/>
                  </a:lnTo>
                  <a:lnTo>
                    <a:pt x="2466" y="1019"/>
                  </a:lnTo>
                  <a:lnTo>
                    <a:pt x="2516" y="1017"/>
                  </a:lnTo>
                  <a:lnTo>
                    <a:pt x="2565" y="998"/>
                  </a:lnTo>
                  <a:lnTo>
                    <a:pt x="2615" y="998"/>
                  </a:lnTo>
                  <a:lnTo>
                    <a:pt x="2664" y="1005"/>
                  </a:lnTo>
                  <a:lnTo>
                    <a:pt x="2713" y="988"/>
                  </a:lnTo>
                  <a:lnTo>
                    <a:pt x="2763" y="978"/>
                  </a:lnTo>
                  <a:lnTo>
                    <a:pt x="2812" y="947"/>
                  </a:lnTo>
                  <a:lnTo>
                    <a:pt x="2861" y="903"/>
                  </a:lnTo>
                  <a:lnTo>
                    <a:pt x="2911" y="887"/>
                  </a:lnTo>
                  <a:lnTo>
                    <a:pt x="2960" y="848"/>
                  </a:lnTo>
                  <a:lnTo>
                    <a:pt x="3010" y="837"/>
                  </a:lnTo>
                  <a:lnTo>
                    <a:pt x="3058" y="819"/>
                  </a:lnTo>
                  <a:lnTo>
                    <a:pt x="3108" y="837"/>
                  </a:lnTo>
                  <a:lnTo>
                    <a:pt x="3157" y="822"/>
                  </a:lnTo>
                  <a:lnTo>
                    <a:pt x="3207" y="805"/>
                  </a:lnTo>
                  <a:lnTo>
                    <a:pt x="3256" y="858"/>
                  </a:lnTo>
                  <a:lnTo>
                    <a:pt x="3305" y="853"/>
                  </a:lnTo>
                  <a:lnTo>
                    <a:pt x="3355" y="835"/>
                  </a:lnTo>
                  <a:lnTo>
                    <a:pt x="3404" y="891"/>
                  </a:lnTo>
                  <a:lnTo>
                    <a:pt x="3453" y="888"/>
                  </a:lnTo>
                  <a:lnTo>
                    <a:pt x="3503" y="871"/>
                  </a:lnTo>
                  <a:lnTo>
                    <a:pt x="3552" y="860"/>
                  </a:lnTo>
                  <a:lnTo>
                    <a:pt x="3602" y="847"/>
                  </a:lnTo>
                  <a:lnTo>
                    <a:pt x="3650" y="842"/>
                  </a:lnTo>
                  <a:lnTo>
                    <a:pt x="3700" y="820"/>
                  </a:lnTo>
                  <a:lnTo>
                    <a:pt x="3749" y="811"/>
                  </a:lnTo>
                  <a:lnTo>
                    <a:pt x="3799" y="807"/>
                  </a:lnTo>
                  <a:lnTo>
                    <a:pt x="3848" y="792"/>
                  </a:lnTo>
                  <a:lnTo>
                    <a:pt x="3897" y="784"/>
                  </a:lnTo>
                  <a:lnTo>
                    <a:pt x="3947" y="779"/>
                  </a:lnTo>
                  <a:lnTo>
                    <a:pt x="3996" y="766"/>
                  </a:lnTo>
                  <a:lnTo>
                    <a:pt x="4045" y="760"/>
                  </a:lnTo>
                  <a:lnTo>
                    <a:pt x="4095" y="755"/>
                  </a:lnTo>
                  <a:lnTo>
                    <a:pt x="4144" y="743"/>
                  </a:lnTo>
                  <a:lnTo>
                    <a:pt x="4194" y="737"/>
                  </a:lnTo>
                  <a:lnTo>
                    <a:pt x="4242" y="733"/>
                  </a:lnTo>
                  <a:lnTo>
                    <a:pt x="4292" y="722"/>
                  </a:lnTo>
                  <a:lnTo>
                    <a:pt x="4341" y="717"/>
                  </a:lnTo>
                  <a:lnTo>
                    <a:pt x="4391" y="715"/>
                  </a:lnTo>
                  <a:lnTo>
                    <a:pt x="4440" y="704"/>
                  </a:lnTo>
                  <a:lnTo>
                    <a:pt x="4489" y="700"/>
                  </a:lnTo>
                  <a:lnTo>
                    <a:pt x="4539" y="697"/>
                  </a:lnTo>
                  <a:lnTo>
                    <a:pt x="4588" y="687"/>
                  </a:lnTo>
                  <a:lnTo>
                    <a:pt x="4637" y="682"/>
                  </a:lnTo>
                  <a:lnTo>
                    <a:pt x="4687" y="680"/>
                  </a:lnTo>
                  <a:lnTo>
                    <a:pt x="4736" y="668"/>
                  </a:lnTo>
                  <a:lnTo>
                    <a:pt x="4786" y="664"/>
                  </a:lnTo>
                  <a:lnTo>
                    <a:pt x="4834" y="661"/>
                  </a:lnTo>
                  <a:lnTo>
                    <a:pt x="4884" y="648"/>
                  </a:lnTo>
                  <a:lnTo>
                    <a:pt x="4884" y="2569"/>
                  </a:lnTo>
                  <a:lnTo>
                    <a:pt x="4834" y="2570"/>
                  </a:lnTo>
                  <a:lnTo>
                    <a:pt x="4786" y="2570"/>
                  </a:lnTo>
                  <a:lnTo>
                    <a:pt x="4736" y="2571"/>
                  </a:lnTo>
                  <a:lnTo>
                    <a:pt x="4687" y="2572"/>
                  </a:lnTo>
                  <a:lnTo>
                    <a:pt x="4637" y="2572"/>
                  </a:lnTo>
                  <a:lnTo>
                    <a:pt x="4588" y="2573"/>
                  </a:lnTo>
                  <a:lnTo>
                    <a:pt x="4539" y="2574"/>
                  </a:lnTo>
                  <a:lnTo>
                    <a:pt x="4489" y="2574"/>
                  </a:lnTo>
                  <a:lnTo>
                    <a:pt x="4440" y="2575"/>
                  </a:lnTo>
                  <a:lnTo>
                    <a:pt x="4391" y="2576"/>
                  </a:lnTo>
                  <a:lnTo>
                    <a:pt x="4341" y="2576"/>
                  </a:lnTo>
                  <a:lnTo>
                    <a:pt x="4292" y="2577"/>
                  </a:lnTo>
                  <a:lnTo>
                    <a:pt x="4242" y="2578"/>
                  </a:lnTo>
                  <a:lnTo>
                    <a:pt x="4194" y="2579"/>
                  </a:lnTo>
                  <a:lnTo>
                    <a:pt x="4144" y="2580"/>
                  </a:lnTo>
                  <a:lnTo>
                    <a:pt x="4095" y="2581"/>
                  </a:lnTo>
                  <a:lnTo>
                    <a:pt x="4045" y="2581"/>
                  </a:lnTo>
                  <a:lnTo>
                    <a:pt x="3996" y="2583"/>
                  </a:lnTo>
                  <a:lnTo>
                    <a:pt x="3947" y="2584"/>
                  </a:lnTo>
                  <a:lnTo>
                    <a:pt x="3897" y="2584"/>
                  </a:lnTo>
                  <a:lnTo>
                    <a:pt x="3848" y="2586"/>
                  </a:lnTo>
                  <a:lnTo>
                    <a:pt x="3799" y="2587"/>
                  </a:lnTo>
                  <a:lnTo>
                    <a:pt x="3749" y="2587"/>
                  </a:lnTo>
                  <a:lnTo>
                    <a:pt x="3700" y="2588"/>
                  </a:lnTo>
                  <a:lnTo>
                    <a:pt x="3650" y="2590"/>
                  </a:lnTo>
                  <a:lnTo>
                    <a:pt x="3602" y="2590"/>
                  </a:lnTo>
                  <a:lnTo>
                    <a:pt x="3552" y="2592"/>
                  </a:lnTo>
                  <a:lnTo>
                    <a:pt x="3503" y="2593"/>
                  </a:lnTo>
                  <a:lnTo>
                    <a:pt x="3453" y="2594"/>
                  </a:lnTo>
                  <a:lnTo>
                    <a:pt x="3404" y="2595"/>
                  </a:lnTo>
                  <a:lnTo>
                    <a:pt x="3355" y="2598"/>
                  </a:lnTo>
                  <a:lnTo>
                    <a:pt x="3305" y="2598"/>
                  </a:lnTo>
                  <a:lnTo>
                    <a:pt x="3256" y="2600"/>
                  </a:lnTo>
                  <a:lnTo>
                    <a:pt x="3207" y="2602"/>
                  </a:lnTo>
                  <a:lnTo>
                    <a:pt x="3157" y="2602"/>
                  </a:lnTo>
                  <a:lnTo>
                    <a:pt x="3108" y="2604"/>
                  </a:lnTo>
                  <a:lnTo>
                    <a:pt x="3058" y="2606"/>
                  </a:lnTo>
                  <a:lnTo>
                    <a:pt x="3010" y="2607"/>
                  </a:lnTo>
                  <a:lnTo>
                    <a:pt x="2960" y="2609"/>
                  </a:lnTo>
                  <a:lnTo>
                    <a:pt x="2911" y="2610"/>
                  </a:lnTo>
                  <a:lnTo>
                    <a:pt x="2861" y="2611"/>
                  </a:lnTo>
                  <a:lnTo>
                    <a:pt x="2812" y="2613"/>
                  </a:lnTo>
                  <a:lnTo>
                    <a:pt x="2763" y="2616"/>
                  </a:lnTo>
                  <a:lnTo>
                    <a:pt x="2713" y="2617"/>
                  </a:lnTo>
                  <a:lnTo>
                    <a:pt x="2664" y="2619"/>
                  </a:lnTo>
                  <a:lnTo>
                    <a:pt x="2615" y="2621"/>
                  </a:lnTo>
                  <a:lnTo>
                    <a:pt x="2565" y="2623"/>
                  </a:lnTo>
                  <a:lnTo>
                    <a:pt x="2516" y="2625"/>
                  </a:lnTo>
                  <a:lnTo>
                    <a:pt x="2466" y="2627"/>
                  </a:lnTo>
                  <a:lnTo>
                    <a:pt x="2418" y="2628"/>
                  </a:lnTo>
                  <a:lnTo>
                    <a:pt x="2368" y="2631"/>
                  </a:lnTo>
                  <a:lnTo>
                    <a:pt x="2319" y="2634"/>
                  </a:lnTo>
                  <a:lnTo>
                    <a:pt x="2269" y="2635"/>
                  </a:lnTo>
                  <a:lnTo>
                    <a:pt x="2220" y="2638"/>
                  </a:lnTo>
                  <a:lnTo>
                    <a:pt x="2171" y="2641"/>
                  </a:lnTo>
                  <a:lnTo>
                    <a:pt x="2121" y="2642"/>
                  </a:lnTo>
                  <a:lnTo>
                    <a:pt x="2072" y="2645"/>
                  </a:lnTo>
                  <a:lnTo>
                    <a:pt x="2023" y="2648"/>
                  </a:lnTo>
                  <a:lnTo>
                    <a:pt x="1973" y="2648"/>
                  </a:lnTo>
                  <a:lnTo>
                    <a:pt x="1924" y="2652"/>
                  </a:lnTo>
                  <a:lnTo>
                    <a:pt x="1874" y="2655"/>
                  </a:lnTo>
                  <a:lnTo>
                    <a:pt x="1826" y="2654"/>
                  </a:lnTo>
                  <a:lnTo>
                    <a:pt x="1776" y="2658"/>
                  </a:lnTo>
                  <a:lnTo>
                    <a:pt x="1727" y="2662"/>
                  </a:lnTo>
                  <a:lnTo>
                    <a:pt x="1677" y="2661"/>
                  </a:lnTo>
                  <a:lnTo>
                    <a:pt x="1628" y="2665"/>
                  </a:lnTo>
                  <a:lnTo>
                    <a:pt x="1579" y="2669"/>
                  </a:lnTo>
                  <a:lnTo>
                    <a:pt x="1529" y="2668"/>
                  </a:lnTo>
                  <a:lnTo>
                    <a:pt x="1480" y="2672"/>
                  </a:lnTo>
                  <a:lnTo>
                    <a:pt x="1431" y="2676"/>
                  </a:lnTo>
                  <a:lnTo>
                    <a:pt x="1381" y="2673"/>
                  </a:lnTo>
                  <a:lnTo>
                    <a:pt x="1332" y="2678"/>
                  </a:lnTo>
                  <a:lnTo>
                    <a:pt x="1282" y="2684"/>
                  </a:lnTo>
                  <a:lnTo>
                    <a:pt x="1234" y="2678"/>
                  </a:lnTo>
                  <a:lnTo>
                    <a:pt x="1184" y="2684"/>
                  </a:lnTo>
                  <a:lnTo>
                    <a:pt x="1135" y="2689"/>
                  </a:lnTo>
                  <a:lnTo>
                    <a:pt x="1085" y="2681"/>
                  </a:lnTo>
                  <a:lnTo>
                    <a:pt x="1036" y="2686"/>
                  </a:lnTo>
                  <a:lnTo>
                    <a:pt x="987" y="2691"/>
                  </a:lnTo>
                  <a:lnTo>
                    <a:pt x="937" y="2678"/>
                  </a:lnTo>
                  <a:lnTo>
                    <a:pt x="888" y="2684"/>
                  </a:lnTo>
                  <a:lnTo>
                    <a:pt x="839" y="2690"/>
                  </a:lnTo>
                  <a:lnTo>
                    <a:pt x="790" y="2674"/>
                  </a:lnTo>
                  <a:lnTo>
                    <a:pt x="740" y="2679"/>
                  </a:lnTo>
                  <a:lnTo>
                    <a:pt x="690" y="2686"/>
                  </a:lnTo>
                  <a:lnTo>
                    <a:pt x="642" y="2660"/>
                  </a:lnTo>
                  <a:lnTo>
                    <a:pt x="592" y="2667"/>
                  </a:lnTo>
                  <a:lnTo>
                    <a:pt x="543" y="2674"/>
                  </a:lnTo>
                  <a:lnTo>
                    <a:pt x="493" y="2651"/>
                  </a:lnTo>
                  <a:lnTo>
                    <a:pt x="444" y="2656"/>
                  </a:lnTo>
                  <a:lnTo>
                    <a:pt x="395" y="2660"/>
                  </a:lnTo>
                  <a:lnTo>
                    <a:pt x="345" y="2557"/>
                  </a:lnTo>
                  <a:lnTo>
                    <a:pt x="296" y="2549"/>
                  </a:lnTo>
                  <a:lnTo>
                    <a:pt x="247" y="2551"/>
                  </a:lnTo>
                  <a:lnTo>
                    <a:pt x="198" y="2473"/>
                  </a:lnTo>
                  <a:lnTo>
                    <a:pt x="148" y="2442"/>
                  </a:lnTo>
                  <a:lnTo>
                    <a:pt x="98" y="2443"/>
                  </a:lnTo>
                  <a:lnTo>
                    <a:pt x="50" y="2396"/>
                  </a:lnTo>
                  <a:lnTo>
                    <a:pt x="0" y="23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10016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04292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042920" y="48322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042920" y="4049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042920" y="3267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042920" y="24829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042920" y="17002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04292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100160" y="5614920"/>
              <a:ext cx="775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9388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85440" y="471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85440" y="3935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85440" y="3152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85440" y="2368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80680" y="15858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8068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09080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4828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819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211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03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995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386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778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17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562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952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343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735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127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518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910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3026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69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85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4772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794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rot="16200000">
              <a:off x="-500040" y="307512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pecies 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142640" y="5257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l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083600" y="42591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1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334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NOCULTURE PLANTATIONS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100160" y="917640"/>
              <a:ext cx="7753320" cy="469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100160" y="5011560"/>
              <a:ext cx="7753320" cy="603360"/>
            </a:xfrm>
            <a:custGeom>
              <a:avLst/>
              <a:gdLst/>
              <a:ahLst/>
              <a:rect l="l" t="t" r="r" b="b"/>
              <a:pathLst>
                <a:path w="4884" h="380">
                  <a:moveTo>
                    <a:pt x="0" y="38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98" y="46"/>
                  </a:lnTo>
                  <a:lnTo>
                    <a:pt x="148" y="46"/>
                  </a:lnTo>
                  <a:lnTo>
                    <a:pt x="198" y="76"/>
                  </a:lnTo>
                  <a:lnTo>
                    <a:pt x="247" y="155"/>
                  </a:lnTo>
                  <a:lnTo>
                    <a:pt x="296" y="153"/>
                  </a:lnTo>
                  <a:lnTo>
                    <a:pt x="345" y="150"/>
                  </a:lnTo>
                  <a:lnTo>
                    <a:pt x="395" y="231"/>
                  </a:lnTo>
                  <a:lnTo>
                    <a:pt x="444" y="227"/>
                  </a:lnTo>
                  <a:lnTo>
                    <a:pt x="493" y="223"/>
                  </a:lnTo>
                  <a:lnTo>
                    <a:pt x="543" y="264"/>
                  </a:lnTo>
                  <a:lnTo>
                    <a:pt x="592" y="259"/>
                  </a:lnTo>
                  <a:lnTo>
                    <a:pt x="642" y="253"/>
                  </a:lnTo>
                  <a:lnTo>
                    <a:pt x="690" y="282"/>
                  </a:lnTo>
                  <a:lnTo>
                    <a:pt x="740" y="276"/>
                  </a:lnTo>
                  <a:lnTo>
                    <a:pt x="790" y="271"/>
                  </a:lnTo>
                  <a:lnTo>
                    <a:pt x="839" y="291"/>
                  </a:lnTo>
                  <a:lnTo>
                    <a:pt x="888" y="285"/>
                  </a:lnTo>
                  <a:lnTo>
                    <a:pt x="937" y="279"/>
                  </a:lnTo>
                  <a:lnTo>
                    <a:pt x="987" y="294"/>
                  </a:lnTo>
                  <a:lnTo>
                    <a:pt x="1036" y="288"/>
                  </a:lnTo>
                  <a:lnTo>
                    <a:pt x="1085" y="282"/>
                  </a:lnTo>
                  <a:lnTo>
                    <a:pt x="1135" y="294"/>
                  </a:lnTo>
                  <a:lnTo>
                    <a:pt x="1184" y="289"/>
                  </a:lnTo>
                  <a:lnTo>
                    <a:pt x="1234" y="290"/>
                  </a:lnTo>
                  <a:lnTo>
                    <a:pt x="1282" y="296"/>
                  </a:lnTo>
                  <a:lnTo>
                    <a:pt x="1332" y="296"/>
                  </a:lnTo>
                  <a:lnTo>
                    <a:pt x="1381" y="302"/>
                  </a:lnTo>
                  <a:lnTo>
                    <a:pt x="1431" y="309"/>
                  </a:lnTo>
                  <a:lnTo>
                    <a:pt x="1480" y="305"/>
                  </a:lnTo>
                  <a:lnTo>
                    <a:pt x="1529" y="317"/>
                  </a:lnTo>
                  <a:lnTo>
                    <a:pt x="1579" y="324"/>
                  </a:lnTo>
                  <a:lnTo>
                    <a:pt x="1628" y="321"/>
                  </a:lnTo>
                  <a:lnTo>
                    <a:pt x="1677" y="329"/>
                  </a:lnTo>
                  <a:lnTo>
                    <a:pt x="1727" y="333"/>
                  </a:lnTo>
                  <a:lnTo>
                    <a:pt x="1776" y="331"/>
                  </a:lnTo>
                  <a:lnTo>
                    <a:pt x="1826" y="339"/>
                  </a:lnTo>
                  <a:lnTo>
                    <a:pt x="1874" y="343"/>
                  </a:lnTo>
                  <a:lnTo>
                    <a:pt x="1924" y="341"/>
                  </a:lnTo>
                  <a:lnTo>
                    <a:pt x="1973" y="347"/>
                  </a:lnTo>
                  <a:lnTo>
                    <a:pt x="2023" y="350"/>
                  </a:lnTo>
                  <a:lnTo>
                    <a:pt x="2072" y="349"/>
                  </a:lnTo>
                  <a:lnTo>
                    <a:pt x="2121" y="354"/>
                  </a:lnTo>
                  <a:lnTo>
                    <a:pt x="2171" y="356"/>
                  </a:lnTo>
                  <a:lnTo>
                    <a:pt x="2220" y="355"/>
                  </a:lnTo>
                  <a:lnTo>
                    <a:pt x="2269" y="360"/>
                  </a:lnTo>
                  <a:lnTo>
                    <a:pt x="2319" y="361"/>
                  </a:lnTo>
                  <a:lnTo>
                    <a:pt x="2368" y="360"/>
                  </a:lnTo>
                  <a:lnTo>
                    <a:pt x="2418" y="363"/>
                  </a:lnTo>
                  <a:lnTo>
                    <a:pt x="2466" y="364"/>
                  </a:lnTo>
                  <a:lnTo>
                    <a:pt x="2516" y="364"/>
                  </a:lnTo>
                  <a:lnTo>
                    <a:pt x="2565" y="366"/>
                  </a:lnTo>
                  <a:lnTo>
                    <a:pt x="2615" y="368"/>
                  </a:lnTo>
                  <a:lnTo>
                    <a:pt x="2664" y="366"/>
                  </a:lnTo>
                  <a:lnTo>
                    <a:pt x="2713" y="369"/>
                  </a:lnTo>
                  <a:lnTo>
                    <a:pt x="2763" y="370"/>
                  </a:lnTo>
                  <a:lnTo>
                    <a:pt x="2812" y="370"/>
                  </a:lnTo>
                  <a:lnTo>
                    <a:pt x="2861" y="372"/>
                  </a:lnTo>
                  <a:lnTo>
                    <a:pt x="2911" y="372"/>
                  </a:lnTo>
                  <a:lnTo>
                    <a:pt x="2960" y="372"/>
                  </a:lnTo>
                  <a:lnTo>
                    <a:pt x="3010" y="373"/>
                  </a:lnTo>
                  <a:lnTo>
                    <a:pt x="3058" y="374"/>
                  </a:lnTo>
                  <a:lnTo>
                    <a:pt x="3108" y="374"/>
                  </a:lnTo>
                  <a:lnTo>
                    <a:pt x="3157" y="375"/>
                  </a:lnTo>
                  <a:lnTo>
                    <a:pt x="3207" y="380"/>
                  </a:lnTo>
                  <a:lnTo>
                    <a:pt x="3256" y="380"/>
                  </a:lnTo>
                  <a:lnTo>
                    <a:pt x="3305" y="380"/>
                  </a:lnTo>
                  <a:lnTo>
                    <a:pt x="3355" y="380"/>
                  </a:lnTo>
                  <a:lnTo>
                    <a:pt x="3404" y="380"/>
                  </a:lnTo>
                  <a:lnTo>
                    <a:pt x="3453" y="380"/>
                  </a:lnTo>
                  <a:lnTo>
                    <a:pt x="3503" y="380"/>
                  </a:lnTo>
                  <a:lnTo>
                    <a:pt x="3552" y="380"/>
                  </a:lnTo>
                  <a:lnTo>
                    <a:pt x="3602" y="380"/>
                  </a:lnTo>
                  <a:lnTo>
                    <a:pt x="3650" y="380"/>
                  </a:lnTo>
                  <a:lnTo>
                    <a:pt x="3700" y="380"/>
                  </a:lnTo>
                  <a:lnTo>
                    <a:pt x="3749" y="380"/>
                  </a:lnTo>
                  <a:lnTo>
                    <a:pt x="3799" y="380"/>
                  </a:lnTo>
                  <a:lnTo>
                    <a:pt x="3848" y="380"/>
                  </a:lnTo>
                  <a:lnTo>
                    <a:pt x="3897" y="380"/>
                  </a:lnTo>
                  <a:lnTo>
                    <a:pt x="3947" y="380"/>
                  </a:lnTo>
                  <a:lnTo>
                    <a:pt x="3996" y="380"/>
                  </a:lnTo>
                  <a:lnTo>
                    <a:pt x="4045" y="380"/>
                  </a:lnTo>
                  <a:lnTo>
                    <a:pt x="4095" y="380"/>
                  </a:lnTo>
                  <a:lnTo>
                    <a:pt x="4144" y="380"/>
                  </a:lnTo>
                  <a:lnTo>
                    <a:pt x="4194" y="380"/>
                  </a:lnTo>
                  <a:lnTo>
                    <a:pt x="4242" y="380"/>
                  </a:lnTo>
                  <a:lnTo>
                    <a:pt x="4292" y="380"/>
                  </a:lnTo>
                  <a:lnTo>
                    <a:pt x="4341" y="380"/>
                  </a:lnTo>
                  <a:lnTo>
                    <a:pt x="4391" y="380"/>
                  </a:lnTo>
                  <a:lnTo>
                    <a:pt x="4440" y="380"/>
                  </a:lnTo>
                  <a:lnTo>
                    <a:pt x="4489" y="380"/>
                  </a:lnTo>
                  <a:lnTo>
                    <a:pt x="4539" y="380"/>
                  </a:lnTo>
                  <a:lnTo>
                    <a:pt x="4588" y="380"/>
                  </a:lnTo>
                  <a:lnTo>
                    <a:pt x="4637" y="380"/>
                  </a:lnTo>
                  <a:lnTo>
                    <a:pt x="4687" y="380"/>
                  </a:lnTo>
                  <a:lnTo>
                    <a:pt x="4736" y="380"/>
                  </a:lnTo>
                  <a:lnTo>
                    <a:pt x="4786" y="380"/>
                  </a:lnTo>
                  <a:lnTo>
                    <a:pt x="4834" y="380"/>
                  </a:lnTo>
                  <a:lnTo>
                    <a:pt x="4884" y="380"/>
                  </a:lnTo>
                  <a:lnTo>
                    <a:pt x="4884" y="380"/>
                  </a:lnTo>
                  <a:lnTo>
                    <a:pt x="4834" y="380"/>
                  </a:lnTo>
                  <a:lnTo>
                    <a:pt x="4786" y="380"/>
                  </a:lnTo>
                  <a:lnTo>
                    <a:pt x="4736" y="380"/>
                  </a:lnTo>
                  <a:lnTo>
                    <a:pt x="4687" y="380"/>
                  </a:lnTo>
                  <a:lnTo>
                    <a:pt x="4637" y="380"/>
                  </a:lnTo>
                  <a:lnTo>
                    <a:pt x="4588" y="380"/>
                  </a:lnTo>
                  <a:lnTo>
                    <a:pt x="4539" y="380"/>
                  </a:lnTo>
                  <a:lnTo>
                    <a:pt x="4489" y="380"/>
                  </a:lnTo>
                  <a:lnTo>
                    <a:pt x="4440" y="380"/>
                  </a:lnTo>
                  <a:lnTo>
                    <a:pt x="4391" y="380"/>
                  </a:lnTo>
                  <a:lnTo>
                    <a:pt x="4341" y="380"/>
                  </a:lnTo>
                  <a:lnTo>
                    <a:pt x="4292" y="380"/>
                  </a:lnTo>
                  <a:lnTo>
                    <a:pt x="4242" y="380"/>
                  </a:lnTo>
                  <a:lnTo>
                    <a:pt x="4194" y="380"/>
                  </a:lnTo>
                  <a:lnTo>
                    <a:pt x="4144" y="380"/>
                  </a:lnTo>
                  <a:lnTo>
                    <a:pt x="4095" y="380"/>
                  </a:lnTo>
                  <a:lnTo>
                    <a:pt x="4045" y="380"/>
                  </a:lnTo>
                  <a:lnTo>
                    <a:pt x="3996" y="380"/>
                  </a:lnTo>
                  <a:lnTo>
                    <a:pt x="3947" y="380"/>
                  </a:lnTo>
                  <a:lnTo>
                    <a:pt x="3897" y="380"/>
                  </a:lnTo>
                  <a:lnTo>
                    <a:pt x="3848" y="380"/>
                  </a:lnTo>
                  <a:lnTo>
                    <a:pt x="3799" y="380"/>
                  </a:lnTo>
                  <a:lnTo>
                    <a:pt x="3749" y="380"/>
                  </a:lnTo>
                  <a:lnTo>
                    <a:pt x="3700" y="380"/>
                  </a:lnTo>
                  <a:lnTo>
                    <a:pt x="3650" y="380"/>
                  </a:lnTo>
                  <a:lnTo>
                    <a:pt x="3602" y="380"/>
                  </a:lnTo>
                  <a:lnTo>
                    <a:pt x="3552" y="380"/>
                  </a:lnTo>
                  <a:lnTo>
                    <a:pt x="3503" y="380"/>
                  </a:lnTo>
                  <a:lnTo>
                    <a:pt x="3453" y="380"/>
                  </a:lnTo>
                  <a:lnTo>
                    <a:pt x="3404" y="380"/>
                  </a:lnTo>
                  <a:lnTo>
                    <a:pt x="3355" y="380"/>
                  </a:lnTo>
                  <a:lnTo>
                    <a:pt x="3305" y="380"/>
                  </a:lnTo>
                  <a:lnTo>
                    <a:pt x="3256" y="380"/>
                  </a:lnTo>
                  <a:lnTo>
                    <a:pt x="3207" y="380"/>
                  </a:lnTo>
                  <a:lnTo>
                    <a:pt x="3157" y="380"/>
                  </a:lnTo>
                  <a:lnTo>
                    <a:pt x="3108" y="380"/>
                  </a:lnTo>
                  <a:lnTo>
                    <a:pt x="3058" y="380"/>
                  </a:lnTo>
                  <a:lnTo>
                    <a:pt x="3010" y="380"/>
                  </a:lnTo>
                  <a:lnTo>
                    <a:pt x="2960" y="380"/>
                  </a:lnTo>
                  <a:lnTo>
                    <a:pt x="2911" y="380"/>
                  </a:lnTo>
                  <a:lnTo>
                    <a:pt x="2861" y="380"/>
                  </a:lnTo>
                  <a:lnTo>
                    <a:pt x="2812" y="380"/>
                  </a:lnTo>
                  <a:lnTo>
                    <a:pt x="2763" y="380"/>
                  </a:lnTo>
                  <a:lnTo>
                    <a:pt x="2713" y="380"/>
                  </a:lnTo>
                  <a:lnTo>
                    <a:pt x="2664" y="380"/>
                  </a:lnTo>
                  <a:lnTo>
                    <a:pt x="2615" y="380"/>
                  </a:lnTo>
                  <a:lnTo>
                    <a:pt x="2565" y="380"/>
                  </a:lnTo>
                  <a:lnTo>
                    <a:pt x="2516" y="380"/>
                  </a:lnTo>
                  <a:lnTo>
                    <a:pt x="2466" y="380"/>
                  </a:lnTo>
                  <a:lnTo>
                    <a:pt x="2418" y="380"/>
                  </a:lnTo>
                  <a:lnTo>
                    <a:pt x="2368" y="380"/>
                  </a:lnTo>
                  <a:lnTo>
                    <a:pt x="2319" y="380"/>
                  </a:lnTo>
                  <a:lnTo>
                    <a:pt x="2269" y="380"/>
                  </a:lnTo>
                  <a:lnTo>
                    <a:pt x="2220" y="380"/>
                  </a:lnTo>
                  <a:lnTo>
                    <a:pt x="2171" y="380"/>
                  </a:lnTo>
                  <a:lnTo>
                    <a:pt x="2121" y="380"/>
                  </a:lnTo>
                  <a:lnTo>
                    <a:pt x="2072" y="380"/>
                  </a:lnTo>
                  <a:lnTo>
                    <a:pt x="2023" y="380"/>
                  </a:lnTo>
                  <a:lnTo>
                    <a:pt x="1973" y="380"/>
                  </a:lnTo>
                  <a:lnTo>
                    <a:pt x="1924" y="380"/>
                  </a:lnTo>
                  <a:lnTo>
                    <a:pt x="1874" y="380"/>
                  </a:lnTo>
                  <a:lnTo>
                    <a:pt x="1826" y="380"/>
                  </a:lnTo>
                  <a:lnTo>
                    <a:pt x="1776" y="380"/>
                  </a:lnTo>
                  <a:lnTo>
                    <a:pt x="1727" y="380"/>
                  </a:lnTo>
                  <a:lnTo>
                    <a:pt x="1677" y="380"/>
                  </a:lnTo>
                  <a:lnTo>
                    <a:pt x="1628" y="380"/>
                  </a:lnTo>
                  <a:lnTo>
                    <a:pt x="1579" y="380"/>
                  </a:lnTo>
                  <a:lnTo>
                    <a:pt x="1529" y="380"/>
                  </a:lnTo>
                  <a:lnTo>
                    <a:pt x="1480" y="380"/>
                  </a:lnTo>
                  <a:lnTo>
                    <a:pt x="1431" y="380"/>
                  </a:lnTo>
                  <a:lnTo>
                    <a:pt x="1381" y="380"/>
                  </a:lnTo>
                  <a:lnTo>
                    <a:pt x="1332" y="380"/>
                  </a:lnTo>
                  <a:lnTo>
                    <a:pt x="1282" y="380"/>
                  </a:lnTo>
                  <a:lnTo>
                    <a:pt x="1234" y="380"/>
                  </a:lnTo>
                  <a:lnTo>
                    <a:pt x="1184" y="380"/>
                  </a:lnTo>
                  <a:lnTo>
                    <a:pt x="1135" y="380"/>
                  </a:lnTo>
                  <a:lnTo>
                    <a:pt x="1085" y="380"/>
                  </a:lnTo>
                  <a:lnTo>
                    <a:pt x="1036" y="380"/>
                  </a:lnTo>
                  <a:lnTo>
                    <a:pt x="987" y="380"/>
                  </a:lnTo>
                  <a:lnTo>
                    <a:pt x="937" y="380"/>
                  </a:lnTo>
                  <a:lnTo>
                    <a:pt x="888" y="380"/>
                  </a:lnTo>
                  <a:lnTo>
                    <a:pt x="839" y="380"/>
                  </a:lnTo>
                  <a:lnTo>
                    <a:pt x="790" y="380"/>
                  </a:lnTo>
                  <a:lnTo>
                    <a:pt x="740" y="380"/>
                  </a:lnTo>
                  <a:lnTo>
                    <a:pt x="690" y="380"/>
                  </a:lnTo>
                  <a:lnTo>
                    <a:pt x="642" y="380"/>
                  </a:lnTo>
                  <a:lnTo>
                    <a:pt x="592" y="380"/>
                  </a:lnTo>
                  <a:lnTo>
                    <a:pt x="543" y="380"/>
                  </a:lnTo>
                  <a:lnTo>
                    <a:pt x="493" y="380"/>
                  </a:lnTo>
                  <a:lnTo>
                    <a:pt x="444" y="380"/>
                  </a:lnTo>
                  <a:lnTo>
                    <a:pt x="395" y="380"/>
                  </a:lnTo>
                  <a:lnTo>
                    <a:pt x="345" y="380"/>
                  </a:lnTo>
                  <a:lnTo>
                    <a:pt x="296" y="380"/>
                  </a:lnTo>
                  <a:lnTo>
                    <a:pt x="247" y="380"/>
                  </a:lnTo>
                  <a:lnTo>
                    <a:pt x="198" y="380"/>
                  </a:lnTo>
                  <a:lnTo>
                    <a:pt x="148" y="380"/>
                  </a:lnTo>
                  <a:lnTo>
                    <a:pt x="98" y="380"/>
                  </a:lnTo>
                  <a:lnTo>
                    <a:pt x="5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100160" y="1209600"/>
              <a:ext cx="7753320" cy="4405320"/>
            </a:xfrm>
            <a:custGeom>
              <a:avLst/>
              <a:gdLst/>
              <a:ahLst/>
              <a:rect l="l" t="t" r="r" b="b"/>
              <a:pathLst>
                <a:path w="4884" h="2775">
                  <a:moveTo>
                    <a:pt x="0" y="2395"/>
                  </a:moveTo>
                  <a:lnTo>
                    <a:pt x="0" y="4"/>
                  </a:lnTo>
                  <a:lnTo>
                    <a:pt x="50" y="0"/>
                  </a:lnTo>
                  <a:lnTo>
                    <a:pt x="98" y="104"/>
                  </a:lnTo>
                  <a:lnTo>
                    <a:pt x="148" y="100"/>
                  </a:lnTo>
                  <a:lnTo>
                    <a:pt x="198" y="172"/>
                  </a:lnTo>
                  <a:lnTo>
                    <a:pt x="247" y="379"/>
                  </a:lnTo>
                  <a:lnTo>
                    <a:pt x="296" y="373"/>
                  </a:lnTo>
                  <a:lnTo>
                    <a:pt x="345" y="336"/>
                  </a:lnTo>
                  <a:lnTo>
                    <a:pt x="395" y="588"/>
                  </a:lnTo>
                  <a:lnTo>
                    <a:pt x="444" y="537"/>
                  </a:lnTo>
                  <a:lnTo>
                    <a:pt x="493" y="470"/>
                  </a:lnTo>
                  <a:lnTo>
                    <a:pt x="543" y="669"/>
                  </a:lnTo>
                  <a:lnTo>
                    <a:pt x="592" y="646"/>
                  </a:lnTo>
                  <a:lnTo>
                    <a:pt x="642" y="591"/>
                  </a:lnTo>
                  <a:lnTo>
                    <a:pt x="690" y="758"/>
                  </a:lnTo>
                  <a:lnTo>
                    <a:pt x="740" y="754"/>
                  </a:lnTo>
                  <a:lnTo>
                    <a:pt x="790" y="719"/>
                  </a:lnTo>
                  <a:lnTo>
                    <a:pt x="839" y="842"/>
                  </a:lnTo>
                  <a:lnTo>
                    <a:pt x="888" y="858"/>
                  </a:lnTo>
                  <a:lnTo>
                    <a:pt x="937" y="809"/>
                  </a:lnTo>
                  <a:lnTo>
                    <a:pt x="987" y="886"/>
                  </a:lnTo>
                  <a:lnTo>
                    <a:pt x="1036" y="868"/>
                  </a:lnTo>
                  <a:lnTo>
                    <a:pt x="1085" y="822"/>
                  </a:lnTo>
                  <a:lnTo>
                    <a:pt x="1135" y="894"/>
                  </a:lnTo>
                  <a:lnTo>
                    <a:pt x="1184" y="909"/>
                  </a:lnTo>
                  <a:lnTo>
                    <a:pt x="1234" y="881"/>
                  </a:lnTo>
                  <a:lnTo>
                    <a:pt x="1282" y="946"/>
                  </a:lnTo>
                  <a:lnTo>
                    <a:pt x="1332" y="982"/>
                  </a:lnTo>
                  <a:lnTo>
                    <a:pt x="1381" y="971"/>
                  </a:lnTo>
                  <a:lnTo>
                    <a:pt x="1431" y="1010"/>
                  </a:lnTo>
                  <a:lnTo>
                    <a:pt x="1480" y="1069"/>
                  </a:lnTo>
                  <a:lnTo>
                    <a:pt x="1529" y="1069"/>
                  </a:lnTo>
                  <a:lnTo>
                    <a:pt x="1579" y="1109"/>
                  </a:lnTo>
                  <a:lnTo>
                    <a:pt x="1628" y="1159"/>
                  </a:lnTo>
                  <a:lnTo>
                    <a:pt x="1677" y="1150"/>
                  </a:lnTo>
                  <a:lnTo>
                    <a:pt x="1727" y="1188"/>
                  </a:lnTo>
                  <a:lnTo>
                    <a:pt x="1776" y="1242"/>
                  </a:lnTo>
                  <a:lnTo>
                    <a:pt x="1826" y="1236"/>
                  </a:lnTo>
                  <a:lnTo>
                    <a:pt x="1874" y="1270"/>
                  </a:lnTo>
                  <a:lnTo>
                    <a:pt x="1924" y="1321"/>
                  </a:lnTo>
                  <a:lnTo>
                    <a:pt x="1973" y="1314"/>
                  </a:lnTo>
                  <a:lnTo>
                    <a:pt x="2023" y="1349"/>
                  </a:lnTo>
                  <a:lnTo>
                    <a:pt x="2072" y="1399"/>
                  </a:lnTo>
                  <a:lnTo>
                    <a:pt x="2121" y="1395"/>
                  </a:lnTo>
                  <a:lnTo>
                    <a:pt x="2171" y="1419"/>
                  </a:lnTo>
                  <a:lnTo>
                    <a:pt x="2220" y="1477"/>
                  </a:lnTo>
                  <a:lnTo>
                    <a:pt x="2269" y="1470"/>
                  </a:lnTo>
                  <a:lnTo>
                    <a:pt x="2319" y="1488"/>
                  </a:lnTo>
                  <a:lnTo>
                    <a:pt x="2368" y="1536"/>
                  </a:lnTo>
                  <a:lnTo>
                    <a:pt x="2418" y="1522"/>
                  </a:lnTo>
                  <a:lnTo>
                    <a:pt x="2466" y="1550"/>
                  </a:lnTo>
                  <a:lnTo>
                    <a:pt x="2516" y="1591"/>
                  </a:lnTo>
                  <a:lnTo>
                    <a:pt x="2565" y="1585"/>
                  </a:lnTo>
                  <a:lnTo>
                    <a:pt x="2615" y="1595"/>
                  </a:lnTo>
                  <a:lnTo>
                    <a:pt x="2664" y="1639"/>
                  </a:lnTo>
                  <a:lnTo>
                    <a:pt x="2713" y="1633"/>
                  </a:lnTo>
                  <a:lnTo>
                    <a:pt x="2763" y="1648"/>
                  </a:lnTo>
                  <a:lnTo>
                    <a:pt x="2812" y="1689"/>
                  </a:lnTo>
                  <a:lnTo>
                    <a:pt x="2861" y="1681"/>
                  </a:lnTo>
                  <a:lnTo>
                    <a:pt x="2911" y="1688"/>
                  </a:lnTo>
                  <a:lnTo>
                    <a:pt x="2960" y="1732"/>
                  </a:lnTo>
                  <a:lnTo>
                    <a:pt x="3010" y="1724"/>
                  </a:lnTo>
                  <a:lnTo>
                    <a:pt x="3058" y="1740"/>
                  </a:lnTo>
                  <a:lnTo>
                    <a:pt x="3108" y="1775"/>
                  </a:lnTo>
                  <a:lnTo>
                    <a:pt x="3157" y="1770"/>
                  </a:lnTo>
                  <a:lnTo>
                    <a:pt x="3207" y="1800"/>
                  </a:lnTo>
                  <a:lnTo>
                    <a:pt x="3256" y="1841"/>
                  </a:lnTo>
                  <a:lnTo>
                    <a:pt x="3305" y="1834"/>
                  </a:lnTo>
                  <a:lnTo>
                    <a:pt x="3355" y="1845"/>
                  </a:lnTo>
                  <a:lnTo>
                    <a:pt x="3404" y="1875"/>
                  </a:lnTo>
                  <a:lnTo>
                    <a:pt x="3453" y="1867"/>
                  </a:lnTo>
                  <a:lnTo>
                    <a:pt x="3503" y="1888"/>
                  </a:lnTo>
                  <a:lnTo>
                    <a:pt x="3552" y="1939"/>
                  </a:lnTo>
                  <a:lnTo>
                    <a:pt x="3602" y="1934"/>
                  </a:lnTo>
                  <a:lnTo>
                    <a:pt x="3650" y="1938"/>
                  </a:lnTo>
                  <a:lnTo>
                    <a:pt x="3700" y="1958"/>
                  </a:lnTo>
                  <a:lnTo>
                    <a:pt x="3749" y="1948"/>
                  </a:lnTo>
                  <a:lnTo>
                    <a:pt x="3799" y="1955"/>
                  </a:lnTo>
                  <a:lnTo>
                    <a:pt x="3848" y="1981"/>
                  </a:lnTo>
                  <a:lnTo>
                    <a:pt x="3897" y="1979"/>
                  </a:lnTo>
                  <a:lnTo>
                    <a:pt x="3947" y="1985"/>
                  </a:lnTo>
                  <a:lnTo>
                    <a:pt x="3996" y="2023"/>
                  </a:lnTo>
                  <a:lnTo>
                    <a:pt x="4045" y="2014"/>
                  </a:lnTo>
                  <a:lnTo>
                    <a:pt x="4095" y="2040"/>
                  </a:lnTo>
                  <a:lnTo>
                    <a:pt x="4144" y="2068"/>
                  </a:lnTo>
                  <a:lnTo>
                    <a:pt x="4194" y="2065"/>
                  </a:lnTo>
                  <a:lnTo>
                    <a:pt x="4242" y="2066"/>
                  </a:lnTo>
                  <a:lnTo>
                    <a:pt x="4292" y="2088"/>
                  </a:lnTo>
                  <a:lnTo>
                    <a:pt x="4341" y="2081"/>
                  </a:lnTo>
                  <a:lnTo>
                    <a:pt x="4391" y="2084"/>
                  </a:lnTo>
                  <a:lnTo>
                    <a:pt x="4440" y="2097"/>
                  </a:lnTo>
                  <a:lnTo>
                    <a:pt x="4489" y="2099"/>
                  </a:lnTo>
                  <a:lnTo>
                    <a:pt x="4539" y="2116"/>
                  </a:lnTo>
                  <a:lnTo>
                    <a:pt x="4588" y="2159"/>
                  </a:lnTo>
                  <a:lnTo>
                    <a:pt x="4637" y="2147"/>
                  </a:lnTo>
                  <a:lnTo>
                    <a:pt x="4687" y="2218"/>
                  </a:lnTo>
                  <a:lnTo>
                    <a:pt x="4736" y="2238"/>
                  </a:lnTo>
                  <a:lnTo>
                    <a:pt x="4786" y="2234"/>
                  </a:lnTo>
                  <a:lnTo>
                    <a:pt x="4834" y="2227"/>
                  </a:lnTo>
                  <a:lnTo>
                    <a:pt x="4884" y="2290"/>
                  </a:lnTo>
                  <a:lnTo>
                    <a:pt x="4884" y="2775"/>
                  </a:lnTo>
                  <a:lnTo>
                    <a:pt x="4834" y="2775"/>
                  </a:lnTo>
                  <a:lnTo>
                    <a:pt x="4786" y="2775"/>
                  </a:lnTo>
                  <a:lnTo>
                    <a:pt x="4736" y="2775"/>
                  </a:lnTo>
                  <a:lnTo>
                    <a:pt x="4687" y="2775"/>
                  </a:lnTo>
                  <a:lnTo>
                    <a:pt x="4637" y="2775"/>
                  </a:lnTo>
                  <a:lnTo>
                    <a:pt x="4588" y="2775"/>
                  </a:lnTo>
                  <a:lnTo>
                    <a:pt x="4539" y="2775"/>
                  </a:lnTo>
                  <a:lnTo>
                    <a:pt x="4489" y="2775"/>
                  </a:lnTo>
                  <a:lnTo>
                    <a:pt x="4440" y="2775"/>
                  </a:lnTo>
                  <a:lnTo>
                    <a:pt x="4391" y="2775"/>
                  </a:lnTo>
                  <a:lnTo>
                    <a:pt x="4341" y="2775"/>
                  </a:lnTo>
                  <a:lnTo>
                    <a:pt x="4292" y="2775"/>
                  </a:lnTo>
                  <a:lnTo>
                    <a:pt x="4242" y="2775"/>
                  </a:lnTo>
                  <a:lnTo>
                    <a:pt x="4194" y="2775"/>
                  </a:lnTo>
                  <a:lnTo>
                    <a:pt x="4144" y="2775"/>
                  </a:lnTo>
                  <a:lnTo>
                    <a:pt x="4095" y="2775"/>
                  </a:lnTo>
                  <a:lnTo>
                    <a:pt x="4045" y="2775"/>
                  </a:lnTo>
                  <a:lnTo>
                    <a:pt x="3996" y="2775"/>
                  </a:lnTo>
                  <a:lnTo>
                    <a:pt x="3947" y="2775"/>
                  </a:lnTo>
                  <a:lnTo>
                    <a:pt x="3897" y="2775"/>
                  </a:lnTo>
                  <a:lnTo>
                    <a:pt x="3848" y="2775"/>
                  </a:lnTo>
                  <a:lnTo>
                    <a:pt x="3799" y="2775"/>
                  </a:lnTo>
                  <a:lnTo>
                    <a:pt x="3749" y="2775"/>
                  </a:lnTo>
                  <a:lnTo>
                    <a:pt x="3700" y="2775"/>
                  </a:lnTo>
                  <a:lnTo>
                    <a:pt x="3650" y="2775"/>
                  </a:lnTo>
                  <a:lnTo>
                    <a:pt x="3602" y="2775"/>
                  </a:lnTo>
                  <a:lnTo>
                    <a:pt x="3552" y="2775"/>
                  </a:lnTo>
                  <a:lnTo>
                    <a:pt x="3503" y="2775"/>
                  </a:lnTo>
                  <a:lnTo>
                    <a:pt x="3453" y="2775"/>
                  </a:lnTo>
                  <a:lnTo>
                    <a:pt x="3404" y="2775"/>
                  </a:lnTo>
                  <a:lnTo>
                    <a:pt x="3355" y="2775"/>
                  </a:lnTo>
                  <a:lnTo>
                    <a:pt x="3305" y="2775"/>
                  </a:lnTo>
                  <a:lnTo>
                    <a:pt x="3256" y="2775"/>
                  </a:lnTo>
                  <a:lnTo>
                    <a:pt x="3207" y="2775"/>
                  </a:lnTo>
                  <a:lnTo>
                    <a:pt x="3157" y="2770"/>
                  </a:lnTo>
                  <a:lnTo>
                    <a:pt x="3108" y="2769"/>
                  </a:lnTo>
                  <a:lnTo>
                    <a:pt x="3058" y="2769"/>
                  </a:lnTo>
                  <a:lnTo>
                    <a:pt x="3010" y="2768"/>
                  </a:lnTo>
                  <a:lnTo>
                    <a:pt x="2960" y="2767"/>
                  </a:lnTo>
                  <a:lnTo>
                    <a:pt x="2911" y="2767"/>
                  </a:lnTo>
                  <a:lnTo>
                    <a:pt x="2861" y="2767"/>
                  </a:lnTo>
                  <a:lnTo>
                    <a:pt x="2812" y="2765"/>
                  </a:lnTo>
                  <a:lnTo>
                    <a:pt x="2763" y="2765"/>
                  </a:lnTo>
                  <a:lnTo>
                    <a:pt x="2713" y="2764"/>
                  </a:lnTo>
                  <a:lnTo>
                    <a:pt x="2664" y="2761"/>
                  </a:lnTo>
                  <a:lnTo>
                    <a:pt x="2615" y="2763"/>
                  </a:lnTo>
                  <a:lnTo>
                    <a:pt x="2565" y="2761"/>
                  </a:lnTo>
                  <a:lnTo>
                    <a:pt x="2516" y="2759"/>
                  </a:lnTo>
                  <a:lnTo>
                    <a:pt x="2466" y="2759"/>
                  </a:lnTo>
                  <a:lnTo>
                    <a:pt x="2418" y="2758"/>
                  </a:lnTo>
                  <a:lnTo>
                    <a:pt x="2368" y="2755"/>
                  </a:lnTo>
                  <a:lnTo>
                    <a:pt x="2319" y="2756"/>
                  </a:lnTo>
                  <a:lnTo>
                    <a:pt x="2269" y="2755"/>
                  </a:lnTo>
                  <a:lnTo>
                    <a:pt x="2220" y="2750"/>
                  </a:lnTo>
                  <a:lnTo>
                    <a:pt x="2171" y="2751"/>
                  </a:lnTo>
                  <a:lnTo>
                    <a:pt x="2121" y="2749"/>
                  </a:lnTo>
                  <a:lnTo>
                    <a:pt x="2072" y="2744"/>
                  </a:lnTo>
                  <a:lnTo>
                    <a:pt x="2023" y="2745"/>
                  </a:lnTo>
                  <a:lnTo>
                    <a:pt x="1973" y="2742"/>
                  </a:lnTo>
                  <a:lnTo>
                    <a:pt x="1924" y="2736"/>
                  </a:lnTo>
                  <a:lnTo>
                    <a:pt x="1874" y="2738"/>
                  </a:lnTo>
                  <a:lnTo>
                    <a:pt x="1826" y="2734"/>
                  </a:lnTo>
                  <a:lnTo>
                    <a:pt x="1776" y="2726"/>
                  </a:lnTo>
                  <a:lnTo>
                    <a:pt x="1727" y="2728"/>
                  </a:lnTo>
                  <a:lnTo>
                    <a:pt x="1677" y="2724"/>
                  </a:lnTo>
                  <a:lnTo>
                    <a:pt x="1628" y="2716"/>
                  </a:lnTo>
                  <a:lnTo>
                    <a:pt x="1579" y="2719"/>
                  </a:lnTo>
                  <a:lnTo>
                    <a:pt x="1529" y="2712"/>
                  </a:lnTo>
                  <a:lnTo>
                    <a:pt x="1480" y="2700"/>
                  </a:lnTo>
                  <a:lnTo>
                    <a:pt x="1431" y="2704"/>
                  </a:lnTo>
                  <a:lnTo>
                    <a:pt x="1381" y="2697"/>
                  </a:lnTo>
                  <a:lnTo>
                    <a:pt x="1332" y="2691"/>
                  </a:lnTo>
                  <a:lnTo>
                    <a:pt x="1282" y="2691"/>
                  </a:lnTo>
                  <a:lnTo>
                    <a:pt x="1234" y="2685"/>
                  </a:lnTo>
                  <a:lnTo>
                    <a:pt x="1184" y="2684"/>
                  </a:lnTo>
                  <a:lnTo>
                    <a:pt x="1135" y="2689"/>
                  </a:lnTo>
                  <a:lnTo>
                    <a:pt x="1085" y="2677"/>
                  </a:lnTo>
                  <a:lnTo>
                    <a:pt x="1036" y="2683"/>
                  </a:lnTo>
                  <a:lnTo>
                    <a:pt x="987" y="2689"/>
                  </a:lnTo>
                  <a:lnTo>
                    <a:pt x="937" y="2674"/>
                  </a:lnTo>
                  <a:lnTo>
                    <a:pt x="888" y="2680"/>
                  </a:lnTo>
                  <a:lnTo>
                    <a:pt x="839" y="2686"/>
                  </a:lnTo>
                  <a:lnTo>
                    <a:pt x="790" y="2666"/>
                  </a:lnTo>
                  <a:lnTo>
                    <a:pt x="740" y="2671"/>
                  </a:lnTo>
                  <a:lnTo>
                    <a:pt x="690" y="2677"/>
                  </a:lnTo>
                  <a:lnTo>
                    <a:pt x="642" y="2648"/>
                  </a:lnTo>
                  <a:lnTo>
                    <a:pt x="592" y="2654"/>
                  </a:lnTo>
                  <a:lnTo>
                    <a:pt x="543" y="2659"/>
                  </a:lnTo>
                  <a:lnTo>
                    <a:pt x="493" y="2618"/>
                  </a:lnTo>
                  <a:lnTo>
                    <a:pt x="444" y="2622"/>
                  </a:lnTo>
                  <a:lnTo>
                    <a:pt x="395" y="2626"/>
                  </a:lnTo>
                  <a:lnTo>
                    <a:pt x="345" y="2545"/>
                  </a:lnTo>
                  <a:lnTo>
                    <a:pt x="296" y="2548"/>
                  </a:lnTo>
                  <a:lnTo>
                    <a:pt x="247" y="2550"/>
                  </a:lnTo>
                  <a:lnTo>
                    <a:pt x="198" y="2471"/>
                  </a:lnTo>
                  <a:lnTo>
                    <a:pt x="148" y="2441"/>
                  </a:lnTo>
                  <a:lnTo>
                    <a:pt x="98" y="2441"/>
                  </a:lnTo>
                  <a:lnTo>
                    <a:pt x="50" y="2395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100160" y="5011560"/>
              <a:ext cx="7753320" cy="603360"/>
            </a:xfrm>
            <a:custGeom>
              <a:avLst/>
              <a:gdLst/>
              <a:ahLst/>
              <a:rect l="l" t="t" r="r" b="b"/>
              <a:pathLst>
                <a:path w="4884" h="380">
                  <a:moveTo>
                    <a:pt x="0" y="38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98" y="46"/>
                  </a:lnTo>
                  <a:lnTo>
                    <a:pt x="148" y="46"/>
                  </a:lnTo>
                  <a:lnTo>
                    <a:pt x="198" y="76"/>
                  </a:lnTo>
                  <a:lnTo>
                    <a:pt x="247" y="155"/>
                  </a:lnTo>
                  <a:lnTo>
                    <a:pt x="296" y="153"/>
                  </a:lnTo>
                  <a:lnTo>
                    <a:pt x="345" y="150"/>
                  </a:lnTo>
                  <a:lnTo>
                    <a:pt x="395" y="231"/>
                  </a:lnTo>
                  <a:lnTo>
                    <a:pt x="444" y="227"/>
                  </a:lnTo>
                  <a:lnTo>
                    <a:pt x="493" y="223"/>
                  </a:lnTo>
                  <a:lnTo>
                    <a:pt x="543" y="264"/>
                  </a:lnTo>
                  <a:lnTo>
                    <a:pt x="592" y="259"/>
                  </a:lnTo>
                  <a:lnTo>
                    <a:pt x="642" y="253"/>
                  </a:lnTo>
                  <a:lnTo>
                    <a:pt x="690" y="282"/>
                  </a:lnTo>
                  <a:lnTo>
                    <a:pt x="740" y="276"/>
                  </a:lnTo>
                  <a:lnTo>
                    <a:pt x="790" y="271"/>
                  </a:lnTo>
                  <a:lnTo>
                    <a:pt x="839" y="291"/>
                  </a:lnTo>
                  <a:lnTo>
                    <a:pt x="888" y="285"/>
                  </a:lnTo>
                  <a:lnTo>
                    <a:pt x="937" y="279"/>
                  </a:lnTo>
                  <a:lnTo>
                    <a:pt x="987" y="294"/>
                  </a:lnTo>
                  <a:lnTo>
                    <a:pt x="1036" y="288"/>
                  </a:lnTo>
                  <a:lnTo>
                    <a:pt x="1085" y="282"/>
                  </a:lnTo>
                  <a:lnTo>
                    <a:pt x="1135" y="294"/>
                  </a:lnTo>
                  <a:lnTo>
                    <a:pt x="1184" y="289"/>
                  </a:lnTo>
                  <a:lnTo>
                    <a:pt x="1234" y="290"/>
                  </a:lnTo>
                  <a:lnTo>
                    <a:pt x="1282" y="296"/>
                  </a:lnTo>
                  <a:lnTo>
                    <a:pt x="1332" y="296"/>
                  </a:lnTo>
                  <a:lnTo>
                    <a:pt x="1381" y="302"/>
                  </a:lnTo>
                  <a:lnTo>
                    <a:pt x="1431" y="309"/>
                  </a:lnTo>
                  <a:lnTo>
                    <a:pt x="1480" y="305"/>
                  </a:lnTo>
                  <a:lnTo>
                    <a:pt x="1529" y="317"/>
                  </a:lnTo>
                  <a:lnTo>
                    <a:pt x="1579" y="324"/>
                  </a:lnTo>
                  <a:lnTo>
                    <a:pt x="1628" y="321"/>
                  </a:lnTo>
                  <a:lnTo>
                    <a:pt x="1677" y="329"/>
                  </a:lnTo>
                  <a:lnTo>
                    <a:pt x="1727" y="333"/>
                  </a:lnTo>
                  <a:lnTo>
                    <a:pt x="1776" y="331"/>
                  </a:lnTo>
                  <a:lnTo>
                    <a:pt x="1826" y="339"/>
                  </a:lnTo>
                  <a:lnTo>
                    <a:pt x="1874" y="343"/>
                  </a:lnTo>
                  <a:lnTo>
                    <a:pt x="1924" y="341"/>
                  </a:lnTo>
                  <a:lnTo>
                    <a:pt x="1973" y="347"/>
                  </a:lnTo>
                  <a:lnTo>
                    <a:pt x="2023" y="350"/>
                  </a:lnTo>
                  <a:lnTo>
                    <a:pt x="2072" y="349"/>
                  </a:lnTo>
                  <a:lnTo>
                    <a:pt x="2121" y="354"/>
                  </a:lnTo>
                  <a:lnTo>
                    <a:pt x="2171" y="356"/>
                  </a:lnTo>
                  <a:lnTo>
                    <a:pt x="2220" y="355"/>
                  </a:lnTo>
                  <a:lnTo>
                    <a:pt x="2269" y="360"/>
                  </a:lnTo>
                  <a:lnTo>
                    <a:pt x="2319" y="361"/>
                  </a:lnTo>
                  <a:lnTo>
                    <a:pt x="2368" y="360"/>
                  </a:lnTo>
                  <a:lnTo>
                    <a:pt x="2418" y="363"/>
                  </a:lnTo>
                  <a:lnTo>
                    <a:pt x="2466" y="364"/>
                  </a:lnTo>
                  <a:lnTo>
                    <a:pt x="2516" y="364"/>
                  </a:lnTo>
                  <a:lnTo>
                    <a:pt x="2565" y="366"/>
                  </a:lnTo>
                  <a:lnTo>
                    <a:pt x="2615" y="368"/>
                  </a:lnTo>
                  <a:lnTo>
                    <a:pt x="2664" y="366"/>
                  </a:lnTo>
                  <a:lnTo>
                    <a:pt x="2713" y="369"/>
                  </a:lnTo>
                  <a:lnTo>
                    <a:pt x="2763" y="370"/>
                  </a:lnTo>
                  <a:lnTo>
                    <a:pt x="2812" y="370"/>
                  </a:lnTo>
                  <a:lnTo>
                    <a:pt x="2861" y="372"/>
                  </a:lnTo>
                  <a:lnTo>
                    <a:pt x="2911" y="372"/>
                  </a:lnTo>
                  <a:lnTo>
                    <a:pt x="2960" y="372"/>
                  </a:lnTo>
                  <a:lnTo>
                    <a:pt x="3010" y="373"/>
                  </a:lnTo>
                  <a:lnTo>
                    <a:pt x="3058" y="374"/>
                  </a:lnTo>
                  <a:lnTo>
                    <a:pt x="3108" y="374"/>
                  </a:lnTo>
                  <a:lnTo>
                    <a:pt x="3157" y="375"/>
                  </a:lnTo>
                  <a:lnTo>
                    <a:pt x="3207" y="380"/>
                  </a:lnTo>
                  <a:lnTo>
                    <a:pt x="3256" y="380"/>
                  </a:lnTo>
                  <a:lnTo>
                    <a:pt x="3305" y="380"/>
                  </a:lnTo>
                  <a:lnTo>
                    <a:pt x="3355" y="380"/>
                  </a:lnTo>
                  <a:lnTo>
                    <a:pt x="3404" y="380"/>
                  </a:lnTo>
                  <a:lnTo>
                    <a:pt x="3453" y="380"/>
                  </a:lnTo>
                  <a:lnTo>
                    <a:pt x="3503" y="380"/>
                  </a:lnTo>
                  <a:lnTo>
                    <a:pt x="3552" y="380"/>
                  </a:lnTo>
                  <a:lnTo>
                    <a:pt x="3602" y="380"/>
                  </a:lnTo>
                  <a:lnTo>
                    <a:pt x="3650" y="380"/>
                  </a:lnTo>
                  <a:lnTo>
                    <a:pt x="3700" y="380"/>
                  </a:lnTo>
                  <a:lnTo>
                    <a:pt x="3749" y="380"/>
                  </a:lnTo>
                  <a:lnTo>
                    <a:pt x="3799" y="380"/>
                  </a:lnTo>
                  <a:lnTo>
                    <a:pt x="3848" y="380"/>
                  </a:lnTo>
                  <a:lnTo>
                    <a:pt x="3897" y="380"/>
                  </a:lnTo>
                  <a:lnTo>
                    <a:pt x="3947" y="380"/>
                  </a:lnTo>
                  <a:lnTo>
                    <a:pt x="3996" y="380"/>
                  </a:lnTo>
                  <a:lnTo>
                    <a:pt x="4045" y="380"/>
                  </a:lnTo>
                  <a:lnTo>
                    <a:pt x="4095" y="380"/>
                  </a:lnTo>
                  <a:lnTo>
                    <a:pt x="4144" y="380"/>
                  </a:lnTo>
                  <a:lnTo>
                    <a:pt x="4194" y="380"/>
                  </a:lnTo>
                  <a:lnTo>
                    <a:pt x="4242" y="380"/>
                  </a:lnTo>
                  <a:lnTo>
                    <a:pt x="4292" y="380"/>
                  </a:lnTo>
                  <a:lnTo>
                    <a:pt x="4341" y="380"/>
                  </a:lnTo>
                  <a:lnTo>
                    <a:pt x="4391" y="380"/>
                  </a:lnTo>
                  <a:lnTo>
                    <a:pt x="4440" y="380"/>
                  </a:lnTo>
                  <a:lnTo>
                    <a:pt x="4489" y="380"/>
                  </a:lnTo>
                  <a:lnTo>
                    <a:pt x="4539" y="380"/>
                  </a:lnTo>
                  <a:lnTo>
                    <a:pt x="4588" y="380"/>
                  </a:lnTo>
                  <a:lnTo>
                    <a:pt x="4637" y="380"/>
                  </a:lnTo>
                  <a:lnTo>
                    <a:pt x="4687" y="380"/>
                  </a:lnTo>
                  <a:lnTo>
                    <a:pt x="4736" y="380"/>
                  </a:lnTo>
                  <a:lnTo>
                    <a:pt x="4786" y="380"/>
                  </a:lnTo>
                  <a:lnTo>
                    <a:pt x="4834" y="380"/>
                  </a:lnTo>
                  <a:lnTo>
                    <a:pt x="4884" y="380"/>
                  </a:lnTo>
                  <a:lnTo>
                    <a:pt x="4884" y="380"/>
                  </a:lnTo>
                  <a:lnTo>
                    <a:pt x="4834" y="380"/>
                  </a:lnTo>
                  <a:lnTo>
                    <a:pt x="4786" y="380"/>
                  </a:lnTo>
                  <a:lnTo>
                    <a:pt x="4736" y="380"/>
                  </a:lnTo>
                  <a:lnTo>
                    <a:pt x="4687" y="380"/>
                  </a:lnTo>
                  <a:lnTo>
                    <a:pt x="4637" y="380"/>
                  </a:lnTo>
                  <a:lnTo>
                    <a:pt x="4588" y="380"/>
                  </a:lnTo>
                  <a:lnTo>
                    <a:pt x="4539" y="380"/>
                  </a:lnTo>
                  <a:lnTo>
                    <a:pt x="4489" y="380"/>
                  </a:lnTo>
                  <a:lnTo>
                    <a:pt x="4440" y="380"/>
                  </a:lnTo>
                  <a:lnTo>
                    <a:pt x="4391" y="380"/>
                  </a:lnTo>
                  <a:lnTo>
                    <a:pt x="4341" y="380"/>
                  </a:lnTo>
                  <a:lnTo>
                    <a:pt x="4292" y="380"/>
                  </a:lnTo>
                  <a:lnTo>
                    <a:pt x="4242" y="380"/>
                  </a:lnTo>
                  <a:lnTo>
                    <a:pt x="4194" y="380"/>
                  </a:lnTo>
                  <a:lnTo>
                    <a:pt x="4144" y="380"/>
                  </a:lnTo>
                  <a:lnTo>
                    <a:pt x="4095" y="380"/>
                  </a:lnTo>
                  <a:lnTo>
                    <a:pt x="4045" y="380"/>
                  </a:lnTo>
                  <a:lnTo>
                    <a:pt x="3996" y="380"/>
                  </a:lnTo>
                  <a:lnTo>
                    <a:pt x="3947" y="380"/>
                  </a:lnTo>
                  <a:lnTo>
                    <a:pt x="3897" y="380"/>
                  </a:lnTo>
                  <a:lnTo>
                    <a:pt x="3848" y="380"/>
                  </a:lnTo>
                  <a:lnTo>
                    <a:pt x="3799" y="380"/>
                  </a:lnTo>
                  <a:lnTo>
                    <a:pt x="3749" y="380"/>
                  </a:lnTo>
                  <a:lnTo>
                    <a:pt x="3700" y="380"/>
                  </a:lnTo>
                  <a:lnTo>
                    <a:pt x="3650" y="380"/>
                  </a:lnTo>
                  <a:lnTo>
                    <a:pt x="3602" y="380"/>
                  </a:lnTo>
                  <a:lnTo>
                    <a:pt x="3552" y="380"/>
                  </a:lnTo>
                  <a:lnTo>
                    <a:pt x="3503" y="380"/>
                  </a:lnTo>
                  <a:lnTo>
                    <a:pt x="3453" y="380"/>
                  </a:lnTo>
                  <a:lnTo>
                    <a:pt x="3404" y="380"/>
                  </a:lnTo>
                  <a:lnTo>
                    <a:pt x="3355" y="380"/>
                  </a:lnTo>
                  <a:lnTo>
                    <a:pt x="3305" y="380"/>
                  </a:lnTo>
                  <a:lnTo>
                    <a:pt x="3256" y="380"/>
                  </a:lnTo>
                  <a:lnTo>
                    <a:pt x="3207" y="380"/>
                  </a:lnTo>
                  <a:lnTo>
                    <a:pt x="3157" y="380"/>
                  </a:lnTo>
                  <a:lnTo>
                    <a:pt x="3108" y="380"/>
                  </a:lnTo>
                  <a:lnTo>
                    <a:pt x="3058" y="380"/>
                  </a:lnTo>
                  <a:lnTo>
                    <a:pt x="3010" y="380"/>
                  </a:lnTo>
                  <a:lnTo>
                    <a:pt x="2960" y="380"/>
                  </a:lnTo>
                  <a:lnTo>
                    <a:pt x="2911" y="380"/>
                  </a:lnTo>
                  <a:lnTo>
                    <a:pt x="2861" y="380"/>
                  </a:lnTo>
                  <a:lnTo>
                    <a:pt x="2812" y="380"/>
                  </a:lnTo>
                  <a:lnTo>
                    <a:pt x="2763" y="380"/>
                  </a:lnTo>
                  <a:lnTo>
                    <a:pt x="2713" y="380"/>
                  </a:lnTo>
                  <a:lnTo>
                    <a:pt x="2664" y="380"/>
                  </a:lnTo>
                  <a:lnTo>
                    <a:pt x="2615" y="380"/>
                  </a:lnTo>
                  <a:lnTo>
                    <a:pt x="2565" y="380"/>
                  </a:lnTo>
                  <a:lnTo>
                    <a:pt x="2516" y="380"/>
                  </a:lnTo>
                  <a:lnTo>
                    <a:pt x="2466" y="380"/>
                  </a:lnTo>
                  <a:lnTo>
                    <a:pt x="2418" y="380"/>
                  </a:lnTo>
                  <a:lnTo>
                    <a:pt x="2368" y="380"/>
                  </a:lnTo>
                  <a:lnTo>
                    <a:pt x="2319" y="380"/>
                  </a:lnTo>
                  <a:lnTo>
                    <a:pt x="2269" y="380"/>
                  </a:lnTo>
                  <a:lnTo>
                    <a:pt x="2220" y="380"/>
                  </a:lnTo>
                  <a:lnTo>
                    <a:pt x="2171" y="380"/>
                  </a:lnTo>
                  <a:lnTo>
                    <a:pt x="2121" y="380"/>
                  </a:lnTo>
                  <a:lnTo>
                    <a:pt x="2072" y="380"/>
                  </a:lnTo>
                  <a:lnTo>
                    <a:pt x="2023" y="380"/>
                  </a:lnTo>
                  <a:lnTo>
                    <a:pt x="1973" y="380"/>
                  </a:lnTo>
                  <a:lnTo>
                    <a:pt x="1924" y="380"/>
                  </a:lnTo>
                  <a:lnTo>
                    <a:pt x="1874" y="380"/>
                  </a:lnTo>
                  <a:lnTo>
                    <a:pt x="1826" y="380"/>
                  </a:lnTo>
                  <a:lnTo>
                    <a:pt x="1776" y="380"/>
                  </a:lnTo>
                  <a:lnTo>
                    <a:pt x="1727" y="380"/>
                  </a:lnTo>
                  <a:lnTo>
                    <a:pt x="1677" y="380"/>
                  </a:lnTo>
                  <a:lnTo>
                    <a:pt x="1628" y="380"/>
                  </a:lnTo>
                  <a:lnTo>
                    <a:pt x="1579" y="380"/>
                  </a:lnTo>
                  <a:lnTo>
                    <a:pt x="1529" y="380"/>
                  </a:lnTo>
                  <a:lnTo>
                    <a:pt x="1480" y="380"/>
                  </a:lnTo>
                  <a:lnTo>
                    <a:pt x="1431" y="380"/>
                  </a:lnTo>
                  <a:lnTo>
                    <a:pt x="1381" y="380"/>
                  </a:lnTo>
                  <a:lnTo>
                    <a:pt x="1332" y="380"/>
                  </a:lnTo>
                  <a:lnTo>
                    <a:pt x="1282" y="380"/>
                  </a:lnTo>
                  <a:lnTo>
                    <a:pt x="1234" y="380"/>
                  </a:lnTo>
                  <a:lnTo>
                    <a:pt x="1184" y="380"/>
                  </a:lnTo>
                  <a:lnTo>
                    <a:pt x="1135" y="380"/>
                  </a:lnTo>
                  <a:lnTo>
                    <a:pt x="1085" y="380"/>
                  </a:lnTo>
                  <a:lnTo>
                    <a:pt x="1036" y="380"/>
                  </a:lnTo>
                  <a:lnTo>
                    <a:pt x="987" y="380"/>
                  </a:lnTo>
                  <a:lnTo>
                    <a:pt x="937" y="380"/>
                  </a:lnTo>
                  <a:lnTo>
                    <a:pt x="888" y="380"/>
                  </a:lnTo>
                  <a:lnTo>
                    <a:pt x="839" y="380"/>
                  </a:lnTo>
                  <a:lnTo>
                    <a:pt x="790" y="380"/>
                  </a:lnTo>
                  <a:lnTo>
                    <a:pt x="740" y="380"/>
                  </a:lnTo>
                  <a:lnTo>
                    <a:pt x="690" y="380"/>
                  </a:lnTo>
                  <a:lnTo>
                    <a:pt x="642" y="380"/>
                  </a:lnTo>
                  <a:lnTo>
                    <a:pt x="592" y="380"/>
                  </a:lnTo>
                  <a:lnTo>
                    <a:pt x="543" y="380"/>
                  </a:lnTo>
                  <a:lnTo>
                    <a:pt x="493" y="380"/>
                  </a:lnTo>
                  <a:lnTo>
                    <a:pt x="444" y="380"/>
                  </a:lnTo>
                  <a:lnTo>
                    <a:pt x="395" y="380"/>
                  </a:lnTo>
                  <a:lnTo>
                    <a:pt x="345" y="380"/>
                  </a:lnTo>
                  <a:lnTo>
                    <a:pt x="296" y="380"/>
                  </a:lnTo>
                  <a:lnTo>
                    <a:pt x="247" y="380"/>
                  </a:lnTo>
                  <a:lnTo>
                    <a:pt x="198" y="380"/>
                  </a:lnTo>
                  <a:lnTo>
                    <a:pt x="148" y="380"/>
                  </a:lnTo>
                  <a:lnTo>
                    <a:pt x="98" y="380"/>
                  </a:lnTo>
                  <a:lnTo>
                    <a:pt x="50" y="380"/>
                  </a:lnTo>
                  <a:lnTo>
                    <a:pt x="0" y="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1100160" y="1209600"/>
              <a:ext cx="7753320" cy="4405320"/>
            </a:xfrm>
            <a:custGeom>
              <a:avLst/>
              <a:gdLst/>
              <a:ahLst/>
              <a:rect l="l" t="t" r="r" b="b"/>
              <a:pathLst>
                <a:path w="4884" h="2775">
                  <a:moveTo>
                    <a:pt x="0" y="2395"/>
                  </a:moveTo>
                  <a:lnTo>
                    <a:pt x="0" y="4"/>
                  </a:lnTo>
                  <a:lnTo>
                    <a:pt x="50" y="0"/>
                  </a:lnTo>
                  <a:lnTo>
                    <a:pt x="98" y="104"/>
                  </a:lnTo>
                  <a:lnTo>
                    <a:pt x="148" y="100"/>
                  </a:lnTo>
                  <a:lnTo>
                    <a:pt x="198" y="172"/>
                  </a:lnTo>
                  <a:lnTo>
                    <a:pt x="247" y="379"/>
                  </a:lnTo>
                  <a:lnTo>
                    <a:pt x="296" y="373"/>
                  </a:lnTo>
                  <a:lnTo>
                    <a:pt x="345" y="336"/>
                  </a:lnTo>
                  <a:lnTo>
                    <a:pt x="395" y="588"/>
                  </a:lnTo>
                  <a:lnTo>
                    <a:pt x="444" y="537"/>
                  </a:lnTo>
                  <a:lnTo>
                    <a:pt x="493" y="470"/>
                  </a:lnTo>
                  <a:lnTo>
                    <a:pt x="543" y="669"/>
                  </a:lnTo>
                  <a:lnTo>
                    <a:pt x="592" y="646"/>
                  </a:lnTo>
                  <a:lnTo>
                    <a:pt x="642" y="591"/>
                  </a:lnTo>
                  <a:lnTo>
                    <a:pt x="690" y="758"/>
                  </a:lnTo>
                  <a:lnTo>
                    <a:pt x="740" y="754"/>
                  </a:lnTo>
                  <a:lnTo>
                    <a:pt x="790" y="719"/>
                  </a:lnTo>
                  <a:lnTo>
                    <a:pt x="839" y="842"/>
                  </a:lnTo>
                  <a:lnTo>
                    <a:pt x="888" y="858"/>
                  </a:lnTo>
                  <a:lnTo>
                    <a:pt x="937" y="809"/>
                  </a:lnTo>
                  <a:lnTo>
                    <a:pt x="987" y="886"/>
                  </a:lnTo>
                  <a:lnTo>
                    <a:pt x="1036" y="868"/>
                  </a:lnTo>
                  <a:lnTo>
                    <a:pt x="1085" y="822"/>
                  </a:lnTo>
                  <a:lnTo>
                    <a:pt x="1135" y="894"/>
                  </a:lnTo>
                  <a:lnTo>
                    <a:pt x="1184" y="909"/>
                  </a:lnTo>
                  <a:lnTo>
                    <a:pt x="1234" y="881"/>
                  </a:lnTo>
                  <a:lnTo>
                    <a:pt x="1282" y="946"/>
                  </a:lnTo>
                  <a:lnTo>
                    <a:pt x="1332" y="982"/>
                  </a:lnTo>
                  <a:lnTo>
                    <a:pt x="1381" y="971"/>
                  </a:lnTo>
                  <a:lnTo>
                    <a:pt x="1431" y="1010"/>
                  </a:lnTo>
                  <a:lnTo>
                    <a:pt x="1480" y="1069"/>
                  </a:lnTo>
                  <a:lnTo>
                    <a:pt x="1529" y="1069"/>
                  </a:lnTo>
                  <a:lnTo>
                    <a:pt x="1579" y="1109"/>
                  </a:lnTo>
                  <a:lnTo>
                    <a:pt x="1628" y="1159"/>
                  </a:lnTo>
                  <a:lnTo>
                    <a:pt x="1677" y="1150"/>
                  </a:lnTo>
                  <a:lnTo>
                    <a:pt x="1727" y="1188"/>
                  </a:lnTo>
                  <a:lnTo>
                    <a:pt x="1776" y="1242"/>
                  </a:lnTo>
                  <a:lnTo>
                    <a:pt x="1826" y="1236"/>
                  </a:lnTo>
                  <a:lnTo>
                    <a:pt x="1874" y="1270"/>
                  </a:lnTo>
                  <a:lnTo>
                    <a:pt x="1924" y="1321"/>
                  </a:lnTo>
                  <a:lnTo>
                    <a:pt x="1973" y="1314"/>
                  </a:lnTo>
                  <a:lnTo>
                    <a:pt x="2023" y="1349"/>
                  </a:lnTo>
                  <a:lnTo>
                    <a:pt x="2072" y="1399"/>
                  </a:lnTo>
                  <a:lnTo>
                    <a:pt x="2121" y="1395"/>
                  </a:lnTo>
                  <a:lnTo>
                    <a:pt x="2171" y="1419"/>
                  </a:lnTo>
                  <a:lnTo>
                    <a:pt x="2220" y="1477"/>
                  </a:lnTo>
                  <a:lnTo>
                    <a:pt x="2269" y="1470"/>
                  </a:lnTo>
                  <a:lnTo>
                    <a:pt x="2319" y="1488"/>
                  </a:lnTo>
                  <a:lnTo>
                    <a:pt x="2368" y="1536"/>
                  </a:lnTo>
                  <a:lnTo>
                    <a:pt x="2418" y="1522"/>
                  </a:lnTo>
                  <a:lnTo>
                    <a:pt x="2466" y="1550"/>
                  </a:lnTo>
                  <a:lnTo>
                    <a:pt x="2516" y="1591"/>
                  </a:lnTo>
                  <a:lnTo>
                    <a:pt x="2565" y="1585"/>
                  </a:lnTo>
                  <a:lnTo>
                    <a:pt x="2615" y="1595"/>
                  </a:lnTo>
                  <a:lnTo>
                    <a:pt x="2664" y="1639"/>
                  </a:lnTo>
                  <a:lnTo>
                    <a:pt x="2713" y="1633"/>
                  </a:lnTo>
                  <a:lnTo>
                    <a:pt x="2763" y="1648"/>
                  </a:lnTo>
                  <a:lnTo>
                    <a:pt x="2812" y="1689"/>
                  </a:lnTo>
                  <a:lnTo>
                    <a:pt x="2861" y="1681"/>
                  </a:lnTo>
                  <a:lnTo>
                    <a:pt x="2911" y="1688"/>
                  </a:lnTo>
                  <a:lnTo>
                    <a:pt x="2960" y="1732"/>
                  </a:lnTo>
                  <a:lnTo>
                    <a:pt x="3010" y="1724"/>
                  </a:lnTo>
                  <a:lnTo>
                    <a:pt x="3058" y="1740"/>
                  </a:lnTo>
                  <a:lnTo>
                    <a:pt x="3108" y="1775"/>
                  </a:lnTo>
                  <a:lnTo>
                    <a:pt x="3157" y="1770"/>
                  </a:lnTo>
                  <a:lnTo>
                    <a:pt x="3207" y="1800"/>
                  </a:lnTo>
                  <a:lnTo>
                    <a:pt x="3256" y="1841"/>
                  </a:lnTo>
                  <a:lnTo>
                    <a:pt x="3305" y="1834"/>
                  </a:lnTo>
                  <a:lnTo>
                    <a:pt x="3355" y="1845"/>
                  </a:lnTo>
                  <a:lnTo>
                    <a:pt x="3404" y="1875"/>
                  </a:lnTo>
                  <a:lnTo>
                    <a:pt x="3453" y="1867"/>
                  </a:lnTo>
                  <a:lnTo>
                    <a:pt x="3503" y="1888"/>
                  </a:lnTo>
                  <a:lnTo>
                    <a:pt x="3552" y="1939"/>
                  </a:lnTo>
                  <a:lnTo>
                    <a:pt x="3602" y="1934"/>
                  </a:lnTo>
                  <a:lnTo>
                    <a:pt x="3650" y="1938"/>
                  </a:lnTo>
                  <a:lnTo>
                    <a:pt x="3700" y="1958"/>
                  </a:lnTo>
                  <a:lnTo>
                    <a:pt x="3749" y="1948"/>
                  </a:lnTo>
                  <a:lnTo>
                    <a:pt x="3799" y="1955"/>
                  </a:lnTo>
                  <a:lnTo>
                    <a:pt x="3848" y="1981"/>
                  </a:lnTo>
                  <a:lnTo>
                    <a:pt x="3897" y="1979"/>
                  </a:lnTo>
                  <a:lnTo>
                    <a:pt x="3947" y="1985"/>
                  </a:lnTo>
                  <a:lnTo>
                    <a:pt x="3996" y="2023"/>
                  </a:lnTo>
                  <a:lnTo>
                    <a:pt x="4045" y="2014"/>
                  </a:lnTo>
                  <a:lnTo>
                    <a:pt x="4095" y="2040"/>
                  </a:lnTo>
                  <a:lnTo>
                    <a:pt x="4144" y="2068"/>
                  </a:lnTo>
                  <a:lnTo>
                    <a:pt x="4194" y="2065"/>
                  </a:lnTo>
                  <a:lnTo>
                    <a:pt x="4242" y="2066"/>
                  </a:lnTo>
                  <a:lnTo>
                    <a:pt x="4292" y="2088"/>
                  </a:lnTo>
                  <a:lnTo>
                    <a:pt x="4341" y="2081"/>
                  </a:lnTo>
                  <a:lnTo>
                    <a:pt x="4391" y="2084"/>
                  </a:lnTo>
                  <a:lnTo>
                    <a:pt x="4440" y="2097"/>
                  </a:lnTo>
                  <a:lnTo>
                    <a:pt x="4489" y="2099"/>
                  </a:lnTo>
                  <a:lnTo>
                    <a:pt x="4539" y="2116"/>
                  </a:lnTo>
                  <a:lnTo>
                    <a:pt x="4588" y="2159"/>
                  </a:lnTo>
                  <a:lnTo>
                    <a:pt x="4637" y="2147"/>
                  </a:lnTo>
                  <a:lnTo>
                    <a:pt x="4687" y="2218"/>
                  </a:lnTo>
                  <a:lnTo>
                    <a:pt x="4736" y="2238"/>
                  </a:lnTo>
                  <a:lnTo>
                    <a:pt x="4786" y="2234"/>
                  </a:lnTo>
                  <a:lnTo>
                    <a:pt x="4834" y="2227"/>
                  </a:lnTo>
                  <a:lnTo>
                    <a:pt x="4884" y="2290"/>
                  </a:lnTo>
                  <a:lnTo>
                    <a:pt x="4884" y="2775"/>
                  </a:lnTo>
                  <a:lnTo>
                    <a:pt x="4834" y="2775"/>
                  </a:lnTo>
                  <a:lnTo>
                    <a:pt x="4786" y="2775"/>
                  </a:lnTo>
                  <a:lnTo>
                    <a:pt x="4736" y="2775"/>
                  </a:lnTo>
                  <a:lnTo>
                    <a:pt x="4687" y="2775"/>
                  </a:lnTo>
                  <a:lnTo>
                    <a:pt x="4637" y="2775"/>
                  </a:lnTo>
                  <a:lnTo>
                    <a:pt x="4588" y="2775"/>
                  </a:lnTo>
                  <a:lnTo>
                    <a:pt x="4539" y="2775"/>
                  </a:lnTo>
                  <a:lnTo>
                    <a:pt x="4489" y="2775"/>
                  </a:lnTo>
                  <a:lnTo>
                    <a:pt x="4440" y="2775"/>
                  </a:lnTo>
                  <a:lnTo>
                    <a:pt x="4391" y="2775"/>
                  </a:lnTo>
                  <a:lnTo>
                    <a:pt x="4341" y="2775"/>
                  </a:lnTo>
                  <a:lnTo>
                    <a:pt x="4292" y="2775"/>
                  </a:lnTo>
                  <a:lnTo>
                    <a:pt x="4242" y="2775"/>
                  </a:lnTo>
                  <a:lnTo>
                    <a:pt x="4194" y="2775"/>
                  </a:lnTo>
                  <a:lnTo>
                    <a:pt x="4144" y="2775"/>
                  </a:lnTo>
                  <a:lnTo>
                    <a:pt x="4095" y="2775"/>
                  </a:lnTo>
                  <a:lnTo>
                    <a:pt x="4045" y="2775"/>
                  </a:lnTo>
                  <a:lnTo>
                    <a:pt x="3996" y="2775"/>
                  </a:lnTo>
                  <a:lnTo>
                    <a:pt x="3947" y="2775"/>
                  </a:lnTo>
                  <a:lnTo>
                    <a:pt x="3897" y="2775"/>
                  </a:lnTo>
                  <a:lnTo>
                    <a:pt x="3848" y="2775"/>
                  </a:lnTo>
                  <a:lnTo>
                    <a:pt x="3799" y="2775"/>
                  </a:lnTo>
                  <a:lnTo>
                    <a:pt x="3749" y="2775"/>
                  </a:lnTo>
                  <a:lnTo>
                    <a:pt x="3700" y="2775"/>
                  </a:lnTo>
                  <a:lnTo>
                    <a:pt x="3650" y="2775"/>
                  </a:lnTo>
                  <a:lnTo>
                    <a:pt x="3602" y="2775"/>
                  </a:lnTo>
                  <a:lnTo>
                    <a:pt x="3552" y="2775"/>
                  </a:lnTo>
                  <a:lnTo>
                    <a:pt x="3503" y="2775"/>
                  </a:lnTo>
                  <a:lnTo>
                    <a:pt x="3453" y="2775"/>
                  </a:lnTo>
                  <a:lnTo>
                    <a:pt x="3404" y="2775"/>
                  </a:lnTo>
                  <a:lnTo>
                    <a:pt x="3355" y="2775"/>
                  </a:lnTo>
                  <a:lnTo>
                    <a:pt x="3305" y="2775"/>
                  </a:lnTo>
                  <a:lnTo>
                    <a:pt x="3256" y="2775"/>
                  </a:lnTo>
                  <a:lnTo>
                    <a:pt x="3207" y="2775"/>
                  </a:lnTo>
                  <a:lnTo>
                    <a:pt x="3157" y="2770"/>
                  </a:lnTo>
                  <a:lnTo>
                    <a:pt x="3108" y="2769"/>
                  </a:lnTo>
                  <a:lnTo>
                    <a:pt x="3058" y="2769"/>
                  </a:lnTo>
                  <a:lnTo>
                    <a:pt x="3010" y="2768"/>
                  </a:lnTo>
                  <a:lnTo>
                    <a:pt x="2960" y="2767"/>
                  </a:lnTo>
                  <a:lnTo>
                    <a:pt x="2911" y="2767"/>
                  </a:lnTo>
                  <a:lnTo>
                    <a:pt x="2861" y="2767"/>
                  </a:lnTo>
                  <a:lnTo>
                    <a:pt x="2812" y="2765"/>
                  </a:lnTo>
                  <a:lnTo>
                    <a:pt x="2763" y="2765"/>
                  </a:lnTo>
                  <a:lnTo>
                    <a:pt x="2713" y="2764"/>
                  </a:lnTo>
                  <a:lnTo>
                    <a:pt x="2664" y="2761"/>
                  </a:lnTo>
                  <a:lnTo>
                    <a:pt x="2615" y="2763"/>
                  </a:lnTo>
                  <a:lnTo>
                    <a:pt x="2565" y="2761"/>
                  </a:lnTo>
                  <a:lnTo>
                    <a:pt x="2516" y="2759"/>
                  </a:lnTo>
                  <a:lnTo>
                    <a:pt x="2466" y="2759"/>
                  </a:lnTo>
                  <a:lnTo>
                    <a:pt x="2418" y="2758"/>
                  </a:lnTo>
                  <a:lnTo>
                    <a:pt x="2368" y="2755"/>
                  </a:lnTo>
                  <a:lnTo>
                    <a:pt x="2319" y="2756"/>
                  </a:lnTo>
                  <a:lnTo>
                    <a:pt x="2269" y="2755"/>
                  </a:lnTo>
                  <a:lnTo>
                    <a:pt x="2220" y="2750"/>
                  </a:lnTo>
                  <a:lnTo>
                    <a:pt x="2171" y="2751"/>
                  </a:lnTo>
                  <a:lnTo>
                    <a:pt x="2121" y="2749"/>
                  </a:lnTo>
                  <a:lnTo>
                    <a:pt x="2072" y="2744"/>
                  </a:lnTo>
                  <a:lnTo>
                    <a:pt x="2023" y="2745"/>
                  </a:lnTo>
                  <a:lnTo>
                    <a:pt x="1973" y="2742"/>
                  </a:lnTo>
                  <a:lnTo>
                    <a:pt x="1924" y="2736"/>
                  </a:lnTo>
                  <a:lnTo>
                    <a:pt x="1874" y="2738"/>
                  </a:lnTo>
                  <a:lnTo>
                    <a:pt x="1826" y="2734"/>
                  </a:lnTo>
                  <a:lnTo>
                    <a:pt x="1776" y="2726"/>
                  </a:lnTo>
                  <a:lnTo>
                    <a:pt x="1727" y="2728"/>
                  </a:lnTo>
                  <a:lnTo>
                    <a:pt x="1677" y="2724"/>
                  </a:lnTo>
                  <a:lnTo>
                    <a:pt x="1628" y="2716"/>
                  </a:lnTo>
                  <a:lnTo>
                    <a:pt x="1579" y="2719"/>
                  </a:lnTo>
                  <a:lnTo>
                    <a:pt x="1529" y="2712"/>
                  </a:lnTo>
                  <a:lnTo>
                    <a:pt x="1480" y="2700"/>
                  </a:lnTo>
                  <a:lnTo>
                    <a:pt x="1431" y="2704"/>
                  </a:lnTo>
                  <a:lnTo>
                    <a:pt x="1381" y="2697"/>
                  </a:lnTo>
                  <a:lnTo>
                    <a:pt x="1332" y="2691"/>
                  </a:lnTo>
                  <a:lnTo>
                    <a:pt x="1282" y="2691"/>
                  </a:lnTo>
                  <a:lnTo>
                    <a:pt x="1234" y="2685"/>
                  </a:lnTo>
                  <a:lnTo>
                    <a:pt x="1184" y="2684"/>
                  </a:lnTo>
                  <a:lnTo>
                    <a:pt x="1135" y="2689"/>
                  </a:lnTo>
                  <a:lnTo>
                    <a:pt x="1085" y="2677"/>
                  </a:lnTo>
                  <a:lnTo>
                    <a:pt x="1036" y="2683"/>
                  </a:lnTo>
                  <a:lnTo>
                    <a:pt x="987" y="2689"/>
                  </a:lnTo>
                  <a:lnTo>
                    <a:pt x="937" y="2674"/>
                  </a:lnTo>
                  <a:lnTo>
                    <a:pt x="888" y="2680"/>
                  </a:lnTo>
                  <a:lnTo>
                    <a:pt x="839" y="2686"/>
                  </a:lnTo>
                  <a:lnTo>
                    <a:pt x="790" y="2666"/>
                  </a:lnTo>
                  <a:lnTo>
                    <a:pt x="740" y="2671"/>
                  </a:lnTo>
                  <a:lnTo>
                    <a:pt x="690" y="2677"/>
                  </a:lnTo>
                  <a:lnTo>
                    <a:pt x="642" y="2648"/>
                  </a:lnTo>
                  <a:lnTo>
                    <a:pt x="592" y="2654"/>
                  </a:lnTo>
                  <a:lnTo>
                    <a:pt x="543" y="2659"/>
                  </a:lnTo>
                  <a:lnTo>
                    <a:pt x="493" y="2618"/>
                  </a:lnTo>
                  <a:lnTo>
                    <a:pt x="444" y="2622"/>
                  </a:lnTo>
                  <a:lnTo>
                    <a:pt x="395" y="2626"/>
                  </a:lnTo>
                  <a:lnTo>
                    <a:pt x="345" y="2545"/>
                  </a:lnTo>
                  <a:lnTo>
                    <a:pt x="296" y="2548"/>
                  </a:lnTo>
                  <a:lnTo>
                    <a:pt x="247" y="2550"/>
                  </a:lnTo>
                  <a:lnTo>
                    <a:pt x="198" y="2471"/>
                  </a:lnTo>
                  <a:lnTo>
                    <a:pt x="148" y="2441"/>
                  </a:lnTo>
                  <a:lnTo>
                    <a:pt x="98" y="2441"/>
                  </a:lnTo>
                  <a:lnTo>
                    <a:pt x="50" y="2395"/>
                  </a:lnTo>
                  <a:lnTo>
                    <a:pt x="0" y="23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100160" y="917640"/>
              <a:ext cx="1440" cy="46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04292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1042920" y="48322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042920" y="404964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042920" y="32670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042920" y="24829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042920" y="17002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1042920" y="917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100160" y="5614920"/>
              <a:ext cx="775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9388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85440" y="471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85440" y="3935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85440" y="3152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85440" y="2368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80680" y="15858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8068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109080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4828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1819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211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603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995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86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778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17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562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952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3434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735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1275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6518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9102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3026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9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085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4772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794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rot="16200000">
              <a:off x="-500040" y="307512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pecies 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142640" y="5257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l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1083600" y="42591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9" name=""/>
          <p:cNvGrpSpPr/>
          <p:nvPr/>
        </p:nvGrpSpPr>
        <p:grpSpPr>
          <a:xfrm>
            <a:off x="0" y="0"/>
            <a:ext cx="9144000" cy="6084000"/>
            <a:chOff x="0" y="0"/>
            <a:chExt cx="9144000" cy="6084000"/>
          </a:xfrm>
        </p:grpSpPr>
        <p:sp>
          <p:nvSpPr>
            <p:cNvPr id="339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BON STOCKS OF ALL LAND-USE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1" name=""/>
            <p:cNvGrpSpPr/>
            <p:nvPr/>
          </p:nvGrpSpPr>
          <p:grpSpPr>
            <a:xfrm>
              <a:off x="938160" y="917640"/>
              <a:ext cx="7863120" cy="4492440"/>
              <a:chOff x="938160" y="917640"/>
              <a:chExt cx="7863120" cy="4492440"/>
            </a:xfrm>
          </p:grpSpPr>
          <p:sp>
            <p:nvSpPr>
              <p:cNvPr id="3392" name=""/>
              <p:cNvSpPr/>
              <p:nvPr/>
            </p:nvSpPr>
            <p:spPr>
              <a:xfrm>
                <a:off x="995400" y="917640"/>
                <a:ext cx="7805880" cy="4435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995400" y="917640"/>
                <a:ext cx="7805880" cy="4435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995400" y="917640"/>
                <a:ext cx="1440" cy="443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38160" y="53532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938160" y="49831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938160" y="46134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938160" y="42433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938160" y="38750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938160" y="350532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938160" y="31352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938160" y="276552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938160" y="23954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938160" y="20271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938160" y="16574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938160" y="12873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938160" y="9176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995400" y="5353200"/>
                <a:ext cx="7805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V="1">
                <a:off x="99540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277020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454500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6318360" y="535320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8091360" y="5353200"/>
                <a:ext cx="180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066680" y="1566720"/>
                <a:ext cx="69840" cy="1270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0" y="80"/>
                    </a:moveTo>
                    <a:lnTo>
                      <a:pt x="3" y="75"/>
                    </a:lnTo>
                    <a:lnTo>
                      <a:pt x="5" y="69"/>
                    </a:lnTo>
                    <a:lnTo>
                      <a:pt x="11" y="55"/>
                    </a:lnTo>
                    <a:lnTo>
                      <a:pt x="16" y="39"/>
                    </a:lnTo>
                    <a:lnTo>
                      <a:pt x="22" y="25"/>
                    </a:lnTo>
                    <a:lnTo>
                      <a:pt x="25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1136520" y="1573200"/>
                <a:ext cx="73080" cy="3380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0"/>
                    </a:moveTo>
                    <a:lnTo>
                      <a:pt x="1" y="3"/>
                    </a:lnTo>
                    <a:lnTo>
                      <a:pt x="3" y="6"/>
                    </a:lnTo>
                    <a:lnTo>
                      <a:pt x="7" y="14"/>
                    </a:lnTo>
                    <a:lnTo>
                      <a:pt x="9" y="27"/>
                    </a:lnTo>
                    <a:lnTo>
                      <a:pt x="12" y="40"/>
                    </a:lnTo>
                    <a:lnTo>
                      <a:pt x="15" y="54"/>
                    </a:lnTo>
                    <a:lnTo>
                      <a:pt x="18" y="71"/>
                    </a:lnTo>
                    <a:lnTo>
                      <a:pt x="21" y="87"/>
                    </a:lnTo>
                    <a:lnTo>
                      <a:pt x="23" y="106"/>
                    </a:lnTo>
                    <a:lnTo>
                      <a:pt x="26" y="123"/>
                    </a:lnTo>
                    <a:lnTo>
                      <a:pt x="29" y="140"/>
                    </a:lnTo>
                    <a:lnTo>
                      <a:pt x="32" y="156"/>
                    </a:lnTo>
                    <a:lnTo>
                      <a:pt x="35" y="171"/>
                    </a:lnTo>
                    <a:lnTo>
                      <a:pt x="38" y="185"/>
                    </a:lnTo>
                    <a:lnTo>
                      <a:pt x="40" y="197"/>
                    </a:lnTo>
                    <a:lnTo>
                      <a:pt x="43" y="207"/>
                    </a:lnTo>
                    <a:lnTo>
                      <a:pt x="45" y="210"/>
                    </a:lnTo>
                    <a:lnTo>
                      <a:pt x="46" y="21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1209600" y="1820880"/>
                <a:ext cx="71640" cy="9828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0" y="57"/>
                    </a:moveTo>
                    <a:lnTo>
                      <a:pt x="3" y="60"/>
                    </a:lnTo>
                    <a:lnTo>
                      <a:pt x="6" y="62"/>
                    </a:lnTo>
                    <a:lnTo>
                      <a:pt x="8" y="60"/>
                    </a:lnTo>
                    <a:lnTo>
                      <a:pt x="11" y="57"/>
                    </a:lnTo>
                    <a:lnTo>
                      <a:pt x="14" y="53"/>
                    </a:lnTo>
                    <a:lnTo>
                      <a:pt x="17" y="48"/>
                    </a:lnTo>
                    <a:lnTo>
                      <a:pt x="19" y="41"/>
                    </a:lnTo>
                    <a:lnTo>
                      <a:pt x="22" y="34"/>
                    </a:lnTo>
                    <a:lnTo>
                      <a:pt x="28" y="19"/>
                    </a:lnTo>
                    <a:lnTo>
                      <a:pt x="30" y="13"/>
                    </a:lnTo>
                    <a:lnTo>
                      <a:pt x="33" y="8"/>
                    </a:lnTo>
                    <a:lnTo>
                      <a:pt x="36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1281240" y="1822320"/>
                <a:ext cx="69840" cy="214560"/>
              </a:xfrm>
              <a:custGeom>
                <a:avLst/>
                <a:gdLst/>
                <a:ahLst/>
                <a:rect l="l" t="t" r="r" b="b"/>
                <a:pathLst>
                  <a:path w="44" h="135">
                    <a:moveTo>
                      <a:pt x="0" y="0"/>
                    </a:moveTo>
                    <a:lnTo>
                      <a:pt x="2" y="2"/>
                    </a:lnTo>
                    <a:lnTo>
                      <a:pt x="5" y="6"/>
                    </a:lnTo>
                    <a:lnTo>
                      <a:pt x="7" y="10"/>
                    </a:lnTo>
                    <a:lnTo>
                      <a:pt x="10" y="15"/>
                    </a:lnTo>
                    <a:lnTo>
                      <a:pt x="13" y="21"/>
                    </a:lnTo>
                    <a:lnTo>
                      <a:pt x="16" y="28"/>
                    </a:lnTo>
                    <a:lnTo>
                      <a:pt x="19" y="37"/>
                    </a:lnTo>
                    <a:lnTo>
                      <a:pt x="22" y="45"/>
                    </a:lnTo>
                    <a:lnTo>
                      <a:pt x="28" y="64"/>
                    </a:lnTo>
                    <a:lnTo>
                      <a:pt x="34" y="85"/>
                    </a:lnTo>
                    <a:lnTo>
                      <a:pt x="39" y="109"/>
                    </a:lnTo>
                    <a:lnTo>
                      <a:pt x="44" y="13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1351080" y="2036880"/>
                <a:ext cx="71280" cy="655560"/>
              </a:xfrm>
              <a:custGeom>
                <a:avLst/>
                <a:gdLst/>
                <a:ahLst/>
                <a:rect l="l" t="t" r="r" b="b"/>
                <a:pathLst>
                  <a:path w="45" h="413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29"/>
                    </a:lnTo>
                    <a:lnTo>
                      <a:pt x="5" y="41"/>
                    </a:lnTo>
                    <a:lnTo>
                      <a:pt x="8" y="67"/>
                    </a:lnTo>
                    <a:lnTo>
                      <a:pt x="11" y="94"/>
                    </a:lnTo>
                    <a:lnTo>
                      <a:pt x="14" y="123"/>
                    </a:lnTo>
                    <a:lnTo>
                      <a:pt x="16" y="154"/>
                    </a:lnTo>
                    <a:lnTo>
                      <a:pt x="22" y="216"/>
                    </a:lnTo>
                    <a:lnTo>
                      <a:pt x="25" y="247"/>
                    </a:lnTo>
                    <a:lnTo>
                      <a:pt x="28" y="277"/>
                    </a:lnTo>
                    <a:lnTo>
                      <a:pt x="30" y="306"/>
                    </a:lnTo>
                    <a:lnTo>
                      <a:pt x="33" y="334"/>
                    </a:lnTo>
                    <a:lnTo>
                      <a:pt x="36" y="358"/>
                    </a:lnTo>
                    <a:lnTo>
                      <a:pt x="37" y="369"/>
                    </a:lnTo>
                    <a:lnTo>
                      <a:pt x="40" y="380"/>
                    </a:lnTo>
                    <a:lnTo>
                      <a:pt x="41" y="389"/>
                    </a:lnTo>
                    <a:lnTo>
                      <a:pt x="42" y="399"/>
                    </a:lnTo>
                    <a:lnTo>
                      <a:pt x="44" y="406"/>
                    </a:lnTo>
                    <a:lnTo>
                      <a:pt x="45" y="41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1422360" y="26575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2"/>
                    </a:moveTo>
                    <a:lnTo>
                      <a:pt x="1" y="26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8" y="27"/>
                    </a:lnTo>
                    <a:lnTo>
                      <a:pt x="11" y="25"/>
                    </a:lnTo>
                    <a:lnTo>
                      <a:pt x="15" y="23"/>
                    </a:lnTo>
                    <a:lnTo>
                      <a:pt x="22" y="17"/>
                    </a:lnTo>
                    <a:lnTo>
                      <a:pt x="29" y="9"/>
                    </a:lnTo>
                    <a:lnTo>
                      <a:pt x="36" y="3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492200" y="2658960"/>
                <a:ext cx="71640" cy="338400"/>
              </a:xfrm>
              <a:custGeom>
                <a:avLst/>
                <a:gdLst/>
                <a:ahLst/>
                <a:rect l="l" t="t" r="r" b="b"/>
                <a:pathLst>
                  <a:path w="45" h="213">
                    <a:moveTo>
                      <a:pt x="0" y="0"/>
                    </a:moveTo>
                    <a:lnTo>
                      <a:pt x="3" y="7"/>
                    </a:lnTo>
                    <a:lnTo>
                      <a:pt x="5" y="14"/>
                    </a:lnTo>
                    <a:lnTo>
                      <a:pt x="8" y="23"/>
                    </a:lnTo>
                    <a:lnTo>
                      <a:pt x="11" y="32"/>
                    </a:lnTo>
                    <a:lnTo>
                      <a:pt x="14" y="42"/>
                    </a:lnTo>
                    <a:lnTo>
                      <a:pt x="16" y="53"/>
                    </a:lnTo>
                    <a:lnTo>
                      <a:pt x="19" y="65"/>
                    </a:lnTo>
                    <a:lnTo>
                      <a:pt x="22" y="78"/>
                    </a:lnTo>
                    <a:lnTo>
                      <a:pt x="25" y="92"/>
                    </a:lnTo>
                    <a:lnTo>
                      <a:pt x="28" y="107"/>
                    </a:lnTo>
                    <a:lnTo>
                      <a:pt x="30" y="122"/>
                    </a:lnTo>
                    <a:lnTo>
                      <a:pt x="33" y="139"/>
                    </a:lnTo>
                    <a:lnTo>
                      <a:pt x="37" y="156"/>
                    </a:lnTo>
                    <a:lnTo>
                      <a:pt x="40" y="175"/>
                    </a:lnTo>
                    <a:lnTo>
                      <a:pt x="42" y="193"/>
                    </a:lnTo>
                    <a:lnTo>
                      <a:pt x="45" y="21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563840" y="2997360"/>
                <a:ext cx="71280" cy="71892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0"/>
                    </a:moveTo>
                    <a:lnTo>
                      <a:pt x="1" y="11"/>
                    </a:lnTo>
                    <a:lnTo>
                      <a:pt x="3" y="22"/>
                    </a:lnTo>
                    <a:lnTo>
                      <a:pt x="4" y="35"/>
                    </a:lnTo>
                    <a:lnTo>
                      <a:pt x="6" y="49"/>
                    </a:lnTo>
                    <a:lnTo>
                      <a:pt x="8" y="77"/>
                    </a:lnTo>
                    <a:lnTo>
                      <a:pt x="11" y="107"/>
                    </a:lnTo>
                    <a:lnTo>
                      <a:pt x="14" y="140"/>
                    </a:lnTo>
                    <a:lnTo>
                      <a:pt x="17" y="173"/>
                    </a:lnTo>
                    <a:lnTo>
                      <a:pt x="22" y="241"/>
                    </a:lnTo>
                    <a:lnTo>
                      <a:pt x="25" y="274"/>
                    </a:lnTo>
                    <a:lnTo>
                      <a:pt x="28" y="307"/>
                    </a:lnTo>
                    <a:lnTo>
                      <a:pt x="31" y="338"/>
                    </a:lnTo>
                    <a:lnTo>
                      <a:pt x="34" y="367"/>
                    </a:lnTo>
                    <a:lnTo>
                      <a:pt x="37" y="394"/>
                    </a:lnTo>
                    <a:lnTo>
                      <a:pt x="38" y="406"/>
                    </a:lnTo>
                    <a:lnTo>
                      <a:pt x="39" y="417"/>
                    </a:lnTo>
                    <a:lnTo>
                      <a:pt x="41" y="428"/>
                    </a:lnTo>
                    <a:lnTo>
                      <a:pt x="42" y="437"/>
                    </a:lnTo>
                    <a:lnTo>
                      <a:pt x="44" y="446"/>
                    </a:lnTo>
                    <a:lnTo>
                      <a:pt x="45" y="45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1635120" y="37018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2" y="12"/>
                    </a:lnTo>
                    <a:lnTo>
                      <a:pt x="30" y="8"/>
                    </a:lnTo>
                    <a:lnTo>
                      <a:pt x="37" y="4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706400" y="3701880"/>
                <a:ext cx="69840" cy="4320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29" y="7"/>
                    </a:lnTo>
                    <a:lnTo>
                      <a:pt x="36" y="11"/>
                    </a:lnTo>
                    <a:lnTo>
                      <a:pt x="41" y="19"/>
                    </a:lnTo>
                    <a:lnTo>
                      <a:pt x="44" y="2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1776240" y="3745080"/>
                <a:ext cx="71640" cy="688680"/>
              </a:xfrm>
              <a:custGeom>
                <a:avLst/>
                <a:gdLst/>
                <a:ahLst/>
                <a:rect l="l" t="t" r="r" b="b"/>
                <a:pathLst>
                  <a:path w="45" h="434">
                    <a:moveTo>
                      <a:pt x="0" y="0"/>
                    </a:moveTo>
                    <a:lnTo>
                      <a:pt x="1" y="8"/>
                    </a:lnTo>
                    <a:lnTo>
                      <a:pt x="3" y="17"/>
                    </a:lnTo>
                    <a:lnTo>
                      <a:pt x="4" y="26"/>
                    </a:lnTo>
                    <a:lnTo>
                      <a:pt x="5" y="37"/>
                    </a:lnTo>
                    <a:lnTo>
                      <a:pt x="7" y="49"/>
                    </a:lnTo>
                    <a:lnTo>
                      <a:pt x="8" y="62"/>
                    </a:lnTo>
                    <a:lnTo>
                      <a:pt x="10" y="76"/>
                    </a:lnTo>
                    <a:lnTo>
                      <a:pt x="11" y="90"/>
                    </a:lnTo>
                    <a:lnTo>
                      <a:pt x="14" y="120"/>
                    </a:lnTo>
                    <a:lnTo>
                      <a:pt x="16" y="152"/>
                    </a:lnTo>
                    <a:lnTo>
                      <a:pt x="19" y="186"/>
                    </a:lnTo>
                    <a:lnTo>
                      <a:pt x="22" y="219"/>
                    </a:lnTo>
                    <a:lnTo>
                      <a:pt x="26" y="254"/>
                    </a:lnTo>
                    <a:lnTo>
                      <a:pt x="29" y="286"/>
                    </a:lnTo>
                    <a:lnTo>
                      <a:pt x="31" y="317"/>
                    </a:lnTo>
                    <a:lnTo>
                      <a:pt x="34" y="348"/>
                    </a:lnTo>
                    <a:lnTo>
                      <a:pt x="35" y="361"/>
                    </a:lnTo>
                    <a:lnTo>
                      <a:pt x="37" y="374"/>
                    </a:lnTo>
                    <a:lnTo>
                      <a:pt x="38" y="387"/>
                    </a:lnTo>
                    <a:lnTo>
                      <a:pt x="40" y="398"/>
                    </a:lnTo>
                    <a:lnTo>
                      <a:pt x="41" y="408"/>
                    </a:lnTo>
                    <a:lnTo>
                      <a:pt x="42" y="419"/>
                    </a:lnTo>
                    <a:lnTo>
                      <a:pt x="44" y="427"/>
                    </a:lnTo>
                    <a:lnTo>
                      <a:pt x="45" y="43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847880" y="4405320"/>
                <a:ext cx="69840" cy="39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18"/>
                    </a:moveTo>
                    <a:lnTo>
                      <a:pt x="1" y="22"/>
                    </a:lnTo>
                    <a:lnTo>
                      <a:pt x="3" y="24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1" y="25"/>
                    </a:lnTo>
                    <a:lnTo>
                      <a:pt x="15" y="23"/>
                    </a:lnTo>
                    <a:lnTo>
                      <a:pt x="22" y="19"/>
                    </a:lnTo>
                    <a:lnTo>
                      <a:pt x="29" y="13"/>
                    </a:lnTo>
                    <a:lnTo>
                      <a:pt x="36" y="7"/>
                    </a:lnTo>
                    <a:lnTo>
                      <a:pt x="41" y="2"/>
                    </a:lnTo>
                    <a:lnTo>
                      <a:pt x="4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917720" y="434988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35"/>
                    </a:moveTo>
                    <a:lnTo>
                      <a:pt x="2" y="33"/>
                    </a:lnTo>
                    <a:lnTo>
                      <a:pt x="5" y="31"/>
                    </a:lnTo>
                    <a:lnTo>
                      <a:pt x="10" y="24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29" y="4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3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989000" y="4361040"/>
                <a:ext cx="71640" cy="325440"/>
              </a:xfrm>
              <a:custGeom>
                <a:avLst/>
                <a:gdLst/>
                <a:ahLst/>
                <a:rect l="l" t="t" r="r" b="b"/>
                <a:pathLst>
                  <a:path w="45" h="205">
                    <a:moveTo>
                      <a:pt x="0" y="0"/>
                    </a:moveTo>
                    <a:lnTo>
                      <a:pt x="3" y="7"/>
                    </a:lnTo>
                    <a:lnTo>
                      <a:pt x="6" y="16"/>
                    </a:lnTo>
                    <a:lnTo>
                      <a:pt x="8" y="28"/>
                    </a:lnTo>
                    <a:lnTo>
                      <a:pt x="11" y="41"/>
                    </a:lnTo>
                    <a:lnTo>
                      <a:pt x="14" y="55"/>
                    </a:lnTo>
                    <a:lnTo>
                      <a:pt x="17" y="71"/>
                    </a:lnTo>
                    <a:lnTo>
                      <a:pt x="22" y="103"/>
                    </a:lnTo>
                    <a:lnTo>
                      <a:pt x="28" y="136"/>
                    </a:lnTo>
                    <a:lnTo>
                      <a:pt x="31" y="151"/>
                    </a:lnTo>
                    <a:lnTo>
                      <a:pt x="34" y="165"/>
                    </a:lnTo>
                    <a:lnTo>
                      <a:pt x="37" y="178"/>
                    </a:lnTo>
                    <a:lnTo>
                      <a:pt x="39" y="189"/>
                    </a:lnTo>
                    <a:lnTo>
                      <a:pt x="42" y="199"/>
                    </a:lnTo>
                    <a:lnTo>
                      <a:pt x="45" y="20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2060640" y="4619520"/>
                <a:ext cx="7128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42"/>
                    </a:moveTo>
                    <a:lnTo>
                      <a:pt x="3" y="46"/>
                    </a:lnTo>
                    <a:lnTo>
                      <a:pt x="5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0" y="41"/>
                    </a:lnTo>
                    <a:lnTo>
                      <a:pt x="23" y="36"/>
                    </a:lnTo>
                    <a:lnTo>
                      <a:pt x="29" y="26"/>
                    </a:lnTo>
                    <a:lnTo>
                      <a:pt x="34" y="16"/>
                    </a:lnTo>
                    <a:lnTo>
                      <a:pt x="40" y="7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131920" y="454176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49"/>
                    </a:moveTo>
                    <a:lnTo>
                      <a:pt x="3" y="46"/>
                    </a:lnTo>
                    <a:lnTo>
                      <a:pt x="5" y="42"/>
                    </a:lnTo>
                    <a:lnTo>
                      <a:pt x="11" y="33"/>
                    </a:lnTo>
                    <a:lnTo>
                      <a:pt x="16" y="23"/>
                    </a:lnTo>
                    <a:lnTo>
                      <a:pt x="22" y="13"/>
                    </a:lnTo>
                    <a:lnTo>
                      <a:pt x="25" y="9"/>
                    </a:lnTo>
                    <a:lnTo>
                      <a:pt x="28" y="6"/>
                    </a:lnTo>
                    <a:lnTo>
                      <a:pt x="30" y="3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2201760" y="4552920"/>
                <a:ext cx="71640" cy="308160"/>
              </a:xfrm>
              <a:custGeom>
                <a:avLst/>
                <a:gdLst/>
                <a:ahLst/>
                <a:rect l="l" t="t" r="r" b="b"/>
                <a:pathLst>
                  <a:path w="45" h="194">
                    <a:moveTo>
                      <a:pt x="0" y="0"/>
                    </a:moveTo>
                    <a:lnTo>
                      <a:pt x="3" y="6"/>
                    </a:lnTo>
                    <a:lnTo>
                      <a:pt x="5" y="14"/>
                    </a:lnTo>
                    <a:lnTo>
                      <a:pt x="8" y="25"/>
                    </a:lnTo>
                    <a:lnTo>
                      <a:pt x="12" y="37"/>
                    </a:lnTo>
                    <a:lnTo>
                      <a:pt x="15" y="50"/>
                    </a:lnTo>
                    <a:lnTo>
                      <a:pt x="17" y="65"/>
                    </a:lnTo>
                    <a:lnTo>
                      <a:pt x="23" y="97"/>
                    </a:lnTo>
                    <a:lnTo>
                      <a:pt x="29" y="127"/>
                    </a:lnTo>
                    <a:lnTo>
                      <a:pt x="31" y="142"/>
                    </a:lnTo>
                    <a:lnTo>
                      <a:pt x="34" y="157"/>
                    </a:lnTo>
                    <a:lnTo>
                      <a:pt x="37" y="169"/>
                    </a:lnTo>
                    <a:lnTo>
                      <a:pt x="40" y="179"/>
                    </a:lnTo>
                    <a:lnTo>
                      <a:pt x="42" y="188"/>
                    </a:lnTo>
                    <a:lnTo>
                      <a:pt x="45" y="19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2273400" y="480204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37"/>
                    </a:moveTo>
                    <a:lnTo>
                      <a:pt x="3" y="41"/>
                    </a:lnTo>
                    <a:lnTo>
                      <a:pt x="5" y="43"/>
                    </a:lnTo>
                    <a:lnTo>
                      <a:pt x="8" y="44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6" y="39"/>
                    </a:lnTo>
                    <a:lnTo>
                      <a:pt x="19" y="36"/>
                    </a:lnTo>
                    <a:lnTo>
                      <a:pt x="22" y="32"/>
                    </a:lnTo>
                    <a:lnTo>
                      <a:pt x="28" y="24"/>
                    </a:lnTo>
                    <a:lnTo>
                      <a:pt x="33" y="14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2343240" y="4738680"/>
                <a:ext cx="71280" cy="6336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40"/>
                    </a:moveTo>
                    <a:lnTo>
                      <a:pt x="5" y="33"/>
                    </a:lnTo>
                    <a:lnTo>
                      <a:pt x="12" y="27"/>
                    </a:lnTo>
                    <a:lnTo>
                      <a:pt x="17" y="20"/>
                    </a:lnTo>
                    <a:lnTo>
                      <a:pt x="23" y="13"/>
                    </a:lnTo>
                    <a:lnTo>
                      <a:pt x="28" y="7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2414520" y="4740120"/>
                <a:ext cx="71640" cy="131760"/>
              </a:xfrm>
              <a:custGeom>
                <a:avLst/>
                <a:gdLst/>
                <a:ahLst/>
                <a:rect l="l" t="t" r="r" b="b"/>
                <a:pathLst>
                  <a:path w="45" h="83">
                    <a:moveTo>
                      <a:pt x="0" y="0"/>
                    </a:moveTo>
                    <a:lnTo>
                      <a:pt x="3" y="2"/>
                    </a:lnTo>
                    <a:lnTo>
                      <a:pt x="6" y="5"/>
                    </a:lnTo>
                    <a:lnTo>
                      <a:pt x="8" y="10"/>
                    </a:lnTo>
                    <a:lnTo>
                      <a:pt x="11" y="15"/>
                    </a:lnTo>
                    <a:lnTo>
                      <a:pt x="17" y="28"/>
                    </a:lnTo>
                    <a:lnTo>
                      <a:pt x="22" y="43"/>
                    </a:lnTo>
                    <a:lnTo>
                      <a:pt x="28" y="57"/>
                    </a:lnTo>
                    <a:lnTo>
                      <a:pt x="31" y="63"/>
                    </a:lnTo>
                    <a:lnTo>
                      <a:pt x="34" y="69"/>
                    </a:lnTo>
                    <a:lnTo>
                      <a:pt x="37" y="74"/>
                    </a:lnTo>
                    <a:lnTo>
                      <a:pt x="39" y="78"/>
                    </a:lnTo>
                    <a:lnTo>
                      <a:pt x="42" y="81"/>
                    </a:lnTo>
                    <a:lnTo>
                      <a:pt x="45" y="8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2486160" y="478944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52"/>
                    </a:moveTo>
                    <a:lnTo>
                      <a:pt x="4" y="52"/>
                    </a:lnTo>
                    <a:lnTo>
                      <a:pt x="7" y="52"/>
                    </a:lnTo>
                    <a:lnTo>
                      <a:pt x="9" y="51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23" y="34"/>
                    </a:lnTo>
                    <a:lnTo>
                      <a:pt x="29" y="25"/>
                    </a:lnTo>
                    <a:lnTo>
                      <a:pt x="34" y="16"/>
                    </a:lnTo>
                    <a:lnTo>
                      <a:pt x="40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557440" y="471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5"/>
                    </a:moveTo>
                    <a:lnTo>
                      <a:pt x="5" y="38"/>
                    </a:lnTo>
                    <a:lnTo>
                      <a:pt x="11" y="30"/>
                    </a:lnTo>
                    <a:lnTo>
                      <a:pt x="16" y="21"/>
                    </a:lnTo>
                    <a:lnTo>
                      <a:pt x="22" y="13"/>
                    </a:lnTo>
                    <a:lnTo>
                      <a:pt x="28" y="6"/>
                    </a:lnTo>
                    <a:lnTo>
                      <a:pt x="30" y="3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2629080" y="4721400"/>
                <a:ext cx="69840" cy="187200"/>
              </a:xfrm>
              <a:custGeom>
                <a:avLst/>
                <a:gdLst/>
                <a:ahLst/>
                <a:rect l="l" t="t" r="r" b="b"/>
                <a:pathLst>
                  <a:path w="44" h="118">
                    <a:moveTo>
                      <a:pt x="0" y="0"/>
                    </a:moveTo>
                    <a:lnTo>
                      <a:pt x="3" y="3"/>
                    </a:lnTo>
                    <a:lnTo>
                      <a:pt x="5" y="8"/>
                    </a:lnTo>
                    <a:lnTo>
                      <a:pt x="8" y="14"/>
                    </a:lnTo>
                    <a:lnTo>
                      <a:pt x="11" y="22"/>
                    </a:lnTo>
                    <a:lnTo>
                      <a:pt x="14" y="30"/>
                    </a:lnTo>
                    <a:lnTo>
                      <a:pt x="16" y="39"/>
                    </a:lnTo>
                    <a:lnTo>
                      <a:pt x="22" y="59"/>
                    </a:lnTo>
                    <a:lnTo>
                      <a:pt x="28" y="79"/>
                    </a:lnTo>
                    <a:lnTo>
                      <a:pt x="30" y="88"/>
                    </a:lnTo>
                    <a:lnTo>
                      <a:pt x="33" y="96"/>
                    </a:lnTo>
                    <a:lnTo>
                      <a:pt x="36" y="103"/>
                    </a:lnTo>
                    <a:lnTo>
                      <a:pt x="39" y="110"/>
                    </a:lnTo>
                    <a:lnTo>
                      <a:pt x="41" y="115"/>
                    </a:lnTo>
                    <a:lnTo>
                      <a:pt x="44" y="11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2698920" y="4844880"/>
                <a:ext cx="71280" cy="684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0" y="40"/>
                    </a:moveTo>
                    <a:lnTo>
                      <a:pt x="3" y="42"/>
                    </a:lnTo>
                    <a:lnTo>
                      <a:pt x="5" y="43"/>
                    </a:lnTo>
                    <a:lnTo>
                      <a:pt x="8" y="42"/>
                    </a:lnTo>
                    <a:lnTo>
                      <a:pt x="11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22" y="30"/>
                    </a:lnTo>
                    <a:lnTo>
                      <a:pt x="28" y="22"/>
                    </a:lnTo>
                    <a:lnTo>
                      <a:pt x="33" y="14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770200" y="4776840"/>
                <a:ext cx="69840" cy="680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43"/>
                    </a:moveTo>
                    <a:lnTo>
                      <a:pt x="5" y="37"/>
                    </a:lnTo>
                    <a:lnTo>
                      <a:pt x="11" y="30"/>
                    </a:lnTo>
                    <a:lnTo>
                      <a:pt x="16" y="23"/>
                    </a:lnTo>
                    <a:lnTo>
                      <a:pt x="22" y="16"/>
                    </a:lnTo>
                    <a:lnTo>
                      <a:pt x="27" y="8"/>
                    </a:lnTo>
                    <a:lnTo>
                      <a:pt x="33" y="3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840040" y="477828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46" h="73">
                    <a:moveTo>
                      <a:pt x="0" y="0"/>
                    </a:moveTo>
                    <a:lnTo>
                      <a:pt x="3" y="2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11" y="14"/>
                    </a:lnTo>
                    <a:lnTo>
                      <a:pt x="17" y="25"/>
                    </a:lnTo>
                    <a:lnTo>
                      <a:pt x="22" y="38"/>
                    </a:lnTo>
                    <a:lnTo>
                      <a:pt x="28" y="50"/>
                    </a:lnTo>
                    <a:lnTo>
                      <a:pt x="35" y="61"/>
                    </a:lnTo>
                    <a:lnTo>
                      <a:pt x="38" y="66"/>
                    </a:lnTo>
                    <a:lnTo>
                      <a:pt x="40" y="69"/>
                    </a:lnTo>
                    <a:lnTo>
                      <a:pt x="43" y="72"/>
                    </a:lnTo>
                    <a:lnTo>
                      <a:pt x="46" y="7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913120" y="480708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55"/>
                    </a:moveTo>
                    <a:lnTo>
                      <a:pt x="3" y="55"/>
                    </a:lnTo>
                    <a:lnTo>
                      <a:pt x="6" y="54"/>
                    </a:lnTo>
                    <a:lnTo>
                      <a:pt x="8" y="52"/>
                    </a:lnTo>
                    <a:lnTo>
                      <a:pt x="11" y="50"/>
                    </a:lnTo>
                    <a:lnTo>
                      <a:pt x="17" y="43"/>
                    </a:lnTo>
                    <a:lnTo>
                      <a:pt x="22" y="34"/>
                    </a:lnTo>
                    <a:lnTo>
                      <a:pt x="28" y="25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982960" y="4748040"/>
                <a:ext cx="7128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5" y="31"/>
                    </a:lnTo>
                    <a:lnTo>
                      <a:pt x="11" y="23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9" y="5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054240" y="4751280"/>
                <a:ext cx="69840" cy="146160"/>
              </a:xfrm>
              <a:custGeom>
                <a:avLst/>
                <a:gdLst/>
                <a:ahLst/>
                <a:rect l="l" t="t" r="r" b="b"/>
                <a:pathLst>
                  <a:path w="44" h="92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  <a:lnTo>
                      <a:pt x="8" y="11"/>
                    </a:lnTo>
                    <a:lnTo>
                      <a:pt x="11" y="17"/>
                    </a:lnTo>
                    <a:lnTo>
                      <a:pt x="16" y="32"/>
                    </a:lnTo>
                    <a:lnTo>
                      <a:pt x="22" y="47"/>
                    </a:lnTo>
                    <a:lnTo>
                      <a:pt x="28" y="62"/>
                    </a:lnTo>
                    <a:lnTo>
                      <a:pt x="30" y="69"/>
                    </a:lnTo>
                    <a:lnTo>
                      <a:pt x="33" y="76"/>
                    </a:lnTo>
                    <a:lnTo>
                      <a:pt x="36" y="82"/>
                    </a:lnTo>
                    <a:lnTo>
                      <a:pt x="39" y="86"/>
                    </a:lnTo>
                    <a:lnTo>
                      <a:pt x="41" y="90"/>
                    </a:lnTo>
                    <a:lnTo>
                      <a:pt x="44" y="9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3124080" y="48276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4"/>
                    </a:move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1" y="43"/>
                    </a:lnTo>
                    <a:lnTo>
                      <a:pt x="16" y="38"/>
                    </a:lnTo>
                    <a:lnTo>
                      <a:pt x="22" y="31"/>
                    </a:lnTo>
                    <a:lnTo>
                      <a:pt x="28" y="23"/>
                    </a:lnTo>
                    <a:lnTo>
                      <a:pt x="34" y="15"/>
                    </a:lnTo>
                    <a:lnTo>
                      <a:pt x="39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3195720" y="474660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45" h="51">
                    <a:moveTo>
                      <a:pt x="0" y="51"/>
                    </a:moveTo>
                    <a:lnTo>
                      <a:pt x="6" y="44"/>
                    </a:lnTo>
                    <a:lnTo>
                      <a:pt x="11" y="35"/>
                    </a:lnTo>
                    <a:lnTo>
                      <a:pt x="17" y="25"/>
                    </a:lnTo>
                    <a:lnTo>
                      <a:pt x="22" y="16"/>
                    </a:lnTo>
                    <a:lnTo>
                      <a:pt x="28" y="8"/>
                    </a:lnTo>
                    <a:lnTo>
                      <a:pt x="31" y="5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3267000" y="4748040"/>
                <a:ext cx="71640" cy="17172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0" y="0"/>
                    </a:moveTo>
                    <a:lnTo>
                      <a:pt x="3" y="3"/>
                    </a:lnTo>
                    <a:lnTo>
                      <a:pt x="6" y="7"/>
                    </a:lnTo>
                    <a:lnTo>
                      <a:pt x="8" y="13"/>
                    </a:lnTo>
                    <a:lnTo>
                      <a:pt x="11" y="19"/>
                    </a:lnTo>
                    <a:lnTo>
                      <a:pt x="14" y="27"/>
                    </a:lnTo>
                    <a:lnTo>
                      <a:pt x="18" y="36"/>
                    </a:lnTo>
                    <a:lnTo>
                      <a:pt x="23" y="54"/>
                    </a:lnTo>
                    <a:lnTo>
                      <a:pt x="29" y="72"/>
                    </a:lnTo>
                    <a:lnTo>
                      <a:pt x="31" y="81"/>
                    </a:lnTo>
                    <a:lnTo>
                      <a:pt x="34" y="88"/>
                    </a:lnTo>
                    <a:lnTo>
                      <a:pt x="37" y="95"/>
                    </a:lnTo>
                    <a:lnTo>
                      <a:pt x="40" y="101"/>
                    </a:lnTo>
                    <a:lnTo>
                      <a:pt x="42" y="105"/>
                    </a:lnTo>
                    <a:lnTo>
                      <a:pt x="45" y="10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3338640" y="4846680"/>
                <a:ext cx="6984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6"/>
                    </a:moveTo>
                    <a:lnTo>
                      <a:pt x="3" y="47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1" y="45"/>
                    </a:lnTo>
                    <a:lnTo>
                      <a:pt x="16" y="40"/>
                    </a:lnTo>
                    <a:lnTo>
                      <a:pt x="22" y="33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3408480" y="476712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50"/>
                    </a:moveTo>
                    <a:lnTo>
                      <a:pt x="5" y="43"/>
                    </a:lnTo>
                    <a:lnTo>
                      <a:pt x="11" y="35"/>
                    </a:lnTo>
                    <a:lnTo>
                      <a:pt x="17" y="26"/>
                    </a:lnTo>
                    <a:lnTo>
                      <a:pt x="23" y="16"/>
                    </a:lnTo>
                    <a:lnTo>
                      <a:pt x="29" y="9"/>
                    </a:lnTo>
                    <a:lnTo>
                      <a:pt x="34" y="3"/>
                    </a:lnTo>
                    <a:lnTo>
                      <a:pt x="37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3479760" y="4768920"/>
                <a:ext cx="69840" cy="149040"/>
              </a:xfrm>
              <a:custGeom>
                <a:avLst/>
                <a:gdLst/>
                <a:ahLst/>
                <a:rect l="l" t="t" r="r" b="b"/>
                <a:pathLst>
                  <a:path w="44" h="94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1"/>
                    </a:lnTo>
                    <a:lnTo>
                      <a:pt x="11" y="18"/>
                    </a:lnTo>
                    <a:lnTo>
                      <a:pt x="14" y="24"/>
                    </a:lnTo>
                    <a:lnTo>
                      <a:pt x="16" y="32"/>
                    </a:lnTo>
                    <a:lnTo>
                      <a:pt x="22" y="48"/>
                    </a:lnTo>
                    <a:lnTo>
                      <a:pt x="28" y="63"/>
                    </a:lnTo>
                    <a:lnTo>
                      <a:pt x="30" y="71"/>
                    </a:lnTo>
                    <a:lnTo>
                      <a:pt x="33" y="78"/>
                    </a:lnTo>
                    <a:lnTo>
                      <a:pt x="36" y="83"/>
                    </a:lnTo>
                    <a:lnTo>
                      <a:pt x="39" y="88"/>
                    </a:lnTo>
                    <a:lnTo>
                      <a:pt x="41" y="92"/>
                    </a:lnTo>
                    <a:lnTo>
                      <a:pt x="44" y="9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3549600" y="483696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51"/>
                    </a:moveTo>
                    <a:lnTo>
                      <a:pt x="3" y="52"/>
                    </a:lnTo>
                    <a:lnTo>
                      <a:pt x="5" y="52"/>
                    </a:lnTo>
                    <a:lnTo>
                      <a:pt x="8" y="50"/>
                    </a:lnTo>
                    <a:lnTo>
                      <a:pt x="12" y="48"/>
                    </a:lnTo>
                    <a:lnTo>
                      <a:pt x="17" y="42"/>
                    </a:lnTo>
                    <a:lnTo>
                      <a:pt x="23" y="35"/>
                    </a:lnTo>
                    <a:lnTo>
                      <a:pt x="28" y="26"/>
                    </a:lnTo>
                    <a:lnTo>
                      <a:pt x="34" y="16"/>
                    </a:lnTo>
                    <a:lnTo>
                      <a:pt x="39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3621240" y="4751280"/>
                <a:ext cx="71280" cy="85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54"/>
                    </a:moveTo>
                    <a:lnTo>
                      <a:pt x="6" y="46"/>
                    </a:lnTo>
                    <a:lnTo>
                      <a:pt x="11" y="37"/>
                    </a:lnTo>
                    <a:lnTo>
                      <a:pt x="17" y="26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3692520" y="4753080"/>
                <a:ext cx="71280" cy="17928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0" y="0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9" y="13"/>
                    </a:lnTo>
                    <a:lnTo>
                      <a:pt x="12" y="20"/>
                    </a:lnTo>
                    <a:lnTo>
                      <a:pt x="15" y="29"/>
                    </a:lnTo>
                    <a:lnTo>
                      <a:pt x="18" y="38"/>
                    </a:lnTo>
                    <a:lnTo>
                      <a:pt x="23" y="56"/>
                    </a:lnTo>
                    <a:lnTo>
                      <a:pt x="29" y="75"/>
                    </a:lnTo>
                    <a:lnTo>
                      <a:pt x="31" y="83"/>
                    </a:lnTo>
                    <a:lnTo>
                      <a:pt x="34" y="91"/>
                    </a:lnTo>
                    <a:lnTo>
                      <a:pt x="37" y="99"/>
                    </a:lnTo>
                    <a:lnTo>
                      <a:pt x="40" y="105"/>
                    </a:lnTo>
                    <a:lnTo>
                      <a:pt x="42" y="109"/>
                    </a:lnTo>
                    <a:lnTo>
                      <a:pt x="45" y="11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3763800" y="4857840"/>
                <a:ext cx="7164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47"/>
                    </a:moveTo>
                    <a:lnTo>
                      <a:pt x="3" y="48"/>
                    </a:lnTo>
                    <a:lnTo>
                      <a:pt x="5" y="49"/>
                    </a:lnTo>
                    <a:lnTo>
                      <a:pt x="8" y="48"/>
                    </a:lnTo>
                    <a:lnTo>
                      <a:pt x="11" y="47"/>
                    </a:lnTo>
                    <a:lnTo>
                      <a:pt x="14" y="43"/>
                    </a:lnTo>
                    <a:lnTo>
                      <a:pt x="16" y="40"/>
                    </a:lnTo>
                    <a:lnTo>
                      <a:pt x="22" y="33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3835440" y="4781520"/>
                <a:ext cx="6984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8"/>
                    </a:moveTo>
                    <a:lnTo>
                      <a:pt x="5" y="41"/>
                    </a:lnTo>
                    <a:lnTo>
                      <a:pt x="11" y="33"/>
                    </a:lnTo>
                    <a:lnTo>
                      <a:pt x="16" y="25"/>
                    </a:lnTo>
                    <a:lnTo>
                      <a:pt x="22" y="17"/>
                    </a:lnTo>
                    <a:lnTo>
                      <a:pt x="28" y="10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3905280" y="4782960"/>
                <a:ext cx="7128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0" y="0"/>
                    </a:moveTo>
                    <a:lnTo>
                      <a:pt x="3" y="2"/>
                    </a:lnTo>
                    <a:lnTo>
                      <a:pt x="5" y="5"/>
                    </a:lnTo>
                    <a:lnTo>
                      <a:pt x="8" y="11"/>
                    </a:lnTo>
                    <a:lnTo>
                      <a:pt x="11" y="16"/>
                    </a:lnTo>
                    <a:lnTo>
                      <a:pt x="14" y="23"/>
                    </a:lnTo>
                    <a:lnTo>
                      <a:pt x="16" y="30"/>
                    </a:lnTo>
                    <a:lnTo>
                      <a:pt x="22" y="44"/>
                    </a:lnTo>
                    <a:lnTo>
                      <a:pt x="28" y="59"/>
                    </a:lnTo>
                    <a:lnTo>
                      <a:pt x="30" y="66"/>
                    </a:lnTo>
                    <a:lnTo>
                      <a:pt x="33" y="72"/>
                    </a:lnTo>
                    <a:lnTo>
                      <a:pt x="36" y="78"/>
                    </a:lnTo>
                    <a:lnTo>
                      <a:pt x="40" y="82"/>
                    </a:lnTo>
                    <a:lnTo>
                      <a:pt x="42" y="85"/>
                    </a:lnTo>
                    <a:lnTo>
                      <a:pt x="45" y="87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3976560" y="48387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0" y="52"/>
                    </a:moveTo>
                    <a:lnTo>
                      <a:pt x="3" y="53"/>
                    </a:lnTo>
                    <a:lnTo>
                      <a:pt x="5" y="52"/>
                    </a:lnTo>
                    <a:lnTo>
                      <a:pt x="8" y="51"/>
                    </a:lnTo>
                    <a:lnTo>
                      <a:pt x="11" y="49"/>
                    </a:lnTo>
                    <a:lnTo>
                      <a:pt x="16" y="43"/>
                    </a:lnTo>
                    <a:lnTo>
                      <a:pt x="22" y="35"/>
                    </a:lnTo>
                    <a:lnTo>
                      <a:pt x="27" y="26"/>
                    </a:lnTo>
                    <a:lnTo>
                      <a:pt x="33" y="16"/>
                    </a:lnTo>
                    <a:lnTo>
                      <a:pt x="38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046400" y="475128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55"/>
                    </a:moveTo>
                    <a:lnTo>
                      <a:pt x="6" y="47"/>
                    </a:lnTo>
                    <a:lnTo>
                      <a:pt x="11" y="38"/>
                    </a:lnTo>
                    <a:lnTo>
                      <a:pt x="17" y="27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9480" y="4753080"/>
                <a:ext cx="69840" cy="182520"/>
              </a:xfrm>
              <a:custGeom>
                <a:avLst/>
                <a:gdLst/>
                <a:ahLst/>
                <a:rect l="l" t="t" r="r" b="b"/>
                <a:pathLst>
                  <a:path w="44" h="115">
                    <a:moveTo>
                      <a:pt x="0" y="0"/>
                    </a:moveTo>
                    <a:lnTo>
                      <a:pt x="3" y="3"/>
                    </a:lnTo>
                    <a:lnTo>
                      <a:pt x="6" y="7"/>
                    </a:lnTo>
                    <a:lnTo>
                      <a:pt x="8" y="13"/>
                    </a:lnTo>
                    <a:lnTo>
                      <a:pt x="11" y="20"/>
                    </a:lnTo>
                    <a:lnTo>
                      <a:pt x="14" y="29"/>
                    </a:lnTo>
                    <a:lnTo>
                      <a:pt x="17" y="38"/>
                    </a:lnTo>
                    <a:lnTo>
                      <a:pt x="22" y="57"/>
                    </a:lnTo>
                    <a:lnTo>
                      <a:pt x="28" y="76"/>
                    </a:lnTo>
                    <a:lnTo>
                      <a:pt x="30" y="85"/>
                    </a:lnTo>
                    <a:lnTo>
                      <a:pt x="33" y="93"/>
                    </a:lnTo>
                    <a:lnTo>
                      <a:pt x="36" y="100"/>
                    </a:lnTo>
                    <a:lnTo>
                      <a:pt x="39" y="106"/>
                    </a:lnTo>
                    <a:lnTo>
                      <a:pt x="41" y="112"/>
                    </a:lnTo>
                    <a:lnTo>
                      <a:pt x="44" y="11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189320" y="486252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46"/>
                    </a:moveTo>
                    <a:lnTo>
                      <a:pt x="3" y="48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1" y="46"/>
                    </a:lnTo>
                    <a:lnTo>
                      <a:pt x="14" y="44"/>
                    </a:lnTo>
                    <a:lnTo>
                      <a:pt x="16" y="40"/>
                    </a:lnTo>
                    <a:lnTo>
                      <a:pt x="22" y="32"/>
                    </a:lnTo>
                    <a:lnTo>
                      <a:pt x="28" y="24"/>
                    </a:lnTo>
                    <a:lnTo>
                      <a:pt x="34" y="15"/>
                    </a:lnTo>
                    <a:lnTo>
                      <a:pt x="40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260960" y="4786200"/>
                <a:ext cx="6984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8"/>
                    </a:moveTo>
                    <a:lnTo>
                      <a:pt x="5" y="41"/>
                    </a:lnTo>
                    <a:lnTo>
                      <a:pt x="11" y="34"/>
                    </a:lnTo>
                    <a:lnTo>
                      <a:pt x="16" y="25"/>
                    </a:lnTo>
                    <a:lnTo>
                      <a:pt x="22" y="17"/>
                    </a:lnTo>
                    <a:lnTo>
                      <a:pt x="28" y="10"/>
                    </a:lnTo>
                    <a:lnTo>
                      <a:pt x="33" y="4"/>
                    </a:lnTo>
                    <a:lnTo>
                      <a:pt x="36" y="2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4330800" y="4788000"/>
                <a:ext cx="71280" cy="12996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1" y="15"/>
                    </a:lnTo>
                    <a:lnTo>
                      <a:pt x="14" y="21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9" y="56"/>
                    </a:lnTo>
                    <a:lnTo>
                      <a:pt x="31" y="62"/>
                    </a:lnTo>
                    <a:lnTo>
                      <a:pt x="34" y="68"/>
                    </a:lnTo>
                    <a:lnTo>
                      <a:pt x="37" y="73"/>
                    </a:lnTo>
                    <a:lnTo>
                      <a:pt x="40" y="77"/>
                    </a:lnTo>
                    <a:lnTo>
                      <a:pt x="42" y="80"/>
                    </a:lnTo>
                    <a:lnTo>
                      <a:pt x="45" y="8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4402080" y="4834080"/>
                <a:ext cx="69840" cy="8388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0" y="53"/>
                    </a:moveTo>
                    <a:lnTo>
                      <a:pt x="3" y="53"/>
                    </a:lnTo>
                    <a:lnTo>
                      <a:pt x="5" y="53"/>
                    </a:lnTo>
                    <a:lnTo>
                      <a:pt x="8" y="51"/>
                    </a:lnTo>
                    <a:lnTo>
                      <a:pt x="11" y="49"/>
                    </a:lnTo>
                    <a:lnTo>
                      <a:pt x="16" y="43"/>
                    </a:lnTo>
                    <a:lnTo>
                      <a:pt x="22" y="35"/>
                    </a:lnTo>
                    <a:lnTo>
                      <a:pt x="27" y="26"/>
                    </a:lnTo>
                    <a:lnTo>
                      <a:pt x="33" y="16"/>
                    </a:lnTo>
                    <a:lnTo>
                      <a:pt x="38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4471920" y="474336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57"/>
                    </a:moveTo>
                    <a:lnTo>
                      <a:pt x="6" y="49"/>
                    </a:lnTo>
                    <a:lnTo>
                      <a:pt x="11" y="40"/>
                    </a:lnTo>
                    <a:lnTo>
                      <a:pt x="17" y="28"/>
                    </a:lnTo>
                    <a:lnTo>
                      <a:pt x="23" y="18"/>
                    </a:lnTo>
                    <a:lnTo>
                      <a:pt x="29" y="10"/>
                    </a:lnTo>
                    <a:lnTo>
                      <a:pt x="32" y="6"/>
                    </a:lnTo>
                    <a:lnTo>
                      <a:pt x="35" y="3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3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4545000" y="4746600"/>
                <a:ext cx="69840" cy="193680"/>
              </a:xfrm>
              <a:custGeom>
                <a:avLst/>
                <a:gdLst/>
                <a:ahLst/>
                <a:rect l="l" t="t" r="r" b="b"/>
                <a:pathLst>
                  <a:path w="44" h="122">
                    <a:moveTo>
                      <a:pt x="0" y="0"/>
                    </a:moveTo>
                    <a:lnTo>
                      <a:pt x="3" y="3"/>
                    </a:lnTo>
                    <a:lnTo>
                      <a:pt x="6" y="8"/>
                    </a:lnTo>
                    <a:lnTo>
                      <a:pt x="8" y="14"/>
                    </a:lnTo>
                    <a:lnTo>
                      <a:pt x="11" y="22"/>
                    </a:lnTo>
                    <a:lnTo>
                      <a:pt x="14" y="30"/>
                    </a:lnTo>
                    <a:lnTo>
                      <a:pt x="17" y="40"/>
                    </a:lnTo>
                    <a:lnTo>
                      <a:pt x="22" y="60"/>
                    </a:lnTo>
                    <a:lnTo>
                      <a:pt x="28" y="80"/>
                    </a:lnTo>
                    <a:lnTo>
                      <a:pt x="30" y="90"/>
                    </a:lnTo>
                    <a:lnTo>
                      <a:pt x="33" y="98"/>
                    </a:lnTo>
                    <a:lnTo>
                      <a:pt x="36" y="106"/>
                    </a:lnTo>
                    <a:lnTo>
                      <a:pt x="39" y="113"/>
                    </a:lnTo>
                    <a:lnTo>
                      <a:pt x="41" y="119"/>
                    </a:lnTo>
                    <a:lnTo>
                      <a:pt x="44" y="12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4614840" y="48704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44"/>
                    </a:moveTo>
                    <a:lnTo>
                      <a:pt x="3" y="46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11" y="45"/>
                    </a:lnTo>
                    <a:lnTo>
                      <a:pt x="14" y="43"/>
                    </a:lnTo>
                    <a:lnTo>
                      <a:pt x="17" y="40"/>
                    </a:lnTo>
                    <a:lnTo>
                      <a:pt x="23" y="32"/>
                    </a:lnTo>
                    <a:lnTo>
                      <a:pt x="29" y="23"/>
                    </a:lnTo>
                    <a:lnTo>
                      <a:pt x="34" y="15"/>
                    </a:lnTo>
                    <a:lnTo>
                      <a:pt x="40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4686480" y="479916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45"/>
                    </a:moveTo>
                    <a:lnTo>
                      <a:pt x="5" y="39"/>
                    </a:lnTo>
                    <a:lnTo>
                      <a:pt x="11" y="31"/>
                    </a:lnTo>
                    <a:lnTo>
                      <a:pt x="16" y="23"/>
                    </a:lnTo>
                    <a:lnTo>
                      <a:pt x="22" y="15"/>
                    </a:lnTo>
                    <a:lnTo>
                      <a:pt x="28" y="8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4756320" y="479916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45" h="74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7" y="25"/>
                    </a:lnTo>
                    <a:lnTo>
                      <a:pt x="23" y="38"/>
                    </a:lnTo>
                    <a:lnTo>
                      <a:pt x="28" y="51"/>
                    </a:lnTo>
                    <a:lnTo>
                      <a:pt x="31" y="56"/>
                    </a:lnTo>
                    <a:lnTo>
                      <a:pt x="34" y="62"/>
                    </a:lnTo>
                    <a:lnTo>
                      <a:pt x="37" y="66"/>
                    </a:lnTo>
                    <a:lnTo>
                      <a:pt x="39" y="70"/>
                    </a:lnTo>
                    <a:lnTo>
                      <a:pt x="42" y="73"/>
                    </a:lnTo>
                    <a:lnTo>
                      <a:pt x="45" y="74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4827600" y="482760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45" h="56">
                    <a:moveTo>
                      <a:pt x="0" y="56"/>
                    </a:moveTo>
                    <a:lnTo>
                      <a:pt x="3" y="56"/>
                    </a:lnTo>
                    <a:lnTo>
                      <a:pt x="6" y="55"/>
                    </a:lnTo>
                    <a:lnTo>
                      <a:pt x="8" y="53"/>
                    </a:lnTo>
                    <a:lnTo>
                      <a:pt x="11" y="51"/>
                    </a:lnTo>
                    <a:lnTo>
                      <a:pt x="17" y="44"/>
                    </a:lnTo>
                    <a:lnTo>
                      <a:pt x="22" y="35"/>
                    </a:lnTo>
                    <a:lnTo>
                      <a:pt x="28" y="26"/>
                    </a:lnTo>
                    <a:lnTo>
                      <a:pt x="34" y="16"/>
                    </a:lnTo>
                    <a:lnTo>
                      <a:pt x="39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4898880" y="475452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46"/>
                    </a:moveTo>
                    <a:lnTo>
                      <a:pt x="7" y="39"/>
                    </a:lnTo>
                    <a:lnTo>
                      <a:pt x="12" y="31"/>
                    </a:lnTo>
                    <a:lnTo>
                      <a:pt x="18" y="22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4970520" y="4757760"/>
                <a:ext cx="69840" cy="163440"/>
              </a:xfrm>
              <a:custGeom>
                <a:avLst/>
                <a:gdLst/>
                <a:ahLst/>
                <a:rect l="l" t="t" r="r" b="b"/>
                <a:pathLst>
                  <a:path w="44" h="103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8" y="12"/>
                    </a:lnTo>
                    <a:lnTo>
                      <a:pt x="11" y="19"/>
                    </a:lnTo>
                    <a:lnTo>
                      <a:pt x="14" y="27"/>
                    </a:lnTo>
                    <a:lnTo>
                      <a:pt x="16" y="35"/>
                    </a:lnTo>
                    <a:lnTo>
                      <a:pt x="22" y="52"/>
                    </a:lnTo>
                    <a:lnTo>
                      <a:pt x="28" y="69"/>
                    </a:lnTo>
                    <a:lnTo>
                      <a:pt x="30" y="77"/>
                    </a:lnTo>
                    <a:lnTo>
                      <a:pt x="33" y="84"/>
                    </a:lnTo>
                    <a:lnTo>
                      <a:pt x="36" y="91"/>
                    </a:lnTo>
                    <a:lnTo>
                      <a:pt x="39" y="96"/>
                    </a:lnTo>
                    <a:lnTo>
                      <a:pt x="41" y="100"/>
                    </a:lnTo>
                    <a:lnTo>
                      <a:pt x="44" y="10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040360" y="485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4"/>
                    </a:moveTo>
                    <a:lnTo>
                      <a:pt x="4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7" y="38"/>
                    </a:lnTo>
                    <a:lnTo>
                      <a:pt x="23" y="31"/>
                    </a:lnTo>
                    <a:lnTo>
                      <a:pt x="29" y="23"/>
                    </a:lnTo>
                    <a:lnTo>
                      <a:pt x="34" y="15"/>
                    </a:lnTo>
                    <a:lnTo>
                      <a:pt x="40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111640" y="4773600"/>
                <a:ext cx="7164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49"/>
                    </a:moveTo>
                    <a:lnTo>
                      <a:pt x="5" y="42"/>
                    </a:lnTo>
                    <a:lnTo>
                      <a:pt x="11" y="34"/>
                    </a:lnTo>
                    <a:lnTo>
                      <a:pt x="16" y="26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183280" y="4775040"/>
                <a:ext cx="69840" cy="144720"/>
              </a:xfrm>
              <a:custGeom>
                <a:avLst/>
                <a:gdLst/>
                <a:ahLst/>
                <a:rect l="l" t="t" r="r" b="b"/>
                <a:pathLst>
                  <a:path w="44" h="91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1" y="17"/>
                    </a:lnTo>
                    <a:lnTo>
                      <a:pt x="14" y="24"/>
                    </a:lnTo>
                    <a:lnTo>
                      <a:pt x="16" y="31"/>
                    </a:lnTo>
                    <a:lnTo>
                      <a:pt x="22" y="46"/>
                    </a:lnTo>
                    <a:lnTo>
                      <a:pt x="27" y="62"/>
                    </a:lnTo>
                    <a:lnTo>
                      <a:pt x="30" y="69"/>
                    </a:lnTo>
                    <a:lnTo>
                      <a:pt x="33" y="75"/>
                    </a:lnTo>
                    <a:lnTo>
                      <a:pt x="36" y="81"/>
                    </a:lnTo>
                    <a:lnTo>
                      <a:pt x="38" y="86"/>
                    </a:lnTo>
                    <a:lnTo>
                      <a:pt x="41" y="89"/>
                    </a:lnTo>
                    <a:lnTo>
                      <a:pt x="44" y="9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253120" y="4836960"/>
                <a:ext cx="73080" cy="8424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52"/>
                    </a:moveTo>
                    <a:lnTo>
                      <a:pt x="3" y="53"/>
                    </a:lnTo>
                    <a:lnTo>
                      <a:pt x="6" y="52"/>
                    </a:lnTo>
                    <a:lnTo>
                      <a:pt x="8" y="51"/>
                    </a:lnTo>
                    <a:lnTo>
                      <a:pt x="11" y="49"/>
                    </a:lnTo>
                    <a:lnTo>
                      <a:pt x="17" y="43"/>
                    </a:lnTo>
                    <a:lnTo>
                      <a:pt x="22" y="35"/>
                    </a:lnTo>
                    <a:lnTo>
                      <a:pt x="28" y="26"/>
                    </a:lnTo>
                    <a:lnTo>
                      <a:pt x="34" y="16"/>
                    </a:lnTo>
                    <a:lnTo>
                      <a:pt x="40" y="8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26200" y="474984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55"/>
                    </a:moveTo>
                    <a:lnTo>
                      <a:pt x="6" y="47"/>
                    </a:lnTo>
                    <a:lnTo>
                      <a:pt x="11" y="38"/>
                    </a:lnTo>
                    <a:lnTo>
                      <a:pt x="17" y="27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0" y="5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96040" y="4751280"/>
                <a:ext cx="71280" cy="184320"/>
              </a:xfrm>
              <a:custGeom>
                <a:avLst/>
                <a:gdLst/>
                <a:ahLst/>
                <a:rect l="l" t="t" r="r" b="b"/>
                <a:pathLst>
                  <a:path w="45" h="116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8" y="13"/>
                    </a:lnTo>
                    <a:lnTo>
                      <a:pt x="11" y="20"/>
                    </a:lnTo>
                    <a:lnTo>
                      <a:pt x="14" y="30"/>
                    </a:lnTo>
                    <a:lnTo>
                      <a:pt x="16" y="38"/>
                    </a:lnTo>
                    <a:lnTo>
                      <a:pt x="22" y="57"/>
                    </a:lnTo>
                    <a:lnTo>
                      <a:pt x="28" y="77"/>
                    </a:lnTo>
                    <a:lnTo>
                      <a:pt x="30" y="86"/>
                    </a:lnTo>
                    <a:lnTo>
                      <a:pt x="34" y="94"/>
                    </a:lnTo>
                    <a:lnTo>
                      <a:pt x="37" y="101"/>
                    </a:lnTo>
                    <a:lnTo>
                      <a:pt x="40" y="107"/>
                    </a:lnTo>
                    <a:lnTo>
                      <a:pt x="42" y="113"/>
                    </a:lnTo>
                    <a:lnTo>
                      <a:pt x="45" y="11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467320" y="4862520"/>
                <a:ext cx="6984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6"/>
                    </a:moveTo>
                    <a:lnTo>
                      <a:pt x="3" y="48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1" y="46"/>
                    </a:lnTo>
                    <a:lnTo>
                      <a:pt x="14" y="44"/>
                    </a:lnTo>
                    <a:lnTo>
                      <a:pt x="16" y="40"/>
                    </a:lnTo>
                    <a:lnTo>
                      <a:pt x="22" y="32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537160" y="4786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48"/>
                    </a:moveTo>
                    <a:lnTo>
                      <a:pt x="5" y="41"/>
                    </a:lnTo>
                    <a:lnTo>
                      <a:pt x="11" y="34"/>
                    </a:lnTo>
                    <a:lnTo>
                      <a:pt x="16" y="25"/>
                    </a:lnTo>
                    <a:lnTo>
                      <a:pt x="22" y="17"/>
                    </a:lnTo>
                    <a:lnTo>
                      <a:pt x="29" y="10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608800" y="47880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1"/>
                    </a:lnTo>
                    <a:lnTo>
                      <a:pt x="11" y="16"/>
                    </a:lnTo>
                    <a:lnTo>
                      <a:pt x="14" y="23"/>
                    </a:lnTo>
                    <a:lnTo>
                      <a:pt x="16" y="29"/>
                    </a:lnTo>
                    <a:lnTo>
                      <a:pt x="22" y="44"/>
                    </a:lnTo>
                    <a:lnTo>
                      <a:pt x="27" y="58"/>
                    </a:lnTo>
                    <a:lnTo>
                      <a:pt x="30" y="65"/>
                    </a:lnTo>
                    <a:lnTo>
                      <a:pt x="33" y="71"/>
                    </a:lnTo>
                    <a:lnTo>
                      <a:pt x="36" y="77"/>
                    </a:lnTo>
                    <a:lnTo>
                      <a:pt x="38" y="81"/>
                    </a:lnTo>
                    <a:lnTo>
                      <a:pt x="41" y="84"/>
                    </a:lnTo>
                    <a:lnTo>
                      <a:pt x="44" y="8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678640" y="4840200"/>
                <a:ext cx="72720" cy="8424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53"/>
                    </a:moveTo>
                    <a:lnTo>
                      <a:pt x="3" y="53"/>
                    </a:lnTo>
                    <a:lnTo>
                      <a:pt x="6" y="53"/>
                    </a:lnTo>
                    <a:lnTo>
                      <a:pt x="8" y="52"/>
                    </a:lnTo>
                    <a:lnTo>
                      <a:pt x="11" y="49"/>
                    </a:lnTo>
                    <a:lnTo>
                      <a:pt x="17" y="43"/>
                    </a:lnTo>
                    <a:lnTo>
                      <a:pt x="22" y="35"/>
                    </a:lnTo>
                    <a:lnTo>
                      <a:pt x="29" y="26"/>
                    </a:lnTo>
                    <a:lnTo>
                      <a:pt x="35" y="17"/>
                    </a:lnTo>
                    <a:lnTo>
                      <a:pt x="40" y="8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751360" y="4751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0" y="56"/>
                    </a:moveTo>
                    <a:lnTo>
                      <a:pt x="6" y="48"/>
                    </a:lnTo>
                    <a:lnTo>
                      <a:pt x="11" y="39"/>
                    </a:lnTo>
                    <a:lnTo>
                      <a:pt x="17" y="27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0" y="5"/>
                    </a:lnTo>
                    <a:lnTo>
                      <a:pt x="33" y="2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21200" y="4753080"/>
                <a:ext cx="71640" cy="190440"/>
              </a:xfrm>
              <a:custGeom>
                <a:avLst/>
                <a:gdLst/>
                <a:ahLst/>
                <a:rect l="l" t="t" r="r" b="b"/>
                <a:pathLst>
                  <a:path w="45" h="120">
                    <a:moveTo>
                      <a:pt x="0" y="0"/>
                    </a:moveTo>
                    <a:lnTo>
                      <a:pt x="3" y="3"/>
                    </a:lnTo>
                    <a:lnTo>
                      <a:pt x="5" y="8"/>
                    </a:lnTo>
                    <a:lnTo>
                      <a:pt x="8" y="14"/>
                    </a:lnTo>
                    <a:lnTo>
                      <a:pt x="11" y="21"/>
                    </a:lnTo>
                    <a:lnTo>
                      <a:pt x="14" y="31"/>
                    </a:lnTo>
                    <a:lnTo>
                      <a:pt x="16" y="40"/>
                    </a:lnTo>
                    <a:lnTo>
                      <a:pt x="23" y="59"/>
                    </a:lnTo>
                    <a:lnTo>
                      <a:pt x="29" y="79"/>
                    </a:lnTo>
                    <a:lnTo>
                      <a:pt x="31" y="88"/>
                    </a:lnTo>
                    <a:lnTo>
                      <a:pt x="34" y="97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2" y="117"/>
                    </a:lnTo>
                    <a:lnTo>
                      <a:pt x="45" y="12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92840" y="487188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0" y="45"/>
                    </a:moveTo>
                    <a:lnTo>
                      <a:pt x="3" y="47"/>
                    </a:lnTo>
                    <a:lnTo>
                      <a:pt x="5" y="47"/>
                    </a:lnTo>
                    <a:lnTo>
                      <a:pt x="8" y="47"/>
                    </a:lnTo>
                    <a:lnTo>
                      <a:pt x="11" y="45"/>
                    </a:lnTo>
                    <a:lnTo>
                      <a:pt x="14" y="43"/>
                    </a:lnTo>
                    <a:lnTo>
                      <a:pt x="16" y="40"/>
                    </a:lnTo>
                    <a:lnTo>
                      <a:pt x="22" y="32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962680" y="479916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46"/>
                    </a:moveTo>
                    <a:lnTo>
                      <a:pt x="5" y="40"/>
                    </a:lnTo>
                    <a:lnTo>
                      <a:pt x="11" y="32"/>
                    </a:lnTo>
                    <a:lnTo>
                      <a:pt x="17" y="24"/>
                    </a:lnTo>
                    <a:lnTo>
                      <a:pt x="23" y="16"/>
                    </a:lnTo>
                    <a:lnTo>
                      <a:pt x="29" y="9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0" y="1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033960" y="4800600"/>
                <a:ext cx="69840" cy="12060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0" y="0"/>
                    </a:moveTo>
                    <a:lnTo>
                      <a:pt x="3" y="2"/>
                    </a:lnTo>
                    <a:lnTo>
                      <a:pt x="5" y="5"/>
                    </a:lnTo>
                    <a:lnTo>
                      <a:pt x="8" y="9"/>
                    </a:lnTo>
                    <a:lnTo>
                      <a:pt x="11" y="14"/>
                    </a:lnTo>
                    <a:lnTo>
                      <a:pt x="16" y="25"/>
                    </a:lnTo>
                    <a:lnTo>
                      <a:pt x="22" y="39"/>
                    </a:lnTo>
                    <a:lnTo>
                      <a:pt x="27" y="52"/>
                    </a:lnTo>
                    <a:lnTo>
                      <a:pt x="30" y="58"/>
                    </a:lnTo>
                    <a:lnTo>
                      <a:pt x="33" y="63"/>
                    </a:lnTo>
                    <a:lnTo>
                      <a:pt x="36" y="68"/>
                    </a:lnTo>
                    <a:lnTo>
                      <a:pt x="38" y="72"/>
                    </a:lnTo>
                    <a:lnTo>
                      <a:pt x="41" y="75"/>
                    </a:lnTo>
                    <a:lnTo>
                      <a:pt x="44" y="7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103800" y="4834080"/>
                <a:ext cx="73080" cy="8712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55"/>
                    </a:moveTo>
                    <a:lnTo>
                      <a:pt x="3" y="55"/>
                    </a:lnTo>
                    <a:lnTo>
                      <a:pt x="6" y="54"/>
                    </a:lnTo>
                    <a:lnTo>
                      <a:pt x="8" y="53"/>
                    </a:lnTo>
                    <a:lnTo>
                      <a:pt x="12" y="50"/>
                    </a:lnTo>
                    <a:lnTo>
                      <a:pt x="18" y="44"/>
                    </a:lnTo>
                    <a:lnTo>
                      <a:pt x="23" y="35"/>
                    </a:lnTo>
                    <a:lnTo>
                      <a:pt x="29" y="26"/>
                    </a:lnTo>
                    <a:lnTo>
                      <a:pt x="35" y="17"/>
                    </a:lnTo>
                    <a:lnTo>
                      <a:pt x="40" y="8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176880" y="4746600"/>
                <a:ext cx="69840" cy="8748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55"/>
                    </a:moveTo>
                    <a:lnTo>
                      <a:pt x="6" y="47"/>
                    </a:lnTo>
                    <a:lnTo>
                      <a:pt x="11" y="38"/>
                    </a:lnTo>
                    <a:lnTo>
                      <a:pt x="17" y="27"/>
                    </a:lnTo>
                    <a:lnTo>
                      <a:pt x="22" y="17"/>
                    </a:lnTo>
                    <a:lnTo>
                      <a:pt x="28" y="9"/>
                    </a:lnTo>
                    <a:lnTo>
                      <a:pt x="30" y="5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246720" y="4749840"/>
                <a:ext cx="71640" cy="193680"/>
              </a:xfrm>
              <a:custGeom>
                <a:avLst/>
                <a:gdLst/>
                <a:ahLst/>
                <a:rect l="l" t="t" r="r" b="b"/>
                <a:pathLst>
                  <a:path w="45" h="122">
                    <a:moveTo>
                      <a:pt x="0" y="0"/>
                    </a:moveTo>
                    <a:lnTo>
                      <a:pt x="3" y="3"/>
                    </a:lnTo>
                    <a:lnTo>
                      <a:pt x="6" y="8"/>
                    </a:lnTo>
                    <a:lnTo>
                      <a:pt x="9" y="14"/>
                    </a:lnTo>
                    <a:lnTo>
                      <a:pt x="12" y="22"/>
                    </a:lnTo>
                    <a:lnTo>
                      <a:pt x="15" y="31"/>
                    </a:lnTo>
                    <a:lnTo>
                      <a:pt x="17" y="41"/>
                    </a:lnTo>
                    <a:lnTo>
                      <a:pt x="23" y="60"/>
                    </a:lnTo>
                    <a:lnTo>
                      <a:pt x="29" y="80"/>
                    </a:lnTo>
                    <a:lnTo>
                      <a:pt x="31" y="90"/>
                    </a:lnTo>
                    <a:lnTo>
                      <a:pt x="34" y="98"/>
                    </a:lnTo>
                    <a:lnTo>
                      <a:pt x="37" y="106"/>
                    </a:lnTo>
                    <a:lnTo>
                      <a:pt x="40" y="114"/>
                    </a:lnTo>
                    <a:lnTo>
                      <a:pt x="42" y="119"/>
                    </a:lnTo>
                    <a:lnTo>
                      <a:pt x="45" y="12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318360" y="487368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44"/>
                    </a:moveTo>
                    <a:lnTo>
                      <a:pt x="3" y="46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11" y="45"/>
                    </a:lnTo>
                    <a:lnTo>
                      <a:pt x="14" y="43"/>
                    </a:lnTo>
                    <a:lnTo>
                      <a:pt x="16" y="40"/>
                    </a:lnTo>
                    <a:lnTo>
                      <a:pt x="22" y="32"/>
                    </a:lnTo>
                    <a:lnTo>
                      <a:pt x="28" y="23"/>
                    </a:lnTo>
                    <a:lnTo>
                      <a:pt x="33" y="15"/>
                    </a:lnTo>
                    <a:lnTo>
                      <a:pt x="39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89640" y="4805280"/>
                <a:ext cx="69840" cy="6840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43"/>
                    </a:moveTo>
                    <a:lnTo>
                      <a:pt x="5" y="37"/>
                    </a:lnTo>
                    <a:lnTo>
                      <a:pt x="11" y="30"/>
                    </a:lnTo>
                    <a:lnTo>
                      <a:pt x="16" y="22"/>
                    </a:lnTo>
                    <a:lnTo>
                      <a:pt x="22" y="14"/>
                    </a:lnTo>
                    <a:lnTo>
                      <a:pt x="28" y="8"/>
                    </a:lnTo>
                    <a:lnTo>
                      <a:pt x="33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459480" y="4805280"/>
                <a:ext cx="71640" cy="11124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1" y="13"/>
                    </a:lnTo>
                    <a:lnTo>
                      <a:pt x="16" y="24"/>
                    </a:lnTo>
                    <a:lnTo>
                      <a:pt x="22" y="36"/>
                    </a:lnTo>
                    <a:lnTo>
                      <a:pt x="27" y="48"/>
                    </a:lnTo>
                    <a:lnTo>
                      <a:pt x="33" y="59"/>
                    </a:lnTo>
                    <a:lnTo>
                      <a:pt x="36" y="63"/>
                    </a:lnTo>
                    <a:lnTo>
                      <a:pt x="38" y="67"/>
                    </a:lnTo>
                    <a:lnTo>
                      <a:pt x="42" y="69"/>
                    </a:lnTo>
                    <a:lnTo>
                      <a:pt x="45" y="7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531120" y="482760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45" h="56">
                    <a:moveTo>
                      <a:pt x="0" y="56"/>
                    </a:moveTo>
                    <a:lnTo>
                      <a:pt x="3" y="56"/>
                    </a:lnTo>
                    <a:lnTo>
                      <a:pt x="6" y="55"/>
                    </a:lnTo>
                    <a:lnTo>
                      <a:pt x="8" y="53"/>
                    </a:lnTo>
                    <a:lnTo>
                      <a:pt x="11" y="50"/>
                    </a:lnTo>
                    <a:lnTo>
                      <a:pt x="17" y="43"/>
                    </a:lnTo>
                    <a:lnTo>
                      <a:pt x="22" y="35"/>
                    </a:lnTo>
                    <a:lnTo>
                      <a:pt x="28" y="25"/>
                    </a:lnTo>
                    <a:lnTo>
                      <a:pt x="34" y="16"/>
                    </a:lnTo>
                    <a:lnTo>
                      <a:pt x="39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602400" y="4767120"/>
                <a:ext cx="7128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6" y="32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2" y="10"/>
                    </a:lnTo>
                    <a:lnTo>
                      <a:pt x="28" y="5"/>
                    </a:lnTo>
                    <a:lnTo>
                      <a:pt x="33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673680" y="4768920"/>
                <a:ext cx="70200" cy="12996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0"/>
                    </a:moveTo>
                    <a:lnTo>
                      <a:pt x="3" y="2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8" y="56"/>
                    </a:lnTo>
                    <a:lnTo>
                      <a:pt x="33" y="68"/>
                    </a:lnTo>
                    <a:lnTo>
                      <a:pt x="36" y="73"/>
                    </a:lnTo>
                    <a:lnTo>
                      <a:pt x="39" y="77"/>
                    </a:lnTo>
                    <a:lnTo>
                      <a:pt x="41" y="80"/>
                    </a:lnTo>
                    <a:lnTo>
                      <a:pt x="44" y="8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743880" y="482436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47"/>
                    </a:moveTo>
                    <a:lnTo>
                      <a:pt x="3" y="48"/>
                    </a:lnTo>
                    <a:lnTo>
                      <a:pt x="5" y="47"/>
                    </a:lnTo>
                    <a:lnTo>
                      <a:pt x="8" y="46"/>
                    </a:lnTo>
                    <a:lnTo>
                      <a:pt x="11" y="44"/>
                    </a:lnTo>
                    <a:lnTo>
                      <a:pt x="16" y="39"/>
                    </a:lnTo>
                    <a:lnTo>
                      <a:pt x="22" y="32"/>
                    </a:lnTo>
                    <a:lnTo>
                      <a:pt x="28" y="24"/>
                    </a:lnTo>
                    <a:lnTo>
                      <a:pt x="34" y="15"/>
                    </a:lnTo>
                    <a:lnTo>
                      <a:pt x="40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815160" y="473868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54"/>
                    </a:moveTo>
                    <a:lnTo>
                      <a:pt x="5" y="47"/>
                    </a:lnTo>
                    <a:lnTo>
                      <a:pt x="11" y="37"/>
                    </a:lnTo>
                    <a:lnTo>
                      <a:pt x="16" y="27"/>
                    </a:lnTo>
                    <a:lnTo>
                      <a:pt x="22" y="17"/>
                    </a:lnTo>
                    <a:lnTo>
                      <a:pt x="27" y="9"/>
                    </a:lnTo>
                    <a:lnTo>
                      <a:pt x="30" y="5"/>
                    </a:lnTo>
                    <a:lnTo>
                      <a:pt x="33" y="2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885000" y="4740120"/>
                <a:ext cx="73080" cy="182880"/>
              </a:xfrm>
              <a:custGeom>
                <a:avLst/>
                <a:gdLst/>
                <a:ahLst/>
                <a:rect l="l" t="t" r="r" b="b"/>
                <a:pathLst>
                  <a:path w="46" h="115">
                    <a:moveTo>
                      <a:pt x="0" y="0"/>
                    </a:moveTo>
                    <a:lnTo>
                      <a:pt x="3" y="3"/>
                    </a:lnTo>
                    <a:lnTo>
                      <a:pt x="6" y="7"/>
                    </a:lnTo>
                    <a:lnTo>
                      <a:pt x="8" y="13"/>
                    </a:lnTo>
                    <a:lnTo>
                      <a:pt x="11" y="21"/>
                    </a:lnTo>
                    <a:lnTo>
                      <a:pt x="14" y="29"/>
                    </a:lnTo>
                    <a:lnTo>
                      <a:pt x="17" y="39"/>
                    </a:lnTo>
                    <a:lnTo>
                      <a:pt x="22" y="58"/>
                    </a:lnTo>
                    <a:lnTo>
                      <a:pt x="29" y="77"/>
                    </a:lnTo>
                    <a:lnTo>
                      <a:pt x="32" y="86"/>
                    </a:lnTo>
                    <a:lnTo>
                      <a:pt x="35" y="94"/>
                    </a:lnTo>
                    <a:lnTo>
                      <a:pt x="38" y="101"/>
                    </a:lnTo>
                    <a:lnTo>
                      <a:pt x="40" y="107"/>
                    </a:lnTo>
                    <a:lnTo>
                      <a:pt x="43" y="112"/>
                    </a:lnTo>
                    <a:lnTo>
                      <a:pt x="46" y="11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958080" y="4849920"/>
                <a:ext cx="69840" cy="759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6"/>
                    </a:moveTo>
                    <a:lnTo>
                      <a:pt x="3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1" y="46"/>
                    </a:lnTo>
                    <a:lnTo>
                      <a:pt x="14" y="43"/>
                    </a:lnTo>
                    <a:lnTo>
                      <a:pt x="17" y="40"/>
                    </a:lnTo>
                    <a:lnTo>
                      <a:pt x="22" y="33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027920" y="47736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48"/>
                    </a:moveTo>
                    <a:lnTo>
                      <a:pt x="5" y="41"/>
                    </a:lnTo>
                    <a:lnTo>
                      <a:pt x="11" y="33"/>
                    </a:lnTo>
                    <a:lnTo>
                      <a:pt x="16" y="25"/>
                    </a:lnTo>
                    <a:lnTo>
                      <a:pt x="23" y="17"/>
                    </a:lnTo>
                    <a:lnTo>
                      <a:pt x="29" y="8"/>
                    </a:lnTo>
                    <a:lnTo>
                      <a:pt x="34" y="3"/>
                    </a:lnTo>
                    <a:lnTo>
                      <a:pt x="37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099200" y="4775040"/>
                <a:ext cx="69840" cy="141480"/>
              </a:xfrm>
              <a:custGeom>
                <a:avLst/>
                <a:gdLst/>
                <a:ahLst/>
                <a:rect l="l" t="t" r="r" b="b"/>
                <a:pathLst>
                  <a:path w="44" h="89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1" y="17"/>
                    </a:lnTo>
                    <a:lnTo>
                      <a:pt x="14" y="23"/>
                    </a:lnTo>
                    <a:lnTo>
                      <a:pt x="16" y="30"/>
                    </a:lnTo>
                    <a:lnTo>
                      <a:pt x="22" y="45"/>
                    </a:lnTo>
                    <a:lnTo>
                      <a:pt x="28" y="60"/>
                    </a:lnTo>
                    <a:lnTo>
                      <a:pt x="30" y="67"/>
                    </a:lnTo>
                    <a:lnTo>
                      <a:pt x="33" y="74"/>
                    </a:lnTo>
                    <a:lnTo>
                      <a:pt x="36" y="79"/>
                    </a:lnTo>
                    <a:lnTo>
                      <a:pt x="39" y="84"/>
                    </a:lnTo>
                    <a:lnTo>
                      <a:pt x="41" y="87"/>
                    </a:lnTo>
                    <a:lnTo>
                      <a:pt x="44" y="8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169040" y="483228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53"/>
                    </a:moveTo>
                    <a:lnTo>
                      <a:pt x="3" y="54"/>
                    </a:lnTo>
                    <a:lnTo>
                      <a:pt x="5" y="53"/>
                    </a:lnTo>
                    <a:lnTo>
                      <a:pt x="8" y="52"/>
                    </a:lnTo>
                    <a:lnTo>
                      <a:pt x="11" y="50"/>
                    </a:lnTo>
                    <a:lnTo>
                      <a:pt x="17" y="43"/>
                    </a:lnTo>
                    <a:lnTo>
                      <a:pt x="23" y="35"/>
                    </a:lnTo>
                    <a:lnTo>
                      <a:pt x="29" y="26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240680" y="474516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55"/>
                    </a:moveTo>
                    <a:lnTo>
                      <a:pt x="5" y="47"/>
                    </a:lnTo>
                    <a:lnTo>
                      <a:pt x="11" y="38"/>
                    </a:lnTo>
                    <a:lnTo>
                      <a:pt x="16" y="27"/>
                    </a:lnTo>
                    <a:lnTo>
                      <a:pt x="22" y="17"/>
                    </a:lnTo>
                    <a:lnTo>
                      <a:pt x="27" y="9"/>
                    </a:lnTo>
                    <a:lnTo>
                      <a:pt x="30" y="5"/>
                    </a:lnTo>
                    <a:lnTo>
                      <a:pt x="33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310520" y="4746600"/>
                <a:ext cx="73080" cy="187200"/>
              </a:xfrm>
              <a:custGeom>
                <a:avLst/>
                <a:gdLst/>
                <a:ahLst/>
                <a:rect l="l" t="t" r="r" b="b"/>
                <a:pathLst>
                  <a:path w="46" h="118">
                    <a:moveTo>
                      <a:pt x="0" y="0"/>
                    </a:moveTo>
                    <a:lnTo>
                      <a:pt x="3" y="3"/>
                    </a:lnTo>
                    <a:lnTo>
                      <a:pt x="6" y="8"/>
                    </a:lnTo>
                    <a:lnTo>
                      <a:pt x="8" y="14"/>
                    </a:lnTo>
                    <a:lnTo>
                      <a:pt x="12" y="21"/>
                    </a:lnTo>
                    <a:lnTo>
                      <a:pt x="15" y="29"/>
                    </a:lnTo>
                    <a:lnTo>
                      <a:pt x="18" y="39"/>
                    </a:lnTo>
                    <a:lnTo>
                      <a:pt x="23" y="59"/>
                    </a:lnTo>
                    <a:lnTo>
                      <a:pt x="29" y="78"/>
                    </a:lnTo>
                    <a:lnTo>
                      <a:pt x="32" y="87"/>
                    </a:lnTo>
                    <a:lnTo>
                      <a:pt x="35" y="95"/>
                    </a:lnTo>
                    <a:lnTo>
                      <a:pt x="38" y="103"/>
                    </a:lnTo>
                    <a:lnTo>
                      <a:pt x="40" y="109"/>
                    </a:lnTo>
                    <a:lnTo>
                      <a:pt x="43" y="114"/>
                    </a:lnTo>
                    <a:lnTo>
                      <a:pt x="46" y="11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383600" y="4861080"/>
                <a:ext cx="69840" cy="759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6"/>
                    </a:moveTo>
                    <a:lnTo>
                      <a:pt x="3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1" y="46"/>
                    </a:lnTo>
                    <a:lnTo>
                      <a:pt x="14" y="44"/>
                    </a:lnTo>
                    <a:lnTo>
                      <a:pt x="17" y="40"/>
                    </a:lnTo>
                    <a:lnTo>
                      <a:pt x="22" y="33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453440" y="4786200"/>
                <a:ext cx="71280" cy="7488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47"/>
                    </a:moveTo>
                    <a:lnTo>
                      <a:pt x="5" y="41"/>
                    </a:lnTo>
                    <a:lnTo>
                      <a:pt x="12" y="33"/>
                    </a:lnTo>
                    <a:lnTo>
                      <a:pt x="17" y="25"/>
                    </a:lnTo>
                    <a:lnTo>
                      <a:pt x="23" y="17"/>
                    </a:lnTo>
                    <a:lnTo>
                      <a:pt x="29" y="10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1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524720" y="478800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1" y="16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8" y="56"/>
                    </a:lnTo>
                    <a:lnTo>
                      <a:pt x="30" y="62"/>
                    </a:lnTo>
                    <a:lnTo>
                      <a:pt x="33" y="68"/>
                    </a:lnTo>
                    <a:lnTo>
                      <a:pt x="36" y="73"/>
                    </a:lnTo>
                    <a:lnTo>
                      <a:pt x="39" y="77"/>
                    </a:lnTo>
                    <a:lnTo>
                      <a:pt x="41" y="80"/>
                    </a:lnTo>
                    <a:lnTo>
                      <a:pt x="44" y="8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594560" y="483228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54"/>
                    </a:moveTo>
                    <a:lnTo>
                      <a:pt x="4" y="54"/>
                    </a:lnTo>
                    <a:lnTo>
                      <a:pt x="6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7" y="44"/>
                    </a:lnTo>
                    <a:lnTo>
                      <a:pt x="23" y="35"/>
                    </a:lnTo>
                    <a:lnTo>
                      <a:pt x="29" y="26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666200" y="4740120"/>
                <a:ext cx="7128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0" y="58"/>
                    </a:moveTo>
                    <a:lnTo>
                      <a:pt x="5" y="50"/>
                    </a:lnTo>
                    <a:lnTo>
                      <a:pt x="11" y="40"/>
                    </a:lnTo>
                    <a:lnTo>
                      <a:pt x="16" y="29"/>
                    </a:lnTo>
                    <a:lnTo>
                      <a:pt x="22" y="18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737480" y="4743360"/>
                <a:ext cx="71280" cy="203400"/>
              </a:xfrm>
              <a:custGeom>
                <a:avLst/>
                <a:gdLst/>
                <a:ahLst/>
                <a:rect l="l" t="t" r="r" b="b"/>
                <a:pathLst>
                  <a:path w="45" h="128">
                    <a:moveTo>
                      <a:pt x="0" y="0"/>
                    </a:moveTo>
                    <a:lnTo>
                      <a:pt x="3" y="3"/>
                    </a:lnTo>
                    <a:lnTo>
                      <a:pt x="6" y="8"/>
                    </a:lnTo>
                    <a:lnTo>
                      <a:pt x="8" y="15"/>
                    </a:lnTo>
                    <a:lnTo>
                      <a:pt x="11" y="23"/>
                    </a:lnTo>
                    <a:lnTo>
                      <a:pt x="14" y="32"/>
                    </a:lnTo>
                    <a:lnTo>
                      <a:pt x="17" y="42"/>
                    </a:lnTo>
                    <a:lnTo>
                      <a:pt x="22" y="63"/>
                    </a:lnTo>
                    <a:lnTo>
                      <a:pt x="28" y="84"/>
                    </a:lnTo>
                    <a:lnTo>
                      <a:pt x="31" y="94"/>
                    </a:lnTo>
                    <a:lnTo>
                      <a:pt x="34" y="103"/>
                    </a:lnTo>
                    <a:lnTo>
                      <a:pt x="37" y="111"/>
                    </a:lnTo>
                    <a:lnTo>
                      <a:pt x="39" y="119"/>
                    </a:lnTo>
                    <a:lnTo>
                      <a:pt x="42" y="124"/>
                    </a:lnTo>
                    <a:lnTo>
                      <a:pt x="45" y="12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808760" y="48783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43"/>
                    </a:moveTo>
                    <a:lnTo>
                      <a:pt x="3" y="45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1" y="44"/>
                    </a:lnTo>
                    <a:lnTo>
                      <a:pt x="14" y="42"/>
                    </a:lnTo>
                    <a:lnTo>
                      <a:pt x="17" y="40"/>
                    </a:lnTo>
                    <a:lnTo>
                      <a:pt x="22" y="33"/>
                    </a:lnTo>
                    <a:lnTo>
                      <a:pt x="28" y="23"/>
                    </a:lnTo>
                    <a:lnTo>
                      <a:pt x="33" y="14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880400" y="4809960"/>
                <a:ext cx="69840" cy="6840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43"/>
                    </a:moveTo>
                    <a:lnTo>
                      <a:pt x="5" y="37"/>
                    </a:lnTo>
                    <a:lnTo>
                      <a:pt x="11" y="30"/>
                    </a:lnTo>
                    <a:lnTo>
                      <a:pt x="16" y="22"/>
                    </a:lnTo>
                    <a:lnTo>
                      <a:pt x="22" y="15"/>
                    </a:lnTo>
                    <a:lnTo>
                      <a:pt x="28" y="8"/>
                    </a:lnTo>
                    <a:lnTo>
                      <a:pt x="33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50240" y="480996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0" y="0"/>
                    </a:moveTo>
                    <a:lnTo>
                      <a:pt x="3" y="1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1" y="12"/>
                    </a:lnTo>
                    <a:lnTo>
                      <a:pt x="16" y="23"/>
                    </a:lnTo>
                    <a:lnTo>
                      <a:pt x="22" y="35"/>
                    </a:lnTo>
                    <a:lnTo>
                      <a:pt x="28" y="47"/>
                    </a:lnTo>
                    <a:lnTo>
                      <a:pt x="34" y="57"/>
                    </a:lnTo>
                    <a:lnTo>
                      <a:pt x="37" y="61"/>
                    </a:lnTo>
                    <a:lnTo>
                      <a:pt x="40" y="65"/>
                    </a:lnTo>
                    <a:lnTo>
                      <a:pt x="42" y="67"/>
                    </a:lnTo>
                    <a:lnTo>
                      <a:pt x="45" y="6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8021520" y="482760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3" y="57"/>
                    </a:lnTo>
                    <a:lnTo>
                      <a:pt x="5" y="56"/>
                    </a:lnTo>
                    <a:lnTo>
                      <a:pt x="8" y="54"/>
                    </a:lnTo>
                    <a:lnTo>
                      <a:pt x="11" y="52"/>
                    </a:lnTo>
                    <a:lnTo>
                      <a:pt x="16" y="45"/>
                    </a:lnTo>
                    <a:lnTo>
                      <a:pt x="22" y="36"/>
                    </a:lnTo>
                    <a:lnTo>
                      <a:pt x="27" y="27"/>
                    </a:lnTo>
                    <a:lnTo>
                      <a:pt x="33" y="17"/>
                    </a:lnTo>
                    <a:lnTo>
                      <a:pt x="38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066680" y="1563840"/>
                <a:ext cx="69840" cy="12528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0" y="79"/>
                    </a:moveTo>
                    <a:lnTo>
                      <a:pt x="3" y="74"/>
                    </a:lnTo>
                    <a:lnTo>
                      <a:pt x="5" y="68"/>
                    </a:lnTo>
                    <a:lnTo>
                      <a:pt x="11" y="54"/>
                    </a:lnTo>
                    <a:lnTo>
                      <a:pt x="16" y="39"/>
                    </a:lnTo>
                    <a:lnTo>
                      <a:pt x="22" y="23"/>
                    </a:lnTo>
                    <a:lnTo>
                      <a:pt x="25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136520" y="1569960"/>
                <a:ext cx="73080" cy="336600"/>
              </a:xfrm>
              <a:custGeom>
                <a:avLst/>
                <a:gdLst/>
                <a:ahLst/>
                <a:rect l="l" t="t" r="r" b="b"/>
                <a:pathLst>
                  <a:path w="46" h="212">
                    <a:moveTo>
                      <a:pt x="0" y="0"/>
                    </a:moveTo>
                    <a:lnTo>
                      <a:pt x="1" y="3"/>
                    </a:lnTo>
                    <a:lnTo>
                      <a:pt x="3" y="6"/>
                    </a:lnTo>
                    <a:lnTo>
                      <a:pt x="7" y="14"/>
                    </a:lnTo>
                    <a:lnTo>
                      <a:pt x="9" y="26"/>
                    </a:lnTo>
                    <a:lnTo>
                      <a:pt x="12" y="40"/>
                    </a:lnTo>
                    <a:lnTo>
                      <a:pt x="15" y="54"/>
                    </a:lnTo>
                    <a:lnTo>
                      <a:pt x="18" y="70"/>
                    </a:lnTo>
                    <a:lnTo>
                      <a:pt x="21" y="87"/>
                    </a:lnTo>
                    <a:lnTo>
                      <a:pt x="23" y="105"/>
                    </a:lnTo>
                    <a:lnTo>
                      <a:pt x="26" y="123"/>
                    </a:lnTo>
                    <a:lnTo>
                      <a:pt x="29" y="140"/>
                    </a:lnTo>
                    <a:lnTo>
                      <a:pt x="32" y="156"/>
                    </a:lnTo>
                    <a:lnTo>
                      <a:pt x="35" y="171"/>
                    </a:lnTo>
                    <a:lnTo>
                      <a:pt x="38" y="184"/>
                    </a:lnTo>
                    <a:lnTo>
                      <a:pt x="40" y="197"/>
                    </a:lnTo>
                    <a:lnTo>
                      <a:pt x="43" y="206"/>
                    </a:lnTo>
                    <a:lnTo>
                      <a:pt x="45" y="209"/>
                    </a:lnTo>
                    <a:lnTo>
                      <a:pt x="46" y="2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209600" y="1816200"/>
                <a:ext cx="71640" cy="9684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0" y="57"/>
                    </a:moveTo>
                    <a:lnTo>
                      <a:pt x="3" y="60"/>
                    </a:lnTo>
                    <a:lnTo>
                      <a:pt x="6" y="61"/>
                    </a:lnTo>
                    <a:lnTo>
                      <a:pt x="8" y="60"/>
                    </a:lnTo>
                    <a:lnTo>
                      <a:pt x="11" y="57"/>
                    </a:lnTo>
                    <a:lnTo>
                      <a:pt x="14" y="53"/>
                    </a:lnTo>
                    <a:lnTo>
                      <a:pt x="17" y="48"/>
                    </a:lnTo>
                    <a:lnTo>
                      <a:pt x="19" y="41"/>
                    </a:lnTo>
                    <a:lnTo>
                      <a:pt x="22" y="34"/>
                    </a:lnTo>
                    <a:lnTo>
                      <a:pt x="28" y="20"/>
                    </a:lnTo>
                    <a:lnTo>
                      <a:pt x="30" y="13"/>
                    </a:lnTo>
                    <a:lnTo>
                      <a:pt x="33" y="8"/>
                    </a:lnTo>
                    <a:lnTo>
                      <a:pt x="36" y="4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281240" y="1817640"/>
                <a:ext cx="69840" cy="211320"/>
              </a:xfrm>
              <a:custGeom>
                <a:avLst/>
                <a:gdLst/>
                <a:ahLst/>
                <a:rect l="l" t="t" r="r" b="b"/>
                <a:pathLst>
                  <a:path w="44" h="133">
                    <a:moveTo>
                      <a:pt x="0" y="0"/>
                    </a:moveTo>
                    <a:lnTo>
                      <a:pt x="2" y="2"/>
                    </a:lnTo>
                    <a:lnTo>
                      <a:pt x="5" y="6"/>
                    </a:lnTo>
                    <a:lnTo>
                      <a:pt x="7" y="10"/>
                    </a:lnTo>
                    <a:lnTo>
                      <a:pt x="10" y="15"/>
                    </a:lnTo>
                    <a:lnTo>
                      <a:pt x="13" y="21"/>
                    </a:lnTo>
                    <a:lnTo>
                      <a:pt x="16" y="28"/>
                    </a:lnTo>
                    <a:lnTo>
                      <a:pt x="19" y="36"/>
                    </a:lnTo>
                    <a:lnTo>
                      <a:pt x="22" y="44"/>
                    </a:lnTo>
                    <a:lnTo>
                      <a:pt x="28" y="63"/>
                    </a:lnTo>
                    <a:lnTo>
                      <a:pt x="34" y="84"/>
                    </a:lnTo>
                    <a:lnTo>
                      <a:pt x="39" y="107"/>
                    </a:lnTo>
                    <a:lnTo>
                      <a:pt x="44" y="13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351080" y="2028960"/>
                <a:ext cx="71280" cy="663480"/>
              </a:xfrm>
              <a:custGeom>
                <a:avLst/>
                <a:gdLst/>
                <a:ahLst/>
                <a:rect l="l" t="t" r="r" b="b"/>
                <a:pathLst>
                  <a:path w="45" h="418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30"/>
                    </a:lnTo>
                    <a:lnTo>
                      <a:pt x="5" y="41"/>
                    </a:lnTo>
                    <a:lnTo>
                      <a:pt x="8" y="66"/>
                    </a:lnTo>
                    <a:lnTo>
                      <a:pt x="11" y="94"/>
                    </a:lnTo>
                    <a:lnTo>
                      <a:pt x="14" y="124"/>
                    </a:lnTo>
                    <a:lnTo>
                      <a:pt x="16" y="155"/>
                    </a:lnTo>
                    <a:lnTo>
                      <a:pt x="19" y="186"/>
                    </a:lnTo>
                    <a:lnTo>
                      <a:pt x="22" y="218"/>
                    </a:lnTo>
                    <a:lnTo>
                      <a:pt x="25" y="250"/>
                    </a:lnTo>
                    <a:lnTo>
                      <a:pt x="28" y="280"/>
                    </a:lnTo>
                    <a:lnTo>
                      <a:pt x="30" y="309"/>
                    </a:lnTo>
                    <a:lnTo>
                      <a:pt x="33" y="337"/>
                    </a:lnTo>
                    <a:lnTo>
                      <a:pt x="36" y="362"/>
                    </a:lnTo>
                    <a:lnTo>
                      <a:pt x="37" y="373"/>
                    </a:lnTo>
                    <a:lnTo>
                      <a:pt x="40" y="384"/>
                    </a:lnTo>
                    <a:lnTo>
                      <a:pt x="41" y="394"/>
                    </a:lnTo>
                    <a:lnTo>
                      <a:pt x="42" y="403"/>
                    </a:lnTo>
                    <a:lnTo>
                      <a:pt x="44" y="411"/>
                    </a:lnTo>
                    <a:lnTo>
                      <a:pt x="45" y="4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422360" y="26686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15"/>
                    </a:moveTo>
                    <a:lnTo>
                      <a:pt x="1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1" y="21"/>
                    </a:lnTo>
                    <a:lnTo>
                      <a:pt x="15" y="20"/>
                    </a:lnTo>
                    <a:lnTo>
                      <a:pt x="22" y="15"/>
                    </a:lnTo>
                    <a:lnTo>
                      <a:pt x="29" y="10"/>
                    </a:lnTo>
                    <a:lnTo>
                      <a:pt x="36" y="5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492200" y="2668680"/>
                <a:ext cx="7164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0"/>
                    </a:moveTo>
                    <a:lnTo>
                      <a:pt x="3" y="1"/>
                    </a:lnTo>
                    <a:lnTo>
                      <a:pt x="8" y="4"/>
                    </a:lnTo>
                    <a:lnTo>
                      <a:pt x="15" y="7"/>
                    </a:lnTo>
                    <a:lnTo>
                      <a:pt x="22" y="12"/>
                    </a:lnTo>
                    <a:lnTo>
                      <a:pt x="29" y="19"/>
                    </a:lnTo>
                    <a:lnTo>
                      <a:pt x="37" y="26"/>
                    </a:lnTo>
                    <a:lnTo>
                      <a:pt x="42" y="36"/>
                    </a:lnTo>
                    <a:lnTo>
                      <a:pt x="45" y="4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563840" y="2743200"/>
                <a:ext cx="71280" cy="919080"/>
              </a:xfrm>
              <a:custGeom>
                <a:avLst/>
                <a:gdLst/>
                <a:ahLst/>
                <a:rect l="l" t="t" r="r" b="b"/>
                <a:pathLst>
                  <a:path w="45" h="579">
                    <a:moveTo>
                      <a:pt x="0" y="0"/>
                    </a:moveTo>
                    <a:lnTo>
                      <a:pt x="1" y="10"/>
                    </a:lnTo>
                    <a:lnTo>
                      <a:pt x="3" y="22"/>
                    </a:lnTo>
                    <a:lnTo>
                      <a:pt x="4" y="37"/>
                    </a:lnTo>
                    <a:lnTo>
                      <a:pt x="6" y="51"/>
                    </a:lnTo>
                    <a:lnTo>
                      <a:pt x="7" y="67"/>
                    </a:lnTo>
                    <a:lnTo>
                      <a:pt x="8" y="84"/>
                    </a:lnTo>
                    <a:lnTo>
                      <a:pt x="10" y="102"/>
                    </a:lnTo>
                    <a:lnTo>
                      <a:pt x="11" y="121"/>
                    </a:lnTo>
                    <a:lnTo>
                      <a:pt x="13" y="141"/>
                    </a:lnTo>
                    <a:lnTo>
                      <a:pt x="14" y="161"/>
                    </a:lnTo>
                    <a:lnTo>
                      <a:pt x="17" y="204"/>
                    </a:lnTo>
                    <a:lnTo>
                      <a:pt x="20" y="248"/>
                    </a:lnTo>
                    <a:lnTo>
                      <a:pt x="22" y="293"/>
                    </a:lnTo>
                    <a:lnTo>
                      <a:pt x="25" y="337"/>
                    </a:lnTo>
                    <a:lnTo>
                      <a:pt x="28" y="381"/>
                    </a:lnTo>
                    <a:lnTo>
                      <a:pt x="31" y="423"/>
                    </a:lnTo>
                    <a:lnTo>
                      <a:pt x="32" y="443"/>
                    </a:lnTo>
                    <a:lnTo>
                      <a:pt x="34" y="463"/>
                    </a:lnTo>
                    <a:lnTo>
                      <a:pt x="35" y="481"/>
                    </a:lnTo>
                    <a:lnTo>
                      <a:pt x="37" y="499"/>
                    </a:lnTo>
                    <a:lnTo>
                      <a:pt x="38" y="515"/>
                    </a:lnTo>
                    <a:lnTo>
                      <a:pt x="39" y="530"/>
                    </a:lnTo>
                    <a:lnTo>
                      <a:pt x="41" y="545"/>
                    </a:lnTo>
                    <a:lnTo>
                      <a:pt x="42" y="558"/>
                    </a:lnTo>
                    <a:lnTo>
                      <a:pt x="44" y="569"/>
                    </a:lnTo>
                    <a:lnTo>
                      <a:pt x="45" y="57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1635120" y="366228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5" y="10"/>
                    </a:lnTo>
                    <a:lnTo>
                      <a:pt x="22" y="9"/>
                    </a:lnTo>
                    <a:lnTo>
                      <a:pt x="30" y="7"/>
                    </a:lnTo>
                    <a:lnTo>
                      <a:pt x="37" y="5"/>
                    </a:lnTo>
                    <a:lnTo>
                      <a:pt x="42" y="3"/>
                    </a:lnTo>
                    <a:lnTo>
                      <a:pt x="44" y="2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706400" y="365112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9"/>
                    </a:moveTo>
                    <a:lnTo>
                      <a:pt x="5" y="8"/>
                    </a:lnTo>
                    <a:lnTo>
                      <a:pt x="10" y="6"/>
                    </a:lnTo>
                    <a:lnTo>
                      <a:pt x="16" y="4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1776240" y="3662280"/>
                <a:ext cx="71640" cy="209520"/>
              </a:xfrm>
              <a:custGeom>
                <a:avLst/>
                <a:gdLst/>
                <a:ahLst/>
                <a:rect l="l" t="t" r="r" b="b"/>
                <a:pathLst>
                  <a:path w="45" h="132">
                    <a:moveTo>
                      <a:pt x="0" y="0"/>
                    </a:moveTo>
                    <a:lnTo>
                      <a:pt x="3" y="5"/>
                    </a:lnTo>
                    <a:lnTo>
                      <a:pt x="5" y="11"/>
                    </a:lnTo>
                    <a:lnTo>
                      <a:pt x="8" y="18"/>
                    </a:lnTo>
                    <a:lnTo>
                      <a:pt x="11" y="27"/>
                    </a:lnTo>
                    <a:lnTo>
                      <a:pt x="14" y="36"/>
                    </a:lnTo>
                    <a:lnTo>
                      <a:pt x="16" y="47"/>
                    </a:lnTo>
                    <a:lnTo>
                      <a:pt x="22" y="67"/>
                    </a:lnTo>
                    <a:lnTo>
                      <a:pt x="29" y="88"/>
                    </a:lnTo>
                    <a:lnTo>
                      <a:pt x="31" y="97"/>
                    </a:lnTo>
                    <a:lnTo>
                      <a:pt x="34" y="106"/>
                    </a:lnTo>
                    <a:lnTo>
                      <a:pt x="37" y="114"/>
                    </a:lnTo>
                    <a:lnTo>
                      <a:pt x="40" y="121"/>
                    </a:lnTo>
                    <a:lnTo>
                      <a:pt x="42" y="128"/>
                    </a:lnTo>
                    <a:lnTo>
                      <a:pt x="45" y="13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847880" y="38336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4"/>
                    </a:moveTo>
                    <a:lnTo>
                      <a:pt x="3" y="27"/>
                    </a:lnTo>
                    <a:lnTo>
                      <a:pt x="5" y="28"/>
                    </a:lnTo>
                    <a:lnTo>
                      <a:pt x="8" y="29"/>
                    </a:lnTo>
                    <a:lnTo>
                      <a:pt x="11" y="29"/>
                    </a:lnTo>
                    <a:lnTo>
                      <a:pt x="16" y="27"/>
                    </a:lnTo>
                    <a:lnTo>
                      <a:pt x="22" y="22"/>
                    </a:lnTo>
                    <a:lnTo>
                      <a:pt x="28" y="15"/>
                    </a:lnTo>
                    <a:lnTo>
                      <a:pt x="33" y="9"/>
                    </a:lnTo>
                    <a:lnTo>
                      <a:pt x="39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917720" y="3787920"/>
                <a:ext cx="71280" cy="457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9"/>
                    </a:moveTo>
                    <a:lnTo>
                      <a:pt x="5" y="25"/>
                    </a:lnTo>
                    <a:lnTo>
                      <a:pt x="11" y="19"/>
                    </a:lnTo>
                    <a:lnTo>
                      <a:pt x="16" y="13"/>
                    </a:lnTo>
                    <a:lnTo>
                      <a:pt x="23" y="7"/>
                    </a:lnTo>
                    <a:lnTo>
                      <a:pt x="28" y="3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989000" y="3795840"/>
                <a:ext cx="71640" cy="209520"/>
              </a:xfrm>
              <a:custGeom>
                <a:avLst/>
                <a:gdLst/>
                <a:ahLst/>
                <a:rect l="l" t="t" r="r" b="b"/>
                <a:pathLst>
                  <a:path w="45" h="132">
                    <a:moveTo>
                      <a:pt x="0" y="0"/>
                    </a:moveTo>
                    <a:lnTo>
                      <a:pt x="3" y="4"/>
                    </a:lnTo>
                    <a:lnTo>
                      <a:pt x="6" y="10"/>
                    </a:lnTo>
                    <a:lnTo>
                      <a:pt x="8" y="17"/>
                    </a:lnTo>
                    <a:lnTo>
                      <a:pt x="11" y="25"/>
                    </a:lnTo>
                    <a:lnTo>
                      <a:pt x="14" y="34"/>
                    </a:lnTo>
                    <a:lnTo>
                      <a:pt x="17" y="45"/>
                    </a:lnTo>
                    <a:lnTo>
                      <a:pt x="22" y="66"/>
                    </a:lnTo>
                    <a:lnTo>
                      <a:pt x="28" y="87"/>
                    </a:lnTo>
                    <a:lnTo>
                      <a:pt x="31" y="96"/>
                    </a:lnTo>
                    <a:lnTo>
                      <a:pt x="34" y="106"/>
                    </a:lnTo>
                    <a:lnTo>
                      <a:pt x="37" y="114"/>
                    </a:lnTo>
                    <a:lnTo>
                      <a:pt x="39" y="121"/>
                    </a:lnTo>
                    <a:lnTo>
                      <a:pt x="42" y="128"/>
                    </a:lnTo>
                    <a:lnTo>
                      <a:pt x="45" y="13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060640" y="397044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2"/>
                    </a:moveTo>
                    <a:lnTo>
                      <a:pt x="3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1" y="27"/>
                    </a:lnTo>
                    <a:lnTo>
                      <a:pt x="18" y="25"/>
                    </a:lnTo>
                    <a:lnTo>
                      <a:pt x="23" y="21"/>
                    </a:lnTo>
                    <a:lnTo>
                      <a:pt x="29" y="15"/>
                    </a:lnTo>
                    <a:lnTo>
                      <a:pt x="34" y="9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131920" y="393228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0" y="24"/>
                    </a:moveTo>
                    <a:lnTo>
                      <a:pt x="5" y="21"/>
                    </a:lnTo>
                    <a:lnTo>
                      <a:pt x="11" y="16"/>
                    </a:lnTo>
                    <a:lnTo>
                      <a:pt x="16" y="11"/>
                    </a:lnTo>
                    <a:lnTo>
                      <a:pt x="22" y="7"/>
                    </a:lnTo>
                    <a:lnTo>
                      <a:pt x="28" y="3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201760" y="3935520"/>
                <a:ext cx="71640" cy="131760"/>
              </a:xfrm>
              <a:custGeom>
                <a:avLst/>
                <a:gdLst/>
                <a:ahLst/>
                <a:rect l="l" t="t" r="r" b="b"/>
                <a:pathLst>
                  <a:path w="45" h="83">
                    <a:moveTo>
                      <a:pt x="0" y="0"/>
                    </a:moveTo>
                    <a:lnTo>
                      <a:pt x="3" y="2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2" y="16"/>
                    </a:lnTo>
                    <a:lnTo>
                      <a:pt x="17" y="28"/>
                    </a:lnTo>
                    <a:lnTo>
                      <a:pt x="23" y="42"/>
                    </a:lnTo>
                    <a:lnTo>
                      <a:pt x="29" y="56"/>
                    </a:lnTo>
                    <a:lnTo>
                      <a:pt x="34" y="68"/>
                    </a:lnTo>
                    <a:lnTo>
                      <a:pt x="37" y="73"/>
                    </a:lnTo>
                    <a:lnTo>
                      <a:pt x="40" y="77"/>
                    </a:lnTo>
                    <a:lnTo>
                      <a:pt x="42" y="81"/>
                    </a:lnTo>
                    <a:lnTo>
                      <a:pt x="45" y="8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273400" y="40244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7"/>
                    </a:moveTo>
                    <a:lnTo>
                      <a:pt x="3" y="28"/>
                    </a:lnTo>
                    <a:lnTo>
                      <a:pt x="5" y="29"/>
                    </a:lnTo>
                    <a:lnTo>
                      <a:pt x="11" y="28"/>
                    </a:lnTo>
                    <a:lnTo>
                      <a:pt x="16" y="25"/>
                    </a:lnTo>
                    <a:lnTo>
                      <a:pt x="22" y="20"/>
                    </a:lnTo>
                    <a:lnTo>
                      <a:pt x="28" y="15"/>
                    </a:lnTo>
                    <a:lnTo>
                      <a:pt x="33" y="9"/>
                    </a:lnTo>
                    <a:lnTo>
                      <a:pt x="39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343240" y="3978360"/>
                <a:ext cx="7128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9"/>
                    </a:moveTo>
                    <a:lnTo>
                      <a:pt x="5" y="25"/>
                    </a:lnTo>
                    <a:lnTo>
                      <a:pt x="12" y="20"/>
                    </a:lnTo>
                    <a:lnTo>
                      <a:pt x="23" y="9"/>
                    </a:lnTo>
                    <a:lnTo>
                      <a:pt x="28" y="5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414520" y="3979800"/>
                <a:ext cx="71640" cy="9684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0" y="0"/>
                    </a:moveTo>
                    <a:lnTo>
                      <a:pt x="3" y="2"/>
                    </a:lnTo>
                    <a:lnTo>
                      <a:pt x="6" y="4"/>
                    </a:lnTo>
                    <a:lnTo>
                      <a:pt x="8" y="7"/>
                    </a:lnTo>
                    <a:lnTo>
                      <a:pt x="11" y="12"/>
                    </a:lnTo>
                    <a:lnTo>
                      <a:pt x="17" y="21"/>
                    </a:lnTo>
                    <a:lnTo>
                      <a:pt x="22" y="31"/>
                    </a:lnTo>
                    <a:lnTo>
                      <a:pt x="28" y="41"/>
                    </a:lnTo>
                    <a:lnTo>
                      <a:pt x="34" y="50"/>
                    </a:lnTo>
                    <a:lnTo>
                      <a:pt x="37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5" y="6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486160" y="4029120"/>
                <a:ext cx="71280" cy="4932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30"/>
                    </a:moveTo>
                    <a:lnTo>
                      <a:pt x="7" y="31"/>
                    </a:lnTo>
                    <a:lnTo>
                      <a:pt x="12" y="29"/>
                    </a:lnTo>
                    <a:lnTo>
                      <a:pt x="18" y="25"/>
                    </a:lnTo>
                    <a:lnTo>
                      <a:pt x="23" y="21"/>
                    </a:lnTo>
                    <a:lnTo>
                      <a:pt x="34" y="10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557440" y="397836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32"/>
                    </a:moveTo>
                    <a:lnTo>
                      <a:pt x="5" y="28"/>
                    </a:lnTo>
                    <a:lnTo>
                      <a:pt x="11" y="23"/>
                    </a:lnTo>
                    <a:lnTo>
                      <a:pt x="22" y="11"/>
                    </a:lnTo>
                    <a:lnTo>
                      <a:pt x="28" y="6"/>
                    </a:lnTo>
                    <a:lnTo>
                      <a:pt x="33" y="3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2629080" y="3978360"/>
                <a:ext cx="69840" cy="6660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11" y="7"/>
                    </a:lnTo>
                    <a:lnTo>
                      <a:pt x="16" y="14"/>
                    </a:lnTo>
                    <a:lnTo>
                      <a:pt x="22" y="22"/>
                    </a:lnTo>
                    <a:lnTo>
                      <a:pt x="28" y="29"/>
                    </a:lnTo>
                    <a:lnTo>
                      <a:pt x="33" y="35"/>
                    </a:lnTo>
                    <a:lnTo>
                      <a:pt x="39" y="40"/>
                    </a:lnTo>
                    <a:lnTo>
                      <a:pt x="41" y="41"/>
                    </a:lnTo>
                    <a:lnTo>
                      <a:pt x="44" y="4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2698920" y="399240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5" y="32"/>
                    </a:lnTo>
                    <a:lnTo>
                      <a:pt x="11" y="30"/>
                    </a:lnTo>
                    <a:lnTo>
                      <a:pt x="16" y="26"/>
                    </a:lnTo>
                    <a:lnTo>
                      <a:pt x="22" y="22"/>
                    </a:lnTo>
                    <a:lnTo>
                      <a:pt x="33" y="11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2770200" y="3940200"/>
                <a:ext cx="69840" cy="522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0" y="33"/>
                    </a:moveTo>
                    <a:lnTo>
                      <a:pt x="5" y="29"/>
                    </a:lnTo>
                    <a:lnTo>
                      <a:pt x="11" y="24"/>
                    </a:lnTo>
                    <a:lnTo>
                      <a:pt x="22" y="13"/>
                    </a:lnTo>
                    <a:lnTo>
                      <a:pt x="27" y="9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840040" y="3940200"/>
                <a:ext cx="73080" cy="2844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0" y="0"/>
                    </a:moveTo>
                    <a:lnTo>
                      <a:pt x="6" y="0"/>
                    </a:lnTo>
                    <a:lnTo>
                      <a:pt x="11" y="2"/>
                    </a:lnTo>
                    <a:lnTo>
                      <a:pt x="17" y="5"/>
                    </a:lnTo>
                    <a:lnTo>
                      <a:pt x="22" y="9"/>
                    </a:lnTo>
                    <a:lnTo>
                      <a:pt x="28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6" y="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913120" y="39132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6" y="33"/>
                    </a:lnTo>
                    <a:lnTo>
                      <a:pt x="11" y="30"/>
                    </a:lnTo>
                    <a:lnTo>
                      <a:pt x="17" y="26"/>
                    </a:lnTo>
                    <a:lnTo>
                      <a:pt x="22" y="21"/>
                    </a:lnTo>
                    <a:lnTo>
                      <a:pt x="33" y="10"/>
                    </a:lnTo>
                    <a:lnTo>
                      <a:pt x="39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982960" y="385596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11" y="26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4" y="7"/>
                    </a:lnTo>
                    <a:lnTo>
                      <a:pt x="40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3054240" y="385452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5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8" y="8"/>
                    </a:lnTo>
                    <a:lnTo>
                      <a:pt x="33" y="10"/>
                    </a:lnTo>
                    <a:lnTo>
                      <a:pt x="39" y="11"/>
                    </a:lnTo>
                    <a:lnTo>
                      <a:pt x="44" y="1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3124080" y="38116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5" y="35"/>
                    </a:lnTo>
                    <a:lnTo>
                      <a:pt x="11" y="30"/>
                    </a:lnTo>
                    <a:lnTo>
                      <a:pt x="16" y="26"/>
                    </a:lnTo>
                    <a:lnTo>
                      <a:pt x="22" y="21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195720" y="375444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11" y="26"/>
                    </a:lnTo>
                    <a:lnTo>
                      <a:pt x="22" y="16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3267000" y="374976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8" y="1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4" y="2"/>
                    </a:lnTo>
                    <a:lnTo>
                      <a:pt x="40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3338640" y="368928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5" y="35"/>
                    </a:lnTo>
                    <a:lnTo>
                      <a:pt x="11" y="31"/>
                    </a:lnTo>
                    <a:lnTo>
                      <a:pt x="22" y="21"/>
                    </a:lnTo>
                    <a:lnTo>
                      <a:pt x="33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3408480" y="3630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11" y="27"/>
                    </a:lnTo>
                    <a:lnTo>
                      <a:pt x="23" y="17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3479760" y="361008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13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22" y="6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3549600" y="354960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5" y="35"/>
                    </a:lnTo>
                    <a:lnTo>
                      <a:pt x="12" y="29"/>
                    </a:lnTo>
                    <a:lnTo>
                      <a:pt x="23" y="20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3621240" y="349092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11" y="27"/>
                    </a:lnTo>
                    <a:lnTo>
                      <a:pt x="22" y="17"/>
                    </a:lnTo>
                    <a:lnTo>
                      <a:pt x="3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3692520" y="346392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7"/>
                    </a:moveTo>
                    <a:lnTo>
                      <a:pt x="7" y="14"/>
                    </a:lnTo>
                    <a:lnTo>
                      <a:pt x="12" y="12"/>
                    </a:lnTo>
                    <a:lnTo>
                      <a:pt x="23" y="9"/>
                    </a:lnTo>
                    <a:lnTo>
                      <a:pt x="34" y="6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763800" y="340524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11" y="29"/>
                    </a:lnTo>
                    <a:lnTo>
                      <a:pt x="22" y="20"/>
                    </a:lnTo>
                    <a:lnTo>
                      <a:pt x="33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835440" y="334476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11" y="28"/>
                    </a:lnTo>
                    <a:lnTo>
                      <a:pt x="22" y="18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3905280" y="3311640"/>
                <a:ext cx="71280" cy="3312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21"/>
                    </a:moveTo>
                    <a:lnTo>
                      <a:pt x="5" y="18"/>
                    </a:lnTo>
                    <a:lnTo>
                      <a:pt x="11" y="15"/>
                    </a:lnTo>
                    <a:lnTo>
                      <a:pt x="22" y="10"/>
                    </a:lnTo>
                    <a:lnTo>
                      <a:pt x="33" y="6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3976560" y="325116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11" y="30"/>
                    </a:lnTo>
                    <a:lnTo>
                      <a:pt x="22" y="20"/>
                    </a:lnTo>
                    <a:lnTo>
                      <a:pt x="33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4046400" y="3187800"/>
                <a:ext cx="7308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40"/>
                    </a:moveTo>
                    <a:lnTo>
                      <a:pt x="11" y="30"/>
                    </a:lnTo>
                    <a:lnTo>
                      <a:pt x="22" y="20"/>
                    </a:lnTo>
                    <a:lnTo>
                      <a:pt x="34" y="1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119480" y="315108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23"/>
                    </a:moveTo>
                    <a:lnTo>
                      <a:pt x="11" y="16"/>
                    </a:lnTo>
                    <a:lnTo>
                      <a:pt x="22" y="11"/>
                    </a:lnTo>
                    <a:lnTo>
                      <a:pt x="3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189320" y="309096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30"/>
                    </a:lnTo>
                    <a:lnTo>
                      <a:pt x="22" y="20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260960" y="30290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39"/>
                    </a:moveTo>
                    <a:lnTo>
                      <a:pt x="22" y="18"/>
                    </a:lnTo>
                    <a:lnTo>
                      <a:pt x="33" y="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4330800" y="2982960"/>
                <a:ext cx="7128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9"/>
                    </a:moveTo>
                    <a:lnTo>
                      <a:pt x="11" y="21"/>
                    </a:lnTo>
                    <a:lnTo>
                      <a:pt x="22" y="15"/>
                    </a:lnTo>
                    <a:lnTo>
                      <a:pt x="3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4402080" y="291924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40"/>
                    </a:moveTo>
                    <a:lnTo>
                      <a:pt x="11" y="31"/>
                    </a:lnTo>
                    <a:lnTo>
                      <a:pt x="22" y="21"/>
                    </a:lnTo>
                    <a:lnTo>
                      <a:pt x="33" y="1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471920" y="2859120"/>
                <a:ext cx="73080" cy="601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0" y="38"/>
                    </a:moveTo>
                    <a:lnTo>
                      <a:pt x="23" y="18"/>
                    </a:lnTo>
                    <a:lnTo>
                      <a:pt x="35" y="9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545000" y="28144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lnTo>
                      <a:pt x="11" y="21"/>
                    </a:lnTo>
                    <a:lnTo>
                      <a:pt x="22" y="14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614840" y="2752560"/>
                <a:ext cx="71640" cy="6192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39"/>
                    </a:moveTo>
                    <a:lnTo>
                      <a:pt x="11" y="29"/>
                    </a:lnTo>
                    <a:lnTo>
                      <a:pt x="23" y="2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686480" y="2692440"/>
                <a:ext cx="69840" cy="6012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22" y="19"/>
                    </a:lnTo>
                    <a:lnTo>
                      <a:pt x="33" y="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4756320" y="263988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12" y="25"/>
                    </a:lnTo>
                    <a:lnTo>
                      <a:pt x="23" y="16"/>
                    </a:lnTo>
                    <a:lnTo>
                      <a:pt x="3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827600" y="2579760"/>
                <a:ext cx="7128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29"/>
                    </a:lnTo>
                    <a:lnTo>
                      <a:pt x="22" y="1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898880" y="2517840"/>
                <a:ext cx="71640" cy="6192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39"/>
                    </a:moveTo>
                    <a:lnTo>
                      <a:pt x="23" y="20"/>
                    </a:lnTo>
                    <a:lnTo>
                      <a:pt x="34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970520" y="24703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30"/>
                    </a:moveTo>
                    <a:lnTo>
                      <a:pt x="11" y="22"/>
                    </a:lnTo>
                    <a:lnTo>
                      <a:pt x="22" y="15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040360" y="2409840"/>
                <a:ext cx="7128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2" y="29"/>
                    </a:lnTo>
                    <a:lnTo>
                      <a:pt x="23" y="1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111640" y="2347920"/>
                <a:ext cx="71640" cy="6192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39"/>
                    </a:moveTo>
                    <a:lnTo>
                      <a:pt x="22" y="18"/>
                    </a:lnTo>
                    <a:lnTo>
                      <a:pt x="33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183280" y="23036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lnTo>
                      <a:pt x="11" y="21"/>
                    </a:lnTo>
                    <a:lnTo>
                      <a:pt x="22" y="14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253120" y="224172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39"/>
                    </a:moveTo>
                    <a:lnTo>
                      <a:pt x="11" y="30"/>
                    </a:lnTo>
                    <a:lnTo>
                      <a:pt x="22" y="2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326200" y="218124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22" y="18"/>
                    </a:lnTo>
                    <a:lnTo>
                      <a:pt x="33" y="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396040" y="213372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30"/>
                    </a:moveTo>
                    <a:lnTo>
                      <a:pt x="11" y="22"/>
                    </a:lnTo>
                    <a:lnTo>
                      <a:pt x="22" y="15"/>
                    </a:lnTo>
                    <a:lnTo>
                      <a:pt x="34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467320" y="207324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11" y="29"/>
                    </a:lnTo>
                    <a:lnTo>
                      <a:pt x="22" y="2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5537160" y="201312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28"/>
                    </a:lnTo>
                    <a:lnTo>
                      <a:pt x="22" y="18"/>
                    </a:lnTo>
                    <a:lnTo>
                      <a:pt x="34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5608800" y="1969920"/>
                <a:ext cx="69840" cy="4320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7"/>
                    </a:moveTo>
                    <a:lnTo>
                      <a:pt x="11" y="19"/>
                    </a:lnTo>
                    <a:lnTo>
                      <a:pt x="22" y="13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5678640" y="1911240"/>
                <a:ext cx="7272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37"/>
                    </a:moveTo>
                    <a:lnTo>
                      <a:pt x="11" y="28"/>
                    </a:lnTo>
                    <a:lnTo>
                      <a:pt x="22" y="19"/>
                    </a:lnTo>
                    <a:lnTo>
                      <a:pt x="35" y="9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751360" y="1852560"/>
                <a:ext cx="69840" cy="5868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0" y="37"/>
                    </a:moveTo>
                    <a:lnTo>
                      <a:pt x="11" y="28"/>
                    </a:lnTo>
                    <a:lnTo>
                      <a:pt x="22" y="18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821200" y="181764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22"/>
                    </a:moveTo>
                    <a:lnTo>
                      <a:pt x="11" y="16"/>
                    </a:lnTo>
                    <a:lnTo>
                      <a:pt x="23" y="11"/>
                    </a:lnTo>
                    <a:lnTo>
                      <a:pt x="3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892840" y="1765440"/>
                <a:ext cx="69840" cy="522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0" y="33"/>
                    </a:moveTo>
                    <a:lnTo>
                      <a:pt x="11" y="26"/>
                    </a:lnTo>
                    <a:lnTo>
                      <a:pt x="22" y="17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5962680" y="171288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23" y="16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033960" y="168120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20"/>
                    </a:moveTo>
                    <a:lnTo>
                      <a:pt x="11" y="14"/>
                    </a:lnTo>
                    <a:lnTo>
                      <a:pt x="22" y="10"/>
                    </a:lnTo>
                    <a:lnTo>
                      <a:pt x="33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6103800" y="1639800"/>
                <a:ext cx="73080" cy="4140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26"/>
                    </a:moveTo>
                    <a:lnTo>
                      <a:pt x="12" y="20"/>
                    </a:lnTo>
                    <a:lnTo>
                      <a:pt x="23" y="13"/>
                    </a:lnTo>
                    <a:lnTo>
                      <a:pt x="35" y="6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176880" y="160164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0" y="24"/>
                    </a:moveTo>
                    <a:lnTo>
                      <a:pt x="22" y="12"/>
                    </a:lnTo>
                    <a:lnTo>
                      <a:pt x="3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246720" y="158256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2" y="8"/>
                    </a:lnTo>
                    <a:lnTo>
                      <a:pt x="23" y="6"/>
                    </a:lnTo>
                    <a:lnTo>
                      <a:pt x="3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6318360" y="1549440"/>
                <a:ext cx="71280" cy="3312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21"/>
                    </a:moveTo>
                    <a:lnTo>
                      <a:pt x="11" y="16"/>
                    </a:lnTo>
                    <a:lnTo>
                      <a:pt x="22" y="1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389640" y="151596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21"/>
                    </a:moveTo>
                    <a:lnTo>
                      <a:pt x="11" y="15"/>
                    </a:lnTo>
                    <a:lnTo>
                      <a:pt x="22" y="10"/>
                    </a:lnTo>
                    <a:lnTo>
                      <a:pt x="33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6459480" y="150480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11" y="5"/>
                    </a:lnTo>
                    <a:lnTo>
                      <a:pt x="22" y="3"/>
                    </a:lnTo>
                    <a:lnTo>
                      <a:pt x="33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531120" y="147636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8"/>
                    </a:moveTo>
                    <a:lnTo>
                      <a:pt x="11" y="14"/>
                    </a:lnTo>
                    <a:lnTo>
                      <a:pt x="22" y="10"/>
                    </a:lnTo>
                    <a:lnTo>
                      <a:pt x="3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6602400" y="144792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8"/>
                    </a:moveTo>
                    <a:lnTo>
                      <a:pt x="22" y="8"/>
                    </a:lnTo>
                    <a:lnTo>
                      <a:pt x="33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2" name=""/>
            <p:cNvGrpSpPr/>
            <p:nvPr/>
          </p:nvGrpSpPr>
          <p:grpSpPr>
            <a:xfrm>
              <a:off x="1066680" y="1255680"/>
              <a:ext cx="7024680" cy="2817720"/>
              <a:chOff x="1066680" y="1255680"/>
              <a:chExt cx="7024680" cy="2817720"/>
            </a:xfrm>
          </p:grpSpPr>
          <p:sp>
            <p:nvSpPr>
              <p:cNvPr id="3593" name=""/>
              <p:cNvSpPr/>
              <p:nvPr/>
            </p:nvSpPr>
            <p:spPr>
              <a:xfrm>
                <a:off x="6673680" y="1436760"/>
                <a:ext cx="7020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7"/>
                    </a:moveTo>
                    <a:lnTo>
                      <a:pt x="11" y="5"/>
                    </a:lnTo>
                    <a:lnTo>
                      <a:pt x="22" y="3"/>
                    </a:lnTo>
                    <a:lnTo>
                      <a:pt x="3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743880" y="1413000"/>
                <a:ext cx="7128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5"/>
                    </a:moveTo>
                    <a:lnTo>
                      <a:pt x="11" y="12"/>
                    </a:lnTo>
                    <a:lnTo>
                      <a:pt x="22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815160" y="139068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14"/>
                    </a:moveTo>
                    <a:lnTo>
                      <a:pt x="22" y="6"/>
                    </a:lnTo>
                    <a:lnTo>
                      <a:pt x="33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885000" y="1380960"/>
                <a:ext cx="73080" cy="972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6"/>
                    </a:moveTo>
                    <a:lnTo>
                      <a:pt x="11" y="4"/>
                    </a:lnTo>
                    <a:lnTo>
                      <a:pt x="22" y="3"/>
                    </a:lnTo>
                    <a:lnTo>
                      <a:pt x="35" y="2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958080" y="1362240"/>
                <a:ext cx="69840" cy="1872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12"/>
                    </a:moveTo>
                    <a:lnTo>
                      <a:pt x="22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027920" y="134316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23" y="5"/>
                    </a:lnTo>
                    <a:lnTo>
                      <a:pt x="3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099200" y="13413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33" y="1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169040" y="132408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1" y="10"/>
                    </a:lnTo>
                    <a:lnTo>
                      <a:pt x="23" y="6"/>
                    </a:lnTo>
                    <a:lnTo>
                      <a:pt x="3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240680" y="130968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9"/>
                    </a:moveTo>
                    <a:lnTo>
                      <a:pt x="22" y="4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310520" y="130968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0"/>
                    </a:moveTo>
                    <a:lnTo>
                      <a:pt x="12" y="0"/>
                    </a:lnTo>
                    <a:lnTo>
                      <a:pt x="23" y="2"/>
                    </a:lnTo>
                    <a:lnTo>
                      <a:pt x="35" y="4"/>
                    </a:lnTo>
                    <a:lnTo>
                      <a:pt x="46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383600" y="1303200"/>
                <a:ext cx="69840" cy="1296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8"/>
                    </a:moveTo>
                    <a:lnTo>
                      <a:pt x="11" y="7"/>
                    </a:lnTo>
                    <a:lnTo>
                      <a:pt x="22" y="5"/>
                    </a:lnTo>
                    <a:lnTo>
                      <a:pt x="3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453440" y="129060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23" y="4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524720" y="129060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594560" y="127944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12" y="6"/>
                    </a:lnTo>
                    <a:lnTo>
                      <a:pt x="23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666200" y="126828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11" y="5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737480" y="12682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4" y="4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808760" y="126684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11" y="5"/>
                    </a:lnTo>
                    <a:lnTo>
                      <a:pt x="22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880400" y="125748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6"/>
                    </a:moveTo>
                    <a:lnTo>
                      <a:pt x="22" y="2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50240" y="125748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4" y="4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8021520" y="125568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6"/>
                    </a:moveTo>
                    <a:lnTo>
                      <a:pt x="11" y="5"/>
                    </a:lnTo>
                    <a:lnTo>
                      <a:pt x="22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066680" y="1568520"/>
                <a:ext cx="69840" cy="1270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0" y="80"/>
                    </a:moveTo>
                    <a:lnTo>
                      <a:pt x="3" y="75"/>
                    </a:lnTo>
                    <a:lnTo>
                      <a:pt x="5" y="69"/>
                    </a:lnTo>
                    <a:lnTo>
                      <a:pt x="11" y="55"/>
                    </a:lnTo>
                    <a:lnTo>
                      <a:pt x="16" y="39"/>
                    </a:lnTo>
                    <a:lnTo>
                      <a:pt x="22" y="25"/>
                    </a:lnTo>
                    <a:lnTo>
                      <a:pt x="25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1136520" y="1574640"/>
                <a:ext cx="73080" cy="341640"/>
              </a:xfrm>
              <a:custGeom>
                <a:avLst/>
                <a:gdLst/>
                <a:ahLst/>
                <a:rect l="l" t="t" r="r" b="b"/>
                <a:pathLst>
                  <a:path w="46" h="215">
                    <a:moveTo>
                      <a:pt x="0" y="0"/>
                    </a:moveTo>
                    <a:lnTo>
                      <a:pt x="1" y="3"/>
                    </a:lnTo>
                    <a:lnTo>
                      <a:pt x="3" y="6"/>
                    </a:lnTo>
                    <a:lnTo>
                      <a:pt x="7" y="15"/>
                    </a:lnTo>
                    <a:lnTo>
                      <a:pt x="9" y="27"/>
                    </a:lnTo>
                    <a:lnTo>
                      <a:pt x="12" y="40"/>
                    </a:lnTo>
                    <a:lnTo>
                      <a:pt x="15" y="55"/>
                    </a:lnTo>
                    <a:lnTo>
                      <a:pt x="18" y="71"/>
                    </a:lnTo>
                    <a:lnTo>
                      <a:pt x="21" y="88"/>
                    </a:lnTo>
                    <a:lnTo>
                      <a:pt x="23" y="107"/>
                    </a:lnTo>
                    <a:lnTo>
                      <a:pt x="26" y="124"/>
                    </a:lnTo>
                    <a:lnTo>
                      <a:pt x="29" y="141"/>
                    </a:lnTo>
                    <a:lnTo>
                      <a:pt x="32" y="158"/>
                    </a:lnTo>
                    <a:lnTo>
                      <a:pt x="35" y="173"/>
                    </a:lnTo>
                    <a:lnTo>
                      <a:pt x="38" y="188"/>
                    </a:lnTo>
                    <a:lnTo>
                      <a:pt x="40" y="199"/>
                    </a:lnTo>
                    <a:lnTo>
                      <a:pt x="43" y="209"/>
                    </a:lnTo>
                    <a:lnTo>
                      <a:pt x="45" y="212"/>
                    </a:lnTo>
                    <a:lnTo>
                      <a:pt x="46" y="21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209600" y="1825560"/>
                <a:ext cx="71640" cy="9864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0" y="57"/>
                    </a:moveTo>
                    <a:lnTo>
                      <a:pt x="3" y="61"/>
                    </a:lnTo>
                    <a:lnTo>
                      <a:pt x="6" y="62"/>
                    </a:lnTo>
                    <a:lnTo>
                      <a:pt x="8" y="61"/>
                    </a:lnTo>
                    <a:lnTo>
                      <a:pt x="11" y="58"/>
                    </a:lnTo>
                    <a:lnTo>
                      <a:pt x="14" y="53"/>
                    </a:lnTo>
                    <a:lnTo>
                      <a:pt x="17" y="48"/>
                    </a:lnTo>
                    <a:lnTo>
                      <a:pt x="19" y="42"/>
                    </a:lnTo>
                    <a:lnTo>
                      <a:pt x="22" y="35"/>
                    </a:lnTo>
                    <a:lnTo>
                      <a:pt x="28" y="20"/>
                    </a:lnTo>
                    <a:lnTo>
                      <a:pt x="30" y="14"/>
                    </a:lnTo>
                    <a:lnTo>
                      <a:pt x="33" y="8"/>
                    </a:lnTo>
                    <a:lnTo>
                      <a:pt x="36" y="4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281240" y="1827360"/>
                <a:ext cx="69840" cy="206280"/>
              </a:xfrm>
              <a:custGeom>
                <a:avLst/>
                <a:gdLst/>
                <a:ahLst/>
                <a:rect l="l" t="t" r="r" b="b"/>
                <a:pathLst>
                  <a:path w="44" h="130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7" y="9"/>
                    </a:lnTo>
                    <a:lnTo>
                      <a:pt x="10" y="14"/>
                    </a:lnTo>
                    <a:lnTo>
                      <a:pt x="13" y="20"/>
                    </a:lnTo>
                    <a:lnTo>
                      <a:pt x="16" y="28"/>
                    </a:lnTo>
                    <a:lnTo>
                      <a:pt x="19" y="35"/>
                    </a:lnTo>
                    <a:lnTo>
                      <a:pt x="22" y="43"/>
                    </a:lnTo>
                    <a:lnTo>
                      <a:pt x="28" y="61"/>
                    </a:lnTo>
                    <a:lnTo>
                      <a:pt x="34" y="82"/>
                    </a:lnTo>
                    <a:lnTo>
                      <a:pt x="39" y="105"/>
                    </a:lnTo>
                    <a:lnTo>
                      <a:pt x="44" y="13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351080" y="2033640"/>
                <a:ext cx="71280" cy="673200"/>
              </a:xfrm>
              <a:custGeom>
                <a:avLst/>
                <a:gdLst/>
                <a:ahLst/>
                <a:rect l="l" t="t" r="r" b="b"/>
                <a:pathLst>
                  <a:path w="45" h="424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30"/>
                    </a:lnTo>
                    <a:lnTo>
                      <a:pt x="5" y="41"/>
                    </a:lnTo>
                    <a:lnTo>
                      <a:pt x="8" y="68"/>
                    </a:lnTo>
                    <a:lnTo>
                      <a:pt x="11" y="95"/>
                    </a:lnTo>
                    <a:lnTo>
                      <a:pt x="14" y="125"/>
                    </a:lnTo>
                    <a:lnTo>
                      <a:pt x="16" y="157"/>
                    </a:lnTo>
                    <a:lnTo>
                      <a:pt x="19" y="189"/>
                    </a:lnTo>
                    <a:lnTo>
                      <a:pt x="22" y="220"/>
                    </a:lnTo>
                    <a:lnTo>
                      <a:pt x="25" y="253"/>
                    </a:lnTo>
                    <a:lnTo>
                      <a:pt x="28" y="284"/>
                    </a:lnTo>
                    <a:lnTo>
                      <a:pt x="30" y="313"/>
                    </a:lnTo>
                    <a:lnTo>
                      <a:pt x="33" y="342"/>
                    </a:lnTo>
                    <a:lnTo>
                      <a:pt x="36" y="367"/>
                    </a:lnTo>
                    <a:lnTo>
                      <a:pt x="37" y="379"/>
                    </a:lnTo>
                    <a:lnTo>
                      <a:pt x="40" y="389"/>
                    </a:lnTo>
                    <a:lnTo>
                      <a:pt x="41" y="400"/>
                    </a:lnTo>
                    <a:lnTo>
                      <a:pt x="42" y="409"/>
                    </a:lnTo>
                    <a:lnTo>
                      <a:pt x="44" y="417"/>
                    </a:lnTo>
                    <a:lnTo>
                      <a:pt x="45" y="42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422360" y="268272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15"/>
                    </a:moveTo>
                    <a:lnTo>
                      <a:pt x="1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29" y="12"/>
                    </a:lnTo>
                    <a:lnTo>
                      <a:pt x="36" y="6"/>
                    </a:lnTo>
                    <a:lnTo>
                      <a:pt x="41" y="2"/>
                    </a:lnTo>
                    <a:lnTo>
                      <a:pt x="4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492200" y="2641680"/>
                <a:ext cx="71640" cy="4104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26"/>
                    </a:moveTo>
                    <a:lnTo>
                      <a:pt x="1" y="25"/>
                    </a:lnTo>
                    <a:lnTo>
                      <a:pt x="3" y="24"/>
                    </a:lnTo>
                    <a:lnTo>
                      <a:pt x="8" y="19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4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1563840" y="2652840"/>
                <a:ext cx="71280" cy="714240"/>
              </a:xfrm>
              <a:custGeom>
                <a:avLst/>
                <a:gdLst/>
                <a:ahLst/>
                <a:rect l="l" t="t" r="r" b="b"/>
                <a:pathLst>
                  <a:path w="45" h="450">
                    <a:moveTo>
                      <a:pt x="0" y="0"/>
                    </a:moveTo>
                    <a:lnTo>
                      <a:pt x="1" y="7"/>
                    </a:lnTo>
                    <a:lnTo>
                      <a:pt x="3" y="17"/>
                    </a:lnTo>
                    <a:lnTo>
                      <a:pt x="4" y="27"/>
                    </a:lnTo>
                    <a:lnTo>
                      <a:pt x="6" y="37"/>
                    </a:lnTo>
                    <a:lnTo>
                      <a:pt x="7" y="49"/>
                    </a:lnTo>
                    <a:lnTo>
                      <a:pt x="8" y="62"/>
                    </a:lnTo>
                    <a:lnTo>
                      <a:pt x="10" y="76"/>
                    </a:lnTo>
                    <a:lnTo>
                      <a:pt x="11" y="90"/>
                    </a:lnTo>
                    <a:lnTo>
                      <a:pt x="14" y="122"/>
                    </a:lnTo>
                    <a:lnTo>
                      <a:pt x="17" y="154"/>
                    </a:lnTo>
                    <a:lnTo>
                      <a:pt x="20" y="189"/>
                    </a:lnTo>
                    <a:lnTo>
                      <a:pt x="22" y="224"/>
                    </a:lnTo>
                    <a:lnTo>
                      <a:pt x="25" y="259"/>
                    </a:lnTo>
                    <a:lnTo>
                      <a:pt x="28" y="294"/>
                    </a:lnTo>
                    <a:lnTo>
                      <a:pt x="31" y="327"/>
                    </a:lnTo>
                    <a:lnTo>
                      <a:pt x="34" y="359"/>
                    </a:lnTo>
                    <a:lnTo>
                      <a:pt x="35" y="373"/>
                    </a:lnTo>
                    <a:lnTo>
                      <a:pt x="37" y="387"/>
                    </a:lnTo>
                    <a:lnTo>
                      <a:pt x="38" y="400"/>
                    </a:lnTo>
                    <a:lnTo>
                      <a:pt x="39" y="412"/>
                    </a:lnTo>
                    <a:lnTo>
                      <a:pt x="41" y="423"/>
                    </a:lnTo>
                    <a:lnTo>
                      <a:pt x="42" y="434"/>
                    </a:lnTo>
                    <a:lnTo>
                      <a:pt x="44" y="442"/>
                    </a:lnTo>
                    <a:lnTo>
                      <a:pt x="45" y="45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635120" y="335916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5"/>
                    </a:moveTo>
                    <a:lnTo>
                      <a:pt x="1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5" y="13"/>
                    </a:lnTo>
                    <a:lnTo>
                      <a:pt x="22" y="11"/>
                    </a:lnTo>
                    <a:lnTo>
                      <a:pt x="30" y="7"/>
                    </a:lnTo>
                    <a:lnTo>
                      <a:pt x="37" y="4"/>
                    </a:lnTo>
                    <a:lnTo>
                      <a:pt x="4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1706400" y="334008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12"/>
                    </a:moveTo>
                    <a:lnTo>
                      <a:pt x="4" y="11"/>
                    </a:lnTo>
                    <a:lnTo>
                      <a:pt x="9" y="8"/>
                    </a:lnTo>
                    <a:lnTo>
                      <a:pt x="15" y="5"/>
                    </a:lnTo>
                    <a:lnTo>
                      <a:pt x="22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2" y="5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776240" y="3352680"/>
                <a:ext cx="71640" cy="371520"/>
              </a:xfrm>
              <a:custGeom>
                <a:avLst/>
                <a:gdLst/>
                <a:ahLst/>
                <a:rect l="l" t="t" r="r" b="b"/>
                <a:pathLst>
                  <a:path w="45" h="234">
                    <a:moveTo>
                      <a:pt x="0" y="0"/>
                    </a:moveTo>
                    <a:lnTo>
                      <a:pt x="3" y="8"/>
                    </a:lnTo>
                    <a:lnTo>
                      <a:pt x="5" y="19"/>
                    </a:lnTo>
                    <a:lnTo>
                      <a:pt x="8" y="32"/>
                    </a:lnTo>
                    <a:lnTo>
                      <a:pt x="11" y="47"/>
                    </a:lnTo>
                    <a:lnTo>
                      <a:pt x="14" y="63"/>
                    </a:lnTo>
                    <a:lnTo>
                      <a:pt x="16" y="82"/>
                    </a:lnTo>
                    <a:lnTo>
                      <a:pt x="22" y="118"/>
                    </a:lnTo>
                    <a:lnTo>
                      <a:pt x="29" y="154"/>
                    </a:lnTo>
                    <a:lnTo>
                      <a:pt x="31" y="172"/>
                    </a:lnTo>
                    <a:lnTo>
                      <a:pt x="34" y="188"/>
                    </a:lnTo>
                    <a:lnTo>
                      <a:pt x="37" y="202"/>
                    </a:lnTo>
                    <a:lnTo>
                      <a:pt x="40" y="215"/>
                    </a:lnTo>
                    <a:lnTo>
                      <a:pt x="42" y="226"/>
                    </a:lnTo>
                    <a:lnTo>
                      <a:pt x="45" y="23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1847880" y="370044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15"/>
                    </a:moveTo>
                    <a:lnTo>
                      <a:pt x="2" y="18"/>
                    </a:lnTo>
                    <a:lnTo>
                      <a:pt x="4" y="22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2" y="23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29" y="12"/>
                    </a:lnTo>
                    <a:lnTo>
                      <a:pt x="35" y="7"/>
                    </a:lnTo>
                    <a:lnTo>
                      <a:pt x="40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1917720" y="366408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3"/>
                    </a:moveTo>
                    <a:lnTo>
                      <a:pt x="5" y="20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23" y="6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1989000" y="3675240"/>
                <a:ext cx="71640" cy="263520"/>
              </a:xfrm>
              <a:custGeom>
                <a:avLst/>
                <a:gdLst/>
                <a:ahLst/>
                <a:rect l="l" t="t" r="r" b="b"/>
                <a:pathLst>
                  <a:path w="45" h="16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22"/>
                    </a:lnTo>
                    <a:lnTo>
                      <a:pt x="11" y="33"/>
                    </a:lnTo>
                    <a:lnTo>
                      <a:pt x="14" y="45"/>
                    </a:lnTo>
                    <a:lnTo>
                      <a:pt x="17" y="57"/>
                    </a:lnTo>
                    <a:lnTo>
                      <a:pt x="22" y="83"/>
                    </a:lnTo>
                    <a:lnTo>
                      <a:pt x="28" y="109"/>
                    </a:lnTo>
                    <a:lnTo>
                      <a:pt x="31" y="122"/>
                    </a:lnTo>
                    <a:lnTo>
                      <a:pt x="34" y="134"/>
                    </a:lnTo>
                    <a:lnTo>
                      <a:pt x="37" y="144"/>
                    </a:lnTo>
                    <a:lnTo>
                      <a:pt x="39" y="153"/>
                    </a:lnTo>
                    <a:lnTo>
                      <a:pt x="42" y="160"/>
                    </a:lnTo>
                    <a:lnTo>
                      <a:pt x="45" y="16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060640" y="390852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19"/>
                    </a:moveTo>
                    <a:lnTo>
                      <a:pt x="2" y="22"/>
                    </a:lnTo>
                    <a:lnTo>
                      <a:pt x="5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3" y="25"/>
                    </a:lnTo>
                    <a:lnTo>
                      <a:pt x="17" y="23"/>
                    </a:lnTo>
                    <a:lnTo>
                      <a:pt x="23" y="19"/>
                    </a:lnTo>
                    <a:lnTo>
                      <a:pt x="29" y="14"/>
                    </a:lnTo>
                    <a:lnTo>
                      <a:pt x="35" y="8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131920" y="3868560"/>
                <a:ext cx="69840" cy="399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25"/>
                    </a:moveTo>
                    <a:lnTo>
                      <a:pt x="5" y="22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2" y="7"/>
                    </a:lnTo>
                    <a:lnTo>
                      <a:pt x="28" y="3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01760" y="3875040"/>
                <a:ext cx="71640" cy="165240"/>
              </a:xfrm>
              <a:custGeom>
                <a:avLst/>
                <a:gdLst/>
                <a:ahLst/>
                <a:rect l="l" t="t" r="r" b="b"/>
                <a:pathLst>
                  <a:path w="45" h="104">
                    <a:moveTo>
                      <a:pt x="0" y="0"/>
                    </a:moveTo>
                    <a:lnTo>
                      <a:pt x="3" y="3"/>
                    </a:lnTo>
                    <a:lnTo>
                      <a:pt x="5" y="8"/>
                    </a:lnTo>
                    <a:lnTo>
                      <a:pt x="8" y="13"/>
                    </a:lnTo>
                    <a:lnTo>
                      <a:pt x="12" y="20"/>
                    </a:lnTo>
                    <a:lnTo>
                      <a:pt x="17" y="35"/>
                    </a:lnTo>
                    <a:lnTo>
                      <a:pt x="23" y="52"/>
                    </a:lnTo>
                    <a:lnTo>
                      <a:pt x="29" y="68"/>
                    </a:lnTo>
                    <a:lnTo>
                      <a:pt x="31" y="76"/>
                    </a:lnTo>
                    <a:lnTo>
                      <a:pt x="34" y="84"/>
                    </a:lnTo>
                    <a:lnTo>
                      <a:pt x="37" y="91"/>
                    </a:lnTo>
                    <a:lnTo>
                      <a:pt x="40" y="96"/>
                    </a:lnTo>
                    <a:lnTo>
                      <a:pt x="42" y="101"/>
                    </a:lnTo>
                    <a:lnTo>
                      <a:pt x="45" y="10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73400" y="39988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6"/>
                    </a:moveTo>
                    <a:lnTo>
                      <a:pt x="3" y="28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11" y="29"/>
                    </a:lnTo>
                    <a:lnTo>
                      <a:pt x="16" y="26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3" y="10"/>
                    </a:lnTo>
                    <a:lnTo>
                      <a:pt x="39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343240" y="395460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28"/>
                    </a:moveTo>
                    <a:lnTo>
                      <a:pt x="5" y="23"/>
                    </a:lnTo>
                    <a:lnTo>
                      <a:pt x="12" y="18"/>
                    </a:lnTo>
                    <a:lnTo>
                      <a:pt x="17" y="13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4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14520" y="395604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0" y="0"/>
                    </a:moveTo>
                    <a:lnTo>
                      <a:pt x="3" y="2"/>
                    </a:lnTo>
                    <a:lnTo>
                      <a:pt x="6" y="5"/>
                    </a:lnTo>
                    <a:lnTo>
                      <a:pt x="8" y="9"/>
                    </a:lnTo>
                    <a:lnTo>
                      <a:pt x="11" y="13"/>
                    </a:lnTo>
                    <a:lnTo>
                      <a:pt x="17" y="24"/>
                    </a:lnTo>
                    <a:lnTo>
                      <a:pt x="22" y="37"/>
                    </a:lnTo>
                    <a:lnTo>
                      <a:pt x="28" y="49"/>
                    </a:lnTo>
                    <a:lnTo>
                      <a:pt x="34" y="60"/>
                    </a:lnTo>
                    <a:lnTo>
                      <a:pt x="37" y="64"/>
                    </a:lnTo>
                    <a:lnTo>
                      <a:pt x="39" y="68"/>
                    </a:lnTo>
                    <a:lnTo>
                      <a:pt x="42" y="71"/>
                    </a:lnTo>
                    <a:lnTo>
                      <a:pt x="45" y="7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486160" y="402588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29"/>
                    </a:moveTo>
                    <a:lnTo>
                      <a:pt x="4" y="30"/>
                    </a:lnTo>
                    <a:lnTo>
                      <a:pt x="7" y="30"/>
                    </a:lnTo>
                    <a:lnTo>
                      <a:pt x="12" y="29"/>
                    </a:lnTo>
                    <a:lnTo>
                      <a:pt x="18" y="25"/>
                    </a:lnTo>
                    <a:lnTo>
                      <a:pt x="23" y="21"/>
                    </a:lnTo>
                    <a:lnTo>
                      <a:pt x="29" y="15"/>
                    </a:lnTo>
                    <a:lnTo>
                      <a:pt x="34" y="10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557440" y="397836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30"/>
                    </a:moveTo>
                    <a:lnTo>
                      <a:pt x="5" y="26"/>
                    </a:lnTo>
                    <a:lnTo>
                      <a:pt x="11" y="21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629080" y="397836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0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11" y="8"/>
                    </a:lnTo>
                    <a:lnTo>
                      <a:pt x="16" y="15"/>
                    </a:lnTo>
                    <a:lnTo>
                      <a:pt x="22" y="23"/>
                    </a:lnTo>
                    <a:lnTo>
                      <a:pt x="28" y="31"/>
                    </a:lnTo>
                    <a:lnTo>
                      <a:pt x="33" y="38"/>
                    </a:lnTo>
                    <a:lnTo>
                      <a:pt x="39" y="43"/>
                    </a:lnTo>
                    <a:lnTo>
                      <a:pt x="41" y="44"/>
                    </a:lnTo>
                    <a:lnTo>
                      <a:pt x="44" y="4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698920" y="399888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32"/>
                    </a:moveTo>
                    <a:lnTo>
                      <a:pt x="5" y="32"/>
                    </a:lnTo>
                    <a:lnTo>
                      <a:pt x="11" y="29"/>
                    </a:lnTo>
                    <a:lnTo>
                      <a:pt x="16" y="26"/>
                    </a:lnTo>
                    <a:lnTo>
                      <a:pt x="22" y="21"/>
                    </a:lnTo>
                    <a:lnTo>
                      <a:pt x="33" y="10"/>
                    </a:lnTo>
                    <a:lnTo>
                      <a:pt x="40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770200" y="394488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0" y="34"/>
                    </a:moveTo>
                    <a:lnTo>
                      <a:pt x="5" y="29"/>
                    </a:lnTo>
                    <a:lnTo>
                      <a:pt x="11" y="23"/>
                    </a:lnTo>
                    <a:lnTo>
                      <a:pt x="22" y="13"/>
                    </a:lnTo>
                    <a:lnTo>
                      <a:pt x="27" y="8"/>
                    </a:lnTo>
                    <a:lnTo>
                      <a:pt x="33" y="4"/>
                    </a:lnTo>
                    <a:lnTo>
                      <a:pt x="38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840040" y="3944880"/>
                <a:ext cx="73080" cy="3816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17" y="7"/>
                    </a:lnTo>
                    <a:lnTo>
                      <a:pt x="22" y="12"/>
                    </a:lnTo>
                    <a:lnTo>
                      <a:pt x="28" y="17"/>
                    </a:lnTo>
                    <a:lnTo>
                      <a:pt x="35" y="21"/>
                    </a:lnTo>
                    <a:lnTo>
                      <a:pt x="40" y="23"/>
                    </a:lnTo>
                    <a:lnTo>
                      <a:pt x="46" y="2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913120" y="3930480"/>
                <a:ext cx="69840" cy="5256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0" y="33"/>
                    </a:moveTo>
                    <a:lnTo>
                      <a:pt x="6" y="32"/>
                    </a:lnTo>
                    <a:lnTo>
                      <a:pt x="11" y="29"/>
                    </a:lnTo>
                    <a:lnTo>
                      <a:pt x="17" y="25"/>
                    </a:lnTo>
                    <a:lnTo>
                      <a:pt x="22" y="20"/>
                    </a:lnTo>
                    <a:lnTo>
                      <a:pt x="33" y="10"/>
                    </a:lnTo>
                    <a:lnTo>
                      <a:pt x="39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982960" y="3876840"/>
                <a:ext cx="71280" cy="536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34"/>
                    </a:moveTo>
                    <a:lnTo>
                      <a:pt x="11" y="25"/>
                    </a:lnTo>
                    <a:lnTo>
                      <a:pt x="22" y="15"/>
                    </a:lnTo>
                    <a:lnTo>
                      <a:pt x="29" y="10"/>
                    </a:lnTo>
                    <a:lnTo>
                      <a:pt x="34" y="6"/>
                    </a:lnTo>
                    <a:lnTo>
                      <a:pt x="40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054240" y="387504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1"/>
                    </a:moveTo>
                    <a:lnTo>
                      <a:pt x="5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3" y="8"/>
                    </a:lnTo>
                    <a:lnTo>
                      <a:pt x="39" y="9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124080" y="382896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5" y="35"/>
                    </a:lnTo>
                    <a:lnTo>
                      <a:pt x="11" y="31"/>
                    </a:lnTo>
                    <a:lnTo>
                      <a:pt x="16" y="27"/>
                    </a:lnTo>
                    <a:lnTo>
                      <a:pt x="22" y="21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195720" y="377208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11" y="26"/>
                    </a:lnTo>
                    <a:lnTo>
                      <a:pt x="22" y="16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267000" y="376884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2"/>
                    </a:moveTo>
                    <a:lnTo>
                      <a:pt x="6" y="0"/>
                    </a:lnTo>
                    <a:lnTo>
                      <a:pt x="11" y="0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9" y="2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338640" y="3711600"/>
                <a:ext cx="69840" cy="5868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0" y="37"/>
                    </a:moveTo>
                    <a:lnTo>
                      <a:pt x="5" y="34"/>
                    </a:lnTo>
                    <a:lnTo>
                      <a:pt x="11" y="30"/>
                    </a:lnTo>
                    <a:lnTo>
                      <a:pt x="22" y="21"/>
                    </a:lnTo>
                    <a:lnTo>
                      <a:pt x="33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408480" y="365436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11" y="26"/>
                    </a:lnTo>
                    <a:lnTo>
                      <a:pt x="23" y="16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479760" y="363852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5" y="8"/>
                    </a:lnTo>
                    <a:lnTo>
                      <a:pt x="11" y="6"/>
                    </a:lnTo>
                    <a:lnTo>
                      <a:pt x="22" y="5"/>
                    </a:lnTo>
                    <a:lnTo>
                      <a:pt x="33" y="4"/>
                    </a:lnTo>
                    <a:lnTo>
                      <a:pt x="39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549600" y="357840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5" y="35"/>
                    </a:lnTo>
                    <a:lnTo>
                      <a:pt x="12" y="31"/>
                    </a:lnTo>
                    <a:lnTo>
                      <a:pt x="23" y="21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21240" y="3519360"/>
                <a:ext cx="7128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11" y="27"/>
                    </a:lnTo>
                    <a:lnTo>
                      <a:pt x="22" y="17"/>
                    </a:lnTo>
                    <a:lnTo>
                      <a:pt x="34" y="8"/>
                    </a:lnTo>
                    <a:lnTo>
                      <a:pt x="39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92520" y="349884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3"/>
                    </a:moveTo>
                    <a:lnTo>
                      <a:pt x="7" y="10"/>
                    </a:lnTo>
                    <a:lnTo>
                      <a:pt x="12" y="9"/>
                    </a:lnTo>
                    <a:lnTo>
                      <a:pt x="23" y="6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763800" y="343836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30"/>
                    </a:lnTo>
                    <a:lnTo>
                      <a:pt x="22" y="21"/>
                    </a:lnTo>
                    <a:lnTo>
                      <a:pt x="33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835440" y="3378240"/>
                <a:ext cx="69840" cy="6012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11" y="28"/>
                    </a:lnTo>
                    <a:lnTo>
                      <a:pt x="22" y="18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905280" y="33480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5" y="16"/>
                    </a:lnTo>
                    <a:lnTo>
                      <a:pt x="11" y="13"/>
                    </a:lnTo>
                    <a:lnTo>
                      <a:pt x="22" y="9"/>
                    </a:lnTo>
                    <a:lnTo>
                      <a:pt x="33" y="6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976560" y="32860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39"/>
                    </a:moveTo>
                    <a:lnTo>
                      <a:pt x="11" y="31"/>
                    </a:lnTo>
                    <a:lnTo>
                      <a:pt x="22" y="20"/>
                    </a:lnTo>
                    <a:lnTo>
                      <a:pt x="33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4046400" y="3225960"/>
                <a:ext cx="73080" cy="601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0" y="38"/>
                    </a:moveTo>
                    <a:lnTo>
                      <a:pt x="11" y="28"/>
                    </a:lnTo>
                    <a:lnTo>
                      <a:pt x="22" y="18"/>
                    </a:lnTo>
                    <a:lnTo>
                      <a:pt x="34" y="8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4119480" y="31957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0" y="19"/>
                    </a:moveTo>
                    <a:lnTo>
                      <a:pt x="6" y="16"/>
                    </a:lnTo>
                    <a:lnTo>
                      <a:pt x="11" y="14"/>
                    </a:lnTo>
                    <a:lnTo>
                      <a:pt x="22" y="10"/>
                    </a:lnTo>
                    <a:lnTo>
                      <a:pt x="33" y="6"/>
                    </a:lnTo>
                    <a:lnTo>
                      <a:pt x="39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4189320" y="313524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30"/>
                    </a:lnTo>
                    <a:lnTo>
                      <a:pt x="22" y="20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4260960" y="3076560"/>
                <a:ext cx="69840" cy="5868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0" y="37"/>
                    </a:moveTo>
                    <a:lnTo>
                      <a:pt x="22" y="18"/>
                    </a:lnTo>
                    <a:lnTo>
                      <a:pt x="33" y="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4330800" y="303228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28"/>
                    </a:moveTo>
                    <a:lnTo>
                      <a:pt x="11" y="20"/>
                    </a:lnTo>
                    <a:lnTo>
                      <a:pt x="22" y="14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4402080" y="29718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11" y="29"/>
                    </a:lnTo>
                    <a:lnTo>
                      <a:pt x="22" y="2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4471920" y="290988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39"/>
                    </a:moveTo>
                    <a:lnTo>
                      <a:pt x="23" y="19"/>
                    </a:lnTo>
                    <a:lnTo>
                      <a:pt x="35" y="9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4545000" y="286560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lnTo>
                      <a:pt x="11" y="21"/>
                    </a:lnTo>
                    <a:lnTo>
                      <a:pt x="22" y="14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4614840" y="280512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29"/>
                    </a:lnTo>
                    <a:lnTo>
                      <a:pt x="23" y="2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686480" y="27432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39"/>
                    </a:moveTo>
                    <a:lnTo>
                      <a:pt x="22" y="1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756320" y="269064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12" y="25"/>
                    </a:lnTo>
                    <a:lnTo>
                      <a:pt x="23" y="16"/>
                    </a:lnTo>
                    <a:lnTo>
                      <a:pt x="3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827600" y="2629080"/>
                <a:ext cx="71280" cy="61560"/>
              </a:xfrm>
              <a:custGeom>
                <a:avLst/>
                <a:gdLst/>
                <a:ahLst/>
                <a:rect l="l" t="t" r="r" b="b"/>
                <a:pathLst>
                  <a:path w="45" h="39">
                    <a:moveTo>
                      <a:pt x="0" y="39"/>
                    </a:moveTo>
                    <a:lnTo>
                      <a:pt x="22" y="1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4898880" y="256860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2" y="28"/>
                    </a:lnTo>
                    <a:lnTo>
                      <a:pt x="23" y="18"/>
                    </a:lnTo>
                    <a:lnTo>
                      <a:pt x="34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4970520" y="2529000"/>
                <a:ext cx="69840" cy="39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25"/>
                    </a:moveTo>
                    <a:lnTo>
                      <a:pt x="11" y="18"/>
                    </a:lnTo>
                    <a:lnTo>
                      <a:pt x="22" y="13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040360" y="2468520"/>
                <a:ext cx="7128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2" y="29"/>
                    </a:lnTo>
                    <a:lnTo>
                      <a:pt x="23" y="20"/>
                    </a:lnTo>
                    <a:lnTo>
                      <a:pt x="34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111640" y="240840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11" y="28"/>
                    </a:lnTo>
                    <a:lnTo>
                      <a:pt x="22" y="18"/>
                    </a:lnTo>
                    <a:lnTo>
                      <a:pt x="33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183280" y="2368440"/>
                <a:ext cx="69840" cy="399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25"/>
                    </a:moveTo>
                    <a:lnTo>
                      <a:pt x="11" y="17"/>
                    </a:lnTo>
                    <a:lnTo>
                      <a:pt x="22" y="12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253120" y="2308320"/>
                <a:ext cx="73080" cy="601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0" y="38"/>
                    </a:moveTo>
                    <a:lnTo>
                      <a:pt x="11" y="29"/>
                    </a:lnTo>
                    <a:lnTo>
                      <a:pt x="22" y="20"/>
                    </a:lnTo>
                    <a:lnTo>
                      <a:pt x="34" y="1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326200" y="22464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39"/>
                    </a:moveTo>
                    <a:lnTo>
                      <a:pt x="11" y="29"/>
                    </a:lnTo>
                    <a:lnTo>
                      <a:pt x="22" y="19"/>
                    </a:lnTo>
                    <a:lnTo>
                      <a:pt x="33" y="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396040" y="220680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25"/>
                    </a:moveTo>
                    <a:lnTo>
                      <a:pt x="11" y="18"/>
                    </a:lnTo>
                    <a:lnTo>
                      <a:pt x="22" y="12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467320" y="214632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38"/>
                    </a:moveTo>
                    <a:lnTo>
                      <a:pt x="11" y="29"/>
                    </a:lnTo>
                    <a:lnTo>
                      <a:pt x="22" y="20"/>
                    </a:lnTo>
                    <a:lnTo>
                      <a:pt x="33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537160" y="2085840"/>
                <a:ext cx="71640" cy="604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22" y="18"/>
                    </a:lnTo>
                    <a:lnTo>
                      <a:pt x="3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608800" y="2046240"/>
                <a:ext cx="69840" cy="39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25"/>
                    </a:moveTo>
                    <a:lnTo>
                      <a:pt x="11" y="18"/>
                    </a:lnTo>
                    <a:lnTo>
                      <a:pt x="22" y="12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678640" y="1987560"/>
                <a:ext cx="7272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37"/>
                    </a:moveTo>
                    <a:lnTo>
                      <a:pt x="11" y="29"/>
                    </a:lnTo>
                    <a:lnTo>
                      <a:pt x="22" y="2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751360" y="1930320"/>
                <a:ext cx="69840" cy="5724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36"/>
                    </a:moveTo>
                    <a:lnTo>
                      <a:pt x="11" y="27"/>
                    </a:lnTo>
                    <a:lnTo>
                      <a:pt x="22" y="17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821200" y="1893960"/>
                <a:ext cx="7164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3"/>
                    </a:moveTo>
                    <a:lnTo>
                      <a:pt x="11" y="17"/>
                    </a:lnTo>
                    <a:lnTo>
                      <a:pt x="23" y="11"/>
                    </a:lnTo>
                    <a:lnTo>
                      <a:pt x="3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892840" y="183996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0" y="34"/>
                    </a:moveTo>
                    <a:lnTo>
                      <a:pt x="11" y="26"/>
                    </a:lnTo>
                    <a:lnTo>
                      <a:pt x="22" y="17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962680" y="1790640"/>
                <a:ext cx="71280" cy="4932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31"/>
                    </a:moveTo>
                    <a:lnTo>
                      <a:pt x="23" y="15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6033960" y="175896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20"/>
                    </a:moveTo>
                    <a:lnTo>
                      <a:pt x="11" y="14"/>
                    </a:lnTo>
                    <a:lnTo>
                      <a:pt x="22" y="10"/>
                    </a:lnTo>
                    <a:lnTo>
                      <a:pt x="33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103800" y="171288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12" y="23"/>
                    </a:lnTo>
                    <a:lnTo>
                      <a:pt x="23" y="15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176880" y="167148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6"/>
                    </a:moveTo>
                    <a:lnTo>
                      <a:pt x="22" y="12"/>
                    </a:lnTo>
                    <a:lnTo>
                      <a:pt x="3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6246720" y="165096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3"/>
                    </a:moveTo>
                    <a:lnTo>
                      <a:pt x="12" y="9"/>
                    </a:lnTo>
                    <a:lnTo>
                      <a:pt x="23" y="6"/>
                    </a:lnTo>
                    <a:lnTo>
                      <a:pt x="3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318360" y="161460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3"/>
                    </a:moveTo>
                    <a:lnTo>
                      <a:pt x="11" y="18"/>
                    </a:lnTo>
                    <a:lnTo>
                      <a:pt x="22" y="1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389640" y="157788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23"/>
                    </a:moveTo>
                    <a:lnTo>
                      <a:pt x="11" y="17"/>
                    </a:lnTo>
                    <a:lnTo>
                      <a:pt x="22" y="10"/>
                    </a:lnTo>
                    <a:lnTo>
                      <a:pt x="33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459480" y="156672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11" y="5"/>
                    </a:lnTo>
                    <a:lnTo>
                      <a:pt x="22" y="3"/>
                    </a:lnTo>
                    <a:lnTo>
                      <a:pt x="33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531120" y="1535040"/>
                <a:ext cx="712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0" y="20"/>
                    </a:moveTo>
                    <a:lnTo>
                      <a:pt x="11" y="16"/>
                    </a:lnTo>
                    <a:lnTo>
                      <a:pt x="22" y="11"/>
                    </a:lnTo>
                    <a:lnTo>
                      <a:pt x="3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602400" y="150660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8"/>
                    </a:moveTo>
                    <a:lnTo>
                      <a:pt x="22" y="8"/>
                    </a:lnTo>
                    <a:lnTo>
                      <a:pt x="33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673680" y="1496880"/>
                <a:ext cx="7020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6"/>
                    </a:moveTo>
                    <a:lnTo>
                      <a:pt x="11" y="4"/>
                    </a:lnTo>
                    <a:lnTo>
                      <a:pt x="22" y="3"/>
                    </a:lnTo>
                    <a:lnTo>
                      <a:pt x="3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743880" y="147168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16"/>
                    </a:moveTo>
                    <a:lnTo>
                      <a:pt x="11" y="13"/>
                    </a:lnTo>
                    <a:lnTo>
                      <a:pt x="22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815160" y="144468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17"/>
                    </a:moveTo>
                    <a:lnTo>
                      <a:pt x="11" y="12"/>
                    </a:lnTo>
                    <a:lnTo>
                      <a:pt x="22" y="7"/>
                    </a:lnTo>
                    <a:lnTo>
                      <a:pt x="33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885000" y="144288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1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35" y="2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958080" y="142416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13"/>
                    </a:moveTo>
                    <a:lnTo>
                      <a:pt x="11" y="11"/>
                    </a:lnTo>
                    <a:lnTo>
                      <a:pt x="22" y="7"/>
                    </a:lnTo>
                    <a:lnTo>
                      <a:pt x="33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027920" y="140328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3"/>
                    </a:moveTo>
                    <a:lnTo>
                      <a:pt x="23" y="6"/>
                    </a:lnTo>
                    <a:lnTo>
                      <a:pt x="34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099200" y="139860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1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169040" y="137952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1" y="10"/>
                    </a:lnTo>
                    <a:lnTo>
                      <a:pt x="23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240680" y="13622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1"/>
                    </a:moveTo>
                    <a:lnTo>
                      <a:pt x="22" y="5"/>
                    </a:lnTo>
                    <a:lnTo>
                      <a:pt x="3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310520" y="136224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12" y="0"/>
                    </a:lnTo>
                    <a:lnTo>
                      <a:pt x="23" y="1"/>
                    </a:lnTo>
                    <a:lnTo>
                      <a:pt x="35" y="2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383600" y="134928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11" y="8"/>
                    </a:lnTo>
                    <a:lnTo>
                      <a:pt x="22" y="6"/>
                    </a:lnTo>
                    <a:lnTo>
                      <a:pt x="33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453440" y="13334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10"/>
                    </a:moveTo>
                    <a:lnTo>
                      <a:pt x="23" y="5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524720" y="13334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11" y="0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594560" y="13273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0" y="9"/>
                    </a:moveTo>
                    <a:lnTo>
                      <a:pt x="12" y="8"/>
                    </a:lnTo>
                    <a:lnTo>
                      <a:pt x="23" y="5"/>
                    </a:lnTo>
                    <a:lnTo>
                      <a:pt x="3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666200" y="1314360"/>
                <a:ext cx="7128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22" y="4"/>
                    </a:lnTo>
                    <a:lnTo>
                      <a:pt x="3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737480" y="131436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808760" y="130176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11" y="7"/>
                    </a:lnTo>
                    <a:lnTo>
                      <a:pt x="22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880400" y="129060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7"/>
                    </a:moveTo>
                    <a:lnTo>
                      <a:pt x="22" y="3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50240" y="12906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34" y="2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8021520" y="128412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6"/>
                    </a:moveTo>
                    <a:lnTo>
                      <a:pt x="11" y="5"/>
                    </a:lnTo>
                    <a:lnTo>
                      <a:pt x="22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066680" y="1571760"/>
                <a:ext cx="69840" cy="12672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0" y="80"/>
                    </a:moveTo>
                    <a:lnTo>
                      <a:pt x="3" y="75"/>
                    </a:lnTo>
                    <a:lnTo>
                      <a:pt x="5" y="69"/>
                    </a:lnTo>
                    <a:lnTo>
                      <a:pt x="11" y="55"/>
                    </a:lnTo>
                    <a:lnTo>
                      <a:pt x="16" y="39"/>
                    </a:lnTo>
                    <a:lnTo>
                      <a:pt x="22" y="25"/>
                    </a:lnTo>
                    <a:lnTo>
                      <a:pt x="25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136520" y="1577880"/>
                <a:ext cx="73080" cy="336600"/>
              </a:xfrm>
              <a:custGeom>
                <a:avLst/>
                <a:gdLst/>
                <a:ahLst/>
                <a:rect l="l" t="t" r="r" b="b"/>
                <a:pathLst>
                  <a:path w="46" h="212">
                    <a:moveTo>
                      <a:pt x="0" y="0"/>
                    </a:moveTo>
                    <a:lnTo>
                      <a:pt x="1" y="2"/>
                    </a:lnTo>
                    <a:lnTo>
                      <a:pt x="3" y="6"/>
                    </a:lnTo>
                    <a:lnTo>
                      <a:pt x="7" y="14"/>
                    </a:lnTo>
                    <a:lnTo>
                      <a:pt x="9" y="26"/>
                    </a:lnTo>
                    <a:lnTo>
                      <a:pt x="12" y="39"/>
                    </a:lnTo>
                    <a:lnTo>
                      <a:pt x="15" y="54"/>
                    </a:lnTo>
                    <a:lnTo>
                      <a:pt x="18" y="70"/>
                    </a:lnTo>
                    <a:lnTo>
                      <a:pt x="21" y="87"/>
                    </a:lnTo>
                    <a:lnTo>
                      <a:pt x="23" y="105"/>
                    </a:lnTo>
                    <a:lnTo>
                      <a:pt x="26" y="123"/>
                    </a:lnTo>
                    <a:lnTo>
                      <a:pt x="29" y="139"/>
                    </a:lnTo>
                    <a:lnTo>
                      <a:pt x="32" y="156"/>
                    </a:lnTo>
                    <a:lnTo>
                      <a:pt x="35" y="171"/>
                    </a:lnTo>
                    <a:lnTo>
                      <a:pt x="38" y="185"/>
                    </a:lnTo>
                    <a:lnTo>
                      <a:pt x="40" y="197"/>
                    </a:lnTo>
                    <a:lnTo>
                      <a:pt x="43" y="206"/>
                    </a:lnTo>
                    <a:lnTo>
                      <a:pt x="45" y="209"/>
                    </a:lnTo>
                    <a:lnTo>
                      <a:pt x="46" y="21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209600" y="1824120"/>
                <a:ext cx="71640" cy="9684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0" y="57"/>
                    </a:moveTo>
                    <a:lnTo>
                      <a:pt x="3" y="60"/>
                    </a:lnTo>
                    <a:lnTo>
                      <a:pt x="6" y="61"/>
                    </a:lnTo>
                    <a:lnTo>
                      <a:pt x="8" y="60"/>
                    </a:lnTo>
                    <a:lnTo>
                      <a:pt x="11" y="57"/>
                    </a:lnTo>
                    <a:lnTo>
                      <a:pt x="14" y="53"/>
                    </a:lnTo>
                    <a:lnTo>
                      <a:pt x="17" y="48"/>
                    </a:lnTo>
                    <a:lnTo>
                      <a:pt x="19" y="41"/>
                    </a:lnTo>
                    <a:lnTo>
                      <a:pt x="22" y="34"/>
                    </a:lnTo>
                    <a:lnTo>
                      <a:pt x="28" y="20"/>
                    </a:lnTo>
                    <a:lnTo>
                      <a:pt x="30" y="13"/>
                    </a:lnTo>
                    <a:lnTo>
                      <a:pt x="33" y="8"/>
                    </a:lnTo>
                    <a:lnTo>
                      <a:pt x="36" y="4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281240" y="1825560"/>
                <a:ext cx="69840" cy="208080"/>
              </a:xfrm>
              <a:custGeom>
                <a:avLst/>
                <a:gdLst/>
                <a:ahLst/>
                <a:rect l="l" t="t" r="r" b="b"/>
                <a:pathLst>
                  <a:path w="44" h="131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7" y="10"/>
                    </a:lnTo>
                    <a:lnTo>
                      <a:pt x="10" y="15"/>
                    </a:lnTo>
                    <a:lnTo>
                      <a:pt x="13" y="20"/>
                    </a:lnTo>
                    <a:lnTo>
                      <a:pt x="16" y="28"/>
                    </a:lnTo>
                    <a:lnTo>
                      <a:pt x="19" y="36"/>
                    </a:lnTo>
                    <a:lnTo>
                      <a:pt x="22" y="44"/>
                    </a:lnTo>
                    <a:lnTo>
                      <a:pt x="28" y="62"/>
                    </a:lnTo>
                    <a:lnTo>
                      <a:pt x="34" y="83"/>
                    </a:lnTo>
                    <a:lnTo>
                      <a:pt x="39" y="106"/>
                    </a:lnTo>
                    <a:lnTo>
                      <a:pt x="44" y="13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351080" y="2033640"/>
                <a:ext cx="71280" cy="663480"/>
              </a:xfrm>
              <a:custGeom>
                <a:avLst/>
                <a:gdLst/>
                <a:ahLst/>
                <a:rect l="l" t="t" r="r" b="b"/>
                <a:pathLst>
                  <a:path w="45" h="418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29"/>
                    </a:lnTo>
                    <a:lnTo>
                      <a:pt x="5" y="41"/>
                    </a:lnTo>
                    <a:lnTo>
                      <a:pt x="8" y="67"/>
                    </a:lnTo>
                    <a:lnTo>
                      <a:pt x="11" y="94"/>
                    </a:lnTo>
                    <a:lnTo>
                      <a:pt x="14" y="123"/>
                    </a:lnTo>
                    <a:lnTo>
                      <a:pt x="16" y="155"/>
                    </a:lnTo>
                    <a:lnTo>
                      <a:pt x="19" y="186"/>
                    </a:lnTo>
                    <a:lnTo>
                      <a:pt x="22" y="217"/>
                    </a:lnTo>
                    <a:lnTo>
                      <a:pt x="25" y="250"/>
                    </a:lnTo>
                    <a:lnTo>
                      <a:pt x="28" y="280"/>
                    </a:lnTo>
                    <a:lnTo>
                      <a:pt x="30" y="309"/>
                    </a:lnTo>
                    <a:lnTo>
                      <a:pt x="33" y="337"/>
                    </a:lnTo>
                    <a:lnTo>
                      <a:pt x="36" y="362"/>
                    </a:lnTo>
                    <a:lnTo>
                      <a:pt x="37" y="373"/>
                    </a:lnTo>
                    <a:lnTo>
                      <a:pt x="40" y="384"/>
                    </a:lnTo>
                    <a:lnTo>
                      <a:pt x="41" y="394"/>
                    </a:lnTo>
                    <a:lnTo>
                      <a:pt x="42" y="403"/>
                    </a:lnTo>
                    <a:lnTo>
                      <a:pt x="44" y="411"/>
                    </a:lnTo>
                    <a:lnTo>
                      <a:pt x="45" y="41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422360" y="267336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15"/>
                    </a:moveTo>
                    <a:lnTo>
                      <a:pt x="1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29" y="12"/>
                    </a:lnTo>
                    <a:lnTo>
                      <a:pt x="36" y="6"/>
                    </a:lnTo>
                    <a:lnTo>
                      <a:pt x="41" y="2"/>
                    </a:lnTo>
                    <a:lnTo>
                      <a:pt x="4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1492200" y="263196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26"/>
                    </a:moveTo>
                    <a:lnTo>
                      <a:pt x="1" y="25"/>
                    </a:lnTo>
                    <a:lnTo>
                      <a:pt x="3" y="24"/>
                    </a:lnTo>
                    <a:lnTo>
                      <a:pt x="8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4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1563840" y="2643120"/>
                <a:ext cx="71280" cy="730440"/>
              </a:xfrm>
              <a:custGeom>
                <a:avLst/>
                <a:gdLst/>
                <a:ahLst/>
                <a:rect l="l" t="t" r="r" b="b"/>
                <a:pathLst>
                  <a:path w="45" h="460">
                    <a:moveTo>
                      <a:pt x="0" y="0"/>
                    </a:moveTo>
                    <a:lnTo>
                      <a:pt x="1" y="7"/>
                    </a:lnTo>
                    <a:lnTo>
                      <a:pt x="3" y="17"/>
                    </a:lnTo>
                    <a:lnTo>
                      <a:pt x="4" y="27"/>
                    </a:lnTo>
                    <a:lnTo>
                      <a:pt x="6" y="38"/>
                    </a:lnTo>
                    <a:lnTo>
                      <a:pt x="7" y="50"/>
                    </a:lnTo>
                    <a:lnTo>
                      <a:pt x="8" y="63"/>
                    </a:lnTo>
                    <a:lnTo>
                      <a:pt x="10" y="77"/>
                    </a:lnTo>
                    <a:lnTo>
                      <a:pt x="11" y="92"/>
                    </a:lnTo>
                    <a:lnTo>
                      <a:pt x="14" y="124"/>
                    </a:lnTo>
                    <a:lnTo>
                      <a:pt x="17" y="158"/>
                    </a:lnTo>
                    <a:lnTo>
                      <a:pt x="20" y="194"/>
                    </a:lnTo>
                    <a:lnTo>
                      <a:pt x="22" y="229"/>
                    </a:lnTo>
                    <a:lnTo>
                      <a:pt x="25" y="265"/>
                    </a:lnTo>
                    <a:lnTo>
                      <a:pt x="28" y="301"/>
                    </a:lnTo>
                    <a:lnTo>
                      <a:pt x="31" y="334"/>
                    </a:lnTo>
                    <a:lnTo>
                      <a:pt x="34" y="367"/>
                    </a:lnTo>
                    <a:lnTo>
                      <a:pt x="35" y="381"/>
                    </a:lnTo>
                    <a:lnTo>
                      <a:pt x="37" y="395"/>
                    </a:lnTo>
                    <a:lnTo>
                      <a:pt x="38" y="409"/>
                    </a:lnTo>
                    <a:lnTo>
                      <a:pt x="39" y="421"/>
                    </a:lnTo>
                    <a:lnTo>
                      <a:pt x="41" y="432"/>
                    </a:lnTo>
                    <a:lnTo>
                      <a:pt x="42" y="443"/>
                    </a:lnTo>
                    <a:lnTo>
                      <a:pt x="44" y="452"/>
                    </a:lnTo>
                    <a:lnTo>
                      <a:pt x="45" y="46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1635120" y="336708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4"/>
                    </a:moveTo>
                    <a:lnTo>
                      <a:pt x="1" y="8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8" y="13"/>
                    </a:lnTo>
                    <a:lnTo>
                      <a:pt x="15" y="12"/>
                    </a:lnTo>
                    <a:lnTo>
                      <a:pt x="22" y="10"/>
                    </a:lnTo>
                    <a:lnTo>
                      <a:pt x="30" y="7"/>
                    </a:lnTo>
                    <a:lnTo>
                      <a:pt x="37" y="4"/>
                    </a:lnTo>
                    <a:lnTo>
                      <a:pt x="4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706400" y="334656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13"/>
                    </a:moveTo>
                    <a:lnTo>
                      <a:pt x="4" y="12"/>
                    </a:lnTo>
                    <a:lnTo>
                      <a:pt x="9" y="9"/>
                    </a:lnTo>
                    <a:lnTo>
                      <a:pt x="15" y="6"/>
                    </a:lnTo>
                    <a:lnTo>
                      <a:pt x="22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2" y="5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1776240" y="3359160"/>
                <a:ext cx="71640" cy="374760"/>
              </a:xfrm>
              <a:custGeom>
                <a:avLst/>
                <a:gdLst/>
                <a:ahLst/>
                <a:rect l="l" t="t" r="r" b="b"/>
                <a:pathLst>
                  <a:path w="45" h="236">
                    <a:moveTo>
                      <a:pt x="0" y="0"/>
                    </a:moveTo>
                    <a:lnTo>
                      <a:pt x="3" y="8"/>
                    </a:lnTo>
                    <a:lnTo>
                      <a:pt x="5" y="19"/>
                    </a:lnTo>
                    <a:lnTo>
                      <a:pt x="8" y="33"/>
                    </a:lnTo>
                    <a:lnTo>
                      <a:pt x="11" y="47"/>
                    </a:lnTo>
                    <a:lnTo>
                      <a:pt x="14" y="64"/>
                    </a:lnTo>
                    <a:lnTo>
                      <a:pt x="16" y="82"/>
                    </a:lnTo>
                    <a:lnTo>
                      <a:pt x="22" y="118"/>
                    </a:lnTo>
                    <a:lnTo>
                      <a:pt x="29" y="155"/>
                    </a:lnTo>
                    <a:lnTo>
                      <a:pt x="31" y="173"/>
                    </a:lnTo>
                    <a:lnTo>
                      <a:pt x="34" y="189"/>
                    </a:lnTo>
                    <a:lnTo>
                      <a:pt x="37" y="203"/>
                    </a:lnTo>
                    <a:lnTo>
                      <a:pt x="40" y="216"/>
                    </a:lnTo>
                    <a:lnTo>
                      <a:pt x="42" y="227"/>
                    </a:lnTo>
                    <a:lnTo>
                      <a:pt x="45" y="23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1847880" y="370836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16"/>
                    </a:moveTo>
                    <a:lnTo>
                      <a:pt x="2" y="19"/>
                    </a:lnTo>
                    <a:lnTo>
                      <a:pt x="4" y="22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2" y="23"/>
                    </a:lnTo>
                    <a:lnTo>
                      <a:pt x="15" y="22"/>
                    </a:lnTo>
                    <a:lnTo>
                      <a:pt x="22" y="18"/>
                    </a:lnTo>
                    <a:lnTo>
                      <a:pt x="29" y="12"/>
                    </a:lnTo>
                    <a:lnTo>
                      <a:pt x="35" y="7"/>
                    </a:lnTo>
                    <a:lnTo>
                      <a:pt x="40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1917720" y="3672000"/>
                <a:ext cx="7128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3"/>
                    </a:moveTo>
                    <a:lnTo>
                      <a:pt x="5" y="20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23" y="5"/>
                    </a:lnTo>
                    <a:lnTo>
                      <a:pt x="29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0" y="1"/>
                    </a:lnTo>
                    <a:lnTo>
                      <a:pt x="43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1989000" y="3681360"/>
                <a:ext cx="71640" cy="25236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0" y="0"/>
                    </a:moveTo>
                    <a:lnTo>
                      <a:pt x="3" y="5"/>
                    </a:lnTo>
                    <a:lnTo>
                      <a:pt x="6" y="13"/>
                    </a:lnTo>
                    <a:lnTo>
                      <a:pt x="8" y="21"/>
                    </a:lnTo>
                    <a:lnTo>
                      <a:pt x="11" y="32"/>
                    </a:lnTo>
                    <a:lnTo>
                      <a:pt x="14" y="43"/>
                    </a:lnTo>
                    <a:lnTo>
                      <a:pt x="17" y="55"/>
                    </a:lnTo>
                    <a:lnTo>
                      <a:pt x="22" y="80"/>
                    </a:lnTo>
                    <a:lnTo>
                      <a:pt x="28" y="104"/>
                    </a:lnTo>
                    <a:lnTo>
                      <a:pt x="31" y="117"/>
                    </a:lnTo>
                    <a:lnTo>
                      <a:pt x="34" y="128"/>
                    </a:lnTo>
                    <a:lnTo>
                      <a:pt x="37" y="138"/>
                    </a:lnTo>
                    <a:lnTo>
                      <a:pt x="39" y="147"/>
                    </a:lnTo>
                    <a:lnTo>
                      <a:pt x="42" y="154"/>
                    </a:lnTo>
                    <a:lnTo>
                      <a:pt x="45" y="159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2060640" y="390204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20"/>
                    </a:moveTo>
                    <a:lnTo>
                      <a:pt x="3" y="23"/>
                    </a:lnTo>
                    <a:lnTo>
                      <a:pt x="5" y="25"/>
                    </a:lnTo>
                    <a:lnTo>
                      <a:pt x="8" y="26"/>
                    </a:lnTo>
                    <a:lnTo>
                      <a:pt x="11" y="26"/>
                    </a:lnTo>
                    <a:lnTo>
                      <a:pt x="13" y="26"/>
                    </a:lnTo>
                    <a:lnTo>
                      <a:pt x="17" y="24"/>
                    </a:lnTo>
                    <a:lnTo>
                      <a:pt x="23" y="20"/>
                    </a:lnTo>
                    <a:lnTo>
                      <a:pt x="29" y="14"/>
                    </a:lnTo>
                    <a:lnTo>
                      <a:pt x="35" y="9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2131920" y="3862440"/>
                <a:ext cx="69840" cy="39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25"/>
                    </a:moveTo>
                    <a:lnTo>
                      <a:pt x="5" y="22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2" y="7"/>
                    </a:lnTo>
                    <a:lnTo>
                      <a:pt x="28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2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2201760" y="3868560"/>
                <a:ext cx="71640" cy="158760"/>
              </a:xfrm>
              <a:custGeom>
                <a:avLst/>
                <a:gdLst/>
                <a:ahLst/>
                <a:rect l="l" t="t" r="r" b="b"/>
                <a:pathLst>
                  <a:path w="45" h="100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8" y="13"/>
                    </a:lnTo>
                    <a:lnTo>
                      <a:pt x="12" y="19"/>
                    </a:lnTo>
                    <a:lnTo>
                      <a:pt x="17" y="34"/>
                    </a:lnTo>
                    <a:lnTo>
                      <a:pt x="23" y="50"/>
                    </a:lnTo>
                    <a:lnTo>
                      <a:pt x="29" y="66"/>
                    </a:lnTo>
                    <a:lnTo>
                      <a:pt x="34" y="80"/>
                    </a:lnTo>
                    <a:lnTo>
                      <a:pt x="37" y="87"/>
                    </a:lnTo>
                    <a:lnTo>
                      <a:pt x="40" y="93"/>
                    </a:lnTo>
                    <a:lnTo>
                      <a:pt x="42" y="97"/>
                    </a:lnTo>
                    <a:lnTo>
                      <a:pt x="45" y="10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2273400" y="3984480"/>
                <a:ext cx="69840" cy="4788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27"/>
                    </a:moveTo>
                    <a:lnTo>
                      <a:pt x="3" y="29"/>
                    </a:lnTo>
                    <a:lnTo>
                      <a:pt x="5" y="30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6" y="26"/>
                    </a:lnTo>
                    <a:lnTo>
                      <a:pt x="22" y="22"/>
                    </a:lnTo>
                    <a:lnTo>
                      <a:pt x="28" y="16"/>
                    </a:lnTo>
                    <a:lnTo>
                      <a:pt x="33" y="10"/>
                    </a:lnTo>
                    <a:lnTo>
                      <a:pt x="39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2343240" y="394164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7"/>
                    </a:moveTo>
                    <a:lnTo>
                      <a:pt x="5" y="23"/>
                    </a:lnTo>
                    <a:lnTo>
                      <a:pt x="12" y="18"/>
                    </a:lnTo>
                    <a:lnTo>
                      <a:pt x="17" y="13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4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2414520" y="3943440"/>
                <a:ext cx="71640" cy="117360"/>
              </a:xfrm>
              <a:custGeom>
                <a:avLst/>
                <a:gdLst/>
                <a:ahLst/>
                <a:rect l="l" t="t" r="r" b="b"/>
                <a:pathLst>
                  <a:path w="45" h="74">
                    <a:moveTo>
                      <a:pt x="0" y="0"/>
                    </a:moveTo>
                    <a:lnTo>
                      <a:pt x="3" y="2"/>
                    </a:lnTo>
                    <a:lnTo>
                      <a:pt x="6" y="5"/>
                    </a:lnTo>
                    <a:lnTo>
                      <a:pt x="8" y="9"/>
                    </a:lnTo>
                    <a:lnTo>
                      <a:pt x="11" y="14"/>
                    </a:lnTo>
                    <a:lnTo>
                      <a:pt x="17" y="25"/>
                    </a:lnTo>
                    <a:lnTo>
                      <a:pt x="22" y="38"/>
                    </a:lnTo>
                    <a:lnTo>
                      <a:pt x="28" y="50"/>
                    </a:lnTo>
                    <a:lnTo>
                      <a:pt x="34" y="61"/>
                    </a:lnTo>
                    <a:lnTo>
                      <a:pt x="37" y="65"/>
                    </a:lnTo>
                    <a:lnTo>
                      <a:pt x="39" y="69"/>
                    </a:lnTo>
                    <a:lnTo>
                      <a:pt x="42" y="72"/>
                    </a:lnTo>
                    <a:lnTo>
                      <a:pt x="45" y="7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486160" y="401472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29"/>
                    </a:moveTo>
                    <a:lnTo>
                      <a:pt x="4" y="30"/>
                    </a:lnTo>
                    <a:lnTo>
                      <a:pt x="7" y="30"/>
                    </a:lnTo>
                    <a:lnTo>
                      <a:pt x="12" y="29"/>
                    </a:lnTo>
                    <a:lnTo>
                      <a:pt x="18" y="26"/>
                    </a:lnTo>
                    <a:lnTo>
                      <a:pt x="23" y="21"/>
                    </a:lnTo>
                    <a:lnTo>
                      <a:pt x="29" y="15"/>
                    </a:lnTo>
                    <a:lnTo>
                      <a:pt x="34" y="10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2557440" y="3965400"/>
                <a:ext cx="71640" cy="4932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31"/>
                    </a:moveTo>
                    <a:lnTo>
                      <a:pt x="5" y="27"/>
                    </a:lnTo>
                    <a:lnTo>
                      <a:pt x="11" y="22"/>
                    </a:lnTo>
                    <a:lnTo>
                      <a:pt x="22" y="10"/>
                    </a:lnTo>
                    <a:lnTo>
                      <a:pt x="28" y="5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2629080" y="3965400"/>
                <a:ext cx="69840" cy="8280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0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11" y="9"/>
                    </a:lnTo>
                    <a:lnTo>
                      <a:pt x="16" y="17"/>
                    </a:lnTo>
                    <a:lnTo>
                      <a:pt x="22" y="27"/>
                    </a:lnTo>
                    <a:lnTo>
                      <a:pt x="28" y="35"/>
                    </a:lnTo>
                    <a:lnTo>
                      <a:pt x="33" y="43"/>
                    </a:lnTo>
                    <a:lnTo>
                      <a:pt x="39" y="49"/>
                    </a:lnTo>
                    <a:lnTo>
                      <a:pt x="41" y="51"/>
                    </a:lnTo>
                    <a:lnTo>
                      <a:pt x="44" y="5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2698920" y="399564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5" y="33"/>
                    </a:lnTo>
                    <a:lnTo>
                      <a:pt x="11" y="31"/>
                    </a:lnTo>
                    <a:lnTo>
                      <a:pt x="16" y="27"/>
                    </a:lnTo>
                    <a:lnTo>
                      <a:pt x="22" y="22"/>
                    </a:lnTo>
                    <a:lnTo>
                      <a:pt x="33" y="11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2770200" y="3944880"/>
                <a:ext cx="69840" cy="507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0" y="32"/>
                    </a:moveTo>
                    <a:lnTo>
                      <a:pt x="5" y="28"/>
                    </a:lnTo>
                    <a:lnTo>
                      <a:pt x="11" y="23"/>
                    </a:lnTo>
                    <a:lnTo>
                      <a:pt x="22" y="12"/>
                    </a:lnTo>
                    <a:lnTo>
                      <a:pt x="27" y="8"/>
                    </a:lnTo>
                    <a:lnTo>
                      <a:pt x="33" y="4"/>
                    </a:lnTo>
                    <a:lnTo>
                      <a:pt x="38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2840040" y="3944880"/>
                <a:ext cx="7308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0" y="0"/>
                    </a:moveTo>
                    <a:lnTo>
                      <a:pt x="6" y="1"/>
                    </a:lnTo>
                    <a:lnTo>
                      <a:pt x="11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28" y="19"/>
                    </a:lnTo>
                    <a:lnTo>
                      <a:pt x="35" y="24"/>
                    </a:lnTo>
                    <a:lnTo>
                      <a:pt x="40" y="27"/>
                    </a:lnTo>
                    <a:lnTo>
                      <a:pt x="46" y="2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2913120" y="3941640"/>
                <a:ext cx="69840" cy="4788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30"/>
                    </a:moveTo>
                    <a:lnTo>
                      <a:pt x="6" y="29"/>
                    </a:lnTo>
                    <a:lnTo>
                      <a:pt x="11" y="27"/>
                    </a:lnTo>
                    <a:lnTo>
                      <a:pt x="17" y="23"/>
                    </a:lnTo>
                    <a:lnTo>
                      <a:pt x="22" y="18"/>
                    </a:lnTo>
                    <a:lnTo>
                      <a:pt x="33" y="9"/>
                    </a:lnTo>
                    <a:lnTo>
                      <a:pt x="39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2982960" y="389736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28"/>
                    </a:moveTo>
                    <a:lnTo>
                      <a:pt x="11" y="20"/>
                    </a:lnTo>
                    <a:lnTo>
                      <a:pt x="22" y="11"/>
                    </a:lnTo>
                    <a:lnTo>
                      <a:pt x="29" y="7"/>
                    </a:lnTo>
                    <a:lnTo>
                      <a:pt x="34" y="4"/>
                    </a:lnTo>
                    <a:lnTo>
                      <a:pt x="40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054240" y="389736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0"/>
                    </a:moveTo>
                    <a:lnTo>
                      <a:pt x="5" y="1"/>
                    </a:lnTo>
                    <a:lnTo>
                      <a:pt x="11" y="3"/>
                    </a:lnTo>
                    <a:lnTo>
                      <a:pt x="16" y="6"/>
                    </a:lnTo>
                    <a:lnTo>
                      <a:pt x="22" y="10"/>
                    </a:lnTo>
                    <a:lnTo>
                      <a:pt x="28" y="14"/>
                    </a:lnTo>
                    <a:lnTo>
                      <a:pt x="33" y="17"/>
                    </a:lnTo>
                    <a:lnTo>
                      <a:pt x="39" y="19"/>
                    </a:lnTo>
                    <a:lnTo>
                      <a:pt x="44" y="2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124080" y="3890880"/>
                <a:ext cx="7164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24"/>
                    </a:moveTo>
                    <a:lnTo>
                      <a:pt x="5" y="23"/>
                    </a:lnTo>
                    <a:lnTo>
                      <a:pt x="11" y="21"/>
                    </a:lnTo>
                    <a:lnTo>
                      <a:pt x="16" y="1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195720" y="384660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28"/>
                    </a:moveTo>
                    <a:lnTo>
                      <a:pt x="6" y="24"/>
                    </a:lnTo>
                    <a:lnTo>
                      <a:pt x="11" y="20"/>
                    </a:lnTo>
                    <a:lnTo>
                      <a:pt x="22" y="12"/>
                    </a:lnTo>
                    <a:lnTo>
                      <a:pt x="28" y="7"/>
                    </a:lnTo>
                    <a:lnTo>
                      <a:pt x="34" y="3"/>
                    </a:lnTo>
                    <a:lnTo>
                      <a:pt x="39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267000" y="384660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18" y="6"/>
                    </a:lnTo>
                    <a:lnTo>
                      <a:pt x="23" y="10"/>
                    </a:lnTo>
                    <a:lnTo>
                      <a:pt x="29" y="15"/>
                    </a:lnTo>
                    <a:lnTo>
                      <a:pt x="34" y="19"/>
                    </a:lnTo>
                    <a:lnTo>
                      <a:pt x="40" y="21"/>
                    </a:lnTo>
                    <a:lnTo>
                      <a:pt x="45" y="2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338640" y="38466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5" y="21"/>
                    </a:lnTo>
                    <a:lnTo>
                      <a:pt x="11" y="20"/>
                    </a:lnTo>
                    <a:lnTo>
                      <a:pt x="16" y="17"/>
                    </a:lnTo>
                    <a:lnTo>
                      <a:pt x="22" y="14"/>
                    </a:lnTo>
                    <a:lnTo>
                      <a:pt x="3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408480" y="380700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25"/>
                    </a:moveTo>
                    <a:lnTo>
                      <a:pt x="11" y="18"/>
                    </a:lnTo>
                    <a:lnTo>
                      <a:pt x="23" y="10"/>
                    </a:lnTo>
                    <a:lnTo>
                      <a:pt x="34" y="4"/>
                    </a:lnTo>
                    <a:lnTo>
                      <a:pt x="40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479760" y="3807000"/>
                <a:ext cx="69840" cy="1872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5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6"/>
                    </a:lnTo>
                    <a:lnTo>
                      <a:pt x="28" y="8"/>
                    </a:lnTo>
                    <a:lnTo>
                      <a:pt x="33" y="11"/>
                    </a:lnTo>
                    <a:lnTo>
                      <a:pt x="39" y="12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49600" y="3789360"/>
                <a:ext cx="7164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3"/>
                    </a:moveTo>
                    <a:lnTo>
                      <a:pt x="5" y="22"/>
                    </a:lnTo>
                    <a:lnTo>
                      <a:pt x="12" y="20"/>
                    </a:lnTo>
                    <a:lnTo>
                      <a:pt x="23" y="14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621240" y="374652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7"/>
                    </a:moveTo>
                    <a:lnTo>
                      <a:pt x="11" y="20"/>
                    </a:lnTo>
                    <a:lnTo>
                      <a:pt x="22" y="12"/>
                    </a:lnTo>
                    <a:lnTo>
                      <a:pt x="34" y="5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692520" y="374508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1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23" y="2"/>
                    </a:lnTo>
                    <a:lnTo>
                      <a:pt x="34" y="4"/>
                    </a:lnTo>
                    <a:lnTo>
                      <a:pt x="40" y="4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763800" y="371016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25"/>
                    </a:moveTo>
                    <a:lnTo>
                      <a:pt x="5" y="23"/>
                    </a:lnTo>
                    <a:lnTo>
                      <a:pt x="11" y="21"/>
                    </a:lnTo>
                    <a:lnTo>
                      <a:pt x="22" y="15"/>
                    </a:lnTo>
                    <a:lnTo>
                      <a:pt x="33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835440" y="366552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lnTo>
                      <a:pt x="11" y="21"/>
                    </a:lnTo>
                    <a:lnTo>
                      <a:pt x="22" y="13"/>
                    </a:lnTo>
                    <a:lnTo>
                      <a:pt x="33" y="5"/>
                    </a:lnTo>
                    <a:lnTo>
                      <a:pt x="39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905280" y="366084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5" y="2"/>
                    </a:lnTo>
                    <a:lnTo>
                      <a:pt x="11" y="1"/>
                    </a:lnTo>
                    <a:lnTo>
                      <a:pt x="22" y="1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976560" y="361800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7"/>
                    </a:moveTo>
                    <a:lnTo>
                      <a:pt x="11" y="22"/>
                    </a:lnTo>
                    <a:lnTo>
                      <a:pt x="22" y="15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046400" y="3570120"/>
                <a:ext cx="73080" cy="4788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30"/>
                    </a:moveTo>
                    <a:lnTo>
                      <a:pt x="11" y="22"/>
                    </a:lnTo>
                    <a:lnTo>
                      <a:pt x="22" y="14"/>
                    </a:lnTo>
                    <a:lnTo>
                      <a:pt x="34" y="6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119480" y="3551400"/>
                <a:ext cx="69840" cy="1872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12"/>
                    </a:moveTo>
                    <a:lnTo>
                      <a:pt x="6" y="10"/>
                    </a:lnTo>
                    <a:lnTo>
                      <a:pt x="11" y="8"/>
                    </a:lnTo>
                    <a:lnTo>
                      <a:pt x="22" y="6"/>
                    </a:lnTo>
                    <a:lnTo>
                      <a:pt x="33" y="4"/>
                    </a:lnTo>
                    <a:lnTo>
                      <a:pt x="39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189320" y="350676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28"/>
                    </a:moveTo>
                    <a:lnTo>
                      <a:pt x="11" y="22"/>
                    </a:lnTo>
                    <a:lnTo>
                      <a:pt x="22" y="1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260960" y="3456000"/>
                <a:ext cx="69840" cy="507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0" y="32"/>
                    </a:moveTo>
                    <a:lnTo>
                      <a:pt x="11" y="24"/>
                    </a:lnTo>
                    <a:lnTo>
                      <a:pt x="22" y="16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330800" y="342756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8"/>
                    </a:moveTo>
                    <a:lnTo>
                      <a:pt x="11" y="13"/>
                    </a:lnTo>
                    <a:lnTo>
                      <a:pt x="22" y="9"/>
                    </a:lnTo>
                    <a:lnTo>
                      <a:pt x="34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402080" y="3379680"/>
                <a:ext cx="69840" cy="4788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30"/>
                    </a:moveTo>
                    <a:lnTo>
                      <a:pt x="11" y="23"/>
                    </a:lnTo>
                    <a:lnTo>
                      <a:pt x="22" y="1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471920" y="3327480"/>
                <a:ext cx="73080" cy="5220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33"/>
                    </a:moveTo>
                    <a:lnTo>
                      <a:pt x="11" y="25"/>
                    </a:lnTo>
                    <a:lnTo>
                      <a:pt x="23" y="16"/>
                    </a:lnTo>
                    <a:lnTo>
                      <a:pt x="35" y="8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545000" y="329724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0" y="19"/>
                    </a:moveTo>
                    <a:lnTo>
                      <a:pt x="11" y="14"/>
                    </a:lnTo>
                    <a:lnTo>
                      <a:pt x="22" y="9"/>
                    </a:lnTo>
                    <a:lnTo>
                      <a:pt x="33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614840" y="324648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32"/>
                    </a:moveTo>
                    <a:lnTo>
                      <a:pt x="11" y="25"/>
                    </a:lnTo>
                    <a:lnTo>
                      <a:pt x="23" y="1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686480" y="319248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0" y="34"/>
                    </a:moveTo>
                    <a:lnTo>
                      <a:pt x="22" y="17"/>
                    </a:lnTo>
                    <a:lnTo>
                      <a:pt x="33" y="9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756320" y="314964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7"/>
                    </a:moveTo>
                    <a:lnTo>
                      <a:pt x="12" y="20"/>
                    </a:lnTo>
                    <a:lnTo>
                      <a:pt x="23" y="13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27600" y="309708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22" y="1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98880" y="304164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35"/>
                    </a:moveTo>
                    <a:lnTo>
                      <a:pt x="23" y="18"/>
                    </a:lnTo>
                    <a:lnTo>
                      <a:pt x="3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970520" y="299880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7"/>
                    </a:moveTo>
                    <a:lnTo>
                      <a:pt x="11" y="19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3" y="4"/>
                    </a:lnTo>
                    <a:lnTo>
                      <a:pt x="39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40360" y="299880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6" y="0"/>
                    </a:lnTo>
                    <a:lnTo>
                      <a:pt x="12" y="1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29" y="9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5111640" y="2982960"/>
                <a:ext cx="71640" cy="363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23"/>
                    </a:moveTo>
                    <a:lnTo>
                      <a:pt x="5" y="22"/>
                    </a:lnTo>
                    <a:lnTo>
                      <a:pt x="11" y="19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33" y="5"/>
                    </a:lnTo>
                    <a:lnTo>
                      <a:pt x="39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183280" y="297972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2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38" y="3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253120" y="2989440"/>
                <a:ext cx="73080" cy="7920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6" y="4"/>
                    </a:lnTo>
                    <a:lnTo>
                      <a:pt x="11" y="10"/>
                    </a:lnTo>
                    <a:lnTo>
                      <a:pt x="17" y="17"/>
                    </a:lnTo>
                    <a:lnTo>
                      <a:pt x="22" y="25"/>
                    </a:lnTo>
                    <a:lnTo>
                      <a:pt x="28" y="32"/>
                    </a:lnTo>
                    <a:lnTo>
                      <a:pt x="34" y="39"/>
                    </a:lnTo>
                    <a:lnTo>
                      <a:pt x="40" y="45"/>
                    </a:lnTo>
                    <a:lnTo>
                      <a:pt x="46" y="5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326200" y="306396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3"/>
                    </a:moveTo>
                    <a:lnTo>
                      <a:pt x="6" y="5"/>
                    </a:lnTo>
                    <a:lnTo>
                      <a:pt x="11" y="7"/>
                    </a:lnTo>
                    <a:lnTo>
                      <a:pt x="17" y="7"/>
                    </a:lnTo>
                    <a:lnTo>
                      <a:pt x="22" y="7"/>
                    </a:lnTo>
                    <a:lnTo>
                      <a:pt x="33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396040" y="301320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32"/>
                    </a:moveTo>
                    <a:lnTo>
                      <a:pt x="5" y="29"/>
                    </a:lnTo>
                    <a:lnTo>
                      <a:pt x="11" y="24"/>
                    </a:lnTo>
                    <a:lnTo>
                      <a:pt x="16" y="17"/>
                    </a:lnTo>
                    <a:lnTo>
                      <a:pt x="22" y="11"/>
                    </a:lnTo>
                    <a:lnTo>
                      <a:pt x="28" y="5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467320" y="3016080"/>
                <a:ext cx="69840" cy="155880"/>
              </a:xfrm>
              <a:custGeom>
                <a:avLst/>
                <a:gdLst/>
                <a:ahLst/>
                <a:rect l="l" t="t" r="r" b="b"/>
                <a:pathLst>
                  <a:path w="44" h="98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8" y="12"/>
                    </a:lnTo>
                    <a:lnTo>
                      <a:pt x="11" y="18"/>
                    </a:lnTo>
                    <a:lnTo>
                      <a:pt x="16" y="33"/>
                    </a:lnTo>
                    <a:lnTo>
                      <a:pt x="22" y="48"/>
                    </a:lnTo>
                    <a:lnTo>
                      <a:pt x="28" y="64"/>
                    </a:lnTo>
                    <a:lnTo>
                      <a:pt x="33" y="78"/>
                    </a:lnTo>
                    <a:lnTo>
                      <a:pt x="36" y="84"/>
                    </a:lnTo>
                    <a:lnTo>
                      <a:pt x="39" y="90"/>
                    </a:lnTo>
                    <a:lnTo>
                      <a:pt x="41" y="95"/>
                    </a:lnTo>
                    <a:lnTo>
                      <a:pt x="44" y="9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5537160" y="3164040"/>
                <a:ext cx="71640" cy="1872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5"/>
                    </a:moveTo>
                    <a:lnTo>
                      <a:pt x="5" y="9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9" y="8"/>
                    </a:lnTo>
                    <a:lnTo>
                      <a:pt x="34" y="5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608800" y="3114720"/>
                <a:ext cx="69840" cy="4932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31"/>
                    </a:moveTo>
                    <a:lnTo>
                      <a:pt x="5" y="28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678640" y="3114720"/>
                <a:ext cx="72720" cy="9216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0"/>
                    </a:moveTo>
                    <a:lnTo>
                      <a:pt x="3" y="1"/>
                    </a:lnTo>
                    <a:lnTo>
                      <a:pt x="6" y="3"/>
                    </a:lnTo>
                    <a:lnTo>
                      <a:pt x="11" y="10"/>
                    </a:lnTo>
                    <a:lnTo>
                      <a:pt x="17" y="18"/>
                    </a:lnTo>
                    <a:lnTo>
                      <a:pt x="22" y="27"/>
                    </a:lnTo>
                    <a:lnTo>
                      <a:pt x="29" y="37"/>
                    </a:lnTo>
                    <a:lnTo>
                      <a:pt x="35" y="46"/>
                    </a:lnTo>
                    <a:lnTo>
                      <a:pt x="40" y="54"/>
                    </a:lnTo>
                    <a:lnTo>
                      <a:pt x="43" y="56"/>
                    </a:lnTo>
                    <a:lnTo>
                      <a:pt x="46" y="58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751360" y="318276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15"/>
                    </a:moveTo>
                    <a:lnTo>
                      <a:pt x="6" y="17"/>
                    </a:lnTo>
                    <a:lnTo>
                      <a:pt x="11" y="17"/>
                    </a:lnTo>
                    <a:lnTo>
                      <a:pt x="17" y="16"/>
                    </a:lnTo>
                    <a:lnTo>
                      <a:pt x="22" y="14"/>
                    </a:lnTo>
                    <a:lnTo>
                      <a:pt x="3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821200" y="3130560"/>
                <a:ext cx="71640" cy="5220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33"/>
                    </a:moveTo>
                    <a:lnTo>
                      <a:pt x="5" y="29"/>
                    </a:lnTo>
                    <a:lnTo>
                      <a:pt x="11" y="24"/>
                    </a:lnTo>
                    <a:lnTo>
                      <a:pt x="23" y="12"/>
                    </a:lnTo>
                    <a:lnTo>
                      <a:pt x="29" y="7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892840" y="313056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0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11" y="9"/>
                    </a:lnTo>
                    <a:lnTo>
                      <a:pt x="16" y="17"/>
                    </a:lnTo>
                    <a:lnTo>
                      <a:pt x="22" y="25"/>
                    </a:lnTo>
                    <a:lnTo>
                      <a:pt x="28" y="34"/>
                    </a:lnTo>
                    <a:lnTo>
                      <a:pt x="33" y="42"/>
                    </a:lnTo>
                    <a:lnTo>
                      <a:pt x="39" y="50"/>
                    </a:lnTo>
                    <a:lnTo>
                      <a:pt x="41" y="52"/>
                    </a:lnTo>
                    <a:lnTo>
                      <a:pt x="44" y="5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962680" y="31924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5"/>
                    </a:moveTo>
                    <a:lnTo>
                      <a:pt x="5" y="17"/>
                    </a:lnTo>
                    <a:lnTo>
                      <a:pt x="11" y="17"/>
                    </a:lnTo>
                    <a:lnTo>
                      <a:pt x="17" y="15"/>
                    </a:lnTo>
                    <a:lnTo>
                      <a:pt x="23" y="13"/>
                    </a:lnTo>
                    <a:lnTo>
                      <a:pt x="3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6033960" y="3141720"/>
                <a:ext cx="69840" cy="507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0" y="32"/>
                    </a:moveTo>
                    <a:lnTo>
                      <a:pt x="5" y="28"/>
                    </a:lnTo>
                    <a:lnTo>
                      <a:pt x="11" y="24"/>
                    </a:lnTo>
                    <a:lnTo>
                      <a:pt x="22" y="13"/>
                    </a:lnTo>
                    <a:lnTo>
                      <a:pt x="27" y="8"/>
                    </a:lnTo>
                    <a:lnTo>
                      <a:pt x="33" y="4"/>
                    </a:lnTo>
                    <a:lnTo>
                      <a:pt x="38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6103800" y="314172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0"/>
                    </a:moveTo>
                    <a:lnTo>
                      <a:pt x="3" y="1"/>
                    </a:lnTo>
                    <a:lnTo>
                      <a:pt x="6" y="2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3" y="18"/>
                    </a:lnTo>
                    <a:lnTo>
                      <a:pt x="29" y="25"/>
                    </a:lnTo>
                    <a:lnTo>
                      <a:pt x="35" y="31"/>
                    </a:lnTo>
                    <a:lnTo>
                      <a:pt x="40" y="37"/>
                    </a:lnTo>
                    <a:lnTo>
                      <a:pt x="46" y="39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6176880" y="316872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6" y="22"/>
                    </a:lnTo>
                    <a:lnTo>
                      <a:pt x="11" y="21"/>
                    </a:lnTo>
                    <a:lnTo>
                      <a:pt x="17" y="18"/>
                    </a:lnTo>
                    <a:lnTo>
                      <a:pt x="22" y="15"/>
                    </a:lnTo>
                    <a:lnTo>
                      <a:pt x="33" y="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6246720" y="3112920"/>
                <a:ext cx="71640" cy="5580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35"/>
                    </a:moveTo>
                    <a:lnTo>
                      <a:pt x="6" y="31"/>
                    </a:lnTo>
                    <a:lnTo>
                      <a:pt x="12" y="26"/>
                    </a:lnTo>
                    <a:lnTo>
                      <a:pt x="23" y="15"/>
                    </a:lnTo>
                    <a:lnTo>
                      <a:pt x="29" y="9"/>
                    </a:lnTo>
                    <a:lnTo>
                      <a:pt x="34" y="5"/>
                    </a:lnTo>
                    <a:lnTo>
                      <a:pt x="40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6318360" y="311292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5" y="0"/>
                    </a:lnTo>
                    <a:lnTo>
                      <a:pt x="11" y="3"/>
                    </a:lnTo>
                    <a:lnTo>
                      <a:pt x="16" y="6"/>
                    </a:lnTo>
                    <a:lnTo>
                      <a:pt x="22" y="11"/>
                    </a:lnTo>
                    <a:lnTo>
                      <a:pt x="28" y="15"/>
                    </a:lnTo>
                    <a:lnTo>
                      <a:pt x="33" y="19"/>
                    </a:lnTo>
                    <a:lnTo>
                      <a:pt x="39" y="22"/>
                    </a:lnTo>
                    <a:lnTo>
                      <a:pt x="45" y="2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6389640" y="311472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5" y="21"/>
                    </a:lnTo>
                    <a:lnTo>
                      <a:pt x="11" y="20"/>
                    </a:lnTo>
                    <a:lnTo>
                      <a:pt x="16" y="18"/>
                    </a:lnTo>
                    <a:lnTo>
                      <a:pt x="22" y="15"/>
                    </a:lnTo>
                    <a:lnTo>
                      <a:pt x="33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6459480" y="305748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5" y="32"/>
                    </a:lnTo>
                    <a:lnTo>
                      <a:pt x="11" y="27"/>
                    </a:lnTo>
                    <a:lnTo>
                      <a:pt x="22" y="16"/>
                    </a:lnTo>
                    <a:lnTo>
                      <a:pt x="27" y="11"/>
                    </a:lnTo>
                    <a:lnTo>
                      <a:pt x="33" y="7"/>
                    </a:lnTo>
                    <a:lnTo>
                      <a:pt x="38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6531120" y="3057480"/>
                <a:ext cx="7128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0"/>
                    </a:moveTo>
                    <a:lnTo>
                      <a:pt x="6" y="0"/>
                    </a:lnTo>
                    <a:lnTo>
                      <a:pt x="11" y="1"/>
                    </a:lnTo>
                    <a:lnTo>
                      <a:pt x="17" y="3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4" y="12"/>
                    </a:lnTo>
                    <a:lnTo>
                      <a:pt x="39" y="14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6602400" y="303696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7"/>
                    </a:moveTo>
                    <a:lnTo>
                      <a:pt x="6" y="26"/>
                    </a:lnTo>
                    <a:lnTo>
                      <a:pt x="11" y="23"/>
                    </a:lnTo>
                    <a:lnTo>
                      <a:pt x="22" y="16"/>
                    </a:lnTo>
                    <a:lnTo>
                      <a:pt x="33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6673680" y="2979720"/>
                <a:ext cx="70200" cy="5724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36"/>
                    </a:moveTo>
                    <a:lnTo>
                      <a:pt x="5" y="32"/>
                    </a:lnTo>
                    <a:lnTo>
                      <a:pt x="11" y="27"/>
                    </a:lnTo>
                    <a:lnTo>
                      <a:pt x="22" y="16"/>
                    </a:lnTo>
                    <a:lnTo>
                      <a:pt x="28" y="11"/>
                    </a:lnTo>
                    <a:lnTo>
                      <a:pt x="33" y="7"/>
                    </a:lnTo>
                    <a:lnTo>
                      <a:pt x="39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6743880" y="297648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2"/>
                    </a:moveTo>
                    <a:lnTo>
                      <a:pt x="5" y="1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8" y="3"/>
                    </a:lnTo>
                    <a:lnTo>
                      <a:pt x="34" y="4"/>
                    </a:lnTo>
                    <a:lnTo>
                      <a:pt x="40" y="4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"/>
            <p:cNvSpPr/>
            <p:nvPr/>
          </p:nvSpPr>
          <p:spPr>
            <a:xfrm>
              <a:off x="6815160" y="2930400"/>
              <a:ext cx="69840" cy="5076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0" y="32"/>
                  </a:moveTo>
                  <a:lnTo>
                    <a:pt x="5" y="30"/>
                  </a:lnTo>
                  <a:lnTo>
                    <a:pt x="11" y="27"/>
                  </a:lnTo>
                  <a:lnTo>
                    <a:pt x="22" y="19"/>
                  </a:lnTo>
                  <a:lnTo>
                    <a:pt x="33" y="1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88500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35"/>
                  </a:moveTo>
                  <a:lnTo>
                    <a:pt x="11" y="26"/>
                  </a:lnTo>
                  <a:lnTo>
                    <a:pt x="22" y="16"/>
                  </a:lnTo>
                  <a:lnTo>
                    <a:pt x="35" y="7"/>
                  </a:lnTo>
                  <a:lnTo>
                    <a:pt x="40" y="3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958080" y="2860560"/>
              <a:ext cx="69840" cy="14400"/>
            </a:xfrm>
            <a:custGeom>
              <a:avLst/>
              <a:gdLst/>
              <a:ahLst/>
              <a:rect l="l" t="t" r="r" b="b"/>
              <a:pathLst>
                <a:path w="44" h="9">
                  <a:moveTo>
                    <a:pt x="0" y="9"/>
                  </a:moveTo>
                  <a:lnTo>
                    <a:pt x="6" y="7"/>
                  </a:lnTo>
                  <a:lnTo>
                    <a:pt x="11" y="5"/>
                  </a:lnTo>
                  <a:lnTo>
                    <a:pt x="22" y="4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027920" y="281304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0" y="30"/>
                  </a:moveTo>
                  <a:lnTo>
                    <a:pt x="11" y="24"/>
                  </a:lnTo>
                  <a:lnTo>
                    <a:pt x="23" y="17"/>
                  </a:lnTo>
                  <a:lnTo>
                    <a:pt x="34" y="8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099200" y="275436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37"/>
                  </a:moveTo>
                  <a:lnTo>
                    <a:pt x="11" y="27"/>
                  </a:lnTo>
                  <a:lnTo>
                    <a:pt x="22" y="17"/>
                  </a:lnTo>
                  <a:lnTo>
                    <a:pt x="33" y="7"/>
                  </a:lnTo>
                  <a:lnTo>
                    <a:pt x="39" y="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169040" y="2736720"/>
              <a:ext cx="7164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0" y="11"/>
                  </a:moveTo>
                  <a:lnTo>
                    <a:pt x="5" y="9"/>
                  </a:lnTo>
                  <a:lnTo>
                    <a:pt x="11" y="7"/>
                  </a:lnTo>
                  <a:lnTo>
                    <a:pt x="23" y="5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40680" y="2687760"/>
              <a:ext cx="69840" cy="489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31"/>
                  </a:moveTo>
                  <a:lnTo>
                    <a:pt x="11" y="25"/>
                  </a:lnTo>
                  <a:lnTo>
                    <a:pt x="22" y="17"/>
                  </a:lnTo>
                  <a:lnTo>
                    <a:pt x="33" y="9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310520" y="262908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7"/>
                  </a:moveTo>
                  <a:lnTo>
                    <a:pt x="12" y="28"/>
                  </a:lnTo>
                  <a:lnTo>
                    <a:pt x="23" y="17"/>
                  </a:lnTo>
                  <a:lnTo>
                    <a:pt x="35" y="8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383600" y="2604960"/>
              <a:ext cx="69840" cy="241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6" y="12"/>
                  </a:lnTo>
                  <a:lnTo>
                    <a:pt x="11" y="10"/>
                  </a:lnTo>
                  <a:lnTo>
                    <a:pt x="22" y="7"/>
                  </a:lnTo>
                  <a:lnTo>
                    <a:pt x="33" y="4"/>
                  </a:lnTo>
                  <a:lnTo>
                    <a:pt x="39" y="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453440" y="255420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32"/>
                  </a:moveTo>
                  <a:lnTo>
                    <a:pt x="12" y="25"/>
                  </a:lnTo>
                  <a:lnTo>
                    <a:pt x="23" y="1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524720" y="249552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37"/>
                  </a:moveTo>
                  <a:lnTo>
                    <a:pt x="11" y="28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7594560" y="2462040"/>
              <a:ext cx="7164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1"/>
                  </a:moveTo>
                  <a:lnTo>
                    <a:pt x="12" y="15"/>
                  </a:lnTo>
                  <a:lnTo>
                    <a:pt x="23" y="10"/>
                  </a:lnTo>
                  <a:lnTo>
                    <a:pt x="34" y="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666200" y="2409840"/>
              <a:ext cx="71280" cy="522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33"/>
                  </a:moveTo>
                  <a:lnTo>
                    <a:pt x="11" y="26"/>
                  </a:lnTo>
                  <a:lnTo>
                    <a:pt x="22" y="1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737480" y="2354400"/>
              <a:ext cx="71280" cy="5544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35"/>
                  </a:moveTo>
                  <a:lnTo>
                    <a:pt x="11" y="25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808760" y="2320920"/>
              <a:ext cx="7164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1"/>
                  </a:moveTo>
                  <a:lnTo>
                    <a:pt x="11" y="15"/>
                  </a:lnTo>
                  <a:lnTo>
                    <a:pt x="22" y="10"/>
                  </a:lnTo>
                  <a:lnTo>
                    <a:pt x="33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880400" y="2276640"/>
              <a:ext cx="69840" cy="4428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28"/>
                  </a:moveTo>
                  <a:lnTo>
                    <a:pt x="11" y="22"/>
                  </a:lnTo>
                  <a:lnTo>
                    <a:pt x="22" y="1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950240" y="222732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31"/>
                  </a:moveTo>
                  <a:lnTo>
                    <a:pt x="11" y="22"/>
                  </a:lnTo>
                  <a:lnTo>
                    <a:pt x="22" y="14"/>
                  </a:lnTo>
                  <a:lnTo>
                    <a:pt x="34" y="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8021520" y="2198520"/>
              <a:ext cx="69840" cy="2880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8"/>
                  </a:moveTo>
                  <a:lnTo>
                    <a:pt x="11" y="13"/>
                  </a:lnTo>
                  <a:lnTo>
                    <a:pt x="22" y="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909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8580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85800" y="4498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85800" y="4129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80680" y="376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80680" y="3390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80680" y="3021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80680" y="2651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80680" y="2282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80680" y="1913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80680" y="1542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80680" y="117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80680" y="803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986040" y="550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7068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44816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254640" y="5508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976880" y="550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4717080" y="582444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rot="16200000">
              <a:off x="-842040" y="2939400"/>
              <a:ext cx="2356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rbon Stocks (Mg/ha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951640" y="5029200"/>
              <a:ext cx="205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ifting cul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665080" y="1981080"/>
              <a:ext cx="26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ifting cultivation + A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530680" y="2057400"/>
              <a:ext cx="2089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ifting cultivation + AF + NTF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952880" y="3200400"/>
              <a:ext cx="3429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ifting cultivation + AF + NTFP + Plan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5" name=""/>
          <p:cNvGrpSpPr/>
          <p:nvPr/>
        </p:nvGrpSpPr>
        <p:grpSpPr>
          <a:xfrm>
            <a:off x="76320" y="152280"/>
            <a:ext cx="9144000" cy="5898960"/>
            <a:chOff x="76320" y="152280"/>
            <a:chExt cx="9144000" cy="5898960"/>
          </a:xfrm>
        </p:grpSpPr>
        <p:sp>
          <p:nvSpPr>
            <p:cNvPr id="3836" name=""/>
            <p:cNvSpPr/>
            <p:nvPr/>
          </p:nvSpPr>
          <p:spPr>
            <a:xfrm>
              <a:off x="76320" y="152280"/>
              <a:ext cx="91440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LLO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xplaining history of land-use/cover changes at forest margin in Jambi, Sumat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33520" y="1295280"/>
              <a:ext cx="8153280" cy="47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Questio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an we reconstruct the profitability and environmental effects of the historical transition from shifting cultivation to rubber agroforest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will the trajectory be if we include intensive rubber and oil palm as opti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an ‘unsustainable forest use’ contribute to ‘sustainable livelihood options’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8" name=""/>
          <p:cNvGrpSpPr/>
          <p:nvPr/>
        </p:nvGrpSpPr>
        <p:grpSpPr>
          <a:xfrm>
            <a:off x="6095880" y="2057400"/>
            <a:ext cx="3048120" cy="4267080"/>
            <a:chOff x="6095880" y="2057400"/>
            <a:chExt cx="3048120" cy="4267080"/>
          </a:xfrm>
        </p:grpSpPr>
        <p:sp>
          <p:nvSpPr>
            <p:cNvPr id="3839" name=""/>
            <p:cNvSpPr/>
            <p:nvPr/>
          </p:nvSpPr>
          <p:spPr>
            <a:xfrm>
              <a:off x="7696080" y="2057400"/>
              <a:ext cx="1447920" cy="609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391520" y="3657600"/>
              <a:ext cx="1752480" cy="1600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pend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n pri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&amp;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095880" y="5715000"/>
              <a:ext cx="1447920" cy="609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Y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"/>
          <p:cNvSpPr/>
          <p:nvPr/>
        </p:nvSpPr>
        <p:spPr>
          <a:xfrm>
            <a:off x="152280" y="15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ing some environmental consequen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 and integration approach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rvation-development in Mae Cha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533520" y="1523880"/>
            <a:ext cx="81532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represent a ‘segregate’ scenario of concentrating farm activities in the valleys while protecting hills and upper watershe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mpact will such a scenario have on total water yield, base flow, biodiversity, C stocks as well as livelihood op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94160" y="3759120"/>
            <a:ext cx="7920" cy="7452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5800" y="4807080"/>
            <a:ext cx="7920" cy="7596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38680" y="4871880"/>
            <a:ext cx="9360" cy="1116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1480" y="5083200"/>
            <a:ext cx="12600" cy="1584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05360" y="5403960"/>
            <a:ext cx="7920" cy="7308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6120" y="5467320"/>
            <a:ext cx="9720" cy="972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2640" y="1646280"/>
            <a:ext cx="539640" cy="318960"/>
          </a:xfrm>
          <a:custGeom>
            <a:avLst/>
            <a:gdLst/>
            <a:ahLst/>
            <a:rect l="l" t="t" r="r" b="b"/>
            <a:pathLst>
              <a:path w="976" h="499">
                <a:moveTo>
                  <a:pt x="932" y="499"/>
                </a:moveTo>
                <a:lnTo>
                  <a:pt x="756" y="406"/>
                </a:lnTo>
                <a:lnTo>
                  <a:pt x="534" y="342"/>
                </a:lnTo>
                <a:lnTo>
                  <a:pt x="355" y="282"/>
                </a:lnTo>
                <a:lnTo>
                  <a:pt x="178" y="188"/>
                </a:lnTo>
                <a:lnTo>
                  <a:pt x="44" y="94"/>
                </a:lnTo>
                <a:lnTo>
                  <a:pt x="0" y="32"/>
                </a:lnTo>
                <a:lnTo>
                  <a:pt x="44" y="32"/>
                </a:lnTo>
                <a:lnTo>
                  <a:pt x="131" y="0"/>
                </a:lnTo>
                <a:lnTo>
                  <a:pt x="309" y="63"/>
                </a:lnTo>
                <a:lnTo>
                  <a:pt x="487" y="156"/>
                </a:lnTo>
                <a:lnTo>
                  <a:pt x="663" y="249"/>
                </a:lnTo>
                <a:lnTo>
                  <a:pt x="842" y="342"/>
                </a:lnTo>
                <a:lnTo>
                  <a:pt x="932" y="437"/>
                </a:lnTo>
                <a:lnTo>
                  <a:pt x="976" y="499"/>
                </a:lnTo>
                <a:lnTo>
                  <a:pt x="932" y="49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2640" y="1646280"/>
            <a:ext cx="539640" cy="318960"/>
          </a:xfrm>
          <a:custGeom>
            <a:avLst/>
            <a:gdLst/>
            <a:ahLst/>
            <a:rect l="l" t="t" r="r" b="b"/>
            <a:pathLst>
              <a:path w="976" h="499">
                <a:moveTo>
                  <a:pt x="932" y="499"/>
                </a:moveTo>
                <a:lnTo>
                  <a:pt x="756" y="406"/>
                </a:lnTo>
                <a:lnTo>
                  <a:pt x="534" y="342"/>
                </a:lnTo>
                <a:lnTo>
                  <a:pt x="355" y="282"/>
                </a:lnTo>
                <a:lnTo>
                  <a:pt x="178" y="188"/>
                </a:lnTo>
                <a:lnTo>
                  <a:pt x="44" y="94"/>
                </a:lnTo>
                <a:lnTo>
                  <a:pt x="0" y="32"/>
                </a:lnTo>
                <a:lnTo>
                  <a:pt x="44" y="32"/>
                </a:lnTo>
                <a:lnTo>
                  <a:pt x="131" y="0"/>
                </a:lnTo>
                <a:lnTo>
                  <a:pt x="309" y="63"/>
                </a:lnTo>
                <a:lnTo>
                  <a:pt x="487" y="156"/>
                </a:lnTo>
                <a:lnTo>
                  <a:pt x="663" y="249"/>
                </a:lnTo>
                <a:lnTo>
                  <a:pt x="842" y="342"/>
                </a:lnTo>
                <a:lnTo>
                  <a:pt x="932" y="437"/>
                </a:lnTo>
                <a:lnTo>
                  <a:pt x="976" y="499"/>
                </a:lnTo>
                <a:lnTo>
                  <a:pt x="932" y="499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2460600"/>
            <a:ext cx="564840" cy="554040"/>
          </a:xfrm>
          <a:custGeom>
            <a:avLst/>
            <a:gdLst/>
            <a:ahLst/>
            <a:rect l="l" t="t" r="r" b="b"/>
            <a:pathLst>
              <a:path w="1021" h="870">
                <a:moveTo>
                  <a:pt x="932" y="870"/>
                </a:moveTo>
                <a:lnTo>
                  <a:pt x="844" y="870"/>
                </a:lnTo>
                <a:lnTo>
                  <a:pt x="710" y="714"/>
                </a:lnTo>
                <a:lnTo>
                  <a:pt x="623" y="591"/>
                </a:lnTo>
                <a:lnTo>
                  <a:pt x="444" y="527"/>
                </a:lnTo>
                <a:lnTo>
                  <a:pt x="310" y="436"/>
                </a:lnTo>
                <a:lnTo>
                  <a:pt x="178" y="278"/>
                </a:lnTo>
                <a:lnTo>
                  <a:pt x="89" y="218"/>
                </a:lnTo>
                <a:lnTo>
                  <a:pt x="46" y="154"/>
                </a:lnTo>
                <a:lnTo>
                  <a:pt x="0" y="123"/>
                </a:lnTo>
                <a:lnTo>
                  <a:pt x="0" y="63"/>
                </a:lnTo>
                <a:lnTo>
                  <a:pt x="46" y="63"/>
                </a:lnTo>
                <a:lnTo>
                  <a:pt x="178" y="30"/>
                </a:lnTo>
                <a:lnTo>
                  <a:pt x="268" y="0"/>
                </a:lnTo>
                <a:lnTo>
                  <a:pt x="444" y="123"/>
                </a:lnTo>
                <a:lnTo>
                  <a:pt x="623" y="278"/>
                </a:lnTo>
                <a:lnTo>
                  <a:pt x="753" y="341"/>
                </a:lnTo>
                <a:lnTo>
                  <a:pt x="979" y="466"/>
                </a:lnTo>
                <a:lnTo>
                  <a:pt x="1021" y="527"/>
                </a:lnTo>
                <a:lnTo>
                  <a:pt x="1021" y="621"/>
                </a:lnTo>
                <a:lnTo>
                  <a:pt x="1021" y="745"/>
                </a:lnTo>
                <a:lnTo>
                  <a:pt x="1021" y="776"/>
                </a:lnTo>
                <a:lnTo>
                  <a:pt x="932" y="87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62280" y="2460600"/>
            <a:ext cx="564840" cy="554040"/>
          </a:xfrm>
          <a:custGeom>
            <a:avLst/>
            <a:gdLst/>
            <a:ahLst/>
            <a:rect l="l" t="t" r="r" b="b"/>
            <a:pathLst>
              <a:path w="1021" h="870">
                <a:moveTo>
                  <a:pt x="932" y="870"/>
                </a:moveTo>
                <a:lnTo>
                  <a:pt x="844" y="870"/>
                </a:lnTo>
                <a:lnTo>
                  <a:pt x="710" y="714"/>
                </a:lnTo>
                <a:lnTo>
                  <a:pt x="623" y="591"/>
                </a:lnTo>
                <a:lnTo>
                  <a:pt x="444" y="527"/>
                </a:lnTo>
                <a:lnTo>
                  <a:pt x="310" y="436"/>
                </a:lnTo>
                <a:lnTo>
                  <a:pt x="178" y="278"/>
                </a:lnTo>
                <a:lnTo>
                  <a:pt x="89" y="218"/>
                </a:lnTo>
                <a:lnTo>
                  <a:pt x="46" y="154"/>
                </a:lnTo>
                <a:lnTo>
                  <a:pt x="0" y="123"/>
                </a:lnTo>
                <a:lnTo>
                  <a:pt x="0" y="63"/>
                </a:lnTo>
                <a:lnTo>
                  <a:pt x="46" y="63"/>
                </a:lnTo>
                <a:lnTo>
                  <a:pt x="178" y="30"/>
                </a:lnTo>
                <a:lnTo>
                  <a:pt x="268" y="0"/>
                </a:lnTo>
                <a:lnTo>
                  <a:pt x="444" y="123"/>
                </a:lnTo>
                <a:lnTo>
                  <a:pt x="623" y="278"/>
                </a:lnTo>
                <a:lnTo>
                  <a:pt x="753" y="341"/>
                </a:lnTo>
                <a:lnTo>
                  <a:pt x="979" y="466"/>
                </a:lnTo>
                <a:lnTo>
                  <a:pt x="1021" y="527"/>
                </a:lnTo>
                <a:lnTo>
                  <a:pt x="1021" y="621"/>
                </a:lnTo>
                <a:lnTo>
                  <a:pt x="1021" y="745"/>
                </a:lnTo>
                <a:lnTo>
                  <a:pt x="1021" y="776"/>
                </a:lnTo>
                <a:lnTo>
                  <a:pt x="932" y="87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2101680"/>
            <a:ext cx="271440" cy="196920"/>
          </a:xfrm>
          <a:custGeom>
            <a:avLst/>
            <a:gdLst/>
            <a:ahLst/>
            <a:rect l="l" t="t" r="r" b="b"/>
            <a:pathLst>
              <a:path w="490" h="310">
                <a:moveTo>
                  <a:pt x="443" y="279"/>
                </a:moveTo>
                <a:lnTo>
                  <a:pt x="400" y="310"/>
                </a:lnTo>
                <a:lnTo>
                  <a:pt x="356" y="310"/>
                </a:lnTo>
                <a:lnTo>
                  <a:pt x="221" y="310"/>
                </a:lnTo>
                <a:lnTo>
                  <a:pt x="178" y="279"/>
                </a:lnTo>
                <a:lnTo>
                  <a:pt x="134" y="279"/>
                </a:lnTo>
                <a:lnTo>
                  <a:pt x="91" y="218"/>
                </a:lnTo>
                <a:lnTo>
                  <a:pt x="0" y="156"/>
                </a:lnTo>
                <a:lnTo>
                  <a:pt x="0" y="124"/>
                </a:lnTo>
                <a:lnTo>
                  <a:pt x="0" y="61"/>
                </a:lnTo>
                <a:lnTo>
                  <a:pt x="91" y="61"/>
                </a:lnTo>
                <a:lnTo>
                  <a:pt x="178" y="30"/>
                </a:lnTo>
                <a:lnTo>
                  <a:pt x="312" y="0"/>
                </a:lnTo>
                <a:lnTo>
                  <a:pt x="400" y="61"/>
                </a:lnTo>
                <a:lnTo>
                  <a:pt x="490" y="94"/>
                </a:lnTo>
                <a:lnTo>
                  <a:pt x="490" y="186"/>
                </a:lnTo>
                <a:lnTo>
                  <a:pt x="490" y="249"/>
                </a:lnTo>
                <a:lnTo>
                  <a:pt x="443" y="27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2101680"/>
            <a:ext cx="271440" cy="196920"/>
          </a:xfrm>
          <a:custGeom>
            <a:avLst/>
            <a:gdLst/>
            <a:ahLst/>
            <a:rect l="l" t="t" r="r" b="b"/>
            <a:pathLst>
              <a:path w="490" h="310">
                <a:moveTo>
                  <a:pt x="443" y="279"/>
                </a:moveTo>
                <a:lnTo>
                  <a:pt x="400" y="310"/>
                </a:lnTo>
                <a:lnTo>
                  <a:pt x="356" y="310"/>
                </a:lnTo>
                <a:lnTo>
                  <a:pt x="221" y="310"/>
                </a:lnTo>
                <a:lnTo>
                  <a:pt x="178" y="279"/>
                </a:lnTo>
                <a:lnTo>
                  <a:pt x="134" y="279"/>
                </a:lnTo>
                <a:lnTo>
                  <a:pt x="91" y="218"/>
                </a:lnTo>
                <a:lnTo>
                  <a:pt x="0" y="156"/>
                </a:lnTo>
                <a:lnTo>
                  <a:pt x="0" y="124"/>
                </a:lnTo>
                <a:lnTo>
                  <a:pt x="0" y="61"/>
                </a:lnTo>
                <a:lnTo>
                  <a:pt x="91" y="61"/>
                </a:lnTo>
                <a:lnTo>
                  <a:pt x="178" y="30"/>
                </a:lnTo>
                <a:lnTo>
                  <a:pt x="312" y="0"/>
                </a:lnTo>
                <a:lnTo>
                  <a:pt x="400" y="61"/>
                </a:lnTo>
                <a:lnTo>
                  <a:pt x="490" y="94"/>
                </a:lnTo>
                <a:lnTo>
                  <a:pt x="490" y="186"/>
                </a:lnTo>
                <a:lnTo>
                  <a:pt x="490" y="249"/>
                </a:lnTo>
                <a:lnTo>
                  <a:pt x="443" y="279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48240" y="2379600"/>
            <a:ext cx="343080" cy="200160"/>
          </a:xfrm>
          <a:custGeom>
            <a:avLst/>
            <a:gdLst/>
            <a:ahLst/>
            <a:rect l="l" t="t" r="r" b="b"/>
            <a:pathLst>
              <a:path w="623" h="312">
                <a:moveTo>
                  <a:pt x="576" y="312"/>
                </a:moveTo>
                <a:lnTo>
                  <a:pt x="533" y="280"/>
                </a:lnTo>
                <a:lnTo>
                  <a:pt x="446" y="218"/>
                </a:lnTo>
                <a:lnTo>
                  <a:pt x="311" y="189"/>
                </a:lnTo>
                <a:lnTo>
                  <a:pt x="178" y="126"/>
                </a:lnTo>
                <a:lnTo>
                  <a:pt x="47" y="63"/>
                </a:lnTo>
                <a:lnTo>
                  <a:pt x="0" y="0"/>
                </a:lnTo>
                <a:lnTo>
                  <a:pt x="90" y="0"/>
                </a:lnTo>
                <a:lnTo>
                  <a:pt x="225" y="33"/>
                </a:lnTo>
                <a:lnTo>
                  <a:pt x="311" y="33"/>
                </a:lnTo>
                <a:lnTo>
                  <a:pt x="401" y="33"/>
                </a:lnTo>
                <a:lnTo>
                  <a:pt x="489" y="63"/>
                </a:lnTo>
                <a:lnTo>
                  <a:pt x="576" y="218"/>
                </a:lnTo>
                <a:lnTo>
                  <a:pt x="623" y="280"/>
                </a:lnTo>
                <a:lnTo>
                  <a:pt x="576" y="31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379600"/>
            <a:ext cx="343080" cy="200160"/>
          </a:xfrm>
          <a:custGeom>
            <a:avLst/>
            <a:gdLst/>
            <a:ahLst/>
            <a:rect l="l" t="t" r="r" b="b"/>
            <a:pathLst>
              <a:path w="623" h="312">
                <a:moveTo>
                  <a:pt x="576" y="312"/>
                </a:moveTo>
                <a:lnTo>
                  <a:pt x="533" y="280"/>
                </a:lnTo>
                <a:lnTo>
                  <a:pt x="446" y="218"/>
                </a:lnTo>
                <a:lnTo>
                  <a:pt x="311" y="189"/>
                </a:lnTo>
                <a:lnTo>
                  <a:pt x="178" y="126"/>
                </a:lnTo>
                <a:lnTo>
                  <a:pt x="47" y="63"/>
                </a:lnTo>
                <a:lnTo>
                  <a:pt x="0" y="0"/>
                </a:lnTo>
                <a:lnTo>
                  <a:pt x="90" y="0"/>
                </a:lnTo>
                <a:lnTo>
                  <a:pt x="225" y="33"/>
                </a:lnTo>
                <a:lnTo>
                  <a:pt x="311" y="33"/>
                </a:lnTo>
                <a:lnTo>
                  <a:pt x="401" y="33"/>
                </a:lnTo>
                <a:lnTo>
                  <a:pt x="489" y="63"/>
                </a:lnTo>
                <a:lnTo>
                  <a:pt x="576" y="218"/>
                </a:lnTo>
                <a:lnTo>
                  <a:pt x="623" y="280"/>
                </a:lnTo>
                <a:lnTo>
                  <a:pt x="576" y="312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22320"/>
            <a:ext cx="7978680" cy="6835680"/>
          </a:xfrm>
          <a:custGeom>
            <a:avLst/>
            <a:gdLst/>
            <a:ahLst/>
            <a:rect l="l" t="t" r="r" b="b"/>
            <a:pathLst>
              <a:path w="14426" h="10723">
                <a:moveTo>
                  <a:pt x="14248" y="8611"/>
                </a:moveTo>
                <a:lnTo>
                  <a:pt x="14205" y="8735"/>
                </a:lnTo>
                <a:lnTo>
                  <a:pt x="14292" y="8797"/>
                </a:lnTo>
                <a:lnTo>
                  <a:pt x="14292" y="8890"/>
                </a:lnTo>
                <a:lnTo>
                  <a:pt x="14248" y="9079"/>
                </a:lnTo>
                <a:lnTo>
                  <a:pt x="14160" y="10508"/>
                </a:lnTo>
                <a:lnTo>
                  <a:pt x="14071" y="10663"/>
                </a:lnTo>
                <a:lnTo>
                  <a:pt x="13983" y="10693"/>
                </a:lnTo>
                <a:lnTo>
                  <a:pt x="13849" y="10600"/>
                </a:lnTo>
                <a:lnTo>
                  <a:pt x="13670" y="10508"/>
                </a:lnTo>
                <a:lnTo>
                  <a:pt x="13494" y="10414"/>
                </a:lnTo>
                <a:lnTo>
                  <a:pt x="13407" y="10445"/>
                </a:lnTo>
                <a:lnTo>
                  <a:pt x="13360" y="10600"/>
                </a:lnTo>
                <a:lnTo>
                  <a:pt x="13183" y="10632"/>
                </a:lnTo>
                <a:lnTo>
                  <a:pt x="12961" y="10508"/>
                </a:lnTo>
                <a:lnTo>
                  <a:pt x="12740" y="10414"/>
                </a:lnTo>
                <a:lnTo>
                  <a:pt x="12561" y="10414"/>
                </a:lnTo>
                <a:lnTo>
                  <a:pt x="12740" y="10693"/>
                </a:lnTo>
                <a:lnTo>
                  <a:pt x="12606" y="10723"/>
                </a:lnTo>
                <a:lnTo>
                  <a:pt x="12340" y="10569"/>
                </a:lnTo>
                <a:lnTo>
                  <a:pt x="12163" y="10445"/>
                </a:lnTo>
                <a:lnTo>
                  <a:pt x="11763" y="10196"/>
                </a:lnTo>
                <a:lnTo>
                  <a:pt x="11630" y="10041"/>
                </a:lnTo>
                <a:lnTo>
                  <a:pt x="11452" y="9916"/>
                </a:lnTo>
                <a:lnTo>
                  <a:pt x="11186" y="9823"/>
                </a:lnTo>
                <a:lnTo>
                  <a:pt x="11052" y="9792"/>
                </a:lnTo>
                <a:lnTo>
                  <a:pt x="10830" y="9637"/>
                </a:lnTo>
                <a:lnTo>
                  <a:pt x="10609" y="9482"/>
                </a:lnTo>
                <a:lnTo>
                  <a:pt x="10210" y="9326"/>
                </a:lnTo>
                <a:lnTo>
                  <a:pt x="9944" y="9169"/>
                </a:lnTo>
                <a:lnTo>
                  <a:pt x="9722" y="9108"/>
                </a:lnTo>
                <a:lnTo>
                  <a:pt x="9545" y="8921"/>
                </a:lnTo>
                <a:lnTo>
                  <a:pt x="9454" y="8735"/>
                </a:lnTo>
                <a:lnTo>
                  <a:pt x="9324" y="8611"/>
                </a:lnTo>
                <a:lnTo>
                  <a:pt x="9056" y="8485"/>
                </a:lnTo>
                <a:lnTo>
                  <a:pt x="8612" y="8144"/>
                </a:lnTo>
                <a:lnTo>
                  <a:pt x="8391" y="7958"/>
                </a:lnTo>
                <a:lnTo>
                  <a:pt x="8212" y="7803"/>
                </a:lnTo>
                <a:lnTo>
                  <a:pt x="7680" y="7429"/>
                </a:lnTo>
                <a:lnTo>
                  <a:pt x="7590" y="7305"/>
                </a:lnTo>
                <a:lnTo>
                  <a:pt x="7546" y="7025"/>
                </a:lnTo>
                <a:lnTo>
                  <a:pt x="7370" y="6746"/>
                </a:lnTo>
                <a:lnTo>
                  <a:pt x="7148" y="6434"/>
                </a:lnTo>
                <a:lnTo>
                  <a:pt x="6970" y="6279"/>
                </a:lnTo>
                <a:lnTo>
                  <a:pt x="6970" y="6061"/>
                </a:lnTo>
                <a:lnTo>
                  <a:pt x="6748" y="5844"/>
                </a:lnTo>
                <a:lnTo>
                  <a:pt x="6572" y="5751"/>
                </a:lnTo>
                <a:lnTo>
                  <a:pt x="6437" y="5595"/>
                </a:lnTo>
                <a:lnTo>
                  <a:pt x="6259" y="5532"/>
                </a:lnTo>
                <a:lnTo>
                  <a:pt x="6171" y="5377"/>
                </a:lnTo>
                <a:lnTo>
                  <a:pt x="6037" y="5253"/>
                </a:lnTo>
                <a:lnTo>
                  <a:pt x="5860" y="5127"/>
                </a:lnTo>
                <a:lnTo>
                  <a:pt x="5638" y="5037"/>
                </a:lnTo>
                <a:lnTo>
                  <a:pt x="5415" y="5004"/>
                </a:lnTo>
                <a:lnTo>
                  <a:pt x="5371" y="5004"/>
                </a:lnTo>
                <a:lnTo>
                  <a:pt x="5194" y="4476"/>
                </a:lnTo>
                <a:lnTo>
                  <a:pt x="5105" y="4260"/>
                </a:lnTo>
                <a:lnTo>
                  <a:pt x="4973" y="4072"/>
                </a:lnTo>
                <a:lnTo>
                  <a:pt x="4793" y="3854"/>
                </a:lnTo>
                <a:lnTo>
                  <a:pt x="4793" y="3698"/>
                </a:lnTo>
                <a:lnTo>
                  <a:pt x="4617" y="3513"/>
                </a:lnTo>
                <a:lnTo>
                  <a:pt x="4351" y="3358"/>
                </a:lnTo>
                <a:lnTo>
                  <a:pt x="4128" y="3264"/>
                </a:lnTo>
                <a:lnTo>
                  <a:pt x="3907" y="3170"/>
                </a:lnTo>
                <a:lnTo>
                  <a:pt x="3685" y="3108"/>
                </a:lnTo>
                <a:lnTo>
                  <a:pt x="3372" y="3076"/>
                </a:lnTo>
                <a:lnTo>
                  <a:pt x="3285" y="2890"/>
                </a:lnTo>
                <a:lnTo>
                  <a:pt x="3242" y="2736"/>
                </a:lnTo>
                <a:lnTo>
                  <a:pt x="3151" y="2548"/>
                </a:lnTo>
                <a:lnTo>
                  <a:pt x="2974" y="2518"/>
                </a:lnTo>
                <a:lnTo>
                  <a:pt x="2974" y="2457"/>
                </a:lnTo>
                <a:lnTo>
                  <a:pt x="2797" y="2331"/>
                </a:lnTo>
                <a:lnTo>
                  <a:pt x="2665" y="2176"/>
                </a:lnTo>
                <a:lnTo>
                  <a:pt x="2487" y="2019"/>
                </a:lnTo>
                <a:lnTo>
                  <a:pt x="2263" y="1834"/>
                </a:lnTo>
                <a:lnTo>
                  <a:pt x="2041" y="1771"/>
                </a:lnTo>
                <a:lnTo>
                  <a:pt x="1821" y="1771"/>
                </a:lnTo>
                <a:lnTo>
                  <a:pt x="1556" y="1585"/>
                </a:lnTo>
                <a:lnTo>
                  <a:pt x="1377" y="1429"/>
                </a:lnTo>
                <a:lnTo>
                  <a:pt x="1201" y="1306"/>
                </a:lnTo>
                <a:lnTo>
                  <a:pt x="976" y="1211"/>
                </a:lnTo>
                <a:lnTo>
                  <a:pt x="754" y="1057"/>
                </a:lnTo>
                <a:lnTo>
                  <a:pt x="401" y="807"/>
                </a:lnTo>
                <a:lnTo>
                  <a:pt x="179" y="529"/>
                </a:lnTo>
                <a:lnTo>
                  <a:pt x="45" y="374"/>
                </a:lnTo>
                <a:lnTo>
                  <a:pt x="45" y="62"/>
                </a:lnTo>
                <a:lnTo>
                  <a:pt x="0" y="30"/>
                </a:lnTo>
                <a:lnTo>
                  <a:pt x="135" y="30"/>
                </a:lnTo>
                <a:lnTo>
                  <a:pt x="221" y="0"/>
                </a:lnTo>
                <a:lnTo>
                  <a:pt x="532" y="0"/>
                </a:lnTo>
                <a:lnTo>
                  <a:pt x="798" y="62"/>
                </a:lnTo>
                <a:lnTo>
                  <a:pt x="888" y="185"/>
                </a:lnTo>
                <a:lnTo>
                  <a:pt x="1022" y="248"/>
                </a:lnTo>
                <a:lnTo>
                  <a:pt x="1330" y="279"/>
                </a:lnTo>
                <a:lnTo>
                  <a:pt x="1465" y="341"/>
                </a:lnTo>
                <a:lnTo>
                  <a:pt x="2397" y="341"/>
                </a:lnTo>
                <a:lnTo>
                  <a:pt x="2665" y="403"/>
                </a:lnTo>
                <a:lnTo>
                  <a:pt x="2929" y="403"/>
                </a:lnTo>
                <a:lnTo>
                  <a:pt x="3151" y="434"/>
                </a:lnTo>
                <a:lnTo>
                  <a:pt x="3329" y="529"/>
                </a:lnTo>
                <a:lnTo>
                  <a:pt x="3507" y="652"/>
                </a:lnTo>
                <a:lnTo>
                  <a:pt x="3640" y="778"/>
                </a:lnTo>
                <a:lnTo>
                  <a:pt x="3640" y="870"/>
                </a:lnTo>
                <a:lnTo>
                  <a:pt x="3728" y="964"/>
                </a:lnTo>
                <a:lnTo>
                  <a:pt x="3907" y="1057"/>
                </a:lnTo>
                <a:lnTo>
                  <a:pt x="4040" y="1211"/>
                </a:lnTo>
                <a:lnTo>
                  <a:pt x="4083" y="1242"/>
                </a:lnTo>
                <a:lnTo>
                  <a:pt x="4128" y="1368"/>
                </a:lnTo>
                <a:lnTo>
                  <a:pt x="4261" y="1429"/>
                </a:lnTo>
                <a:lnTo>
                  <a:pt x="4483" y="1524"/>
                </a:lnTo>
                <a:lnTo>
                  <a:pt x="4752" y="1741"/>
                </a:lnTo>
                <a:lnTo>
                  <a:pt x="5015" y="1834"/>
                </a:lnTo>
                <a:lnTo>
                  <a:pt x="5284" y="1927"/>
                </a:lnTo>
                <a:lnTo>
                  <a:pt x="5592" y="2019"/>
                </a:lnTo>
                <a:lnTo>
                  <a:pt x="5769" y="2145"/>
                </a:lnTo>
                <a:lnTo>
                  <a:pt x="6082" y="2331"/>
                </a:lnTo>
                <a:lnTo>
                  <a:pt x="6303" y="2518"/>
                </a:lnTo>
                <a:lnTo>
                  <a:pt x="6345" y="2672"/>
                </a:lnTo>
                <a:lnTo>
                  <a:pt x="6525" y="2704"/>
                </a:lnTo>
                <a:lnTo>
                  <a:pt x="6701" y="2736"/>
                </a:lnTo>
                <a:lnTo>
                  <a:pt x="6835" y="2954"/>
                </a:lnTo>
                <a:lnTo>
                  <a:pt x="7014" y="3108"/>
                </a:lnTo>
                <a:lnTo>
                  <a:pt x="7190" y="3202"/>
                </a:lnTo>
                <a:lnTo>
                  <a:pt x="7325" y="3264"/>
                </a:lnTo>
                <a:lnTo>
                  <a:pt x="7457" y="3294"/>
                </a:lnTo>
                <a:lnTo>
                  <a:pt x="7457" y="3233"/>
                </a:lnTo>
                <a:lnTo>
                  <a:pt x="7546" y="3140"/>
                </a:lnTo>
                <a:lnTo>
                  <a:pt x="7768" y="3140"/>
                </a:lnTo>
                <a:lnTo>
                  <a:pt x="7944" y="3233"/>
                </a:lnTo>
                <a:lnTo>
                  <a:pt x="8036" y="3388"/>
                </a:lnTo>
                <a:lnTo>
                  <a:pt x="8168" y="3543"/>
                </a:lnTo>
                <a:lnTo>
                  <a:pt x="8212" y="3606"/>
                </a:lnTo>
                <a:lnTo>
                  <a:pt x="8258" y="3638"/>
                </a:lnTo>
                <a:lnTo>
                  <a:pt x="8391" y="3698"/>
                </a:lnTo>
                <a:lnTo>
                  <a:pt x="8478" y="3698"/>
                </a:lnTo>
                <a:lnTo>
                  <a:pt x="8612" y="3731"/>
                </a:lnTo>
                <a:lnTo>
                  <a:pt x="8700" y="3761"/>
                </a:lnTo>
                <a:lnTo>
                  <a:pt x="8922" y="3854"/>
                </a:lnTo>
                <a:lnTo>
                  <a:pt x="9056" y="3854"/>
                </a:lnTo>
                <a:lnTo>
                  <a:pt x="9146" y="3947"/>
                </a:lnTo>
                <a:lnTo>
                  <a:pt x="9277" y="4134"/>
                </a:lnTo>
                <a:lnTo>
                  <a:pt x="9366" y="4165"/>
                </a:lnTo>
                <a:lnTo>
                  <a:pt x="9410" y="3978"/>
                </a:lnTo>
                <a:lnTo>
                  <a:pt x="9500" y="4042"/>
                </a:lnTo>
                <a:lnTo>
                  <a:pt x="9632" y="4165"/>
                </a:lnTo>
                <a:lnTo>
                  <a:pt x="9809" y="4260"/>
                </a:lnTo>
                <a:lnTo>
                  <a:pt x="10254" y="4227"/>
                </a:lnTo>
                <a:lnTo>
                  <a:pt x="10476" y="4290"/>
                </a:lnTo>
                <a:lnTo>
                  <a:pt x="10520" y="4351"/>
                </a:lnTo>
                <a:lnTo>
                  <a:pt x="10476" y="4445"/>
                </a:lnTo>
                <a:lnTo>
                  <a:pt x="10386" y="4505"/>
                </a:lnTo>
                <a:lnTo>
                  <a:pt x="10298" y="4505"/>
                </a:lnTo>
                <a:lnTo>
                  <a:pt x="10344" y="4631"/>
                </a:lnTo>
                <a:lnTo>
                  <a:pt x="10386" y="4694"/>
                </a:lnTo>
                <a:lnTo>
                  <a:pt x="10433" y="4724"/>
                </a:lnTo>
                <a:lnTo>
                  <a:pt x="10433" y="4849"/>
                </a:lnTo>
                <a:lnTo>
                  <a:pt x="10254" y="4912"/>
                </a:lnTo>
                <a:lnTo>
                  <a:pt x="10122" y="4973"/>
                </a:lnTo>
                <a:lnTo>
                  <a:pt x="10077" y="5004"/>
                </a:lnTo>
                <a:lnTo>
                  <a:pt x="10122" y="5037"/>
                </a:lnTo>
                <a:lnTo>
                  <a:pt x="10476" y="4942"/>
                </a:lnTo>
                <a:lnTo>
                  <a:pt x="10609" y="4849"/>
                </a:lnTo>
                <a:lnTo>
                  <a:pt x="10786" y="4819"/>
                </a:lnTo>
                <a:lnTo>
                  <a:pt x="10918" y="4755"/>
                </a:lnTo>
                <a:lnTo>
                  <a:pt x="11052" y="4819"/>
                </a:lnTo>
                <a:lnTo>
                  <a:pt x="11231" y="4973"/>
                </a:lnTo>
                <a:lnTo>
                  <a:pt x="11318" y="5099"/>
                </a:lnTo>
                <a:lnTo>
                  <a:pt x="11365" y="5192"/>
                </a:lnTo>
                <a:lnTo>
                  <a:pt x="11052" y="5408"/>
                </a:lnTo>
                <a:lnTo>
                  <a:pt x="11098" y="5471"/>
                </a:lnTo>
                <a:lnTo>
                  <a:pt x="11274" y="5471"/>
                </a:lnTo>
                <a:lnTo>
                  <a:pt x="11231" y="5595"/>
                </a:lnTo>
                <a:lnTo>
                  <a:pt x="11052" y="5721"/>
                </a:lnTo>
                <a:lnTo>
                  <a:pt x="10918" y="5876"/>
                </a:lnTo>
                <a:lnTo>
                  <a:pt x="11052" y="5999"/>
                </a:lnTo>
                <a:lnTo>
                  <a:pt x="11318" y="6124"/>
                </a:lnTo>
                <a:lnTo>
                  <a:pt x="11495" y="6184"/>
                </a:lnTo>
                <a:lnTo>
                  <a:pt x="11721" y="6184"/>
                </a:lnTo>
                <a:lnTo>
                  <a:pt x="11942" y="6217"/>
                </a:lnTo>
                <a:lnTo>
                  <a:pt x="12163" y="6248"/>
                </a:lnTo>
                <a:lnTo>
                  <a:pt x="12340" y="6434"/>
                </a:lnTo>
                <a:lnTo>
                  <a:pt x="12385" y="6591"/>
                </a:lnTo>
                <a:lnTo>
                  <a:pt x="12385" y="6746"/>
                </a:lnTo>
                <a:lnTo>
                  <a:pt x="12474" y="6901"/>
                </a:lnTo>
                <a:lnTo>
                  <a:pt x="12385" y="7025"/>
                </a:lnTo>
                <a:lnTo>
                  <a:pt x="12561" y="7025"/>
                </a:lnTo>
                <a:lnTo>
                  <a:pt x="12782" y="7087"/>
                </a:lnTo>
                <a:lnTo>
                  <a:pt x="12917" y="7182"/>
                </a:lnTo>
                <a:lnTo>
                  <a:pt x="12829" y="7367"/>
                </a:lnTo>
                <a:lnTo>
                  <a:pt x="12782" y="7460"/>
                </a:lnTo>
                <a:lnTo>
                  <a:pt x="12961" y="7429"/>
                </a:lnTo>
                <a:lnTo>
                  <a:pt x="13183" y="7460"/>
                </a:lnTo>
                <a:lnTo>
                  <a:pt x="13627" y="7460"/>
                </a:lnTo>
                <a:lnTo>
                  <a:pt x="13892" y="7523"/>
                </a:lnTo>
                <a:lnTo>
                  <a:pt x="13939" y="7647"/>
                </a:lnTo>
                <a:lnTo>
                  <a:pt x="14114" y="7772"/>
                </a:lnTo>
                <a:lnTo>
                  <a:pt x="14205" y="7927"/>
                </a:lnTo>
                <a:lnTo>
                  <a:pt x="14381" y="8051"/>
                </a:lnTo>
                <a:lnTo>
                  <a:pt x="14426" y="8207"/>
                </a:lnTo>
                <a:lnTo>
                  <a:pt x="14248" y="8611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360" y="22320"/>
            <a:ext cx="7978680" cy="6835680"/>
          </a:xfrm>
          <a:custGeom>
            <a:avLst/>
            <a:gdLst/>
            <a:ahLst/>
            <a:rect l="l" t="t" r="r" b="b"/>
            <a:pathLst>
              <a:path w="14426" h="10723">
                <a:moveTo>
                  <a:pt x="14248" y="8611"/>
                </a:moveTo>
                <a:lnTo>
                  <a:pt x="14205" y="8735"/>
                </a:lnTo>
                <a:lnTo>
                  <a:pt x="14292" y="8797"/>
                </a:lnTo>
                <a:lnTo>
                  <a:pt x="14292" y="8890"/>
                </a:lnTo>
                <a:lnTo>
                  <a:pt x="14248" y="9079"/>
                </a:lnTo>
                <a:lnTo>
                  <a:pt x="14160" y="10508"/>
                </a:lnTo>
                <a:lnTo>
                  <a:pt x="14071" y="10663"/>
                </a:lnTo>
                <a:lnTo>
                  <a:pt x="13983" y="10693"/>
                </a:lnTo>
                <a:lnTo>
                  <a:pt x="13849" y="10600"/>
                </a:lnTo>
                <a:lnTo>
                  <a:pt x="13670" y="10508"/>
                </a:lnTo>
                <a:lnTo>
                  <a:pt x="13494" y="10414"/>
                </a:lnTo>
                <a:lnTo>
                  <a:pt x="13407" y="10445"/>
                </a:lnTo>
                <a:lnTo>
                  <a:pt x="13360" y="10600"/>
                </a:lnTo>
                <a:lnTo>
                  <a:pt x="13183" y="10632"/>
                </a:lnTo>
                <a:lnTo>
                  <a:pt x="12961" y="10508"/>
                </a:lnTo>
                <a:lnTo>
                  <a:pt x="12740" y="10414"/>
                </a:lnTo>
                <a:lnTo>
                  <a:pt x="12561" y="10414"/>
                </a:lnTo>
                <a:lnTo>
                  <a:pt x="12740" y="10693"/>
                </a:lnTo>
                <a:lnTo>
                  <a:pt x="12606" y="10723"/>
                </a:lnTo>
                <a:lnTo>
                  <a:pt x="12340" y="10569"/>
                </a:lnTo>
                <a:lnTo>
                  <a:pt x="12163" y="10445"/>
                </a:lnTo>
                <a:lnTo>
                  <a:pt x="11763" y="10196"/>
                </a:lnTo>
                <a:lnTo>
                  <a:pt x="11630" y="10041"/>
                </a:lnTo>
                <a:lnTo>
                  <a:pt x="11452" y="9916"/>
                </a:lnTo>
                <a:lnTo>
                  <a:pt x="11186" y="9823"/>
                </a:lnTo>
                <a:lnTo>
                  <a:pt x="11052" y="9792"/>
                </a:lnTo>
                <a:lnTo>
                  <a:pt x="10830" y="9637"/>
                </a:lnTo>
                <a:lnTo>
                  <a:pt x="10609" y="9482"/>
                </a:lnTo>
                <a:lnTo>
                  <a:pt x="10210" y="9326"/>
                </a:lnTo>
                <a:lnTo>
                  <a:pt x="9944" y="9169"/>
                </a:lnTo>
                <a:lnTo>
                  <a:pt x="9722" y="9108"/>
                </a:lnTo>
                <a:lnTo>
                  <a:pt x="9545" y="8921"/>
                </a:lnTo>
                <a:lnTo>
                  <a:pt x="9454" y="8735"/>
                </a:lnTo>
                <a:lnTo>
                  <a:pt x="9324" y="8611"/>
                </a:lnTo>
                <a:lnTo>
                  <a:pt x="9056" y="8485"/>
                </a:lnTo>
                <a:lnTo>
                  <a:pt x="8612" y="8144"/>
                </a:lnTo>
                <a:lnTo>
                  <a:pt x="8391" y="7958"/>
                </a:lnTo>
                <a:lnTo>
                  <a:pt x="8212" y="7803"/>
                </a:lnTo>
                <a:lnTo>
                  <a:pt x="7680" y="7429"/>
                </a:lnTo>
                <a:lnTo>
                  <a:pt x="7590" y="7305"/>
                </a:lnTo>
                <a:lnTo>
                  <a:pt x="7546" y="7025"/>
                </a:lnTo>
                <a:lnTo>
                  <a:pt x="7370" y="6746"/>
                </a:lnTo>
                <a:lnTo>
                  <a:pt x="7148" y="6434"/>
                </a:lnTo>
                <a:lnTo>
                  <a:pt x="6970" y="6279"/>
                </a:lnTo>
                <a:lnTo>
                  <a:pt x="6970" y="6061"/>
                </a:lnTo>
                <a:lnTo>
                  <a:pt x="6748" y="5844"/>
                </a:lnTo>
                <a:lnTo>
                  <a:pt x="6572" y="5751"/>
                </a:lnTo>
                <a:lnTo>
                  <a:pt x="6437" y="5595"/>
                </a:lnTo>
                <a:lnTo>
                  <a:pt x="6259" y="5532"/>
                </a:lnTo>
                <a:lnTo>
                  <a:pt x="6171" y="5377"/>
                </a:lnTo>
                <a:lnTo>
                  <a:pt x="6037" y="5253"/>
                </a:lnTo>
                <a:lnTo>
                  <a:pt x="5860" y="5127"/>
                </a:lnTo>
                <a:lnTo>
                  <a:pt x="5638" y="5037"/>
                </a:lnTo>
                <a:lnTo>
                  <a:pt x="5415" y="5004"/>
                </a:lnTo>
                <a:lnTo>
                  <a:pt x="5371" y="5004"/>
                </a:lnTo>
                <a:lnTo>
                  <a:pt x="5194" y="4476"/>
                </a:lnTo>
                <a:lnTo>
                  <a:pt x="5105" y="4260"/>
                </a:lnTo>
                <a:lnTo>
                  <a:pt x="4973" y="4072"/>
                </a:lnTo>
                <a:lnTo>
                  <a:pt x="4793" y="3854"/>
                </a:lnTo>
                <a:lnTo>
                  <a:pt x="4793" y="3698"/>
                </a:lnTo>
                <a:lnTo>
                  <a:pt x="4617" y="3513"/>
                </a:lnTo>
                <a:lnTo>
                  <a:pt x="4351" y="3358"/>
                </a:lnTo>
                <a:lnTo>
                  <a:pt x="4128" y="3264"/>
                </a:lnTo>
                <a:lnTo>
                  <a:pt x="3907" y="3170"/>
                </a:lnTo>
                <a:lnTo>
                  <a:pt x="3685" y="3108"/>
                </a:lnTo>
                <a:lnTo>
                  <a:pt x="3372" y="3076"/>
                </a:lnTo>
                <a:lnTo>
                  <a:pt x="3285" y="2890"/>
                </a:lnTo>
                <a:lnTo>
                  <a:pt x="3242" y="2736"/>
                </a:lnTo>
                <a:lnTo>
                  <a:pt x="3151" y="2548"/>
                </a:lnTo>
                <a:lnTo>
                  <a:pt x="2974" y="2518"/>
                </a:lnTo>
                <a:lnTo>
                  <a:pt x="2974" y="2457"/>
                </a:lnTo>
                <a:lnTo>
                  <a:pt x="2797" y="2331"/>
                </a:lnTo>
                <a:lnTo>
                  <a:pt x="2665" y="2176"/>
                </a:lnTo>
                <a:lnTo>
                  <a:pt x="2487" y="2019"/>
                </a:lnTo>
                <a:lnTo>
                  <a:pt x="2263" y="1834"/>
                </a:lnTo>
                <a:lnTo>
                  <a:pt x="2041" y="1771"/>
                </a:lnTo>
                <a:lnTo>
                  <a:pt x="1821" y="1771"/>
                </a:lnTo>
                <a:lnTo>
                  <a:pt x="1556" y="1585"/>
                </a:lnTo>
                <a:lnTo>
                  <a:pt x="1377" y="1429"/>
                </a:lnTo>
                <a:lnTo>
                  <a:pt x="1201" y="1306"/>
                </a:lnTo>
                <a:lnTo>
                  <a:pt x="976" y="1211"/>
                </a:lnTo>
                <a:lnTo>
                  <a:pt x="754" y="1057"/>
                </a:lnTo>
                <a:lnTo>
                  <a:pt x="401" y="807"/>
                </a:lnTo>
                <a:lnTo>
                  <a:pt x="179" y="529"/>
                </a:lnTo>
                <a:lnTo>
                  <a:pt x="45" y="374"/>
                </a:lnTo>
                <a:lnTo>
                  <a:pt x="45" y="62"/>
                </a:lnTo>
                <a:lnTo>
                  <a:pt x="0" y="30"/>
                </a:lnTo>
                <a:lnTo>
                  <a:pt x="135" y="30"/>
                </a:lnTo>
                <a:lnTo>
                  <a:pt x="221" y="0"/>
                </a:lnTo>
                <a:lnTo>
                  <a:pt x="532" y="0"/>
                </a:lnTo>
                <a:lnTo>
                  <a:pt x="798" y="62"/>
                </a:lnTo>
                <a:lnTo>
                  <a:pt x="888" y="185"/>
                </a:lnTo>
                <a:lnTo>
                  <a:pt x="1022" y="248"/>
                </a:lnTo>
                <a:lnTo>
                  <a:pt x="1330" y="279"/>
                </a:lnTo>
                <a:lnTo>
                  <a:pt x="1465" y="341"/>
                </a:lnTo>
                <a:lnTo>
                  <a:pt x="2397" y="341"/>
                </a:lnTo>
                <a:lnTo>
                  <a:pt x="2665" y="403"/>
                </a:lnTo>
                <a:lnTo>
                  <a:pt x="2929" y="403"/>
                </a:lnTo>
                <a:lnTo>
                  <a:pt x="3151" y="434"/>
                </a:lnTo>
                <a:lnTo>
                  <a:pt x="3329" y="529"/>
                </a:lnTo>
                <a:lnTo>
                  <a:pt x="3507" y="652"/>
                </a:lnTo>
                <a:lnTo>
                  <a:pt x="3640" y="778"/>
                </a:lnTo>
                <a:lnTo>
                  <a:pt x="3640" y="870"/>
                </a:lnTo>
                <a:lnTo>
                  <a:pt x="3728" y="964"/>
                </a:lnTo>
                <a:lnTo>
                  <a:pt x="3907" y="1057"/>
                </a:lnTo>
                <a:lnTo>
                  <a:pt x="4040" y="1211"/>
                </a:lnTo>
                <a:lnTo>
                  <a:pt x="4083" y="1242"/>
                </a:lnTo>
                <a:lnTo>
                  <a:pt x="4128" y="1368"/>
                </a:lnTo>
                <a:lnTo>
                  <a:pt x="4261" y="1429"/>
                </a:lnTo>
                <a:lnTo>
                  <a:pt x="4483" y="1524"/>
                </a:lnTo>
                <a:lnTo>
                  <a:pt x="4752" y="1741"/>
                </a:lnTo>
                <a:lnTo>
                  <a:pt x="5015" y="1834"/>
                </a:lnTo>
                <a:lnTo>
                  <a:pt x="5284" y="1927"/>
                </a:lnTo>
                <a:lnTo>
                  <a:pt x="5592" y="2019"/>
                </a:lnTo>
                <a:lnTo>
                  <a:pt x="5769" y="2145"/>
                </a:lnTo>
                <a:lnTo>
                  <a:pt x="6082" y="2331"/>
                </a:lnTo>
                <a:lnTo>
                  <a:pt x="6303" y="2518"/>
                </a:lnTo>
                <a:lnTo>
                  <a:pt x="6345" y="2672"/>
                </a:lnTo>
                <a:lnTo>
                  <a:pt x="6525" y="2704"/>
                </a:lnTo>
                <a:lnTo>
                  <a:pt x="6701" y="2736"/>
                </a:lnTo>
                <a:lnTo>
                  <a:pt x="6835" y="2954"/>
                </a:lnTo>
                <a:lnTo>
                  <a:pt x="7014" y="3108"/>
                </a:lnTo>
                <a:lnTo>
                  <a:pt x="7190" y="3202"/>
                </a:lnTo>
                <a:lnTo>
                  <a:pt x="7325" y="3264"/>
                </a:lnTo>
                <a:lnTo>
                  <a:pt x="7457" y="3294"/>
                </a:lnTo>
                <a:lnTo>
                  <a:pt x="7457" y="3233"/>
                </a:lnTo>
                <a:lnTo>
                  <a:pt x="7546" y="3140"/>
                </a:lnTo>
                <a:lnTo>
                  <a:pt x="7768" y="3140"/>
                </a:lnTo>
                <a:lnTo>
                  <a:pt x="7944" y="3233"/>
                </a:lnTo>
                <a:lnTo>
                  <a:pt x="8036" y="3388"/>
                </a:lnTo>
                <a:lnTo>
                  <a:pt x="8168" y="3543"/>
                </a:lnTo>
                <a:lnTo>
                  <a:pt x="8212" y="3606"/>
                </a:lnTo>
                <a:lnTo>
                  <a:pt x="8258" y="3638"/>
                </a:lnTo>
                <a:lnTo>
                  <a:pt x="8391" y="3698"/>
                </a:lnTo>
                <a:lnTo>
                  <a:pt x="8478" y="3698"/>
                </a:lnTo>
                <a:lnTo>
                  <a:pt x="8612" y="3731"/>
                </a:lnTo>
                <a:lnTo>
                  <a:pt x="8700" y="3761"/>
                </a:lnTo>
                <a:lnTo>
                  <a:pt x="8922" y="3854"/>
                </a:lnTo>
                <a:lnTo>
                  <a:pt x="9056" y="3854"/>
                </a:lnTo>
                <a:lnTo>
                  <a:pt x="9146" y="3947"/>
                </a:lnTo>
                <a:lnTo>
                  <a:pt x="9277" y="4134"/>
                </a:lnTo>
                <a:lnTo>
                  <a:pt x="9366" y="4165"/>
                </a:lnTo>
                <a:lnTo>
                  <a:pt x="9410" y="3978"/>
                </a:lnTo>
                <a:lnTo>
                  <a:pt x="9500" y="4042"/>
                </a:lnTo>
                <a:lnTo>
                  <a:pt x="9632" y="4165"/>
                </a:lnTo>
                <a:lnTo>
                  <a:pt x="9809" y="4260"/>
                </a:lnTo>
                <a:lnTo>
                  <a:pt x="10254" y="4227"/>
                </a:lnTo>
                <a:lnTo>
                  <a:pt x="10476" y="4290"/>
                </a:lnTo>
                <a:lnTo>
                  <a:pt x="10520" y="4351"/>
                </a:lnTo>
                <a:lnTo>
                  <a:pt x="10476" y="4445"/>
                </a:lnTo>
                <a:lnTo>
                  <a:pt x="10386" y="4505"/>
                </a:lnTo>
                <a:lnTo>
                  <a:pt x="10298" y="4505"/>
                </a:lnTo>
                <a:lnTo>
                  <a:pt x="10344" y="4631"/>
                </a:lnTo>
                <a:lnTo>
                  <a:pt x="10386" y="4694"/>
                </a:lnTo>
                <a:lnTo>
                  <a:pt x="10433" y="4724"/>
                </a:lnTo>
                <a:lnTo>
                  <a:pt x="10433" y="4849"/>
                </a:lnTo>
                <a:lnTo>
                  <a:pt x="10254" y="4912"/>
                </a:lnTo>
                <a:lnTo>
                  <a:pt x="10122" y="4973"/>
                </a:lnTo>
                <a:lnTo>
                  <a:pt x="10077" y="5004"/>
                </a:lnTo>
                <a:lnTo>
                  <a:pt x="10122" y="5037"/>
                </a:lnTo>
                <a:lnTo>
                  <a:pt x="10476" y="4942"/>
                </a:lnTo>
                <a:lnTo>
                  <a:pt x="10609" y="4849"/>
                </a:lnTo>
                <a:lnTo>
                  <a:pt x="10786" y="4819"/>
                </a:lnTo>
                <a:lnTo>
                  <a:pt x="10918" y="4755"/>
                </a:lnTo>
                <a:lnTo>
                  <a:pt x="11052" y="4819"/>
                </a:lnTo>
                <a:lnTo>
                  <a:pt x="11231" y="4973"/>
                </a:lnTo>
                <a:lnTo>
                  <a:pt x="11318" y="5099"/>
                </a:lnTo>
                <a:lnTo>
                  <a:pt x="11365" y="5192"/>
                </a:lnTo>
                <a:lnTo>
                  <a:pt x="11052" y="5408"/>
                </a:lnTo>
                <a:lnTo>
                  <a:pt x="11098" y="5471"/>
                </a:lnTo>
                <a:lnTo>
                  <a:pt x="11274" y="5471"/>
                </a:lnTo>
                <a:lnTo>
                  <a:pt x="11231" y="5595"/>
                </a:lnTo>
                <a:lnTo>
                  <a:pt x="11052" y="5721"/>
                </a:lnTo>
                <a:lnTo>
                  <a:pt x="10918" y="5876"/>
                </a:lnTo>
                <a:lnTo>
                  <a:pt x="11052" y="5999"/>
                </a:lnTo>
                <a:lnTo>
                  <a:pt x="11318" y="6124"/>
                </a:lnTo>
                <a:lnTo>
                  <a:pt x="11495" y="6184"/>
                </a:lnTo>
                <a:lnTo>
                  <a:pt x="11721" y="6184"/>
                </a:lnTo>
                <a:lnTo>
                  <a:pt x="11942" y="6217"/>
                </a:lnTo>
                <a:lnTo>
                  <a:pt x="12163" y="6248"/>
                </a:lnTo>
                <a:lnTo>
                  <a:pt x="12340" y="6434"/>
                </a:lnTo>
                <a:lnTo>
                  <a:pt x="12385" y="6591"/>
                </a:lnTo>
                <a:lnTo>
                  <a:pt x="12385" y="6746"/>
                </a:lnTo>
                <a:lnTo>
                  <a:pt x="12474" y="6901"/>
                </a:lnTo>
                <a:lnTo>
                  <a:pt x="12385" y="7025"/>
                </a:lnTo>
                <a:lnTo>
                  <a:pt x="12561" y="7025"/>
                </a:lnTo>
                <a:lnTo>
                  <a:pt x="12782" y="7087"/>
                </a:lnTo>
                <a:lnTo>
                  <a:pt x="12917" y="7182"/>
                </a:lnTo>
                <a:lnTo>
                  <a:pt x="12829" y="7367"/>
                </a:lnTo>
                <a:lnTo>
                  <a:pt x="12782" y="7460"/>
                </a:lnTo>
                <a:lnTo>
                  <a:pt x="12961" y="7429"/>
                </a:lnTo>
                <a:lnTo>
                  <a:pt x="13183" y="7460"/>
                </a:lnTo>
                <a:lnTo>
                  <a:pt x="13627" y="7460"/>
                </a:lnTo>
                <a:lnTo>
                  <a:pt x="13892" y="7523"/>
                </a:lnTo>
                <a:lnTo>
                  <a:pt x="13939" y="7647"/>
                </a:lnTo>
                <a:lnTo>
                  <a:pt x="14114" y="7772"/>
                </a:lnTo>
                <a:lnTo>
                  <a:pt x="14205" y="7927"/>
                </a:lnTo>
                <a:lnTo>
                  <a:pt x="14381" y="8051"/>
                </a:lnTo>
                <a:lnTo>
                  <a:pt x="14426" y="8207"/>
                </a:lnTo>
                <a:lnTo>
                  <a:pt x="14248" y="8611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56560" y="4262400"/>
            <a:ext cx="1128600" cy="932040"/>
          </a:xfrm>
          <a:custGeom>
            <a:avLst/>
            <a:gdLst/>
            <a:ahLst/>
            <a:rect l="l" t="t" r="r" b="b"/>
            <a:pathLst>
              <a:path w="2041" h="1461">
                <a:moveTo>
                  <a:pt x="2041" y="1088"/>
                </a:moveTo>
                <a:lnTo>
                  <a:pt x="1952" y="1211"/>
                </a:lnTo>
                <a:lnTo>
                  <a:pt x="1952" y="1337"/>
                </a:lnTo>
                <a:lnTo>
                  <a:pt x="2041" y="1430"/>
                </a:lnTo>
                <a:lnTo>
                  <a:pt x="1952" y="1430"/>
                </a:lnTo>
                <a:lnTo>
                  <a:pt x="1908" y="1461"/>
                </a:lnTo>
                <a:lnTo>
                  <a:pt x="1731" y="1366"/>
                </a:lnTo>
                <a:lnTo>
                  <a:pt x="1509" y="1275"/>
                </a:lnTo>
                <a:lnTo>
                  <a:pt x="1287" y="1244"/>
                </a:lnTo>
                <a:lnTo>
                  <a:pt x="1109" y="1120"/>
                </a:lnTo>
                <a:lnTo>
                  <a:pt x="1020" y="995"/>
                </a:lnTo>
                <a:lnTo>
                  <a:pt x="1067" y="871"/>
                </a:lnTo>
                <a:lnTo>
                  <a:pt x="933" y="748"/>
                </a:lnTo>
                <a:lnTo>
                  <a:pt x="799" y="591"/>
                </a:lnTo>
                <a:lnTo>
                  <a:pt x="667" y="559"/>
                </a:lnTo>
                <a:lnTo>
                  <a:pt x="489" y="498"/>
                </a:lnTo>
                <a:lnTo>
                  <a:pt x="355" y="498"/>
                </a:lnTo>
                <a:lnTo>
                  <a:pt x="177" y="435"/>
                </a:lnTo>
                <a:lnTo>
                  <a:pt x="88" y="435"/>
                </a:lnTo>
                <a:lnTo>
                  <a:pt x="42" y="404"/>
                </a:lnTo>
                <a:lnTo>
                  <a:pt x="0" y="373"/>
                </a:lnTo>
                <a:lnTo>
                  <a:pt x="88" y="373"/>
                </a:lnTo>
                <a:lnTo>
                  <a:pt x="264" y="125"/>
                </a:lnTo>
                <a:lnTo>
                  <a:pt x="311" y="62"/>
                </a:lnTo>
                <a:lnTo>
                  <a:pt x="489" y="31"/>
                </a:lnTo>
                <a:lnTo>
                  <a:pt x="620" y="62"/>
                </a:lnTo>
                <a:lnTo>
                  <a:pt x="620" y="154"/>
                </a:lnTo>
                <a:lnTo>
                  <a:pt x="667" y="219"/>
                </a:lnTo>
                <a:lnTo>
                  <a:pt x="754" y="219"/>
                </a:lnTo>
                <a:lnTo>
                  <a:pt x="799" y="186"/>
                </a:lnTo>
                <a:lnTo>
                  <a:pt x="799" y="94"/>
                </a:lnTo>
                <a:lnTo>
                  <a:pt x="842" y="0"/>
                </a:lnTo>
                <a:lnTo>
                  <a:pt x="1020" y="0"/>
                </a:lnTo>
                <a:lnTo>
                  <a:pt x="1109" y="154"/>
                </a:lnTo>
                <a:lnTo>
                  <a:pt x="1243" y="280"/>
                </a:lnTo>
                <a:lnTo>
                  <a:pt x="1331" y="559"/>
                </a:lnTo>
                <a:lnTo>
                  <a:pt x="1376" y="715"/>
                </a:lnTo>
                <a:lnTo>
                  <a:pt x="1509" y="838"/>
                </a:lnTo>
                <a:lnTo>
                  <a:pt x="1643" y="903"/>
                </a:lnTo>
                <a:lnTo>
                  <a:pt x="1776" y="963"/>
                </a:lnTo>
                <a:lnTo>
                  <a:pt x="1908" y="963"/>
                </a:lnTo>
                <a:lnTo>
                  <a:pt x="2041" y="963"/>
                </a:lnTo>
                <a:lnTo>
                  <a:pt x="2041" y="1088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56560" y="4262400"/>
            <a:ext cx="1128600" cy="932040"/>
          </a:xfrm>
          <a:custGeom>
            <a:avLst/>
            <a:gdLst/>
            <a:ahLst/>
            <a:rect l="l" t="t" r="r" b="b"/>
            <a:pathLst>
              <a:path w="2041" h="1461">
                <a:moveTo>
                  <a:pt x="2041" y="1088"/>
                </a:moveTo>
                <a:lnTo>
                  <a:pt x="1952" y="1211"/>
                </a:lnTo>
                <a:lnTo>
                  <a:pt x="1952" y="1337"/>
                </a:lnTo>
                <a:lnTo>
                  <a:pt x="2041" y="1430"/>
                </a:lnTo>
                <a:lnTo>
                  <a:pt x="1952" y="1430"/>
                </a:lnTo>
                <a:lnTo>
                  <a:pt x="1908" y="1461"/>
                </a:lnTo>
                <a:lnTo>
                  <a:pt x="1731" y="1366"/>
                </a:lnTo>
                <a:lnTo>
                  <a:pt x="1509" y="1275"/>
                </a:lnTo>
                <a:lnTo>
                  <a:pt x="1287" y="1244"/>
                </a:lnTo>
                <a:lnTo>
                  <a:pt x="1109" y="1120"/>
                </a:lnTo>
                <a:lnTo>
                  <a:pt x="1020" y="995"/>
                </a:lnTo>
                <a:lnTo>
                  <a:pt x="1067" y="871"/>
                </a:lnTo>
                <a:lnTo>
                  <a:pt x="933" y="748"/>
                </a:lnTo>
                <a:lnTo>
                  <a:pt x="799" y="591"/>
                </a:lnTo>
                <a:lnTo>
                  <a:pt x="667" y="559"/>
                </a:lnTo>
                <a:lnTo>
                  <a:pt x="489" y="498"/>
                </a:lnTo>
                <a:lnTo>
                  <a:pt x="355" y="498"/>
                </a:lnTo>
                <a:lnTo>
                  <a:pt x="177" y="435"/>
                </a:lnTo>
                <a:lnTo>
                  <a:pt x="88" y="435"/>
                </a:lnTo>
                <a:lnTo>
                  <a:pt x="42" y="404"/>
                </a:lnTo>
                <a:lnTo>
                  <a:pt x="0" y="373"/>
                </a:lnTo>
                <a:lnTo>
                  <a:pt x="88" y="373"/>
                </a:lnTo>
                <a:lnTo>
                  <a:pt x="264" y="125"/>
                </a:lnTo>
                <a:lnTo>
                  <a:pt x="311" y="62"/>
                </a:lnTo>
                <a:lnTo>
                  <a:pt x="489" y="31"/>
                </a:lnTo>
                <a:lnTo>
                  <a:pt x="620" y="62"/>
                </a:lnTo>
                <a:lnTo>
                  <a:pt x="620" y="154"/>
                </a:lnTo>
                <a:lnTo>
                  <a:pt x="667" y="219"/>
                </a:lnTo>
                <a:lnTo>
                  <a:pt x="754" y="219"/>
                </a:lnTo>
                <a:lnTo>
                  <a:pt x="799" y="186"/>
                </a:lnTo>
                <a:lnTo>
                  <a:pt x="799" y="94"/>
                </a:lnTo>
                <a:lnTo>
                  <a:pt x="842" y="0"/>
                </a:lnTo>
                <a:lnTo>
                  <a:pt x="1020" y="0"/>
                </a:lnTo>
                <a:lnTo>
                  <a:pt x="1109" y="154"/>
                </a:lnTo>
                <a:lnTo>
                  <a:pt x="1243" y="280"/>
                </a:lnTo>
                <a:lnTo>
                  <a:pt x="1331" y="559"/>
                </a:lnTo>
                <a:lnTo>
                  <a:pt x="1376" y="715"/>
                </a:lnTo>
                <a:lnTo>
                  <a:pt x="1509" y="838"/>
                </a:lnTo>
                <a:lnTo>
                  <a:pt x="1643" y="903"/>
                </a:lnTo>
                <a:lnTo>
                  <a:pt x="1776" y="963"/>
                </a:lnTo>
                <a:lnTo>
                  <a:pt x="1908" y="963"/>
                </a:lnTo>
                <a:lnTo>
                  <a:pt x="2041" y="963"/>
                </a:lnTo>
                <a:lnTo>
                  <a:pt x="2041" y="108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9200" y="1360440"/>
            <a:ext cx="5599080" cy="5338800"/>
          </a:xfrm>
          <a:custGeom>
            <a:avLst/>
            <a:gdLst/>
            <a:ahLst/>
            <a:rect l="l" t="t" r="r" b="b"/>
            <a:pathLst>
              <a:path w="10118" h="8373">
                <a:moveTo>
                  <a:pt x="10118" y="7594"/>
                </a:moveTo>
                <a:lnTo>
                  <a:pt x="10114" y="7601"/>
                </a:lnTo>
                <a:lnTo>
                  <a:pt x="10102" y="7622"/>
                </a:lnTo>
                <a:lnTo>
                  <a:pt x="10057" y="7693"/>
                </a:lnTo>
                <a:lnTo>
                  <a:pt x="10005" y="7797"/>
                </a:lnTo>
                <a:lnTo>
                  <a:pt x="9964" y="7918"/>
                </a:lnTo>
                <a:lnTo>
                  <a:pt x="9963" y="8042"/>
                </a:lnTo>
                <a:lnTo>
                  <a:pt x="9994" y="8145"/>
                </a:lnTo>
                <a:lnTo>
                  <a:pt x="10009" y="8229"/>
                </a:lnTo>
                <a:lnTo>
                  <a:pt x="9964" y="8299"/>
                </a:lnTo>
                <a:lnTo>
                  <a:pt x="9881" y="8344"/>
                </a:lnTo>
                <a:lnTo>
                  <a:pt x="9795" y="8367"/>
                </a:lnTo>
                <a:lnTo>
                  <a:pt x="9703" y="8373"/>
                </a:lnTo>
                <a:lnTo>
                  <a:pt x="9604" y="8366"/>
                </a:lnTo>
                <a:lnTo>
                  <a:pt x="9380" y="8315"/>
                </a:lnTo>
                <a:lnTo>
                  <a:pt x="9116" y="8240"/>
                </a:lnTo>
                <a:lnTo>
                  <a:pt x="8882" y="8172"/>
                </a:lnTo>
                <a:lnTo>
                  <a:pt x="8677" y="8107"/>
                </a:lnTo>
                <a:lnTo>
                  <a:pt x="8497" y="8043"/>
                </a:lnTo>
                <a:lnTo>
                  <a:pt x="8339" y="7981"/>
                </a:lnTo>
                <a:lnTo>
                  <a:pt x="8071" y="7855"/>
                </a:lnTo>
                <a:lnTo>
                  <a:pt x="7842" y="7721"/>
                </a:lnTo>
                <a:lnTo>
                  <a:pt x="7624" y="7571"/>
                </a:lnTo>
                <a:lnTo>
                  <a:pt x="7384" y="7397"/>
                </a:lnTo>
                <a:lnTo>
                  <a:pt x="7094" y="7192"/>
                </a:lnTo>
                <a:lnTo>
                  <a:pt x="6724" y="6948"/>
                </a:lnTo>
                <a:lnTo>
                  <a:pt x="6282" y="6672"/>
                </a:lnTo>
                <a:lnTo>
                  <a:pt x="5927" y="6455"/>
                </a:lnTo>
                <a:lnTo>
                  <a:pt x="5636" y="6275"/>
                </a:lnTo>
                <a:lnTo>
                  <a:pt x="5384" y="6108"/>
                </a:lnTo>
                <a:lnTo>
                  <a:pt x="5144" y="5933"/>
                </a:lnTo>
                <a:lnTo>
                  <a:pt x="4893" y="5726"/>
                </a:lnTo>
                <a:lnTo>
                  <a:pt x="4605" y="5464"/>
                </a:lnTo>
                <a:lnTo>
                  <a:pt x="4257" y="5126"/>
                </a:lnTo>
                <a:lnTo>
                  <a:pt x="4083" y="4949"/>
                </a:lnTo>
                <a:lnTo>
                  <a:pt x="3937" y="4789"/>
                </a:lnTo>
                <a:lnTo>
                  <a:pt x="3813" y="4643"/>
                </a:lnTo>
                <a:lnTo>
                  <a:pt x="3710" y="4509"/>
                </a:lnTo>
                <a:lnTo>
                  <a:pt x="3547" y="4268"/>
                </a:lnTo>
                <a:lnTo>
                  <a:pt x="3417" y="4043"/>
                </a:lnTo>
                <a:lnTo>
                  <a:pt x="3291" y="3817"/>
                </a:lnTo>
                <a:lnTo>
                  <a:pt x="3137" y="3567"/>
                </a:lnTo>
                <a:lnTo>
                  <a:pt x="3043" y="3428"/>
                </a:lnTo>
                <a:lnTo>
                  <a:pt x="2929" y="3276"/>
                </a:lnTo>
                <a:lnTo>
                  <a:pt x="2795" y="3109"/>
                </a:lnTo>
                <a:lnTo>
                  <a:pt x="2635" y="2923"/>
                </a:lnTo>
                <a:lnTo>
                  <a:pt x="2278" y="2526"/>
                </a:lnTo>
                <a:lnTo>
                  <a:pt x="1988" y="2218"/>
                </a:lnTo>
                <a:lnTo>
                  <a:pt x="1740" y="1969"/>
                </a:lnTo>
                <a:lnTo>
                  <a:pt x="1509" y="1753"/>
                </a:lnTo>
                <a:lnTo>
                  <a:pt x="1269" y="1541"/>
                </a:lnTo>
                <a:lnTo>
                  <a:pt x="995" y="1307"/>
                </a:lnTo>
                <a:lnTo>
                  <a:pt x="660" y="1023"/>
                </a:lnTo>
                <a:lnTo>
                  <a:pt x="243" y="660"/>
                </a:lnTo>
                <a:lnTo>
                  <a:pt x="116" y="535"/>
                </a:lnTo>
                <a:lnTo>
                  <a:pt x="37" y="425"/>
                </a:lnTo>
                <a:lnTo>
                  <a:pt x="0" y="330"/>
                </a:lnTo>
                <a:lnTo>
                  <a:pt x="3" y="250"/>
                </a:lnTo>
                <a:lnTo>
                  <a:pt x="36" y="183"/>
                </a:lnTo>
                <a:lnTo>
                  <a:pt x="97" y="127"/>
                </a:lnTo>
                <a:lnTo>
                  <a:pt x="180" y="84"/>
                </a:lnTo>
                <a:lnTo>
                  <a:pt x="281" y="50"/>
                </a:lnTo>
                <a:lnTo>
                  <a:pt x="393" y="26"/>
                </a:lnTo>
                <a:lnTo>
                  <a:pt x="513" y="10"/>
                </a:lnTo>
                <a:lnTo>
                  <a:pt x="753" y="0"/>
                </a:lnTo>
                <a:lnTo>
                  <a:pt x="960" y="14"/>
                </a:lnTo>
                <a:lnTo>
                  <a:pt x="1093" y="44"/>
                </a:lnTo>
                <a:lnTo>
                  <a:pt x="1479" y="249"/>
                </a:lnTo>
                <a:lnTo>
                  <a:pt x="1701" y="409"/>
                </a:lnTo>
                <a:lnTo>
                  <a:pt x="1840" y="530"/>
                </a:lnTo>
                <a:lnTo>
                  <a:pt x="1971" y="657"/>
                </a:lnTo>
                <a:lnTo>
                  <a:pt x="2173" y="837"/>
                </a:lnTo>
                <a:lnTo>
                  <a:pt x="2284" y="938"/>
                </a:lnTo>
                <a:lnTo>
                  <a:pt x="2368" y="1025"/>
                </a:lnTo>
                <a:lnTo>
                  <a:pt x="2490" y="1167"/>
                </a:lnTo>
                <a:lnTo>
                  <a:pt x="2627" y="1291"/>
                </a:lnTo>
                <a:lnTo>
                  <a:pt x="2729" y="1355"/>
                </a:lnTo>
                <a:lnTo>
                  <a:pt x="2867" y="1424"/>
                </a:lnTo>
                <a:lnTo>
                  <a:pt x="2937" y="1442"/>
                </a:lnTo>
                <a:lnTo>
                  <a:pt x="3046" y="1453"/>
                </a:lnTo>
                <a:lnTo>
                  <a:pt x="3325" y="1461"/>
                </a:lnTo>
                <a:lnTo>
                  <a:pt x="3603" y="1471"/>
                </a:lnTo>
                <a:lnTo>
                  <a:pt x="3711" y="1481"/>
                </a:lnTo>
                <a:lnTo>
                  <a:pt x="3782" y="1500"/>
                </a:lnTo>
                <a:lnTo>
                  <a:pt x="3896" y="1570"/>
                </a:lnTo>
                <a:lnTo>
                  <a:pt x="3929" y="1625"/>
                </a:lnTo>
                <a:lnTo>
                  <a:pt x="3908" y="1667"/>
                </a:lnTo>
                <a:lnTo>
                  <a:pt x="3860" y="1703"/>
                </a:lnTo>
                <a:lnTo>
                  <a:pt x="3812" y="1735"/>
                </a:lnTo>
                <a:lnTo>
                  <a:pt x="3793" y="1769"/>
                </a:lnTo>
                <a:lnTo>
                  <a:pt x="3828" y="1809"/>
                </a:lnTo>
                <a:lnTo>
                  <a:pt x="3945" y="1860"/>
                </a:lnTo>
                <a:lnTo>
                  <a:pt x="4061" y="1907"/>
                </a:lnTo>
                <a:lnTo>
                  <a:pt x="4157" y="1959"/>
                </a:lnTo>
                <a:lnTo>
                  <a:pt x="4316" y="2070"/>
                </a:lnTo>
                <a:lnTo>
                  <a:pt x="4484" y="2175"/>
                </a:lnTo>
                <a:lnTo>
                  <a:pt x="4590" y="2219"/>
                </a:lnTo>
                <a:lnTo>
                  <a:pt x="4720" y="2255"/>
                </a:lnTo>
                <a:lnTo>
                  <a:pt x="4900" y="2294"/>
                </a:lnTo>
                <a:lnTo>
                  <a:pt x="5058" y="2341"/>
                </a:lnTo>
                <a:lnTo>
                  <a:pt x="5202" y="2408"/>
                </a:lnTo>
                <a:lnTo>
                  <a:pt x="5333" y="2506"/>
                </a:lnTo>
                <a:lnTo>
                  <a:pt x="5394" y="2576"/>
                </a:lnTo>
                <a:lnTo>
                  <a:pt x="5440" y="2653"/>
                </a:lnTo>
                <a:lnTo>
                  <a:pt x="5502" y="2812"/>
                </a:lnTo>
                <a:lnTo>
                  <a:pt x="5535" y="2952"/>
                </a:lnTo>
                <a:lnTo>
                  <a:pt x="5566" y="3040"/>
                </a:lnTo>
                <a:lnTo>
                  <a:pt x="5653" y="3185"/>
                </a:lnTo>
                <a:lnTo>
                  <a:pt x="5664" y="3259"/>
                </a:lnTo>
                <a:lnTo>
                  <a:pt x="5660" y="3341"/>
                </a:lnTo>
                <a:lnTo>
                  <a:pt x="5670" y="3410"/>
                </a:lnTo>
                <a:lnTo>
                  <a:pt x="5699" y="3511"/>
                </a:lnTo>
                <a:lnTo>
                  <a:pt x="5732" y="3614"/>
                </a:lnTo>
                <a:lnTo>
                  <a:pt x="5756" y="3676"/>
                </a:lnTo>
                <a:lnTo>
                  <a:pt x="5884" y="3798"/>
                </a:lnTo>
                <a:lnTo>
                  <a:pt x="6025" y="3915"/>
                </a:lnTo>
                <a:lnTo>
                  <a:pt x="6157" y="4023"/>
                </a:lnTo>
                <a:lnTo>
                  <a:pt x="6304" y="4122"/>
                </a:lnTo>
                <a:lnTo>
                  <a:pt x="6493" y="4215"/>
                </a:lnTo>
                <a:lnTo>
                  <a:pt x="6840" y="4358"/>
                </a:lnTo>
                <a:lnTo>
                  <a:pt x="7074" y="4466"/>
                </a:lnTo>
                <a:lnTo>
                  <a:pt x="7287" y="4597"/>
                </a:lnTo>
                <a:lnTo>
                  <a:pt x="7572" y="4803"/>
                </a:lnTo>
                <a:lnTo>
                  <a:pt x="7755" y="4927"/>
                </a:lnTo>
                <a:lnTo>
                  <a:pt x="7897" y="5022"/>
                </a:lnTo>
                <a:lnTo>
                  <a:pt x="7992" y="5125"/>
                </a:lnTo>
                <a:lnTo>
                  <a:pt x="8019" y="5190"/>
                </a:lnTo>
                <a:lnTo>
                  <a:pt x="8035" y="5273"/>
                </a:lnTo>
                <a:lnTo>
                  <a:pt x="8010" y="5337"/>
                </a:lnTo>
                <a:lnTo>
                  <a:pt x="7948" y="5385"/>
                </a:lnTo>
                <a:lnTo>
                  <a:pt x="7892" y="5428"/>
                </a:lnTo>
                <a:lnTo>
                  <a:pt x="7881" y="5479"/>
                </a:lnTo>
                <a:lnTo>
                  <a:pt x="7948" y="5537"/>
                </a:lnTo>
                <a:lnTo>
                  <a:pt x="8059" y="5555"/>
                </a:lnTo>
                <a:lnTo>
                  <a:pt x="8196" y="5573"/>
                </a:lnTo>
                <a:lnTo>
                  <a:pt x="8270" y="5592"/>
                </a:lnTo>
                <a:lnTo>
                  <a:pt x="8344" y="5625"/>
                </a:lnTo>
                <a:lnTo>
                  <a:pt x="8504" y="5732"/>
                </a:lnTo>
                <a:lnTo>
                  <a:pt x="8597" y="5824"/>
                </a:lnTo>
                <a:lnTo>
                  <a:pt x="8678" y="5927"/>
                </a:lnTo>
                <a:lnTo>
                  <a:pt x="8806" y="6067"/>
                </a:lnTo>
                <a:lnTo>
                  <a:pt x="8883" y="6152"/>
                </a:lnTo>
                <a:lnTo>
                  <a:pt x="8941" y="6235"/>
                </a:lnTo>
                <a:lnTo>
                  <a:pt x="9028" y="6381"/>
                </a:lnTo>
                <a:lnTo>
                  <a:pt x="9070" y="6440"/>
                </a:lnTo>
                <a:lnTo>
                  <a:pt x="9119" y="6487"/>
                </a:lnTo>
                <a:lnTo>
                  <a:pt x="9184" y="6520"/>
                </a:lnTo>
                <a:lnTo>
                  <a:pt x="9270" y="6537"/>
                </a:lnTo>
                <a:lnTo>
                  <a:pt x="9359" y="6506"/>
                </a:lnTo>
                <a:lnTo>
                  <a:pt x="9431" y="6430"/>
                </a:lnTo>
                <a:lnTo>
                  <a:pt x="9499" y="6356"/>
                </a:lnTo>
                <a:lnTo>
                  <a:pt x="9578" y="6331"/>
                </a:lnTo>
                <a:lnTo>
                  <a:pt x="9654" y="6364"/>
                </a:lnTo>
                <a:lnTo>
                  <a:pt x="9711" y="6430"/>
                </a:lnTo>
                <a:lnTo>
                  <a:pt x="9740" y="6511"/>
                </a:lnTo>
                <a:lnTo>
                  <a:pt x="9733" y="6595"/>
                </a:lnTo>
                <a:lnTo>
                  <a:pt x="9684" y="6637"/>
                </a:lnTo>
                <a:lnTo>
                  <a:pt x="9604" y="6662"/>
                </a:lnTo>
                <a:lnTo>
                  <a:pt x="9531" y="6681"/>
                </a:lnTo>
                <a:lnTo>
                  <a:pt x="9501" y="6713"/>
                </a:lnTo>
                <a:lnTo>
                  <a:pt x="9547" y="6754"/>
                </a:lnTo>
                <a:lnTo>
                  <a:pt x="9648" y="6780"/>
                </a:lnTo>
                <a:lnTo>
                  <a:pt x="9752" y="6808"/>
                </a:lnTo>
                <a:lnTo>
                  <a:pt x="9809" y="6860"/>
                </a:lnTo>
                <a:lnTo>
                  <a:pt x="9805" y="6900"/>
                </a:lnTo>
                <a:lnTo>
                  <a:pt x="9772" y="6935"/>
                </a:lnTo>
                <a:lnTo>
                  <a:pt x="9656" y="7006"/>
                </a:lnTo>
                <a:lnTo>
                  <a:pt x="9554" y="7039"/>
                </a:lnTo>
                <a:lnTo>
                  <a:pt x="9501" y="7065"/>
                </a:lnTo>
                <a:lnTo>
                  <a:pt x="9522" y="7095"/>
                </a:lnTo>
                <a:lnTo>
                  <a:pt x="9579" y="7115"/>
                </a:lnTo>
                <a:lnTo>
                  <a:pt x="9656" y="7140"/>
                </a:lnTo>
                <a:lnTo>
                  <a:pt x="9733" y="7183"/>
                </a:lnTo>
                <a:lnTo>
                  <a:pt x="9856" y="7287"/>
                </a:lnTo>
                <a:lnTo>
                  <a:pt x="9935" y="7369"/>
                </a:lnTo>
                <a:lnTo>
                  <a:pt x="9989" y="7459"/>
                </a:lnTo>
                <a:lnTo>
                  <a:pt x="10042" y="7594"/>
                </a:lnTo>
                <a:lnTo>
                  <a:pt x="10047" y="7645"/>
                </a:lnTo>
                <a:lnTo>
                  <a:pt x="10038" y="7691"/>
                </a:lnTo>
                <a:lnTo>
                  <a:pt x="10042" y="7742"/>
                </a:lnTo>
                <a:lnTo>
                  <a:pt x="10067" y="7720"/>
                </a:lnTo>
                <a:lnTo>
                  <a:pt x="10092" y="7669"/>
                </a:lnTo>
                <a:lnTo>
                  <a:pt x="10118" y="7594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7160" y="209520"/>
            <a:ext cx="7415280" cy="6645240"/>
          </a:xfrm>
          <a:custGeom>
            <a:avLst/>
            <a:gdLst/>
            <a:ahLst/>
            <a:rect l="l" t="t" r="r" b="b"/>
            <a:pathLst>
              <a:path w="13405" h="10419">
                <a:moveTo>
                  <a:pt x="13328" y="9448"/>
                </a:moveTo>
                <a:lnTo>
                  <a:pt x="13231" y="9480"/>
                </a:lnTo>
                <a:lnTo>
                  <a:pt x="13173" y="9516"/>
                </a:lnTo>
                <a:lnTo>
                  <a:pt x="13114" y="9556"/>
                </a:lnTo>
                <a:lnTo>
                  <a:pt x="13019" y="9594"/>
                </a:lnTo>
                <a:lnTo>
                  <a:pt x="12788" y="9624"/>
                </a:lnTo>
                <a:lnTo>
                  <a:pt x="12516" y="9617"/>
                </a:lnTo>
                <a:lnTo>
                  <a:pt x="12316" y="9603"/>
                </a:lnTo>
                <a:lnTo>
                  <a:pt x="12140" y="9555"/>
                </a:lnTo>
                <a:lnTo>
                  <a:pt x="11940" y="9448"/>
                </a:lnTo>
                <a:lnTo>
                  <a:pt x="11840" y="9372"/>
                </a:lnTo>
                <a:lnTo>
                  <a:pt x="11779" y="9299"/>
                </a:lnTo>
                <a:lnTo>
                  <a:pt x="11743" y="9228"/>
                </a:lnTo>
                <a:lnTo>
                  <a:pt x="11722" y="9155"/>
                </a:lnTo>
                <a:lnTo>
                  <a:pt x="11704" y="9078"/>
                </a:lnTo>
                <a:lnTo>
                  <a:pt x="11677" y="8995"/>
                </a:lnTo>
                <a:lnTo>
                  <a:pt x="11630" y="8903"/>
                </a:lnTo>
                <a:lnTo>
                  <a:pt x="11554" y="8802"/>
                </a:lnTo>
                <a:lnTo>
                  <a:pt x="11429" y="8667"/>
                </a:lnTo>
                <a:lnTo>
                  <a:pt x="11325" y="8569"/>
                </a:lnTo>
                <a:lnTo>
                  <a:pt x="11234" y="8497"/>
                </a:lnTo>
                <a:lnTo>
                  <a:pt x="11144" y="8442"/>
                </a:lnTo>
                <a:lnTo>
                  <a:pt x="10929" y="8341"/>
                </a:lnTo>
                <a:lnTo>
                  <a:pt x="10787" y="8275"/>
                </a:lnTo>
                <a:lnTo>
                  <a:pt x="10607" y="8185"/>
                </a:lnTo>
                <a:lnTo>
                  <a:pt x="10465" y="8120"/>
                </a:lnTo>
                <a:lnTo>
                  <a:pt x="10341" y="8079"/>
                </a:lnTo>
                <a:lnTo>
                  <a:pt x="10227" y="8055"/>
                </a:lnTo>
                <a:lnTo>
                  <a:pt x="10119" y="8039"/>
                </a:lnTo>
                <a:lnTo>
                  <a:pt x="10012" y="8023"/>
                </a:lnTo>
                <a:lnTo>
                  <a:pt x="9897" y="8000"/>
                </a:lnTo>
                <a:lnTo>
                  <a:pt x="9771" y="7961"/>
                </a:lnTo>
                <a:lnTo>
                  <a:pt x="9627" y="7899"/>
                </a:lnTo>
                <a:lnTo>
                  <a:pt x="9469" y="7797"/>
                </a:lnTo>
                <a:lnTo>
                  <a:pt x="9375" y="7695"/>
                </a:lnTo>
                <a:lnTo>
                  <a:pt x="9327" y="7589"/>
                </a:lnTo>
                <a:lnTo>
                  <a:pt x="9303" y="7480"/>
                </a:lnTo>
                <a:lnTo>
                  <a:pt x="9281" y="7368"/>
                </a:lnTo>
                <a:lnTo>
                  <a:pt x="9239" y="7255"/>
                </a:lnTo>
                <a:lnTo>
                  <a:pt x="9157" y="7138"/>
                </a:lnTo>
                <a:lnTo>
                  <a:pt x="9016" y="7018"/>
                </a:lnTo>
                <a:lnTo>
                  <a:pt x="8828" y="6881"/>
                </a:lnTo>
                <a:lnTo>
                  <a:pt x="8696" y="6757"/>
                </a:lnTo>
                <a:lnTo>
                  <a:pt x="8590" y="6624"/>
                </a:lnTo>
                <a:lnTo>
                  <a:pt x="8485" y="6462"/>
                </a:lnTo>
                <a:lnTo>
                  <a:pt x="8396" y="6409"/>
                </a:lnTo>
                <a:lnTo>
                  <a:pt x="8208" y="6304"/>
                </a:lnTo>
                <a:lnTo>
                  <a:pt x="8096" y="6230"/>
                </a:lnTo>
                <a:lnTo>
                  <a:pt x="7981" y="6143"/>
                </a:lnTo>
                <a:lnTo>
                  <a:pt x="7870" y="6039"/>
                </a:lnTo>
                <a:lnTo>
                  <a:pt x="7773" y="5922"/>
                </a:lnTo>
                <a:lnTo>
                  <a:pt x="7683" y="5835"/>
                </a:lnTo>
                <a:lnTo>
                  <a:pt x="7587" y="5773"/>
                </a:lnTo>
                <a:lnTo>
                  <a:pt x="7526" y="5719"/>
                </a:lnTo>
                <a:lnTo>
                  <a:pt x="7543" y="5658"/>
                </a:lnTo>
                <a:lnTo>
                  <a:pt x="7605" y="5610"/>
                </a:lnTo>
                <a:lnTo>
                  <a:pt x="7677" y="5590"/>
                </a:lnTo>
                <a:lnTo>
                  <a:pt x="7756" y="5592"/>
                </a:lnTo>
                <a:lnTo>
                  <a:pt x="7843" y="5614"/>
                </a:lnTo>
                <a:lnTo>
                  <a:pt x="8031" y="5696"/>
                </a:lnTo>
                <a:lnTo>
                  <a:pt x="8237" y="5804"/>
                </a:lnTo>
                <a:lnTo>
                  <a:pt x="8378" y="5871"/>
                </a:lnTo>
                <a:lnTo>
                  <a:pt x="8505" y="5888"/>
                </a:lnTo>
                <a:lnTo>
                  <a:pt x="8600" y="5886"/>
                </a:lnTo>
                <a:lnTo>
                  <a:pt x="8673" y="5865"/>
                </a:lnTo>
                <a:lnTo>
                  <a:pt x="8713" y="5820"/>
                </a:lnTo>
                <a:lnTo>
                  <a:pt x="8709" y="5744"/>
                </a:lnTo>
                <a:lnTo>
                  <a:pt x="8672" y="5674"/>
                </a:lnTo>
                <a:lnTo>
                  <a:pt x="8622" y="5636"/>
                </a:lnTo>
                <a:lnTo>
                  <a:pt x="8553" y="5602"/>
                </a:lnTo>
                <a:lnTo>
                  <a:pt x="8465" y="5546"/>
                </a:lnTo>
                <a:lnTo>
                  <a:pt x="8365" y="5480"/>
                </a:lnTo>
                <a:lnTo>
                  <a:pt x="8284" y="5441"/>
                </a:lnTo>
                <a:lnTo>
                  <a:pt x="8147" y="5411"/>
                </a:lnTo>
                <a:lnTo>
                  <a:pt x="7996" y="5388"/>
                </a:lnTo>
                <a:lnTo>
                  <a:pt x="7897" y="5358"/>
                </a:lnTo>
                <a:lnTo>
                  <a:pt x="7773" y="5306"/>
                </a:lnTo>
                <a:lnTo>
                  <a:pt x="7615" y="5222"/>
                </a:lnTo>
                <a:lnTo>
                  <a:pt x="7516" y="5153"/>
                </a:lnTo>
                <a:lnTo>
                  <a:pt x="7428" y="5072"/>
                </a:lnTo>
                <a:lnTo>
                  <a:pt x="7312" y="4953"/>
                </a:lnTo>
                <a:lnTo>
                  <a:pt x="7214" y="4833"/>
                </a:lnTo>
                <a:lnTo>
                  <a:pt x="7164" y="4740"/>
                </a:lnTo>
                <a:lnTo>
                  <a:pt x="7112" y="4650"/>
                </a:lnTo>
                <a:lnTo>
                  <a:pt x="7003" y="4542"/>
                </a:lnTo>
                <a:lnTo>
                  <a:pt x="6896" y="4463"/>
                </a:lnTo>
                <a:lnTo>
                  <a:pt x="6803" y="4408"/>
                </a:lnTo>
                <a:lnTo>
                  <a:pt x="6635" y="4339"/>
                </a:lnTo>
                <a:lnTo>
                  <a:pt x="6458" y="4277"/>
                </a:lnTo>
                <a:lnTo>
                  <a:pt x="6353" y="4229"/>
                </a:lnTo>
                <a:lnTo>
                  <a:pt x="6231" y="4160"/>
                </a:lnTo>
                <a:lnTo>
                  <a:pt x="6027" y="4036"/>
                </a:lnTo>
                <a:lnTo>
                  <a:pt x="5890" y="3946"/>
                </a:lnTo>
                <a:lnTo>
                  <a:pt x="5769" y="3845"/>
                </a:lnTo>
                <a:lnTo>
                  <a:pt x="5614" y="3689"/>
                </a:lnTo>
                <a:lnTo>
                  <a:pt x="5467" y="3530"/>
                </a:lnTo>
                <a:lnTo>
                  <a:pt x="5375" y="3413"/>
                </a:lnTo>
                <a:lnTo>
                  <a:pt x="5307" y="3286"/>
                </a:lnTo>
                <a:lnTo>
                  <a:pt x="5228" y="3102"/>
                </a:lnTo>
                <a:lnTo>
                  <a:pt x="5186" y="2972"/>
                </a:lnTo>
                <a:lnTo>
                  <a:pt x="5173" y="2863"/>
                </a:lnTo>
                <a:lnTo>
                  <a:pt x="5175" y="2769"/>
                </a:lnTo>
                <a:lnTo>
                  <a:pt x="5185" y="2682"/>
                </a:lnTo>
                <a:lnTo>
                  <a:pt x="5190" y="2600"/>
                </a:lnTo>
                <a:lnTo>
                  <a:pt x="5180" y="2514"/>
                </a:lnTo>
                <a:lnTo>
                  <a:pt x="5144" y="2418"/>
                </a:lnTo>
                <a:lnTo>
                  <a:pt x="5073" y="2308"/>
                </a:lnTo>
                <a:lnTo>
                  <a:pt x="4991" y="2213"/>
                </a:lnTo>
                <a:lnTo>
                  <a:pt x="4914" y="2143"/>
                </a:lnTo>
                <a:lnTo>
                  <a:pt x="4837" y="2090"/>
                </a:lnTo>
                <a:lnTo>
                  <a:pt x="4757" y="2048"/>
                </a:lnTo>
                <a:lnTo>
                  <a:pt x="4564" y="1974"/>
                </a:lnTo>
                <a:lnTo>
                  <a:pt x="4444" y="1928"/>
                </a:lnTo>
                <a:lnTo>
                  <a:pt x="4303" y="1868"/>
                </a:lnTo>
                <a:lnTo>
                  <a:pt x="4148" y="1808"/>
                </a:lnTo>
                <a:lnTo>
                  <a:pt x="4012" y="1772"/>
                </a:lnTo>
                <a:lnTo>
                  <a:pt x="3890" y="1750"/>
                </a:lnTo>
                <a:lnTo>
                  <a:pt x="3777" y="1734"/>
                </a:lnTo>
                <a:lnTo>
                  <a:pt x="3673" y="1714"/>
                </a:lnTo>
                <a:lnTo>
                  <a:pt x="3573" y="1681"/>
                </a:lnTo>
                <a:lnTo>
                  <a:pt x="3475" y="1627"/>
                </a:lnTo>
                <a:lnTo>
                  <a:pt x="3377" y="1544"/>
                </a:lnTo>
                <a:lnTo>
                  <a:pt x="3320" y="1451"/>
                </a:lnTo>
                <a:lnTo>
                  <a:pt x="3322" y="1367"/>
                </a:lnTo>
                <a:lnTo>
                  <a:pt x="3331" y="1276"/>
                </a:lnTo>
                <a:lnTo>
                  <a:pt x="3300" y="1163"/>
                </a:lnTo>
                <a:lnTo>
                  <a:pt x="3195" y="1004"/>
                </a:lnTo>
                <a:lnTo>
                  <a:pt x="3090" y="906"/>
                </a:lnTo>
                <a:lnTo>
                  <a:pt x="2974" y="812"/>
                </a:lnTo>
                <a:lnTo>
                  <a:pt x="2909" y="747"/>
                </a:lnTo>
                <a:lnTo>
                  <a:pt x="2836" y="663"/>
                </a:lnTo>
                <a:lnTo>
                  <a:pt x="2762" y="544"/>
                </a:lnTo>
                <a:lnTo>
                  <a:pt x="2734" y="494"/>
                </a:lnTo>
                <a:lnTo>
                  <a:pt x="2683" y="428"/>
                </a:lnTo>
                <a:lnTo>
                  <a:pt x="2557" y="268"/>
                </a:lnTo>
                <a:lnTo>
                  <a:pt x="2458" y="135"/>
                </a:lnTo>
                <a:lnTo>
                  <a:pt x="2355" y="45"/>
                </a:lnTo>
                <a:lnTo>
                  <a:pt x="2292" y="22"/>
                </a:lnTo>
                <a:lnTo>
                  <a:pt x="2219" y="17"/>
                </a:lnTo>
                <a:lnTo>
                  <a:pt x="2184" y="54"/>
                </a:lnTo>
                <a:lnTo>
                  <a:pt x="2143" y="104"/>
                </a:lnTo>
                <a:lnTo>
                  <a:pt x="2026" y="129"/>
                </a:lnTo>
                <a:lnTo>
                  <a:pt x="1930" y="118"/>
                </a:lnTo>
                <a:lnTo>
                  <a:pt x="1824" y="93"/>
                </a:lnTo>
                <a:lnTo>
                  <a:pt x="1680" y="76"/>
                </a:lnTo>
                <a:lnTo>
                  <a:pt x="1409" y="77"/>
                </a:lnTo>
                <a:lnTo>
                  <a:pt x="1299" y="79"/>
                </a:lnTo>
                <a:lnTo>
                  <a:pt x="1140" y="76"/>
                </a:lnTo>
                <a:lnTo>
                  <a:pt x="932" y="60"/>
                </a:lnTo>
                <a:lnTo>
                  <a:pt x="792" y="41"/>
                </a:lnTo>
                <a:lnTo>
                  <a:pt x="652" y="24"/>
                </a:lnTo>
                <a:lnTo>
                  <a:pt x="446" y="17"/>
                </a:lnTo>
                <a:lnTo>
                  <a:pt x="318" y="9"/>
                </a:lnTo>
                <a:lnTo>
                  <a:pt x="217" y="0"/>
                </a:lnTo>
                <a:lnTo>
                  <a:pt x="133" y="7"/>
                </a:lnTo>
                <a:lnTo>
                  <a:pt x="60" y="46"/>
                </a:lnTo>
                <a:lnTo>
                  <a:pt x="13" y="103"/>
                </a:lnTo>
                <a:lnTo>
                  <a:pt x="0" y="168"/>
                </a:lnTo>
                <a:lnTo>
                  <a:pt x="17" y="236"/>
                </a:lnTo>
                <a:lnTo>
                  <a:pt x="60" y="311"/>
                </a:lnTo>
                <a:lnTo>
                  <a:pt x="140" y="413"/>
                </a:lnTo>
                <a:lnTo>
                  <a:pt x="223" y="498"/>
                </a:lnTo>
                <a:lnTo>
                  <a:pt x="307" y="569"/>
                </a:lnTo>
                <a:lnTo>
                  <a:pt x="394" y="627"/>
                </a:lnTo>
                <a:lnTo>
                  <a:pt x="579" y="714"/>
                </a:lnTo>
                <a:lnTo>
                  <a:pt x="776" y="776"/>
                </a:lnTo>
                <a:lnTo>
                  <a:pt x="991" y="834"/>
                </a:lnTo>
                <a:lnTo>
                  <a:pt x="1225" y="905"/>
                </a:lnTo>
                <a:lnTo>
                  <a:pt x="1349" y="952"/>
                </a:lnTo>
                <a:lnTo>
                  <a:pt x="1479" y="1009"/>
                </a:lnTo>
                <a:lnTo>
                  <a:pt x="1614" y="1078"/>
                </a:lnTo>
                <a:lnTo>
                  <a:pt x="1757" y="1163"/>
                </a:lnTo>
                <a:lnTo>
                  <a:pt x="2009" y="1327"/>
                </a:lnTo>
                <a:lnTo>
                  <a:pt x="2206" y="1462"/>
                </a:lnTo>
                <a:lnTo>
                  <a:pt x="2361" y="1578"/>
                </a:lnTo>
                <a:lnTo>
                  <a:pt x="2494" y="1685"/>
                </a:lnTo>
                <a:lnTo>
                  <a:pt x="2760" y="1927"/>
                </a:lnTo>
                <a:lnTo>
                  <a:pt x="2929" y="2083"/>
                </a:lnTo>
                <a:lnTo>
                  <a:pt x="3145" y="2279"/>
                </a:lnTo>
                <a:lnTo>
                  <a:pt x="3373" y="2486"/>
                </a:lnTo>
                <a:lnTo>
                  <a:pt x="3546" y="2655"/>
                </a:lnTo>
                <a:lnTo>
                  <a:pt x="3681" y="2797"/>
                </a:lnTo>
                <a:lnTo>
                  <a:pt x="3799" y="2927"/>
                </a:lnTo>
                <a:lnTo>
                  <a:pt x="3917" y="3054"/>
                </a:lnTo>
                <a:lnTo>
                  <a:pt x="4054" y="3197"/>
                </a:lnTo>
                <a:lnTo>
                  <a:pt x="4226" y="3364"/>
                </a:lnTo>
                <a:lnTo>
                  <a:pt x="4456" y="3572"/>
                </a:lnTo>
                <a:lnTo>
                  <a:pt x="4680" y="3757"/>
                </a:lnTo>
                <a:lnTo>
                  <a:pt x="4870" y="3897"/>
                </a:lnTo>
                <a:lnTo>
                  <a:pt x="5034" y="4005"/>
                </a:lnTo>
                <a:lnTo>
                  <a:pt x="5185" y="4099"/>
                </a:lnTo>
                <a:lnTo>
                  <a:pt x="5331" y="4196"/>
                </a:lnTo>
                <a:lnTo>
                  <a:pt x="5483" y="4310"/>
                </a:lnTo>
                <a:lnTo>
                  <a:pt x="5651" y="4458"/>
                </a:lnTo>
                <a:lnTo>
                  <a:pt x="5845" y="4659"/>
                </a:lnTo>
                <a:lnTo>
                  <a:pt x="6007" y="4845"/>
                </a:lnTo>
                <a:lnTo>
                  <a:pt x="6122" y="4999"/>
                </a:lnTo>
                <a:lnTo>
                  <a:pt x="6206" y="5131"/>
                </a:lnTo>
                <a:lnTo>
                  <a:pt x="6271" y="5254"/>
                </a:lnTo>
                <a:lnTo>
                  <a:pt x="6329" y="5380"/>
                </a:lnTo>
                <a:lnTo>
                  <a:pt x="6398" y="5520"/>
                </a:lnTo>
                <a:lnTo>
                  <a:pt x="6489" y="5686"/>
                </a:lnTo>
                <a:lnTo>
                  <a:pt x="6617" y="5893"/>
                </a:lnTo>
                <a:lnTo>
                  <a:pt x="6737" y="6081"/>
                </a:lnTo>
                <a:lnTo>
                  <a:pt x="6828" y="6232"/>
                </a:lnTo>
                <a:lnTo>
                  <a:pt x="6964" y="6470"/>
                </a:lnTo>
                <a:lnTo>
                  <a:pt x="7034" y="6579"/>
                </a:lnTo>
                <a:lnTo>
                  <a:pt x="7120" y="6698"/>
                </a:lnTo>
                <a:lnTo>
                  <a:pt x="7234" y="6837"/>
                </a:lnTo>
                <a:lnTo>
                  <a:pt x="7389" y="7009"/>
                </a:lnTo>
                <a:lnTo>
                  <a:pt x="7628" y="7266"/>
                </a:lnTo>
                <a:lnTo>
                  <a:pt x="7824" y="7467"/>
                </a:lnTo>
                <a:lnTo>
                  <a:pt x="7993" y="7630"/>
                </a:lnTo>
                <a:lnTo>
                  <a:pt x="8154" y="7769"/>
                </a:lnTo>
                <a:lnTo>
                  <a:pt x="8324" y="7901"/>
                </a:lnTo>
                <a:lnTo>
                  <a:pt x="8525" y="8043"/>
                </a:lnTo>
                <a:lnTo>
                  <a:pt x="9085" y="8419"/>
                </a:lnTo>
                <a:lnTo>
                  <a:pt x="9287" y="8549"/>
                </a:lnTo>
                <a:lnTo>
                  <a:pt x="9453" y="8646"/>
                </a:lnTo>
                <a:lnTo>
                  <a:pt x="9596" y="8720"/>
                </a:lnTo>
                <a:lnTo>
                  <a:pt x="9728" y="8782"/>
                </a:lnTo>
                <a:lnTo>
                  <a:pt x="10008" y="8912"/>
                </a:lnTo>
                <a:lnTo>
                  <a:pt x="10182" y="9002"/>
                </a:lnTo>
                <a:lnTo>
                  <a:pt x="10396" y="9124"/>
                </a:lnTo>
                <a:lnTo>
                  <a:pt x="10617" y="9268"/>
                </a:lnTo>
                <a:lnTo>
                  <a:pt x="10781" y="9399"/>
                </a:lnTo>
                <a:lnTo>
                  <a:pt x="10910" y="9520"/>
                </a:lnTo>
                <a:lnTo>
                  <a:pt x="11023" y="9629"/>
                </a:lnTo>
                <a:lnTo>
                  <a:pt x="11139" y="9728"/>
                </a:lnTo>
                <a:lnTo>
                  <a:pt x="11278" y="9819"/>
                </a:lnTo>
                <a:lnTo>
                  <a:pt x="11462" y="9901"/>
                </a:lnTo>
                <a:lnTo>
                  <a:pt x="11708" y="9977"/>
                </a:lnTo>
                <a:lnTo>
                  <a:pt x="11801" y="9992"/>
                </a:lnTo>
                <a:lnTo>
                  <a:pt x="11880" y="9992"/>
                </a:lnTo>
                <a:lnTo>
                  <a:pt x="12014" y="9963"/>
                </a:lnTo>
                <a:lnTo>
                  <a:pt x="12149" y="9935"/>
                </a:lnTo>
                <a:lnTo>
                  <a:pt x="12230" y="9933"/>
                </a:lnTo>
                <a:lnTo>
                  <a:pt x="12325" y="9948"/>
                </a:lnTo>
                <a:lnTo>
                  <a:pt x="12473" y="9996"/>
                </a:lnTo>
                <a:lnTo>
                  <a:pt x="12564" y="10056"/>
                </a:lnTo>
                <a:lnTo>
                  <a:pt x="12650" y="10127"/>
                </a:lnTo>
                <a:lnTo>
                  <a:pt x="12788" y="10212"/>
                </a:lnTo>
                <a:lnTo>
                  <a:pt x="12931" y="10296"/>
                </a:lnTo>
                <a:lnTo>
                  <a:pt x="13041" y="10372"/>
                </a:lnTo>
                <a:lnTo>
                  <a:pt x="13139" y="10419"/>
                </a:lnTo>
                <a:lnTo>
                  <a:pt x="13251" y="10418"/>
                </a:lnTo>
                <a:lnTo>
                  <a:pt x="13309" y="10366"/>
                </a:lnTo>
                <a:lnTo>
                  <a:pt x="13328" y="10270"/>
                </a:lnTo>
                <a:lnTo>
                  <a:pt x="13336" y="10157"/>
                </a:lnTo>
                <a:lnTo>
                  <a:pt x="13332" y="10077"/>
                </a:lnTo>
                <a:lnTo>
                  <a:pt x="13339" y="9998"/>
                </a:lnTo>
                <a:lnTo>
                  <a:pt x="13382" y="9891"/>
                </a:lnTo>
                <a:lnTo>
                  <a:pt x="13397" y="9835"/>
                </a:lnTo>
                <a:lnTo>
                  <a:pt x="13385" y="9790"/>
                </a:lnTo>
                <a:lnTo>
                  <a:pt x="13319" y="9719"/>
                </a:lnTo>
                <a:lnTo>
                  <a:pt x="13251" y="9651"/>
                </a:lnTo>
                <a:lnTo>
                  <a:pt x="13237" y="9612"/>
                </a:lnTo>
                <a:lnTo>
                  <a:pt x="13251" y="9566"/>
                </a:lnTo>
                <a:lnTo>
                  <a:pt x="13292" y="9521"/>
                </a:lnTo>
                <a:lnTo>
                  <a:pt x="13348" y="9491"/>
                </a:lnTo>
                <a:lnTo>
                  <a:pt x="13405" y="9448"/>
                </a:lnTo>
                <a:lnTo>
                  <a:pt x="13328" y="944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8400" y="1325520"/>
            <a:ext cx="114120" cy="103320"/>
          </a:xfrm>
          <a:custGeom>
            <a:avLst/>
            <a:gdLst/>
            <a:ahLst/>
            <a:rect l="l" t="t" r="r" b="b"/>
            <a:pathLst>
              <a:path w="207" h="161">
                <a:moveTo>
                  <a:pt x="6" y="161"/>
                </a:moveTo>
                <a:lnTo>
                  <a:pt x="0" y="138"/>
                </a:lnTo>
                <a:lnTo>
                  <a:pt x="6" y="92"/>
                </a:lnTo>
                <a:lnTo>
                  <a:pt x="44" y="42"/>
                </a:lnTo>
                <a:lnTo>
                  <a:pt x="106" y="11"/>
                </a:lnTo>
                <a:lnTo>
                  <a:pt x="163" y="0"/>
                </a:lnTo>
                <a:lnTo>
                  <a:pt x="20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3240" y="1297080"/>
            <a:ext cx="69840" cy="95040"/>
          </a:xfrm>
          <a:custGeom>
            <a:avLst/>
            <a:gdLst/>
            <a:ahLst/>
            <a:rect l="l" t="t" r="r" b="b"/>
            <a:pathLst>
              <a:path w="127" h="150">
                <a:moveTo>
                  <a:pt x="124" y="150"/>
                </a:moveTo>
                <a:lnTo>
                  <a:pt x="127" y="101"/>
                </a:lnTo>
                <a:lnTo>
                  <a:pt x="119" y="59"/>
                </a:lnTo>
                <a:lnTo>
                  <a:pt x="99" y="22"/>
                </a:lnTo>
                <a:lnTo>
                  <a:pt x="48" y="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09840" y="1222200"/>
            <a:ext cx="30240" cy="147960"/>
          </a:xfrm>
          <a:custGeom>
            <a:avLst/>
            <a:gdLst/>
            <a:ahLst/>
            <a:rect l="l" t="t" r="r" b="b"/>
            <a:pathLst>
              <a:path w="54" h="231">
                <a:moveTo>
                  <a:pt x="3" y="231"/>
                </a:moveTo>
                <a:lnTo>
                  <a:pt x="0" y="201"/>
                </a:lnTo>
                <a:lnTo>
                  <a:pt x="3" y="138"/>
                </a:lnTo>
                <a:lnTo>
                  <a:pt x="36" y="89"/>
                </a:lnTo>
                <a:lnTo>
                  <a:pt x="54" y="47"/>
                </a:lnTo>
                <a:lnTo>
                  <a:pt x="27" y="13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01880" y="1630440"/>
            <a:ext cx="113040" cy="102960"/>
          </a:xfrm>
          <a:custGeom>
            <a:avLst/>
            <a:gdLst/>
            <a:ahLst/>
            <a:rect l="l" t="t" r="r" b="b"/>
            <a:pathLst>
              <a:path w="206" h="161">
                <a:moveTo>
                  <a:pt x="6" y="161"/>
                </a:moveTo>
                <a:lnTo>
                  <a:pt x="0" y="137"/>
                </a:lnTo>
                <a:lnTo>
                  <a:pt x="6" y="92"/>
                </a:lnTo>
                <a:lnTo>
                  <a:pt x="43" y="41"/>
                </a:lnTo>
                <a:lnTo>
                  <a:pt x="105" y="12"/>
                </a:lnTo>
                <a:lnTo>
                  <a:pt x="163" y="0"/>
                </a:lnTo>
                <a:lnTo>
                  <a:pt x="206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600200"/>
            <a:ext cx="69840" cy="9360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124" y="148"/>
                </a:moveTo>
                <a:lnTo>
                  <a:pt x="127" y="100"/>
                </a:lnTo>
                <a:lnTo>
                  <a:pt x="120" y="59"/>
                </a:lnTo>
                <a:lnTo>
                  <a:pt x="99" y="23"/>
                </a:lnTo>
                <a:lnTo>
                  <a:pt x="48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1880" y="1527120"/>
            <a:ext cx="30240" cy="147600"/>
          </a:xfrm>
          <a:custGeom>
            <a:avLst/>
            <a:gdLst/>
            <a:ahLst/>
            <a:rect l="l" t="t" r="r" b="b"/>
            <a:pathLst>
              <a:path w="55" h="229">
                <a:moveTo>
                  <a:pt x="4" y="229"/>
                </a:moveTo>
                <a:lnTo>
                  <a:pt x="0" y="199"/>
                </a:lnTo>
                <a:lnTo>
                  <a:pt x="4" y="138"/>
                </a:lnTo>
                <a:lnTo>
                  <a:pt x="37" y="88"/>
                </a:lnTo>
                <a:lnTo>
                  <a:pt x="55" y="46"/>
                </a:lnTo>
                <a:lnTo>
                  <a:pt x="27" y="12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4280" y="1935000"/>
            <a:ext cx="112680" cy="101880"/>
          </a:xfrm>
          <a:custGeom>
            <a:avLst/>
            <a:gdLst/>
            <a:ahLst/>
            <a:rect l="l" t="t" r="r" b="b"/>
            <a:pathLst>
              <a:path w="206" h="162">
                <a:moveTo>
                  <a:pt x="6" y="162"/>
                </a:moveTo>
                <a:lnTo>
                  <a:pt x="0" y="137"/>
                </a:lnTo>
                <a:lnTo>
                  <a:pt x="6" y="92"/>
                </a:lnTo>
                <a:lnTo>
                  <a:pt x="42" y="41"/>
                </a:lnTo>
                <a:lnTo>
                  <a:pt x="105" y="12"/>
                </a:lnTo>
                <a:lnTo>
                  <a:pt x="162" y="0"/>
                </a:lnTo>
                <a:lnTo>
                  <a:pt x="206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1906560"/>
            <a:ext cx="69840" cy="9216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125" y="149"/>
                </a:moveTo>
                <a:lnTo>
                  <a:pt x="127" y="100"/>
                </a:lnTo>
                <a:lnTo>
                  <a:pt x="120" y="58"/>
                </a:lnTo>
                <a:lnTo>
                  <a:pt x="99" y="21"/>
                </a:lnTo>
                <a:lnTo>
                  <a:pt x="47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94280" y="1830240"/>
            <a:ext cx="28440" cy="147960"/>
          </a:xfrm>
          <a:custGeom>
            <a:avLst/>
            <a:gdLst/>
            <a:ahLst/>
            <a:rect l="l" t="t" r="r" b="b"/>
            <a:pathLst>
              <a:path w="55" h="231">
                <a:moveTo>
                  <a:pt x="5" y="231"/>
                </a:moveTo>
                <a:lnTo>
                  <a:pt x="0" y="200"/>
                </a:lnTo>
                <a:lnTo>
                  <a:pt x="5" y="138"/>
                </a:lnTo>
                <a:lnTo>
                  <a:pt x="37" y="89"/>
                </a:lnTo>
                <a:lnTo>
                  <a:pt x="55" y="46"/>
                </a:lnTo>
                <a:lnTo>
                  <a:pt x="27" y="13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68840" y="2160720"/>
            <a:ext cx="112680" cy="104760"/>
          </a:xfrm>
          <a:custGeom>
            <a:avLst/>
            <a:gdLst/>
            <a:ahLst/>
            <a:rect l="l" t="t" r="r" b="b"/>
            <a:pathLst>
              <a:path w="206" h="161">
                <a:moveTo>
                  <a:pt x="6" y="161"/>
                </a:moveTo>
                <a:lnTo>
                  <a:pt x="0" y="137"/>
                </a:lnTo>
                <a:lnTo>
                  <a:pt x="6" y="92"/>
                </a:lnTo>
                <a:lnTo>
                  <a:pt x="43" y="42"/>
                </a:lnTo>
                <a:lnTo>
                  <a:pt x="106" y="11"/>
                </a:lnTo>
                <a:lnTo>
                  <a:pt x="163" y="0"/>
                </a:lnTo>
                <a:lnTo>
                  <a:pt x="206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03680" y="2131920"/>
            <a:ext cx="68400" cy="9684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125" y="149"/>
                </a:moveTo>
                <a:lnTo>
                  <a:pt x="127" y="100"/>
                </a:lnTo>
                <a:lnTo>
                  <a:pt x="120" y="59"/>
                </a:lnTo>
                <a:lnTo>
                  <a:pt x="100" y="24"/>
                </a:lnTo>
                <a:lnTo>
                  <a:pt x="48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68840" y="2058840"/>
            <a:ext cx="30240" cy="146160"/>
          </a:xfrm>
          <a:custGeom>
            <a:avLst/>
            <a:gdLst/>
            <a:ahLst/>
            <a:rect l="l" t="t" r="r" b="b"/>
            <a:pathLst>
              <a:path w="54" h="230">
                <a:moveTo>
                  <a:pt x="4" y="230"/>
                </a:moveTo>
                <a:lnTo>
                  <a:pt x="0" y="200"/>
                </a:lnTo>
                <a:lnTo>
                  <a:pt x="4" y="139"/>
                </a:lnTo>
                <a:lnTo>
                  <a:pt x="36" y="89"/>
                </a:lnTo>
                <a:lnTo>
                  <a:pt x="54" y="47"/>
                </a:lnTo>
                <a:lnTo>
                  <a:pt x="28" y="13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60880" y="2465280"/>
            <a:ext cx="112680" cy="103320"/>
          </a:xfrm>
          <a:custGeom>
            <a:avLst/>
            <a:gdLst/>
            <a:ahLst/>
            <a:rect l="l" t="t" r="r" b="b"/>
            <a:pathLst>
              <a:path w="206" h="161">
                <a:moveTo>
                  <a:pt x="6" y="161"/>
                </a:moveTo>
                <a:lnTo>
                  <a:pt x="0" y="137"/>
                </a:lnTo>
                <a:lnTo>
                  <a:pt x="6" y="92"/>
                </a:lnTo>
                <a:lnTo>
                  <a:pt x="43" y="41"/>
                </a:lnTo>
                <a:lnTo>
                  <a:pt x="106" y="12"/>
                </a:lnTo>
                <a:lnTo>
                  <a:pt x="163" y="0"/>
                </a:lnTo>
                <a:lnTo>
                  <a:pt x="206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94280" y="2436840"/>
            <a:ext cx="69840" cy="9360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125" y="148"/>
                </a:moveTo>
                <a:lnTo>
                  <a:pt x="127" y="100"/>
                </a:lnTo>
                <a:lnTo>
                  <a:pt x="120" y="59"/>
                </a:lnTo>
                <a:lnTo>
                  <a:pt x="100" y="23"/>
                </a:lnTo>
                <a:lnTo>
                  <a:pt x="48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60880" y="2362320"/>
            <a:ext cx="30240" cy="147600"/>
          </a:xfrm>
          <a:custGeom>
            <a:avLst/>
            <a:gdLst/>
            <a:ahLst/>
            <a:rect l="l" t="t" r="r" b="b"/>
            <a:pathLst>
              <a:path w="55" h="230">
                <a:moveTo>
                  <a:pt x="5" y="230"/>
                </a:moveTo>
                <a:lnTo>
                  <a:pt x="0" y="199"/>
                </a:lnTo>
                <a:lnTo>
                  <a:pt x="5" y="138"/>
                </a:lnTo>
                <a:lnTo>
                  <a:pt x="37" y="88"/>
                </a:lnTo>
                <a:lnTo>
                  <a:pt x="55" y="45"/>
                </a:lnTo>
                <a:lnTo>
                  <a:pt x="29" y="12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2920" y="2770200"/>
            <a:ext cx="114480" cy="101520"/>
          </a:xfrm>
          <a:custGeom>
            <a:avLst/>
            <a:gdLst/>
            <a:ahLst/>
            <a:rect l="l" t="t" r="r" b="b"/>
            <a:pathLst>
              <a:path w="207" h="161">
                <a:moveTo>
                  <a:pt x="6" y="161"/>
                </a:moveTo>
                <a:lnTo>
                  <a:pt x="0" y="138"/>
                </a:lnTo>
                <a:lnTo>
                  <a:pt x="6" y="92"/>
                </a:lnTo>
                <a:lnTo>
                  <a:pt x="42" y="43"/>
                </a:lnTo>
                <a:lnTo>
                  <a:pt x="106" y="13"/>
                </a:lnTo>
                <a:lnTo>
                  <a:pt x="163" y="0"/>
                </a:lnTo>
                <a:lnTo>
                  <a:pt x="20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86320" y="2739960"/>
            <a:ext cx="69840" cy="9540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124" y="149"/>
                </a:moveTo>
                <a:lnTo>
                  <a:pt x="127" y="100"/>
                </a:lnTo>
                <a:lnTo>
                  <a:pt x="119" y="58"/>
                </a:lnTo>
                <a:lnTo>
                  <a:pt x="99" y="21"/>
                </a:lnTo>
                <a:lnTo>
                  <a:pt x="46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52920" y="2666880"/>
            <a:ext cx="30240" cy="147600"/>
          </a:xfrm>
          <a:custGeom>
            <a:avLst/>
            <a:gdLst/>
            <a:ahLst/>
            <a:rect l="l" t="t" r="r" b="b"/>
            <a:pathLst>
              <a:path w="56" h="231">
                <a:moveTo>
                  <a:pt x="5" y="231"/>
                </a:moveTo>
                <a:lnTo>
                  <a:pt x="0" y="200"/>
                </a:lnTo>
                <a:lnTo>
                  <a:pt x="5" y="138"/>
                </a:lnTo>
                <a:lnTo>
                  <a:pt x="38" y="89"/>
                </a:lnTo>
                <a:lnTo>
                  <a:pt x="56" y="47"/>
                </a:lnTo>
                <a:lnTo>
                  <a:pt x="28" y="13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45320" y="3073320"/>
            <a:ext cx="112680" cy="101520"/>
          </a:xfrm>
          <a:custGeom>
            <a:avLst/>
            <a:gdLst/>
            <a:ahLst/>
            <a:rect l="l" t="t" r="r" b="b"/>
            <a:pathLst>
              <a:path w="205" h="161">
                <a:moveTo>
                  <a:pt x="6" y="161"/>
                </a:moveTo>
                <a:lnTo>
                  <a:pt x="0" y="138"/>
                </a:lnTo>
                <a:lnTo>
                  <a:pt x="6" y="93"/>
                </a:lnTo>
                <a:lnTo>
                  <a:pt x="42" y="42"/>
                </a:lnTo>
                <a:lnTo>
                  <a:pt x="104" y="11"/>
                </a:lnTo>
                <a:lnTo>
                  <a:pt x="161" y="0"/>
                </a:lnTo>
                <a:lnTo>
                  <a:pt x="205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5320" y="2970360"/>
            <a:ext cx="28440" cy="145800"/>
          </a:xfrm>
          <a:custGeom>
            <a:avLst/>
            <a:gdLst/>
            <a:ahLst/>
            <a:rect l="l" t="t" r="r" b="b"/>
            <a:pathLst>
              <a:path w="55" h="230">
                <a:moveTo>
                  <a:pt x="4" y="230"/>
                </a:moveTo>
                <a:lnTo>
                  <a:pt x="0" y="200"/>
                </a:lnTo>
                <a:lnTo>
                  <a:pt x="4" y="138"/>
                </a:lnTo>
                <a:lnTo>
                  <a:pt x="37" y="88"/>
                </a:lnTo>
                <a:lnTo>
                  <a:pt x="55" y="46"/>
                </a:lnTo>
                <a:lnTo>
                  <a:pt x="27" y="12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35560" y="3468600"/>
            <a:ext cx="112680" cy="104760"/>
          </a:xfrm>
          <a:custGeom>
            <a:avLst/>
            <a:gdLst/>
            <a:ahLst/>
            <a:rect l="l" t="t" r="r" b="b"/>
            <a:pathLst>
              <a:path w="205" h="161">
                <a:moveTo>
                  <a:pt x="6" y="161"/>
                </a:moveTo>
                <a:lnTo>
                  <a:pt x="0" y="137"/>
                </a:lnTo>
                <a:lnTo>
                  <a:pt x="6" y="91"/>
                </a:lnTo>
                <a:lnTo>
                  <a:pt x="42" y="41"/>
                </a:lnTo>
                <a:lnTo>
                  <a:pt x="104" y="11"/>
                </a:lnTo>
                <a:lnTo>
                  <a:pt x="162" y="0"/>
                </a:lnTo>
                <a:lnTo>
                  <a:pt x="205" y="1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68960" y="3440160"/>
            <a:ext cx="69840" cy="95040"/>
          </a:xfrm>
          <a:custGeom>
            <a:avLst/>
            <a:gdLst/>
            <a:ahLst/>
            <a:rect l="l" t="t" r="r" b="b"/>
            <a:pathLst>
              <a:path w="126" h="149">
                <a:moveTo>
                  <a:pt x="125" y="149"/>
                </a:moveTo>
                <a:lnTo>
                  <a:pt x="126" y="101"/>
                </a:lnTo>
                <a:lnTo>
                  <a:pt x="119" y="59"/>
                </a:lnTo>
                <a:lnTo>
                  <a:pt x="98" y="24"/>
                </a:lnTo>
                <a:lnTo>
                  <a:pt x="47" y="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35560" y="3367080"/>
            <a:ext cx="30240" cy="147600"/>
          </a:xfrm>
          <a:custGeom>
            <a:avLst/>
            <a:gdLst/>
            <a:ahLst/>
            <a:rect l="l" t="t" r="r" b="b"/>
            <a:pathLst>
              <a:path w="54" h="230">
                <a:moveTo>
                  <a:pt x="5" y="230"/>
                </a:moveTo>
                <a:lnTo>
                  <a:pt x="0" y="200"/>
                </a:lnTo>
                <a:lnTo>
                  <a:pt x="5" y="139"/>
                </a:lnTo>
                <a:lnTo>
                  <a:pt x="36" y="89"/>
                </a:lnTo>
                <a:lnTo>
                  <a:pt x="54" y="46"/>
                </a:lnTo>
                <a:lnTo>
                  <a:pt x="27" y="13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4600" y="3790800"/>
            <a:ext cx="114120" cy="103320"/>
          </a:xfrm>
          <a:custGeom>
            <a:avLst/>
            <a:gdLst/>
            <a:ahLst/>
            <a:rect l="l" t="t" r="r" b="b"/>
            <a:pathLst>
              <a:path w="205" h="161">
                <a:moveTo>
                  <a:pt x="6" y="161"/>
                </a:moveTo>
                <a:lnTo>
                  <a:pt x="0" y="137"/>
                </a:lnTo>
                <a:lnTo>
                  <a:pt x="6" y="91"/>
                </a:lnTo>
                <a:lnTo>
                  <a:pt x="42" y="41"/>
                </a:lnTo>
                <a:lnTo>
                  <a:pt x="105" y="11"/>
                </a:lnTo>
                <a:lnTo>
                  <a:pt x="162" y="0"/>
                </a:lnTo>
                <a:lnTo>
                  <a:pt x="205" y="1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29440" y="3762360"/>
            <a:ext cx="69840" cy="9684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124" y="149"/>
                </a:moveTo>
                <a:lnTo>
                  <a:pt x="127" y="100"/>
                </a:lnTo>
                <a:lnTo>
                  <a:pt x="119" y="59"/>
                </a:lnTo>
                <a:lnTo>
                  <a:pt x="99" y="23"/>
                </a:lnTo>
                <a:lnTo>
                  <a:pt x="46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94600" y="3687840"/>
            <a:ext cx="31680" cy="147600"/>
          </a:xfrm>
          <a:custGeom>
            <a:avLst/>
            <a:gdLst/>
            <a:ahLst/>
            <a:rect l="l" t="t" r="r" b="b"/>
            <a:pathLst>
              <a:path w="56" h="230">
                <a:moveTo>
                  <a:pt x="5" y="230"/>
                </a:moveTo>
                <a:lnTo>
                  <a:pt x="0" y="200"/>
                </a:lnTo>
                <a:lnTo>
                  <a:pt x="5" y="138"/>
                </a:lnTo>
                <a:lnTo>
                  <a:pt x="38" y="89"/>
                </a:lnTo>
                <a:lnTo>
                  <a:pt x="56" y="47"/>
                </a:lnTo>
                <a:lnTo>
                  <a:pt x="28" y="13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86640" y="4095720"/>
            <a:ext cx="114120" cy="100080"/>
          </a:xfrm>
          <a:custGeom>
            <a:avLst/>
            <a:gdLst/>
            <a:ahLst/>
            <a:rect l="l" t="t" r="r" b="b"/>
            <a:pathLst>
              <a:path w="207" h="161">
                <a:moveTo>
                  <a:pt x="6" y="161"/>
                </a:moveTo>
                <a:lnTo>
                  <a:pt x="0" y="138"/>
                </a:lnTo>
                <a:lnTo>
                  <a:pt x="6" y="93"/>
                </a:lnTo>
                <a:lnTo>
                  <a:pt x="44" y="42"/>
                </a:lnTo>
                <a:lnTo>
                  <a:pt x="106" y="12"/>
                </a:lnTo>
                <a:lnTo>
                  <a:pt x="163" y="0"/>
                </a:lnTo>
                <a:lnTo>
                  <a:pt x="20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0040" y="4067280"/>
            <a:ext cx="71280" cy="9360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124" y="149"/>
                </a:moveTo>
                <a:lnTo>
                  <a:pt x="127" y="101"/>
                </a:lnTo>
                <a:lnTo>
                  <a:pt x="119" y="59"/>
                </a:lnTo>
                <a:lnTo>
                  <a:pt x="99" y="22"/>
                </a:lnTo>
                <a:lnTo>
                  <a:pt x="48" y="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88080" y="3990960"/>
            <a:ext cx="28800" cy="147600"/>
          </a:xfrm>
          <a:custGeom>
            <a:avLst/>
            <a:gdLst/>
            <a:ahLst/>
            <a:rect l="l" t="t" r="r" b="b"/>
            <a:pathLst>
              <a:path w="54" h="231">
                <a:moveTo>
                  <a:pt x="3" y="231"/>
                </a:moveTo>
                <a:lnTo>
                  <a:pt x="0" y="200"/>
                </a:lnTo>
                <a:lnTo>
                  <a:pt x="3" y="138"/>
                </a:lnTo>
                <a:lnTo>
                  <a:pt x="36" y="88"/>
                </a:lnTo>
                <a:lnTo>
                  <a:pt x="54" y="46"/>
                </a:lnTo>
                <a:lnTo>
                  <a:pt x="27" y="12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77240" y="4397400"/>
            <a:ext cx="114120" cy="104760"/>
          </a:xfrm>
          <a:custGeom>
            <a:avLst/>
            <a:gdLst/>
            <a:ahLst/>
            <a:rect l="l" t="t" r="r" b="b"/>
            <a:pathLst>
              <a:path w="205" h="163">
                <a:moveTo>
                  <a:pt x="6" y="163"/>
                </a:moveTo>
                <a:lnTo>
                  <a:pt x="0" y="138"/>
                </a:lnTo>
                <a:lnTo>
                  <a:pt x="6" y="93"/>
                </a:lnTo>
                <a:lnTo>
                  <a:pt x="42" y="42"/>
                </a:lnTo>
                <a:lnTo>
                  <a:pt x="104" y="13"/>
                </a:lnTo>
                <a:lnTo>
                  <a:pt x="161" y="0"/>
                </a:lnTo>
                <a:lnTo>
                  <a:pt x="205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2080" y="4368960"/>
            <a:ext cx="68040" cy="96840"/>
          </a:xfrm>
          <a:custGeom>
            <a:avLst/>
            <a:gdLst/>
            <a:ahLst/>
            <a:rect l="l" t="t" r="r" b="b"/>
            <a:pathLst>
              <a:path w="126" h="149">
                <a:moveTo>
                  <a:pt x="124" y="149"/>
                </a:moveTo>
                <a:lnTo>
                  <a:pt x="126" y="100"/>
                </a:lnTo>
                <a:lnTo>
                  <a:pt x="118" y="58"/>
                </a:lnTo>
                <a:lnTo>
                  <a:pt x="98" y="21"/>
                </a:lnTo>
                <a:lnTo>
                  <a:pt x="47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7240" y="4294080"/>
            <a:ext cx="31680" cy="147600"/>
          </a:xfrm>
          <a:custGeom>
            <a:avLst/>
            <a:gdLst/>
            <a:ahLst/>
            <a:rect l="l" t="t" r="r" b="b"/>
            <a:pathLst>
              <a:path w="55" h="231">
                <a:moveTo>
                  <a:pt x="4" y="231"/>
                </a:moveTo>
                <a:lnTo>
                  <a:pt x="0" y="200"/>
                </a:lnTo>
                <a:lnTo>
                  <a:pt x="4" y="138"/>
                </a:lnTo>
                <a:lnTo>
                  <a:pt x="37" y="89"/>
                </a:lnTo>
                <a:lnTo>
                  <a:pt x="55" y="46"/>
                </a:lnTo>
                <a:lnTo>
                  <a:pt x="27" y="13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42200" y="4740120"/>
            <a:ext cx="130320" cy="101880"/>
          </a:xfrm>
          <a:custGeom>
            <a:avLst/>
            <a:gdLst/>
            <a:ahLst/>
            <a:rect l="l" t="t" r="r" b="b"/>
            <a:pathLst>
              <a:path w="238" h="161">
                <a:moveTo>
                  <a:pt x="8" y="161"/>
                </a:moveTo>
                <a:lnTo>
                  <a:pt x="0" y="137"/>
                </a:lnTo>
                <a:lnTo>
                  <a:pt x="8" y="91"/>
                </a:lnTo>
                <a:lnTo>
                  <a:pt x="51" y="41"/>
                </a:lnTo>
                <a:lnTo>
                  <a:pt x="123" y="11"/>
                </a:lnTo>
                <a:lnTo>
                  <a:pt x="187" y="0"/>
                </a:lnTo>
                <a:lnTo>
                  <a:pt x="238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67680" y="4710240"/>
            <a:ext cx="79200" cy="95040"/>
          </a:xfrm>
          <a:custGeom>
            <a:avLst/>
            <a:gdLst/>
            <a:ahLst/>
            <a:rect l="l" t="t" r="r" b="b"/>
            <a:pathLst>
              <a:path w="145" h="149">
                <a:moveTo>
                  <a:pt x="143" y="149"/>
                </a:moveTo>
                <a:lnTo>
                  <a:pt x="145" y="101"/>
                </a:lnTo>
                <a:lnTo>
                  <a:pt x="137" y="58"/>
                </a:lnTo>
                <a:lnTo>
                  <a:pt x="114" y="22"/>
                </a:lnTo>
                <a:lnTo>
                  <a:pt x="54" y="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43640" y="4633920"/>
            <a:ext cx="33480" cy="149040"/>
          </a:xfrm>
          <a:custGeom>
            <a:avLst/>
            <a:gdLst/>
            <a:ahLst/>
            <a:rect l="l" t="t" r="r" b="b"/>
            <a:pathLst>
              <a:path w="62" h="231">
                <a:moveTo>
                  <a:pt x="5" y="231"/>
                </a:moveTo>
                <a:lnTo>
                  <a:pt x="0" y="201"/>
                </a:lnTo>
                <a:lnTo>
                  <a:pt x="5" y="139"/>
                </a:lnTo>
                <a:lnTo>
                  <a:pt x="42" y="89"/>
                </a:lnTo>
                <a:lnTo>
                  <a:pt x="62" y="47"/>
                </a:lnTo>
                <a:lnTo>
                  <a:pt x="31" y="13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50080" y="5081760"/>
            <a:ext cx="114480" cy="99720"/>
          </a:xfrm>
          <a:custGeom>
            <a:avLst/>
            <a:gdLst/>
            <a:ahLst/>
            <a:rect l="l" t="t" r="r" b="b"/>
            <a:pathLst>
              <a:path w="205" h="160">
                <a:moveTo>
                  <a:pt x="6" y="160"/>
                </a:moveTo>
                <a:lnTo>
                  <a:pt x="0" y="137"/>
                </a:lnTo>
                <a:lnTo>
                  <a:pt x="6" y="92"/>
                </a:lnTo>
                <a:lnTo>
                  <a:pt x="42" y="42"/>
                </a:lnTo>
                <a:lnTo>
                  <a:pt x="104" y="13"/>
                </a:lnTo>
                <a:lnTo>
                  <a:pt x="161" y="0"/>
                </a:lnTo>
                <a:lnTo>
                  <a:pt x="20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83480" y="5052960"/>
            <a:ext cx="71280" cy="9216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124" y="148"/>
                </a:moveTo>
                <a:lnTo>
                  <a:pt x="127" y="100"/>
                </a:lnTo>
                <a:lnTo>
                  <a:pt x="120" y="58"/>
                </a:lnTo>
                <a:lnTo>
                  <a:pt x="99" y="21"/>
                </a:lnTo>
                <a:lnTo>
                  <a:pt x="47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0080" y="4976640"/>
            <a:ext cx="31680" cy="147960"/>
          </a:xfrm>
          <a:custGeom>
            <a:avLst/>
            <a:gdLst/>
            <a:ahLst/>
            <a:rect l="l" t="t" r="r" b="b"/>
            <a:pathLst>
              <a:path w="55" h="231">
                <a:moveTo>
                  <a:pt x="4" y="231"/>
                </a:moveTo>
                <a:lnTo>
                  <a:pt x="0" y="200"/>
                </a:lnTo>
                <a:lnTo>
                  <a:pt x="4" y="138"/>
                </a:lnTo>
                <a:lnTo>
                  <a:pt x="37" y="88"/>
                </a:lnTo>
                <a:lnTo>
                  <a:pt x="55" y="46"/>
                </a:lnTo>
                <a:lnTo>
                  <a:pt x="27" y="12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5308560"/>
            <a:ext cx="115920" cy="103320"/>
          </a:xfrm>
          <a:custGeom>
            <a:avLst/>
            <a:gdLst/>
            <a:ahLst/>
            <a:rect l="l" t="t" r="r" b="b"/>
            <a:pathLst>
              <a:path w="206" h="161">
                <a:moveTo>
                  <a:pt x="6" y="161"/>
                </a:moveTo>
                <a:lnTo>
                  <a:pt x="0" y="137"/>
                </a:lnTo>
                <a:lnTo>
                  <a:pt x="6" y="92"/>
                </a:lnTo>
                <a:lnTo>
                  <a:pt x="44" y="43"/>
                </a:lnTo>
                <a:lnTo>
                  <a:pt x="106" y="13"/>
                </a:lnTo>
                <a:lnTo>
                  <a:pt x="163" y="0"/>
                </a:lnTo>
                <a:lnTo>
                  <a:pt x="206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09000" y="5280120"/>
            <a:ext cx="69840" cy="9504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124" y="149"/>
                </a:moveTo>
                <a:lnTo>
                  <a:pt x="127" y="100"/>
                </a:lnTo>
                <a:lnTo>
                  <a:pt x="119" y="58"/>
                </a:lnTo>
                <a:lnTo>
                  <a:pt x="99" y="21"/>
                </a:lnTo>
                <a:lnTo>
                  <a:pt x="47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74160" y="5205240"/>
            <a:ext cx="29880" cy="146160"/>
          </a:xfrm>
          <a:custGeom>
            <a:avLst/>
            <a:gdLst/>
            <a:ahLst/>
            <a:rect l="l" t="t" r="r" b="b"/>
            <a:pathLst>
              <a:path w="54" h="231">
                <a:moveTo>
                  <a:pt x="3" y="231"/>
                </a:moveTo>
                <a:lnTo>
                  <a:pt x="0" y="200"/>
                </a:lnTo>
                <a:lnTo>
                  <a:pt x="3" y="138"/>
                </a:lnTo>
                <a:lnTo>
                  <a:pt x="36" y="89"/>
                </a:lnTo>
                <a:lnTo>
                  <a:pt x="54" y="47"/>
                </a:lnTo>
                <a:lnTo>
                  <a:pt x="27" y="13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3317760"/>
            <a:ext cx="8712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84880" y="182520"/>
            <a:ext cx="795240" cy="29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8800" y="0"/>
            <a:ext cx="7494480" cy="6773400"/>
            <a:chOff x="388800" y="0"/>
            <a:chExt cx="7494480" cy="6773400"/>
          </a:xfrm>
        </p:grpSpPr>
        <p:sp>
          <p:nvSpPr>
            <p:cNvPr id="118" name=""/>
            <p:cNvSpPr/>
            <p:nvPr/>
          </p:nvSpPr>
          <p:spPr>
            <a:xfrm>
              <a:off x="388800" y="0"/>
              <a:ext cx="7494480" cy="6773400"/>
            </a:xfrm>
            <a:custGeom>
              <a:avLst/>
              <a:gdLst/>
              <a:ahLst/>
              <a:rect l="l" t="t" r="r" b="b"/>
              <a:pathLst>
                <a:path w="13550" h="10622">
                  <a:moveTo>
                    <a:pt x="13395" y="10412"/>
                  </a:moveTo>
                  <a:lnTo>
                    <a:pt x="13309" y="10331"/>
                  </a:lnTo>
                  <a:lnTo>
                    <a:pt x="13224" y="10282"/>
                  </a:lnTo>
                  <a:lnTo>
                    <a:pt x="13140" y="10257"/>
                  </a:lnTo>
                  <a:lnTo>
                    <a:pt x="13057" y="10249"/>
                  </a:lnTo>
                  <a:lnTo>
                    <a:pt x="12896" y="10243"/>
                  </a:lnTo>
                  <a:lnTo>
                    <a:pt x="12816" y="10232"/>
                  </a:lnTo>
                  <a:lnTo>
                    <a:pt x="12740" y="10203"/>
                  </a:lnTo>
                  <a:lnTo>
                    <a:pt x="12689" y="10145"/>
                  </a:lnTo>
                  <a:lnTo>
                    <a:pt x="12662" y="10058"/>
                  </a:lnTo>
                  <a:lnTo>
                    <a:pt x="12645" y="9964"/>
                  </a:lnTo>
                  <a:lnTo>
                    <a:pt x="12624" y="9884"/>
                  </a:lnTo>
                  <a:lnTo>
                    <a:pt x="12571" y="9806"/>
                  </a:lnTo>
                  <a:lnTo>
                    <a:pt x="12500" y="9753"/>
                  </a:lnTo>
                  <a:lnTo>
                    <a:pt x="12420" y="9716"/>
                  </a:lnTo>
                  <a:lnTo>
                    <a:pt x="12336" y="9690"/>
                  </a:lnTo>
                  <a:lnTo>
                    <a:pt x="12191" y="9642"/>
                  </a:lnTo>
                  <a:lnTo>
                    <a:pt x="12145" y="9607"/>
                  </a:lnTo>
                  <a:lnTo>
                    <a:pt x="12129" y="9557"/>
                  </a:lnTo>
                  <a:lnTo>
                    <a:pt x="12155" y="9497"/>
                  </a:lnTo>
                  <a:lnTo>
                    <a:pt x="12219" y="9459"/>
                  </a:lnTo>
                  <a:lnTo>
                    <a:pt x="12282" y="9419"/>
                  </a:lnTo>
                  <a:lnTo>
                    <a:pt x="12316" y="9355"/>
                  </a:lnTo>
                  <a:lnTo>
                    <a:pt x="12304" y="9315"/>
                  </a:lnTo>
                  <a:lnTo>
                    <a:pt x="12264" y="9286"/>
                  </a:lnTo>
                  <a:lnTo>
                    <a:pt x="12130" y="9241"/>
                  </a:lnTo>
                  <a:lnTo>
                    <a:pt x="11951" y="9186"/>
                  </a:lnTo>
                  <a:lnTo>
                    <a:pt x="11860" y="9145"/>
                  </a:lnTo>
                  <a:lnTo>
                    <a:pt x="11775" y="9090"/>
                  </a:lnTo>
                  <a:lnTo>
                    <a:pt x="11697" y="9003"/>
                  </a:lnTo>
                  <a:lnTo>
                    <a:pt x="11665" y="8923"/>
                  </a:lnTo>
                  <a:lnTo>
                    <a:pt x="11630" y="8853"/>
                  </a:lnTo>
                  <a:lnTo>
                    <a:pt x="11544" y="8796"/>
                  </a:lnTo>
                  <a:lnTo>
                    <a:pt x="11407" y="8734"/>
                  </a:lnTo>
                  <a:lnTo>
                    <a:pt x="11313" y="8693"/>
                  </a:lnTo>
                  <a:lnTo>
                    <a:pt x="11204" y="8673"/>
                  </a:lnTo>
                  <a:lnTo>
                    <a:pt x="11026" y="8677"/>
                  </a:lnTo>
                  <a:lnTo>
                    <a:pt x="10958" y="8670"/>
                  </a:lnTo>
                  <a:lnTo>
                    <a:pt x="10876" y="8645"/>
                  </a:lnTo>
                  <a:lnTo>
                    <a:pt x="10688" y="8560"/>
                  </a:lnTo>
                  <a:lnTo>
                    <a:pt x="10506" y="8467"/>
                  </a:lnTo>
                  <a:lnTo>
                    <a:pt x="10373" y="8408"/>
                  </a:lnTo>
                  <a:lnTo>
                    <a:pt x="10256" y="8381"/>
                  </a:lnTo>
                  <a:lnTo>
                    <a:pt x="10190" y="8382"/>
                  </a:lnTo>
                  <a:lnTo>
                    <a:pt x="10147" y="8418"/>
                  </a:lnTo>
                  <a:lnTo>
                    <a:pt x="10001" y="8297"/>
                  </a:lnTo>
                  <a:lnTo>
                    <a:pt x="9919" y="8222"/>
                  </a:lnTo>
                  <a:lnTo>
                    <a:pt x="9859" y="8171"/>
                  </a:lnTo>
                  <a:lnTo>
                    <a:pt x="9811" y="8116"/>
                  </a:lnTo>
                  <a:lnTo>
                    <a:pt x="9769" y="8032"/>
                  </a:lnTo>
                  <a:lnTo>
                    <a:pt x="9752" y="7965"/>
                  </a:lnTo>
                  <a:lnTo>
                    <a:pt x="9756" y="7904"/>
                  </a:lnTo>
                  <a:lnTo>
                    <a:pt x="9791" y="7797"/>
                  </a:lnTo>
                  <a:lnTo>
                    <a:pt x="9815" y="7705"/>
                  </a:lnTo>
                  <a:lnTo>
                    <a:pt x="9769" y="7621"/>
                  </a:lnTo>
                  <a:lnTo>
                    <a:pt x="9693" y="7572"/>
                  </a:lnTo>
                  <a:lnTo>
                    <a:pt x="9625" y="7550"/>
                  </a:lnTo>
                  <a:lnTo>
                    <a:pt x="9546" y="7533"/>
                  </a:lnTo>
                  <a:lnTo>
                    <a:pt x="9435" y="7492"/>
                  </a:lnTo>
                  <a:lnTo>
                    <a:pt x="9337" y="7442"/>
                  </a:lnTo>
                  <a:lnTo>
                    <a:pt x="9279" y="7399"/>
                  </a:lnTo>
                  <a:lnTo>
                    <a:pt x="9232" y="7319"/>
                  </a:lnTo>
                  <a:lnTo>
                    <a:pt x="9195" y="7222"/>
                  </a:lnTo>
                  <a:lnTo>
                    <a:pt x="9149" y="7158"/>
                  </a:lnTo>
                  <a:lnTo>
                    <a:pt x="9067" y="7080"/>
                  </a:lnTo>
                  <a:lnTo>
                    <a:pt x="8950" y="6975"/>
                  </a:lnTo>
                  <a:lnTo>
                    <a:pt x="8872" y="6896"/>
                  </a:lnTo>
                  <a:lnTo>
                    <a:pt x="8700" y="6703"/>
                  </a:lnTo>
                  <a:lnTo>
                    <a:pt x="8536" y="6544"/>
                  </a:lnTo>
                  <a:lnTo>
                    <a:pt x="8412" y="6436"/>
                  </a:lnTo>
                  <a:lnTo>
                    <a:pt x="8309" y="6318"/>
                  </a:lnTo>
                  <a:lnTo>
                    <a:pt x="8210" y="6129"/>
                  </a:lnTo>
                  <a:lnTo>
                    <a:pt x="8167" y="6052"/>
                  </a:lnTo>
                  <a:lnTo>
                    <a:pt x="8111" y="5985"/>
                  </a:lnTo>
                  <a:lnTo>
                    <a:pt x="7990" y="5871"/>
                  </a:lnTo>
                  <a:lnTo>
                    <a:pt x="7905" y="5776"/>
                  </a:lnTo>
                  <a:lnTo>
                    <a:pt x="7895" y="5729"/>
                  </a:lnTo>
                  <a:lnTo>
                    <a:pt x="7918" y="5682"/>
                  </a:lnTo>
                  <a:lnTo>
                    <a:pt x="7973" y="5661"/>
                  </a:lnTo>
                  <a:lnTo>
                    <a:pt x="8052" y="5663"/>
                  </a:lnTo>
                  <a:lnTo>
                    <a:pt x="8122" y="5667"/>
                  </a:lnTo>
                  <a:lnTo>
                    <a:pt x="8150" y="5652"/>
                  </a:lnTo>
                  <a:lnTo>
                    <a:pt x="8125" y="5583"/>
                  </a:lnTo>
                  <a:lnTo>
                    <a:pt x="8076" y="5513"/>
                  </a:lnTo>
                  <a:lnTo>
                    <a:pt x="8003" y="5438"/>
                  </a:lnTo>
                  <a:lnTo>
                    <a:pt x="7910" y="5357"/>
                  </a:lnTo>
                  <a:lnTo>
                    <a:pt x="7660" y="5159"/>
                  </a:lnTo>
                  <a:lnTo>
                    <a:pt x="7511" y="5036"/>
                  </a:lnTo>
                  <a:lnTo>
                    <a:pt x="7345" y="4894"/>
                  </a:lnTo>
                  <a:lnTo>
                    <a:pt x="7188" y="4750"/>
                  </a:lnTo>
                  <a:lnTo>
                    <a:pt x="7062" y="4626"/>
                  </a:lnTo>
                  <a:lnTo>
                    <a:pt x="6851" y="4415"/>
                  </a:lnTo>
                  <a:lnTo>
                    <a:pt x="6747" y="4318"/>
                  </a:lnTo>
                  <a:lnTo>
                    <a:pt x="6626" y="4222"/>
                  </a:lnTo>
                  <a:lnTo>
                    <a:pt x="6480" y="4120"/>
                  </a:lnTo>
                  <a:lnTo>
                    <a:pt x="6298" y="4007"/>
                  </a:lnTo>
                  <a:lnTo>
                    <a:pt x="6062" y="3856"/>
                  </a:lnTo>
                  <a:lnTo>
                    <a:pt x="5926" y="3737"/>
                  </a:lnTo>
                  <a:lnTo>
                    <a:pt x="5829" y="3611"/>
                  </a:lnTo>
                  <a:lnTo>
                    <a:pt x="5713" y="3440"/>
                  </a:lnTo>
                  <a:lnTo>
                    <a:pt x="5663" y="3344"/>
                  </a:lnTo>
                  <a:lnTo>
                    <a:pt x="5666" y="3279"/>
                  </a:lnTo>
                  <a:lnTo>
                    <a:pt x="5706" y="3232"/>
                  </a:lnTo>
                  <a:lnTo>
                    <a:pt x="5763" y="3193"/>
                  </a:lnTo>
                  <a:lnTo>
                    <a:pt x="5823" y="3153"/>
                  </a:lnTo>
                  <a:lnTo>
                    <a:pt x="5865" y="3102"/>
                  </a:lnTo>
                  <a:lnTo>
                    <a:pt x="5876" y="3027"/>
                  </a:lnTo>
                  <a:lnTo>
                    <a:pt x="5835" y="2919"/>
                  </a:lnTo>
                  <a:lnTo>
                    <a:pt x="5731" y="2791"/>
                  </a:lnTo>
                  <a:lnTo>
                    <a:pt x="5588" y="2695"/>
                  </a:lnTo>
                  <a:lnTo>
                    <a:pt x="5417" y="2623"/>
                  </a:lnTo>
                  <a:lnTo>
                    <a:pt x="5224" y="2565"/>
                  </a:lnTo>
                  <a:lnTo>
                    <a:pt x="5014" y="2510"/>
                  </a:lnTo>
                  <a:lnTo>
                    <a:pt x="4798" y="2450"/>
                  </a:lnTo>
                  <a:lnTo>
                    <a:pt x="4580" y="2374"/>
                  </a:lnTo>
                  <a:lnTo>
                    <a:pt x="4370" y="2274"/>
                  </a:lnTo>
                  <a:lnTo>
                    <a:pt x="4201" y="2182"/>
                  </a:lnTo>
                  <a:lnTo>
                    <a:pt x="4058" y="2113"/>
                  </a:lnTo>
                  <a:lnTo>
                    <a:pt x="3833" y="2004"/>
                  </a:lnTo>
                  <a:lnTo>
                    <a:pt x="3737" y="1946"/>
                  </a:lnTo>
                  <a:lnTo>
                    <a:pt x="3644" y="1875"/>
                  </a:lnTo>
                  <a:lnTo>
                    <a:pt x="3548" y="1781"/>
                  </a:lnTo>
                  <a:lnTo>
                    <a:pt x="3444" y="1657"/>
                  </a:lnTo>
                  <a:lnTo>
                    <a:pt x="3392" y="1574"/>
                  </a:lnTo>
                  <a:lnTo>
                    <a:pt x="3369" y="1504"/>
                  </a:lnTo>
                  <a:lnTo>
                    <a:pt x="3367" y="1377"/>
                  </a:lnTo>
                  <a:lnTo>
                    <a:pt x="3364" y="1251"/>
                  </a:lnTo>
                  <a:lnTo>
                    <a:pt x="3341" y="1180"/>
                  </a:lnTo>
                  <a:lnTo>
                    <a:pt x="3290" y="1099"/>
                  </a:lnTo>
                  <a:lnTo>
                    <a:pt x="3113" y="882"/>
                  </a:lnTo>
                  <a:lnTo>
                    <a:pt x="3033" y="802"/>
                  </a:lnTo>
                  <a:lnTo>
                    <a:pt x="2949" y="736"/>
                  </a:lnTo>
                  <a:lnTo>
                    <a:pt x="2854" y="681"/>
                  </a:lnTo>
                  <a:lnTo>
                    <a:pt x="2743" y="632"/>
                  </a:lnTo>
                  <a:lnTo>
                    <a:pt x="2607" y="586"/>
                  </a:lnTo>
                  <a:lnTo>
                    <a:pt x="2442" y="540"/>
                  </a:lnTo>
                  <a:lnTo>
                    <a:pt x="2338" y="519"/>
                  </a:lnTo>
                  <a:lnTo>
                    <a:pt x="2252" y="514"/>
                  </a:lnTo>
                  <a:lnTo>
                    <a:pt x="2107" y="534"/>
                  </a:lnTo>
                  <a:lnTo>
                    <a:pt x="1956" y="564"/>
                  </a:lnTo>
                  <a:lnTo>
                    <a:pt x="1862" y="572"/>
                  </a:lnTo>
                  <a:lnTo>
                    <a:pt x="1747" y="570"/>
                  </a:lnTo>
                  <a:lnTo>
                    <a:pt x="1580" y="559"/>
                  </a:lnTo>
                  <a:lnTo>
                    <a:pt x="1439" y="511"/>
                  </a:lnTo>
                  <a:lnTo>
                    <a:pt x="1359" y="453"/>
                  </a:lnTo>
                  <a:lnTo>
                    <a:pt x="1323" y="393"/>
                  </a:lnTo>
                  <a:lnTo>
                    <a:pt x="1285" y="334"/>
                  </a:lnTo>
                  <a:lnTo>
                    <a:pt x="1206" y="276"/>
                  </a:lnTo>
                  <a:lnTo>
                    <a:pt x="1120" y="249"/>
                  </a:lnTo>
                  <a:lnTo>
                    <a:pt x="1045" y="249"/>
                  </a:lnTo>
                  <a:lnTo>
                    <a:pt x="974" y="247"/>
                  </a:lnTo>
                  <a:lnTo>
                    <a:pt x="898" y="217"/>
                  </a:lnTo>
                  <a:lnTo>
                    <a:pt x="866" y="181"/>
                  </a:lnTo>
                  <a:lnTo>
                    <a:pt x="859" y="143"/>
                  </a:lnTo>
                  <a:lnTo>
                    <a:pt x="852" y="106"/>
                  </a:lnTo>
                  <a:lnTo>
                    <a:pt x="821" y="70"/>
                  </a:lnTo>
                  <a:lnTo>
                    <a:pt x="750" y="31"/>
                  </a:lnTo>
                  <a:lnTo>
                    <a:pt x="685" y="15"/>
                  </a:lnTo>
                  <a:lnTo>
                    <a:pt x="513" y="11"/>
                  </a:lnTo>
                  <a:lnTo>
                    <a:pt x="359" y="3"/>
                  </a:lnTo>
                  <a:lnTo>
                    <a:pt x="238" y="0"/>
                  </a:lnTo>
                  <a:lnTo>
                    <a:pt x="138" y="17"/>
                  </a:lnTo>
                  <a:lnTo>
                    <a:pt x="50" y="70"/>
                  </a:lnTo>
                  <a:lnTo>
                    <a:pt x="9" y="122"/>
                  </a:lnTo>
                  <a:lnTo>
                    <a:pt x="0" y="177"/>
                  </a:lnTo>
                  <a:lnTo>
                    <a:pt x="14" y="237"/>
                  </a:lnTo>
                  <a:lnTo>
                    <a:pt x="50" y="305"/>
                  </a:lnTo>
                  <a:lnTo>
                    <a:pt x="133" y="423"/>
                  </a:lnTo>
                  <a:lnTo>
                    <a:pt x="225" y="497"/>
                  </a:lnTo>
                  <a:lnTo>
                    <a:pt x="345" y="555"/>
                  </a:lnTo>
                  <a:lnTo>
                    <a:pt x="513" y="629"/>
                  </a:lnTo>
                  <a:lnTo>
                    <a:pt x="937" y="826"/>
                  </a:lnTo>
                  <a:lnTo>
                    <a:pt x="1347" y="1035"/>
                  </a:lnTo>
                  <a:lnTo>
                    <a:pt x="1475" y="1077"/>
                  </a:lnTo>
                  <a:lnTo>
                    <a:pt x="1590" y="1088"/>
                  </a:lnTo>
                  <a:lnTo>
                    <a:pt x="1701" y="1102"/>
                  </a:lnTo>
                  <a:lnTo>
                    <a:pt x="1823" y="1158"/>
                  </a:lnTo>
                  <a:lnTo>
                    <a:pt x="1922" y="1230"/>
                  </a:lnTo>
                  <a:lnTo>
                    <a:pt x="1989" y="1292"/>
                  </a:lnTo>
                  <a:lnTo>
                    <a:pt x="2073" y="1403"/>
                  </a:lnTo>
                  <a:lnTo>
                    <a:pt x="2157" y="1511"/>
                  </a:lnTo>
                  <a:lnTo>
                    <a:pt x="2225" y="1573"/>
                  </a:lnTo>
                  <a:lnTo>
                    <a:pt x="2326" y="1645"/>
                  </a:lnTo>
                  <a:lnTo>
                    <a:pt x="2539" y="1770"/>
                  </a:lnTo>
                  <a:lnTo>
                    <a:pt x="2701" y="1853"/>
                  </a:lnTo>
                  <a:lnTo>
                    <a:pt x="2859" y="1937"/>
                  </a:lnTo>
                  <a:lnTo>
                    <a:pt x="3060" y="2076"/>
                  </a:lnTo>
                  <a:lnTo>
                    <a:pt x="3207" y="2194"/>
                  </a:lnTo>
                  <a:lnTo>
                    <a:pt x="3291" y="2279"/>
                  </a:lnTo>
                  <a:lnTo>
                    <a:pt x="3361" y="2370"/>
                  </a:lnTo>
                  <a:lnTo>
                    <a:pt x="3469" y="2507"/>
                  </a:lnTo>
                  <a:lnTo>
                    <a:pt x="3623" y="2703"/>
                  </a:lnTo>
                  <a:lnTo>
                    <a:pt x="3696" y="2787"/>
                  </a:lnTo>
                  <a:lnTo>
                    <a:pt x="3795" y="2883"/>
                  </a:lnTo>
                  <a:lnTo>
                    <a:pt x="3887" y="2953"/>
                  </a:lnTo>
                  <a:lnTo>
                    <a:pt x="3973" y="2995"/>
                  </a:lnTo>
                  <a:lnTo>
                    <a:pt x="4058" y="3019"/>
                  </a:lnTo>
                  <a:lnTo>
                    <a:pt x="4142" y="3034"/>
                  </a:lnTo>
                  <a:lnTo>
                    <a:pt x="4319" y="3069"/>
                  </a:lnTo>
                  <a:lnTo>
                    <a:pt x="4419" y="3107"/>
                  </a:lnTo>
                  <a:lnTo>
                    <a:pt x="4529" y="3171"/>
                  </a:lnTo>
                  <a:lnTo>
                    <a:pt x="4710" y="3292"/>
                  </a:lnTo>
                  <a:lnTo>
                    <a:pt x="4824" y="3373"/>
                  </a:lnTo>
                  <a:lnTo>
                    <a:pt x="4923" y="3467"/>
                  </a:lnTo>
                  <a:lnTo>
                    <a:pt x="5064" y="3625"/>
                  </a:lnTo>
                  <a:lnTo>
                    <a:pt x="5206" y="3780"/>
                  </a:lnTo>
                  <a:lnTo>
                    <a:pt x="5314" y="3883"/>
                  </a:lnTo>
                  <a:lnTo>
                    <a:pt x="5412" y="3989"/>
                  </a:lnTo>
                  <a:lnTo>
                    <a:pt x="5527" y="4155"/>
                  </a:lnTo>
                  <a:lnTo>
                    <a:pt x="5576" y="4248"/>
                  </a:lnTo>
                  <a:lnTo>
                    <a:pt x="5604" y="4327"/>
                  </a:lnTo>
                  <a:lnTo>
                    <a:pt x="5624" y="4461"/>
                  </a:lnTo>
                  <a:lnTo>
                    <a:pt x="5653" y="4588"/>
                  </a:lnTo>
                  <a:lnTo>
                    <a:pt x="5692" y="4658"/>
                  </a:lnTo>
                  <a:lnTo>
                    <a:pt x="5759" y="4742"/>
                  </a:lnTo>
                  <a:lnTo>
                    <a:pt x="5874" y="4849"/>
                  </a:lnTo>
                  <a:lnTo>
                    <a:pt x="5984" y="4923"/>
                  </a:lnTo>
                  <a:lnTo>
                    <a:pt x="6094" y="4972"/>
                  </a:lnTo>
                  <a:lnTo>
                    <a:pt x="6203" y="5011"/>
                  </a:lnTo>
                  <a:lnTo>
                    <a:pt x="6315" y="5049"/>
                  </a:lnTo>
                  <a:lnTo>
                    <a:pt x="6431" y="5097"/>
                  </a:lnTo>
                  <a:lnTo>
                    <a:pt x="6553" y="5167"/>
                  </a:lnTo>
                  <a:lnTo>
                    <a:pt x="6685" y="5271"/>
                  </a:lnTo>
                  <a:lnTo>
                    <a:pt x="6865" y="5453"/>
                  </a:lnTo>
                  <a:lnTo>
                    <a:pt x="6961" y="5597"/>
                  </a:lnTo>
                  <a:lnTo>
                    <a:pt x="7035" y="5753"/>
                  </a:lnTo>
                  <a:lnTo>
                    <a:pt x="7146" y="5976"/>
                  </a:lnTo>
                  <a:lnTo>
                    <a:pt x="7242" y="6175"/>
                  </a:lnTo>
                  <a:lnTo>
                    <a:pt x="7292" y="6316"/>
                  </a:lnTo>
                  <a:lnTo>
                    <a:pt x="7346" y="6456"/>
                  </a:lnTo>
                  <a:lnTo>
                    <a:pt x="7455" y="6651"/>
                  </a:lnTo>
                  <a:lnTo>
                    <a:pt x="7622" y="6912"/>
                  </a:lnTo>
                  <a:lnTo>
                    <a:pt x="7750" y="7089"/>
                  </a:lnTo>
                  <a:lnTo>
                    <a:pt x="7905" y="7252"/>
                  </a:lnTo>
                  <a:lnTo>
                    <a:pt x="8150" y="7475"/>
                  </a:lnTo>
                  <a:lnTo>
                    <a:pt x="8275" y="7577"/>
                  </a:lnTo>
                  <a:lnTo>
                    <a:pt x="8382" y="7653"/>
                  </a:lnTo>
                  <a:lnTo>
                    <a:pt x="8565" y="7757"/>
                  </a:lnTo>
                  <a:lnTo>
                    <a:pt x="8753" y="7860"/>
                  </a:lnTo>
                  <a:lnTo>
                    <a:pt x="8866" y="7933"/>
                  </a:lnTo>
                  <a:lnTo>
                    <a:pt x="8999" y="8032"/>
                  </a:lnTo>
                  <a:lnTo>
                    <a:pt x="9190" y="8199"/>
                  </a:lnTo>
                  <a:lnTo>
                    <a:pt x="9308" y="8324"/>
                  </a:lnTo>
                  <a:lnTo>
                    <a:pt x="9424" y="8450"/>
                  </a:lnTo>
                  <a:lnTo>
                    <a:pt x="9615" y="8620"/>
                  </a:lnTo>
                  <a:lnTo>
                    <a:pt x="9769" y="8736"/>
                  </a:lnTo>
                  <a:lnTo>
                    <a:pt x="9887" y="8809"/>
                  </a:lnTo>
                  <a:lnTo>
                    <a:pt x="10002" y="8883"/>
                  </a:lnTo>
                  <a:lnTo>
                    <a:pt x="10155" y="9002"/>
                  </a:lnTo>
                  <a:lnTo>
                    <a:pt x="10250" y="9091"/>
                  </a:lnTo>
                  <a:lnTo>
                    <a:pt x="10317" y="9170"/>
                  </a:lnTo>
                  <a:lnTo>
                    <a:pt x="10406" y="9304"/>
                  </a:lnTo>
                  <a:lnTo>
                    <a:pt x="10504" y="9427"/>
                  </a:lnTo>
                  <a:lnTo>
                    <a:pt x="10582" y="9491"/>
                  </a:lnTo>
                  <a:lnTo>
                    <a:pt x="10694" y="9560"/>
                  </a:lnTo>
                  <a:lnTo>
                    <a:pt x="10814" y="9611"/>
                  </a:lnTo>
                  <a:lnTo>
                    <a:pt x="10912" y="9629"/>
                  </a:lnTo>
                  <a:lnTo>
                    <a:pt x="11018" y="9642"/>
                  </a:lnTo>
                  <a:lnTo>
                    <a:pt x="11158" y="9677"/>
                  </a:lnTo>
                  <a:lnTo>
                    <a:pt x="11347" y="9744"/>
                  </a:lnTo>
                  <a:lnTo>
                    <a:pt x="11473" y="9797"/>
                  </a:lnTo>
                  <a:lnTo>
                    <a:pt x="11597" y="9856"/>
                  </a:lnTo>
                  <a:lnTo>
                    <a:pt x="11775" y="9942"/>
                  </a:lnTo>
                  <a:lnTo>
                    <a:pt x="12006" y="10058"/>
                  </a:lnTo>
                  <a:lnTo>
                    <a:pt x="12238" y="10177"/>
                  </a:lnTo>
                  <a:lnTo>
                    <a:pt x="12624" y="10354"/>
                  </a:lnTo>
                  <a:lnTo>
                    <a:pt x="12855" y="10442"/>
                  </a:lnTo>
                  <a:lnTo>
                    <a:pt x="13007" y="10504"/>
                  </a:lnTo>
                  <a:lnTo>
                    <a:pt x="13164" y="10560"/>
                  </a:lnTo>
                  <a:lnTo>
                    <a:pt x="13285" y="10609"/>
                  </a:lnTo>
                  <a:lnTo>
                    <a:pt x="13333" y="10622"/>
                  </a:lnTo>
                  <a:lnTo>
                    <a:pt x="13395" y="10618"/>
                  </a:lnTo>
                  <a:lnTo>
                    <a:pt x="13462" y="10592"/>
                  </a:lnTo>
                  <a:lnTo>
                    <a:pt x="13516" y="10553"/>
                  </a:lnTo>
                  <a:lnTo>
                    <a:pt x="13547" y="10510"/>
                  </a:lnTo>
                  <a:lnTo>
                    <a:pt x="13550" y="10471"/>
                  </a:lnTo>
                  <a:lnTo>
                    <a:pt x="13482" y="10458"/>
                  </a:lnTo>
                  <a:lnTo>
                    <a:pt x="13432" y="10457"/>
                  </a:lnTo>
                  <a:lnTo>
                    <a:pt x="13395" y="10442"/>
                  </a:lnTo>
                  <a:lnTo>
                    <a:pt x="13395" y="1041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solidFill>
                <a:srgbClr val="ff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83440" y="638640"/>
              <a:ext cx="796320" cy="292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84880" y="1092240"/>
            <a:ext cx="795240" cy="2952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84880" y="1547640"/>
            <a:ext cx="795240" cy="292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84880" y="2021040"/>
            <a:ext cx="795240" cy="2934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23120" y="2168640"/>
            <a:ext cx="122040" cy="99720"/>
          </a:xfrm>
          <a:custGeom>
            <a:avLst/>
            <a:gdLst/>
            <a:ahLst/>
            <a:rect l="l" t="t" r="r" b="b"/>
            <a:pathLst>
              <a:path w="205" h="162">
                <a:moveTo>
                  <a:pt x="6" y="162"/>
                </a:moveTo>
                <a:lnTo>
                  <a:pt x="0" y="137"/>
                </a:lnTo>
                <a:lnTo>
                  <a:pt x="6" y="93"/>
                </a:lnTo>
                <a:lnTo>
                  <a:pt x="42" y="43"/>
                </a:lnTo>
                <a:lnTo>
                  <a:pt x="104" y="12"/>
                </a:lnTo>
                <a:lnTo>
                  <a:pt x="161" y="0"/>
                </a:lnTo>
                <a:lnTo>
                  <a:pt x="205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51480" y="2141640"/>
            <a:ext cx="76320" cy="90360"/>
          </a:xfrm>
          <a:custGeom>
            <a:avLst/>
            <a:gdLst/>
            <a:ahLst/>
            <a:rect l="l" t="t" r="r" b="b"/>
            <a:pathLst>
              <a:path w="126" h="149">
                <a:moveTo>
                  <a:pt x="124" y="149"/>
                </a:moveTo>
                <a:lnTo>
                  <a:pt x="126" y="100"/>
                </a:lnTo>
                <a:lnTo>
                  <a:pt x="118" y="59"/>
                </a:lnTo>
                <a:lnTo>
                  <a:pt x="98" y="23"/>
                </a:lnTo>
                <a:lnTo>
                  <a:pt x="47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23120" y="2066760"/>
            <a:ext cx="33120" cy="144720"/>
          </a:xfrm>
          <a:custGeom>
            <a:avLst/>
            <a:gdLst/>
            <a:ahLst/>
            <a:rect l="l" t="t" r="r" b="b"/>
            <a:pathLst>
              <a:path w="54" h="230">
                <a:moveTo>
                  <a:pt x="4" y="230"/>
                </a:moveTo>
                <a:lnTo>
                  <a:pt x="0" y="199"/>
                </a:lnTo>
                <a:lnTo>
                  <a:pt x="4" y="138"/>
                </a:lnTo>
                <a:lnTo>
                  <a:pt x="36" y="89"/>
                </a:lnTo>
                <a:lnTo>
                  <a:pt x="54" y="47"/>
                </a:lnTo>
                <a:lnTo>
                  <a:pt x="27" y="13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05440" y="2136600"/>
            <a:ext cx="122400" cy="100080"/>
          </a:xfrm>
          <a:custGeom>
            <a:avLst/>
            <a:gdLst/>
            <a:ahLst/>
            <a:rect l="l" t="t" r="r" b="b"/>
            <a:pathLst>
              <a:path w="206" h="161">
                <a:moveTo>
                  <a:pt x="6" y="161"/>
                </a:moveTo>
                <a:lnTo>
                  <a:pt x="0" y="137"/>
                </a:lnTo>
                <a:lnTo>
                  <a:pt x="6" y="92"/>
                </a:lnTo>
                <a:lnTo>
                  <a:pt x="42" y="41"/>
                </a:lnTo>
                <a:lnTo>
                  <a:pt x="105" y="11"/>
                </a:lnTo>
                <a:lnTo>
                  <a:pt x="163" y="0"/>
                </a:lnTo>
                <a:lnTo>
                  <a:pt x="206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4160" y="2108160"/>
            <a:ext cx="76320" cy="9360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125" y="148"/>
                </a:moveTo>
                <a:lnTo>
                  <a:pt x="127" y="100"/>
                </a:lnTo>
                <a:lnTo>
                  <a:pt x="120" y="59"/>
                </a:lnTo>
                <a:lnTo>
                  <a:pt x="99" y="23"/>
                </a:lnTo>
                <a:lnTo>
                  <a:pt x="47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5440" y="2038320"/>
            <a:ext cx="33480" cy="141480"/>
          </a:xfrm>
          <a:custGeom>
            <a:avLst/>
            <a:gdLst/>
            <a:ahLst/>
            <a:rect l="l" t="t" r="r" b="b"/>
            <a:pathLst>
              <a:path w="55" h="229">
                <a:moveTo>
                  <a:pt x="5" y="229"/>
                </a:moveTo>
                <a:lnTo>
                  <a:pt x="0" y="199"/>
                </a:lnTo>
                <a:lnTo>
                  <a:pt x="5" y="138"/>
                </a:lnTo>
                <a:lnTo>
                  <a:pt x="37" y="88"/>
                </a:lnTo>
                <a:lnTo>
                  <a:pt x="55" y="45"/>
                </a:lnTo>
                <a:lnTo>
                  <a:pt x="27" y="12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97480" y="3306600"/>
            <a:ext cx="108000" cy="15084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124" y="148"/>
                </a:moveTo>
                <a:lnTo>
                  <a:pt x="127" y="100"/>
                </a:lnTo>
                <a:lnTo>
                  <a:pt x="120" y="59"/>
                </a:lnTo>
                <a:lnTo>
                  <a:pt x="99" y="23"/>
                </a:lnTo>
                <a:lnTo>
                  <a:pt x="47" y="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63560" y="39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20840" y="477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23120" y="0"/>
            <a:ext cx="14605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Coa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d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e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8400" y="304920"/>
            <a:ext cx="302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logical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Suma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431640" y="3352680"/>
            <a:ext cx="43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iv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lash and Burn’ benchmark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391520" y="5638680"/>
            <a:ext cx="533160" cy="533520"/>
            <a:chOff x="7391520" y="5638680"/>
            <a:chExt cx="533160" cy="533520"/>
          </a:xfrm>
        </p:grpSpPr>
        <p:sp>
          <p:nvSpPr>
            <p:cNvPr id="136" name=""/>
            <p:cNvSpPr/>
            <p:nvPr/>
          </p:nvSpPr>
          <p:spPr>
            <a:xfrm>
              <a:off x="7391520" y="5638680"/>
              <a:ext cx="5331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ASBLOGO" descr=""/>
            <p:cNvPicPr/>
            <p:nvPr/>
          </p:nvPicPr>
          <p:blipFill>
            <a:blip r:embed="rId21"/>
            <a:stretch/>
          </p:blipFill>
          <p:spPr>
            <a:xfrm>
              <a:off x="7391520" y="5691960"/>
              <a:ext cx="492120" cy="47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6119640" y="6046920"/>
            <a:ext cx="29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mp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10080" y="3886200"/>
            <a:ext cx="533520" cy="533520"/>
            <a:chOff x="5410080" y="3886200"/>
            <a:chExt cx="533520" cy="533520"/>
          </a:xfrm>
        </p:grpSpPr>
        <p:sp>
          <p:nvSpPr>
            <p:cNvPr id="140" name=""/>
            <p:cNvSpPr/>
            <p:nvPr/>
          </p:nvSpPr>
          <p:spPr>
            <a:xfrm>
              <a:off x="5410080" y="3886200"/>
              <a:ext cx="5335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ASBLOGO" descr=""/>
            <p:cNvPicPr/>
            <p:nvPr/>
          </p:nvPicPr>
          <p:blipFill>
            <a:blip r:embed="rId22"/>
            <a:stretch/>
          </p:blipFill>
          <p:spPr>
            <a:xfrm>
              <a:off x="5410080" y="3939480"/>
              <a:ext cx="492480" cy="47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 flipV="1">
            <a:off x="6629400" y="5562360"/>
            <a:ext cx="1600200" cy="68580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885840"/>
            <a:ext cx="1981080" cy="22860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1252000">
            <a:off x="4076280" y="3263760"/>
            <a:ext cx="29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amb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3276720"/>
            <a:ext cx="685800" cy="685800"/>
            <a:chOff x="0" y="3276720"/>
            <a:chExt cx="685800" cy="685800"/>
          </a:xfrm>
        </p:grpSpPr>
        <p:sp>
          <p:nvSpPr>
            <p:cNvPr id="146" name=""/>
            <p:cNvSpPr/>
            <p:nvPr/>
          </p:nvSpPr>
          <p:spPr>
            <a:xfrm>
              <a:off x="0" y="3276720"/>
              <a:ext cx="685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ASBLOGO" descr=""/>
            <p:cNvPicPr/>
            <p:nvPr/>
          </p:nvPicPr>
          <p:blipFill>
            <a:blip r:embed="rId23"/>
            <a:stretch/>
          </p:blipFill>
          <p:spPr>
            <a:xfrm>
              <a:off x="0" y="3345120"/>
              <a:ext cx="632880" cy="61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-762120" y="-50760"/>
            <a:ext cx="3962160" cy="3364920"/>
            <a:chOff x="-762120" y="-50760"/>
            <a:chExt cx="3962160" cy="3364920"/>
          </a:xfrm>
        </p:grpSpPr>
        <p:grpSp>
          <p:nvGrpSpPr>
            <p:cNvPr id="149" name=""/>
            <p:cNvGrpSpPr/>
            <p:nvPr/>
          </p:nvGrpSpPr>
          <p:grpSpPr>
            <a:xfrm>
              <a:off x="-762120" y="-50760"/>
              <a:ext cx="3962160" cy="3364920"/>
              <a:chOff x="-762120" y="-50760"/>
              <a:chExt cx="3962160" cy="3364920"/>
            </a:xfrm>
          </p:grpSpPr>
          <p:sp>
            <p:nvSpPr>
              <p:cNvPr id="150" name=""/>
              <p:cNvSpPr/>
              <p:nvPr/>
            </p:nvSpPr>
            <p:spPr>
              <a:xfrm>
                <a:off x="-329760" y="-50760"/>
                <a:ext cx="2881440" cy="33649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-762120" y="-50760"/>
                <a:ext cx="3962160" cy="333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2" name=""/>
            <p:cNvGrpSpPr/>
            <p:nvPr/>
          </p:nvGrpSpPr>
          <p:grpSpPr>
            <a:xfrm>
              <a:off x="792000" y="2453400"/>
              <a:ext cx="388080" cy="338760"/>
              <a:chOff x="792000" y="2453400"/>
              <a:chExt cx="388080" cy="3387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830880" y="2453400"/>
                <a:ext cx="349200" cy="300240"/>
                <a:chOff x="830880" y="2453400"/>
                <a:chExt cx="349200" cy="300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830880" y="2453400"/>
                  <a:ext cx="349200" cy="3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" name="ASBLOGO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880" y="2483280"/>
                  <a:ext cx="322200" cy="27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56" name=""/>
              <p:cNvSpPr/>
              <p:nvPr/>
            </p:nvSpPr>
            <p:spPr>
              <a:xfrm>
                <a:off x="792000" y="2458800"/>
                <a:ext cx="388080" cy="333360"/>
              </a:xfrm>
              <a:prstGeom prst="ellipse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633680" y="2049480"/>
              <a:ext cx="388080" cy="338400"/>
              <a:chOff x="1633680" y="2049480"/>
              <a:chExt cx="388080" cy="338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672560" y="2049480"/>
                <a:ext cx="349200" cy="299880"/>
                <a:chOff x="1672560" y="2049480"/>
                <a:chExt cx="349200" cy="2998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672560" y="2049480"/>
                  <a:ext cx="349200" cy="29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0" name="ASBLOGO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672560" y="2079360"/>
                  <a:ext cx="322200" cy="27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1" name=""/>
              <p:cNvSpPr/>
              <p:nvPr/>
            </p:nvSpPr>
            <p:spPr>
              <a:xfrm>
                <a:off x="1633680" y="2054880"/>
                <a:ext cx="388080" cy="333000"/>
              </a:xfrm>
              <a:prstGeom prst="ellipse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78680" y="1514160"/>
              <a:ext cx="388440" cy="338760"/>
              <a:chOff x="778680" y="1514160"/>
              <a:chExt cx="388440" cy="3387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817560" y="1514160"/>
                <a:ext cx="349560" cy="300240"/>
                <a:chOff x="817560" y="1514160"/>
                <a:chExt cx="349560" cy="300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7560" y="1514160"/>
                  <a:ext cx="349560" cy="3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5" name="ASBLOGO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17560" y="1544040"/>
                  <a:ext cx="322560" cy="27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" name=""/>
              <p:cNvSpPr/>
              <p:nvPr/>
            </p:nvSpPr>
            <p:spPr>
              <a:xfrm>
                <a:off x="778680" y="1519560"/>
                <a:ext cx="388440" cy="333360"/>
              </a:xfrm>
              <a:prstGeom prst="ellipse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 rot="21265200">
            <a:off x="5067360" y="4140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ang H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0193600">
            <a:off x="6248880" y="5460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la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a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71760" y="2898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4" name="" descr=""/>
          <p:cNvPicPr/>
          <p:nvPr/>
        </p:nvPicPr>
        <p:blipFill>
          <a:blip r:embed="rId1"/>
          <a:srcRect l="23399" t="42724" r="10448" b="22864"/>
          <a:stretch/>
        </p:blipFill>
        <p:spPr>
          <a:xfrm>
            <a:off x="1746360" y="2227320"/>
            <a:ext cx="5638680" cy="2195280"/>
          </a:xfrm>
          <a:prstGeom prst="rect">
            <a:avLst/>
          </a:prstGeom>
          <a:ln w="0">
            <a:noFill/>
          </a:ln>
        </p:spPr>
      </p:pic>
      <p:pic>
        <p:nvPicPr>
          <p:cNvPr id="3845" name="" descr=""/>
          <p:cNvPicPr/>
          <p:nvPr/>
        </p:nvPicPr>
        <p:blipFill>
          <a:blip r:embed="rId2"/>
          <a:srcRect l="23171" t="42674" r="10713" b="22203"/>
          <a:stretch/>
        </p:blipFill>
        <p:spPr>
          <a:xfrm>
            <a:off x="1736640" y="4618080"/>
            <a:ext cx="5639040" cy="2239920"/>
          </a:xfrm>
          <a:prstGeom prst="rect">
            <a:avLst/>
          </a:prstGeom>
          <a:ln w="0">
            <a:noFill/>
          </a:ln>
        </p:spPr>
      </p:pic>
      <p:pic>
        <p:nvPicPr>
          <p:cNvPr id="3846" name="" descr=""/>
          <p:cNvPicPr/>
          <p:nvPr/>
        </p:nvPicPr>
        <p:blipFill>
          <a:blip r:embed="rId3"/>
          <a:srcRect l="22677" t="42470" r="10599" b="22051"/>
          <a:stretch/>
        </p:blipFill>
        <p:spPr>
          <a:xfrm>
            <a:off x="1749600" y="0"/>
            <a:ext cx="5692680" cy="2263680"/>
          </a:xfrm>
          <a:prstGeom prst="rect">
            <a:avLst/>
          </a:prstGeom>
          <a:ln w="0">
            <a:noFill/>
          </a:ln>
        </p:spPr>
      </p:pic>
      <p:sp>
        <p:nvSpPr>
          <p:cNvPr id="3847" name=""/>
          <p:cNvSpPr/>
          <p:nvPr/>
        </p:nvSpPr>
        <p:spPr>
          <a:xfrm>
            <a:off x="0" y="7113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anent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0" y="284796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glom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0" y="52610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er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 rot="5400000">
            <a:off x="7764120" y="798480"/>
            <a:ext cx="167652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opped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 rot="5400000">
            <a:off x="6119280" y="4119480"/>
            <a:ext cx="4965840" cy="507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2" name=""/>
          <p:cNvGrpSpPr/>
          <p:nvPr/>
        </p:nvGrpSpPr>
        <p:grpSpPr>
          <a:xfrm>
            <a:off x="0" y="0"/>
            <a:ext cx="9144000" cy="6208560"/>
            <a:chOff x="0" y="0"/>
            <a:chExt cx="9144000" cy="6208560"/>
          </a:xfrm>
        </p:grpSpPr>
        <p:sp>
          <p:nvSpPr>
            <p:cNvPr id="3853" name=""/>
            <p:cNvSpPr/>
            <p:nvPr/>
          </p:nvSpPr>
          <p:spPr>
            <a:xfrm>
              <a:off x="1328760" y="776160"/>
              <a:ext cx="7472520" cy="468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328760" y="776160"/>
              <a:ext cx="7472520" cy="4681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465"/>
                  </a:lnTo>
                  <a:lnTo>
                    <a:pt x="4660" y="465"/>
                  </a:lnTo>
                  <a:lnTo>
                    <a:pt x="4612" y="465"/>
                  </a:lnTo>
                  <a:lnTo>
                    <a:pt x="4565" y="465"/>
                  </a:lnTo>
                  <a:lnTo>
                    <a:pt x="4517" y="465"/>
                  </a:lnTo>
                  <a:lnTo>
                    <a:pt x="4470" y="465"/>
                  </a:lnTo>
                  <a:lnTo>
                    <a:pt x="4422" y="465"/>
                  </a:lnTo>
                  <a:lnTo>
                    <a:pt x="4375" y="465"/>
                  </a:lnTo>
                  <a:lnTo>
                    <a:pt x="4327" y="465"/>
                  </a:lnTo>
                  <a:lnTo>
                    <a:pt x="4279" y="465"/>
                  </a:lnTo>
                  <a:lnTo>
                    <a:pt x="4232" y="465"/>
                  </a:lnTo>
                  <a:lnTo>
                    <a:pt x="4184" y="465"/>
                  </a:lnTo>
                  <a:lnTo>
                    <a:pt x="4137" y="465"/>
                  </a:lnTo>
                  <a:lnTo>
                    <a:pt x="4089" y="465"/>
                  </a:lnTo>
                  <a:lnTo>
                    <a:pt x="4042" y="465"/>
                  </a:lnTo>
                  <a:lnTo>
                    <a:pt x="3994" y="465"/>
                  </a:lnTo>
                  <a:lnTo>
                    <a:pt x="3946" y="465"/>
                  </a:lnTo>
                  <a:lnTo>
                    <a:pt x="3899" y="465"/>
                  </a:lnTo>
                  <a:lnTo>
                    <a:pt x="3851" y="465"/>
                  </a:lnTo>
                  <a:lnTo>
                    <a:pt x="3804" y="465"/>
                  </a:lnTo>
                  <a:lnTo>
                    <a:pt x="3756" y="465"/>
                  </a:lnTo>
                  <a:lnTo>
                    <a:pt x="3709" y="465"/>
                  </a:lnTo>
                  <a:lnTo>
                    <a:pt x="3661" y="465"/>
                  </a:lnTo>
                  <a:lnTo>
                    <a:pt x="3614" y="465"/>
                  </a:lnTo>
                  <a:lnTo>
                    <a:pt x="3566" y="465"/>
                  </a:lnTo>
                  <a:lnTo>
                    <a:pt x="3518" y="465"/>
                  </a:lnTo>
                  <a:lnTo>
                    <a:pt x="3471" y="465"/>
                  </a:lnTo>
                  <a:lnTo>
                    <a:pt x="3423" y="465"/>
                  </a:lnTo>
                  <a:lnTo>
                    <a:pt x="3376" y="465"/>
                  </a:lnTo>
                  <a:lnTo>
                    <a:pt x="3328" y="465"/>
                  </a:lnTo>
                  <a:lnTo>
                    <a:pt x="3281" y="465"/>
                  </a:lnTo>
                  <a:lnTo>
                    <a:pt x="3233" y="465"/>
                  </a:lnTo>
                  <a:lnTo>
                    <a:pt x="3185" y="465"/>
                  </a:lnTo>
                  <a:lnTo>
                    <a:pt x="3138" y="465"/>
                  </a:lnTo>
                  <a:lnTo>
                    <a:pt x="3090" y="465"/>
                  </a:lnTo>
                  <a:lnTo>
                    <a:pt x="3043" y="465"/>
                  </a:lnTo>
                  <a:lnTo>
                    <a:pt x="2995" y="465"/>
                  </a:lnTo>
                  <a:lnTo>
                    <a:pt x="2948" y="465"/>
                  </a:lnTo>
                  <a:lnTo>
                    <a:pt x="2900" y="465"/>
                  </a:lnTo>
                  <a:lnTo>
                    <a:pt x="2853" y="465"/>
                  </a:lnTo>
                  <a:lnTo>
                    <a:pt x="2805" y="465"/>
                  </a:lnTo>
                  <a:lnTo>
                    <a:pt x="2757" y="465"/>
                  </a:lnTo>
                  <a:lnTo>
                    <a:pt x="2710" y="465"/>
                  </a:lnTo>
                  <a:lnTo>
                    <a:pt x="2662" y="465"/>
                  </a:lnTo>
                  <a:lnTo>
                    <a:pt x="2615" y="465"/>
                  </a:lnTo>
                  <a:lnTo>
                    <a:pt x="2567" y="465"/>
                  </a:lnTo>
                  <a:lnTo>
                    <a:pt x="2520" y="465"/>
                  </a:lnTo>
                  <a:lnTo>
                    <a:pt x="2472" y="465"/>
                  </a:lnTo>
                  <a:lnTo>
                    <a:pt x="2425" y="465"/>
                  </a:lnTo>
                  <a:lnTo>
                    <a:pt x="2377" y="465"/>
                  </a:lnTo>
                  <a:lnTo>
                    <a:pt x="2330" y="465"/>
                  </a:lnTo>
                  <a:lnTo>
                    <a:pt x="2283" y="465"/>
                  </a:lnTo>
                  <a:lnTo>
                    <a:pt x="2235" y="465"/>
                  </a:lnTo>
                  <a:lnTo>
                    <a:pt x="2188" y="465"/>
                  </a:lnTo>
                  <a:lnTo>
                    <a:pt x="2140" y="465"/>
                  </a:lnTo>
                  <a:lnTo>
                    <a:pt x="2093" y="465"/>
                  </a:lnTo>
                  <a:lnTo>
                    <a:pt x="2045" y="465"/>
                  </a:lnTo>
                  <a:lnTo>
                    <a:pt x="1997" y="465"/>
                  </a:lnTo>
                  <a:lnTo>
                    <a:pt x="1950" y="465"/>
                  </a:lnTo>
                  <a:lnTo>
                    <a:pt x="1902" y="465"/>
                  </a:lnTo>
                  <a:lnTo>
                    <a:pt x="1855" y="465"/>
                  </a:lnTo>
                  <a:lnTo>
                    <a:pt x="1807" y="465"/>
                  </a:lnTo>
                  <a:lnTo>
                    <a:pt x="1760" y="465"/>
                  </a:lnTo>
                  <a:lnTo>
                    <a:pt x="1712" y="465"/>
                  </a:lnTo>
                  <a:lnTo>
                    <a:pt x="1665" y="465"/>
                  </a:lnTo>
                  <a:lnTo>
                    <a:pt x="1617" y="465"/>
                  </a:lnTo>
                  <a:lnTo>
                    <a:pt x="1569" y="465"/>
                  </a:lnTo>
                  <a:lnTo>
                    <a:pt x="1522" y="465"/>
                  </a:lnTo>
                  <a:lnTo>
                    <a:pt x="1474" y="465"/>
                  </a:lnTo>
                  <a:lnTo>
                    <a:pt x="1427" y="465"/>
                  </a:lnTo>
                  <a:lnTo>
                    <a:pt x="1379" y="465"/>
                  </a:lnTo>
                  <a:lnTo>
                    <a:pt x="1332" y="465"/>
                  </a:lnTo>
                  <a:lnTo>
                    <a:pt x="1284" y="465"/>
                  </a:lnTo>
                  <a:lnTo>
                    <a:pt x="1236" y="465"/>
                  </a:lnTo>
                  <a:lnTo>
                    <a:pt x="1189" y="465"/>
                  </a:lnTo>
                  <a:lnTo>
                    <a:pt x="1141" y="465"/>
                  </a:lnTo>
                  <a:lnTo>
                    <a:pt x="1094" y="465"/>
                  </a:lnTo>
                  <a:lnTo>
                    <a:pt x="1046" y="465"/>
                  </a:lnTo>
                  <a:lnTo>
                    <a:pt x="999" y="465"/>
                  </a:lnTo>
                  <a:lnTo>
                    <a:pt x="951" y="465"/>
                  </a:lnTo>
                  <a:lnTo>
                    <a:pt x="904" y="465"/>
                  </a:lnTo>
                  <a:lnTo>
                    <a:pt x="856" y="465"/>
                  </a:lnTo>
                  <a:lnTo>
                    <a:pt x="808" y="465"/>
                  </a:lnTo>
                  <a:lnTo>
                    <a:pt x="761" y="465"/>
                  </a:lnTo>
                  <a:lnTo>
                    <a:pt x="713" y="465"/>
                  </a:lnTo>
                  <a:lnTo>
                    <a:pt x="666" y="465"/>
                  </a:lnTo>
                  <a:lnTo>
                    <a:pt x="618" y="465"/>
                  </a:lnTo>
                  <a:lnTo>
                    <a:pt x="571" y="465"/>
                  </a:lnTo>
                  <a:lnTo>
                    <a:pt x="523" y="465"/>
                  </a:lnTo>
                  <a:lnTo>
                    <a:pt x="475" y="465"/>
                  </a:lnTo>
                  <a:lnTo>
                    <a:pt x="428" y="465"/>
                  </a:lnTo>
                  <a:lnTo>
                    <a:pt x="380" y="465"/>
                  </a:lnTo>
                  <a:lnTo>
                    <a:pt x="333" y="465"/>
                  </a:lnTo>
                  <a:lnTo>
                    <a:pt x="285" y="465"/>
                  </a:lnTo>
                  <a:lnTo>
                    <a:pt x="238" y="465"/>
                  </a:lnTo>
                  <a:lnTo>
                    <a:pt x="190" y="465"/>
                  </a:lnTo>
                  <a:lnTo>
                    <a:pt x="143" y="465"/>
                  </a:lnTo>
                  <a:lnTo>
                    <a:pt x="95" y="465"/>
                  </a:lnTo>
                  <a:lnTo>
                    <a:pt x="47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0"/>
                  </a:lnTo>
                  <a:lnTo>
                    <a:pt x="4660" y="0"/>
                  </a:lnTo>
                  <a:lnTo>
                    <a:pt x="4612" y="0"/>
                  </a:lnTo>
                  <a:lnTo>
                    <a:pt x="4565" y="0"/>
                  </a:lnTo>
                  <a:lnTo>
                    <a:pt x="4517" y="1"/>
                  </a:lnTo>
                  <a:lnTo>
                    <a:pt x="4470" y="1"/>
                  </a:lnTo>
                  <a:lnTo>
                    <a:pt x="4422" y="1"/>
                  </a:lnTo>
                  <a:lnTo>
                    <a:pt x="4375" y="1"/>
                  </a:lnTo>
                  <a:lnTo>
                    <a:pt x="4327" y="1"/>
                  </a:lnTo>
                  <a:lnTo>
                    <a:pt x="4279" y="2"/>
                  </a:lnTo>
                  <a:lnTo>
                    <a:pt x="4232" y="2"/>
                  </a:lnTo>
                  <a:lnTo>
                    <a:pt x="4184" y="2"/>
                  </a:lnTo>
                  <a:lnTo>
                    <a:pt x="4137" y="2"/>
                  </a:lnTo>
                  <a:lnTo>
                    <a:pt x="4089" y="2"/>
                  </a:lnTo>
                  <a:lnTo>
                    <a:pt x="4042" y="3"/>
                  </a:lnTo>
                  <a:lnTo>
                    <a:pt x="3994" y="3"/>
                  </a:lnTo>
                  <a:lnTo>
                    <a:pt x="3946" y="3"/>
                  </a:lnTo>
                  <a:lnTo>
                    <a:pt x="3899" y="3"/>
                  </a:lnTo>
                  <a:lnTo>
                    <a:pt x="3851" y="4"/>
                  </a:lnTo>
                  <a:lnTo>
                    <a:pt x="3804" y="4"/>
                  </a:lnTo>
                  <a:lnTo>
                    <a:pt x="3756" y="4"/>
                  </a:lnTo>
                  <a:lnTo>
                    <a:pt x="3709" y="4"/>
                  </a:lnTo>
                  <a:lnTo>
                    <a:pt x="3661" y="5"/>
                  </a:lnTo>
                  <a:lnTo>
                    <a:pt x="3614" y="5"/>
                  </a:lnTo>
                  <a:lnTo>
                    <a:pt x="3566" y="6"/>
                  </a:lnTo>
                  <a:lnTo>
                    <a:pt x="3518" y="7"/>
                  </a:lnTo>
                  <a:lnTo>
                    <a:pt x="3471" y="7"/>
                  </a:lnTo>
                  <a:lnTo>
                    <a:pt x="3423" y="7"/>
                  </a:lnTo>
                  <a:lnTo>
                    <a:pt x="3376" y="7"/>
                  </a:lnTo>
                  <a:lnTo>
                    <a:pt x="3328" y="7"/>
                  </a:lnTo>
                  <a:lnTo>
                    <a:pt x="3281" y="7"/>
                  </a:lnTo>
                  <a:lnTo>
                    <a:pt x="3233" y="7"/>
                  </a:lnTo>
                  <a:lnTo>
                    <a:pt x="3185" y="7"/>
                  </a:lnTo>
                  <a:lnTo>
                    <a:pt x="3138" y="8"/>
                  </a:lnTo>
                  <a:lnTo>
                    <a:pt x="3090" y="8"/>
                  </a:lnTo>
                  <a:lnTo>
                    <a:pt x="3043" y="8"/>
                  </a:lnTo>
                  <a:lnTo>
                    <a:pt x="2995" y="9"/>
                  </a:lnTo>
                  <a:lnTo>
                    <a:pt x="2948" y="9"/>
                  </a:lnTo>
                  <a:lnTo>
                    <a:pt x="2900" y="9"/>
                  </a:lnTo>
                  <a:lnTo>
                    <a:pt x="2853" y="10"/>
                  </a:lnTo>
                  <a:lnTo>
                    <a:pt x="2805" y="10"/>
                  </a:lnTo>
                  <a:lnTo>
                    <a:pt x="2757" y="10"/>
                  </a:lnTo>
                  <a:lnTo>
                    <a:pt x="2710" y="11"/>
                  </a:lnTo>
                  <a:lnTo>
                    <a:pt x="2662" y="12"/>
                  </a:lnTo>
                  <a:lnTo>
                    <a:pt x="2615" y="13"/>
                  </a:lnTo>
                  <a:lnTo>
                    <a:pt x="2567" y="14"/>
                  </a:lnTo>
                  <a:lnTo>
                    <a:pt x="2520" y="14"/>
                  </a:lnTo>
                  <a:lnTo>
                    <a:pt x="2472" y="14"/>
                  </a:lnTo>
                  <a:lnTo>
                    <a:pt x="2425" y="16"/>
                  </a:lnTo>
                  <a:lnTo>
                    <a:pt x="2377" y="17"/>
                  </a:lnTo>
                  <a:lnTo>
                    <a:pt x="2330" y="18"/>
                  </a:lnTo>
                  <a:lnTo>
                    <a:pt x="2283" y="19"/>
                  </a:lnTo>
                  <a:lnTo>
                    <a:pt x="2235" y="20"/>
                  </a:lnTo>
                  <a:lnTo>
                    <a:pt x="2188" y="21"/>
                  </a:lnTo>
                  <a:lnTo>
                    <a:pt x="2140" y="21"/>
                  </a:lnTo>
                  <a:lnTo>
                    <a:pt x="2093" y="23"/>
                  </a:lnTo>
                  <a:lnTo>
                    <a:pt x="2045" y="24"/>
                  </a:lnTo>
                  <a:lnTo>
                    <a:pt x="1997" y="24"/>
                  </a:lnTo>
                  <a:lnTo>
                    <a:pt x="1950" y="27"/>
                  </a:lnTo>
                  <a:lnTo>
                    <a:pt x="1902" y="28"/>
                  </a:lnTo>
                  <a:lnTo>
                    <a:pt x="1855" y="29"/>
                  </a:lnTo>
                  <a:lnTo>
                    <a:pt x="1807" y="30"/>
                  </a:lnTo>
                  <a:lnTo>
                    <a:pt x="1760" y="32"/>
                  </a:lnTo>
                  <a:lnTo>
                    <a:pt x="1712" y="33"/>
                  </a:lnTo>
                  <a:lnTo>
                    <a:pt x="1665" y="36"/>
                  </a:lnTo>
                  <a:lnTo>
                    <a:pt x="1617" y="38"/>
                  </a:lnTo>
                  <a:lnTo>
                    <a:pt x="1569" y="40"/>
                  </a:lnTo>
                  <a:lnTo>
                    <a:pt x="1522" y="41"/>
                  </a:lnTo>
                  <a:lnTo>
                    <a:pt x="1474" y="45"/>
                  </a:lnTo>
                  <a:lnTo>
                    <a:pt x="1427" y="45"/>
                  </a:lnTo>
                  <a:lnTo>
                    <a:pt x="1379" y="50"/>
                  </a:lnTo>
                  <a:lnTo>
                    <a:pt x="1332" y="50"/>
                  </a:lnTo>
                  <a:lnTo>
                    <a:pt x="1284" y="56"/>
                  </a:lnTo>
                  <a:lnTo>
                    <a:pt x="1236" y="56"/>
                  </a:lnTo>
                  <a:lnTo>
                    <a:pt x="1189" y="60"/>
                  </a:lnTo>
                  <a:lnTo>
                    <a:pt x="1141" y="60"/>
                  </a:lnTo>
                  <a:lnTo>
                    <a:pt x="1094" y="66"/>
                  </a:lnTo>
                  <a:lnTo>
                    <a:pt x="1046" y="68"/>
                  </a:lnTo>
                  <a:lnTo>
                    <a:pt x="999" y="72"/>
                  </a:lnTo>
                  <a:lnTo>
                    <a:pt x="951" y="72"/>
                  </a:lnTo>
                  <a:lnTo>
                    <a:pt x="904" y="80"/>
                  </a:lnTo>
                  <a:lnTo>
                    <a:pt x="856" y="80"/>
                  </a:lnTo>
                  <a:lnTo>
                    <a:pt x="808" y="87"/>
                  </a:lnTo>
                  <a:lnTo>
                    <a:pt x="761" y="87"/>
                  </a:lnTo>
                  <a:lnTo>
                    <a:pt x="713" y="95"/>
                  </a:lnTo>
                  <a:lnTo>
                    <a:pt x="666" y="96"/>
                  </a:lnTo>
                  <a:lnTo>
                    <a:pt x="618" y="104"/>
                  </a:lnTo>
                  <a:lnTo>
                    <a:pt x="571" y="104"/>
                  </a:lnTo>
                  <a:lnTo>
                    <a:pt x="523" y="115"/>
                  </a:lnTo>
                  <a:lnTo>
                    <a:pt x="475" y="115"/>
                  </a:lnTo>
                  <a:lnTo>
                    <a:pt x="428" y="123"/>
                  </a:lnTo>
                  <a:lnTo>
                    <a:pt x="380" y="123"/>
                  </a:lnTo>
                  <a:lnTo>
                    <a:pt x="333" y="133"/>
                  </a:lnTo>
                  <a:lnTo>
                    <a:pt x="285" y="134"/>
                  </a:lnTo>
                  <a:lnTo>
                    <a:pt x="238" y="143"/>
                  </a:lnTo>
                  <a:lnTo>
                    <a:pt x="190" y="143"/>
                  </a:lnTo>
                  <a:lnTo>
                    <a:pt x="143" y="267"/>
                  </a:lnTo>
                  <a:lnTo>
                    <a:pt x="95" y="308"/>
                  </a:lnTo>
                  <a:lnTo>
                    <a:pt x="47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0"/>
                  </a:lnTo>
                  <a:lnTo>
                    <a:pt x="4660" y="0"/>
                  </a:lnTo>
                  <a:lnTo>
                    <a:pt x="4612" y="0"/>
                  </a:lnTo>
                  <a:lnTo>
                    <a:pt x="4565" y="0"/>
                  </a:lnTo>
                  <a:lnTo>
                    <a:pt x="4517" y="1"/>
                  </a:lnTo>
                  <a:lnTo>
                    <a:pt x="4470" y="1"/>
                  </a:lnTo>
                  <a:lnTo>
                    <a:pt x="4422" y="1"/>
                  </a:lnTo>
                  <a:lnTo>
                    <a:pt x="4375" y="1"/>
                  </a:lnTo>
                  <a:lnTo>
                    <a:pt x="4327" y="1"/>
                  </a:lnTo>
                  <a:lnTo>
                    <a:pt x="4279" y="2"/>
                  </a:lnTo>
                  <a:lnTo>
                    <a:pt x="4232" y="2"/>
                  </a:lnTo>
                  <a:lnTo>
                    <a:pt x="4184" y="2"/>
                  </a:lnTo>
                  <a:lnTo>
                    <a:pt x="4137" y="2"/>
                  </a:lnTo>
                  <a:lnTo>
                    <a:pt x="4089" y="2"/>
                  </a:lnTo>
                  <a:lnTo>
                    <a:pt x="4042" y="3"/>
                  </a:lnTo>
                  <a:lnTo>
                    <a:pt x="3994" y="3"/>
                  </a:lnTo>
                  <a:lnTo>
                    <a:pt x="3946" y="3"/>
                  </a:lnTo>
                  <a:lnTo>
                    <a:pt x="3899" y="3"/>
                  </a:lnTo>
                  <a:lnTo>
                    <a:pt x="3851" y="4"/>
                  </a:lnTo>
                  <a:lnTo>
                    <a:pt x="3804" y="4"/>
                  </a:lnTo>
                  <a:lnTo>
                    <a:pt x="3756" y="4"/>
                  </a:lnTo>
                  <a:lnTo>
                    <a:pt x="3709" y="4"/>
                  </a:lnTo>
                  <a:lnTo>
                    <a:pt x="3661" y="5"/>
                  </a:lnTo>
                  <a:lnTo>
                    <a:pt x="3614" y="5"/>
                  </a:lnTo>
                  <a:lnTo>
                    <a:pt x="3566" y="6"/>
                  </a:lnTo>
                  <a:lnTo>
                    <a:pt x="3518" y="7"/>
                  </a:lnTo>
                  <a:lnTo>
                    <a:pt x="3471" y="7"/>
                  </a:lnTo>
                  <a:lnTo>
                    <a:pt x="3423" y="7"/>
                  </a:lnTo>
                  <a:lnTo>
                    <a:pt x="3376" y="7"/>
                  </a:lnTo>
                  <a:lnTo>
                    <a:pt x="3328" y="7"/>
                  </a:lnTo>
                  <a:lnTo>
                    <a:pt x="3281" y="7"/>
                  </a:lnTo>
                  <a:lnTo>
                    <a:pt x="3233" y="7"/>
                  </a:lnTo>
                  <a:lnTo>
                    <a:pt x="3185" y="7"/>
                  </a:lnTo>
                  <a:lnTo>
                    <a:pt x="3138" y="8"/>
                  </a:lnTo>
                  <a:lnTo>
                    <a:pt x="3090" y="8"/>
                  </a:lnTo>
                  <a:lnTo>
                    <a:pt x="3043" y="8"/>
                  </a:lnTo>
                  <a:lnTo>
                    <a:pt x="2995" y="9"/>
                  </a:lnTo>
                  <a:lnTo>
                    <a:pt x="2948" y="9"/>
                  </a:lnTo>
                  <a:lnTo>
                    <a:pt x="2900" y="9"/>
                  </a:lnTo>
                  <a:lnTo>
                    <a:pt x="2853" y="10"/>
                  </a:lnTo>
                  <a:lnTo>
                    <a:pt x="2805" y="10"/>
                  </a:lnTo>
                  <a:lnTo>
                    <a:pt x="2757" y="10"/>
                  </a:lnTo>
                  <a:lnTo>
                    <a:pt x="2710" y="11"/>
                  </a:lnTo>
                  <a:lnTo>
                    <a:pt x="2662" y="12"/>
                  </a:lnTo>
                  <a:lnTo>
                    <a:pt x="2615" y="13"/>
                  </a:lnTo>
                  <a:lnTo>
                    <a:pt x="2567" y="14"/>
                  </a:lnTo>
                  <a:lnTo>
                    <a:pt x="2520" y="14"/>
                  </a:lnTo>
                  <a:lnTo>
                    <a:pt x="2472" y="14"/>
                  </a:lnTo>
                  <a:lnTo>
                    <a:pt x="2425" y="16"/>
                  </a:lnTo>
                  <a:lnTo>
                    <a:pt x="2377" y="17"/>
                  </a:lnTo>
                  <a:lnTo>
                    <a:pt x="2330" y="18"/>
                  </a:lnTo>
                  <a:lnTo>
                    <a:pt x="2283" y="19"/>
                  </a:lnTo>
                  <a:lnTo>
                    <a:pt x="2235" y="20"/>
                  </a:lnTo>
                  <a:lnTo>
                    <a:pt x="2188" y="21"/>
                  </a:lnTo>
                  <a:lnTo>
                    <a:pt x="2140" y="21"/>
                  </a:lnTo>
                  <a:lnTo>
                    <a:pt x="2093" y="23"/>
                  </a:lnTo>
                  <a:lnTo>
                    <a:pt x="2045" y="24"/>
                  </a:lnTo>
                  <a:lnTo>
                    <a:pt x="1997" y="24"/>
                  </a:lnTo>
                  <a:lnTo>
                    <a:pt x="1950" y="27"/>
                  </a:lnTo>
                  <a:lnTo>
                    <a:pt x="1902" y="28"/>
                  </a:lnTo>
                  <a:lnTo>
                    <a:pt x="1855" y="29"/>
                  </a:lnTo>
                  <a:lnTo>
                    <a:pt x="1807" y="30"/>
                  </a:lnTo>
                  <a:lnTo>
                    <a:pt x="1760" y="32"/>
                  </a:lnTo>
                  <a:lnTo>
                    <a:pt x="1712" y="33"/>
                  </a:lnTo>
                  <a:lnTo>
                    <a:pt x="1665" y="36"/>
                  </a:lnTo>
                  <a:lnTo>
                    <a:pt x="1617" y="38"/>
                  </a:lnTo>
                  <a:lnTo>
                    <a:pt x="1569" y="40"/>
                  </a:lnTo>
                  <a:lnTo>
                    <a:pt x="1522" y="41"/>
                  </a:lnTo>
                  <a:lnTo>
                    <a:pt x="1474" y="45"/>
                  </a:lnTo>
                  <a:lnTo>
                    <a:pt x="1427" y="45"/>
                  </a:lnTo>
                  <a:lnTo>
                    <a:pt x="1379" y="50"/>
                  </a:lnTo>
                  <a:lnTo>
                    <a:pt x="1332" y="50"/>
                  </a:lnTo>
                  <a:lnTo>
                    <a:pt x="1284" y="56"/>
                  </a:lnTo>
                  <a:lnTo>
                    <a:pt x="1236" y="56"/>
                  </a:lnTo>
                  <a:lnTo>
                    <a:pt x="1189" y="60"/>
                  </a:lnTo>
                  <a:lnTo>
                    <a:pt x="1141" y="60"/>
                  </a:lnTo>
                  <a:lnTo>
                    <a:pt x="1094" y="66"/>
                  </a:lnTo>
                  <a:lnTo>
                    <a:pt x="1046" y="68"/>
                  </a:lnTo>
                  <a:lnTo>
                    <a:pt x="999" y="72"/>
                  </a:lnTo>
                  <a:lnTo>
                    <a:pt x="951" y="72"/>
                  </a:lnTo>
                  <a:lnTo>
                    <a:pt x="904" y="80"/>
                  </a:lnTo>
                  <a:lnTo>
                    <a:pt x="856" y="80"/>
                  </a:lnTo>
                  <a:lnTo>
                    <a:pt x="808" y="87"/>
                  </a:lnTo>
                  <a:lnTo>
                    <a:pt x="761" y="87"/>
                  </a:lnTo>
                  <a:lnTo>
                    <a:pt x="713" y="95"/>
                  </a:lnTo>
                  <a:lnTo>
                    <a:pt x="666" y="96"/>
                  </a:lnTo>
                  <a:lnTo>
                    <a:pt x="618" y="104"/>
                  </a:lnTo>
                  <a:lnTo>
                    <a:pt x="571" y="104"/>
                  </a:lnTo>
                  <a:lnTo>
                    <a:pt x="523" y="115"/>
                  </a:lnTo>
                  <a:lnTo>
                    <a:pt x="475" y="115"/>
                  </a:lnTo>
                  <a:lnTo>
                    <a:pt x="428" y="123"/>
                  </a:lnTo>
                  <a:lnTo>
                    <a:pt x="380" y="123"/>
                  </a:lnTo>
                  <a:lnTo>
                    <a:pt x="333" y="133"/>
                  </a:lnTo>
                  <a:lnTo>
                    <a:pt x="285" y="134"/>
                  </a:lnTo>
                  <a:lnTo>
                    <a:pt x="238" y="143"/>
                  </a:lnTo>
                  <a:lnTo>
                    <a:pt x="190" y="143"/>
                  </a:lnTo>
                  <a:lnTo>
                    <a:pt x="143" y="267"/>
                  </a:lnTo>
                  <a:lnTo>
                    <a:pt x="95" y="308"/>
                  </a:lnTo>
                  <a:lnTo>
                    <a:pt x="47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0"/>
                  </a:lnTo>
                  <a:lnTo>
                    <a:pt x="4660" y="0"/>
                  </a:lnTo>
                  <a:lnTo>
                    <a:pt x="4612" y="0"/>
                  </a:lnTo>
                  <a:lnTo>
                    <a:pt x="4565" y="0"/>
                  </a:lnTo>
                  <a:lnTo>
                    <a:pt x="4517" y="1"/>
                  </a:lnTo>
                  <a:lnTo>
                    <a:pt x="4470" y="1"/>
                  </a:lnTo>
                  <a:lnTo>
                    <a:pt x="4422" y="1"/>
                  </a:lnTo>
                  <a:lnTo>
                    <a:pt x="4375" y="1"/>
                  </a:lnTo>
                  <a:lnTo>
                    <a:pt x="4327" y="1"/>
                  </a:lnTo>
                  <a:lnTo>
                    <a:pt x="4279" y="2"/>
                  </a:lnTo>
                  <a:lnTo>
                    <a:pt x="4232" y="2"/>
                  </a:lnTo>
                  <a:lnTo>
                    <a:pt x="4184" y="2"/>
                  </a:lnTo>
                  <a:lnTo>
                    <a:pt x="4137" y="2"/>
                  </a:lnTo>
                  <a:lnTo>
                    <a:pt x="4089" y="2"/>
                  </a:lnTo>
                  <a:lnTo>
                    <a:pt x="4042" y="3"/>
                  </a:lnTo>
                  <a:lnTo>
                    <a:pt x="3994" y="3"/>
                  </a:lnTo>
                  <a:lnTo>
                    <a:pt x="3946" y="3"/>
                  </a:lnTo>
                  <a:lnTo>
                    <a:pt x="3899" y="3"/>
                  </a:lnTo>
                  <a:lnTo>
                    <a:pt x="3851" y="4"/>
                  </a:lnTo>
                  <a:lnTo>
                    <a:pt x="3804" y="4"/>
                  </a:lnTo>
                  <a:lnTo>
                    <a:pt x="3756" y="4"/>
                  </a:lnTo>
                  <a:lnTo>
                    <a:pt x="3709" y="4"/>
                  </a:lnTo>
                  <a:lnTo>
                    <a:pt x="3661" y="5"/>
                  </a:lnTo>
                  <a:lnTo>
                    <a:pt x="3614" y="5"/>
                  </a:lnTo>
                  <a:lnTo>
                    <a:pt x="3566" y="6"/>
                  </a:lnTo>
                  <a:lnTo>
                    <a:pt x="3518" y="7"/>
                  </a:lnTo>
                  <a:lnTo>
                    <a:pt x="3471" y="7"/>
                  </a:lnTo>
                  <a:lnTo>
                    <a:pt x="3423" y="7"/>
                  </a:lnTo>
                  <a:lnTo>
                    <a:pt x="3376" y="7"/>
                  </a:lnTo>
                  <a:lnTo>
                    <a:pt x="3328" y="7"/>
                  </a:lnTo>
                  <a:lnTo>
                    <a:pt x="3281" y="7"/>
                  </a:lnTo>
                  <a:lnTo>
                    <a:pt x="3233" y="7"/>
                  </a:lnTo>
                  <a:lnTo>
                    <a:pt x="3185" y="7"/>
                  </a:lnTo>
                  <a:lnTo>
                    <a:pt x="3138" y="8"/>
                  </a:lnTo>
                  <a:lnTo>
                    <a:pt x="3090" y="8"/>
                  </a:lnTo>
                  <a:lnTo>
                    <a:pt x="3043" y="8"/>
                  </a:lnTo>
                  <a:lnTo>
                    <a:pt x="2995" y="9"/>
                  </a:lnTo>
                  <a:lnTo>
                    <a:pt x="2948" y="9"/>
                  </a:lnTo>
                  <a:lnTo>
                    <a:pt x="2900" y="9"/>
                  </a:lnTo>
                  <a:lnTo>
                    <a:pt x="2853" y="10"/>
                  </a:lnTo>
                  <a:lnTo>
                    <a:pt x="2805" y="10"/>
                  </a:lnTo>
                  <a:lnTo>
                    <a:pt x="2757" y="10"/>
                  </a:lnTo>
                  <a:lnTo>
                    <a:pt x="2710" y="11"/>
                  </a:lnTo>
                  <a:lnTo>
                    <a:pt x="2662" y="12"/>
                  </a:lnTo>
                  <a:lnTo>
                    <a:pt x="2615" y="13"/>
                  </a:lnTo>
                  <a:lnTo>
                    <a:pt x="2567" y="14"/>
                  </a:lnTo>
                  <a:lnTo>
                    <a:pt x="2520" y="14"/>
                  </a:lnTo>
                  <a:lnTo>
                    <a:pt x="2472" y="14"/>
                  </a:lnTo>
                  <a:lnTo>
                    <a:pt x="2425" y="16"/>
                  </a:lnTo>
                  <a:lnTo>
                    <a:pt x="2377" y="17"/>
                  </a:lnTo>
                  <a:lnTo>
                    <a:pt x="2330" y="18"/>
                  </a:lnTo>
                  <a:lnTo>
                    <a:pt x="2283" y="19"/>
                  </a:lnTo>
                  <a:lnTo>
                    <a:pt x="2235" y="20"/>
                  </a:lnTo>
                  <a:lnTo>
                    <a:pt x="2188" y="21"/>
                  </a:lnTo>
                  <a:lnTo>
                    <a:pt x="2140" y="21"/>
                  </a:lnTo>
                  <a:lnTo>
                    <a:pt x="2093" y="23"/>
                  </a:lnTo>
                  <a:lnTo>
                    <a:pt x="2045" y="24"/>
                  </a:lnTo>
                  <a:lnTo>
                    <a:pt x="1997" y="24"/>
                  </a:lnTo>
                  <a:lnTo>
                    <a:pt x="1950" y="27"/>
                  </a:lnTo>
                  <a:lnTo>
                    <a:pt x="1902" y="28"/>
                  </a:lnTo>
                  <a:lnTo>
                    <a:pt x="1855" y="29"/>
                  </a:lnTo>
                  <a:lnTo>
                    <a:pt x="1807" y="30"/>
                  </a:lnTo>
                  <a:lnTo>
                    <a:pt x="1760" y="32"/>
                  </a:lnTo>
                  <a:lnTo>
                    <a:pt x="1712" y="33"/>
                  </a:lnTo>
                  <a:lnTo>
                    <a:pt x="1665" y="36"/>
                  </a:lnTo>
                  <a:lnTo>
                    <a:pt x="1617" y="38"/>
                  </a:lnTo>
                  <a:lnTo>
                    <a:pt x="1569" y="40"/>
                  </a:lnTo>
                  <a:lnTo>
                    <a:pt x="1522" y="41"/>
                  </a:lnTo>
                  <a:lnTo>
                    <a:pt x="1474" y="45"/>
                  </a:lnTo>
                  <a:lnTo>
                    <a:pt x="1427" y="45"/>
                  </a:lnTo>
                  <a:lnTo>
                    <a:pt x="1379" y="50"/>
                  </a:lnTo>
                  <a:lnTo>
                    <a:pt x="1332" y="50"/>
                  </a:lnTo>
                  <a:lnTo>
                    <a:pt x="1284" y="56"/>
                  </a:lnTo>
                  <a:lnTo>
                    <a:pt x="1236" y="56"/>
                  </a:lnTo>
                  <a:lnTo>
                    <a:pt x="1189" y="60"/>
                  </a:lnTo>
                  <a:lnTo>
                    <a:pt x="1141" y="60"/>
                  </a:lnTo>
                  <a:lnTo>
                    <a:pt x="1094" y="66"/>
                  </a:lnTo>
                  <a:lnTo>
                    <a:pt x="1046" y="68"/>
                  </a:lnTo>
                  <a:lnTo>
                    <a:pt x="999" y="72"/>
                  </a:lnTo>
                  <a:lnTo>
                    <a:pt x="951" y="72"/>
                  </a:lnTo>
                  <a:lnTo>
                    <a:pt x="904" y="80"/>
                  </a:lnTo>
                  <a:lnTo>
                    <a:pt x="856" y="80"/>
                  </a:lnTo>
                  <a:lnTo>
                    <a:pt x="808" y="87"/>
                  </a:lnTo>
                  <a:lnTo>
                    <a:pt x="761" y="87"/>
                  </a:lnTo>
                  <a:lnTo>
                    <a:pt x="713" y="95"/>
                  </a:lnTo>
                  <a:lnTo>
                    <a:pt x="666" y="96"/>
                  </a:lnTo>
                  <a:lnTo>
                    <a:pt x="618" y="104"/>
                  </a:lnTo>
                  <a:lnTo>
                    <a:pt x="571" y="104"/>
                  </a:lnTo>
                  <a:lnTo>
                    <a:pt x="523" y="115"/>
                  </a:lnTo>
                  <a:lnTo>
                    <a:pt x="475" y="115"/>
                  </a:lnTo>
                  <a:lnTo>
                    <a:pt x="428" y="123"/>
                  </a:lnTo>
                  <a:lnTo>
                    <a:pt x="380" y="123"/>
                  </a:lnTo>
                  <a:lnTo>
                    <a:pt x="333" y="133"/>
                  </a:lnTo>
                  <a:lnTo>
                    <a:pt x="285" y="134"/>
                  </a:lnTo>
                  <a:lnTo>
                    <a:pt x="238" y="143"/>
                  </a:lnTo>
                  <a:lnTo>
                    <a:pt x="190" y="143"/>
                  </a:lnTo>
                  <a:lnTo>
                    <a:pt x="143" y="267"/>
                  </a:lnTo>
                  <a:lnTo>
                    <a:pt x="95" y="308"/>
                  </a:lnTo>
                  <a:lnTo>
                    <a:pt x="47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328760" y="776160"/>
              <a:ext cx="7472520" cy="4681800"/>
            </a:xfrm>
            <a:custGeom>
              <a:avLst/>
              <a:gdLst/>
              <a:ahLst/>
              <a:rect l="l" t="t" r="r" b="b"/>
              <a:pathLst>
                <a:path w="4707" h="2949">
                  <a:moveTo>
                    <a:pt x="0" y="2949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5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8" y="0"/>
                  </a:lnTo>
                  <a:lnTo>
                    <a:pt x="475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18" y="0"/>
                  </a:lnTo>
                  <a:lnTo>
                    <a:pt x="666" y="0"/>
                  </a:lnTo>
                  <a:lnTo>
                    <a:pt x="713" y="0"/>
                  </a:lnTo>
                  <a:lnTo>
                    <a:pt x="761" y="0"/>
                  </a:lnTo>
                  <a:lnTo>
                    <a:pt x="808" y="0"/>
                  </a:lnTo>
                  <a:lnTo>
                    <a:pt x="856" y="0"/>
                  </a:lnTo>
                  <a:lnTo>
                    <a:pt x="904" y="0"/>
                  </a:lnTo>
                  <a:lnTo>
                    <a:pt x="951" y="0"/>
                  </a:lnTo>
                  <a:lnTo>
                    <a:pt x="999" y="0"/>
                  </a:lnTo>
                  <a:lnTo>
                    <a:pt x="1046" y="0"/>
                  </a:lnTo>
                  <a:lnTo>
                    <a:pt x="1094" y="0"/>
                  </a:lnTo>
                  <a:lnTo>
                    <a:pt x="1141" y="0"/>
                  </a:lnTo>
                  <a:lnTo>
                    <a:pt x="1189" y="0"/>
                  </a:lnTo>
                  <a:lnTo>
                    <a:pt x="1236" y="0"/>
                  </a:lnTo>
                  <a:lnTo>
                    <a:pt x="1284" y="0"/>
                  </a:lnTo>
                  <a:lnTo>
                    <a:pt x="1332" y="0"/>
                  </a:lnTo>
                  <a:lnTo>
                    <a:pt x="1379" y="0"/>
                  </a:lnTo>
                  <a:lnTo>
                    <a:pt x="1427" y="0"/>
                  </a:lnTo>
                  <a:lnTo>
                    <a:pt x="1474" y="0"/>
                  </a:lnTo>
                  <a:lnTo>
                    <a:pt x="1522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65" y="0"/>
                  </a:lnTo>
                  <a:lnTo>
                    <a:pt x="1712" y="0"/>
                  </a:lnTo>
                  <a:lnTo>
                    <a:pt x="1760" y="0"/>
                  </a:lnTo>
                  <a:lnTo>
                    <a:pt x="1807" y="0"/>
                  </a:lnTo>
                  <a:lnTo>
                    <a:pt x="1855" y="0"/>
                  </a:lnTo>
                  <a:lnTo>
                    <a:pt x="1902" y="0"/>
                  </a:lnTo>
                  <a:lnTo>
                    <a:pt x="1950" y="0"/>
                  </a:lnTo>
                  <a:lnTo>
                    <a:pt x="1997" y="0"/>
                  </a:lnTo>
                  <a:lnTo>
                    <a:pt x="2045" y="0"/>
                  </a:lnTo>
                  <a:lnTo>
                    <a:pt x="2093" y="0"/>
                  </a:lnTo>
                  <a:lnTo>
                    <a:pt x="2140" y="0"/>
                  </a:lnTo>
                  <a:lnTo>
                    <a:pt x="2188" y="0"/>
                  </a:lnTo>
                  <a:lnTo>
                    <a:pt x="2235" y="0"/>
                  </a:lnTo>
                  <a:lnTo>
                    <a:pt x="2283" y="0"/>
                  </a:lnTo>
                  <a:lnTo>
                    <a:pt x="2330" y="0"/>
                  </a:lnTo>
                  <a:lnTo>
                    <a:pt x="2377" y="0"/>
                  </a:lnTo>
                  <a:lnTo>
                    <a:pt x="2425" y="0"/>
                  </a:lnTo>
                  <a:lnTo>
                    <a:pt x="2472" y="0"/>
                  </a:lnTo>
                  <a:lnTo>
                    <a:pt x="2520" y="0"/>
                  </a:lnTo>
                  <a:lnTo>
                    <a:pt x="2567" y="0"/>
                  </a:lnTo>
                  <a:lnTo>
                    <a:pt x="2615" y="0"/>
                  </a:lnTo>
                  <a:lnTo>
                    <a:pt x="2662" y="0"/>
                  </a:lnTo>
                  <a:lnTo>
                    <a:pt x="2710" y="0"/>
                  </a:lnTo>
                  <a:lnTo>
                    <a:pt x="2757" y="0"/>
                  </a:lnTo>
                  <a:lnTo>
                    <a:pt x="2805" y="0"/>
                  </a:lnTo>
                  <a:lnTo>
                    <a:pt x="2853" y="0"/>
                  </a:lnTo>
                  <a:lnTo>
                    <a:pt x="2900" y="0"/>
                  </a:lnTo>
                  <a:lnTo>
                    <a:pt x="2948" y="0"/>
                  </a:lnTo>
                  <a:lnTo>
                    <a:pt x="2995" y="0"/>
                  </a:lnTo>
                  <a:lnTo>
                    <a:pt x="3043" y="0"/>
                  </a:lnTo>
                  <a:lnTo>
                    <a:pt x="3090" y="0"/>
                  </a:lnTo>
                  <a:lnTo>
                    <a:pt x="3138" y="0"/>
                  </a:lnTo>
                  <a:lnTo>
                    <a:pt x="3185" y="0"/>
                  </a:lnTo>
                  <a:lnTo>
                    <a:pt x="3233" y="0"/>
                  </a:lnTo>
                  <a:lnTo>
                    <a:pt x="3281" y="0"/>
                  </a:lnTo>
                  <a:lnTo>
                    <a:pt x="3328" y="0"/>
                  </a:lnTo>
                  <a:lnTo>
                    <a:pt x="3376" y="0"/>
                  </a:lnTo>
                  <a:lnTo>
                    <a:pt x="3423" y="0"/>
                  </a:lnTo>
                  <a:lnTo>
                    <a:pt x="3471" y="0"/>
                  </a:lnTo>
                  <a:lnTo>
                    <a:pt x="3518" y="0"/>
                  </a:lnTo>
                  <a:lnTo>
                    <a:pt x="3566" y="0"/>
                  </a:lnTo>
                  <a:lnTo>
                    <a:pt x="3614" y="0"/>
                  </a:lnTo>
                  <a:lnTo>
                    <a:pt x="3661" y="0"/>
                  </a:lnTo>
                  <a:lnTo>
                    <a:pt x="3709" y="0"/>
                  </a:lnTo>
                  <a:lnTo>
                    <a:pt x="3756" y="0"/>
                  </a:lnTo>
                  <a:lnTo>
                    <a:pt x="3804" y="0"/>
                  </a:lnTo>
                  <a:lnTo>
                    <a:pt x="3851" y="0"/>
                  </a:lnTo>
                  <a:lnTo>
                    <a:pt x="3899" y="0"/>
                  </a:lnTo>
                  <a:lnTo>
                    <a:pt x="3946" y="0"/>
                  </a:lnTo>
                  <a:lnTo>
                    <a:pt x="3994" y="0"/>
                  </a:lnTo>
                  <a:lnTo>
                    <a:pt x="4042" y="0"/>
                  </a:lnTo>
                  <a:lnTo>
                    <a:pt x="4089" y="0"/>
                  </a:lnTo>
                  <a:lnTo>
                    <a:pt x="4137" y="0"/>
                  </a:lnTo>
                  <a:lnTo>
                    <a:pt x="4184" y="0"/>
                  </a:lnTo>
                  <a:lnTo>
                    <a:pt x="4232" y="0"/>
                  </a:lnTo>
                  <a:lnTo>
                    <a:pt x="4279" y="0"/>
                  </a:lnTo>
                  <a:lnTo>
                    <a:pt x="4327" y="0"/>
                  </a:lnTo>
                  <a:lnTo>
                    <a:pt x="4375" y="0"/>
                  </a:lnTo>
                  <a:lnTo>
                    <a:pt x="4422" y="0"/>
                  </a:lnTo>
                  <a:lnTo>
                    <a:pt x="4470" y="0"/>
                  </a:lnTo>
                  <a:lnTo>
                    <a:pt x="4517" y="0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2484"/>
                  </a:lnTo>
                  <a:lnTo>
                    <a:pt x="4660" y="2484"/>
                  </a:lnTo>
                  <a:lnTo>
                    <a:pt x="4612" y="2484"/>
                  </a:lnTo>
                  <a:lnTo>
                    <a:pt x="4565" y="2484"/>
                  </a:lnTo>
                  <a:lnTo>
                    <a:pt x="4517" y="2485"/>
                  </a:lnTo>
                  <a:lnTo>
                    <a:pt x="4470" y="2485"/>
                  </a:lnTo>
                  <a:lnTo>
                    <a:pt x="4422" y="2485"/>
                  </a:lnTo>
                  <a:lnTo>
                    <a:pt x="4375" y="2485"/>
                  </a:lnTo>
                  <a:lnTo>
                    <a:pt x="4327" y="2485"/>
                  </a:lnTo>
                  <a:lnTo>
                    <a:pt x="4279" y="2486"/>
                  </a:lnTo>
                  <a:lnTo>
                    <a:pt x="4232" y="2486"/>
                  </a:lnTo>
                  <a:lnTo>
                    <a:pt x="4184" y="2486"/>
                  </a:lnTo>
                  <a:lnTo>
                    <a:pt x="4137" y="2486"/>
                  </a:lnTo>
                  <a:lnTo>
                    <a:pt x="4089" y="2486"/>
                  </a:lnTo>
                  <a:lnTo>
                    <a:pt x="4042" y="2487"/>
                  </a:lnTo>
                  <a:lnTo>
                    <a:pt x="3994" y="2487"/>
                  </a:lnTo>
                  <a:lnTo>
                    <a:pt x="3946" y="2487"/>
                  </a:lnTo>
                  <a:lnTo>
                    <a:pt x="3899" y="2487"/>
                  </a:lnTo>
                  <a:lnTo>
                    <a:pt x="3851" y="2488"/>
                  </a:lnTo>
                  <a:lnTo>
                    <a:pt x="3804" y="2488"/>
                  </a:lnTo>
                  <a:lnTo>
                    <a:pt x="3756" y="2488"/>
                  </a:lnTo>
                  <a:lnTo>
                    <a:pt x="3709" y="2488"/>
                  </a:lnTo>
                  <a:lnTo>
                    <a:pt x="3661" y="2489"/>
                  </a:lnTo>
                  <a:lnTo>
                    <a:pt x="3614" y="2489"/>
                  </a:lnTo>
                  <a:lnTo>
                    <a:pt x="3566" y="2490"/>
                  </a:lnTo>
                  <a:lnTo>
                    <a:pt x="3518" y="2491"/>
                  </a:lnTo>
                  <a:lnTo>
                    <a:pt x="3471" y="2491"/>
                  </a:lnTo>
                  <a:lnTo>
                    <a:pt x="3423" y="2491"/>
                  </a:lnTo>
                  <a:lnTo>
                    <a:pt x="3376" y="2491"/>
                  </a:lnTo>
                  <a:lnTo>
                    <a:pt x="3328" y="2491"/>
                  </a:lnTo>
                  <a:lnTo>
                    <a:pt x="3281" y="2491"/>
                  </a:lnTo>
                  <a:lnTo>
                    <a:pt x="3233" y="2491"/>
                  </a:lnTo>
                  <a:lnTo>
                    <a:pt x="3185" y="2491"/>
                  </a:lnTo>
                  <a:lnTo>
                    <a:pt x="3138" y="2492"/>
                  </a:lnTo>
                  <a:lnTo>
                    <a:pt x="3090" y="2492"/>
                  </a:lnTo>
                  <a:lnTo>
                    <a:pt x="3043" y="2492"/>
                  </a:lnTo>
                  <a:lnTo>
                    <a:pt x="2995" y="2493"/>
                  </a:lnTo>
                  <a:lnTo>
                    <a:pt x="2948" y="2493"/>
                  </a:lnTo>
                  <a:lnTo>
                    <a:pt x="2900" y="2493"/>
                  </a:lnTo>
                  <a:lnTo>
                    <a:pt x="2853" y="2494"/>
                  </a:lnTo>
                  <a:lnTo>
                    <a:pt x="2805" y="2494"/>
                  </a:lnTo>
                  <a:lnTo>
                    <a:pt x="2757" y="2494"/>
                  </a:lnTo>
                  <a:lnTo>
                    <a:pt x="2710" y="2495"/>
                  </a:lnTo>
                  <a:lnTo>
                    <a:pt x="2662" y="2496"/>
                  </a:lnTo>
                  <a:lnTo>
                    <a:pt x="2615" y="2497"/>
                  </a:lnTo>
                  <a:lnTo>
                    <a:pt x="2567" y="2498"/>
                  </a:lnTo>
                  <a:lnTo>
                    <a:pt x="2520" y="2498"/>
                  </a:lnTo>
                  <a:lnTo>
                    <a:pt x="2472" y="2498"/>
                  </a:lnTo>
                  <a:lnTo>
                    <a:pt x="2425" y="2500"/>
                  </a:lnTo>
                  <a:lnTo>
                    <a:pt x="2377" y="2501"/>
                  </a:lnTo>
                  <a:lnTo>
                    <a:pt x="2330" y="2502"/>
                  </a:lnTo>
                  <a:lnTo>
                    <a:pt x="2283" y="2503"/>
                  </a:lnTo>
                  <a:lnTo>
                    <a:pt x="2235" y="2504"/>
                  </a:lnTo>
                  <a:lnTo>
                    <a:pt x="2188" y="2505"/>
                  </a:lnTo>
                  <a:lnTo>
                    <a:pt x="2140" y="2505"/>
                  </a:lnTo>
                  <a:lnTo>
                    <a:pt x="2093" y="2507"/>
                  </a:lnTo>
                  <a:lnTo>
                    <a:pt x="2045" y="2508"/>
                  </a:lnTo>
                  <a:lnTo>
                    <a:pt x="1997" y="2508"/>
                  </a:lnTo>
                  <a:lnTo>
                    <a:pt x="1950" y="2511"/>
                  </a:lnTo>
                  <a:lnTo>
                    <a:pt x="1902" y="2512"/>
                  </a:lnTo>
                  <a:lnTo>
                    <a:pt x="1855" y="2513"/>
                  </a:lnTo>
                  <a:lnTo>
                    <a:pt x="1807" y="2514"/>
                  </a:lnTo>
                  <a:lnTo>
                    <a:pt x="1760" y="2516"/>
                  </a:lnTo>
                  <a:lnTo>
                    <a:pt x="1712" y="2517"/>
                  </a:lnTo>
                  <a:lnTo>
                    <a:pt x="1665" y="2520"/>
                  </a:lnTo>
                  <a:lnTo>
                    <a:pt x="1617" y="2522"/>
                  </a:lnTo>
                  <a:lnTo>
                    <a:pt x="1569" y="2524"/>
                  </a:lnTo>
                  <a:lnTo>
                    <a:pt x="1522" y="2525"/>
                  </a:lnTo>
                  <a:lnTo>
                    <a:pt x="1474" y="2529"/>
                  </a:lnTo>
                  <a:lnTo>
                    <a:pt x="1427" y="2529"/>
                  </a:lnTo>
                  <a:lnTo>
                    <a:pt x="1379" y="2534"/>
                  </a:lnTo>
                  <a:lnTo>
                    <a:pt x="1332" y="2534"/>
                  </a:lnTo>
                  <a:lnTo>
                    <a:pt x="1284" y="2540"/>
                  </a:lnTo>
                  <a:lnTo>
                    <a:pt x="1236" y="2540"/>
                  </a:lnTo>
                  <a:lnTo>
                    <a:pt x="1189" y="2544"/>
                  </a:lnTo>
                  <a:lnTo>
                    <a:pt x="1141" y="2544"/>
                  </a:lnTo>
                  <a:lnTo>
                    <a:pt x="1094" y="2550"/>
                  </a:lnTo>
                  <a:lnTo>
                    <a:pt x="1046" y="2552"/>
                  </a:lnTo>
                  <a:lnTo>
                    <a:pt x="999" y="2556"/>
                  </a:lnTo>
                  <a:lnTo>
                    <a:pt x="951" y="2556"/>
                  </a:lnTo>
                  <a:lnTo>
                    <a:pt x="904" y="2564"/>
                  </a:lnTo>
                  <a:lnTo>
                    <a:pt x="856" y="2564"/>
                  </a:lnTo>
                  <a:lnTo>
                    <a:pt x="808" y="2571"/>
                  </a:lnTo>
                  <a:lnTo>
                    <a:pt x="761" y="2571"/>
                  </a:lnTo>
                  <a:lnTo>
                    <a:pt x="713" y="2579"/>
                  </a:lnTo>
                  <a:lnTo>
                    <a:pt x="666" y="2580"/>
                  </a:lnTo>
                  <a:lnTo>
                    <a:pt x="618" y="2588"/>
                  </a:lnTo>
                  <a:lnTo>
                    <a:pt x="571" y="2588"/>
                  </a:lnTo>
                  <a:lnTo>
                    <a:pt x="523" y="2599"/>
                  </a:lnTo>
                  <a:lnTo>
                    <a:pt x="475" y="2599"/>
                  </a:lnTo>
                  <a:lnTo>
                    <a:pt x="428" y="2607"/>
                  </a:lnTo>
                  <a:lnTo>
                    <a:pt x="380" y="2607"/>
                  </a:lnTo>
                  <a:lnTo>
                    <a:pt x="333" y="2617"/>
                  </a:lnTo>
                  <a:lnTo>
                    <a:pt x="285" y="2618"/>
                  </a:lnTo>
                  <a:lnTo>
                    <a:pt x="238" y="2627"/>
                  </a:lnTo>
                  <a:lnTo>
                    <a:pt x="190" y="2627"/>
                  </a:lnTo>
                  <a:lnTo>
                    <a:pt x="143" y="2751"/>
                  </a:lnTo>
                  <a:lnTo>
                    <a:pt x="95" y="2792"/>
                  </a:lnTo>
                  <a:lnTo>
                    <a:pt x="47" y="2949"/>
                  </a:lnTo>
                  <a:lnTo>
                    <a:pt x="0" y="294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465"/>
                  </a:lnTo>
                  <a:lnTo>
                    <a:pt x="4660" y="465"/>
                  </a:lnTo>
                  <a:lnTo>
                    <a:pt x="4612" y="465"/>
                  </a:lnTo>
                  <a:lnTo>
                    <a:pt x="4565" y="465"/>
                  </a:lnTo>
                  <a:lnTo>
                    <a:pt x="4517" y="465"/>
                  </a:lnTo>
                  <a:lnTo>
                    <a:pt x="4470" y="465"/>
                  </a:lnTo>
                  <a:lnTo>
                    <a:pt x="4422" y="465"/>
                  </a:lnTo>
                  <a:lnTo>
                    <a:pt x="4375" y="465"/>
                  </a:lnTo>
                  <a:lnTo>
                    <a:pt x="4327" y="465"/>
                  </a:lnTo>
                  <a:lnTo>
                    <a:pt x="4279" y="465"/>
                  </a:lnTo>
                  <a:lnTo>
                    <a:pt x="4232" y="465"/>
                  </a:lnTo>
                  <a:lnTo>
                    <a:pt x="4184" y="465"/>
                  </a:lnTo>
                  <a:lnTo>
                    <a:pt x="4137" y="465"/>
                  </a:lnTo>
                  <a:lnTo>
                    <a:pt x="4089" y="465"/>
                  </a:lnTo>
                  <a:lnTo>
                    <a:pt x="4042" y="465"/>
                  </a:lnTo>
                  <a:lnTo>
                    <a:pt x="3994" y="465"/>
                  </a:lnTo>
                  <a:lnTo>
                    <a:pt x="3946" y="465"/>
                  </a:lnTo>
                  <a:lnTo>
                    <a:pt x="3899" y="465"/>
                  </a:lnTo>
                  <a:lnTo>
                    <a:pt x="3851" y="465"/>
                  </a:lnTo>
                  <a:lnTo>
                    <a:pt x="3804" y="465"/>
                  </a:lnTo>
                  <a:lnTo>
                    <a:pt x="3756" y="465"/>
                  </a:lnTo>
                  <a:lnTo>
                    <a:pt x="3709" y="465"/>
                  </a:lnTo>
                  <a:lnTo>
                    <a:pt x="3661" y="465"/>
                  </a:lnTo>
                  <a:lnTo>
                    <a:pt x="3614" y="465"/>
                  </a:lnTo>
                  <a:lnTo>
                    <a:pt x="3566" y="465"/>
                  </a:lnTo>
                  <a:lnTo>
                    <a:pt x="3518" y="465"/>
                  </a:lnTo>
                  <a:lnTo>
                    <a:pt x="3471" y="465"/>
                  </a:lnTo>
                  <a:lnTo>
                    <a:pt x="3423" y="465"/>
                  </a:lnTo>
                  <a:lnTo>
                    <a:pt x="3376" y="465"/>
                  </a:lnTo>
                  <a:lnTo>
                    <a:pt x="3328" y="465"/>
                  </a:lnTo>
                  <a:lnTo>
                    <a:pt x="3281" y="465"/>
                  </a:lnTo>
                  <a:lnTo>
                    <a:pt x="3233" y="465"/>
                  </a:lnTo>
                  <a:lnTo>
                    <a:pt x="3185" y="465"/>
                  </a:lnTo>
                  <a:lnTo>
                    <a:pt x="3138" y="465"/>
                  </a:lnTo>
                  <a:lnTo>
                    <a:pt x="3090" y="465"/>
                  </a:lnTo>
                  <a:lnTo>
                    <a:pt x="3043" y="465"/>
                  </a:lnTo>
                  <a:lnTo>
                    <a:pt x="2995" y="465"/>
                  </a:lnTo>
                  <a:lnTo>
                    <a:pt x="2948" y="465"/>
                  </a:lnTo>
                  <a:lnTo>
                    <a:pt x="2900" y="465"/>
                  </a:lnTo>
                  <a:lnTo>
                    <a:pt x="2853" y="465"/>
                  </a:lnTo>
                  <a:lnTo>
                    <a:pt x="2805" y="465"/>
                  </a:lnTo>
                  <a:lnTo>
                    <a:pt x="2757" y="465"/>
                  </a:lnTo>
                  <a:lnTo>
                    <a:pt x="2710" y="465"/>
                  </a:lnTo>
                  <a:lnTo>
                    <a:pt x="2662" y="465"/>
                  </a:lnTo>
                  <a:lnTo>
                    <a:pt x="2615" y="465"/>
                  </a:lnTo>
                  <a:lnTo>
                    <a:pt x="2567" y="465"/>
                  </a:lnTo>
                  <a:lnTo>
                    <a:pt x="2520" y="465"/>
                  </a:lnTo>
                  <a:lnTo>
                    <a:pt x="2472" y="465"/>
                  </a:lnTo>
                  <a:lnTo>
                    <a:pt x="2425" y="465"/>
                  </a:lnTo>
                  <a:lnTo>
                    <a:pt x="2377" y="465"/>
                  </a:lnTo>
                  <a:lnTo>
                    <a:pt x="2330" y="465"/>
                  </a:lnTo>
                  <a:lnTo>
                    <a:pt x="2283" y="465"/>
                  </a:lnTo>
                  <a:lnTo>
                    <a:pt x="2235" y="465"/>
                  </a:lnTo>
                  <a:lnTo>
                    <a:pt x="2188" y="465"/>
                  </a:lnTo>
                  <a:lnTo>
                    <a:pt x="2140" y="465"/>
                  </a:lnTo>
                  <a:lnTo>
                    <a:pt x="2093" y="465"/>
                  </a:lnTo>
                  <a:lnTo>
                    <a:pt x="2045" y="465"/>
                  </a:lnTo>
                  <a:lnTo>
                    <a:pt x="1997" y="465"/>
                  </a:lnTo>
                  <a:lnTo>
                    <a:pt x="1950" y="465"/>
                  </a:lnTo>
                  <a:lnTo>
                    <a:pt x="1902" y="465"/>
                  </a:lnTo>
                  <a:lnTo>
                    <a:pt x="1855" y="465"/>
                  </a:lnTo>
                  <a:lnTo>
                    <a:pt x="1807" y="465"/>
                  </a:lnTo>
                  <a:lnTo>
                    <a:pt x="1760" y="465"/>
                  </a:lnTo>
                  <a:lnTo>
                    <a:pt x="1712" y="465"/>
                  </a:lnTo>
                  <a:lnTo>
                    <a:pt x="1665" y="465"/>
                  </a:lnTo>
                  <a:lnTo>
                    <a:pt x="1617" y="465"/>
                  </a:lnTo>
                  <a:lnTo>
                    <a:pt x="1569" y="465"/>
                  </a:lnTo>
                  <a:lnTo>
                    <a:pt x="1522" y="465"/>
                  </a:lnTo>
                  <a:lnTo>
                    <a:pt x="1474" y="465"/>
                  </a:lnTo>
                  <a:lnTo>
                    <a:pt x="1427" y="465"/>
                  </a:lnTo>
                  <a:lnTo>
                    <a:pt x="1379" y="465"/>
                  </a:lnTo>
                  <a:lnTo>
                    <a:pt x="1332" y="465"/>
                  </a:lnTo>
                  <a:lnTo>
                    <a:pt x="1284" y="465"/>
                  </a:lnTo>
                  <a:lnTo>
                    <a:pt x="1236" y="465"/>
                  </a:lnTo>
                  <a:lnTo>
                    <a:pt x="1189" y="465"/>
                  </a:lnTo>
                  <a:lnTo>
                    <a:pt x="1141" y="465"/>
                  </a:lnTo>
                  <a:lnTo>
                    <a:pt x="1094" y="465"/>
                  </a:lnTo>
                  <a:lnTo>
                    <a:pt x="1046" y="465"/>
                  </a:lnTo>
                  <a:lnTo>
                    <a:pt x="999" y="465"/>
                  </a:lnTo>
                  <a:lnTo>
                    <a:pt x="951" y="465"/>
                  </a:lnTo>
                  <a:lnTo>
                    <a:pt x="904" y="465"/>
                  </a:lnTo>
                  <a:lnTo>
                    <a:pt x="856" y="465"/>
                  </a:lnTo>
                  <a:lnTo>
                    <a:pt x="808" y="465"/>
                  </a:lnTo>
                  <a:lnTo>
                    <a:pt x="761" y="465"/>
                  </a:lnTo>
                  <a:lnTo>
                    <a:pt x="713" y="465"/>
                  </a:lnTo>
                  <a:lnTo>
                    <a:pt x="666" y="465"/>
                  </a:lnTo>
                  <a:lnTo>
                    <a:pt x="618" y="465"/>
                  </a:lnTo>
                  <a:lnTo>
                    <a:pt x="571" y="465"/>
                  </a:lnTo>
                  <a:lnTo>
                    <a:pt x="523" y="465"/>
                  </a:lnTo>
                  <a:lnTo>
                    <a:pt x="475" y="465"/>
                  </a:lnTo>
                  <a:lnTo>
                    <a:pt x="428" y="465"/>
                  </a:lnTo>
                  <a:lnTo>
                    <a:pt x="380" y="465"/>
                  </a:lnTo>
                  <a:lnTo>
                    <a:pt x="333" y="465"/>
                  </a:lnTo>
                  <a:lnTo>
                    <a:pt x="285" y="465"/>
                  </a:lnTo>
                  <a:lnTo>
                    <a:pt x="238" y="465"/>
                  </a:lnTo>
                  <a:lnTo>
                    <a:pt x="190" y="465"/>
                  </a:lnTo>
                  <a:lnTo>
                    <a:pt x="143" y="465"/>
                  </a:lnTo>
                  <a:lnTo>
                    <a:pt x="95" y="465"/>
                  </a:lnTo>
                  <a:lnTo>
                    <a:pt x="47" y="465"/>
                  </a:lnTo>
                  <a:lnTo>
                    <a:pt x="0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0"/>
                  </a:lnTo>
                  <a:lnTo>
                    <a:pt x="4660" y="0"/>
                  </a:lnTo>
                  <a:lnTo>
                    <a:pt x="4612" y="0"/>
                  </a:lnTo>
                  <a:lnTo>
                    <a:pt x="4565" y="0"/>
                  </a:lnTo>
                  <a:lnTo>
                    <a:pt x="4517" y="1"/>
                  </a:lnTo>
                  <a:lnTo>
                    <a:pt x="4470" y="1"/>
                  </a:lnTo>
                  <a:lnTo>
                    <a:pt x="4422" y="1"/>
                  </a:lnTo>
                  <a:lnTo>
                    <a:pt x="4375" y="1"/>
                  </a:lnTo>
                  <a:lnTo>
                    <a:pt x="4327" y="1"/>
                  </a:lnTo>
                  <a:lnTo>
                    <a:pt x="4279" y="2"/>
                  </a:lnTo>
                  <a:lnTo>
                    <a:pt x="4232" y="2"/>
                  </a:lnTo>
                  <a:lnTo>
                    <a:pt x="4184" y="2"/>
                  </a:lnTo>
                  <a:lnTo>
                    <a:pt x="4137" y="2"/>
                  </a:lnTo>
                  <a:lnTo>
                    <a:pt x="4089" y="2"/>
                  </a:lnTo>
                  <a:lnTo>
                    <a:pt x="4042" y="3"/>
                  </a:lnTo>
                  <a:lnTo>
                    <a:pt x="3994" y="3"/>
                  </a:lnTo>
                  <a:lnTo>
                    <a:pt x="3946" y="3"/>
                  </a:lnTo>
                  <a:lnTo>
                    <a:pt x="3899" y="3"/>
                  </a:lnTo>
                  <a:lnTo>
                    <a:pt x="3851" y="4"/>
                  </a:lnTo>
                  <a:lnTo>
                    <a:pt x="3804" y="4"/>
                  </a:lnTo>
                  <a:lnTo>
                    <a:pt x="3756" y="4"/>
                  </a:lnTo>
                  <a:lnTo>
                    <a:pt x="3709" y="4"/>
                  </a:lnTo>
                  <a:lnTo>
                    <a:pt x="3661" y="5"/>
                  </a:lnTo>
                  <a:lnTo>
                    <a:pt x="3614" y="5"/>
                  </a:lnTo>
                  <a:lnTo>
                    <a:pt x="3566" y="6"/>
                  </a:lnTo>
                  <a:lnTo>
                    <a:pt x="3518" y="7"/>
                  </a:lnTo>
                  <a:lnTo>
                    <a:pt x="3471" y="7"/>
                  </a:lnTo>
                  <a:lnTo>
                    <a:pt x="3423" y="7"/>
                  </a:lnTo>
                  <a:lnTo>
                    <a:pt x="3376" y="7"/>
                  </a:lnTo>
                  <a:lnTo>
                    <a:pt x="3328" y="7"/>
                  </a:lnTo>
                  <a:lnTo>
                    <a:pt x="3281" y="7"/>
                  </a:lnTo>
                  <a:lnTo>
                    <a:pt x="3233" y="7"/>
                  </a:lnTo>
                  <a:lnTo>
                    <a:pt x="3185" y="7"/>
                  </a:lnTo>
                  <a:lnTo>
                    <a:pt x="3138" y="8"/>
                  </a:lnTo>
                  <a:lnTo>
                    <a:pt x="3090" y="8"/>
                  </a:lnTo>
                  <a:lnTo>
                    <a:pt x="3043" y="8"/>
                  </a:lnTo>
                  <a:lnTo>
                    <a:pt x="2995" y="9"/>
                  </a:lnTo>
                  <a:lnTo>
                    <a:pt x="2948" y="9"/>
                  </a:lnTo>
                  <a:lnTo>
                    <a:pt x="2900" y="9"/>
                  </a:lnTo>
                  <a:lnTo>
                    <a:pt x="2853" y="10"/>
                  </a:lnTo>
                  <a:lnTo>
                    <a:pt x="2805" y="10"/>
                  </a:lnTo>
                  <a:lnTo>
                    <a:pt x="2757" y="10"/>
                  </a:lnTo>
                  <a:lnTo>
                    <a:pt x="2710" y="11"/>
                  </a:lnTo>
                  <a:lnTo>
                    <a:pt x="2662" y="12"/>
                  </a:lnTo>
                  <a:lnTo>
                    <a:pt x="2615" y="13"/>
                  </a:lnTo>
                  <a:lnTo>
                    <a:pt x="2567" y="14"/>
                  </a:lnTo>
                  <a:lnTo>
                    <a:pt x="2520" y="14"/>
                  </a:lnTo>
                  <a:lnTo>
                    <a:pt x="2472" y="14"/>
                  </a:lnTo>
                  <a:lnTo>
                    <a:pt x="2425" y="16"/>
                  </a:lnTo>
                  <a:lnTo>
                    <a:pt x="2377" y="17"/>
                  </a:lnTo>
                  <a:lnTo>
                    <a:pt x="2330" y="18"/>
                  </a:lnTo>
                  <a:lnTo>
                    <a:pt x="2283" y="19"/>
                  </a:lnTo>
                  <a:lnTo>
                    <a:pt x="2235" y="20"/>
                  </a:lnTo>
                  <a:lnTo>
                    <a:pt x="2188" y="21"/>
                  </a:lnTo>
                  <a:lnTo>
                    <a:pt x="2140" y="21"/>
                  </a:lnTo>
                  <a:lnTo>
                    <a:pt x="2093" y="23"/>
                  </a:lnTo>
                  <a:lnTo>
                    <a:pt x="2045" y="24"/>
                  </a:lnTo>
                  <a:lnTo>
                    <a:pt x="1997" y="24"/>
                  </a:lnTo>
                  <a:lnTo>
                    <a:pt x="1950" y="27"/>
                  </a:lnTo>
                  <a:lnTo>
                    <a:pt x="1902" y="28"/>
                  </a:lnTo>
                  <a:lnTo>
                    <a:pt x="1855" y="29"/>
                  </a:lnTo>
                  <a:lnTo>
                    <a:pt x="1807" y="30"/>
                  </a:lnTo>
                  <a:lnTo>
                    <a:pt x="1760" y="32"/>
                  </a:lnTo>
                  <a:lnTo>
                    <a:pt x="1712" y="33"/>
                  </a:lnTo>
                  <a:lnTo>
                    <a:pt x="1665" y="36"/>
                  </a:lnTo>
                  <a:lnTo>
                    <a:pt x="1617" y="38"/>
                  </a:lnTo>
                  <a:lnTo>
                    <a:pt x="1569" y="40"/>
                  </a:lnTo>
                  <a:lnTo>
                    <a:pt x="1522" y="41"/>
                  </a:lnTo>
                  <a:lnTo>
                    <a:pt x="1474" y="45"/>
                  </a:lnTo>
                  <a:lnTo>
                    <a:pt x="1427" y="45"/>
                  </a:lnTo>
                  <a:lnTo>
                    <a:pt x="1379" y="50"/>
                  </a:lnTo>
                  <a:lnTo>
                    <a:pt x="1332" y="50"/>
                  </a:lnTo>
                  <a:lnTo>
                    <a:pt x="1284" y="56"/>
                  </a:lnTo>
                  <a:lnTo>
                    <a:pt x="1236" y="56"/>
                  </a:lnTo>
                  <a:lnTo>
                    <a:pt x="1189" y="60"/>
                  </a:lnTo>
                  <a:lnTo>
                    <a:pt x="1141" y="60"/>
                  </a:lnTo>
                  <a:lnTo>
                    <a:pt x="1094" y="66"/>
                  </a:lnTo>
                  <a:lnTo>
                    <a:pt x="1046" y="68"/>
                  </a:lnTo>
                  <a:lnTo>
                    <a:pt x="999" y="72"/>
                  </a:lnTo>
                  <a:lnTo>
                    <a:pt x="951" y="72"/>
                  </a:lnTo>
                  <a:lnTo>
                    <a:pt x="904" y="80"/>
                  </a:lnTo>
                  <a:lnTo>
                    <a:pt x="856" y="80"/>
                  </a:lnTo>
                  <a:lnTo>
                    <a:pt x="808" y="87"/>
                  </a:lnTo>
                  <a:lnTo>
                    <a:pt x="761" y="87"/>
                  </a:lnTo>
                  <a:lnTo>
                    <a:pt x="713" y="95"/>
                  </a:lnTo>
                  <a:lnTo>
                    <a:pt x="666" y="96"/>
                  </a:lnTo>
                  <a:lnTo>
                    <a:pt x="618" y="104"/>
                  </a:lnTo>
                  <a:lnTo>
                    <a:pt x="571" y="104"/>
                  </a:lnTo>
                  <a:lnTo>
                    <a:pt x="523" y="115"/>
                  </a:lnTo>
                  <a:lnTo>
                    <a:pt x="475" y="115"/>
                  </a:lnTo>
                  <a:lnTo>
                    <a:pt x="428" y="123"/>
                  </a:lnTo>
                  <a:lnTo>
                    <a:pt x="380" y="123"/>
                  </a:lnTo>
                  <a:lnTo>
                    <a:pt x="333" y="133"/>
                  </a:lnTo>
                  <a:lnTo>
                    <a:pt x="285" y="134"/>
                  </a:lnTo>
                  <a:lnTo>
                    <a:pt x="238" y="143"/>
                  </a:lnTo>
                  <a:lnTo>
                    <a:pt x="190" y="143"/>
                  </a:lnTo>
                  <a:lnTo>
                    <a:pt x="143" y="267"/>
                  </a:lnTo>
                  <a:lnTo>
                    <a:pt x="95" y="308"/>
                  </a:lnTo>
                  <a:lnTo>
                    <a:pt x="47" y="465"/>
                  </a:lnTo>
                  <a:lnTo>
                    <a:pt x="0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0"/>
                  </a:lnTo>
                  <a:lnTo>
                    <a:pt x="4660" y="0"/>
                  </a:lnTo>
                  <a:lnTo>
                    <a:pt x="4612" y="0"/>
                  </a:lnTo>
                  <a:lnTo>
                    <a:pt x="4565" y="0"/>
                  </a:lnTo>
                  <a:lnTo>
                    <a:pt x="4517" y="1"/>
                  </a:lnTo>
                  <a:lnTo>
                    <a:pt x="4470" y="1"/>
                  </a:lnTo>
                  <a:lnTo>
                    <a:pt x="4422" y="1"/>
                  </a:lnTo>
                  <a:lnTo>
                    <a:pt x="4375" y="1"/>
                  </a:lnTo>
                  <a:lnTo>
                    <a:pt x="4327" y="1"/>
                  </a:lnTo>
                  <a:lnTo>
                    <a:pt x="4279" y="2"/>
                  </a:lnTo>
                  <a:lnTo>
                    <a:pt x="4232" y="2"/>
                  </a:lnTo>
                  <a:lnTo>
                    <a:pt x="4184" y="2"/>
                  </a:lnTo>
                  <a:lnTo>
                    <a:pt x="4137" y="2"/>
                  </a:lnTo>
                  <a:lnTo>
                    <a:pt x="4089" y="2"/>
                  </a:lnTo>
                  <a:lnTo>
                    <a:pt x="4042" y="3"/>
                  </a:lnTo>
                  <a:lnTo>
                    <a:pt x="3994" y="3"/>
                  </a:lnTo>
                  <a:lnTo>
                    <a:pt x="3946" y="3"/>
                  </a:lnTo>
                  <a:lnTo>
                    <a:pt x="3899" y="3"/>
                  </a:lnTo>
                  <a:lnTo>
                    <a:pt x="3851" y="4"/>
                  </a:lnTo>
                  <a:lnTo>
                    <a:pt x="3804" y="4"/>
                  </a:lnTo>
                  <a:lnTo>
                    <a:pt x="3756" y="4"/>
                  </a:lnTo>
                  <a:lnTo>
                    <a:pt x="3709" y="4"/>
                  </a:lnTo>
                  <a:lnTo>
                    <a:pt x="3661" y="5"/>
                  </a:lnTo>
                  <a:lnTo>
                    <a:pt x="3614" y="5"/>
                  </a:lnTo>
                  <a:lnTo>
                    <a:pt x="3566" y="6"/>
                  </a:lnTo>
                  <a:lnTo>
                    <a:pt x="3518" y="7"/>
                  </a:lnTo>
                  <a:lnTo>
                    <a:pt x="3471" y="7"/>
                  </a:lnTo>
                  <a:lnTo>
                    <a:pt x="3423" y="7"/>
                  </a:lnTo>
                  <a:lnTo>
                    <a:pt x="3376" y="7"/>
                  </a:lnTo>
                  <a:lnTo>
                    <a:pt x="3328" y="7"/>
                  </a:lnTo>
                  <a:lnTo>
                    <a:pt x="3281" y="7"/>
                  </a:lnTo>
                  <a:lnTo>
                    <a:pt x="3233" y="7"/>
                  </a:lnTo>
                  <a:lnTo>
                    <a:pt x="3185" y="7"/>
                  </a:lnTo>
                  <a:lnTo>
                    <a:pt x="3138" y="8"/>
                  </a:lnTo>
                  <a:lnTo>
                    <a:pt x="3090" y="8"/>
                  </a:lnTo>
                  <a:lnTo>
                    <a:pt x="3043" y="8"/>
                  </a:lnTo>
                  <a:lnTo>
                    <a:pt x="2995" y="9"/>
                  </a:lnTo>
                  <a:lnTo>
                    <a:pt x="2948" y="9"/>
                  </a:lnTo>
                  <a:lnTo>
                    <a:pt x="2900" y="9"/>
                  </a:lnTo>
                  <a:lnTo>
                    <a:pt x="2853" y="10"/>
                  </a:lnTo>
                  <a:lnTo>
                    <a:pt x="2805" y="10"/>
                  </a:lnTo>
                  <a:lnTo>
                    <a:pt x="2757" y="10"/>
                  </a:lnTo>
                  <a:lnTo>
                    <a:pt x="2710" y="11"/>
                  </a:lnTo>
                  <a:lnTo>
                    <a:pt x="2662" y="12"/>
                  </a:lnTo>
                  <a:lnTo>
                    <a:pt x="2615" y="13"/>
                  </a:lnTo>
                  <a:lnTo>
                    <a:pt x="2567" y="14"/>
                  </a:lnTo>
                  <a:lnTo>
                    <a:pt x="2520" y="14"/>
                  </a:lnTo>
                  <a:lnTo>
                    <a:pt x="2472" y="14"/>
                  </a:lnTo>
                  <a:lnTo>
                    <a:pt x="2425" y="16"/>
                  </a:lnTo>
                  <a:lnTo>
                    <a:pt x="2377" y="17"/>
                  </a:lnTo>
                  <a:lnTo>
                    <a:pt x="2330" y="18"/>
                  </a:lnTo>
                  <a:lnTo>
                    <a:pt x="2283" y="19"/>
                  </a:lnTo>
                  <a:lnTo>
                    <a:pt x="2235" y="20"/>
                  </a:lnTo>
                  <a:lnTo>
                    <a:pt x="2188" y="21"/>
                  </a:lnTo>
                  <a:lnTo>
                    <a:pt x="2140" y="21"/>
                  </a:lnTo>
                  <a:lnTo>
                    <a:pt x="2093" y="23"/>
                  </a:lnTo>
                  <a:lnTo>
                    <a:pt x="2045" y="24"/>
                  </a:lnTo>
                  <a:lnTo>
                    <a:pt x="1997" y="24"/>
                  </a:lnTo>
                  <a:lnTo>
                    <a:pt x="1950" y="27"/>
                  </a:lnTo>
                  <a:lnTo>
                    <a:pt x="1902" y="28"/>
                  </a:lnTo>
                  <a:lnTo>
                    <a:pt x="1855" y="29"/>
                  </a:lnTo>
                  <a:lnTo>
                    <a:pt x="1807" y="30"/>
                  </a:lnTo>
                  <a:lnTo>
                    <a:pt x="1760" y="32"/>
                  </a:lnTo>
                  <a:lnTo>
                    <a:pt x="1712" y="33"/>
                  </a:lnTo>
                  <a:lnTo>
                    <a:pt x="1665" y="36"/>
                  </a:lnTo>
                  <a:lnTo>
                    <a:pt x="1617" y="38"/>
                  </a:lnTo>
                  <a:lnTo>
                    <a:pt x="1569" y="40"/>
                  </a:lnTo>
                  <a:lnTo>
                    <a:pt x="1522" y="41"/>
                  </a:lnTo>
                  <a:lnTo>
                    <a:pt x="1474" y="45"/>
                  </a:lnTo>
                  <a:lnTo>
                    <a:pt x="1427" y="45"/>
                  </a:lnTo>
                  <a:lnTo>
                    <a:pt x="1379" y="50"/>
                  </a:lnTo>
                  <a:lnTo>
                    <a:pt x="1332" y="50"/>
                  </a:lnTo>
                  <a:lnTo>
                    <a:pt x="1284" y="56"/>
                  </a:lnTo>
                  <a:lnTo>
                    <a:pt x="1236" y="56"/>
                  </a:lnTo>
                  <a:lnTo>
                    <a:pt x="1189" y="60"/>
                  </a:lnTo>
                  <a:lnTo>
                    <a:pt x="1141" y="60"/>
                  </a:lnTo>
                  <a:lnTo>
                    <a:pt x="1094" y="66"/>
                  </a:lnTo>
                  <a:lnTo>
                    <a:pt x="1046" y="68"/>
                  </a:lnTo>
                  <a:lnTo>
                    <a:pt x="999" y="72"/>
                  </a:lnTo>
                  <a:lnTo>
                    <a:pt x="951" y="72"/>
                  </a:lnTo>
                  <a:lnTo>
                    <a:pt x="904" y="80"/>
                  </a:lnTo>
                  <a:lnTo>
                    <a:pt x="856" y="80"/>
                  </a:lnTo>
                  <a:lnTo>
                    <a:pt x="808" y="87"/>
                  </a:lnTo>
                  <a:lnTo>
                    <a:pt x="761" y="87"/>
                  </a:lnTo>
                  <a:lnTo>
                    <a:pt x="713" y="95"/>
                  </a:lnTo>
                  <a:lnTo>
                    <a:pt x="666" y="96"/>
                  </a:lnTo>
                  <a:lnTo>
                    <a:pt x="618" y="104"/>
                  </a:lnTo>
                  <a:lnTo>
                    <a:pt x="571" y="104"/>
                  </a:lnTo>
                  <a:lnTo>
                    <a:pt x="523" y="115"/>
                  </a:lnTo>
                  <a:lnTo>
                    <a:pt x="475" y="115"/>
                  </a:lnTo>
                  <a:lnTo>
                    <a:pt x="428" y="123"/>
                  </a:lnTo>
                  <a:lnTo>
                    <a:pt x="380" y="123"/>
                  </a:lnTo>
                  <a:lnTo>
                    <a:pt x="333" y="133"/>
                  </a:lnTo>
                  <a:lnTo>
                    <a:pt x="285" y="134"/>
                  </a:lnTo>
                  <a:lnTo>
                    <a:pt x="238" y="143"/>
                  </a:lnTo>
                  <a:lnTo>
                    <a:pt x="190" y="143"/>
                  </a:lnTo>
                  <a:lnTo>
                    <a:pt x="143" y="267"/>
                  </a:lnTo>
                  <a:lnTo>
                    <a:pt x="95" y="308"/>
                  </a:lnTo>
                  <a:lnTo>
                    <a:pt x="47" y="465"/>
                  </a:lnTo>
                  <a:lnTo>
                    <a:pt x="0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328760" y="4719600"/>
              <a:ext cx="7472520" cy="738360"/>
            </a:xfrm>
            <a:custGeom>
              <a:avLst/>
              <a:gdLst/>
              <a:ahLst/>
              <a:rect l="l" t="t" r="r" b="b"/>
              <a:pathLst>
                <a:path w="4707" h="465">
                  <a:moveTo>
                    <a:pt x="0" y="465"/>
                  </a:moveTo>
                  <a:lnTo>
                    <a:pt x="0" y="465"/>
                  </a:lnTo>
                  <a:lnTo>
                    <a:pt x="47" y="465"/>
                  </a:lnTo>
                  <a:lnTo>
                    <a:pt x="95" y="308"/>
                  </a:lnTo>
                  <a:lnTo>
                    <a:pt x="143" y="267"/>
                  </a:lnTo>
                  <a:lnTo>
                    <a:pt x="190" y="143"/>
                  </a:lnTo>
                  <a:lnTo>
                    <a:pt x="238" y="143"/>
                  </a:lnTo>
                  <a:lnTo>
                    <a:pt x="285" y="134"/>
                  </a:lnTo>
                  <a:lnTo>
                    <a:pt x="333" y="133"/>
                  </a:lnTo>
                  <a:lnTo>
                    <a:pt x="380" y="123"/>
                  </a:lnTo>
                  <a:lnTo>
                    <a:pt x="428" y="123"/>
                  </a:lnTo>
                  <a:lnTo>
                    <a:pt x="475" y="115"/>
                  </a:lnTo>
                  <a:lnTo>
                    <a:pt x="523" y="115"/>
                  </a:lnTo>
                  <a:lnTo>
                    <a:pt x="571" y="104"/>
                  </a:lnTo>
                  <a:lnTo>
                    <a:pt x="618" y="104"/>
                  </a:lnTo>
                  <a:lnTo>
                    <a:pt x="666" y="96"/>
                  </a:lnTo>
                  <a:lnTo>
                    <a:pt x="713" y="95"/>
                  </a:lnTo>
                  <a:lnTo>
                    <a:pt x="761" y="87"/>
                  </a:lnTo>
                  <a:lnTo>
                    <a:pt x="808" y="87"/>
                  </a:lnTo>
                  <a:lnTo>
                    <a:pt x="856" y="80"/>
                  </a:lnTo>
                  <a:lnTo>
                    <a:pt x="904" y="80"/>
                  </a:lnTo>
                  <a:lnTo>
                    <a:pt x="951" y="72"/>
                  </a:lnTo>
                  <a:lnTo>
                    <a:pt x="999" y="72"/>
                  </a:lnTo>
                  <a:lnTo>
                    <a:pt x="1046" y="68"/>
                  </a:lnTo>
                  <a:lnTo>
                    <a:pt x="1094" y="66"/>
                  </a:lnTo>
                  <a:lnTo>
                    <a:pt x="1141" y="60"/>
                  </a:lnTo>
                  <a:lnTo>
                    <a:pt x="1189" y="60"/>
                  </a:lnTo>
                  <a:lnTo>
                    <a:pt x="1236" y="56"/>
                  </a:lnTo>
                  <a:lnTo>
                    <a:pt x="1284" y="56"/>
                  </a:lnTo>
                  <a:lnTo>
                    <a:pt x="1332" y="50"/>
                  </a:lnTo>
                  <a:lnTo>
                    <a:pt x="1379" y="50"/>
                  </a:lnTo>
                  <a:lnTo>
                    <a:pt x="1427" y="45"/>
                  </a:lnTo>
                  <a:lnTo>
                    <a:pt x="1474" y="45"/>
                  </a:lnTo>
                  <a:lnTo>
                    <a:pt x="1522" y="41"/>
                  </a:lnTo>
                  <a:lnTo>
                    <a:pt x="1569" y="40"/>
                  </a:lnTo>
                  <a:lnTo>
                    <a:pt x="1617" y="38"/>
                  </a:lnTo>
                  <a:lnTo>
                    <a:pt x="1665" y="36"/>
                  </a:lnTo>
                  <a:lnTo>
                    <a:pt x="1712" y="33"/>
                  </a:lnTo>
                  <a:lnTo>
                    <a:pt x="1760" y="32"/>
                  </a:lnTo>
                  <a:lnTo>
                    <a:pt x="1807" y="30"/>
                  </a:lnTo>
                  <a:lnTo>
                    <a:pt x="1855" y="29"/>
                  </a:lnTo>
                  <a:lnTo>
                    <a:pt x="1902" y="28"/>
                  </a:lnTo>
                  <a:lnTo>
                    <a:pt x="1950" y="27"/>
                  </a:lnTo>
                  <a:lnTo>
                    <a:pt x="1997" y="24"/>
                  </a:lnTo>
                  <a:lnTo>
                    <a:pt x="2045" y="24"/>
                  </a:lnTo>
                  <a:lnTo>
                    <a:pt x="2093" y="23"/>
                  </a:lnTo>
                  <a:lnTo>
                    <a:pt x="2140" y="21"/>
                  </a:lnTo>
                  <a:lnTo>
                    <a:pt x="2188" y="21"/>
                  </a:lnTo>
                  <a:lnTo>
                    <a:pt x="2235" y="20"/>
                  </a:lnTo>
                  <a:lnTo>
                    <a:pt x="2283" y="19"/>
                  </a:lnTo>
                  <a:lnTo>
                    <a:pt x="2330" y="18"/>
                  </a:lnTo>
                  <a:lnTo>
                    <a:pt x="2377" y="17"/>
                  </a:lnTo>
                  <a:lnTo>
                    <a:pt x="2425" y="16"/>
                  </a:lnTo>
                  <a:lnTo>
                    <a:pt x="2472" y="14"/>
                  </a:lnTo>
                  <a:lnTo>
                    <a:pt x="2520" y="14"/>
                  </a:lnTo>
                  <a:lnTo>
                    <a:pt x="2567" y="14"/>
                  </a:lnTo>
                  <a:lnTo>
                    <a:pt x="2615" y="13"/>
                  </a:lnTo>
                  <a:lnTo>
                    <a:pt x="2662" y="12"/>
                  </a:lnTo>
                  <a:lnTo>
                    <a:pt x="2710" y="11"/>
                  </a:lnTo>
                  <a:lnTo>
                    <a:pt x="2757" y="10"/>
                  </a:lnTo>
                  <a:lnTo>
                    <a:pt x="2805" y="10"/>
                  </a:lnTo>
                  <a:lnTo>
                    <a:pt x="2853" y="10"/>
                  </a:lnTo>
                  <a:lnTo>
                    <a:pt x="2900" y="9"/>
                  </a:lnTo>
                  <a:lnTo>
                    <a:pt x="2948" y="9"/>
                  </a:lnTo>
                  <a:lnTo>
                    <a:pt x="2995" y="9"/>
                  </a:lnTo>
                  <a:lnTo>
                    <a:pt x="3043" y="8"/>
                  </a:lnTo>
                  <a:lnTo>
                    <a:pt x="3090" y="8"/>
                  </a:lnTo>
                  <a:lnTo>
                    <a:pt x="3138" y="8"/>
                  </a:lnTo>
                  <a:lnTo>
                    <a:pt x="3185" y="7"/>
                  </a:lnTo>
                  <a:lnTo>
                    <a:pt x="3233" y="7"/>
                  </a:lnTo>
                  <a:lnTo>
                    <a:pt x="3281" y="7"/>
                  </a:lnTo>
                  <a:lnTo>
                    <a:pt x="3328" y="7"/>
                  </a:lnTo>
                  <a:lnTo>
                    <a:pt x="3376" y="7"/>
                  </a:lnTo>
                  <a:lnTo>
                    <a:pt x="3423" y="7"/>
                  </a:lnTo>
                  <a:lnTo>
                    <a:pt x="3471" y="7"/>
                  </a:lnTo>
                  <a:lnTo>
                    <a:pt x="3518" y="7"/>
                  </a:lnTo>
                  <a:lnTo>
                    <a:pt x="3566" y="6"/>
                  </a:lnTo>
                  <a:lnTo>
                    <a:pt x="3614" y="5"/>
                  </a:lnTo>
                  <a:lnTo>
                    <a:pt x="3661" y="5"/>
                  </a:lnTo>
                  <a:lnTo>
                    <a:pt x="3709" y="4"/>
                  </a:lnTo>
                  <a:lnTo>
                    <a:pt x="3756" y="4"/>
                  </a:lnTo>
                  <a:lnTo>
                    <a:pt x="3804" y="4"/>
                  </a:lnTo>
                  <a:lnTo>
                    <a:pt x="3851" y="4"/>
                  </a:lnTo>
                  <a:lnTo>
                    <a:pt x="3899" y="3"/>
                  </a:lnTo>
                  <a:lnTo>
                    <a:pt x="3946" y="3"/>
                  </a:lnTo>
                  <a:lnTo>
                    <a:pt x="3994" y="3"/>
                  </a:lnTo>
                  <a:lnTo>
                    <a:pt x="4042" y="3"/>
                  </a:lnTo>
                  <a:lnTo>
                    <a:pt x="4089" y="2"/>
                  </a:lnTo>
                  <a:lnTo>
                    <a:pt x="4137" y="2"/>
                  </a:lnTo>
                  <a:lnTo>
                    <a:pt x="4184" y="2"/>
                  </a:lnTo>
                  <a:lnTo>
                    <a:pt x="4232" y="2"/>
                  </a:lnTo>
                  <a:lnTo>
                    <a:pt x="4279" y="2"/>
                  </a:lnTo>
                  <a:lnTo>
                    <a:pt x="4327" y="1"/>
                  </a:lnTo>
                  <a:lnTo>
                    <a:pt x="4375" y="1"/>
                  </a:lnTo>
                  <a:lnTo>
                    <a:pt x="4422" y="1"/>
                  </a:lnTo>
                  <a:lnTo>
                    <a:pt x="4470" y="1"/>
                  </a:lnTo>
                  <a:lnTo>
                    <a:pt x="4517" y="1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0"/>
                  </a:lnTo>
                  <a:lnTo>
                    <a:pt x="4660" y="0"/>
                  </a:lnTo>
                  <a:lnTo>
                    <a:pt x="4612" y="0"/>
                  </a:lnTo>
                  <a:lnTo>
                    <a:pt x="4565" y="0"/>
                  </a:lnTo>
                  <a:lnTo>
                    <a:pt x="4517" y="1"/>
                  </a:lnTo>
                  <a:lnTo>
                    <a:pt x="4470" y="1"/>
                  </a:lnTo>
                  <a:lnTo>
                    <a:pt x="4422" y="1"/>
                  </a:lnTo>
                  <a:lnTo>
                    <a:pt x="4375" y="1"/>
                  </a:lnTo>
                  <a:lnTo>
                    <a:pt x="4327" y="1"/>
                  </a:lnTo>
                  <a:lnTo>
                    <a:pt x="4279" y="2"/>
                  </a:lnTo>
                  <a:lnTo>
                    <a:pt x="4232" y="2"/>
                  </a:lnTo>
                  <a:lnTo>
                    <a:pt x="4184" y="2"/>
                  </a:lnTo>
                  <a:lnTo>
                    <a:pt x="4137" y="2"/>
                  </a:lnTo>
                  <a:lnTo>
                    <a:pt x="4089" y="2"/>
                  </a:lnTo>
                  <a:lnTo>
                    <a:pt x="4042" y="3"/>
                  </a:lnTo>
                  <a:lnTo>
                    <a:pt x="3994" y="3"/>
                  </a:lnTo>
                  <a:lnTo>
                    <a:pt x="3946" y="3"/>
                  </a:lnTo>
                  <a:lnTo>
                    <a:pt x="3899" y="3"/>
                  </a:lnTo>
                  <a:lnTo>
                    <a:pt x="3851" y="4"/>
                  </a:lnTo>
                  <a:lnTo>
                    <a:pt x="3804" y="4"/>
                  </a:lnTo>
                  <a:lnTo>
                    <a:pt x="3756" y="4"/>
                  </a:lnTo>
                  <a:lnTo>
                    <a:pt x="3709" y="4"/>
                  </a:lnTo>
                  <a:lnTo>
                    <a:pt x="3661" y="5"/>
                  </a:lnTo>
                  <a:lnTo>
                    <a:pt x="3614" y="5"/>
                  </a:lnTo>
                  <a:lnTo>
                    <a:pt x="3566" y="6"/>
                  </a:lnTo>
                  <a:lnTo>
                    <a:pt x="3518" y="7"/>
                  </a:lnTo>
                  <a:lnTo>
                    <a:pt x="3471" y="7"/>
                  </a:lnTo>
                  <a:lnTo>
                    <a:pt x="3423" y="7"/>
                  </a:lnTo>
                  <a:lnTo>
                    <a:pt x="3376" y="7"/>
                  </a:lnTo>
                  <a:lnTo>
                    <a:pt x="3328" y="7"/>
                  </a:lnTo>
                  <a:lnTo>
                    <a:pt x="3281" y="7"/>
                  </a:lnTo>
                  <a:lnTo>
                    <a:pt x="3233" y="7"/>
                  </a:lnTo>
                  <a:lnTo>
                    <a:pt x="3185" y="7"/>
                  </a:lnTo>
                  <a:lnTo>
                    <a:pt x="3138" y="8"/>
                  </a:lnTo>
                  <a:lnTo>
                    <a:pt x="3090" y="8"/>
                  </a:lnTo>
                  <a:lnTo>
                    <a:pt x="3043" y="8"/>
                  </a:lnTo>
                  <a:lnTo>
                    <a:pt x="2995" y="9"/>
                  </a:lnTo>
                  <a:lnTo>
                    <a:pt x="2948" y="9"/>
                  </a:lnTo>
                  <a:lnTo>
                    <a:pt x="2900" y="9"/>
                  </a:lnTo>
                  <a:lnTo>
                    <a:pt x="2853" y="10"/>
                  </a:lnTo>
                  <a:lnTo>
                    <a:pt x="2805" y="10"/>
                  </a:lnTo>
                  <a:lnTo>
                    <a:pt x="2757" y="10"/>
                  </a:lnTo>
                  <a:lnTo>
                    <a:pt x="2710" y="11"/>
                  </a:lnTo>
                  <a:lnTo>
                    <a:pt x="2662" y="12"/>
                  </a:lnTo>
                  <a:lnTo>
                    <a:pt x="2615" y="13"/>
                  </a:lnTo>
                  <a:lnTo>
                    <a:pt x="2567" y="14"/>
                  </a:lnTo>
                  <a:lnTo>
                    <a:pt x="2520" y="14"/>
                  </a:lnTo>
                  <a:lnTo>
                    <a:pt x="2472" y="14"/>
                  </a:lnTo>
                  <a:lnTo>
                    <a:pt x="2425" y="16"/>
                  </a:lnTo>
                  <a:lnTo>
                    <a:pt x="2377" y="17"/>
                  </a:lnTo>
                  <a:lnTo>
                    <a:pt x="2330" y="18"/>
                  </a:lnTo>
                  <a:lnTo>
                    <a:pt x="2283" y="19"/>
                  </a:lnTo>
                  <a:lnTo>
                    <a:pt x="2235" y="20"/>
                  </a:lnTo>
                  <a:lnTo>
                    <a:pt x="2188" y="21"/>
                  </a:lnTo>
                  <a:lnTo>
                    <a:pt x="2140" y="21"/>
                  </a:lnTo>
                  <a:lnTo>
                    <a:pt x="2093" y="23"/>
                  </a:lnTo>
                  <a:lnTo>
                    <a:pt x="2045" y="24"/>
                  </a:lnTo>
                  <a:lnTo>
                    <a:pt x="1997" y="24"/>
                  </a:lnTo>
                  <a:lnTo>
                    <a:pt x="1950" y="27"/>
                  </a:lnTo>
                  <a:lnTo>
                    <a:pt x="1902" y="28"/>
                  </a:lnTo>
                  <a:lnTo>
                    <a:pt x="1855" y="29"/>
                  </a:lnTo>
                  <a:lnTo>
                    <a:pt x="1807" y="30"/>
                  </a:lnTo>
                  <a:lnTo>
                    <a:pt x="1760" y="32"/>
                  </a:lnTo>
                  <a:lnTo>
                    <a:pt x="1712" y="33"/>
                  </a:lnTo>
                  <a:lnTo>
                    <a:pt x="1665" y="36"/>
                  </a:lnTo>
                  <a:lnTo>
                    <a:pt x="1617" y="38"/>
                  </a:lnTo>
                  <a:lnTo>
                    <a:pt x="1569" y="40"/>
                  </a:lnTo>
                  <a:lnTo>
                    <a:pt x="1522" y="41"/>
                  </a:lnTo>
                  <a:lnTo>
                    <a:pt x="1474" y="45"/>
                  </a:lnTo>
                  <a:lnTo>
                    <a:pt x="1427" y="45"/>
                  </a:lnTo>
                  <a:lnTo>
                    <a:pt x="1379" y="50"/>
                  </a:lnTo>
                  <a:lnTo>
                    <a:pt x="1332" y="50"/>
                  </a:lnTo>
                  <a:lnTo>
                    <a:pt x="1284" y="56"/>
                  </a:lnTo>
                  <a:lnTo>
                    <a:pt x="1236" y="56"/>
                  </a:lnTo>
                  <a:lnTo>
                    <a:pt x="1189" y="60"/>
                  </a:lnTo>
                  <a:lnTo>
                    <a:pt x="1141" y="60"/>
                  </a:lnTo>
                  <a:lnTo>
                    <a:pt x="1094" y="66"/>
                  </a:lnTo>
                  <a:lnTo>
                    <a:pt x="1046" y="68"/>
                  </a:lnTo>
                  <a:lnTo>
                    <a:pt x="999" y="72"/>
                  </a:lnTo>
                  <a:lnTo>
                    <a:pt x="951" y="72"/>
                  </a:lnTo>
                  <a:lnTo>
                    <a:pt x="904" y="80"/>
                  </a:lnTo>
                  <a:lnTo>
                    <a:pt x="856" y="80"/>
                  </a:lnTo>
                  <a:lnTo>
                    <a:pt x="808" y="87"/>
                  </a:lnTo>
                  <a:lnTo>
                    <a:pt x="761" y="87"/>
                  </a:lnTo>
                  <a:lnTo>
                    <a:pt x="713" y="95"/>
                  </a:lnTo>
                  <a:lnTo>
                    <a:pt x="666" y="96"/>
                  </a:lnTo>
                  <a:lnTo>
                    <a:pt x="618" y="104"/>
                  </a:lnTo>
                  <a:lnTo>
                    <a:pt x="571" y="104"/>
                  </a:lnTo>
                  <a:lnTo>
                    <a:pt x="523" y="115"/>
                  </a:lnTo>
                  <a:lnTo>
                    <a:pt x="475" y="115"/>
                  </a:lnTo>
                  <a:lnTo>
                    <a:pt x="428" y="123"/>
                  </a:lnTo>
                  <a:lnTo>
                    <a:pt x="380" y="123"/>
                  </a:lnTo>
                  <a:lnTo>
                    <a:pt x="333" y="133"/>
                  </a:lnTo>
                  <a:lnTo>
                    <a:pt x="285" y="134"/>
                  </a:lnTo>
                  <a:lnTo>
                    <a:pt x="238" y="143"/>
                  </a:lnTo>
                  <a:lnTo>
                    <a:pt x="190" y="143"/>
                  </a:lnTo>
                  <a:lnTo>
                    <a:pt x="143" y="267"/>
                  </a:lnTo>
                  <a:lnTo>
                    <a:pt x="95" y="308"/>
                  </a:lnTo>
                  <a:lnTo>
                    <a:pt x="47" y="465"/>
                  </a:lnTo>
                  <a:lnTo>
                    <a:pt x="0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328760" y="776160"/>
              <a:ext cx="7472520" cy="4681800"/>
            </a:xfrm>
            <a:custGeom>
              <a:avLst/>
              <a:gdLst/>
              <a:ahLst/>
              <a:rect l="l" t="t" r="r" b="b"/>
              <a:pathLst>
                <a:path w="4707" h="2949">
                  <a:moveTo>
                    <a:pt x="0" y="2949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5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8" y="0"/>
                  </a:lnTo>
                  <a:lnTo>
                    <a:pt x="475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18" y="0"/>
                  </a:lnTo>
                  <a:lnTo>
                    <a:pt x="666" y="0"/>
                  </a:lnTo>
                  <a:lnTo>
                    <a:pt x="713" y="0"/>
                  </a:lnTo>
                  <a:lnTo>
                    <a:pt x="761" y="0"/>
                  </a:lnTo>
                  <a:lnTo>
                    <a:pt x="808" y="0"/>
                  </a:lnTo>
                  <a:lnTo>
                    <a:pt x="856" y="0"/>
                  </a:lnTo>
                  <a:lnTo>
                    <a:pt x="904" y="0"/>
                  </a:lnTo>
                  <a:lnTo>
                    <a:pt x="951" y="0"/>
                  </a:lnTo>
                  <a:lnTo>
                    <a:pt x="999" y="0"/>
                  </a:lnTo>
                  <a:lnTo>
                    <a:pt x="1046" y="0"/>
                  </a:lnTo>
                  <a:lnTo>
                    <a:pt x="1094" y="0"/>
                  </a:lnTo>
                  <a:lnTo>
                    <a:pt x="1141" y="0"/>
                  </a:lnTo>
                  <a:lnTo>
                    <a:pt x="1189" y="0"/>
                  </a:lnTo>
                  <a:lnTo>
                    <a:pt x="1236" y="0"/>
                  </a:lnTo>
                  <a:lnTo>
                    <a:pt x="1284" y="0"/>
                  </a:lnTo>
                  <a:lnTo>
                    <a:pt x="1332" y="0"/>
                  </a:lnTo>
                  <a:lnTo>
                    <a:pt x="1379" y="0"/>
                  </a:lnTo>
                  <a:lnTo>
                    <a:pt x="1427" y="0"/>
                  </a:lnTo>
                  <a:lnTo>
                    <a:pt x="1474" y="0"/>
                  </a:lnTo>
                  <a:lnTo>
                    <a:pt x="1522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65" y="0"/>
                  </a:lnTo>
                  <a:lnTo>
                    <a:pt x="1712" y="0"/>
                  </a:lnTo>
                  <a:lnTo>
                    <a:pt x="1760" y="0"/>
                  </a:lnTo>
                  <a:lnTo>
                    <a:pt x="1807" y="0"/>
                  </a:lnTo>
                  <a:lnTo>
                    <a:pt x="1855" y="0"/>
                  </a:lnTo>
                  <a:lnTo>
                    <a:pt x="1902" y="0"/>
                  </a:lnTo>
                  <a:lnTo>
                    <a:pt x="1950" y="0"/>
                  </a:lnTo>
                  <a:lnTo>
                    <a:pt x="1997" y="0"/>
                  </a:lnTo>
                  <a:lnTo>
                    <a:pt x="2045" y="0"/>
                  </a:lnTo>
                  <a:lnTo>
                    <a:pt x="2093" y="0"/>
                  </a:lnTo>
                  <a:lnTo>
                    <a:pt x="2140" y="0"/>
                  </a:lnTo>
                  <a:lnTo>
                    <a:pt x="2188" y="0"/>
                  </a:lnTo>
                  <a:lnTo>
                    <a:pt x="2235" y="0"/>
                  </a:lnTo>
                  <a:lnTo>
                    <a:pt x="2283" y="0"/>
                  </a:lnTo>
                  <a:lnTo>
                    <a:pt x="2330" y="0"/>
                  </a:lnTo>
                  <a:lnTo>
                    <a:pt x="2377" y="0"/>
                  </a:lnTo>
                  <a:lnTo>
                    <a:pt x="2425" y="0"/>
                  </a:lnTo>
                  <a:lnTo>
                    <a:pt x="2472" y="0"/>
                  </a:lnTo>
                  <a:lnTo>
                    <a:pt x="2520" y="0"/>
                  </a:lnTo>
                  <a:lnTo>
                    <a:pt x="2567" y="0"/>
                  </a:lnTo>
                  <a:lnTo>
                    <a:pt x="2615" y="0"/>
                  </a:lnTo>
                  <a:lnTo>
                    <a:pt x="2662" y="0"/>
                  </a:lnTo>
                  <a:lnTo>
                    <a:pt x="2710" y="0"/>
                  </a:lnTo>
                  <a:lnTo>
                    <a:pt x="2757" y="0"/>
                  </a:lnTo>
                  <a:lnTo>
                    <a:pt x="2805" y="0"/>
                  </a:lnTo>
                  <a:lnTo>
                    <a:pt x="2853" y="0"/>
                  </a:lnTo>
                  <a:lnTo>
                    <a:pt x="2900" y="0"/>
                  </a:lnTo>
                  <a:lnTo>
                    <a:pt x="2948" y="0"/>
                  </a:lnTo>
                  <a:lnTo>
                    <a:pt x="2995" y="0"/>
                  </a:lnTo>
                  <a:lnTo>
                    <a:pt x="3043" y="0"/>
                  </a:lnTo>
                  <a:lnTo>
                    <a:pt x="3090" y="0"/>
                  </a:lnTo>
                  <a:lnTo>
                    <a:pt x="3138" y="0"/>
                  </a:lnTo>
                  <a:lnTo>
                    <a:pt x="3185" y="0"/>
                  </a:lnTo>
                  <a:lnTo>
                    <a:pt x="3233" y="0"/>
                  </a:lnTo>
                  <a:lnTo>
                    <a:pt x="3281" y="0"/>
                  </a:lnTo>
                  <a:lnTo>
                    <a:pt x="3328" y="0"/>
                  </a:lnTo>
                  <a:lnTo>
                    <a:pt x="3376" y="0"/>
                  </a:lnTo>
                  <a:lnTo>
                    <a:pt x="3423" y="0"/>
                  </a:lnTo>
                  <a:lnTo>
                    <a:pt x="3471" y="0"/>
                  </a:lnTo>
                  <a:lnTo>
                    <a:pt x="3518" y="0"/>
                  </a:lnTo>
                  <a:lnTo>
                    <a:pt x="3566" y="0"/>
                  </a:lnTo>
                  <a:lnTo>
                    <a:pt x="3614" y="0"/>
                  </a:lnTo>
                  <a:lnTo>
                    <a:pt x="3661" y="0"/>
                  </a:lnTo>
                  <a:lnTo>
                    <a:pt x="3709" y="0"/>
                  </a:lnTo>
                  <a:lnTo>
                    <a:pt x="3756" y="0"/>
                  </a:lnTo>
                  <a:lnTo>
                    <a:pt x="3804" y="0"/>
                  </a:lnTo>
                  <a:lnTo>
                    <a:pt x="3851" y="0"/>
                  </a:lnTo>
                  <a:lnTo>
                    <a:pt x="3899" y="0"/>
                  </a:lnTo>
                  <a:lnTo>
                    <a:pt x="3946" y="0"/>
                  </a:lnTo>
                  <a:lnTo>
                    <a:pt x="3994" y="0"/>
                  </a:lnTo>
                  <a:lnTo>
                    <a:pt x="4042" y="0"/>
                  </a:lnTo>
                  <a:lnTo>
                    <a:pt x="4089" y="0"/>
                  </a:lnTo>
                  <a:lnTo>
                    <a:pt x="4137" y="0"/>
                  </a:lnTo>
                  <a:lnTo>
                    <a:pt x="4184" y="0"/>
                  </a:lnTo>
                  <a:lnTo>
                    <a:pt x="4232" y="0"/>
                  </a:lnTo>
                  <a:lnTo>
                    <a:pt x="4279" y="0"/>
                  </a:lnTo>
                  <a:lnTo>
                    <a:pt x="4327" y="0"/>
                  </a:lnTo>
                  <a:lnTo>
                    <a:pt x="4375" y="0"/>
                  </a:lnTo>
                  <a:lnTo>
                    <a:pt x="4422" y="0"/>
                  </a:lnTo>
                  <a:lnTo>
                    <a:pt x="4470" y="0"/>
                  </a:lnTo>
                  <a:lnTo>
                    <a:pt x="4517" y="0"/>
                  </a:lnTo>
                  <a:lnTo>
                    <a:pt x="4565" y="0"/>
                  </a:lnTo>
                  <a:lnTo>
                    <a:pt x="4612" y="0"/>
                  </a:lnTo>
                  <a:lnTo>
                    <a:pt x="4660" y="0"/>
                  </a:lnTo>
                  <a:lnTo>
                    <a:pt x="4707" y="0"/>
                  </a:lnTo>
                  <a:lnTo>
                    <a:pt x="4707" y="2484"/>
                  </a:lnTo>
                  <a:lnTo>
                    <a:pt x="4660" y="2484"/>
                  </a:lnTo>
                  <a:lnTo>
                    <a:pt x="4612" y="2484"/>
                  </a:lnTo>
                  <a:lnTo>
                    <a:pt x="4565" y="2484"/>
                  </a:lnTo>
                  <a:lnTo>
                    <a:pt x="4517" y="2485"/>
                  </a:lnTo>
                  <a:lnTo>
                    <a:pt x="4470" y="2485"/>
                  </a:lnTo>
                  <a:lnTo>
                    <a:pt x="4422" y="2485"/>
                  </a:lnTo>
                  <a:lnTo>
                    <a:pt x="4375" y="2485"/>
                  </a:lnTo>
                  <a:lnTo>
                    <a:pt x="4327" y="2485"/>
                  </a:lnTo>
                  <a:lnTo>
                    <a:pt x="4279" y="2486"/>
                  </a:lnTo>
                  <a:lnTo>
                    <a:pt x="4232" y="2486"/>
                  </a:lnTo>
                  <a:lnTo>
                    <a:pt x="4184" y="2486"/>
                  </a:lnTo>
                  <a:lnTo>
                    <a:pt x="4137" y="2486"/>
                  </a:lnTo>
                  <a:lnTo>
                    <a:pt x="4089" y="2486"/>
                  </a:lnTo>
                  <a:lnTo>
                    <a:pt x="4042" y="2487"/>
                  </a:lnTo>
                  <a:lnTo>
                    <a:pt x="3994" y="2487"/>
                  </a:lnTo>
                  <a:lnTo>
                    <a:pt x="3946" y="2487"/>
                  </a:lnTo>
                  <a:lnTo>
                    <a:pt x="3899" y="2487"/>
                  </a:lnTo>
                  <a:lnTo>
                    <a:pt x="3851" y="2488"/>
                  </a:lnTo>
                  <a:lnTo>
                    <a:pt x="3804" y="2488"/>
                  </a:lnTo>
                  <a:lnTo>
                    <a:pt x="3756" y="2488"/>
                  </a:lnTo>
                  <a:lnTo>
                    <a:pt x="3709" y="2488"/>
                  </a:lnTo>
                  <a:lnTo>
                    <a:pt x="3661" y="2489"/>
                  </a:lnTo>
                  <a:lnTo>
                    <a:pt x="3614" y="2489"/>
                  </a:lnTo>
                  <a:lnTo>
                    <a:pt x="3566" y="2490"/>
                  </a:lnTo>
                  <a:lnTo>
                    <a:pt x="3518" y="2491"/>
                  </a:lnTo>
                  <a:lnTo>
                    <a:pt x="3471" y="2491"/>
                  </a:lnTo>
                  <a:lnTo>
                    <a:pt x="3423" y="2491"/>
                  </a:lnTo>
                  <a:lnTo>
                    <a:pt x="3376" y="2491"/>
                  </a:lnTo>
                  <a:lnTo>
                    <a:pt x="3328" y="2491"/>
                  </a:lnTo>
                  <a:lnTo>
                    <a:pt x="3281" y="2491"/>
                  </a:lnTo>
                  <a:lnTo>
                    <a:pt x="3233" y="2491"/>
                  </a:lnTo>
                  <a:lnTo>
                    <a:pt x="3185" y="2491"/>
                  </a:lnTo>
                  <a:lnTo>
                    <a:pt x="3138" y="2492"/>
                  </a:lnTo>
                  <a:lnTo>
                    <a:pt x="3090" y="2492"/>
                  </a:lnTo>
                  <a:lnTo>
                    <a:pt x="3043" y="2492"/>
                  </a:lnTo>
                  <a:lnTo>
                    <a:pt x="2995" y="2493"/>
                  </a:lnTo>
                  <a:lnTo>
                    <a:pt x="2948" y="2493"/>
                  </a:lnTo>
                  <a:lnTo>
                    <a:pt x="2900" y="2493"/>
                  </a:lnTo>
                  <a:lnTo>
                    <a:pt x="2853" y="2494"/>
                  </a:lnTo>
                  <a:lnTo>
                    <a:pt x="2805" y="2494"/>
                  </a:lnTo>
                  <a:lnTo>
                    <a:pt x="2757" y="2494"/>
                  </a:lnTo>
                  <a:lnTo>
                    <a:pt x="2710" y="2495"/>
                  </a:lnTo>
                  <a:lnTo>
                    <a:pt x="2662" y="2496"/>
                  </a:lnTo>
                  <a:lnTo>
                    <a:pt x="2615" y="2497"/>
                  </a:lnTo>
                  <a:lnTo>
                    <a:pt x="2567" y="2498"/>
                  </a:lnTo>
                  <a:lnTo>
                    <a:pt x="2520" y="2498"/>
                  </a:lnTo>
                  <a:lnTo>
                    <a:pt x="2472" y="2498"/>
                  </a:lnTo>
                  <a:lnTo>
                    <a:pt x="2425" y="2500"/>
                  </a:lnTo>
                  <a:lnTo>
                    <a:pt x="2377" y="2501"/>
                  </a:lnTo>
                  <a:lnTo>
                    <a:pt x="2330" y="2502"/>
                  </a:lnTo>
                  <a:lnTo>
                    <a:pt x="2283" y="2503"/>
                  </a:lnTo>
                  <a:lnTo>
                    <a:pt x="2235" y="2504"/>
                  </a:lnTo>
                  <a:lnTo>
                    <a:pt x="2188" y="2505"/>
                  </a:lnTo>
                  <a:lnTo>
                    <a:pt x="2140" y="2505"/>
                  </a:lnTo>
                  <a:lnTo>
                    <a:pt x="2093" y="2507"/>
                  </a:lnTo>
                  <a:lnTo>
                    <a:pt x="2045" y="2508"/>
                  </a:lnTo>
                  <a:lnTo>
                    <a:pt x="1997" y="2508"/>
                  </a:lnTo>
                  <a:lnTo>
                    <a:pt x="1950" y="2511"/>
                  </a:lnTo>
                  <a:lnTo>
                    <a:pt x="1902" y="2512"/>
                  </a:lnTo>
                  <a:lnTo>
                    <a:pt x="1855" y="2513"/>
                  </a:lnTo>
                  <a:lnTo>
                    <a:pt x="1807" y="2514"/>
                  </a:lnTo>
                  <a:lnTo>
                    <a:pt x="1760" y="2516"/>
                  </a:lnTo>
                  <a:lnTo>
                    <a:pt x="1712" y="2517"/>
                  </a:lnTo>
                  <a:lnTo>
                    <a:pt x="1665" y="2520"/>
                  </a:lnTo>
                  <a:lnTo>
                    <a:pt x="1617" y="2522"/>
                  </a:lnTo>
                  <a:lnTo>
                    <a:pt x="1569" y="2524"/>
                  </a:lnTo>
                  <a:lnTo>
                    <a:pt x="1522" y="2525"/>
                  </a:lnTo>
                  <a:lnTo>
                    <a:pt x="1474" y="2529"/>
                  </a:lnTo>
                  <a:lnTo>
                    <a:pt x="1427" y="2529"/>
                  </a:lnTo>
                  <a:lnTo>
                    <a:pt x="1379" y="2534"/>
                  </a:lnTo>
                  <a:lnTo>
                    <a:pt x="1332" y="2534"/>
                  </a:lnTo>
                  <a:lnTo>
                    <a:pt x="1284" y="2540"/>
                  </a:lnTo>
                  <a:lnTo>
                    <a:pt x="1236" y="2540"/>
                  </a:lnTo>
                  <a:lnTo>
                    <a:pt x="1189" y="2544"/>
                  </a:lnTo>
                  <a:lnTo>
                    <a:pt x="1141" y="2544"/>
                  </a:lnTo>
                  <a:lnTo>
                    <a:pt x="1094" y="2550"/>
                  </a:lnTo>
                  <a:lnTo>
                    <a:pt x="1046" y="2552"/>
                  </a:lnTo>
                  <a:lnTo>
                    <a:pt x="999" y="2556"/>
                  </a:lnTo>
                  <a:lnTo>
                    <a:pt x="951" y="2556"/>
                  </a:lnTo>
                  <a:lnTo>
                    <a:pt x="904" y="2564"/>
                  </a:lnTo>
                  <a:lnTo>
                    <a:pt x="856" y="2564"/>
                  </a:lnTo>
                  <a:lnTo>
                    <a:pt x="808" y="2571"/>
                  </a:lnTo>
                  <a:lnTo>
                    <a:pt x="761" y="2571"/>
                  </a:lnTo>
                  <a:lnTo>
                    <a:pt x="713" y="2579"/>
                  </a:lnTo>
                  <a:lnTo>
                    <a:pt x="666" y="2580"/>
                  </a:lnTo>
                  <a:lnTo>
                    <a:pt x="618" y="2588"/>
                  </a:lnTo>
                  <a:lnTo>
                    <a:pt x="571" y="2588"/>
                  </a:lnTo>
                  <a:lnTo>
                    <a:pt x="523" y="2599"/>
                  </a:lnTo>
                  <a:lnTo>
                    <a:pt x="475" y="2599"/>
                  </a:lnTo>
                  <a:lnTo>
                    <a:pt x="428" y="2607"/>
                  </a:lnTo>
                  <a:lnTo>
                    <a:pt x="380" y="2607"/>
                  </a:lnTo>
                  <a:lnTo>
                    <a:pt x="333" y="2617"/>
                  </a:lnTo>
                  <a:lnTo>
                    <a:pt x="285" y="2618"/>
                  </a:lnTo>
                  <a:lnTo>
                    <a:pt x="238" y="2627"/>
                  </a:lnTo>
                  <a:lnTo>
                    <a:pt x="190" y="2627"/>
                  </a:lnTo>
                  <a:lnTo>
                    <a:pt x="143" y="2751"/>
                  </a:lnTo>
                  <a:lnTo>
                    <a:pt x="95" y="2792"/>
                  </a:lnTo>
                  <a:lnTo>
                    <a:pt x="47" y="2949"/>
                  </a:lnTo>
                  <a:lnTo>
                    <a:pt x="0" y="29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328760" y="776160"/>
              <a:ext cx="1440" cy="468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270080" y="545796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270080" y="498960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270080" y="451944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270080" y="405288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0080" y="358452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270080" y="311796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270080" y="264780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270080" y="218124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270080" y="171288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270080" y="124452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270080" y="77616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328760" y="545796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V="1">
              <a:off x="1328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V="1">
              <a:off x="14032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V="1">
              <a:off x="1479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V="1">
              <a:off x="1555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V="1">
              <a:off x="16304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17064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17812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18572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V="1">
              <a:off x="19321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20080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20829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21589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22352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23097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23860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V="1">
              <a:off x="2460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2536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26114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2687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V="1">
              <a:off x="27637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2838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29145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29894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0654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V="1">
              <a:off x="31399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32162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32907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33670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>
              <a:off x="34434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V="1">
              <a:off x="3517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35942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3668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V="1">
              <a:off x="37450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3819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38955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9718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V="1">
              <a:off x="40464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 flipV="1">
              <a:off x="41227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flipV="1">
              <a:off x="41972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 flipV="1">
              <a:off x="42735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V="1">
              <a:off x="43480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V="1">
              <a:off x="44244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V="1">
              <a:off x="44989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V="1">
              <a:off x="45752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 flipV="1">
              <a:off x="46512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 flipV="1">
              <a:off x="47260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48020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76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V="1">
              <a:off x="49528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5027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V="1">
              <a:off x="51022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5178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52531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V="1">
              <a:off x="53290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54039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54799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55548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56307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V="1">
              <a:off x="57056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57816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V="1">
              <a:off x="5857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59324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V="1">
              <a:off x="6008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V="1">
              <a:off x="60832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V="1">
              <a:off x="6159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62341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63104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63849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64612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65372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6117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V="1">
              <a:off x="66880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67626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V="1">
              <a:off x="6838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69134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V="1">
              <a:off x="6989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V="1">
              <a:off x="70660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 flipV="1">
              <a:off x="7140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7216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V="1">
              <a:off x="72914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7367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V="1">
              <a:off x="74422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751824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75931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76690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V="1">
              <a:off x="77454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78199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V="1">
              <a:off x="78962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79707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80470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81216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819792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827388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834876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842472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849960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V="1">
              <a:off x="857556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V="1">
              <a:off x="865044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flipV="1">
              <a:off x="8726400" y="545796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V="1">
              <a:off x="8801280" y="54579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956880" y="5343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51040" y="4875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851040" y="4406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851040" y="3938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851040" y="34718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851040" y="30034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851040" y="2535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51040" y="2066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51040" y="16002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51040" y="11304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46280" y="66204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rot="16200000">
              <a:off x="1273320" y="5492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rot="16200000">
              <a:off x="1651320" y="5492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rot="16200000">
              <a:off x="197568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rot="16200000">
              <a:off x="235188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rot="16200000">
              <a:off x="272988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rot="16200000">
              <a:off x="310752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rot="16200000">
              <a:off x="348552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rot="16200000">
              <a:off x="386316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 rot="16200000">
              <a:off x="423936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rot="16200000">
              <a:off x="461736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rot="16200000">
              <a:off x="499356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rot="16200000">
              <a:off x="537120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16200000">
              <a:off x="574920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rot="16200000">
              <a:off x="612684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rot="16200000">
              <a:off x="650340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rot="16200000">
              <a:off x="688104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16200000">
              <a:off x="725904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rot="16200000">
              <a:off x="763668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rot="16200000">
              <a:off x="801468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rot="16200000">
              <a:off x="8390880" y="5542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4907160" y="597996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16200000">
              <a:off x="-75240" y="2950560"/>
              <a:ext cx="77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190400" y="4952880"/>
              <a:ext cx="196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opped 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029200" y="3886200"/>
              <a:ext cx="20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MANENT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4" name=""/>
            <p:cNvGraphicFramePr/>
            <p:nvPr/>
          </p:nvGraphicFramePr>
          <p:xfrm>
            <a:off x="8610480" y="152280"/>
            <a:ext cx="30348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5" name="" descr="">
                      <a:hlinkClick r:id="rId2"/>
                    </p:cNvPr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610480" y="152280"/>
                      <a:ext cx="30348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6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401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GLOMERAT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371600" y="919080"/>
              <a:ext cx="7481880" cy="469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371600" y="919080"/>
              <a:ext cx="7481880" cy="46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371600" y="4438800"/>
              <a:ext cx="7481880" cy="1176120"/>
            </a:xfrm>
            <a:custGeom>
              <a:avLst/>
              <a:gdLst/>
              <a:ahLst/>
              <a:rect l="l" t="t" r="r" b="b"/>
              <a:pathLst>
                <a:path w="4713" h="741">
                  <a:moveTo>
                    <a:pt x="0" y="741"/>
                  </a:moveTo>
                  <a:lnTo>
                    <a:pt x="0" y="741"/>
                  </a:lnTo>
                  <a:lnTo>
                    <a:pt x="48" y="741"/>
                  </a:lnTo>
                  <a:lnTo>
                    <a:pt x="95" y="594"/>
                  </a:lnTo>
                  <a:lnTo>
                    <a:pt x="143" y="485"/>
                  </a:lnTo>
                  <a:lnTo>
                    <a:pt x="190" y="485"/>
                  </a:lnTo>
                  <a:lnTo>
                    <a:pt x="238" y="354"/>
                  </a:lnTo>
                  <a:lnTo>
                    <a:pt x="286" y="408"/>
                  </a:lnTo>
                  <a:lnTo>
                    <a:pt x="333" y="416"/>
                  </a:lnTo>
                  <a:lnTo>
                    <a:pt x="381" y="437"/>
                  </a:lnTo>
                  <a:lnTo>
                    <a:pt x="428" y="380"/>
                  </a:lnTo>
                  <a:lnTo>
                    <a:pt x="476" y="380"/>
                  </a:lnTo>
                  <a:lnTo>
                    <a:pt x="523" y="438"/>
                  </a:lnTo>
                  <a:lnTo>
                    <a:pt x="571" y="270"/>
                  </a:lnTo>
                  <a:lnTo>
                    <a:pt x="620" y="270"/>
                  </a:lnTo>
                  <a:lnTo>
                    <a:pt x="667" y="305"/>
                  </a:lnTo>
                  <a:lnTo>
                    <a:pt x="715" y="416"/>
                  </a:lnTo>
                  <a:lnTo>
                    <a:pt x="762" y="416"/>
                  </a:lnTo>
                  <a:lnTo>
                    <a:pt x="810" y="414"/>
                  </a:lnTo>
                  <a:lnTo>
                    <a:pt x="857" y="185"/>
                  </a:lnTo>
                  <a:lnTo>
                    <a:pt x="905" y="399"/>
                  </a:lnTo>
                  <a:lnTo>
                    <a:pt x="952" y="366"/>
                  </a:lnTo>
                  <a:lnTo>
                    <a:pt x="1000" y="196"/>
                  </a:lnTo>
                  <a:lnTo>
                    <a:pt x="1048" y="213"/>
                  </a:lnTo>
                  <a:lnTo>
                    <a:pt x="1095" y="248"/>
                  </a:lnTo>
                  <a:lnTo>
                    <a:pt x="1143" y="405"/>
                  </a:lnTo>
                  <a:lnTo>
                    <a:pt x="1190" y="411"/>
                  </a:lnTo>
                  <a:lnTo>
                    <a:pt x="1238" y="411"/>
                  </a:lnTo>
                  <a:lnTo>
                    <a:pt x="1285" y="113"/>
                  </a:lnTo>
                  <a:lnTo>
                    <a:pt x="1333" y="372"/>
                  </a:lnTo>
                  <a:lnTo>
                    <a:pt x="1380" y="337"/>
                  </a:lnTo>
                  <a:lnTo>
                    <a:pt x="1428" y="151"/>
                  </a:lnTo>
                  <a:lnTo>
                    <a:pt x="1476" y="178"/>
                  </a:lnTo>
                  <a:lnTo>
                    <a:pt x="1523" y="214"/>
                  </a:lnTo>
                  <a:lnTo>
                    <a:pt x="1571" y="385"/>
                  </a:lnTo>
                  <a:lnTo>
                    <a:pt x="1618" y="402"/>
                  </a:lnTo>
                  <a:lnTo>
                    <a:pt x="1666" y="401"/>
                  </a:lnTo>
                  <a:lnTo>
                    <a:pt x="1713" y="80"/>
                  </a:lnTo>
                  <a:lnTo>
                    <a:pt x="1761" y="334"/>
                  </a:lnTo>
                  <a:lnTo>
                    <a:pt x="1810" y="307"/>
                  </a:lnTo>
                  <a:lnTo>
                    <a:pt x="1857" y="116"/>
                  </a:lnTo>
                  <a:lnTo>
                    <a:pt x="1905" y="170"/>
                  </a:lnTo>
                  <a:lnTo>
                    <a:pt x="1952" y="199"/>
                  </a:lnTo>
                  <a:lnTo>
                    <a:pt x="2000" y="337"/>
                  </a:lnTo>
                  <a:lnTo>
                    <a:pt x="2047" y="361"/>
                  </a:lnTo>
                  <a:lnTo>
                    <a:pt x="2095" y="358"/>
                  </a:lnTo>
                  <a:lnTo>
                    <a:pt x="2142" y="53"/>
                  </a:lnTo>
                  <a:lnTo>
                    <a:pt x="2190" y="288"/>
                  </a:lnTo>
                  <a:lnTo>
                    <a:pt x="2238" y="263"/>
                  </a:lnTo>
                  <a:lnTo>
                    <a:pt x="2285" y="93"/>
                  </a:lnTo>
                  <a:lnTo>
                    <a:pt x="2333" y="164"/>
                  </a:lnTo>
                  <a:lnTo>
                    <a:pt x="2380" y="189"/>
                  </a:lnTo>
                  <a:lnTo>
                    <a:pt x="2428" y="323"/>
                  </a:lnTo>
                  <a:lnTo>
                    <a:pt x="2475" y="351"/>
                  </a:lnTo>
                  <a:lnTo>
                    <a:pt x="2523" y="349"/>
                  </a:lnTo>
                  <a:lnTo>
                    <a:pt x="2571" y="34"/>
                  </a:lnTo>
                  <a:lnTo>
                    <a:pt x="2618" y="297"/>
                  </a:lnTo>
                  <a:lnTo>
                    <a:pt x="2666" y="271"/>
                  </a:lnTo>
                  <a:lnTo>
                    <a:pt x="2713" y="68"/>
                  </a:lnTo>
                  <a:lnTo>
                    <a:pt x="2761" y="137"/>
                  </a:lnTo>
                  <a:lnTo>
                    <a:pt x="2808" y="163"/>
                  </a:lnTo>
                  <a:lnTo>
                    <a:pt x="2856" y="359"/>
                  </a:lnTo>
                  <a:lnTo>
                    <a:pt x="2903" y="384"/>
                  </a:lnTo>
                  <a:lnTo>
                    <a:pt x="2952" y="380"/>
                  </a:lnTo>
                  <a:lnTo>
                    <a:pt x="3000" y="18"/>
                  </a:lnTo>
                  <a:lnTo>
                    <a:pt x="3047" y="238"/>
                  </a:lnTo>
                  <a:lnTo>
                    <a:pt x="3095" y="225"/>
                  </a:lnTo>
                  <a:lnTo>
                    <a:pt x="3142" y="85"/>
                  </a:lnTo>
                  <a:lnTo>
                    <a:pt x="3190" y="164"/>
                  </a:lnTo>
                  <a:lnTo>
                    <a:pt x="3237" y="180"/>
                  </a:lnTo>
                  <a:lnTo>
                    <a:pt x="3285" y="252"/>
                  </a:lnTo>
                  <a:lnTo>
                    <a:pt x="3333" y="325"/>
                  </a:lnTo>
                  <a:lnTo>
                    <a:pt x="3380" y="313"/>
                  </a:lnTo>
                  <a:lnTo>
                    <a:pt x="3428" y="23"/>
                  </a:lnTo>
                  <a:lnTo>
                    <a:pt x="3475" y="80"/>
                  </a:lnTo>
                  <a:lnTo>
                    <a:pt x="3523" y="93"/>
                  </a:lnTo>
                  <a:lnTo>
                    <a:pt x="3570" y="286"/>
                  </a:lnTo>
                  <a:lnTo>
                    <a:pt x="3618" y="362"/>
                  </a:lnTo>
                  <a:lnTo>
                    <a:pt x="3665" y="354"/>
                  </a:lnTo>
                  <a:lnTo>
                    <a:pt x="3713" y="0"/>
                  </a:lnTo>
                  <a:lnTo>
                    <a:pt x="3761" y="177"/>
                  </a:lnTo>
                  <a:lnTo>
                    <a:pt x="3808" y="181"/>
                  </a:lnTo>
                  <a:lnTo>
                    <a:pt x="3856" y="88"/>
                  </a:lnTo>
                  <a:lnTo>
                    <a:pt x="3903" y="202"/>
                  </a:lnTo>
                  <a:lnTo>
                    <a:pt x="3951" y="205"/>
                  </a:lnTo>
                  <a:lnTo>
                    <a:pt x="3998" y="37"/>
                  </a:lnTo>
                  <a:lnTo>
                    <a:pt x="4046" y="345"/>
                  </a:lnTo>
                  <a:lnTo>
                    <a:pt x="4094" y="295"/>
                  </a:lnTo>
                  <a:lnTo>
                    <a:pt x="4142" y="68"/>
                  </a:lnTo>
                  <a:lnTo>
                    <a:pt x="4190" y="89"/>
                  </a:lnTo>
                  <a:lnTo>
                    <a:pt x="4237" y="140"/>
                  </a:lnTo>
                  <a:lnTo>
                    <a:pt x="4285" y="503"/>
                  </a:lnTo>
                  <a:lnTo>
                    <a:pt x="4332" y="507"/>
                  </a:lnTo>
                  <a:lnTo>
                    <a:pt x="4380" y="507"/>
                  </a:lnTo>
                  <a:lnTo>
                    <a:pt x="4427" y="344"/>
                  </a:lnTo>
                  <a:lnTo>
                    <a:pt x="4475" y="559"/>
                  </a:lnTo>
                  <a:lnTo>
                    <a:pt x="4523" y="445"/>
                  </a:lnTo>
                  <a:lnTo>
                    <a:pt x="4570" y="372"/>
                  </a:lnTo>
                  <a:lnTo>
                    <a:pt x="4618" y="372"/>
                  </a:lnTo>
                  <a:lnTo>
                    <a:pt x="4665" y="485"/>
                  </a:lnTo>
                  <a:lnTo>
                    <a:pt x="4713" y="385"/>
                  </a:lnTo>
                  <a:lnTo>
                    <a:pt x="4713" y="741"/>
                  </a:lnTo>
                  <a:lnTo>
                    <a:pt x="4665" y="741"/>
                  </a:lnTo>
                  <a:lnTo>
                    <a:pt x="4618" y="741"/>
                  </a:lnTo>
                  <a:lnTo>
                    <a:pt x="4570" y="741"/>
                  </a:lnTo>
                  <a:lnTo>
                    <a:pt x="4523" y="741"/>
                  </a:lnTo>
                  <a:lnTo>
                    <a:pt x="4475" y="741"/>
                  </a:lnTo>
                  <a:lnTo>
                    <a:pt x="4427" y="741"/>
                  </a:lnTo>
                  <a:lnTo>
                    <a:pt x="4380" y="741"/>
                  </a:lnTo>
                  <a:lnTo>
                    <a:pt x="4332" y="741"/>
                  </a:lnTo>
                  <a:lnTo>
                    <a:pt x="4285" y="741"/>
                  </a:lnTo>
                  <a:lnTo>
                    <a:pt x="4237" y="741"/>
                  </a:lnTo>
                  <a:lnTo>
                    <a:pt x="4190" y="741"/>
                  </a:lnTo>
                  <a:lnTo>
                    <a:pt x="4142" y="741"/>
                  </a:lnTo>
                  <a:lnTo>
                    <a:pt x="4094" y="741"/>
                  </a:lnTo>
                  <a:lnTo>
                    <a:pt x="4046" y="741"/>
                  </a:lnTo>
                  <a:lnTo>
                    <a:pt x="3998" y="741"/>
                  </a:lnTo>
                  <a:lnTo>
                    <a:pt x="3951" y="741"/>
                  </a:lnTo>
                  <a:lnTo>
                    <a:pt x="3903" y="741"/>
                  </a:lnTo>
                  <a:lnTo>
                    <a:pt x="3856" y="741"/>
                  </a:lnTo>
                  <a:lnTo>
                    <a:pt x="3808" y="741"/>
                  </a:lnTo>
                  <a:lnTo>
                    <a:pt x="3761" y="741"/>
                  </a:lnTo>
                  <a:lnTo>
                    <a:pt x="3713" y="741"/>
                  </a:lnTo>
                  <a:lnTo>
                    <a:pt x="3665" y="741"/>
                  </a:lnTo>
                  <a:lnTo>
                    <a:pt x="3618" y="741"/>
                  </a:lnTo>
                  <a:lnTo>
                    <a:pt x="3570" y="741"/>
                  </a:lnTo>
                  <a:lnTo>
                    <a:pt x="3523" y="741"/>
                  </a:lnTo>
                  <a:lnTo>
                    <a:pt x="3475" y="741"/>
                  </a:lnTo>
                  <a:lnTo>
                    <a:pt x="3428" y="741"/>
                  </a:lnTo>
                  <a:lnTo>
                    <a:pt x="3380" y="741"/>
                  </a:lnTo>
                  <a:lnTo>
                    <a:pt x="3333" y="741"/>
                  </a:lnTo>
                  <a:lnTo>
                    <a:pt x="3285" y="741"/>
                  </a:lnTo>
                  <a:lnTo>
                    <a:pt x="3237" y="741"/>
                  </a:lnTo>
                  <a:lnTo>
                    <a:pt x="3190" y="741"/>
                  </a:lnTo>
                  <a:lnTo>
                    <a:pt x="3142" y="741"/>
                  </a:lnTo>
                  <a:lnTo>
                    <a:pt x="3095" y="741"/>
                  </a:lnTo>
                  <a:lnTo>
                    <a:pt x="3047" y="741"/>
                  </a:lnTo>
                  <a:lnTo>
                    <a:pt x="3000" y="741"/>
                  </a:lnTo>
                  <a:lnTo>
                    <a:pt x="2952" y="741"/>
                  </a:lnTo>
                  <a:lnTo>
                    <a:pt x="2903" y="741"/>
                  </a:lnTo>
                  <a:lnTo>
                    <a:pt x="2856" y="741"/>
                  </a:lnTo>
                  <a:lnTo>
                    <a:pt x="2808" y="741"/>
                  </a:lnTo>
                  <a:lnTo>
                    <a:pt x="2761" y="741"/>
                  </a:lnTo>
                  <a:lnTo>
                    <a:pt x="2713" y="741"/>
                  </a:lnTo>
                  <a:lnTo>
                    <a:pt x="2666" y="741"/>
                  </a:lnTo>
                  <a:lnTo>
                    <a:pt x="2618" y="741"/>
                  </a:lnTo>
                  <a:lnTo>
                    <a:pt x="2571" y="741"/>
                  </a:lnTo>
                  <a:lnTo>
                    <a:pt x="2523" y="741"/>
                  </a:lnTo>
                  <a:lnTo>
                    <a:pt x="2475" y="741"/>
                  </a:lnTo>
                  <a:lnTo>
                    <a:pt x="2428" y="741"/>
                  </a:lnTo>
                  <a:lnTo>
                    <a:pt x="2380" y="741"/>
                  </a:lnTo>
                  <a:lnTo>
                    <a:pt x="2333" y="741"/>
                  </a:lnTo>
                  <a:lnTo>
                    <a:pt x="2285" y="741"/>
                  </a:lnTo>
                  <a:lnTo>
                    <a:pt x="2238" y="741"/>
                  </a:lnTo>
                  <a:lnTo>
                    <a:pt x="2190" y="741"/>
                  </a:lnTo>
                  <a:lnTo>
                    <a:pt x="2142" y="741"/>
                  </a:lnTo>
                  <a:lnTo>
                    <a:pt x="2095" y="741"/>
                  </a:lnTo>
                  <a:lnTo>
                    <a:pt x="2047" y="741"/>
                  </a:lnTo>
                  <a:lnTo>
                    <a:pt x="2000" y="741"/>
                  </a:lnTo>
                  <a:lnTo>
                    <a:pt x="1952" y="741"/>
                  </a:lnTo>
                  <a:lnTo>
                    <a:pt x="1905" y="741"/>
                  </a:lnTo>
                  <a:lnTo>
                    <a:pt x="1857" y="741"/>
                  </a:lnTo>
                  <a:lnTo>
                    <a:pt x="1810" y="741"/>
                  </a:lnTo>
                  <a:lnTo>
                    <a:pt x="1761" y="741"/>
                  </a:lnTo>
                  <a:lnTo>
                    <a:pt x="1713" y="741"/>
                  </a:lnTo>
                  <a:lnTo>
                    <a:pt x="1666" y="741"/>
                  </a:lnTo>
                  <a:lnTo>
                    <a:pt x="1618" y="741"/>
                  </a:lnTo>
                  <a:lnTo>
                    <a:pt x="1571" y="741"/>
                  </a:lnTo>
                  <a:lnTo>
                    <a:pt x="1523" y="741"/>
                  </a:lnTo>
                  <a:lnTo>
                    <a:pt x="1476" y="741"/>
                  </a:lnTo>
                  <a:lnTo>
                    <a:pt x="1428" y="741"/>
                  </a:lnTo>
                  <a:lnTo>
                    <a:pt x="1380" y="741"/>
                  </a:lnTo>
                  <a:lnTo>
                    <a:pt x="1333" y="741"/>
                  </a:lnTo>
                  <a:lnTo>
                    <a:pt x="1285" y="741"/>
                  </a:lnTo>
                  <a:lnTo>
                    <a:pt x="1238" y="741"/>
                  </a:lnTo>
                  <a:lnTo>
                    <a:pt x="1190" y="741"/>
                  </a:lnTo>
                  <a:lnTo>
                    <a:pt x="1143" y="741"/>
                  </a:lnTo>
                  <a:lnTo>
                    <a:pt x="1095" y="741"/>
                  </a:lnTo>
                  <a:lnTo>
                    <a:pt x="1048" y="741"/>
                  </a:lnTo>
                  <a:lnTo>
                    <a:pt x="1000" y="741"/>
                  </a:lnTo>
                  <a:lnTo>
                    <a:pt x="952" y="741"/>
                  </a:lnTo>
                  <a:lnTo>
                    <a:pt x="905" y="741"/>
                  </a:lnTo>
                  <a:lnTo>
                    <a:pt x="857" y="741"/>
                  </a:lnTo>
                  <a:lnTo>
                    <a:pt x="810" y="741"/>
                  </a:lnTo>
                  <a:lnTo>
                    <a:pt x="762" y="741"/>
                  </a:lnTo>
                  <a:lnTo>
                    <a:pt x="715" y="741"/>
                  </a:lnTo>
                  <a:lnTo>
                    <a:pt x="667" y="741"/>
                  </a:lnTo>
                  <a:lnTo>
                    <a:pt x="620" y="741"/>
                  </a:lnTo>
                  <a:lnTo>
                    <a:pt x="571" y="741"/>
                  </a:lnTo>
                  <a:lnTo>
                    <a:pt x="523" y="741"/>
                  </a:lnTo>
                  <a:lnTo>
                    <a:pt x="476" y="741"/>
                  </a:lnTo>
                  <a:lnTo>
                    <a:pt x="428" y="741"/>
                  </a:lnTo>
                  <a:lnTo>
                    <a:pt x="381" y="741"/>
                  </a:lnTo>
                  <a:lnTo>
                    <a:pt x="333" y="741"/>
                  </a:lnTo>
                  <a:lnTo>
                    <a:pt x="286" y="741"/>
                  </a:lnTo>
                  <a:lnTo>
                    <a:pt x="238" y="741"/>
                  </a:lnTo>
                  <a:lnTo>
                    <a:pt x="190" y="741"/>
                  </a:lnTo>
                  <a:lnTo>
                    <a:pt x="143" y="741"/>
                  </a:lnTo>
                  <a:lnTo>
                    <a:pt x="95" y="741"/>
                  </a:lnTo>
                  <a:lnTo>
                    <a:pt x="48" y="741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371600" y="2776680"/>
              <a:ext cx="7481880" cy="2838240"/>
            </a:xfrm>
            <a:custGeom>
              <a:avLst/>
              <a:gdLst/>
              <a:ahLst/>
              <a:rect l="l" t="t" r="r" b="b"/>
              <a:pathLst>
                <a:path w="4713" h="1788">
                  <a:moveTo>
                    <a:pt x="0" y="1788"/>
                  </a:moveTo>
                  <a:lnTo>
                    <a:pt x="0" y="1788"/>
                  </a:lnTo>
                  <a:lnTo>
                    <a:pt x="48" y="1788"/>
                  </a:lnTo>
                  <a:lnTo>
                    <a:pt x="95" y="1641"/>
                  </a:lnTo>
                  <a:lnTo>
                    <a:pt x="143" y="1532"/>
                  </a:lnTo>
                  <a:lnTo>
                    <a:pt x="190" y="1532"/>
                  </a:lnTo>
                  <a:lnTo>
                    <a:pt x="238" y="1361"/>
                  </a:lnTo>
                  <a:lnTo>
                    <a:pt x="286" y="1209"/>
                  </a:lnTo>
                  <a:lnTo>
                    <a:pt x="333" y="1209"/>
                  </a:lnTo>
                  <a:lnTo>
                    <a:pt x="381" y="1183"/>
                  </a:lnTo>
                  <a:lnTo>
                    <a:pt x="428" y="941"/>
                  </a:lnTo>
                  <a:lnTo>
                    <a:pt x="476" y="941"/>
                  </a:lnTo>
                  <a:lnTo>
                    <a:pt x="523" y="937"/>
                  </a:lnTo>
                  <a:lnTo>
                    <a:pt x="571" y="501"/>
                  </a:lnTo>
                  <a:lnTo>
                    <a:pt x="620" y="501"/>
                  </a:lnTo>
                  <a:lnTo>
                    <a:pt x="667" y="522"/>
                  </a:lnTo>
                  <a:lnTo>
                    <a:pt x="715" y="558"/>
                  </a:lnTo>
                  <a:lnTo>
                    <a:pt x="762" y="562"/>
                  </a:lnTo>
                  <a:lnTo>
                    <a:pt x="810" y="612"/>
                  </a:lnTo>
                  <a:lnTo>
                    <a:pt x="857" y="545"/>
                  </a:lnTo>
                  <a:lnTo>
                    <a:pt x="905" y="545"/>
                  </a:lnTo>
                  <a:lnTo>
                    <a:pt x="952" y="547"/>
                  </a:lnTo>
                  <a:lnTo>
                    <a:pt x="1000" y="282"/>
                  </a:lnTo>
                  <a:lnTo>
                    <a:pt x="1048" y="282"/>
                  </a:lnTo>
                  <a:lnTo>
                    <a:pt x="1095" y="282"/>
                  </a:lnTo>
                  <a:lnTo>
                    <a:pt x="1143" y="621"/>
                  </a:lnTo>
                  <a:lnTo>
                    <a:pt x="1190" y="621"/>
                  </a:lnTo>
                  <a:lnTo>
                    <a:pt x="1238" y="621"/>
                  </a:lnTo>
                  <a:lnTo>
                    <a:pt x="1285" y="494"/>
                  </a:lnTo>
                  <a:lnTo>
                    <a:pt x="1333" y="494"/>
                  </a:lnTo>
                  <a:lnTo>
                    <a:pt x="1380" y="494"/>
                  </a:lnTo>
                  <a:lnTo>
                    <a:pt x="1428" y="172"/>
                  </a:lnTo>
                  <a:lnTo>
                    <a:pt x="1476" y="179"/>
                  </a:lnTo>
                  <a:lnTo>
                    <a:pt x="1523" y="179"/>
                  </a:lnTo>
                  <a:lnTo>
                    <a:pt x="1571" y="553"/>
                  </a:lnTo>
                  <a:lnTo>
                    <a:pt x="1618" y="554"/>
                  </a:lnTo>
                  <a:lnTo>
                    <a:pt x="1666" y="554"/>
                  </a:lnTo>
                  <a:lnTo>
                    <a:pt x="1713" y="435"/>
                  </a:lnTo>
                  <a:lnTo>
                    <a:pt x="1761" y="437"/>
                  </a:lnTo>
                  <a:lnTo>
                    <a:pt x="1810" y="437"/>
                  </a:lnTo>
                  <a:lnTo>
                    <a:pt x="1857" y="125"/>
                  </a:lnTo>
                  <a:lnTo>
                    <a:pt x="1905" y="139"/>
                  </a:lnTo>
                  <a:lnTo>
                    <a:pt x="1952" y="139"/>
                  </a:lnTo>
                  <a:lnTo>
                    <a:pt x="2000" y="496"/>
                  </a:lnTo>
                  <a:lnTo>
                    <a:pt x="2047" y="498"/>
                  </a:lnTo>
                  <a:lnTo>
                    <a:pt x="2095" y="498"/>
                  </a:lnTo>
                  <a:lnTo>
                    <a:pt x="2142" y="355"/>
                  </a:lnTo>
                  <a:lnTo>
                    <a:pt x="2190" y="357"/>
                  </a:lnTo>
                  <a:lnTo>
                    <a:pt x="2238" y="357"/>
                  </a:lnTo>
                  <a:lnTo>
                    <a:pt x="2285" y="48"/>
                  </a:lnTo>
                  <a:lnTo>
                    <a:pt x="2333" y="69"/>
                  </a:lnTo>
                  <a:lnTo>
                    <a:pt x="2380" y="69"/>
                  </a:lnTo>
                  <a:lnTo>
                    <a:pt x="2428" y="417"/>
                  </a:lnTo>
                  <a:lnTo>
                    <a:pt x="2475" y="419"/>
                  </a:lnTo>
                  <a:lnTo>
                    <a:pt x="2523" y="419"/>
                  </a:lnTo>
                  <a:lnTo>
                    <a:pt x="2571" y="317"/>
                  </a:lnTo>
                  <a:lnTo>
                    <a:pt x="2618" y="318"/>
                  </a:lnTo>
                  <a:lnTo>
                    <a:pt x="2666" y="318"/>
                  </a:lnTo>
                  <a:lnTo>
                    <a:pt x="2713" y="0"/>
                  </a:lnTo>
                  <a:lnTo>
                    <a:pt x="2761" y="26"/>
                  </a:lnTo>
                  <a:lnTo>
                    <a:pt x="2808" y="26"/>
                  </a:lnTo>
                  <a:lnTo>
                    <a:pt x="2856" y="398"/>
                  </a:lnTo>
                  <a:lnTo>
                    <a:pt x="2903" y="400"/>
                  </a:lnTo>
                  <a:lnTo>
                    <a:pt x="2952" y="400"/>
                  </a:lnTo>
                  <a:lnTo>
                    <a:pt x="3000" y="267"/>
                  </a:lnTo>
                  <a:lnTo>
                    <a:pt x="3047" y="269"/>
                  </a:lnTo>
                  <a:lnTo>
                    <a:pt x="3095" y="269"/>
                  </a:lnTo>
                  <a:lnTo>
                    <a:pt x="3142" y="16"/>
                  </a:lnTo>
                  <a:lnTo>
                    <a:pt x="3190" y="34"/>
                  </a:lnTo>
                  <a:lnTo>
                    <a:pt x="3237" y="34"/>
                  </a:lnTo>
                  <a:lnTo>
                    <a:pt x="3285" y="424"/>
                  </a:lnTo>
                  <a:lnTo>
                    <a:pt x="3333" y="424"/>
                  </a:lnTo>
                  <a:lnTo>
                    <a:pt x="3380" y="424"/>
                  </a:lnTo>
                  <a:lnTo>
                    <a:pt x="3428" y="72"/>
                  </a:lnTo>
                  <a:lnTo>
                    <a:pt x="3475" y="72"/>
                  </a:lnTo>
                  <a:lnTo>
                    <a:pt x="3523" y="72"/>
                  </a:lnTo>
                  <a:lnTo>
                    <a:pt x="3570" y="199"/>
                  </a:lnTo>
                  <a:lnTo>
                    <a:pt x="3618" y="232"/>
                  </a:lnTo>
                  <a:lnTo>
                    <a:pt x="3665" y="232"/>
                  </a:lnTo>
                  <a:lnTo>
                    <a:pt x="3713" y="361"/>
                  </a:lnTo>
                  <a:lnTo>
                    <a:pt x="3761" y="362"/>
                  </a:lnTo>
                  <a:lnTo>
                    <a:pt x="3808" y="362"/>
                  </a:lnTo>
                  <a:lnTo>
                    <a:pt x="3856" y="283"/>
                  </a:lnTo>
                  <a:lnTo>
                    <a:pt x="3903" y="284"/>
                  </a:lnTo>
                  <a:lnTo>
                    <a:pt x="3951" y="284"/>
                  </a:lnTo>
                  <a:lnTo>
                    <a:pt x="3998" y="593"/>
                  </a:lnTo>
                  <a:lnTo>
                    <a:pt x="4046" y="593"/>
                  </a:lnTo>
                  <a:lnTo>
                    <a:pt x="4094" y="593"/>
                  </a:lnTo>
                  <a:lnTo>
                    <a:pt x="4142" y="38"/>
                  </a:lnTo>
                  <a:lnTo>
                    <a:pt x="4190" y="38"/>
                  </a:lnTo>
                  <a:lnTo>
                    <a:pt x="4237" y="38"/>
                  </a:lnTo>
                  <a:lnTo>
                    <a:pt x="4285" y="274"/>
                  </a:lnTo>
                  <a:lnTo>
                    <a:pt x="4332" y="286"/>
                  </a:lnTo>
                  <a:lnTo>
                    <a:pt x="4380" y="286"/>
                  </a:lnTo>
                  <a:lnTo>
                    <a:pt x="4427" y="491"/>
                  </a:lnTo>
                  <a:lnTo>
                    <a:pt x="4475" y="511"/>
                  </a:lnTo>
                  <a:lnTo>
                    <a:pt x="4523" y="506"/>
                  </a:lnTo>
                  <a:lnTo>
                    <a:pt x="4570" y="510"/>
                  </a:lnTo>
                  <a:lnTo>
                    <a:pt x="4618" y="524"/>
                  </a:lnTo>
                  <a:lnTo>
                    <a:pt x="4665" y="524"/>
                  </a:lnTo>
                  <a:lnTo>
                    <a:pt x="4713" y="1048"/>
                  </a:lnTo>
                  <a:lnTo>
                    <a:pt x="4713" y="1432"/>
                  </a:lnTo>
                  <a:lnTo>
                    <a:pt x="4665" y="1532"/>
                  </a:lnTo>
                  <a:lnTo>
                    <a:pt x="4618" y="1419"/>
                  </a:lnTo>
                  <a:lnTo>
                    <a:pt x="4570" y="1419"/>
                  </a:lnTo>
                  <a:lnTo>
                    <a:pt x="4523" y="1492"/>
                  </a:lnTo>
                  <a:lnTo>
                    <a:pt x="4475" y="1606"/>
                  </a:lnTo>
                  <a:lnTo>
                    <a:pt x="4427" y="1391"/>
                  </a:lnTo>
                  <a:lnTo>
                    <a:pt x="4380" y="1554"/>
                  </a:lnTo>
                  <a:lnTo>
                    <a:pt x="4332" y="1554"/>
                  </a:lnTo>
                  <a:lnTo>
                    <a:pt x="4285" y="1550"/>
                  </a:lnTo>
                  <a:lnTo>
                    <a:pt x="4237" y="1187"/>
                  </a:lnTo>
                  <a:lnTo>
                    <a:pt x="4190" y="1136"/>
                  </a:lnTo>
                  <a:lnTo>
                    <a:pt x="4142" y="1115"/>
                  </a:lnTo>
                  <a:lnTo>
                    <a:pt x="4094" y="1342"/>
                  </a:lnTo>
                  <a:lnTo>
                    <a:pt x="4046" y="1392"/>
                  </a:lnTo>
                  <a:lnTo>
                    <a:pt x="3998" y="1084"/>
                  </a:lnTo>
                  <a:lnTo>
                    <a:pt x="3951" y="1252"/>
                  </a:lnTo>
                  <a:lnTo>
                    <a:pt x="3903" y="1249"/>
                  </a:lnTo>
                  <a:lnTo>
                    <a:pt x="3856" y="1135"/>
                  </a:lnTo>
                  <a:lnTo>
                    <a:pt x="3808" y="1228"/>
                  </a:lnTo>
                  <a:lnTo>
                    <a:pt x="3761" y="1224"/>
                  </a:lnTo>
                  <a:lnTo>
                    <a:pt x="3713" y="1047"/>
                  </a:lnTo>
                  <a:lnTo>
                    <a:pt x="3665" y="1401"/>
                  </a:lnTo>
                  <a:lnTo>
                    <a:pt x="3618" y="1409"/>
                  </a:lnTo>
                  <a:lnTo>
                    <a:pt x="3570" y="1333"/>
                  </a:lnTo>
                  <a:lnTo>
                    <a:pt x="3523" y="1140"/>
                  </a:lnTo>
                  <a:lnTo>
                    <a:pt x="3475" y="1127"/>
                  </a:lnTo>
                  <a:lnTo>
                    <a:pt x="3428" y="1070"/>
                  </a:lnTo>
                  <a:lnTo>
                    <a:pt x="3380" y="1360"/>
                  </a:lnTo>
                  <a:lnTo>
                    <a:pt x="3333" y="1372"/>
                  </a:lnTo>
                  <a:lnTo>
                    <a:pt x="3285" y="1299"/>
                  </a:lnTo>
                  <a:lnTo>
                    <a:pt x="3237" y="1227"/>
                  </a:lnTo>
                  <a:lnTo>
                    <a:pt x="3190" y="1211"/>
                  </a:lnTo>
                  <a:lnTo>
                    <a:pt x="3142" y="1132"/>
                  </a:lnTo>
                  <a:lnTo>
                    <a:pt x="3095" y="1272"/>
                  </a:lnTo>
                  <a:lnTo>
                    <a:pt x="3047" y="1285"/>
                  </a:lnTo>
                  <a:lnTo>
                    <a:pt x="3000" y="1065"/>
                  </a:lnTo>
                  <a:lnTo>
                    <a:pt x="2952" y="1427"/>
                  </a:lnTo>
                  <a:lnTo>
                    <a:pt x="2903" y="1431"/>
                  </a:lnTo>
                  <a:lnTo>
                    <a:pt x="2856" y="1406"/>
                  </a:lnTo>
                  <a:lnTo>
                    <a:pt x="2808" y="1210"/>
                  </a:lnTo>
                  <a:lnTo>
                    <a:pt x="2761" y="1184"/>
                  </a:lnTo>
                  <a:lnTo>
                    <a:pt x="2713" y="1115"/>
                  </a:lnTo>
                  <a:lnTo>
                    <a:pt x="2666" y="1318"/>
                  </a:lnTo>
                  <a:lnTo>
                    <a:pt x="2618" y="1344"/>
                  </a:lnTo>
                  <a:lnTo>
                    <a:pt x="2571" y="1081"/>
                  </a:lnTo>
                  <a:lnTo>
                    <a:pt x="2523" y="1396"/>
                  </a:lnTo>
                  <a:lnTo>
                    <a:pt x="2475" y="1398"/>
                  </a:lnTo>
                  <a:lnTo>
                    <a:pt x="2428" y="1370"/>
                  </a:lnTo>
                  <a:lnTo>
                    <a:pt x="2380" y="1236"/>
                  </a:lnTo>
                  <a:lnTo>
                    <a:pt x="2333" y="1211"/>
                  </a:lnTo>
                  <a:lnTo>
                    <a:pt x="2285" y="1140"/>
                  </a:lnTo>
                  <a:lnTo>
                    <a:pt x="2238" y="1310"/>
                  </a:lnTo>
                  <a:lnTo>
                    <a:pt x="2190" y="1335"/>
                  </a:lnTo>
                  <a:lnTo>
                    <a:pt x="2142" y="1100"/>
                  </a:lnTo>
                  <a:lnTo>
                    <a:pt x="2095" y="1405"/>
                  </a:lnTo>
                  <a:lnTo>
                    <a:pt x="2047" y="1408"/>
                  </a:lnTo>
                  <a:lnTo>
                    <a:pt x="2000" y="1384"/>
                  </a:lnTo>
                  <a:lnTo>
                    <a:pt x="1952" y="1246"/>
                  </a:lnTo>
                  <a:lnTo>
                    <a:pt x="1905" y="1217"/>
                  </a:lnTo>
                  <a:lnTo>
                    <a:pt x="1857" y="1163"/>
                  </a:lnTo>
                  <a:lnTo>
                    <a:pt x="1810" y="1354"/>
                  </a:lnTo>
                  <a:lnTo>
                    <a:pt x="1761" y="1381"/>
                  </a:lnTo>
                  <a:lnTo>
                    <a:pt x="1713" y="1127"/>
                  </a:lnTo>
                  <a:lnTo>
                    <a:pt x="1666" y="1448"/>
                  </a:lnTo>
                  <a:lnTo>
                    <a:pt x="1618" y="1449"/>
                  </a:lnTo>
                  <a:lnTo>
                    <a:pt x="1571" y="1432"/>
                  </a:lnTo>
                  <a:lnTo>
                    <a:pt x="1523" y="1261"/>
                  </a:lnTo>
                  <a:lnTo>
                    <a:pt x="1476" y="1225"/>
                  </a:lnTo>
                  <a:lnTo>
                    <a:pt x="1428" y="1198"/>
                  </a:lnTo>
                  <a:lnTo>
                    <a:pt x="1380" y="1384"/>
                  </a:lnTo>
                  <a:lnTo>
                    <a:pt x="1333" y="1419"/>
                  </a:lnTo>
                  <a:lnTo>
                    <a:pt x="1285" y="1160"/>
                  </a:lnTo>
                  <a:lnTo>
                    <a:pt x="1238" y="1458"/>
                  </a:lnTo>
                  <a:lnTo>
                    <a:pt x="1190" y="1458"/>
                  </a:lnTo>
                  <a:lnTo>
                    <a:pt x="1143" y="1452"/>
                  </a:lnTo>
                  <a:lnTo>
                    <a:pt x="1095" y="1295"/>
                  </a:lnTo>
                  <a:lnTo>
                    <a:pt x="1048" y="1260"/>
                  </a:lnTo>
                  <a:lnTo>
                    <a:pt x="1000" y="1243"/>
                  </a:lnTo>
                  <a:lnTo>
                    <a:pt x="952" y="1413"/>
                  </a:lnTo>
                  <a:lnTo>
                    <a:pt x="905" y="1446"/>
                  </a:lnTo>
                  <a:lnTo>
                    <a:pt x="857" y="1232"/>
                  </a:lnTo>
                  <a:lnTo>
                    <a:pt x="810" y="1461"/>
                  </a:lnTo>
                  <a:lnTo>
                    <a:pt x="762" y="1463"/>
                  </a:lnTo>
                  <a:lnTo>
                    <a:pt x="715" y="1463"/>
                  </a:lnTo>
                  <a:lnTo>
                    <a:pt x="667" y="1352"/>
                  </a:lnTo>
                  <a:lnTo>
                    <a:pt x="620" y="1317"/>
                  </a:lnTo>
                  <a:lnTo>
                    <a:pt x="571" y="1317"/>
                  </a:lnTo>
                  <a:lnTo>
                    <a:pt x="523" y="1485"/>
                  </a:lnTo>
                  <a:lnTo>
                    <a:pt x="476" y="1427"/>
                  </a:lnTo>
                  <a:lnTo>
                    <a:pt x="428" y="1427"/>
                  </a:lnTo>
                  <a:lnTo>
                    <a:pt x="381" y="1484"/>
                  </a:lnTo>
                  <a:lnTo>
                    <a:pt x="333" y="1463"/>
                  </a:lnTo>
                  <a:lnTo>
                    <a:pt x="286" y="1455"/>
                  </a:lnTo>
                  <a:lnTo>
                    <a:pt x="238" y="1401"/>
                  </a:lnTo>
                  <a:lnTo>
                    <a:pt x="190" y="1532"/>
                  </a:lnTo>
                  <a:lnTo>
                    <a:pt x="143" y="1532"/>
                  </a:lnTo>
                  <a:lnTo>
                    <a:pt x="95" y="1641"/>
                  </a:lnTo>
                  <a:lnTo>
                    <a:pt x="48" y="1788"/>
                  </a:lnTo>
                  <a:lnTo>
                    <a:pt x="0" y="1788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371600" y="1994040"/>
              <a:ext cx="7481880" cy="3620880"/>
            </a:xfrm>
            <a:custGeom>
              <a:avLst/>
              <a:gdLst/>
              <a:ahLst/>
              <a:rect l="l" t="t" r="r" b="b"/>
              <a:pathLst>
                <a:path w="4713" h="2281">
                  <a:moveTo>
                    <a:pt x="0" y="2281"/>
                  </a:moveTo>
                  <a:lnTo>
                    <a:pt x="0" y="2281"/>
                  </a:lnTo>
                  <a:lnTo>
                    <a:pt x="48" y="2281"/>
                  </a:lnTo>
                  <a:lnTo>
                    <a:pt x="95" y="2134"/>
                  </a:lnTo>
                  <a:lnTo>
                    <a:pt x="143" y="2025"/>
                  </a:lnTo>
                  <a:lnTo>
                    <a:pt x="190" y="2025"/>
                  </a:lnTo>
                  <a:lnTo>
                    <a:pt x="238" y="1854"/>
                  </a:lnTo>
                  <a:lnTo>
                    <a:pt x="286" y="1702"/>
                  </a:lnTo>
                  <a:lnTo>
                    <a:pt x="333" y="1702"/>
                  </a:lnTo>
                  <a:lnTo>
                    <a:pt x="381" y="1676"/>
                  </a:lnTo>
                  <a:lnTo>
                    <a:pt x="428" y="1434"/>
                  </a:lnTo>
                  <a:lnTo>
                    <a:pt x="476" y="1434"/>
                  </a:lnTo>
                  <a:lnTo>
                    <a:pt x="523" y="1430"/>
                  </a:lnTo>
                  <a:lnTo>
                    <a:pt x="571" y="994"/>
                  </a:lnTo>
                  <a:lnTo>
                    <a:pt x="620" y="994"/>
                  </a:lnTo>
                  <a:lnTo>
                    <a:pt x="667" y="994"/>
                  </a:lnTo>
                  <a:lnTo>
                    <a:pt x="715" y="978"/>
                  </a:lnTo>
                  <a:lnTo>
                    <a:pt x="762" y="978"/>
                  </a:lnTo>
                  <a:lnTo>
                    <a:pt x="810" y="978"/>
                  </a:lnTo>
                  <a:lnTo>
                    <a:pt x="857" y="866"/>
                  </a:lnTo>
                  <a:lnTo>
                    <a:pt x="905" y="866"/>
                  </a:lnTo>
                  <a:lnTo>
                    <a:pt x="952" y="866"/>
                  </a:lnTo>
                  <a:lnTo>
                    <a:pt x="1000" y="491"/>
                  </a:lnTo>
                  <a:lnTo>
                    <a:pt x="1048" y="491"/>
                  </a:lnTo>
                  <a:lnTo>
                    <a:pt x="1095" y="491"/>
                  </a:lnTo>
                  <a:lnTo>
                    <a:pt x="1143" y="491"/>
                  </a:lnTo>
                  <a:lnTo>
                    <a:pt x="1190" y="491"/>
                  </a:lnTo>
                  <a:lnTo>
                    <a:pt x="1238" y="491"/>
                  </a:lnTo>
                  <a:lnTo>
                    <a:pt x="1285" y="491"/>
                  </a:lnTo>
                  <a:lnTo>
                    <a:pt x="1333" y="491"/>
                  </a:lnTo>
                  <a:lnTo>
                    <a:pt x="1380" y="491"/>
                  </a:lnTo>
                  <a:lnTo>
                    <a:pt x="1428" y="270"/>
                  </a:lnTo>
                  <a:lnTo>
                    <a:pt x="1476" y="271"/>
                  </a:lnTo>
                  <a:lnTo>
                    <a:pt x="1523" y="271"/>
                  </a:lnTo>
                  <a:lnTo>
                    <a:pt x="1571" y="342"/>
                  </a:lnTo>
                  <a:lnTo>
                    <a:pt x="1618" y="342"/>
                  </a:lnTo>
                  <a:lnTo>
                    <a:pt x="1666" y="342"/>
                  </a:lnTo>
                  <a:lnTo>
                    <a:pt x="1713" y="398"/>
                  </a:lnTo>
                  <a:lnTo>
                    <a:pt x="1761" y="398"/>
                  </a:lnTo>
                  <a:lnTo>
                    <a:pt x="1810" y="398"/>
                  </a:lnTo>
                  <a:lnTo>
                    <a:pt x="1857" y="254"/>
                  </a:lnTo>
                  <a:lnTo>
                    <a:pt x="1905" y="254"/>
                  </a:lnTo>
                  <a:lnTo>
                    <a:pt x="1952" y="254"/>
                  </a:lnTo>
                  <a:lnTo>
                    <a:pt x="2000" y="254"/>
                  </a:lnTo>
                  <a:lnTo>
                    <a:pt x="2047" y="254"/>
                  </a:lnTo>
                  <a:lnTo>
                    <a:pt x="2095" y="254"/>
                  </a:lnTo>
                  <a:lnTo>
                    <a:pt x="2142" y="256"/>
                  </a:lnTo>
                  <a:lnTo>
                    <a:pt x="2190" y="256"/>
                  </a:lnTo>
                  <a:lnTo>
                    <a:pt x="2238" y="256"/>
                  </a:lnTo>
                  <a:lnTo>
                    <a:pt x="2285" y="227"/>
                  </a:lnTo>
                  <a:lnTo>
                    <a:pt x="2333" y="227"/>
                  </a:lnTo>
                  <a:lnTo>
                    <a:pt x="2380" y="227"/>
                  </a:lnTo>
                  <a:lnTo>
                    <a:pt x="2428" y="227"/>
                  </a:lnTo>
                  <a:lnTo>
                    <a:pt x="2475" y="227"/>
                  </a:lnTo>
                  <a:lnTo>
                    <a:pt x="2523" y="227"/>
                  </a:lnTo>
                  <a:lnTo>
                    <a:pt x="2571" y="226"/>
                  </a:lnTo>
                  <a:lnTo>
                    <a:pt x="2618" y="227"/>
                  </a:lnTo>
                  <a:lnTo>
                    <a:pt x="2666" y="227"/>
                  </a:lnTo>
                  <a:lnTo>
                    <a:pt x="2713" y="139"/>
                  </a:lnTo>
                  <a:lnTo>
                    <a:pt x="2761" y="139"/>
                  </a:lnTo>
                  <a:lnTo>
                    <a:pt x="2808" y="139"/>
                  </a:lnTo>
                  <a:lnTo>
                    <a:pt x="2856" y="139"/>
                  </a:lnTo>
                  <a:lnTo>
                    <a:pt x="2903" y="139"/>
                  </a:lnTo>
                  <a:lnTo>
                    <a:pt x="2952" y="139"/>
                  </a:lnTo>
                  <a:lnTo>
                    <a:pt x="3000" y="139"/>
                  </a:lnTo>
                  <a:lnTo>
                    <a:pt x="3047" y="141"/>
                  </a:lnTo>
                  <a:lnTo>
                    <a:pt x="3095" y="141"/>
                  </a:lnTo>
                  <a:lnTo>
                    <a:pt x="3142" y="170"/>
                  </a:lnTo>
                  <a:lnTo>
                    <a:pt x="3190" y="170"/>
                  </a:lnTo>
                  <a:lnTo>
                    <a:pt x="3237" y="170"/>
                  </a:lnTo>
                  <a:lnTo>
                    <a:pt x="3285" y="170"/>
                  </a:lnTo>
                  <a:lnTo>
                    <a:pt x="3333" y="170"/>
                  </a:lnTo>
                  <a:lnTo>
                    <a:pt x="3380" y="170"/>
                  </a:lnTo>
                  <a:lnTo>
                    <a:pt x="3428" y="53"/>
                  </a:lnTo>
                  <a:lnTo>
                    <a:pt x="3475" y="53"/>
                  </a:lnTo>
                  <a:lnTo>
                    <a:pt x="3523" y="53"/>
                  </a:lnTo>
                  <a:lnTo>
                    <a:pt x="3570" y="241"/>
                  </a:lnTo>
                  <a:lnTo>
                    <a:pt x="3618" y="241"/>
                  </a:lnTo>
                  <a:lnTo>
                    <a:pt x="3665" y="241"/>
                  </a:lnTo>
                  <a:lnTo>
                    <a:pt x="3713" y="219"/>
                  </a:lnTo>
                  <a:lnTo>
                    <a:pt x="3761" y="219"/>
                  </a:lnTo>
                  <a:lnTo>
                    <a:pt x="3808" y="219"/>
                  </a:lnTo>
                  <a:lnTo>
                    <a:pt x="3856" y="194"/>
                  </a:lnTo>
                  <a:lnTo>
                    <a:pt x="3903" y="194"/>
                  </a:lnTo>
                  <a:lnTo>
                    <a:pt x="3951" y="194"/>
                  </a:lnTo>
                  <a:lnTo>
                    <a:pt x="3998" y="478"/>
                  </a:lnTo>
                  <a:lnTo>
                    <a:pt x="4046" y="478"/>
                  </a:lnTo>
                  <a:lnTo>
                    <a:pt x="4094" y="478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6"/>
                  </a:lnTo>
                  <a:lnTo>
                    <a:pt x="4332" y="10"/>
                  </a:lnTo>
                  <a:lnTo>
                    <a:pt x="4380" y="10"/>
                  </a:lnTo>
                  <a:lnTo>
                    <a:pt x="4427" y="236"/>
                  </a:lnTo>
                  <a:lnTo>
                    <a:pt x="4475" y="236"/>
                  </a:lnTo>
                  <a:lnTo>
                    <a:pt x="4523" y="236"/>
                  </a:lnTo>
                  <a:lnTo>
                    <a:pt x="4570" y="46"/>
                  </a:lnTo>
                  <a:lnTo>
                    <a:pt x="4618" y="46"/>
                  </a:lnTo>
                  <a:lnTo>
                    <a:pt x="4665" y="46"/>
                  </a:lnTo>
                  <a:lnTo>
                    <a:pt x="4713" y="295"/>
                  </a:lnTo>
                  <a:lnTo>
                    <a:pt x="4713" y="1541"/>
                  </a:lnTo>
                  <a:lnTo>
                    <a:pt x="4665" y="1017"/>
                  </a:lnTo>
                  <a:lnTo>
                    <a:pt x="4618" y="1017"/>
                  </a:lnTo>
                  <a:lnTo>
                    <a:pt x="4570" y="1003"/>
                  </a:lnTo>
                  <a:lnTo>
                    <a:pt x="4523" y="999"/>
                  </a:lnTo>
                  <a:lnTo>
                    <a:pt x="4475" y="1004"/>
                  </a:lnTo>
                  <a:lnTo>
                    <a:pt x="4427" y="984"/>
                  </a:lnTo>
                  <a:lnTo>
                    <a:pt x="4380" y="779"/>
                  </a:lnTo>
                  <a:lnTo>
                    <a:pt x="4332" y="779"/>
                  </a:lnTo>
                  <a:lnTo>
                    <a:pt x="4285" y="767"/>
                  </a:lnTo>
                  <a:lnTo>
                    <a:pt x="4237" y="531"/>
                  </a:lnTo>
                  <a:lnTo>
                    <a:pt x="4190" y="531"/>
                  </a:lnTo>
                  <a:lnTo>
                    <a:pt x="4142" y="531"/>
                  </a:lnTo>
                  <a:lnTo>
                    <a:pt x="4094" y="1086"/>
                  </a:lnTo>
                  <a:lnTo>
                    <a:pt x="4046" y="1086"/>
                  </a:lnTo>
                  <a:lnTo>
                    <a:pt x="3998" y="1086"/>
                  </a:lnTo>
                  <a:lnTo>
                    <a:pt x="3951" y="777"/>
                  </a:lnTo>
                  <a:lnTo>
                    <a:pt x="3903" y="777"/>
                  </a:lnTo>
                  <a:lnTo>
                    <a:pt x="3856" y="776"/>
                  </a:lnTo>
                  <a:lnTo>
                    <a:pt x="3808" y="855"/>
                  </a:lnTo>
                  <a:lnTo>
                    <a:pt x="3761" y="855"/>
                  </a:lnTo>
                  <a:lnTo>
                    <a:pt x="3713" y="854"/>
                  </a:lnTo>
                  <a:lnTo>
                    <a:pt x="3665" y="725"/>
                  </a:lnTo>
                  <a:lnTo>
                    <a:pt x="3618" y="725"/>
                  </a:lnTo>
                  <a:lnTo>
                    <a:pt x="3570" y="692"/>
                  </a:lnTo>
                  <a:lnTo>
                    <a:pt x="3523" y="565"/>
                  </a:lnTo>
                  <a:lnTo>
                    <a:pt x="3475" y="565"/>
                  </a:lnTo>
                  <a:lnTo>
                    <a:pt x="3428" y="565"/>
                  </a:lnTo>
                  <a:lnTo>
                    <a:pt x="3380" y="917"/>
                  </a:lnTo>
                  <a:lnTo>
                    <a:pt x="3333" y="917"/>
                  </a:lnTo>
                  <a:lnTo>
                    <a:pt x="3285" y="917"/>
                  </a:lnTo>
                  <a:lnTo>
                    <a:pt x="3237" y="527"/>
                  </a:lnTo>
                  <a:lnTo>
                    <a:pt x="3190" y="527"/>
                  </a:lnTo>
                  <a:lnTo>
                    <a:pt x="3142" y="509"/>
                  </a:lnTo>
                  <a:lnTo>
                    <a:pt x="3095" y="762"/>
                  </a:lnTo>
                  <a:lnTo>
                    <a:pt x="3047" y="762"/>
                  </a:lnTo>
                  <a:lnTo>
                    <a:pt x="3000" y="760"/>
                  </a:lnTo>
                  <a:lnTo>
                    <a:pt x="2952" y="893"/>
                  </a:lnTo>
                  <a:lnTo>
                    <a:pt x="2903" y="893"/>
                  </a:lnTo>
                  <a:lnTo>
                    <a:pt x="2856" y="891"/>
                  </a:lnTo>
                  <a:lnTo>
                    <a:pt x="2808" y="519"/>
                  </a:lnTo>
                  <a:lnTo>
                    <a:pt x="2761" y="519"/>
                  </a:lnTo>
                  <a:lnTo>
                    <a:pt x="2713" y="493"/>
                  </a:lnTo>
                  <a:lnTo>
                    <a:pt x="2666" y="811"/>
                  </a:lnTo>
                  <a:lnTo>
                    <a:pt x="2618" y="811"/>
                  </a:lnTo>
                  <a:lnTo>
                    <a:pt x="2571" y="810"/>
                  </a:lnTo>
                  <a:lnTo>
                    <a:pt x="2523" y="912"/>
                  </a:lnTo>
                  <a:lnTo>
                    <a:pt x="2475" y="912"/>
                  </a:lnTo>
                  <a:lnTo>
                    <a:pt x="2428" y="910"/>
                  </a:lnTo>
                  <a:lnTo>
                    <a:pt x="2380" y="562"/>
                  </a:lnTo>
                  <a:lnTo>
                    <a:pt x="2333" y="562"/>
                  </a:lnTo>
                  <a:lnTo>
                    <a:pt x="2285" y="541"/>
                  </a:lnTo>
                  <a:lnTo>
                    <a:pt x="2238" y="850"/>
                  </a:lnTo>
                  <a:lnTo>
                    <a:pt x="2190" y="850"/>
                  </a:lnTo>
                  <a:lnTo>
                    <a:pt x="2142" y="848"/>
                  </a:lnTo>
                  <a:lnTo>
                    <a:pt x="2095" y="991"/>
                  </a:lnTo>
                  <a:lnTo>
                    <a:pt x="2047" y="991"/>
                  </a:lnTo>
                  <a:lnTo>
                    <a:pt x="2000" y="989"/>
                  </a:lnTo>
                  <a:lnTo>
                    <a:pt x="1952" y="632"/>
                  </a:lnTo>
                  <a:lnTo>
                    <a:pt x="1905" y="632"/>
                  </a:lnTo>
                  <a:lnTo>
                    <a:pt x="1857" y="618"/>
                  </a:lnTo>
                  <a:lnTo>
                    <a:pt x="1810" y="930"/>
                  </a:lnTo>
                  <a:lnTo>
                    <a:pt x="1761" y="930"/>
                  </a:lnTo>
                  <a:lnTo>
                    <a:pt x="1713" y="928"/>
                  </a:lnTo>
                  <a:lnTo>
                    <a:pt x="1666" y="1047"/>
                  </a:lnTo>
                  <a:lnTo>
                    <a:pt x="1618" y="1047"/>
                  </a:lnTo>
                  <a:lnTo>
                    <a:pt x="1571" y="1046"/>
                  </a:lnTo>
                  <a:lnTo>
                    <a:pt x="1523" y="672"/>
                  </a:lnTo>
                  <a:lnTo>
                    <a:pt x="1476" y="672"/>
                  </a:lnTo>
                  <a:lnTo>
                    <a:pt x="1428" y="665"/>
                  </a:lnTo>
                  <a:lnTo>
                    <a:pt x="1380" y="987"/>
                  </a:lnTo>
                  <a:lnTo>
                    <a:pt x="1333" y="987"/>
                  </a:lnTo>
                  <a:lnTo>
                    <a:pt x="1285" y="987"/>
                  </a:lnTo>
                  <a:lnTo>
                    <a:pt x="1238" y="1114"/>
                  </a:lnTo>
                  <a:lnTo>
                    <a:pt x="1190" y="1114"/>
                  </a:lnTo>
                  <a:lnTo>
                    <a:pt x="1143" y="1114"/>
                  </a:lnTo>
                  <a:lnTo>
                    <a:pt x="1095" y="775"/>
                  </a:lnTo>
                  <a:lnTo>
                    <a:pt x="1048" y="775"/>
                  </a:lnTo>
                  <a:lnTo>
                    <a:pt x="1000" y="775"/>
                  </a:lnTo>
                  <a:lnTo>
                    <a:pt x="952" y="1040"/>
                  </a:lnTo>
                  <a:lnTo>
                    <a:pt x="905" y="1038"/>
                  </a:lnTo>
                  <a:lnTo>
                    <a:pt x="857" y="1038"/>
                  </a:lnTo>
                  <a:lnTo>
                    <a:pt x="810" y="1105"/>
                  </a:lnTo>
                  <a:lnTo>
                    <a:pt x="762" y="1055"/>
                  </a:lnTo>
                  <a:lnTo>
                    <a:pt x="715" y="1051"/>
                  </a:lnTo>
                  <a:lnTo>
                    <a:pt x="667" y="1015"/>
                  </a:lnTo>
                  <a:lnTo>
                    <a:pt x="620" y="994"/>
                  </a:lnTo>
                  <a:lnTo>
                    <a:pt x="571" y="994"/>
                  </a:lnTo>
                  <a:lnTo>
                    <a:pt x="523" y="1430"/>
                  </a:lnTo>
                  <a:lnTo>
                    <a:pt x="476" y="1434"/>
                  </a:lnTo>
                  <a:lnTo>
                    <a:pt x="428" y="1434"/>
                  </a:lnTo>
                  <a:lnTo>
                    <a:pt x="381" y="1676"/>
                  </a:lnTo>
                  <a:lnTo>
                    <a:pt x="333" y="1702"/>
                  </a:lnTo>
                  <a:lnTo>
                    <a:pt x="286" y="1702"/>
                  </a:lnTo>
                  <a:lnTo>
                    <a:pt x="238" y="1854"/>
                  </a:lnTo>
                  <a:lnTo>
                    <a:pt x="190" y="2025"/>
                  </a:lnTo>
                  <a:lnTo>
                    <a:pt x="143" y="2025"/>
                  </a:lnTo>
                  <a:lnTo>
                    <a:pt x="95" y="2134"/>
                  </a:lnTo>
                  <a:lnTo>
                    <a:pt x="48" y="2281"/>
                  </a:lnTo>
                  <a:lnTo>
                    <a:pt x="0" y="228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371600" y="1149480"/>
              <a:ext cx="7481880" cy="4465440"/>
            </a:xfrm>
            <a:custGeom>
              <a:avLst/>
              <a:gdLst/>
              <a:ahLst/>
              <a:rect l="l" t="t" r="r" b="b"/>
              <a:pathLst>
                <a:path w="4713" h="2813">
                  <a:moveTo>
                    <a:pt x="0" y="2813"/>
                  </a:moveTo>
                  <a:lnTo>
                    <a:pt x="0" y="2813"/>
                  </a:lnTo>
                  <a:lnTo>
                    <a:pt x="48" y="2813"/>
                  </a:lnTo>
                  <a:lnTo>
                    <a:pt x="95" y="2666"/>
                  </a:lnTo>
                  <a:lnTo>
                    <a:pt x="143" y="2557"/>
                  </a:lnTo>
                  <a:lnTo>
                    <a:pt x="190" y="2557"/>
                  </a:lnTo>
                  <a:lnTo>
                    <a:pt x="238" y="2386"/>
                  </a:lnTo>
                  <a:lnTo>
                    <a:pt x="286" y="2234"/>
                  </a:lnTo>
                  <a:lnTo>
                    <a:pt x="333" y="2234"/>
                  </a:lnTo>
                  <a:lnTo>
                    <a:pt x="381" y="2208"/>
                  </a:lnTo>
                  <a:lnTo>
                    <a:pt x="428" y="1966"/>
                  </a:lnTo>
                  <a:lnTo>
                    <a:pt x="476" y="1966"/>
                  </a:lnTo>
                  <a:lnTo>
                    <a:pt x="523" y="1962"/>
                  </a:lnTo>
                  <a:lnTo>
                    <a:pt x="571" y="1526"/>
                  </a:lnTo>
                  <a:lnTo>
                    <a:pt x="620" y="1526"/>
                  </a:lnTo>
                  <a:lnTo>
                    <a:pt x="667" y="1526"/>
                  </a:lnTo>
                  <a:lnTo>
                    <a:pt x="715" y="1510"/>
                  </a:lnTo>
                  <a:lnTo>
                    <a:pt x="762" y="1510"/>
                  </a:lnTo>
                  <a:lnTo>
                    <a:pt x="810" y="1510"/>
                  </a:lnTo>
                  <a:lnTo>
                    <a:pt x="857" y="1398"/>
                  </a:lnTo>
                  <a:lnTo>
                    <a:pt x="905" y="1398"/>
                  </a:lnTo>
                  <a:lnTo>
                    <a:pt x="952" y="1398"/>
                  </a:lnTo>
                  <a:lnTo>
                    <a:pt x="1000" y="1023"/>
                  </a:lnTo>
                  <a:lnTo>
                    <a:pt x="1048" y="1023"/>
                  </a:lnTo>
                  <a:lnTo>
                    <a:pt x="1095" y="1023"/>
                  </a:lnTo>
                  <a:lnTo>
                    <a:pt x="1143" y="1023"/>
                  </a:lnTo>
                  <a:lnTo>
                    <a:pt x="1190" y="1023"/>
                  </a:lnTo>
                  <a:lnTo>
                    <a:pt x="1238" y="1023"/>
                  </a:lnTo>
                  <a:lnTo>
                    <a:pt x="1285" y="1023"/>
                  </a:lnTo>
                  <a:lnTo>
                    <a:pt x="1333" y="1023"/>
                  </a:lnTo>
                  <a:lnTo>
                    <a:pt x="1380" y="1023"/>
                  </a:lnTo>
                  <a:lnTo>
                    <a:pt x="1428" y="790"/>
                  </a:lnTo>
                  <a:lnTo>
                    <a:pt x="1476" y="790"/>
                  </a:lnTo>
                  <a:lnTo>
                    <a:pt x="1523" y="790"/>
                  </a:lnTo>
                  <a:lnTo>
                    <a:pt x="1571" y="790"/>
                  </a:lnTo>
                  <a:lnTo>
                    <a:pt x="1618" y="790"/>
                  </a:lnTo>
                  <a:lnTo>
                    <a:pt x="1666" y="790"/>
                  </a:lnTo>
                  <a:lnTo>
                    <a:pt x="1713" y="790"/>
                  </a:lnTo>
                  <a:lnTo>
                    <a:pt x="1761" y="790"/>
                  </a:lnTo>
                  <a:lnTo>
                    <a:pt x="1810" y="790"/>
                  </a:lnTo>
                  <a:lnTo>
                    <a:pt x="1857" y="649"/>
                  </a:lnTo>
                  <a:lnTo>
                    <a:pt x="1905" y="649"/>
                  </a:lnTo>
                  <a:lnTo>
                    <a:pt x="1952" y="649"/>
                  </a:lnTo>
                  <a:lnTo>
                    <a:pt x="2000" y="649"/>
                  </a:lnTo>
                  <a:lnTo>
                    <a:pt x="2047" y="649"/>
                  </a:lnTo>
                  <a:lnTo>
                    <a:pt x="2095" y="649"/>
                  </a:lnTo>
                  <a:lnTo>
                    <a:pt x="2142" y="649"/>
                  </a:lnTo>
                  <a:lnTo>
                    <a:pt x="2190" y="649"/>
                  </a:lnTo>
                  <a:lnTo>
                    <a:pt x="2238" y="649"/>
                  </a:lnTo>
                  <a:lnTo>
                    <a:pt x="2285" y="525"/>
                  </a:lnTo>
                  <a:lnTo>
                    <a:pt x="2333" y="525"/>
                  </a:lnTo>
                  <a:lnTo>
                    <a:pt x="2380" y="525"/>
                  </a:lnTo>
                  <a:lnTo>
                    <a:pt x="2428" y="525"/>
                  </a:lnTo>
                  <a:lnTo>
                    <a:pt x="2475" y="525"/>
                  </a:lnTo>
                  <a:lnTo>
                    <a:pt x="2523" y="525"/>
                  </a:lnTo>
                  <a:lnTo>
                    <a:pt x="2571" y="525"/>
                  </a:lnTo>
                  <a:lnTo>
                    <a:pt x="2618" y="525"/>
                  </a:lnTo>
                  <a:lnTo>
                    <a:pt x="2666" y="525"/>
                  </a:lnTo>
                  <a:lnTo>
                    <a:pt x="2713" y="373"/>
                  </a:lnTo>
                  <a:lnTo>
                    <a:pt x="2761" y="373"/>
                  </a:lnTo>
                  <a:lnTo>
                    <a:pt x="2808" y="373"/>
                  </a:lnTo>
                  <a:lnTo>
                    <a:pt x="2856" y="373"/>
                  </a:lnTo>
                  <a:lnTo>
                    <a:pt x="2903" y="373"/>
                  </a:lnTo>
                  <a:lnTo>
                    <a:pt x="2952" y="373"/>
                  </a:lnTo>
                  <a:lnTo>
                    <a:pt x="3000" y="373"/>
                  </a:lnTo>
                  <a:lnTo>
                    <a:pt x="3047" y="373"/>
                  </a:lnTo>
                  <a:lnTo>
                    <a:pt x="3095" y="373"/>
                  </a:lnTo>
                  <a:lnTo>
                    <a:pt x="3142" y="301"/>
                  </a:lnTo>
                  <a:lnTo>
                    <a:pt x="3190" y="301"/>
                  </a:lnTo>
                  <a:lnTo>
                    <a:pt x="3237" y="301"/>
                  </a:lnTo>
                  <a:lnTo>
                    <a:pt x="3285" y="301"/>
                  </a:lnTo>
                  <a:lnTo>
                    <a:pt x="3333" y="301"/>
                  </a:lnTo>
                  <a:lnTo>
                    <a:pt x="3380" y="301"/>
                  </a:lnTo>
                  <a:lnTo>
                    <a:pt x="3428" y="265"/>
                  </a:lnTo>
                  <a:lnTo>
                    <a:pt x="3475" y="265"/>
                  </a:lnTo>
                  <a:lnTo>
                    <a:pt x="3523" y="265"/>
                  </a:lnTo>
                  <a:lnTo>
                    <a:pt x="3570" y="265"/>
                  </a:lnTo>
                  <a:lnTo>
                    <a:pt x="3618" y="265"/>
                  </a:lnTo>
                  <a:lnTo>
                    <a:pt x="3665" y="265"/>
                  </a:lnTo>
                  <a:lnTo>
                    <a:pt x="3713" y="265"/>
                  </a:lnTo>
                  <a:lnTo>
                    <a:pt x="3761" y="265"/>
                  </a:lnTo>
                  <a:lnTo>
                    <a:pt x="3808" y="265"/>
                  </a:lnTo>
                  <a:lnTo>
                    <a:pt x="3856" y="253"/>
                  </a:lnTo>
                  <a:lnTo>
                    <a:pt x="3903" y="253"/>
                  </a:lnTo>
                  <a:lnTo>
                    <a:pt x="3951" y="253"/>
                  </a:lnTo>
                  <a:lnTo>
                    <a:pt x="3998" y="253"/>
                  </a:lnTo>
                  <a:lnTo>
                    <a:pt x="4046" y="253"/>
                  </a:lnTo>
                  <a:lnTo>
                    <a:pt x="4094" y="253"/>
                  </a:lnTo>
                  <a:lnTo>
                    <a:pt x="4142" y="65"/>
                  </a:lnTo>
                  <a:lnTo>
                    <a:pt x="4190" y="65"/>
                  </a:lnTo>
                  <a:lnTo>
                    <a:pt x="4237" y="65"/>
                  </a:lnTo>
                  <a:lnTo>
                    <a:pt x="4285" y="65"/>
                  </a:lnTo>
                  <a:lnTo>
                    <a:pt x="4332" y="65"/>
                  </a:lnTo>
                  <a:lnTo>
                    <a:pt x="4380" y="65"/>
                  </a:lnTo>
                  <a:lnTo>
                    <a:pt x="4427" y="65"/>
                  </a:lnTo>
                  <a:lnTo>
                    <a:pt x="4475" y="65"/>
                  </a:lnTo>
                  <a:lnTo>
                    <a:pt x="4523" y="65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827"/>
                  </a:lnTo>
                  <a:lnTo>
                    <a:pt x="4665" y="578"/>
                  </a:lnTo>
                  <a:lnTo>
                    <a:pt x="4618" y="578"/>
                  </a:lnTo>
                  <a:lnTo>
                    <a:pt x="4570" y="578"/>
                  </a:lnTo>
                  <a:lnTo>
                    <a:pt x="4523" y="768"/>
                  </a:lnTo>
                  <a:lnTo>
                    <a:pt x="4475" y="768"/>
                  </a:lnTo>
                  <a:lnTo>
                    <a:pt x="4427" y="768"/>
                  </a:lnTo>
                  <a:lnTo>
                    <a:pt x="4380" y="542"/>
                  </a:lnTo>
                  <a:lnTo>
                    <a:pt x="4332" y="542"/>
                  </a:lnTo>
                  <a:lnTo>
                    <a:pt x="4285" y="538"/>
                  </a:lnTo>
                  <a:lnTo>
                    <a:pt x="4237" y="532"/>
                  </a:lnTo>
                  <a:lnTo>
                    <a:pt x="4190" y="532"/>
                  </a:lnTo>
                  <a:lnTo>
                    <a:pt x="4142" y="532"/>
                  </a:lnTo>
                  <a:lnTo>
                    <a:pt x="4094" y="1010"/>
                  </a:lnTo>
                  <a:lnTo>
                    <a:pt x="4046" y="1010"/>
                  </a:lnTo>
                  <a:lnTo>
                    <a:pt x="3998" y="1010"/>
                  </a:lnTo>
                  <a:lnTo>
                    <a:pt x="3951" y="726"/>
                  </a:lnTo>
                  <a:lnTo>
                    <a:pt x="3903" y="726"/>
                  </a:lnTo>
                  <a:lnTo>
                    <a:pt x="3856" y="726"/>
                  </a:lnTo>
                  <a:lnTo>
                    <a:pt x="3808" y="751"/>
                  </a:lnTo>
                  <a:lnTo>
                    <a:pt x="3761" y="751"/>
                  </a:lnTo>
                  <a:lnTo>
                    <a:pt x="3713" y="751"/>
                  </a:lnTo>
                  <a:lnTo>
                    <a:pt x="3665" y="773"/>
                  </a:lnTo>
                  <a:lnTo>
                    <a:pt x="3618" y="773"/>
                  </a:lnTo>
                  <a:lnTo>
                    <a:pt x="3570" y="773"/>
                  </a:lnTo>
                  <a:lnTo>
                    <a:pt x="3523" y="585"/>
                  </a:lnTo>
                  <a:lnTo>
                    <a:pt x="3475" y="585"/>
                  </a:lnTo>
                  <a:lnTo>
                    <a:pt x="3428" y="585"/>
                  </a:lnTo>
                  <a:lnTo>
                    <a:pt x="3380" y="702"/>
                  </a:lnTo>
                  <a:lnTo>
                    <a:pt x="3333" y="702"/>
                  </a:lnTo>
                  <a:lnTo>
                    <a:pt x="3285" y="702"/>
                  </a:lnTo>
                  <a:lnTo>
                    <a:pt x="3237" y="702"/>
                  </a:lnTo>
                  <a:lnTo>
                    <a:pt x="3190" y="702"/>
                  </a:lnTo>
                  <a:lnTo>
                    <a:pt x="3142" y="702"/>
                  </a:lnTo>
                  <a:lnTo>
                    <a:pt x="3095" y="673"/>
                  </a:lnTo>
                  <a:lnTo>
                    <a:pt x="3047" y="673"/>
                  </a:lnTo>
                  <a:lnTo>
                    <a:pt x="3000" y="671"/>
                  </a:lnTo>
                  <a:lnTo>
                    <a:pt x="2952" y="671"/>
                  </a:lnTo>
                  <a:lnTo>
                    <a:pt x="2903" y="671"/>
                  </a:lnTo>
                  <a:lnTo>
                    <a:pt x="2856" y="671"/>
                  </a:lnTo>
                  <a:lnTo>
                    <a:pt x="2808" y="671"/>
                  </a:lnTo>
                  <a:lnTo>
                    <a:pt x="2761" y="671"/>
                  </a:lnTo>
                  <a:lnTo>
                    <a:pt x="2713" y="671"/>
                  </a:lnTo>
                  <a:lnTo>
                    <a:pt x="2666" y="759"/>
                  </a:lnTo>
                  <a:lnTo>
                    <a:pt x="2618" y="759"/>
                  </a:lnTo>
                  <a:lnTo>
                    <a:pt x="2571" y="758"/>
                  </a:lnTo>
                  <a:lnTo>
                    <a:pt x="2523" y="759"/>
                  </a:lnTo>
                  <a:lnTo>
                    <a:pt x="2475" y="759"/>
                  </a:lnTo>
                  <a:lnTo>
                    <a:pt x="2428" y="759"/>
                  </a:lnTo>
                  <a:lnTo>
                    <a:pt x="2380" y="759"/>
                  </a:lnTo>
                  <a:lnTo>
                    <a:pt x="2333" y="759"/>
                  </a:lnTo>
                  <a:lnTo>
                    <a:pt x="2285" y="759"/>
                  </a:lnTo>
                  <a:lnTo>
                    <a:pt x="2238" y="788"/>
                  </a:lnTo>
                  <a:lnTo>
                    <a:pt x="2190" y="788"/>
                  </a:lnTo>
                  <a:lnTo>
                    <a:pt x="2142" y="788"/>
                  </a:lnTo>
                  <a:lnTo>
                    <a:pt x="2095" y="786"/>
                  </a:lnTo>
                  <a:lnTo>
                    <a:pt x="2047" y="786"/>
                  </a:lnTo>
                  <a:lnTo>
                    <a:pt x="2000" y="786"/>
                  </a:lnTo>
                  <a:lnTo>
                    <a:pt x="1952" y="786"/>
                  </a:lnTo>
                  <a:lnTo>
                    <a:pt x="1905" y="786"/>
                  </a:lnTo>
                  <a:lnTo>
                    <a:pt x="1857" y="786"/>
                  </a:lnTo>
                  <a:lnTo>
                    <a:pt x="1810" y="930"/>
                  </a:lnTo>
                  <a:lnTo>
                    <a:pt x="1761" y="930"/>
                  </a:lnTo>
                  <a:lnTo>
                    <a:pt x="1713" y="930"/>
                  </a:lnTo>
                  <a:lnTo>
                    <a:pt x="1666" y="874"/>
                  </a:lnTo>
                  <a:lnTo>
                    <a:pt x="1618" y="874"/>
                  </a:lnTo>
                  <a:lnTo>
                    <a:pt x="1571" y="874"/>
                  </a:lnTo>
                  <a:lnTo>
                    <a:pt x="1523" y="803"/>
                  </a:lnTo>
                  <a:lnTo>
                    <a:pt x="1476" y="803"/>
                  </a:lnTo>
                  <a:lnTo>
                    <a:pt x="1428" y="802"/>
                  </a:lnTo>
                  <a:lnTo>
                    <a:pt x="1380" y="1023"/>
                  </a:lnTo>
                  <a:lnTo>
                    <a:pt x="1333" y="1023"/>
                  </a:lnTo>
                  <a:lnTo>
                    <a:pt x="1285" y="1023"/>
                  </a:lnTo>
                  <a:lnTo>
                    <a:pt x="1238" y="1023"/>
                  </a:lnTo>
                  <a:lnTo>
                    <a:pt x="1190" y="1023"/>
                  </a:lnTo>
                  <a:lnTo>
                    <a:pt x="1143" y="1023"/>
                  </a:lnTo>
                  <a:lnTo>
                    <a:pt x="1095" y="1023"/>
                  </a:lnTo>
                  <a:lnTo>
                    <a:pt x="1048" y="1023"/>
                  </a:lnTo>
                  <a:lnTo>
                    <a:pt x="1000" y="1023"/>
                  </a:lnTo>
                  <a:lnTo>
                    <a:pt x="952" y="1398"/>
                  </a:lnTo>
                  <a:lnTo>
                    <a:pt x="905" y="1398"/>
                  </a:lnTo>
                  <a:lnTo>
                    <a:pt x="857" y="1398"/>
                  </a:lnTo>
                  <a:lnTo>
                    <a:pt x="810" y="1510"/>
                  </a:lnTo>
                  <a:lnTo>
                    <a:pt x="762" y="1510"/>
                  </a:lnTo>
                  <a:lnTo>
                    <a:pt x="715" y="1510"/>
                  </a:lnTo>
                  <a:lnTo>
                    <a:pt x="667" y="1526"/>
                  </a:lnTo>
                  <a:lnTo>
                    <a:pt x="620" y="1526"/>
                  </a:lnTo>
                  <a:lnTo>
                    <a:pt x="571" y="1526"/>
                  </a:lnTo>
                  <a:lnTo>
                    <a:pt x="523" y="1962"/>
                  </a:lnTo>
                  <a:lnTo>
                    <a:pt x="476" y="1966"/>
                  </a:lnTo>
                  <a:lnTo>
                    <a:pt x="428" y="1966"/>
                  </a:lnTo>
                  <a:lnTo>
                    <a:pt x="381" y="2208"/>
                  </a:lnTo>
                  <a:lnTo>
                    <a:pt x="333" y="2234"/>
                  </a:lnTo>
                  <a:lnTo>
                    <a:pt x="286" y="2234"/>
                  </a:lnTo>
                  <a:lnTo>
                    <a:pt x="238" y="2386"/>
                  </a:lnTo>
                  <a:lnTo>
                    <a:pt x="190" y="2557"/>
                  </a:lnTo>
                  <a:lnTo>
                    <a:pt x="143" y="2557"/>
                  </a:lnTo>
                  <a:lnTo>
                    <a:pt x="95" y="2666"/>
                  </a:lnTo>
                  <a:lnTo>
                    <a:pt x="48" y="2813"/>
                  </a:lnTo>
                  <a:lnTo>
                    <a:pt x="0" y="28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145"/>
                  </a:lnTo>
                  <a:lnTo>
                    <a:pt x="4665" y="145"/>
                  </a:lnTo>
                  <a:lnTo>
                    <a:pt x="4618" y="145"/>
                  </a:lnTo>
                  <a:lnTo>
                    <a:pt x="4570" y="145"/>
                  </a:lnTo>
                  <a:lnTo>
                    <a:pt x="4523" y="210"/>
                  </a:lnTo>
                  <a:lnTo>
                    <a:pt x="4475" y="210"/>
                  </a:lnTo>
                  <a:lnTo>
                    <a:pt x="4427" y="210"/>
                  </a:lnTo>
                  <a:lnTo>
                    <a:pt x="4380" y="210"/>
                  </a:lnTo>
                  <a:lnTo>
                    <a:pt x="4332" y="210"/>
                  </a:lnTo>
                  <a:lnTo>
                    <a:pt x="4285" y="210"/>
                  </a:lnTo>
                  <a:lnTo>
                    <a:pt x="4237" y="210"/>
                  </a:lnTo>
                  <a:lnTo>
                    <a:pt x="4190" y="210"/>
                  </a:lnTo>
                  <a:lnTo>
                    <a:pt x="4142" y="210"/>
                  </a:lnTo>
                  <a:lnTo>
                    <a:pt x="4094" y="398"/>
                  </a:lnTo>
                  <a:lnTo>
                    <a:pt x="4046" y="398"/>
                  </a:lnTo>
                  <a:lnTo>
                    <a:pt x="3998" y="398"/>
                  </a:lnTo>
                  <a:lnTo>
                    <a:pt x="3951" y="398"/>
                  </a:lnTo>
                  <a:lnTo>
                    <a:pt x="3903" y="398"/>
                  </a:lnTo>
                  <a:lnTo>
                    <a:pt x="3856" y="398"/>
                  </a:lnTo>
                  <a:lnTo>
                    <a:pt x="3808" y="410"/>
                  </a:lnTo>
                  <a:lnTo>
                    <a:pt x="3761" y="410"/>
                  </a:lnTo>
                  <a:lnTo>
                    <a:pt x="3713" y="410"/>
                  </a:lnTo>
                  <a:lnTo>
                    <a:pt x="3665" y="410"/>
                  </a:lnTo>
                  <a:lnTo>
                    <a:pt x="3618" y="410"/>
                  </a:lnTo>
                  <a:lnTo>
                    <a:pt x="3570" y="410"/>
                  </a:lnTo>
                  <a:lnTo>
                    <a:pt x="3523" y="410"/>
                  </a:lnTo>
                  <a:lnTo>
                    <a:pt x="3475" y="410"/>
                  </a:lnTo>
                  <a:lnTo>
                    <a:pt x="3428" y="410"/>
                  </a:lnTo>
                  <a:lnTo>
                    <a:pt x="3380" y="446"/>
                  </a:lnTo>
                  <a:lnTo>
                    <a:pt x="3333" y="446"/>
                  </a:lnTo>
                  <a:lnTo>
                    <a:pt x="3285" y="446"/>
                  </a:lnTo>
                  <a:lnTo>
                    <a:pt x="3237" y="446"/>
                  </a:lnTo>
                  <a:lnTo>
                    <a:pt x="3190" y="446"/>
                  </a:lnTo>
                  <a:lnTo>
                    <a:pt x="3142" y="446"/>
                  </a:lnTo>
                  <a:lnTo>
                    <a:pt x="3095" y="518"/>
                  </a:lnTo>
                  <a:lnTo>
                    <a:pt x="3047" y="518"/>
                  </a:lnTo>
                  <a:lnTo>
                    <a:pt x="3000" y="518"/>
                  </a:lnTo>
                  <a:lnTo>
                    <a:pt x="2952" y="518"/>
                  </a:lnTo>
                  <a:lnTo>
                    <a:pt x="2903" y="518"/>
                  </a:lnTo>
                  <a:lnTo>
                    <a:pt x="2856" y="518"/>
                  </a:lnTo>
                  <a:lnTo>
                    <a:pt x="2808" y="518"/>
                  </a:lnTo>
                  <a:lnTo>
                    <a:pt x="2761" y="518"/>
                  </a:lnTo>
                  <a:lnTo>
                    <a:pt x="2713" y="518"/>
                  </a:lnTo>
                  <a:lnTo>
                    <a:pt x="2666" y="670"/>
                  </a:lnTo>
                  <a:lnTo>
                    <a:pt x="2618" y="670"/>
                  </a:lnTo>
                  <a:lnTo>
                    <a:pt x="2571" y="670"/>
                  </a:lnTo>
                  <a:lnTo>
                    <a:pt x="2523" y="670"/>
                  </a:lnTo>
                  <a:lnTo>
                    <a:pt x="2475" y="670"/>
                  </a:lnTo>
                  <a:lnTo>
                    <a:pt x="2428" y="670"/>
                  </a:lnTo>
                  <a:lnTo>
                    <a:pt x="2380" y="670"/>
                  </a:lnTo>
                  <a:lnTo>
                    <a:pt x="2333" y="670"/>
                  </a:lnTo>
                  <a:lnTo>
                    <a:pt x="2285" y="670"/>
                  </a:lnTo>
                  <a:lnTo>
                    <a:pt x="2238" y="794"/>
                  </a:lnTo>
                  <a:lnTo>
                    <a:pt x="2190" y="794"/>
                  </a:lnTo>
                  <a:lnTo>
                    <a:pt x="2142" y="794"/>
                  </a:lnTo>
                  <a:lnTo>
                    <a:pt x="2095" y="794"/>
                  </a:lnTo>
                  <a:lnTo>
                    <a:pt x="2047" y="794"/>
                  </a:lnTo>
                  <a:lnTo>
                    <a:pt x="2000" y="794"/>
                  </a:lnTo>
                  <a:lnTo>
                    <a:pt x="1952" y="794"/>
                  </a:lnTo>
                  <a:lnTo>
                    <a:pt x="1905" y="794"/>
                  </a:lnTo>
                  <a:lnTo>
                    <a:pt x="1857" y="794"/>
                  </a:lnTo>
                  <a:lnTo>
                    <a:pt x="1810" y="935"/>
                  </a:lnTo>
                  <a:lnTo>
                    <a:pt x="1761" y="935"/>
                  </a:lnTo>
                  <a:lnTo>
                    <a:pt x="1713" y="935"/>
                  </a:lnTo>
                  <a:lnTo>
                    <a:pt x="1666" y="935"/>
                  </a:lnTo>
                  <a:lnTo>
                    <a:pt x="1618" y="935"/>
                  </a:lnTo>
                  <a:lnTo>
                    <a:pt x="1571" y="935"/>
                  </a:lnTo>
                  <a:lnTo>
                    <a:pt x="1523" y="935"/>
                  </a:lnTo>
                  <a:lnTo>
                    <a:pt x="1476" y="935"/>
                  </a:lnTo>
                  <a:lnTo>
                    <a:pt x="1428" y="935"/>
                  </a:lnTo>
                  <a:lnTo>
                    <a:pt x="1380" y="1168"/>
                  </a:lnTo>
                  <a:lnTo>
                    <a:pt x="1333" y="1168"/>
                  </a:lnTo>
                  <a:lnTo>
                    <a:pt x="1285" y="1168"/>
                  </a:lnTo>
                  <a:lnTo>
                    <a:pt x="1238" y="1168"/>
                  </a:lnTo>
                  <a:lnTo>
                    <a:pt x="1190" y="1168"/>
                  </a:lnTo>
                  <a:lnTo>
                    <a:pt x="1143" y="1168"/>
                  </a:lnTo>
                  <a:lnTo>
                    <a:pt x="1095" y="1168"/>
                  </a:lnTo>
                  <a:lnTo>
                    <a:pt x="1048" y="1168"/>
                  </a:lnTo>
                  <a:lnTo>
                    <a:pt x="1000" y="1168"/>
                  </a:lnTo>
                  <a:lnTo>
                    <a:pt x="952" y="1543"/>
                  </a:lnTo>
                  <a:lnTo>
                    <a:pt x="905" y="1543"/>
                  </a:lnTo>
                  <a:lnTo>
                    <a:pt x="857" y="1543"/>
                  </a:lnTo>
                  <a:lnTo>
                    <a:pt x="810" y="1655"/>
                  </a:lnTo>
                  <a:lnTo>
                    <a:pt x="762" y="1655"/>
                  </a:lnTo>
                  <a:lnTo>
                    <a:pt x="715" y="1655"/>
                  </a:lnTo>
                  <a:lnTo>
                    <a:pt x="667" y="1671"/>
                  </a:lnTo>
                  <a:lnTo>
                    <a:pt x="620" y="1671"/>
                  </a:lnTo>
                  <a:lnTo>
                    <a:pt x="571" y="1671"/>
                  </a:lnTo>
                  <a:lnTo>
                    <a:pt x="523" y="2107"/>
                  </a:lnTo>
                  <a:lnTo>
                    <a:pt x="476" y="2111"/>
                  </a:lnTo>
                  <a:lnTo>
                    <a:pt x="428" y="2111"/>
                  </a:lnTo>
                  <a:lnTo>
                    <a:pt x="381" y="2353"/>
                  </a:lnTo>
                  <a:lnTo>
                    <a:pt x="333" y="2379"/>
                  </a:lnTo>
                  <a:lnTo>
                    <a:pt x="286" y="2379"/>
                  </a:lnTo>
                  <a:lnTo>
                    <a:pt x="238" y="2531"/>
                  </a:lnTo>
                  <a:lnTo>
                    <a:pt x="190" y="2702"/>
                  </a:lnTo>
                  <a:lnTo>
                    <a:pt x="143" y="2702"/>
                  </a:lnTo>
                  <a:lnTo>
                    <a:pt x="95" y="2811"/>
                  </a:lnTo>
                  <a:lnTo>
                    <a:pt x="4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371600" y="4438800"/>
              <a:ext cx="7481880" cy="1176120"/>
            </a:xfrm>
            <a:custGeom>
              <a:avLst/>
              <a:gdLst/>
              <a:ahLst/>
              <a:rect l="l" t="t" r="r" b="b"/>
              <a:pathLst>
                <a:path w="4713" h="741">
                  <a:moveTo>
                    <a:pt x="0" y="741"/>
                  </a:moveTo>
                  <a:lnTo>
                    <a:pt x="0" y="741"/>
                  </a:lnTo>
                  <a:lnTo>
                    <a:pt x="48" y="741"/>
                  </a:lnTo>
                  <a:lnTo>
                    <a:pt x="95" y="594"/>
                  </a:lnTo>
                  <a:lnTo>
                    <a:pt x="143" y="485"/>
                  </a:lnTo>
                  <a:lnTo>
                    <a:pt x="190" y="485"/>
                  </a:lnTo>
                  <a:lnTo>
                    <a:pt x="238" y="354"/>
                  </a:lnTo>
                  <a:lnTo>
                    <a:pt x="286" y="408"/>
                  </a:lnTo>
                  <a:lnTo>
                    <a:pt x="333" y="416"/>
                  </a:lnTo>
                  <a:lnTo>
                    <a:pt x="381" y="437"/>
                  </a:lnTo>
                  <a:lnTo>
                    <a:pt x="428" y="380"/>
                  </a:lnTo>
                  <a:lnTo>
                    <a:pt x="476" y="380"/>
                  </a:lnTo>
                  <a:lnTo>
                    <a:pt x="523" y="438"/>
                  </a:lnTo>
                  <a:lnTo>
                    <a:pt x="571" y="270"/>
                  </a:lnTo>
                  <a:lnTo>
                    <a:pt x="620" y="270"/>
                  </a:lnTo>
                  <a:lnTo>
                    <a:pt x="667" y="305"/>
                  </a:lnTo>
                  <a:lnTo>
                    <a:pt x="715" y="416"/>
                  </a:lnTo>
                  <a:lnTo>
                    <a:pt x="762" y="416"/>
                  </a:lnTo>
                  <a:lnTo>
                    <a:pt x="810" y="414"/>
                  </a:lnTo>
                  <a:lnTo>
                    <a:pt x="857" y="185"/>
                  </a:lnTo>
                  <a:lnTo>
                    <a:pt x="905" y="399"/>
                  </a:lnTo>
                  <a:lnTo>
                    <a:pt x="952" y="366"/>
                  </a:lnTo>
                  <a:lnTo>
                    <a:pt x="1000" y="196"/>
                  </a:lnTo>
                  <a:lnTo>
                    <a:pt x="1048" y="213"/>
                  </a:lnTo>
                  <a:lnTo>
                    <a:pt x="1095" y="248"/>
                  </a:lnTo>
                  <a:lnTo>
                    <a:pt x="1143" y="405"/>
                  </a:lnTo>
                  <a:lnTo>
                    <a:pt x="1190" y="411"/>
                  </a:lnTo>
                  <a:lnTo>
                    <a:pt x="1238" y="411"/>
                  </a:lnTo>
                  <a:lnTo>
                    <a:pt x="1285" y="113"/>
                  </a:lnTo>
                  <a:lnTo>
                    <a:pt x="1333" y="372"/>
                  </a:lnTo>
                  <a:lnTo>
                    <a:pt x="1380" y="337"/>
                  </a:lnTo>
                  <a:lnTo>
                    <a:pt x="1428" y="151"/>
                  </a:lnTo>
                  <a:lnTo>
                    <a:pt x="1476" y="178"/>
                  </a:lnTo>
                  <a:lnTo>
                    <a:pt x="1523" y="214"/>
                  </a:lnTo>
                  <a:lnTo>
                    <a:pt x="1571" y="385"/>
                  </a:lnTo>
                  <a:lnTo>
                    <a:pt x="1618" y="402"/>
                  </a:lnTo>
                  <a:lnTo>
                    <a:pt x="1666" y="401"/>
                  </a:lnTo>
                  <a:lnTo>
                    <a:pt x="1713" y="80"/>
                  </a:lnTo>
                  <a:lnTo>
                    <a:pt x="1761" y="334"/>
                  </a:lnTo>
                  <a:lnTo>
                    <a:pt x="1810" y="307"/>
                  </a:lnTo>
                  <a:lnTo>
                    <a:pt x="1857" y="116"/>
                  </a:lnTo>
                  <a:lnTo>
                    <a:pt x="1905" y="170"/>
                  </a:lnTo>
                  <a:lnTo>
                    <a:pt x="1952" y="199"/>
                  </a:lnTo>
                  <a:lnTo>
                    <a:pt x="2000" y="337"/>
                  </a:lnTo>
                  <a:lnTo>
                    <a:pt x="2047" y="361"/>
                  </a:lnTo>
                  <a:lnTo>
                    <a:pt x="2095" y="358"/>
                  </a:lnTo>
                  <a:lnTo>
                    <a:pt x="2142" y="53"/>
                  </a:lnTo>
                  <a:lnTo>
                    <a:pt x="2190" y="288"/>
                  </a:lnTo>
                  <a:lnTo>
                    <a:pt x="2238" y="263"/>
                  </a:lnTo>
                  <a:lnTo>
                    <a:pt x="2285" y="93"/>
                  </a:lnTo>
                  <a:lnTo>
                    <a:pt x="2333" y="164"/>
                  </a:lnTo>
                  <a:lnTo>
                    <a:pt x="2380" y="189"/>
                  </a:lnTo>
                  <a:lnTo>
                    <a:pt x="2428" y="323"/>
                  </a:lnTo>
                  <a:lnTo>
                    <a:pt x="2475" y="351"/>
                  </a:lnTo>
                  <a:lnTo>
                    <a:pt x="2523" y="349"/>
                  </a:lnTo>
                  <a:lnTo>
                    <a:pt x="2571" y="34"/>
                  </a:lnTo>
                  <a:lnTo>
                    <a:pt x="2618" y="297"/>
                  </a:lnTo>
                  <a:lnTo>
                    <a:pt x="2666" y="271"/>
                  </a:lnTo>
                  <a:lnTo>
                    <a:pt x="2713" y="68"/>
                  </a:lnTo>
                  <a:lnTo>
                    <a:pt x="2761" y="137"/>
                  </a:lnTo>
                  <a:lnTo>
                    <a:pt x="2808" y="163"/>
                  </a:lnTo>
                  <a:lnTo>
                    <a:pt x="2856" y="359"/>
                  </a:lnTo>
                  <a:lnTo>
                    <a:pt x="2903" y="384"/>
                  </a:lnTo>
                  <a:lnTo>
                    <a:pt x="2952" y="380"/>
                  </a:lnTo>
                  <a:lnTo>
                    <a:pt x="3000" y="18"/>
                  </a:lnTo>
                  <a:lnTo>
                    <a:pt x="3047" y="238"/>
                  </a:lnTo>
                  <a:lnTo>
                    <a:pt x="3095" y="225"/>
                  </a:lnTo>
                  <a:lnTo>
                    <a:pt x="3142" y="85"/>
                  </a:lnTo>
                  <a:lnTo>
                    <a:pt x="3190" y="164"/>
                  </a:lnTo>
                  <a:lnTo>
                    <a:pt x="3237" y="180"/>
                  </a:lnTo>
                  <a:lnTo>
                    <a:pt x="3285" y="252"/>
                  </a:lnTo>
                  <a:lnTo>
                    <a:pt x="3333" y="325"/>
                  </a:lnTo>
                  <a:lnTo>
                    <a:pt x="3380" y="313"/>
                  </a:lnTo>
                  <a:lnTo>
                    <a:pt x="3428" y="23"/>
                  </a:lnTo>
                  <a:lnTo>
                    <a:pt x="3475" y="80"/>
                  </a:lnTo>
                  <a:lnTo>
                    <a:pt x="3523" y="93"/>
                  </a:lnTo>
                  <a:lnTo>
                    <a:pt x="3570" y="286"/>
                  </a:lnTo>
                  <a:lnTo>
                    <a:pt x="3618" y="362"/>
                  </a:lnTo>
                  <a:lnTo>
                    <a:pt x="3665" y="354"/>
                  </a:lnTo>
                  <a:lnTo>
                    <a:pt x="3713" y="0"/>
                  </a:lnTo>
                  <a:lnTo>
                    <a:pt x="3761" y="177"/>
                  </a:lnTo>
                  <a:lnTo>
                    <a:pt x="3808" y="181"/>
                  </a:lnTo>
                  <a:lnTo>
                    <a:pt x="3856" y="88"/>
                  </a:lnTo>
                  <a:lnTo>
                    <a:pt x="3903" y="202"/>
                  </a:lnTo>
                  <a:lnTo>
                    <a:pt x="3951" y="205"/>
                  </a:lnTo>
                  <a:lnTo>
                    <a:pt x="3998" y="37"/>
                  </a:lnTo>
                  <a:lnTo>
                    <a:pt x="4046" y="345"/>
                  </a:lnTo>
                  <a:lnTo>
                    <a:pt x="4094" y="295"/>
                  </a:lnTo>
                  <a:lnTo>
                    <a:pt x="4142" y="68"/>
                  </a:lnTo>
                  <a:lnTo>
                    <a:pt x="4190" y="89"/>
                  </a:lnTo>
                  <a:lnTo>
                    <a:pt x="4237" y="140"/>
                  </a:lnTo>
                  <a:lnTo>
                    <a:pt x="4285" y="503"/>
                  </a:lnTo>
                  <a:lnTo>
                    <a:pt x="4332" y="507"/>
                  </a:lnTo>
                  <a:lnTo>
                    <a:pt x="4380" y="507"/>
                  </a:lnTo>
                  <a:lnTo>
                    <a:pt x="4427" y="344"/>
                  </a:lnTo>
                  <a:lnTo>
                    <a:pt x="4475" y="559"/>
                  </a:lnTo>
                  <a:lnTo>
                    <a:pt x="4523" y="445"/>
                  </a:lnTo>
                  <a:lnTo>
                    <a:pt x="4570" y="372"/>
                  </a:lnTo>
                  <a:lnTo>
                    <a:pt x="4618" y="372"/>
                  </a:lnTo>
                  <a:lnTo>
                    <a:pt x="4665" y="485"/>
                  </a:lnTo>
                  <a:lnTo>
                    <a:pt x="4713" y="385"/>
                  </a:lnTo>
                  <a:lnTo>
                    <a:pt x="4713" y="741"/>
                  </a:lnTo>
                  <a:lnTo>
                    <a:pt x="4665" y="741"/>
                  </a:lnTo>
                  <a:lnTo>
                    <a:pt x="4618" y="741"/>
                  </a:lnTo>
                  <a:lnTo>
                    <a:pt x="4570" y="741"/>
                  </a:lnTo>
                  <a:lnTo>
                    <a:pt x="4523" y="741"/>
                  </a:lnTo>
                  <a:lnTo>
                    <a:pt x="4475" y="741"/>
                  </a:lnTo>
                  <a:lnTo>
                    <a:pt x="4427" y="741"/>
                  </a:lnTo>
                  <a:lnTo>
                    <a:pt x="4380" y="741"/>
                  </a:lnTo>
                  <a:lnTo>
                    <a:pt x="4332" y="741"/>
                  </a:lnTo>
                  <a:lnTo>
                    <a:pt x="4285" y="741"/>
                  </a:lnTo>
                  <a:lnTo>
                    <a:pt x="4237" y="741"/>
                  </a:lnTo>
                  <a:lnTo>
                    <a:pt x="4190" y="741"/>
                  </a:lnTo>
                  <a:lnTo>
                    <a:pt x="4142" y="741"/>
                  </a:lnTo>
                  <a:lnTo>
                    <a:pt x="4094" y="741"/>
                  </a:lnTo>
                  <a:lnTo>
                    <a:pt x="4046" y="741"/>
                  </a:lnTo>
                  <a:lnTo>
                    <a:pt x="3998" y="741"/>
                  </a:lnTo>
                  <a:lnTo>
                    <a:pt x="3951" y="741"/>
                  </a:lnTo>
                  <a:lnTo>
                    <a:pt x="3903" y="741"/>
                  </a:lnTo>
                  <a:lnTo>
                    <a:pt x="3856" y="741"/>
                  </a:lnTo>
                  <a:lnTo>
                    <a:pt x="3808" y="741"/>
                  </a:lnTo>
                  <a:lnTo>
                    <a:pt x="3761" y="741"/>
                  </a:lnTo>
                  <a:lnTo>
                    <a:pt x="3713" y="741"/>
                  </a:lnTo>
                  <a:lnTo>
                    <a:pt x="3665" y="741"/>
                  </a:lnTo>
                  <a:lnTo>
                    <a:pt x="3618" y="741"/>
                  </a:lnTo>
                  <a:lnTo>
                    <a:pt x="3570" y="741"/>
                  </a:lnTo>
                  <a:lnTo>
                    <a:pt x="3523" y="741"/>
                  </a:lnTo>
                  <a:lnTo>
                    <a:pt x="3475" y="741"/>
                  </a:lnTo>
                  <a:lnTo>
                    <a:pt x="3428" y="741"/>
                  </a:lnTo>
                  <a:lnTo>
                    <a:pt x="3380" y="741"/>
                  </a:lnTo>
                  <a:lnTo>
                    <a:pt x="3333" y="741"/>
                  </a:lnTo>
                  <a:lnTo>
                    <a:pt x="3285" y="741"/>
                  </a:lnTo>
                  <a:lnTo>
                    <a:pt x="3237" y="741"/>
                  </a:lnTo>
                  <a:lnTo>
                    <a:pt x="3190" y="741"/>
                  </a:lnTo>
                  <a:lnTo>
                    <a:pt x="3142" y="741"/>
                  </a:lnTo>
                  <a:lnTo>
                    <a:pt x="3095" y="741"/>
                  </a:lnTo>
                  <a:lnTo>
                    <a:pt x="3047" y="741"/>
                  </a:lnTo>
                  <a:lnTo>
                    <a:pt x="3000" y="741"/>
                  </a:lnTo>
                  <a:lnTo>
                    <a:pt x="2952" y="741"/>
                  </a:lnTo>
                  <a:lnTo>
                    <a:pt x="2903" y="741"/>
                  </a:lnTo>
                  <a:lnTo>
                    <a:pt x="2856" y="741"/>
                  </a:lnTo>
                  <a:lnTo>
                    <a:pt x="2808" y="741"/>
                  </a:lnTo>
                  <a:lnTo>
                    <a:pt x="2761" y="741"/>
                  </a:lnTo>
                  <a:lnTo>
                    <a:pt x="2713" y="741"/>
                  </a:lnTo>
                  <a:lnTo>
                    <a:pt x="2666" y="741"/>
                  </a:lnTo>
                  <a:lnTo>
                    <a:pt x="2618" y="741"/>
                  </a:lnTo>
                  <a:lnTo>
                    <a:pt x="2571" y="741"/>
                  </a:lnTo>
                  <a:lnTo>
                    <a:pt x="2523" y="741"/>
                  </a:lnTo>
                  <a:lnTo>
                    <a:pt x="2475" y="741"/>
                  </a:lnTo>
                  <a:lnTo>
                    <a:pt x="2428" y="741"/>
                  </a:lnTo>
                  <a:lnTo>
                    <a:pt x="2380" y="741"/>
                  </a:lnTo>
                  <a:lnTo>
                    <a:pt x="2333" y="741"/>
                  </a:lnTo>
                  <a:lnTo>
                    <a:pt x="2285" y="741"/>
                  </a:lnTo>
                  <a:lnTo>
                    <a:pt x="2238" y="741"/>
                  </a:lnTo>
                  <a:lnTo>
                    <a:pt x="2190" y="741"/>
                  </a:lnTo>
                  <a:lnTo>
                    <a:pt x="2142" y="741"/>
                  </a:lnTo>
                  <a:lnTo>
                    <a:pt x="2095" y="741"/>
                  </a:lnTo>
                  <a:lnTo>
                    <a:pt x="2047" y="741"/>
                  </a:lnTo>
                  <a:lnTo>
                    <a:pt x="2000" y="741"/>
                  </a:lnTo>
                  <a:lnTo>
                    <a:pt x="1952" y="741"/>
                  </a:lnTo>
                  <a:lnTo>
                    <a:pt x="1905" y="741"/>
                  </a:lnTo>
                  <a:lnTo>
                    <a:pt x="1857" y="741"/>
                  </a:lnTo>
                  <a:lnTo>
                    <a:pt x="1810" y="741"/>
                  </a:lnTo>
                  <a:lnTo>
                    <a:pt x="1761" y="741"/>
                  </a:lnTo>
                  <a:lnTo>
                    <a:pt x="1713" y="741"/>
                  </a:lnTo>
                  <a:lnTo>
                    <a:pt x="1666" y="741"/>
                  </a:lnTo>
                  <a:lnTo>
                    <a:pt x="1618" y="741"/>
                  </a:lnTo>
                  <a:lnTo>
                    <a:pt x="1571" y="741"/>
                  </a:lnTo>
                  <a:lnTo>
                    <a:pt x="1523" y="741"/>
                  </a:lnTo>
                  <a:lnTo>
                    <a:pt x="1476" y="741"/>
                  </a:lnTo>
                  <a:lnTo>
                    <a:pt x="1428" y="741"/>
                  </a:lnTo>
                  <a:lnTo>
                    <a:pt x="1380" y="741"/>
                  </a:lnTo>
                  <a:lnTo>
                    <a:pt x="1333" y="741"/>
                  </a:lnTo>
                  <a:lnTo>
                    <a:pt x="1285" y="741"/>
                  </a:lnTo>
                  <a:lnTo>
                    <a:pt x="1238" y="741"/>
                  </a:lnTo>
                  <a:lnTo>
                    <a:pt x="1190" y="741"/>
                  </a:lnTo>
                  <a:lnTo>
                    <a:pt x="1143" y="741"/>
                  </a:lnTo>
                  <a:lnTo>
                    <a:pt x="1095" y="741"/>
                  </a:lnTo>
                  <a:lnTo>
                    <a:pt x="1048" y="741"/>
                  </a:lnTo>
                  <a:lnTo>
                    <a:pt x="1000" y="741"/>
                  </a:lnTo>
                  <a:lnTo>
                    <a:pt x="952" y="741"/>
                  </a:lnTo>
                  <a:lnTo>
                    <a:pt x="905" y="741"/>
                  </a:lnTo>
                  <a:lnTo>
                    <a:pt x="857" y="741"/>
                  </a:lnTo>
                  <a:lnTo>
                    <a:pt x="810" y="741"/>
                  </a:lnTo>
                  <a:lnTo>
                    <a:pt x="762" y="741"/>
                  </a:lnTo>
                  <a:lnTo>
                    <a:pt x="715" y="741"/>
                  </a:lnTo>
                  <a:lnTo>
                    <a:pt x="667" y="741"/>
                  </a:lnTo>
                  <a:lnTo>
                    <a:pt x="620" y="741"/>
                  </a:lnTo>
                  <a:lnTo>
                    <a:pt x="571" y="741"/>
                  </a:lnTo>
                  <a:lnTo>
                    <a:pt x="523" y="741"/>
                  </a:lnTo>
                  <a:lnTo>
                    <a:pt x="476" y="741"/>
                  </a:lnTo>
                  <a:lnTo>
                    <a:pt x="428" y="741"/>
                  </a:lnTo>
                  <a:lnTo>
                    <a:pt x="381" y="741"/>
                  </a:lnTo>
                  <a:lnTo>
                    <a:pt x="333" y="741"/>
                  </a:lnTo>
                  <a:lnTo>
                    <a:pt x="286" y="741"/>
                  </a:lnTo>
                  <a:lnTo>
                    <a:pt x="238" y="741"/>
                  </a:lnTo>
                  <a:lnTo>
                    <a:pt x="190" y="741"/>
                  </a:lnTo>
                  <a:lnTo>
                    <a:pt x="143" y="741"/>
                  </a:lnTo>
                  <a:lnTo>
                    <a:pt x="95" y="741"/>
                  </a:lnTo>
                  <a:lnTo>
                    <a:pt x="48" y="741"/>
                  </a:lnTo>
                  <a:lnTo>
                    <a:pt x="0" y="7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371600" y="2776680"/>
              <a:ext cx="7481880" cy="2838240"/>
            </a:xfrm>
            <a:custGeom>
              <a:avLst/>
              <a:gdLst/>
              <a:ahLst/>
              <a:rect l="l" t="t" r="r" b="b"/>
              <a:pathLst>
                <a:path w="4713" h="1788">
                  <a:moveTo>
                    <a:pt x="0" y="1788"/>
                  </a:moveTo>
                  <a:lnTo>
                    <a:pt x="0" y="1788"/>
                  </a:lnTo>
                  <a:lnTo>
                    <a:pt x="48" y="1788"/>
                  </a:lnTo>
                  <a:lnTo>
                    <a:pt x="95" y="1641"/>
                  </a:lnTo>
                  <a:lnTo>
                    <a:pt x="143" y="1532"/>
                  </a:lnTo>
                  <a:lnTo>
                    <a:pt x="190" y="1532"/>
                  </a:lnTo>
                  <a:lnTo>
                    <a:pt x="238" y="1361"/>
                  </a:lnTo>
                  <a:lnTo>
                    <a:pt x="286" y="1209"/>
                  </a:lnTo>
                  <a:lnTo>
                    <a:pt x="333" y="1209"/>
                  </a:lnTo>
                  <a:lnTo>
                    <a:pt x="381" y="1183"/>
                  </a:lnTo>
                  <a:lnTo>
                    <a:pt x="428" y="941"/>
                  </a:lnTo>
                  <a:lnTo>
                    <a:pt x="476" y="941"/>
                  </a:lnTo>
                  <a:lnTo>
                    <a:pt x="523" y="937"/>
                  </a:lnTo>
                  <a:lnTo>
                    <a:pt x="571" y="501"/>
                  </a:lnTo>
                  <a:lnTo>
                    <a:pt x="620" y="501"/>
                  </a:lnTo>
                  <a:lnTo>
                    <a:pt x="667" y="522"/>
                  </a:lnTo>
                  <a:lnTo>
                    <a:pt x="715" y="558"/>
                  </a:lnTo>
                  <a:lnTo>
                    <a:pt x="762" y="562"/>
                  </a:lnTo>
                  <a:lnTo>
                    <a:pt x="810" y="612"/>
                  </a:lnTo>
                  <a:lnTo>
                    <a:pt x="857" y="545"/>
                  </a:lnTo>
                  <a:lnTo>
                    <a:pt x="905" y="545"/>
                  </a:lnTo>
                  <a:lnTo>
                    <a:pt x="952" y="547"/>
                  </a:lnTo>
                  <a:lnTo>
                    <a:pt x="1000" y="282"/>
                  </a:lnTo>
                  <a:lnTo>
                    <a:pt x="1048" y="282"/>
                  </a:lnTo>
                  <a:lnTo>
                    <a:pt x="1095" y="282"/>
                  </a:lnTo>
                  <a:lnTo>
                    <a:pt x="1143" y="621"/>
                  </a:lnTo>
                  <a:lnTo>
                    <a:pt x="1190" y="621"/>
                  </a:lnTo>
                  <a:lnTo>
                    <a:pt x="1238" y="621"/>
                  </a:lnTo>
                  <a:lnTo>
                    <a:pt x="1285" y="494"/>
                  </a:lnTo>
                  <a:lnTo>
                    <a:pt x="1333" y="494"/>
                  </a:lnTo>
                  <a:lnTo>
                    <a:pt x="1380" y="494"/>
                  </a:lnTo>
                  <a:lnTo>
                    <a:pt x="1428" y="172"/>
                  </a:lnTo>
                  <a:lnTo>
                    <a:pt x="1476" y="179"/>
                  </a:lnTo>
                  <a:lnTo>
                    <a:pt x="1523" y="179"/>
                  </a:lnTo>
                  <a:lnTo>
                    <a:pt x="1571" y="553"/>
                  </a:lnTo>
                  <a:lnTo>
                    <a:pt x="1618" y="554"/>
                  </a:lnTo>
                  <a:lnTo>
                    <a:pt x="1666" y="554"/>
                  </a:lnTo>
                  <a:lnTo>
                    <a:pt x="1713" y="435"/>
                  </a:lnTo>
                  <a:lnTo>
                    <a:pt x="1761" y="437"/>
                  </a:lnTo>
                  <a:lnTo>
                    <a:pt x="1810" y="437"/>
                  </a:lnTo>
                  <a:lnTo>
                    <a:pt x="1857" y="125"/>
                  </a:lnTo>
                  <a:lnTo>
                    <a:pt x="1905" y="139"/>
                  </a:lnTo>
                  <a:lnTo>
                    <a:pt x="1952" y="139"/>
                  </a:lnTo>
                  <a:lnTo>
                    <a:pt x="2000" y="496"/>
                  </a:lnTo>
                  <a:lnTo>
                    <a:pt x="2047" y="498"/>
                  </a:lnTo>
                  <a:lnTo>
                    <a:pt x="2095" y="498"/>
                  </a:lnTo>
                  <a:lnTo>
                    <a:pt x="2142" y="355"/>
                  </a:lnTo>
                  <a:lnTo>
                    <a:pt x="2190" y="357"/>
                  </a:lnTo>
                  <a:lnTo>
                    <a:pt x="2238" y="357"/>
                  </a:lnTo>
                  <a:lnTo>
                    <a:pt x="2285" y="48"/>
                  </a:lnTo>
                  <a:lnTo>
                    <a:pt x="2333" y="69"/>
                  </a:lnTo>
                  <a:lnTo>
                    <a:pt x="2380" y="69"/>
                  </a:lnTo>
                  <a:lnTo>
                    <a:pt x="2428" y="417"/>
                  </a:lnTo>
                  <a:lnTo>
                    <a:pt x="2475" y="419"/>
                  </a:lnTo>
                  <a:lnTo>
                    <a:pt x="2523" y="419"/>
                  </a:lnTo>
                  <a:lnTo>
                    <a:pt x="2571" y="317"/>
                  </a:lnTo>
                  <a:lnTo>
                    <a:pt x="2618" y="318"/>
                  </a:lnTo>
                  <a:lnTo>
                    <a:pt x="2666" y="318"/>
                  </a:lnTo>
                  <a:lnTo>
                    <a:pt x="2713" y="0"/>
                  </a:lnTo>
                  <a:lnTo>
                    <a:pt x="2761" y="26"/>
                  </a:lnTo>
                  <a:lnTo>
                    <a:pt x="2808" y="26"/>
                  </a:lnTo>
                  <a:lnTo>
                    <a:pt x="2856" y="398"/>
                  </a:lnTo>
                  <a:lnTo>
                    <a:pt x="2903" y="400"/>
                  </a:lnTo>
                  <a:lnTo>
                    <a:pt x="2952" y="400"/>
                  </a:lnTo>
                  <a:lnTo>
                    <a:pt x="3000" y="267"/>
                  </a:lnTo>
                  <a:lnTo>
                    <a:pt x="3047" y="269"/>
                  </a:lnTo>
                  <a:lnTo>
                    <a:pt x="3095" y="269"/>
                  </a:lnTo>
                  <a:lnTo>
                    <a:pt x="3142" y="16"/>
                  </a:lnTo>
                  <a:lnTo>
                    <a:pt x="3190" y="34"/>
                  </a:lnTo>
                  <a:lnTo>
                    <a:pt x="3237" y="34"/>
                  </a:lnTo>
                  <a:lnTo>
                    <a:pt x="3285" y="424"/>
                  </a:lnTo>
                  <a:lnTo>
                    <a:pt x="3333" y="424"/>
                  </a:lnTo>
                  <a:lnTo>
                    <a:pt x="3380" y="424"/>
                  </a:lnTo>
                  <a:lnTo>
                    <a:pt x="3428" y="72"/>
                  </a:lnTo>
                  <a:lnTo>
                    <a:pt x="3475" y="72"/>
                  </a:lnTo>
                  <a:lnTo>
                    <a:pt x="3523" y="72"/>
                  </a:lnTo>
                  <a:lnTo>
                    <a:pt x="3570" y="199"/>
                  </a:lnTo>
                  <a:lnTo>
                    <a:pt x="3618" y="232"/>
                  </a:lnTo>
                  <a:lnTo>
                    <a:pt x="3665" y="232"/>
                  </a:lnTo>
                  <a:lnTo>
                    <a:pt x="3713" y="361"/>
                  </a:lnTo>
                  <a:lnTo>
                    <a:pt x="3761" y="362"/>
                  </a:lnTo>
                  <a:lnTo>
                    <a:pt x="3808" y="362"/>
                  </a:lnTo>
                  <a:lnTo>
                    <a:pt x="3856" y="283"/>
                  </a:lnTo>
                  <a:lnTo>
                    <a:pt x="3903" y="284"/>
                  </a:lnTo>
                  <a:lnTo>
                    <a:pt x="3951" y="284"/>
                  </a:lnTo>
                  <a:lnTo>
                    <a:pt x="3998" y="593"/>
                  </a:lnTo>
                  <a:lnTo>
                    <a:pt x="4046" y="593"/>
                  </a:lnTo>
                  <a:lnTo>
                    <a:pt x="4094" y="593"/>
                  </a:lnTo>
                  <a:lnTo>
                    <a:pt x="4142" y="38"/>
                  </a:lnTo>
                  <a:lnTo>
                    <a:pt x="4190" y="38"/>
                  </a:lnTo>
                  <a:lnTo>
                    <a:pt x="4237" y="38"/>
                  </a:lnTo>
                  <a:lnTo>
                    <a:pt x="4285" y="274"/>
                  </a:lnTo>
                  <a:lnTo>
                    <a:pt x="4332" y="286"/>
                  </a:lnTo>
                  <a:lnTo>
                    <a:pt x="4380" y="286"/>
                  </a:lnTo>
                  <a:lnTo>
                    <a:pt x="4427" y="491"/>
                  </a:lnTo>
                  <a:lnTo>
                    <a:pt x="4475" y="511"/>
                  </a:lnTo>
                  <a:lnTo>
                    <a:pt x="4523" y="506"/>
                  </a:lnTo>
                  <a:lnTo>
                    <a:pt x="4570" y="510"/>
                  </a:lnTo>
                  <a:lnTo>
                    <a:pt x="4618" y="524"/>
                  </a:lnTo>
                  <a:lnTo>
                    <a:pt x="4665" y="524"/>
                  </a:lnTo>
                  <a:lnTo>
                    <a:pt x="4713" y="1048"/>
                  </a:lnTo>
                  <a:lnTo>
                    <a:pt x="4713" y="1432"/>
                  </a:lnTo>
                  <a:lnTo>
                    <a:pt x="4665" y="1532"/>
                  </a:lnTo>
                  <a:lnTo>
                    <a:pt x="4618" y="1419"/>
                  </a:lnTo>
                  <a:lnTo>
                    <a:pt x="4570" y="1419"/>
                  </a:lnTo>
                  <a:lnTo>
                    <a:pt x="4523" y="1492"/>
                  </a:lnTo>
                  <a:lnTo>
                    <a:pt x="4475" y="1606"/>
                  </a:lnTo>
                  <a:lnTo>
                    <a:pt x="4427" y="1391"/>
                  </a:lnTo>
                  <a:lnTo>
                    <a:pt x="4380" y="1554"/>
                  </a:lnTo>
                  <a:lnTo>
                    <a:pt x="4332" y="1554"/>
                  </a:lnTo>
                  <a:lnTo>
                    <a:pt x="4285" y="1550"/>
                  </a:lnTo>
                  <a:lnTo>
                    <a:pt x="4237" y="1187"/>
                  </a:lnTo>
                  <a:lnTo>
                    <a:pt x="4190" y="1136"/>
                  </a:lnTo>
                  <a:lnTo>
                    <a:pt x="4142" y="1115"/>
                  </a:lnTo>
                  <a:lnTo>
                    <a:pt x="4094" y="1342"/>
                  </a:lnTo>
                  <a:lnTo>
                    <a:pt x="4046" y="1392"/>
                  </a:lnTo>
                  <a:lnTo>
                    <a:pt x="3998" y="1084"/>
                  </a:lnTo>
                  <a:lnTo>
                    <a:pt x="3951" y="1252"/>
                  </a:lnTo>
                  <a:lnTo>
                    <a:pt x="3903" y="1249"/>
                  </a:lnTo>
                  <a:lnTo>
                    <a:pt x="3856" y="1135"/>
                  </a:lnTo>
                  <a:lnTo>
                    <a:pt x="3808" y="1228"/>
                  </a:lnTo>
                  <a:lnTo>
                    <a:pt x="3761" y="1224"/>
                  </a:lnTo>
                  <a:lnTo>
                    <a:pt x="3713" y="1047"/>
                  </a:lnTo>
                  <a:lnTo>
                    <a:pt x="3665" y="1401"/>
                  </a:lnTo>
                  <a:lnTo>
                    <a:pt x="3618" y="1409"/>
                  </a:lnTo>
                  <a:lnTo>
                    <a:pt x="3570" y="1333"/>
                  </a:lnTo>
                  <a:lnTo>
                    <a:pt x="3523" y="1140"/>
                  </a:lnTo>
                  <a:lnTo>
                    <a:pt x="3475" y="1127"/>
                  </a:lnTo>
                  <a:lnTo>
                    <a:pt x="3428" y="1070"/>
                  </a:lnTo>
                  <a:lnTo>
                    <a:pt x="3380" y="1360"/>
                  </a:lnTo>
                  <a:lnTo>
                    <a:pt x="3333" y="1372"/>
                  </a:lnTo>
                  <a:lnTo>
                    <a:pt x="3285" y="1299"/>
                  </a:lnTo>
                  <a:lnTo>
                    <a:pt x="3237" y="1227"/>
                  </a:lnTo>
                  <a:lnTo>
                    <a:pt x="3190" y="1211"/>
                  </a:lnTo>
                  <a:lnTo>
                    <a:pt x="3142" y="1132"/>
                  </a:lnTo>
                  <a:lnTo>
                    <a:pt x="3095" y="1272"/>
                  </a:lnTo>
                  <a:lnTo>
                    <a:pt x="3047" y="1285"/>
                  </a:lnTo>
                  <a:lnTo>
                    <a:pt x="3000" y="1065"/>
                  </a:lnTo>
                  <a:lnTo>
                    <a:pt x="2952" y="1427"/>
                  </a:lnTo>
                  <a:lnTo>
                    <a:pt x="2903" y="1431"/>
                  </a:lnTo>
                  <a:lnTo>
                    <a:pt x="2856" y="1406"/>
                  </a:lnTo>
                  <a:lnTo>
                    <a:pt x="2808" y="1210"/>
                  </a:lnTo>
                  <a:lnTo>
                    <a:pt x="2761" y="1184"/>
                  </a:lnTo>
                  <a:lnTo>
                    <a:pt x="2713" y="1115"/>
                  </a:lnTo>
                  <a:lnTo>
                    <a:pt x="2666" y="1318"/>
                  </a:lnTo>
                  <a:lnTo>
                    <a:pt x="2618" y="1344"/>
                  </a:lnTo>
                  <a:lnTo>
                    <a:pt x="2571" y="1081"/>
                  </a:lnTo>
                  <a:lnTo>
                    <a:pt x="2523" y="1396"/>
                  </a:lnTo>
                  <a:lnTo>
                    <a:pt x="2475" y="1398"/>
                  </a:lnTo>
                  <a:lnTo>
                    <a:pt x="2428" y="1370"/>
                  </a:lnTo>
                  <a:lnTo>
                    <a:pt x="2380" y="1236"/>
                  </a:lnTo>
                  <a:lnTo>
                    <a:pt x="2333" y="1211"/>
                  </a:lnTo>
                  <a:lnTo>
                    <a:pt x="2285" y="1140"/>
                  </a:lnTo>
                  <a:lnTo>
                    <a:pt x="2238" y="1310"/>
                  </a:lnTo>
                  <a:lnTo>
                    <a:pt x="2190" y="1335"/>
                  </a:lnTo>
                  <a:lnTo>
                    <a:pt x="2142" y="1100"/>
                  </a:lnTo>
                  <a:lnTo>
                    <a:pt x="2095" y="1405"/>
                  </a:lnTo>
                  <a:lnTo>
                    <a:pt x="2047" y="1408"/>
                  </a:lnTo>
                  <a:lnTo>
                    <a:pt x="2000" y="1384"/>
                  </a:lnTo>
                  <a:lnTo>
                    <a:pt x="1952" y="1246"/>
                  </a:lnTo>
                  <a:lnTo>
                    <a:pt x="1905" y="1217"/>
                  </a:lnTo>
                  <a:lnTo>
                    <a:pt x="1857" y="1163"/>
                  </a:lnTo>
                  <a:lnTo>
                    <a:pt x="1810" y="1354"/>
                  </a:lnTo>
                  <a:lnTo>
                    <a:pt x="1761" y="1381"/>
                  </a:lnTo>
                  <a:lnTo>
                    <a:pt x="1713" y="1127"/>
                  </a:lnTo>
                  <a:lnTo>
                    <a:pt x="1666" y="1448"/>
                  </a:lnTo>
                  <a:lnTo>
                    <a:pt x="1618" y="1449"/>
                  </a:lnTo>
                  <a:lnTo>
                    <a:pt x="1571" y="1432"/>
                  </a:lnTo>
                  <a:lnTo>
                    <a:pt x="1523" y="1261"/>
                  </a:lnTo>
                  <a:lnTo>
                    <a:pt x="1476" y="1225"/>
                  </a:lnTo>
                  <a:lnTo>
                    <a:pt x="1428" y="1198"/>
                  </a:lnTo>
                  <a:lnTo>
                    <a:pt x="1380" y="1384"/>
                  </a:lnTo>
                  <a:lnTo>
                    <a:pt x="1333" y="1419"/>
                  </a:lnTo>
                  <a:lnTo>
                    <a:pt x="1285" y="1160"/>
                  </a:lnTo>
                  <a:lnTo>
                    <a:pt x="1238" y="1458"/>
                  </a:lnTo>
                  <a:lnTo>
                    <a:pt x="1190" y="1458"/>
                  </a:lnTo>
                  <a:lnTo>
                    <a:pt x="1143" y="1452"/>
                  </a:lnTo>
                  <a:lnTo>
                    <a:pt x="1095" y="1295"/>
                  </a:lnTo>
                  <a:lnTo>
                    <a:pt x="1048" y="1260"/>
                  </a:lnTo>
                  <a:lnTo>
                    <a:pt x="1000" y="1243"/>
                  </a:lnTo>
                  <a:lnTo>
                    <a:pt x="952" y="1413"/>
                  </a:lnTo>
                  <a:lnTo>
                    <a:pt x="905" y="1446"/>
                  </a:lnTo>
                  <a:lnTo>
                    <a:pt x="857" y="1232"/>
                  </a:lnTo>
                  <a:lnTo>
                    <a:pt x="810" y="1461"/>
                  </a:lnTo>
                  <a:lnTo>
                    <a:pt x="762" y="1463"/>
                  </a:lnTo>
                  <a:lnTo>
                    <a:pt x="715" y="1463"/>
                  </a:lnTo>
                  <a:lnTo>
                    <a:pt x="667" y="1352"/>
                  </a:lnTo>
                  <a:lnTo>
                    <a:pt x="620" y="1317"/>
                  </a:lnTo>
                  <a:lnTo>
                    <a:pt x="571" y="1317"/>
                  </a:lnTo>
                  <a:lnTo>
                    <a:pt x="523" y="1485"/>
                  </a:lnTo>
                  <a:lnTo>
                    <a:pt x="476" y="1427"/>
                  </a:lnTo>
                  <a:lnTo>
                    <a:pt x="428" y="1427"/>
                  </a:lnTo>
                  <a:lnTo>
                    <a:pt x="381" y="1484"/>
                  </a:lnTo>
                  <a:lnTo>
                    <a:pt x="333" y="1463"/>
                  </a:lnTo>
                  <a:lnTo>
                    <a:pt x="286" y="1455"/>
                  </a:lnTo>
                  <a:lnTo>
                    <a:pt x="238" y="1401"/>
                  </a:lnTo>
                  <a:lnTo>
                    <a:pt x="190" y="1532"/>
                  </a:lnTo>
                  <a:lnTo>
                    <a:pt x="143" y="1532"/>
                  </a:lnTo>
                  <a:lnTo>
                    <a:pt x="95" y="1641"/>
                  </a:lnTo>
                  <a:lnTo>
                    <a:pt x="48" y="1788"/>
                  </a:lnTo>
                  <a:lnTo>
                    <a:pt x="0" y="17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371600" y="1994040"/>
              <a:ext cx="7481880" cy="3620880"/>
            </a:xfrm>
            <a:custGeom>
              <a:avLst/>
              <a:gdLst/>
              <a:ahLst/>
              <a:rect l="l" t="t" r="r" b="b"/>
              <a:pathLst>
                <a:path w="4713" h="2281">
                  <a:moveTo>
                    <a:pt x="0" y="2281"/>
                  </a:moveTo>
                  <a:lnTo>
                    <a:pt x="0" y="2281"/>
                  </a:lnTo>
                  <a:lnTo>
                    <a:pt x="48" y="2281"/>
                  </a:lnTo>
                  <a:lnTo>
                    <a:pt x="95" y="2134"/>
                  </a:lnTo>
                  <a:lnTo>
                    <a:pt x="143" y="2025"/>
                  </a:lnTo>
                  <a:lnTo>
                    <a:pt x="190" y="2025"/>
                  </a:lnTo>
                  <a:lnTo>
                    <a:pt x="238" y="1854"/>
                  </a:lnTo>
                  <a:lnTo>
                    <a:pt x="286" y="1702"/>
                  </a:lnTo>
                  <a:lnTo>
                    <a:pt x="333" y="1702"/>
                  </a:lnTo>
                  <a:lnTo>
                    <a:pt x="381" y="1676"/>
                  </a:lnTo>
                  <a:lnTo>
                    <a:pt x="428" y="1434"/>
                  </a:lnTo>
                  <a:lnTo>
                    <a:pt x="476" y="1434"/>
                  </a:lnTo>
                  <a:lnTo>
                    <a:pt x="523" y="1430"/>
                  </a:lnTo>
                  <a:lnTo>
                    <a:pt x="571" y="994"/>
                  </a:lnTo>
                  <a:lnTo>
                    <a:pt x="620" y="994"/>
                  </a:lnTo>
                  <a:lnTo>
                    <a:pt x="667" y="994"/>
                  </a:lnTo>
                  <a:lnTo>
                    <a:pt x="715" y="978"/>
                  </a:lnTo>
                  <a:lnTo>
                    <a:pt x="762" y="978"/>
                  </a:lnTo>
                  <a:lnTo>
                    <a:pt x="810" y="978"/>
                  </a:lnTo>
                  <a:lnTo>
                    <a:pt x="857" y="866"/>
                  </a:lnTo>
                  <a:lnTo>
                    <a:pt x="905" y="866"/>
                  </a:lnTo>
                  <a:lnTo>
                    <a:pt x="952" y="866"/>
                  </a:lnTo>
                  <a:lnTo>
                    <a:pt x="1000" y="491"/>
                  </a:lnTo>
                  <a:lnTo>
                    <a:pt x="1048" y="491"/>
                  </a:lnTo>
                  <a:lnTo>
                    <a:pt x="1095" y="491"/>
                  </a:lnTo>
                  <a:lnTo>
                    <a:pt x="1143" y="491"/>
                  </a:lnTo>
                  <a:lnTo>
                    <a:pt x="1190" y="491"/>
                  </a:lnTo>
                  <a:lnTo>
                    <a:pt x="1238" y="491"/>
                  </a:lnTo>
                  <a:lnTo>
                    <a:pt x="1285" y="491"/>
                  </a:lnTo>
                  <a:lnTo>
                    <a:pt x="1333" y="491"/>
                  </a:lnTo>
                  <a:lnTo>
                    <a:pt x="1380" y="491"/>
                  </a:lnTo>
                  <a:lnTo>
                    <a:pt x="1428" y="270"/>
                  </a:lnTo>
                  <a:lnTo>
                    <a:pt x="1476" y="271"/>
                  </a:lnTo>
                  <a:lnTo>
                    <a:pt x="1523" y="271"/>
                  </a:lnTo>
                  <a:lnTo>
                    <a:pt x="1571" y="342"/>
                  </a:lnTo>
                  <a:lnTo>
                    <a:pt x="1618" y="342"/>
                  </a:lnTo>
                  <a:lnTo>
                    <a:pt x="1666" y="342"/>
                  </a:lnTo>
                  <a:lnTo>
                    <a:pt x="1713" y="398"/>
                  </a:lnTo>
                  <a:lnTo>
                    <a:pt x="1761" y="398"/>
                  </a:lnTo>
                  <a:lnTo>
                    <a:pt x="1810" y="398"/>
                  </a:lnTo>
                  <a:lnTo>
                    <a:pt x="1857" y="254"/>
                  </a:lnTo>
                  <a:lnTo>
                    <a:pt x="1905" y="254"/>
                  </a:lnTo>
                  <a:lnTo>
                    <a:pt x="1952" y="254"/>
                  </a:lnTo>
                  <a:lnTo>
                    <a:pt x="2000" y="254"/>
                  </a:lnTo>
                  <a:lnTo>
                    <a:pt x="2047" y="254"/>
                  </a:lnTo>
                  <a:lnTo>
                    <a:pt x="2095" y="254"/>
                  </a:lnTo>
                  <a:lnTo>
                    <a:pt x="2142" y="256"/>
                  </a:lnTo>
                  <a:lnTo>
                    <a:pt x="2190" y="256"/>
                  </a:lnTo>
                  <a:lnTo>
                    <a:pt x="2238" y="256"/>
                  </a:lnTo>
                  <a:lnTo>
                    <a:pt x="2285" y="227"/>
                  </a:lnTo>
                  <a:lnTo>
                    <a:pt x="2333" y="227"/>
                  </a:lnTo>
                  <a:lnTo>
                    <a:pt x="2380" y="227"/>
                  </a:lnTo>
                  <a:lnTo>
                    <a:pt x="2428" y="227"/>
                  </a:lnTo>
                  <a:lnTo>
                    <a:pt x="2475" y="227"/>
                  </a:lnTo>
                  <a:lnTo>
                    <a:pt x="2523" y="227"/>
                  </a:lnTo>
                  <a:lnTo>
                    <a:pt x="2571" y="226"/>
                  </a:lnTo>
                  <a:lnTo>
                    <a:pt x="2618" y="227"/>
                  </a:lnTo>
                  <a:lnTo>
                    <a:pt x="2666" y="227"/>
                  </a:lnTo>
                  <a:lnTo>
                    <a:pt x="2713" y="139"/>
                  </a:lnTo>
                  <a:lnTo>
                    <a:pt x="2761" y="139"/>
                  </a:lnTo>
                  <a:lnTo>
                    <a:pt x="2808" y="139"/>
                  </a:lnTo>
                  <a:lnTo>
                    <a:pt x="2856" y="139"/>
                  </a:lnTo>
                  <a:lnTo>
                    <a:pt x="2903" y="139"/>
                  </a:lnTo>
                  <a:lnTo>
                    <a:pt x="2952" y="139"/>
                  </a:lnTo>
                  <a:lnTo>
                    <a:pt x="3000" y="139"/>
                  </a:lnTo>
                  <a:lnTo>
                    <a:pt x="3047" y="141"/>
                  </a:lnTo>
                  <a:lnTo>
                    <a:pt x="3095" y="141"/>
                  </a:lnTo>
                  <a:lnTo>
                    <a:pt x="3142" y="170"/>
                  </a:lnTo>
                  <a:lnTo>
                    <a:pt x="3190" y="170"/>
                  </a:lnTo>
                  <a:lnTo>
                    <a:pt x="3237" y="170"/>
                  </a:lnTo>
                  <a:lnTo>
                    <a:pt x="3285" y="170"/>
                  </a:lnTo>
                  <a:lnTo>
                    <a:pt x="3333" y="170"/>
                  </a:lnTo>
                  <a:lnTo>
                    <a:pt x="3380" y="170"/>
                  </a:lnTo>
                  <a:lnTo>
                    <a:pt x="3428" y="53"/>
                  </a:lnTo>
                  <a:lnTo>
                    <a:pt x="3475" y="53"/>
                  </a:lnTo>
                  <a:lnTo>
                    <a:pt x="3523" y="53"/>
                  </a:lnTo>
                  <a:lnTo>
                    <a:pt x="3570" y="241"/>
                  </a:lnTo>
                  <a:lnTo>
                    <a:pt x="3618" y="241"/>
                  </a:lnTo>
                  <a:lnTo>
                    <a:pt x="3665" y="241"/>
                  </a:lnTo>
                  <a:lnTo>
                    <a:pt x="3713" y="219"/>
                  </a:lnTo>
                  <a:lnTo>
                    <a:pt x="3761" y="219"/>
                  </a:lnTo>
                  <a:lnTo>
                    <a:pt x="3808" y="219"/>
                  </a:lnTo>
                  <a:lnTo>
                    <a:pt x="3856" y="194"/>
                  </a:lnTo>
                  <a:lnTo>
                    <a:pt x="3903" y="194"/>
                  </a:lnTo>
                  <a:lnTo>
                    <a:pt x="3951" y="194"/>
                  </a:lnTo>
                  <a:lnTo>
                    <a:pt x="3998" y="478"/>
                  </a:lnTo>
                  <a:lnTo>
                    <a:pt x="4046" y="478"/>
                  </a:lnTo>
                  <a:lnTo>
                    <a:pt x="4094" y="478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6"/>
                  </a:lnTo>
                  <a:lnTo>
                    <a:pt x="4332" y="10"/>
                  </a:lnTo>
                  <a:lnTo>
                    <a:pt x="4380" y="10"/>
                  </a:lnTo>
                  <a:lnTo>
                    <a:pt x="4427" y="236"/>
                  </a:lnTo>
                  <a:lnTo>
                    <a:pt x="4475" y="236"/>
                  </a:lnTo>
                  <a:lnTo>
                    <a:pt x="4523" y="236"/>
                  </a:lnTo>
                  <a:lnTo>
                    <a:pt x="4570" y="46"/>
                  </a:lnTo>
                  <a:lnTo>
                    <a:pt x="4618" y="46"/>
                  </a:lnTo>
                  <a:lnTo>
                    <a:pt x="4665" y="46"/>
                  </a:lnTo>
                  <a:lnTo>
                    <a:pt x="4713" y="295"/>
                  </a:lnTo>
                  <a:lnTo>
                    <a:pt x="4713" y="1541"/>
                  </a:lnTo>
                  <a:lnTo>
                    <a:pt x="4665" y="1017"/>
                  </a:lnTo>
                  <a:lnTo>
                    <a:pt x="4618" y="1017"/>
                  </a:lnTo>
                  <a:lnTo>
                    <a:pt x="4570" y="1003"/>
                  </a:lnTo>
                  <a:lnTo>
                    <a:pt x="4523" y="999"/>
                  </a:lnTo>
                  <a:lnTo>
                    <a:pt x="4475" y="1004"/>
                  </a:lnTo>
                  <a:lnTo>
                    <a:pt x="4427" y="984"/>
                  </a:lnTo>
                  <a:lnTo>
                    <a:pt x="4380" y="779"/>
                  </a:lnTo>
                  <a:lnTo>
                    <a:pt x="4332" y="779"/>
                  </a:lnTo>
                  <a:lnTo>
                    <a:pt x="4285" y="767"/>
                  </a:lnTo>
                  <a:lnTo>
                    <a:pt x="4237" y="531"/>
                  </a:lnTo>
                  <a:lnTo>
                    <a:pt x="4190" y="531"/>
                  </a:lnTo>
                  <a:lnTo>
                    <a:pt x="4142" y="531"/>
                  </a:lnTo>
                  <a:lnTo>
                    <a:pt x="4094" y="1086"/>
                  </a:lnTo>
                  <a:lnTo>
                    <a:pt x="4046" y="1086"/>
                  </a:lnTo>
                  <a:lnTo>
                    <a:pt x="3998" y="1086"/>
                  </a:lnTo>
                  <a:lnTo>
                    <a:pt x="3951" y="777"/>
                  </a:lnTo>
                  <a:lnTo>
                    <a:pt x="3903" y="777"/>
                  </a:lnTo>
                  <a:lnTo>
                    <a:pt x="3856" y="776"/>
                  </a:lnTo>
                  <a:lnTo>
                    <a:pt x="3808" y="855"/>
                  </a:lnTo>
                  <a:lnTo>
                    <a:pt x="3761" y="855"/>
                  </a:lnTo>
                  <a:lnTo>
                    <a:pt x="3713" y="854"/>
                  </a:lnTo>
                  <a:lnTo>
                    <a:pt x="3665" y="725"/>
                  </a:lnTo>
                  <a:lnTo>
                    <a:pt x="3618" y="725"/>
                  </a:lnTo>
                  <a:lnTo>
                    <a:pt x="3570" y="692"/>
                  </a:lnTo>
                  <a:lnTo>
                    <a:pt x="3523" y="565"/>
                  </a:lnTo>
                  <a:lnTo>
                    <a:pt x="3475" y="565"/>
                  </a:lnTo>
                  <a:lnTo>
                    <a:pt x="3428" y="565"/>
                  </a:lnTo>
                  <a:lnTo>
                    <a:pt x="3380" y="917"/>
                  </a:lnTo>
                  <a:lnTo>
                    <a:pt x="3333" y="917"/>
                  </a:lnTo>
                  <a:lnTo>
                    <a:pt x="3285" y="917"/>
                  </a:lnTo>
                  <a:lnTo>
                    <a:pt x="3237" y="527"/>
                  </a:lnTo>
                  <a:lnTo>
                    <a:pt x="3190" y="527"/>
                  </a:lnTo>
                  <a:lnTo>
                    <a:pt x="3142" y="509"/>
                  </a:lnTo>
                  <a:lnTo>
                    <a:pt x="3095" y="762"/>
                  </a:lnTo>
                  <a:lnTo>
                    <a:pt x="3047" y="762"/>
                  </a:lnTo>
                  <a:lnTo>
                    <a:pt x="3000" y="760"/>
                  </a:lnTo>
                  <a:lnTo>
                    <a:pt x="2952" y="893"/>
                  </a:lnTo>
                  <a:lnTo>
                    <a:pt x="2903" y="893"/>
                  </a:lnTo>
                  <a:lnTo>
                    <a:pt x="2856" y="891"/>
                  </a:lnTo>
                  <a:lnTo>
                    <a:pt x="2808" y="519"/>
                  </a:lnTo>
                  <a:lnTo>
                    <a:pt x="2761" y="519"/>
                  </a:lnTo>
                  <a:lnTo>
                    <a:pt x="2713" y="493"/>
                  </a:lnTo>
                  <a:lnTo>
                    <a:pt x="2666" y="811"/>
                  </a:lnTo>
                  <a:lnTo>
                    <a:pt x="2618" y="811"/>
                  </a:lnTo>
                  <a:lnTo>
                    <a:pt x="2571" y="810"/>
                  </a:lnTo>
                  <a:lnTo>
                    <a:pt x="2523" y="912"/>
                  </a:lnTo>
                  <a:lnTo>
                    <a:pt x="2475" y="912"/>
                  </a:lnTo>
                  <a:lnTo>
                    <a:pt x="2428" y="910"/>
                  </a:lnTo>
                  <a:lnTo>
                    <a:pt x="2380" y="562"/>
                  </a:lnTo>
                  <a:lnTo>
                    <a:pt x="2333" y="562"/>
                  </a:lnTo>
                  <a:lnTo>
                    <a:pt x="2285" y="541"/>
                  </a:lnTo>
                  <a:lnTo>
                    <a:pt x="2238" y="850"/>
                  </a:lnTo>
                  <a:lnTo>
                    <a:pt x="2190" y="850"/>
                  </a:lnTo>
                  <a:lnTo>
                    <a:pt x="2142" y="848"/>
                  </a:lnTo>
                  <a:lnTo>
                    <a:pt x="2095" y="991"/>
                  </a:lnTo>
                  <a:lnTo>
                    <a:pt x="2047" y="991"/>
                  </a:lnTo>
                  <a:lnTo>
                    <a:pt x="2000" y="989"/>
                  </a:lnTo>
                  <a:lnTo>
                    <a:pt x="1952" y="632"/>
                  </a:lnTo>
                  <a:lnTo>
                    <a:pt x="1905" y="632"/>
                  </a:lnTo>
                  <a:lnTo>
                    <a:pt x="1857" y="618"/>
                  </a:lnTo>
                  <a:lnTo>
                    <a:pt x="1810" y="930"/>
                  </a:lnTo>
                  <a:lnTo>
                    <a:pt x="1761" y="930"/>
                  </a:lnTo>
                  <a:lnTo>
                    <a:pt x="1713" y="928"/>
                  </a:lnTo>
                  <a:lnTo>
                    <a:pt x="1666" y="1047"/>
                  </a:lnTo>
                  <a:lnTo>
                    <a:pt x="1618" y="1047"/>
                  </a:lnTo>
                  <a:lnTo>
                    <a:pt x="1571" y="1046"/>
                  </a:lnTo>
                  <a:lnTo>
                    <a:pt x="1523" y="672"/>
                  </a:lnTo>
                  <a:lnTo>
                    <a:pt x="1476" y="672"/>
                  </a:lnTo>
                  <a:lnTo>
                    <a:pt x="1428" y="665"/>
                  </a:lnTo>
                  <a:lnTo>
                    <a:pt x="1380" y="987"/>
                  </a:lnTo>
                  <a:lnTo>
                    <a:pt x="1333" y="987"/>
                  </a:lnTo>
                  <a:lnTo>
                    <a:pt x="1285" y="987"/>
                  </a:lnTo>
                  <a:lnTo>
                    <a:pt x="1238" y="1114"/>
                  </a:lnTo>
                  <a:lnTo>
                    <a:pt x="1190" y="1114"/>
                  </a:lnTo>
                  <a:lnTo>
                    <a:pt x="1143" y="1114"/>
                  </a:lnTo>
                  <a:lnTo>
                    <a:pt x="1095" y="775"/>
                  </a:lnTo>
                  <a:lnTo>
                    <a:pt x="1048" y="775"/>
                  </a:lnTo>
                  <a:lnTo>
                    <a:pt x="1000" y="775"/>
                  </a:lnTo>
                  <a:lnTo>
                    <a:pt x="952" y="1040"/>
                  </a:lnTo>
                  <a:lnTo>
                    <a:pt x="905" y="1038"/>
                  </a:lnTo>
                  <a:lnTo>
                    <a:pt x="857" y="1038"/>
                  </a:lnTo>
                  <a:lnTo>
                    <a:pt x="810" y="1105"/>
                  </a:lnTo>
                  <a:lnTo>
                    <a:pt x="762" y="1055"/>
                  </a:lnTo>
                  <a:lnTo>
                    <a:pt x="715" y="1051"/>
                  </a:lnTo>
                  <a:lnTo>
                    <a:pt x="667" y="1015"/>
                  </a:lnTo>
                  <a:lnTo>
                    <a:pt x="620" y="994"/>
                  </a:lnTo>
                  <a:lnTo>
                    <a:pt x="571" y="994"/>
                  </a:lnTo>
                  <a:lnTo>
                    <a:pt x="523" y="1430"/>
                  </a:lnTo>
                  <a:lnTo>
                    <a:pt x="476" y="1434"/>
                  </a:lnTo>
                  <a:lnTo>
                    <a:pt x="428" y="1434"/>
                  </a:lnTo>
                  <a:lnTo>
                    <a:pt x="381" y="1676"/>
                  </a:lnTo>
                  <a:lnTo>
                    <a:pt x="333" y="1702"/>
                  </a:lnTo>
                  <a:lnTo>
                    <a:pt x="286" y="1702"/>
                  </a:lnTo>
                  <a:lnTo>
                    <a:pt x="238" y="1854"/>
                  </a:lnTo>
                  <a:lnTo>
                    <a:pt x="190" y="2025"/>
                  </a:lnTo>
                  <a:lnTo>
                    <a:pt x="143" y="2025"/>
                  </a:lnTo>
                  <a:lnTo>
                    <a:pt x="95" y="2134"/>
                  </a:lnTo>
                  <a:lnTo>
                    <a:pt x="48" y="2281"/>
                  </a:lnTo>
                  <a:lnTo>
                    <a:pt x="0" y="22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371600" y="1149480"/>
              <a:ext cx="7481880" cy="4465440"/>
            </a:xfrm>
            <a:custGeom>
              <a:avLst/>
              <a:gdLst/>
              <a:ahLst/>
              <a:rect l="l" t="t" r="r" b="b"/>
              <a:pathLst>
                <a:path w="4713" h="2813">
                  <a:moveTo>
                    <a:pt x="0" y="2813"/>
                  </a:moveTo>
                  <a:lnTo>
                    <a:pt x="0" y="2813"/>
                  </a:lnTo>
                  <a:lnTo>
                    <a:pt x="48" y="2813"/>
                  </a:lnTo>
                  <a:lnTo>
                    <a:pt x="95" y="2666"/>
                  </a:lnTo>
                  <a:lnTo>
                    <a:pt x="143" y="2557"/>
                  </a:lnTo>
                  <a:lnTo>
                    <a:pt x="190" y="2557"/>
                  </a:lnTo>
                  <a:lnTo>
                    <a:pt x="238" y="2386"/>
                  </a:lnTo>
                  <a:lnTo>
                    <a:pt x="286" y="2234"/>
                  </a:lnTo>
                  <a:lnTo>
                    <a:pt x="333" y="2234"/>
                  </a:lnTo>
                  <a:lnTo>
                    <a:pt x="381" y="2208"/>
                  </a:lnTo>
                  <a:lnTo>
                    <a:pt x="428" y="1966"/>
                  </a:lnTo>
                  <a:lnTo>
                    <a:pt x="476" y="1966"/>
                  </a:lnTo>
                  <a:lnTo>
                    <a:pt x="523" y="1962"/>
                  </a:lnTo>
                  <a:lnTo>
                    <a:pt x="571" y="1526"/>
                  </a:lnTo>
                  <a:lnTo>
                    <a:pt x="620" y="1526"/>
                  </a:lnTo>
                  <a:lnTo>
                    <a:pt x="667" y="1526"/>
                  </a:lnTo>
                  <a:lnTo>
                    <a:pt x="715" y="1510"/>
                  </a:lnTo>
                  <a:lnTo>
                    <a:pt x="762" y="1510"/>
                  </a:lnTo>
                  <a:lnTo>
                    <a:pt x="810" y="1510"/>
                  </a:lnTo>
                  <a:lnTo>
                    <a:pt x="857" y="1398"/>
                  </a:lnTo>
                  <a:lnTo>
                    <a:pt x="905" y="1398"/>
                  </a:lnTo>
                  <a:lnTo>
                    <a:pt x="952" y="1398"/>
                  </a:lnTo>
                  <a:lnTo>
                    <a:pt x="1000" y="1023"/>
                  </a:lnTo>
                  <a:lnTo>
                    <a:pt x="1048" y="1023"/>
                  </a:lnTo>
                  <a:lnTo>
                    <a:pt x="1095" y="1023"/>
                  </a:lnTo>
                  <a:lnTo>
                    <a:pt x="1143" y="1023"/>
                  </a:lnTo>
                  <a:lnTo>
                    <a:pt x="1190" y="1023"/>
                  </a:lnTo>
                  <a:lnTo>
                    <a:pt x="1238" y="1023"/>
                  </a:lnTo>
                  <a:lnTo>
                    <a:pt x="1285" y="1023"/>
                  </a:lnTo>
                  <a:lnTo>
                    <a:pt x="1333" y="1023"/>
                  </a:lnTo>
                  <a:lnTo>
                    <a:pt x="1380" y="1023"/>
                  </a:lnTo>
                  <a:lnTo>
                    <a:pt x="1428" y="790"/>
                  </a:lnTo>
                  <a:lnTo>
                    <a:pt x="1476" y="790"/>
                  </a:lnTo>
                  <a:lnTo>
                    <a:pt x="1523" y="790"/>
                  </a:lnTo>
                  <a:lnTo>
                    <a:pt x="1571" y="790"/>
                  </a:lnTo>
                  <a:lnTo>
                    <a:pt x="1618" y="790"/>
                  </a:lnTo>
                  <a:lnTo>
                    <a:pt x="1666" y="790"/>
                  </a:lnTo>
                  <a:lnTo>
                    <a:pt x="1713" y="790"/>
                  </a:lnTo>
                  <a:lnTo>
                    <a:pt x="1761" y="790"/>
                  </a:lnTo>
                  <a:lnTo>
                    <a:pt x="1810" y="790"/>
                  </a:lnTo>
                  <a:lnTo>
                    <a:pt x="1857" y="649"/>
                  </a:lnTo>
                  <a:lnTo>
                    <a:pt x="1905" y="649"/>
                  </a:lnTo>
                  <a:lnTo>
                    <a:pt x="1952" y="649"/>
                  </a:lnTo>
                  <a:lnTo>
                    <a:pt x="2000" y="649"/>
                  </a:lnTo>
                  <a:lnTo>
                    <a:pt x="2047" y="649"/>
                  </a:lnTo>
                  <a:lnTo>
                    <a:pt x="2095" y="649"/>
                  </a:lnTo>
                  <a:lnTo>
                    <a:pt x="2142" y="649"/>
                  </a:lnTo>
                  <a:lnTo>
                    <a:pt x="2190" y="649"/>
                  </a:lnTo>
                  <a:lnTo>
                    <a:pt x="2238" y="649"/>
                  </a:lnTo>
                  <a:lnTo>
                    <a:pt x="2285" y="525"/>
                  </a:lnTo>
                  <a:lnTo>
                    <a:pt x="2333" y="525"/>
                  </a:lnTo>
                  <a:lnTo>
                    <a:pt x="2380" y="525"/>
                  </a:lnTo>
                  <a:lnTo>
                    <a:pt x="2428" y="525"/>
                  </a:lnTo>
                  <a:lnTo>
                    <a:pt x="2475" y="525"/>
                  </a:lnTo>
                  <a:lnTo>
                    <a:pt x="2523" y="525"/>
                  </a:lnTo>
                  <a:lnTo>
                    <a:pt x="2571" y="525"/>
                  </a:lnTo>
                  <a:lnTo>
                    <a:pt x="2618" y="525"/>
                  </a:lnTo>
                  <a:lnTo>
                    <a:pt x="2666" y="525"/>
                  </a:lnTo>
                  <a:lnTo>
                    <a:pt x="2713" y="373"/>
                  </a:lnTo>
                  <a:lnTo>
                    <a:pt x="2761" y="373"/>
                  </a:lnTo>
                  <a:lnTo>
                    <a:pt x="2808" y="373"/>
                  </a:lnTo>
                  <a:lnTo>
                    <a:pt x="2856" y="373"/>
                  </a:lnTo>
                  <a:lnTo>
                    <a:pt x="2903" y="373"/>
                  </a:lnTo>
                  <a:lnTo>
                    <a:pt x="2952" y="373"/>
                  </a:lnTo>
                  <a:lnTo>
                    <a:pt x="3000" y="373"/>
                  </a:lnTo>
                  <a:lnTo>
                    <a:pt x="3047" y="373"/>
                  </a:lnTo>
                  <a:lnTo>
                    <a:pt x="3095" y="373"/>
                  </a:lnTo>
                  <a:lnTo>
                    <a:pt x="3142" y="301"/>
                  </a:lnTo>
                  <a:lnTo>
                    <a:pt x="3190" y="301"/>
                  </a:lnTo>
                  <a:lnTo>
                    <a:pt x="3237" y="301"/>
                  </a:lnTo>
                  <a:lnTo>
                    <a:pt x="3285" y="301"/>
                  </a:lnTo>
                  <a:lnTo>
                    <a:pt x="3333" y="301"/>
                  </a:lnTo>
                  <a:lnTo>
                    <a:pt x="3380" y="301"/>
                  </a:lnTo>
                  <a:lnTo>
                    <a:pt x="3428" y="265"/>
                  </a:lnTo>
                  <a:lnTo>
                    <a:pt x="3475" y="265"/>
                  </a:lnTo>
                  <a:lnTo>
                    <a:pt x="3523" y="265"/>
                  </a:lnTo>
                  <a:lnTo>
                    <a:pt x="3570" y="265"/>
                  </a:lnTo>
                  <a:lnTo>
                    <a:pt x="3618" y="265"/>
                  </a:lnTo>
                  <a:lnTo>
                    <a:pt x="3665" y="265"/>
                  </a:lnTo>
                  <a:lnTo>
                    <a:pt x="3713" y="265"/>
                  </a:lnTo>
                  <a:lnTo>
                    <a:pt x="3761" y="265"/>
                  </a:lnTo>
                  <a:lnTo>
                    <a:pt x="3808" y="265"/>
                  </a:lnTo>
                  <a:lnTo>
                    <a:pt x="3856" y="253"/>
                  </a:lnTo>
                  <a:lnTo>
                    <a:pt x="3903" y="253"/>
                  </a:lnTo>
                  <a:lnTo>
                    <a:pt x="3951" y="253"/>
                  </a:lnTo>
                  <a:lnTo>
                    <a:pt x="3998" y="253"/>
                  </a:lnTo>
                  <a:lnTo>
                    <a:pt x="4046" y="253"/>
                  </a:lnTo>
                  <a:lnTo>
                    <a:pt x="4094" y="253"/>
                  </a:lnTo>
                  <a:lnTo>
                    <a:pt x="4142" y="65"/>
                  </a:lnTo>
                  <a:lnTo>
                    <a:pt x="4190" y="65"/>
                  </a:lnTo>
                  <a:lnTo>
                    <a:pt x="4237" y="65"/>
                  </a:lnTo>
                  <a:lnTo>
                    <a:pt x="4285" y="65"/>
                  </a:lnTo>
                  <a:lnTo>
                    <a:pt x="4332" y="65"/>
                  </a:lnTo>
                  <a:lnTo>
                    <a:pt x="4380" y="65"/>
                  </a:lnTo>
                  <a:lnTo>
                    <a:pt x="4427" y="65"/>
                  </a:lnTo>
                  <a:lnTo>
                    <a:pt x="4475" y="65"/>
                  </a:lnTo>
                  <a:lnTo>
                    <a:pt x="4523" y="65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827"/>
                  </a:lnTo>
                  <a:lnTo>
                    <a:pt x="4665" y="578"/>
                  </a:lnTo>
                  <a:lnTo>
                    <a:pt x="4618" y="578"/>
                  </a:lnTo>
                  <a:lnTo>
                    <a:pt x="4570" y="578"/>
                  </a:lnTo>
                  <a:lnTo>
                    <a:pt x="4523" y="768"/>
                  </a:lnTo>
                  <a:lnTo>
                    <a:pt x="4475" y="768"/>
                  </a:lnTo>
                  <a:lnTo>
                    <a:pt x="4427" y="768"/>
                  </a:lnTo>
                  <a:lnTo>
                    <a:pt x="4380" y="542"/>
                  </a:lnTo>
                  <a:lnTo>
                    <a:pt x="4332" y="542"/>
                  </a:lnTo>
                  <a:lnTo>
                    <a:pt x="4285" y="538"/>
                  </a:lnTo>
                  <a:lnTo>
                    <a:pt x="4237" y="532"/>
                  </a:lnTo>
                  <a:lnTo>
                    <a:pt x="4190" y="532"/>
                  </a:lnTo>
                  <a:lnTo>
                    <a:pt x="4142" y="532"/>
                  </a:lnTo>
                  <a:lnTo>
                    <a:pt x="4094" y="1010"/>
                  </a:lnTo>
                  <a:lnTo>
                    <a:pt x="4046" y="1010"/>
                  </a:lnTo>
                  <a:lnTo>
                    <a:pt x="3998" y="1010"/>
                  </a:lnTo>
                  <a:lnTo>
                    <a:pt x="3951" y="726"/>
                  </a:lnTo>
                  <a:lnTo>
                    <a:pt x="3903" y="726"/>
                  </a:lnTo>
                  <a:lnTo>
                    <a:pt x="3856" y="726"/>
                  </a:lnTo>
                  <a:lnTo>
                    <a:pt x="3808" y="751"/>
                  </a:lnTo>
                  <a:lnTo>
                    <a:pt x="3761" y="751"/>
                  </a:lnTo>
                  <a:lnTo>
                    <a:pt x="3713" y="751"/>
                  </a:lnTo>
                  <a:lnTo>
                    <a:pt x="3665" y="773"/>
                  </a:lnTo>
                  <a:lnTo>
                    <a:pt x="3618" y="773"/>
                  </a:lnTo>
                  <a:lnTo>
                    <a:pt x="3570" y="773"/>
                  </a:lnTo>
                  <a:lnTo>
                    <a:pt x="3523" y="585"/>
                  </a:lnTo>
                  <a:lnTo>
                    <a:pt x="3475" y="585"/>
                  </a:lnTo>
                  <a:lnTo>
                    <a:pt x="3428" y="585"/>
                  </a:lnTo>
                  <a:lnTo>
                    <a:pt x="3380" y="702"/>
                  </a:lnTo>
                  <a:lnTo>
                    <a:pt x="3333" y="702"/>
                  </a:lnTo>
                  <a:lnTo>
                    <a:pt x="3285" y="702"/>
                  </a:lnTo>
                  <a:lnTo>
                    <a:pt x="3237" y="702"/>
                  </a:lnTo>
                  <a:lnTo>
                    <a:pt x="3190" y="702"/>
                  </a:lnTo>
                  <a:lnTo>
                    <a:pt x="3142" y="702"/>
                  </a:lnTo>
                  <a:lnTo>
                    <a:pt x="3095" y="673"/>
                  </a:lnTo>
                  <a:lnTo>
                    <a:pt x="3047" y="673"/>
                  </a:lnTo>
                  <a:lnTo>
                    <a:pt x="3000" y="671"/>
                  </a:lnTo>
                  <a:lnTo>
                    <a:pt x="2952" y="671"/>
                  </a:lnTo>
                  <a:lnTo>
                    <a:pt x="2903" y="671"/>
                  </a:lnTo>
                  <a:lnTo>
                    <a:pt x="2856" y="671"/>
                  </a:lnTo>
                  <a:lnTo>
                    <a:pt x="2808" y="671"/>
                  </a:lnTo>
                  <a:lnTo>
                    <a:pt x="2761" y="671"/>
                  </a:lnTo>
                  <a:lnTo>
                    <a:pt x="2713" y="671"/>
                  </a:lnTo>
                  <a:lnTo>
                    <a:pt x="2666" y="759"/>
                  </a:lnTo>
                  <a:lnTo>
                    <a:pt x="2618" y="759"/>
                  </a:lnTo>
                  <a:lnTo>
                    <a:pt x="2571" y="758"/>
                  </a:lnTo>
                  <a:lnTo>
                    <a:pt x="2523" y="759"/>
                  </a:lnTo>
                  <a:lnTo>
                    <a:pt x="2475" y="759"/>
                  </a:lnTo>
                  <a:lnTo>
                    <a:pt x="2428" y="759"/>
                  </a:lnTo>
                  <a:lnTo>
                    <a:pt x="2380" y="759"/>
                  </a:lnTo>
                  <a:lnTo>
                    <a:pt x="2333" y="759"/>
                  </a:lnTo>
                  <a:lnTo>
                    <a:pt x="2285" y="759"/>
                  </a:lnTo>
                  <a:lnTo>
                    <a:pt x="2238" y="788"/>
                  </a:lnTo>
                  <a:lnTo>
                    <a:pt x="2190" y="788"/>
                  </a:lnTo>
                  <a:lnTo>
                    <a:pt x="2142" y="788"/>
                  </a:lnTo>
                  <a:lnTo>
                    <a:pt x="2095" y="786"/>
                  </a:lnTo>
                  <a:lnTo>
                    <a:pt x="2047" y="786"/>
                  </a:lnTo>
                  <a:lnTo>
                    <a:pt x="2000" y="786"/>
                  </a:lnTo>
                  <a:lnTo>
                    <a:pt x="1952" y="786"/>
                  </a:lnTo>
                  <a:lnTo>
                    <a:pt x="1905" y="786"/>
                  </a:lnTo>
                  <a:lnTo>
                    <a:pt x="1857" y="786"/>
                  </a:lnTo>
                  <a:lnTo>
                    <a:pt x="1810" y="930"/>
                  </a:lnTo>
                  <a:lnTo>
                    <a:pt x="1761" y="930"/>
                  </a:lnTo>
                  <a:lnTo>
                    <a:pt x="1713" y="930"/>
                  </a:lnTo>
                  <a:lnTo>
                    <a:pt x="1666" y="874"/>
                  </a:lnTo>
                  <a:lnTo>
                    <a:pt x="1618" y="874"/>
                  </a:lnTo>
                  <a:lnTo>
                    <a:pt x="1571" y="874"/>
                  </a:lnTo>
                  <a:lnTo>
                    <a:pt x="1523" y="803"/>
                  </a:lnTo>
                  <a:lnTo>
                    <a:pt x="1476" y="803"/>
                  </a:lnTo>
                  <a:lnTo>
                    <a:pt x="1428" y="802"/>
                  </a:lnTo>
                  <a:lnTo>
                    <a:pt x="1380" y="1023"/>
                  </a:lnTo>
                  <a:lnTo>
                    <a:pt x="1333" y="1023"/>
                  </a:lnTo>
                  <a:lnTo>
                    <a:pt x="1285" y="1023"/>
                  </a:lnTo>
                  <a:lnTo>
                    <a:pt x="1238" y="1023"/>
                  </a:lnTo>
                  <a:lnTo>
                    <a:pt x="1190" y="1023"/>
                  </a:lnTo>
                  <a:lnTo>
                    <a:pt x="1143" y="1023"/>
                  </a:lnTo>
                  <a:lnTo>
                    <a:pt x="1095" y="1023"/>
                  </a:lnTo>
                  <a:lnTo>
                    <a:pt x="1048" y="1023"/>
                  </a:lnTo>
                  <a:lnTo>
                    <a:pt x="1000" y="1023"/>
                  </a:lnTo>
                  <a:lnTo>
                    <a:pt x="952" y="1398"/>
                  </a:lnTo>
                  <a:lnTo>
                    <a:pt x="905" y="1398"/>
                  </a:lnTo>
                  <a:lnTo>
                    <a:pt x="857" y="1398"/>
                  </a:lnTo>
                  <a:lnTo>
                    <a:pt x="810" y="1510"/>
                  </a:lnTo>
                  <a:lnTo>
                    <a:pt x="762" y="1510"/>
                  </a:lnTo>
                  <a:lnTo>
                    <a:pt x="715" y="1510"/>
                  </a:lnTo>
                  <a:lnTo>
                    <a:pt x="667" y="1526"/>
                  </a:lnTo>
                  <a:lnTo>
                    <a:pt x="620" y="1526"/>
                  </a:lnTo>
                  <a:lnTo>
                    <a:pt x="571" y="1526"/>
                  </a:lnTo>
                  <a:lnTo>
                    <a:pt x="523" y="1962"/>
                  </a:lnTo>
                  <a:lnTo>
                    <a:pt x="476" y="1966"/>
                  </a:lnTo>
                  <a:lnTo>
                    <a:pt x="428" y="1966"/>
                  </a:lnTo>
                  <a:lnTo>
                    <a:pt x="381" y="2208"/>
                  </a:lnTo>
                  <a:lnTo>
                    <a:pt x="333" y="2234"/>
                  </a:lnTo>
                  <a:lnTo>
                    <a:pt x="286" y="2234"/>
                  </a:lnTo>
                  <a:lnTo>
                    <a:pt x="238" y="2386"/>
                  </a:lnTo>
                  <a:lnTo>
                    <a:pt x="190" y="2557"/>
                  </a:lnTo>
                  <a:lnTo>
                    <a:pt x="143" y="2557"/>
                  </a:lnTo>
                  <a:lnTo>
                    <a:pt x="95" y="2666"/>
                  </a:lnTo>
                  <a:lnTo>
                    <a:pt x="48" y="2813"/>
                  </a:lnTo>
                  <a:lnTo>
                    <a:pt x="0" y="28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145"/>
                  </a:lnTo>
                  <a:lnTo>
                    <a:pt x="4665" y="145"/>
                  </a:lnTo>
                  <a:lnTo>
                    <a:pt x="4618" y="145"/>
                  </a:lnTo>
                  <a:lnTo>
                    <a:pt x="4570" y="145"/>
                  </a:lnTo>
                  <a:lnTo>
                    <a:pt x="4523" y="210"/>
                  </a:lnTo>
                  <a:lnTo>
                    <a:pt x="4475" y="210"/>
                  </a:lnTo>
                  <a:lnTo>
                    <a:pt x="4427" y="210"/>
                  </a:lnTo>
                  <a:lnTo>
                    <a:pt x="4380" y="210"/>
                  </a:lnTo>
                  <a:lnTo>
                    <a:pt x="4332" y="210"/>
                  </a:lnTo>
                  <a:lnTo>
                    <a:pt x="4285" y="210"/>
                  </a:lnTo>
                  <a:lnTo>
                    <a:pt x="4237" y="210"/>
                  </a:lnTo>
                  <a:lnTo>
                    <a:pt x="4190" y="210"/>
                  </a:lnTo>
                  <a:lnTo>
                    <a:pt x="4142" y="210"/>
                  </a:lnTo>
                  <a:lnTo>
                    <a:pt x="4094" y="398"/>
                  </a:lnTo>
                  <a:lnTo>
                    <a:pt x="4046" y="398"/>
                  </a:lnTo>
                  <a:lnTo>
                    <a:pt x="3998" y="398"/>
                  </a:lnTo>
                  <a:lnTo>
                    <a:pt x="3951" y="398"/>
                  </a:lnTo>
                  <a:lnTo>
                    <a:pt x="3903" y="398"/>
                  </a:lnTo>
                  <a:lnTo>
                    <a:pt x="3856" y="398"/>
                  </a:lnTo>
                  <a:lnTo>
                    <a:pt x="3808" y="410"/>
                  </a:lnTo>
                  <a:lnTo>
                    <a:pt x="3761" y="410"/>
                  </a:lnTo>
                  <a:lnTo>
                    <a:pt x="3713" y="410"/>
                  </a:lnTo>
                  <a:lnTo>
                    <a:pt x="3665" y="410"/>
                  </a:lnTo>
                  <a:lnTo>
                    <a:pt x="3618" y="410"/>
                  </a:lnTo>
                  <a:lnTo>
                    <a:pt x="3570" y="410"/>
                  </a:lnTo>
                  <a:lnTo>
                    <a:pt x="3523" y="410"/>
                  </a:lnTo>
                  <a:lnTo>
                    <a:pt x="3475" y="410"/>
                  </a:lnTo>
                  <a:lnTo>
                    <a:pt x="3428" y="410"/>
                  </a:lnTo>
                  <a:lnTo>
                    <a:pt x="3380" y="446"/>
                  </a:lnTo>
                  <a:lnTo>
                    <a:pt x="3333" y="446"/>
                  </a:lnTo>
                  <a:lnTo>
                    <a:pt x="3285" y="446"/>
                  </a:lnTo>
                  <a:lnTo>
                    <a:pt x="3237" y="446"/>
                  </a:lnTo>
                  <a:lnTo>
                    <a:pt x="3190" y="446"/>
                  </a:lnTo>
                  <a:lnTo>
                    <a:pt x="3142" y="446"/>
                  </a:lnTo>
                  <a:lnTo>
                    <a:pt x="3095" y="518"/>
                  </a:lnTo>
                  <a:lnTo>
                    <a:pt x="3047" y="518"/>
                  </a:lnTo>
                  <a:lnTo>
                    <a:pt x="3000" y="518"/>
                  </a:lnTo>
                  <a:lnTo>
                    <a:pt x="2952" y="518"/>
                  </a:lnTo>
                  <a:lnTo>
                    <a:pt x="2903" y="518"/>
                  </a:lnTo>
                  <a:lnTo>
                    <a:pt x="2856" y="518"/>
                  </a:lnTo>
                  <a:lnTo>
                    <a:pt x="2808" y="518"/>
                  </a:lnTo>
                  <a:lnTo>
                    <a:pt x="2761" y="518"/>
                  </a:lnTo>
                  <a:lnTo>
                    <a:pt x="2713" y="518"/>
                  </a:lnTo>
                  <a:lnTo>
                    <a:pt x="2666" y="670"/>
                  </a:lnTo>
                  <a:lnTo>
                    <a:pt x="2618" y="670"/>
                  </a:lnTo>
                  <a:lnTo>
                    <a:pt x="2571" y="670"/>
                  </a:lnTo>
                  <a:lnTo>
                    <a:pt x="2523" y="670"/>
                  </a:lnTo>
                  <a:lnTo>
                    <a:pt x="2475" y="670"/>
                  </a:lnTo>
                  <a:lnTo>
                    <a:pt x="2428" y="670"/>
                  </a:lnTo>
                  <a:lnTo>
                    <a:pt x="2380" y="670"/>
                  </a:lnTo>
                  <a:lnTo>
                    <a:pt x="2333" y="670"/>
                  </a:lnTo>
                  <a:lnTo>
                    <a:pt x="2285" y="670"/>
                  </a:lnTo>
                  <a:lnTo>
                    <a:pt x="2238" y="794"/>
                  </a:lnTo>
                  <a:lnTo>
                    <a:pt x="2190" y="794"/>
                  </a:lnTo>
                  <a:lnTo>
                    <a:pt x="2142" y="794"/>
                  </a:lnTo>
                  <a:lnTo>
                    <a:pt x="2095" y="794"/>
                  </a:lnTo>
                  <a:lnTo>
                    <a:pt x="2047" y="794"/>
                  </a:lnTo>
                  <a:lnTo>
                    <a:pt x="2000" y="794"/>
                  </a:lnTo>
                  <a:lnTo>
                    <a:pt x="1952" y="794"/>
                  </a:lnTo>
                  <a:lnTo>
                    <a:pt x="1905" y="794"/>
                  </a:lnTo>
                  <a:lnTo>
                    <a:pt x="1857" y="794"/>
                  </a:lnTo>
                  <a:lnTo>
                    <a:pt x="1810" y="935"/>
                  </a:lnTo>
                  <a:lnTo>
                    <a:pt x="1761" y="935"/>
                  </a:lnTo>
                  <a:lnTo>
                    <a:pt x="1713" y="935"/>
                  </a:lnTo>
                  <a:lnTo>
                    <a:pt x="1666" y="935"/>
                  </a:lnTo>
                  <a:lnTo>
                    <a:pt x="1618" y="935"/>
                  </a:lnTo>
                  <a:lnTo>
                    <a:pt x="1571" y="935"/>
                  </a:lnTo>
                  <a:lnTo>
                    <a:pt x="1523" y="935"/>
                  </a:lnTo>
                  <a:lnTo>
                    <a:pt x="1476" y="935"/>
                  </a:lnTo>
                  <a:lnTo>
                    <a:pt x="1428" y="935"/>
                  </a:lnTo>
                  <a:lnTo>
                    <a:pt x="1380" y="1168"/>
                  </a:lnTo>
                  <a:lnTo>
                    <a:pt x="1333" y="1168"/>
                  </a:lnTo>
                  <a:lnTo>
                    <a:pt x="1285" y="1168"/>
                  </a:lnTo>
                  <a:lnTo>
                    <a:pt x="1238" y="1168"/>
                  </a:lnTo>
                  <a:lnTo>
                    <a:pt x="1190" y="1168"/>
                  </a:lnTo>
                  <a:lnTo>
                    <a:pt x="1143" y="1168"/>
                  </a:lnTo>
                  <a:lnTo>
                    <a:pt x="1095" y="1168"/>
                  </a:lnTo>
                  <a:lnTo>
                    <a:pt x="1048" y="1168"/>
                  </a:lnTo>
                  <a:lnTo>
                    <a:pt x="1000" y="1168"/>
                  </a:lnTo>
                  <a:lnTo>
                    <a:pt x="952" y="1543"/>
                  </a:lnTo>
                  <a:lnTo>
                    <a:pt x="905" y="1543"/>
                  </a:lnTo>
                  <a:lnTo>
                    <a:pt x="857" y="1543"/>
                  </a:lnTo>
                  <a:lnTo>
                    <a:pt x="810" y="1655"/>
                  </a:lnTo>
                  <a:lnTo>
                    <a:pt x="762" y="1655"/>
                  </a:lnTo>
                  <a:lnTo>
                    <a:pt x="715" y="1655"/>
                  </a:lnTo>
                  <a:lnTo>
                    <a:pt x="667" y="1671"/>
                  </a:lnTo>
                  <a:lnTo>
                    <a:pt x="620" y="1671"/>
                  </a:lnTo>
                  <a:lnTo>
                    <a:pt x="571" y="1671"/>
                  </a:lnTo>
                  <a:lnTo>
                    <a:pt x="523" y="2107"/>
                  </a:lnTo>
                  <a:lnTo>
                    <a:pt x="476" y="2111"/>
                  </a:lnTo>
                  <a:lnTo>
                    <a:pt x="428" y="2111"/>
                  </a:lnTo>
                  <a:lnTo>
                    <a:pt x="381" y="2353"/>
                  </a:lnTo>
                  <a:lnTo>
                    <a:pt x="333" y="2379"/>
                  </a:lnTo>
                  <a:lnTo>
                    <a:pt x="286" y="2379"/>
                  </a:lnTo>
                  <a:lnTo>
                    <a:pt x="238" y="2531"/>
                  </a:lnTo>
                  <a:lnTo>
                    <a:pt x="190" y="2702"/>
                  </a:lnTo>
                  <a:lnTo>
                    <a:pt x="143" y="2702"/>
                  </a:lnTo>
                  <a:lnTo>
                    <a:pt x="95" y="2811"/>
                  </a:lnTo>
                  <a:lnTo>
                    <a:pt x="48" y="2958"/>
                  </a:lnTo>
                  <a:lnTo>
                    <a:pt x="0" y="29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371600" y="919080"/>
              <a:ext cx="1440" cy="469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31436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314360" y="51451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314360" y="46753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314360" y="42051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314360" y="3736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314360" y="3268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314360" y="2797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314360" y="23288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314360" y="1859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314360" y="1389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314360" y="9190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371600" y="5614920"/>
              <a:ext cx="748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999720" y="5500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893880" y="50324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893880" y="45608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893880" y="40924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893880" y="36226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893880" y="3154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893880" y="2682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93880" y="2214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893880" y="1744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893880" y="1274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90560" y="8049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362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40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063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4433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8209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19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575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9528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32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71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087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464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842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221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599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97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533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77310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8110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8488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29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 rot="16200000">
              <a:off x="-102240" y="308376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666160" y="5245200"/>
              <a:ext cx="196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opped 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504960" y="4038480"/>
              <a:ext cx="205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oneer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572000" y="2514600"/>
              <a:ext cx="348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ng second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637600" y="1752480"/>
              <a:ext cx="305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ld second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715000" y="1219320"/>
              <a:ext cx="20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im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1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sp>
          <p:nvSpPr>
            <p:cNvPr id="408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ERS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371600" y="919080"/>
              <a:ext cx="7481880" cy="469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371600" y="919080"/>
              <a:ext cx="7481880" cy="46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371600" y="4489560"/>
              <a:ext cx="7481880" cy="1125360"/>
            </a:xfrm>
            <a:custGeom>
              <a:avLst/>
              <a:gdLst/>
              <a:ahLst/>
              <a:rect l="l" t="t" r="r" b="b"/>
              <a:pathLst>
                <a:path w="4713" h="709">
                  <a:moveTo>
                    <a:pt x="0" y="709"/>
                  </a:moveTo>
                  <a:lnTo>
                    <a:pt x="0" y="709"/>
                  </a:lnTo>
                  <a:lnTo>
                    <a:pt x="48" y="709"/>
                  </a:lnTo>
                  <a:lnTo>
                    <a:pt x="95" y="521"/>
                  </a:lnTo>
                  <a:lnTo>
                    <a:pt x="143" y="499"/>
                  </a:lnTo>
                  <a:lnTo>
                    <a:pt x="190" y="476"/>
                  </a:lnTo>
                  <a:lnTo>
                    <a:pt x="238" y="256"/>
                  </a:lnTo>
                  <a:lnTo>
                    <a:pt x="286" y="287"/>
                  </a:lnTo>
                  <a:lnTo>
                    <a:pt x="333" y="310"/>
                  </a:lnTo>
                  <a:lnTo>
                    <a:pt x="381" y="394"/>
                  </a:lnTo>
                  <a:lnTo>
                    <a:pt x="428" y="437"/>
                  </a:lnTo>
                  <a:lnTo>
                    <a:pt x="476" y="437"/>
                  </a:lnTo>
                  <a:lnTo>
                    <a:pt x="523" y="282"/>
                  </a:lnTo>
                  <a:lnTo>
                    <a:pt x="571" y="282"/>
                  </a:lnTo>
                  <a:lnTo>
                    <a:pt x="620" y="282"/>
                  </a:lnTo>
                  <a:lnTo>
                    <a:pt x="667" y="413"/>
                  </a:lnTo>
                  <a:lnTo>
                    <a:pt x="715" y="430"/>
                  </a:lnTo>
                  <a:lnTo>
                    <a:pt x="762" y="430"/>
                  </a:lnTo>
                  <a:lnTo>
                    <a:pt x="810" y="315"/>
                  </a:lnTo>
                  <a:lnTo>
                    <a:pt x="857" y="315"/>
                  </a:lnTo>
                  <a:lnTo>
                    <a:pt x="905" y="315"/>
                  </a:lnTo>
                  <a:lnTo>
                    <a:pt x="952" y="350"/>
                  </a:lnTo>
                  <a:lnTo>
                    <a:pt x="1000" y="350"/>
                  </a:lnTo>
                  <a:lnTo>
                    <a:pt x="1048" y="350"/>
                  </a:lnTo>
                  <a:lnTo>
                    <a:pt x="1095" y="371"/>
                  </a:lnTo>
                  <a:lnTo>
                    <a:pt x="1143" y="371"/>
                  </a:lnTo>
                  <a:lnTo>
                    <a:pt x="1190" y="371"/>
                  </a:lnTo>
                  <a:lnTo>
                    <a:pt x="1238" y="307"/>
                  </a:lnTo>
                  <a:lnTo>
                    <a:pt x="1285" y="309"/>
                  </a:lnTo>
                  <a:lnTo>
                    <a:pt x="1333" y="309"/>
                  </a:lnTo>
                  <a:lnTo>
                    <a:pt x="1380" y="330"/>
                  </a:lnTo>
                  <a:lnTo>
                    <a:pt x="1428" y="373"/>
                  </a:lnTo>
                  <a:lnTo>
                    <a:pt x="1476" y="373"/>
                  </a:lnTo>
                  <a:lnTo>
                    <a:pt x="1523" y="174"/>
                  </a:lnTo>
                  <a:lnTo>
                    <a:pt x="1571" y="199"/>
                  </a:lnTo>
                  <a:lnTo>
                    <a:pt x="1618" y="199"/>
                  </a:lnTo>
                  <a:lnTo>
                    <a:pt x="1666" y="308"/>
                  </a:lnTo>
                  <a:lnTo>
                    <a:pt x="1713" y="373"/>
                  </a:lnTo>
                  <a:lnTo>
                    <a:pt x="1761" y="373"/>
                  </a:lnTo>
                  <a:lnTo>
                    <a:pt x="1810" y="135"/>
                  </a:lnTo>
                  <a:lnTo>
                    <a:pt x="1857" y="135"/>
                  </a:lnTo>
                  <a:lnTo>
                    <a:pt x="1905" y="135"/>
                  </a:lnTo>
                  <a:lnTo>
                    <a:pt x="1952" y="384"/>
                  </a:lnTo>
                  <a:lnTo>
                    <a:pt x="2000" y="450"/>
                  </a:lnTo>
                  <a:lnTo>
                    <a:pt x="2047" y="450"/>
                  </a:lnTo>
                  <a:lnTo>
                    <a:pt x="2095" y="73"/>
                  </a:lnTo>
                  <a:lnTo>
                    <a:pt x="2142" y="73"/>
                  </a:lnTo>
                  <a:lnTo>
                    <a:pt x="2190" y="73"/>
                  </a:lnTo>
                  <a:lnTo>
                    <a:pt x="2238" y="381"/>
                  </a:lnTo>
                  <a:lnTo>
                    <a:pt x="2285" y="447"/>
                  </a:lnTo>
                  <a:lnTo>
                    <a:pt x="2333" y="447"/>
                  </a:lnTo>
                  <a:lnTo>
                    <a:pt x="2380" y="75"/>
                  </a:lnTo>
                  <a:lnTo>
                    <a:pt x="2428" y="75"/>
                  </a:lnTo>
                  <a:lnTo>
                    <a:pt x="2475" y="75"/>
                  </a:lnTo>
                  <a:lnTo>
                    <a:pt x="2523" y="363"/>
                  </a:lnTo>
                  <a:lnTo>
                    <a:pt x="2571" y="438"/>
                  </a:lnTo>
                  <a:lnTo>
                    <a:pt x="2618" y="438"/>
                  </a:lnTo>
                  <a:lnTo>
                    <a:pt x="2666" y="56"/>
                  </a:lnTo>
                  <a:lnTo>
                    <a:pt x="2713" y="56"/>
                  </a:lnTo>
                  <a:lnTo>
                    <a:pt x="2761" y="56"/>
                  </a:lnTo>
                  <a:lnTo>
                    <a:pt x="2808" y="363"/>
                  </a:lnTo>
                  <a:lnTo>
                    <a:pt x="2856" y="441"/>
                  </a:lnTo>
                  <a:lnTo>
                    <a:pt x="2903" y="441"/>
                  </a:lnTo>
                  <a:lnTo>
                    <a:pt x="2952" y="39"/>
                  </a:lnTo>
                  <a:lnTo>
                    <a:pt x="3000" y="41"/>
                  </a:lnTo>
                  <a:lnTo>
                    <a:pt x="3047" y="41"/>
                  </a:lnTo>
                  <a:lnTo>
                    <a:pt x="3095" y="381"/>
                  </a:lnTo>
                  <a:lnTo>
                    <a:pt x="3142" y="450"/>
                  </a:lnTo>
                  <a:lnTo>
                    <a:pt x="3190" y="443"/>
                  </a:lnTo>
                  <a:lnTo>
                    <a:pt x="3237" y="14"/>
                  </a:lnTo>
                  <a:lnTo>
                    <a:pt x="3285" y="14"/>
                  </a:lnTo>
                  <a:lnTo>
                    <a:pt x="3333" y="20"/>
                  </a:lnTo>
                  <a:lnTo>
                    <a:pt x="3380" y="377"/>
                  </a:lnTo>
                  <a:lnTo>
                    <a:pt x="3428" y="459"/>
                  </a:lnTo>
                  <a:lnTo>
                    <a:pt x="3475" y="453"/>
                  </a:lnTo>
                  <a:lnTo>
                    <a:pt x="3523" y="16"/>
                  </a:lnTo>
                  <a:lnTo>
                    <a:pt x="3570" y="16"/>
                  </a:lnTo>
                  <a:lnTo>
                    <a:pt x="3618" y="21"/>
                  </a:lnTo>
                  <a:lnTo>
                    <a:pt x="3665" y="361"/>
                  </a:lnTo>
                  <a:lnTo>
                    <a:pt x="3713" y="446"/>
                  </a:lnTo>
                  <a:lnTo>
                    <a:pt x="3761" y="446"/>
                  </a:lnTo>
                  <a:lnTo>
                    <a:pt x="3808" y="8"/>
                  </a:lnTo>
                  <a:lnTo>
                    <a:pt x="3856" y="8"/>
                  </a:lnTo>
                  <a:lnTo>
                    <a:pt x="3903" y="8"/>
                  </a:lnTo>
                  <a:lnTo>
                    <a:pt x="3951" y="385"/>
                  </a:lnTo>
                  <a:lnTo>
                    <a:pt x="3998" y="461"/>
                  </a:lnTo>
                  <a:lnTo>
                    <a:pt x="4046" y="436"/>
                  </a:lnTo>
                  <a:lnTo>
                    <a:pt x="4094" y="27"/>
                  </a:lnTo>
                  <a:lnTo>
                    <a:pt x="4142" y="29"/>
                  </a:lnTo>
                  <a:lnTo>
                    <a:pt x="4190" y="55"/>
                  </a:lnTo>
                  <a:lnTo>
                    <a:pt x="4237" y="337"/>
                  </a:lnTo>
                  <a:lnTo>
                    <a:pt x="4285" y="421"/>
                  </a:lnTo>
                  <a:lnTo>
                    <a:pt x="4332" y="421"/>
                  </a:lnTo>
                  <a:lnTo>
                    <a:pt x="4380" y="0"/>
                  </a:lnTo>
                  <a:lnTo>
                    <a:pt x="4427" y="10"/>
                  </a:lnTo>
                  <a:lnTo>
                    <a:pt x="4475" y="10"/>
                  </a:lnTo>
                  <a:lnTo>
                    <a:pt x="4523" y="338"/>
                  </a:lnTo>
                  <a:lnTo>
                    <a:pt x="4570" y="423"/>
                  </a:lnTo>
                  <a:lnTo>
                    <a:pt x="4618" y="423"/>
                  </a:lnTo>
                  <a:lnTo>
                    <a:pt x="4665" y="16"/>
                  </a:lnTo>
                  <a:lnTo>
                    <a:pt x="4713" y="20"/>
                  </a:lnTo>
                  <a:lnTo>
                    <a:pt x="4713" y="709"/>
                  </a:lnTo>
                  <a:lnTo>
                    <a:pt x="4665" y="709"/>
                  </a:lnTo>
                  <a:lnTo>
                    <a:pt x="4618" y="709"/>
                  </a:lnTo>
                  <a:lnTo>
                    <a:pt x="4570" y="709"/>
                  </a:lnTo>
                  <a:lnTo>
                    <a:pt x="4523" y="709"/>
                  </a:lnTo>
                  <a:lnTo>
                    <a:pt x="4475" y="709"/>
                  </a:lnTo>
                  <a:lnTo>
                    <a:pt x="4427" y="709"/>
                  </a:lnTo>
                  <a:lnTo>
                    <a:pt x="4380" y="709"/>
                  </a:lnTo>
                  <a:lnTo>
                    <a:pt x="4332" y="709"/>
                  </a:lnTo>
                  <a:lnTo>
                    <a:pt x="4285" y="709"/>
                  </a:lnTo>
                  <a:lnTo>
                    <a:pt x="4237" y="709"/>
                  </a:lnTo>
                  <a:lnTo>
                    <a:pt x="4190" y="709"/>
                  </a:lnTo>
                  <a:lnTo>
                    <a:pt x="4142" y="709"/>
                  </a:lnTo>
                  <a:lnTo>
                    <a:pt x="4094" y="709"/>
                  </a:lnTo>
                  <a:lnTo>
                    <a:pt x="4046" y="709"/>
                  </a:lnTo>
                  <a:lnTo>
                    <a:pt x="3998" y="709"/>
                  </a:lnTo>
                  <a:lnTo>
                    <a:pt x="3951" y="709"/>
                  </a:lnTo>
                  <a:lnTo>
                    <a:pt x="3903" y="709"/>
                  </a:lnTo>
                  <a:lnTo>
                    <a:pt x="3856" y="709"/>
                  </a:lnTo>
                  <a:lnTo>
                    <a:pt x="3808" y="709"/>
                  </a:lnTo>
                  <a:lnTo>
                    <a:pt x="3761" y="709"/>
                  </a:lnTo>
                  <a:lnTo>
                    <a:pt x="3713" y="709"/>
                  </a:lnTo>
                  <a:lnTo>
                    <a:pt x="3665" y="709"/>
                  </a:lnTo>
                  <a:lnTo>
                    <a:pt x="3618" y="709"/>
                  </a:lnTo>
                  <a:lnTo>
                    <a:pt x="3570" y="709"/>
                  </a:lnTo>
                  <a:lnTo>
                    <a:pt x="3523" y="709"/>
                  </a:lnTo>
                  <a:lnTo>
                    <a:pt x="3475" y="709"/>
                  </a:lnTo>
                  <a:lnTo>
                    <a:pt x="3428" y="709"/>
                  </a:lnTo>
                  <a:lnTo>
                    <a:pt x="3380" y="709"/>
                  </a:lnTo>
                  <a:lnTo>
                    <a:pt x="3333" y="709"/>
                  </a:lnTo>
                  <a:lnTo>
                    <a:pt x="3285" y="709"/>
                  </a:lnTo>
                  <a:lnTo>
                    <a:pt x="3237" y="709"/>
                  </a:lnTo>
                  <a:lnTo>
                    <a:pt x="3190" y="709"/>
                  </a:lnTo>
                  <a:lnTo>
                    <a:pt x="3142" y="709"/>
                  </a:lnTo>
                  <a:lnTo>
                    <a:pt x="3095" y="709"/>
                  </a:lnTo>
                  <a:lnTo>
                    <a:pt x="3047" y="709"/>
                  </a:lnTo>
                  <a:lnTo>
                    <a:pt x="3000" y="709"/>
                  </a:lnTo>
                  <a:lnTo>
                    <a:pt x="2952" y="709"/>
                  </a:lnTo>
                  <a:lnTo>
                    <a:pt x="2903" y="709"/>
                  </a:lnTo>
                  <a:lnTo>
                    <a:pt x="2856" y="709"/>
                  </a:lnTo>
                  <a:lnTo>
                    <a:pt x="2808" y="709"/>
                  </a:lnTo>
                  <a:lnTo>
                    <a:pt x="2761" y="709"/>
                  </a:lnTo>
                  <a:lnTo>
                    <a:pt x="2713" y="709"/>
                  </a:lnTo>
                  <a:lnTo>
                    <a:pt x="2666" y="709"/>
                  </a:lnTo>
                  <a:lnTo>
                    <a:pt x="2618" y="709"/>
                  </a:lnTo>
                  <a:lnTo>
                    <a:pt x="2571" y="709"/>
                  </a:lnTo>
                  <a:lnTo>
                    <a:pt x="2523" y="709"/>
                  </a:lnTo>
                  <a:lnTo>
                    <a:pt x="2475" y="709"/>
                  </a:lnTo>
                  <a:lnTo>
                    <a:pt x="2428" y="709"/>
                  </a:lnTo>
                  <a:lnTo>
                    <a:pt x="2380" y="709"/>
                  </a:lnTo>
                  <a:lnTo>
                    <a:pt x="2333" y="709"/>
                  </a:lnTo>
                  <a:lnTo>
                    <a:pt x="2285" y="709"/>
                  </a:lnTo>
                  <a:lnTo>
                    <a:pt x="2238" y="709"/>
                  </a:lnTo>
                  <a:lnTo>
                    <a:pt x="2190" y="709"/>
                  </a:lnTo>
                  <a:lnTo>
                    <a:pt x="2142" y="709"/>
                  </a:lnTo>
                  <a:lnTo>
                    <a:pt x="2095" y="709"/>
                  </a:lnTo>
                  <a:lnTo>
                    <a:pt x="2047" y="709"/>
                  </a:lnTo>
                  <a:lnTo>
                    <a:pt x="2000" y="709"/>
                  </a:lnTo>
                  <a:lnTo>
                    <a:pt x="1952" y="709"/>
                  </a:lnTo>
                  <a:lnTo>
                    <a:pt x="1905" y="709"/>
                  </a:lnTo>
                  <a:lnTo>
                    <a:pt x="1857" y="709"/>
                  </a:lnTo>
                  <a:lnTo>
                    <a:pt x="1810" y="709"/>
                  </a:lnTo>
                  <a:lnTo>
                    <a:pt x="1761" y="709"/>
                  </a:lnTo>
                  <a:lnTo>
                    <a:pt x="1713" y="709"/>
                  </a:lnTo>
                  <a:lnTo>
                    <a:pt x="1666" y="709"/>
                  </a:lnTo>
                  <a:lnTo>
                    <a:pt x="1618" y="709"/>
                  </a:lnTo>
                  <a:lnTo>
                    <a:pt x="1571" y="709"/>
                  </a:lnTo>
                  <a:lnTo>
                    <a:pt x="1523" y="709"/>
                  </a:lnTo>
                  <a:lnTo>
                    <a:pt x="1476" y="709"/>
                  </a:lnTo>
                  <a:lnTo>
                    <a:pt x="1428" y="709"/>
                  </a:lnTo>
                  <a:lnTo>
                    <a:pt x="1380" y="709"/>
                  </a:lnTo>
                  <a:lnTo>
                    <a:pt x="1333" y="709"/>
                  </a:lnTo>
                  <a:lnTo>
                    <a:pt x="1285" y="709"/>
                  </a:lnTo>
                  <a:lnTo>
                    <a:pt x="1238" y="709"/>
                  </a:lnTo>
                  <a:lnTo>
                    <a:pt x="1190" y="709"/>
                  </a:lnTo>
                  <a:lnTo>
                    <a:pt x="1143" y="709"/>
                  </a:lnTo>
                  <a:lnTo>
                    <a:pt x="1095" y="709"/>
                  </a:lnTo>
                  <a:lnTo>
                    <a:pt x="1048" y="709"/>
                  </a:lnTo>
                  <a:lnTo>
                    <a:pt x="1000" y="709"/>
                  </a:lnTo>
                  <a:lnTo>
                    <a:pt x="952" y="709"/>
                  </a:lnTo>
                  <a:lnTo>
                    <a:pt x="905" y="709"/>
                  </a:lnTo>
                  <a:lnTo>
                    <a:pt x="857" y="709"/>
                  </a:lnTo>
                  <a:lnTo>
                    <a:pt x="810" y="709"/>
                  </a:lnTo>
                  <a:lnTo>
                    <a:pt x="762" y="709"/>
                  </a:lnTo>
                  <a:lnTo>
                    <a:pt x="715" y="709"/>
                  </a:lnTo>
                  <a:lnTo>
                    <a:pt x="667" y="709"/>
                  </a:lnTo>
                  <a:lnTo>
                    <a:pt x="620" y="709"/>
                  </a:lnTo>
                  <a:lnTo>
                    <a:pt x="571" y="709"/>
                  </a:lnTo>
                  <a:lnTo>
                    <a:pt x="523" y="709"/>
                  </a:lnTo>
                  <a:lnTo>
                    <a:pt x="476" y="709"/>
                  </a:lnTo>
                  <a:lnTo>
                    <a:pt x="428" y="709"/>
                  </a:lnTo>
                  <a:lnTo>
                    <a:pt x="381" y="709"/>
                  </a:lnTo>
                  <a:lnTo>
                    <a:pt x="333" y="709"/>
                  </a:lnTo>
                  <a:lnTo>
                    <a:pt x="286" y="709"/>
                  </a:lnTo>
                  <a:lnTo>
                    <a:pt x="238" y="709"/>
                  </a:lnTo>
                  <a:lnTo>
                    <a:pt x="190" y="709"/>
                  </a:lnTo>
                  <a:lnTo>
                    <a:pt x="143" y="709"/>
                  </a:lnTo>
                  <a:lnTo>
                    <a:pt x="95" y="709"/>
                  </a:lnTo>
                  <a:lnTo>
                    <a:pt x="48" y="709"/>
                  </a:lnTo>
                  <a:lnTo>
                    <a:pt x="0" y="7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371600" y="2463840"/>
              <a:ext cx="7481880" cy="3151080"/>
            </a:xfrm>
            <a:custGeom>
              <a:avLst/>
              <a:gdLst/>
              <a:ahLst/>
              <a:rect l="l" t="t" r="r" b="b"/>
              <a:pathLst>
                <a:path w="4713" h="1985">
                  <a:moveTo>
                    <a:pt x="0" y="1985"/>
                  </a:moveTo>
                  <a:lnTo>
                    <a:pt x="0" y="1985"/>
                  </a:lnTo>
                  <a:lnTo>
                    <a:pt x="48" y="1985"/>
                  </a:lnTo>
                  <a:lnTo>
                    <a:pt x="95" y="1797"/>
                  </a:lnTo>
                  <a:lnTo>
                    <a:pt x="143" y="1775"/>
                  </a:lnTo>
                  <a:lnTo>
                    <a:pt x="190" y="1752"/>
                  </a:lnTo>
                  <a:lnTo>
                    <a:pt x="238" y="1353"/>
                  </a:lnTo>
                  <a:lnTo>
                    <a:pt x="286" y="1353"/>
                  </a:lnTo>
                  <a:lnTo>
                    <a:pt x="333" y="1353"/>
                  </a:lnTo>
                  <a:lnTo>
                    <a:pt x="381" y="1109"/>
                  </a:lnTo>
                  <a:lnTo>
                    <a:pt x="428" y="1109"/>
                  </a:lnTo>
                  <a:lnTo>
                    <a:pt x="476" y="1109"/>
                  </a:lnTo>
                  <a:lnTo>
                    <a:pt x="523" y="682"/>
                  </a:lnTo>
                  <a:lnTo>
                    <a:pt x="571" y="682"/>
                  </a:lnTo>
                  <a:lnTo>
                    <a:pt x="620" y="682"/>
                  </a:lnTo>
                  <a:lnTo>
                    <a:pt x="667" y="589"/>
                  </a:lnTo>
                  <a:lnTo>
                    <a:pt x="715" y="615"/>
                  </a:lnTo>
                  <a:lnTo>
                    <a:pt x="762" y="634"/>
                  </a:lnTo>
                  <a:lnTo>
                    <a:pt x="810" y="582"/>
                  </a:lnTo>
                  <a:lnTo>
                    <a:pt x="857" y="623"/>
                  </a:lnTo>
                  <a:lnTo>
                    <a:pt x="905" y="623"/>
                  </a:lnTo>
                  <a:lnTo>
                    <a:pt x="952" y="525"/>
                  </a:lnTo>
                  <a:lnTo>
                    <a:pt x="1000" y="525"/>
                  </a:lnTo>
                  <a:lnTo>
                    <a:pt x="1048" y="525"/>
                  </a:lnTo>
                  <a:lnTo>
                    <a:pt x="1095" y="598"/>
                  </a:lnTo>
                  <a:lnTo>
                    <a:pt x="1143" y="614"/>
                  </a:lnTo>
                  <a:lnTo>
                    <a:pt x="1190" y="614"/>
                  </a:lnTo>
                  <a:lnTo>
                    <a:pt x="1238" y="500"/>
                  </a:lnTo>
                  <a:lnTo>
                    <a:pt x="1285" y="500"/>
                  </a:lnTo>
                  <a:lnTo>
                    <a:pt x="1333" y="500"/>
                  </a:lnTo>
                  <a:lnTo>
                    <a:pt x="1380" y="634"/>
                  </a:lnTo>
                  <a:lnTo>
                    <a:pt x="1428" y="634"/>
                  </a:lnTo>
                  <a:lnTo>
                    <a:pt x="1476" y="634"/>
                  </a:lnTo>
                  <a:lnTo>
                    <a:pt x="1523" y="485"/>
                  </a:lnTo>
                  <a:lnTo>
                    <a:pt x="1571" y="485"/>
                  </a:lnTo>
                  <a:lnTo>
                    <a:pt x="1618" y="485"/>
                  </a:lnTo>
                  <a:lnTo>
                    <a:pt x="1666" y="527"/>
                  </a:lnTo>
                  <a:lnTo>
                    <a:pt x="1713" y="528"/>
                  </a:lnTo>
                  <a:lnTo>
                    <a:pt x="1761" y="528"/>
                  </a:lnTo>
                  <a:lnTo>
                    <a:pt x="1810" y="240"/>
                  </a:lnTo>
                  <a:lnTo>
                    <a:pt x="1857" y="274"/>
                  </a:lnTo>
                  <a:lnTo>
                    <a:pt x="1905" y="274"/>
                  </a:lnTo>
                  <a:lnTo>
                    <a:pt x="1952" y="382"/>
                  </a:lnTo>
                  <a:lnTo>
                    <a:pt x="2000" y="402"/>
                  </a:lnTo>
                  <a:lnTo>
                    <a:pt x="2047" y="402"/>
                  </a:lnTo>
                  <a:lnTo>
                    <a:pt x="2095" y="165"/>
                  </a:lnTo>
                  <a:lnTo>
                    <a:pt x="2142" y="220"/>
                  </a:lnTo>
                  <a:lnTo>
                    <a:pt x="2190" y="220"/>
                  </a:lnTo>
                  <a:lnTo>
                    <a:pt x="2238" y="353"/>
                  </a:lnTo>
                  <a:lnTo>
                    <a:pt x="2285" y="353"/>
                  </a:lnTo>
                  <a:lnTo>
                    <a:pt x="2333" y="353"/>
                  </a:lnTo>
                  <a:lnTo>
                    <a:pt x="2380" y="167"/>
                  </a:lnTo>
                  <a:lnTo>
                    <a:pt x="2428" y="223"/>
                  </a:lnTo>
                  <a:lnTo>
                    <a:pt x="2475" y="223"/>
                  </a:lnTo>
                  <a:lnTo>
                    <a:pt x="2523" y="284"/>
                  </a:lnTo>
                  <a:lnTo>
                    <a:pt x="2571" y="284"/>
                  </a:lnTo>
                  <a:lnTo>
                    <a:pt x="2618" y="284"/>
                  </a:lnTo>
                  <a:lnTo>
                    <a:pt x="2666" y="136"/>
                  </a:lnTo>
                  <a:lnTo>
                    <a:pt x="2713" y="193"/>
                  </a:lnTo>
                  <a:lnTo>
                    <a:pt x="2761" y="193"/>
                  </a:lnTo>
                  <a:lnTo>
                    <a:pt x="2808" y="268"/>
                  </a:lnTo>
                  <a:lnTo>
                    <a:pt x="2856" y="268"/>
                  </a:lnTo>
                  <a:lnTo>
                    <a:pt x="2903" y="268"/>
                  </a:lnTo>
                  <a:lnTo>
                    <a:pt x="2952" y="98"/>
                  </a:lnTo>
                  <a:lnTo>
                    <a:pt x="3000" y="163"/>
                  </a:lnTo>
                  <a:lnTo>
                    <a:pt x="3047" y="163"/>
                  </a:lnTo>
                  <a:lnTo>
                    <a:pt x="3095" y="241"/>
                  </a:lnTo>
                  <a:lnTo>
                    <a:pt x="3142" y="241"/>
                  </a:lnTo>
                  <a:lnTo>
                    <a:pt x="3190" y="234"/>
                  </a:lnTo>
                  <a:lnTo>
                    <a:pt x="3237" y="55"/>
                  </a:lnTo>
                  <a:lnTo>
                    <a:pt x="3285" y="124"/>
                  </a:lnTo>
                  <a:lnTo>
                    <a:pt x="3333" y="124"/>
                  </a:lnTo>
                  <a:lnTo>
                    <a:pt x="3380" y="209"/>
                  </a:lnTo>
                  <a:lnTo>
                    <a:pt x="3428" y="210"/>
                  </a:lnTo>
                  <a:lnTo>
                    <a:pt x="3475" y="205"/>
                  </a:lnTo>
                  <a:lnTo>
                    <a:pt x="3523" y="54"/>
                  </a:lnTo>
                  <a:lnTo>
                    <a:pt x="3570" y="115"/>
                  </a:lnTo>
                  <a:lnTo>
                    <a:pt x="3618" y="115"/>
                  </a:lnTo>
                  <a:lnTo>
                    <a:pt x="3665" y="196"/>
                  </a:lnTo>
                  <a:lnTo>
                    <a:pt x="3713" y="196"/>
                  </a:lnTo>
                  <a:lnTo>
                    <a:pt x="3761" y="201"/>
                  </a:lnTo>
                  <a:lnTo>
                    <a:pt x="3808" y="39"/>
                  </a:lnTo>
                  <a:lnTo>
                    <a:pt x="3856" y="110"/>
                  </a:lnTo>
                  <a:lnTo>
                    <a:pt x="3903" y="110"/>
                  </a:lnTo>
                  <a:lnTo>
                    <a:pt x="3951" y="188"/>
                  </a:lnTo>
                  <a:lnTo>
                    <a:pt x="3998" y="188"/>
                  </a:lnTo>
                  <a:lnTo>
                    <a:pt x="4046" y="168"/>
                  </a:lnTo>
                  <a:lnTo>
                    <a:pt x="4094" y="57"/>
                  </a:lnTo>
                  <a:lnTo>
                    <a:pt x="4142" y="131"/>
                  </a:lnTo>
                  <a:lnTo>
                    <a:pt x="4190" y="131"/>
                  </a:lnTo>
                  <a:lnTo>
                    <a:pt x="4237" y="197"/>
                  </a:lnTo>
                  <a:lnTo>
                    <a:pt x="4285" y="198"/>
                  </a:lnTo>
                  <a:lnTo>
                    <a:pt x="4332" y="198"/>
                  </a:lnTo>
                  <a:lnTo>
                    <a:pt x="4380" y="77"/>
                  </a:lnTo>
                  <a:lnTo>
                    <a:pt x="4427" y="141"/>
                  </a:lnTo>
                  <a:lnTo>
                    <a:pt x="4475" y="141"/>
                  </a:lnTo>
                  <a:lnTo>
                    <a:pt x="4523" y="178"/>
                  </a:lnTo>
                  <a:lnTo>
                    <a:pt x="4570" y="180"/>
                  </a:lnTo>
                  <a:lnTo>
                    <a:pt x="4618" y="199"/>
                  </a:lnTo>
                  <a:lnTo>
                    <a:pt x="4665" y="0"/>
                  </a:lnTo>
                  <a:lnTo>
                    <a:pt x="4713" y="70"/>
                  </a:lnTo>
                  <a:lnTo>
                    <a:pt x="4713" y="1296"/>
                  </a:lnTo>
                  <a:lnTo>
                    <a:pt x="4665" y="1292"/>
                  </a:lnTo>
                  <a:lnTo>
                    <a:pt x="4618" y="1699"/>
                  </a:lnTo>
                  <a:lnTo>
                    <a:pt x="4570" y="1699"/>
                  </a:lnTo>
                  <a:lnTo>
                    <a:pt x="4523" y="1614"/>
                  </a:lnTo>
                  <a:lnTo>
                    <a:pt x="4475" y="1286"/>
                  </a:lnTo>
                  <a:lnTo>
                    <a:pt x="4427" y="1286"/>
                  </a:lnTo>
                  <a:lnTo>
                    <a:pt x="4380" y="1276"/>
                  </a:lnTo>
                  <a:lnTo>
                    <a:pt x="4332" y="1697"/>
                  </a:lnTo>
                  <a:lnTo>
                    <a:pt x="4285" y="1697"/>
                  </a:lnTo>
                  <a:lnTo>
                    <a:pt x="4237" y="1613"/>
                  </a:lnTo>
                  <a:lnTo>
                    <a:pt x="4190" y="1331"/>
                  </a:lnTo>
                  <a:lnTo>
                    <a:pt x="4142" y="1305"/>
                  </a:lnTo>
                  <a:lnTo>
                    <a:pt x="4094" y="1303"/>
                  </a:lnTo>
                  <a:lnTo>
                    <a:pt x="4046" y="1712"/>
                  </a:lnTo>
                  <a:lnTo>
                    <a:pt x="3998" y="1737"/>
                  </a:lnTo>
                  <a:lnTo>
                    <a:pt x="3951" y="1661"/>
                  </a:lnTo>
                  <a:lnTo>
                    <a:pt x="3903" y="1284"/>
                  </a:lnTo>
                  <a:lnTo>
                    <a:pt x="3856" y="1284"/>
                  </a:lnTo>
                  <a:lnTo>
                    <a:pt x="3808" y="1284"/>
                  </a:lnTo>
                  <a:lnTo>
                    <a:pt x="3761" y="1722"/>
                  </a:lnTo>
                  <a:lnTo>
                    <a:pt x="3713" y="1722"/>
                  </a:lnTo>
                  <a:lnTo>
                    <a:pt x="3665" y="1637"/>
                  </a:lnTo>
                  <a:lnTo>
                    <a:pt x="3618" y="1297"/>
                  </a:lnTo>
                  <a:lnTo>
                    <a:pt x="3570" y="1292"/>
                  </a:lnTo>
                  <a:lnTo>
                    <a:pt x="3523" y="1292"/>
                  </a:lnTo>
                  <a:lnTo>
                    <a:pt x="3475" y="1729"/>
                  </a:lnTo>
                  <a:lnTo>
                    <a:pt x="3428" y="1735"/>
                  </a:lnTo>
                  <a:lnTo>
                    <a:pt x="3380" y="1653"/>
                  </a:lnTo>
                  <a:lnTo>
                    <a:pt x="3333" y="1296"/>
                  </a:lnTo>
                  <a:lnTo>
                    <a:pt x="3285" y="1290"/>
                  </a:lnTo>
                  <a:lnTo>
                    <a:pt x="3237" y="1290"/>
                  </a:lnTo>
                  <a:lnTo>
                    <a:pt x="3190" y="1719"/>
                  </a:lnTo>
                  <a:lnTo>
                    <a:pt x="3142" y="1726"/>
                  </a:lnTo>
                  <a:lnTo>
                    <a:pt x="3095" y="1657"/>
                  </a:lnTo>
                  <a:lnTo>
                    <a:pt x="3047" y="1317"/>
                  </a:lnTo>
                  <a:lnTo>
                    <a:pt x="3000" y="1317"/>
                  </a:lnTo>
                  <a:lnTo>
                    <a:pt x="2952" y="1315"/>
                  </a:lnTo>
                  <a:lnTo>
                    <a:pt x="2903" y="1717"/>
                  </a:lnTo>
                  <a:lnTo>
                    <a:pt x="2856" y="1717"/>
                  </a:lnTo>
                  <a:lnTo>
                    <a:pt x="2808" y="1639"/>
                  </a:lnTo>
                  <a:lnTo>
                    <a:pt x="2761" y="1332"/>
                  </a:lnTo>
                  <a:lnTo>
                    <a:pt x="2713" y="1332"/>
                  </a:lnTo>
                  <a:lnTo>
                    <a:pt x="2666" y="1332"/>
                  </a:lnTo>
                  <a:lnTo>
                    <a:pt x="2618" y="1714"/>
                  </a:lnTo>
                  <a:lnTo>
                    <a:pt x="2571" y="1714"/>
                  </a:lnTo>
                  <a:lnTo>
                    <a:pt x="2523" y="1639"/>
                  </a:lnTo>
                  <a:lnTo>
                    <a:pt x="2475" y="1351"/>
                  </a:lnTo>
                  <a:lnTo>
                    <a:pt x="2428" y="1351"/>
                  </a:lnTo>
                  <a:lnTo>
                    <a:pt x="2380" y="1351"/>
                  </a:lnTo>
                  <a:lnTo>
                    <a:pt x="2333" y="1723"/>
                  </a:lnTo>
                  <a:lnTo>
                    <a:pt x="2285" y="1723"/>
                  </a:lnTo>
                  <a:lnTo>
                    <a:pt x="2238" y="1657"/>
                  </a:lnTo>
                  <a:lnTo>
                    <a:pt x="2190" y="1349"/>
                  </a:lnTo>
                  <a:lnTo>
                    <a:pt x="2142" y="1349"/>
                  </a:lnTo>
                  <a:lnTo>
                    <a:pt x="2095" y="1349"/>
                  </a:lnTo>
                  <a:lnTo>
                    <a:pt x="2047" y="1726"/>
                  </a:lnTo>
                  <a:lnTo>
                    <a:pt x="2000" y="1726"/>
                  </a:lnTo>
                  <a:lnTo>
                    <a:pt x="1952" y="1660"/>
                  </a:lnTo>
                  <a:lnTo>
                    <a:pt x="1905" y="1411"/>
                  </a:lnTo>
                  <a:lnTo>
                    <a:pt x="1857" y="1411"/>
                  </a:lnTo>
                  <a:lnTo>
                    <a:pt x="1810" y="1411"/>
                  </a:lnTo>
                  <a:lnTo>
                    <a:pt x="1761" y="1649"/>
                  </a:lnTo>
                  <a:lnTo>
                    <a:pt x="1713" y="1649"/>
                  </a:lnTo>
                  <a:lnTo>
                    <a:pt x="1666" y="1584"/>
                  </a:lnTo>
                  <a:lnTo>
                    <a:pt x="1618" y="1475"/>
                  </a:lnTo>
                  <a:lnTo>
                    <a:pt x="1571" y="1475"/>
                  </a:lnTo>
                  <a:lnTo>
                    <a:pt x="1523" y="1450"/>
                  </a:lnTo>
                  <a:lnTo>
                    <a:pt x="1476" y="1649"/>
                  </a:lnTo>
                  <a:lnTo>
                    <a:pt x="1428" y="1649"/>
                  </a:lnTo>
                  <a:lnTo>
                    <a:pt x="1380" y="1606"/>
                  </a:lnTo>
                  <a:lnTo>
                    <a:pt x="1333" y="1585"/>
                  </a:lnTo>
                  <a:lnTo>
                    <a:pt x="1285" y="1585"/>
                  </a:lnTo>
                  <a:lnTo>
                    <a:pt x="1238" y="1583"/>
                  </a:lnTo>
                  <a:lnTo>
                    <a:pt x="1190" y="1647"/>
                  </a:lnTo>
                  <a:lnTo>
                    <a:pt x="1143" y="1647"/>
                  </a:lnTo>
                  <a:lnTo>
                    <a:pt x="1095" y="1647"/>
                  </a:lnTo>
                  <a:lnTo>
                    <a:pt x="1048" y="1626"/>
                  </a:lnTo>
                  <a:lnTo>
                    <a:pt x="1000" y="1626"/>
                  </a:lnTo>
                  <a:lnTo>
                    <a:pt x="952" y="1626"/>
                  </a:lnTo>
                  <a:lnTo>
                    <a:pt x="905" y="1591"/>
                  </a:lnTo>
                  <a:lnTo>
                    <a:pt x="857" y="1591"/>
                  </a:lnTo>
                  <a:lnTo>
                    <a:pt x="810" y="1591"/>
                  </a:lnTo>
                  <a:lnTo>
                    <a:pt x="762" y="1706"/>
                  </a:lnTo>
                  <a:lnTo>
                    <a:pt x="715" y="1706"/>
                  </a:lnTo>
                  <a:lnTo>
                    <a:pt x="667" y="1689"/>
                  </a:lnTo>
                  <a:lnTo>
                    <a:pt x="620" y="1558"/>
                  </a:lnTo>
                  <a:lnTo>
                    <a:pt x="571" y="1558"/>
                  </a:lnTo>
                  <a:lnTo>
                    <a:pt x="523" y="1558"/>
                  </a:lnTo>
                  <a:lnTo>
                    <a:pt x="476" y="1713"/>
                  </a:lnTo>
                  <a:lnTo>
                    <a:pt x="428" y="1713"/>
                  </a:lnTo>
                  <a:lnTo>
                    <a:pt x="381" y="1670"/>
                  </a:lnTo>
                  <a:lnTo>
                    <a:pt x="333" y="1586"/>
                  </a:lnTo>
                  <a:lnTo>
                    <a:pt x="286" y="1563"/>
                  </a:lnTo>
                  <a:lnTo>
                    <a:pt x="238" y="1532"/>
                  </a:lnTo>
                  <a:lnTo>
                    <a:pt x="190" y="1752"/>
                  </a:lnTo>
                  <a:lnTo>
                    <a:pt x="143" y="1775"/>
                  </a:lnTo>
                  <a:lnTo>
                    <a:pt x="95" y="1797"/>
                  </a:lnTo>
                  <a:lnTo>
                    <a:pt x="48" y="198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371600" y="930240"/>
              <a:ext cx="7481880" cy="4684680"/>
            </a:xfrm>
            <a:custGeom>
              <a:avLst/>
              <a:gdLst/>
              <a:ahLst/>
              <a:rect l="l" t="t" r="r" b="b"/>
              <a:pathLst>
                <a:path w="4713" h="2951">
                  <a:moveTo>
                    <a:pt x="0" y="2951"/>
                  </a:moveTo>
                  <a:lnTo>
                    <a:pt x="0" y="2951"/>
                  </a:lnTo>
                  <a:lnTo>
                    <a:pt x="48" y="2951"/>
                  </a:lnTo>
                  <a:lnTo>
                    <a:pt x="95" y="2763"/>
                  </a:lnTo>
                  <a:lnTo>
                    <a:pt x="143" y="2741"/>
                  </a:lnTo>
                  <a:lnTo>
                    <a:pt x="190" y="2718"/>
                  </a:lnTo>
                  <a:lnTo>
                    <a:pt x="238" y="2319"/>
                  </a:lnTo>
                  <a:lnTo>
                    <a:pt x="286" y="2319"/>
                  </a:lnTo>
                  <a:lnTo>
                    <a:pt x="333" y="2319"/>
                  </a:lnTo>
                  <a:lnTo>
                    <a:pt x="381" y="2075"/>
                  </a:lnTo>
                  <a:lnTo>
                    <a:pt x="428" y="2075"/>
                  </a:lnTo>
                  <a:lnTo>
                    <a:pt x="476" y="2075"/>
                  </a:lnTo>
                  <a:lnTo>
                    <a:pt x="523" y="1648"/>
                  </a:lnTo>
                  <a:lnTo>
                    <a:pt x="571" y="1648"/>
                  </a:lnTo>
                  <a:lnTo>
                    <a:pt x="620" y="1648"/>
                  </a:lnTo>
                  <a:lnTo>
                    <a:pt x="667" y="1403"/>
                  </a:lnTo>
                  <a:lnTo>
                    <a:pt x="715" y="1403"/>
                  </a:lnTo>
                  <a:lnTo>
                    <a:pt x="762" y="1403"/>
                  </a:lnTo>
                  <a:lnTo>
                    <a:pt x="810" y="1009"/>
                  </a:lnTo>
                  <a:lnTo>
                    <a:pt x="857" y="1009"/>
                  </a:lnTo>
                  <a:lnTo>
                    <a:pt x="905" y="1009"/>
                  </a:lnTo>
                  <a:lnTo>
                    <a:pt x="952" y="650"/>
                  </a:lnTo>
                  <a:lnTo>
                    <a:pt x="1000" y="650"/>
                  </a:lnTo>
                  <a:lnTo>
                    <a:pt x="1048" y="650"/>
                  </a:lnTo>
                  <a:lnTo>
                    <a:pt x="1095" y="313"/>
                  </a:lnTo>
                  <a:lnTo>
                    <a:pt x="1143" y="313"/>
                  </a:lnTo>
                  <a:lnTo>
                    <a:pt x="1190" y="313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85"/>
                  </a:lnTo>
                  <a:lnTo>
                    <a:pt x="1428" y="102"/>
                  </a:lnTo>
                  <a:lnTo>
                    <a:pt x="1476" y="115"/>
                  </a:lnTo>
                  <a:lnTo>
                    <a:pt x="1523" y="197"/>
                  </a:lnTo>
                  <a:lnTo>
                    <a:pt x="1571" y="218"/>
                  </a:lnTo>
                  <a:lnTo>
                    <a:pt x="1618" y="218"/>
                  </a:lnTo>
                  <a:lnTo>
                    <a:pt x="1666" y="320"/>
                  </a:lnTo>
                  <a:lnTo>
                    <a:pt x="1713" y="320"/>
                  </a:lnTo>
                  <a:lnTo>
                    <a:pt x="1761" y="320"/>
                  </a:lnTo>
                  <a:lnTo>
                    <a:pt x="1810" y="214"/>
                  </a:lnTo>
                  <a:lnTo>
                    <a:pt x="1857" y="218"/>
                  </a:lnTo>
                  <a:lnTo>
                    <a:pt x="1905" y="218"/>
                  </a:lnTo>
                  <a:lnTo>
                    <a:pt x="1952" y="273"/>
                  </a:lnTo>
                  <a:lnTo>
                    <a:pt x="2000" y="273"/>
                  </a:lnTo>
                  <a:lnTo>
                    <a:pt x="2047" y="273"/>
                  </a:lnTo>
                  <a:lnTo>
                    <a:pt x="2095" y="111"/>
                  </a:lnTo>
                  <a:lnTo>
                    <a:pt x="2142" y="111"/>
                  </a:lnTo>
                  <a:lnTo>
                    <a:pt x="2190" y="111"/>
                  </a:lnTo>
                  <a:lnTo>
                    <a:pt x="2238" y="150"/>
                  </a:lnTo>
                  <a:lnTo>
                    <a:pt x="2285" y="150"/>
                  </a:lnTo>
                  <a:lnTo>
                    <a:pt x="2333" y="150"/>
                  </a:lnTo>
                  <a:lnTo>
                    <a:pt x="2380" y="46"/>
                  </a:lnTo>
                  <a:lnTo>
                    <a:pt x="2428" y="46"/>
                  </a:lnTo>
                  <a:lnTo>
                    <a:pt x="2475" y="46"/>
                  </a:lnTo>
                  <a:lnTo>
                    <a:pt x="2523" y="114"/>
                  </a:lnTo>
                  <a:lnTo>
                    <a:pt x="2571" y="126"/>
                  </a:lnTo>
                  <a:lnTo>
                    <a:pt x="2618" y="126"/>
                  </a:lnTo>
                  <a:lnTo>
                    <a:pt x="2666" y="48"/>
                  </a:lnTo>
                  <a:lnTo>
                    <a:pt x="2713" y="52"/>
                  </a:lnTo>
                  <a:lnTo>
                    <a:pt x="2761" y="52"/>
                  </a:lnTo>
                  <a:lnTo>
                    <a:pt x="2808" y="78"/>
                  </a:lnTo>
                  <a:lnTo>
                    <a:pt x="2856" y="85"/>
                  </a:lnTo>
                  <a:lnTo>
                    <a:pt x="2903" y="85"/>
                  </a:lnTo>
                  <a:lnTo>
                    <a:pt x="2952" y="35"/>
                  </a:lnTo>
                  <a:lnTo>
                    <a:pt x="3000" y="35"/>
                  </a:lnTo>
                  <a:lnTo>
                    <a:pt x="3047" y="35"/>
                  </a:lnTo>
                  <a:lnTo>
                    <a:pt x="3095" y="34"/>
                  </a:lnTo>
                  <a:lnTo>
                    <a:pt x="3142" y="37"/>
                  </a:lnTo>
                  <a:lnTo>
                    <a:pt x="3190" y="37"/>
                  </a:lnTo>
                  <a:lnTo>
                    <a:pt x="3237" y="20"/>
                  </a:lnTo>
                  <a:lnTo>
                    <a:pt x="3285" y="20"/>
                  </a:lnTo>
                  <a:lnTo>
                    <a:pt x="3333" y="20"/>
                  </a:lnTo>
                  <a:lnTo>
                    <a:pt x="3380" y="61"/>
                  </a:lnTo>
                  <a:lnTo>
                    <a:pt x="3428" y="73"/>
                  </a:lnTo>
                  <a:lnTo>
                    <a:pt x="3475" y="73"/>
                  </a:lnTo>
                  <a:lnTo>
                    <a:pt x="3523" y="22"/>
                  </a:lnTo>
                  <a:lnTo>
                    <a:pt x="3570" y="22"/>
                  </a:lnTo>
                  <a:lnTo>
                    <a:pt x="3618" y="22"/>
                  </a:lnTo>
                  <a:lnTo>
                    <a:pt x="3665" y="54"/>
                  </a:lnTo>
                  <a:lnTo>
                    <a:pt x="3713" y="65"/>
                  </a:lnTo>
                  <a:lnTo>
                    <a:pt x="3761" y="65"/>
                  </a:lnTo>
                  <a:lnTo>
                    <a:pt x="3808" y="13"/>
                  </a:lnTo>
                  <a:lnTo>
                    <a:pt x="3856" y="13"/>
                  </a:lnTo>
                  <a:lnTo>
                    <a:pt x="3903" y="13"/>
                  </a:lnTo>
                  <a:lnTo>
                    <a:pt x="3951" y="36"/>
                  </a:lnTo>
                  <a:lnTo>
                    <a:pt x="3998" y="44"/>
                  </a:lnTo>
                  <a:lnTo>
                    <a:pt x="4046" y="42"/>
                  </a:lnTo>
                  <a:lnTo>
                    <a:pt x="4094" y="15"/>
                  </a:lnTo>
                  <a:lnTo>
                    <a:pt x="4142" y="16"/>
                  </a:lnTo>
                  <a:lnTo>
                    <a:pt x="4190" y="16"/>
                  </a:lnTo>
                  <a:lnTo>
                    <a:pt x="4237" y="38"/>
                  </a:lnTo>
                  <a:lnTo>
                    <a:pt x="4285" y="44"/>
                  </a:lnTo>
                  <a:lnTo>
                    <a:pt x="4332" y="44"/>
                  </a:lnTo>
                  <a:lnTo>
                    <a:pt x="4380" y="21"/>
                  </a:lnTo>
                  <a:lnTo>
                    <a:pt x="4427" y="21"/>
                  </a:lnTo>
                  <a:lnTo>
                    <a:pt x="4475" y="22"/>
                  </a:lnTo>
                  <a:lnTo>
                    <a:pt x="4523" y="48"/>
                  </a:lnTo>
                  <a:lnTo>
                    <a:pt x="4570" y="58"/>
                  </a:lnTo>
                  <a:lnTo>
                    <a:pt x="4618" y="58"/>
                  </a:lnTo>
                  <a:lnTo>
                    <a:pt x="4665" y="13"/>
                  </a:lnTo>
                  <a:lnTo>
                    <a:pt x="4713" y="13"/>
                  </a:lnTo>
                  <a:lnTo>
                    <a:pt x="4713" y="1036"/>
                  </a:lnTo>
                  <a:lnTo>
                    <a:pt x="4665" y="966"/>
                  </a:lnTo>
                  <a:lnTo>
                    <a:pt x="4618" y="1165"/>
                  </a:lnTo>
                  <a:lnTo>
                    <a:pt x="4570" y="1146"/>
                  </a:lnTo>
                  <a:lnTo>
                    <a:pt x="4523" y="1144"/>
                  </a:lnTo>
                  <a:lnTo>
                    <a:pt x="4475" y="1107"/>
                  </a:lnTo>
                  <a:lnTo>
                    <a:pt x="4427" y="1107"/>
                  </a:lnTo>
                  <a:lnTo>
                    <a:pt x="4380" y="1043"/>
                  </a:lnTo>
                  <a:lnTo>
                    <a:pt x="4332" y="1164"/>
                  </a:lnTo>
                  <a:lnTo>
                    <a:pt x="4285" y="1164"/>
                  </a:lnTo>
                  <a:lnTo>
                    <a:pt x="4237" y="1163"/>
                  </a:lnTo>
                  <a:lnTo>
                    <a:pt x="4190" y="1097"/>
                  </a:lnTo>
                  <a:lnTo>
                    <a:pt x="4142" y="1097"/>
                  </a:lnTo>
                  <a:lnTo>
                    <a:pt x="4094" y="1023"/>
                  </a:lnTo>
                  <a:lnTo>
                    <a:pt x="4046" y="1134"/>
                  </a:lnTo>
                  <a:lnTo>
                    <a:pt x="3998" y="1154"/>
                  </a:lnTo>
                  <a:lnTo>
                    <a:pt x="3951" y="1154"/>
                  </a:lnTo>
                  <a:lnTo>
                    <a:pt x="3903" y="1076"/>
                  </a:lnTo>
                  <a:lnTo>
                    <a:pt x="3856" y="1076"/>
                  </a:lnTo>
                  <a:lnTo>
                    <a:pt x="3808" y="1005"/>
                  </a:lnTo>
                  <a:lnTo>
                    <a:pt x="3761" y="1167"/>
                  </a:lnTo>
                  <a:lnTo>
                    <a:pt x="3713" y="1162"/>
                  </a:lnTo>
                  <a:lnTo>
                    <a:pt x="3665" y="1162"/>
                  </a:lnTo>
                  <a:lnTo>
                    <a:pt x="3618" y="1081"/>
                  </a:lnTo>
                  <a:lnTo>
                    <a:pt x="3570" y="1081"/>
                  </a:lnTo>
                  <a:lnTo>
                    <a:pt x="3523" y="1020"/>
                  </a:lnTo>
                  <a:lnTo>
                    <a:pt x="3475" y="1171"/>
                  </a:lnTo>
                  <a:lnTo>
                    <a:pt x="3428" y="1176"/>
                  </a:lnTo>
                  <a:lnTo>
                    <a:pt x="3380" y="1175"/>
                  </a:lnTo>
                  <a:lnTo>
                    <a:pt x="3333" y="1090"/>
                  </a:lnTo>
                  <a:lnTo>
                    <a:pt x="3285" y="1090"/>
                  </a:lnTo>
                  <a:lnTo>
                    <a:pt x="3237" y="1021"/>
                  </a:lnTo>
                  <a:lnTo>
                    <a:pt x="3190" y="1200"/>
                  </a:lnTo>
                  <a:lnTo>
                    <a:pt x="3142" y="1207"/>
                  </a:lnTo>
                  <a:lnTo>
                    <a:pt x="3095" y="1207"/>
                  </a:lnTo>
                  <a:lnTo>
                    <a:pt x="3047" y="1129"/>
                  </a:lnTo>
                  <a:lnTo>
                    <a:pt x="3000" y="1129"/>
                  </a:lnTo>
                  <a:lnTo>
                    <a:pt x="2952" y="1064"/>
                  </a:lnTo>
                  <a:lnTo>
                    <a:pt x="2903" y="1234"/>
                  </a:lnTo>
                  <a:lnTo>
                    <a:pt x="2856" y="1234"/>
                  </a:lnTo>
                  <a:lnTo>
                    <a:pt x="2808" y="1234"/>
                  </a:lnTo>
                  <a:lnTo>
                    <a:pt x="2761" y="1159"/>
                  </a:lnTo>
                  <a:lnTo>
                    <a:pt x="2713" y="1159"/>
                  </a:lnTo>
                  <a:lnTo>
                    <a:pt x="2666" y="1102"/>
                  </a:lnTo>
                  <a:lnTo>
                    <a:pt x="2618" y="1250"/>
                  </a:lnTo>
                  <a:lnTo>
                    <a:pt x="2571" y="1250"/>
                  </a:lnTo>
                  <a:lnTo>
                    <a:pt x="2523" y="1250"/>
                  </a:lnTo>
                  <a:lnTo>
                    <a:pt x="2475" y="1189"/>
                  </a:lnTo>
                  <a:lnTo>
                    <a:pt x="2428" y="1189"/>
                  </a:lnTo>
                  <a:lnTo>
                    <a:pt x="2380" y="1133"/>
                  </a:lnTo>
                  <a:lnTo>
                    <a:pt x="2333" y="1319"/>
                  </a:lnTo>
                  <a:lnTo>
                    <a:pt x="2285" y="1319"/>
                  </a:lnTo>
                  <a:lnTo>
                    <a:pt x="2238" y="1319"/>
                  </a:lnTo>
                  <a:lnTo>
                    <a:pt x="2190" y="1186"/>
                  </a:lnTo>
                  <a:lnTo>
                    <a:pt x="2142" y="1186"/>
                  </a:lnTo>
                  <a:lnTo>
                    <a:pt x="2095" y="1131"/>
                  </a:lnTo>
                  <a:lnTo>
                    <a:pt x="2047" y="1368"/>
                  </a:lnTo>
                  <a:lnTo>
                    <a:pt x="2000" y="1368"/>
                  </a:lnTo>
                  <a:lnTo>
                    <a:pt x="1952" y="1348"/>
                  </a:lnTo>
                  <a:lnTo>
                    <a:pt x="1905" y="1240"/>
                  </a:lnTo>
                  <a:lnTo>
                    <a:pt x="1857" y="1240"/>
                  </a:lnTo>
                  <a:lnTo>
                    <a:pt x="1810" y="1206"/>
                  </a:lnTo>
                  <a:lnTo>
                    <a:pt x="1761" y="1494"/>
                  </a:lnTo>
                  <a:lnTo>
                    <a:pt x="1713" y="1494"/>
                  </a:lnTo>
                  <a:lnTo>
                    <a:pt x="1666" y="1493"/>
                  </a:lnTo>
                  <a:lnTo>
                    <a:pt x="1618" y="1451"/>
                  </a:lnTo>
                  <a:lnTo>
                    <a:pt x="1571" y="1451"/>
                  </a:lnTo>
                  <a:lnTo>
                    <a:pt x="1523" y="1451"/>
                  </a:lnTo>
                  <a:lnTo>
                    <a:pt x="1476" y="1600"/>
                  </a:lnTo>
                  <a:lnTo>
                    <a:pt x="1428" y="1600"/>
                  </a:lnTo>
                  <a:lnTo>
                    <a:pt x="1380" y="1600"/>
                  </a:lnTo>
                  <a:lnTo>
                    <a:pt x="1333" y="1466"/>
                  </a:lnTo>
                  <a:lnTo>
                    <a:pt x="1285" y="1466"/>
                  </a:lnTo>
                  <a:lnTo>
                    <a:pt x="1238" y="1466"/>
                  </a:lnTo>
                  <a:lnTo>
                    <a:pt x="1190" y="1580"/>
                  </a:lnTo>
                  <a:lnTo>
                    <a:pt x="1143" y="1580"/>
                  </a:lnTo>
                  <a:lnTo>
                    <a:pt x="1095" y="1564"/>
                  </a:lnTo>
                  <a:lnTo>
                    <a:pt x="1048" y="1491"/>
                  </a:lnTo>
                  <a:lnTo>
                    <a:pt x="1000" y="1491"/>
                  </a:lnTo>
                  <a:lnTo>
                    <a:pt x="952" y="1491"/>
                  </a:lnTo>
                  <a:lnTo>
                    <a:pt x="905" y="1589"/>
                  </a:lnTo>
                  <a:lnTo>
                    <a:pt x="857" y="1589"/>
                  </a:lnTo>
                  <a:lnTo>
                    <a:pt x="810" y="1548"/>
                  </a:lnTo>
                  <a:lnTo>
                    <a:pt x="762" y="1600"/>
                  </a:lnTo>
                  <a:lnTo>
                    <a:pt x="715" y="1581"/>
                  </a:lnTo>
                  <a:lnTo>
                    <a:pt x="667" y="1555"/>
                  </a:lnTo>
                  <a:lnTo>
                    <a:pt x="620" y="1648"/>
                  </a:lnTo>
                  <a:lnTo>
                    <a:pt x="571" y="1648"/>
                  </a:lnTo>
                  <a:lnTo>
                    <a:pt x="523" y="1648"/>
                  </a:lnTo>
                  <a:lnTo>
                    <a:pt x="476" y="2075"/>
                  </a:lnTo>
                  <a:lnTo>
                    <a:pt x="428" y="2075"/>
                  </a:lnTo>
                  <a:lnTo>
                    <a:pt x="381" y="2075"/>
                  </a:lnTo>
                  <a:lnTo>
                    <a:pt x="333" y="2319"/>
                  </a:lnTo>
                  <a:lnTo>
                    <a:pt x="286" y="2319"/>
                  </a:lnTo>
                  <a:lnTo>
                    <a:pt x="238" y="2319"/>
                  </a:lnTo>
                  <a:lnTo>
                    <a:pt x="190" y="2718"/>
                  </a:lnTo>
                  <a:lnTo>
                    <a:pt x="143" y="2741"/>
                  </a:lnTo>
                  <a:lnTo>
                    <a:pt x="95" y="2763"/>
                  </a:lnTo>
                  <a:lnTo>
                    <a:pt x="48" y="2951"/>
                  </a:lnTo>
                  <a:lnTo>
                    <a:pt x="0" y="295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2958"/>
                  </a:lnTo>
                  <a:lnTo>
                    <a:pt x="48" y="2958"/>
                  </a:lnTo>
                  <a:lnTo>
                    <a:pt x="95" y="2770"/>
                  </a:lnTo>
                  <a:lnTo>
                    <a:pt x="143" y="2748"/>
                  </a:lnTo>
                  <a:lnTo>
                    <a:pt x="190" y="2725"/>
                  </a:lnTo>
                  <a:lnTo>
                    <a:pt x="238" y="2326"/>
                  </a:lnTo>
                  <a:lnTo>
                    <a:pt x="286" y="2326"/>
                  </a:lnTo>
                  <a:lnTo>
                    <a:pt x="333" y="2326"/>
                  </a:lnTo>
                  <a:lnTo>
                    <a:pt x="381" y="2082"/>
                  </a:lnTo>
                  <a:lnTo>
                    <a:pt x="428" y="2082"/>
                  </a:lnTo>
                  <a:lnTo>
                    <a:pt x="476" y="2082"/>
                  </a:lnTo>
                  <a:lnTo>
                    <a:pt x="523" y="1655"/>
                  </a:lnTo>
                  <a:lnTo>
                    <a:pt x="571" y="1655"/>
                  </a:lnTo>
                  <a:lnTo>
                    <a:pt x="620" y="1655"/>
                  </a:lnTo>
                  <a:lnTo>
                    <a:pt x="667" y="1410"/>
                  </a:lnTo>
                  <a:lnTo>
                    <a:pt x="715" y="1410"/>
                  </a:lnTo>
                  <a:lnTo>
                    <a:pt x="762" y="1410"/>
                  </a:lnTo>
                  <a:lnTo>
                    <a:pt x="810" y="1016"/>
                  </a:lnTo>
                  <a:lnTo>
                    <a:pt x="857" y="1016"/>
                  </a:lnTo>
                  <a:lnTo>
                    <a:pt x="905" y="1016"/>
                  </a:lnTo>
                  <a:lnTo>
                    <a:pt x="952" y="657"/>
                  </a:lnTo>
                  <a:lnTo>
                    <a:pt x="1000" y="657"/>
                  </a:lnTo>
                  <a:lnTo>
                    <a:pt x="1048" y="657"/>
                  </a:lnTo>
                  <a:lnTo>
                    <a:pt x="1095" y="320"/>
                  </a:lnTo>
                  <a:lnTo>
                    <a:pt x="1143" y="320"/>
                  </a:lnTo>
                  <a:lnTo>
                    <a:pt x="1190" y="320"/>
                  </a:lnTo>
                  <a:lnTo>
                    <a:pt x="1238" y="7"/>
                  </a:lnTo>
                  <a:lnTo>
                    <a:pt x="1285" y="7"/>
                  </a:lnTo>
                  <a:lnTo>
                    <a:pt x="1333" y="7"/>
                  </a:lnTo>
                  <a:lnTo>
                    <a:pt x="1380" y="6"/>
                  </a:lnTo>
                  <a:lnTo>
                    <a:pt x="1428" y="6"/>
                  </a:lnTo>
                  <a:lnTo>
                    <a:pt x="1476" y="6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0"/>
                  </a:lnTo>
                  <a:lnTo>
                    <a:pt x="4665" y="20"/>
                  </a:lnTo>
                  <a:lnTo>
                    <a:pt x="4618" y="65"/>
                  </a:lnTo>
                  <a:lnTo>
                    <a:pt x="4570" y="65"/>
                  </a:lnTo>
                  <a:lnTo>
                    <a:pt x="4523" y="55"/>
                  </a:lnTo>
                  <a:lnTo>
                    <a:pt x="4475" y="29"/>
                  </a:lnTo>
                  <a:lnTo>
                    <a:pt x="4427" y="28"/>
                  </a:lnTo>
                  <a:lnTo>
                    <a:pt x="4380" y="28"/>
                  </a:lnTo>
                  <a:lnTo>
                    <a:pt x="4332" y="51"/>
                  </a:lnTo>
                  <a:lnTo>
                    <a:pt x="4285" y="51"/>
                  </a:lnTo>
                  <a:lnTo>
                    <a:pt x="4237" y="45"/>
                  </a:lnTo>
                  <a:lnTo>
                    <a:pt x="4190" y="23"/>
                  </a:lnTo>
                  <a:lnTo>
                    <a:pt x="4142" y="23"/>
                  </a:lnTo>
                  <a:lnTo>
                    <a:pt x="4094" y="22"/>
                  </a:lnTo>
                  <a:lnTo>
                    <a:pt x="4046" y="49"/>
                  </a:lnTo>
                  <a:lnTo>
                    <a:pt x="3998" y="51"/>
                  </a:lnTo>
                  <a:lnTo>
                    <a:pt x="3951" y="43"/>
                  </a:lnTo>
                  <a:lnTo>
                    <a:pt x="3903" y="20"/>
                  </a:lnTo>
                  <a:lnTo>
                    <a:pt x="3856" y="20"/>
                  </a:lnTo>
                  <a:lnTo>
                    <a:pt x="3808" y="20"/>
                  </a:lnTo>
                  <a:lnTo>
                    <a:pt x="3761" y="72"/>
                  </a:lnTo>
                  <a:lnTo>
                    <a:pt x="3713" y="72"/>
                  </a:lnTo>
                  <a:lnTo>
                    <a:pt x="3665" y="61"/>
                  </a:lnTo>
                  <a:lnTo>
                    <a:pt x="3618" y="29"/>
                  </a:lnTo>
                  <a:lnTo>
                    <a:pt x="3570" y="29"/>
                  </a:lnTo>
                  <a:lnTo>
                    <a:pt x="3523" y="29"/>
                  </a:lnTo>
                  <a:lnTo>
                    <a:pt x="3475" y="80"/>
                  </a:lnTo>
                  <a:lnTo>
                    <a:pt x="3428" y="80"/>
                  </a:lnTo>
                  <a:lnTo>
                    <a:pt x="3380" y="68"/>
                  </a:lnTo>
                  <a:lnTo>
                    <a:pt x="3333" y="27"/>
                  </a:lnTo>
                  <a:lnTo>
                    <a:pt x="3285" y="27"/>
                  </a:lnTo>
                  <a:lnTo>
                    <a:pt x="3237" y="27"/>
                  </a:lnTo>
                  <a:lnTo>
                    <a:pt x="3190" y="44"/>
                  </a:lnTo>
                  <a:lnTo>
                    <a:pt x="3142" y="44"/>
                  </a:lnTo>
                  <a:lnTo>
                    <a:pt x="3095" y="41"/>
                  </a:lnTo>
                  <a:lnTo>
                    <a:pt x="3047" y="42"/>
                  </a:lnTo>
                  <a:lnTo>
                    <a:pt x="3000" y="42"/>
                  </a:lnTo>
                  <a:lnTo>
                    <a:pt x="2952" y="42"/>
                  </a:lnTo>
                  <a:lnTo>
                    <a:pt x="2903" y="92"/>
                  </a:lnTo>
                  <a:lnTo>
                    <a:pt x="2856" y="92"/>
                  </a:lnTo>
                  <a:lnTo>
                    <a:pt x="2808" y="85"/>
                  </a:lnTo>
                  <a:lnTo>
                    <a:pt x="2761" y="59"/>
                  </a:lnTo>
                  <a:lnTo>
                    <a:pt x="2713" y="59"/>
                  </a:lnTo>
                  <a:lnTo>
                    <a:pt x="2666" y="55"/>
                  </a:lnTo>
                  <a:lnTo>
                    <a:pt x="2618" y="133"/>
                  </a:lnTo>
                  <a:lnTo>
                    <a:pt x="2571" y="133"/>
                  </a:lnTo>
                  <a:lnTo>
                    <a:pt x="2523" y="121"/>
                  </a:lnTo>
                  <a:lnTo>
                    <a:pt x="2475" y="53"/>
                  </a:lnTo>
                  <a:lnTo>
                    <a:pt x="2428" y="53"/>
                  </a:lnTo>
                  <a:lnTo>
                    <a:pt x="2380" y="53"/>
                  </a:lnTo>
                  <a:lnTo>
                    <a:pt x="2333" y="157"/>
                  </a:lnTo>
                  <a:lnTo>
                    <a:pt x="2285" y="157"/>
                  </a:lnTo>
                  <a:lnTo>
                    <a:pt x="2238" y="157"/>
                  </a:lnTo>
                  <a:lnTo>
                    <a:pt x="2190" y="118"/>
                  </a:lnTo>
                  <a:lnTo>
                    <a:pt x="2142" y="118"/>
                  </a:lnTo>
                  <a:lnTo>
                    <a:pt x="2095" y="118"/>
                  </a:lnTo>
                  <a:lnTo>
                    <a:pt x="2047" y="280"/>
                  </a:lnTo>
                  <a:lnTo>
                    <a:pt x="2000" y="280"/>
                  </a:lnTo>
                  <a:lnTo>
                    <a:pt x="1952" y="280"/>
                  </a:lnTo>
                  <a:lnTo>
                    <a:pt x="1905" y="225"/>
                  </a:lnTo>
                  <a:lnTo>
                    <a:pt x="1857" y="225"/>
                  </a:lnTo>
                  <a:lnTo>
                    <a:pt x="1810" y="221"/>
                  </a:lnTo>
                  <a:lnTo>
                    <a:pt x="1761" y="327"/>
                  </a:lnTo>
                  <a:lnTo>
                    <a:pt x="1713" y="327"/>
                  </a:lnTo>
                  <a:lnTo>
                    <a:pt x="1666" y="327"/>
                  </a:lnTo>
                  <a:lnTo>
                    <a:pt x="1618" y="225"/>
                  </a:lnTo>
                  <a:lnTo>
                    <a:pt x="1571" y="225"/>
                  </a:lnTo>
                  <a:lnTo>
                    <a:pt x="1523" y="204"/>
                  </a:lnTo>
                  <a:lnTo>
                    <a:pt x="1476" y="122"/>
                  </a:lnTo>
                  <a:lnTo>
                    <a:pt x="1428" y="109"/>
                  </a:lnTo>
                  <a:lnTo>
                    <a:pt x="1380" y="92"/>
                  </a:lnTo>
                  <a:lnTo>
                    <a:pt x="1333" y="7"/>
                  </a:lnTo>
                  <a:lnTo>
                    <a:pt x="1285" y="7"/>
                  </a:lnTo>
                  <a:lnTo>
                    <a:pt x="1238" y="7"/>
                  </a:lnTo>
                  <a:lnTo>
                    <a:pt x="1190" y="320"/>
                  </a:lnTo>
                  <a:lnTo>
                    <a:pt x="1143" y="320"/>
                  </a:lnTo>
                  <a:lnTo>
                    <a:pt x="1095" y="320"/>
                  </a:lnTo>
                  <a:lnTo>
                    <a:pt x="1048" y="657"/>
                  </a:lnTo>
                  <a:lnTo>
                    <a:pt x="1000" y="657"/>
                  </a:lnTo>
                  <a:lnTo>
                    <a:pt x="952" y="657"/>
                  </a:lnTo>
                  <a:lnTo>
                    <a:pt x="905" y="1016"/>
                  </a:lnTo>
                  <a:lnTo>
                    <a:pt x="857" y="1016"/>
                  </a:lnTo>
                  <a:lnTo>
                    <a:pt x="810" y="1016"/>
                  </a:lnTo>
                  <a:lnTo>
                    <a:pt x="762" y="1410"/>
                  </a:lnTo>
                  <a:lnTo>
                    <a:pt x="715" y="1410"/>
                  </a:lnTo>
                  <a:lnTo>
                    <a:pt x="667" y="1410"/>
                  </a:lnTo>
                  <a:lnTo>
                    <a:pt x="620" y="1655"/>
                  </a:lnTo>
                  <a:lnTo>
                    <a:pt x="571" y="1655"/>
                  </a:lnTo>
                  <a:lnTo>
                    <a:pt x="523" y="1655"/>
                  </a:lnTo>
                  <a:lnTo>
                    <a:pt x="476" y="2082"/>
                  </a:lnTo>
                  <a:lnTo>
                    <a:pt x="428" y="2082"/>
                  </a:lnTo>
                  <a:lnTo>
                    <a:pt x="381" y="2082"/>
                  </a:lnTo>
                  <a:lnTo>
                    <a:pt x="333" y="2326"/>
                  </a:lnTo>
                  <a:lnTo>
                    <a:pt x="286" y="2326"/>
                  </a:lnTo>
                  <a:lnTo>
                    <a:pt x="238" y="2326"/>
                  </a:lnTo>
                  <a:lnTo>
                    <a:pt x="190" y="2725"/>
                  </a:lnTo>
                  <a:lnTo>
                    <a:pt x="143" y="2748"/>
                  </a:lnTo>
                  <a:lnTo>
                    <a:pt x="95" y="2770"/>
                  </a:lnTo>
                  <a:lnTo>
                    <a:pt x="4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0"/>
                  </a:lnTo>
                  <a:lnTo>
                    <a:pt x="4380" y="0"/>
                  </a:lnTo>
                  <a:lnTo>
                    <a:pt x="4332" y="0"/>
                  </a:lnTo>
                  <a:lnTo>
                    <a:pt x="4285" y="0"/>
                  </a:lnTo>
                  <a:lnTo>
                    <a:pt x="4237" y="0"/>
                  </a:lnTo>
                  <a:lnTo>
                    <a:pt x="4190" y="0"/>
                  </a:lnTo>
                  <a:lnTo>
                    <a:pt x="4142" y="0"/>
                  </a:lnTo>
                  <a:lnTo>
                    <a:pt x="4094" y="0"/>
                  </a:lnTo>
                  <a:lnTo>
                    <a:pt x="4046" y="0"/>
                  </a:lnTo>
                  <a:lnTo>
                    <a:pt x="3998" y="0"/>
                  </a:lnTo>
                  <a:lnTo>
                    <a:pt x="3951" y="0"/>
                  </a:lnTo>
                  <a:lnTo>
                    <a:pt x="3903" y="0"/>
                  </a:lnTo>
                  <a:lnTo>
                    <a:pt x="3856" y="0"/>
                  </a:lnTo>
                  <a:lnTo>
                    <a:pt x="3808" y="0"/>
                  </a:lnTo>
                  <a:lnTo>
                    <a:pt x="3761" y="0"/>
                  </a:lnTo>
                  <a:lnTo>
                    <a:pt x="3713" y="0"/>
                  </a:lnTo>
                  <a:lnTo>
                    <a:pt x="3665" y="0"/>
                  </a:lnTo>
                  <a:lnTo>
                    <a:pt x="3618" y="0"/>
                  </a:lnTo>
                  <a:lnTo>
                    <a:pt x="3570" y="0"/>
                  </a:lnTo>
                  <a:lnTo>
                    <a:pt x="3523" y="0"/>
                  </a:lnTo>
                  <a:lnTo>
                    <a:pt x="3475" y="0"/>
                  </a:lnTo>
                  <a:lnTo>
                    <a:pt x="3428" y="0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6"/>
                  </a:lnTo>
                  <a:lnTo>
                    <a:pt x="1428" y="6"/>
                  </a:lnTo>
                  <a:lnTo>
                    <a:pt x="1380" y="6"/>
                  </a:lnTo>
                  <a:lnTo>
                    <a:pt x="1333" y="7"/>
                  </a:lnTo>
                  <a:lnTo>
                    <a:pt x="1285" y="7"/>
                  </a:lnTo>
                  <a:lnTo>
                    <a:pt x="1238" y="7"/>
                  </a:lnTo>
                  <a:lnTo>
                    <a:pt x="1190" y="320"/>
                  </a:lnTo>
                  <a:lnTo>
                    <a:pt x="1143" y="320"/>
                  </a:lnTo>
                  <a:lnTo>
                    <a:pt x="1095" y="320"/>
                  </a:lnTo>
                  <a:lnTo>
                    <a:pt x="1048" y="657"/>
                  </a:lnTo>
                  <a:lnTo>
                    <a:pt x="1000" y="657"/>
                  </a:lnTo>
                  <a:lnTo>
                    <a:pt x="952" y="657"/>
                  </a:lnTo>
                  <a:lnTo>
                    <a:pt x="905" y="1016"/>
                  </a:lnTo>
                  <a:lnTo>
                    <a:pt x="857" y="1016"/>
                  </a:lnTo>
                  <a:lnTo>
                    <a:pt x="810" y="1016"/>
                  </a:lnTo>
                  <a:lnTo>
                    <a:pt x="762" y="1410"/>
                  </a:lnTo>
                  <a:lnTo>
                    <a:pt x="715" y="1410"/>
                  </a:lnTo>
                  <a:lnTo>
                    <a:pt x="667" y="1410"/>
                  </a:lnTo>
                  <a:lnTo>
                    <a:pt x="620" y="1655"/>
                  </a:lnTo>
                  <a:lnTo>
                    <a:pt x="571" y="1655"/>
                  </a:lnTo>
                  <a:lnTo>
                    <a:pt x="523" y="1655"/>
                  </a:lnTo>
                  <a:lnTo>
                    <a:pt x="476" y="2082"/>
                  </a:lnTo>
                  <a:lnTo>
                    <a:pt x="428" y="2082"/>
                  </a:lnTo>
                  <a:lnTo>
                    <a:pt x="381" y="2082"/>
                  </a:lnTo>
                  <a:lnTo>
                    <a:pt x="333" y="2326"/>
                  </a:lnTo>
                  <a:lnTo>
                    <a:pt x="286" y="2326"/>
                  </a:lnTo>
                  <a:lnTo>
                    <a:pt x="238" y="2326"/>
                  </a:lnTo>
                  <a:lnTo>
                    <a:pt x="190" y="2725"/>
                  </a:lnTo>
                  <a:lnTo>
                    <a:pt x="143" y="2748"/>
                  </a:lnTo>
                  <a:lnTo>
                    <a:pt x="95" y="2770"/>
                  </a:lnTo>
                  <a:lnTo>
                    <a:pt x="4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371600" y="4489560"/>
              <a:ext cx="7481880" cy="1125360"/>
            </a:xfrm>
            <a:custGeom>
              <a:avLst/>
              <a:gdLst/>
              <a:ahLst/>
              <a:rect l="l" t="t" r="r" b="b"/>
              <a:pathLst>
                <a:path w="4713" h="709">
                  <a:moveTo>
                    <a:pt x="0" y="709"/>
                  </a:moveTo>
                  <a:lnTo>
                    <a:pt x="0" y="709"/>
                  </a:lnTo>
                  <a:lnTo>
                    <a:pt x="48" y="709"/>
                  </a:lnTo>
                  <a:lnTo>
                    <a:pt x="95" y="521"/>
                  </a:lnTo>
                  <a:lnTo>
                    <a:pt x="143" y="499"/>
                  </a:lnTo>
                  <a:lnTo>
                    <a:pt x="190" y="476"/>
                  </a:lnTo>
                  <a:lnTo>
                    <a:pt x="238" y="256"/>
                  </a:lnTo>
                  <a:lnTo>
                    <a:pt x="286" y="287"/>
                  </a:lnTo>
                  <a:lnTo>
                    <a:pt x="333" y="310"/>
                  </a:lnTo>
                  <a:lnTo>
                    <a:pt x="381" y="394"/>
                  </a:lnTo>
                  <a:lnTo>
                    <a:pt x="428" y="437"/>
                  </a:lnTo>
                  <a:lnTo>
                    <a:pt x="476" y="437"/>
                  </a:lnTo>
                  <a:lnTo>
                    <a:pt x="523" y="282"/>
                  </a:lnTo>
                  <a:lnTo>
                    <a:pt x="571" y="282"/>
                  </a:lnTo>
                  <a:lnTo>
                    <a:pt x="620" y="282"/>
                  </a:lnTo>
                  <a:lnTo>
                    <a:pt x="667" y="413"/>
                  </a:lnTo>
                  <a:lnTo>
                    <a:pt x="715" y="430"/>
                  </a:lnTo>
                  <a:lnTo>
                    <a:pt x="762" y="430"/>
                  </a:lnTo>
                  <a:lnTo>
                    <a:pt x="810" y="315"/>
                  </a:lnTo>
                  <a:lnTo>
                    <a:pt x="857" y="315"/>
                  </a:lnTo>
                  <a:lnTo>
                    <a:pt x="905" y="315"/>
                  </a:lnTo>
                  <a:lnTo>
                    <a:pt x="952" y="350"/>
                  </a:lnTo>
                  <a:lnTo>
                    <a:pt x="1000" y="350"/>
                  </a:lnTo>
                  <a:lnTo>
                    <a:pt x="1048" y="350"/>
                  </a:lnTo>
                  <a:lnTo>
                    <a:pt x="1095" y="371"/>
                  </a:lnTo>
                  <a:lnTo>
                    <a:pt x="1143" y="371"/>
                  </a:lnTo>
                  <a:lnTo>
                    <a:pt x="1190" y="371"/>
                  </a:lnTo>
                  <a:lnTo>
                    <a:pt x="1238" y="307"/>
                  </a:lnTo>
                  <a:lnTo>
                    <a:pt x="1285" y="309"/>
                  </a:lnTo>
                  <a:lnTo>
                    <a:pt x="1333" y="309"/>
                  </a:lnTo>
                  <a:lnTo>
                    <a:pt x="1380" y="330"/>
                  </a:lnTo>
                  <a:lnTo>
                    <a:pt x="1428" y="373"/>
                  </a:lnTo>
                  <a:lnTo>
                    <a:pt x="1476" y="373"/>
                  </a:lnTo>
                  <a:lnTo>
                    <a:pt x="1523" y="174"/>
                  </a:lnTo>
                  <a:lnTo>
                    <a:pt x="1571" y="199"/>
                  </a:lnTo>
                  <a:lnTo>
                    <a:pt x="1618" y="199"/>
                  </a:lnTo>
                  <a:lnTo>
                    <a:pt x="1666" y="308"/>
                  </a:lnTo>
                  <a:lnTo>
                    <a:pt x="1713" y="373"/>
                  </a:lnTo>
                  <a:lnTo>
                    <a:pt x="1761" y="373"/>
                  </a:lnTo>
                  <a:lnTo>
                    <a:pt x="1810" y="135"/>
                  </a:lnTo>
                  <a:lnTo>
                    <a:pt x="1857" y="135"/>
                  </a:lnTo>
                  <a:lnTo>
                    <a:pt x="1905" y="135"/>
                  </a:lnTo>
                  <a:lnTo>
                    <a:pt x="1952" y="384"/>
                  </a:lnTo>
                  <a:lnTo>
                    <a:pt x="2000" y="450"/>
                  </a:lnTo>
                  <a:lnTo>
                    <a:pt x="2047" y="450"/>
                  </a:lnTo>
                  <a:lnTo>
                    <a:pt x="2095" y="73"/>
                  </a:lnTo>
                  <a:lnTo>
                    <a:pt x="2142" y="73"/>
                  </a:lnTo>
                  <a:lnTo>
                    <a:pt x="2190" y="73"/>
                  </a:lnTo>
                  <a:lnTo>
                    <a:pt x="2238" y="381"/>
                  </a:lnTo>
                  <a:lnTo>
                    <a:pt x="2285" y="447"/>
                  </a:lnTo>
                  <a:lnTo>
                    <a:pt x="2333" y="447"/>
                  </a:lnTo>
                  <a:lnTo>
                    <a:pt x="2380" y="75"/>
                  </a:lnTo>
                  <a:lnTo>
                    <a:pt x="2428" y="75"/>
                  </a:lnTo>
                  <a:lnTo>
                    <a:pt x="2475" y="75"/>
                  </a:lnTo>
                  <a:lnTo>
                    <a:pt x="2523" y="363"/>
                  </a:lnTo>
                  <a:lnTo>
                    <a:pt x="2571" y="438"/>
                  </a:lnTo>
                  <a:lnTo>
                    <a:pt x="2618" y="438"/>
                  </a:lnTo>
                  <a:lnTo>
                    <a:pt x="2666" y="56"/>
                  </a:lnTo>
                  <a:lnTo>
                    <a:pt x="2713" y="56"/>
                  </a:lnTo>
                  <a:lnTo>
                    <a:pt x="2761" y="56"/>
                  </a:lnTo>
                  <a:lnTo>
                    <a:pt x="2808" y="363"/>
                  </a:lnTo>
                  <a:lnTo>
                    <a:pt x="2856" y="441"/>
                  </a:lnTo>
                  <a:lnTo>
                    <a:pt x="2903" y="441"/>
                  </a:lnTo>
                  <a:lnTo>
                    <a:pt x="2952" y="39"/>
                  </a:lnTo>
                  <a:lnTo>
                    <a:pt x="3000" y="41"/>
                  </a:lnTo>
                  <a:lnTo>
                    <a:pt x="3047" y="41"/>
                  </a:lnTo>
                  <a:lnTo>
                    <a:pt x="3095" y="381"/>
                  </a:lnTo>
                  <a:lnTo>
                    <a:pt x="3142" y="450"/>
                  </a:lnTo>
                  <a:lnTo>
                    <a:pt x="3190" y="443"/>
                  </a:lnTo>
                  <a:lnTo>
                    <a:pt x="3237" y="14"/>
                  </a:lnTo>
                  <a:lnTo>
                    <a:pt x="3285" y="14"/>
                  </a:lnTo>
                  <a:lnTo>
                    <a:pt x="3333" y="20"/>
                  </a:lnTo>
                  <a:lnTo>
                    <a:pt x="3380" y="377"/>
                  </a:lnTo>
                  <a:lnTo>
                    <a:pt x="3428" y="459"/>
                  </a:lnTo>
                  <a:lnTo>
                    <a:pt x="3475" y="453"/>
                  </a:lnTo>
                  <a:lnTo>
                    <a:pt x="3523" y="16"/>
                  </a:lnTo>
                  <a:lnTo>
                    <a:pt x="3570" y="16"/>
                  </a:lnTo>
                  <a:lnTo>
                    <a:pt x="3618" y="21"/>
                  </a:lnTo>
                  <a:lnTo>
                    <a:pt x="3665" y="361"/>
                  </a:lnTo>
                  <a:lnTo>
                    <a:pt x="3713" y="446"/>
                  </a:lnTo>
                  <a:lnTo>
                    <a:pt x="3761" y="446"/>
                  </a:lnTo>
                  <a:lnTo>
                    <a:pt x="3808" y="8"/>
                  </a:lnTo>
                  <a:lnTo>
                    <a:pt x="3856" y="8"/>
                  </a:lnTo>
                  <a:lnTo>
                    <a:pt x="3903" y="8"/>
                  </a:lnTo>
                  <a:lnTo>
                    <a:pt x="3951" y="385"/>
                  </a:lnTo>
                  <a:lnTo>
                    <a:pt x="3998" y="461"/>
                  </a:lnTo>
                  <a:lnTo>
                    <a:pt x="4046" y="436"/>
                  </a:lnTo>
                  <a:lnTo>
                    <a:pt x="4094" y="27"/>
                  </a:lnTo>
                  <a:lnTo>
                    <a:pt x="4142" y="29"/>
                  </a:lnTo>
                  <a:lnTo>
                    <a:pt x="4190" y="55"/>
                  </a:lnTo>
                  <a:lnTo>
                    <a:pt x="4237" y="337"/>
                  </a:lnTo>
                  <a:lnTo>
                    <a:pt x="4285" y="421"/>
                  </a:lnTo>
                  <a:lnTo>
                    <a:pt x="4332" y="421"/>
                  </a:lnTo>
                  <a:lnTo>
                    <a:pt x="4380" y="0"/>
                  </a:lnTo>
                  <a:lnTo>
                    <a:pt x="4427" y="10"/>
                  </a:lnTo>
                  <a:lnTo>
                    <a:pt x="4475" y="10"/>
                  </a:lnTo>
                  <a:lnTo>
                    <a:pt x="4523" y="338"/>
                  </a:lnTo>
                  <a:lnTo>
                    <a:pt x="4570" y="423"/>
                  </a:lnTo>
                  <a:lnTo>
                    <a:pt x="4618" y="423"/>
                  </a:lnTo>
                  <a:lnTo>
                    <a:pt x="4665" y="16"/>
                  </a:lnTo>
                  <a:lnTo>
                    <a:pt x="4713" y="20"/>
                  </a:lnTo>
                  <a:lnTo>
                    <a:pt x="4713" y="709"/>
                  </a:lnTo>
                  <a:lnTo>
                    <a:pt x="4665" y="709"/>
                  </a:lnTo>
                  <a:lnTo>
                    <a:pt x="4618" y="709"/>
                  </a:lnTo>
                  <a:lnTo>
                    <a:pt x="4570" y="709"/>
                  </a:lnTo>
                  <a:lnTo>
                    <a:pt x="4523" y="709"/>
                  </a:lnTo>
                  <a:lnTo>
                    <a:pt x="4475" y="709"/>
                  </a:lnTo>
                  <a:lnTo>
                    <a:pt x="4427" y="709"/>
                  </a:lnTo>
                  <a:lnTo>
                    <a:pt x="4380" y="709"/>
                  </a:lnTo>
                  <a:lnTo>
                    <a:pt x="4332" y="709"/>
                  </a:lnTo>
                  <a:lnTo>
                    <a:pt x="4285" y="709"/>
                  </a:lnTo>
                  <a:lnTo>
                    <a:pt x="4237" y="709"/>
                  </a:lnTo>
                  <a:lnTo>
                    <a:pt x="4190" y="709"/>
                  </a:lnTo>
                  <a:lnTo>
                    <a:pt x="4142" y="709"/>
                  </a:lnTo>
                  <a:lnTo>
                    <a:pt x="4094" y="709"/>
                  </a:lnTo>
                  <a:lnTo>
                    <a:pt x="4046" y="709"/>
                  </a:lnTo>
                  <a:lnTo>
                    <a:pt x="3998" y="709"/>
                  </a:lnTo>
                  <a:lnTo>
                    <a:pt x="3951" y="709"/>
                  </a:lnTo>
                  <a:lnTo>
                    <a:pt x="3903" y="709"/>
                  </a:lnTo>
                  <a:lnTo>
                    <a:pt x="3856" y="709"/>
                  </a:lnTo>
                  <a:lnTo>
                    <a:pt x="3808" y="709"/>
                  </a:lnTo>
                  <a:lnTo>
                    <a:pt x="3761" y="709"/>
                  </a:lnTo>
                  <a:lnTo>
                    <a:pt x="3713" y="709"/>
                  </a:lnTo>
                  <a:lnTo>
                    <a:pt x="3665" y="709"/>
                  </a:lnTo>
                  <a:lnTo>
                    <a:pt x="3618" y="709"/>
                  </a:lnTo>
                  <a:lnTo>
                    <a:pt x="3570" y="709"/>
                  </a:lnTo>
                  <a:lnTo>
                    <a:pt x="3523" y="709"/>
                  </a:lnTo>
                  <a:lnTo>
                    <a:pt x="3475" y="709"/>
                  </a:lnTo>
                  <a:lnTo>
                    <a:pt x="3428" y="709"/>
                  </a:lnTo>
                  <a:lnTo>
                    <a:pt x="3380" y="709"/>
                  </a:lnTo>
                  <a:lnTo>
                    <a:pt x="3333" y="709"/>
                  </a:lnTo>
                  <a:lnTo>
                    <a:pt x="3285" y="709"/>
                  </a:lnTo>
                  <a:lnTo>
                    <a:pt x="3237" y="709"/>
                  </a:lnTo>
                  <a:lnTo>
                    <a:pt x="3190" y="709"/>
                  </a:lnTo>
                  <a:lnTo>
                    <a:pt x="3142" y="709"/>
                  </a:lnTo>
                  <a:lnTo>
                    <a:pt x="3095" y="709"/>
                  </a:lnTo>
                  <a:lnTo>
                    <a:pt x="3047" y="709"/>
                  </a:lnTo>
                  <a:lnTo>
                    <a:pt x="3000" y="709"/>
                  </a:lnTo>
                  <a:lnTo>
                    <a:pt x="2952" y="709"/>
                  </a:lnTo>
                  <a:lnTo>
                    <a:pt x="2903" y="709"/>
                  </a:lnTo>
                  <a:lnTo>
                    <a:pt x="2856" y="709"/>
                  </a:lnTo>
                  <a:lnTo>
                    <a:pt x="2808" y="709"/>
                  </a:lnTo>
                  <a:lnTo>
                    <a:pt x="2761" y="709"/>
                  </a:lnTo>
                  <a:lnTo>
                    <a:pt x="2713" y="709"/>
                  </a:lnTo>
                  <a:lnTo>
                    <a:pt x="2666" y="709"/>
                  </a:lnTo>
                  <a:lnTo>
                    <a:pt x="2618" y="709"/>
                  </a:lnTo>
                  <a:lnTo>
                    <a:pt x="2571" y="709"/>
                  </a:lnTo>
                  <a:lnTo>
                    <a:pt x="2523" y="709"/>
                  </a:lnTo>
                  <a:lnTo>
                    <a:pt x="2475" y="709"/>
                  </a:lnTo>
                  <a:lnTo>
                    <a:pt x="2428" y="709"/>
                  </a:lnTo>
                  <a:lnTo>
                    <a:pt x="2380" y="709"/>
                  </a:lnTo>
                  <a:lnTo>
                    <a:pt x="2333" y="709"/>
                  </a:lnTo>
                  <a:lnTo>
                    <a:pt x="2285" y="709"/>
                  </a:lnTo>
                  <a:lnTo>
                    <a:pt x="2238" y="709"/>
                  </a:lnTo>
                  <a:lnTo>
                    <a:pt x="2190" y="709"/>
                  </a:lnTo>
                  <a:lnTo>
                    <a:pt x="2142" y="709"/>
                  </a:lnTo>
                  <a:lnTo>
                    <a:pt x="2095" y="709"/>
                  </a:lnTo>
                  <a:lnTo>
                    <a:pt x="2047" y="709"/>
                  </a:lnTo>
                  <a:lnTo>
                    <a:pt x="2000" y="709"/>
                  </a:lnTo>
                  <a:lnTo>
                    <a:pt x="1952" y="709"/>
                  </a:lnTo>
                  <a:lnTo>
                    <a:pt x="1905" y="709"/>
                  </a:lnTo>
                  <a:lnTo>
                    <a:pt x="1857" y="709"/>
                  </a:lnTo>
                  <a:lnTo>
                    <a:pt x="1810" y="709"/>
                  </a:lnTo>
                  <a:lnTo>
                    <a:pt x="1761" y="709"/>
                  </a:lnTo>
                  <a:lnTo>
                    <a:pt x="1713" y="709"/>
                  </a:lnTo>
                  <a:lnTo>
                    <a:pt x="1666" y="709"/>
                  </a:lnTo>
                  <a:lnTo>
                    <a:pt x="1618" y="709"/>
                  </a:lnTo>
                  <a:lnTo>
                    <a:pt x="1571" y="709"/>
                  </a:lnTo>
                  <a:lnTo>
                    <a:pt x="1523" y="709"/>
                  </a:lnTo>
                  <a:lnTo>
                    <a:pt x="1476" y="709"/>
                  </a:lnTo>
                  <a:lnTo>
                    <a:pt x="1428" y="709"/>
                  </a:lnTo>
                  <a:lnTo>
                    <a:pt x="1380" y="709"/>
                  </a:lnTo>
                  <a:lnTo>
                    <a:pt x="1333" y="709"/>
                  </a:lnTo>
                  <a:lnTo>
                    <a:pt x="1285" y="709"/>
                  </a:lnTo>
                  <a:lnTo>
                    <a:pt x="1238" y="709"/>
                  </a:lnTo>
                  <a:lnTo>
                    <a:pt x="1190" y="709"/>
                  </a:lnTo>
                  <a:lnTo>
                    <a:pt x="1143" y="709"/>
                  </a:lnTo>
                  <a:lnTo>
                    <a:pt x="1095" y="709"/>
                  </a:lnTo>
                  <a:lnTo>
                    <a:pt x="1048" y="709"/>
                  </a:lnTo>
                  <a:lnTo>
                    <a:pt x="1000" y="709"/>
                  </a:lnTo>
                  <a:lnTo>
                    <a:pt x="952" y="709"/>
                  </a:lnTo>
                  <a:lnTo>
                    <a:pt x="905" y="709"/>
                  </a:lnTo>
                  <a:lnTo>
                    <a:pt x="857" y="709"/>
                  </a:lnTo>
                  <a:lnTo>
                    <a:pt x="810" y="709"/>
                  </a:lnTo>
                  <a:lnTo>
                    <a:pt x="762" y="709"/>
                  </a:lnTo>
                  <a:lnTo>
                    <a:pt x="715" y="709"/>
                  </a:lnTo>
                  <a:lnTo>
                    <a:pt x="667" y="709"/>
                  </a:lnTo>
                  <a:lnTo>
                    <a:pt x="620" y="709"/>
                  </a:lnTo>
                  <a:lnTo>
                    <a:pt x="571" y="709"/>
                  </a:lnTo>
                  <a:lnTo>
                    <a:pt x="523" y="709"/>
                  </a:lnTo>
                  <a:lnTo>
                    <a:pt x="476" y="709"/>
                  </a:lnTo>
                  <a:lnTo>
                    <a:pt x="428" y="709"/>
                  </a:lnTo>
                  <a:lnTo>
                    <a:pt x="381" y="709"/>
                  </a:lnTo>
                  <a:lnTo>
                    <a:pt x="333" y="709"/>
                  </a:lnTo>
                  <a:lnTo>
                    <a:pt x="286" y="709"/>
                  </a:lnTo>
                  <a:lnTo>
                    <a:pt x="238" y="709"/>
                  </a:lnTo>
                  <a:lnTo>
                    <a:pt x="190" y="709"/>
                  </a:lnTo>
                  <a:lnTo>
                    <a:pt x="143" y="709"/>
                  </a:lnTo>
                  <a:lnTo>
                    <a:pt x="95" y="709"/>
                  </a:lnTo>
                  <a:lnTo>
                    <a:pt x="48" y="709"/>
                  </a:lnTo>
                  <a:lnTo>
                    <a:pt x="0" y="7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371600" y="2463840"/>
              <a:ext cx="7481880" cy="3151080"/>
            </a:xfrm>
            <a:custGeom>
              <a:avLst/>
              <a:gdLst/>
              <a:ahLst/>
              <a:rect l="l" t="t" r="r" b="b"/>
              <a:pathLst>
                <a:path w="4713" h="1985">
                  <a:moveTo>
                    <a:pt x="0" y="1985"/>
                  </a:moveTo>
                  <a:lnTo>
                    <a:pt x="0" y="1985"/>
                  </a:lnTo>
                  <a:lnTo>
                    <a:pt x="48" y="1985"/>
                  </a:lnTo>
                  <a:lnTo>
                    <a:pt x="95" y="1797"/>
                  </a:lnTo>
                  <a:lnTo>
                    <a:pt x="143" y="1775"/>
                  </a:lnTo>
                  <a:lnTo>
                    <a:pt x="190" y="1752"/>
                  </a:lnTo>
                  <a:lnTo>
                    <a:pt x="238" y="1353"/>
                  </a:lnTo>
                  <a:lnTo>
                    <a:pt x="286" y="1353"/>
                  </a:lnTo>
                  <a:lnTo>
                    <a:pt x="333" y="1353"/>
                  </a:lnTo>
                  <a:lnTo>
                    <a:pt x="381" y="1109"/>
                  </a:lnTo>
                  <a:lnTo>
                    <a:pt x="428" y="1109"/>
                  </a:lnTo>
                  <a:lnTo>
                    <a:pt x="476" y="1109"/>
                  </a:lnTo>
                  <a:lnTo>
                    <a:pt x="523" y="682"/>
                  </a:lnTo>
                  <a:lnTo>
                    <a:pt x="571" y="682"/>
                  </a:lnTo>
                  <a:lnTo>
                    <a:pt x="620" y="682"/>
                  </a:lnTo>
                  <a:lnTo>
                    <a:pt x="667" y="589"/>
                  </a:lnTo>
                  <a:lnTo>
                    <a:pt x="715" y="615"/>
                  </a:lnTo>
                  <a:lnTo>
                    <a:pt x="762" y="634"/>
                  </a:lnTo>
                  <a:lnTo>
                    <a:pt x="810" y="582"/>
                  </a:lnTo>
                  <a:lnTo>
                    <a:pt x="857" y="623"/>
                  </a:lnTo>
                  <a:lnTo>
                    <a:pt x="905" y="623"/>
                  </a:lnTo>
                  <a:lnTo>
                    <a:pt x="952" y="525"/>
                  </a:lnTo>
                  <a:lnTo>
                    <a:pt x="1000" y="525"/>
                  </a:lnTo>
                  <a:lnTo>
                    <a:pt x="1048" y="525"/>
                  </a:lnTo>
                  <a:lnTo>
                    <a:pt x="1095" y="598"/>
                  </a:lnTo>
                  <a:lnTo>
                    <a:pt x="1143" y="614"/>
                  </a:lnTo>
                  <a:lnTo>
                    <a:pt x="1190" y="614"/>
                  </a:lnTo>
                  <a:lnTo>
                    <a:pt x="1238" y="500"/>
                  </a:lnTo>
                  <a:lnTo>
                    <a:pt x="1285" y="500"/>
                  </a:lnTo>
                  <a:lnTo>
                    <a:pt x="1333" y="500"/>
                  </a:lnTo>
                  <a:lnTo>
                    <a:pt x="1380" y="634"/>
                  </a:lnTo>
                  <a:lnTo>
                    <a:pt x="1428" y="634"/>
                  </a:lnTo>
                  <a:lnTo>
                    <a:pt x="1476" y="634"/>
                  </a:lnTo>
                  <a:lnTo>
                    <a:pt x="1523" y="485"/>
                  </a:lnTo>
                  <a:lnTo>
                    <a:pt x="1571" y="485"/>
                  </a:lnTo>
                  <a:lnTo>
                    <a:pt x="1618" y="485"/>
                  </a:lnTo>
                  <a:lnTo>
                    <a:pt x="1666" y="527"/>
                  </a:lnTo>
                  <a:lnTo>
                    <a:pt x="1713" y="528"/>
                  </a:lnTo>
                  <a:lnTo>
                    <a:pt x="1761" y="528"/>
                  </a:lnTo>
                  <a:lnTo>
                    <a:pt x="1810" y="240"/>
                  </a:lnTo>
                  <a:lnTo>
                    <a:pt x="1857" y="274"/>
                  </a:lnTo>
                  <a:lnTo>
                    <a:pt x="1905" y="274"/>
                  </a:lnTo>
                  <a:lnTo>
                    <a:pt x="1952" y="382"/>
                  </a:lnTo>
                  <a:lnTo>
                    <a:pt x="2000" y="402"/>
                  </a:lnTo>
                  <a:lnTo>
                    <a:pt x="2047" y="402"/>
                  </a:lnTo>
                  <a:lnTo>
                    <a:pt x="2095" y="165"/>
                  </a:lnTo>
                  <a:lnTo>
                    <a:pt x="2142" y="220"/>
                  </a:lnTo>
                  <a:lnTo>
                    <a:pt x="2190" y="220"/>
                  </a:lnTo>
                  <a:lnTo>
                    <a:pt x="2238" y="353"/>
                  </a:lnTo>
                  <a:lnTo>
                    <a:pt x="2285" y="353"/>
                  </a:lnTo>
                  <a:lnTo>
                    <a:pt x="2333" y="353"/>
                  </a:lnTo>
                  <a:lnTo>
                    <a:pt x="2380" y="167"/>
                  </a:lnTo>
                  <a:lnTo>
                    <a:pt x="2428" y="223"/>
                  </a:lnTo>
                  <a:lnTo>
                    <a:pt x="2475" y="223"/>
                  </a:lnTo>
                  <a:lnTo>
                    <a:pt x="2523" y="284"/>
                  </a:lnTo>
                  <a:lnTo>
                    <a:pt x="2571" y="284"/>
                  </a:lnTo>
                  <a:lnTo>
                    <a:pt x="2618" y="284"/>
                  </a:lnTo>
                  <a:lnTo>
                    <a:pt x="2666" y="136"/>
                  </a:lnTo>
                  <a:lnTo>
                    <a:pt x="2713" y="193"/>
                  </a:lnTo>
                  <a:lnTo>
                    <a:pt x="2761" y="193"/>
                  </a:lnTo>
                  <a:lnTo>
                    <a:pt x="2808" y="268"/>
                  </a:lnTo>
                  <a:lnTo>
                    <a:pt x="2856" y="268"/>
                  </a:lnTo>
                  <a:lnTo>
                    <a:pt x="2903" y="268"/>
                  </a:lnTo>
                  <a:lnTo>
                    <a:pt x="2952" y="98"/>
                  </a:lnTo>
                  <a:lnTo>
                    <a:pt x="3000" y="163"/>
                  </a:lnTo>
                  <a:lnTo>
                    <a:pt x="3047" y="163"/>
                  </a:lnTo>
                  <a:lnTo>
                    <a:pt x="3095" y="241"/>
                  </a:lnTo>
                  <a:lnTo>
                    <a:pt x="3142" y="241"/>
                  </a:lnTo>
                  <a:lnTo>
                    <a:pt x="3190" y="234"/>
                  </a:lnTo>
                  <a:lnTo>
                    <a:pt x="3237" y="55"/>
                  </a:lnTo>
                  <a:lnTo>
                    <a:pt x="3285" y="124"/>
                  </a:lnTo>
                  <a:lnTo>
                    <a:pt x="3333" y="124"/>
                  </a:lnTo>
                  <a:lnTo>
                    <a:pt x="3380" y="209"/>
                  </a:lnTo>
                  <a:lnTo>
                    <a:pt x="3428" y="210"/>
                  </a:lnTo>
                  <a:lnTo>
                    <a:pt x="3475" y="205"/>
                  </a:lnTo>
                  <a:lnTo>
                    <a:pt x="3523" y="54"/>
                  </a:lnTo>
                  <a:lnTo>
                    <a:pt x="3570" y="115"/>
                  </a:lnTo>
                  <a:lnTo>
                    <a:pt x="3618" y="115"/>
                  </a:lnTo>
                  <a:lnTo>
                    <a:pt x="3665" y="196"/>
                  </a:lnTo>
                  <a:lnTo>
                    <a:pt x="3713" y="196"/>
                  </a:lnTo>
                  <a:lnTo>
                    <a:pt x="3761" y="201"/>
                  </a:lnTo>
                  <a:lnTo>
                    <a:pt x="3808" y="39"/>
                  </a:lnTo>
                  <a:lnTo>
                    <a:pt x="3856" y="110"/>
                  </a:lnTo>
                  <a:lnTo>
                    <a:pt x="3903" y="110"/>
                  </a:lnTo>
                  <a:lnTo>
                    <a:pt x="3951" y="188"/>
                  </a:lnTo>
                  <a:lnTo>
                    <a:pt x="3998" y="188"/>
                  </a:lnTo>
                  <a:lnTo>
                    <a:pt x="4046" y="168"/>
                  </a:lnTo>
                  <a:lnTo>
                    <a:pt x="4094" y="57"/>
                  </a:lnTo>
                  <a:lnTo>
                    <a:pt x="4142" y="131"/>
                  </a:lnTo>
                  <a:lnTo>
                    <a:pt x="4190" y="131"/>
                  </a:lnTo>
                  <a:lnTo>
                    <a:pt x="4237" y="197"/>
                  </a:lnTo>
                  <a:lnTo>
                    <a:pt x="4285" y="198"/>
                  </a:lnTo>
                  <a:lnTo>
                    <a:pt x="4332" y="198"/>
                  </a:lnTo>
                  <a:lnTo>
                    <a:pt x="4380" y="77"/>
                  </a:lnTo>
                  <a:lnTo>
                    <a:pt x="4427" y="141"/>
                  </a:lnTo>
                  <a:lnTo>
                    <a:pt x="4475" y="141"/>
                  </a:lnTo>
                  <a:lnTo>
                    <a:pt x="4523" y="178"/>
                  </a:lnTo>
                  <a:lnTo>
                    <a:pt x="4570" y="180"/>
                  </a:lnTo>
                  <a:lnTo>
                    <a:pt x="4618" y="199"/>
                  </a:lnTo>
                  <a:lnTo>
                    <a:pt x="4665" y="0"/>
                  </a:lnTo>
                  <a:lnTo>
                    <a:pt x="4713" y="70"/>
                  </a:lnTo>
                  <a:lnTo>
                    <a:pt x="4713" y="1296"/>
                  </a:lnTo>
                  <a:lnTo>
                    <a:pt x="4665" y="1292"/>
                  </a:lnTo>
                  <a:lnTo>
                    <a:pt x="4618" y="1699"/>
                  </a:lnTo>
                  <a:lnTo>
                    <a:pt x="4570" y="1699"/>
                  </a:lnTo>
                  <a:lnTo>
                    <a:pt x="4523" y="1614"/>
                  </a:lnTo>
                  <a:lnTo>
                    <a:pt x="4475" y="1286"/>
                  </a:lnTo>
                  <a:lnTo>
                    <a:pt x="4427" y="1286"/>
                  </a:lnTo>
                  <a:lnTo>
                    <a:pt x="4380" y="1276"/>
                  </a:lnTo>
                  <a:lnTo>
                    <a:pt x="4332" y="1697"/>
                  </a:lnTo>
                  <a:lnTo>
                    <a:pt x="4285" y="1697"/>
                  </a:lnTo>
                  <a:lnTo>
                    <a:pt x="4237" y="1613"/>
                  </a:lnTo>
                  <a:lnTo>
                    <a:pt x="4190" y="1331"/>
                  </a:lnTo>
                  <a:lnTo>
                    <a:pt x="4142" y="1305"/>
                  </a:lnTo>
                  <a:lnTo>
                    <a:pt x="4094" y="1303"/>
                  </a:lnTo>
                  <a:lnTo>
                    <a:pt x="4046" y="1712"/>
                  </a:lnTo>
                  <a:lnTo>
                    <a:pt x="3998" y="1737"/>
                  </a:lnTo>
                  <a:lnTo>
                    <a:pt x="3951" y="1661"/>
                  </a:lnTo>
                  <a:lnTo>
                    <a:pt x="3903" y="1284"/>
                  </a:lnTo>
                  <a:lnTo>
                    <a:pt x="3856" y="1284"/>
                  </a:lnTo>
                  <a:lnTo>
                    <a:pt x="3808" y="1284"/>
                  </a:lnTo>
                  <a:lnTo>
                    <a:pt x="3761" y="1722"/>
                  </a:lnTo>
                  <a:lnTo>
                    <a:pt x="3713" y="1722"/>
                  </a:lnTo>
                  <a:lnTo>
                    <a:pt x="3665" y="1637"/>
                  </a:lnTo>
                  <a:lnTo>
                    <a:pt x="3618" y="1297"/>
                  </a:lnTo>
                  <a:lnTo>
                    <a:pt x="3570" y="1292"/>
                  </a:lnTo>
                  <a:lnTo>
                    <a:pt x="3523" y="1292"/>
                  </a:lnTo>
                  <a:lnTo>
                    <a:pt x="3475" y="1729"/>
                  </a:lnTo>
                  <a:lnTo>
                    <a:pt x="3428" y="1735"/>
                  </a:lnTo>
                  <a:lnTo>
                    <a:pt x="3380" y="1653"/>
                  </a:lnTo>
                  <a:lnTo>
                    <a:pt x="3333" y="1296"/>
                  </a:lnTo>
                  <a:lnTo>
                    <a:pt x="3285" y="1290"/>
                  </a:lnTo>
                  <a:lnTo>
                    <a:pt x="3237" y="1290"/>
                  </a:lnTo>
                  <a:lnTo>
                    <a:pt x="3190" y="1719"/>
                  </a:lnTo>
                  <a:lnTo>
                    <a:pt x="3142" y="1726"/>
                  </a:lnTo>
                  <a:lnTo>
                    <a:pt x="3095" y="1657"/>
                  </a:lnTo>
                  <a:lnTo>
                    <a:pt x="3047" y="1317"/>
                  </a:lnTo>
                  <a:lnTo>
                    <a:pt x="3000" y="1317"/>
                  </a:lnTo>
                  <a:lnTo>
                    <a:pt x="2952" y="1315"/>
                  </a:lnTo>
                  <a:lnTo>
                    <a:pt x="2903" y="1717"/>
                  </a:lnTo>
                  <a:lnTo>
                    <a:pt x="2856" y="1717"/>
                  </a:lnTo>
                  <a:lnTo>
                    <a:pt x="2808" y="1639"/>
                  </a:lnTo>
                  <a:lnTo>
                    <a:pt x="2761" y="1332"/>
                  </a:lnTo>
                  <a:lnTo>
                    <a:pt x="2713" y="1332"/>
                  </a:lnTo>
                  <a:lnTo>
                    <a:pt x="2666" y="1332"/>
                  </a:lnTo>
                  <a:lnTo>
                    <a:pt x="2618" y="1714"/>
                  </a:lnTo>
                  <a:lnTo>
                    <a:pt x="2571" y="1714"/>
                  </a:lnTo>
                  <a:lnTo>
                    <a:pt x="2523" y="1639"/>
                  </a:lnTo>
                  <a:lnTo>
                    <a:pt x="2475" y="1351"/>
                  </a:lnTo>
                  <a:lnTo>
                    <a:pt x="2428" y="1351"/>
                  </a:lnTo>
                  <a:lnTo>
                    <a:pt x="2380" y="1351"/>
                  </a:lnTo>
                  <a:lnTo>
                    <a:pt x="2333" y="1723"/>
                  </a:lnTo>
                  <a:lnTo>
                    <a:pt x="2285" y="1723"/>
                  </a:lnTo>
                  <a:lnTo>
                    <a:pt x="2238" y="1657"/>
                  </a:lnTo>
                  <a:lnTo>
                    <a:pt x="2190" y="1349"/>
                  </a:lnTo>
                  <a:lnTo>
                    <a:pt x="2142" y="1349"/>
                  </a:lnTo>
                  <a:lnTo>
                    <a:pt x="2095" y="1349"/>
                  </a:lnTo>
                  <a:lnTo>
                    <a:pt x="2047" y="1726"/>
                  </a:lnTo>
                  <a:lnTo>
                    <a:pt x="2000" y="1726"/>
                  </a:lnTo>
                  <a:lnTo>
                    <a:pt x="1952" y="1660"/>
                  </a:lnTo>
                  <a:lnTo>
                    <a:pt x="1905" y="1411"/>
                  </a:lnTo>
                  <a:lnTo>
                    <a:pt x="1857" y="1411"/>
                  </a:lnTo>
                  <a:lnTo>
                    <a:pt x="1810" y="1411"/>
                  </a:lnTo>
                  <a:lnTo>
                    <a:pt x="1761" y="1649"/>
                  </a:lnTo>
                  <a:lnTo>
                    <a:pt x="1713" y="1649"/>
                  </a:lnTo>
                  <a:lnTo>
                    <a:pt x="1666" y="1584"/>
                  </a:lnTo>
                  <a:lnTo>
                    <a:pt x="1618" y="1475"/>
                  </a:lnTo>
                  <a:lnTo>
                    <a:pt x="1571" y="1475"/>
                  </a:lnTo>
                  <a:lnTo>
                    <a:pt x="1523" y="1450"/>
                  </a:lnTo>
                  <a:lnTo>
                    <a:pt x="1476" y="1649"/>
                  </a:lnTo>
                  <a:lnTo>
                    <a:pt x="1428" y="1649"/>
                  </a:lnTo>
                  <a:lnTo>
                    <a:pt x="1380" y="1606"/>
                  </a:lnTo>
                  <a:lnTo>
                    <a:pt x="1333" y="1585"/>
                  </a:lnTo>
                  <a:lnTo>
                    <a:pt x="1285" y="1585"/>
                  </a:lnTo>
                  <a:lnTo>
                    <a:pt x="1238" y="1583"/>
                  </a:lnTo>
                  <a:lnTo>
                    <a:pt x="1190" y="1647"/>
                  </a:lnTo>
                  <a:lnTo>
                    <a:pt x="1143" y="1647"/>
                  </a:lnTo>
                  <a:lnTo>
                    <a:pt x="1095" y="1647"/>
                  </a:lnTo>
                  <a:lnTo>
                    <a:pt x="1048" y="1626"/>
                  </a:lnTo>
                  <a:lnTo>
                    <a:pt x="1000" y="1626"/>
                  </a:lnTo>
                  <a:lnTo>
                    <a:pt x="952" y="1626"/>
                  </a:lnTo>
                  <a:lnTo>
                    <a:pt x="905" y="1591"/>
                  </a:lnTo>
                  <a:lnTo>
                    <a:pt x="857" y="1591"/>
                  </a:lnTo>
                  <a:lnTo>
                    <a:pt x="810" y="1591"/>
                  </a:lnTo>
                  <a:lnTo>
                    <a:pt x="762" y="1706"/>
                  </a:lnTo>
                  <a:lnTo>
                    <a:pt x="715" y="1706"/>
                  </a:lnTo>
                  <a:lnTo>
                    <a:pt x="667" y="1689"/>
                  </a:lnTo>
                  <a:lnTo>
                    <a:pt x="620" y="1558"/>
                  </a:lnTo>
                  <a:lnTo>
                    <a:pt x="571" y="1558"/>
                  </a:lnTo>
                  <a:lnTo>
                    <a:pt x="523" y="1558"/>
                  </a:lnTo>
                  <a:lnTo>
                    <a:pt x="476" y="1713"/>
                  </a:lnTo>
                  <a:lnTo>
                    <a:pt x="428" y="1713"/>
                  </a:lnTo>
                  <a:lnTo>
                    <a:pt x="381" y="1670"/>
                  </a:lnTo>
                  <a:lnTo>
                    <a:pt x="333" y="1586"/>
                  </a:lnTo>
                  <a:lnTo>
                    <a:pt x="286" y="1563"/>
                  </a:lnTo>
                  <a:lnTo>
                    <a:pt x="238" y="1532"/>
                  </a:lnTo>
                  <a:lnTo>
                    <a:pt x="190" y="1752"/>
                  </a:lnTo>
                  <a:lnTo>
                    <a:pt x="143" y="1775"/>
                  </a:lnTo>
                  <a:lnTo>
                    <a:pt x="95" y="1797"/>
                  </a:lnTo>
                  <a:lnTo>
                    <a:pt x="48" y="1985"/>
                  </a:lnTo>
                  <a:lnTo>
                    <a:pt x="0" y="198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371600" y="930240"/>
              <a:ext cx="7481880" cy="4684680"/>
            </a:xfrm>
            <a:custGeom>
              <a:avLst/>
              <a:gdLst/>
              <a:ahLst/>
              <a:rect l="l" t="t" r="r" b="b"/>
              <a:pathLst>
                <a:path w="4713" h="2951">
                  <a:moveTo>
                    <a:pt x="0" y="2951"/>
                  </a:moveTo>
                  <a:lnTo>
                    <a:pt x="0" y="2951"/>
                  </a:lnTo>
                  <a:lnTo>
                    <a:pt x="48" y="2951"/>
                  </a:lnTo>
                  <a:lnTo>
                    <a:pt x="95" y="2763"/>
                  </a:lnTo>
                  <a:lnTo>
                    <a:pt x="143" y="2741"/>
                  </a:lnTo>
                  <a:lnTo>
                    <a:pt x="190" y="2718"/>
                  </a:lnTo>
                  <a:lnTo>
                    <a:pt x="238" y="2319"/>
                  </a:lnTo>
                  <a:lnTo>
                    <a:pt x="286" y="2319"/>
                  </a:lnTo>
                  <a:lnTo>
                    <a:pt x="333" y="2319"/>
                  </a:lnTo>
                  <a:lnTo>
                    <a:pt x="381" y="2075"/>
                  </a:lnTo>
                  <a:lnTo>
                    <a:pt x="428" y="2075"/>
                  </a:lnTo>
                  <a:lnTo>
                    <a:pt x="476" y="2075"/>
                  </a:lnTo>
                  <a:lnTo>
                    <a:pt x="523" y="1648"/>
                  </a:lnTo>
                  <a:lnTo>
                    <a:pt x="571" y="1648"/>
                  </a:lnTo>
                  <a:lnTo>
                    <a:pt x="620" y="1648"/>
                  </a:lnTo>
                  <a:lnTo>
                    <a:pt x="667" y="1403"/>
                  </a:lnTo>
                  <a:lnTo>
                    <a:pt x="715" y="1403"/>
                  </a:lnTo>
                  <a:lnTo>
                    <a:pt x="762" y="1403"/>
                  </a:lnTo>
                  <a:lnTo>
                    <a:pt x="810" y="1009"/>
                  </a:lnTo>
                  <a:lnTo>
                    <a:pt x="857" y="1009"/>
                  </a:lnTo>
                  <a:lnTo>
                    <a:pt x="905" y="1009"/>
                  </a:lnTo>
                  <a:lnTo>
                    <a:pt x="952" y="650"/>
                  </a:lnTo>
                  <a:lnTo>
                    <a:pt x="1000" y="650"/>
                  </a:lnTo>
                  <a:lnTo>
                    <a:pt x="1048" y="650"/>
                  </a:lnTo>
                  <a:lnTo>
                    <a:pt x="1095" y="313"/>
                  </a:lnTo>
                  <a:lnTo>
                    <a:pt x="1143" y="313"/>
                  </a:lnTo>
                  <a:lnTo>
                    <a:pt x="1190" y="313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85"/>
                  </a:lnTo>
                  <a:lnTo>
                    <a:pt x="1428" y="102"/>
                  </a:lnTo>
                  <a:lnTo>
                    <a:pt x="1476" y="115"/>
                  </a:lnTo>
                  <a:lnTo>
                    <a:pt x="1523" y="197"/>
                  </a:lnTo>
                  <a:lnTo>
                    <a:pt x="1571" y="218"/>
                  </a:lnTo>
                  <a:lnTo>
                    <a:pt x="1618" y="218"/>
                  </a:lnTo>
                  <a:lnTo>
                    <a:pt x="1666" y="320"/>
                  </a:lnTo>
                  <a:lnTo>
                    <a:pt x="1713" y="320"/>
                  </a:lnTo>
                  <a:lnTo>
                    <a:pt x="1761" y="320"/>
                  </a:lnTo>
                  <a:lnTo>
                    <a:pt x="1810" y="214"/>
                  </a:lnTo>
                  <a:lnTo>
                    <a:pt x="1857" y="218"/>
                  </a:lnTo>
                  <a:lnTo>
                    <a:pt x="1905" y="218"/>
                  </a:lnTo>
                  <a:lnTo>
                    <a:pt x="1952" y="273"/>
                  </a:lnTo>
                  <a:lnTo>
                    <a:pt x="2000" y="273"/>
                  </a:lnTo>
                  <a:lnTo>
                    <a:pt x="2047" y="273"/>
                  </a:lnTo>
                  <a:lnTo>
                    <a:pt x="2095" y="111"/>
                  </a:lnTo>
                  <a:lnTo>
                    <a:pt x="2142" y="111"/>
                  </a:lnTo>
                  <a:lnTo>
                    <a:pt x="2190" y="111"/>
                  </a:lnTo>
                  <a:lnTo>
                    <a:pt x="2238" y="150"/>
                  </a:lnTo>
                  <a:lnTo>
                    <a:pt x="2285" y="150"/>
                  </a:lnTo>
                  <a:lnTo>
                    <a:pt x="2333" y="150"/>
                  </a:lnTo>
                  <a:lnTo>
                    <a:pt x="2380" y="46"/>
                  </a:lnTo>
                  <a:lnTo>
                    <a:pt x="2428" y="46"/>
                  </a:lnTo>
                  <a:lnTo>
                    <a:pt x="2475" y="46"/>
                  </a:lnTo>
                  <a:lnTo>
                    <a:pt x="2523" y="114"/>
                  </a:lnTo>
                  <a:lnTo>
                    <a:pt x="2571" y="126"/>
                  </a:lnTo>
                  <a:lnTo>
                    <a:pt x="2618" y="126"/>
                  </a:lnTo>
                  <a:lnTo>
                    <a:pt x="2666" y="48"/>
                  </a:lnTo>
                  <a:lnTo>
                    <a:pt x="2713" y="52"/>
                  </a:lnTo>
                  <a:lnTo>
                    <a:pt x="2761" y="52"/>
                  </a:lnTo>
                  <a:lnTo>
                    <a:pt x="2808" y="78"/>
                  </a:lnTo>
                  <a:lnTo>
                    <a:pt x="2856" y="85"/>
                  </a:lnTo>
                  <a:lnTo>
                    <a:pt x="2903" y="85"/>
                  </a:lnTo>
                  <a:lnTo>
                    <a:pt x="2952" y="35"/>
                  </a:lnTo>
                  <a:lnTo>
                    <a:pt x="3000" y="35"/>
                  </a:lnTo>
                  <a:lnTo>
                    <a:pt x="3047" y="35"/>
                  </a:lnTo>
                  <a:lnTo>
                    <a:pt x="3095" y="34"/>
                  </a:lnTo>
                  <a:lnTo>
                    <a:pt x="3142" y="37"/>
                  </a:lnTo>
                  <a:lnTo>
                    <a:pt x="3190" y="37"/>
                  </a:lnTo>
                  <a:lnTo>
                    <a:pt x="3237" y="20"/>
                  </a:lnTo>
                  <a:lnTo>
                    <a:pt x="3285" y="20"/>
                  </a:lnTo>
                  <a:lnTo>
                    <a:pt x="3333" y="20"/>
                  </a:lnTo>
                  <a:lnTo>
                    <a:pt x="3380" y="61"/>
                  </a:lnTo>
                  <a:lnTo>
                    <a:pt x="3428" y="73"/>
                  </a:lnTo>
                  <a:lnTo>
                    <a:pt x="3475" y="73"/>
                  </a:lnTo>
                  <a:lnTo>
                    <a:pt x="3523" y="22"/>
                  </a:lnTo>
                  <a:lnTo>
                    <a:pt x="3570" y="22"/>
                  </a:lnTo>
                  <a:lnTo>
                    <a:pt x="3618" y="22"/>
                  </a:lnTo>
                  <a:lnTo>
                    <a:pt x="3665" y="54"/>
                  </a:lnTo>
                  <a:lnTo>
                    <a:pt x="3713" y="65"/>
                  </a:lnTo>
                  <a:lnTo>
                    <a:pt x="3761" y="65"/>
                  </a:lnTo>
                  <a:lnTo>
                    <a:pt x="3808" y="13"/>
                  </a:lnTo>
                  <a:lnTo>
                    <a:pt x="3856" y="13"/>
                  </a:lnTo>
                  <a:lnTo>
                    <a:pt x="3903" y="13"/>
                  </a:lnTo>
                  <a:lnTo>
                    <a:pt x="3951" y="36"/>
                  </a:lnTo>
                  <a:lnTo>
                    <a:pt x="3998" y="44"/>
                  </a:lnTo>
                  <a:lnTo>
                    <a:pt x="4046" y="42"/>
                  </a:lnTo>
                  <a:lnTo>
                    <a:pt x="4094" y="15"/>
                  </a:lnTo>
                  <a:lnTo>
                    <a:pt x="4142" y="16"/>
                  </a:lnTo>
                  <a:lnTo>
                    <a:pt x="4190" y="16"/>
                  </a:lnTo>
                  <a:lnTo>
                    <a:pt x="4237" y="38"/>
                  </a:lnTo>
                  <a:lnTo>
                    <a:pt x="4285" y="44"/>
                  </a:lnTo>
                  <a:lnTo>
                    <a:pt x="4332" y="44"/>
                  </a:lnTo>
                  <a:lnTo>
                    <a:pt x="4380" y="21"/>
                  </a:lnTo>
                  <a:lnTo>
                    <a:pt x="4427" y="21"/>
                  </a:lnTo>
                  <a:lnTo>
                    <a:pt x="4475" y="22"/>
                  </a:lnTo>
                  <a:lnTo>
                    <a:pt x="4523" y="48"/>
                  </a:lnTo>
                  <a:lnTo>
                    <a:pt x="4570" y="58"/>
                  </a:lnTo>
                  <a:lnTo>
                    <a:pt x="4618" y="58"/>
                  </a:lnTo>
                  <a:lnTo>
                    <a:pt x="4665" y="13"/>
                  </a:lnTo>
                  <a:lnTo>
                    <a:pt x="4713" y="13"/>
                  </a:lnTo>
                  <a:lnTo>
                    <a:pt x="4713" y="1036"/>
                  </a:lnTo>
                  <a:lnTo>
                    <a:pt x="4665" y="966"/>
                  </a:lnTo>
                  <a:lnTo>
                    <a:pt x="4618" y="1165"/>
                  </a:lnTo>
                  <a:lnTo>
                    <a:pt x="4570" y="1146"/>
                  </a:lnTo>
                  <a:lnTo>
                    <a:pt x="4523" y="1144"/>
                  </a:lnTo>
                  <a:lnTo>
                    <a:pt x="4475" y="1107"/>
                  </a:lnTo>
                  <a:lnTo>
                    <a:pt x="4427" y="1107"/>
                  </a:lnTo>
                  <a:lnTo>
                    <a:pt x="4380" y="1043"/>
                  </a:lnTo>
                  <a:lnTo>
                    <a:pt x="4332" y="1164"/>
                  </a:lnTo>
                  <a:lnTo>
                    <a:pt x="4285" y="1164"/>
                  </a:lnTo>
                  <a:lnTo>
                    <a:pt x="4237" y="1163"/>
                  </a:lnTo>
                  <a:lnTo>
                    <a:pt x="4190" y="1097"/>
                  </a:lnTo>
                  <a:lnTo>
                    <a:pt x="4142" y="1097"/>
                  </a:lnTo>
                  <a:lnTo>
                    <a:pt x="4094" y="1023"/>
                  </a:lnTo>
                  <a:lnTo>
                    <a:pt x="4046" y="1134"/>
                  </a:lnTo>
                  <a:lnTo>
                    <a:pt x="3998" y="1154"/>
                  </a:lnTo>
                  <a:lnTo>
                    <a:pt x="3951" y="1154"/>
                  </a:lnTo>
                  <a:lnTo>
                    <a:pt x="3903" y="1076"/>
                  </a:lnTo>
                  <a:lnTo>
                    <a:pt x="3856" y="1076"/>
                  </a:lnTo>
                  <a:lnTo>
                    <a:pt x="3808" y="1005"/>
                  </a:lnTo>
                  <a:lnTo>
                    <a:pt x="3761" y="1167"/>
                  </a:lnTo>
                  <a:lnTo>
                    <a:pt x="3713" y="1162"/>
                  </a:lnTo>
                  <a:lnTo>
                    <a:pt x="3665" y="1162"/>
                  </a:lnTo>
                  <a:lnTo>
                    <a:pt x="3618" y="1081"/>
                  </a:lnTo>
                  <a:lnTo>
                    <a:pt x="3570" y="1081"/>
                  </a:lnTo>
                  <a:lnTo>
                    <a:pt x="3523" y="1020"/>
                  </a:lnTo>
                  <a:lnTo>
                    <a:pt x="3475" y="1171"/>
                  </a:lnTo>
                  <a:lnTo>
                    <a:pt x="3428" y="1176"/>
                  </a:lnTo>
                  <a:lnTo>
                    <a:pt x="3380" y="1175"/>
                  </a:lnTo>
                  <a:lnTo>
                    <a:pt x="3333" y="1090"/>
                  </a:lnTo>
                  <a:lnTo>
                    <a:pt x="3285" y="1090"/>
                  </a:lnTo>
                  <a:lnTo>
                    <a:pt x="3237" y="1021"/>
                  </a:lnTo>
                  <a:lnTo>
                    <a:pt x="3190" y="1200"/>
                  </a:lnTo>
                  <a:lnTo>
                    <a:pt x="3142" y="1207"/>
                  </a:lnTo>
                  <a:lnTo>
                    <a:pt x="3095" y="1207"/>
                  </a:lnTo>
                  <a:lnTo>
                    <a:pt x="3047" y="1129"/>
                  </a:lnTo>
                  <a:lnTo>
                    <a:pt x="3000" y="1129"/>
                  </a:lnTo>
                  <a:lnTo>
                    <a:pt x="2952" y="1064"/>
                  </a:lnTo>
                  <a:lnTo>
                    <a:pt x="2903" y="1234"/>
                  </a:lnTo>
                  <a:lnTo>
                    <a:pt x="2856" y="1234"/>
                  </a:lnTo>
                  <a:lnTo>
                    <a:pt x="2808" y="1234"/>
                  </a:lnTo>
                  <a:lnTo>
                    <a:pt x="2761" y="1159"/>
                  </a:lnTo>
                  <a:lnTo>
                    <a:pt x="2713" y="1159"/>
                  </a:lnTo>
                  <a:lnTo>
                    <a:pt x="2666" y="1102"/>
                  </a:lnTo>
                  <a:lnTo>
                    <a:pt x="2618" y="1250"/>
                  </a:lnTo>
                  <a:lnTo>
                    <a:pt x="2571" y="1250"/>
                  </a:lnTo>
                  <a:lnTo>
                    <a:pt x="2523" y="1250"/>
                  </a:lnTo>
                  <a:lnTo>
                    <a:pt x="2475" y="1189"/>
                  </a:lnTo>
                  <a:lnTo>
                    <a:pt x="2428" y="1189"/>
                  </a:lnTo>
                  <a:lnTo>
                    <a:pt x="2380" y="1133"/>
                  </a:lnTo>
                  <a:lnTo>
                    <a:pt x="2333" y="1319"/>
                  </a:lnTo>
                  <a:lnTo>
                    <a:pt x="2285" y="1319"/>
                  </a:lnTo>
                  <a:lnTo>
                    <a:pt x="2238" y="1319"/>
                  </a:lnTo>
                  <a:lnTo>
                    <a:pt x="2190" y="1186"/>
                  </a:lnTo>
                  <a:lnTo>
                    <a:pt x="2142" y="1186"/>
                  </a:lnTo>
                  <a:lnTo>
                    <a:pt x="2095" y="1131"/>
                  </a:lnTo>
                  <a:lnTo>
                    <a:pt x="2047" y="1368"/>
                  </a:lnTo>
                  <a:lnTo>
                    <a:pt x="2000" y="1368"/>
                  </a:lnTo>
                  <a:lnTo>
                    <a:pt x="1952" y="1348"/>
                  </a:lnTo>
                  <a:lnTo>
                    <a:pt x="1905" y="1240"/>
                  </a:lnTo>
                  <a:lnTo>
                    <a:pt x="1857" y="1240"/>
                  </a:lnTo>
                  <a:lnTo>
                    <a:pt x="1810" y="1206"/>
                  </a:lnTo>
                  <a:lnTo>
                    <a:pt x="1761" y="1494"/>
                  </a:lnTo>
                  <a:lnTo>
                    <a:pt x="1713" y="1494"/>
                  </a:lnTo>
                  <a:lnTo>
                    <a:pt x="1666" y="1493"/>
                  </a:lnTo>
                  <a:lnTo>
                    <a:pt x="1618" y="1451"/>
                  </a:lnTo>
                  <a:lnTo>
                    <a:pt x="1571" y="1451"/>
                  </a:lnTo>
                  <a:lnTo>
                    <a:pt x="1523" y="1451"/>
                  </a:lnTo>
                  <a:lnTo>
                    <a:pt x="1476" y="1600"/>
                  </a:lnTo>
                  <a:lnTo>
                    <a:pt x="1428" y="1600"/>
                  </a:lnTo>
                  <a:lnTo>
                    <a:pt x="1380" y="1600"/>
                  </a:lnTo>
                  <a:lnTo>
                    <a:pt x="1333" y="1466"/>
                  </a:lnTo>
                  <a:lnTo>
                    <a:pt x="1285" y="1466"/>
                  </a:lnTo>
                  <a:lnTo>
                    <a:pt x="1238" y="1466"/>
                  </a:lnTo>
                  <a:lnTo>
                    <a:pt x="1190" y="1580"/>
                  </a:lnTo>
                  <a:lnTo>
                    <a:pt x="1143" y="1580"/>
                  </a:lnTo>
                  <a:lnTo>
                    <a:pt x="1095" y="1564"/>
                  </a:lnTo>
                  <a:lnTo>
                    <a:pt x="1048" y="1491"/>
                  </a:lnTo>
                  <a:lnTo>
                    <a:pt x="1000" y="1491"/>
                  </a:lnTo>
                  <a:lnTo>
                    <a:pt x="952" y="1491"/>
                  </a:lnTo>
                  <a:lnTo>
                    <a:pt x="905" y="1589"/>
                  </a:lnTo>
                  <a:lnTo>
                    <a:pt x="857" y="1589"/>
                  </a:lnTo>
                  <a:lnTo>
                    <a:pt x="810" y="1548"/>
                  </a:lnTo>
                  <a:lnTo>
                    <a:pt x="762" y="1600"/>
                  </a:lnTo>
                  <a:lnTo>
                    <a:pt x="715" y="1581"/>
                  </a:lnTo>
                  <a:lnTo>
                    <a:pt x="667" y="1555"/>
                  </a:lnTo>
                  <a:lnTo>
                    <a:pt x="620" y="1648"/>
                  </a:lnTo>
                  <a:lnTo>
                    <a:pt x="571" y="1648"/>
                  </a:lnTo>
                  <a:lnTo>
                    <a:pt x="523" y="1648"/>
                  </a:lnTo>
                  <a:lnTo>
                    <a:pt x="476" y="2075"/>
                  </a:lnTo>
                  <a:lnTo>
                    <a:pt x="428" y="2075"/>
                  </a:lnTo>
                  <a:lnTo>
                    <a:pt x="381" y="2075"/>
                  </a:lnTo>
                  <a:lnTo>
                    <a:pt x="333" y="2319"/>
                  </a:lnTo>
                  <a:lnTo>
                    <a:pt x="286" y="2319"/>
                  </a:lnTo>
                  <a:lnTo>
                    <a:pt x="238" y="2319"/>
                  </a:lnTo>
                  <a:lnTo>
                    <a:pt x="190" y="2718"/>
                  </a:lnTo>
                  <a:lnTo>
                    <a:pt x="143" y="2741"/>
                  </a:lnTo>
                  <a:lnTo>
                    <a:pt x="95" y="2763"/>
                  </a:lnTo>
                  <a:lnTo>
                    <a:pt x="48" y="2951"/>
                  </a:lnTo>
                  <a:lnTo>
                    <a:pt x="0" y="29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2958"/>
                  </a:lnTo>
                  <a:lnTo>
                    <a:pt x="48" y="2958"/>
                  </a:lnTo>
                  <a:lnTo>
                    <a:pt x="95" y="2770"/>
                  </a:lnTo>
                  <a:lnTo>
                    <a:pt x="143" y="2748"/>
                  </a:lnTo>
                  <a:lnTo>
                    <a:pt x="190" y="2725"/>
                  </a:lnTo>
                  <a:lnTo>
                    <a:pt x="238" y="2326"/>
                  </a:lnTo>
                  <a:lnTo>
                    <a:pt x="286" y="2326"/>
                  </a:lnTo>
                  <a:lnTo>
                    <a:pt x="333" y="2326"/>
                  </a:lnTo>
                  <a:lnTo>
                    <a:pt x="381" y="2082"/>
                  </a:lnTo>
                  <a:lnTo>
                    <a:pt x="428" y="2082"/>
                  </a:lnTo>
                  <a:lnTo>
                    <a:pt x="476" y="2082"/>
                  </a:lnTo>
                  <a:lnTo>
                    <a:pt x="523" y="1655"/>
                  </a:lnTo>
                  <a:lnTo>
                    <a:pt x="571" y="1655"/>
                  </a:lnTo>
                  <a:lnTo>
                    <a:pt x="620" y="1655"/>
                  </a:lnTo>
                  <a:lnTo>
                    <a:pt x="667" y="1410"/>
                  </a:lnTo>
                  <a:lnTo>
                    <a:pt x="715" y="1410"/>
                  </a:lnTo>
                  <a:lnTo>
                    <a:pt x="762" y="1410"/>
                  </a:lnTo>
                  <a:lnTo>
                    <a:pt x="810" y="1016"/>
                  </a:lnTo>
                  <a:lnTo>
                    <a:pt x="857" y="1016"/>
                  </a:lnTo>
                  <a:lnTo>
                    <a:pt x="905" y="1016"/>
                  </a:lnTo>
                  <a:lnTo>
                    <a:pt x="952" y="657"/>
                  </a:lnTo>
                  <a:lnTo>
                    <a:pt x="1000" y="657"/>
                  </a:lnTo>
                  <a:lnTo>
                    <a:pt x="1048" y="657"/>
                  </a:lnTo>
                  <a:lnTo>
                    <a:pt x="1095" y="320"/>
                  </a:lnTo>
                  <a:lnTo>
                    <a:pt x="1143" y="320"/>
                  </a:lnTo>
                  <a:lnTo>
                    <a:pt x="1190" y="320"/>
                  </a:lnTo>
                  <a:lnTo>
                    <a:pt x="1238" y="7"/>
                  </a:lnTo>
                  <a:lnTo>
                    <a:pt x="1285" y="7"/>
                  </a:lnTo>
                  <a:lnTo>
                    <a:pt x="1333" y="7"/>
                  </a:lnTo>
                  <a:lnTo>
                    <a:pt x="1380" y="6"/>
                  </a:lnTo>
                  <a:lnTo>
                    <a:pt x="1428" y="6"/>
                  </a:lnTo>
                  <a:lnTo>
                    <a:pt x="1476" y="6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20"/>
                  </a:lnTo>
                  <a:lnTo>
                    <a:pt x="4665" y="20"/>
                  </a:lnTo>
                  <a:lnTo>
                    <a:pt x="4618" y="65"/>
                  </a:lnTo>
                  <a:lnTo>
                    <a:pt x="4570" y="65"/>
                  </a:lnTo>
                  <a:lnTo>
                    <a:pt x="4523" y="55"/>
                  </a:lnTo>
                  <a:lnTo>
                    <a:pt x="4475" y="29"/>
                  </a:lnTo>
                  <a:lnTo>
                    <a:pt x="4427" y="28"/>
                  </a:lnTo>
                  <a:lnTo>
                    <a:pt x="4380" y="28"/>
                  </a:lnTo>
                  <a:lnTo>
                    <a:pt x="4332" y="51"/>
                  </a:lnTo>
                  <a:lnTo>
                    <a:pt x="4285" y="51"/>
                  </a:lnTo>
                  <a:lnTo>
                    <a:pt x="4237" y="45"/>
                  </a:lnTo>
                  <a:lnTo>
                    <a:pt x="4190" y="23"/>
                  </a:lnTo>
                  <a:lnTo>
                    <a:pt x="4142" y="23"/>
                  </a:lnTo>
                  <a:lnTo>
                    <a:pt x="4094" y="22"/>
                  </a:lnTo>
                  <a:lnTo>
                    <a:pt x="4046" y="49"/>
                  </a:lnTo>
                  <a:lnTo>
                    <a:pt x="3998" y="51"/>
                  </a:lnTo>
                  <a:lnTo>
                    <a:pt x="3951" y="43"/>
                  </a:lnTo>
                  <a:lnTo>
                    <a:pt x="3903" y="20"/>
                  </a:lnTo>
                  <a:lnTo>
                    <a:pt x="3856" y="20"/>
                  </a:lnTo>
                  <a:lnTo>
                    <a:pt x="3808" y="20"/>
                  </a:lnTo>
                  <a:lnTo>
                    <a:pt x="3761" y="72"/>
                  </a:lnTo>
                  <a:lnTo>
                    <a:pt x="3713" y="72"/>
                  </a:lnTo>
                  <a:lnTo>
                    <a:pt x="3665" y="61"/>
                  </a:lnTo>
                  <a:lnTo>
                    <a:pt x="3618" y="29"/>
                  </a:lnTo>
                  <a:lnTo>
                    <a:pt x="3570" y="29"/>
                  </a:lnTo>
                  <a:lnTo>
                    <a:pt x="3523" y="29"/>
                  </a:lnTo>
                  <a:lnTo>
                    <a:pt x="3475" y="80"/>
                  </a:lnTo>
                  <a:lnTo>
                    <a:pt x="3428" y="80"/>
                  </a:lnTo>
                  <a:lnTo>
                    <a:pt x="3380" y="68"/>
                  </a:lnTo>
                  <a:lnTo>
                    <a:pt x="3333" y="27"/>
                  </a:lnTo>
                  <a:lnTo>
                    <a:pt x="3285" y="27"/>
                  </a:lnTo>
                  <a:lnTo>
                    <a:pt x="3237" y="27"/>
                  </a:lnTo>
                  <a:lnTo>
                    <a:pt x="3190" y="44"/>
                  </a:lnTo>
                  <a:lnTo>
                    <a:pt x="3142" y="44"/>
                  </a:lnTo>
                  <a:lnTo>
                    <a:pt x="3095" y="41"/>
                  </a:lnTo>
                  <a:lnTo>
                    <a:pt x="3047" y="42"/>
                  </a:lnTo>
                  <a:lnTo>
                    <a:pt x="3000" y="42"/>
                  </a:lnTo>
                  <a:lnTo>
                    <a:pt x="2952" y="42"/>
                  </a:lnTo>
                  <a:lnTo>
                    <a:pt x="2903" y="92"/>
                  </a:lnTo>
                  <a:lnTo>
                    <a:pt x="2856" y="92"/>
                  </a:lnTo>
                  <a:lnTo>
                    <a:pt x="2808" y="85"/>
                  </a:lnTo>
                  <a:lnTo>
                    <a:pt x="2761" y="59"/>
                  </a:lnTo>
                  <a:lnTo>
                    <a:pt x="2713" y="59"/>
                  </a:lnTo>
                  <a:lnTo>
                    <a:pt x="2666" y="55"/>
                  </a:lnTo>
                  <a:lnTo>
                    <a:pt x="2618" y="133"/>
                  </a:lnTo>
                  <a:lnTo>
                    <a:pt x="2571" y="133"/>
                  </a:lnTo>
                  <a:lnTo>
                    <a:pt x="2523" y="121"/>
                  </a:lnTo>
                  <a:lnTo>
                    <a:pt x="2475" y="53"/>
                  </a:lnTo>
                  <a:lnTo>
                    <a:pt x="2428" y="53"/>
                  </a:lnTo>
                  <a:lnTo>
                    <a:pt x="2380" y="53"/>
                  </a:lnTo>
                  <a:lnTo>
                    <a:pt x="2333" y="157"/>
                  </a:lnTo>
                  <a:lnTo>
                    <a:pt x="2285" y="157"/>
                  </a:lnTo>
                  <a:lnTo>
                    <a:pt x="2238" y="157"/>
                  </a:lnTo>
                  <a:lnTo>
                    <a:pt x="2190" y="118"/>
                  </a:lnTo>
                  <a:lnTo>
                    <a:pt x="2142" y="118"/>
                  </a:lnTo>
                  <a:lnTo>
                    <a:pt x="2095" y="118"/>
                  </a:lnTo>
                  <a:lnTo>
                    <a:pt x="2047" y="280"/>
                  </a:lnTo>
                  <a:lnTo>
                    <a:pt x="2000" y="280"/>
                  </a:lnTo>
                  <a:lnTo>
                    <a:pt x="1952" y="280"/>
                  </a:lnTo>
                  <a:lnTo>
                    <a:pt x="1905" y="225"/>
                  </a:lnTo>
                  <a:lnTo>
                    <a:pt x="1857" y="225"/>
                  </a:lnTo>
                  <a:lnTo>
                    <a:pt x="1810" y="221"/>
                  </a:lnTo>
                  <a:lnTo>
                    <a:pt x="1761" y="327"/>
                  </a:lnTo>
                  <a:lnTo>
                    <a:pt x="1713" y="327"/>
                  </a:lnTo>
                  <a:lnTo>
                    <a:pt x="1666" y="327"/>
                  </a:lnTo>
                  <a:lnTo>
                    <a:pt x="1618" y="225"/>
                  </a:lnTo>
                  <a:lnTo>
                    <a:pt x="1571" y="225"/>
                  </a:lnTo>
                  <a:lnTo>
                    <a:pt x="1523" y="204"/>
                  </a:lnTo>
                  <a:lnTo>
                    <a:pt x="1476" y="122"/>
                  </a:lnTo>
                  <a:lnTo>
                    <a:pt x="1428" y="109"/>
                  </a:lnTo>
                  <a:lnTo>
                    <a:pt x="1380" y="92"/>
                  </a:lnTo>
                  <a:lnTo>
                    <a:pt x="1333" y="7"/>
                  </a:lnTo>
                  <a:lnTo>
                    <a:pt x="1285" y="7"/>
                  </a:lnTo>
                  <a:lnTo>
                    <a:pt x="1238" y="7"/>
                  </a:lnTo>
                  <a:lnTo>
                    <a:pt x="1190" y="320"/>
                  </a:lnTo>
                  <a:lnTo>
                    <a:pt x="1143" y="320"/>
                  </a:lnTo>
                  <a:lnTo>
                    <a:pt x="1095" y="320"/>
                  </a:lnTo>
                  <a:lnTo>
                    <a:pt x="1048" y="657"/>
                  </a:lnTo>
                  <a:lnTo>
                    <a:pt x="1000" y="657"/>
                  </a:lnTo>
                  <a:lnTo>
                    <a:pt x="952" y="657"/>
                  </a:lnTo>
                  <a:lnTo>
                    <a:pt x="905" y="1016"/>
                  </a:lnTo>
                  <a:lnTo>
                    <a:pt x="857" y="1016"/>
                  </a:lnTo>
                  <a:lnTo>
                    <a:pt x="810" y="1016"/>
                  </a:lnTo>
                  <a:lnTo>
                    <a:pt x="762" y="1410"/>
                  </a:lnTo>
                  <a:lnTo>
                    <a:pt x="715" y="1410"/>
                  </a:lnTo>
                  <a:lnTo>
                    <a:pt x="667" y="1410"/>
                  </a:lnTo>
                  <a:lnTo>
                    <a:pt x="620" y="1655"/>
                  </a:lnTo>
                  <a:lnTo>
                    <a:pt x="571" y="1655"/>
                  </a:lnTo>
                  <a:lnTo>
                    <a:pt x="523" y="1655"/>
                  </a:lnTo>
                  <a:lnTo>
                    <a:pt x="476" y="2082"/>
                  </a:lnTo>
                  <a:lnTo>
                    <a:pt x="428" y="2082"/>
                  </a:lnTo>
                  <a:lnTo>
                    <a:pt x="381" y="2082"/>
                  </a:lnTo>
                  <a:lnTo>
                    <a:pt x="333" y="2326"/>
                  </a:lnTo>
                  <a:lnTo>
                    <a:pt x="286" y="2326"/>
                  </a:lnTo>
                  <a:lnTo>
                    <a:pt x="238" y="2326"/>
                  </a:lnTo>
                  <a:lnTo>
                    <a:pt x="190" y="2725"/>
                  </a:lnTo>
                  <a:lnTo>
                    <a:pt x="143" y="2748"/>
                  </a:lnTo>
                  <a:lnTo>
                    <a:pt x="95" y="2770"/>
                  </a:lnTo>
                  <a:lnTo>
                    <a:pt x="48" y="2958"/>
                  </a:lnTo>
                  <a:lnTo>
                    <a:pt x="0" y="29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371600" y="919080"/>
              <a:ext cx="7481880" cy="4695840"/>
            </a:xfrm>
            <a:custGeom>
              <a:avLst/>
              <a:gdLst/>
              <a:ahLst/>
              <a:rect l="l" t="t" r="r" b="b"/>
              <a:pathLst>
                <a:path w="4713" h="2958">
                  <a:moveTo>
                    <a:pt x="0" y="295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143" y="0"/>
                  </a:lnTo>
                  <a:lnTo>
                    <a:pt x="190" y="0"/>
                  </a:lnTo>
                  <a:lnTo>
                    <a:pt x="238" y="0"/>
                  </a:lnTo>
                  <a:lnTo>
                    <a:pt x="286" y="0"/>
                  </a:lnTo>
                  <a:lnTo>
                    <a:pt x="333" y="0"/>
                  </a:lnTo>
                  <a:lnTo>
                    <a:pt x="381" y="0"/>
                  </a:lnTo>
                  <a:lnTo>
                    <a:pt x="428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1" y="0"/>
                  </a:lnTo>
                  <a:lnTo>
                    <a:pt x="620" y="0"/>
                  </a:lnTo>
                  <a:lnTo>
                    <a:pt x="667" y="0"/>
                  </a:lnTo>
                  <a:lnTo>
                    <a:pt x="715" y="0"/>
                  </a:lnTo>
                  <a:lnTo>
                    <a:pt x="762" y="0"/>
                  </a:lnTo>
                  <a:lnTo>
                    <a:pt x="810" y="0"/>
                  </a:lnTo>
                  <a:lnTo>
                    <a:pt x="857" y="0"/>
                  </a:lnTo>
                  <a:lnTo>
                    <a:pt x="905" y="0"/>
                  </a:lnTo>
                  <a:lnTo>
                    <a:pt x="952" y="0"/>
                  </a:lnTo>
                  <a:lnTo>
                    <a:pt x="1000" y="0"/>
                  </a:lnTo>
                  <a:lnTo>
                    <a:pt x="1048" y="0"/>
                  </a:lnTo>
                  <a:lnTo>
                    <a:pt x="1095" y="0"/>
                  </a:lnTo>
                  <a:lnTo>
                    <a:pt x="1143" y="0"/>
                  </a:lnTo>
                  <a:lnTo>
                    <a:pt x="1190" y="0"/>
                  </a:lnTo>
                  <a:lnTo>
                    <a:pt x="1238" y="0"/>
                  </a:lnTo>
                  <a:lnTo>
                    <a:pt x="1285" y="0"/>
                  </a:lnTo>
                  <a:lnTo>
                    <a:pt x="1333" y="0"/>
                  </a:lnTo>
                  <a:lnTo>
                    <a:pt x="1380" y="0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23" y="0"/>
                  </a:lnTo>
                  <a:lnTo>
                    <a:pt x="1571" y="0"/>
                  </a:lnTo>
                  <a:lnTo>
                    <a:pt x="1618" y="0"/>
                  </a:lnTo>
                  <a:lnTo>
                    <a:pt x="1666" y="0"/>
                  </a:lnTo>
                  <a:lnTo>
                    <a:pt x="1713" y="0"/>
                  </a:lnTo>
                  <a:lnTo>
                    <a:pt x="1761" y="0"/>
                  </a:lnTo>
                  <a:lnTo>
                    <a:pt x="1810" y="0"/>
                  </a:lnTo>
                  <a:lnTo>
                    <a:pt x="1857" y="0"/>
                  </a:lnTo>
                  <a:lnTo>
                    <a:pt x="1905" y="0"/>
                  </a:lnTo>
                  <a:lnTo>
                    <a:pt x="1952" y="0"/>
                  </a:lnTo>
                  <a:lnTo>
                    <a:pt x="2000" y="0"/>
                  </a:lnTo>
                  <a:lnTo>
                    <a:pt x="2047" y="0"/>
                  </a:lnTo>
                  <a:lnTo>
                    <a:pt x="2095" y="0"/>
                  </a:lnTo>
                  <a:lnTo>
                    <a:pt x="2142" y="0"/>
                  </a:lnTo>
                  <a:lnTo>
                    <a:pt x="2190" y="0"/>
                  </a:lnTo>
                  <a:lnTo>
                    <a:pt x="2238" y="0"/>
                  </a:lnTo>
                  <a:lnTo>
                    <a:pt x="2285" y="0"/>
                  </a:lnTo>
                  <a:lnTo>
                    <a:pt x="2333" y="0"/>
                  </a:lnTo>
                  <a:lnTo>
                    <a:pt x="2380" y="0"/>
                  </a:lnTo>
                  <a:lnTo>
                    <a:pt x="2428" y="0"/>
                  </a:lnTo>
                  <a:lnTo>
                    <a:pt x="2475" y="0"/>
                  </a:lnTo>
                  <a:lnTo>
                    <a:pt x="2523" y="0"/>
                  </a:lnTo>
                  <a:lnTo>
                    <a:pt x="2571" y="0"/>
                  </a:lnTo>
                  <a:lnTo>
                    <a:pt x="2618" y="0"/>
                  </a:lnTo>
                  <a:lnTo>
                    <a:pt x="2666" y="0"/>
                  </a:lnTo>
                  <a:lnTo>
                    <a:pt x="2713" y="0"/>
                  </a:lnTo>
                  <a:lnTo>
                    <a:pt x="2761" y="0"/>
                  </a:lnTo>
                  <a:lnTo>
                    <a:pt x="2808" y="0"/>
                  </a:lnTo>
                  <a:lnTo>
                    <a:pt x="2856" y="0"/>
                  </a:lnTo>
                  <a:lnTo>
                    <a:pt x="2903" y="0"/>
                  </a:lnTo>
                  <a:lnTo>
                    <a:pt x="2952" y="0"/>
                  </a:lnTo>
                  <a:lnTo>
                    <a:pt x="3000" y="0"/>
                  </a:lnTo>
                  <a:lnTo>
                    <a:pt x="3047" y="0"/>
                  </a:lnTo>
                  <a:lnTo>
                    <a:pt x="3095" y="0"/>
                  </a:lnTo>
                  <a:lnTo>
                    <a:pt x="3142" y="0"/>
                  </a:lnTo>
                  <a:lnTo>
                    <a:pt x="3190" y="0"/>
                  </a:lnTo>
                  <a:lnTo>
                    <a:pt x="3237" y="0"/>
                  </a:lnTo>
                  <a:lnTo>
                    <a:pt x="3285" y="0"/>
                  </a:lnTo>
                  <a:lnTo>
                    <a:pt x="3333" y="0"/>
                  </a:lnTo>
                  <a:lnTo>
                    <a:pt x="3380" y="0"/>
                  </a:lnTo>
                  <a:lnTo>
                    <a:pt x="3428" y="0"/>
                  </a:lnTo>
                  <a:lnTo>
                    <a:pt x="3475" y="0"/>
                  </a:lnTo>
                  <a:lnTo>
                    <a:pt x="3523" y="0"/>
                  </a:lnTo>
                  <a:lnTo>
                    <a:pt x="3570" y="0"/>
                  </a:lnTo>
                  <a:lnTo>
                    <a:pt x="3618" y="0"/>
                  </a:lnTo>
                  <a:lnTo>
                    <a:pt x="3665" y="0"/>
                  </a:lnTo>
                  <a:lnTo>
                    <a:pt x="3713" y="0"/>
                  </a:lnTo>
                  <a:lnTo>
                    <a:pt x="3761" y="0"/>
                  </a:lnTo>
                  <a:lnTo>
                    <a:pt x="3808" y="0"/>
                  </a:lnTo>
                  <a:lnTo>
                    <a:pt x="3856" y="0"/>
                  </a:lnTo>
                  <a:lnTo>
                    <a:pt x="3903" y="0"/>
                  </a:lnTo>
                  <a:lnTo>
                    <a:pt x="3951" y="0"/>
                  </a:lnTo>
                  <a:lnTo>
                    <a:pt x="3998" y="0"/>
                  </a:lnTo>
                  <a:lnTo>
                    <a:pt x="4046" y="0"/>
                  </a:lnTo>
                  <a:lnTo>
                    <a:pt x="4094" y="0"/>
                  </a:lnTo>
                  <a:lnTo>
                    <a:pt x="4142" y="0"/>
                  </a:lnTo>
                  <a:lnTo>
                    <a:pt x="4190" y="0"/>
                  </a:lnTo>
                  <a:lnTo>
                    <a:pt x="4237" y="0"/>
                  </a:lnTo>
                  <a:lnTo>
                    <a:pt x="4285" y="0"/>
                  </a:lnTo>
                  <a:lnTo>
                    <a:pt x="4332" y="0"/>
                  </a:lnTo>
                  <a:lnTo>
                    <a:pt x="4380" y="0"/>
                  </a:lnTo>
                  <a:lnTo>
                    <a:pt x="4427" y="0"/>
                  </a:lnTo>
                  <a:lnTo>
                    <a:pt x="4475" y="0"/>
                  </a:lnTo>
                  <a:lnTo>
                    <a:pt x="4523" y="0"/>
                  </a:lnTo>
                  <a:lnTo>
                    <a:pt x="4570" y="0"/>
                  </a:lnTo>
                  <a:lnTo>
                    <a:pt x="4618" y="0"/>
                  </a:lnTo>
                  <a:lnTo>
                    <a:pt x="4665" y="0"/>
                  </a:lnTo>
                  <a:lnTo>
                    <a:pt x="4713" y="0"/>
                  </a:lnTo>
                  <a:lnTo>
                    <a:pt x="4713" y="0"/>
                  </a:lnTo>
                  <a:lnTo>
                    <a:pt x="4665" y="0"/>
                  </a:lnTo>
                  <a:lnTo>
                    <a:pt x="4618" y="0"/>
                  </a:lnTo>
                  <a:lnTo>
                    <a:pt x="4570" y="0"/>
                  </a:lnTo>
                  <a:lnTo>
                    <a:pt x="4523" y="0"/>
                  </a:lnTo>
                  <a:lnTo>
                    <a:pt x="4475" y="0"/>
                  </a:lnTo>
                  <a:lnTo>
                    <a:pt x="4427" y="0"/>
                  </a:lnTo>
                  <a:lnTo>
                    <a:pt x="4380" y="0"/>
                  </a:lnTo>
                  <a:lnTo>
                    <a:pt x="4332" y="0"/>
                  </a:lnTo>
                  <a:lnTo>
                    <a:pt x="4285" y="0"/>
                  </a:lnTo>
                  <a:lnTo>
                    <a:pt x="4237" y="0"/>
                  </a:lnTo>
                  <a:lnTo>
                    <a:pt x="4190" y="0"/>
                  </a:lnTo>
                  <a:lnTo>
                    <a:pt x="4142" y="0"/>
                  </a:lnTo>
                  <a:lnTo>
                    <a:pt x="4094" y="0"/>
                  </a:lnTo>
                  <a:lnTo>
                    <a:pt x="4046" y="0"/>
                  </a:lnTo>
                  <a:lnTo>
                    <a:pt x="3998" y="0"/>
                  </a:lnTo>
                  <a:lnTo>
                    <a:pt x="3951" y="0"/>
                  </a:lnTo>
                  <a:lnTo>
                    <a:pt x="3903" y="0"/>
                  </a:lnTo>
                  <a:lnTo>
                    <a:pt x="3856" y="0"/>
                  </a:lnTo>
                  <a:lnTo>
                    <a:pt x="3808" y="0"/>
                  </a:lnTo>
                  <a:lnTo>
                    <a:pt x="3761" y="0"/>
                  </a:lnTo>
                  <a:lnTo>
                    <a:pt x="3713" y="0"/>
                  </a:lnTo>
                  <a:lnTo>
                    <a:pt x="3665" y="0"/>
                  </a:lnTo>
                  <a:lnTo>
                    <a:pt x="3618" y="0"/>
                  </a:lnTo>
                  <a:lnTo>
                    <a:pt x="3570" y="0"/>
                  </a:lnTo>
                  <a:lnTo>
                    <a:pt x="3523" y="0"/>
                  </a:lnTo>
                  <a:lnTo>
                    <a:pt x="3475" y="0"/>
                  </a:lnTo>
                  <a:lnTo>
                    <a:pt x="3428" y="0"/>
                  </a:lnTo>
                  <a:lnTo>
                    <a:pt x="3380" y="0"/>
                  </a:lnTo>
                  <a:lnTo>
                    <a:pt x="3333" y="0"/>
                  </a:lnTo>
                  <a:lnTo>
                    <a:pt x="3285" y="0"/>
                  </a:lnTo>
                  <a:lnTo>
                    <a:pt x="3237" y="0"/>
                  </a:lnTo>
                  <a:lnTo>
                    <a:pt x="3190" y="0"/>
                  </a:lnTo>
                  <a:lnTo>
                    <a:pt x="3142" y="0"/>
                  </a:lnTo>
                  <a:lnTo>
                    <a:pt x="3095" y="0"/>
                  </a:lnTo>
                  <a:lnTo>
                    <a:pt x="3047" y="0"/>
                  </a:lnTo>
                  <a:lnTo>
                    <a:pt x="3000" y="0"/>
                  </a:lnTo>
                  <a:lnTo>
                    <a:pt x="2952" y="0"/>
                  </a:lnTo>
                  <a:lnTo>
                    <a:pt x="2903" y="0"/>
                  </a:lnTo>
                  <a:lnTo>
                    <a:pt x="2856" y="0"/>
                  </a:lnTo>
                  <a:lnTo>
                    <a:pt x="2808" y="0"/>
                  </a:lnTo>
                  <a:lnTo>
                    <a:pt x="2761" y="0"/>
                  </a:lnTo>
                  <a:lnTo>
                    <a:pt x="2713" y="0"/>
                  </a:lnTo>
                  <a:lnTo>
                    <a:pt x="2666" y="0"/>
                  </a:lnTo>
                  <a:lnTo>
                    <a:pt x="2618" y="0"/>
                  </a:lnTo>
                  <a:lnTo>
                    <a:pt x="2571" y="0"/>
                  </a:lnTo>
                  <a:lnTo>
                    <a:pt x="2523" y="0"/>
                  </a:lnTo>
                  <a:lnTo>
                    <a:pt x="2475" y="0"/>
                  </a:lnTo>
                  <a:lnTo>
                    <a:pt x="2428" y="0"/>
                  </a:lnTo>
                  <a:lnTo>
                    <a:pt x="2380" y="0"/>
                  </a:lnTo>
                  <a:lnTo>
                    <a:pt x="2333" y="0"/>
                  </a:lnTo>
                  <a:lnTo>
                    <a:pt x="2285" y="0"/>
                  </a:lnTo>
                  <a:lnTo>
                    <a:pt x="2238" y="0"/>
                  </a:lnTo>
                  <a:lnTo>
                    <a:pt x="2190" y="0"/>
                  </a:lnTo>
                  <a:lnTo>
                    <a:pt x="2142" y="0"/>
                  </a:lnTo>
                  <a:lnTo>
                    <a:pt x="2095" y="0"/>
                  </a:lnTo>
                  <a:lnTo>
                    <a:pt x="2047" y="0"/>
                  </a:lnTo>
                  <a:lnTo>
                    <a:pt x="2000" y="0"/>
                  </a:lnTo>
                  <a:lnTo>
                    <a:pt x="1952" y="0"/>
                  </a:lnTo>
                  <a:lnTo>
                    <a:pt x="1905" y="0"/>
                  </a:lnTo>
                  <a:lnTo>
                    <a:pt x="1857" y="0"/>
                  </a:lnTo>
                  <a:lnTo>
                    <a:pt x="1810" y="0"/>
                  </a:lnTo>
                  <a:lnTo>
                    <a:pt x="1761" y="0"/>
                  </a:lnTo>
                  <a:lnTo>
                    <a:pt x="1713" y="0"/>
                  </a:lnTo>
                  <a:lnTo>
                    <a:pt x="1666" y="0"/>
                  </a:lnTo>
                  <a:lnTo>
                    <a:pt x="1618" y="0"/>
                  </a:lnTo>
                  <a:lnTo>
                    <a:pt x="1571" y="0"/>
                  </a:lnTo>
                  <a:lnTo>
                    <a:pt x="1523" y="0"/>
                  </a:lnTo>
                  <a:lnTo>
                    <a:pt x="1476" y="6"/>
                  </a:lnTo>
                  <a:lnTo>
                    <a:pt x="1428" y="6"/>
                  </a:lnTo>
                  <a:lnTo>
                    <a:pt x="1380" y="6"/>
                  </a:lnTo>
                  <a:lnTo>
                    <a:pt x="1333" y="7"/>
                  </a:lnTo>
                  <a:lnTo>
                    <a:pt x="1285" y="7"/>
                  </a:lnTo>
                  <a:lnTo>
                    <a:pt x="1238" y="7"/>
                  </a:lnTo>
                  <a:lnTo>
                    <a:pt x="1190" y="320"/>
                  </a:lnTo>
                  <a:lnTo>
                    <a:pt x="1143" y="320"/>
                  </a:lnTo>
                  <a:lnTo>
                    <a:pt x="1095" y="320"/>
                  </a:lnTo>
                  <a:lnTo>
                    <a:pt x="1048" y="657"/>
                  </a:lnTo>
                  <a:lnTo>
                    <a:pt x="1000" y="657"/>
                  </a:lnTo>
                  <a:lnTo>
                    <a:pt x="952" y="657"/>
                  </a:lnTo>
                  <a:lnTo>
                    <a:pt x="905" y="1016"/>
                  </a:lnTo>
                  <a:lnTo>
                    <a:pt x="857" y="1016"/>
                  </a:lnTo>
                  <a:lnTo>
                    <a:pt x="810" y="1016"/>
                  </a:lnTo>
                  <a:lnTo>
                    <a:pt x="762" y="1410"/>
                  </a:lnTo>
                  <a:lnTo>
                    <a:pt x="715" y="1410"/>
                  </a:lnTo>
                  <a:lnTo>
                    <a:pt x="667" y="1410"/>
                  </a:lnTo>
                  <a:lnTo>
                    <a:pt x="620" y="1655"/>
                  </a:lnTo>
                  <a:lnTo>
                    <a:pt x="571" y="1655"/>
                  </a:lnTo>
                  <a:lnTo>
                    <a:pt x="523" y="1655"/>
                  </a:lnTo>
                  <a:lnTo>
                    <a:pt x="476" y="2082"/>
                  </a:lnTo>
                  <a:lnTo>
                    <a:pt x="428" y="2082"/>
                  </a:lnTo>
                  <a:lnTo>
                    <a:pt x="381" y="2082"/>
                  </a:lnTo>
                  <a:lnTo>
                    <a:pt x="333" y="2326"/>
                  </a:lnTo>
                  <a:lnTo>
                    <a:pt x="286" y="2326"/>
                  </a:lnTo>
                  <a:lnTo>
                    <a:pt x="238" y="2326"/>
                  </a:lnTo>
                  <a:lnTo>
                    <a:pt x="190" y="2725"/>
                  </a:lnTo>
                  <a:lnTo>
                    <a:pt x="143" y="2748"/>
                  </a:lnTo>
                  <a:lnTo>
                    <a:pt x="95" y="2770"/>
                  </a:lnTo>
                  <a:lnTo>
                    <a:pt x="48" y="2958"/>
                  </a:lnTo>
                  <a:lnTo>
                    <a:pt x="0" y="29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371600" y="919080"/>
              <a:ext cx="1440" cy="469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314360" y="56149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314360" y="51451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314360" y="46753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314360" y="420516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314360" y="3736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314360" y="3268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314360" y="2797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314360" y="23288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314360" y="1859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314360" y="13892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314360" y="9190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371600" y="5614920"/>
              <a:ext cx="748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999720" y="5500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93880" y="50324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93880" y="456084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93880" y="40924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93880" y="36226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93880" y="31543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893880" y="2682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893880" y="22147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893880" y="1744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93880" y="12747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90560" y="8049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62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402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063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433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209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19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575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9528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332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7102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087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464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8420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2152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99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9771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3533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73100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8110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84884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92984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rot="16200000">
              <a:off x="-102240" y="308376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rea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894760" y="5219640"/>
              <a:ext cx="196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opped 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298320" y="4038480"/>
              <a:ext cx="205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oneer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267080" y="1981080"/>
              <a:ext cx="348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ng second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478680" y="863640"/>
              <a:ext cx="305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ld secondary 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600200" y="1828800"/>
              <a:ext cx="1143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6" name=""/>
          <p:cNvGrpSpPr/>
          <p:nvPr/>
        </p:nvGrpSpPr>
        <p:grpSpPr>
          <a:xfrm>
            <a:off x="0" y="0"/>
            <a:ext cx="9144000" cy="5999040"/>
            <a:chOff x="0" y="0"/>
            <a:chExt cx="9144000" cy="5999040"/>
          </a:xfrm>
        </p:grpSpPr>
        <p:grpSp>
          <p:nvGrpSpPr>
            <p:cNvPr id="4147" name=""/>
            <p:cNvGrpSpPr/>
            <p:nvPr/>
          </p:nvGrpSpPr>
          <p:grpSpPr>
            <a:xfrm>
              <a:off x="938160" y="919080"/>
              <a:ext cx="7863120" cy="4752720"/>
              <a:chOff x="938160" y="919080"/>
              <a:chExt cx="7863120" cy="4752720"/>
            </a:xfrm>
          </p:grpSpPr>
          <p:sp>
            <p:nvSpPr>
              <p:cNvPr id="4148" name=""/>
              <p:cNvSpPr/>
              <p:nvPr/>
            </p:nvSpPr>
            <p:spPr>
              <a:xfrm>
                <a:off x="995400" y="919080"/>
                <a:ext cx="7805880" cy="4695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995400" y="919080"/>
                <a:ext cx="7805880" cy="4695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995400" y="919080"/>
                <a:ext cx="1440" cy="469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938160" y="56149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938160" y="483228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938160" y="40496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938160" y="32688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938160" y="24843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938160" y="17017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938160" y="91908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995400" y="5614920"/>
                <a:ext cx="7805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V="1">
                <a:off x="99540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V="1">
                <a:off x="277020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V="1">
                <a:off x="454500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 flipV="1">
                <a:off x="631836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V="1">
                <a:off x="8091360" y="56145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1066680" y="1701720"/>
                <a:ext cx="69840" cy="3913200"/>
              </a:xfrm>
              <a:custGeom>
                <a:avLst/>
                <a:gdLst/>
                <a:ahLst/>
                <a:rect l="l" t="t" r="r" b="b"/>
                <a:pathLst>
                  <a:path w="44" h="2465">
                    <a:moveTo>
                      <a:pt x="0" y="2465"/>
                    </a:moveTo>
                    <a:lnTo>
                      <a:pt x="1" y="2387"/>
                    </a:lnTo>
                    <a:lnTo>
                      <a:pt x="3" y="2306"/>
                    </a:lnTo>
                    <a:lnTo>
                      <a:pt x="4" y="2223"/>
                    </a:lnTo>
                    <a:lnTo>
                      <a:pt x="5" y="2139"/>
                    </a:lnTo>
                    <a:lnTo>
                      <a:pt x="7" y="2053"/>
                    </a:lnTo>
                    <a:lnTo>
                      <a:pt x="8" y="1965"/>
                    </a:lnTo>
                    <a:lnTo>
                      <a:pt x="10" y="1877"/>
                    </a:lnTo>
                    <a:lnTo>
                      <a:pt x="11" y="1787"/>
                    </a:lnTo>
                    <a:lnTo>
                      <a:pt x="14" y="1607"/>
                    </a:lnTo>
                    <a:lnTo>
                      <a:pt x="16" y="1426"/>
                    </a:lnTo>
                    <a:lnTo>
                      <a:pt x="18" y="1336"/>
                    </a:lnTo>
                    <a:lnTo>
                      <a:pt x="19" y="1246"/>
                    </a:lnTo>
                    <a:lnTo>
                      <a:pt x="20" y="1157"/>
                    </a:lnTo>
                    <a:lnTo>
                      <a:pt x="22" y="1069"/>
                    </a:lnTo>
                    <a:lnTo>
                      <a:pt x="23" y="983"/>
                    </a:lnTo>
                    <a:lnTo>
                      <a:pt x="25" y="898"/>
                    </a:lnTo>
                    <a:lnTo>
                      <a:pt x="26" y="815"/>
                    </a:lnTo>
                    <a:lnTo>
                      <a:pt x="27" y="733"/>
                    </a:lnTo>
                    <a:lnTo>
                      <a:pt x="29" y="654"/>
                    </a:lnTo>
                    <a:lnTo>
                      <a:pt x="30" y="577"/>
                    </a:lnTo>
                    <a:lnTo>
                      <a:pt x="31" y="503"/>
                    </a:lnTo>
                    <a:lnTo>
                      <a:pt x="32" y="468"/>
                    </a:lnTo>
                    <a:lnTo>
                      <a:pt x="33" y="432"/>
                    </a:lnTo>
                    <a:lnTo>
                      <a:pt x="34" y="398"/>
                    </a:lnTo>
                    <a:lnTo>
                      <a:pt x="34" y="364"/>
                    </a:lnTo>
                    <a:lnTo>
                      <a:pt x="35" y="332"/>
                    </a:lnTo>
                    <a:lnTo>
                      <a:pt x="36" y="301"/>
                    </a:lnTo>
                    <a:lnTo>
                      <a:pt x="36" y="269"/>
                    </a:lnTo>
                    <a:lnTo>
                      <a:pt x="37" y="240"/>
                    </a:lnTo>
                    <a:lnTo>
                      <a:pt x="38" y="211"/>
                    </a:lnTo>
                    <a:lnTo>
                      <a:pt x="38" y="183"/>
                    </a:lnTo>
                    <a:lnTo>
                      <a:pt x="39" y="156"/>
                    </a:lnTo>
                    <a:lnTo>
                      <a:pt x="40" y="131"/>
                    </a:lnTo>
                    <a:lnTo>
                      <a:pt x="41" y="106"/>
                    </a:lnTo>
                    <a:lnTo>
                      <a:pt x="41" y="82"/>
                    </a:lnTo>
                    <a:lnTo>
                      <a:pt x="42" y="60"/>
                    </a:lnTo>
                    <a:lnTo>
                      <a:pt x="43" y="39"/>
                    </a:lnTo>
                    <a:lnTo>
                      <a:pt x="43" y="18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1136520" y="1673280"/>
                <a:ext cx="73080" cy="266760"/>
              </a:xfrm>
              <a:custGeom>
                <a:avLst/>
                <a:gdLst/>
                <a:ahLst/>
                <a:rect l="l" t="t" r="r" b="b"/>
                <a:pathLst>
                  <a:path w="46" h="168">
                    <a:moveTo>
                      <a:pt x="0" y="18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0" y="8"/>
                    </a:lnTo>
                    <a:lnTo>
                      <a:pt x="12" y="12"/>
                    </a:lnTo>
                    <a:lnTo>
                      <a:pt x="14" y="17"/>
                    </a:lnTo>
                    <a:lnTo>
                      <a:pt x="16" y="23"/>
                    </a:lnTo>
                    <a:lnTo>
                      <a:pt x="20" y="36"/>
                    </a:lnTo>
                    <a:lnTo>
                      <a:pt x="23" y="51"/>
                    </a:lnTo>
                    <a:lnTo>
                      <a:pt x="27" y="69"/>
                    </a:lnTo>
                    <a:lnTo>
                      <a:pt x="31" y="86"/>
                    </a:lnTo>
                    <a:lnTo>
                      <a:pt x="35" y="103"/>
                    </a:lnTo>
                    <a:lnTo>
                      <a:pt x="38" y="120"/>
                    </a:lnTo>
                    <a:lnTo>
                      <a:pt x="41" y="135"/>
                    </a:lnTo>
                    <a:lnTo>
                      <a:pt x="43" y="150"/>
                    </a:lnTo>
                    <a:lnTo>
                      <a:pt x="44" y="155"/>
                    </a:lnTo>
                    <a:lnTo>
                      <a:pt x="45" y="160"/>
                    </a:lnTo>
                    <a:lnTo>
                      <a:pt x="46" y="165"/>
                    </a:lnTo>
                    <a:lnTo>
                      <a:pt x="46" y="16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1209600" y="1940040"/>
                <a:ext cx="71640" cy="1225440"/>
              </a:xfrm>
              <a:custGeom>
                <a:avLst/>
                <a:gdLst/>
                <a:ahLst/>
                <a:rect l="l" t="t" r="r" b="b"/>
                <a:pathLst>
                  <a:path w="45" h="772">
                    <a:moveTo>
                      <a:pt x="0" y="0"/>
                    </a:moveTo>
                    <a:lnTo>
                      <a:pt x="1" y="15"/>
                    </a:lnTo>
                    <a:lnTo>
                      <a:pt x="3" y="31"/>
                    </a:lnTo>
                    <a:lnTo>
                      <a:pt x="4" y="49"/>
                    </a:lnTo>
                    <a:lnTo>
                      <a:pt x="6" y="70"/>
                    </a:lnTo>
                    <a:lnTo>
                      <a:pt x="7" y="90"/>
                    </a:lnTo>
                    <a:lnTo>
                      <a:pt x="8" y="111"/>
                    </a:lnTo>
                    <a:lnTo>
                      <a:pt x="10" y="134"/>
                    </a:lnTo>
                    <a:lnTo>
                      <a:pt x="11" y="158"/>
                    </a:lnTo>
                    <a:lnTo>
                      <a:pt x="12" y="183"/>
                    </a:lnTo>
                    <a:lnTo>
                      <a:pt x="14" y="208"/>
                    </a:lnTo>
                    <a:lnTo>
                      <a:pt x="17" y="261"/>
                    </a:lnTo>
                    <a:lnTo>
                      <a:pt x="19" y="315"/>
                    </a:lnTo>
                    <a:lnTo>
                      <a:pt x="22" y="371"/>
                    </a:lnTo>
                    <a:lnTo>
                      <a:pt x="25" y="428"/>
                    </a:lnTo>
                    <a:lnTo>
                      <a:pt x="28" y="483"/>
                    </a:lnTo>
                    <a:lnTo>
                      <a:pt x="30" y="538"/>
                    </a:lnTo>
                    <a:lnTo>
                      <a:pt x="33" y="592"/>
                    </a:lnTo>
                    <a:lnTo>
                      <a:pt x="34" y="617"/>
                    </a:lnTo>
                    <a:lnTo>
                      <a:pt x="36" y="642"/>
                    </a:lnTo>
                    <a:lnTo>
                      <a:pt x="37" y="667"/>
                    </a:lnTo>
                    <a:lnTo>
                      <a:pt x="38" y="690"/>
                    </a:lnTo>
                    <a:lnTo>
                      <a:pt x="40" y="712"/>
                    </a:lnTo>
                    <a:lnTo>
                      <a:pt x="41" y="733"/>
                    </a:lnTo>
                    <a:lnTo>
                      <a:pt x="44" y="753"/>
                    </a:lnTo>
                    <a:lnTo>
                      <a:pt x="45" y="77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1281240" y="3165480"/>
                <a:ext cx="69840" cy="611280"/>
              </a:xfrm>
              <a:custGeom>
                <a:avLst/>
                <a:gdLst/>
                <a:ahLst/>
                <a:rect l="l" t="t" r="r" b="b"/>
                <a:pathLst>
                  <a:path w="44" h="385">
                    <a:moveTo>
                      <a:pt x="0" y="0"/>
                    </a:moveTo>
                    <a:lnTo>
                      <a:pt x="3" y="35"/>
                    </a:lnTo>
                    <a:lnTo>
                      <a:pt x="5" y="68"/>
                    </a:lnTo>
                    <a:lnTo>
                      <a:pt x="8" y="98"/>
                    </a:lnTo>
                    <a:lnTo>
                      <a:pt x="11" y="127"/>
                    </a:lnTo>
                    <a:lnTo>
                      <a:pt x="14" y="154"/>
                    </a:lnTo>
                    <a:lnTo>
                      <a:pt x="16" y="180"/>
                    </a:lnTo>
                    <a:lnTo>
                      <a:pt x="19" y="203"/>
                    </a:lnTo>
                    <a:lnTo>
                      <a:pt x="22" y="226"/>
                    </a:lnTo>
                    <a:lnTo>
                      <a:pt x="25" y="248"/>
                    </a:lnTo>
                    <a:lnTo>
                      <a:pt x="28" y="269"/>
                    </a:lnTo>
                    <a:lnTo>
                      <a:pt x="33" y="308"/>
                    </a:lnTo>
                    <a:lnTo>
                      <a:pt x="39" y="347"/>
                    </a:lnTo>
                    <a:lnTo>
                      <a:pt x="44" y="38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351080" y="3776760"/>
                <a:ext cx="71280" cy="368280"/>
              </a:xfrm>
              <a:custGeom>
                <a:avLst/>
                <a:gdLst/>
                <a:ahLst/>
                <a:rect l="l" t="t" r="r" b="b"/>
                <a:pathLst>
                  <a:path w="45" h="232">
                    <a:moveTo>
                      <a:pt x="0" y="0"/>
                    </a:moveTo>
                    <a:lnTo>
                      <a:pt x="3" y="20"/>
                    </a:lnTo>
                    <a:lnTo>
                      <a:pt x="5" y="37"/>
                    </a:lnTo>
                    <a:lnTo>
                      <a:pt x="8" y="54"/>
                    </a:lnTo>
                    <a:lnTo>
                      <a:pt x="11" y="71"/>
                    </a:lnTo>
                    <a:lnTo>
                      <a:pt x="16" y="102"/>
                    </a:lnTo>
                    <a:lnTo>
                      <a:pt x="22" y="131"/>
                    </a:lnTo>
                    <a:lnTo>
                      <a:pt x="28" y="157"/>
                    </a:lnTo>
                    <a:lnTo>
                      <a:pt x="33" y="183"/>
                    </a:lnTo>
                    <a:lnTo>
                      <a:pt x="40" y="208"/>
                    </a:lnTo>
                    <a:lnTo>
                      <a:pt x="45" y="23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1422360" y="4145040"/>
                <a:ext cx="69840" cy="244440"/>
              </a:xfrm>
              <a:custGeom>
                <a:avLst/>
                <a:gdLst/>
                <a:ahLst/>
                <a:rect l="l" t="t" r="r" b="b"/>
                <a:pathLst>
                  <a:path w="44" h="154">
                    <a:moveTo>
                      <a:pt x="0" y="0"/>
                    </a:moveTo>
                    <a:lnTo>
                      <a:pt x="5" y="23"/>
                    </a:lnTo>
                    <a:lnTo>
                      <a:pt x="11" y="45"/>
                    </a:lnTo>
                    <a:lnTo>
                      <a:pt x="16" y="66"/>
                    </a:lnTo>
                    <a:lnTo>
                      <a:pt x="22" y="84"/>
                    </a:lnTo>
                    <a:lnTo>
                      <a:pt x="28" y="103"/>
                    </a:lnTo>
                    <a:lnTo>
                      <a:pt x="33" y="120"/>
                    </a:lnTo>
                    <a:lnTo>
                      <a:pt x="44" y="15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1492200" y="4389480"/>
                <a:ext cx="71640" cy="174600"/>
              </a:xfrm>
              <a:custGeom>
                <a:avLst/>
                <a:gdLst/>
                <a:ahLst/>
                <a:rect l="l" t="t" r="r" b="b"/>
                <a:pathLst>
                  <a:path w="45" h="110">
                    <a:moveTo>
                      <a:pt x="0" y="0"/>
                    </a:moveTo>
                    <a:lnTo>
                      <a:pt x="5" y="16"/>
                    </a:lnTo>
                    <a:lnTo>
                      <a:pt x="11" y="31"/>
                    </a:lnTo>
                    <a:lnTo>
                      <a:pt x="22" y="60"/>
                    </a:lnTo>
                    <a:lnTo>
                      <a:pt x="33" y="86"/>
                    </a:lnTo>
                    <a:lnTo>
                      <a:pt x="45" y="11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1563840" y="4564080"/>
                <a:ext cx="71280" cy="131760"/>
              </a:xfrm>
              <a:custGeom>
                <a:avLst/>
                <a:gdLst/>
                <a:ahLst/>
                <a:rect l="l" t="t" r="r" b="b"/>
                <a:pathLst>
                  <a:path w="45" h="83">
                    <a:moveTo>
                      <a:pt x="0" y="0"/>
                    </a:moveTo>
                    <a:lnTo>
                      <a:pt x="11" y="23"/>
                    </a:lnTo>
                    <a:lnTo>
                      <a:pt x="22" y="45"/>
                    </a:lnTo>
                    <a:lnTo>
                      <a:pt x="34" y="64"/>
                    </a:lnTo>
                    <a:lnTo>
                      <a:pt x="45" y="8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1635120" y="4695840"/>
                <a:ext cx="71280" cy="1033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0"/>
                    </a:moveTo>
                    <a:lnTo>
                      <a:pt x="11" y="18"/>
                    </a:lnTo>
                    <a:lnTo>
                      <a:pt x="22" y="34"/>
                    </a:lnTo>
                    <a:lnTo>
                      <a:pt x="34" y="50"/>
                    </a:lnTo>
                    <a:lnTo>
                      <a:pt x="45" y="6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1706400" y="4799160"/>
                <a:ext cx="69840" cy="7920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0" y="0"/>
                    </a:moveTo>
                    <a:lnTo>
                      <a:pt x="11" y="14"/>
                    </a:lnTo>
                    <a:lnTo>
                      <a:pt x="22" y="26"/>
                    </a:lnTo>
                    <a:lnTo>
                      <a:pt x="44" y="5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1776240" y="4878360"/>
                <a:ext cx="71640" cy="684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0" y="0"/>
                    </a:moveTo>
                    <a:lnTo>
                      <a:pt x="22" y="23"/>
                    </a:lnTo>
                    <a:lnTo>
                      <a:pt x="45" y="4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1847880" y="49467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0"/>
                    </a:moveTo>
                    <a:lnTo>
                      <a:pt x="22" y="18"/>
                    </a:lnTo>
                    <a:lnTo>
                      <a:pt x="44" y="3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1917720" y="500220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0"/>
                    </a:moveTo>
                    <a:lnTo>
                      <a:pt x="23" y="16"/>
                    </a:lnTo>
                    <a:lnTo>
                      <a:pt x="45" y="3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1989000" y="5049720"/>
                <a:ext cx="71640" cy="39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22" y="13"/>
                    </a:lnTo>
                    <a:lnTo>
                      <a:pt x="45" y="2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2060640" y="508968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0"/>
                    </a:moveTo>
                    <a:lnTo>
                      <a:pt x="23" y="11"/>
                    </a:lnTo>
                    <a:lnTo>
                      <a:pt x="45" y="2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2131920" y="512460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0" y="0"/>
                    </a:moveTo>
                    <a:lnTo>
                      <a:pt x="22" y="10"/>
                    </a:lnTo>
                    <a:lnTo>
                      <a:pt x="44" y="1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2201760" y="5154480"/>
                <a:ext cx="71640" cy="28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2273400" y="5183280"/>
                <a:ext cx="69840" cy="23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2343240" y="5207040"/>
                <a:ext cx="71280" cy="20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2414520" y="522756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22" y="6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2486160" y="5246640"/>
                <a:ext cx="71280" cy="17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557440" y="5264280"/>
                <a:ext cx="71640" cy="15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2629080" y="5280120"/>
                <a:ext cx="69840" cy="15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2698920" y="5295960"/>
                <a:ext cx="71280" cy="12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2770200" y="5308560"/>
                <a:ext cx="69840" cy="12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2840040" y="532116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22" y="4"/>
                    </a:lnTo>
                    <a:lnTo>
                      <a:pt x="46" y="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2913120" y="5332320"/>
                <a:ext cx="69840" cy="11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2982960" y="5343480"/>
                <a:ext cx="71280" cy="9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054240" y="5353200"/>
                <a:ext cx="6984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124080" y="5361120"/>
                <a:ext cx="7164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195720" y="536904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22" y="2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267000" y="5376960"/>
                <a:ext cx="7164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338640" y="5384880"/>
                <a:ext cx="6984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408480" y="5391000"/>
                <a:ext cx="7128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479760" y="5397480"/>
                <a:ext cx="6984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549600" y="5403960"/>
                <a:ext cx="7164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3621240" y="5410080"/>
                <a:ext cx="71280" cy="504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3692520" y="541512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3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763800" y="5421240"/>
                <a:ext cx="7164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835440" y="5425920"/>
                <a:ext cx="69840" cy="6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905280" y="543240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976560" y="5435640"/>
                <a:ext cx="6984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046400" y="544032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0"/>
                    </a:moveTo>
                    <a:lnTo>
                      <a:pt x="22" y="2"/>
                    </a:lnTo>
                    <a:lnTo>
                      <a:pt x="46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119480" y="544500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189320" y="544824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4260960" y="545148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330800" y="545616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402080" y="545940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4471920" y="54626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3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545000" y="54658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4614840" y="546732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4686480" y="547056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756320" y="547380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827600" y="54770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898880" y="547848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970520" y="54817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040360" y="5483160"/>
                <a:ext cx="7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111640" y="548640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183280" y="548784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253120" y="548964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1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326200" y="54928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396040" y="54943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467320" y="54957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537160" y="5497560"/>
                <a:ext cx="7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608800" y="550080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678640" y="5502240"/>
                <a:ext cx="7272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751360" y="550404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21200" y="550548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92840" y="55069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962680" y="55087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6033960" y="55101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6103800" y="55119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176880" y="55119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246720" y="551340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318360" y="551484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389640" y="551664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459480" y="551808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531120" y="55198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602400" y="551988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673680" y="5521320"/>
                <a:ext cx="7020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743880" y="552276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815160" y="55245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885000" y="55245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958080" y="552600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027920" y="552780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099200" y="552780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169040" y="552924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240680" y="552924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310520" y="553068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3" y="1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383600" y="55324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453440" y="55324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524720" y="55339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594560" y="553392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666200" y="55357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737480" y="55357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808760" y="553716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880400" y="55371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50240" y="553896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8021520" y="55389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1066680" y="1701720"/>
                <a:ext cx="69840" cy="3913200"/>
              </a:xfrm>
              <a:custGeom>
                <a:avLst/>
                <a:gdLst/>
                <a:ahLst/>
                <a:rect l="l" t="t" r="r" b="b"/>
                <a:pathLst>
                  <a:path w="44" h="2465">
                    <a:moveTo>
                      <a:pt x="0" y="2465"/>
                    </a:moveTo>
                    <a:lnTo>
                      <a:pt x="1" y="2387"/>
                    </a:lnTo>
                    <a:lnTo>
                      <a:pt x="3" y="2306"/>
                    </a:lnTo>
                    <a:lnTo>
                      <a:pt x="4" y="2224"/>
                    </a:lnTo>
                    <a:lnTo>
                      <a:pt x="5" y="2140"/>
                    </a:lnTo>
                    <a:lnTo>
                      <a:pt x="7" y="2054"/>
                    </a:lnTo>
                    <a:lnTo>
                      <a:pt x="8" y="1967"/>
                    </a:lnTo>
                    <a:lnTo>
                      <a:pt x="10" y="1880"/>
                    </a:lnTo>
                    <a:lnTo>
                      <a:pt x="11" y="1791"/>
                    </a:lnTo>
                    <a:lnTo>
                      <a:pt x="14" y="1612"/>
                    </a:lnTo>
                    <a:lnTo>
                      <a:pt x="16" y="1432"/>
                    </a:lnTo>
                    <a:lnTo>
                      <a:pt x="19" y="1254"/>
                    </a:lnTo>
                    <a:lnTo>
                      <a:pt x="20" y="1166"/>
                    </a:lnTo>
                    <a:lnTo>
                      <a:pt x="22" y="1079"/>
                    </a:lnTo>
                    <a:lnTo>
                      <a:pt x="23" y="993"/>
                    </a:lnTo>
                    <a:lnTo>
                      <a:pt x="25" y="908"/>
                    </a:lnTo>
                    <a:lnTo>
                      <a:pt x="26" y="825"/>
                    </a:lnTo>
                    <a:lnTo>
                      <a:pt x="27" y="744"/>
                    </a:lnTo>
                    <a:lnTo>
                      <a:pt x="29" y="665"/>
                    </a:lnTo>
                    <a:lnTo>
                      <a:pt x="30" y="588"/>
                    </a:lnTo>
                    <a:lnTo>
                      <a:pt x="31" y="514"/>
                    </a:lnTo>
                    <a:lnTo>
                      <a:pt x="33" y="443"/>
                    </a:lnTo>
                    <a:lnTo>
                      <a:pt x="34" y="409"/>
                    </a:lnTo>
                    <a:lnTo>
                      <a:pt x="34" y="374"/>
                    </a:lnTo>
                    <a:lnTo>
                      <a:pt x="35" y="342"/>
                    </a:lnTo>
                    <a:lnTo>
                      <a:pt x="36" y="310"/>
                    </a:lnTo>
                    <a:lnTo>
                      <a:pt x="36" y="278"/>
                    </a:lnTo>
                    <a:lnTo>
                      <a:pt x="37" y="248"/>
                    </a:lnTo>
                    <a:lnTo>
                      <a:pt x="38" y="219"/>
                    </a:lnTo>
                    <a:lnTo>
                      <a:pt x="38" y="190"/>
                    </a:lnTo>
                    <a:lnTo>
                      <a:pt x="39" y="163"/>
                    </a:lnTo>
                    <a:lnTo>
                      <a:pt x="40" y="137"/>
                    </a:lnTo>
                    <a:lnTo>
                      <a:pt x="41" y="110"/>
                    </a:lnTo>
                    <a:lnTo>
                      <a:pt x="41" y="86"/>
                    </a:lnTo>
                    <a:lnTo>
                      <a:pt x="42" y="63"/>
                    </a:lnTo>
                    <a:lnTo>
                      <a:pt x="43" y="41"/>
                    </a:lnTo>
                    <a:lnTo>
                      <a:pt x="43" y="2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1136520" y="168588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10"/>
                    </a:moveTo>
                    <a:lnTo>
                      <a:pt x="1" y="6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32" y="4"/>
                    </a:lnTo>
                    <a:lnTo>
                      <a:pt x="39" y="7"/>
                    </a:lnTo>
                    <a:lnTo>
                      <a:pt x="44" y="9"/>
                    </a:lnTo>
                    <a:lnTo>
                      <a:pt x="45" y="10"/>
                    </a:lnTo>
                    <a:lnTo>
                      <a:pt x="46" y="1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1209600" y="169236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6" y="5"/>
                    </a:lnTo>
                    <a:lnTo>
                      <a:pt x="11" y="4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9" y="2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1281240" y="1701720"/>
                <a:ext cx="69840" cy="12564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11" y="16"/>
                    </a:lnTo>
                    <a:lnTo>
                      <a:pt x="16" y="28"/>
                    </a:lnTo>
                    <a:lnTo>
                      <a:pt x="22" y="41"/>
                    </a:lnTo>
                    <a:lnTo>
                      <a:pt x="28" y="53"/>
                    </a:lnTo>
                    <a:lnTo>
                      <a:pt x="33" y="64"/>
                    </a:lnTo>
                    <a:lnTo>
                      <a:pt x="36" y="69"/>
                    </a:lnTo>
                    <a:lnTo>
                      <a:pt x="39" y="73"/>
                    </a:lnTo>
                    <a:lnTo>
                      <a:pt x="41" y="77"/>
                    </a:lnTo>
                    <a:lnTo>
                      <a:pt x="44" y="7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1351080" y="1801800"/>
                <a:ext cx="7128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6"/>
                    </a:moveTo>
                    <a:lnTo>
                      <a:pt x="3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7"/>
                    </a:lnTo>
                    <a:lnTo>
                      <a:pt x="22" y="13"/>
                    </a:lnTo>
                    <a:lnTo>
                      <a:pt x="33" y="6"/>
                    </a:lnTo>
                    <a:lnTo>
                      <a:pt x="40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1422360" y="178596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22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1492200" y="177480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7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1563840" y="176544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1635120" y="175752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5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V="1">
                <a:off x="1706400" y="1751040"/>
                <a:ext cx="69840" cy="6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1776240" y="1746000"/>
                <a:ext cx="71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V="1">
                <a:off x="1847880" y="1742760"/>
                <a:ext cx="6984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V="1">
                <a:off x="1917720" y="1739520"/>
                <a:ext cx="71280" cy="3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1989000" y="173664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V="1">
                <a:off x="2060640" y="1735200"/>
                <a:ext cx="71280" cy="1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2131920" y="172872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2201760" y="1733400"/>
                <a:ext cx="71640" cy="6372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0"/>
                    </a:moveTo>
                    <a:lnTo>
                      <a:pt x="5" y="3"/>
                    </a:lnTo>
                    <a:lnTo>
                      <a:pt x="12" y="8"/>
                    </a:lnTo>
                    <a:lnTo>
                      <a:pt x="17" y="14"/>
                    </a:lnTo>
                    <a:lnTo>
                      <a:pt x="23" y="21"/>
                    </a:lnTo>
                    <a:lnTo>
                      <a:pt x="29" y="27"/>
                    </a:lnTo>
                    <a:lnTo>
                      <a:pt x="34" y="32"/>
                    </a:lnTo>
                    <a:lnTo>
                      <a:pt x="40" y="37"/>
                    </a:lnTo>
                    <a:lnTo>
                      <a:pt x="45" y="4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2273400" y="17924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3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2" y="4"/>
                    </a:lnTo>
                    <a:lnTo>
                      <a:pt x="33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2343240" y="178596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2" y="3"/>
                    </a:lnTo>
                    <a:lnTo>
                      <a:pt x="23" y="1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2414520" y="1787400"/>
                <a:ext cx="71640" cy="3024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0"/>
                    </a:moveTo>
                    <a:lnTo>
                      <a:pt x="6" y="1"/>
                    </a:lnTo>
                    <a:lnTo>
                      <a:pt x="11" y="4"/>
                    </a:lnTo>
                    <a:lnTo>
                      <a:pt x="22" y="9"/>
                    </a:lnTo>
                    <a:lnTo>
                      <a:pt x="34" y="15"/>
                    </a:lnTo>
                    <a:lnTo>
                      <a:pt x="39" y="18"/>
                    </a:lnTo>
                    <a:lnTo>
                      <a:pt x="45" y="1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2486160" y="181296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3"/>
                    </a:moveTo>
                    <a:lnTo>
                      <a:pt x="12" y="4"/>
                    </a:lnTo>
                    <a:lnTo>
                      <a:pt x="23" y="3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2557440" y="180648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2629080" y="180324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2698920" y="179856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2770200" y="17906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5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1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2840040" y="1795320"/>
                <a:ext cx="73080" cy="6984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0" y="0"/>
                    </a:moveTo>
                    <a:lnTo>
                      <a:pt x="6" y="4"/>
                    </a:lnTo>
                    <a:lnTo>
                      <a:pt x="11" y="9"/>
                    </a:lnTo>
                    <a:lnTo>
                      <a:pt x="17" y="15"/>
                    </a:lnTo>
                    <a:lnTo>
                      <a:pt x="22" y="22"/>
                    </a:lnTo>
                    <a:lnTo>
                      <a:pt x="28" y="29"/>
                    </a:lnTo>
                    <a:lnTo>
                      <a:pt x="35" y="35"/>
                    </a:lnTo>
                    <a:lnTo>
                      <a:pt x="40" y="40"/>
                    </a:lnTo>
                    <a:lnTo>
                      <a:pt x="46" y="4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2913120" y="185904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4"/>
                    </a:moveTo>
                    <a:lnTo>
                      <a:pt x="6" y="6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2982960" y="18590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4" y="6"/>
                    </a:lnTo>
                    <a:lnTo>
                      <a:pt x="45" y="1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054240" y="18748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0"/>
                    </a:moveTo>
                    <a:lnTo>
                      <a:pt x="5" y="3"/>
                    </a:lnTo>
                    <a:lnTo>
                      <a:pt x="11" y="6"/>
                    </a:lnTo>
                    <a:lnTo>
                      <a:pt x="22" y="16"/>
                    </a:lnTo>
                    <a:lnTo>
                      <a:pt x="33" y="24"/>
                    </a:lnTo>
                    <a:lnTo>
                      <a:pt x="39" y="27"/>
                    </a:lnTo>
                    <a:lnTo>
                      <a:pt x="44" y="2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3124080" y="191448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4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22" y="4"/>
                    </a:lnTo>
                    <a:lnTo>
                      <a:pt x="3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3195720" y="190800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flipV="1">
                <a:off x="3267000" y="1901520"/>
                <a:ext cx="71640" cy="61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3338640" y="1893960"/>
                <a:ext cx="69840" cy="7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408480" y="188424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11" y="4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479760" y="18874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0"/>
                    </a:moveTo>
                    <a:lnTo>
                      <a:pt x="5" y="3"/>
                    </a:lnTo>
                    <a:lnTo>
                      <a:pt x="11" y="9"/>
                    </a:lnTo>
                    <a:lnTo>
                      <a:pt x="16" y="14"/>
                    </a:lnTo>
                    <a:lnTo>
                      <a:pt x="22" y="21"/>
                    </a:lnTo>
                    <a:lnTo>
                      <a:pt x="28" y="27"/>
                    </a:lnTo>
                    <a:lnTo>
                      <a:pt x="33" y="32"/>
                    </a:lnTo>
                    <a:lnTo>
                      <a:pt x="39" y="37"/>
                    </a:lnTo>
                    <a:lnTo>
                      <a:pt x="44" y="4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549600" y="194328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5"/>
                    </a:moveTo>
                    <a:lnTo>
                      <a:pt x="5" y="6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621240" y="194328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0"/>
                    </a:lnTo>
                    <a:lnTo>
                      <a:pt x="22" y="1"/>
                    </a:lnTo>
                    <a:lnTo>
                      <a:pt x="34" y="3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692520" y="195264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0"/>
                    </a:moveTo>
                    <a:lnTo>
                      <a:pt x="7" y="2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4" y="17"/>
                    </a:lnTo>
                    <a:lnTo>
                      <a:pt x="40" y="20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763800" y="197820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5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22" y="4"/>
                    </a:lnTo>
                    <a:lnTo>
                      <a:pt x="33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flipV="1">
                <a:off x="3835440" y="1971720"/>
                <a:ext cx="69840" cy="6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3905280" y="1965240"/>
                <a:ext cx="71280" cy="6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flipV="1">
                <a:off x="3976560" y="1958760"/>
                <a:ext cx="69840" cy="61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046400" y="1951200"/>
                <a:ext cx="73080" cy="792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5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119480" y="19526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17" y="10"/>
                    </a:lnTo>
                    <a:lnTo>
                      <a:pt x="22" y="14"/>
                    </a:lnTo>
                    <a:lnTo>
                      <a:pt x="28" y="19"/>
                    </a:lnTo>
                    <a:lnTo>
                      <a:pt x="33" y="23"/>
                    </a:lnTo>
                    <a:lnTo>
                      <a:pt x="39" y="27"/>
                    </a:lnTo>
                    <a:lnTo>
                      <a:pt x="44" y="2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189320" y="199224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4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22" y="4"/>
                    </a:lnTo>
                    <a:lnTo>
                      <a:pt x="34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260960" y="198756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11" y="2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330800" y="1987560"/>
                <a:ext cx="7128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0"/>
                    </a:moveTo>
                    <a:lnTo>
                      <a:pt x="5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402080" y="20034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4471920" y="199692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23" y="2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V="1">
                <a:off x="4545000" y="1990440"/>
                <a:ext cx="69840" cy="61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V="1">
                <a:off x="4614840" y="1985760"/>
                <a:ext cx="71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4686480" y="197820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5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4756320" y="1979640"/>
                <a:ext cx="7128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5" y="2"/>
                    </a:lnTo>
                    <a:lnTo>
                      <a:pt x="12" y="5"/>
                    </a:lnTo>
                    <a:lnTo>
                      <a:pt x="23" y="12"/>
                    </a:lnTo>
                    <a:lnTo>
                      <a:pt x="34" y="19"/>
                    </a:lnTo>
                    <a:lnTo>
                      <a:pt x="39" y="22"/>
                    </a:lnTo>
                    <a:lnTo>
                      <a:pt x="45" y="2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4827600" y="2011320"/>
                <a:ext cx="7128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4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22" y="3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4898880" y="2011320"/>
                <a:ext cx="7164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0"/>
                    </a:lnTo>
                    <a:lnTo>
                      <a:pt x="34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970520" y="201456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3" y="11"/>
                    </a:lnTo>
                    <a:lnTo>
                      <a:pt x="44" y="1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040360" y="203040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12" y="4"/>
                    </a:lnTo>
                    <a:lnTo>
                      <a:pt x="23" y="4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111640" y="202392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V="1">
                <a:off x="5183280" y="2018880"/>
                <a:ext cx="698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253120" y="2013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22" y="2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326200" y="20066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11" y="3"/>
                    </a:lnTo>
                    <a:lnTo>
                      <a:pt x="22" y="1"/>
                    </a:lnTo>
                    <a:lnTo>
                      <a:pt x="33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396040" y="2008080"/>
                <a:ext cx="712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0" y="0"/>
                    </a:moveTo>
                    <a:lnTo>
                      <a:pt x="5" y="1"/>
                    </a:lnTo>
                    <a:lnTo>
                      <a:pt x="11" y="4"/>
                    </a:lnTo>
                    <a:lnTo>
                      <a:pt x="22" y="9"/>
                    </a:lnTo>
                    <a:lnTo>
                      <a:pt x="34" y="15"/>
                    </a:lnTo>
                    <a:lnTo>
                      <a:pt x="40" y="19"/>
                    </a:lnTo>
                    <a:lnTo>
                      <a:pt x="45" y="2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467320" y="20350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3"/>
                    </a:moveTo>
                    <a:lnTo>
                      <a:pt x="11" y="4"/>
                    </a:lnTo>
                    <a:lnTo>
                      <a:pt x="22" y="3"/>
                    </a:lnTo>
                    <a:lnTo>
                      <a:pt x="33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537160" y="202896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608800" y="202896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33" y="5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5678640" y="2031840"/>
                <a:ext cx="7272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V="1">
                <a:off x="5751360" y="2026800"/>
                <a:ext cx="698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V="1">
                <a:off x="5821200" y="2022120"/>
                <a:ext cx="71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5892840" y="201780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3"/>
                    </a:moveTo>
                    <a:lnTo>
                      <a:pt x="22" y="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962680" y="20178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0"/>
                    </a:lnTo>
                    <a:lnTo>
                      <a:pt x="34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033960" y="20224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0" y="0"/>
                    </a:moveTo>
                    <a:lnTo>
                      <a:pt x="5" y="2"/>
                    </a:lnTo>
                    <a:lnTo>
                      <a:pt x="11" y="4"/>
                    </a:lnTo>
                    <a:lnTo>
                      <a:pt x="22" y="10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4" y="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103800" y="204624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3"/>
                    </a:moveTo>
                    <a:lnTo>
                      <a:pt x="12" y="4"/>
                    </a:lnTo>
                    <a:lnTo>
                      <a:pt x="23" y="3"/>
                    </a:lnTo>
                    <a:lnTo>
                      <a:pt x="35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6176880" y="2041200"/>
                <a:ext cx="698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6246720" y="2036520"/>
                <a:ext cx="71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318360" y="203040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1"/>
                    </a:lnTo>
                    <a:lnTo>
                      <a:pt x="33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6389640" y="203040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22" y="1"/>
                    </a:lnTo>
                    <a:lnTo>
                      <a:pt x="33" y="3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459480" y="2038320"/>
                <a:ext cx="7164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0"/>
                    </a:moveTo>
                    <a:lnTo>
                      <a:pt x="5" y="2"/>
                    </a:lnTo>
                    <a:lnTo>
                      <a:pt x="11" y="4"/>
                    </a:lnTo>
                    <a:lnTo>
                      <a:pt x="22" y="9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5" y="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531120" y="206208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3"/>
                    </a:moveTo>
                    <a:lnTo>
                      <a:pt x="11" y="4"/>
                    </a:lnTo>
                    <a:lnTo>
                      <a:pt x="22" y="3"/>
                    </a:lnTo>
                    <a:lnTo>
                      <a:pt x="34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6602400" y="20574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3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6673680" y="2057400"/>
                <a:ext cx="702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6743880" y="20541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6815160" y="2054160"/>
                <a:ext cx="69840" cy="972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2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6885000" y="206388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5" y="8"/>
                    </a:lnTo>
                    <a:lnTo>
                      <a:pt x="46" y="1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6958080" y="207972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11" y="1"/>
                    </a:lnTo>
                    <a:lnTo>
                      <a:pt x="22" y="1"/>
                    </a:lnTo>
                    <a:lnTo>
                      <a:pt x="33" y="2"/>
                    </a:lnTo>
                    <a:lnTo>
                      <a:pt x="44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027920" y="208440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11" y="2"/>
                    </a:lnTo>
                    <a:lnTo>
                      <a:pt x="23" y="5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8" name=""/>
            <p:cNvSpPr/>
            <p:nvPr/>
          </p:nvSpPr>
          <p:spPr>
            <a:xfrm>
              <a:off x="7099200" y="2103480"/>
              <a:ext cx="69840" cy="205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0" y="0"/>
                  </a:moveTo>
                  <a:lnTo>
                    <a:pt x="11" y="4"/>
                  </a:lnTo>
                  <a:lnTo>
                    <a:pt x="22" y="7"/>
                  </a:lnTo>
                  <a:lnTo>
                    <a:pt x="33" y="11"/>
                  </a:lnTo>
                  <a:lnTo>
                    <a:pt x="44" y="13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7169040" y="2119320"/>
              <a:ext cx="7164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3"/>
                  </a:moveTo>
                  <a:lnTo>
                    <a:pt x="11" y="3"/>
                  </a:lnTo>
                  <a:lnTo>
                    <a:pt x="23" y="2"/>
                  </a:lnTo>
                  <a:lnTo>
                    <a:pt x="34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flipV="1">
              <a:off x="7240680" y="2114280"/>
              <a:ext cx="698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310520" y="2109960"/>
              <a:ext cx="73080" cy="4680"/>
            </a:xfrm>
            <a:custGeom>
              <a:avLst/>
              <a:gdLst/>
              <a:ahLst/>
              <a:rect l="l" t="t" r="r" b="b"/>
              <a:pathLst>
                <a:path w="46" h="3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7383600" y="2106360"/>
              <a:ext cx="69840" cy="3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453440" y="2100240"/>
              <a:ext cx="7128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4"/>
                  </a:moveTo>
                  <a:lnTo>
                    <a:pt x="12" y="3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5" y="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524720" y="210168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0" y="0"/>
                  </a:moveTo>
                  <a:lnTo>
                    <a:pt x="5" y="1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3" y="15"/>
                  </a:lnTo>
                  <a:lnTo>
                    <a:pt x="39" y="18"/>
                  </a:lnTo>
                  <a:lnTo>
                    <a:pt x="44" y="19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594560" y="2127240"/>
              <a:ext cx="7164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3"/>
                  </a:moveTo>
                  <a:lnTo>
                    <a:pt x="12" y="4"/>
                  </a:lnTo>
                  <a:lnTo>
                    <a:pt x="23" y="3"/>
                  </a:lnTo>
                  <a:lnTo>
                    <a:pt x="34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7666200" y="2122200"/>
              <a:ext cx="7128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737480" y="2117880"/>
              <a:ext cx="7128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3"/>
                  </a:moveTo>
                  <a:lnTo>
                    <a:pt x="2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V="1">
              <a:off x="7808760" y="2112840"/>
              <a:ext cx="71640" cy="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V="1">
              <a:off x="7880400" y="2109960"/>
              <a:ext cx="69840" cy="2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950240" y="2104920"/>
              <a:ext cx="71280" cy="504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3"/>
                  </a:moveTo>
                  <a:lnTo>
                    <a:pt x="2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8021520" y="2101320"/>
              <a:ext cx="69840" cy="3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066680" y="1701720"/>
              <a:ext cx="69840" cy="3913200"/>
            </a:xfrm>
            <a:custGeom>
              <a:avLst/>
              <a:gdLst/>
              <a:ahLst/>
              <a:rect l="l" t="t" r="r" b="b"/>
              <a:pathLst>
                <a:path w="44" h="2465">
                  <a:moveTo>
                    <a:pt x="0" y="2465"/>
                  </a:moveTo>
                  <a:lnTo>
                    <a:pt x="1" y="2387"/>
                  </a:lnTo>
                  <a:lnTo>
                    <a:pt x="3" y="2306"/>
                  </a:lnTo>
                  <a:lnTo>
                    <a:pt x="4" y="2224"/>
                  </a:lnTo>
                  <a:lnTo>
                    <a:pt x="5" y="2140"/>
                  </a:lnTo>
                  <a:lnTo>
                    <a:pt x="7" y="2054"/>
                  </a:lnTo>
                  <a:lnTo>
                    <a:pt x="8" y="1967"/>
                  </a:lnTo>
                  <a:lnTo>
                    <a:pt x="10" y="1880"/>
                  </a:lnTo>
                  <a:lnTo>
                    <a:pt x="11" y="1791"/>
                  </a:lnTo>
                  <a:lnTo>
                    <a:pt x="14" y="1612"/>
                  </a:lnTo>
                  <a:lnTo>
                    <a:pt x="16" y="1432"/>
                  </a:lnTo>
                  <a:lnTo>
                    <a:pt x="19" y="1254"/>
                  </a:lnTo>
                  <a:lnTo>
                    <a:pt x="20" y="1166"/>
                  </a:lnTo>
                  <a:lnTo>
                    <a:pt x="22" y="1079"/>
                  </a:lnTo>
                  <a:lnTo>
                    <a:pt x="23" y="993"/>
                  </a:lnTo>
                  <a:lnTo>
                    <a:pt x="25" y="908"/>
                  </a:lnTo>
                  <a:lnTo>
                    <a:pt x="26" y="825"/>
                  </a:lnTo>
                  <a:lnTo>
                    <a:pt x="27" y="744"/>
                  </a:lnTo>
                  <a:lnTo>
                    <a:pt x="29" y="665"/>
                  </a:lnTo>
                  <a:lnTo>
                    <a:pt x="30" y="588"/>
                  </a:lnTo>
                  <a:lnTo>
                    <a:pt x="31" y="514"/>
                  </a:lnTo>
                  <a:lnTo>
                    <a:pt x="33" y="443"/>
                  </a:lnTo>
                  <a:lnTo>
                    <a:pt x="34" y="409"/>
                  </a:lnTo>
                  <a:lnTo>
                    <a:pt x="34" y="374"/>
                  </a:lnTo>
                  <a:lnTo>
                    <a:pt x="35" y="342"/>
                  </a:lnTo>
                  <a:lnTo>
                    <a:pt x="36" y="310"/>
                  </a:lnTo>
                  <a:lnTo>
                    <a:pt x="36" y="278"/>
                  </a:lnTo>
                  <a:lnTo>
                    <a:pt x="37" y="248"/>
                  </a:lnTo>
                  <a:lnTo>
                    <a:pt x="38" y="219"/>
                  </a:lnTo>
                  <a:lnTo>
                    <a:pt x="38" y="190"/>
                  </a:lnTo>
                  <a:lnTo>
                    <a:pt x="39" y="163"/>
                  </a:lnTo>
                  <a:lnTo>
                    <a:pt x="40" y="137"/>
                  </a:lnTo>
                  <a:lnTo>
                    <a:pt x="41" y="110"/>
                  </a:lnTo>
                  <a:lnTo>
                    <a:pt x="41" y="86"/>
                  </a:lnTo>
                  <a:lnTo>
                    <a:pt x="42" y="63"/>
                  </a:lnTo>
                  <a:lnTo>
                    <a:pt x="43" y="41"/>
                  </a:lnTo>
                  <a:lnTo>
                    <a:pt x="43" y="2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136520" y="1685880"/>
              <a:ext cx="73080" cy="158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0" y="10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32" y="4"/>
                  </a:lnTo>
                  <a:lnTo>
                    <a:pt x="39" y="7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209600" y="1693800"/>
              <a:ext cx="71640" cy="792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0" y="5"/>
                  </a:moveTo>
                  <a:lnTo>
                    <a:pt x="6" y="5"/>
                  </a:lnTo>
                  <a:lnTo>
                    <a:pt x="11" y="3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281240" y="1701720"/>
              <a:ext cx="69840" cy="10800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0" y="0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11" y="14"/>
                  </a:lnTo>
                  <a:lnTo>
                    <a:pt x="16" y="24"/>
                  </a:lnTo>
                  <a:lnTo>
                    <a:pt x="22" y="34"/>
                  </a:lnTo>
                  <a:lnTo>
                    <a:pt x="28" y="46"/>
                  </a:lnTo>
                  <a:lnTo>
                    <a:pt x="33" y="55"/>
                  </a:lnTo>
                  <a:lnTo>
                    <a:pt x="39" y="63"/>
                  </a:lnTo>
                  <a:lnTo>
                    <a:pt x="41" y="66"/>
                  </a:lnTo>
                  <a:lnTo>
                    <a:pt x="44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351080" y="178740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0" y="14"/>
                  </a:moveTo>
                  <a:lnTo>
                    <a:pt x="5" y="16"/>
                  </a:lnTo>
                  <a:lnTo>
                    <a:pt x="11" y="16"/>
                  </a:lnTo>
                  <a:lnTo>
                    <a:pt x="16" y="14"/>
                  </a:lnTo>
                  <a:lnTo>
                    <a:pt x="22" y="12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422360" y="1773360"/>
              <a:ext cx="69840" cy="14040"/>
            </a:xfrm>
            <a:custGeom>
              <a:avLst/>
              <a:gdLst/>
              <a:ahLst/>
              <a:rect l="l" t="t" r="r" b="b"/>
              <a:pathLst>
                <a:path w="44" h="9">
                  <a:moveTo>
                    <a:pt x="0" y="9"/>
                  </a:moveTo>
                  <a:lnTo>
                    <a:pt x="22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492200" y="1763640"/>
              <a:ext cx="71640" cy="972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6"/>
                  </a:moveTo>
                  <a:lnTo>
                    <a:pt x="22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563840" y="1754280"/>
              <a:ext cx="71280" cy="936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6"/>
                  </a:moveTo>
                  <a:lnTo>
                    <a:pt x="22" y="2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635120" y="1749600"/>
              <a:ext cx="7128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3"/>
                  </a:moveTo>
                  <a:lnTo>
                    <a:pt x="2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V="1">
              <a:off x="1706400" y="1744560"/>
              <a:ext cx="69840" cy="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1776240" y="1739520"/>
              <a:ext cx="7164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V="1">
              <a:off x="1847880" y="1736280"/>
              <a:ext cx="6984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1917720" y="173520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989000" y="1731960"/>
              <a:ext cx="7164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2"/>
                  </a:moveTo>
                  <a:lnTo>
                    <a:pt x="2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V="1">
              <a:off x="2060640" y="173052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V="1">
              <a:off x="2131920" y="172836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V="1">
              <a:off x="2201760" y="1727280"/>
              <a:ext cx="716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2273400" y="172512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2343240" y="172404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2414520" y="1722600"/>
              <a:ext cx="71640" cy="144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2486160" y="172260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2557440" y="1720800"/>
              <a:ext cx="71640" cy="180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629080" y="172080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2698920" y="1719360"/>
              <a:ext cx="71280" cy="144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2770200" y="171936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2840040" y="1717560"/>
              <a:ext cx="73080" cy="180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1"/>
                  </a:moveTo>
                  <a:lnTo>
                    <a:pt x="22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2913120" y="171756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2982960" y="1717560"/>
              <a:ext cx="712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054240" y="1716120"/>
              <a:ext cx="698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124080" y="1716120"/>
              <a:ext cx="716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195720" y="171612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267000" y="1714680"/>
              <a:ext cx="71640" cy="144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3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33864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408480" y="171468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47976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549600" y="1714680"/>
              <a:ext cx="716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621240" y="1712880"/>
              <a:ext cx="71280" cy="180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92520" y="1712880"/>
              <a:ext cx="712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763800" y="1712880"/>
              <a:ext cx="716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835440" y="171288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905280" y="1712880"/>
              <a:ext cx="712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976560" y="1711440"/>
              <a:ext cx="698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046400" y="1711440"/>
              <a:ext cx="73080" cy="4680"/>
            </a:xfrm>
            <a:custGeom>
              <a:avLst/>
              <a:gdLst/>
              <a:ahLst/>
              <a:rect l="l" t="t" r="r" b="b"/>
              <a:pathLst>
                <a:path w="46" h="3">
                  <a:moveTo>
                    <a:pt x="0" y="0"/>
                  </a:moveTo>
                  <a:lnTo>
                    <a:pt x="22" y="1"/>
                  </a:lnTo>
                  <a:lnTo>
                    <a:pt x="46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4119480" y="1716120"/>
              <a:ext cx="69840" cy="144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189320" y="1714680"/>
              <a:ext cx="71640" cy="144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26096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330800" y="171468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40208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471920" y="171468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3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454500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614840" y="1714680"/>
              <a:ext cx="716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4686480" y="1712880"/>
              <a:ext cx="69840" cy="180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4756320" y="1712880"/>
              <a:ext cx="712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4827600" y="1712880"/>
              <a:ext cx="7128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898880" y="1712880"/>
              <a:ext cx="71640" cy="180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lnTo>
                    <a:pt x="23" y="0"/>
                  </a:lnTo>
                  <a:lnTo>
                    <a:pt x="45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97052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040360" y="171468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111640" y="1714680"/>
              <a:ext cx="716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183280" y="1712880"/>
              <a:ext cx="69840" cy="180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253120" y="1712880"/>
              <a:ext cx="73080" cy="180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2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326200" y="1712880"/>
              <a:ext cx="69840" cy="180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0"/>
                  </a:moveTo>
                  <a:lnTo>
                    <a:pt x="22" y="0"/>
                  </a:lnTo>
                  <a:lnTo>
                    <a:pt x="4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396040" y="171468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46732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537160" y="1714680"/>
              <a:ext cx="716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608800" y="171468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678640" y="1714680"/>
              <a:ext cx="7272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2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751360" y="1714680"/>
              <a:ext cx="69840" cy="468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821200" y="171936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3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892840" y="171936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962680" y="171936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033960" y="171936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103800" y="1717560"/>
              <a:ext cx="73080" cy="180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1"/>
                  </a:moveTo>
                  <a:lnTo>
                    <a:pt x="23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176880" y="1717560"/>
              <a:ext cx="69840" cy="504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246720" y="172260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3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318360" y="1720800"/>
              <a:ext cx="71280" cy="180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389640" y="172080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459480" y="1720800"/>
              <a:ext cx="716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531120" y="1720800"/>
              <a:ext cx="7128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602400" y="1720800"/>
              <a:ext cx="7128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0"/>
                  </a:moveTo>
                  <a:lnTo>
                    <a:pt x="22" y="1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673680" y="1724040"/>
              <a:ext cx="70200" cy="144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743880" y="1724040"/>
              <a:ext cx="7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815160" y="172404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885000" y="172404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2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958080" y="1722600"/>
              <a:ext cx="698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027920" y="1722600"/>
              <a:ext cx="71280" cy="288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0"/>
                  </a:moveTo>
                  <a:lnTo>
                    <a:pt x="23" y="1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7099200" y="172548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169040" y="1724040"/>
              <a:ext cx="71640" cy="144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1"/>
                  </a:moveTo>
                  <a:lnTo>
                    <a:pt x="23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40680" y="172404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310520" y="172404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3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7383600" y="1724040"/>
              <a:ext cx="69840" cy="144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22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453440" y="1724040"/>
              <a:ext cx="7128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0"/>
                  </a:moveTo>
                  <a:lnTo>
                    <a:pt x="23" y="1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7524720" y="1725480"/>
              <a:ext cx="69840" cy="180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1"/>
                  </a:moveTo>
                  <a:lnTo>
                    <a:pt x="22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7594560" y="1725480"/>
              <a:ext cx="716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666200" y="1725480"/>
              <a:ext cx="712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7737480" y="1725480"/>
              <a:ext cx="7128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7808760" y="1725480"/>
              <a:ext cx="716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880400" y="1725480"/>
              <a:ext cx="698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7950240" y="1725480"/>
              <a:ext cx="712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V="1">
              <a:off x="8021520" y="1724040"/>
              <a:ext cx="698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9092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85800" y="4718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85800" y="393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85800" y="3154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85800" y="2370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80680" y="1587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80680" y="80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9860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7068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4481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625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7976880" y="57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rot="16200000">
              <a:off x="-1345680" y="3072600"/>
              <a:ext cx="336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umulative Food Sufficiency (%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057760" y="4724280"/>
              <a:ext cx="14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583440" y="2057400"/>
              <a:ext cx="294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gglomerated shif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4574160" y="1308240"/>
              <a:ext cx="242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persed shif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RYING CAPA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8" name=""/>
          <p:cNvSpPr/>
          <p:nvPr/>
        </p:nvSpPr>
        <p:spPr>
          <a:xfrm>
            <a:off x="3886200" y="3276720"/>
            <a:ext cx="3886200" cy="1676160"/>
          </a:xfrm>
          <a:prstGeom prst="wedgeEllipseCallout">
            <a:avLst>
              <a:gd name="adj1" fmla="val -57518"/>
              <a:gd name="adj2" fmla="val 7850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quire fertiliz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nd/or l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9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grpSp>
          <p:nvGrpSpPr>
            <p:cNvPr id="4480" name=""/>
            <p:cNvGrpSpPr/>
            <p:nvPr/>
          </p:nvGrpSpPr>
          <p:grpSpPr>
            <a:xfrm>
              <a:off x="885960" y="919080"/>
              <a:ext cx="7915320" cy="4752720"/>
              <a:chOff x="885960" y="919080"/>
              <a:chExt cx="7915320" cy="4752720"/>
            </a:xfrm>
          </p:grpSpPr>
          <p:sp>
            <p:nvSpPr>
              <p:cNvPr id="4481" name=""/>
              <p:cNvSpPr/>
              <p:nvPr/>
            </p:nvSpPr>
            <p:spPr>
              <a:xfrm>
                <a:off x="942840" y="919080"/>
                <a:ext cx="7858440" cy="4695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42840" y="919080"/>
                <a:ext cx="7858440" cy="4695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942840" y="919080"/>
                <a:ext cx="1800" cy="469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85960" y="561492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885960" y="4440240"/>
                <a:ext cx="56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85960" y="3268800"/>
                <a:ext cx="56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885960" y="209376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885960" y="919080"/>
                <a:ext cx="5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942840" y="5614920"/>
                <a:ext cx="785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942840" y="56145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2728800" y="56145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V="1">
                <a:off x="451656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V="1">
                <a:off x="6300720" y="56145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V="1">
                <a:off x="8086680" y="56145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14480" y="56149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7" y="9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085760" y="4876920"/>
                <a:ext cx="71640" cy="738000"/>
              </a:xfrm>
              <a:custGeom>
                <a:avLst/>
                <a:gdLst/>
                <a:ahLst/>
                <a:rect l="l" t="t" r="r" b="b"/>
                <a:pathLst>
                  <a:path w="45" h="465">
                    <a:moveTo>
                      <a:pt x="0" y="465"/>
                    </a:moveTo>
                    <a:lnTo>
                      <a:pt x="1" y="457"/>
                    </a:lnTo>
                    <a:lnTo>
                      <a:pt x="3" y="449"/>
                    </a:lnTo>
                    <a:lnTo>
                      <a:pt x="4" y="440"/>
                    </a:lnTo>
                    <a:lnTo>
                      <a:pt x="6" y="429"/>
                    </a:lnTo>
                    <a:lnTo>
                      <a:pt x="8" y="407"/>
                    </a:lnTo>
                    <a:lnTo>
                      <a:pt x="11" y="382"/>
                    </a:lnTo>
                    <a:lnTo>
                      <a:pt x="14" y="355"/>
                    </a:lnTo>
                    <a:lnTo>
                      <a:pt x="17" y="325"/>
                    </a:lnTo>
                    <a:lnTo>
                      <a:pt x="19" y="295"/>
                    </a:lnTo>
                    <a:lnTo>
                      <a:pt x="22" y="262"/>
                    </a:lnTo>
                    <a:lnTo>
                      <a:pt x="25" y="230"/>
                    </a:lnTo>
                    <a:lnTo>
                      <a:pt x="27" y="196"/>
                    </a:lnTo>
                    <a:lnTo>
                      <a:pt x="33" y="129"/>
                    </a:lnTo>
                    <a:lnTo>
                      <a:pt x="37" y="96"/>
                    </a:lnTo>
                    <a:lnTo>
                      <a:pt x="39" y="62"/>
                    </a:lnTo>
                    <a:lnTo>
                      <a:pt x="42" y="3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157400" y="4114800"/>
                <a:ext cx="71280" cy="762120"/>
              </a:xfrm>
              <a:custGeom>
                <a:avLst/>
                <a:gdLst/>
                <a:ahLst/>
                <a:rect l="l" t="t" r="r" b="b"/>
                <a:pathLst>
                  <a:path w="45" h="480">
                    <a:moveTo>
                      <a:pt x="0" y="480"/>
                    </a:moveTo>
                    <a:lnTo>
                      <a:pt x="6" y="421"/>
                    </a:lnTo>
                    <a:lnTo>
                      <a:pt x="11" y="361"/>
                    </a:lnTo>
                    <a:lnTo>
                      <a:pt x="22" y="240"/>
                    </a:lnTo>
                    <a:lnTo>
                      <a:pt x="34" y="118"/>
                    </a:lnTo>
                    <a:lnTo>
                      <a:pt x="39" y="5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228680" y="3403440"/>
                <a:ext cx="71640" cy="711360"/>
              </a:xfrm>
              <a:custGeom>
                <a:avLst/>
                <a:gdLst/>
                <a:ahLst/>
                <a:rect l="l" t="t" r="r" b="b"/>
                <a:pathLst>
                  <a:path w="45" h="448">
                    <a:moveTo>
                      <a:pt x="0" y="448"/>
                    </a:moveTo>
                    <a:lnTo>
                      <a:pt x="3" y="418"/>
                    </a:lnTo>
                    <a:lnTo>
                      <a:pt x="6" y="387"/>
                    </a:lnTo>
                    <a:lnTo>
                      <a:pt x="8" y="356"/>
                    </a:lnTo>
                    <a:lnTo>
                      <a:pt x="11" y="323"/>
                    </a:lnTo>
                    <a:lnTo>
                      <a:pt x="17" y="258"/>
                    </a:lnTo>
                    <a:lnTo>
                      <a:pt x="19" y="225"/>
                    </a:lnTo>
                    <a:lnTo>
                      <a:pt x="22" y="194"/>
                    </a:lnTo>
                    <a:lnTo>
                      <a:pt x="25" y="163"/>
                    </a:lnTo>
                    <a:lnTo>
                      <a:pt x="27" y="134"/>
                    </a:lnTo>
                    <a:lnTo>
                      <a:pt x="30" y="106"/>
                    </a:lnTo>
                    <a:lnTo>
                      <a:pt x="34" y="80"/>
                    </a:lnTo>
                    <a:lnTo>
                      <a:pt x="37" y="55"/>
                    </a:lnTo>
                    <a:lnTo>
                      <a:pt x="39" y="34"/>
                    </a:lnTo>
                    <a:lnTo>
                      <a:pt x="41" y="25"/>
                    </a:lnTo>
                    <a:lnTo>
                      <a:pt x="42" y="16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300320" y="3384720"/>
                <a:ext cx="71280" cy="1872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" y="8"/>
                    </a:lnTo>
                    <a:lnTo>
                      <a:pt x="3" y="6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30" y="3"/>
                    </a:lnTo>
                    <a:lnTo>
                      <a:pt x="37" y="6"/>
                    </a:lnTo>
                    <a:lnTo>
                      <a:pt x="42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371600" y="337824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1" y="10"/>
                    </a:lnTo>
                    <a:lnTo>
                      <a:pt x="22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442880" y="336240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10"/>
                    </a:moveTo>
                    <a:lnTo>
                      <a:pt x="22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514520" y="334980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23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585800" y="333684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22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657440" y="332424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23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728720" y="331488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1800360" y="3304800"/>
                <a:ext cx="71280" cy="9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871640" y="329580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1943280" y="3287880"/>
                <a:ext cx="7128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2014560" y="3281400"/>
                <a:ext cx="73080" cy="648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0" y="4"/>
                    </a:moveTo>
                    <a:lnTo>
                      <a:pt x="22" y="2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2087640" y="327348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5"/>
                    </a:moveTo>
                    <a:lnTo>
                      <a:pt x="22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2157480" y="3268800"/>
                <a:ext cx="73080" cy="4680"/>
              </a:xfrm>
              <a:custGeom>
                <a:avLst/>
                <a:gdLst/>
                <a:ahLst/>
                <a:rect l="l" t="t" r="r" b="b"/>
                <a:pathLst>
                  <a:path w="46" h="3">
                    <a:moveTo>
                      <a:pt x="0" y="3"/>
                    </a:moveTo>
                    <a:lnTo>
                      <a:pt x="22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2230560" y="326232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22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2300400" y="32590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2371680" y="325296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V="1">
                <a:off x="2443320" y="3247920"/>
                <a:ext cx="7128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2514600" y="32446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2585880" y="3241800"/>
                <a:ext cx="716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2657520" y="32385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2728800" y="323640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2800440" y="3233880"/>
                <a:ext cx="71280" cy="28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2871720" y="323172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2943360" y="322884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V="1">
                <a:off x="3014640" y="322740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3086280" y="322596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3157560" y="322380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3228840" y="322416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3301920" y="32227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3371760" y="32227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3444840" y="32209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3514680" y="322092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3586320" y="322092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3657600" y="32194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3728880" y="32194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3800520" y="321948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3871800" y="32194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3943440" y="321948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014720" y="32194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086360" y="32209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157640" y="322092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229280" y="32209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300560" y="322092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373640" y="32227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443480" y="32227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516560" y="322272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586400" y="322416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659480" y="32241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729320" y="3224160"/>
                <a:ext cx="7272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802040" y="32259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4871880" y="322596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4943520" y="32274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014800" y="322740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086440" y="322884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157720" y="322884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5229360" y="32306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5300640" y="323064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5372280" y="32320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5443560" y="323208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5514840" y="32338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1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5587920" y="32353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5657760" y="32353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5730840" y="32367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5800680" y="32385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873760" y="32385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5943600" y="324000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1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016680" y="324180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086520" y="324180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3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159600" y="324324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6229440" y="324468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300720" y="32464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6372360" y="324648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443640" y="324792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515280" y="32497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586560" y="32497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659640" y="32511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729480" y="32529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1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802560" y="325440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872400" y="325440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46" h="2">
                    <a:moveTo>
                      <a:pt x="0" y="0"/>
                    </a:moveTo>
                    <a:lnTo>
                      <a:pt x="22" y="0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945480" y="325764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015320" y="3259080"/>
                <a:ext cx="72720" cy="180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1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088040" y="32608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157880" y="32608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230960" y="32623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300800" y="326376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373880" y="326376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443720" y="326556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515360" y="326700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586640" y="326700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658280" y="32688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729560" y="327024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800840" y="327024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873920" y="327168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3760" y="327348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8016840" y="327348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014480" y="56149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7" y="9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085760" y="4876920"/>
                <a:ext cx="71640" cy="738000"/>
              </a:xfrm>
              <a:custGeom>
                <a:avLst/>
                <a:gdLst/>
                <a:ahLst/>
                <a:rect l="l" t="t" r="r" b="b"/>
                <a:pathLst>
                  <a:path w="45" h="465">
                    <a:moveTo>
                      <a:pt x="0" y="465"/>
                    </a:moveTo>
                    <a:lnTo>
                      <a:pt x="1" y="457"/>
                    </a:lnTo>
                    <a:lnTo>
                      <a:pt x="3" y="449"/>
                    </a:lnTo>
                    <a:lnTo>
                      <a:pt x="6" y="430"/>
                    </a:lnTo>
                    <a:lnTo>
                      <a:pt x="8" y="408"/>
                    </a:lnTo>
                    <a:lnTo>
                      <a:pt x="11" y="385"/>
                    </a:lnTo>
                    <a:lnTo>
                      <a:pt x="14" y="359"/>
                    </a:lnTo>
                    <a:lnTo>
                      <a:pt x="17" y="330"/>
                    </a:lnTo>
                    <a:lnTo>
                      <a:pt x="19" y="301"/>
                    </a:lnTo>
                    <a:lnTo>
                      <a:pt x="22" y="271"/>
                    </a:lnTo>
                    <a:lnTo>
                      <a:pt x="25" y="238"/>
                    </a:lnTo>
                    <a:lnTo>
                      <a:pt x="27" y="205"/>
                    </a:lnTo>
                    <a:lnTo>
                      <a:pt x="33" y="137"/>
                    </a:lnTo>
                    <a:lnTo>
                      <a:pt x="39" y="6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1157400" y="3922560"/>
                <a:ext cx="71280" cy="954360"/>
              </a:xfrm>
              <a:custGeom>
                <a:avLst/>
                <a:gdLst/>
                <a:ahLst/>
                <a:rect l="l" t="t" r="r" b="b"/>
                <a:pathLst>
                  <a:path w="45" h="601">
                    <a:moveTo>
                      <a:pt x="0" y="601"/>
                    </a:moveTo>
                    <a:lnTo>
                      <a:pt x="3" y="567"/>
                    </a:lnTo>
                    <a:lnTo>
                      <a:pt x="6" y="531"/>
                    </a:lnTo>
                    <a:lnTo>
                      <a:pt x="8" y="492"/>
                    </a:lnTo>
                    <a:lnTo>
                      <a:pt x="11" y="453"/>
                    </a:lnTo>
                    <a:lnTo>
                      <a:pt x="14" y="411"/>
                    </a:lnTo>
                    <a:lnTo>
                      <a:pt x="17" y="371"/>
                    </a:lnTo>
                    <a:lnTo>
                      <a:pt x="22" y="287"/>
                    </a:lnTo>
                    <a:lnTo>
                      <a:pt x="25" y="246"/>
                    </a:lnTo>
                    <a:lnTo>
                      <a:pt x="28" y="206"/>
                    </a:lnTo>
                    <a:lnTo>
                      <a:pt x="31" y="166"/>
                    </a:lnTo>
                    <a:lnTo>
                      <a:pt x="34" y="129"/>
                    </a:lnTo>
                    <a:lnTo>
                      <a:pt x="37" y="92"/>
                    </a:lnTo>
                    <a:lnTo>
                      <a:pt x="39" y="59"/>
                    </a:lnTo>
                    <a:lnTo>
                      <a:pt x="42" y="29"/>
                    </a:lnTo>
                    <a:lnTo>
                      <a:pt x="44" y="1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1228680" y="3537000"/>
                <a:ext cx="71640" cy="385560"/>
              </a:xfrm>
              <a:custGeom>
                <a:avLst/>
                <a:gdLst/>
                <a:ahLst/>
                <a:rect l="l" t="t" r="r" b="b"/>
                <a:pathLst>
                  <a:path w="45" h="243">
                    <a:moveTo>
                      <a:pt x="0" y="243"/>
                    </a:moveTo>
                    <a:lnTo>
                      <a:pt x="2" y="221"/>
                    </a:lnTo>
                    <a:lnTo>
                      <a:pt x="5" y="199"/>
                    </a:lnTo>
                    <a:lnTo>
                      <a:pt x="8" y="179"/>
                    </a:lnTo>
                    <a:lnTo>
                      <a:pt x="11" y="159"/>
                    </a:lnTo>
                    <a:lnTo>
                      <a:pt x="13" y="141"/>
                    </a:lnTo>
                    <a:lnTo>
                      <a:pt x="16" y="123"/>
                    </a:lnTo>
                    <a:lnTo>
                      <a:pt x="19" y="107"/>
                    </a:lnTo>
                    <a:lnTo>
                      <a:pt x="22" y="92"/>
                    </a:lnTo>
                    <a:lnTo>
                      <a:pt x="25" y="76"/>
                    </a:lnTo>
                    <a:lnTo>
                      <a:pt x="28" y="63"/>
                    </a:lnTo>
                    <a:lnTo>
                      <a:pt x="32" y="50"/>
                    </a:lnTo>
                    <a:lnTo>
                      <a:pt x="34" y="38"/>
                    </a:lnTo>
                    <a:lnTo>
                      <a:pt x="37" y="28"/>
                    </a:lnTo>
                    <a:lnTo>
                      <a:pt x="40" y="18"/>
                    </a:lnTo>
                    <a:lnTo>
                      <a:pt x="43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300320" y="345600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45" h="51">
                    <a:moveTo>
                      <a:pt x="0" y="51"/>
                    </a:moveTo>
                    <a:lnTo>
                      <a:pt x="4" y="39"/>
                    </a:lnTo>
                    <a:lnTo>
                      <a:pt x="10" y="31"/>
                    </a:lnTo>
                    <a:lnTo>
                      <a:pt x="16" y="24"/>
                    </a:lnTo>
                    <a:lnTo>
                      <a:pt x="22" y="18"/>
                    </a:lnTo>
                    <a:lnTo>
                      <a:pt x="29" y="13"/>
                    </a:lnTo>
                    <a:lnTo>
                      <a:pt x="35" y="9"/>
                    </a:lnTo>
                    <a:lnTo>
                      <a:pt x="41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371600" y="334008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0" y="73"/>
                    </a:moveTo>
                    <a:lnTo>
                      <a:pt x="3" y="69"/>
                    </a:lnTo>
                    <a:lnTo>
                      <a:pt x="6" y="64"/>
                    </a:lnTo>
                    <a:lnTo>
                      <a:pt x="11" y="53"/>
                    </a:lnTo>
                    <a:lnTo>
                      <a:pt x="17" y="41"/>
                    </a:lnTo>
                    <a:lnTo>
                      <a:pt x="22" y="28"/>
                    </a:lnTo>
                    <a:lnTo>
                      <a:pt x="28" y="17"/>
                    </a:lnTo>
                    <a:lnTo>
                      <a:pt x="31" y="12"/>
                    </a:lnTo>
                    <a:lnTo>
                      <a:pt x="34" y="8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442880" y="3340080"/>
                <a:ext cx="71640" cy="127080"/>
              </a:xfrm>
              <a:custGeom>
                <a:avLst/>
                <a:gdLst/>
                <a:ahLst/>
                <a:rect l="l" t="t" r="r" b="b"/>
                <a:pathLst>
                  <a:path w="45" h="80">
                    <a:moveTo>
                      <a:pt x="0" y="0"/>
                    </a:moveTo>
                    <a:lnTo>
                      <a:pt x="3" y="1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11" y="9"/>
                    </a:lnTo>
                    <a:lnTo>
                      <a:pt x="14" y="14"/>
                    </a:lnTo>
                    <a:lnTo>
                      <a:pt x="17" y="19"/>
                    </a:lnTo>
                    <a:lnTo>
                      <a:pt x="22" y="31"/>
                    </a:lnTo>
                    <a:lnTo>
                      <a:pt x="28" y="45"/>
                    </a:lnTo>
                    <a:lnTo>
                      <a:pt x="34" y="58"/>
                    </a:lnTo>
                    <a:lnTo>
                      <a:pt x="39" y="70"/>
                    </a:lnTo>
                    <a:lnTo>
                      <a:pt x="45" y="8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1514520" y="346716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0"/>
                    </a:moveTo>
                    <a:lnTo>
                      <a:pt x="6" y="10"/>
                    </a:lnTo>
                    <a:lnTo>
                      <a:pt x="11" y="21"/>
                    </a:lnTo>
                    <a:lnTo>
                      <a:pt x="17" y="32"/>
                    </a:lnTo>
                    <a:lnTo>
                      <a:pt x="23" y="43"/>
                    </a:lnTo>
                    <a:lnTo>
                      <a:pt x="28" y="53"/>
                    </a:lnTo>
                    <a:lnTo>
                      <a:pt x="34" y="60"/>
                    </a:lnTo>
                    <a:lnTo>
                      <a:pt x="37" y="63"/>
                    </a:lnTo>
                    <a:lnTo>
                      <a:pt x="39" y="65"/>
                    </a:lnTo>
                    <a:lnTo>
                      <a:pt x="42" y="67"/>
                    </a:lnTo>
                    <a:lnTo>
                      <a:pt x="45" y="6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585800" y="3465360"/>
                <a:ext cx="71640" cy="10800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0" y="68"/>
                    </a:moveTo>
                    <a:lnTo>
                      <a:pt x="6" y="67"/>
                    </a:lnTo>
                    <a:lnTo>
                      <a:pt x="11" y="62"/>
                    </a:lnTo>
                    <a:lnTo>
                      <a:pt x="17" y="56"/>
                    </a:lnTo>
                    <a:lnTo>
                      <a:pt x="22" y="48"/>
                    </a:lnTo>
                    <a:lnTo>
                      <a:pt x="28" y="37"/>
                    </a:lnTo>
                    <a:lnTo>
                      <a:pt x="34" y="25"/>
                    </a:lnTo>
                    <a:lnTo>
                      <a:pt x="39" y="1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657440" y="3228840"/>
                <a:ext cx="71280" cy="236520"/>
              </a:xfrm>
              <a:custGeom>
                <a:avLst/>
                <a:gdLst/>
                <a:ahLst/>
                <a:rect l="l" t="t" r="r" b="b"/>
                <a:pathLst>
                  <a:path w="45" h="149">
                    <a:moveTo>
                      <a:pt x="0" y="149"/>
                    </a:moveTo>
                    <a:lnTo>
                      <a:pt x="3" y="142"/>
                    </a:lnTo>
                    <a:lnTo>
                      <a:pt x="6" y="133"/>
                    </a:lnTo>
                    <a:lnTo>
                      <a:pt x="8" y="123"/>
                    </a:lnTo>
                    <a:lnTo>
                      <a:pt x="11" y="112"/>
                    </a:lnTo>
                    <a:lnTo>
                      <a:pt x="18" y="87"/>
                    </a:lnTo>
                    <a:lnTo>
                      <a:pt x="23" y="63"/>
                    </a:lnTo>
                    <a:lnTo>
                      <a:pt x="26" y="51"/>
                    </a:lnTo>
                    <a:lnTo>
                      <a:pt x="28" y="40"/>
                    </a:lnTo>
                    <a:lnTo>
                      <a:pt x="31" y="30"/>
                    </a:lnTo>
                    <a:lnTo>
                      <a:pt x="34" y="21"/>
                    </a:lnTo>
                    <a:lnTo>
                      <a:pt x="37" y="12"/>
                    </a:lnTo>
                    <a:lnTo>
                      <a:pt x="39" y="6"/>
                    </a:lnTo>
                    <a:lnTo>
                      <a:pt x="4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728720" y="3228840"/>
                <a:ext cx="71640" cy="196920"/>
              </a:xfrm>
              <a:custGeom>
                <a:avLst/>
                <a:gdLst/>
                <a:ahLst/>
                <a:rect l="l" t="t" r="r" b="b"/>
                <a:pathLst>
                  <a:path w="45" h="124">
                    <a:moveTo>
                      <a:pt x="0" y="0"/>
                    </a:moveTo>
                    <a:lnTo>
                      <a:pt x="3" y="1"/>
                    </a:lnTo>
                    <a:lnTo>
                      <a:pt x="6" y="3"/>
                    </a:lnTo>
                    <a:lnTo>
                      <a:pt x="8" y="8"/>
                    </a:lnTo>
                    <a:lnTo>
                      <a:pt x="11" y="15"/>
                    </a:lnTo>
                    <a:lnTo>
                      <a:pt x="14" y="24"/>
                    </a:lnTo>
                    <a:lnTo>
                      <a:pt x="17" y="33"/>
                    </a:lnTo>
                    <a:lnTo>
                      <a:pt x="20" y="44"/>
                    </a:lnTo>
                    <a:lnTo>
                      <a:pt x="22" y="54"/>
                    </a:lnTo>
                    <a:lnTo>
                      <a:pt x="28" y="76"/>
                    </a:lnTo>
                    <a:lnTo>
                      <a:pt x="31" y="87"/>
                    </a:lnTo>
                    <a:lnTo>
                      <a:pt x="34" y="96"/>
                    </a:lnTo>
                    <a:lnTo>
                      <a:pt x="37" y="106"/>
                    </a:lnTo>
                    <a:lnTo>
                      <a:pt x="39" y="114"/>
                    </a:lnTo>
                    <a:lnTo>
                      <a:pt x="42" y="120"/>
                    </a:lnTo>
                    <a:lnTo>
                      <a:pt x="45" y="12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800360" y="3387600"/>
                <a:ext cx="7128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4"/>
                    </a:moveTo>
                    <a:lnTo>
                      <a:pt x="5" y="28"/>
                    </a:lnTo>
                    <a:lnTo>
                      <a:pt x="11" y="29"/>
                    </a:lnTo>
                    <a:lnTo>
                      <a:pt x="17" y="28"/>
                    </a:lnTo>
                    <a:lnTo>
                      <a:pt x="23" y="26"/>
                    </a:lnTo>
                    <a:lnTo>
                      <a:pt x="29" y="21"/>
                    </a:lnTo>
                    <a:lnTo>
                      <a:pt x="35" y="16"/>
                    </a:lnTo>
                    <a:lnTo>
                      <a:pt x="40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1871640" y="3143160"/>
                <a:ext cx="71640" cy="244440"/>
              </a:xfrm>
              <a:custGeom>
                <a:avLst/>
                <a:gdLst/>
                <a:ahLst/>
                <a:rect l="l" t="t" r="r" b="b"/>
                <a:pathLst>
                  <a:path w="45" h="154">
                    <a:moveTo>
                      <a:pt x="0" y="154"/>
                    </a:moveTo>
                    <a:lnTo>
                      <a:pt x="1" y="151"/>
                    </a:lnTo>
                    <a:lnTo>
                      <a:pt x="3" y="147"/>
                    </a:lnTo>
                    <a:lnTo>
                      <a:pt x="6" y="138"/>
                    </a:lnTo>
                    <a:lnTo>
                      <a:pt x="8" y="126"/>
                    </a:lnTo>
                    <a:lnTo>
                      <a:pt x="11" y="113"/>
                    </a:lnTo>
                    <a:lnTo>
                      <a:pt x="14" y="99"/>
                    </a:lnTo>
                    <a:lnTo>
                      <a:pt x="17" y="84"/>
                    </a:lnTo>
                    <a:lnTo>
                      <a:pt x="20" y="68"/>
                    </a:lnTo>
                    <a:lnTo>
                      <a:pt x="22" y="53"/>
                    </a:lnTo>
                    <a:lnTo>
                      <a:pt x="25" y="39"/>
                    </a:lnTo>
                    <a:lnTo>
                      <a:pt x="28" y="27"/>
                    </a:lnTo>
                    <a:lnTo>
                      <a:pt x="31" y="16"/>
                    </a:lnTo>
                    <a:lnTo>
                      <a:pt x="34" y="8"/>
                    </a:lnTo>
                    <a:lnTo>
                      <a:pt x="35" y="5"/>
                    </a:lnTo>
                    <a:lnTo>
                      <a:pt x="37" y="2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1943280" y="3156120"/>
                <a:ext cx="71280" cy="666720"/>
              </a:xfrm>
              <a:custGeom>
                <a:avLst/>
                <a:gdLst/>
                <a:ahLst/>
                <a:rect l="l" t="t" r="r" b="b"/>
                <a:pathLst>
                  <a:path w="45" h="420">
                    <a:moveTo>
                      <a:pt x="0" y="0"/>
                    </a:moveTo>
                    <a:lnTo>
                      <a:pt x="1" y="5"/>
                    </a:lnTo>
                    <a:lnTo>
                      <a:pt x="3" y="11"/>
                    </a:lnTo>
                    <a:lnTo>
                      <a:pt x="5" y="18"/>
                    </a:lnTo>
                    <a:lnTo>
                      <a:pt x="7" y="27"/>
                    </a:lnTo>
                    <a:lnTo>
                      <a:pt x="8" y="36"/>
                    </a:lnTo>
                    <a:lnTo>
                      <a:pt x="9" y="47"/>
                    </a:lnTo>
                    <a:lnTo>
                      <a:pt x="11" y="58"/>
                    </a:lnTo>
                    <a:lnTo>
                      <a:pt x="12" y="71"/>
                    </a:lnTo>
                    <a:lnTo>
                      <a:pt x="15" y="98"/>
                    </a:lnTo>
                    <a:lnTo>
                      <a:pt x="18" y="126"/>
                    </a:lnTo>
                    <a:lnTo>
                      <a:pt x="20" y="158"/>
                    </a:lnTo>
                    <a:lnTo>
                      <a:pt x="23" y="190"/>
                    </a:lnTo>
                    <a:lnTo>
                      <a:pt x="28" y="256"/>
                    </a:lnTo>
                    <a:lnTo>
                      <a:pt x="31" y="288"/>
                    </a:lnTo>
                    <a:lnTo>
                      <a:pt x="34" y="318"/>
                    </a:lnTo>
                    <a:lnTo>
                      <a:pt x="37" y="348"/>
                    </a:lnTo>
                    <a:lnTo>
                      <a:pt x="39" y="375"/>
                    </a:lnTo>
                    <a:lnTo>
                      <a:pt x="41" y="387"/>
                    </a:lnTo>
                    <a:lnTo>
                      <a:pt x="42" y="399"/>
                    </a:lnTo>
                    <a:lnTo>
                      <a:pt x="44" y="410"/>
                    </a:lnTo>
                    <a:lnTo>
                      <a:pt x="45" y="42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014560" y="3822840"/>
                <a:ext cx="73080" cy="274320"/>
              </a:xfrm>
              <a:custGeom>
                <a:avLst/>
                <a:gdLst/>
                <a:ahLst/>
                <a:rect l="l" t="t" r="r" b="b"/>
                <a:pathLst>
                  <a:path w="46" h="173">
                    <a:moveTo>
                      <a:pt x="0" y="0"/>
                    </a:moveTo>
                    <a:lnTo>
                      <a:pt x="5" y="32"/>
                    </a:lnTo>
                    <a:lnTo>
                      <a:pt x="11" y="61"/>
                    </a:lnTo>
                    <a:lnTo>
                      <a:pt x="17" y="88"/>
                    </a:lnTo>
                    <a:lnTo>
                      <a:pt x="20" y="100"/>
                    </a:lnTo>
                    <a:lnTo>
                      <a:pt x="22" y="112"/>
                    </a:lnTo>
                    <a:lnTo>
                      <a:pt x="25" y="122"/>
                    </a:lnTo>
                    <a:lnTo>
                      <a:pt x="28" y="132"/>
                    </a:lnTo>
                    <a:lnTo>
                      <a:pt x="31" y="141"/>
                    </a:lnTo>
                    <a:lnTo>
                      <a:pt x="34" y="149"/>
                    </a:lnTo>
                    <a:lnTo>
                      <a:pt x="37" y="156"/>
                    </a:lnTo>
                    <a:lnTo>
                      <a:pt x="40" y="163"/>
                    </a:lnTo>
                    <a:lnTo>
                      <a:pt x="42" y="169"/>
                    </a:lnTo>
                    <a:lnTo>
                      <a:pt x="46" y="17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087640" y="404172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35"/>
                    </a:moveTo>
                    <a:lnTo>
                      <a:pt x="2" y="37"/>
                    </a:lnTo>
                    <a:lnTo>
                      <a:pt x="4" y="38"/>
                    </a:lnTo>
                    <a:lnTo>
                      <a:pt x="9" y="39"/>
                    </a:lnTo>
                    <a:lnTo>
                      <a:pt x="15" y="37"/>
                    </a:lnTo>
                    <a:lnTo>
                      <a:pt x="22" y="33"/>
                    </a:lnTo>
                    <a:lnTo>
                      <a:pt x="29" y="27"/>
                    </a:lnTo>
                    <a:lnTo>
                      <a:pt x="35" y="18"/>
                    </a:lnTo>
                    <a:lnTo>
                      <a:pt x="40" y="1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157480" y="3646440"/>
                <a:ext cx="73080" cy="395280"/>
              </a:xfrm>
              <a:custGeom>
                <a:avLst/>
                <a:gdLst/>
                <a:ahLst/>
                <a:rect l="l" t="t" r="r" b="b"/>
                <a:pathLst>
                  <a:path w="46" h="249">
                    <a:moveTo>
                      <a:pt x="0" y="249"/>
                    </a:moveTo>
                    <a:lnTo>
                      <a:pt x="3" y="240"/>
                    </a:lnTo>
                    <a:lnTo>
                      <a:pt x="6" y="229"/>
                    </a:lnTo>
                    <a:lnTo>
                      <a:pt x="8" y="217"/>
                    </a:lnTo>
                    <a:lnTo>
                      <a:pt x="11" y="203"/>
                    </a:lnTo>
                    <a:lnTo>
                      <a:pt x="14" y="189"/>
                    </a:lnTo>
                    <a:lnTo>
                      <a:pt x="17" y="173"/>
                    </a:lnTo>
                    <a:lnTo>
                      <a:pt x="22" y="141"/>
                    </a:lnTo>
                    <a:lnTo>
                      <a:pt x="28" y="107"/>
                    </a:lnTo>
                    <a:lnTo>
                      <a:pt x="34" y="71"/>
                    </a:lnTo>
                    <a:lnTo>
                      <a:pt x="40" y="35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230560" y="3179880"/>
                <a:ext cx="69840" cy="466560"/>
              </a:xfrm>
              <a:custGeom>
                <a:avLst/>
                <a:gdLst/>
                <a:ahLst/>
                <a:rect l="l" t="t" r="r" b="b"/>
                <a:pathLst>
                  <a:path w="44" h="294">
                    <a:moveTo>
                      <a:pt x="0" y="294"/>
                    </a:moveTo>
                    <a:lnTo>
                      <a:pt x="3" y="277"/>
                    </a:lnTo>
                    <a:lnTo>
                      <a:pt x="6" y="259"/>
                    </a:lnTo>
                    <a:lnTo>
                      <a:pt x="11" y="221"/>
                    </a:lnTo>
                    <a:lnTo>
                      <a:pt x="17" y="181"/>
                    </a:lnTo>
                    <a:lnTo>
                      <a:pt x="22" y="142"/>
                    </a:lnTo>
                    <a:lnTo>
                      <a:pt x="28" y="102"/>
                    </a:lnTo>
                    <a:lnTo>
                      <a:pt x="33" y="65"/>
                    </a:lnTo>
                    <a:lnTo>
                      <a:pt x="36" y="47"/>
                    </a:lnTo>
                    <a:lnTo>
                      <a:pt x="39" y="30"/>
                    </a:lnTo>
                    <a:lnTo>
                      <a:pt x="41" y="1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300400" y="2932200"/>
                <a:ext cx="71280" cy="24768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156"/>
                    </a:moveTo>
                    <a:lnTo>
                      <a:pt x="5" y="128"/>
                    </a:lnTo>
                    <a:lnTo>
                      <a:pt x="11" y="100"/>
                    </a:lnTo>
                    <a:lnTo>
                      <a:pt x="16" y="74"/>
                    </a:lnTo>
                    <a:lnTo>
                      <a:pt x="19" y="62"/>
                    </a:lnTo>
                    <a:lnTo>
                      <a:pt x="22" y="51"/>
                    </a:lnTo>
                    <a:lnTo>
                      <a:pt x="25" y="40"/>
                    </a:lnTo>
                    <a:lnTo>
                      <a:pt x="27" y="30"/>
                    </a:lnTo>
                    <a:lnTo>
                      <a:pt x="30" y="21"/>
                    </a:lnTo>
                    <a:lnTo>
                      <a:pt x="34" y="14"/>
                    </a:lnTo>
                    <a:lnTo>
                      <a:pt x="37" y="8"/>
                    </a:lnTo>
                    <a:lnTo>
                      <a:pt x="39" y="4"/>
                    </a:lnTo>
                    <a:lnTo>
                      <a:pt x="42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2371680" y="2932200"/>
                <a:ext cx="71640" cy="236520"/>
              </a:xfrm>
              <a:custGeom>
                <a:avLst/>
                <a:gdLst/>
                <a:ahLst/>
                <a:rect l="l" t="t" r="r" b="b"/>
                <a:pathLst>
                  <a:path w="45" h="149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6" y="6"/>
                    </a:lnTo>
                    <a:lnTo>
                      <a:pt x="8" y="13"/>
                    </a:lnTo>
                    <a:lnTo>
                      <a:pt x="11" y="22"/>
                    </a:lnTo>
                    <a:lnTo>
                      <a:pt x="14" y="34"/>
                    </a:lnTo>
                    <a:lnTo>
                      <a:pt x="17" y="46"/>
                    </a:lnTo>
                    <a:lnTo>
                      <a:pt x="20" y="59"/>
                    </a:lnTo>
                    <a:lnTo>
                      <a:pt x="22" y="72"/>
                    </a:lnTo>
                    <a:lnTo>
                      <a:pt x="28" y="99"/>
                    </a:lnTo>
                    <a:lnTo>
                      <a:pt x="31" y="111"/>
                    </a:lnTo>
                    <a:lnTo>
                      <a:pt x="34" y="124"/>
                    </a:lnTo>
                    <a:lnTo>
                      <a:pt x="37" y="133"/>
                    </a:lnTo>
                    <a:lnTo>
                      <a:pt x="39" y="141"/>
                    </a:lnTo>
                    <a:lnTo>
                      <a:pt x="42" y="146"/>
                    </a:lnTo>
                    <a:lnTo>
                      <a:pt x="44" y="148"/>
                    </a:lnTo>
                    <a:lnTo>
                      <a:pt x="45" y="14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2443320" y="2982960"/>
                <a:ext cx="71280" cy="185760"/>
              </a:xfrm>
              <a:custGeom>
                <a:avLst/>
                <a:gdLst/>
                <a:ahLst/>
                <a:rect l="l" t="t" r="r" b="b"/>
                <a:pathLst>
                  <a:path w="45" h="117">
                    <a:moveTo>
                      <a:pt x="0" y="117"/>
                    </a:moveTo>
                    <a:lnTo>
                      <a:pt x="3" y="117"/>
                    </a:lnTo>
                    <a:lnTo>
                      <a:pt x="6" y="115"/>
                    </a:lnTo>
                    <a:lnTo>
                      <a:pt x="8" y="111"/>
                    </a:lnTo>
                    <a:lnTo>
                      <a:pt x="11" y="106"/>
                    </a:lnTo>
                    <a:lnTo>
                      <a:pt x="14" y="99"/>
                    </a:lnTo>
                    <a:lnTo>
                      <a:pt x="17" y="91"/>
                    </a:lnTo>
                    <a:lnTo>
                      <a:pt x="19" y="82"/>
                    </a:lnTo>
                    <a:lnTo>
                      <a:pt x="22" y="72"/>
                    </a:lnTo>
                    <a:lnTo>
                      <a:pt x="27" y="53"/>
                    </a:lnTo>
                    <a:lnTo>
                      <a:pt x="34" y="33"/>
                    </a:lnTo>
                    <a:lnTo>
                      <a:pt x="37" y="24"/>
                    </a:lnTo>
                    <a:lnTo>
                      <a:pt x="39" y="15"/>
                    </a:lnTo>
                    <a:lnTo>
                      <a:pt x="42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2514600" y="2841480"/>
                <a:ext cx="71280" cy="141480"/>
              </a:xfrm>
              <a:custGeom>
                <a:avLst/>
                <a:gdLst/>
                <a:ahLst/>
                <a:rect l="l" t="t" r="r" b="b"/>
                <a:pathLst>
                  <a:path w="45" h="89">
                    <a:moveTo>
                      <a:pt x="0" y="89"/>
                    </a:moveTo>
                    <a:lnTo>
                      <a:pt x="2" y="85"/>
                    </a:lnTo>
                    <a:lnTo>
                      <a:pt x="4" y="78"/>
                    </a:lnTo>
                    <a:lnTo>
                      <a:pt x="7" y="71"/>
                    </a:lnTo>
                    <a:lnTo>
                      <a:pt x="10" y="63"/>
                    </a:lnTo>
                    <a:lnTo>
                      <a:pt x="16" y="45"/>
                    </a:lnTo>
                    <a:lnTo>
                      <a:pt x="22" y="27"/>
                    </a:lnTo>
                    <a:lnTo>
                      <a:pt x="26" y="19"/>
                    </a:lnTo>
                    <a:lnTo>
                      <a:pt x="29" y="12"/>
                    </a:lnTo>
                    <a:lnTo>
                      <a:pt x="32" y="7"/>
                    </a:lnTo>
                    <a:lnTo>
                      <a:pt x="35" y="2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4"/>
                    </a:lnTo>
                    <a:lnTo>
                      <a:pt x="44" y="8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2585880" y="2860560"/>
                <a:ext cx="71640" cy="828720"/>
              </a:xfrm>
              <a:custGeom>
                <a:avLst/>
                <a:gdLst/>
                <a:ahLst/>
                <a:rect l="l" t="t" r="r" b="b"/>
                <a:pathLst>
                  <a:path w="45" h="522">
                    <a:moveTo>
                      <a:pt x="0" y="0"/>
                    </a:moveTo>
                    <a:lnTo>
                      <a:pt x="1" y="8"/>
                    </a:lnTo>
                    <a:lnTo>
                      <a:pt x="3" y="17"/>
                    </a:lnTo>
                    <a:lnTo>
                      <a:pt x="4" y="27"/>
                    </a:lnTo>
                    <a:lnTo>
                      <a:pt x="6" y="38"/>
                    </a:lnTo>
                    <a:lnTo>
                      <a:pt x="7" y="51"/>
                    </a:lnTo>
                    <a:lnTo>
                      <a:pt x="8" y="64"/>
                    </a:lnTo>
                    <a:lnTo>
                      <a:pt x="10" y="80"/>
                    </a:lnTo>
                    <a:lnTo>
                      <a:pt x="11" y="95"/>
                    </a:lnTo>
                    <a:lnTo>
                      <a:pt x="12" y="112"/>
                    </a:lnTo>
                    <a:lnTo>
                      <a:pt x="14" y="128"/>
                    </a:lnTo>
                    <a:lnTo>
                      <a:pt x="17" y="165"/>
                    </a:lnTo>
                    <a:lnTo>
                      <a:pt x="19" y="203"/>
                    </a:lnTo>
                    <a:lnTo>
                      <a:pt x="22" y="242"/>
                    </a:lnTo>
                    <a:lnTo>
                      <a:pt x="28" y="321"/>
                    </a:lnTo>
                    <a:lnTo>
                      <a:pt x="31" y="361"/>
                    </a:lnTo>
                    <a:lnTo>
                      <a:pt x="34" y="398"/>
                    </a:lnTo>
                    <a:lnTo>
                      <a:pt x="37" y="434"/>
                    </a:lnTo>
                    <a:lnTo>
                      <a:pt x="38" y="451"/>
                    </a:lnTo>
                    <a:lnTo>
                      <a:pt x="39" y="467"/>
                    </a:lnTo>
                    <a:lnTo>
                      <a:pt x="41" y="482"/>
                    </a:lnTo>
                    <a:lnTo>
                      <a:pt x="42" y="496"/>
                    </a:lnTo>
                    <a:lnTo>
                      <a:pt x="44" y="510"/>
                    </a:lnTo>
                    <a:lnTo>
                      <a:pt x="45" y="52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2657520" y="3689280"/>
                <a:ext cx="71280" cy="347760"/>
              </a:xfrm>
              <a:custGeom>
                <a:avLst/>
                <a:gdLst/>
                <a:ahLst/>
                <a:rect l="l" t="t" r="r" b="b"/>
                <a:pathLst>
                  <a:path w="45" h="219">
                    <a:moveTo>
                      <a:pt x="0" y="0"/>
                    </a:moveTo>
                    <a:lnTo>
                      <a:pt x="3" y="20"/>
                    </a:lnTo>
                    <a:lnTo>
                      <a:pt x="5" y="40"/>
                    </a:lnTo>
                    <a:lnTo>
                      <a:pt x="8" y="58"/>
                    </a:lnTo>
                    <a:lnTo>
                      <a:pt x="11" y="77"/>
                    </a:lnTo>
                    <a:lnTo>
                      <a:pt x="14" y="94"/>
                    </a:lnTo>
                    <a:lnTo>
                      <a:pt x="17" y="110"/>
                    </a:lnTo>
                    <a:lnTo>
                      <a:pt x="20" y="125"/>
                    </a:lnTo>
                    <a:lnTo>
                      <a:pt x="22" y="139"/>
                    </a:lnTo>
                    <a:lnTo>
                      <a:pt x="25" y="152"/>
                    </a:lnTo>
                    <a:lnTo>
                      <a:pt x="28" y="166"/>
                    </a:lnTo>
                    <a:lnTo>
                      <a:pt x="31" y="177"/>
                    </a:lnTo>
                    <a:lnTo>
                      <a:pt x="34" y="187"/>
                    </a:lnTo>
                    <a:lnTo>
                      <a:pt x="37" y="197"/>
                    </a:lnTo>
                    <a:lnTo>
                      <a:pt x="40" y="205"/>
                    </a:lnTo>
                    <a:lnTo>
                      <a:pt x="42" y="213"/>
                    </a:lnTo>
                    <a:lnTo>
                      <a:pt x="45" y="21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2728800" y="4025880"/>
                <a:ext cx="71640" cy="255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7"/>
                    </a:moveTo>
                    <a:lnTo>
                      <a:pt x="3" y="11"/>
                    </a:lnTo>
                    <a:lnTo>
                      <a:pt x="8" y="14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0" y="15"/>
                    </a:lnTo>
                    <a:lnTo>
                      <a:pt x="37" y="12"/>
                    </a:lnTo>
                    <a:lnTo>
                      <a:pt x="42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2800440" y="3449520"/>
                <a:ext cx="71280" cy="576360"/>
              </a:xfrm>
              <a:custGeom>
                <a:avLst/>
                <a:gdLst/>
                <a:ahLst/>
                <a:rect l="l" t="t" r="r" b="b"/>
                <a:pathLst>
                  <a:path w="45" h="363">
                    <a:moveTo>
                      <a:pt x="0" y="363"/>
                    </a:moveTo>
                    <a:lnTo>
                      <a:pt x="3" y="350"/>
                    </a:lnTo>
                    <a:lnTo>
                      <a:pt x="6" y="335"/>
                    </a:lnTo>
                    <a:lnTo>
                      <a:pt x="8" y="318"/>
                    </a:lnTo>
                    <a:lnTo>
                      <a:pt x="11" y="297"/>
                    </a:lnTo>
                    <a:lnTo>
                      <a:pt x="14" y="277"/>
                    </a:lnTo>
                    <a:lnTo>
                      <a:pt x="17" y="254"/>
                    </a:lnTo>
                    <a:lnTo>
                      <a:pt x="20" y="230"/>
                    </a:lnTo>
                    <a:lnTo>
                      <a:pt x="22" y="205"/>
                    </a:lnTo>
                    <a:lnTo>
                      <a:pt x="28" y="154"/>
                    </a:lnTo>
                    <a:lnTo>
                      <a:pt x="34" y="100"/>
                    </a:lnTo>
                    <a:lnTo>
                      <a:pt x="39" y="48"/>
                    </a:lnTo>
                    <a:lnTo>
                      <a:pt x="42" y="2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871720" y="2838600"/>
                <a:ext cx="71640" cy="610920"/>
              </a:xfrm>
              <a:custGeom>
                <a:avLst/>
                <a:gdLst/>
                <a:ahLst/>
                <a:rect l="l" t="t" r="r" b="b"/>
                <a:pathLst>
                  <a:path w="45" h="385">
                    <a:moveTo>
                      <a:pt x="0" y="385"/>
                    </a:moveTo>
                    <a:lnTo>
                      <a:pt x="3" y="361"/>
                    </a:lnTo>
                    <a:lnTo>
                      <a:pt x="6" y="335"/>
                    </a:lnTo>
                    <a:lnTo>
                      <a:pt x="8" y="310"/>
                    </a:lnTo>
                    <a:lnTo>
                      <a:pt x="11" y="283"/>
                    </a:lnTo>
                    <a:lnTo>
                      <a:pt x="18" y="229"/>
                    </a:lnTo>
                    <a:lnTo>
                      <a:pt x="23" y="174"/>
                    </a:lnTo>
                    <a:lnTo>
                      <a:pt x="26" y="148"/>
                    </a:lnTo>
                    <a:lnTo>
                      <a:pt x="28" y="123"/>
                    </a:lnTo>
                    <a:lnTo>
                      <a:pt x="31" y="99"/>
                    </a:lnTo>
                    <a:lnTo>
                      <a:pt x="34" y="75"/>
                    </a:lnTo>
                    <a:lnTo>
                      <a:pt x="37" y="54"/>
                    </a:lnTo>
                    <a:lnTo>
                      <a:pt x="39" y="34"/>
                    </a:lnTo>
                    <a:lnTo>
                      <a:pt x="42" y="1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2943360" y="271944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45" h="75">
                    <a:moveTo>
                      <a:pt x="0" y="75"/>
                    </a:moveTo>
                    <a:lnTo>
                      <a:pt x="4" y="60"/>
                    </a:lnTo>
                    <a:lnTo>
                      <a:pt x="9" y="45"/>
                    </a:lnTo>
                    <a:lnTo>
                      <a:pt x="16" y="33"/>
                    </a:lnTo>
                    <a:lnTo>
                      <a:pt x="22" y="22"/>
                    </a:lnTo>
                    <a:lnTo>
                      <a:pt x="29" y="13"/>
                    </a:lnTo>
                    <a:lnTo>
                      <a:pt x="36" y="6"/>
                    </a:lnTo>
                    <a:lnTo>
                      <a:pt x="41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014640" y="2719440"/>
                <a:ext cx="71640" cy="9360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0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9" y="5"/>
                    </a:lnTo>
                    <a:lnTo>
                      <a:pt x="12" y="9"/>
                    </a:lnTo>
                    <a:lnTo>
                      <a:pt x="15" y="13"/>
                    </a:lnTo>
                    <a:lnTo>
                      <a:pt x="18" y="19"/>
                    </a:lnTo>
                    <a:lnTo>
                      <a:pt x="23" y="30"/>
                    </a:lnTo>
                    <a:lnTo>
                      <a:pt x="28" y="42"/>
                    </a:lnTo>
                    <a:lnTo>
                      <a:pt x="31" y="47"/>
                    </a:lnTo>
                    <a:lnTo>
                      <a:pt x="34" y="51"/>
                    </a:lnTo>
                    <a:lnTo>
                      <a:pt x="37" y="55"/>
                    </a:lnTo>
                    <a:lnTo>
                      <a:pt x="39" y="58"/>
                    </a:lnTo>
                    <a:lnTo>
                      <a:pt x="42" y="59"/>
                    </a:lnTo>
                    <a:lnTo>
                      <a:pt x="45" y="5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086280" y="2674800"/>
                <a:ext cx="7128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0" y="87"/>
                    </a:moveTo>
                    <a:lnTo>
                      <a:pt x="3" y="85"/>
                    </a:lnTo>
                    <a:lnTo>
                      <a:pt x="6" y="83"/>
                    </a:lnTo>
                    <a:lnTo>
                      <a:pt x="8" y="79"/>
                    </a:lnTo>
                    <a:lnTo>
                      <a:pt x="11" y="74"/>
                    </a:lnTo>
                    <a:lnTo>
                      <a:pt x="14" y="68"/>
                    </a:lnTo>
                    <a:lnTo>
                      <a:pt x="17" y="62"/>
                    </a:lnTo>
                    <a:lnTo>
                      <a:pt x="22" y="48"/>
                    </a:lnTo>
                    <a:lnTo>
                      <a:pt x="28" y="33"/>
                    </a:lnTo>
                    <a:lnTo>
                      <a:pt x="34" y="19"/>
                    </a:lnTo>
                    <a:lnTo>
                      <a:pt x="37" y="13"/>
                    </a:lnTo>
                    <a:lnTo>
                      <a:pt x="39" y="8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157560" y="266076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9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9" y="5"/>
                    </a:lnTo>
                    <a:lnTo>
                      <a:pt x="16" y="2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37" y="1"/>
                    </a:lnTo>
                    <a:lnTo>
                      <a:pt x="42" y="5"/>
                    </a:lnTo>
                    <a:lnTo>
                      <a:pt x="44" y="7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28840" y="2678040"/>
                <a:ext cx="73080" cy="855720"/>
              </a:xfrm>
              <a:custGeom>
                <a:avLst/>
                <a:gdLst/>
                <a:ahLst/>
                <a:rect l="l" t="t" r="r" b="b"/>
                <a:pathLst>
                  <a:path w="46" h="539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32"/>
                    </a:lnTo>
                    <a:lnTo>
                      <a:pt x="6" y="44"/>
                    </a:lnTo>
                    <a:lnTo>
                      <a:pt x="7" y="58"/>
                    </a:lnTo>
                    <a:lnTo>
                      <a:pt x="8" y="72"/>
                    </a:lnTo>
                    <a:lnTo>
                      <a:pt x="10" y="88"/>
                    </a:lnTo>
                    <a:lnTo>
                      <a:pt x="11" y="104"/>
                    </a:lnTo>
                    <a:lnTo>
                      <a:pt x="14" y="140"/>
                    </a:lnTo>
                    <a:lnTo>
                      <a:pt x="17" y="177"/>
                    </a:lnTo>
                    <a:lnTo>
                      <a:pt x="20" y="216"/>
                    </a:lnTo>
                    <a:lnTo>
                      <a:pt x="22" y="256"/>
                    </a:lnTo>
                    <a:lnTo>
                      <a:pt x="25" y="297"/>
                    </a:lnTo>
                    <a:lnTo>
                      <a:pt x="28" y="336"/>
                    </a:lnTo>
                    <a:lnTo>
                      <a:pt x="31" y="376"/>
                    </a:lnTo>
                    <a:lnTo>
                      <a:pt x="34" y="414"/>
                    </a:lnTo>
                    <a:lnTo>
                      <a:pt x="37" y="449"/>
                    </a:lnTo>
                    <a:lnTo>
                      <a:pt x="38" y="467"/>
                    </a:lnTo>
                    <a:lnTo>
                      <a:pt x="39" y="483"/>
                    </a:lnTo>
                    <a:lnTo>
                      <a:pt x="42" y="498"/>
                    </a:lnTo>
                    <a:lnTo>
                      <a:pt x="43" y="512"/>
                    </a:lnTo>
                    <a:lnTo>
                      <a:pt x="45" y="526"/>
                    </a:lnTo>
                    <a:lnTo>
                      <a:pt x="46" y="53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301920" y="3533760"/>
                <a:ext cx="69840" cy="344520"/>
              </a:xfrm>
              <a:custGeom>
                <a:avLst/>
                <a:gdLst/>
                <a:ahLst/>
                <a:rect l="l" t="t" r="r" b="b"/>
                <a:pathLst>
                  <a:path w="44" h="217">
                    <a:moveTo>
                      <a:pt x="0" y="0"/>
                    </a:moveTo>
                    <a:lnTo>
                      <a:pt x="2" y="20"/>
                    </a:lnTo>
                    <a:lnTo>
                      <a:pt x="5" y="39"/>
                    </a:lnTo>
                    <a:lnTo>
                      <a:pt x="8" y="58"/>
                    </a:lnTo>
                    <a:lnTo>
                      <a:pt x="11" y="75"/>
                    </a:lnTo>
                    <a:lnTo>
                      <a:pt x="13" y="93"/>
                    </a:lnTo>
                    <a:lnTo>
                      <a:pt x="16" y="109"/>
                    </a:lnTo>
                    <a:lnTo>
                      <a:pt x="19" y="124"/>
                    </a:lnTo>
                    <a:lnTo>
                      <a:pt x="22" y="138"/>
                    </a:lnTo>
                    <a:lnTo>
                      <a:pt x="25" y="151"/>
                    </a:lnTo>
                    <a:lnTo>
                      <a:pt x="28" y="164"/>
                    </a:lnTo>
                    <a:lnTo>
                      <a:pt x="31" y="176"/>
                    </a:lnTo>
                    <a:lnTo>
                      <a:pt x="33" y="186"/>
                    </a:lnTo>
                    <a:lnTo>
                      <a:pt x="36" y="195"/>
                    </a:lnTo>
                    <a:lnTo>
                      <a:pt x="39" y="204"/>
                    </a:lnTo>
                    <a:lnTo>
                      <a:pt x="42" y="211"/>
                    </a:lnTo>
                    <a:lnTo>
                      <a:pt x="44" y="21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371760" y="386388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9"/>
                    </a:moveTo>
                    <a:lnTo>
                      <a:pt x="3" y="13"/>
                    </a:lnTo>
                    <a:lnTo>
                      <a:pt x="8" y="16"/>
                    </a:lnTo>
                    <a:lnTo>
                      <a:pt x="15" y="17"/>
                    </a:lnTo>
                    <a:lnTo>
                      <a:pt x="22" y="17"/>
                    </a:lnTo>
                    <a:lnTo>
                      <a:pt x="30" y="16"/>
                    </a:lnTo>
                    <a:lnTo>
                      <a:pt x="38" y="12"/>
                    </a:lnTo>
                    <a:lnTo>
                      <a:pt x="43" y="7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444840" y="3244680"/>
                <a:ext cx="69840" cy="619200"/>
              </a:xfrm>
              <a:custGeom>
                <a:avLst/>
                <a:gdLst/>
                <a:ahLst/>
                <a:rect l="l" t="t" r="r" b="b"/>
                <a:pathLst>
                  <a:path w="44" h="390">
                    <a:moveTo>
                      <a:pt x="0" y="390"/>
                    </a:moveTo>
                    <a:lnTo>
                      <a:pt x="3" y="376"/>
                    </a:lnTo>
                    <a:lnTo>
                      <a:pt x="6" y="360"/>
                    </a:lnTo>
                    <a:lnTo>
                      <a:pt x="8" y="340"/>
                    </a:lnTo>
                    <a:lnTo>
                      <a:pt x="11" y="320"/>
                    </a:lnTo>
                    <a:lnTo>
                      <a:pt x="14" y="297"/>
                    </a:lnTo>
                    <a:lnTo>
                      <a:pt x="17" y="273"/>
                    </a:lnTo>
                    <a:lnTo>
                      <a:pt x="19" y="247"/>
                    </a:lnTo>
                    <a:lnTo>
                      <a:pt x="22" y="220"/>
                    </a:lnTo>
                    <a:lnTo>
                      <a:pt x="25" y="193"/>
                    </a:lnTo>
                    <a:lnTo>
                      <a:pt x="28" y="164"/>
                    </a:lnTo>
                    <a:lnTo>
                      <a:pt x="33" y="108"/>
                    </a:lnTo>
                    <a:lnTo>
                      <a:pt x="36" y="80"/>
                    </a:lnTo>
                    <a:lnTo>
                      <a:pt x="39" y="53"/>
                    </a:lnTo>
                    <a:lnTo>
                      <a:pt x="41" y="2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514680" y="2598840"/>
                <a:ext cx="71640" cy="645840"/>
              </a:xfrm>
              <a:custGeom>
                <a:avLst/>
                <a:gdLst/>
                <a:ahLst/>
                <a:rect l="l" t="t" r="r" b="b"/>
                <a:pathLst>
                  <a:path w="45" h="407">
                    <a:moveTo>
                      <a:pt x="0" y="407"/>
                    </a:moveTo>
                    <a:lnTo>
                      <a:pt x="3" y="382"/>
                    </a:lnTo>
                    <a:lnTo>
                      <a:pt x="5" y="355"/>
                    </a:lnTo>
                    <a:lnTo>
                      <a:pt x="8" y="326"/>
                    </a:lnTo>
                    <a:lnTo>
                      <a:pt x="11" y="297"/>
                    </a:lnTo>
                    <a:lnTo>
                      <a:pt x="16" y="238"/>
                    </a:lnTo>
                    <a:lnTo>
                      <a:pt x="22" y="180"/>
                    </a:lnTo>
                    <a:lnTo>
                      <a:pt x="25" y="151"/>
                    </a:lnTo>
                    <a:lnTo>
                      <a:pt x="27" y="124"/>
                    </a:lnTo>
                    <a:lnTo>
                      <a:pt x="30" y="99"/>
                    </a:lnTo>
                    <a:lnTo>
                      <a:pt x="34" y="75"/>
                    </a:lnTo>
                    <a:lnTo>
                      <a:pt x="37" y="52"/>
                    </a:lnTo>
                    <a:lnTo>
                      <a:pt x="39" y="32"/>
                    </a:lnTo>
                    <a:lnTo>
                      <a:pt x="42" y="15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586320" y="2570040"/>
                <a:ext cx="71280" cy="2880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8"/>
                    </a:moveTo>
                    <a:lnTo>
                      <a:pt x="3" y="11"/>
                    </a:lnTo>
                    <a:lnTo>
                      <a:pt x="8" y="6"/>
                    </a:lnTo>
                    <a:lnTo>
                      <a:pt x="15" y="2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37" y="1"/>
                    </a:lnTo>
                    <a:lnTo>
                      <a:pt x="42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657600" y="2575080"/>
                <a:ext cx="71280" cy="9036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8" y="9"/>
                    </a:lnTo>
                    <a:lnTo>
                      <a:pt x="11" y="13"/>
                    </a:lnTo>
                    <a:lnTo>
                      <a:pt x="17" y="23"/>
                    </a:lnTo>
                    <a:lnTo>
                      <a:pt x="22" y="33"/>
                    </a:lnTo>
                    <a:lnTo>
                      <a:pt x="28" y="43"/>
                    </a:lnTo>
                    <a:lnTo>
                      <a:pt x="34" y="51"/>
                    </a:lnTo>
                    <a:lnTo>
                      <a:pt x="37" y="54"/>
                    </a:lnTo>
                    <a:lnTo>
                      <a:pt x="39" y="56"/>
                    </a:lnTo>
                    <a:lnTo>
                      <a:pt x="42" y="57"/>
                    </a:lnTo>
                    <a:lnTo>
                      <a:pt x="45" y="5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728880" y="2538360"/>
                <a:ext cx="71640" cy="127080"/>
              </a:xfrm>
              <a:custGeom>
                <a:avLst/>
                <a:gdLst/>
                <a:ahLst/>
                <a:rect l="l" t="t" r="r" b="b"/>
                <a:pathLst>
                  <a:path w="45" h="80">
                    <a:moveTo>
                      <a:pt x="0" y="80"/>
                    </a:moveTo>
                    <a:lnTo>
                      <a:pt x="3" y="79"/>
                    </a:lnTo>
                    <a:lnTo>
                      <a:pt x="6" y="76"/>
                    </a:lnTo>
                    <a:lnTo>
                      <a:pt x="8" y="72"/>
                    </a:lnTo>
                    <a:lnTo>
                      <a:pt x="11" y="68"/>
                    </a:lnTo>
                    <a:lnTo>
                      <a:pt x="17" y="57"/>
                    </a:lnTo>
                    <a:lnTo>
                      <a:pt x="22" y="44"/>
                    </a:lnTo>
                    <a:lnTo>
                      <a:pt x="28" y="30"/>
                    </a:lnTo>
                    <a:lnTo>
                      <a:pt x="34" y="17"/>
                    </a:lnTo>
                    <a:lnTo>
                      <a:pt x="37" y="12"/>
                    </a:lnTo>
                    <a:lnTo>
                      <a:pt x="39" y="7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800520" y="252720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7"/>
                    </a:moveTo>
                    <a:lnTo>
                      <a:pt x="1" y="6"/>
                    </a:lnTo>
                    <a:lnTo>
                      <a:pt x="3" y="5"/>
                    </a:lnTo>
                    <a:lnTo>
                      <a:pt x="8" y="3"/>
                    </a:lnTo>
                    <a:lnTo>
                      <a:pt x="15" y="1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2"/>
                    </a:lnTo>
                    <a:lnTo>
                      <a:pt x="42" y="5"/>
                    </a:lnTo>
                    <a:lnTo>
                      <a:pt x="44" y="8"/>
                    </a:lnTo>
                    <a:lnTo>
                      <a:pt x="45" y="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871800" y="2546280"/>
                <a:ext cx="71640" cy="825480"/>
              </a:xfrm>
              <a:custGeom>
                <a:avLst/>
                <a:gdLst/>
                <a:ahLst/>
                <a:rect l="l" t="t" r="r" b="b"/>
                <a:pathLst>
                  <a:path w="45" h="520">
                    <a:moveTo>
                      <a:pt x="0" y="0"/>
                    </a:moveTo>
                    <a:lnTo>
                      <a:pt x="1" y="9"/>
                    </a:lnTo>
                    <a:lnTo>
                      <a:pt x="3" y="20"/>
                    </a:lnTo>
                    <a:lnTo>
                      <a:pt x="4" y="31"/>
                    </a:lnTo>
                    <a:lnTo>
                      <a:pt x="6" y="43"/>
                    </a:lnTo>
                    <a:lnTo>
                      <a:pt x="7" y="56"/>
                    </a:lnTo>
                    <a:lnTo>
                      <a:pt x="8" y="71"/>
                    </a:lnTo>
                    <a:lnTo>
                      <a:pt x="10" y="86"/>
                    </a:lnTo>
                    <a:lnTo>
                      <a:pt x="11" y="102"/>
                    </a:lnTo>
                    <a:lnTo>
                      <a:pt x="14" y="136"/>
                    </a:lnTo>
                    <a:lnTo>
                      <a:pt x="17" y="172"/>
                    </a:lnTo>
                    <a:lnTo>
                      <a:pt x="20" y="211"/>
                    </a:lnTo>
                    <a:lnTo>
                      <a:pt x="22" y="249"/>
                    </a:lnTo>
                    <a:lnTo>
                      <a:pt x="25" y="289"/>
                    </a:lnTo>
                    <a:lnTo>
                      <a:pt x="28" y="327"/>
                    </a:lnTo>
                    <a:lnTo>
                      <a:pt x="31" y="366"/>
                    </a:lnTo>
                    <a:lnTo>
                      <a:pt x="34" y="402"/>
                    </a:lnTo>
                    <a:lnTo>
                      <a:pt x="37" y="436"/>
                    </a:lnTo>
                    <a:lnTo>
                      <a:pt x="38" y="453"/>
                    </a:lnTo>
                    <a:lnTo>
                      <a:pt x="39" y="468"/>
                    </a:lnTo>
                    <a:lnTo>
                      <a:pt x="41" y="483"/>
                    </a:lnTo>
                    <a:lnTo>
                      <a:pt x="42" y="496"/>
                    </a:lnTo>
                    <a:lnTo>
                      <a:pt x="44" y="509"/>
                    </a:lnTo>
                    <a:lnTo>
                      <a:pt x="45" y="52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943440" y="3371760"/>
                <a:ext cx="71280" cy="290520"/>
              </a:xfrm>
              <a:custGeom>
                <a:avLst/>
                <a:gdLst/>
                <a:ahLst/>
                <a:rect l="l" t="t" r="r" b="b"/>
                <a:pathLst>
                  <a:path w="45" h="183">
                    <a:moveTo>
                      <a:pt x="0" y="0"/>
                    </a:moveTo>
                    <a:lnTo>
                      <a:pt x="5" y="34"/>
                    </a:lnTo>
                    <a:lnTo>
                      <a:pt x="10" y="65"/>
                    </a:lnTo>
                    <a:lnTo>
                      <a:pt x="13" y="80"/>
                    </a:lnTo>
                    <a:lnTo>
                      <a:pt x="17" y="94"/>
                    </a:lnTo>
                    <a:lnTo>
                      <a:pt x="20" y="108"/>
                    </a:lnTo>
                    <a:lnTo>
                      <a:pt x="23" y="120"/>
                    </a:lnTo>
                    <a:lnTo>
                      <a:pt x="26" y="131"/>
                    </a:lnTo>
                    <a:lnTo>
                      <a:pt x="29" y="141"/>
                    </a:lnTo>
                    <a:lnTo>
                      <a:pt x="32" y="151"/>
                    </a:lnTo>
                    <a:lnTo>
                      <a:pt x="35" y="159"/>
                    </a:lnTo>
                    <a:lnTo>
                      <a:pt x="38" y="167"/>
                    </a:lnTo>
                    <a:lnTo>
                      <a:pt x="40" y="173"/>
                    </a:lnTo>
                    <a:lnTo>
                      <a:pt x="43" y="179"/>
                    </a:lnTo>
                    <a:lnTo>
                      <a:pt x="45" y="18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014720" y="36100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3"/>
                    </a:moveTo>
                    <a:lnTo>
                      <a:pt x="4" y="37"/>
                    </a:lnTo>
                    <a:lnTo>
                      <a:pt x="9" y="37"/>
                    </a:lnTo>
                    <a:lnTo>
                      <a:pt x="15" y="35"/>
                    </a:lnTo>
                    <a:lnTo>
                      <a:pt x="22" y="31"/>
                    </a:lnTo>
                    <a:lnTo>
                      <a:pt x="30" y="25"/>
                    </a:lnTo>
                    <a:lnTo>
                      <a:pt x="36" y="18"/>
                    </a:lnTo>
                    <a:lnTo>
                      <a:pt x="41" y="1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086360" y="3060720"/>
                <a:ext cx="71280" cy="549360"/>
              </a:xfrm>
              <a:custGeom>
                <a:avLst/>
                <a:gdLst/>
                <a:ahLst/>
                <a:rect l="l" t="t" r="r" b="b"/>
                <a:pathLst>
                  <a:path w="45" h="346">
                    <a:moveTo>
                      <a:pt x="0" y="346"/>
                    </a:moveTo>
                    <a:lnTo>
                      <a:pt x="3" y="333"/>
                    </a:lnTo>
                    <a:lnTo>
                      <a:pt x="6" y="318"/>
                    </a:lnTo>
                    <a:lnTo>
                      <a:pt x="8" y="301"/>
                    </a:lnTo>
                    <a:lnTo>
                      <a:pt x="12" y="282"/>
                    </a:lnTo>
                    <a:lnTo>
                      <a:pt x="15" y="262"/>
                    </a:lnTo>
                    <a:lnTo>
                      <a:pt x="18" y="241"/>
                    </a:lnTo>
                    <a:lnTo>
                      <a:pt x="20" y="219"/>
                    </a:lnTo>
                    <a:lnTo>
                      <a:pt x="23" y="194"/>
                    </a:lnTo>
                    <a:lnTo>
                      <a:pt x="28" y="146"/>
                    </a:lnTo>
                    <a:lnTo>
                      <a:pt x="34" y="96"/>
                    </a:lnTo>
                    <a:lnTo>
                      <a:pt x="39" y="48"/>
                    </a:lnTo>
                    <a:lnTo>
                      <a:pt x="42" y="2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157640" y="2455920"/>
                <a:ext cx="71640" cy="604800"/>
              </a:xfrm>
              <a:custGeom>
                <a:avLst/>
                <a:gdLst/>
                <a:ahLst/>
                <a:rect l="l" t="t" r="r" b="b"/>
                <a:pathLst>
                  <a:path w="45" h="381">
                    <a:moveTo>
                      <a:pt x="0" y="381"/>
                    </a:moveTo>
                    <a:lnTo>
                      <a:pt x="3" y="358"/>
                    </a:lnTo>
                    <a:lnTo>
                      <a:pt x="6" y="332"/>
                    </a:lnTo>
                    <a:lnTo>
                      <a:pt x="8" y="306"/>
                    </a:lnTo>
                    <a:lnTo>
                      <a:pt x="11" y="279"/>
                    </a:lnTo>
                    <a:lnTo>
                      <a:pt x="17" y="223"/>
                    </a:lnTo>
                    <a:lnTo>
                      <a:pt x="22" y="169"/>
                    </a:lnTo>
                    <a:lnTo>
                      <a:pt x="25" y="141"/>
                    </a:lnTo>
                    <a:lnTo>
                      <a:pt x="28" y="116"/>
                    </a:lnTo>
                    <a:lnTo>
                      <a:pt x="31" y="92"/>
                    </a:lnTo>
                    <a:lnTo>
                      <a:pt x="34" y="68"/>
                    </a:lnTo>
                    <a:lnTo>
                      <a:pt x="37" y="47"/>
                    </a:lnTo>
                    <a:lnTo>
                      <a:pt x="39" y="29"/>
                    </a:lnTo>
                    <a:lnTo>
                      <a:pt x="42" y="13"/>
                    </a:lnTo>
                    <a:lnTo>
                      <a:pt x="44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229280" y="24400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10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3"/>
                    </a:lnTo>
                    <a:lnTo>
                      <a:pt x="30" y="6"/>
                    </a:lnTo>
                    <a:lnTo>
                      <a:pt x="37" y="10"/>
                    </a:lnTo>
                    <a:lnTo>
                      <a:pt x="42" y="14"/>
                    </a:lnTo>
                    <a:lnTo>
                      <a:pt x="45" y="1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300560" y="2467080"/>
                <a:ext cx="73080" cy="164880"/>
              </a:xfrm>
              <a:custGeom>
                <a:avLst/>
                <a:gdLst/>
                <a:ahLst/>
                <a:rect l="l" t="t" r="r" b="b"/>
                <a:pathLst>
                  <a:path w="46" h="104">
                    <a:moveTo>
                      <a:pt x="0" y="0"/>
                    </a:moveTo>
                    <a:lnTo>
                      <a:pt x="3" y="4"/>
                    </a:lnTo>
                    <a:lnTo>
                      <a:pt x="6" y="10"/>
                    </a:lnTo>
                    <a:lnTo>
                      <a:pt x="8" y="17"/>
                    </a:lnTo>
                    <a:lnTo>
                      <a:pt x="11" y="24"/>
                    </a:lnTo>
                    <a:lnTo>
                      <a:pt x="17" y="42"/>
                    </a:lnTo>
                    <a:lnTo>
                      <a:pt x="22" y="60"/>
                    </a:lnTo>
                    <a:lnTo>
                      <a:pt x="28" y="78"/>
                    </a:lnTo>
                    <a:lnTo>
                      <a:pt x="31" y="86"/>
                    </a:lnTo>
                    <a:lnTo>
                      <a:pt x="34" y="92"/>
                    </a:lnTo>
                    <a:lnTo>
                      <a:pt x="37" y="98"/>
                    </a:lnTo>
                    <a:lnTo>
                      <a:pt x="39" y="102"/>
                    </a:lnTo>
                    <a:lnTo>
                      <a:pt x="42" y="104"/>
                    </a:lnTo>
                    <a:lnTo>
                      <a:pt x="46" y="10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373640" y="2425680"/>
                <a:ext cx="69840" cy="206280"/>
              </a:xfrm>
              <a:custGeom>
                <a:avLst/>
                <a:gdLst/>
                <a:ahLst/>
                <a:rect l="l" t="t" r="r" b="b"/>
                <a:pathLst>
                  <a:path w="44" h="130">
                    <a:moveTo>
                      <a:pt x="0" y="130"/>
                    </a:moveTo>
                    <a:lnTo>
                      <a:pt x="3" y="128"/>
                    </a:lnTo>
                    <a:lnTo>
                      <a:pt x="6" y="124"/>
                    </a:lnTo>
                    <a:lnTo>
                      <a:pt x="8" y="118"/>
                    </a:lnTo>
                    <a:lnTo>
                      <a:pt x="11" y="111"/>
                    </a:lnTo>
                    <a:lnTo>
                      <a:pt x="14" y="103"/>
                    </a:lnTo>
                    <a:lnTo>
                      <a:pt x="17" y="92"/>
                    </a:lnTo>
                    <a:lnTo>
                      <a:pt x="22" y="71"/>
                    </a:lnTo>
                    <a:lnTo>
                      <a:pt x="27" y="49"/>
                    </a:lnTo>
                    <a:lnTo>
                      <a:pt x="30" y="39"/>
                    </a:lnTo>
                    <a:lnTo>
                      <a:pt x="33" y="29"/>
                    </a:lnTo>
                    <a:lnTo>
                      <a:pt x="36" y="20"/>
                    </a:lnTo>
                    <a:lnTo>
                      <a:pt x="38" y="12"/>
                    </a:lnTo>
                    <a:lnTo>
                      <a:pt x="41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443480" y="241308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8"/>
                    </a:moveTo>
                    <a:lnTo>
                      <a:pt x="1" y="7"/>
                    </a:lnTo>
                    <a:lnTo>
                      <a:pt x="3" y="6"/>
                    </a:lnTo>
                    <a:lnTo>
                      <a:pt x="8" y="3"/>
                    </a:lnTo>
                    <a:lnTo>
                      <a:pt x="15" y="1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7" y="1"/>
                    </a:lnTo>
                    <a:lnTo>
                      <a:pt x="43" y="5"/>
                    </a:lnTo>
                    <a:lnTo>
                      <a:pt x="45" y="8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516560" y="2432160"/>
                <a:ext cx="69840" cy="852480"/>
              </a:xfrm>
              <a:custGeom>
                <a:avLst/>
                <a:gdLst/>
                <a:ahLst/>
                <a:rect l="l" t="t" r="r" b="b"/>
                <a:pathLst>
                  <a:path w="44" h="537">
                    <a:moveTo>
                      <a:pt x="0" y="0"/>
                    </a:moveTo>
                    <a:lnTo>
                      <a:pt x="1" y="10"/>
                    </a:lnTo>
                    <a:lnTo>
                      <a:pt x="3" y="20"/>
                    </a:lnTo>
                    <a:lnTo>
                      <a:pt x="4" y="32"/>
                    </a:lnTo>
                    <a:lnTo>
                      <a:pt x="6" y="44"/>
                    </a:lnTo>
                    <a:lnTo>
                      <a:pt x="7" y="58"/>
                    </a:lnTo>
                    <a:lnTo>
                      <a:pt x="8" y="73"/>
                    </a:lnTo>
                    <a:lnTo>
                      <a:pt x="10" y="88"/>
                    </a:lnTo>
                    <a:lnTo>
                      <a:pt x="11" y="106"/>
                    </a:lnTo>
                    <a:lnTo>
                      <a:pt x="14" y="141"/>
                    </a:lnTo>
                    <a:lnTo>
                      <a:pt x="17" y="179"/>
                    </a:lnTo>
                    <a:lnTo>
                      <a:pt x="19" y="217"/>
                    </a:lnTo>
                    <a:lnTo>
                      <a:pt x="22" y="257"/>
                    </a:lnTo>
                    <a:lnTo>
                      <a:pt x="25" y="298"/>
                    </a:lnTo>
                    <a:lnTo>
                      <a:pt x="27" y="338"/>
                    </a:lnTo>
                    <a:lnTo>
                      <a:pt x="30" y="378"/>
                    </a:lnTo>
                    <a:lnTo>
                      <a:pt x="33" y="415"/>
                    </a:lnTo>
                    <a:lnTo>
                      <a:pt x="36" y="451"/>
                    </a:lnTo>
                    <a:lnTo>
                      <a:pt x="37" y="467"/>
                    </a:lnTo>
                    <a:lnTo>
                      <a:pt x="38" y="483"/>
                    </a:lnTo>
                    <a:lnTo>
                      <a:pt x="40" y="498"/>
                    </a:lnTo>
                    <a:lnTo>
                      <a:pt x="41" y="512"/>
                    </a:lnTo>
                    <a:lnTo>
                      <a:pt x="43" y="525"/>
                    </a:lnTo>
                    <a:lnTo>
                      <a:pt x="44" y="53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586400" y="3284640"/>
                <a:ext cx="73080" cy="287280"/>
              </a:xfrm>
              <a:custGeom>
                <a:avLst/>
                <a:gdLst/>
                <a:ahLst/>
                <a:rect l="l" t="t" r="r" b="b"/>
                <a:pathLst>
                  <a:path w="46" h="181">
                    <a:moveTo>
                      <a:pt x="0" y="0"/>
                    </a:moveTo>
                    <a:lnTo>
                      <a:pt x="5" y="33"/>
                    </a:lnTo>
                    <a:lnTo>
                      <a:pt x="10" y="64"/>
                    </a:lnTo>
                    <a:lnTo>
                      <a:pt x="13" y="80"/>
                    </a:lnTo>
                    <a:lnTo>
                      <a:pt x="16" y="93"/>
                    </a:lnTo>
                    <a:lnTo>
                      <a:pt x="19" y="106"/>
                    </a:lnTo>
                    <a:lnTo>
                      <a:pt x="22" y="118"/>
                    </a:lnTo>
                    <a:lnTo>
                      <a:pt x="26" y="129"/>
                    </a:lnTo>
                    <a:lnTo>
                      <a:pt x="29" y="140"/>
                    </a:lnTo>
                    <a:lnTo>
                      <a:pt x="32" y="149"/>
                    </a:lnTo>
                    <a:lnTo>
                      <a:pt x="36" y="158"/>
                    </a:lnTo>
                    <a:lnTo>
                      <a:pt x="39" y="166"/>
                    </a:lnTo>
                    <a:lnTo>
                      <a:pt x="41" y="172"/>
                    </a:lnTo>
                    <a:lnTo>
                      <a:pt x="44" y="177"/>
                    </a:lnTo>
                    <a:lnTo>
                      <a:pt x="46" y="18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659480" y="35053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42"/>
                    </a:moveTo>
                    <a:lnTo>
                      <a:pt x="2" y="44"/>
                    </a:lnTo>
                    <a:lnTo>
                      <a:pt x="4" y="44"/>
                    </a:lnTo>
                    <a:lnTo>
                      <a:pt x="9" y="44"/>
                    </a:lnTo>
                    <a:lnTo>
                      <a:pt x="15" y="41"/>
                    </a:lnTo>
                    <a:lnTo>
                      <a:pt x="22" y="36"/>
                    </a:lnTo>
                    <a:lnTo>
                      <a:pt x="29" y="30"/>
                    </a:lnTo>
                    <a:lnTo>
                      <a:pt x="35" y="21"/>
                    </a:lnTo>
                    <a:lnTo>
                      <a:pt x="40" y="1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729320" y="2960640"/>
                <a:ext cx="72720" cy="544680"/>
              </a:xfrm>
              <a:custGeom>
                <a:avLst/>
                <a:gdLst/>
                <a:ahLst/>
                <a:rect l="l" t="t" r="r" b="b"/>
                <a:pathLst>
                  <a:path w="46" h="343">
                    <a:moveTo>
                      <a:pt x="0" y="343"/>
                    </a:moveTo>
                    <a:lnTo>
                      <a:pt x="3" y="330"/>
                    </a:lnTo>
                    <a:lnTo>
                      <a:pt x="6" y="315"/>
                    </a:lnTo>
                    <a:lnTo>
                      <a:pt x="8" y="298"/>
                    </a:lnTo>
                    <a:lnTo>
                      <a:pt x="11" y="280"/>
                    </a:lnTo>
                    <a:lnTo>
                      <a:pt x="14" y="259"/>
                    </a:lnTo>
                    <a:lnTo>
                      <a:pt x="17" y="238"/>
                    </a:lnTo>
                    <a:lnTo>
                      <a:pt x="20" y="216"/>
                    </a:lnTo>
                    <a:lnTo>
                      <a:pt x="22" y="193"/>
                    </a:lnTo>
                    <a:lnTo>
                      <a:pt x="29" y="145"/>
                    </a:lnTo>
                    <a:lnTo>
                      <a:pt x="35" y="95"/>
                    </a:lnTo>
                    <a:lnTo>
                      <a:pt x="40" y="47"/>
                    </a:lnTo>
                    <a:lnTo>
                      <a:pt x="43" y="24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02040" y="2355840"/>
                <a:ext cx="69840" cy="604800"/>
              </a:xfrm>
              <a:custGeom>
                <a:avLst/>
                <a:gdLst/>
                <a:ahLst/>
                <a:rect l="l" t="t" r="r" b="b"/>
                <a:pathLst>
                  <a:path w="44" h="381">
                    <a:moveTo>
                      <a:pt x="0" y="381"/>
                    </a:moveTo>
                    <a:lnTo>
                      <a:pt x="3" y="358"/>
                    </a:lnTo>
                    <a:lnTo>
                      <a:pt x="6" y="333"/>
                    </a:lnTo>
                    <a:lnTo>
                      <a:pt x="8" y="306"/>
                    </a:lnTo>
                    <a:lnTo>
                      <a:pt x="11" y="279"/>
                    </a:lnTo>
                    <a:lnTo>
                      <a:pt x="17" y="223"/>
                    </a:lnTo>
                    <a:lnTo>
                      <a:pt x="22" y="168"/>
                    </a:lnTo>
                    <a:lnTo>
                      <a:pt x="25" y="142"/>
                    </a:lnTo>
                    <a:lnTo>
                      <a:pt x="28" y="115"/>
                    </a:lnTo>
                    <a:lnTo>
                      <a:pt x="30" y="91"/>
                    </a:lnTo>
                    <a:lnTo>
                      <a:pt x="33" y="69"/>
                    </a:lnTo>
                    <a:lnTo>
                      <a:pt x="36" y="47"/>
                    </a:lnTo>
                    <a:lnTo>
                      <a:pt x="39" y="29"/>
                    </a:lnTo>
                    <a:lnTo>
                      <a:pt x="41" y="13"/>
                    </a:lnTo>
                    <a:lnTo>
                      <a:pt x="4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71880" y="234324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8"/>
                    </a:move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22" y="4"/>
                    </a:lnTo>
                    <a:lnTo>
                      <a:pt x="30" y="9"/>
                    </a:lnTo>
                    <a:lnTo>
                      <a:pt x="37" y="14"/>
                    </a:lnTo>
                    <a:lnTo>
                      <a:pt x="42" y="18"/>
                    </a:lnTo>
                    <a:lnTo>
                      <a:pt x="45" y="2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943520" y="237636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45" h="75">
                    <a:moveTo>
                      <a:pt x="0" y="0"/>
                    </a:moveTo>
                    <a:lnTo>
                      <a:pt x="3" y="3"/>
                    </a:lnTo>
                    <a:lnTo>
                      <a:pt x="6" y="7"/>
                    </a:lnTo>
                    <a:lnTo>
                      <a:pt x="8" y="12"/>
                    </a:lnTo>
                    <a:lnTo>
                      <a:pt x="11" y="18"/>
                    </a:lnTo>
                    <a:lnTo>
                      <a:pt x="17" y="31"/>
                    </a:lnTo>
                    <a:lnTo>
                      <a:pt x="22" y="44"/>
                    </a:lnTo>
                    <a:lnTo>
                      <a:pt x="28" y="57"/>
                    </a:lnTo>
                    <a:lnTo>
                      <a:pt x="31" y="62"/>
                    </a:lnTo>
                    <a:lnTo>
                      <a:pt x="34" y="67"/>
                    </a:lnTo>
                    <a:lnTo>
                      <a:pt x="37" y="70"/>
                    </a:lnTo>
                    <a:lnTo>
                      <a:pt x="39" y="73"/>
                    </a:lnTo>
                    <a:lnTo>
                      <a:pt x="42" y="75"/>
                    </a:lnTo>
                    <a:lnTo>
                      <a:pt x="45" y="7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014800" y="2349360"/>
                <a:ext cx="71640" cy="146160"/>
              </a:xfrm>
              <a:custGeom>
                <a:avLst/>
                <a:gdLst/>
                <a:ahLst/>
                <a:rect l="l" t="t" r="r" b="b"/>
                <a:pathLst>
                  <a:path w="45" h="92">
                    <a:moveTo>
                      <a:pt x="0" y="92"/>
                    </a:moveTo>
                    <a:lnTo>
                      <a:pt x="3" y="91"/>
                    </a:lnTo>
                    <a:lnTo>
                      <a:pt x="6" y="88"/>
                    </a:lnTo>
                    <a:lnTo>
                      <a:pt x="8" y="84"/>
                    </a:lnTo>
                    <a:lnTo>
                      <a:pt x="11" y="79"/>
                    </a:lnTo>
                    <a:lnTo>
                      <a:pt x="14" y="72"/>
                    </a:lnTo>
                    <a:lnTo>
                      <a:pt x="18" y="66"/>
                    </a:lnTo>
                    <a:lnTo>
                      <a:pt x="23" y="50"/>
                    </a:lnTo>
                    <a:lnTo>
                      <a:pt x="28" y="34"/>
                    </a:lnTo>
                    <a:lnTo>
                      <a:pt x="34" y="20"/>
                    </a:lnTo>
                    <a:lnTo>
                      <a:pt x="37" y="13"/>
                    </a:lnTo>
                    <a:lnTo>
                      <a:pt x="39" y="8"/>
                    </a:lnTo>
                    <a:lnTo>
                      <a:pt x="4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086440" y="2341440"/>
                <a:ext cx="71280" cy="2232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0" y="5"/>
                    </a:moveTo>
                    <a:lnTo>
                      <a:pt x="1" y="4"/>
                    </a:lnTo>
                    <a:lnTo>
                      <a:pt x="3" y="4"/>
                    </a:lnTo>
                    <a:lnTo>
                      <a:pt x="8" y="2"/>
                    </a:lnTo>
                    <a:lnTo>
                      <a:pt x="15" y="1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7" y="3"/>
                    </a:lnTo>
                    <a:lnTo>
                      <a:pt x="42" y="7"/>
                    </a:lnTo>
                    <a:lnTo>
                      <a:pt x="44" y="10"/>
                    </a:lnTo>
                    <a:lnTo>
                      <a:pt x="45" y="1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157720" y="2363760"/>
                <a:ext cx="71640" cy="993960"/>
              </a:xfrm>
              <a:custGeom>
                <a:avLst/>
                <a:gdLst/>
                <a:ahLst/>
                <a:rect l="l" t="t" r="r" b="b"/>
                <a:pathLst>
                  <a:path w="45" h="626">
                    <a:moveTo>
                      <a:pt x="0" y="0"/>
                    </a:moveTo>
                    <a:lnTo>
                      <a:pt x="1" y="11"/>
                    </a:lnTo>
                    <a:lnTo>
                      <a:pt x="3" y="23"/>
                    </a:lnTo>
                    <a:lnTo>
                      <a:pt x="4" y="36"/>
                    </a:lnTo>
                    <a:lnTo>
                      <a:pt x="6" y="52"/>
                    </a:lnTo>
                    <a:lnTo>
                      <a:pt x="7" y="68"/>
                    </a:lnTo>
                    <a:lnTo>
                      <a:pt x="8" y="85"/>
                    </a:lnTo>
                    <a:lnTo>
                      <a:pt x="10" y="103"/>
                    </a:lnTo>
                    <a:lnTo>
                      <a:pt x="11" y="122"/>
                    </a:lnTo>
                    <a:lnTo>
                      <a:pt x="13" y="142"/>
                    </a:lnTo>
                    <a:lnTo>
                      <a:pt x="15" y="163"/>
                    </a:lnTo>
                    <a:lnTo>
                      <a:pt x="18" y="206"/>
                    </a:lnTo>
                    <a:lnTo>
                      <a:pt x="20" y="252"/>
                    </a:lnTo>
                    <a:lnTo>
                      <a:pt x="23" y="298"/>
                    </a:lnTo>
                    <a:lnTo>
                      <a:pt x="26" y="345"/>
                    </a:lnTo>
                    <a:lnTo>
                      <a:pt x="28" y="393"/>
                    </a:lnTo>
                    <a:lnTo>
                      <a:pt x="31" y="438"/>
                    </a:lnTo>
                    <a:lnTo>
                      <a:pt x="34" y="482"/>
                    </a:lnTo>
                    <a:lnTo>
                      <a:pt x="35" y="503"/>
                    </a:lnTo>
                    <a:lnTo>
                      <a:pt x="37" y="523"/>
                    </a:lnTo>
                    <a:lnTo>
                      <a:pt x="38" y="543"/>
                    </a:lnTo>
                    <a:lnTo>
                      <a:pt x="39" y="561"/>
                    </a:lnTo>
                    <a:lnTo>
                      <a:pt x="41" y="580"/>
                    </a:lnTo>
                    <a:lnTo>
                      <a:pt x="42" y="596"/>
                    </a:lnTo>
                    <a:lnTo>
                      <a:pt x="44" y="612"/>
                    </a:lnTo>
                    <a:lnTo>
                      <a:pt x="45" y="62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229360" y="3357720"/>
                <a:ext cx="71280" cy="392040"/>
              </a:xfrm>
              <a:custGeom>
                <a:avLst/>
                <a:gdLst/>
                <a:ahLst/>
                <a:rect l="l" t="t" r="r" b="b"/>
                <a:pathLst>
                  <a:path w="45" h="247">
                    <a:moveTo>
                      <a:pt x="0" y="0"/>
                    </a:moveTo>
                    <a:lnTo>
                      <a:pt x="2" y="24"/>
                    </a:lnTo>
                    <a:lnTo>
                      <a:pt x="5" y="46"/>
                    </a:lnTo>
                    <a:lnTo>
                      <a:pt x="8" y="66"/>
                    </a:lnTo>
                    <a:lnTo>
                      <a:pt x="11" y="86"/>
                    </a:lnTo>
                    <a:lnTo>
                      <a:pt x="14" y="105"/>
                    </a:lnTo>
                    <a:lnTo>
                      <a:pt x="16" y="124"/>
                    </a:lnTo>
                    <a:lnTo>
                      <a:pt x="19" y="141"/>
                    </a:lnTo>
                    <a:lnTo>
                      <a:pt x="22" y="157"/>
                    </a:lnTo>
                    <a:lnTo>
                      <a:pt x="26" y="172"/>
                    </a:lnTo>
                    <a:lnTo>
                      <a:pt x="29" y="186"/>
                    </a:lnTo>
                    <a:lnTo>
                      <a:pt x="31" y="200"/>
                    </a:lnTo>
                    <a:lnTo>
                      <a:pt x="34" y="212"/>
                    </a:lnTo>
                    <a:lnTo>
                      <a:pt x="37" y="222"/>
                    </a:lnTo>
                    <a:lnTo>
                      <a:pt x="40" y="232"/>
                    </a:lnTo>
                    <a:lnTo>
                      <a:pt x="43" y="240"/>
                    </a:lnTo>
                    <a:lnTo>
                      <a:pt x="45" y="24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300640" y="374184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5"/>
                    </a:moveTo>
                    <a:lnTo>
                      <a:pt x="3" y="9"/>
                    </a:lnTo>
                    <a:lnTo>
                      <a:pt x="9" y="12"/>
                    </a:lnTo>
                    <a:lnTo>
                      <a:pt x="16" y="14"/>
                    </a:lnTo>
                    <a:lnTo>
                      <a:pt x="23" y="15"/>
                    </a:lnTo>
                    <a:lnTo>
                      <a:pt x="30" y="14"/>
                    </a:lnTo>
                    <a:lnTo>
                      <a:pt x="37" y="12"/>
                    </a:lnTo>
                    <a:lnTo>
                      <a:pt x="42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72280" y="3068640"/>
                <a:ext cx="71280" cy="673200"/>
              </a:xfrm>
              <a:custGeom>
                <a:avLst/>
                <a:gdLst/>
                <a:ahLst/>
                <a:rect l="l" t="t" r="r" b="b"/>
                <a:pathLst>
                  <a:path w="45" h="424">
                    <a:moveTo>
                      <a:pt x="0" y="424"/>
                    </a:moveTo>
                    <a:lnTo>
                      <a:pt x="1" y="417"/>
                    </a:lnTo>
                    <a:lnTo>
                      <a:pt x="3" y="409"/>
                    </a:lnTo>
                    <a:lnTo>
                      <a:pt x="6" y="392"/>
                    </a:lnTo>
                    <a:lnTo>
                      <a:pt x="8" y="370"/>
                    </a:lnTo>
                    <a:lnTo>
                      <a:pt x="11" y="348"/>
                    </a:lnTo>
                    <a:lnTo>
                      <a:pt x="14" y="323"/>
                    </a:lnTo>
                    <a:lnTo>
                      <a:pt x="17" y="297"/>
                    </a:lnTo>
                    <a:lnTo>
                      <a:pt x="20" y="268"/>
                    </a:lnTo>
                    <a:lnTo>
                      <a:pt x="22" y="239"/>
                    </a:lnTo>
                    <a:lnTo>
                      <a:pt x="25" y="210"/>
                    </a:lnTo>
                    <a:lnTo>
                      <a:pt x="28" y="178"/>
                    </a:lnTo>
                    <a:lnTo>
                      <a:pt x="34" y="117"/>
                    </a:lnTo>
                    <a:lnTo>
                      <a:pt x="37" y="86"/>
                    </a:lnTo>
                    <a:lnTo>
                      <a:pt x="39" y="57"/>
                    </a:lnTo>
                    <a:lnTo>
                      <a:pt x="42" y="2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443560" y="2370240"/>
                <a:ext cx="71280" cy="698400"/>
              </a:xfrm>
              <a:custGeom>
                <a:avLst/>
                <a:gdLst/>
                <a:ahLst/>
                <a:rect l="l" t="t" r="r" b="b"/>
                <a:pathLst>
                  <a:path w="45" h="440">
                    <a:moveTo>
                      <a:pt x="0" y="440"/>
                    </a:moveTo>
                    <a:lnTo>
                      <a:pt x="4" y="413"/>
                    </a:lnTo>
                    <a:lnTo>
                      <a:pt x="7" y="383"/>
                    </a:lnTo>
                    <a:lnTo>
                      <a:pt x="9" y="353"/>
                    </a:lnTo>
                    <a:lnTo>
                      <a:pt x="12" y="322"/>
                    </a:lnTo>
                    <a:lnTo>
                      <a:pt x="18" y="258"/>
                    </a:lnTo>
                    <a:lnTo>
                      <a:pt x="20" y="227"/>
                    </a:lnTo>
                    <a:lnTo>
                      <a:pt x="23" y="195"/>
                    </a:lnTo>
                    <a:lnTo>
                      <a:pt x="26" y="165"/>
                    </a:lnTo>
                    <a:lnTo>
                      <a:pt x="28" y="136"/>
                    </a:lnTo>
                    <a:lnTo>
                      <a:pt x="31" y="108"/>
                    </a:lnTo>
                    <a:lnTo>
                      <a:pt x="34" y="82"/>
                    </a:lnTo>
                    <a:lnTo>
                      <a:pt x="37" y="58"/>
                    </a:lnTo>
                    <a:lnTo>
                      <a:pt x="39" y="35"/>
                    </a:lnTo>
                    <a:lnTo>
                      <a:pt x="42" y="16"/>
                    </a:lnTo>
                    <a:lnTo>
                      <a:pt x="44" y="8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514840" y="231624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34"/>
                    </a:moveTo>
                    <a:lnTo>
                      <a:pt x="3" y="25"/>
                    </a:lnTo>
                    <a:lnTo>
                      <a:pt x="8" y="17"/>
                    </a:lnTo>
                    <a:lnTo>
                      <a:pt x="15" y="10"/>
                    </a:lnTo>
                    <a:lnTo>
                      <a:pt x="22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587920" y="2319480"/>
                <a:ext cx="69840" cy="234720"/>
              </a:xfrm>
              <a:custGeom>
                <a:avLst/>
                <a:gdLst/>
                <a:ahLst/>
                <a:rect l="l" t="t" r="r" b="b"/>
                <a:pathLst>
                  <a:path w="44" h="148">
                    <a:moveTo>
                      <a:pt x="0" y="0"/>
                    </a:moveTo>
                    <a:lnTo>
                      <a:pt x="3" y="5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11" y="30"/>
                    </a:lnTo>
                    <a:lnTo>
                      <a:pt x="14" y="42"/>
                    </a:lnTo>
                    <a:lnTo>
                      <a:pt x="17" y="54"/>
                    </a:lnTo>
                    <a:lnTo>
                      <a:pt x="22" y="80"/>
                    </a:lnTo>
                    <a:lnTo>
                      <a:pt x="25" y="92"/>
                    </a:lnTo>
                    <a:lnTo>
                      <a:pt x="27" y="104"/>
                    </a:lnTo>
                    <a:lnTo>
                      <a:pt x="30" y="115"/>
                    </a:lnTo>
                    <a:lnTo>
                      <a:pt x="33" y="126"/>
                    </a:lnTo>
                    <a:lnTo>
                      <a:pt x="36" y="134"/>
                    </a:lnTo>
                    <a:lnTo>
                      <a:pt x="38" y="141"/>
                    </a:lnTo>
                    <a:lnTo>
                      <a:pt x="41" y="146"/>
                    </a:lnTo>
                    <a:lnTo>
                      <a:pt x="44" y="14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657760" y="2368440"/>
                <a:ext cx="73080" cy="185760"/>
              </a:xfrm>
              <a:custGeom>
                <a:avLst/>
                <a:gdLst/>
                <a:ahLst/>
                <a:rect l="l" t="t" r="r" b="b"/>
                <a:pathLst>
                  <a:path w="46" h="117">
                    <a:moveTo>
                      <a:pt x="0" y="117"/>
                    </a:moveTo>
                    <a:lnTo>
                      <a:pt x="3" y="117"/>
                    </a:lnTo>
                    <a:lnTo>
                      <a:pt x="6" y="115"/>
                    </a:lnTo>
                    <a:lnTo>
                      <a:pt x="8" y="111"/>
                    </a:lnTo>
                    <a:lnTo>
                      <a:pt x="11" y="105"/>
                    </a:lnTo>
                    <a:lnTo>
                      <a:pt x="14" y="98"/>
                    </a:lnTo>
                    <a:lnTo>
                      <a:pt x="17" y="90"/>
                    </a:lnTo>
                    <a:lnTo>
                      <a:pt x="20" y="81"/>
                    </a:lnTo>
                    <a:lnTo>
                      <a:pt x="22" y="72"/>
                    </a:lnTo>
                    <a:lnTo>
                      <a:pt x="28" y="51"/>
                    </a:lnTo>
                    <a:lnTo>
                      <a:pt x="34" y="31"/>
                    </a:lnTo>
                    <a:lnTo>
                      <a:pt x="38" y="22"/>
                    </a:lnTo>
                    <a:lnTo>
                      <a:pt x="40" y="13"/>
                    </a:lnTo>
                    <a:lnTo>
                      <a:pt x="43" y="6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730840" y="2266920"/>
                <a:ext cx="69840" cy="101520"/>
              </a:xfrm>
              <a:custGeom>
                <a:avLst/>
                <a:gdLst/>
                <a:ahLst/>
                <a:rect l="l" t="t" r="r" b="b"/>
                <a:pathLst>
                  <a:path w="44" h="64">
                    <a:moveTo>
                      <a:pt x="0" y="64"/>
                    </a:moveTo>
                    <a:lnTo>
                      <a:pt x="2" y="61"/>
                    </a:lnTo>
                    <a:lnTo>
                      <a:pt x="4" y="56"/>
                    </a:lnTo>
                    <a:lnTo>
                      <a:pt x="6" y="51"/>
                    </a:lnTo>
                    <a:lnTo>
                      <a:pt x="9" y="45"/>
                    </a:lnTo>
                    <a:lnTo>
                      <a:pt x="15" y="31"/>
                    </a:lnTo>
                    <a:lnTo>
                      <a:pt x="22" y="18"/>
                    </a:lnTo>
                    <a:lnTo>
                      <a:pt x="25" y="12"/>
                    </a:lnTo>
                    <a:lnTo>
                      <a:pt x="29" y="7"/>
                    </a:lnTo>
                    <a:lnTo>
                      <a:pt x="32" y="4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2" y="4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800680" y="2281320"/>
                <a:ext cx="73080" cy="716040"/>
              </a:xfrm>
              <a:custGeom>
                <a:avLst/>
                <a:gdLst/>
                <a:ahLst/>
                <a:rect l="l" t="t" r="r" b="b"/>
                <a:pathLst>
                  <a:path w="46" h="451">
                    <a:moveTo>
                      <a:pt x="0" y="0"/>
                    </a:moveTo>
                    <a:lnTo>
                      <a:pt x="1" y="7"/>
                    </a:lnTo>
                    <a:lnTo>
                      <a:pt x="3" y="16"/>
                    </a:lnTo>
                    <a:lnTo>
                      <a:pt x="4" y="25"/>
                    </a:lnTo>
                    <a:lnTo>
                      <a:pt x="6" y="35"/>
                    </a:lnTo>
                    <a:lnTo>
                      <a:pt x="7" y="46"/>
                    </a:lnTo>
                    <a:lnTo>
                      <a:pt x="8" y="58"/>
                    </a:lnTo>
                    <a:lnTo>
                      <a:pt x="10" y="71"/>
                    </a:lnTo>
                    <a:lnTo>
                      <a:pt x="11" y="85"/>
                    </a:lnTo>
                    <a:lnTo>
                      <a:pt x="14" y="116"/>
                    </a:lnTo>
                    <a:lnTo>
                      <a:pt x="17" y="147"/>
                    </a:lnTo>
                    <a:lnTo>
                      <a:pt x="20" y="180"/>
                    </a:lnTo>
                    <a:lnTo>
                      <a:pt x="22" y="215"/>
                    </a:lnTo>
                    <a:lnTo>
                      <a:pt x="25" y="250"/>
                    </a:lnTo>
                    <a:lnTo>
                      <a:pt x="28" y="285"/>
                    </a:lnTo>
                    <a:lnTo>
                      <a:pt x="32" y="318"/>
                    </a:lnTo>
                    <a:lnTo>
                      <a:pt x="35" y="350"/>
                    </a:lnTo>
                    <a:lnTo>
                      <a:pt x="38" y="380"/>
                    </a:lnTo>
                    <a:lnTo>
                      <a:pt x="39" y="394"/>
                    </a:lnTo>
                    <a:lnTo>
                      <a:pt x="40" y="407"/>
                    </a:lnTo>
                    <a:lnTo>
                      <a:pt x="42" y="419"/>
                    </a:lnTo>
                    <a:lnTo>
                      <a:pt x="43" y="431"/>
                    </a:lnTo>
                    <a:lnTo>
                      <a:pt x="45" y="441"/>
                    </a:lnTo>
                    <a:lnTo>
                      <a:pt x="46" y="45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873760" y="299736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0" y="0"/>
                    </a:moveTo>
                    <a:lnTo>
                      <a:pt x="4" y="21"/>
                    </a:lnTo>
                    <a:lnTo>
                      <a:pt x="9" y="40"/>
                    </a:lnTo>
                    <a:lnTo>
                      <a:pt x="16" y="58"/>
                    </a:lnTo>
                    <a:lnTo>
                      <a:pt x="22" y="74"/>
                    </a:lnTo>
                    <a:lnTo>
                      <a:pt x="28" y="88"/>
                    </a:lnTo>
                    <a:lnTo>
                      <a:pt x="32" y="93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40" y="104"/>
                    </a:lnTo>
                    <a:lnTo>
                      <a:pt x="42" y="106"/>
                    </a:lnTo>
                    <a:lnTo>
                      <a:pt x="44" y="10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943600" y="3027240"/>
                <a:ext cx="73080" cy="13968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0" y="88"/>
                    </a:moveTo>
                    <a:lnTo>
                      <a:pt x="2" y="88"/>
                    </a:lnTo>
                    <a:lnTo>
                      <a:pt x="5" y="87"/>
                    </a:lnTo>
                    <a:lnTo>
                      <a:pt x="7" y="85"/>
                    </a:lnTo>
                    <a:lnTo>
                      <a:pt x="10" y="82"/>
                    </a:lnTo>
                    <a:lnTo>
                      <a:pt x="13" y="78"/>
                    </a:lnTo>
                    <a:lnTo>
                      <a:pt x="16" y="74"/>
                    </a:lnTo>
                    <a:lnTo>
                      <a:pt x="22" y="63"/>
                    </a:lnTo>
                    <a:lnTo>
                      <a:pt x="30" y="49"/>
                    </a:lnTo>
                    <a:lnTo>
                      <a:pt x="36" y="34"/>
                    </a:lnTo>
                    <a:lnTo>
                      <a:pt x="41" y="17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6016680" y="2584440"/>
                <a:ext cx="69840" cy="442800"/>
              </a:xfrm>
              <a:custGeom>
                <a:avLst/>
                <a:gdLst/>
                <a:ahLst/>
                <a:rect l="l" t="t" r="r" b="b"/>
                <a:pathLst>
                  <a:path w="44" h="279">
                    <a:moveTo>
                      <a:pt x="0" y="279"/>
                    </a:moveTo>
                    <a:lnTo>
                      <a:pt x="3" y="267"/>
                    </a:lnTo>
                    <a:lnTo>
                      <a:pt x="6" y="253"/>
                    </a:lnTo>
                    <a:lnTo>
                      <a:pt x="8" y="237"/>
                    </a:lnTo>
                    <a:lnTo>
                      <a:pt x="11" y="221"/>
                    </a:lnTo>
                    <a:lnTo>
                      <a:pt x="14" y="204"/>
                    </a:lnTo>
                    <a:lnTo>
                      <a:pt x="17" y="186"/>
                    </a:lnTo>
                    <a:lnTo>
                      <a:pt x="22" y="147"/>
                    </a:lnTo>
                    <a:lnTo>
                      <a:pt x="27" y="109"/>
                    </a:lnTo>
                    <a:lnTo>
                      <a:pt x="33" y="70"/>
                    </a:lnTo>
                    <a:lnTo>
                      <a:pt x="36" y="51"/>
                    </a:lnTo>
                    <a:lnTo>
                      <a:pt x="38" y="33"/>
                    </a:lnTo>
                    <a:lnTo>
                      <a:pt x="41" y="1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6086520" y="222876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0" y="224"/>
                    </a:moveTo>
                    <a:lnTo>
                      <a:pt x="6" y="191"/>
                    </a:lnTo>
                    <a:lnTo>
                      <a:pt x="11" y="158"/>
                    </a:lnTo>
                    <a:lnTo>
                      <a:pt x="17" y="124"/>
                    </a:lnTo>
                    <a:lnTo>
                      <a:pt x="23" y="93"/>
                    </a:lnTo>
                    <a:lnTo>
                      <a:pt x="26" y="78"/>
                    </a:lnTo>
                    <a:lnTo>
                      <a:pt x="29" y="64"/>
                    </a:lnTo>
                    <a:lnTo>
                      <a:pt x="32" y="50"/>
                    </a:lnTo>
                    <a:lnTo>
                      <a:pt x="35" y="37"/>
                    </a:lnTo>
                    <a:lnTo>
                      <a:pt x="38" y="26"/>
                    </a:lnTo>
                    <a:lnTo>
                      <a:pt x="40" y="16"/>
                    </a:lnTo>
                    <a:lnTo>
                      <a:pt x="43" y="7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6159600" y="222264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4"/>
                    </a:moveTo>
                    <a:lnTo>
                      <a:pt x="3" y="1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2" y="2"/>
                    </a:lnTo>
                    <a:lnTo>
                      <a:pt x="29" y="6"/>
                    </a:lnTo>
                    <a:lnTo>
                      <a:pt x="36" y="11"/>
                    </a:lnTo>
                    <a:lnTo>
                      <a:pt x="41" y="18"/>
                    </a:lnTo>
                    <a:lnTo>
                      <a:pt x="44" y="2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6229440" y="2263680"/>
                <a:ext cx="71280" cy="801720"/>
              </a:xfrm>
              <a:custGeom>
                <a:avLst/>
                <a:gdLst/>
                <a:ahLst/>
                <a:rect l="l" t="t" r="r" b="b"/>
                <a:pathLst>
                  <a:path w="45" h="505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4" y="31"/>
                    </a:lnTo>
                    <a:lnTo>
                      <a:pt x="5" y="43"/>
                    </a:lnTo>
                    <a:lnTo>
                      <a:pt x="7" y="56"/>
                    </a:lnTo>
                    <a:lnTo>
                      <a:pt x="8" y="70"/>
                    </a:lnTo>
                    <a:lnTo>
                      <a:pt x="10" y="84"/>
                    </a:lnTo>
                    <a:lnTo>
                      <a:pt x="11" y="100"/>
                    </a:lnTo>
                    <a:lnTo>
                      <a:pt x="14" y="134"/>
                    </a:lnTo>
                    <a:lnTo>
                      <a:pt x="17" y="169"/>
                    </a:lnTo>
                    <a:lnTo>
                      <a:pt x="20" y="206"/>
                    </a:lnTo>
                    <a:lnTo>
                      <a:pt x="23" y="243"/>
                    </a:lnTo>
                    <a:lnTo>
                      <a:pt x="26" y="281"/>
                    </a:lnTo>
                    <a:lnTo>
                      <a:pt x="28" y="319"/>
                    </a:lnTo>
                    <a:lnTo>
                      <a:pt x="31" y="355"/>
                    </a:lnTo>
                    <a:lnTo>
                      <a:pt x="34" y="391"/>
                    </a:lnTo>
                    <a:lnTo>
                      <a:pt x="37" y="424"/>
                    </a:lnTo>
                    <a:lnTo>
                      <a:pt x="38" y="439"/>
                    </a:lnTo>
                    <a:lnTo>
                      <a:pt x="39" y="455"/>
                    </a:lnTo>
                    <a:lnTo>
                      <a:pt x="41" y="469"/>
                    </a:lnTo>
                    <a:lnTo>
                      <a:pt x="42" y="482"/>
                    </a:lnTo>
                    <a:lnTo>
                      <a:pt x="44" y="494"/>
                    </a:lnTo>
                    <a:lnTo>
                      <a:pt x="45" y="50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6300720" y="3065400"/>
                <a:ext cx="71640" cy="274680"/>
              </a:xfrm>
              <a:custGeom>
                <a:avLst/>
                <a:gdLst/>
                <a:ahLst/>
                <a:rect l="l" t="t" r="r" b="b"/>
                <a:pathLst>
                  <a:path w="45" h="173">
                    <a:moveTo>
                      <a:pt x="0" y="0"/>
                    </a:moveTo>
                    <a:lnTo>
                      <a:pt x="5" y="32"/>
                    </a:lnTo>
                    <a:lnTo>
                      <a:pt x="10" y="62"/>
                    </a:lnTo>
                    <a:lnTo>
                      <a:pt x="16" y="89"/>
                    </a:lnTo>
                    <a:lnTo>
                      <a:pt x="19" y="102"/>
                    </a:lnTo>
                    <a:lnTo>
                      <a:pt x="22" y="113"/>
                    </a:lnTo>
                    <a:lnTo>
                      <a:pt x="26" y="125"/>
                    </a:lnTo>
                    <a:lnTo>
                      <a:pt x="29" y="135"/>
                    </a:lnTo>
                    <a:lnTo>
                      <a:pt x="32" y="144"/>
                    </a:lnTo>
                    <a:lnTo>
                      <a:pt x="35" y="152"/>
                    </a:lnTo>
                    <a:lnTo>
                      <a:pt x="38" y="159"/>
                    </a:lnTo>
                    <a:lnTo>
                      <a:pt x="40" y="165"/>
                    </a:lnTo>
                    <a:lnTo>
                      <a:pt x="43" y="169"/>
                    </a:lnTo>
                    <a:lnTo>
                      <a:pt x="45" y="17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6372360" y="326088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50"/>
                    </a:moveTo>
                    <a:lnTo>
                      <a:pt x="2" y="51"/>
                    </a:lnTo>
                    <a:lnTo>
                      <a:pt x="4" y="52"/>
                    </a:lnTo>
                    <a:lnTo>
                      <a:pt x="9" y="51"/>
                    </a:lnTo>
                    <a:lnTo>
                      <a:pt x="16" y="47"/>
                    </a:lnTo>
                    <a:lnTo>
                      <a:pt x="23" y="41"/>
                    </a:lnTo>
                    <a:lnTo>
                      <a:pt x="30" y="33"/>
                    </a:lnTo>
                    <a:lnTo>
                      <a:pt x="36" y="23"/>
                    </a:lnTo>
                    <a:lnTo>
                      <a:pt x="41" y="1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6443640" y="2651040"/>
                <a:ext cx="71640" cy="609840"/>
              </a:xfrm>
              <a:custGeom>
                <a:avLst/>
                <a:gdLst/>
                <a:ahLst/>
                <a:rect l="l" t="t" r="r" b="b"/>
                <a:pathLst>
                  <a:path w="45" h="384">
                    <a:moveTo>
                      <a:pt x="0" y="384"/>
                    </a:moveTo>
                    <a:lnTo>
                      <a:pt x="3" y="368"/>
                    </a:lnTo>
                    <a:lnTo>
                      <a:pt x="6" y="351"/>
                    </a:lnTo>
                    <a:lnTo>
                      <a:pt x="8" y="331"/>
                    </a:lnTo>
                    <a:lnTo>
                      <a:pt x="11" y="309"/>
                    </a:lnTo>
                    <a:lnTo>
                      <a:pt x="14" y="285"/>
                    </a:lnTo>
                    <a:lnTo>
                      <a:pt x="17" y="260"/>
                    </a:lnTo>
                    <a:lnTo>
                      <a:pt x="20" y="234"/>
                    </a:lnTo>
                    <a:lnTo>
                      <a:pt x="22" y="206"/>
                    </a:lnTo>
                    <a:lnTo>
                      <a:pt x="28" y="151"/>
                    </a:lnTo>
                    <a:lnTo>
                      <a:pt x="31" y="123"/>
                    </a:lnTo>
                    <a:lnTo>
                      <a:pt x="34" y="96"/>
                    </a:lnTo>
                    <a:lnTo>
                      <a:pt x="37" y="71"/>
                    </a:lnTo>
                    <a:lnTo>
                      <a:pt x="39" y="46"/>
                    </a:lnTo>
                    <a:lnTo>
                      <a:pt x="42" y="2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6515280" y="2201760"/>
                <a:ext cx="71280" cy="449280"/>
              </a:xfrm>
              <a:custGeom>
                <a:avLst/>
                <a:gdLst/>
                <a:ahLst/>
                <a:rect l="l" t="t" r="r" b="b"/>
                <a:pathLst>
                  <a:path w="45" h="283">
                    <a:moveTo>
                      <a:pt x="0" y="283"/>
                    </a:moveTo>
                    <a:lnTo>
                      <a:pt x="7" y="241"/>
                    </a:lnTo>
                    <a:lnTo>
                      <a:pt x="12" y="198"/>
                    </a:lnTo>
                    <a:lnTo>
                      <a:pt x="18" y="156"/>
                    </a:lnTo>
                    <a:lnTo>
                      <a:pt x="20" y="135"/>
                    </a:lnTo>
                    <a:lnTo>
                      <a:pt x="23" y="116"/>
                    </a:lnTo>
                    <a:lnTo>
                      <a:pt x="26" y="97"/>
                    </a:lnTo>
                    <a:lnTo>
                      <a:pt x="28" y="79"/>
                    </a:lnTo>
                    <a:lnTo>
                      <a:pt x="31" y="61"/>
                    </a:lnTo>
                    <a:lnTo>
                      <a:pt x="34" y="46"/>
                    </a:lnTo>
                    <a:lnTo>
                      <a:pt x="37" y="32"/>
                    </a:lnTo>
                    <a:lnTo>
                      <a:pt x="39" y="20"/>
                    </a:lnTo>
                    <a:lnTo>
                      <a:pt x="42" y="9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6586560" y="218772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9"/>
                    </a:moveTo>
                    <a:lnTo>
                      <a:pt x="2" y="5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22" y="6"/>
                    </a:lnTo>
                    <a:lnTo>
                      <a:pt x="29" y="13"/>
                    </a:lnTo>
                    <a:lnTo>
                      <a:pt x="35" y="21"/>
                    </a:lnTo>
                    <a:lnTo>
                      <a:pt x="41" y="29"/>
                    </a:lnTo>
                    <a:lnTo>
                      <a:pt x="46" y="3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6659640" y="2246400"/>
                <a:ext cx="69840" cy="282600"/>
              </a:xfrm>
              <a:custGeom>
                <a:avLst/>
                <a:gdLst/>
                <a:ahLst/>
                <a:rect l="l" t="t" r="r" b="b"/>
                <a:pathLst>
                  <a:path w="44" h="178">
                    <a:moveTo>
                      <a:pt x="0" y="0"/>
                    </a:moveTo>
                    <a:lnTo>
                      <a:pt x="3" y="7"/>
                    </a:lnTo>
                    <a:lnTo>
                      <a:pt x="6" y="17"/>
                    </a:lnTo>
                    <a:lnTo>
                      <a:pt x="8" y="27"/>
                    </a:lnTo>
                    <a:lnTo>
                      <a:pt x="11" y="40"/>
                    </a:lnTo>
                    <a:lnTo>
                      <a:pt x="14" y="53"/>
                    </a:lnTo>
                    <a:lnTo>
                      <a:pt x="17" y="67"/>
                    </a:lnTo>
                    <a:lnTo>
                      <a:pt x="22" y="95"/>
                    </a:lnTo>
                    <a:lnTo>
                      <a:pt x="25" y="109"/>
                    </a:lnTo>
                    <a:lnTo>
                      <a:pt x="27" y="124"/>
                    </a:lnTo>
                    <a:lnTo>
                      <a:pt x="30" y="137"/>
                    </a:lnTo>
                    <a:lnTo>
                      <a:pt x="33" y="148"/>
                    </a:lnTo>
                    <a:lnTo>
                      <a:pt x="36" y="158"/>
                    </a:lnTo>
                    <a:lnTo>
                      <a:pt x="38" y="167"/>
                    </a:lnTo>
                    <a:lnTo>
                      <a:pt x="41" y="174"/>
                    </a:lnTo>
                    <a:lnTo>
                      <a:pt x="44" y="17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729480" y="240840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46" h="79">
                    <a:moveTo>
                      <a:pt x="0" y="76"/>
                    </a:moveTo>
                    <a:lnTo>
                      <a:pt x="3" y="78"/>
                    </a:lnTo>
                    <a:lnTo>
                      <a:pt x="6" y="79"/>
                    </a:lnTo>
                    <a:lnTo>
                      <a:pt x="8" y="78"/>
                    </a:lnTo>
                    <a:lnTo>
                      <a:pt x="11" y="76"/>
                    </a:lnTo>
                    <a:lnTo>
                      <a:pt x="14" y="73"/>
                    </a:lnTo>
                    <a:lnTo>
                      <a:pt x="17" y="69"/>
                    </a:lnTo>
                    <a:lnTo>
                      <a:pt x="20" y="63"/>
                    </a:lnTo>
                    <a:lnTo>
                      <a:pt x="22" y="58"/>
                    </a:lnTo>
                    <a:lnTo>
                      <a:pt x="28" y="44"/>
                    </a:lnTo>
                    <a:lnTo>
                      <a:pt x="34" y="29"/>
                    </a:lnTo>
                    <a:lnTo>
                      <a:pt x="40" y="14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6802560" y="2201760"/>
                <a:ext cx="69840" cy="206640"/>
              </a:xfrm>
              <a:custGeom>
                <a:avLst/>
                <a:gdLst/>
                <a:ahLst/>
                <a:rect l="l" t="t" r="r" b="b"/>
                <a:pathLst>
                  <a:path w="44" h="130">
                    <a:moveTo>
                      <a:pt x="0" y="130"/>
                    </a:moveTo>
                    <a:lnTo>
                      <a:pt x="3" y="123"/>
                    </a:lnTo>
                    <a:lnTo>
                      <a:pt x="6" y="116"/>
                    </a:lnTo>
                    <a:lnTo>
                      <a:pt x="11" y="99"/>
                    </a:lnTo>
                    <a:lnTo>
                      <a:pt x="17" y="80"/>
                    </a:lnTo>
                    <a:lnTo>
                      <a:pt x="22" y="60"/>
                    </a:lnTo>
                    <a:lnTo>
                      <a:pt x="27" y="42"/>
                    </a:lnTo>
                    <a:lnTo>
                      <a:pt x="33" y="25"/>
                    </a:lnTo>
                    <a:lnTo>
                      <a:pt x="36" y="18"/>
                    </a:lnTo>
                    <a:lnTo>
                      <a:pt x="38" y="11"/>
                    </a:lnTo>
                    <a:lnTo>
                      <a:pt x="41" y="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6872400" y="2181240"/>
                <a:ext cx="73080" cy="2052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13"/>
                    </a:moveTo>
                    <a:lnTo>
                      <a:pt x="5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41" y="2"/>
                    </a:lnTo>
                    <a:lnTo>
                      <a:pt x="46" y="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6945480" y="218448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015320" y="2197080"/>
                <a:ext cx="7272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35" y="10"/>
                    </a:lnTo>
                    <a:lnTo>
                      <a:pt x="46" y="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088040" y="220176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9"/>
                    </a:moveTo>
                    <a:lnTo>
                      <a:pt x="6" y="9"/>
                    </a:lnTo>
                    <a:lnTo>
                      <a:pt x="11" y="8"/>
                    </a:lnTo>
                    <a:lnTo>
                      <a:pt x="22" y="4"/>
                    </a:lnTo>
                    <a:lnTo>
                      <a:pt x="27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157880" y="220356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0"/>
                    </a:moveTo>
                    <a:lnTo>
                      <a:pt x="6" y="2"/>
                    </a:lnTo>
                    <a:lnTo>
                      <a:pt x="11" y="4"/>
                    </a:lnTo>
                    <a:lnTo>
                      <a:pt x="22" y="12"/>
                    </a:lnTo>
                    <a:lnTo>
                      <a:pt x="35" y="20"/>
                    </a:lnTo>
                    <a:lnTo>
                      <a:pt x="46" y="2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1" name=""/>
            <p:cNvSpPr/>
            <p:nvPr/>
          </p:nvSpPr>
          <p:spPr>
            <a:xfrm>
              <a:off x="7230960" y="2246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2" y="2"/>
                  </a:lnTo>
                  <a:lnTo>
                    <a:pt x="30" y="5"/>
                  </a:lnTo>
                  <a:lnTo>
                    <a:pt x="36" y="8"/>
                  </a:lnTo>
                  <a:lnTo>
                    <a:pt x="42" y="14"/>
                  </a:lnTo>
                  <a:lnTo>
                    <a:pt x="43" y="18"/>
                  </a:lnTo>
                  <a:lnTo>
                    <a:pt x="44" y="2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300800" y="2281320"/>
              <a:ext cx="73080" cy="1431720"/>
            </a:xfrm>
            <a:custGeom>
              <a:avLst/>
              <a:gdLst/>
              <a:ahLst/>
              <a:rect l="l" t="t" r="r" b="b"/>
              <a:pathLst>
                <a:path w="46" h="902">
                  <a:moveTo>
                    <a:pt x="0" y="0"/>
                  </a:moveTo>
                  <a:lnTo>
                    <a:pt x="1" y="16"/>
                  </a:lnTo>
                  <a:lnTo>
                    <a:pt x="3" y="34"/>
                  </a:lnTo>
                  <a:lnTo>
                    <a:pt x="4" y="53"/>
                  </a:lnTo>
                  <a:lnTo>
                    <a:pt x="6" y="74"/>
                  </a:lnTo>
                  <a:lnTo>
                    <a:pt x="7" y="96"/>
                  </a:lnTo>
                  <a:lnTo>
                    <a:pt x="8" y="122"/>
                  </a:lnTo>
                  <a:lnTo>
                    <a:pt x="10" y="147"/>
                  </a:lnTo>
                  <a:lnTo>
                    <a:pt x="11" y="174"/>
                  </a:lnTo>
                  <a:lnTo>
                    <a:pt x="13" y="203"/>
                  </a:lnTo>
                  <a:lnTo>
                    <a:pt x="14" y="232"/>
                  </a:lnTo>
                  <a:lnTo>
                    <a:pt x="15" y="262"/>
                  </a:lnTo>
                  <a:lnTo>
                    <a:pt x="18" y="294"/>
                  </a:lnTo>
                  <a:lnTo>
                    <a:pt x="21" y="357"/>
                  </a:lnTo>
                  <a:lnTo>
                    <a:pt x="23" y="423"/>
                  </a:lnTo>
                  <a:lnTo>
                    <a:pt x="26" y="491"/>
                  </a:lnTo>
                  <a:lnTo>
                    <a:pt x="29" y="558"/>
                  </a:lnTo>
                  <a:lnTo>
                    <a:pt x="32" y="624"/>
                  </a:lnTo>
                  <a:lnTo>
                    <a:pt x="35" y="687"/>
                  </a:lnTo>
                  <a:lnTo>
                    <a:pt x="36" y="718"/>
                  </a:lnTo>
                  <a:lnTo>
                    <a:pt x="38" y="748"/>
                  </a:lnTo>
                  <a:lnTo>
                    <a:pt x="39" y="776"/>
                  </a:lnTo>
                  <a:lnTo>
                    <a:pt x="40" y="805"/>
                  </a:lnTo>
                  <a:lnTo>
                    <a:pt x="42" y="831"/>
                  </a:lnTo>
                  <a:lnTo>
                    <a:pt x="43" y="856"/>
                  </a:lnTo>
                  <a:lnTo>
                    <a:pt x="45" y="880"/>
                  </a:lnTo>
                  <a:lnTo>
                    <a:pt x="46" y="90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373880" y="3713040"/>
              <a:ext cx="69840" cy="728640"/>
            </a:xfrm>
            <a:custGeom>
              <a:avLst/>
              <a:gdLst/>
              <a:ahLst/>
              <a:rect l="l" t="t" r="r" b="b"/>
              <a:pathLst>
                <a:path w="44" h="459">
                  <a:moveTo>
                    <a:pt x="0" y="0"/>
                  </a:moveTo>
                  <a:lnTo>
                    <a:pt x="3" y="41"/>
                  </a:lnTo>
                  <a:lnTo>
                    <a:pt x="6" y="81"/>
                  </a:lnTo>
                  <a:lnTo>
                    <a:pt x="8" y="118"/>
                  </a:lnTo>
                  <a:lnTo>
                    <a:pt x="11" y="154"/>
                  </a:lnTo>
                  <a:lnTo>
                    <a:pt x="14" y="187"/>
                  </a:lnTo>
                  <a:lnTo>
                    <a:pt x="17" y="219"/>
                  </a:lnTo>
                  <a:lnTo>
                    <a:pt x="19" y="250"/>
                  </a:lnTo>
                  <a:lnTo>
                    <a:pt x="22" y="278"/>
                  </a:lnTo>
                  <a:lnTo>
                    <a:pt x="25" y="305"/>
                  </a:lnTo>
                  <a:lnTo>
                    <a:pt x="28" y="332"/>
                  </a:lnTo>
                  <a:lnTo>
                    <a:pt x="30" y="356"/>
                  </a:lnTo>
                  <a:lnTo>
                    <a:pt x="33" y="379"/>
                  </a:lnTo>
                  <a:lnTo>
                    <a:pt x="36" y="401"/>
                  </a:lnTo>
                  <a:lnTo>
                    <a:pt x="39" y="421"/>
                  </a:lnTo>
                  <a:lnTo>
                    <a:pt x="41" y="441"/>
                  </a:lnTo>
                  <a:lnTo>
                    <a:pt x="44" y="459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443720" y="4441680"/>
              <a:ext cx="71640" cy="187560"/>
            </a:xfrm>
            <a:custGeom>
              <a:avLst/>
              <a:gdLst/>
              <a:ahLst/>
              <a:rect l="l" t="t" r="r" b="b"/>
              <a:pathLst>
                <a:path w="45" h="118">
                  <a:moveTo>
                    <a:pt x="0" y="0"/>
                  </a:moveTo>
                  <a:lnTo>
                    <a:pt x="2" y="10"/>
                  </a:lnTo>
                  <a:lnTo>
                    <a:pt x="4" y="20"/>
                  </a:lnTo>
                  <a:lnTo>
                    <a:pt x="7" y="29"/>
                  </a:lnTo>
                  <a:lnTo>
                    <a:pt x="9" y="36"/>
                  </a:lnTo>
                  <a:lnTo>
                    <a:pt x="13" y="42"/>
                  </a:lnTo>
                  <a:lnTo>
                    <a:pt x="17" y="48"/>
                  </a:lnTo>
                  <a:lnTo>
                    <a:pt x="23" y="58"/>
                  </a:lnTo>
                  <a:lnTo>
                    <a:pt x="29" y="69"/>
                  </a:lnTo>
                  <a:lnTo>
                    <a:pt x="33" y="75"/>
                  </a:lnTo>
                  <a:lnTo>
                    <a:pt x="35" y="81"/>
                  </a:lnTo>
                  <a:lnTo>
                    <a:pt x="38" y="89"/>
                  </a:lnTo>
                  <a:lnTo>
                    <a:pt x="41" y="97"/>
                  </a:lnTo>
                  <a:lnTo>
                    <a:pt x="43" y="106"/>
                  </a:lnTo>
                  <a:lnTo>
                    <a:pt x="45" y="11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515360" y="4629240"/>
              <a:ext cx="71280" cy="763560"/>
            </a:xfrm>
            <a:custGeom>
              <a:avLst/>
              <a:gdLst/>
              <a:ahLst/>
              <a:rect l="l" t="t" r="r" b="b"/>
              <a:pathLst>
                <a:path w="45" h="481">
                  <a:moveTo>
                    <a:pt x="0" y="0"/>
                  </a:moveTo>
                  <a:lnTo>
                    <a:pt x="1" y="10"/>
                  </a:lnTo>
                  <a:lnTo>
                    <a:pt x="3" y="22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7" y="68"/>
                  </a:lnTo>
                  <a:lnTo>
                    <a:pt x="8" y="87"/>
                  </a:lnTo>
                  <a:lnTo>
                    <a:pt x="10" y="106"/>
                  </a:lnTo>
                  <a:lnTo>
                    <a:pt x="11" y="126"/>
                  </a:lnTo>
                  <a:lnTo>
                    <a:pt x="13" y="146"/>
                  </a:lnTo>
                  <a:lnTo>
                    <a:pt x="14" y="169"/>
                  </a:lnTo>
                  <a:lnTo>
                    <a:pt x="17" y="212"/>
                  </a:lnTo>
                  <a:lnTo>
                    <a:pt x="20" y="258"/>
                  </a:lnTo>
                  <a:lnTo>
                    <a:pt x="22" y="301"/>
                  </a:lnTo>
                  <a:lnTo>
                    <a:pt x="24" y="322"/>
                  </a:lnTo>
                  <a:lnTo>
                    <a:pt x="25" y="344"/>
                  </a:lnTo>
                  <a:lnTo>
                    <a:pt x="27" y="364"/>
                  </a:lnTo>
                  <a:lnTo>
                    <a:pt x="28" y="382"/>
                  </a:lnTo>
                  <a:lnTo>
                    <a:pt x="30" y="400"/>
                  </a:lnTo>
                  <a:lnTo>
                    <a:pt x="31" y="416"/>
                  </a:lnTo>
                  <a:lnTo>
                    <a:pt x="32" y="432"/>
                  </a:lnTo>
                  <a:lnTo>
                    <a:pt x="34" y="445"/>
                  </a:lnTo>
                  <a:lnTo>
                    <a:pt x="35" y="456"/>
                  </a:lnTo>
                  <a:lnTo>
                    <a:pt x="37" y="466"/>
                  </a:lnTo>
                  <a:lnTo>
                    <a:pt x="38" y="473"/>
                  </a:lnTo>
                  <a:lnTo>
                    <a:pt x="39" y="478"/>
                  </a:lnTo>
                  <a:lnTo>
                    <a:pt x="41" y="481"/>
                  </a:lnTo>
                  <a:lnTo>
                    <a:pt x="42" y="481"/>
                  </a:lnTo>
                  <a:lnTo>
                    <a:pt x="44" y="478"/>
                  </a:lnTo>
                  <a:lnTo>
                    <a:pt x="44" y="476"/>
                  </a:lnTo>
                  <a:lnTo>
                    <a:pt x="45" y="473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586640" y="3911760"/>
              <a:ext cx="71640" cy="1468440"/>
            </a:xfrm>
            <a:custGeom>
              <a:avLst/>
              <a:gdLst/>
              <a:ahLst/>
              <a:rect l="l" t="t" r="r" b="b"/>
              <a:pathLst>
                <a:path w="45" h="925">
                  <a:moveTo>
                    <a:pt x="0" y="925"/>
                  </a:moveTo>
                  <a:lnTo>
                    <a:pt x="1" y="921"/>
                  </a:lnTo>
                  <a:lnTo>
                    <a:pt x="1" y="916"/>
                  </a:lnTo>
                  <a:lnTo>
                    <a:pt x="2" y="910"/>
                  </a:lnTo>
                  <a:lnTo>
                    <a:pt x="3" y="903"/>
                  </a:lnTo>
                  <a:lnTo>
                    <a:pt x="3" y="896"/>
                  </a:lnTo>
                  <a:lnTo>
                    <a:pt x="4" y="887"/>
                  </a:lnTo>
                  <a:lnTo>
                    <a:pt x="5" y="878"/>
                  </a:lnTo>
                  <a:lnTo>
                    <a:pt x="6" y="867"/>
                  </a:lnTo>
                  <a:lnTo>
                    <a:pt x="8" y="845"/>
                  </a:lnTo>
                  <a:lnTo>
                    <a:pt x="9" y="820"/>
                  </a:lnTo>
                  <a:lnTo>
                    <a:pt x="11" y="792"/>
                  </a:lnTo>
                  <a:lnTo>
                    <a:pt x="12" y="762"/>
                  </a:lnTo>
                  <a:lnTo>
                    <a:pt x="13" y="730"/>
                  </a:lnTo>
                  <a:lnTo>
                    <a:pt x="15" y="695"/>
                  </a:lnTo>
                  <a:lnTo>
                    <a:pt x="16" y="660"/>
                  </a:lnTo>
                  <a:lnTo>
                    <a:pt x="18" y="624"/>
                  </a:lnTo>
                  <a:lnTo>
                    <a:pt x="19" y="586"/>
                  </a:lnTo>
                  <a:lnTo>
                    <a:pt x="20" y="548"/>
                  </a:lnTo>
                  <a:lnTo>
                    <a:pt x="23" y="469"/>
                  </a:lnTo>
                  <a:lnTo>
                    <a:pt x="26" y="391"/>
                  </a:lnTo>
                  <a:lnTo>
                    <a:pt x="27" y="351"/>
                  </a:lnTo>
                  <a:lnTo>
                    <a:pt x="28" y="314"/>
                  </a:lnTo>
                  <a:lnTo>
                    <a:pt x="30" y="277"/>
                  </a:lnTo>
                  <a:lnTo>
                    <a:pt x="31" y="240"/>
                  </a:lnTo>
                  <a:lnTo>
                    <a:pt x="33" y="206"/>
                  </a:lnTo>
                  <a:lnTo>
                    <a:pt x="34" y="173"/>
                  </a:lnTo>
                  <a:lnTo>
                    <a:pt x="35" y="142"/>
                  </a:lnTo>
                  <a:lnTo>
                    <a:pt x="37" y="114"/>
                  </a:lnTo>
                  <a:lnTo>
                    <a:pt x="38" y="87"/>
                  </a:lnTo>
                  <a:lnTo>
                    <a:pt x="39" y="63"/>
                  </a:lnTo>
                  <a:lnTo>
                    <a:pt x="40" y="52"/>
                  </a:lnTo>
                  <a:lnTo>
                    <a:pt x="41" y="43"/>
                  </a:lnTo>
                  <a:lnTo>
                    <a:pt x="41" y="33"/>
                  </a:lnTo>
                  <a:lnTo>
                    <a:pt x="42" y="25"/>
                  </a:lnTo>
                  <a:lnTo>
                    <a:pt x="43" y="18"/>
                  </a:lnTo>
                  <a:lnTo>
                    <a:pt x="43" y="10"/>
                  </a:lnTo>
                  <a:lnTo>
                    <a:pt x="44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658280" y="3894120"/>
              <a:ext cx="71280" cy="608040"/>
            </a:xfrm>
            <a:custGeom>
              <a:avLst/>
              <a:gdLst/>
              <a:ahLst/>
              <a:rect l="l" t="t" r="r" b="b"/>
              <a:pathLst>
                <a:path w="45" h="383">
                  <a:moveTo>
                    <a:pt x="0" y="11"/>
                  </a:moveTo>
                  <a:lnTo>
                    <a:pt x="1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7"/>
                  </a:lnTo>
                  <a:lnTo>
                    <a:pt x="8" y="14"/>
                  </a:lnTo>
                  <a:lnTo>
                    <a:pt x="10" y="23"/>
                  </a:lnTo>
                  <a:lnTo>
                    <a:pt x="11" y="36"/>
                  </a:lnTo>
                  <a:lnTo>
                    <a:pt x="13" y="49"/>
                  </a:lnTo>
                  <a:lnTo>
                    <a:pt x="14" y="63"/>
                  </a:lnTo>
                  <a:lnTo>
                    <a:pt x="15" y="80"/>
                  </a:lnTo>
                  <a:lnTo>
                    <a:pt x="17" y="97"/>
                  </a:lnTo>
                  <a:lnTo>
                    <a:pt x="18" y="116"/>
                  </a:lnTo>
                  <a:lnTo>
                    <a:pt x="20" y="135"/>
                  </a:lnTo>
                  <a:lnTo>
                    <a:pt x="22" y="175"/>
                  </a:lnTo>
                  <a:lnTo>
                    <a:pt x="25" y="216"/>
                  </a:lnTo>
                  <a:lnTo>
                    <a:pt x="28" y="255"/>
                  </a:lnTo>
                  <a:lnTo>
                    <a:pt x="30" y="274"/>
                  </a:lnTo>
                  <a:lnTo>
                    <a:pt x="31" y="293"/>
                  </a:lnTo>
                  <a:lnTo>
                    <a:pt x="32" y="310"/>
                  </a:lnTo>
                  <a:lnTo>
                    <a:pt x="34" y="326"/>
                  </a:lnTo>
                  <a:lnTo>
                    <a:pt x="35" y="340"/>
                  </a:lnTo>
                  <a:lnTo>
                    <a:pt x="37" y="352"/>
                  </a:lnTo>
                  <a:lnTo>
                    <a:pt x="38" y="363"/>
                  </a:lnTo>
                  <a:lnTo>
                    <a:pt x="39" y="372"/>
                  </a:lnTo>
                  <a:lnTo>
                    <a:pt x="41" y="379"/>
                  </a:lnTo>
                  <a:lnTo>
                    <a:pt x="42" y="382"/>
                  </a:lnTo>
                  <a:lnTo>
                    <a:pt x="43" y="383"/>
                  </a:lnTo>
                  <a:lnTo>
                    <a:pt x="44" y="383"/>
                  </a:lnTo>
                  <a:lnTo>
                    <a:pt x="45" y="38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729560" y="3575160"/>
              <a:ext cx="71280" cy="925560"/>
            </a:xfrm>
            <a:custGeom>
              <a:avLst/>
              <a:gdLst/>
              <a:ahLst/>
              <a:rect l="l" t="t" r="r" b="b"/>
              <a:pathLst>
                <a:path w="45" h="583">
                  <a:moveTo>
                    <a:pt x="0" y="583"/>
                  </a:moveTo>
                  <a:lnTo>
                    <a:pt x="1" y="579"/>
                  </a:lnTo>
                  <a:lnTo>
                    <a:pt x="4" y="572"/>
                  </a:lnTo>
                  <a:lnTo>
                    <a:pt x="5" y="562"/>
                  </a:lnTo>
                  <a:lnTo>
                    <a:pt x="7" y="551"/>
                  </a:lnTo>
                  <a:lnTo>
                    <a:pt x="8" y="539"/>
                  </a:lnTo>
                  <a:lnTo>
                    <a:pt x="9" y="524"/>
                  </a:lnTo>
                  <a:lnTo>
                    <a:pt x="11" y="509"/>
                  </a:lnTo>
                  <a:lnTo>
                    <a:pt x="12" y="491"/>
                  </a:lnTo>
                  <a:lnTo>
                    <a:pt x="13" y="472"/>
                  </a:lnTo>
                  <a:lnTo>
                    <a:pt x="15" y="452"/>
                  </a:lnTo>
                  <a:lnTo>
                    <a:pt x="16" y="431"/>
                  </a:lnTo>
                  <a:lnTo>
                    <a:pt x="18" y="410"/>
                  </a:lnTo>
                  <a:lnTo>
                    <a:pt x="20" y="363"/>
                  </a:lnTo>
                  <a:lnTo>
                    <a:pt x="23" y="316"/>
                  </a:lnTo>
                  <a:lnTo>
                    <a:pt x="26" y="268"/>
                  </a:lnTo>
                  <a:lnTo>
                    <a:pt x="28" y="219"/>
                  </a:lnTo>
                  <a:lnTo>
                    <a:pt x="31" y="173"/>
                  </a:lnTo>
                  <a:lnTo>
                    <a:pt x="33" y="151"/>
                  </a:lnTo>
                  <a:lnTo>
                    <a:pt x="34" y="128"/>
                  </a:lnTo>
                  <a:lnTo>
                    <a:pt x="35" y="108"/>
                  </a:lnTo>
                  <a:lnTo>
                    <a:pt x="37" y="88"/>
                  </a:lnTo>
                  <a:lnTo>
                    <a:pt x="38" y="70"/>
                  </a:lnTo>
                  <a:lnTo>
                    <a:pt x="39" y="52"/>
                  </a:lnTo>
                  <a:lnTo>
                    <a:pt x="41" y="37"/>
                  </a:lnTo>
                  <a:lnTo>
                    <a:pt x="42" y="23"/>
                  </a:lnTo>
                  <a:lnTo>
                    <a:pt x="44" y="1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800840" y="353700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1" y="20"/>
                  </a:lnTo>
                  <a:lnTo>
                    <a:pt x="3" y="16"/>
                  </a:lnTo>
                  <a:lnTo>
                    <a:pt x="8" y="9"/>
                  </a:lnTo>
                  <a:lnTo>
                    <a:pt x="15" y="5"/>
                  </a:lnTo>
                  <a:lnTo>
                    <a:pt x="22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873920" y="3537000"/>
              <a:ext cx="69840" cy="777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3" y="1"/>
                  </a:lnTo>
                  <a:lnTo>
                    <a:pt x="8" y="4"/>
                  </a:lnTo>
                  <a:lnTo>
                    <a:pt x="15" y="8"/>
                  </a:lnTo>
                  <a:lnTo>
                    <a:pt x="22" y="13"/>
                  </a:lnTo>
                  <a:lnTo>
                    <a:pt x="29" y="20"/>
                  </a:lnTo>
                  <a:lnTo>
                    <a:pt x="36" y="28"/>
                  </a:lnTo>
                  <a:lnTo>
                    <a:pt x="41" y="38"/>
                  </a:lnTo>
                  <a:lnTo>
                    <a:pt x="44" y="49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943760" y="3614760"/>
              <a:ext cx="73080" cy="795240"/>
            </a:xfrm>
            <a:custGeom>
              <a:avLst/>
              <a:gdLst/>
              <a:ahLst/>
              <a:rect l="l" t="t" r="r" b="b"/>
              <a:pathLst>
                <a:path w="46" h="501">
                  <a:moveTo>
                    <a:pt x="0" y="0"/>
                  </a:moveTo>
                  <a:lnTo>
                    <a:pt x="1" y="9"/>
                  </a:lnTo>
                  <a:lnTo>
                    <a:pt x="3" y="20"/>
                  </a:lnTo>
                  <a:lnTo>
                    <a:pt x="4" y="33"/>
                  </a:lnTo>
                  <a:lnTo>
                    <a:pt x="6" y="46"/>
                  </a:lnTo>
                  <a:lnTo>
                    <a:pt x="7" y="61"/>
                  </a:lnTo>
                  <a:lnTo>
                    <a:pt x="8" y="76"/>
                  </a:lnTo>
                  <a:lnTo>
                    <a:pt x="10" y="93"/>
                  </a:lnTo>
                  <a:lnTo>
                    <a:pt x="11" y="110"/>
                  </a:lnTo>
                  <a:lnTo>
                    <a:pt x="14" y="148"/>
                  </a:lnTo>
                  <a:lnTo>
                    <a:pt x="17" y="186"/>
                  </a:lnTo>
                  <a:lnTo>
                    <a:pt x="20" y="227"/>
                  </a:lnTo>
                  <a:lnTo>
                    <a:pt x="22" y="267"/>
                  </a:lnTo>
                  <a:lnTo>
                    <a:pt x="25" y="307"/>
                  </a:lnTo>
                  <a:lnTo>
                    <a:pt x="28" y="346"/>
                  </a:lnTo>
                  <a:lnTo>
                    <a:pt x="30" y="364"/>
                  </a:lnTo>
                  <a:lnTo>
                    <a:pt x="31" y="383"/>
                  </a:lnTo>
                  <a:lnTo>
                    <a:pt x="32" y="400"/>
                  </a:lnTo>
                  <a:lnTo>
                    <a:pt x="34" y="416"/>
                  </a:lnTo>
                  <a:lnTo>
                    <a:pt x="35" y="431"/>
                  </a:lnTo>
                  <a:lnTo>
                    <a:pt x="38" y="445"/>
                  </a:lnTo>
                  <a:lnTo>
                    <a:pt x="39" y="457"/>
                  </a:lnTo>
                  <a:lnTo>
                    <a:pt x="40" y="470"/>
                  </a:lnTo>
                  <a:lnTo>
                    <a:pt x="42" y="480"/>
                  </a:lnTo>
                  <a:lnTo>
                    <a:pt x="43" y="489"/>
                  </a:lnTo>
                  <a:lnTo>
                    <a:pt x="45" y="496"/>
                  </a:lnTo>
                  <a:lnTo>
                    <a:pt x="46" y="50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8016840" y="4065480"/>
              <a:ext cx="69840" cy="355680"/>
            </a:xfrm>
            <a:custGeom>
              <a:avLst/>
              <a:gdLst/>
              <a:ahLst/>
              <a:rect l="l" t="t" r="r" b="b"/>
              <a:pathLst>
                <a:path w="44" h="224">
                  <a:moveTo>
                    <a:pt x="0" y="217"/>
                  </a:moveTo>
                  <a:lnTo>
                    <a:pt x="1" y="221"/>
                  </a:lnTo>
                  <a:lnTo>
                    <a:pt x="3" y="223"/>
                  </a:lnTo>
                  <a:lnTo>
                    <a:pt x="4" y="224"/>
                  </a:lnTo>
                  <a:lnTo>
                    <a:pt x="6" y="224"/>
                  </a:lnTo>
                  <a:lnTo>
                    <a:pt x="7" y="223"/>
                  </a:lnTo>
                  <a:lnTo>
                    <a:pt x="8" y="221"/>
                  </a:lnTo>
                  <a:lnTo>
                    <a:pt x="10" y="218"/>
                  </a:lnTo>
                  <a:lnTo>
                    <a:pt x="11" y="213"/>
                  </a:lnTo>
                  <a:lnTo>
                    <a:pt x="12" y="208"/>
                  </a:lnTo>
                  <a:lnTo>
                    <a:pt x="14" y="202"/>
                  </a:lnTo>
                  <a:lnTo>
                    <a:pt x="17" y="189"/>
                  </a:lnTo>
                  <a:lnTo>
                    <a:pt x="19" y="171"/>
                  </a:lnTo>
                  <a:lnTo>
                    <a:pt x="22" y="153"/>
                  </a:lnTo>
                  <a:lnTo>
                    <a:pt x="25" y="134"/>
                  </a:lnTo>
                  <a:lnTo>
                    <a:pt x="28" y="113"/>
                  </a:lnTo>
                  <a:lnTo>
                    <a:pt x="33" y="71"/>
                  </a:lnTo>
                  <a:lnTo>
                    <a:pt x="36" y="51"/>
                  </a:lnTo>
                  <a:lnTo>
                    <a:pt x="38" y="33"/>
                  </a:lnTo>
                  <a:lnTo>
                    <a:pt x="41" y="16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014480" y="561492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8" y="3"/>
                  </a:lnTo>
                  <a:lnTo>
                    <a:pt x="15" y="6"/>
                  </a:lnTo>
                  <a:lnTo>
                    <a:pt x="23" y="8"/>
                  </a:lnTo>
                  <a:lnTo>
                    <a:pt x="30" y="10"/>
                  </a:lnTo>
                  <a:lnTo>
                    <a:pt x="37" y="9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085760" y="4875120"/>
              <a:ext cx="71640" cy="739800"/>
            </a:xfrm>
            <a:custGeom>
              <a:avLst/>
              <a:gdLst/>
              <a:ahLst/>
              <a:rect l="l" t="t" r="r" b="b"/>
              <a:pathLst>
                <a:path w="45" h="466">
                  <a:moveTo>
                    <a:pt x="0" y="466"/>
                  </a:moveTo>
                  <a:lnTo>
                    <a:pt x="1" y="458"/>
                  </a:lnTo>
                  <a:lnTo>
                    <a:pt x="3" y="450"/>
                  </a:lnTo>
                  <a:lnTo>
                    <a:pt x="6" y="430"/>
                  </a:lnTo>
                  <a:lnTo>
                    <a:pt x="8" y="409"/>
                  </a:lnTo>
                  <a:lnTo>
                    <a:pt x="11" y="385"/>
                  </a:lnTo>
                  <a:lnTo>
                    <a:pt x="14" y="360"/>
                  </a:lnTo>
                  <a:lnTo>
                    <a:pt x="17" y="331"/>
                  </a:lnTo>
                  <a:lnTo>
                    <a:pt x="19" y="302"/>
                  </a:lnTo>
                  <a:lnTo>
                    <a:pt x="22" y="271"/>
                  </a:lnTo>
                  <a:lnTo>
                    <a:pt x="25" y="238"/>
                  </a:lnTo>
                  <a:lnTo>
                    <a:pt x="27" y="206"/>
                  </a:lnTo>
                  <a:lnTo>
                    <a:pt x="33" y="137"/>
                  </a:lnTo>
                  <a:lnTo>
                    <a:pt x="39" y="68"/>
                  </a:lnTo>
                  <a:lnTo>
                    <a:pt x="42" y="3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157400" y="3921120"/>
              <a:ext cx="71280" cy="954000"/>
            </a:xfrm>
            <a:custGeom>
              <a:avLst/>
              <a:gdLst/>
              <a:ahLst/>
              <a:rect l="l" t="t" r="r" b="b"/>
              <a:pathLst>
                <a:path w="45" h="601">
                  <a:moveTo>
                    <a:pt x="0" y="601"/>
                  </a:moveTo>
                  <a:lnTo>
                    <a:pt x="3" y="567"/>
                  </a:lnTo>
                  <a:lnTo>
                    <a:pt x="6" y="530"/>
                  </a:lnTo>
                  <a:lnTo>
                    <a:pt x="8" y="490"/>
                  </a:lnTo>
                  <a:lnTo>
                    <a:pt x="11" y="450"/>
                  </a:lnTo>
                  <a:lnTo>
                    <a:pt x="14" y="407"/>
                  </a:lnTo>
                  <a:lnTo>
                    <a:pt x="17" y="365"/>
                  </a:lnTo>
                  <a:lnTo>
                    <a:pt x="22" y="280"/>
                  </a:lnTo>
                  <a:lnTo>
                    <a:pt x="25" y="238"/>
                  </a:lnTo>
                  <a:lnTo>
                    <a:pt x="28" y="197"/>
                  </a:lnTo>
                  <a:lnTo>
                    <a:pt x="31" y="157"/>
                  </a:lnTo>
                  <a:lnTo>
                    <a:pt x="34" y="121"/>
                  </a:lnTo>
                  <a:lnTo>
                    <a:pt x="37" y="85"/>
                  </a:lnTo>
                  <a:lnTo>
                    <a:pt x="38" y="69"/>
                  </a:lnTo>
                  <a:lnTo>
                    <a:pt x="39" y="54"/>
                  </a:lnTo>
                  <a:lnTo>
                    <a:pt x="41" y="39"/>
                  </a:lnTo>
                  <a:lnTo>
                    <a:pt x="42" y="25"/>
                  </a:lnTo>
                  <a:lnTo>
                    <a:pt x="44" y="1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228680" y="3724200"/>
              <a:ext cx="71640" cy="196920"/>
            </a:xfrm>
            <a:custGeom>
              <a:avLst/>
              <a:gdLst/>
              <a:ahLst/>
              <a:rect l="l" t="t" r="r" b="b"/>
              <a:pathLst>
                <a:path w="45" h="124">
                  <a:moveTo>
                    <a:pt x="0" y="124"/>
                  </a:moveTo>
                  <a:lnTo>
                    <a:pt x="4" y="101"/>
                  </a:lnTo>
                  <a:lnTo>
                    <a:pt x="9" y="81"/>
                  </a:lnTo>
                  <a:lnTo>
                    <a:pt x="15" y="63"/>
                  </a:lnTo>
                  <a:lnTo>
                    <a:pt x="22" y="46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1300320" y="3494160"/>
              <a:ext cx="71280" cy="230040"/>
            </a:xfrm>
            <a:custGeom>
              <a:avLst/>
              <a:gdLst/>
              <a:ahLst/>
              <a:rect l="l" t="t" r="r" b="b"/>
              <a:pathLst>
                <a:path w="45" h="145">
                  <a:moveTo>
                    <a:pt x="0" y="145"/>
                  </a:moveTo>
                  <a:lnTo>
                    <a:pt x="6" y="128"/>
                  </a:lnTo>
                  <a:lnTo>
                    <a:pt x="11" y="110"/>
                  </a:lnTo>
                  <a:lnTo>
                    <a:pt x="22" y="71"/>
                  </a:lnTo>
                  <a:lnTo>
                    <a:pt x="28" y="52"/>
                  </a:lnTo>
                  <a:lnTo>
                    <a:pt x="34" y="34"/>
                  </a:lnTo>
                  <a:lnTo>
                    <a:pt x="39" y="1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371600" y="3316320"/>
              <a:ext cx="71280" cy="17784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0" y="112"/>
                  </a:moveTo>
                  <a:lnTo>
                    <a:pt x="3" y="104"/>
                  </a:lnTo>
                  <a:lnTo>
                    <a:pt x="6" y="94"/>
                  </a:lnTo>
                  <a:lnTo>
                    <a:pt x="8" y="84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19" y="38"/>
                  </a:lnTo>
                  <a:lnTo>
                    <a:pt x="22" y="28"/>
                  </a:lnTo>
                  <a:lnTo>
                    <a:pt x="26" y="19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2" y="5"/>
                  </a:lnTo>
                  <a:lnTo>
                    <a:pt x="44" y="9"/>
                  </a:lnTo>
                  <a:lnTo>
                    <a:pt x="45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1442880" y="3336840"/>
              <a:ext cx="71640" cy="638280"/>
            </a:xfrm>
            <a:custGeom>
              <a:avLst/>
              <a:gdLst/>
              <a:ahLst/>
              <a:rect l="l" t="t" r="r" b="b"/>
              <a:pathLst>
                <a:path w="45" h="402">
                  <a:moveTo>
                    <a:pt x="0" y="0"/>
                  </a:moveTo>
                  <a:lnTo>
                    <a:pt x="1" y="5"/>
                  </a:lnTo>
                  <a:lnTo>
                    <a:pt x="3" y="12"/>
                  </a:lnTo>
                  <a:lnTo>
                    <a:pt x="4" y="19"/>
                  </a:lnTo>
                  <a:lnTo>
                    <a:pt x="6" y="28"/>
                  </a:lnTo>
                  <a:lnTo>
                    <a:pt x="7" y="38"/>
                  </a:lnTo>
                  <a:lnTo>
                    <a:pt x="8" y="49"/>
                  </a:lnTo>
                  <a:lnTo>
                    <a:pt x="10" y="60"/>
                  </a:lnTo>
                  <a:lnTo>
                    <a:pt x="11" y="72"/>
                  </a:lnTo>
                  <a:lnTo>
                    <a:pt x="14" y="97"/>
                  </a:lnTo>
                  <a:lnTo>
                    <a:pt x="17" y="126"/>
                  </a:lnTo>
                  <a:lnTo>
                    <a:pt x="20" y="156"/>
                  </a:lnTo>
                  <a:lnTo>
                    <a:pt x="22" y="186"/>
                  </a:lnTo>
                  <a:lnTo>
                    <a:pt x="28" y="249"/>
                  </a:lnTo>
                  <a:lnTo>
                    <a:pt x="31" y="279"/>
                  </a:lnTo>
                  <a:lnTo>
                    <a:pt x="34" y="309"/>
                  </a:lnTo>
                  <a:lnTo>
                    <a:pt x="37" y="336"/>
                  </a:lnTo>
                  <a:lnTo>
                    <a:pt x="39" y="360"/>
                  </a:lnTo>
                  <a:lnTo>
                    <a:pt x="41" y="372"/>
                  </a:lnTo>
                  <a:lnTo>
                    <a:pt x="42" y="383"/>
                  </a:lnTo>
                  <a:lnTo>
                    <a:pt x="44" y="393"/>
                  </a:lnTo>
                  <a:lnTo>
                    <a:pt x="4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1514520" y="3975120"/>
              <a:ext cx="71280" cy="216000"/>
            </a:xfrm>
            <a:custGeom>
              <a:avLst/>
              <a:gdLst/>
              <a:ahLst/>
              <a:rect l="l" t="t" r="r" b="b"/>
              <a:pathLst>
                <a:path w="45" h="136">
                  <a:moveTo>
                    <a:pt x="0" y="0"/>
                  </a:moveTo>
                  <a:lnTo>
                    <a:pt x="5" y="25"/>
                  </a:lnTo>
                  <a:lnTo>
                    <a:pt x="10" y="49"/>
                  </a:lnTo>
                  <a:lnTo>
                    <a:pt x="16" y="72"/>
                  </a:lnTo>
                  <a:lnTo>
                    <a:pt x="23" y="91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2" y="114"/>
                  </a:lnTo>
                  <a:lnTo>
                    <a:pt x="35" y="120"/>
                  </a:lnTo>
                  <a:lnTo>
                    <a:pt x="38" y="125"/>
                  </a:lnTo>
                  <a:lnTo>
                    <a:pt x="40" y="130"/>
                  </a:lnTo>
                  <a:lnTo>
                    <a:pt x="43" y="133"/>
                  </a:lnTo>
                  <a:lnTo>
                    <a:pt x="45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1585800" y="4110120"/>
              <a:ext cx="71640" cy="8388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1"/>
                  </a:moveTo>
                  <a:lnTo>
                    <a:pt x="3" y="53"/>
                  </a:lnTo>
                  <a:lnTo>
                    <a:pt x="6" y="53"/>
                  </a:lnTo>
                  <a:lnTo>
                    <a:pt x="8" y="53"/>
                  </a:lnTo>
                  <a:lnTo>
                    <a:pt x="11" y="51"/>
                  </a:lnTo>
                  <a:lnTo>
                    <a:pt x="14" y="48"/>
                  </a:lnTo>
                  <a:lnTo>
                    <a:pt x="17" y="44"/>
                  </a:lnTo>
                  <a:lnTo>
                    <a:pt x="22" y="36"/>
                  </a:lnTo>
                  <a:lnTo>
                    <a:pt x="28" y="26"/>
                  </a:lnTo>
                  <a:lnTo>
                    <a:pt x="34" y="15"/>
                  </a:lnTo>
                  <a:lnTo>
                    <a:pt x="39" y="6"/>
                  </a:lnTo>
                  <a:lnTo>
                    <a:pt x="42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1657440" y="406548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28"/>
                  </a:moveTo>
                  <a:lnTo>
                    <a:pt x="4" y="25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29" y="18"/>
                  </a:lnTo>
                  <a:lnTo>
                    <a:pt x="35" y="14"/>
                  </a:lnTo>
                  <a:lnTo>
                    <a:pt x="41" y="9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728720" y="3782880"/>
              <a:ext cx="71640" cy="282600"/>
            </a:xfrm>
            <a:custGeom>
              <a:avLst/>
              <a:gdLst/>
              <a:ahLst/>
              <a:rect l="l" t="t" r="r" b="b"/>
              <a:pathLst>
                <a:path w="45" h="178">
                  <a:moveTo>
                    <a:pt x="0" y="178"/>
                  </a:moveTo>
                  <a:lnTo>
                    <a:pt x="3" y="171"/>
                  </a:lnTo>
                  <a:lnTo>
                    <a:pt x="6" y="164"/>
                  </a:lnTo>
                  <a:lnTo>
                    <a:pt x="8" y="155"/>
                  </a:lnTo>
                  <a:lnTo>
                    <a:pt x="11" y="146"/>
                  </a:lnTo>
                  <a:lnTo>
                    <a:pt x="17" y="126"/>
                  </a:lnTo>
                  <a:lnTo>
                    <a:pt x="22" y="103"/>
                  </a:lnTo>
                  <a:lnTo>
                    <a:pt x="28" y="78"/>
                  </a:lnTo>
                  <a:lnTo>
                    <a:pt x="34" y="5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1800360" y="3397320"/>
              <a:ext cx="71280" cy="385560"/>
            </a:xfrm>
            <a:custGeom>
              <a:avLst/>
              <a:gdLst/>
              <a:ahLst/>
              <a:rect l="l" t="t" r="r" b="b"/>
              <a:pathLst>
                <a:path w="45" h="243">
                  <a:moveTo>
                    <a:pt x="0" y="243"/>
                  </a:moveTo>
                  <a:lnTo>
                    <a:pt x="3" y="229"/>
                  </a:lnTo>
                  <a:lnTo>
                    <a:pt x="6" y="212"/>
                  </a:lnTo>
                  <a:lnTo>
                    <a:pt x="8" y="193"/>
                  </a:lnTo>
                  <a:lnTo>
                    <a:pt x="12" y="173"/>
                  </a:lnTo>
                  <a:lnTo>
                    <a:pt x="15" y="151"/>
                  </a:lnTo>
                  <a:lnTo>
                    <a:pt x="18" y="129"/>
                  </a:lnTo>
                  <a:lnTo>
                    <a:pt x="20" y="108"/>
                  </a:lnTo>
                  <a:lnTo>
                    <a:pt x="23" y="87"/>
                  </a:lnTo>
                  <a:lnTo>
                    <a:pt x="26" y="66"/>
                  </a:lnTo>
                  <a:lnTo>
                    <a:pt x="28" y="48"/>
                  </a:lnTo>
                  <a:lnTo>
                    <a:pt x="31" y="32"/>
                  </a:lnTo>
                  <a:lnTo>
                    <a:pt x="33" y="25"/>
                  </a:lnTo>
                  <a:lnTo>
                    <a:pt x="34" y="19"/>
                  </a:lnTo>
                  <a:lnTo>
                    <a:pt x="35" y="13"/>
                  </a:lnTo>
                  <a:lnTo>
                    <a:pt x="37" y="9"/>
                  </a:lnTo>
                  <a:lnTo>
                    <a:pt x="38" y="5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1871640" y="3400560"/>
              <a:ext cx="71640" cy="625320"/>
            </a:xfrm>
            <a:custGeom>
              <a:avLst/>
              <a:gdLst/>
              <a:ahLst/>
              <a:rect l="l" t="t" r="r" b="b"/>
              <a:pathLst>
                <a:path w="45" h="394">
                  <a:moveTo>
                    <a:pt x="0" y="0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3"/>
                  </a:lnTo>
                  <a:lnTo>
                    <a:pt x="6" y="20"/>
                  </a:lnTo>
                  <a:lnTo>
                    <a:pt x="7" y="28"/>
                  </a:lnTo>
                  <a:lnTo>
                    <a:pt x="8" y="38"/>
                  </a:lnTo>
                  <a:lnTo>
                    <a:pt x="10" y="48"/>
                  </a:lnTo>
                  <a:lnTo>
                    <a:pt x="11" y="59"/>
                  </a:lnTo>
                  <a:lnTo>
                    <a:pt x="13" y="71"/>
                  </a:lnTo>
                  <a:lnTo>
                    <a:pt x="14" y="85"/>
                  </a:lnTo>
                  <a:lnTo>
                    <a:pt x="17" y="112"/>
                  </a:lnTo>
                  <a:lnTo>
                    <a:pt x="20" y="141"/>
                  </a:lnTo>
                  <a:lnTo>
                    <a:pt x="22" y="173"/>
                  </a:lnTo>
                  <a:lnTo>
                    <a:pt x="25" y="204"/>
                  </a:lnTo>
                  <a:lnTo>
                    <a:pt x="28" y="236"/>
                  </a:lnTo>
                  <a:lnTo>
                    <a:pt x="31" y="268"/>
                  </a:lnTo>
                  <a:lnTo>
                    <a:pt x="34" y="298"/>
                  </a:lnTo>
                  <a:lnTo>
                    <a:pt x="37" y="326"/>
                  </a:lnTo>
                  <a:lnTo>
                    <a:pt x="38" y="340"/>
                  </a:lnTo>
                  <a:lnTo>
                    <a:pt x="39" y="353"/>
                  </a:lnTo>
                  <a:lnTo>
                    <a:pt x="41" y="364"/>
                  </a:lnTo>
                  <a:lnTo>
                    <a:pt x="42" y="375"/>
                  </a:lnTo>
                  <a:lnTo>
                    <a:pt x="44" y="385"/>
                  </a:lnTo>
                  <a:lnTo>
                    <a:pt x="45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1943280" y="4025880"/>
              <a:ext cx="71280" cy="2383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0" y="0"/>
                  </a:moveTo>
                  <a:lnTo>
                    <a:pt x="6" y="28"/>
                  </a:lnTo>
                  <a:lnTo>
                    <a:pt x="11" y="54"/>
                  </a:lnTo>
                  <a:lnTo>
                    <a:pt x="17" y="77"/>
                  </a:lnTo>
                  <a:lnTo>
                    <a:pt x="23" y="97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2" y="124"/>
                  </a:lnTo>
                  <a:lnTo>
                    <a:pt x="35" y="131"/>
                  </a:lnTo>
                  <a:lnTo>
                    <a:pt x="37" y="137"/>
                  </a:lnTo>
                  <a:lnTo>
                    <a:pt x="40" y="142"/>
                  </a:lnTo>
                  <a:lnTo>
                    <a:pt x="43" y="146"/>
                  </a:lnTo>
                  <a:lnTo>
                    <a:pt x="4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014560" y="421488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31"/>
                  </a:moveTo>
                  <a:lnTo>
                    <a:pt x="3" y="34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4"/>
                  </a:lnTo>
                  <a:lnTo>
                    <a:pt x="17" y="32"/>
                  </a:lnTo>
                  <a:lnTo>
                    <a:pt x="22" y="27"/>
                  </a:lnTo>
                  <a:lnTo>
                    <a:pt x="28" y="19"/>
                  </a:lnTo>
                  <a:lnTo>
                    <a:pt x="34" y="12"/>
                  </a:lnTo>
                  <a:lnTo>
                    <a:pt x="39" y="5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87640" y="41673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5" y="28"/>
                  </a:lnTo>
                  <a:lnTo>
                    <a:pt x="10" y="25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28" y="18"/>
                  </a:lnTo>
                  <a:lnTo>
                    <a:pt x="34" y="14"/>
                  </a:lnTo>
                  <a:lnTo>
                    <a:pt x="39" y="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157480" y="3894120"/>
              <a:ext cx="73080" cy="273240"/>
            </a:xfrm>
            <a:custGeom>
              <a:avLst/>
              <a:gdLst/>
              <a:ahLst/>
              <a:rect l="l" t="t" r="r" b="b"/>
              <a:pathLst>
                <a:path w="46" h="172">
                  <a:moveTo>
                    <a:pt x="0" y="172"/>
                  </a:moveTo>
                  <a:lnTo>
                    <a:pt x="3" y="165"/>
                  </a:lnTo>
                  <a:lnTo>
                    <a:pt x="6" y="158"/>
                  </a:lnTo>
                  <a:lnTo>
                    <a:pt x="11" y="141"/>
                  </a:lnTo>
                  <a:lnTo>
                    <a:pt x="17" y="122"/>
                  </a:lnTo>
                  <a:lnTo>
                    <a:pt x="22" y="100"/>
                  </a:lnTo>
                  <a:lnTo>
                    <a:pt x="28" y="77"/>
                  </a:lnTo>
                  <a:lnTo>
                    <a:pt x="34" y="52"/>
                  </a:lnTo>
                  <a:lnTo>
                    <a:pt x="40" y="27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230560" y="3495600"/>
              <a:ext cx="69840" cy="398520"/>
            </a:xfrm>
            <a:custGeom>
              <a:avLst/>
              <a:gdLst/>
              <a:ahLst/>
              <a:rect l="l" t="t" r="r" b="b"/>
              <a:pathLst>
                <a:path w="44" h="251">
                  <a:moveTo>
                    <a:pt x="0" y="251"/>
                  </a:moveTo>
                  <a:lnTo>
                    <a:pt x="3" y="237"/>
                  </a:lnTo>
                  <a:lnTo>
                    <a:pt x="6" y="220"/>
                  </a:lnTo>
                  <a:lnTo>
                    <a:pt x="8" y="202"/>
                  </a:lnTo>
                  <a:lnTo>
                    <a:pt x="11" y="181"/>
                  </a:lnTo>
                  <a:lnTo>
                    <a:pt x="14" y="161"/>
                  </a:lnTo>
                  <a:lnTo>
                    <a:pt x="17" y="140"/>
                  </a:lnTo>
                  <a:lnTo>
                    <a:pt x="19" y="119"/>
                  </a:lnTo>
                  <a:lnTo>
                    <a:pt x="22" y="98"/>
                  </a:lnTo>
                  <a:lnTo>
                    <a:pt x="25" y="78"/>
                  </a:lnTo>
                  <a:lnTo>
                    <a:pt x="28" y="60"/>
                  </a:lnTo>
                  <a:lnTo>
                    <a:pt x="30" y="43"/>
                  </a:lnTo>
                  <a:lnTo>
                    <a:pt x="33" y="29"/>
                  </a:lnTo>
                  <a:lnTo>
                    <a:pt x="34" y="22"/>
                  </a:lnTo>
                  <a:lnTo>
                    <a:pt x="36" y="16"/>
                  </a:lnTo>
                  <a:lnTo>
                    <a:pt x="37" y="11"/>
                  </a:lnTo>
                  <a:lnTo>
                    <a:pt x="39" y="7"/>
                  </a:lnTo>
                  <a:lnTo>
                    <a:pt x="40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300400" y="3495600"/>
              <a:ext cx="71280" cy="428760"/>
            </a:xfrm>
            <a:custGeom>
              <a:avLst/>
              <a:gdLst/>
              <a:ahLst/>
              <a:rect l="l" t="t" r="r" b="b"/>
              <a:pathLst>
                <a:path w="45" h="270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1" y="37"/>
                  </a:lnTo>
                  <a:lnTo>
                    <a:pt x="14" y="54"/>
                  </a:lnTo>
                  <a:lnTo>
                    <a:pt x="16" y="73"/>
                  </a:lnTo>
                  <a:lnTo>
                    <a:pt x="19" y="94"/>
                  </a:lnTo>
                  <a:lnTo>
                    <a:pt x="22" y="117"/>
                  </a:lnTo>
                  <a:lnTo>
                    <a:pt x="27" y="162"/>
                  </a:lnTo>
                  <a:lnTo>
                    <a:pt x="30" y="184"/>
                  </a:lnTo>
                  <a:lnTo>
                    <a:pt x="34" y="207"/>
                  </a:lnTo>
                  <a:lnTo>
                    <a:pt x="37" y="226"/>
                  </a:lnTo>
                  <a:lnTo>
                    <a:pt x="39" y="244"/>
                  </a:lnTo>
                  <a:lnTo>
                    <a:pt x="41" y="251"/>
                  </a:lnTo>
                  <a:lnTo>
                    <a:pt x="42" y="258"/>
                  </a:lnTo>
                  <a:lnTo>
                    <a:pt x="44" y="265"/>
                  </a:lnTo>
                  <a:lnTo>
                    <a:pt x="4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371680" y="392436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0" y="0"/>
                  </a:moveTo>
                  <a:lnTo>
                    <a:pt x="4" y="13"/>
                  </a:lnTo>
                  <a:lnTo>
                    <a:pt x="10" y="23"/>
                  </a:lnTo>
                  <a:lnTo>
                    <a:pt x="16" y="32"/>
                  </a:lnTo>
                  <a:lnTo>
                    <a:pt x="22" y="40"/>
                  </a:lnTo>
                  <a:lnTo>
                    <a:pt x="29" y="46"/>
                  </a:lnTo>
                  <a:lnTo>
                    <a:pt x="35" y="49"/>
                  </a:lnTo>
                  <a:lnTo>
                    <a:pt x="41" y="51"/>
                  </a:lnTo>
                  <a:lnTo>
                    <a:pt x="45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443320" y="3825720"/>
              <a:ext cx="71280" cy="17784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0" y="112"/>
                  </a:moveTo>
                  <a:lnTo>
                    <a:pt x="3" y="109"/>
                  </a:lnTo>
                  <a:lnTo>
                    <a:pt x="6" y="104"/>
                  </a:lnTo>
                  <a:lnTo>
                    <a:pt x="8" y="97"/>
                  </a:lnTo>
                  <a:lnTo>
                    <a:pt x="11" y="89"/>
                  </a:lnTo>
                  <a:lnTo>
                    <a:pt x="14" y="80"/>
                  </a:lnTo>
                  <a:lnTo>
                    <a:pt x="17" y="70"/>
                  </a:lnTo>
                  <a:lnTo>
                    <a:pt x="22" y="48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4" y="12"/>
                  </a:lnTo>
                  <a:lnTo>
                    <a:pt x="37" y="6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5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514600" y="3827520"/>
              <a:ext cx="71280" cy="284040"/>
            </a:xfrm>
            <a:custGeom>
              <a:avLst/>
              <a:gdLst/>
              <a:ahLst/>
              <a:rect l="l" t="t" r="r" b="b"/>
              <a:pathLst>
                <a:path w="45" h="179">
                  <a:moveTo>
                    <a:pt x="0" y="0"/>
                  </a:moveTo>
                  <a:lnTo>
                    <a:pt x="1" y="1"/>
                  </a:lnTo>
                  <a:lnTo>
                    <a:pt x="3" y="4"/>
                  </a:lnTo>
                  <a:lnTo>
                    <a:pt x="6" y="10"/>
                  </a:lnTo>
                  <a:lnTo>
                    <a:pt x="8" y="18"/>
                  </a:lnTo>
                  <a:lnTo>
                    <a:pt x="11" y="29"/>
                  </a:lnTo>
                  <a:lnTo>
                    <a:pt x="14" y="41"/>
                  </a:lnTo>
                  <a:lnTo>
                    <a:pt x="17" y="54"/>
                  </a:lnTo>
                  <a:lnTo>
                    <a:pt x="20" y="69"/>
                  </a:lnTo>
                  <a:lnTo>
                    <a:pt x="22" y="84"/>
                  </a:lnTo>
                  <a:lnTo>
                    <a:pt x="28" y="114"/>
                  </a:lnTo>
                  <a:lnTo>
                    <a:pt x="31" y="128"/>
                  </a:lnTo>
                  <a:lnTo>
                    <a:pt x="34" y="141"/>
                  </a:lnTo>
                  <a:lnTo>
                    <a:pt x="37" y="153"/>
                  </a:lnTo>
                  <a:lnTo>
                    <a:pt x="39" y="165"/>
                  </a:lnTo>
                  <a:lnTo>
                    <a:pt x="42" y="173"/>
                  </a:lnTo>
                  <a:lnTo>
                    <a:pt x="45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585880" y="4068720"/>
              <a:ext cx="7164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27"/>
                  </a:moveTo>
                  <a:lnTo>
                    <a:pt x="2" y="30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6" y="33"/>
                  </a:lnTo>
                  <a:lnTo>
                    <a:pt x="22" y="30"/>
                  </a:lnTo>
                  <a:lnTo>
                    <a:pt x="29" y="24"/>
                  </a:lnTo>
                  <a:lnTo>
                    <a:pt x="35" y="17"/>
                  </a:lnTo>
                  <a:lnTo>
                    <a:pt x="40" y="1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657520" y="3807000"/>
              <a:ext cx="71280" cy="261720"/>
            </a:xfrm>
            <a:custGeom>
              <a:avLst/>
              <a:gdLst/>
              <a:ahLst/>
              <a:rect l="l" t="t" r="r" b="b"/>
              <a:pathLst>
                <a:path w="45" h="165">
                  <a:moveTo>
                    <a:pt x="0" y="165"/>
                  </a:moveTo>
                  <a:lnTo>
                    <a:pt x="3" y="158"/>
                  </a:lnTo>
                  <a:lnTo>
                    <a:pt x="6" y="149"/>
                  </a:lnTo>
                  <a:lnTo>
                    <a:pt x="8" y="139"/>
                  </a:lnTo>
                  <a:lnTo>
                    <a:pt x="11" y="128"/>
                  </a:lnTo>
                  <a:lnTo>
                    <a:pt x="14" y="115"/>
                  </a:lnTo>
                  <a:lnTo>
                    <a:pt x="17" y="102"/>
                  </a:lnTo>
                  <a:lnTo>
                    <a:pt x="22" y="74"/>
                  </a:lnTo>
                  <a:lnTo>
                    <a:pt x="25" y="61"/>
                  </a:lnTo>
                  <a:lnTo>
                    <a:pt x="28" y="48"/>
                  </a:lnTo>
                  <a:lnTo>
                    <a:pt x="31" y="37"/>
                  </a:lnTo>
                  <a:lnTo>
                    <a:pt x="34" y="26"/>
                  </a:lnTo>
                  <a:lnTo>
                    <a:pt x="37" y="17"/>
                  </a:lnTo>
                  <a:lnTo>
                    <a:pt x="39" y="9"/>
                  </a:lnTo>
                  <a:lnTo>
                    <a:pt x="42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728800" y="3805200"/>
              <a:ext cx="71640" cy="157320"/>
            </a:xfrm>
            <a:custGeom>
              <a:avLst/>
              <a:gdLst/>
              <a:ahLst/>
              <a:rect l="l" t="t" r="r" b="b"/>
              <a:pathLst>
                <a:path w="45" h="99">
                  <a:moveTo>
                    <a:pt x="0" y="1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8" y="6"/>
                  </a:lnTo>
                  <a:lnTo>
                    <a:pt x="11" y="11"/>
                  </a:lnTo>
                  <a:lnTo>
                    <a:pt x="14" y="18"/>
                  </a:lnTo>
                  <a:lnTo>
                    <a:pt x="18" y="26"/>
                  </a:lnTo>
                  <a:lnTo>
                    <a:pt x="20" y="35"/>
                  </a:lnTo>
                  <a:lnTo>
                    <a:pt x="23" y="45"/>
                  </a:lnTo>
                  <a:lnTo>
                    <a:pt x="28" y="63"/>
                  </a:lnTo>
                  <a:lnTo>
                    <a:pt x="31" y="72"/>
                  </a:lnTo>
                  <a:lnTo>
                    <a:pt x="34" y="80"/>
                  </a:lnTo>
                  <a:lnTo>
                    <a:pt x="37" y="88"/>
                  </a:lnTo>
                  <a:lnTo>
                    <a:pt x="39" y="94"/>
                  </a:lnTo>
                  <a:lnTo>
                    <a:pt x="42" y="97"/>
                  </a:lnTo>
                  <a:lnTo>
                    <a:pt x="45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2800440" y="3827520"/>
              <a:ext cx="71280" cy="135000"/>
            </a:xfrm>
            <a:custGeom>
              <a:avLst/>
              <a:gdLst/>
              <a:ahLst/>
              <a:rect l="l" t="t" r="r" b="b"/>
              <a:pathLst>
                <a:path w="45" h="85">
                  <a:moveTo>
                    <a:pt x="0" y="85"/>
                  </a:moveTo>
                  <a:lnTo>
                    <a:pt x="3" y="85"/>
                  </a:lnTo>
                  <a:lnTo>
                    <a:pt x="5" y="84"/>
                  </a:lnTo>
                  <a:lnTo>
                    <a:pt x="8" y="82"/>
                  </a:lnTo>
                  <a:lnTo>
                    <a:pt x="11" y="79"/>
                  </a:lnTo>
                  <a:lnTo>
                    <a:pt x="14" y="76"/>
                  </a:lnTo>
                  <a:lnTo>
                    <a:pt x="17" y="71"/>
                  </a:lnTo>
                  <a:lnTo>
                    <a:pt x="22" y="60"/>
                  </a:lnTo>
                  <a:lnTo>
                    <a:pt x="28" y="47"/>
                  </a:lnTo>
                  <a:lnTo>
                    <a:pt x="34" y="33"/>
                  </a:lnTo>
                  <a:lnTo>
                    <a:pt x="40" y="1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871720" y="3495600"/>
              <a:ext cx="71640" cy="331920"/>
            </a:xfrm>
            <a:custGeom>
              <a:avLst/>
              <a:gdLst/>
              <a:ahLst/>
              <a:rect l="l" t="t" r="r" b="b"/>
              <a:pathLst>
                <a:path w="45" h="209">
                  <a:moveTo>
                    <a:pt x="0" y="209"/>
                  </a:moveTo>
                  <a:lnTo>
                    <a:pt x="3" y="199"/>
                  </a:lnTo>
                  <a:lnTo>
                    <a:pt x="6" y="185"/>
                  </a:lnTo>
                  <a:lnTo>
                    <a:pt x="8" y="171"/>
                  </a:lnTo>
                  <a:lnTo>
                    <a:pt x="11" y="155"/>
                  </a:lnTo>
                  <a:lnTo>
                    <a:pt x="15" y="138"/>
                  </a:lnTo>
                  <a:lnTo>
                    <a:pt x="18" y="120"/>
                  </a:lnTo>
                  <a:lnTo>
                    <a:pt x="23" y="84"/>
                  </a:lnTo>
                  <a:lnTo>
                    <a:pt x="26" y="67"/>
                  </a:lnTo>
                  <a:lnTo>
                    <a:pt x="28" y="51"/>
                  </a:lnTo>
                  <a:lnTo>
                    <a:pt x="31" y="37"/>
                  </a:lnTo>
                  <a:lnTo>
                    <a:pt x="34" y="24"/>
                  </a:lnTo>
                  <a:lnTo>
                    <a:pt x="37" y="13"/>
                  </a:lnTo>
                  <a:lnTo>
                    <a:pt x="38" y="9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2943360" y="3495600"/>
              <a:ext cx="71280" cy="381240"/>
            </a:xfrm>
            <a:custGeom>
              <a:avLst/>
              <a:gdLst/>
              <a:ahLst/>
              <a:rect l="l" t="t" r="r" b="b"/>
              <a:pathLst>
                <a:path w="45" h="240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4"/>
                  </a:lnTo>
                  <a:lnTo>
                    <a:pt x="14" y="50"/>
                  </a:lnTo>
                  <a:lnTo>
                    <a:pt x="17" y="68"/>
                  </a:lnTo>
                  <a:lnTo>
                    <a:pt x="20" y="86"/>
                  </a:lnTo>
                  <a:lnTo>
                    <a:pt x="22" y="107"/>
                  </a:lnTo>
                  <a:lnTo>
                    <a:pt x="28" y="148"/>
                  </a:lnTo>
                  <a:lnTo>
                    <a:pt x="31" y="167"/>
                  </a:lnTo>
                  <a:lnTo>
                    <a:pt x="34" y="186"/>
                  </a:lnTo>
                  <a:lnTo>
                    <a:pt x="37" y="203"/>
                  </a:lnTo>
                  <a:lnTo>
                    <a:pt x="39" y="218"/>
                  </a:lnTo>
                  <a:lnTo>
                    <a:pt x="41" y="225"/>
                  </a:lnTo>
                  <a:lnTo>
                    <a:pt x="42" y="231"/>
                  </a:lnTo>
                  <a:lnTo>
                    <a:pt x="44" y="236"/>
                  </a:lnTo>
                  <a:lnTo>
                    <a:pt x="4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3014640" y="3876840"/>
              <a:ext cx="71640" cy="25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0" y="0"/>
                  </a:moveTo>
                  <a:lnTo>
                    <a:pt x="4" y="7"/>
                  </a:lnTo>
                  <a:lnTo>
                    <a:pt x="10" y="12"/>
                  </a:lnTo>
                  <a:lnTo>
                    <a:pt x="16" y="15"/>
                  </a:lnTo>
                  <a:lnTo>
                    <a:pt x="23" y="16"/>
                  </a:lnTo>
                  <a:lnTo>
                    <a:pt x="30" y="16"/>
                  </a:lnTo>
                  <a:lnTo>
                    <a:pt x="36" y="14"/>
                  </a:lnTo>
                  <a:lnTo>
                    <a:pt x="41" y="11"/>
                  </a:lnTo>
                  <a:lnTo>
                    <a:pt x="45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3086280" y="3649680"/>
              <a:ext cx="71280" cy="23796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0" y="150"/>
                  </a:moveTo>
                  <a:lnTo>
                    <a:pt x="3" y="145"/>
                  </a:lnTo>
                  <a:lnTo>
                    <a:pt x="6" y="138"/>
                  </a:lnTo>
                  <a:lnTo>
                    <a:pt x="8" y="130"/>
                  </a:lnTo>
                  <a:lnTo>
                    <a:pt x="11" y="121"/>
                  </a:lnTo>
                  <a:lnTo>
                    <a:pt x="14" y="112"/>
                  </a:lnTo>
                  <a:lnTo>
                    <a:pt x="17" y="101"/>
                  </a:lnTo>
                  <a:lnTo>
                    <a:pt x="22" y="78"/>
                  </a:lnTo>
                  <a:lnTo>
                    <a:pt x="28" y="56"/>
                  </a:lnTo>
                  <a:lnTo>
                    <a:pt x="34" y="34"/>
                  </a:lnTo>
                  <a:lnTo>
                    <a:pt x="37" y="24"/>
                  </a:lnTo>
                  <a:lnTo>
                    <a:pt x="39" y="16"/>
                  </a:lnTo>
                  <a:lnTo>
                    <a:pt x="42" y="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3157560" y="358128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43"/>
                  </a:moveTo>
                  <a:lnTo>
                    <a:pt x="5" y="36"/>
                  </a:lnTo>
                  <a:lnTo>
                    <a:pt x="11" y="32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29" y="21"/>
                  </a:lnTo>
                  <a:lnTo>
                    <a:pt x="35" y="16"/>
                  </a:lnTo>
                  <a:lnTo>
                    <a:pt x="41" y="9"/>
                  </a:lnTo>
                  <a:lnTo>
                    <a:pt x="43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3228840" y="3224160"/>
              <a:ext cx="73080" cy="357120"/>
            </a:xfrm>
            <a:custGeom>
              <a:avLst/>
              <a:gdLst/>
              <a:ahLst/>
              <a:rect l="l" t="t" r="r" b="b"/>
              <a:pathLst>
                <a:path w="46" h="225">
                  <a:moveTo>
                    <a:pt x="0" y="225"/>
                  </a:moveTo>
                  <a:lnTo>
                    <a:pt x="3" y="216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11" y="183"/>
                  </a:lnTo>
                  <a:lnTo>
                    <a:pt x="14" y="170"/>
                  </a:lnTo>
                  <a:lnTo>
                    <a:pt x="17" y="157"/>
                  </a:lnTo>
                  <a:lnTo>
                    <a:pt x="22" y="129"/>
                  </a:lnTo>
                  <a:lnTo>
                    <a:pt x="28" y="98"/>
                  </a:lnTo>
                  <a:lnTo>
                    <a:pt x="34" y="66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3301920" y="2746440"/>
              <a:ext cx="69840" cy="477720"/>
            </a:xfrm>
            <a:custGeom>
              <a:avLst/>
              <a:gdLst/>
              <a:ahLst/>
              <a:rect l="l" t="t" r="r" b="b"/>
              <a:pathLst>
                <a:path w="44" h="301">
                  <a:moveTo>
                    <a:pt x="0" y="301"/>
                  </a:moveTo>
                  <a:lnTo>
                    <a:pt x="1" y="292"/>
                  </a:lnTo>
                  <a:lnTo>
                    <a:pt x="3" y="283"/>
                  </a:lnTo>
                  <a:lnTo>
                    <a:pt x="6" y="262"/>
                  </a:lnTo>
                  <a:lnTo>
                    <a:pt x="8" y="239"/>
                  </a:lnTo>
                  <a:lnTo>
                    <a:pt x="11" y="214"/>
                  </a:lnTo>
                  <a:lnTo>
                    <a:pt x="14" y="188"/>
                  </a:lnTo>
                  <a:lnTo>
                    <a:pt x="17" y="162"/>
                  </a:lnTo>
                  <a:lnTo>
                    <a:pt x="19" y="134"/>
                  </a:lnTo>
                  <a:lnTo>
                    <a:pt x="22" y="109"/>
                  </a:lnTo>
                  <a:lnTo>
                    <a:pt x="25" y="85"/>
                  </a:lnTo>
                  <a:lnTo>
                    <a:pt x="27" y="62"/>
                  </a:lnTo>
                  <a:lnTo>
                    <a:pt x="29" y="51"/>
                  </a:lnTo>
                  <a:lnTo>
                    <a:pt x="30" y="42"/>
                  </a:lnTo>
                  <a:lnTo>
                    <a:pt x="32" y="33"/>
                  </a:lnTo>
                  <a:lnTo>
                    <a:pt x="33" y="25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7" y="8"/>
                  </a:lnTo>
                  <a:lnTo>
                    <a:pt x="38" y="4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3371760" y="2749680"/>
              <a:ext cx="73080" cy="722160"/>
            </a:xfrm>
            <a:custGeom>
              <a:avLst/>
              <a:gdLst/>
              <a:ahLst/>
              <a:rect l="l" t="t" r="r" b="b"/>
              <a:pathLst>
                <a:path w="46" h="455">
                  <a:moveTo>
                    <a:pt x="0" y="0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5"/>
                  </a:lnTo>
                  <a:lnTo>
                    <a:pt x="6" y="23"/>
                  </a:lnTo>
                  <a:lnTo>
                    <a:pt x="7" y="32"/>
                  </a:lnTo>
                  <a:lnTo>
                    <a:pt x="8" y="43"/>
                  </a:lnTo>
                  <a:lnTo>
                    <a:pt x="10" y="54"/>
                  </a:lnTo>
                  <a:lnTo>
                    <a:pt x="11" y="68"/>
                  </a:lnTo>
                  <a:lnTo>
                    <a:pt x="13" y="82"/>
                  </a:lnTo>
                  <a:lnTo>
                    <a:pt x="14" y="97"/>
                  </a:lnTo>
                  <a:lnTo>
                    <a:pt x="15" y="113"/>
                  </a:lnTo>
                  <a:lnTo>
                    <a:pt x="17" y="129"/>
                  </a:lnTo>
                  <a:lnTo>
                    <a:pt x="20" y="164"/>
                  </a:lnTo>
                  <a:lnTo>
                    <a:pt x="22" y="200"/>
                  </a:lnTo>
                  <a:lnTo>
                    <a:pt x="25" y="237"/>
                  </a:lnTo>
                  <a:lnTo>
                    <a:pt x="28" y="274"/>
                  </a:lnTo>
                  <a:lnTo>
                    <a:pt x="31" y="310"/>
                  </a:lnTo>
                  <a:lnTo>
                    <a:pt x="34" y="346"/>
                  </a:lnTo>
                  <a:lnTo>
                    <a:pt x="35" y="362"/>
                  </a:lnTo>
                  <a:lnTo>
                    <a:pt x="38" y="378"/>
                  </a:lnTo>
                  <a:lnTo>
                    <a:pt x="39" y="393"/>
                  </a:lnTo>
                  <a:lnTo>
                    <a:pt x="40" y="409"/>
                  </a:lnTo>
                  <a:lnTo>
                    <a:pt x="42" y="422"/>
                  </a:lnTo>
                  <a:lnTo>
                    <a:pt x="43" y="434"/>
                  </a:lnTo>
                  <a:lnTo>
                    <a:pt x="45" y="445"/>
                  </a:lnTo>
                  <a:lnTo>
                    <a:pt x="46" y="4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3444840" y="3471840"/>
              <a:ext cx="69840" cy="223920"/>
            </a:xfrm>
            <a:custGeom>
              <a:avLst/>
              <a:gdLst/>
              <a:ahLst/>
              <a:rect l="l" t="t" r="r" b="b"/>
              <a:pathLst>
                <a:path w="44" h="141">
                  <a:moveTo>
                    <a:pt x="0" y="0"/>
                  </a:moveTo>
                  <a:lnTo>
                    <a:pt x="5" y="26"/>
                  </a:lnTo>
                  <a:lnTo>
                    <a:pt x="10" y="52"/>
                  </a:lnTo>
                  <a:lnTo>
                    <a:pt x="16" y="74"/>
                  </a:lnTo>
                  <a:lnTo>
                    <a:pt x="22" y="94"/>
                  </a:lnTo>
                  <a:lnTo>
                    <a:pt x="25" y="103"/>
                  </a:lnTo>
                  <a:lnTo>
                    <a:pt x="28" y="111"/>
                  </a:lnTo>
                  <a:lnTo>
                    <a:pt x="31" y="118"/>
                  </a:lnTo>
                  <a:lnTo>
                    <a:pt x="34" y="126"/>
                  </a:lnTo>
                  <a:lnTo>
                    <a:pt x="37" y="131"/>
                  </a:lnTo>
                  <a:lnTo>
                    <a:pt x="39" y="135"/>
                  </a:lnTo>
                  <a:lnTo>
                    <a:pt x="42" y="139"/>
                  </a:lnTo>
                  <a:lnTo>
                    <a:pt x="4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3514680" y="3589200"/>
              <a:ext cx="71640" cy="10980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0" y="67"/>
                  </a:moveTo>
                  <a:lnTo>
                    <a:pt x="3" y="69"/>
                  </a:lnTo>
                  <a:lnTo>
                    <a:pt x="5" y="69"/>
                  </a:lnTo>
                  <a:lnTo>
                    <a:pt x="8" y="67"/>
                  </a:lnTo>
                  <a:lnTo>
                    <a:pt x="11" y="65"/>
                  </a:lnTo>
                  <a:lnTo>
                    <a:pt x="14" y="62"/>
                  </a:lnTo>
                  <a:lnTo>
                    <a:pt x="16" y="58"/>
                  </a:lnTo>
                  <a:lnTo>
                    <a:pt x="22" y="46"/>
                  </a:lnTo>
                  <a:lnTo>
                    <a:pt x="27" y="34"/>
                  </a:lnTo>
                  <a:lnTo>
                    <a:pt x="34" y="22"/>
                  </a:lnTo>
                  <a:lnTo>
                    <a:pt x="39" y="1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3586320" y="3468600"/>
              <a:ext cx="71280" cy="12060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0" y="76"/>
                  </a:moveTo>
                  <a:lnTo>
                    <a:pt x="5" y="6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2" y="48"/>
                  </a:lnTo>
                  <a:lnTo>
                    <a:pt x="29" y="39"/>
                  </a:lnTo>
                  <a:lnTo>
                    <a:pt x="35" y="27"/>
                  </a:lnTo>
                  <a:lnTo>
                    <a:pt x="40" y="1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3657600" y="3041640"/>
              <a:ext cx="71280" cy="426960"/>
            </a:xfrm>
            <a:custGeom>
              <a:avLst/>
              <a:gdLst/>
              <a:ahLst/>
              <a:rect l="l" t="t" r="r" b="b"/>
              <a:pathLst>
                <a:path w="45" h="269">
                  <a:moveTo>
                    <a:pt x="0" y="269"/>
                  </a:moveTo>
                  <a:lnTo>
                    <a:pt x="3" y="258"/>
                  </a:lnTo>
                  <a:lnTo>
                    <a:pt x="6" y="245"/>
                  </a:lnTo>
                  <a:lnTo>
                    <a:pt x="8" y="232"/>
                  </a:lnTo>
                  <a:lnTo>
                    <a:pt x="11" y="216"/>
                  </a:lnTo>
                  <a:lnTo>
                    <a:pt x="14" y="201"/>
                  </a:lnTo>
                  <a:lnTo>
                    <a:pt x="17" y="185"/>
                  </a:lnTo>
                  <a:lnTo>
                    <a:pt x="22" y="151"/>
                  </a:lnTo>
                  <a:lnTo>
                    <a:pt x="28" y="113"/>
                  </a:lnTo>
                  <a:lnTo>
                    <a:pt x="34" y="76"/>
                  </a:lnTo>
                  <a:lnTo>
                    <a:pt x="39" y="3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3728880" y="2508120"/>
              <a:ext cx="71640" cy="533520"/>
            </a:xfrm>
            <a:custGeom>
              <a:avLst/>
              <a:gdLst/>
              <a:ahLst/>
              <a:rect l="l" t="t" r="r" b="b"/>
              <a:pathLst>
                <a:path w="45" h="336">
                  <a:moveTo>
                    <a:pt x="0" y="336"/>
                  </a:moveTo>
                  <a:lnTo>
                    <a:pt x="1" y="326"/>
                  </a:lnTo>
                  <a:lnTo>
                    <a:pt x="3" y="316"/>
                  </a:lnTo>
                  <a:lnTo>
                    <a:pt x="4" y="304"/>
                  </a:lnTo>
                  <a:lnTo>
                    <a:pt x="6" y="291"/>
                  </a:lnTo>
                  <a:lnTo>
                    <a:pt x="8" y="264"/>
                  </a:lnTo>
                  <a:lnTo>
                    <a:pt x="11" y="235"/>
                  </a:lnTo>
                  <a:lnTo>
                    <a:pt x="14" y="204"/>
                  </a:lnTo>
                  <a:lnTo>
                    <a:pt x="17" y="174"/>
                  </a:lnTo>
                  <a:lnTo>
                    <a:pt x="20" y="144"/>
                  </a:lnTo>
                  <a:lnTo>
                    <a:pt x="22" y="114"/>
                  </a:lnTo>
                  <a:lnTo>
                    <a:pt x="25" y="87"/>
                  </a:lnTo>
                  <a:lnTo>
                    <a:pt x="27" y="74"/>
                  </a:lnTo>
                  <a:lnTo>
                    <a:pt x="28" y="62"/>
                  </a:lnTo>
                  <a:lnTo>
                    <a:pt x="30" y="51"/>
                  </a:lnTo>
                  <a:lnTo>
                    <a:pt x="31" y="39"/>
                  </a:lnTo>
                  <a:lnTo>
                    <a:pt x="32" y="30"/>
                  </a:lnTo>
                  <a:lnTo>
                    <a:pt x="34" y="22"/>
                  </a:lnTo>
                  <a:lnTo>
                    <a:pt x="35" y="15"/>
                  </a:lnTo>
                  <a:lnTo>
                    <a:pt x="37" y="9"/>
                  </a:lnTo>
                  <a:lnTo>
                    <a:pt x="38" y="5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5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3800520" y="2519280"/>
              <a:ext cx="71280" cy="1030320"/>
            </a:xfrm>
            <a:custGeom>
              <a:avLst/>
              <a:gdLst/>
              <a:ahLst/>
              <a:rect l="l" t="t" r="r" b="b"/>
              <a:pathLst>
                <a:path w="45" h="649">
                  <a:moveTo>
                    <a:pt x="0" y="0"/>
                  </a:moveTo>
                  <a:lnTo>
                    <a:pt x="1" y="6"/>
                  </a:lnTo>
                  <a:lnTo>
                    <a:pt x="3" y="14"/>
                  </a:lnTo>
                  <a:lnTo>
                    <a:pt x="4" y="24"/>
                  </a:lnTo>
                  <a:lnTo>
                    <a:pt x="6" y="37"/>
                  </a:lnTo>
                  <a:lnTo>
                    <a:pt x="7" y="51"/>
                  </a:lnTo>
                  <a:lnTo>
                    <a:pt x="8" y="66"/>
                  </a:lnTo>
                  <a:lnTo>
                    <a:pt x="10" y="83"/>
                  </a:lnTo>
                  <a:lnTo>
                    <a:pt x="11" y="102"/>
                  </a:lnTo>
                  <a:lnTo>
                    <a:pt x="12" y="121"/>
                  </a:lnTo>
                  <a:lnTo>
                    <a:pt x="14" y="143"/>
                  </a:lnTo>
                  <a:lnTo>
                    <a:pt x="15" y="165"/>
                  </a:lnTo>
                  <a:lnTo>
                    <a:pt x="17" y="187"/>
                  </a:lnTo>
                  <a:lnTo>
                    <a:pt x="18" y="212"/>
                  </a:lnTo>
                  <a:lnTo>
                    <a:pt x="19" y="236"/>
                  </a:lnTo>
                  <a:lnTo>
                    <a:pt x="23" y="285"/>
                  </a:lnTo>
                  <a:lnTo>
                    <a:pt x="26" y="337"/>
                  </a:lnTo>
                  <a:lnTo>
                    <a:pt x="28" y="389"/>
                  </a:lnTo>
                  <a:lnTo>
                    <a:pt x="31" y="440"/>
                  </a:lnTo>
                  <a:lnTo>
                    <a:pt x="34" y="489"/>
                  </a:lnTo>
                  <a:lnTo>
                    <a:pt x="35" y="512"/>
                  </a:lnTo>
                  <a:lnTo>
                    <a:pt x="37" y="535"/>
                  </a:lnTo>
                  <a:lnTo>
                    <a:pt x="38" y="558"/>
                  </a:lnTo>
                  <a:lnTo>
                    <a:pt x="39" y="578"/>
                  </a:lnTo>
                  <a:lnTo>
                    <a:pt x="41" y="598"/>
                  </a:lnTo>
                  <a:lnTo>
                    <a:pt x="42" y="616"/>
                  </a:lnTo>
                  <a:lnTo>
                    <a:pt x="44" y="633"/>
                  </a:lnTo>
                  <a:lnTo>
                    <a:pt x="45" y="6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3871800" y="3549600"/>
              <a:ext cx="71640" cy="457200"/>
            </a:xfrm>
            <a:custGeom>
              <a:avLst/>
              <a:gdLst/>
              <a:ahLst/>
              <a:rect l="l" t="t" r="r" b="b"/>
              <a:pathLst>
                <a:path w="45" h="288">
                  <a:moveTo>
                    <a:pt x="0" y="0"/>
                  </a:moveTo>
                  <a:lnTo>
                    <a:pt x="3" y="26"/>
                  </a:lnTo>
                  <a:lnTo>
                    <a:pt x="5" y="52"/>
                  </a:lnTo>
                  <a:lnTo>
                    <a:pt x="8" y="77"/>
                  </a:lnTo>
                  <a:lnTo>
                    <a:pt x="11" y="99"/>
                  </a:lnTo>
                  <a:lnTo>
                    <a:pt x="14" y="121"/>
                  </a:lnTo>
                  <a:lnTo>
                    <a:pt x="17" y="142"/>
                  </a:lnTo>
                  <a:lnTo>
                    <a:pt x="20" y="162"/>
                  </a:lnTo>
                  <a:lnTo>
                    <a:pt x="22" y="181"/>
                  </a:lnTo>
                  <a:lnTo>
                    <a:pt x="25" y="198"/>
                  </a:lnTo>
                  <a:lnTo>
                    <a:pt x="28" y="214"/>
                  </a:lnTo>
                  <a:lnTo>
                    <a:pt x="31" y="229"/>
                  </a:lnTo>
                  <a:lnTo>
                    <a:pt x="34" y="244"/>
                  </a:lnTo>
                  <a:lnTo>
                    <a:pt x="37" y="256"/>
                  </a:lnTo>
                  <a:lnTo>
                    <a:pt x="40" y="268"/>
                  </a:lnTo>
                  <a:lnTo>
                    <a:pt x="42" y="279"/>
                  </a:lnTo>
                  <a:lnTo>
                    <a:pt x="4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3943440" y="400680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  <a:lnTo>
                    <a:pt x="16" y="22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6" y="29"/>
                  </a:lnTo>
                  <a:lnTo>
                    <a:pt x="39" y="28"/>
                  </a:lnTo>
                  <a:lnTo>
                    <a:pt x="41" y="26"/>
                  </a:lnTo>
                  <a:lnTo>
                    <a:pt x="43" y="24"/>
                  </a:lnTo>
                  <a:lnTo>
                    <a:pt x="45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014720" y="3544920"/>
              <a:ext cx="71640" cy="493560"/>
            </a:xfrm>
            <a:custGeom>
              <a:avLst/>
              <a:gdLst/>
              <a:ahLst/>
              <a:rect l="l" t="t" r="r" b="b"/>
              <a:pathLst>
                <a:path w="45" h="311">
                  <a:moveTo>
                    <a:pt x="0" y="311"/>
                  </a:moveTo>
                  <a:lnTo>
                    <a:pt x="3" y="301"/>
                  </a:lnTo>
                  <a:lnTo>
                    <a:pt x="6" y="289"/>
                  </a:lnTo>
                  <a:lnTo>
                    <a:pt x="8" y="275"/>
                  </a:lnTo>
                  <a:lnTo>
                    <a:pt x="11" y="260"/>
                  </a:lnTo>
                  <a:lnTo>
                    <a:pt x="14" y="242"/>
                  </a:lnTo>
                  <a:lnTo>
                    <a:pt x="17" y="224"/>
                  </a:lnTo>
                  <a:lnTo>
                    <a:pt x="20" y="205"/>
                  </a:lnTo>
                  <a:lnTo>
                    <a:pt x="22" y="184"/>
                  </a:lnTo>
                  <a:lnTo>
                    <a:pt x="25" y="163"/>
                  </a:lnTo>
                  <a:lnTo>
                    <a:pt x="28" y="140"/>
                  </a:lnTo>
                  <a:lnTo>
                    <a:pt x="34" y="94"/>
                  </a:lnTo>
                  <a:lnTo>
                    <a:pt x="39" y="4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086360" y="2847960"/>
              <a:ext cx="71280" cy="696960"/>
            </a:xfrm>
            <a:custGeom>
              <a:avLst/>
              <a:gdLst/>
              <a:ahLst/>
              <a:rect l="l" t="t" r="r" b="b"/>
              <a:pathLst>
                <a:path w="45" h="439">
                  <a:moveTo>
                    <a:pt x="0" y="439"/>
                  </a:moveTo>
                  <a:lnTo>
                    <a:pt x="3" y="414"/>
                  </a:lnTo>
                  <a:lnTo>
                    <a:pt x="6" y="390"/>
                  </a:lnTo>
                  <a:lnTo>
                    <a:pt x="8" y="364"/>
                  </a:lnTo>
                  <a:lnTo>
                    <a:pt x="12" y="337"/>
                  </a:lnTo>
                  <a:lnTo>
                    <a:pt x="18" y="282"/>
                  </a:lnTo>
                  <a:lnTo>
                    <a:pt x="23" y="225"/>
                  </a:lnTo>
                  <a:lnTo>
                    <a:pt x="28" y="168"/>
                  </a:lnTo>
                  <a:lnTo>
                    <a:pt x="34" y="111"/>
                  </a:lnTo>
                  <a:lnTo>
                    <a:pt x="39" y="5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157640" y="2193840"/>
              <a:ext cx="71640" cy="654120"/>
            </a:xfrm>
            <a:custGeom>
              <a:avLst/>
              <a:gdLst/>
              <a:ahLst/>
              <a:rect l="l" t="t" r="r" b="b"/>
              <a:pathLst>
                <a:path w="45" h="412">
                  <a:moveTo>
                    <a:pt x="0" y="412"/>
                  </a:moveTo>
                  <a:lnTo>
                    <a:pt x="1" y="398"/>
                  </a:lnTo>
                  <a:lnTo>
                    <a:pt x="3" y="384"/>
                  </a:lnTo>
                  <a:lnTo>
                    <a:pt x="4" y="369"/>
                  </a:lnTo>
                  <a:lnTo>
                    <a:pt x="6" y="352"/>
                  </a:lnTo>
                  <a:lnTo>
                    <a:pt x="8" y="317"/>
                  </a:lnTo>
                  <a:lnTo>
                    <a:pt x="11" y="281"/>
                  </a:lnTo>
                  <a:lnTo>
                    <a:pt x="14" y="244"/>
                  </a:lnTo>
                  <a:lnTo>
                    <a:pt x="17" y="206"/>
                  </a:lnTo>
                  <a:lnTo>
                    <a:pt x="20" y="170"/>
                  </a:lnTo>
                  <a:lnTo>
                    <a:pt x="22" y="134"/>
                  </a:lnTo>
                  <a:lnTo>
                    <a:pt x="24" y="118"/>
                  </a:lnTo>
                  <a:lnTo>
                    <a:pt x="25" y="102"/>
                  </a:lnTo>
                  <a:lnTo>
                    <a:pt x="27" y="86"/>
                  </a:lnTo>
                  <a:lnTo>
                    <a:pt x="28" y="72"/>
                  </a:lnTo>
                  <a:lnTo>
                    <a:pt x="30" y="58"/>
                  </a:lnTo>
                  <a:lnTo>
                    <a:pt x="31" y="46"/>
                  </a:lnTo>
                  <a:lnTo>
                    <a:pt x="32" y="35"/>
                  </a:lnTo>
                  <a:lnTo>
                    <a:pt x="34" y="25"/>
                  </a:lnTo>
                  <a:lnTo>
                    <a:pt x="35" y="17"/>
                  </a:lnTo>
                  <a:lnTo>
                    <a:pt x="37" y="10"/>
                  </a:lnTo>
                  <a:lnTo>
                    <a:pt x="38" y="5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3"/>
                  </a:lnTo>
                  <a:lnTo>
                    <a:pt x="45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229280" y="2205000"/>
              <a:ext cx="71280" cy="1214640"/>
            </a:xfrm>
            <a:custGeom>
              <a:avLst/>
              <a:gdLst/>
              <a:ahLst/>
              <a:rect l="l" t="t" r="r" b="b"/>
              <a:pathLst>
                <a:path w="45" h="765">
                  <a:moveTo>
                    <a:pt x="0" y="0"/>
                  </a:moveTo>
                  <a:lnTo>
                    <a:pt x="1" y="7"/>
                  </a:lnTo>
                  <a:lnTo>
                    <a:pt x="3" y="16"/>
                  </a:lnTo>
                  <a:lnTo>
                    <a:pt x="5" y="28"/>
                  </a:lnTo>
                  <a:lnTo>
                    <a:pt x="7" y="42"/>
                  </a:lnTo>
                  <a:lnTo>
                    <a:pt x="8" y="58"/>
                  </a:lnTo>
                  <a:lnTo>
                    <a:pt x="9" y="77"/>
                  </a:lnTo>
                  <a:lnTo>
                    <a:pt x="11" y="97"/>
                  </a:lnTo>
                  <a:lnTo>
                    <a:pt x="12" y="118"/>
                  </a:lnTo>
                  <a:lnTo>
                    <a:pt x="13" y="141"/>
                  </a:lnTo>
                  <a:lnTo>
                    <a:pt x="15" y="166"/>
                  </a:lnTo>
                  <a:lnTo>
                    <a:pt x="16" y="192"/>
                  </a:lnTo>
                  <a:lnTo>
                    <a:pt x="18" y="218"/>
                  </a:lnTo>
                  <a:lnTo>
                    <a:pt x="19" y="247"/>
                  </a:lnTo>
                  <a:lnTo>
                    <a:pt x="20" y="275"/>
                  </a:lnTo>
                  <a:lnTo>
                    <a:pt x="23" y="334"/>
                  </a:lnTo>
                  <a:lnTo>
                    <a:pt x="26" y="394"/>
                  </a:lnTo>
                  <a:lnTo>
                    <a:pt x="28" y="456"/>
                  </a:lnTo>
                  <a:lnTo>
                    <a:pt x="31" y="516"/>
                  </a:lnTo>
                  <a:lnTo>
                    <a:pt x="33" y="545"/>
                  </a:lnTo>
                  <a:lnTo>
                    <a:pt x="34" y="574"/>
                  </a:lnTo>
                  <a:lnTo>
                    <a:pt x="35" y="602"/>
                  </a:lnTo>
                  <a:lnTo>
                    <a:pt x="37" y="629"/>
                  </a:lnTo>
                  <a:lnTo>
                    <a:pt x="38" y="655"/>
                  </a:lnTo>
                  <a:lnTo>
                    <a:pt x="39" y="681"/>
                  </a:lnTo>
                  <a:lnTo>
                    <a:pt x="41" y="704"/>
                  </a:lnTo>
                  <a:lnTo>
                    <a:pt x="42" y="725"/>
                  </a:lnTo>
                  <a:lnTo>
                    <a:pt x="44" y="746"/>
                  </a:lnTo>
                  <a:lnTo>
                    <a:pt x="45" y="7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300560" y="3419640"/>
              <a:ext cx="73080" cy="577800"/>
            </a:xfrm>
            <a:custGeom>
              <a:avLst/>
              <a:gdLst/>
              <a:ahLst/>
              <a:rect l="l" t="t" r="r" b="b"/>
              <a:pathLst>
                <a:path w="46" h="364">
                  <a:moveTo>
                    <a:pt x="0" y="0"/>
                  </a:moveTo>
                  <a:lnTo>
                    <a:pt x="3" y="33"/>
                  </a:lnTo>
                  <a:lnTo>
                    <a:pt x="5" y="65"/>
                  </a:lnTo>
                  <a:lnTo>
                    <a:pt x="8" y="95"/>
                  </a:lnTo>
                  <a:lnTo>
                    <a:pt x="11" y="124"/>
                  </a:lnTo>
                  <a:lnTo>
                    <a:pt x="14" y="151"/>
                  </a:lnTo>
                  <a:lnTo>
                    <a:pt x="17" y="177"/>
                  </a:lnTo>
                  <a:lnTo>
                    <a:pt x="20" y="201"/>
                  </a:lnTo>
                  <a:lnTo>
                    <a:pt x="22" y="224"/>
                  </a:lnTo>
                  <a:lnTo>
                    <a:pt x="25" y="246"/>
                  </a:lnTo>
                  <a:lnTo>
                    <a:pt x="28" y="266"/>
                  </a:lnTo>
                  <a:lnTo>
                    <a:pt x="31" y="285"/>
                  </a:lnTo>
                  <a:lnTo>
                    <a:pt x="34" y="303"/>
                  </a:lnTo>
                  <a:lnTo>
                    <a:pt x="37" y="320"/>
                  </a:lnTo>
                  <a:lnTo>
                    <a:pt x="40" y="336"/>
                  </a:lnTo>
                  <a:lnTo>
                    <a:pt x="42" y="351"/>
                  </a:lnTo>
                  <a:lnTo>
                    <a:pt x="46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373640" y="3997440"/>
              <a:ext cx="69840" cy="1173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4" y="15"/>
                  </a:lnTo>
                  <a:lnTo>
                    <a:pt x="9" y="30"/>
                  </a:lnTo>
                  <a:lnTo>
                    <a:pt x="15" y="45"/>
                  </a:lnTo>
                  <a:lnTo>
                    <a:pt x="22" y="58"/>
                  </a:lnTo>
                  <a:lnTo>
                    <a:pt x="25" y="64"/>
                  </a:lnTo>
                  <a:lnTo>
                    <a:pt x="29" y="68"/>
                  </a:lnTo>
                  <a:lnTo>
                    <a:pt x="32" y="71"/>
                  </a:lnTo>
                  <a:lnTo>
                    <a:pt x="35" y="73"/>
                  </a:lnTo>
                  <a:lnTo>
                    <a:pt x="38" y="74"/>
                  </a:lnTo>
                  <a:lnTo>
                    <a:pt x="40" y="74"/>
                  </a:lnTo>
                  <a:lnTo>
                    <a:pt x="42" y="72"/>
                  </a:lnTo>
                  <a:lnTo>
                    <a:pt x="44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443480" y="3568680"/>
              <a:ext cx="73080" cy="536760"/>
            </a:xfrm>
            <a:custGeom>
              <a:avLst/>
              <a:gdLst/>
              <a:ahLst/>
              <a:rect l="l" t="t" r="r" b="b"/>
              <a:pathLst>
                <a:path w="46" h="338">
                  <a:moveTo>
                    <a:pt x="0" y="338"/>
                  </a:moveTo>
                  <a:lnTo>
                    <a:pt x="3" y="328"/>
                  </a:lnTo>
                  <a:lnTo>
                    <a:pt x="6" y="315"/>
                  </a:lnTo>
                  <a:lnTo>
                    <a:pt x="8" y="301"/>
                  </a:lnTo>
                  <a:lnTo>
                    <a:pt x="11" y="285"/>
                  </a:lnTo>
                  <a:lnTo>
                    <a:pt x="14" y="266"/>
                  </a:lnTo>
                  <a:lnTo>
                    <a:pt x="17" y="246"/>
                  </a:lnTo>
                  <a:lnTo>
                    <a:pt x="20" y="224"/>
                  </a:lnTo>
                  <a:lnTo>
                    <a:pt x="22" y="202"/>
                  </a:lnTo>
                  <a:lnTo>
                    <a:pt x="25" y="178"/>
                  </a:lnTo>
                  <a:lnTo>
                    <a:pt x="28" y="154"/>
                  </a:lnTo>
                  <a:lnTo>
                    <a:pt x="34" y="102"/>
                  </a:lnTo>
                  <a:lnTo>
                    <a:pt x="40" y="5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516560" y="2838600"/>
              <a:ext cx="69840" cy="730080"/>
            </a:xfrm>
            <a:custGeom>
              <a:avLst/>
              <a:gdLst/>
              <a:ahLst/>
              <a:rect l="l" t="t" r="r" b="b"/>
              <a:pathLst>
                <a:path w="44" h="460">
                  <a:moveTo>
                    <a:pt x="0" y="460"/>
                  </a:moveTo>
                  <a:lnTo>
                    <a:pt x="3" y="434"/>
                  </a:lnTo>
                  <a:lnTo>
                    <a:pt x="6" y="408"/>
                  </a:lnTo>
                  <a:lnTo>
                    <a:pt x="8" y="381"/>
                  </a:lnTo>
                  <a:lnTo>
                    <a:pt x="11" y="354"/>
                  </a:lnTo>
                  <a:lnTo>
                    <a:pt x="17" y="296"/>
                  </a:lnTo>
                  <a:lnTo>
                    <a:pt x="22" y="237"/>
                  </a:lnTo>
                  <a:lnTo>
                    <a:pt x="27" y="177"/>
                  </a:lnTo>
                  <a:lnTo>
                    <a:pt x="33" y="118"/>
                  </a:lnTo>
                  <a:lnTo>
                    <a:pt x="38" y="5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586400" y="2109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0" y="459"/>
                  </a:moveTo>
                  <a:lnTo>
                    <a:pt x="1" y="444"/>
                  </a:lnTo>
                  <a:lnTo>
                    <a:pt x="3" y="429"/>
                  </a:lnTo>
                  <a:lnTo>
                    <a:pt x="4" y="412"/>
                  </a:lnTo>
                  <a:lnTo>
                    <a:pt x="6" y="394"/>
                  </a:lnTo>
                  <a:lnTo>
                    <a:pt x="8" y="357"/>
                  </a:lnTo>
                  <a:lnTo>
                    <a:pt x="11" y="318"/>
                  </a:lnTo>
                  <a:lnTo>
                    <a:pt x="14" y="276"/>
                  </a:lnTo>
                  <a:lnTo>
                    <a:pt x="17" y="236"/>
                  </a:lnTo>
                  <a:lnTo>
                    <a:pt x="20" y="195"/>
                  </a:lnTo>
                  <a:lnTo>
                    <a:pt x="22" y="157"/>
                  </a:lnTo>
                  <a:lnTo>
                    <a:pt x="24" y="138"/>
                  </a:lnTo>
                  <a:lnTo>
                    <a:pt x="25" y="120"/>
                  </a:lnTo>
                  <a:lnTo>
                    <a:pt x="27" y="103"/>
                  </a:lnTo>
                  <a:lnTo>
                    <a:pt x="28" y="87"/>
                  </a:lnTo>
                  <a:lnTo>
                    <a:pt x="30" y="72"/>
                  </a:lnTo>
                  <a:lnTo>
                    <a:pt x="31" y="58"/>
                  </a:lnTo>
                  <a:lnTo>
                    <a:pt x="32" y="46"/>
                  </a:lnTo>
                  <a:lnTo>
                    <a:pt x="35" y="33"/>
                  </a:lnTo>
                  <a:lnTo>
                    <a:pt x="36" y="23"/>
                  </a:lnTo>
                  <a:lnTo>
                    <a:pt x="38" y="15"/>
                  </a:lnTo>
                  <a:lnTo>
                    <a:pt x="39" y="8"/>
                  </a:lnTo>
                  <a:lnTo>
                    <a:pt x="40" y="4"/>
                  </a:lnTo>
                  <a:lnTo>
                    <a:pt x="42" y="1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659480" y="2116080"/>
              <a:ext cx="69840" cy="1177920"/>
            </a:xfrm>
            <a:custGeom>
              <a:avLst/>
              <a:gdLst/>
              <a:ahLst/>
              <a:rect l="l" t="t" r="r" b="b"/>
              <a:pathLst>
                <a:path w="44" h="742">
                  <a:moveTo>
                    <a:pt x="0" y="0"/>
                  </a:moveTo>
                  <a:lnTo>
                    <a:pt x="1" y="6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6" y="39"/>
                  </a:lnTo>
                  <a:lnTo>
                    <a:pt x="7" y="54"/>
                  </a:lnTo>
                  <a:lnTo>
                    <a:pt x="8" y="71"/>
                  </a:lnTo>
                  <a:lnTo>
                    <a:pt x="10" y="90"/>
                  </a:lnTo>
                  <a:lnTo>
                    <a:pt x="11" y="110"/>
                  </a:lnTo>
                  <a:lnTo>
                    <a:pt x="12" y="133"/>
                  </a:lnTo>
                  <a:lnTo>
                    <a:pt x="14" y="157"/>
                  </a:lnTo>
                  <a:lnTo>
                    <a:pt x="15" y="181"/>
                  </a:lnTo>
                  <a:lnTo>
                    <a:pt x="17" y="208"/>
                  </a:lnTo>
                  <a:lnTo>
                    <a:pt x="18" y="235"/>
                  </a:lnTo>
                  <a:lnTo>
                    <a:pt x="19" y="263"/>
                  </a:lnTo>
                  <a:lnTo>
                    <a:pt x="22" y="321"/>
                  </a:lnTo>
                  <a:lnTo>
                    <a:pt x="25" y="381"/>
                  </a:lnTo>
                  <a:lnTo>
                    <a:pt x="27" y="440"/>
                  </a:lnTo>
                  <a:lnTo>
                    <a:pt x="30" y="499"/>
                  </a:lnTo>
                  <a:lnTo>
                    <a:pt x="32" y="527"/>
                  </a:lnTo>
                  <a:lnTo>
                    <a:pt x="33" y="556"/>
                  </a:lnTo>
                  <a:lnTo>
                    <a:pt x="34" y="583"/>
                  </a:lnTo>
                  <a:lnTo>
                    <a:pt x="36" y="610"/>
                  </a:lnTo>
                  <a:lnTo>
                    <a:pt x="37" y="636"/>
                  </a:lnTo>
                  <a:lnTo>
                    <a:pt x="38" y="660"/>
                  </a:lnTo>
                  <a:lnTo>
                    <a:pt x="40" y="683"/>
                  </a:lnTo>
                  <a:lnTo>
                    <a:pt x="41" y="704"/>
                  </a:lnTo>
                  <a:lnTo>
                    <a:pt x="43" y="724"/>
                  </a:lnTo>
                  <a:lnTo>
                    <a:pt x="44" y="7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29320" y="3294000"/>
              <a:ext cx="72720" cy="552600"/>
            </a:xfrm>
            <a:custGeom>
              <a:avLst/>
              <a:gdLst/>
              <a:ahLst/>
              <a:rect l="l" t="t" r="r" b="b"/>
              <a:pathLst>
                <a:path w="46" h="348">
                  <a:moveTo>
                    <a:pt x="0" y="0"/>
                  </a:moveTo>
                  <a:lnTo>
                    <a:pt x="3" y="32"/>
                  </a:lnTo>
                  <a:lnTo>
                    <a:pt x="5" y="63"/>
                  </a:lnTo>
                  <a:lnTo>
                    <a:pt x="8" y="91"/>
                  </a:lnTo>
                  <a:lnTo>
                    <a:pt x="11" y="119"/>
                  </a:lnTo>
                  <a:lnTo>
                    <a:pt x="14" y="144"/>
                  </a:lnTo>
                  <a:lnTo>
                    <a:pt x="17" y="170"/>
                  </a:lnTo>
                  <a:lnTo>
                    <a:pt x="20" y="193"/>
                  </a:lnTo>
                  <a:lnTo>
                    <a:pt x="22" y="215"/>
                  </a:lnTo>
                  <a:lnTo>
                    <a:pt x="25" y="236"/>
                  </a:lnTo>
                  <a:lnTo>
                    <a:pt x="29" y="255"/>
                  </a:lnTo>
                  <a:lnTo>
                    <a:pt x="32" y="274"/>
                  </a:lnTo>
                  <a:lnTo>
                    <a:pt x="35" y="290"/>
                  </a:lnTo>
                  <a:lnTo>
                    <a:pt x="38" y="306"/>
                  </a:lnTo>
                  <a:lnTo>
                    <a:pt x="41" y="322"/>
                  </a:lnTo>
                  <a:lnTo>
                    <a:pt x="43" y="335"/>
                  </a:lnTo>
                  <a:lnTo>
                    <a:pt x="4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802040" y="3846600"/>
              <a:ext cx="69840" cy="10152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0" y="0"/>
                  </a:moveTo>
                  <a:lnTo>
                    <a:pt x="4" y="13"/>
                  </a:lnTo>
                  <a:lnTo>
                    <a:pt x="9" y="27"/>
                  </a:lnTo>
                  <a:lnTo>
                    <a:pt x="15" y="39"/>
                  </a:lnTo>
                  <a:lnTo>
                    <a:pt x="22" y="50"/>
                  </a:lnTo>
                  <a:lnTo>
                    <a:pt x="25" y="54"/>
                  </a:lnTo>
                  <a:lnTo>
                    <a:pt x="29" y="59"/>
                  </a:lnTo>
                  <a:lnTo>
                    <a:pt x="32" y="62"/>
                  </a:lnTo>
                  <a:lnTo>
                    <a:pt x="35" y="63"/>
                  </a:lnTo>
                  <a:lnTo>
                    <a:pt x="38" y="64"/>
                  </a:lnTo>
                  <a:lnTo>
                    <a:pt x="40" y="63"/>
                  </a:lnTo>
                  <a:lnTo>
                    <a:pt x="42" y="61"/>
                  </a:lnTo>
                  <a:lnTo>
                    <a:pt x="44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871880" y="3444840"/>
              <a:ext cx="71640" cy="493920"/>
            </a:xfrm>
            <a:custGeom>
              <a:avLst/>
              <a:gdLst/>
              <a:ahLst/>
              <a:rect l="l" t="t" r="r" b="b"/>
              <a:pathLst>
                <a:path w="45" h="311">
                  <a:moveTo>
                    <a:pt x="0" y="311"/>
                  </a:moveTo>
                  <a:lnTo>
                    <a:pt x="3" y="301"/>
                  </a:lnTo>
                  <a:lnTo>
                    <a:pt x="5" y="290"/>
                  </a:lnTo>
                  <a:lnTo>
                    <a:pt x="8" y="277"/>
                  </a:lnTo>
                  <a:lnTo>
                    <a:pt x="11" y="262"/>
                  </a:lnTo>
                  <a:lnTo>
                    <a:pt x="14" y="246"/>
                  </a:lnTo>
                  <a:lnTo>
                    <a:pt x="16" y="228"/>
                  </a:lnTo>
                  <a:lnTo>
                    <a:pt x="19" y="207"/>
                  </a:lnTo>
                  <a:lnTo>
                    <a:pt x="22" y="187"/>
                  </a:lnTo>
                  <a:lnTo>
                    <a:pt x="26" y="166"/>
                  </a:lnTo>
                  <a:lnTo>
                    <a:pt x="28" y="143"/>
                  </a:lnTo>
                  <a:lnTo>
                    <a:pt x="34" y="96"/>
                  </a:lnTo>
                  <a:lnTo>
                    <a:pt x="39" y="48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943520" y="2728800"/>
              <a:ext cx="71280" cy="716040"/>
            </a:xfrm>
            <a:custGeom>
              <a:avLst/>
              <a:gdLst/>
              <a:ahLst/>
              <a:rect l="l" t="t" r="r" b="b"/>
              <a:pathLst>
                <a:path w="45" h="451">
                  <a:moveTo>
                    <a:pt x="0" y="451"/>
                  </a:moveTo>
                  <a:lnTo>
                    <a:pt x="3" y="427"/>
                  </a:lnTo>
                  <a:lnTo>
                    <a:pt x="6" y="401"/>
                  </a:lnTo>
                  <a:lnTo>
                    <a:pt x="8" y="375"/>
                  </a:lnTo>
                  <a:lnTo>
                    <a:pt x="11" y="348"/>
                  </a:lnTo>
                  <a:lnTo>
                    <a:pt x="17" y="291"/>
                  </a:lnTo>
                  <a:lnTo>
                    <a:pt x="22" y="233"/>
                  </a:lnTo>
                  <a:lnTo>
                    <a:pt x="28" y="174"/>
                  </a:lnTo>
                  <a:lnTo>
                    <a:pt x="34" y="115"/>
                  </a:lnTo>
                  <a:lnTo>
                    <a:pt x="39" y="5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5014800" y="2028960"/>
              <a:ext cx="71640" cy="699840"/>
            </a:xfrm>
            <a:custGeom>
              <a:avLst/>
              <a:gdLst/>
              <a:ahLst/>
              <a:rect l="l" t="t" r="r" b="b"/>
              <a:pathLst>
                <a:path w="45" h="441">
                  <a:moveTo>
                    <a:pt x="0" y="441"/>
                  </a:moveTo>
                  <a:lnTo>
                    <a:pt x="1" y="426"/>
                  </a:lnTo>
                  <a:lnTo>
                    <a:pt x="3" y="411"/>
                  </a:lnTo>
                  <a:lnTo>
                    <a:pt x="4" y="394"/>
                  </a:lnTo>
                  <a:lnTo>
                    <a:pt x="6" y="377"/>
                  </a:lnTo>
                  <a:lnTo>
                    <a:pt x="8" y="340"/>
                  </a:lnTo>
                  <a:lnTo>
                    <a:pt x="11" y="302"/>
                  </a:lnTo>
                  <a:lnTo>
                    <a:pt x="14" y="263"/>
                  </a:lnTo>
                  <a:lnTo>
                    <a:pt x="18" y="223"/>
                  </a:lnTo>
                  <a:lnTo>
                    <a:pt x="20" y="184"/>
                  </a:lnTo>
                  <a:lnTo>
                    <a:pt x="23" y="146"/>
                  </a:lnTo>
                  <a:lnTo>
                    <a:pt x="24" y="129"/>
                  </a:lnTo>
                  <a:lnTo>
                    <a:pt x="26" y="112"/>
                  </a:lnTo>
                  <a:lnTo>
                    <a:pt x="27" y="95"/>
                  </a:lnTo>
                  <a:lnTo>
                    <a:pt x="28" y="79"/>
                  </a:lnTo>
                  <a:lnTo>
                    <a:pt x="30" y="65"/>
                  </a:lnTo>
                  <a:lnTo>
                    <a:pt x="31" y="52"/>
                  </a:lnTo>
                  <a:lnTo>
                    <a:pt x="33" y="40"/>
                  </a:lnTo>
                  <a:lnTo>
                    <a:pt x="34" y="29"/>
                  </a:lnTo>
                  <a:lnTo>
                    <a:pt x="35" y="20"/>
                  </a:lnTo>
                  <a:lnTo>
                    <a:pt x="37" y="13"/>
                  </a:lnTo>
                  <a:lnTo>
                    <a:pt x="38" y="7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5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5086440" y="2039760"/>
              <a:ext cx="71280" cy="1243080"/>
            </a:xfrm>
            <a:custGeom>
              <a:avLst/>
              <a:gdLst/>
              <a:ahLst/>
              <a:rect l="l" t="t" r="r" b="b"/>
              <a:pathLst>
                <a:path w="45" h="783">
                  <a:moveTo>
                    <a:pt x="0" y="0"/>
                  </a:moveTo>
                  <a:lnTo>
                    <a:pt x="1" y="7"/>
                  </a:lnTo>
                  <a:lnTo>
                    <a:pt x="3" y="16"/>
                  </a:lnTo>
                  <a:lnTo>
                    <a:pt x="4" y="28"/>
                  </a:lnTo>
                  <a:lnTo>
                    <a:pt x="6" y="42"/>
                  </a:lnTo>
                  <a:lnTo>
                    <a:pt x="7" y="58"/>
                  </a:lnTo>
                  <a:lnTo>
                    <a:pt x="8" y="76"/>
                  </a:lnTo>
                  <a:lnTo>
                    <a:pt x="10" y="98"/>
                  </a:lnTo>
                  <a:lnTo>
                    <a:pt x="11" y="119"/>
                  </a:lnTo>
                  <a:lnTo>
                    <a:pt x="13" y="143"/>
                  </a:lnTo>
                  <a:lnTo>
                    <a:pt x="14" y="169"/>
                  </a:lnTo>
                  <a:lnTo>
                    <a:pt x="15" y="195"/>
                  </a:lnTo>
                  <a:lnTo>
                    <a:pt x="17" y="222"/>
                  </a:lnTo>
                  <a:lnTo>
                    <a:pt x="18" y="250"/>
                  </a:lnTo>
                  <a:lnTo>
                    <a:pt x="20" y="280"/>
                  </a:lnTo>
                  <a:lnTo>
                    <a:pt x="22" y="341"/>
                  </a:lnTo>
                  <a:lnTo>
                    <a:pt x="25" y="403"/>
                  </a:lnTo>
                  <a:lnTo>
                    <a:pt x="28" y="466"/>
                  </a:lnTo>
                  <a:lnTo>
                    <a:pt x="31" y="528"/>
                  </a:lnTo>
                  <a:lnTo>
                    <a:pt x="32" y="558"/>
                  </a:lnTo>
                  <a:lnTo>
                    <a:pt x="34" y="587"/>
                  </a:lnTo>
                  <a:lnTo>
                    <a:pt x="35" y="616"/>
                  </a:lnTo>
                  <a:lnTo>
                    <a:pt x="37" y="644"/>
                  </a:lnTo>
                  <a:lnTo>
                    <a:pt x="38" y="670"/>
                  </a:lnTo>
                  <a:lnTo>
                    <a:pt x="39" y="696"/>
                  </a:lnTo>
                  <a:lnTo>
                    <a:pt x="41" y="720"/>
                  </a:lnTo>
                  <a:lnTo>
                    <a:pt x="42" y="743"/>
                  </a:lnTo>
                  <a:lnTo>
                    <a:pt x="44" y="763"/>
                  </a:lnTo>
                  <a:lnTo>
                    <a:pt x="45" y="7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5157720" y="3282840"/>
              <a:ext cx="71640" cy="592200"/>
            </a:xfrm>
            <a:custGeom>
              <a:avLst/>
              <a:gdLst/>
              <a:ahLst/>
              <a:rect l="l" t="t" r="r" b="b"/>
              <a:pathLst>
                <a:path w="45" h="373">
                  <a:moveTo>
                    <a:pt x="0" y="0"/>
                  </a:moveTo>
                  <a:lnTo>
                    <a:pt x="3" y="34"/>
                  </a:lnTo>
                  <a:lnTo>
                    <a:pt x="5" y="66"/>
                  </a:lnTo>
                  <a:lnTo>
                    <a:pt x="8" y="98"/>
                  </a:lnTo>
                  <a:lnTo>
                    <a:pt x="11" y="127"/>
                  </a:lnTo>
                  <a:lnTo>
                    <a:pt x="15" y="154"/>
                  </a:lnTo>
                  <a:lnTo>
                    <a:pt x="17" y="182"/>
                  </a:lnTo>
                  <a:lnTo>
                    <a:pt x="20" y="206"/>
                  </a:lnTo>
                  <a:lnTo>
                    <a:pt x="23" y="230"/>
                  </a:lnTo>
                  <a:lnTo>
                    <a:pt x="26" y="252"/>
                  </a:lnTo>
                  <a:lnTo>
                    <a:pt x="29" y="273"/>
                  </a:lnTo>
                  <a:lnTo>
                    <a:pt x="31" y="292"/>
                  </a:lnTo>
                  <a:lnTo>
                    <a:pt x="34" y="311"/>
                  </a:lnTo>
                  <a:lnTo>
                    <a:pt x="37" y="329"/>
                  </a:lnTo>
                  <a:lnTo>
                    <a:pt x="40" y="344"/>
                  </a:lnTo>
                  <a:lnTo>
                    <a:pt x="42" y="359"/>
                  </a:lnTo>
                  <a:lnTo>
                    <a:pt x="45" y="3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5229360" y="3875040"/>
              <a:ext cx="7128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0" y="0"/>
                  </a:moveTo>
                  <a:lnTo>
                    <a:pt x="4" y="15"/>
                  </a:lnTo>
                  <a:lnTo>
                    <a:pt x="9" y="30"/>
                  </a:lnTo>
                  <a:lnTo>
                    <a:pt x="16" y="45"/>
                  </a:lnTo>
                  <a:lnTo>
                    <a:pt x="22" y="58"/>
                  </a:lnTo>
                  <a:lnTo>
                    <a:pt x="26" y="63"/>
                  </a:lnTo>
                  <a:lnTo>
                    <a:pt x="29" y="67"/>
                  </a:lnTo>
                  <a:lnTo>
                    <a:pt x="33" y="70"/>
                  </a:lnTo>
                  <a:lnTo>
                    <a:pt x="36" y="72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5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5300640" y="3443400"/>
              <a:ext cx="71640" cy="538200"/>
            </a:xfrm>
            <a:custGeom>
              <a:avLst/>
              <a:gdLst/>
              <a:ahLst/>
              <a:rect l="l" t="t" r="r" b="b"/>
              <a:pathLst>
                <a:path w="45" h="339">
                  <a:moveTo>
                    <a:pt x="0" y="339"/>
                  </a:moveTo>
                  <a:lnTo>
                    <a:pt x="3" y="329"/>
                  </a:lnTo>
                  <a:lnTo>
                    <a:pt x="6" y="317"/>
                  </a:lnTo>
                  <a:lnTo>
                    <a:pt x="9" y="302"/>
                  </a:lnTo>
                  <a:lnTo>
                    <a:pt x="12" y="286"/>
                  </a:lnTo>
                  <a:lnTo>
                    <a:pt x="15" y="267"/>
                  </a:lnTo>
                  <a:lnTo>
                    <a:pt x="18" y="248"/>
                  </a:lnTo>
                  <a:lnTo>
                    <a:pt x="20" y="226"/>
                  </a:lnTo>
                  <a:lnTo>
                    <a:pt x="23" y="203"/>
                  </a:lnTo>
                  <a:lnTo>
                    <a:pt x="26" y="179"/>
                  </a:lnTo>
                  <a:lnTo>
                    <a:pt x="28" y="155"/>
                  </a:lnTo>
                  <a:lnTo>
                    <a:pt x="34" y="104"/>
                  </a:lnTo>
                  <a:lnTo>
                    <a:pt x="39" y="5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5372280" y="2689200"/>
              <a:ext cx="71280" cy="754200"/>
            </a:xfrm>
            <a:custGeom>
              <a:avLst/>
              <a:gdLst/>
              <a:ahLst/>
              <a:rect l="l" t="t" r="r" b="b"/>
              <a:pathLst>
                <a:path w="45" h="475">
                  <a:moveTo>
                    <a:pt x="0" y="475"/>
                  </a:moveTo>
                  <a:lnTo>
                    <a:pt x="3" y="449"/>
                  </a:lnTo>
                  <a:lnTo>
                    <a:pt x="6" y="422"/>
                  </a:lnTo>
                  <a:lnTo>
                    <a:pt x="8" y="394"/>
                  </a:lnTo>
                  <a:lnTo>
                    <a:pt x="11" y="366"/>
                  </a:lnTo>
                  <a:lnTo>
                    <a:pt x="17" y="306"/>
                  </a:lnTo>
                  <a:lnTo>
                    <a:pt x="22" y="244"/>
                  </a:lnTo>
                  <a:lnTo>
                    <a:pt x="28" y="182"/>
                  </a:lnTo>
                  <a:lnTo>
                    <a:pt x="34" y="120"/>
                  </a:lnTo>
                  <a:lnTo>
                    <a:pt x="39" y="59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5443560" y="1969920"/>
              <a:ext cx="71280" cy="719280"/>
            </a:xfrm>
            <a:custGeom>
              <a:avLst/>
              <a:gdLst/>
              <a:ahLst/>
              <a:rect l="l" t="t" r="r" b="b"/>
              <a:pathLst>
                <a:path w="45" h="453">
                  <a:moveTo>
                    <a:pt x="0" y="453"/>
                  </a:moveTo>
                  <a:lnTo>
                    <a:pt x="1" y="438"/>
                  </a:lnTo>
                  <a:lnTo>
                    <a:pt x="4" y="422"/>
                  </a:lnTo>
                  <a:lnTo>
                    <a:pt x="5" y="406"/>
                  </a:lnTo>
                  <a:lnTo>
                    <a:pt x="7" y="388"/>
                  </a:lnTo>
                  <a:lnTo>
                    <a:pt x="9" y="350"/>
                  </a:lnTo>
                  <a:lnTo>
                    <a:pt x="12" y="311"/>
                  </a:lnTo>
                  <a:lnTo>
                    <a:pt x="15" y="270"/>
                  </a:lnTo>
                  <a:lnTo>
                    <a:pt x="18" y="230"/>
                  </a:lnTo>
                  <a:lnTo>
                    <a:pt x="20" y="189"/>
                  </a:lnTo>
                  <a:lnTo>
                    <a:pt x="23" y="151"/>
                  </a:lnTo>
                  <a:lnTo>
                    <a:pt x="24" y="133"/>
                  </a:lnTo>
                  <a:lnTo>
                    <a:pt x="26" y="114"/>
                  </a:lnTo>
                  <a:lnTo>
                    <a:pt x="27" y="98"/>
                  </a:lnTo>
                  <a:lnTo>
                    <a:pt x="28" y="82"/>
                  </a:lnTo>
                  <a:lnTo>
                    <a:pt x="30" y="67"/>
                  </a:lnTo>
                  <a:lnTo>
                    <a:pt x="31" y="54"/>
                  </a:lnTo>
                  <a:lnTo>
                    <a:pt x="33" y="42"/>
                  </a:lnTo>
                  <a:lnTo>
                    <a:pt x="34" y="30"/>
                  </a:lnTo>
                  <a:lnTo>
                    <a:pt x="35" y="21"/>
                  </a:lnTo>
                  <a:lnTo>
                    <a:pt x="37" y="13"/>
                  </a:lnTo>
                  <a:lnTo>
                    <a:pt x="38" y="7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5514840" y="1979640"/>
              <a:ext cx="73080" cy="1254240"/>
            </a:xfrm>
            <a:custGeom>
              <a:avLst/>
              <a:gdLst/>
              <a:ahLst/>
              <a:rect l="l" t="t" r="r" b="b"/>
              <a:pathLst>
                <a:path w="46" h="790">
                  <a:moveTo>
                    <a:pt x="0" y="0"/>
                  </a:moveTo>
                  <a:lnTo>
                    <a:pt x="1" y="7"/>
                  </a:lnTo>
                  <a:lnTo>
                    <a:pt x="3" y="16"/>
                  </a:lnTo>
                  <a:lnTo>
                    <a:pt x="4" y="28"/>
                  </a:lnTo>
                  <a:lnTo>
                    <a:pt x="6" y="43"/>
                  </a:lnTo>
                  <a:lnTo>
                    <a:pt x="7" y="59"/>
                  </a:lnTo>
                  <a:lnTo>
                    <a:pt x="8" y="78"/>
                  </a:lnTo>
                  <a:lnTo>
                    <a:pt x="10" y="98"/>
                  </a:lnTo>
                  <a:lnTo>
                    <a:pt x="11" y="121"/>
                  </a:lnTo>
                  <a:lnTo>
                    <a:pt x="13" y="144"/>
                  </a:lnTo>
                  <a:lnTo>
                    <a:pt x="14" y="169"/>
                  </a:lnTo>
                  <a:lnTo>
                    <a:pt x="15" y="196"/>
                  </a:lnTo>
                  <a:lnTo>
                    <a:pt x="17" y="224"/>
                  </a:lnTo>
                  <a:lnTo>
                    <a:pt x="18" y="253"/>
                  </a:lnTo>
                  <a:lnTo>
                    <a:pt x="20" y="282"/>
                  </a:lnTo>
                  <a:lnTo>
                    <a:pt x="22" y="343"/>
                  </a:lnTo>
                  <a:lnTo>
                    <a:pt x="25" y="407"/>
                  </a:lnTo>
                  <a:lnTo>
                    <a:pt x="28" y="470"/>
                  </a:lnTo>
                  <a:lnTo>
                    <a:pt x="31" y="532"/>
                  </a:lnTo>
                  <a:lnTo>
                    <a:pt x="32" y="563"/>
                  </a:lnTo>
                  <a:lnTo>
                    <a:pt x="34" y="593"/>
                  </a:lnTo>
                  <a:lnTo>
                    <a:pt x="35" y="621"/>
                  </a:lnTo>
                  <a:lnTo>
                    <a:pt x="37" y="650"/>
                  </a:lnTo>
                  <a:lnTo>
                    <a:pt x="38" y="677"/>
                  </a:lnTo>
                  <a:lnTo>
                    <a:pt x="39" y="702"/>
                  </a:lnTo>
                  <a:lnTo>
                    <a:pt x="42" y="728"/>
                  </a:lnTo>
                  <a:lnTo>
                    <a:pt x="43" y="750"/>
                  </a:lnTo>
                  <a:lnTo>
                    <a:pt x="45" y="771"/>
                  </a:lnTo>
                  <a:lnTo>
                    <a:pt x="46" y="7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5587920" y="3233880"/>
              <a:ext cx="69840" cy="601560"/>
            </a:xfrm>
            <a:custGeom>
              <a:avLst/>
              <a:gdLst/>
              <a:ahLst/>
              <a:rect l="l" t="t" r="r" b="b"/>
              <a:pathLst>
                <a:path w="44" h="379">
                  <a:moveTo>
                    <a:pt x="0" y="0"/>
                  </a:moveTo>
                  <a:lnTo>
                    <a:pt x="3" y="35"/>
                  </a:lnTo>
                  <a:lnTo>
                    <a:pt x="5" y="68"/>
                  </a:lnTo>
                  <a:lnTo>
                    <a:pt x="8" y="99"/>
                  </a:lnTo>
                  <a:lnTo>
                    <a:pt x="11" y="130"/>
                  </a:lnTo>
                  <a:lnTo>
                    <a:pt x="14" y="158"/>
                  </a:lnTo>
                  <a:lnTo>
                    <a:pt x="16" y="184"/>
                  </a:lnTo>
                  <a:lnTo>
                    <a:pt x="19" y="210"/>
                  </a:lnTo>
                  <a:lnTo>
                    <a:pt x="22" y="234"/>
                  </a:lnTo>
                  <a:lnTo>
                    <a:pt x="25" y="256"/>
                  </a:lnTo>
                  <a:lnTo>
                    <a:pt x="28" y="278"/>
                  </a:lnTo>
                  <a:lnTo>
                    <a:pt x="30" y="298"/>
                  </a:lnTo>
                  <a:lnTo>
                    <a:pt x="33" y="316"/>
                  </a:lnTo>
                  <a:lnTo>
                    <a:pt x="36" y="333"/>
                  </a:lnTo>
                  <a:lnTo>
                    <a:pt x="39" y="349"/>
                  </a:lnTo>
                  <a:lnTo>
                    <a:pt x="41" y="365"/>
                  </a:lnTo>
                  <a:lnTo>
                    <a:pt x="44" y="3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5657760" y="383544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0"/>
                  </a:moveTo>
                  <a:lnTo>
                    <a:pt x="4" y="15"/>
                  </a:lnTo>
                  <a:lnTo>
                    <a:pt x="9" y="30"/>
                  </a:lnTo>
                  <a:lnTo>
                    <a:pt x="16" y="44"/>
                  </a:lnTo>
                  <a:lnTo>
                    <a:pt x="19" y="51"/>
                  </a:lnTo>
                  <a:lnTo>
                    <a:pt x="22" y="57"/>
                  </a:lnTo>
                  <a:lnTo>
                    <a:pt x="26" y="62"/>
                  </a:lnTo>
                  <a:lnTo>
                    <a:pt x="29" y="67"/>
                  </a:lnTo>
                  <a:lnTo>
                    <a:pt x="33" y="70"/>
                  </a:lnTo>
                  <a:lnTo>
                    <a:pt x="37" y="72"/>
                  </a:lnTo>
                  <a:lnTo>
                    <a:pt x="40" y="73"/>
                  </a:lnTo>
                  <a:lnTo>
                    <a:pt x="42" y="72"/>
                  </a:lnTo>
                  <a:lnTo>
                    <a:pt x="44" y="69"/>
                  </a:lnTo>
                  <a:lnTo>
                    <a:pt x="4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730840" y="3332160"/>
              <a:ext cx="69840" cy="606600"/>
            </a:xfrm>
            <a:custGeom>
              <a:avLst/>
              <a:gdLst/>
              <a:ahLst/>
              <a:rect l="l" t="t" r="r" b="b"/>
              <a:pathLst>
                <a:path w="44" h="382">
                  <a:moveTo>
                    <a:pt x="0" y="382"/>
                  </a:moveTo>
                  <a:lnTo>
                    <a:pt x="1" y="376"/>
                  </a:lnTo>
                  <a:lnTo>
                    <a:pt x="3" y="370"/>
                  </a:lnTo>
                  <a:lnTo>
                    <a:pt x="6" y="356"/>
                  </a:lnTo>
                  <a:lnTo>
                    <a:pt x="8" y="339"/>
                  </a:lnTo>
                  <a:lnTo>
                    <a:pt x="11" y="320"/>
                  </a:lnTo>
                  <a:lnTo>
                    <a:pt x="14" y="299"/>
                  </a:lnTo>
                  <a:lnTo>
                    <a:pt x="17" y="276"/>
                  </a:lnTo>
                  <a:lnTo>
                    <a:pt x="19" y="251"/>
                  </a:lnTo>
                  <a:lnTo>
                    <a:pt x="22" y="226"/>
                  </a:lnTo>
                  <a:lnTo>
                    <a:pt x="25" y="198"/>
                  </a:lnTo>
                  <a:lnTo>
                    <a:pt x="27" y="171"/>
                  </a:lnTo>
                  <a:lnTo>
                    <a:pt x="33" y="113"/>
                  </a:lnTo>
                  <a:lnTo>
                    <a:pt x="38" y="56"/>
                  </a:lnTo>
                  <a:lnTo>
                    <a:pt x="41" y="2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5800680" y="2552760"/>
              <a:ext cx="73080" cy="779400"/>
            </a:xfrm>
            <a:custGeom>
              <a:avLst/>
              <a:gdLst/>
              <a:ahLst/>
              <a:rect l="l" t="t" r="r" b="b"/>
              <a:pathLst>
                <a:path w="46" h="491">
                  <a:moveTo>
                    <a:pt x="0" y="491"/>
                  </a:moveTo>
                  <a:lnTo>
                    <a:pt x="3" y="463"/>
                  </a:lnTo>
                  <a:lnTo>
                    <a:pt x="6" y="434"/>
                  </a:lnTo>
                  <a:lnTo>
                    <a:pt x="8" y="404"/>
                  </a:lnTo>
                  <a:lnTo>
                    <a:pt x="11" y="374"/>
                  </a:lnTo>
                  <a:lnTo>
                    <a:pt x="17" y="310"/>
                  </a:lnTo>
                  <a:lnTo>
                    <a:pt x="22" y="246"/>
                  </a:lnTo>
                  <a:lnTo>
                    <a:pt x="28" y="181"/>
                  </a:lnTo>
                  <a:lnTo>
                    <a:pt x="35" y="118"/>
                  </a:lnTo>
                  <a:lnTo>
                    <a:pt x="38" y="87"/>
                  </a:lnTo>
                  <a:lnTo>
                    <a:pt x="40" y="57"/>
                  </a:lnTo>
                  <a:lnTo>
                    <a:pt x="43" y="29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5873760" y="1927080"/>
              <a:ext cx="69840" cy="625680"/>
            </a:xfrm>
            <a:custGeom>
              <a:avLst/>
              <a:gdLst/>
              <a:ahLst/>
              <a:rect l="l" t="t" r="r" b="b"/>
              <a:pathLst>
                <a:path w="44" h="394">
                  <a:moveTo>
                    <a:pt x="0" y="394"/>
                  </a:moveTo>
                  <a:lnTo>
                    <a:pt x="1" y="380"/>
                  </a:lnTo>
                  <a:lnTo>
                    <a:pt x="3" y="365"/>
                  </a:lnTo>
                  <a:lnTo>
                    <a:pt x="4" y="350"/>
                  </a:lnTo>
                  <a:lnTo>
                    <a:pt x="6" y="333"/>
                  </a:lnTo>
                  <a:lnTo>
                    <a:pt x="8" y="298"/>
                  </a:lnTo>
                  <a:lnTo>
                    <a:pt x="11" y="263"/>
                  </a:lnTo>
                  <a:lnTo>
                    <a:pt x="14" y="225"/>
                  </a:lnTo>
                  <a:lnTo>
                    <a:pt x="17" y="189"/>
                  </a:lnTo>
                  <a:lnTo>
                    <a:pt x="19" y="154"/>
                  </a:lnTo>
                  <a:lnTo>
                    <a:pt x="22" y="120"/>
                  </a:lnTo>
                  <a:lnTo>
                    <a:pt x="23" y="104"/>
                  </a:lnTo>
                  <a:lnTo>
                    <a:pt x="25" y="89"/>
                  </a:lnTo>
                  <a:lnTo>
                    <a:pt x="26" y="75"/>
                  </a:lnTo>
                  <a:lnTo>
                    <a:pt x="27" y="60"/>
                  </a:lnTo>
                  <a:lnTo>
                    <a:pt x="29" y="48"/>
                  </a:lnTo>
                  <a:lnTo>
                    <a:pt x="30" y="37"/>
                  </a:lnTo>
                  <a:lnTo>
                    <a:pt x="32" y="27"/>
                  </a:lnTo>
                  <a:lnTo>
                    <a:pt x="33" y="19"/>
                  </a:lnTo>
                  <a:lnTo>
                    <a:pt x="34" y="12"/>
                  </a:lnTo>
                  <a:lnTo>
                    <a:pt x="36" y="6"/>
                  </a:lnTo>
                  <a:lnTo>
                    <a:pt x="37" y="3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3" y="6"/>
                  </a:lnTo>
                  <a:lnTo>
                    <a:pt x="4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5943600" y="1946160"/>
              <a:ext cx="73080" cy="1338480"/>
            </a:xfrm>
            <a:custGeom>
              <a:avLst/>
              <a:gdLst/>
              <a:ahLst/>
              <a:rect l="l" t="t" r="r" b="b"/>
              <a:pathLst>
                <a:path w="46" h="843">
                  <a:moveTo>
                    <a:pt x="0" y="0"/>
                  </a:moveTo>
                  <a:lnTo>
                    <a:pt x="1" y="8"/>
                  </a:lnTo>
                  <a:lnTo>
                    <a:pt x="3" y="20"/>
                  </a:lnTo>
                  <a:lnTo>
                    <a:pt x="4" y="33"/>
                  </a:lnTo>
                  <a:lnTo>
                    <a:pt x="6" y="49"/>
                  </a:lnTo>
                  <a:lnTo>
                    <a:pt x="7" y="68"/>
                  </a:lnTo>
                  <a:lnTo>
                    <a:pt x="8" y="88"/>
                  </a:lnTo>
                  <a:lnTo>
                    <a:pt x="10" y="110"/>
                  </a:lnTo>
                  <a:lnTo>
                    <a:pt x="11" y="134"/>
                  </a:lnTo>
                  <a:lnTo>
                    <a:pt x="13" y="160"/>
                  </a:lnTo>
                  <a:lnTo>
                    <a:pt x="14" y="187"/>
                  </a:lnTo>
                  <a:lnTo>
                    <a:pt x="15" y="215"/>
                  </a:lnTo>
                  <a:lnTo>
                    <a:pt x="17" y="245"/>
                  </a:lnTo>
                  <a:lnTo>
                    <a:pt x="18" y="276"/>
                  </a:lnTo>
                  <a:lnTo>
                    <a:pt x="20" y="306"/>
                  </a:lnTo>
                  <a:lnTo>
                    <a:pt x="22" y="371"/>
                  </a:lnTo>
                  <a:lnTo>
                    <a:pt x="26" y="438"/>
                  </a:lnTo>
                  <a:lnTo>
                    <a:pt x="29" y="505"/>
                  </a:lnTo>
                  <a:lnTo>
                    <a:pt x="32" y="570"/>
                  </a:lnTo>
                  <a:lnTo>
                    <a:pt x="33" y="602"/>
                  </a:lnTo>
                  <a:lnTo>
                    <a:pt x="35" y="633"/>
                  </a:lnTo>
                  <a:lnTo>
                    <a:pt x="36" y="665"/>
                  </a:lnTo>
                  <a:lnTo>
                    <a:pt x="38" y="694"/>
                  </a:lnTo>
                  <a:lnTo>
                    <a:pt x="39" y="722"/>
                  </a:lnTo>
                  <a:lnTo>
                    <a:pt x="40" y="750"/>
                  </a:lnTo>
                  <a:lnTo>
                    <a:pt x="42" y="775"/>
                  </a:lnTo>
                  <a:lnTo>
                    <a:pt x="43" y="799"/>
                  </a:lnTo>
                  <a:lnTo>
                    <a:pt x="45" y="822"/>
                  </a:lnTo>
                  <a:lnTo>
                    <a:pt x="46" y="8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6016680" y="3284640"/>
              <a:ext cx="69840" cy="655560"/>
            </a:xfrm>
            <a:custGeom>
              <a:avLst/>
              <a:gdLst/>
              <a:ahLst/>
              <a:rect l="l" t="t" r="r" b="b"/>
              <a:pathLst>
                <a:path w="44" h="413">
                  <a:moveTo>
                    <a:pt x="0" y="0"/>
                  </a:moveTo>
                  <a:lnTo>
                    <a:pt x="3" y="37"/>
                  </a:lnTo>
                  <a:lnTo>
                    <a:pt x="5" y="74"/>
                  </a:lnTo>
                  <a:lnTo>
                    <a:pt x="8" y="108"/>
                  </a:lnTo>
                  <a:lnTo>
                    <a:pt x="11" y="140"/>
                  </a:lnTo>
                  <a:lnTo>
                    <a:pt x="14" y="171"/>
                  </a:lnTo>
                  <a:lnTo>
                    <a:pt x="16" y="200"/>
                  </a:lnTo>
                  <a:lnTo>
                    <a:pt x="19" y="227"/>
                  </a:lnTo>
                  <a:lnTo>
                    <a:pt x="22" y="254"/>
                  </a:lnTo>
                  <a:lnTo>
                    <a:pt x="25" y="278"/>
                  </a:lnTo>
                  <a:lnTo>
                    <a:pt x="28" y="301"/>
                  </a:lnTo>
                  <a:lnTo>
                    <a:pt x="30" y="322"/>
                  </a:lnTo>
                  <a:lnTo>
                    <a:pt x="33" y="344"/>
                  </a:lnTo>
                  <a:lnTo>
                    <a:pt x="36" y="362"/>
                  </a:lnTo>
                  <a:lnTo>
                    <a:pt x="39" y="380"/>
                  </a:lnTo>
                  <a:lnTo>
                    <a:pt x="41" y="397"/>
                  </a:lnTo>
                  <a:lnTo>
                    <a:pt x="44" y="4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086520" y="3940200"/>
              <a:ext cx="73080" cy="12708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0"/>
                  </a:moveTo>
                  <a:lnTo>
                    <a:pt x="4" y="16"/>
                  </a:lnTo>
                  <a:lnTo>
                    <a:pt x="9" y="33"/>
                  </a:lnTo>
                  <a:lnTo>
                    <a:pt x="16" y="49"/>
                  </a:lnTo>
                  <a:lnTo>
                    <a:pt x="19" y="56"/>
                  </a:lnTo>
                  <a:lnTo>
                    <a:pt x="23" y="63"/>
                  </a:lnTo>
                  <a:lnTo>
                    <a:pt x="27" y="69"/>
                  </a:lnTo>
                  <a:lnTo>
                    <a:pt x="30" y="73"/>
                  </a:lnTo>
                  <a:lnTo>
                    <a:pt x="34" y="77"/>
                  </a:lnTo>
                  <a:lnTo>
                    <a:pt x="37" y="79"/>
                  </a:lnTo>
                  <a:lnTo>
                    <a:pt x="40" y="80"/>
                  </a:lnTo>
                  <a:lnTo>
                    <a:pt x="42" y="80"/>
                  </a:lnTo>
                  <a:lnTo>
                    <a:pt x="44" y="77"/>
                  </a:lnTo>
                  <a:lnTo>
                    <a:pt x="46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6159600" y="3419640"/>
              <a:ext cx="69840" cy="636480"/>
            </a:xfrm>
            <a:custGeom>
              <a:avLst/>
              <a:gdLst/>
              <a:ahLst/>
              <a:rect l="l" t="t" r="r" b="b"/>
              <a:pathLst>
                <a:path w="44" h="401">
                  <a:moveTo>
                    <a:pt x="0" y="401"/>
                  </a:moveTo>
                  <a:lnTo>
                    <a:pt x="1" y="396"/>
                  </a:lnTo>
                  <a:lnTo>
                    <a:pt x="3" y="389"/>
                  </a:lnTo>
                  <a:lnTo>
                    <a:pt x="6" y="375"/>
                  </a:lnTo>
                  <a:lnTo>
                    <a:pt x="8" y="357"/>
                  </a:lnTo>
                  <a:lnTo>
                    <a:pt x="11" y="338"/>
                  </a:lnTo>
                  <a:lnTo>
                    <a:pt x="14" y="315"/>
                  </a:lnTo>
                  <a:lnTo>
                    <a:pt x="17" y="291"/>
                  </a:lnTo>
                  <a:lnTo>
                    <a:pt x="19" y="265"/>
                  </a:lnTo>
                  <a:lnTo>
                    <a:pt x="22" y="237"/>
                  </a:lnTo>
                  <a:lnTo>
                    <a:pt x="25" y="209"/>
                  </a:lnTo>
                  <a:lnTo>
                    <a:pt x="28" y="180"/>
                  </a:lnTo>
                  <a:lnTo>
                    <a:pt x="33" y="120"/>
                  </a:lnTo>
                  <a:lnTo>
                    <a:pt x="38" y="58"/>
                  </a:lnTo>
                  <a:lnTo>
                    <a:pt x="41" y="29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229440" y="2592360"/>
              <a:ext cx="71280" cy="827280"/>
            </a:xfrm>
            <a:custGeom>
              <a:avLst/>
              <a:gdLst/>
              <a:ahLst/>
              <a:rect l="l" t="t" r="r" b="b"/>
              <a:pathLst>
                <a:path w="45" h="521">
                  <a:moveTo>
                    <a:pt x="0" y="521"/>
                  </a:moveTo>
                  <a:lnTo>
                    <a:pt x="3" y="491"/>
                  </a:lnTo>
                  <a:lnTo>
                    <a:pt x="5" y="461"/>
                  </a:lnTo>
                  <a:lnTo>
                    <a:pt x="8" y="429"/>
                  </a:lnTo>
                  <a:lnTo>
                    <a:pt x="11" y="396"/>
                  </a:lnTo>
                  <a:lnTo>
                    <a:pt x="17" y="329"/>
                  </a:lnTo>
                  <a:lnTo>
                    <a:pt x="23" y="262"/>
                  </a:lnTo>
                  <a:lnTo>
                    <a:pt x="28" y="193"/>
                  </a:lnTo>
                  <a:lnTo>
                    <a:pt x="34" y="126"/>
                  </a:lnTo>
                  <a:lnTo>
                    <a:pt x="37" y="93"/>
                  </a:lnTo>
                  <a:lnTo>
                    <a:pt x="39" y="61"/>
                  </a:lnTo>
                  <a:lnTo>
                    <a:pt x="42" y="3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300720" y="1901880"/>
              <a:ext cx="71640" cy="690480"/>
            </a:xfrm>
            <a:custGeom>
              <a:avLst/>
              <a:gdLst/>
              <a:ahLst/>
              <a:rect l="l" t="t" r="r" b="b"/>
              <a:pathLst>
                <a:path w="45" h="435">
                  <a:moveTo>
                    <a:pt x="0" y="435"/>
                  </a:moveTo>
                  <a:lnTo>
                    <a:pt x="1" y="419"/>
                  </a:lnTo>
                  <a:lnTo>
                    <a:pt x="3" y="403"/>
                  </a:lnTo>
                  <a:lnTo>
                    <a:pt x="4" y="386"/>
                  </a:lnTo>
                  <a:lnTo>
                    <a:pt x="6" y="368"/>
                  </a:lnTo>
                  <a:lnTo>
                    <a:pt x="8" y="330"/>
                  </a:lnTo>
                  <a:lnTo>
                    <a:pt x="11" y="292"/>
                  </a:lnTo>
                  <a:lnTo>
                    <a:pt x="14" y="252"/>
                  </a:lnTo>
                  <a:lnTo>
                    <a:pt x="17" y="213"/>
                  </a:lnTo>
                  <a:lnTo>
                    <a:pt x="20" y="174"/>
                  </a:lnTo>
                  <a:lnTo>
                    <a:pt x="22" y="137"/>
                  </a:lnTo>
                  <a:lnTo>
                    <a:pt x="24" y="120"/>
                  </a:lnTo>
                  <a:lnTo>
                    <a:pt x="25" y="103"/>
                  </a:lnTo>
                  <a:lnTo>
                    <a:pt x="27" y="87"/>
                  </a:lnTo>
                  <a:lnTo>
                    <a:pt x="28" y="72"/>
                  </a:lnTo>
                  <a:lnTo>
                    <a:pt x="30" y="58"/>
                  </a:lnTo>
                  <a:lnTo>
                    <a:pt x="31" y="45"/>
                  </a:lnTo>
                  <a:lnTo>
                    <a:pt x="32" y="34"/>
                  </a:lnTo>
                  <a:lnTo>
                    <a:pt x="34" y="24"/>
                  </a:lnTo>
                  <a:lnTo>
                    <a:pt x="35" y="16"/>
                  </a:lnTo>
                  <a:lnTo>
                    <a:pt x="37" y="9"/>
                  </a:lnTo>
                  <a:lnTo>
                    <a:pt x="38" y="4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3"/>
                  </a:lnTo>
                  <a:lnTo>
                    <a:pt x="45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6372360" y="1914480"/>
              <a:ext cx="71280" cy="1306440"/>
            </a:xfrm>
            <a:custGeom>
              <a:avLst/>
              <a:gdLst/>
              <a:ahLst/>
              <a:rect l="l" t="t" r="r" b="b"/>
              <a:pathLst>
                <a:path w="45" h="823">
                  <a:moveTo>
                    <a:pt x="0" y="0"/>
                  </a:moveTo>
                  <a:lnTo>
                    <a:pt x="1" y="8"/>
                  </a:lnTo>
                  <a:lnTo>
                    <a:pt x="3" y="18"/>
                  </a:lnTo>
                  <a:lnTo>
                    <a:pt x="4" y="30"/>
                  </a:lnTo>
                  <a:lnTo>
                    <a:pt x="6" y="45"/>
                  </a:lnTo>
                  <a:lnTo>
                    <a:pt x="7" y="63"/>
                  </a:lnTo>
                  <a:lnTo>
                    <a:pt x="8" y="83"/>
                  </a:lnTo>
                  <a:lnTo>
                    <a:pt x="11" y="104"/>
                  </a:lnTo>
                  <a:lnTo>
                    <a:pt x="12" y="127"/>
                  </a:lnTo>
                  <a:lnTo>
                    <a:pt x="13" y="152"/>
                  </a:lnTo>
                  <a:lnTo>
                    <a:pt x="15" y="179"/>
                  </a:lnTo>
                  <a:lnTo>
                    <a:pt x="16" y="207"/>
                  </a:lnTo>
                  <a:lnTo>
                    <a:pt x="18" y="235"/>
                  </a:lnTo>
                  <a:lnTo>
                    <a:pt x="19" y="266"/>
                  </a:lnTo>
                  <a:lnTo>
                    <a:pt x="20" y="296"/>
                  </a:lnTo>
                  <a:lnTo>
                    <a:pt x="23" y="360"/>
                  </a:lnTo>
                  <a:lnTo>
                    <a:pt x="26" y="425"/>
                  </a:lnTo>
                  <a:lnTo>
                    <a:pt x="28" y="490"/>
                  </a:lnTo>
                  <a:lnTo>
                    <a:pt x="31" y="555"/>
                  </a:lnTo>
                  <a:lnTo>
                    <a:pt x="33" y="586"/>
                  </a:lnTo>
                  <a:lnTo>
                    <a:pt x="34" y="618"/>
                  </a:lnTo>
                  <a:lnTo>
                    <a:pt x="35" y="648"/>
                  </a:lnTo>
                  <a:lnTo>
                    <a:pt x="37" y="678"/>
                  </a:lnTo>
                  <a:lnTo>
                    <a:pt x="38" y="705"/>
                  </a:lnTo>
                  <a:lnTo>
                    <a:pt x="39" y="732"/>
                  </a:lnTo>
                  <a:lnTo>
                    <a:pt x="41" y="757"/>
                  </a:lnTo>
                  <a:lnTo>
                    <a:pt x="42" y="781"/>
                  </a:lnTo>
                  <a:lnTo>
                    <a:pt x="44" y="803"/>
                  </a:lnTo>
                  <a:lnTo>
                    <a:pt x="45" y="8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6443640" y="3220920"/>
              <a:ext cx="71640" cy="633600"/>
            </a:xfrm>
            <a:custGeom>
              <a:avLst/>
              <a:gdLst/>
              <a:ahLst/>
              <a:rect l="l" t="t" r="r" b="b"/>
              <a:pathLst>
                <a:path w="45" h="399">
                  <a:moveTo>
                    <a:pt x="0" y="0"/>
                  </a:moveTo>
                  <a:lnTo>
                    <a:pt x="3" y="37"/>
                  </a:lnTo>
                  <a:lnTo>
                    <a:pt x="6" y="72"/>
                  </a:lnTo>
                  <a:lnTo>
                    <a:pt x="8" y="104"/>
                  </a:lnTo>
                  <a:lnTo>
                    <a:pt x="11" y="136"/>
                  </a:lnTo>
                  <a:lnTo>
                    <a:pt x="14" y="166"/>
                  </a:lnTo>
                  <a:lnTo>
                    <a:pt x="17" y="195"/>
                  </a:lnTo>
                  <a:lnTo>
                    <a:pt x="20" y="221"/>
                  </a:lnTo>
                  <a:lnTo>
                    <a:pt x="22" y="246"/>
                  </a:lnTo>
                  <a:lnTo>
                    <a:pt x="25" y="269"/>
                  </a:lnTo>
                  <a:lnTo>
                    <a:pt x="28" y="292"/>
                  </a:lnTo>
                  <a:lnTo>
                    <a:pt x="31" y="313"/>
                  </a:lnTo>
                  <a:lnTo>
                    <a:pt x="34" y="332"/>
                  </a:lnTo>
                  <a:lnTo>
                    <a:pt x="37" y="351"/>
                  </a:lnTo>
                  <a:lnTo>
                    <a:pt x="39" y="369"/>
                  </a:lnTo>
                  <a:lnTo>
                    <a:pt x="42" y="384"/>
                  </a:lnTo>
                  <a:lnTo>
                    <a:pt x="45" y="3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6515280" y="38545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0"/>
                  </a:moveTo>
                  <a:lnTo>
                    <a:pt x="5" y="15"/>
                  </a:lnTo>
                  <a:lnTo>
                    <a:pt x="10" y="30"/>
                  </a:lnTo>
                  <a:lnTo>
                    <a:pt x="16" y="45"/>
                  </a:lnTo>
                  <a:lnTo>
                    <a:pt x="20" y="52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30" y="68"/>
                  </a:lnTo>
                  <a:lnTo>
                    <a:pt x="33" y="71"/>
                  </a:lnTo>
                  <a:lnTo>
                    <a:pt x="36" y="73"/>
                  </a:lnTo>
                  <a:lnTo>
                    <a:pt x="39" y="74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5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586560" y="3363840"/>
              <a:ext cx="73080" cy="596880"/>
            </a:xfrm>
            <a:custGeom>
              <a:avLst/>
              <a:gdLst/>
              <a:ahLst/>
              <a:rect l="l" t="t" r="r" b="b"/>
              <a:pathLst>
                <a:path w="46" h="376">
                  <a:moveTo>
                    <a:pt x="0" y="376"/>
                  </a:moveTo>
                  <a:lnTo>
                    <a:pt x="3" y="365"/>
                  </a:lnTo>
                  <a:lnTo>
                    <a:pt x="6" y="350"/>
                  </a:lnTo>
                  <a:lnTo>
                    <a:pt x="8" y="334"/>
                  </a:lnTo>
                  <a:lnTo>
                    <a:pt x="11" y="316"/>
                  </a:lnTo>
                  <a:lnTo>
                    <a:pt x="14" y="296"/>
                  </a:lnTo>
                  <a:lnTo>
                    <a:pt x="17" y="273"/>
                  </a:lnTo>
                  <a:lnTo>
                    <a:pt x="20" y="249"/>
                  </a:lnTo>
                  <a:lnTo>
                    <a:pt x="22" y="224"/>
                  </a:lnTo>
                  <a:lnTo>
                    <a:pt x="25" y="198"/>
                  </a:lnTo>
                  <a:lnTo>
                    <a:pt x="28" y="170"/>
                  </a:lnTo>
                  <a:lnTo>
                    <a:pt x="34" y="114"/>
                  </a:lnTo>
                  <a:lnTo>
                    <a:pt x="39" y="56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6659640" y="2562120"/>
              <a:ext cx="69840" cy="801720"/>
            </a:xfrm>
            <a:custGeom>
              <a:avLst/>
              <a:gdLst/>
              <a:ahLst/>
              <a:rect l="l" t="t" r="r" b="b"/>
              <a:pathLst>
                <a:path w="44" h="505">
                  <a:moveTo>
                    <a:pt x="0" y="505"/>
                  </a:moveTo>
                  <a:lnTo>
                    <a:pt x="3" y="477"/>
                  </a:lnTo>
                  <a:lnTo>
                    <a:pt x="6" y="448"/>
                  </a:lnTo>
                  <a:lnTo>
                    <a:pt x="8" y="417"/>
                  </a:lnTo>
                  <a:lnTo>
                    <a:pt x="11" y="386"/>
                  </a:lnTo>
                  <a:lnTo>
                    <a:pt x="17" y="322"/>
                  </a:lnTo>
                  <a:lnTo>
                    <a:pt x="22" y="255"/>
                  </a:lnTo>
                  <a:lnTo>
                    <a:pt x="27" y="190"/>
                  </a:lnTo>
                  <a:lnTo>
                    <a:pt x="33" y="124"/>
                  </a:lnTo>
                  <a:lnTo>
                    <a:pt x="36" y="91"/>
                  </a:lnTo>
                  <a:lnTo>
                    <a:pt x="38" y="60"/>
                  </a:lnTo>
                  <a:lnTo>
                    <a:pt x="41" y="3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6729480" y="1873080"/>
              <a:ext cx="73080" cy="689040"/>
            </a:xfrm>
            <a:custGeom>
              <a:avLst/>
              <a:gdLst/>
              <a:ahLst/>
              <a:rect l="l" t="t" r="r" b="b"/>
              <a:pathLst>
                <a:path w="46" h="434">
                  <a:moveTo>
                    <a:pt x="0" y="434"/>
                  </a:moveTo>
                  <a:lnTo>
                    <a:pt x="1" y="419"/>
                  </a:lnTo>
                  <a:lnTo>
                    <a:pt x="3" y="403"/>
                  </a:lnTo>
                  <a:lnTo>
                    <a:pt x="4" y="387"/>
                  </a:lnTo>
                  <a:lnTo>
                    <a:pt x="6" y="369"/>
                  </a:lnTo>
                  <a:lnTo>
                    <a:pt x="8" y="331"/>
                  </a:lnTo>
                  <a:lnTo>
                    <a:pt x="11" y="293"/>
                  </a:lnTo>
                  <a:lnTo>
                    <a:pt x="14" y="253"/>
                  </a:lnTo>
                  <a:lnTo>
                    <a:pt x="17" y="214"/>
                  </a:lnTo>
                  <a:lnTo>
                    <a:pt x="20" y="174"/>
                  </a:lnTo>
                  <a:lnTo>
                    <a:pt x="22" y="138"/>
                  </a:lnTo>
                  <a:lnTo>
                    <a:pt x="24" y="120"/>
                  </a:lnTo>
                  <a:lnTo>
                    <a:pt x="25" y="104"/>
                  </a:lnTo>
                  <a:lnTo>
                    <a:pt x="27" y="87"/>
                  </a:lnTo>
                  <a:lnTo>
                    <a:pt x="28" y="72"/>
                  </a:lnTo>
                  <a:lnTo>
                    <a:pt x="30" y="59"/>
                  </a:lnTo>
                  <a:lnTo>
                    <a:pt x="31" y="46"/>
                  </a:lnTo>
                  <a:lnTo>
                    <a:pt x="32" y="35"/>
                  </a:lnTo>
                  <a:lnTo>
                    <a:pt x="34" y="25"/>
                  </a:lnTo>
                  <a:lnTo>
                    <a:pt x="35" y="17"/>
                  </a:lnTo>
                  <a:lnTo>
                    <a:pt x="37" y="9"/>
                  </a:lnTo>
                  <a:lnTo>
                    <a:pt x="38" y="4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5"/>
                  </a:lnTo>
                  <a:lnTo>
                    <a:pt x="4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802560" y="1889280"/>
              <a:ext cx="69840" cy="1353960"/>
            </a:xfrm>
            <a:custGeom>
              <a:avLst/>
              <a:gdLst/>
              <a:ahLst/>
              <a:rect l="l" t="t" r="r" b="b"/>
              <a:pathLst>
                <a:path w="44" h="853">
                  <a:moveTo>
                    <a:pt x="0" y="0"/>
                  </a:moveTo>
                  <a:lnTo>
                    <a:pt x="1" y="9"/>
                  </a:lnTo>
                  <a:lnTo>
                    <a:pt x="3" y="20"/>
                  </a:lnTo>
                  <a:lnTo>
                    <a:pt x="4" y="33"/>
                  </a:lnTo>
                  <a:lnTo>
                    <a:pt x="6" y="49"/>
                  </a:lnTo>
                  <a:lnTo>
                    <a:pt x="7" y="67"/>
                  </a:lnTo>
                  <a:lnTo>
                    <a:pt x="8" y="87"/>
                  </a:lnTo>
                  <a:lnTo>
                    <a:pt x="10" y="110"/>
                  </a:lnTo>
                  <a:lnTo>
                    <a:pt x="11" y="134"/>
                  </a:lnTo>
                  <a:lnTo>
                    <a:pt x="12" y="160"/>
                  </a:lnTo>
                  <a:lnTo>
                    <a:pt x="14" y="188"/>
                  </a:lnTo>
                  <a:lnTo>
                    <a:pt x="15" y="216"/>
                  </a:lnTo>
                  <a:lnTo>
                    <a:pt x="17" y="245"/>
                  </a:lnTo>
                  <a:lnTo>
                    <a:pt x="18" y="277"/>
                  </a:lnTo>
                  <a:lnTo>
                    <a:pt x="19" y="308"/>
                  </a:lnTo>
                  <a:lnTo>
                    <a:pt x="22" y="374"/>
                  </a:lnTo>
                  <a:lnTo>
                    <a:pt x="25" y="442"/>
                  </a:lnTo>
                  <a:lnTo>
                    <a:pt x="27" y="509"/>
                  </a:lnTo>
                  <a:lnTo>
                    <a:pt x="30" y="576"/>
                  </a:lnTo>
                  <a:lnTo>
                    <a:pt x="32" y="609"/>
                  </a:lnTo>
                  <a:lnTo>
                    <a:pt x="33" y="641"/>
                  </a:lnTo>
                  <a:lnTo>
                    <a:pt x="34" y="671"/>
                  </a:lnTo>
                  <a:lnTo>
                    <a:pt x="36" y="702"/>
                  </a:lnTo>
                  <a:lnTo>
                    <a:pt x="37" y="731"/>
                  </a:lnTo>
                  <a:lnTo>
                    <a:pt x="38" y="758"/>
                  </a:lnTo>
                  <a:lnTo>
                    <a:pt x="40" y="785"/>
                  </a:lnTo>
                  <a:lnTo>
                    <a:pt x="41" y="810"/>
                  </a:lnTo>
                  <a:lnTo>
                    <a:pt x="43" y="832"/>
                  </a:lnTo>
                  <a:lnTo>
                    <a:pt x="44" y="8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872400" y="3243240"/>
              <a:ext cx="73080" cy="668520"/>
            </a:xfrm>
            <a:custGeom>
              <a:avLst/>
              <a:gdLst/>
              <a:ahLst/>
              <a:rect l="l" t="t" r="r" b="b"/>
              <a:pathLst>
                <a:path w="46" h="421">
                  <a:moveTo>
                    <a:pt x="0" y="0"/>
                  </a:moveTo>
                  <a:lnTo>
                    <a:pt x="3" y="39"/>
                  </a:lnTo>
                  <a:lnTo>
                    <a:pt x="6" y="75"/>
                  </a:lnTo>
                  <a:lnTo>
                    <a:pt x="8" y="111"/>
                  </a:lnTo>
                  <a:lnTo>
                    <a:pt x="11" y="143"/>
                  </a:lnTo>
                  <a:lnTo>
                    <a:pt x="14" y="174"/>
                  </a:lnTo>
                  <a:lnTo>
                    <a:pt x="17" y="205"/>
                  </a:lnTo>
                  <a:lnTo>
                    <a:pt x="20" y="232"/>
                  </a:lnTo>
                  <a:lnTo>
                    <a:pt x="22" y="258"/>
                  </a:lnTo>
                  <a:lnTo>
                    <a:pt x="25" y="284"/>
                  </a:lnTo>
                  <a:lnTo>
                    <a:pt x="28" y="307"/>
                  </a:lnTo>
                  <a:lnTo>
                    <a:pt x="31" y="329"/>
                  </a:lnTo>
                  <a:lnTo>
                    <a:pt x="35" y="350"/>
                  </a:lnTo>
                  <a:lnTo>
                    <a:pt x="38" y="370"/>
                  </a:lnTo>
                  <a:lnTo>
                    <a:pt x="40" y="388"/>
                  </a:lnTo>
                  <a:lnTo>
                    <a:pt x="43" y="405"/>
                  </a:lnTo>
                  <a:lnTo>
                    <a:pt x="46" y="4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6945480" y="3911760"/>
              <a:ext cx="69840" cy="14436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5"/>
                  </a:lnTo>
                  <a:lnTo>
                    <a:pt x="19" y="63"/>
                  </a:lnTo>
                  <a:lnTo>
                    <a:pt x="22" y="71"/>
                  </a:lnTo>
                  <a:lnTo>
                    <a:pt x="25" y="77"/>
                  </a:lnTo>
                  <a:lnTo>
                    <a:pt x="29" y="83"/>
                  </a:lnTo>
                  <a:lnTo>
                    <a:pt x="32" y="87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0" y="90"/>
                  </a:lnTo>
                  <a:lnTo>
                    <a:pt x="42" y="88"/>
                  </a:lnTo>
                  <a:lnTo>
                    <a:pt x="4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015320" y="3363840"/>
              <a:ext cx="72720" cy="679680"/>
            </a:xfrm>
            <a:custGeom>
              <a:avLst/>
              <a:gdLst/>
              <a:ahLst/>
              <a:rect l="l" t="t" r="r" b="b"/>
              <a:pathLst>
                <a:path w="46" h="428">
                  <a:moveTo>
                    <a:pt x="0" y="428"/>
                  </a:moveTo>
                  <a:lnTo>
                    <a:pt x="1" y="422"/>
                  </a:lnTo>
                  <a:lnTo>
                    <a:pt x="3" y="416"/>
                  </a:lnTo>
                  <a:lnTo>
                    <a:pt x="4" y="408"/>
                  </a:lnTo>
                  <a:lnTo>
                    <a:pt x="6" y="400"/>
                  </a:lnTo>
                  <a:lnTo>
                    <a:pt x="8" y="381"/>
                  </a:lnTo>
                  <a:lnTo>
                    <a:pt x="11" y="359"/>
                  </a:lnTo>
                  <a:lnTo>
                    <a:pt x="14" y="336"/>
                  </a:lnTo>
                  <a:lnTo>
                    <a:pt x="17" y="310"/>
                  </a:lnTo>
                  <a:lnTo>
                    <a:pt x="20" y="282"/>
                  </a:lnTo>
                  <a:lnTo>
                    <a:pt x="22" y="252"/>
                  </a:lnTo>
                  <a:lnTo>
                    <a:pt x="25" y="222"/>
                  </a:lnTo>
                  <a:lnTo>
                    <a:pt x="29" y="191"/>
                  </a:lnTo>
                  <a:lnTo>
                    <a:pt x="35" y="127"/>
                  </a:lnTo>
                  <a:lnTo>
                    <a:pt x="40" y="62"/>
                  </a:lnTo>
                  <a:lnTo>
                    <a:pt x="43" y="3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088040" y="2519280"/>
              <a:ext cx="69840" cy="844560"/>
            </a:xfrm>
            <a:custGeom>
              <a:avLst/>
              <a:gdLst/>
              <a:ahLst/>
              <a:rect l="l" t="t" r="r" b="b"/>
              <a:pathLst>
                <a:path w="44" h="532">
                  <a:moveTo>
                    <a:pt x="0" y="532"/>
                  </a:moveTo>
                  <a:lnTo>
                    <a:pt x="3" y="502"/>
                  </a:lnTo>
                  <a:lnTo>
                    <a:pt x="6" y="470"/>
                  </a:lnTo>
                  <a:lnTo>
                    <a:pt x="8" y="437"/>
                  </a:lnTo>
                  <a:lnTo>
                    <a:pt x="11" y="404"/>
                  </a:lnTo>
                  <a:lnTo>
                    <a:pt x="17" y="335"/>
                  </a:lnTo>
                  <a:lnTo>
                    <a:pt x="22" y="265"/>
                  </a:lnTo>
                  <a:lnTo>
                    <a:pt x="27" y="195"/>
                  </a:lnTo>
                  <a:lnTo>
                    <a:pt x="33" y="127"/>
                  </a:lnTo>
                  <a:lnTo>
                    <a:pt x="36" y="94"/>
                  </a:lnTo>
                  <a:lnTo>
                    <a:pt x="38" y="62"/>
                  </a:lnTo>
                  <a:lnTo>
                    <a:pt x="41" y="3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157880" y="1857240"/>
              <a:ext cx="73080" cy="662040"/>
            </a:xfrm>
            <a:custGeom>
              <a:avLst/>
              <a:gdLst/>
              <a:ahLst/>
              <a:rect l="l" t="t" r="r" b="b"/>
              <a:pathLst>
                <a:path w="46" h="417">
                  <a:moveTo>
                    <a:pt x="0" y="417"/>
                  </a:moveTo>
                  <a:lnTo>
                    <a:pt x="1" y="402"/>
                  </a:lnTo>
                  <a:lnTo>
                    <a:pt x="3" y="386"/>
                  </a:lnTo>
                  <a:lnTo>
                    <a:pt x="6" y="352"/>
                  </a:lnTo>
                  <a:lnTo>
                    <a:pt x="8" y="316"/>
                  </a:lnTo>
                  <a:lnTo>
                    <a:pt x="11" y="278"/>
                  </a:lnTo>
                  <a:lnTo>
                    <a:pt x="14" y="240"/>
                  </a:lnTo>
                  <a:lnTo>
                    <a:pt x="17" y="203"/>
                  </a:lnTo>
                  <a:lnTo>
                    <a:pt x="20" y="165"/>
                  </a:lnTo>
                  <a:lnTo>
                    <a:pt x="22" y="131"/>
                  </a:lnTo>
                  <a:lnTo>
                    <a:pt x="25" y="114"/>
                  </a:lnTo>
                  <a:lnTo>
                    <a:pt x="26" y="98"/>
                  </a:lnTo>
                  <a:lnTo>
                    <a:pt x="28" y="83"/>
                  </a:lnTo>
                  <a:lnTo>
                    <a:pt x="29" y="69"/>
                  </a:lnTo>
                  <a:lnTo>
                    <a:pt x="31" y="56"/>
                  </a:lnTo>
                  <a:lnTo>
                    <a:pt x="32" y="44"/>
                  </a:lnTo>
                  <a:lnTo>
                    <a:pt x="33" y="34"/>
                  </a:lnTo>
                  <a:lnTo>
                    <a:pt x="35" y="23"/>
                  </a:lnTo>
                  <a:lnTo>
                    <a:pt x="36" y="15"/>
                  </a:lnTo>
                  <a:lnTo>
                    <a:pt x="38" y="9"/>
                  </a:lnTo>
                  <a:lnTo>
                    <a:pt x="39" y="4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3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30960" y="1870200"/>
              <a:ext cx="69840" cy="1242720"/>
            </a:xfrm>
            <a:custGeom>
              <a:avLst/>
              <a:gdLst/>
              <a:ahLst/>
              <a:rect l="l" t="t" r="r" b="b"/>
              <a:pathLst>
                <a:path w="44" h="783">
                  <a:moveTo>
                    <a:pt x="0" y="0"/>
                  </a:moveTo>
                  <a:lnTo>
                    <a:pt x="1" y="7"/>
                  </a:lnTo>
                  <a:lnTo>
                    <a:pt x="3" y="18"/>
                  </a:lnTo>
                  <a:lnTo>
                    <a:pt x="4" y="30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0" y="99"/>
                  </a:lnTo>
                  <a:lnTo>
                    <a:pt x="11" y="122"/>
                  </a:lnTo>
                  <a:lnTo>
                    <a:pt x="12" y="146"/>
                  </a:lnTo>
                  <a:lnTo>
                    <a:pt x="14" y="171"/>
                  </a:lnTo>
                  <a:lnTo>
                    <a:pt x="15" y="198"/>
                  </a:lnTo>
                  <a:lnTo>
                    <a:pt x="17" y="225"/>
                  </a:lnTo>
                  <a:lnTo>
                    <a:pt x="18" y="253"/>
                  </a:lnTo>
                  <a:lnTo>
                    <a:pt x="19" y="283"/>
                  </a:lnTo>
                  <a:lnTo>
                    <a:pt x="22" y="343"/>
                  </a:lnTo>
                  <a:lnTo>
                    <a:pt x="25" y="405"/>
                  </a:lnTo>
                  <a:lnTo>
                    <a:pt x="27" y="468"/>
                  </a:lnTo>
                  <a:lnTo>
                    <a:pt x="30" y="529"/>
                  </a:lnTo>
                  <a:lnTo>
                    <a:pt x="32" y="560"/>
                  </a:lnTo>
                  <a:lnTo>
                    <a:pt x="33" y="589"/>
                  </a:lnTo>
                  <a:lnTo>
                    <a:pt x="34" y="618"/>
                  </a:lnTo>
                  <a:lnTo>
                    <a:pt x="36" y="645"/>
                  </a:lnTo>
                  <a:lnTo>
                    <a:pt x="37" y="672"/>
                  </a:lnTo>
                  <a:lnTo>
                    <a:pt x="38" y="697"/>
                  </a:lnTo>
                  <a:lnTo>
                    <a:pt x="40" y="722"/>
                  </a:lnTo>
                  <a:lnTo>
                    <a:pt x="41" y="744"/>
                  </a:lnTo>
                  <a:lnTo>
                    <a:pt x="43" y="764"/>
                  </a:lnTo>
                  <a:lnTo>
                    <a:pt x="44" y="7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00800" y="3112920"/>
              <a:ext cx="73080" cy="584280"/>
            </a:xfrm>
            <a:custGeom>
              <a:avLst/>
              <a:gdLst/>
              <a:ahLst/>
              <a:rect l="l" t="t" r="r" b="b"/>
              <a:pathLst>
                <a:path w="46" h="368">
                  <a:moveTo>
                    <a:pt x="0" y="0"/>
                  </a:moveTo>
                  <a:lnTo>
                    <a:pt x="3" y="34"/>
                  </a:lnTo>
                  <a:lnTo>
                    <a:pt x="5" y="66"/>
                  </a:lnTo>
                  <a:lnTo>
                    <a:pt x="8" y="98"/>
                  </a:lnTo>
                  <a:lnTo>
                    <a:pt x="11" y="127"/>
                  </a:lnTo>
                  <a:lnTo>
                    <a:pt x="14" y="155"/>
                  </a:lnTo>
                  <a:lnTo>
                    <a:pt x="18" y="182"/>
                  </a:lnTo>
                  <a:lnTo>
                    <a:pt x="21" y="206"/>
                  </a:lnTo>
                  <a:lnTo>
                    <a:pt x="23" y="230"/>
                  </a:lnTo>
                  <a:lnTo>
                    <a:pt x="26" y="252"/>
                  </a:lnTo>
                  <a:lnTo>
                    <a:pt x="29" y="273"/>
                  </a:lnTo>
                  <a:lnTo>
                    <a:pt x="32" y="292"/>
                  </a:lnTo>
                  <a:lnTo>
                    <a:pt x="35" y="310"/>
                  </a:lnTo>
                  <a:lnTo>
                    <a:pt x="38" y="326"/>
                  </a:lnTo>
                  <a:lnTo>
                    <a:pt x="41" y="341"/>
                  </a:lnTo>
                  <a:lnTo>
                    <a:pt x="43" y="356"/>
                  </a:lnTo>
                  <a:lnTo>
                    <a:pt x="46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373880" y="369720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0"/>
                  </a:moveTo>
                  <a:lnTo>
                    <a:pt x="3" y="9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2" y="27"/>
                  </a:lnTo>
                  <a:lnTo>
                    <a:pt x="29" y="30"/>
                  </a:lnTo>
                  <a:lnTo>
                    <a:pt x="36" y="30"/>
                  </a:lnTo>
                  <a:lnTo>
                    <a:pt x="41" y="28"/>
                  </a:lnTo>
                  <a:lnTo>
                    <a:pt x="43" y="26"/>
                  </a:lnTo>
                  <a:lnTo>
                    <a:pt x="44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43720" y="3238560"/>
              <a:ext cx="71640" cy="495360"/>
            </a:xfrm>
            <a:custGeom>
              <a:avLst/>
              <a:gdLst/>
              <a:ahLst/>
              <a:rect l="l" t="t" r="r" b="b"/>
              <a:pathLst>
                <a:path w="45" h="312">
                  <a:moveTo>
                    <a:pt x="0" y="312"/>
                  </a:moveTo>
                  <a:lnTo>
                    <a:pt x="3" y="302"/>
                  </a:lnTo>
                  <a:lnTo>
                    <a:pt x="5" y="290"/>
                  </a:lnTo>
                  <a:lnTo>
                    <a:pt x="8" y="277"/>
                  </a:lnTo>
                  <a:lnTo>
                    <a:pt x="11" y="261"/>
                  </a:lnTo>
                  <a:lnTo>
                    <a:pt x="15" y="244"/>
                  </a:lnTo>
                  <a:lnTo>
                    <a:pt x="17" y="226"/>
                  </a:lnTo>
                  <a:lnTo>
                    <a:pt x="20" y="207"/>
                  </a:lnTo>
                  <a:lnTo>
                    <a:pt x="23" y="187"/>
                  </a:lnTo>
                  <a:lnTo>
                    <a:pt x="26" y="165"/>
                  </a:lnTo>
                  <a:lnTo>
                    <a:pt x="28" y="143"/>
                  </a:lnTo>
                  <a:lnTo>
                    <a:pt x="34" y="96"/>
                  </a:lnTo>
                  <a:lnTo>
                    <a:pt x="39" y="49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515360" y="2505240"/>
              <a:ext cx="71280" cy="733320"/>
            </a:xfrm>
            <a:custGeom>
              <a:avLst/>
              <a:gdLst/>
              <a:ahLst/>
              <a:rect l="l" t="t" r="r" b="b"/>
              <a:pathLst>
                <a:path w="45" h="462">
                  <a:moveTo>
                    <a:pt x="0" y="462"/>
                  </a:moveTo>
                  <a:lnTo>
                    <a:pt x="3" y="437"/>
                  </a:lnTo>
                  <a:lnTo>
                    <a:pt x="6" y="412"/>
                  </a:lnTo>
                  <a:lnTo>
                    <a:pt x="8" y="384"/>
                  </a:lnTo>
                  <a:lnTo>
                    <a:pt x="11" y="356"/>
                  </a:lnTo>
                  <a:lnTo>
                    <a:pt x="14" y="327"/>
                  </a:lnTo>
                  <a:lnTo>
                    <a:pt x="17" y="297"/>
                  </a:lnTo>
                  <a:lnTo>
                    <a:pt x="22" y="237"/>
                  </a:lnTo>
                  <a:lnTo>
                    <a:pt x="28" y="176"/>
                  </a:lnTo>
                  <a:lnTo>
                    <a:pt x="34" y="115"/>
                  </a:lnTo>
                  <a:lnTo>
                    <a:pt x="39" y="56"/>
                  </a:lnTo>
                  <a:lnTo>
                    <a:pt x="42" y="2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586640" y="1844640"/>
              <a:ext cx="71640" cy="660600"/>
            </a:xfrm>
            <a:custGeom>
              <a:avLst/>
              <a:gdLst/>
              <a:ahLst/>
              <a:rect l="l" t="t" r="r" b="b"/>
              <a:pathLst>
                <a:path w="45" h="416">
                  <a:moveTo>
                    <a:pt x="0" y="416"/>
                  </a:moveTo>
                  <a:lnTo>
                    <a:pt x="1" y="402"/>
                  </a:lnTo>
                  <a:lnTo>
                    <a:pt x="3" y="387"/>
                  </a:lnTo>
                  <a:lnTo>
                    <a:pt x="4" y="370"/>
                  </a:lnTo>
                  <a:lnTo>
                    <a:pt x="6" y="354"/>
                  </a:lnTo>
                  <a:lnTo>
                    <a:pt x="9" y="319"/>
                  </a:lnTo>
                  <a:lnTo>
                    <a:pt x="12" y="281"/>
                  </a:lnTo>
                  <a:lnTo>
                    <a:pt x="15" y="244"/>
                  </a:lnTo>
                  <a:lnTo>
                    <a:pt x="18" y="206"/>
                  </a:lnTo>
                  <a:lnTo>
                    <a:pt x="20" y="168"/>
                  </a:lnTo>
                  <a:lnTo>
                    <a:pt x="23" y="133"/>
                  </a:lnTo>
                  <a:lnTo>
                    <a:pt x="24" y="115"/>
                  </a:lnTo>
                  <a:lnTo>
                    <a:pt x="26" y="99"/>
                  </a:lnTo>
                  <a:lnTo>
                    <a:pt x="27" y="84"/>
                  </a:lnTo>
                  <a:lnTo>
                    <a:pt x="28" y="70"/>
                  </a:lnTo>
                  <a:lnTo>
                    <a:pt x="30" y="57"/>
                  </a:lnTo>
                  <a:lnTo>
                    <a:pt x="31" y="45"/>
                  </a:lnTo>
                  <a:lnTo>
                    <a:pt x="33" y="34"/>
                  </a:lnTo>
                  <a:lnTo>
                    <a:pt x="34" y="23"/>
                  </a:lnTo>
                  <a:lnTo>
                    <a:pt x="35" y="15"/>
                  </a:lnTo>
                  <a:lnTo>
                    <a:pt x="37" y="9"/>
                  </a:lnTo>
                  <a:lnTo>
                    <a:pt x="38" y="4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4" y="4"/>
                  </a:lnTo>
                  <a:lnTo>
                    <a:pt x="45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658280" y="1859040"/>
              <a:ext cx="71280" cy="1293840"/>
            </a:xfrm>
            <a:custGeom>
              <a:avLst/>
              <a:gdLst/>
              <a:ahLst/>
              <a:rect l="l" t="t" r="r" b="b"/>
              <a:pathLst>
                <a:path w="45" h="815">
                  <a:moveTo>
                    <a:pt x="0" y="0"/>
                  </a:moveTo>
                  <a:lnTo>
                    <a:pt x="1" y="8"/>
                  </a:lnTo>
                  <a:lnTo>
                    <a:pt x="3" y="18"/>
                  </a:lnTo>
                  <a:lnTo>
                    <a:pt x="4" y="32"/>
                  </a:lnTo>
                  <a:lnTo>
                    <a:pt x="6" y="47"/>
                  </a:lnTo>
                  <a:lnTo>
                    <a:pt x="7" y="64"/>
                  </a:lnTo>
                  <a:lnTo>
                    <a:pt x="8" y="83"/>
                  </a:lnTo>
                  <a:lnTo>
                    <a:pt x="10" y="104"/>
                  </a:lnTo>
                  <a:lnTo>
                    <a:pt x="11" y="128"/>
                  </a:lnTo>
                  <a:lnTo>
                    <a:pt x="13" y="153"/>
                  </a:lnTo>
                  <a:lnTo>
                    <a:pt x="14" y="179"/>
                  </a:lnTo>
                  <a:lnTo>
                    <a:pt x="15" y="207"/>
                  </a:lnTo>
                  <a:lnTo>
                    <a:pt x="17" y="235"/>
                  </a:lnTo>
                  <a:lnTo>
                    <a:pt x="18" y="264"/>
                  </a:lnTo>
                  <a:lnTo>
                    <a:pt x="20" y="295"/>
                  </a:lnTo>
                  <a:lnTo>
                    <a:pt x="22" y="358"/>
                  </a:lnTo>
                  <a:lnTo>
                    <a:pt x="25" y="422"/>
                  </a:lnTo>
                  <a:lnTo>
                    <a:pt x="28" y="487"/>
                  </a:lnTo>
                  <a:lnTo>
                    <a:pt x="31" y="551"/>
                  </a:lnTo>
                  <a:lnTo>
                    <a:pt x="32" y="582"/>
                  </a:lnTo>
                  <a:lnTo>
                    <a:pt x="34" y="612"/>
                  </a:lnTo>
                  <a:lnTo>
                    <a:pt x="35" y="643"/>
                  </a:lnTo>
                  <a:lnTo>
                    <a:pt x="37" y="671"/>
                  </a:lnTo>
                  <a:lnTo>
                    <a:pt x="38" y="698"/>
                  </a:lnTo>
                  <a:lnTo>
                    <a:pt x="39" y="725"/>
                  </a:lnTo>
                  <a:lnTo>
                    <a:pt x="41" y="750"/>
                  </a:lnTo>
                  <a:lnTo>
                    <a:pt x="42" y="773"/>
                  </a:lnTo>
                  <a:lnTo>
                    <a:pt x="44" y="794"/>
                  </a:lnTo>
                  <a:lnTo>
                    <a:pt x="45" y="8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729560" y="3152880"/>
              <a:ext cx="71280" cy="610920"/>
            </a:xfrm>
            <a:custGeom>
              <a:avLst/>
              <a:gdLst/>
              <a:ahLst/>
              <a:rect l="l" t="t" r="r" b="b"/>
              <a:pathLst>
                <a:path w="45" h="385">
                  <a:moveTo>
                    <a:pt x="0" y="0"/>
                  </a:moveTo>
                  <a:lnTo>
                    <a:pt x="4" y="35"/>
                  </a:lnTo>
                  <a:lnTo>
                    <a:pt x="6" y="69"/>
                  </a:lnTo>
                  <a:lnTo>
                    <a:pt x="9" y="101"/>
                  </a:lnTo>
                  <a:lnTo>
                    <a:pt x="12" y="131"/>
                  </a:lnTo>
                  <a:lnTo>
                    <a:pt x="15" y="161"/>
                  </a:lnTo>
                  <a:lnTo>
                    <a:pt x="17" y="188"/>
                  </a:lnTo>
                  <a:lnTo>
                    <a:pt x="20" y="213"/>
                  </a:lnTo>
                  <a:lnTo>
                    <a:pt x="23" y="238"/>
                  </a:lnTo>
                  <a:lnTo>
                    <a:pt x="26" y="261"/>
                  </a:lnTo>
                  <a:lnTo>
                    <a:pt x="29" y="282"/>
                  </a:lnTo>
                  <a:lnTo>
                    <a:pt x="31" y="302"/>
                  </a:lnTo>
                  <a:lnTo>
                    <a:pt x="34" y="321"/>
                  </a:lnTo>
                  <a:lnTo>
                    <a:pt x="37" y="340"/>
                  </a:lnTo>
                  <a:lnTo>
                    <a:pt x="40" y="356"/>
                  </a:lnTo>
                  <a:lnTo>
                    <a:pt x="42" y="371"/>
                  </a:lnTo>
                  <a:lnTo>
                    <a:pt x="45" y="3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800840" y="3763800"/>
              <a:ext cx="73080" cy="11448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0" y="0"/>
                  </a:moveTo>
                  <a:lnTo>
                    <a:pt x="4" y="15"/>
                  </a:lnTo>
                  <a:lnTo>
                    <a:pt x="9" y="31"/>
                  </a:lnTo>
                  <a:lnTo>
                    <a:pt x="16" y="45"/>
                  </a:lnTo>
                  <a:lnTo>
                    <a:pt x="22" y="57"/>
                  </a:lnTo>
                  <a:lnTo>
                    <a:pt x="26" y="62"/>
                  </a:lnTo>
                  <a:lnTo>
                    <a:pt x="29" y="66"/>
                  </a:lnTo>
                  <a:lnTo>
                    <a:pt x="33" y="69"/>
                  </a:lnTo>
                  <a:lnTo>
                    <a:pt x="36" y="71"/>
                  </a:lnTo>
                  <a:lnTo>
                    <a:pt x="39" y="72"/>
                  </a:lnTo>
                  <a:lnTo>
                    <a:pt x="42" y="71"/>
                  </a:lnTo>
                  <a:lnTo>
                    <a:pt x="44" y="69"/>
                  </a:lnTo>
                  <a:lnTo>
                    <a:pt x="4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873920" y="3340080"/>
              <a:ext cx="69840" cy="52848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0" y="333"/>
                  </a:moveTo>
                  <a:lnTo>
                    <a:pt x="3" y="324"/>
                  </a:lnTo>
                  <a:lnTo>
                    <a:pt x="6" y="312"/>
                  </a:lnTo>
                  <a:lnTo>
                    <a:pt x="8" y="298"/>
                  </a:lnTo>
                  <a:lnTo>
                    <a:pt x="11" y="281"/>
                  </a:lnTo>
                  <a:lnTo>
                    <a:pt x="14" y="263"/>
                  </a:lnTo>
                  <a:lnTo>
                    <a:pt x="17" y="244"/>
                  </a:lnTo>
                  <a:lnTo>
                    <a:pt x="19" y="223"/>
                  </a:lnTo>
                  <a:lnTo>
                    <a:pt x="22" y="200"/>
                  </a:lnTo>
                  <a:lnTo>
                    <a:pt x="25" y="177"/>
                  </a:lnTo>
                  <a:lnTo>
                    <a:pt x="27" y="153"/>
                  </a:lnTo>
                  <a:lnTo>
                    <a:pt x="33" y="103"/>
                  </a:lnTo>
                  <a:lnTo>
                    <a:pt x="38" y="5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943760" y="2579760"/>
              <a:ext cx="73080" cy="760320"/>
            </a:xfrm>
            <a:custGeom>
              <a:avLst/>
              <a:gdLst/>
              <a:ahLst/>
              <a:rect l="l" t="t" r="r" b="b"/>
              <a:pathLst>
                <a:path w="46" h="479">
                  <a:moveTo>
                    <a:pt x="0" y="479"/>
                  </a:moveTo>
                  <a:lnTo>
                    <a:pt x="3" y="453"/>
                  </a:lnTo>
                  <a:lnTo>
                    <a:pt x="6" y="427"/>
                  </a:lnTo>
                  <a:lnTo>
                    <a:pt x="8" y="398"/>
                  </a:lnTo>
                  <a:lnTo>
                    <a:pt x="11" y="369"/>
                  </a:lnTo>
                  <a:lnTo>
                    <a:pt x="17" y="309"/>
                  </a:lnTo>
                  <a:lnTo>
                    <a:pt x="22" y="247"/>
                  </a:lnTo>
                  <a:lnTo>
                    <a:pt x="28" y="185"/>
                  </a:lnTo>
                  <a:lnTo>
                    <a:pt x="34" y="122"/>
                  </a:lnTo>
                  <a:lnTo>
                    <a:pt x="40" y="6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8016840" y="1836720"/>
              <a:ext cx="69840" cy="743040"/>
            </a:xfrm>
            <a:custGeom>
              <a:avLst/>
              <a:gdLst/>
              <a:ahLst/>
              <a:rect l="l" t="t" r="r" b="b"/>
              <a:pathLst>
                <a:path w="44" h="468">
                  <a:moveTo>
                    <a:pt x="0" y="468"/>
                  </a:moveTo>
                  <a:lnTo>
                    <a:pt x="11" y="350"/>
                  </a:lnTo>
                  <a:lnTo>
                    <a:pt x="22" y="23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81400" y="55008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81400" y="43257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81400" y="31543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81400" y="19796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81400" y="8049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93348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66688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4528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623736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972200" y="57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69152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 rot="16200000">
              <a:off x="-409320" y="3076920"/>
              <a:ext cx="1491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ropping rat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0" y="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USE OF CRASH IN PERMANENT AGRICULT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IS A RIGID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5" name=""/>
            <p:cNvGrpSpPr/>
            <p:nvPr/>
          </p:nvGrpSpPr>
          <p:grpSpPr>
            <a:xfrm>
              <a:off x="1219320" y="1003320"/>
              <a:ext cx="6552720" cy="418680"/>
              <a:chOff x="1219320" y="1003320"/>
              <a:chExt cx="6552720" cy="418680"/>
            </a:xfrm>
          </p:grpSpPr>
          <p:sp>
            <p:nvSpPr>
              <p:cNvPr id="4806" name=""/>
              <p:cNvSpPr/>
              <p:nvPr/>
            </p:nvSpPr>
            <p:spPr>
              <a:xfrm>
                <a:off x="1219320" y="1003320"/>
                <a:ext cx="6552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1289160" y="1202760"/>
                <a:ext cx="294480" cy="2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1636560" y="1048320"/>
                <a:ext cx="1116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man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864520" y="1202760"/>
                <a:ext cx="295200" cy="2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3212640" y="1048320"/>
                <a:ext cx="220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gglomerated shif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5532840" y="1202760"/>
                <a:ext cx="294480" cy="2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5881680" y="1048320"/>
                <a:ext cx="181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persed shif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3" name=""/>
          <p:cNvGrpSpPr/>
          <p:nvPr/>
        </p:nvGrpSpPr>
        <p:grpSpPr>
          <a:xfrm>
            <a:off x="0" y="0"/>
            <a:ext cx="9144000" cy="6346080"/>
            <a:chOff x="0" y="0"/>
            <a:chExt cx="9144000" cy="6346080"/>
          </a:xfrm>
        </p:grpSpPr>
        <p:grpSp>
          <p:nvGrpSpPr>
            <p:cNvPr id="4814" name=""/>
            <p:cNvGrpSpPr/>
            <p:nvPr/>
          </p:nvGrpSpPr>
          <p:grpSpPr>
            <a:xfrm>
              <a:off x="938160" y="919080"/>
              <a:ext cx="7863120" cy="4752720"/>
              <a:chOff x="938160" y="919080"/>
              <a:chExt cx="7863120" cy="4752720"/>
            </a:xfrm>
          </p:grpSpPr>
          <p:sp>
            <p:nvSpPr>
              <p:cNvPr id="4815" name=""/>
              <p:cNvSpPr/>
              <p:nvPr/>
            </p:nvSpPr>
            <p:spPr>
              <a:xfrm>
                <a:off x="995400" y="919080"/>
                <a:ext cx="7805880" cy="4695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995400" y="919080"/>
                <a:ext cx="7805880" cy="4695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995400" y="919080"/>
                <a:ext cx="1440" cy="469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938160" y="56149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938160" y="522288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938160" y="483228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938160" y="44402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938160" y="404964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938160" y="36576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938160" y="32688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938160" y="28764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938160" y="24843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938160" y="20937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938160" y="17017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938160" y="13111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938160" y="91908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995400" y="5614920"/>
                <a:ext cx="7805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V="1">
                <a:off x="99540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V="1">
                <a:off x="277020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V="1">
                <a:off x="454500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V="1">
                <a:off x="6318360" y="5614560"/>
                <a:ext cx="144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 flipV="1">
                <a:off x="8091360" y="5614560"/>
                <a:ext cx="18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1066680" y="1611360"/>
                <a:ext cx="69840" cy="1270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0" y="80"/>
                    </a:moveTo>
                    <a:lnTo>
                      <a:pt x="5" y="69"/>
                    </a:lnTo>
                    <a:lnTo>
                      <a:pt x="11" y="58"/>
                    </a:lnTo>
                    <a:lnTo>
                      <a:pt x="16" y="45"/>
                    </a:lnTo>
                    <a:lnTo>
                      <a:pt x="22" y="33"/>
                    </a:lnTo>
                    <a:lnTo>
                      <a:pt x="27" y="22"/>
                    </a:lnTo>
                    <a:lnTo>
                      <a:pt x="33" y="13"/>
                    </a:lnTo>
                    <a:lnTo>
                      <a:pt x="38" y="4"/>
                    </a:lnTo>
                    <a:lnTo>
                      <a:pt x="41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1136520" y="160956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1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4"/>
                    </a:lnTo>
                    <a:lnTo>
                      <a:pt x="18" y="9"/>
                    </a:lnTo>
                    <a:lnTo>
                      <a:pt x="23" y="17"/>
                    </a:lnTo>
                    <a:lnTo>
                      <a:pt x="29" y="25"/>
                    </a:lnTo>
                    <a:lnTo>
                      <a:pt x="35" y="32"/>
                    </a:lnTo>
                    <a:lnTo>
                      <a:pt x="40" y="37"/>
                    </a:lnTo>
                    <a:lnTo>
                      <a:pt x="43" y="38"/>
                    </a:lnTo>
                    <a:lnTo>
                      <a:pt x="46" y="3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1209600" y="1622520"/>
                <a:ext cx="71640" cy="4896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31"/>
                    </a:moveTo>
                    <a:lnTo>
                      <a:pt x="3" y="31"/>
                    </a:lnTo>
                    <a:lnTo>
                      <a:pt x="6" y="30"/>
                    </a:lnTo>
                    <a:lnTo>
                      <a:pt x="11" y="26"/>
                    </a:lnTo>
                    <a:lnTo>
                      <a:pt x="17" y="21"/>
                    </a:lnTo>
                    <a:lnTo>
                      <a:pt x="22" y="15"/>
                    </a:lnTo>
                    <a:lnTo>
                      <a:pt x="28" y="9"/>
                    </a:lnTo>
                    <a:lnTo>
                      <a:pt x="33" y="5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1281240" y="162252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3" y="1"/>
                    </a:lnTo>
                    <a:lnTo>
                      <a:pt x="5" y="4"/>
                    </a:lnTo>
                    <a:lnTo>
                      <a:pt x="11" y="10"/>
                    </a:lnTo>
                    <a:lnTo>
                      <a:pt x="16" y="17"/>
                    </a:lnTo>
                    <a:lnTo>
                      <a:pt x="22" y="26"/>
                    </a:lnTo>
                    <a:lnTo>
                      <a:pt x="28" y="34"/>
                    </a:lnTo>
                    <a:lnTo>
                      <a:pt x="33" y="42"/>
                    </a:lnTo>
                    <a:lnTo>
                      <a:pt x="36" y="45"/>
                    </a:lnTo>
                    <a:lnTo>
                      <a:pt x="39" y="47"/>
                    </a:lnTo>
                    <a:lnTo>
                      <a:pt x="41" y="48"/>
                    </a:lnTo>
                    <a:lnTo>
                      <a:pt x="44" y="4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1351080" y="1631880"/>
                <a:ext cx="71280" cy="684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0" y="43"/>
                    </a:moveTo>
                    <a:lnTo>
                      <a:pt x="3" y="43"/>
                    </a:lnTo>
                    <a:lnTo>
                      <a:pt x="5" y="42"/>
                    </a:lnTo>
                    <a:lnTo>
                      <a:pt x="11" y="38"/>
                    </a:lnTo>
                    <a:lnTo>
                      <a:pt x="16" y="33"/>
                    </a:lnTo>
                    <a:lnTo>
                      <a:pt x="22" y="26"/>
                    </a:lnTo>
                    <a:lnTo>
                      <a:pt x="33" y="12"/>
                    </a:lnTo>
                    <a:lnTo>
                      <a:pt x="40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1422360" y="159084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6"/>
                    </a:moveTo>
                    <a:lnTo>
                      <a:pt x="11" y="17"/>
                    </a:lnTo>
                    <a:lnTo>
                      <a:pt x="22" y="11"/>
                    </a:lnTo>
                    <a:lnTo>
                      <a:pt x="33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1492200" y="1552680"/>
                <a:ext cx="71640" cy="381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24"/>
                    </a:moveTo>
                    <a:lnTo>
                      <a:pt x="11" y="18"/>
                    </a:lnTo>
                    <a:lnTo>
                      <a:pt x="22" y="11"/>
                    </a:lnTo>
                    <a:lnTo>
                      <a:pt x="33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1563840" y="1539720"/>
                <a:ext cx="71280" cy="1296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8"/>
                    </a:moveTo>
                    <a:lnTo>
                      <a:pt x="11" y="5"/>
                    </a:lnTo>
                    <a:lnTo>
                      <a:pt x="22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1635120" y="153036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6"/>
                    </a:moveTo>
                    <a:lnTo>
                      <a:pt x="22" y="2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1706400" y="1530360"/>
                <a:ext cx="69840" cy="12600"/>
              </a:xfrm>
              <a:custGeom>
                <a:avLst/>
                <a:gdLst/>
                <a:ahLst/>
                <a:rect l="l" t="t" r="r" b="b"/>
                <a:pathLst>
                  <a:path w="44" h="8">
                    <a:moveTo>
                      <a:pt x="0" y="0"/>
                    </a:moveTo>
                    <a:lnTo>
                      <a:pt x="11" y="1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1776240" y="154296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1847880" y="154476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0"/>
                    </a:moveTo>
                    <a:lnTo>
                      <a:pt x="11" y="2"/>
                    </a:lnTo>
                    <a:lnTo>
                      <a:pt x="22" y="6"/>
                    </a:lnTo>
                    <a:lnTo>
                      <a:pt x="33" y="10"/>
                    </a:lnTo>
                    <a:lnTo>
                      <a:pt x="44" y="1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1917720" y="15638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1" y="1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1989000" y="156528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4" y="6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060640" y="157644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1" y="1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2131920" y="157788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6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2201760" y="1589040"/>
                <a:ext cx="7164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2273400" y="1590840"/>
                <a:ext cx="69840" cy="1404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5"/>
                    </a:lnTo>
                    <a:lnTo>
                      <a:pt x="33" y="7"/>
                    </a:lnTo>
                    <a:lnTo>
                      <a:pt x="44" y="9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2343240" y="16048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2" y="1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2414520" y="1604880"/>
                <a:ext cx="7164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2486160" y="161136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3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2557440" y="161460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5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2629080" y="16239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2698920" y="1623960"/>
                <a:ext cx="7128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2770200" y="16365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2840040" y="1636560"/>
                <a:ext cx="73080" cy="972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0"/>
                    </a:moveTo>
                    <a:lnTo>
                      <a:pt x="11" y="1"/>
                    </a:lnTo>
                    <a:lnTo>
                      <a:pt x="22" y="3"/>
                    </a:lnTo>
                    <a:lnTo>
                      <a:pt x="35" y="5"/>
                    </a:lnTo>
                    <a:lnTo>
                      <a:pt x="46" y="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2913120" y="16462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2982960" y="1646280"/>
                <a:ext cx="71280" cy="648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0"/>
                    </a:moveTo>
                    <a:lnTo>
                      <a:pt x="2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54240" y="165276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1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124080" y="1654200"/>
                <a:ext cx="7164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2" y="1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195720" y="16588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2" y="1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67000" y="1660680"/>
                <a:ext cx="716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38640" y="1663560"/>
                <a:ext cx="698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408480" y="1666800"/>
                <a:ext cx="71280" cy="468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23" y="2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479760" y="167148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549600" y="167148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621240" y="167328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22" y="1"/>
                    </a:lnTo>
                    <a:lnTo>
                      <a:pt x="45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692520" y="16765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763800" y="167796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835440" y="167940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905280" y="168120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976560" y="168264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046400" y="168444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22" y="0"/>
                    </a:lnTo>
                    <a:lnTo>
                      <a:pt x="46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119480" y="168588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4189320" y="168768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4260960" y="16891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4330800" y="169056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4402080" y="16923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4471920" y="169380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4545000" y="1693800"/>
                <a:ext cx="69840" cy="324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0"/>
                    </a:moveTo>
                    <a:lnTo>
                      <a:pt x="22" y="1"/>
                    </a:lnTo>
                    <a:lnTo>
                      <a:pt x="44" y="2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4614840" y="169704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4686480" y="169848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4756320" y="169848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4827600" y="17002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4898880" y="170028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4970520" y="17002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040360" y="17017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11640" y="170172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83280" y="17017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5253120" y="17035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32620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396040" y="17035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46732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537160" y="170352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60880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678640" y="170352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75136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821200" y="170352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89284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962680" y="17035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23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033960" y="17049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103800" y="17049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6176880" y="170496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6246720" y="170496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6318360" y="17035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638964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6459480" y="1703520"/>
                <a:ext cx="71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6531120" y="170352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6602400" y="17035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6673680" y="1703520"/>
                <a:ext cx="7020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6743880" y="1703520"/>
                <a:ext cx="712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6815160" y="1703520"/>
                <a:ext cx="698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6885000" y="170352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2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6958080" y="17017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1"/>
                    </a:moveTo>
                    <a:lnTo>
                      <a:pt x="22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027920" y="17017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099200" y="17017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169040" y="170172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240680" y="17017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310520" y="170172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6" h="0">
                    <a:moveTo>
                      <a:pt x="0" y="0"/>
                    </a:moveTo>
                    <a:lnTo>
                      <a:pt x="23" y="0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383600" y="170172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22" y="1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453440" y="170172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2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524720" y="17017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594560" y="170172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666200" y="17017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737480" y="1701720"/>
                <a:ext cx="71280" cy="180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2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808760" y="1701720"/>
                <a:ext cx="716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880400" y="17017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50240" y="1701720"/>
                <a:ext cx="712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8021520" y="1701720"/>
                <a:ext cx="6984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1066680" y="16113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44" h="81">
                    <a:moveTo>
                      <a:pt x="0" y="81"/>
                    </a:moveTo>
                    <a:lnTo>
                      <a:pt x="5" y="70"/>
                    </a:lnTo>
                    <a:lnTo>
                      <a:pt x="11" y="58"/>
                    </a:lnTo>
                    <a:lnTo>
                      <a:pt x="16" y="46"/>
                    </a:lnTo>
                    <a:lnTo>
                      <a:pt x="22" y="34"/>
                    </a:lnTo>
                    <a:lnTo>
                      <a:pt x="27" y="23"/>
                    </a:lnTo>
                    <a:lnTo>
                      <a:pt x="33" y="13"/>
                    </a:lnTo>
                    <a:lnTo>
                      <a:pt x="38" y="5"/>
                    </a:lnTo>
                    <a:lnTo>
                      <a:pt x="41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1136520" y="16095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1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8" y="5"/>
                    </a:lnTo>
                    <a:lnTo>
                      <a:pt x="23" y="11"/>
                    </a:lnTo>
                    <a:lnTo>
                      <a:pt x="29" y="18"/>
                    </a:lnTo>
                    <a:lnTo>
                      <a:pt x="35" y="24"/>
                    </a:lnTo>
                    <a:lnTo>
                      <a:pt x="40" y="30"/>
                    </a:lnTo>
                    <a:lnTo>
                      <a:pt x="46" y="3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1209600" y="166356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0"/>
                    </a:moveTo>
                    <a:lnTo>
                      <a:pt x="6" y="4"/>
                    </a:lnTo>
                    <a:lnTo>
                      <a:pt x="11" y="9"/>
                    </a:lnTo>
                    <a:lnTo>
                      <a:pt x="22" y="18"/>
                    </a:lnTo>
                    <a:lnTo>
                      <a:pt x="28" y="22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45" y="2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1281240" y="162072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0" y="53"/>
                    </a:moveTo>
                    <a:lnTo>
                      <a:pt x="3" y="52"/>
                    </a:lnTo>
                    <a:lnTo>
                      <a:pt x="5" y="49"/>
                    </a:lnTo>
                    <a:lnTo>
                      <a:pt x="8" y="46"/>
                    </a:lnTo>
                    <a:lnTo>
                      <a:pt x="11" y="42"/>
                    </a:lnTo>
                    <a:lnTo>
                      <a:pt x="16" y="33"/>
                    </a:lnTo>
                    <a:lnTo>
                      <a:pt x="22" y="23"/>
                    </a:lnTo>
                    <a:lnTo>
                      <a:pt x="28" y="14"/>
                    </a:lnTo>
                    <a:lnTo>
                      <a:pt x="30" y="10"/>
                    </a:lnTo>
                    <a:lnTo>
                      <a:pt x="33" y="6"/>
                    </a:lnTo>
                    <a:lnTo>
                      <a:pt x="36" y="4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1351080" y="1622520"/>
                <a:ext cx="71280" cy="15084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6" y="26"/>
                    </a:lnTo>
                    <a:lnTo>
                      <a:pt x="22" y="39"/>
                    </a:lnTo>
                    <a:lnTo>
                      <a:pt x="28" y="53"/>
                    </a:lnTo>
                    <a:lnTo>
                      <a:pt x="33" y="68"/>
                    </a:lnTo>
                    <a:lnTo>
                      <a:pt x="40" y="82"/>
                    </a:lnTo>
                    <a:lnTo>
                      <a:pt x="45" y="9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1422360" y="1773360"/>
                <a:ext cx="69840" cy="137880"/>
              </a:xfrm>
              <a:custGeom>
                <a:avLst/>
                <a:gdLst/>
                <a:ahLst/>
                <a:rect l="l" t="t" r="r" b="b"/>
                <a:pathLst>
                  <a:path w="44" h="87">
                    <a:moveTo>
                      <a:pt x="0" y="0"/>
                    </a:moveTo>
                    <a:lnTo>
                      <a:pt x="5" y="12"/>
                    </a:lnTo>
                    <a:lnTo>
                      <a:pt x="11" y="25"/>
                    </a:lnTo>
                    <a:lnTo>
                      <a:pt x="16" y="38"/>
                    </a:lnTo>
                    <a:lnTo>
                      <a:pt x="22" y="50"/>
                    </a:lnTo>
                    <a:lnTo>
                      <a:pt x="28" y="62"/>
                    </a:lnTo>
                    <a:lnTo>
                      <a:pt x="33" y="73"/>
                    </a:lnTo>
                    <a:lnTo>
                      <a:pt x="39" y="82"/>
                    </a:lnTo>
                    <a:lnTo>
                      <a:pt x="41" y="85"/>
                    </a:lnTo>
                    <a:lnTo>
                      <a:pt x="44" y="8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1492200" y="186840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7"/>
                    </a:moveTo>
                    <a:lnTo>
                      <a:pt x="3" y="28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11" y="28"/>
                    </a:lnTo>
                    <a:lnTo>
                      <a:pt x="16" y="24"/>
                    </a:lnTo>
                    <a:lnTo>
                      <a:pt x="22" y="19"/>
                    </a:lnTo>
                    <a:lnTo>
                      <a:pt x="27" y="12"/>
                    </a:lnTo>
                    <a:lnTo>
                      <a:pt x="33" y="7"/>
                    </a:lnTo>
                    <a:lnTo>
                      <a:pt x="39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1563840" y="18590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6"/>
                    </a:moveTo>
                    <a:lnTo>
                      <a:pt x="4" y="5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1" y="5"/>
                    </a:lnTo>
                    <a:lnTo>
                      <a:pt x="43" y="8"/>
                    </a:lnTo>
                    <a:lnTo>
                      <a:pt x="45" y="1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1635120" y="1876320"/>
                <a:ext cx="71280" cy="293760"/>
              </a:xfrm>
              <a:custGeom>
                <a:avLst/>
                <a:gdLst/>
                <a:ahLst/>
                <a:rect l="l" t="t" r="r" b="b"/>
                <a:pathLst>
                  <a:path w="45" h="185">
                    <a:moveTo>
                      <a:pt x="0" y="0"/>
                    </a:moveTo>
                    <a:lnTo>
                      <a:pt x="3" y="7"/>
                    </a:lnTo>
                    <a:lnTo>
                      <a:pt x="6" y="17"/>
                    </a:lnTo>
                    <a:lnTo>
                      <a:pt x="8" y="27"/>
                    </a:lnTo>
                    <a:lnTo>
                      <a:pt x="11" y="38"/>
                    </a:lnTo>
                    <a:lnTo>
                      <a:pt x="14" y="51"/>
                    </a:lnTo>
                    <a:lnTo>
                      <a:pt x="17" y="65"/>
                    </a:lnTo>
                    <a:lnTo>
                      <a:pt x="22" y="93"/>
                    </a:lnTo>
                    <a:lnTo>
                      <a:pt x="28" y="122"/>
                    </a:lnTo>
                    <a:lnTo>
                      <a:pt x="31" y="135"/>
                    </a:lnTo>
                    <a:lnTo>
                      <a:pt x="34" y="148"/>
                    </a:lnTo>
                    <a:lnTo>
                      <a:pt x="37" y="159"/>
                    </a:lnTo>
                    <a:lnTo>
                      <a:pt x="40" y="169"/>
                    </a:lnTo>
                    <a:lnTo>
                      <a:pt x="42" y="178"/>
                    </a:lnTo>
                    <a:lnTo>
                      <a:pt x="45" y="18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1706400" y="215568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9"/>
                    </a:moveTo>
                    <a:lnTo>
                      <a:pt x="2" y="12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4" y="5"/>
                    </a:lnTo>
                    <a:lnTo>
                      <a:pt x="40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1776240" y="213516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3"/>
                    </a:moveTo>
                    <a:lnTo>
                      <a:pt x="3" y="12"/>
                    </a:lnTo>
                    <a:lnTo>
                      <a:pt x="8" y="9"/>
                    </a:lnTo>
                    <a:lnTo>
                      <a:pt x="15" y="5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2"/>
                    </a:lnTo>
                    <a:lnTo>
                      <a:pt x="44" y="5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1847880" y="2147760"/>
                <a:ext cx="69840" cy="544680"/>
              </a:xfrm>
              <a:custGeom>
                <a:avLst/>
                <a:gdLst/>
                <a:ahLst/>
                <a:rect l="l" t="t" r="r" b="b"/>
                <a:pathLst>
                  <a:path w="44" h="343">
                    <a:moveTo>
                      <a:pt x="0" y="0"/>
                    </a:moveTo>
                    <a:lnTo>
                      <a:pt x="1" y="6"/>
                    </a:lnTo>
                    <a:lnTo>
                      <a:pt x="3" y="12"/>
                    </a:lnTo>
                    <a:lnTo>
                      <a:pt x="4" y="21"/>
                    </a:lnTo>
                    <a:lnTo>
                      <a:pt x="5" y="29"/>
                    </a:lnTo>
                    <a:lnTo>
                      <a:pt x="7" y="38"/>
                    </a:lnTo>
                    <a:lnTo>
                      <a:pt x="8" y="48"/>
                    </a:lnTo>
                    <a:lnTo>
                      <a:pt x="11" y="70"/>
                    </a:lnTo>
                    <a:lnTo>
                      <a:pt x="14" y="93"/>
                    </a:lnTo>
                    <a:lnTo>
                      <a:pt x="16" y="119"/>
                    </a:lnTo>
                    <a:lnTo>
                      <a:pt x="19" y="146"/>
                    </a:lnTo>
                    <a:lnTo>
                      <a:pt x="22" y="172"/>
                    </a:lnTo>
                    <a:lnTo>
                      <a:pt x="25" y="200"/>
                    </a:lnTo>
                    <a:lnTo>
                      <a:pt x="28" y="226"/>
                    </a:lnTo>
                    <a:lnTo>
                      <a:pt x="30" y="251"/>
                    </a:lnTo>
                    <a:lnTo>
                      <a:pt x="33" y="275"/>
                    </a:lnTo>
                    <a:lnTo>
                      <a:pt x="36" y="296"/>
                    </a:lnTo>
                    <a:lnTo>
                      <a:pt x="37" y="306"/>
                    </a:lnTo>
                    <a:lnTo>
                      <a:pt x="39" y="315"/>
                    </a:lnTo>
                    <a:lnTo>
                      <a:pt x="40" y="323"/>
                    </a:lnTo>
                    <a:lnTo>
                      <a:pt x="41" y="331"/>
                    </a:lnTo>
                    <a:lnTo>
                      <a:pt x="43" y="337"/>
                    </a:lnTo>
                    <a:lnTo>
                      <a:pt x="44" y="34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1917720" y="267012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0" y="14"/>
                    </a:moveTo>
                    <a:lnTo>
                      <a:pt x="1" y="18"/>
                    </a:lnTo>
                    <a:lnTo>
                      <a:pt x="3" y="20"/>
                    </a:lnTo>
                    <a:lnTo>
                      <a:pt x="6" y="21"/>
                    </a:lnTo>
                    <a:lnTo>
                      <a:pt x="9" y="22"/>
                    </a:lnTo>
                    <a:lnTo>
                      <a:pt x="12" y="21"/>
                    </a:lnTo>
                    <a:lnTo>
                      <a:pt x="15" y="20"/>
                    </a:lnTo>
                    <a:lnTo>
                      <a:pt x="23" y="16"/>
                    </a:lnTo>
                    <a:lnTo>
                      <a:pt x="30" y="11"/>
                    </a:lnTo>
                    <a:lnTo>
                      <a:pt x="36" y="6"/>
                    </a:lnTo>
                    <a:lnTo>
                      <a:pt x="42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1989000" y="2641680"/>
                <a:ext cx="71640" cy="28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8"/>
                    </a:moveTo>
                    <a:lnTo>
                      <a:pt x="6" y="16"/>
                    </a:lnTo>
                    <a:lnTo>
                      <a:pt x="11" y="13"/>
                    </a:lnTo>
                    <a:lnTo>
                      <a:pt x="22" y="6"/>
                    </a:lnTo>
                    <a:lnTo>
                      <a:pt x="28" y="3"/>
                    </a:lnTo>
                    <a:lnTo>
                      <a:pt x="34" y="1"/>
                    </a:lnTo>
                    <a:lnTo>
                      <a:pt x="39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2060640" y="264168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0"/>
                    </a:moveTo>
                    <a:lnTo>
                      <a:pt x="6" y="2"/>
                    </a:lnTo>
                    <a:lnTo>
                      <a:pt x="11" y="6"/>
                    </a:lnTo>
                    <a:lnTo>
                      <a:pt x="18" y="12"/>
                    </a:lnTo>
                    <a:lnTo>
                      <a:pt x="23" y="18"/>
                    </a:lnTo>
                    <a:lnTo>
                      <a:pt x="29" y="24"/>
                    </a:lnTo>
                    <a:lnTo>
                      <a:pt x="34" y="29"/>
                    </a:lnTo>
                    <a:lnTo>
                      <a:pt x="40" y="33"/>
                    </a:lnTo>
                    <a:lnTo>
                      <a:pt x="45" y="3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2131920" y="265896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0" y="24"/>
                    </a:moveTo>
                    <a:lnTo>
                      <a:pt x="5" y="24"/>
                    </a:lnTo>
                    <a:lnTo>
                      <a:pt x="11" y="22"/>
                    </a:lnTo>
                    <a:lnTo>
                      <a:pt x="16" y="19"/>
                    </a:lnTo>
                    <a:lnTo>
                      <a:pt x="22" y="16"/>
                    </a:lnTo>
                    <a:lnTo>
                      <a:pt x="33" y="7"/>
                    </a:lnTo>
                    <a:lnTo>
                      <a:pt x="39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2201760" y="26128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0" y="29"/>
                    </a:moveTo>
                    <a:lnTo>
                      <a:pt x="5" y="25"/>
                    </a:lnTo>
                    <a:lnTo>
                      <a:pt x="12" y="20"/>
                    </a:lnTo>
                    <a:lnTo>
                      <a:pt x="17" y="14"/>
                    </a:lnTo>
                    <a:lnTo>
                      <a:pt x="23" y="8"/>
                    </a:lnTo>
                    <a:lnTo>
                      <a:pt x="29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5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2273400" y="2619360"/>
                <a:ext cx="69840" cy="185760"/>
              </a:xfrm>
              <a:custGeom>
                <a:avLst/>
                <a:gdLst/>
                <a:ahLst/>
                <a:rect l="l" t="t" r="r" b="b"/>
                <a:pathLst>
                  <a:path w="44" h="117">
                    <a:moveTo>
                      <a:pt x="0" y="0"/>
                    </a:moveTo>
                    <a:lnTo>
                      <a:pt x="3" y="4"/>
                    </a:lnTo>
                    <a:lnTo>
                      <a:pt x="5" y="9"/>
                    </a:lnTo>
                    <a:lnTo>
                      <a:pt x="8" y="15"/>
                    </a:lnTo>
                    <a:lnTo>
                      <a:pt x="11" y="22"/>
                    </a:lnTo>
                    <a:lnTo>
                      <a:pt x="14" y="31"/>
                    </a:lnTo>
                    <a:lnTo>
                      <a:pt x="16" y="39"/>
                    </a:lnTo>
                    <a:lnTo>
                      <a:pt x="22" y="58"/>
                    </a:lnTo>
                    <a:lnTo>
                      <a:pt x="28" y="78"/>
                    </a:lnTo>
                    <a:lnTo>
                      <a:pt x="30" y="86"/>
                    </a:lnTo>
                    <a:lnTo>
                      <a:pt x="33" y="95"/>
                    </a:lnTo>
                    <a:lnTo>
                      <a:pt x="36" y="102"/>
                    </a:lnTo>
                    <a:lnTo>
                      <a:pt x="39" y="108"/>
                    </a:lnTo>
                    <a:lnTo>
                      <a:pt x="41" y="113"/>
                    </a:lnTo>
                    <a:lnTo>
                      <a:pt x="44" y="11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2343240" y="2763720"/>
                <a:ext cx="71280" cy="4788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26"/>
                    </a:moveTo>
                    <a:lnTo>
                      <a:pt x="3" y="28"/>
                    </a:lnTo>
                    <a:lnTo>
                      <a:pt x="5" y="30"/>
                    </a:lnTo>
                    <a:lnTo>
                      <a:pt x="9" y="30"/>
                    </a:lnTo>
                    <a:lnTo>
                      <a:pt x="12" y="29"/>
                    </a:lnTo>
                    <a:lnTo>
                      <a:pt x="17" y="27"/>
                    </a:lnTo>
                    <a:lnTo>
                      <a:pt x="23" y="22"/>
                    </a:lnTo>
                    <a:lnTo>
                      <a:pt x="28" y="16"/>
                    </a:lnTo>
                    <a:lnTo>
                      <a:pt x="34" y="10"/>
                    </a:lnTo>
                    <a:lnTo>
                      <a:pt x="39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2414520" y="2709720"/>
                <a:ext cx="7164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34"/>
                    </a:moveTo>
                    <a:lnTo>
                      <a:pt x="2" y="33"/>
                    </a:lnTo>
                    <a:lnTo>
                      <a:pt x="4" y="31"/>
                    </a:lnTo>
                    <a:lnTo>
                      <a:pt x="9" y="25"/>
                    </a:lnTo>
                    <a:lnTo>
                      <a:pt x="16" y="17"/>
                    </a:lnTo>
                    <a:lnTo>
                      <a:pt x="22" y="10"/>
                    </a:lnTo>
                    <a:lnTo>
                      <a:pt x="29" y="4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3" y="4"/>
                    </a:lnTo>
                    <a:lnTo>
                      <a:pt x="45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2486160" y="2722680"/>
                <a:ext cx="71280" cy="495360"/>
              </a:xfrm>
              <a:custGeom>
                <a:avLst/>
                <a:gdLst/>
                <a:ahLst/>
                <a:rect l="l" t="t" r="r" b="b"/>
                <a:pathLst>
                  <a:path w="45" h="312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5" y="17"/>
                    </a:lnTo>
                    <a:lnTo>
                      <a:pt x="7" y="25"/>
                    </a:lnTo>
                    <a:lnTo>
                      <a:pt x="9" y="42"/>
                    </a:lnTo>
                    <a:lnTo>
                      <a:pt x="12" y="62"/>
                    </a:lnTo>
                    <a:lnTo>
                      <a:pt x="15" y="84"/>
                    </a:lnTo>
                    <a:lnTo>
                      <a:pt x="18" y="107"/>
                    </a:lnTo>
                    <a:lnTo>
                      <a:pt x="20" y="131"/>
                    </a:lnTo>
                    <a:lnTo>
                      <a:pt x="23" y="156"/>
                    </a:lnTo>
                    <a:lnTo>
                      <a:pt x="26" y="181"/>
                    </a:lnTo>
                    <a:lnTo>
                      <a:pt x="29" y="205"/>
                    </a:lnTo>
                    <a:lnTo>
                      <a:pt x="31" y="228"/>
                    </a:lnTo>
                    <a:lnTo>
                      <a:pt x="34" y="250"/>
                    </a:lnTo>
                    <a:lnTo>
                      <a:pt x="37" y="270"/>
                    </a:lnTo>
                    <a:lnTo>
                      <a:pt x="39" y="287"/>
                    </a:lnTo>
                    <a:lnTo>
                      <a:pt x="41" y="295"/>
                    </a:lnTo>
                    <a:lnTo>
                      <a:pt x="42" y="301"/>
                    </a:lnTo>
                    <a:lnTo>
                      <a:pt x="44" y="307"/>
                    </a:lnTo>
                    <a:lnTo>
                      <a:pt x="45" y="31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2557440" y="3174840"/>
                <a:ext cx="7164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27"/>
                    </a:moveTo>
                    <a:lnTo>
                      <a:pt x="2" y="31"/>
                    </a:lnTo>
                    <a:lnTo>
                      <a:pt x="4" y="33"/>
                    </a:lnTo>
                    <a:lnTo>
                      <a:pt x="6" y="34"/>
                    </a:lnTo>
                    <a:lnTo>
                      <a:pt x="9" y="34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22" y="25"/>
                    </a:lnTo>
                    <a:lnTo>
                      <a:pt x="29" y="17"/>
                    </a:lnTo>
                    <a:lnTo>
                      <a:pt x="35" y="10"/>
                    </a:lnTo>
                    <a:lnTo>
                      <a:pt x="40" y="4"/>
                    </a:lnTo>
                    <a:lnTo>
                      <a:pt x="43" y="1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2629080" y="31273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30"/>
                    </a:moveTo>
                    <a:lnTo>
                      <a:pt x="11" y="22"/>
                    </a:lnTo>
                    <a:lnTo>
                      <a:pt x="22" y="13"/>
                    </a:lnTo>
                    <a:lnTo>
                      <a:pt x="33" y="5"/>
                    </a:lnTo>
                    <a:lnTo>
                      <a:pt x="39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2698920" y="312588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45" h="6">
                    <a:moveTo>
                      <a:pt x="0" y="1"/>
                    </a:moveTo>
                    <a:lnTo>
                      <a:pt x="5" y="0"/>
                    </a:lnTo>
                    <a:lnTo>
                      <a:pt x="11" y="1"/>
                    </a:lnTo>
                    <a:lnTo>
                      <a:pt x="16" y="2"/>
                    </a:lnTo>
                    <a:lnTo>
                      <a:pt x="22" y="4"/>
                    </a:lnTo>
                    <a:lnTo>
                      <a:pt x="28" y="5"/>
                    </a:lnTo>
                    <a:lnTo>
                      <a:pt x="33" y="6"/>
                    </a:lnTo>
                    <a:lnTo>
                      <a:pt x="40" y="6"/>
                    </a:lnTo>
                    <a:lnTo>
                      <a:pt x="45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2770200" y="30700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40"/>
                    </a:moveTo>
                    <a:lnTo>
                      <a:pt x="5" y="37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2" y="22"/>
                    </a:lnTo>
                    <a:lnTo>
                      <a:pt x="33" y="11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2840040" y="3006720"/>
                <a:ext cx="7308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40"/>
                    </a:moveTo>
                    <a:lnTo>
                      <a:pt x="6" y="34"/>
                    </a:lnTo>
                    <a:lnTo>
                      <a:pt x="11" y="28"/>
                    </a:lnTo>
                    <a:lnTo>
                      <a:pt x="22" y="14"/>
                    </a:lnTo>
                    <a:lnTo>
                      <a:pt x="28" y="8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2913120" y="300672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0"/>
                    </a:moveTo>
                    <a:lnTo>
                      <a:pt x="3" y="1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11" y="9"/>
                    </a:lnTo>
                    <a:lnTo>
                      <a:pt x="17" y="17"/>
                    </a:lnTo>
                    <a:lnTo>
                      <a:pt x="22" y="27"/>
                    </a:lnTo>
                    <a:lnTo>
                      <a:pt x="28" y="36"/>
                    </a:lnTo>
                    <a:lnTo>
                      <a:pt x="33" y="45"/>
                    </a:lnTo>
                    <a:lnTo>
                      <a:pt x="36" y="48"/>
                    </a:lnTo>
                    <a:lnTo>
                      <a:pt x="39" y="51"/>
                    </a:lnTo>
                    <a:lnTo>
                      <a:pt x="41" y="53"/>
                    </a:lnTo>
                    <a:lnTo>
                      <a:pt x="44" y="5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2982960" y="303372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lnTo>
                      <a:pt x="5" y="37"/>
                    </a:lnTo>
                    <a:lnTo>
                      <a:pt x="11" y="34"/>
                    </a:lnTo>
                    <a:lnTo>
                      <a:pt x="16" y="30"/>
                    </a:lnTo>
                    <a:lnTo>
                      <a:pt x="22" y="24"/>
                    </a:lnTo>
                    <a:lnTo>
                      <a:pt x="34" y="11"/>
                    </a:lnTo>
                    <a:lnTo>
                      <a:pt x="40" y="5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054240" y="2963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44"/>
                    </a:moveTo>
                    <a:lnTo>
                      <a:pt x="2" y="42"/>
                    </a:lnTo>
                    <a:lnTo>
                      <a:pt x="4" y="39"/>
                    </a:lnTo>
                    <a:lnTo>
                      <a:pt x="10" y="31"/>
                    </a:lnTo>
                    <a:lnTo>
                      <a:pt x="16" y="22"/>
                    </a:lnTo>
                    <a:lnTo>
                      <a:pt x="22" y="12"/>
                    </a:lnTo>
                    <a:lnTo>
                      <a:pt x="25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1"/>
                    </a:lnTo>
                    <a:lnTo>
                      <a:pt x="42" y="3"/>
                    </a:lnTo>
                    <a:lnTo>
                      <a:pt x="44" y="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124080" y="2975040"/>
                <a:ext cx="71640" cy="420480"/>
              </a:xfrm>
              <a:custGeom>
                <a:avLst/>
                <a:gdLst/>
                <a:ahLst/>
                <a:rect l="l" t="t" r="r" b="b"/>
                <a:pathLst>
                  <a:path w="45" h="265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4" y="15"/>
                    </a:lnTo>
                    <a:lnTo>
                      <a:pt x="5" y="21"/>
                    </a:lnTo>
                    <a:lnTo>
                      <a:pt x="8" y="36"/>
                    </a:lnTo>
                    <a:lnTo>
                      <a:pt x="11" y="52"/>
                    </a:lnTo>
                    <a:lnTo>
                      <a:pt x="14" y="70"/>
                    </a:lnTo>
                    <a:lnTo>
                      <a:pt x="16" y="90"/>
                    </a:lnTo>
                    <a:lnTo>
                      <a:pt x="19" y="111"/>
                    </a:lnTo>
                    <a:lnTo>
                      <a:pt x="22" y="132"/>
                    </a:lnTo>
                    <a:lnTo>
                      <a:pt x="26" y="153"/>
                    </a:lnTo>
                    <a:lnTo>
                      <a:pt x="28" y="174"/>
                    </a:lnTo>
                    <a:lnTo>
                      <a:pt x="31" y="194"/>
                    </a:lnTo>
                    <a:lnTo>
                      <a:pt x="34" y="212"/>
                    </a:lnTo>
                    <a:lnTo>
                      <a:pt x="37" y="229"/>
                    </a:lnTo>
                    <a:lnTo>
                      <a:pt x="39" y="243"/>
                    </a:lnTo>
                    <a:lnTo>
                      <a:pt x="41" y="250"/>
                    </a:lnTo>
                    <a:lnTo>
                      <a:pt x="42" y="255"/>
                    </a:lnTo>
                    <a:lnTo>
                      <a:pt x="44" y="260"/>
                    </a:lnTo>
                    <a:lnTo>
                      <a:pt x="45" y="26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195720" y="3341520"/>
                <a:ext cx="71280" cy="65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34"/>
                    </a:moveTo>
                    <a:lnTo>
                      <a:pt x="2" y="38"/>
                    </a:lnTo>
                    <a:lnTo>
                      <a:pt x="4" y="40"/>
                    </a:lnTo>
                    <a:lnTo>
                      <a:pt x="7" y="41"/>
                    </a:lnTo>
                    <a:lnTo>
                      <a:pt x="10" y="41"/>
                    </a:lnTo>
                    <a:lnTo>
                      <a:pt x="13" y="39"/>
                    </a:lnTo>
                    <a:lnTo>
                      <a:pt x="16" y="37"/>
                    </a:lnTo>
                    <a:lnTo>
                      <a:pt x="22" y="29"/>
                    </a:lnTo>
                    <a:lnTo>
                      <a:pt x="29" y="21"/>
                    </a:lnTo>
                    <a:lnTo>
                      <a:pt x="35" y="12"/>
                    </a:lnTo>
                    <a:lnTo>
                      <a:pt x="41" y="5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267000" y="3284640"/>
                <a:ext cx="7164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11" y="26"/>
                    </a:lnTo>
                    <a:lnTo>
                      <a:pt x="23" y="16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338640" y="328140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2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408480" y="320688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47"/>
                    </a:moveTo>
                    <a:lnTo>
                      <a:pt x="5" y="43"/>
                    </a:lnTo>
                    <a:lnTo>
                      <a:pt x="11" y="39"/>
                    </a:lnTo>
                    <a:lnTo>
                      <a:pt x="17" y="33"/>
                    </a:lnTo>
                    <a:lnTo>
                      <a:pt x="23" y="26"/>
                    </a:lnTo>
                    <a:lnTo>
                      <a:pt x="34" y="1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479760" y="313380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46"/>
                    </a:moveTo>
                    <a:lnTo>
                      <a:pt x="5" y="40"/>
                    </a:lnTo>
                    <a:lnTo>
                      <a:pt x="11" y="32"/>
                    </a:lnTo>
                    <a:lnTo>
                      <a:pt x="16" y="24"/>
                    </a:lnTo>
                    <a:lnTo>
                      <a:pt x="22" y="16"/>
                    </a:lnTo>
                    <a:lnTo>
                      <a:pt x="28" y="10"/>
                    </a:lnTo>
                    <a:lnTo>
                      <a:pt x="33" y="4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549600" y="3133800"/>
                <a:ext cx="71640" cy="95040"/>
              </a:xfrm>
              <a:custGeom>
                <a:avLst/>
                <a:gdLst/>
                <a:ahLst/>
                <a:rect l="l" t="t" r="r" b="b"/>
                <a:pathLst>
                  <a:path w="45" h="60">
                    <a:moveTo>
                      <a:pt x="0" y="0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8" y="6"/>
                    </a:lnTo>
                    <a:lnTo>
                      <a:pt x="12" y="10"/>
                    </a:lnTo>
                    <a:lnTo>
                      <a:pt x="17" y="19"/>
                    </a:lnTo>
                    <a:lnTo>
                      <a:pt x="23" y="30"/>
                    </a:lnTo>
                    <a:lnTo>
                      <a:pt x="28" y="40"/>
                    </a:lnTo>
                    <a:lnTo>
                      <a:pt x="34" y="50"/>
                    </a:lnTo>
                    <a:lnTo>
                      <a:pt x="37" y="54"/>
                    </a:lnTo>
                    <a:lnTo>
                      <a:pt x="39" y="57"/>
                    </a:lnTo>
                    <a:lnTo>
                      <a:pt x="42" y="59"/>
                    </a:lnTo>
                    <a:lnTo>
                      <a:pt x="45" y="6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621240" y="3162240"/>
                <a:ext cx="71280" cy="6660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0" y="42"/>
                    </a:moveTo>
                    <a:lnTo>
                      <a:pt x="3" y="42"/>
                    </a:lnTo>
                    <a:lnTo>
                      <a:pt x="6" y="42"/>
                    </a:lnTo>
                    <a:lnTo>
                      <a:pt x="11" y="39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8" y="20"/>
                    </a:lnTo>
                    <a:lnTo>
                      <a:pt x="34" y="13"/>
                    </a:lnTo>
                    <a:lnTo>
                      <a:pt x="39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692520" y="3083040"/>
                <a:ext cx="71280" cy="7920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50"/>
                    </a:moveTo>
                    <a:lnTo>
                      <a:pt x="2" y="47"/>
                    </a:lnTo>
                    <a:lnTo>
                      <a:pt x="6" y="44"/>
                    </a:lnTo>
                    <a:lnTo>
                      <a:pt x="11" y="35"/>
                    </a:lnTo>
                    <a:lnTo>
                      <a:pt x="17" y="23"/>
                    </a:lnTo>
                    <a:lnTo>
                      <a:pt x="23" y="13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2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3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3763800" y="3094200"/>
                <a:ext cx="71640" cy="396720"/>
              </a:xfrm>
              <a:custGeom>
                <a:avLst/>
                <a:gdLst/>
                <a:ahLst/>
                <a:rect l="l" t="t" r="r" b="b"/>
                <a:pathLst>
                  <a:path w="45" h="250">
                    <a:moveTo>
                      <a:pt x="0" y="0"/>
                    </a:moveTo>
                    <a:lnTo>
                      <a:pt x="1" y="4"/>
                    </a:lnTo>
                    <a:lnTo>
                      <a:pt x="3" y="8"/>
                    </a:lnTo>
                    <a:lnTo>
                      <a:pt x="5" y="20"/>
                    </a:lnTo>
                    <a:lnTo>
                      <a:pt x="8" y="33"/>
                    </a:lnTo>
                    <a:lnTo>
                      <a:pt x="11" y="49"/>
                    </a:lnTo>
                    <a:lnTo>
                      <a:pt x="14" y="66"/>
                    </a:lnTo>
                    <a:lnTo>
                      <a:pt x="16" y="85"/>
                    </a:lnTo>
                    <a:lnTo>
                      <a:pt x="19" y="105"/>
                    </a:lnTo>
                    <a:lnTo>
                      <a:pt x="22" y="125"/>
                    </a:lnTo>
                    <a:lnTo>
                      <a:pt x="25" y="145"/>
                    </a:lnTo>
                    <a:lnTo>
                      <a:pt x="28" y="164"/>
                    </a:lnTo>
                    <a:lnTo>
                      <a:pt x="30" y="183"/>
                    </a:lnTo>
                    <a:lnTo>
                      <a:pt x="33" y="201"/>
                    </a:lnTo>
                    <a:lnTo>
                      <a:pt x="36" y="217"/>
                    </a:lnTo>
                    <a:lnTo>
                      <a:pt x="39" y="231"/>
                    </a:lnTo>
                    <a:lnTo>
                      <a:pt x="41" y="242"/>
                    </a:lnTo>
                    <a:lnTo>
                      <a:pt x="44" y="246"/>
                    </a:lnTo>
                    <a:lnTo>
                      <a:pt x="45" y="25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835440" y="343224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37"/>
                    </a:moveTo>
                    <a:lnTo>
                      <a:pt x="2" y="41"/>
                    </a:lnTo>
                    <a:lnTo>
                      <a:pt x="5" y="43"/>
                    </a:lnTo>
                    <a:lnTo>
                      <a:pt x="7" y="44"/>
                    </a:lnTo>
                    <a:lnTo>
                      <a:pt x="10" y="44"/>
                    </a:lnTo>
                    <a:lnTo>
                      <a:pt x="13" y="42"/>
                    </a:lnTo>
                    <a:lnTo>
                      <a:pt x="16" y="39"/>
                    </a:lnTo>
                    <a:lnTo>
                      <a:pt x="19" y="36"/>
                    </a:lnTo>
                    <a:lnTo>
                      <a:pt x="22" y="32"/>
                    </a:lnTo>
                    <a:lnTo>
                      <a:pt x="28" y="23"/>
                    </a:lnTo>
                    <a:lnTo>
                      <a:pt x="34" y="14"/>
                    </a:lnTo>
                    <a:lnTo>
                      <a:pt x="39" y="5"/>
                    </a:lnTo>
                    <a:lnTo>
                      <a:pt x="42" y="2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905280" y="3368520"/>
                <a:ext cx="71280" cy="6372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40"/>
                    </a:moveTo>
                    <a:lnTo>
                      <a:pt x="11" y="29"/>
                    </a:lnTo>
                    <a:lnTo>
                      <a:pt x="22" y="18"/>
                    </a:lnTo>
                    <a:lnTo>
                      <a:pt x="28" y="12"/>
                    </a:lnTo>
                    <a:lnTo>
                      <a:pt x="33" y="7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976560" y="336708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1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6" y="2"/>
                    </a:lnTo>
                    <a:lnTo>
                      <a:pt x="22" y="3"/>
                    </a:lnTo>
                    <a:lnTo>
                      <a:pt x="27" y="5"/>
                    </a:lnTo>
                    <a:lnTo>
                      <a:pt x="33" y="7"/>
                    </a:lnTo>
                    <a:lnTo>
                      <a:pt x="38" y="7"/>
                    </a:lnTo>
                    <a:lnTo>
                      <a:pt x="44" y="5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046400" y="330048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47"/>
                    </a:moveTo>
                    <a:lnTo>
                      <a:pt x="6" y="44"/>
                    </a:lnTo>
                    <a:lnTo>
                      <a:pt x="11" y="39"/>
                    </a:lnTo>
                    <a:lnTo>
                      <a:pt x="17" y="33"/>
                    </a:lnTo>
                    <a:lnTo>
                      <a:pt x="22" y="27"/>
                    </a:lnTo>
                    <a:lnTo>
                      <a:pt x="34" y="13"/>
                    </a:lnTo>
                    <a:lnTo>
                      <a:pt x="40" y="6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119480" y="3224160"/>
                <a:ext cx="6984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8"/>
                    </a:moveTo>
                    <a:lnTo>
                      <a:pt x="6" y="41"/>
                    </a:lnTo>
                    <a:lnTo>
                      <a:pt x="11" y="34"/>
                    </a:lnTo>
                    <a:lnTo>
                      <a:pt x="17" y="25"/>
                    </a:lnTo>
                    <a:lnTo>
                      <a:pt x="22" y="16"/>
                    </a:lnTo>
                    <a:lnTo>
                      <a:pt x="28" y="9"/>
                    </a:lnTo>
                    <a:lnTo>
                      <a:pt x="33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189320" y="3224160"/>
                <a:ext cx="71640" cy="114480"/>
              </a:xfrm>
              <a:custGeom>
                <a:avLst/>
                <a:gdLst/>
                <a:ahLst/>
                <a:rect l="l" t="t" r="r" b="b"/>
                <a:pathLst>
                  <a:path w="45" h="72">
                    <a:moveTo>
                      <a:pt x="0" y="0"/>
                    </a:moveTo>
                    <a:lnTo>
                      <a:pt x="3" y="1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1" y="12"/>
                    </a:lnTo>
                    <a:lnTo>
                      <a:pt x="16" y="24"/>
                    </a:lnTo>
                    <a:lnTo>
                      <a:pt x="22" y="36"/>
                    </a:lnTo>
                    <a:lnTo>
                      <a:pt x="28" y="48"/>
                    </a:lnTo>
                    <a:lnTo>
                      <a:pt x="34" y="59"/>
                    </a:lnTo>
                    <a:lnTo>
                      <a:pt x="37" y="64"/>
                    </a:lnTo>
                    <a:lnTo>
                      <a:pt x="40" y="68"/>
                    </a:lnTo>
                    <a:lnTo>
                      <a:pt x="42" y="70"/>
                    </a:lnTo>
                    <a:lnTo>
                      <a:pt x="45" y="7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260960" y="327168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0" y="42"/>
                    </a:moveTo>
                    <a:lnTo>
                      <a:pt x="3" y="42"/>
                    </a:lnTo>
                    <a:lnTo>
                      <a:pt x="5" y="42"/>
                    </a:lnTo>
                    <a:lnTo>
                      <a:pt x="11" y="39"/>
                    </a:lnTo>
                    <a:lnTo>
                      <a:pt x="16" y="34"/>
                    </a:lnTo>
                    <a:lnTo>
                      <a:pt x="22" y="28"/>
                    </a:lnTo>
                    <a:lnTo>
                      <a:pt x="28" y="21"/>
                    </a:lnTo>
                    <a:lnTo>
                      <a:pt x="33" y="13"/>
                    </a:lnTo>
                    <a:lnTo>
                      <a:pt x="39" y="6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330800" y="3193920"/>
                <a:ext cx="7128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49"/>
                    </a:moveTo>
                    <a:lnTo>
                      <a:pt x="2" y="46"/>
                    </a:lnTo>
                    <a:lnTo>
                      <a:pt x="5" y="43"/>
                    </a:lnTo>
                    <a:lnTo>
                      <a:pt x="10" y="33"/>
                    </a:lnTo>
                    <a:lnTo>
                      <a:pt x="16" y="23"/>
                    </a:lnTo>
                    <a:lnTo>
                      <a:pt x="22" y="13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2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3" y="3"/>
                    </a:lnTo>
                    <a:lnTo>
                      <a:pt x="45" y="7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402080" y="3205080"/>
                <a:ext cx="69840" cy="381240"/>
              </a:xfrm>
              <a:custGeom>
                <a:avLst/>
                <a:gdLst/>
                <a:ahLst/>
                <a:rect l="l" t="t" r="r" b="b"/>
                <a:pathLst>
                  <a:path w="44" h="240">
                    <a:moveTo>
                      <a:pt x="0" y="0"/>
                    </a:moveTo>
                    <a:lnTo>
                      <a:pt x="1" y="3"/>
                    </a:lnTo>
                    <a:lnTo>
                      <a:pt x="3" y="8"/>
                    </a:lnTo>
                    <a:lnTo>
                      <a:pt x="5" y="18"/>
                    </a:lnTo>
                    <a:lnTo>
                      <a:pt x="8" y="31"/>
                    </a:lnTo>
                    <a:lnTo>
                      <a:pt x="11" y="47"/>
                    </a:lnTo>
                    <a:lnTo>
                      <a:pt x="14" y="64"/>
                    </a:lnTo>
                    <a:lnTo>
                      <a:pt x="16" y="82"/>
                    </a:lnTo>
                    <a:lnTo>
                      <a:pt x="19" y="100"/>
                    </a:lnTo>
                    <a:lnTo>
                      <a:pt x="22" y="120"/>
                    </a:lnTo>
                    <a:lnTo>
                      <a:pt x="25" y="139"/>
                    </a:lnTo>
                    <a:lnTo>
                      <a:pt x="27" y="158"/>
                    </a:lnTo>
                    <a:lnTo>
                      <a:pt x="30" y="176"/>
                    </a:lnTo>
                    <a:lnTo>
                      <a:pt x="33" y="193"/>
                    </a:lnTo>
                    <a:lnTo>
                      <a:pt x="36" y="209"/>
                    </a:lnTo>
                    <a:lnTo>
                      <a:pt x="38" y="222"/>
                    </a:lnTo>
                    <a:lnTo>
                      <a:pt x="41" y="232"/>
                    </a:lnTo>
                    <a:lnTo>
                      <a:pt x="43" y="236"/>
                    </a:lnTo>
                    <a:lnTo>
                      <a:pt x="44" y="24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471920" y="352260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40"/>
                    </a:moveTo>
                    <a:lnTo>
                      <a:pt x="2" y="44"/>
                    </a:lnTo>
                    <a:lnTo>
                      <a:pt x="5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13" y="45"/>
                    </a:lnTo>
                    <a:lnTo>
                      <a:pt x="16" y="42"/>
                    </a:lnTo>
                    <a:lnTo>
                      <a:pt x="19" y="39"/>
                    </a:lnTo>
                    <a:lnTo>
                      <a:pt x="23" y="35"/>
                    </a:lnTo>
                    <a:lnTo>
                      <a:pt x="30" y="25"/>
                    </a:lnTo>
                    <a:lnTo>
                      <a:pt x="36" y="16"/>
                    </a:lnTo>
                    <a:lnTo>
                      <a:pt x="41" y="7"/>
                    </a:lnTo>
                    <a:lnTo>
                      <a:pt x="44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545000" y="3456000"/>
                <a:ext cx="69840" cy="6660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0" y="42"/>
                    </a:moveTo>
                    <a:lnTo>
                      <a:pt x="6" y="37"/>
                    </a:lnTo>
                    <a:lnTo>
                      <a:pt x="11" y="31"/>
                    </a:lnTo>
                    <a:lnTo>
                      <a:pt x="22" y="18"/>
                    </a:lnTo>
                    <a:lnTo>
                      <a:pt x="28" y="13"/>
                    </a:lnTo>
                    <a:lnTo>
                      <a:pt x="33" y="7"/>
                    </a:lnTo>
                    <a:lnTo>
                      <a:pt x="39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614840" y="34545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1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1"/>
                    </a:lnTo>
                    <a:lnTo>
                      <a:pt x="23" y="3"/>
                    </a:lnTo>
                    <a:lnTo>
                      <a:pt x="29" y="4"/>
                    </a:lnTo>
                    <a:lnTo>
                      <a:pt x="34" y="5"/>
                    </a:lnTo>
                    <a:lnTo>
                      <a:pt x="40" y="5"/>
                    </a:lnTo>
                    <a:lnTo>
                      <a:pt x="45" y="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686480" y="337824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51"/>
                    </a:moveTo>
                    <a:lnTo>
                      <a:pt x="5" y="47"/>
                    </a:lnTo>
                    <a:lnTo>
                      <a:pt x="11" y="42"/>
                    </a:lnTo>
                    <a:lnTo>
                      <a:pt x="16" y="36"/>
                    </a:lnTo>
                    <a:lnTo>
                      <a:pt x="22" y="29"/>
                    </a:lnTo>
                    <a:lnTo>
                      <a:pt x="33" y="15"/>
                    </a:lnTo>
                    <a:lnTo>
                      <a:pt x="39" y="7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756320" y="329868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50"/>
                    </a:moveTo>
                    <a:lnTo>
                      <a:pt x="5" y="43"/>
                    </a:lnTo>
                    <a:lnTo>
                      <a:pt x="12" y="35"/>
                    </a:lnTo>
                    <a:lnTo>
                      <a:pt x="17" y="27"/>
                    </a:lnTo>
                    <a:lnTo>
                      <a:pt x="23" y="18"/>
                    </a:lnTo>
                    <a:lnTo>
                      <a:pt x="28" y="11"/>
                    </a:lnTo>
                    <a:lnTo>
                      <a:pt x="34" y="5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827600" y="3298680"/>
                <a:ext cx="7128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0" y="0"/>
                    </a:moveTo>
                    <a:lnTo>
                      <a:pt x="3" y="1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11" y="9"/>
                    </a:lnTo>
                    <a:lnTo>
                      <a:pt x="17" y="18"/>
                    </a:lnTo>
                    <a:lnTo>
                      <a:pt x="22" y="29"/>
                    </a:lnTo>
                    <a:lnTo>
                      <a:pt x="28" y="39"/>
                    </a:lnTo>
                    <a:lnTo>
                      <a:pt x="34" y="48"/>
                    </a:lnTo>
                    <a:lnTo>
                      <a:pt x="37" y="52"/>
                    </a:lnTo>
                    <a:lnTo>
                      <a:pt x="39" y="55"/>
                    </a:lnTo>
                    <a:lnTo>
                      <a:pt x="42" y="57"/>
                    </a:lnTo>
                    <a:lnTo>
                      <a:pt x="45" y="5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898880" y="3322800"/>
                <a:ext cx="71640" cy="6804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0" y="43"/>
                    </a:moveTo>
                    <a:lnTo>
                      <a:pt x="3" y="43"/>
                    </a:lnTo>
                    <a:lnTo>
                      <a:pt x="7" y="42"/>
                    </a:lnTo>
                    <a:lnTo>
                      <a:pt x="12" y="39"/>
                    </a:lnTo>
                    <a:lnTo>
                      <a:pt x="18" y="34"/>
                    </a:lnTo>
                    <a:lnTo>
                      <a:pt x="23" y="28"/>
                    </a:lnTo>
                    <a:lnTo>
                      <a:pt x="29" y="21"/>
                    </a:lnTo>
                    <a:lnTo>
                      <a:pt x="34" y="13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70520" y="3240000"/>
                <a:ext cx="69840" cy="8280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52"/>
                    </a:moveTo>
                    <a:lnTo>
                      <a:pt x="2" y="49"/>
                    </a:lnTo>
                    <a:lnTo>
                      <a:pt x="5" y="46"/>
                    </a:lnTo>
                    <a:lnTo>
                      <a:pt x="7" y="42"/>
                    </a:lnTo>
                    <a:lnTo>
                      <a:pt x="10" y="37"/>
                    </a:lnTo>
                    <a:lnTo>
                      <a:pt x="16" y="26"/>
                    </a:lnTo>
                    <a:lnTo>
                      <a:pt x="22" y="16"/>
                    </a:lnTo>
                    <a:lnTo>
                      <a:pt x="25" y="11"/>
                    </a:lnTo>
                    <a:lnTo>
                      <a:pt x="28" y="6"/>
                    </a:lnTo>
                    <a:lnTo>
                      <a:pt x="31" y="3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2" y="4"/>
                    </a:lnTo>
                    <a:lnTo>
                      <a:pt x="44" y="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040360" y="3252960"/>
                <a:ext cx="71280" cy="433080"/>
              </a:xfrm>
              <a:custGeom>
                <a:avLst/>
                <a:gdLst/>
                <a:ahLst/>
                <a:rect l="l" t="t" r="r" b="b"/>
                <a:pathLst>
                  <a:path w="45" h="273">
                    <a:moveTo>
                      <a:pt x="0" y="0"/>
                    </a:moveTo>
                    <a:lnTo>
                      <a:pt x="2" y="5"/>
                    </a:lnTo>
                    <a:lnTo>
                      <a:pt x="4" y="10"/>
                    </a:lnTo>
                    <a:lnTo>
                      <a:pt x="5" y="15"/>
                    </a:lnTo>
                    <a:lnTo>
                      <a:pt x="6" y="22"/>
                    </a:lnTo>
                    <a:lnTo>
                      <a:pt x="9" y="37"/>
                    </a:lnTo>
                    <a:lnTo>
                      <a:pt x="12" y="54"/>
                    </a:lnTo>
                    <a:lnTo>
                      <a:pt x="15" y="72"/>
                    </a:lnTo>
                    <a:lnTo>
                      <a:pt x="17" y="94"/>
                    </a:lnTo>
                    <a:lnTo>
                      <a:pt x="20" y="115"/>
                    </a:lnTo>
                    <a:lnTo>
                      <a:pt x="23" y="136"/>
                    </a:lnTo>
                    <a:lnTo>
                      <a:pt x="26" y="158"/>
                    </a:lnTo>
                    <a:lnTo>
                      <a:pt x="29" y="180"/>
                    </a:lnTo>
                    <a:lnTo>
                      <a:pt x="31" y="200"/>
                    </a:lnTo>
                    <a:lnTo>
                      <a:pt x="34" y="219"/>
                    </a:lnTo>
                    <a:lnTo>
                      <a:pt x="37" y="236"/>
                    </a:lnTo>
                    <a:lnTo>
                      <a:pt x="40" y="251"/>
                    </a:lnTo>
                    <a:lnTo>
                      <a:pt x="41" y="257"/>
                    </a:lnTo>
                    <a:lnTo>
                      <a:pt x="42" y="264"/>
                    </a:lnTo>
                    <a:lnTo>
                      <a:pt x="44" y="269"/>
                    </a:lnTo>
                    <a:lnTo>
                      <a:pt x="45" y="273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111640" y="3619440"/>
                <a:ext cx="7164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42"/>
                    </a:moveTo>
                    <a:lnTo>
                      <a:pt x="2" y="46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10" y="49"/>
                    </a:lnTo>
                    <a:lnTo>
                      <a:pt x="13" y="47"/>
                    </a:lnTo>
                    <a:lnTo>
                      <a:pt x="16" y="44"/>
                    </a:lnTo>
                    <a:lnTo>
                      <a:pt x="19" y="40"/>
                    </a:lnTo>
                    <a:lnTo>
                      <a:pt x="22" y="36"/>
                    </a:lnTo>
                    <a:lnTo>
                      <a:pt x="28" y="25"/>
                    </a:lnTo>
                    <a:lnTo>
                      <a:pt x="34" y="15"/>
                    </a:lnTo>
                    <a:lnTo>
                      <a:pt x="39" y="6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183280" y="354960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44"/>
                    </a:moveTo>
                    <a:lnTo>
                      <a:pt x="11" y="32"/>
                    </a:lnTo>
                    <a:lnTo>
                      <a:pt x="22" y="20"/>
                    </a:lnTo>
                    <a:lnTo>
                      <a:pt x="33" y="9"/>
                    </a:lnTo>
                    <a:lnTo>
                      <a:pt x="38" y="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253120" y="3537000"/>
                <a:ext cx="73080" cy="1260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8"/>
                    </a:moveTo>
                    <a:lnTo>
                      <a:pt x="6" y="6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6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326200" y="3449520"/>
                <a:ext cx="69840" cy="8748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55"/>
                    </a:moveTo>
                    <a:lnTo>
                      <a:pt x="6" y="49"/>
                    </a:lnTo>
                    <a:lnTo>
                      <a:pt x="11" y="44"/>
                    </a:lnTo>
                    <a:lnTo>
                      <a:pt x="17" y="37"/>
                    </a:lnTo>
                    <a:lnTo>
                      <a:pt x="22" y="30"/>
                    </a:lnTo>
                    <a:lnTo>
                      <a:pt x="33" y="15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396040" y="336060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45" h="56">
                    <a:moveTo>
                      <a:pt x="0" y="56"/>
                    </a:moveTo>
                    <a:lnTo>
                      <a:pt x="5" y="48"/>
                    </a:lnTo>
                    <a:lnTo>
                      <a:pt x="11" y="39"/>
                    </a:lnTo>
                    <a:lnTo>
                      <a:pt x="16" y="30"/>
                    </a:lnTo>
                    <a:lnTo>
                      <a:pt x="22" y="19"/>
                    </a:lnTo>
                    <a:lnTo>
                      <a:pt x="28" y="11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467320" y="3360600"/>
                <a:ext cx="69840" cy="128880"/>
              </a:xfrm>
              <a:custGeom>
                <a:avLst/>
                <a:gdLst/>
                <a:ahLst/>
                <a:rect l="l" t="t" r="r" b="b"/>
                <a:pathLst>
                  <a:path w="44" h="81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1" y="13"/>
                    </a:lnTo>
                    <a:lnTo>
                      <a:pt x="14" y="19"/>
                    </a:lnTo>
                    <a:lnTo>
                      <a:pt x="16" y="27"/>
                    </a:lnTo>
                    <a:lnTo>
                      <a:pt x="22" y="40"/>
                    </a:lnTo>
                    <a:lnTo>
                      <a:pt x="28" y="54"/>
                    </a:lnTo>
                    <a:lnTo>
                      <a:pt x="33" y="67"/>
                    </a:lnTo>
                    <a:lnTo>
                      <a:pt x="36" y="72"/>
                    </a:lnTo>
                    <a:lnTo>
                      <a:pt x="39" y="76"/>
                    </a:lnTo>
                    <a:lnTo>
                      <a:pt x="41" y="79"/>
                    </a:lnTo>
                    <a:lnTo>
                      <a:pt x="44" y="8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537160" y="3419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4"/>
                    </a:moveTo>
                    <a:lnTo>
                      <a:pt x="3" y="45"/>
                    </a:lnTo>
                    <a:lnTo>
                      <a:pt x="5" y="44"/>
                    </a:lnTo>
                    <a:lnTo>
                      <a:pt x="8" y="43"/>
                    </a:lnTo>
                    <a:lnTo>
                      <a:pt x="11" y="42"/>
                    </a:lnTo>
                    <a:lnTo>
                      <a:pt x="16" y="37"/>
                    </a:lnTo>
                    <a:lnTo>
                      <a:pt x="22" y="30"/>
                    </a:lnTo>
                    <a:lnTo>
                      <a:pt x="29" y="22"/>
                    </a:lnTo>
                    <a:lnTo>
                      <a:pt x="34" y="14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608800" y="334008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0" y="50"/>
                    </a:moveTo>
                    <a:lnTo>
                      <a:pt x="3" y="47"/>
                    </a:lnTo>
                    <a:lnTo>
                      <a:pt x="5" y="43"/>
                    </a:lnTo>
                    <a:lnTo>
                      <a:pt x="11" y="34"/>
                    </a:lnTo>
                    <a:lnTo>
                      <a:pt x="16" y="23"/>
                    </a:lnTo>
                    <a:lnTo>
                      <a:pt x="22" y="13"/>
                    </a:lnTo>
                    <a:lnTo>
                      <a:pt x="25" y="9"/>
                    </a:lnTo>
                    <a:lnTo>
                      <a:pt x="27" y="5"/>
                    </a:lnTo>
                    <a:lnTo>
                      <a:pt x="30" y="2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2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678640" y="3349800"/>
                <a:ext cx="72720" cy="304560"/>
              </a:xfrm>
              <a:custGeom>
                <a:avLst/>
                <a:gdLst/>
                <a:ahLst/>
                <a:rect l="l" t="t" r="r" b="b"/>
                <a:pathLst>
                  <a:path w="46" h="192">
                    <a:moveTo>
                      <a:pt x="0" y="0"/>
                    </a:moveTo>
                    <a:lnTo>
                      <a:pt x="3" y="6"/>
                    </a:lnTo>
                    <a:lnTo>
                      <a:pt x="6" y="14"/>
                    </a:lnTo>
                    <a:lnTo>
                      <a:pt x="8" y="25"/>
                    </a:lnTo>
                    <a:lnTo>
                      <a:pt x="11" y="38"/>
                    </a:lnTo>
                    <a:lnTo>
                      <a:pt x="14" y="51"/>
                    </a:lnTo>
                    <a:lnTo>
                      <a:pt x="17" y="65"/>
                    </a:lnTo>
                    <a:lnTo>
                      <a:pt x="22" y="96"/>
                    </a:lnTo>
                    <a:lnTo>
                      <a:pt x="29" y="128"/>
                    </a:lnTo>
                    <a:lnTo>
                      <a:pt x="32" y="142"/>
                    </a:lnTo>
                    <a:lnTo>
                      <a:pt x="35" y="155"/>
                    </a:lnTo>
                    <a:lnTo>
                      <a:pt x="38" y="167"/>
                    </a:lnTo>
                    <a:lnTo>
                      <a:pt x="40" y="178"/>
                    </a:lnTo>
                    <a:lnTo>
                      <a:pt x="43" y="186"/>
                    </a:lnTo>
                    <a:lnTo>
                      <a:pt x="46" y="19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51360" y="3586320"/>
                <a:ext cx="69840" cy="7920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0" y="43"/>
                    </a:moveTo>
                    <a:lnTo>
                      <a:pt x="3" y="47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7" y="44"/>
                    </a:lnTo>
                    <a:lnTo>
                      <a:pt x="19" y="40"/>
                    </a:lnTo>
                    <a:lnTo>
                      <a:pt x="22" y="36"/>
                    </a:lnTo>
                    <a:lnTo>
                      <a:pt x="28" y="26"/>
                    </a:lnTo>
                    <a:lnTo>
                      <a:pt x="33" y="16"/>
                    </a:lnTo>
                    <a:lnTo>
                      <a:pt x="39" y="7"/>
                    </a:lnTo>
                    <a:lnTo>
                      <a:pt x="41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821200" y="35146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5"/>
                    </a:moveTo>
                    <a:lnTo>
                      <a:pt x="5" y="39"/>
                    </a:lnTo>
                    <a:lnTo>
                      <a:pt x="11" y="33"/>
                    </a:lnTo>
                    <a:lnTo>
                      <a:pt x="23" y="20"/>
                    </a:lnTo>
                    <a:lnTo>
                      <a:pt x="29" y="14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892840" y="351324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1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962680" y="343692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52"/>
                    </a:moveTo>
                    <a:lnTo>
                      <a:pt x="5" y="48"/>
                    </a:lnTo>
                    <a:lnTo>
                      <a:pt x="11" y="43"/>
                    </a:lnTo>
                    <a:lnTo>
                      <a:pt x="17" y="36"/>
                    </a:lnTo>
                    <a:lnTo>
                      <a:pt x="23" y="29"/>
                    </a:lnTo>
                    <a:lnTo>
                      <a:pt x="34" y="14"/>
                    </a:lnTo>
                    <a:lnTo>
                      <a:pt x="40" y="7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6033960" y="334656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3" y="53"/>
                    </a:lnTo>
                    <a:lnTo>
                      <a:pt x="5" y="49"/>
                    </a:lnTo>
                    <a:lnTo>
                      <a:pt x="11" y="39"/>
                    </a:lnTo>
                    <a:lnTo>
                      <a:pt x="16" y="26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0" y="3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2"/>
                    </a:lnTo>
                    <a:lnTo>
                      <a:pt x="44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103800" y="3355920"/>
                <a:ext cx="73080" cy="320760"/>
              </a:xfrm>
              <a:custGeom>
                <a:avLst/>
                <a:gdLst/>
                <a:ahLst/>
                <a:rect l="l" t="t" r="r" b="b"/>
                <a:pathLst>
                  <a:path w="46" h="202">
                    <a:moveTo>
                      <a:pt x="0" y="0"/>
                    </a:moveTo>
                    <a:lnTo>
                      <a:pt x="3" y="6"/>
                    </a:lnTo>
                    <a:lnTo>
                      <a:pt x="6" y="15"/>
                    </a:lnTo>
                    <a:lnTo>
                      <a:pt x="8" y="26"/>
                    </a:lnTo>
                    <a:lnTo>
                      <a:pt x="12" y="39"/>
                    </a:lnTo>
                    <a:lnTo>
                      <a:pt x="15" y="53"/>
                    </a:lnTo>
                    <a:lnTo>
                      <a:pt x="18" y="68"/>
                    </a:lnTo>
                    <a:lnTo>
                      <a:pt x="23" y="100"/>
                    </a:lnTo>
                    <a:lnTo>
                      <a:pt x="29" y="133"/>
                    </a:lnTo>
                    <a:lnTo>
                      <a:pt x="32" y="148"/>
                    </a:lnTo>
                    <a:lnTo>
                      <a:pt x="35" y="162"/>
                    </a:lnTo>
                    <a:lnTo>
                      <a:pt x="38" y="175"/>
                    </a:lnTo>
                    <a:lnTo>
                      <a:pt x="40" y="186"/>
                    </a:lnTo>
                    <a:lnTo>
                      <a:pt x="43" y="196"/>
                    </a:lnTo>
                    <a:lnTo>
                      <a:pt x="46" y="202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176880" y="361476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39"/>
                    </a:moveTo>
                    <a:lnTo>
                      <a:pt x="3" y="43"/>
                    </a:lnTo>
                    <a:lnTo>
                      <a:pt x="5" y="45"/>
                    </a:lnTo>
                    <a:lnTo>
                      <a:pt x="8" y="46"/>
                    </a:lnTo>
                    <a:lnTo>
                      <a:pt x="11" y="46"/>
                    </a:lnTo>
                    <a:lnTo>
                      <a:pt x="14" y="44"/>
                    </a:lnTo>
                    <a:lnTo>
                      <a:pt x="16" y="41"/>
                    </a:lnTo>
                    <a:lnTo>
                      <a:pt x="19" y="38"/>
                    </a:lnTo>
                    <a:lnTo>
                      <a:pt x="22" y="34"/>
                    </a:lnTo>
                    <a:lnTo>
                      <a:pt x="28" y="24"/>
                    </a:lnTo>
                    <a:lnTo>
                      <a:pt x="33" y="15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246720" y="3551400"/>
                <a:ext cx="71640" cy="6336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0" y="40"/>
                    </a:moveTo>
                    <a:lnTo>
                      <a:pt x="12" y="30"/>
                    </a:lnTo>
                    <a:lnTo>
                      <a:pt x="23" y="18"/>
                    </a:lnTo>
                    <a:lnTo>
                      <a:pt x="34" y="8"/>
                    </a:lnTo>
                    <a:lnTo>
                      <a:pt x="40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318360" y="3527280"/>
                <a:ext cx="71280" cy="2412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15"/>
                    </a:moveTo>
                    <a:lnTo>
                      <a:pt x="5" y="12"/>
                    </a:lnTo>
                    <a:lnTo>
                      <a:pt x="11" y="11"/>
                    </a:lnTo>
                    <a:lnTo>
                      <a:pt x="22" y="9"/>
                    </a:lnTo>
                    <a:lnTo>
                      <a:pt x="28" y="8"/>
                    </a:lnTo>
                    <a:lnTo>
                      <a:pt x="33" y="7"/>
                    </a:lnTo>
                    <a:lnTo>
                      <a:pt x="39" y="4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389640" y="34448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52"/>
                    </a:moveTo>
                    <a:lnTo>
                      <a:pt x="5" y="47"/>
                    </a:lnTo>
                    <a:lnTo>
                      <a:pt x="11" y="42"/>
                    </a:lnTo>
                    <a:lnTo>
                      <a:pt x="22" y="28"/>
                    </a:lnTo>
                    <a:lnTo>
                      <a:pt x="33" y="14"/>
                    </a:lnTo>
                    <a:lnTo>
                      <a:pt x="44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459480" y="335916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54"/>
                    </a:moveTo>
                    <a:lnTo>
                      <a:pt x="5" y="47"/>
                    </a:lnTo>
                    <a:lnTo>
                      <a:pt x="11" y="38"/>
                    </a:lnTo>
                    <a:lnTo>
                      <a:pt x="16" y="28"/>
                    </a:lnTo>
                    <a:lnTo>
                      <a:pt x="22" y="18"/>
                    </a:lnTo>
                    <a:lnTo>
                      <a:pt x="27" y="10"/>
                    </a:lnTo>
                    <a:lnTo>
                      <a:pt x="33" y="4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5" y="1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531120" y="3360600"/>
                <a:ext cx="71280" cy="13680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0" y="0"/>
                    </a:moveTo>
                    <a:lnTo>
                      <a:pt x="3" y="2"/>
                    </a:lnTo>
                    <a:lnTo>
                      <a:pt x="6" y="5"/>
                    </a:lnTo>
                    <a:lnTo>
                      <a:pt x="8" y="9"/>
                    </a:lnTo>
                    <a:lnTo>
                      <a:pt x="11" y="15"/>
                    </a:lnTo>
                    <a:lnTo>
                      <a:pt x="14" y="22"/>
                    </a:lnTo>
                    <a:lnTo>
                      <a:pt x="17" y="28"/>
                    </a:lnTo>
                    <a:lnTo>
                      <a:pt x="22" y="43"/>
                    </a:lnTo>
                    <a:lnTo>
                      <a:pt x="28" y="57"/>
                    </a:lnTo>
                    <a:lnTo>
                      <a:pt x="31" y="64"/>
                    </a:lnTo>
                    <a:lnTo>
                      <a:pt x="34" y="71"/>
                    </a:lnTo>
                    <a:lnTo>
                      <a:pt x="37" y="76"/>
                    </a:lnTo>
                    <a:lnTo>
                      <a:pt x="39" y="81"/>
                    </a:lnTo>
                    <a:lnTo>
                      <a:pt x="42" y="84"/>
                    </a:lnTo>
                    <a:lnTo>
                      <a:pt x="45" y="8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6602400" y="3429000"/>
                <a:ext cx="71280" cy="6984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0" y="43"/>
                    </a:moveTo>
                    <a:lnTo>
                      <a:pt x="3" y="44"/>
                    </a:lnTo>
                    <a:lnTo>
                      <a:pt x="6" y="44"/>
                    </a:lnTo>
                    <a:lnTo>
                      <a:pt x="8" y="43"/>
                    </a:lnTo>
                    <a:lnTo>
                      <a:pt x="11" y="41"/>
                    </a:lnTo>
                    <a:lnTo>
                      <a:pt x="17" y="36"/>
                    </a:lnTo>
                    <a:lnTo>
                      <a:pt x="22" y="30"/>
                    </a:lnTo>
                    <a:lnTo>
                      <a:pt x="28" y="22"/>
                    </a:lnTo>
                    <a:lnTo>
                      <a:pt x="33" y="14"/>
                    </a:lnTo>
                    <a:lnTo>
                      <a:pt x="40" y="6"/>
                    </a:lnTo>
                    <a:lnTo>
                      <a:pt x="45" y="0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5" name=""/>
            <p:cNvSpPr/>
            <p:nvPr/>
          </p:nvSpPr>
          <p:spPr>
            <a:xfrm>
              <a:off x="6673680" y="3355920"/>
              <a:ext cx="7020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0" y="46"/>
                  </a:moveTo>
                  <a:lnTo>
                    <a:pt x="5" y="40"/>
                  </a:lnTo>
                  <a:lnTo>
                    <a:pt x="11" y="33"/>
                  </a:lnTo>
                  <a:lnTo>
                    <a:pt x="22" y="17"/>
                  </a:lnTo>
                  <a:lnTo>
                    <a:pt x="28" y="11"/>
                  </a:lnTo>
                  <a:lnTo>
                    <a:pt x="33" y="5"/>
                  </a:lnTo>
                  <a:lnTo>
                    <a:pt x="39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6743880" y="335592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6" y="13"/>
                  </a:lnTo>
                  <a:lnTo>
                    <a:pt x="22" y="21"/>
                  </a:lnTo>
                  <a:lnTo>
                    <a:pt x="28" y="30"/>
                  </a:lnTo>
                  <a:lnTo>
                    <a:pt x="34" y="36"/>
                  </a:lnTo>
                  <a:lnTo>
                    <a:pt x="40" y="41"/>
                  </a:lnTo>
                  <a:lnTo>
                    <a:pt x="42" y="43"/>
                  </a:lnTo>
                  <a:lnTo>
                    <a:pt x="45" y="43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6815160" y="335772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42"/>
                  </a:moveTo>
                  <a:lnTo>
                    <a:pt x="5" y="41"/>
                  </a:lnTo>
                  <a:lnTo>
                    <a:pt x="11" y="38"/>
                  </a:lnTo>
                  <a:lnTo>
                    <a:pt x="16" y="33"/>
                  </a:lnTo>
                  <a:lnTo>
                    <a:pt x="22" y="27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6885000" y="3289320"/>
              <a:ext cx="7308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0" y="43"/>
                  </a:moveTo>
                  <a:lnTo>
                    <a:pt x="6" y="37"/>
                  </a:lnTo>
                  <a:lnTo>
                    <a:pt x="11" y="31"/>
                  </a:lnTo>
                  <a:lnTo>
                    <a:pt x="22" y="18"/>
                  </a:lnTo>
                  <a:lnTo>
                    <a:pt x="29" y="12"/>
                  </a:lnTo>
                  <a:lnTo>
                    <a:pt x="35" y="7"/>
                  </a:lnTo>
                  <a:lnTo>
                    <a:pt x="40" y="3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6958080" y="3287880"/>
              <a:ext cx="6984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2" y="5"/>
                  </a:lnTo>
                  <a:lnTo>
                    <a:pt x="28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4" y="9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7027920" y="3224160"/>
              <a:ext cx="71280" cy="777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0" y="49"/>
                  </a:moveTo>
                  <a:lnTo>
                    <a:pt x="5" y="46"/>
                  </a:lnTo>
                  <a:lnTo>
                    <a:pt x="11" y="41"/>
                  </a:lnTo>
                  <a:lnTo>
                    <a:pt x="16" y="35"/>
                  </a:lnTo>
                  <a:lnTo>
                    <a:pt x="23" y="28"/>
                  </a:lnTo>
                  <a:lnTo>
                    <a:pt x="34" y="13"/>
                  </a:lnTo>
                  <a:lnTo>
                    <a:pt x="40" y="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099200" y="313992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0" y="53"/>
                  </a:moveTo>
                  <a:lnTo>
                    <a:pt x="2" y="51"/>
                  </a:lnTo>
                  <a:lnTo>
                    <a:pt x="4" y="47"/>
                  </a:lnTo>
                  <a:lnTo>
                    <a:pt x="6" y="43"/>
                  </a:lnTo>
                  <a:lnTo>
                    <a:pt x="9" y="38"/>
                  </a:lnTo>
                  <a:lnTo>
                    <a:pt x="15" y="27"/>
                  </a:lnTo>
                  <a:lnTo>
                    <a:pt x="22" y="16"/>
                  </a:lnTo>
                  <a:lnTo>
                    <a:pt x="25" y="11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7169040" y="3152880"/>
              <a:ext cx="71640" cy="604800"/>
            </a:xfrm>
            <a:custGeom>
              <a:avLst/>
              <a:gdLst/>
              <a:ahLst/>
              <a:rect l="l" t="t" r="r" b="b"/>
              <a:pathLst>
                <a:path w="45" h="381">
                  <a:moveTo>
                    <a:pt x="0" y="0"/>
                  </a:moveTo>
                  <a:lnTo>
                    <a:pt x="1" y="6"/>
                  </a:lnTo>
                  <a:lnTo>
                    <a:pt x="3" y="13"/>
                  </a:lnTo>
                  <a:lnTo>
                    <a:pt x="4" y="21"/>
                  </a:lnTo>
                  <a:lnTo>
                    <a:pt x="5" y="30"/>
                  </a:lnTo>
                  <a:lnTo>
                    <a:pt x="7" y="40"/>
                  </a:lnTo>
                  <a:lnTo>
                    <a:pt x="8" y="51"/>
                  </a:lnTo>
                  <a:lnTo>
                    <a:pt x="10" y="62"/>
                  </a:lnTo>
                  <a:lnTo>
                    <a:pt x="11" y="75"/>
                  </a:lnTo>
                  <a:lnTo>
                    <a:pt x="14" y="102"/>
                  </a:lnTo>
                  <a:lnTo>
                    <a:pt x="17" y="130"/>
                  </a:lnTo>
                  <a:lnTo>
                    <a:pt x="20" y="160"/>
                  </a:lnTo>
                  <a:lnTo>
                    <a:pt x="23" y="190"/>
                  </a:lnTo>
                  <a:lnTo>
                    <a:pt x="26" y="220"/>
                  </a:lnTo>
                  <a:lnTo>
                    <a:pt x="29" y="251"/>
                  </a:lnTo>
                  <a:lnTo>
                    <a:pt x="31" y="279"/>
                  </a:lnTo>
                  <a:lnTo>
                    <a:pt x="34" y="305"/>
                  </a:lnTo>
                  <a:lnTo>
                    <a:pt x="35" y="318"/>
                  </a:lnTo>
                  <a:lnTo>
                    <a:pt x="37" y="330"/>
                  </a:lnTo>
                  <a:lnTo>
                    <a:pt x="38" y="341"/>
                  </a:lnTo>
                  <a:lnTo>
                    <a:pt x="40" y="351"/>
                  </a:lnTo>
                  <a:lnTo>
                    <a:pt x="41" y="360"/>
                  </a:lnTo>
                  <a:lnTo>
                    <a:pt x="42" y="368"/>
                  </a:lnTo>
                  <a:lnTo>
                    <a:pt x="44" y="375"/>
                  </a:lnTo>
                  <a:lnTo>
                    <a:pt x="45" y="38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7240680" y="3689280"/>
              <a:ext cx="69840" cy="810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0" y="43"/>
                  </a:moveTo>
                  <a:lnTo>
                    <a:pt x="2" y="48"/>
                  </a:lnTo>
                  <a:lnTo>
                    <a:pt x="4" y="50"/>
                  </a:lnTo>
                  <a:lnTo>
                    <a:pt x="6" y="51"/>
                  </a:lnTo>
                  <a:lnTo>
                    <a:pt x="9" y="50"/>
                  </a:lnTo>
                  <a:lnTo>
                    <a:pt x="12" y="48"/>
                  </a:lnTo>
                  <a:lnTo>
                    <a:pt x="15" y="45"/>
                  </a:lnTo>
                  <a:lnTo>
                    <a:pt x="19" y="40"/>
                  </a:lnTo>
                  <a:lnTo>
                    <a:pt x="22" y="36"/>
                  </a:lnTo>
                  <a:lnTo>
                    <a:pt x="29" y="25"/>
                  </a:lnTo>
                  <a:lnTo>
                    <a:pt x="35" y="14"/>
                  </a:lnTo>
                  <a:lnTo>
                    <a:pt x="38" y="9"/>
                  </a:lnTo>
                  <a:lnTo>
                    <a:pt x="40" y="5"/>
                  </a:lnTo>
                  <a:lnTo>
                    <a:pt x="42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310520" y="36133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48"/>
                  </a:moveTo>
                  <a:lnTo>
                    <a:pt x="12" y="36"/>
                  </a:lnTo>
                  <a:lnTo>
                    <a:pt x="23" y="23"/>
                  </a:lnTo>
                  <a:lnTo>
                    <a:pt x="35" y="1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7383600" y="355284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38"/>
                  </a:moveTo>
                  <a:lnTo>
                    <a:pt x="11" y="28"/>
                  </a:lnTo>
                  <a:lnTo>
                    <a:pt x="22" y="20"/>
                  </a:lnTo>
                  <a:lnTo>
                    <a:pt x="33" y="11"/>
                  </a:lnTo>
                  <a:lnTo>
                    <a:pt x="39" y="6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7453440" y="3456000"/>
              <a:ext cx="71280" cy="96840"/>
            </a:xfrm>
            <a:custGeom>
              <a:avLst/>
              <a:gdLst/>
              <a:ahLst/>
              <a:rect l="l" t="t" r="r" b="b"/>
              <a:pathLst>
                <a:path w="45" h="61">
                  <a:moveTo>
                    <a:pt x="0" y="61"/>
                  </a:moveTo>
                  <a:lnTo>
                    <a:pt x="12" y="48"/>
                  </a:lnTo>
                  <a:lnTo>
                    <a:pt x="23" y="31"/>
                  </a:lnTo>
                  <a:lnTo>
                    <a:pt x="34" y="1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524720" y="336060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60"/>
                  </a:moveTo>
                  <a:lnTo>
                    <a:pt x="11" y="44"/>
                  </a:lnTo>
                  <a:lnTo>
                    <a:pt x="22" y="28"/>
                  </a:lnTo>
                  <a:lnTo>
                    <a:pt x="28" y="19"/>
                  </a:lnTo>
                  <a:lnTo>
                    <a:pt x="33" y="12"/>
                  </a:lnTo>
                  <a:lnTo>
                    <a:pt x="39" y="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7594560" y="3328920"/>
              <a:ext cx="7164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0" y="20"/>
                  </a:moveTo>
                  <a:lnTo>
                    <a:pt x="6" y="16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23" y="10"/>
                  </a:lnTo>
                  <a:lnTo>
                    <a:pt x="29" y="9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7666200" y="3232080"/>
              <a:ext cx="71280" cy="96840"/>
            </a:xfrm>
            <a:custGeom>
              <a:avLst/>
              <a:gdLst/>
              <a:ahLst/>
              <a:rect l="l" t="t" r="r" b="b"/>
              <a:pathLst>
                <a:path w="45" h="61">
                  <a:moveTo>
                    <a:pt x="0" y="61"/>
                  </a:moveTo>
                  <a:lnTo>
                    <a:pt x="5" y="55"/>
                  </a:lnTo>
                  <a:lnTo>
                    <a:pt x="11" y="49"/>
                  </a:lnTo>
                  <a:lnTo>
                    <a:pt x="16" y="41"/>
                  </a:lnTo>
                  <a:lnTo>
                    <a:pt x="22" y="33"/>
                  </a:lnTo>
                  <a:lnTo>
                    <a:pt x="33" y="16"/>
                  </a:lnTo>
                  <a:lnTo>
                    <a:pt x="38" y="7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737480" y="3147840"/>
              <a:ext cx="7128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3"/>
                  </a:moveTo>
                  <a:lnTo>
                    <a:pt x="6" y="45"/>
                  </a:lnTo>
                  <a:lnTo>
                    <a:pt x="11" y="35"/>
                  </a:lnTo>
                  <a:lnTo>
                    <a:pt x="17" y="25"/>
                  </a:lnTo>
                  <a:lnTo>
                    <a:pt x="22" y="16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7808760" y="3151080"/>
              <a:ext cx="71640" cy="208080"/>
            </a:xfrm>
            <a:custGeom>
              <a:avLst/>
              <a:gdLst/>
              <a:ahLst/>
              <a:rect l="l" t="t" r="r" b="b"/>
              <a:pathLst>
                <a:path w="45" h="131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8" y="16"/>
                  </a:lnTo>
                  <a:lnTo>
                    <a:pt x="11" y="24"/>
                  </a:lnTo>
                  <a:lnTo>
                    <a:pt x="14" y="33"/>
                  </a:lnTo>
                  <a:lnTo>
                    <a:pt x="17" y="44"/>
                  </a:lnTo>
                  <a:lnTo>
                    <a:pt x="22" y="65"/>
                  </a:lnTo>
                  <a:lnTo>
                    <a:pt x="28" y="88"/>
                  </a:lnTo>
                  <a:lnTo>
                    <a:pt x="30" y="98"/>
                  </a:lnTo>
                  <a:lnTo>
                    <a:pt x="33" y="107"/>
                  </a:lnTo>
                  <a:lnTo>
                    <a:pt x="37" y="115"/>
                  </a:lnTo>
                  <a:lnTo>
                    <a:pt x="40" y="122"/>
                  </a:lnTo>
                  <a:lnTo>
                    <a:pt x="42" y="128"/>
                  </a:lnTo>
                  <a:lnTo>
                    <a:pt x="45" y="13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7880400" y="3271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5"/>
                  </a:moveTo>
                  <a:lnTo>
                    <a:pt x="3" y="57"/>
                  </a:lnTo>
                  <a:lnTo>
                    <a:pt x="5" y="57"/>
                  </a:lnTo>
                  <a:lnTo>
                    <a:pt x="8" y="56"/>
                  </a:lnTo>
                  <a:lnTo>
                    <a:pt x="11" y="54"/>
                  </a:lnTo>
                  <a:lnTo>
                    <a:pt x="14" y="52"/>
                  </a:lnTo>
                  <a:lnTo>
                    <a:pt x="16" y="48"/>
                  </a:lnTo>
                  <a:lnTo>
                    <a:pt x="22" y="39"/>
                  </a:lnTo>
                  <a:lnTo>
                    <a:pt x="28" y="29"/>
                  </a:lnTo>
                  <a:lnTo>
                    <a:pt x="33" y="18"/>
                  </a:lnTo>
                  <a:lnTo>
                    <a:pt x="39" y="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950240" y="3176640"/>
              <a:ext cx="71280" cy="9504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0" y="60"/>
                  </a:moveTo>
                  <a:lnTo>
                    <a:pt x="5" y="52"/>
                  </a:lnTo>
                  <a:lnTo>
                    <a:pt x="11" y="43"/>
                  </a:lnTo>
                  <a:lnTo>
                    <a:pt x="22" y="26"/>
                  </a:lnTo>
                  <a:lnTo>
                    <a:pt x="28" y="18"/>
                  </a:lnTo>
                  <a:lnTo>
                    <a:pt x="34" y="11"/>
                  </a:lnTo>
                  <a:lnTo>
                    <a:pt x="40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8021520" y="3165480"/>
              <a:ext cx="69840" cy="11160"/>
            </a:xfrm>
            <a:custGeom>
              <a:avLst/>
              <a:gdLst/>
              <a:ahLst/>
              <a:rect l="l" t="t" r="r" b="b"/>
              <a:pathLst>
                <a:path w="44" h="7">
                  <a:moveTo>
                    <a:pt x="0" y="7"/>
                  </a:moveTo>
                  <a:lnTo>
                    <a:pt x="5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066680" y="1614600"/>
              <a:ext cx="69840" cy="12852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0" y="81"/>
                  </a:moveTo>
                  <a:lnTo>
                    <a:pt x="5" y="70"/>
                  </a:lnTo>
                  <a:lnTo>
                    <a:pt x="11" y="57"/>
                  </a:lnTo>
                  <a:lnTo>
                    <a:pt x="16" y="44"/>
                  </a:lnTo>
                  <a:lnTo>
                    <a:pt x="22" y="31"/>
                  </a:lnTo>
                  <a:lnTo>
                    <a:pt x="27" y="19"/>
                  </a:lnTo>
                  <a:lnTo>
                    <a:pt x="30" y="14"/>
                  </a:lnTo>
                  <a:lnTo>
                    <a:pt x="33" y="10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136520" y="1614600"/>
              <a:ext cx="73080" cy="12672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9" y="8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4"/>
                  </a:lnTo>
                  <a:lnTo>
                    <a:pt x="23" y="38"/>
                  </a:lnTo>
                  <a:lnTo>
                    <a:pt x="29" y="53"/>
                  </a:lnTo>
                  <a:lnTo>
                    <a:pt x="32" y="59"/>
                  </a:lnTo>
                  <a:lnTo>
                    <a:pt x="35" y="65"/>
                  </a:lnTo>
                  <a:lnTo>
                    <a:pt x="38" y="71"/>
                  </a:lnTo>
                  <a:lnTo>
                    <a:pt x="40" y="75"/>
                  </a:lnTo>
                  <a:lnTo>
                    <a:pt x="43" y="78"/>
                  </a:lnTo>
                  <a:lnTo>
                    <a:pt x="4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209600" y="166860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6"/>
                  </a:moveTo>
                  <a:lnTo>
                    <a:pt x="3" y="47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11" y="43"/>
                  </a:lnTo>
                  <a:lnTo>
                    <a:pt x="17" y="37"/>
                  </a:lnTo>
                  <a:lnTo>
                    <a:pt x="22" y="30"/>
                  </a:lnTo>
                  <a:lnTo>
                    <a:pt x="28" y="22"/>
                  </a:lnTo>
                  <a:lnTo>
                    <a:pt x="33" y="14"/>
                  </a:lnTo>
                  <a:lnTo>
                    <a:pt x="39" y="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281240" y="15987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2" y="42"/>
                  </a:lnTo>
                  <a:lnTo>
                    <a:pt x="4" y="39"/>
                  </a:lnTo>
                  <a:lnTo>
                    <a:pt x="10" y="31"/>
                  </a:lnTo>
                  <a:lnTo>
                    <a:pt x="16" y="22"/>
                  </a:lnTo>
                  <a:lnTo>
                    <a:pt x="22" y="12"/>
                  </a:lnTo>
                  <a:lnTo>
                    <a:pt x="25" y="8"/>
                  </a:lnTo>
                  <a:lnTo>
                    <a:pt x="28" y="4"/>
                  </a:lnTo>
                  <a:lnTo>
                    <a:pt x="31" y="2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351080" y="1609560"/>
              <a:ext cx="71280" cy="441360"/>
            </a:xfrm>
            <a:custGeom>
              <a:avLst/>
              <a:gdLst/>
              <a:ahLst/>
              <a:rect l="l" t="t" r="r" b="b"/>
              <a:pathLst>
                <a:path w="45" h="278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4" y="74"/>
                  </a:lnTo>
                  <a:lnTo>
                    <a:pt x="16" y="95"/>
                  </a:lnTo>
                  <a:lnTo>
                    <a:pt x="19" y="117"/>
                  </a:lnTo>
                  <a:lnTo>
                    <a:pt x="22" y="139"/>
                  </a:lnTo>
                  <a:lnTo>
                    <a:pt x="25" y="161"/>
                  </a:lnTo>
                  <a:lnTo>
                    <a:pt x="28" y="183"/>
                  </a:lnTo>
                  <a:lnTo>
                    <a:pt x="30" y="204"/>
                  </a:lnTo>
                  <a:lnTo>
                    <a:pt x="33" y="223"/>
                  </a:lnTo>
                  <a:lnTo>
                    <a:pt x="36" y="240"/>
                  </a:lnTo>
                  <a:lnTo>
                    <a:pt x="40" y="255"/>
                  </a:lnTo>
                  <a:lnTo>
                    <a:pt x="41" y="262"/>
                  </a:lnTo>
                  <a:lnTo>
                    <a:pt x="42" y="269"/>
                  </a:lnTo>
                  <a:lnTo>
                    <a:pt x="44" y="274"/>
                  </a:lnTo>
                  <a:lnTo>
                    <a:pt x="45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422360" y="199548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35"/>
                  </a:moveTo>
                  <a:lnTo>
                    <a:pt x="2" y="39"/>
                  </a:lnTo>
                  <a:lnTo>
                    <a:pt x="4" y="41"/>
                  </a:lnTo>
                  <a:lnTo>
                    <a:pt x="7" y="42"/>
                  </a:lnTo>
                  <a:lnTo>
                    <a:pt x="10" y="42"/>
                  </a:lnTo>
                  <a:lnTo>
                    <a:pt x="13" y="40"/>
                  </a:lnTo>
                  <a:lnTo>
                    <a:pt x="16" y="37"/>
                  </a:lnTo>
                  <a:lnTo>
                    <a:pt x="19" y="34"/>
                  </a:lnTo>
                  <a:lnTo>
                    <a:pt x="22" y="30"/>
                  </a:lnTo>
                  <a:lnTo>
                    <a:pt x="28" y="21"/>
                  </a:lnTo>
                  <a:lnTo>
                    <a:pt x="34" y="12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492200" y="1943280"/>
              <a:ext cx="71640" cy="522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33"/>
                  </a:moveTo>
                  <a:lnTo>
                    <a:pt x="5" y="28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2" y="8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3"/>
                  </a:lnTo>
                  <a:lnTo>
                    <a:pt x="4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563840" y="1952640"/>
              <a:ext cx="71280" cy="272880"/>
            </a:xfrm>
            <a:custGeom>
              <a:avLst/>
              <a:gdLst/>
              <a:ahLst/>
              <a:rect l="l" t="t" r="r" b="b"/>
              <a:pathLst>
                <a:path w="45" h="172">
                  <a:moveTo>
                    <a:pt x="0" y="0"/>
                  </a:moveTo>
                  <a:lnTo>
                    <a:pt x="3" y="6"/>
                  </a:lnTo>
                  <a:lnTo>
                    <a:pt x="6" y="13"/>
                  </a:lnTo>
                  <a:lnTo>
                    <a:pt x="8" y="22"/>
                  </a:lnTo>
                  <a:lnTo>
                    <a:pt x="11" y="33"/>
                  </a:lnTo>
                  <a:lnTo>
                    <a:pt x="14" y="45"/>
                  </a:lnTo>
                  <a:lnTo>
                    <a:pt x="17" y="59"/>
                  </a:lnTo>
                  <a:lnTo>
                    <a:pt x="22" y="86"/>
                  </a:lnTo>
                  <a:lnTo>
                    <a:pt x="28" y="113"/>
                  </a:lnTo>
                  <a:lnTo>
                    <a:pt x="31" y="125"/>
                  </a:lnTo>
                  <a:lnTo>
                    <a:pt x="34" y="138"/>
                  </a:lnTo>
                  <a:lnTo>
                    <a:pt x="37" y="149"/>
                  </a:lnTo>
                  <a:lnTo>
                    <a:pt x="39" y="158"/>
                  </a:lnTo>
                  <a:lnTo>
                    <a:pt x="42" y="166"/>
                  </a:lnTo>
                  <a:lnTo>
                    <a:pt x="45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35120" y="21938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20"/>
                  </a:moveTo>
                  <a:lnTo>
                    <a:pt x="2" y="23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22" y="20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706400" y="21574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9" y="16"/>
                  </a:lnTo>
                  <a:lnTo>
                    <a:pt x="15" y="11"/>
                  </a:lnTo>
                  <a:lnTo>
                    <a:pt x="22" y="5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776240" y="2170080"/>
              <a:ext cx="71640" cy="530280"/>
            </a:xfrm>
            <a:custGeom>
              <a:avLst/>
              <a:gdLst/>
              <a:ahLst/>
              <a:rect l="l" t="t" r="r" b="b"/>
              <a:pathLst>
                <a:path w="45" h="334">
                  <a:moveTo>
                    <a:pt x="0" y="0"/>
                  </a:moveTo>
                  <a:lnTo>
                    <a:pt x="1" y="5"/>
                  </a:lnTo>
                  <a:lnTo>
                    <a:pt x="3" y="12"/>
                  </a:lnTo>
                  <a:lnTo>
                    <a:pt x="4" y="19"/>
                  </a:lnTo>
                  <a:lnTo>
                    <a:pt x="5" y="27"/>
                  </a:lnTo>
                  <a:lnTo>
                    <a:pt x="7" y="36"/>
                  </a:lnTo>
                  <a:lnTo>
                    <a:pt x="8" y="46"/>
                  </a:lnTo>
                  <a:lnTo>
                    <a:pt x="11" y="67"/>
                  </a:lnTo>
                  <a:lnTo>
                    <a:pt x="14" y="91"/>
                  </a:lnTo>
                  <a:lnTo>
                    <a:pt x="16" y="115"/>
                  </a:lnTo>
                  <a:lnTo>
                    <a:pt x="19" y="141"/>
                  </a:lnTo>
                  <a:lnTo>
                    <a:pt x="22" y="167"/>
                  </a:lnTo>
                  <a:lnTo>
                    <a:pt x="26" y="194"/>
                  </a:lnTo>
                  <a:lnTo>
                    <a:pt x="29" y="219"/>
                  </a:lnTo>
                  <a:lnTo>
                    <a:pt x="31" y="244"/>
                  </a:lnTo>
                  <a:lnTo>
                    <a:pt x="34" y="268"/>
                  </a:lnTo>
                  <a:lnTo>
                    <a:pt x="37" y="288"/>
                  </a:lnTo>
                  <a:lnTo>
                    <a:pt x="38" y="298"/>
                  </a:lnTo>
                  <a:lnTo>
                    <a:pt x="40" y="307"/>
                  </a:lnTo>
                  <a:lnTo>
                    <a:pt x="41" y="315"/>
                  </a:lnTo>
                  <a:lnTo>
                    <a:pt x="42" y="322"/>
                  </a:lnTo>
                  <a:lnTo>
                    <a:pt x="44" y="329"/>
                  </a:lnTo>
                  <a:lnTo>
                    <a:pt x="45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847880" y="26748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16"/>
                  </a:moveTo>
                  <a:lnTo>
                    <a:pt x="1" y="20"/>
                  </a:lnTo>
                  <a:lnTo>
                    <a:pt x="3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22" y="17"/>
                  </a:lnTo>
                  <a:lnTo>
                    <a:pt x="29" y="12"/>
                  </a:lnTo>
                  <a:lnTo>
                    <a:pt x="35" y="7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917720" y="263520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25"/>
                  </a:moveTo>
                  <a:lnTo>
                    <a:pt x="5" y="22"/>
                  </a:lnTo>
                  <a:lnTo>
                    <a:pt x="10" y="17"/>
                  </a:lnTo>
                  <a:lnTo>
                    <a:pt x="16" y="12"/>
                  </a:lnTo>
                  <a:lnTo>
                    <a:pt x="23" y="7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3" y="4"/>
                  </a:lnTo>
                  <a:lnTo>
                    <a:pt x="45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989000" y="2646360"/>
              <a:ext cx="71640" cy="279360"/>
            </a:xfrm>
            <a:custGeom>
              <a:avLst/>
              <a:gdLst/>
              <a:ahLst/>
              <a:rect l="l" t="t" r="r" b="b"/>
              <a:pathLst>
                <a:path w="45" h="176">
                  <a:moveTo>
                    <a:pt x="0" y="0"/>
                  </a:moveTo>
                  <a:lnTo>
                    <a:pt x="3" y="6"/>
                  </a:lnTo>
                  <a:lnTo>
                    <a:pt x="6" y="14"/>
                  </a:lnTo>
                  <a:lnTo>
                    <a:pt x="8" y="24"/>
                  </a:lnTo>
                  <a:lnTo>
                    <a:pt x="11" y="35"/>
                  </a:lnTo>
                  <a:lnTo>
                    <a:pt x="14" y="48"/>
                  </a:lnTo>
                  <a:lnTo>
                    <a:pt x="17" y="61"/>
                  </a:lnTo>
                  <a:lnTo>
                    <a:pt x="22" y="89"/>
                  </a:lnTo>
                  <a:lnTo>
                    <a:pt x="28" y="116"/>
                  </a:lnTo>
                  <a:lnTo>
                    <a:pt x="31" y="130"/>
                  </a:lnTo>
                  <a:lnTo>
                    <a:pt x="34" y="142"/>
                  </a:lnTo>
                  <a:lnTo>
                    <a:pt x="37" y="153"/>
                  </a:lnTo>
                  <a:lnTo>
                    <a:pt x="39" y="163"/>
                  </a:lnTo>
                  <a:lnTo>
                    <a:pt x="42" y="170"/>
                  </a:lnTo>
                  <a:lnTo>
                    <a:pt x="45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2060640" y="2876400"/>
              <a:ext cx="71280" cy="5904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31"/>
                  </a:moveTo>
                  <a:lnTo>
                    <a:pt x="3" y="35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7" y="34"/>
                  </a:lnTo>
                  <a:lnTo>
                    <a:pt x="23" y="28"/>
                  </a:lnTo>
                  <a:lnTo>
                    <a:pt x="29" y="20"/>
                  </a:lnTo>
                  <a:lnTo>
                    <a:pt x="34" y="12"/>
                  </a:lnTo>
                  <a:lnTo>
                    <a:pt x="40" y="5"/>
                  </a:lnTo>
                  <a:lnTo>
                    <a:pt x="42" y="2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2131920" y="2813040"/>
              <a:ext cx="69840" cy="633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40"/>
                  </a:moveTo>
                  <a:lnTo>
                    <a:pt x="2" y="38"/>
                  </a:lnTo>
                  <a:lnTo>
                    <a:pt x="4" y="36"/>
                  </a:lnTo>
                  <a:lnTo>
                    <a:pt x="9" y="29"/>
                  </a:lnTo>
                  <a:lnTo>
                    <a:pt x="15" y="19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2201760" y="2824200"/>
              <a:ext cx="71640" cy="455400"/>
            </a:xfrm>
            <a:custGeom>
              <a:avLst/>
              <a:gdLst/>
              <a:ahLst/>
              <a:rect l="l" t="t" r="r" b="b"/>
              <a:pathLst>
                <a:path w="45" h="287">
                  <a:moveTo>
                    <a:pt x="0" y="0"/>
                  </a:moveTo>
                  <a:lnTo>
                    <a:pt x="1" y="4"/>
                  </a:lnTo>
                  <a:lnTo>
                    <a:pt x="3" y="10"/>
                  </a:lnTo>
                  <a:lnTo>
                    <a:pt x="4" y="17"/>
                  </a:lnTo>
                  <a:lnTo>
                    <a:pt x="5" y="23"/>
                  </a:lnTo>
                  <a:lnTo>
                    <a:pt x="8" y="39"/>
                  </a:lnTo>
                  <a:lnTo>
                    <a:pt x="12" y="57"/>
                  </a:lnTo>
                  <a:lnTo>
                    <a:pt x="15" y="77"/>
                  </a:lnTo>
                  <a:lnTo>
                    <a:pt x="17" y="98"/>
                  </a:lnTo>
                  <a:lnTo>
                    <a:pt x="20" y="121"/>
                  </a:lnTo>
                  <a:lnTo>
                    <a:pt x="23" y="144"/>
                  </a:lnTo>
                  <a:lnTo>
                    <a:pt x="26" y="166"/>
                  </a:lnTo>
                  <a:lnTo>
                    <a:pt x="29" y="189"/>
                  </a:lnTo>
                  <a:lnTo>
                    <a:pt x="31" y="211"/>
                  </a:lnTo>
                  <a:lnTo>
                    <a:pt x="34" y="230"/>
                  </a:lnTo>
                  <a:lnTo>
                    <a:pt x="37" y="248"/>
                  </a:lnTo>
                  <a:lnTo>
                    <a:pt x="40" y="264"/>
                  </a:lnTo>
                  <a:lnTo>
                    <a:pt x="41" y="270"/>
                  </a:lnTo>
                  <a:lnTo>
                    <a:pt x="42" y="277"/>
                  </a:lnTo>
                  <a:lnTo>
                    <a:pt x="44" y="283"/>
                  </a:lnTo>
                  <a:lnTo>
                    <a:pt x="45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2273400" y="32209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37"/>
                  </a:moveTo>
                  <a:lnTo>
                    <a:pt x="2" y="41"/>
                  </a:lnTo>
                  <a:lnTo>
                    <a:pt x="4" y="43"/>
                  </a:lnTo>
                  <a:lnTo>
                    <a:pt x="7" y="44"/>
                  </a:lnTo>
                  <a:lnTo>
                    <a:pt x="10" y="44"/>
                  </a:lnTo>
                  <a:lnTo>
                    <a:pt x="13" y="42"/>
                  </a:lnTo>
                  <a:lnTo>
                    <a:pt x="16" y="39"/>
                  </a:lnTo>
                  <a:lnTo>
                    <a:pt x="19" y="36"/>
                  </a:lnTo>
                  <a:lnTo>
                    <a:pt x="22" y="32"/>
                  </a:lnTo>
                  <a:lnTo>
                    <a:pt x="28" y="23"/>
                  </a:lnTo>
                  <a:lnTo>
                    <a:pt x="34" y="13"/>
                  </a:lnTo>
                  <a:lnTo>
                    <a:pt x="40" y="5"/>
                  </a:lnTo>
                  <a:lnTo>
                    <a:pt x="42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2343240" y="3151080"/>
              <a:ext cx="71280" cy="698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4"/>
                  </a:moveTo>
                  <a:lnTo>
                    <a:pt x="2" y="42"/>
                  </a:lnTo>
                  <a:lnTo>
                    <a:pt x="5" y="39"/>
                  </a:lnTo>
                  <a:lnTo>
                    <a:pt x="11" y="31"/>
                  </a:lnTo>
                  <a:lnTo>
                    <a:pt x="17" y="21"/>
                  </a:lnTo>
                  <a:lnTo>
                    <a:pt x="23" y="12"/>
                  </a:lnTo>
                  <a:lnTo>
                    <a:pt x="26" y="8"/>
                  </a:lnTo>
                  <a:lnTo>
                    <a:pt x="29" y="5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3" y="3"/>
                  </a:lnTo>
                  <a:lnTo>
                    <a:pt x="45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2414520" y="3162240"/>
              <a:ext cx="71640" cy="392040"/>
            </a:xfrm>
            <a:custGeom>
              <a:avLst/>
              <a:gdLst/>
              <a:ahLst/>
              <a:rect l="l" t="t" r="r" b="b"/>
              <a:pathLst>
                <a:path w="45" h="247">
                  <a:moveTo>
                    <a:pt x="0" y="0"/>
                  </a:moveTo>
                  <a:lnTo>
                    <a:pt x="1" y="4"/>
                  </a:lnTo>
                  <a:lnTo>
                    <a:pt x="3" y="8"/>
                  </a:lnTo>
                  <a:lnTo>
                    <a:pt x="6" y="19"/>
                  </a:lnTo>
                  <a:lnTo>
                    <a:pt x="8" y="33"/>
                  </a:lnTo>
                  <a:lnTo>
                    <a:pt x="11" y="48"/>
                  </a:lnTo>
                  <a:lnTo>
                    <a:pt x="14" y="66"/>
                  </a:lnTo>
                  <a:lnTo>
                    <a:pt x="17" y="85"/>
                  </a:lnTo>
                  <a:lnTo>
                    <a:pt x="20" y="104"/>
                  </a:lnTo>
                  <a:lnTo>
                    <a:pt x="22" y="124"/>
                  </a:lnTo>
                  <a:lnTo>
                    <a:pt x="25" y="143"/>
                  </a:lnTo>
                  <a:lnTo>
                    <a:pt x="28" y="164"/>
                  </a:lnTo>
                  <a:lnTo>
                    <a:pt x="31" y="182"/>
                  </a:lnTo>
                  <a:lnTo>
                    <a:pt x="34" y="199"/>
                  </a:lnTo>
                  <a:lnTo>
                    <a:pt x="37" y="214"/>
                  </a:lnTo>
                  <a:lnTo>
                    <a:pt x="39" y="228"/>
                  </a:lnTo>
                  <a:lnTo>
                    <a:pt x="42" y="239"/>
                  </a:lnTo>
                  <a:lnTo>
                    <a:pt x="44" y="243"/>
                  </a:lnTo>
                  <a:lnTo>
                    <a:pt x="45" y="2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2486160" y="3476520"/>
              <a:ext cx="71280" cy="9072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0" y="49"/>
                  </a:moveTo>
                  <a:lnTo>
                    <a:pt x="4" y="54"/>
                  </a:lnTo>
                  <a:lnTo>
                    <a:pt x="6" y="56"/>
                  </a:lnTo>
                  <a:lnTo>
                    <a:pt x="9" y="57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7" y="51"/>
                  </a:lnTo>
                  <a:lnTo>
                    <a:pt x="20" y="47"/>
                  </a:lnTo>
                  <a:lnTo>
                    <a:pt x="23" y="42"/>
                  </a:lnTo>
                  <a:lnTo>
                    <a:pt x="29" y="29"/>
                  </a:lnTo>
                  <a:lnTo>
                    <a:pt x="34" y="18"/>
                  </a:lnTo>
                  <a:lnTo>
                    <a:pt x="40" y="7"/>
                  </a:lnTo>
                  <a:lnTo>
                    <a:pt x="42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2557440" y="3386160"/>
              <a:ext cx="71640" cy="9036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0" y="57"/>
                  </a:moveTo>
                  <a:lnTo>
                    <a:pt x="3" y="53"/>
                  </a:lnTo>
                  <a:lnTo>
                    <a:pt x="5" y="49"/>
                  </a:lnTo>
                  <a:lnTo>
                    <a:pt x="11" y="39"/>
                  </a:lnTo>
                  <a:lnTo>
                    <a:pt x="16" y="27"/>
                  </a:lnTo>
                  <a:lnTo>
                    <a:pt x="22" y="16"/>
                  </a:lnTo>
                  <a:lnTo>
                    <a:pt x="25" y="11"/>
                  </a:lnTo>
                  <a:lnTo>
                    <a:pt x="28" y="7"/>
                  </a:lnTo>
                  <a:lnTo>
                    <a:pt x="30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3"/>
                  </a:lnTo>
                  <a:lnTo>
                    <a:pt x="45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2629080" y="3398760"/>
              <a:ext cx="69840" cy="346320"/>
            </a:xfrm>
            <a:custGeom>
              <a:avLst/>
              <a:gdLst/>
              <a:ahLst/>
              <a:rect l="l" t="t" r="r" b="b"/>
              <a:pathLst>
                <a:path w="44" h="218">
                  <a:moveTo>
                    <a:pt x="0" y="0"/>
                  </a:moveTo>
                  <a:lnTo>
                    <a:pt x="1" y="3"/>
                  </a:lnTo>
                  <a:lnTo>
                    <a:pt x="3" y="7"/>
                  </a:lnTo>
                  <a:lnTo>
                    <a:pt x="5" y="16"/>
                  </a:lnTo>
                  <a:lnTo>
                    <a:pt x="8" y="28"/>
                  </a:lnTo>
                  <a:lnTo>
                    <a:pt x="11" y="42"/>
                  </a:lnTo>
                  <a:lnTo>
                    <a:pt x="14" y="57"/>
                  </a:lnTo>
                  <a:lnTo>
                    <a:pt x="16" y="74"/>
                  </a:lnTo>
                  <a:lnTo>
                    <a:pt x="19" y="92"/>
                  </a:lnTo>
                  <a:lnTo>
                    <a:pt x="22" y="110"/>
                  </a:lnTo>
                  <a:lnTo>
                    <a:pt x="25" y="127"/>
                  </a:lnTo>
                  <a:lnTo>
                    <a:pt x="28" y="144"/>
                  </a:lnTo>
                  <a:lnTo>
                    <a:pt x="30" y="161"/>
                  </a:lnTo>
                  <a:lnTo>
                    <a:pt x="33" y="177"/>
                  </a:lnTo>
                  <a:lnTo>
                    <a:pt x="36" y="191"/>
                  </a:lnTo>
                  <a:lnTo>
                    <a:pt x="39" y="202"/>
                  </a:lnTo>
                  <a:lnTo>
                    <a:pt x="41" y="212"/>
                  </a:lnTo>
                  <a:lnTo>
                    <a:pt x="43" y="215"/>
                  </a:lnTo>
                  <a:lnTo>
                    <a:pt x="44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2698920" y="3651120"/>
              <a:ext cx="71280" cy="10332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0" y="59"/>
                  </a:moveTo>
                  <a:lnTo>
                    <a:pt x="3" y="63"/>
                  </a:lnTo>
                  <a:lnTo>
                    <a:pt x="5" y="65"/>
                  </a:lnTo>
                  <a:lnTo>
                    <a:pt x="8" y="65"/>
                  </a:lnTo>
                  <a:lnTo>
                    <a:pt x="11" y="64"/>
                  </a:lnTo>
                  <a:lnTo>
                    <a:pt x="14" y="61"/>
                  </a:lnTo>
                  <a:lnTo>
                    <a:pt x="16" y="57"/>
                  </a:lnTo>
                  <a:lnTo>
                    <a:pt x="19" y="53"/>
                  </a:lnTo>
                  <a:lnTo>
                    <a:pt x="22" y="47"/>
                  </a:lnTo>
                  <a:lnTo>
                    <a:pt x="28" y="35"/>
                  </a:lnTo>
                  <a:lnTo>
                    <a:pt x="33" y="22"/>
                  </a:lnTo>
                  <a:lnTo>
                    <a:pt x="40" y="10"/>
                  </a:lnTo>
                  <a:lnTo>
                    <a:pt x="42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770200" y="3544920"/>
              <a:ext cx="69840" cy="1062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67"/>
                  </a:moveTo>
                  <a:lnTo>
                    <a:pt x="3" y="63"/>
                  </a:lnTo>
                  <a:lnTo>
                    <a:pt x="5" y="58"/>
                  </a:lnTo>
                  <a:lnTo>
                    <a:pt x="11" y="45"/>
                  </a:lnTo>
                  <a:lnTo>
                    <a:pt x="16" y="32"/>
                  </a:lnTo>
                  <a:lnTo>
                    <a:pt x="22" y="19"/>
                  </a:lnTo>
                  <a:lnTo>
                    <a:pt x="25" y="13"/>
                  </a:lnTo>
                  <a:lnTo>
                    <a:pt x="27" y="8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2840040" y="3556080"/>
              <a:ext cx="73080" cy="371520"/>
            </a:xfrm>
            <a:custGeom>
              <a:avLst/>
              <a:gdLst/>
              <a:ahLst/>
              <a:rect l="l" t="t" r="r" b="b"/>
              <a:pathLst>
                <a:path w="46" h="234">
                  <a:moveTo>
                    <a:pt x="0" y="0"/>
                  </a:moveTo>
                  <a:lnTo>
                    <a:pt x="1" y="3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8" y="30"/>
                  </a:lnTo>
                  <a:lnTo>
                    <a:pt x="11" y="44"/>
                  </a:lnTo>
                  <a:lnTo>
                    <a:pt x="14" y="61"/>
                  </a:lnTo>
                  <a:lnTo>
                    <a:pt x="17" y="80"/>
                  </a:lnTo>
                  <a:lnTo>
                    <a:pt x="20" y="98"/>
                  </a:lnTo>
                  <a:lnTo>
                    <a:pt x="22" y="117"/>
                  </a:lnTo>
                  <a:lnTo>
                    <a:pt x="25" y="136"/>
                  </a:lnTo>
                  <a:lnTo>
                    <a:pt x="28" y="156"/>
                  </a:lnTo>
                  <a:lnTo>
                    <a:pt x="31" y="174"/>
                  </a:lnTo>
                  <a:lnTo>
                    <a:pt x="35" y="190"/>
                  </a:lnTo>
                  <a:lnTo>
                    <a:pt x="38" y="205"/>
                  </a:lnTo>
                  <a:lnTo>
                    <a:pt x="40" y="217"/>
                  </a:lnTo>
                  <a:lnTo>
                    <a:pt x="42" y="222"/>
                  </a:lnTo>
                  <a:lnTo>
                    <a:pt x="43" y="227"/>
                  </a:lnTo>
                  <a:lnTo>
                    <a:pt x="45" y="231"/>
                  </a:lnTo>
                  <a:lnTo>
                    <a:pt x="4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913120" y="3825720"/>
              <a:ext cx="69840" cy="11304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0" y="64"/>
                  </a:moveTo>
                  <a:lnTo>
                    <a:pt x="3" y="68"/>
                  </a:lnTo>
                  <a:lnTo>
                    <a:pt x="6" y="71"/>
                  </a:lnTo>
                  <a:lnTo>
                    <a:pt x="8" y="71"/>
                  </a:lnTo>
                  <a:lnTo>
                    <a:pt x="11" y="70"/>
                  </a:lnTo>
                  <a:lnTo>
                    <a:pt x="14" y="66"/>
                  </a:lnTo>
                  <a:lnTo>
                    <a:pt x="17" y="62"/>
                  </a:lnTo>
                  <a:lnTo>
                    <a:pt x="19" y="57"/>
                  </a:lnTo>
                  <a:lnTo>
                    <a:pt x="22" y="51"/>
                  </a:lnTo>
                  <a:lnTo>
                    <a:pt x="28" y="37"/>
                  </a:lnTo>
                  <a:lnTo>
                    <a:pt x="33" y="23"/>
                  </a:lnTo>
                  <a:lnTo>
                    <a:pt x="39" y="10"/>
                  </a:lnTo>
                  <a:lnTo>
                    <a:pt x="41" y="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982960" y="372096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66"/>
                  </a:moveTo>
                  <a:lnTo>
                    <a:pt x="5" y="57"/>
                  </a:lnTo>
                  <a:lnTo>
                    <a:pt x="11" y="46"/>
                  </a:lnTo>
                  <a:lnTo>
                    <a:pt x="16" y="35"/>
                  </a:lnTo>
                  <a:lnTo>
                    <a:pt x="22" y="25"/>
                  </a:lnTo>
                  <a:lnTo>
                    <a:pt x="29" y="16"/>
                  </a:lnTo>
                  <a:lnTo>
                    <a:pt x="34" y="8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054240" y="372096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6" y="18"/>
                  </a:lnTo>
                  <a:lnTo>
                    <a:pt x="22" y="28"/>
                  </a:lnTo>
                  <a:lnTo>
                    <a:pt x="28" y="39"/>
                  </a:lnTo>
                  <a:lnTo>
                    <a:pt x="33" y="48"/>
                  </a:lnTo>
                  <a:lnTo>
                    <a:pt x="36" y="52"/>
                  </a:lnTo>
                  <a:lnTo>
                    <a:pt x="39" y="55"/>
                  </a:lnTo>
                  <a:lnTo>
                    <a:pt x="41" y="57"/>
                  </a:lnTo>
                  <a:lnTo>
                    <a:pt x="44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124080" y="3700440"/>
              <a:ext cx="71640" cy="11124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0" y="70"/>
                  </a:moveTo>
                  <a:lnTo>
                    <a:pt x="3" y="69"/>
                  </a:lnTo>
                  <a:lnTo>
                    <a:pt x="5" y="67"/>
                  </a:lnTo>
                  <a:lnTo>
                    <a:pt x="8" y="65"/>
                  </a:lnTo>
                  <a:lnTo>
                    <a:pt x="11" y="61"/>
                  </a:lnTo>
                  <a:lnTo>
                    <a:pt x="16" y="52"/>
                  </a:lnTo>
                  <a:lnTo>
                    <a:pt x="22" y="42"/>
                  </a:lnTo>
                  <a:lnTo>
                    <a:pt x="28" y="31"/>
                  </a:lnTo>
                  <a:lnTo>
                    <a:pt x="34" y="20"/>
                  </a:lnTo>
                  <a:lnTo>
                    <a:pt x="39" y="9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195720" y="358308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3" y="69"/>
                  </a:lnTo>
                  <a:lnTo>
                    <a:pt x="6" y="64"/>
                  </a:lnTo>
                  <a:lnTo>
                    <a:pt x="11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5" y="16"/>
                  </a:lnTo>
                  <a:lnTo>
                    <a:pt x="28" y="10"/>
                  </a:lnTo>
                  <a:lnTo>
                    <a:pt x="31" y="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267000" y="3589200"/>
              <a:ext cx="71640" cy="319320"/>
            </a:xfrm>
            <a:custGeom>
              <a:avLst/>
              <a:gdLst/>
              <a:ahLst/>
              <a:rect l="l" t="t" r="r" b="b"/>
              <a:pathLst>
                <a:path w="45" h="2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6" y="14"/>
                  </a:lnTo>
                  <a:lnTo>
                    <a:pt x="8" y="24"/>
                  </a:lnTo>
                  <a:lnTo>
                    <a:pt x="11" y="37"/>
                  </a:lnTo>
                  <a:lnTo>
                    <a:pt x="14" y="52"/>
                  </a:lnTo>
                  <a:lnTo>
                    <a:pt x="18" y="67"/>
                  </a:lnTo>
                  <a:lnTo>
                    <a:pt x="20" y="83"/>
                  </a:lnTo>
                  <a:lnTo>
                    <a:pt x="23" y="100"/>
                  </a:lnTo>
                  <a:lnTo>
                    <a:pt x="26" y="116"/>
                  </a:lnTo>
                  <a:lnTo>
                    <a:pt x="29" y="134"/>
                  </a:lnTo>
                  <a:lnTo>
                    <a:pt x="31" y="149"/>
                  </a:lnTo>
                  <a:lnTo>
                    <a:pt x="34" y="163"/>
                  </a:lnTo>
                  <a:lnTo>
                    <a:pt x="37" y="176"/>
                  </a:lnTo>
                  <a:lnTo>
                    <a:pt x="39" y="187"/>
                  </a:lnTo>
                  <a:lnTo>
                    <a:pt x="42" y="195"/>
                  </a:lnTo>
                  <a:lnTo>
                    <a:pt x="44" y="198"/>
                  </a:lnTo>
                  <a:lnTo>
                    <a:pt x="45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338640" y="3813120"/>
              <a:ext cx="69840" cy="10332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0"/>
                  </a:moveTo>
                  <a:lnTo>
                    <a:pt x="3" y="63"/>
                  </a:lnTo>
                  <a:lnTo>
                    <a:pt x="5" y="65"/>
                  </a:lnTo>
                  <a:lnTo>
                    <a:pt x="8" y="65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6" y="57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8" y="34"/>
                  </a:lnTo>
                  <a:lnTo>
                    <a:pt x="33" y="21"/>
                  </a:lnTo>
                  <a:lnTo>
                    <a:pt x="39" y="9"/>
                  </a:lnTo>
                  <a:lnTo>
                    <a:pt x="41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408480" y="371304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0" y="63"/>
                  </a:moveTo>
                  <a:lnTo>
                    <a:pt x="5" y="54"/>
                  </a:lnTo>
                  <a:lnTo>
                    <a:pt x="11" y="44"/>
                  </a:lnTo>
                  <a:lnTo>
                    <a:pt x="17" y="34"/>
                  </a:lnTo>
                  <a:lnTo>
                    <a:pt x="23" y="24"/>
                  </a:lnTo>
                  <a:lnTo>
                    <a:pt x="29" y="15"/>
                  </a:lnTo>
                  <a:lnTo>
                    <a:pt x="34" y="8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479760" y="3713040"/>
              <a:ext cx="69840" cy="810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1" y="8"/>
                  </a:lnTo>
                  <a:lnTo>
                    <a:pt x="16" y="16"/>
                  </a:lnTo>
                  <a:lnTo>
                    <a:pt x="22" y="26"/>
                  </a:lnTo>
                  <a:lnTo>
                    <a:pt x="28" y="36"/>
                  </a:lnTo>
                  <a:lnTo>
                    <a:pt x="33" y="44"/>
                  </a:lnTo>
                  <a:lnTo>
                    <a:pt x="36" y="47"/>
                  </a:lnTo>
                  <a:lnTo>
                    <a:pt x="39" y="50"/>
                  </a:lnTo>
                  <a:lnTo>
                    <a:pt x="41" y="51"/>
                  </a:lnTo>
                  <a:lnTo>
                    <a:pt x="44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549600" y="3684600"/>
              <a:ext cx="71640" cy="10944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0" y="69"/>
                  </a:moveTo>
                  <a:lnTo>
                    <a:pt x="3" y="68"/>
                  </a:lnTo>
                  <a:lnTo>
                    <a:pt x="5" y="66"/>
                  </a:lnTo>
                  <a:lnTo>
                    <a:pt x="8" y="63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3" y="42"/>
                  </a:lnTo>
                  <a:lnTo>
                    <a:pt x="28" y="31"/>
                  </a:lnTo>
                  <a:lnTo>
                    <a:pt x="34" y="20"/>
                  </a:lnTo>
                  <a:lnTo>
                    <a:pt x="39" y="9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621240" y="3557520"/>
              <a:ext cx="71280" cy="12708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0" y="80"/>
                  </a:moveTo>
                  <a:lnTo>
                    <a:pt x="3" y="75"/>
                  </a:lnTo>
                  <a:lnTo>
                    <a:pt x="6" y="69"/>
                  </a:lnTo>
                  <a:lnTo>
                    <a:pt x="8" y="61"/>
                  </a:lnTo>
                  <a:lnTo>
                    <a:pt x="11" y="53"/>
                  </a:lnTo>
                  <a:lnTo>
                    <a:pt x="17" y="37"/>
                  </a:lnTo>
                  <a:lnTo>
                    <a:pt x="22" y="22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31" y="5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5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692520" y="3573360"/>
              <a:ext cx="71280" cy="473040"/>
            </a:xfrm>
            <a:custGeom>
              <a:avLst/>
              <a:gdLst/>
              <a:ahLst/>
              <a:rect l="l" t="t" r="r" b="b"/>
              <a:pathLst>
                <a:path w="45" h="298">
                  <a:moveTo>
                    <a:pt x="0" y="0"/>
                  </a:moveTo>
                  <a:lnTo>
                    <a:pt x="1" y="4"/>
                  </a:lnTo>
                  <a:lnTo>
                    <a:pt x="4" y="9"/>
                  </a:lnTo>
                  <a:lnTo>
                    <a:pt x="5" y="15"/>
                  </a:lnTo>
                  <a:lnTo>
                    <a:pt x="7" y="22"/>
                  </a:lnTo>
                  <a:lnTo>
                    <a:pt x="8" y="29"/>
                  </a:lnTo>
                  <a:lnTo>
                    <a:pt x="9" y="38"/>
                  </a:lnTo>
                  <a:lnTo>
                    <a:pt x="12" y="56"/>
                  </a:lnTo>
                  <a:lnTo>
                    <a:pt x="15" y="78"/>
                  </a:lnTo>
                  <a:lnTo>
                    <a:pt x="18" y="100"/>
                  </a:lnTo>
                  <a:lnTo>
                    <a:pt x="20" y="124"/>
                  </a:lnTo>
                  <a:lnTo>
                    <a:pt x="23" y="149"/>
                  </a:lnTo>
                  <a:lnTo>
                    <a:pt x="26" y="173"/>
                  </a:lnTo>
                  <a:lnTo>
                    <a:pt x="29" y="196"/>
                  </a:lnTo>
                  <a:lnTo>
                    <a:pt x="31" y="218"/>
                  </a:lnTo>
                  <a:lnTo>
                    <a:pt x="34" y="240"/>
                  </a:lnTo>
                  <a:lnTo>
                    <a:pt x="37" y="259"/>
                  </a:lnTo>
                  <a:lnTo>
                    <a:pt x="38" y="268"/>
                  </a:lnTo>
                  <a:lnTo>
                    <a:pt x="39" y="275"/>
                  </a:lnTo>
                  <a:lnTo>
                    <a:pt x="41" y="282"/>
                  </a:lnTo>
                  <a:lnTo>
                    <a:pt x="42" y="288"/>
                  </a:lnTo>
                  <a:lnTo>
                    <a:pt x="44" y="294"/>
                  </a:lnTo>
                  <a:lnTo>
                    <a:pt x="45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763800" y="3957480"/>
              <a:ext cx="71640" cy="10332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0" y="56"/>
                  </a:moveTo>
                  <a:lnTo>
                    <a:pt x="2" y="61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4"/>
                  </a:lnTo>
                  <a:lnTo>
                    <a:pt x="13" y="61"/>
                  </a:lnTo>
                  <a:lnTo>
                    <a:pt x="16" y="57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8" y="34"/>
                  </a:lnTo>
                  <a:lnTo>
                    <a:pt x="34" y="20"/>
                  </a:lnTo>
                  <a:lnTo>
                    <a:pt x="36" y="14"/>
                  </a:lnTo>
                  <a:lnTo>
                    <a:pt x="39" y="8"/>
                  </a:lnTo>
                  <a:lnTo>
                    <a:pt x="42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835440" y="3863880"/>
              <a:ext cx="69840" cy="9360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0" y="59"/>
                  </a:moveTo>
                  <a:lnTo>
                    <a:pt x="5" y="51"/>
                  </a:lnTo>
                  <a:lnTo>
                    <a:pt x="11" y="42"/>
                  </a:lnTo>
                  <a:lnTo>
                    <a:pt x="22" y="25"/>
                  </a:lnTo>
                  <a:lnTo>
                    <a:pt x="28" y="16"/>
                  </a:lnTo>
                  <a:lnTo>
                    <a:pt x="33" y="9"/>
                  </a:lnTo>
                  <a:lnTo>
                    <a:pt x="39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905280" y="3862440"/>
              <a:ext cx="71280" cy="2844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6" y="5"/>
                  </a:lnTo>
                  <a:lnTo>
                    <a:pt x="22" y="9"/>
                  </a:lnTo>
                  <a:lnTo>
                    <a:pt x="28" y="13"/>
                  </a:lnTo>
                  <a:lnTo>
                    <a:pt x="33" y="17"/>
                  </a:lnTo>
                  <a:lnTo>
                    <a:pt x="40" y="18"/>
                  </a:lnTo>
                  <a:lnTo>
                    <a:pt x="42" y="17"/>
                  </a:lnTo>
                  <a:lnTo>
                    <a:pt x="45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976560" y="3773520"/>
              <a:ext cx="69840" cy="11412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0" y="72"/>
                  </a:moveTo>
                  <a:lnTo>
                    <a:pt x="5" y="67"/>
                  </a:lnTo>
                  <a:lnTo>
                    <a:pt x="11" y="60"/>
                  </a:lnTo>
                  <a:lnTo>
                    <a:pt x="16" y="52"/>
                  </a:lnTo>
                  <a:lnTo>
                    <a:pt x="22" y="42"/>
                  </a:lnTo>
                  <a:lnTo>
                    <a:pt x="33" y="21"/>
                  </a:lnTo>
                  <a:lnTo>
                    <a:pt x="38" y="9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046400" y="3643200"/>
              <a:ext cx="73080" cy="13032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0" y="82"/>
                  </a:moveTo>
                  <a:lnTo>
                    <a:pt x="3" y="77"/>
                  </a:lnTo>
                  <a:lnTo>
                    <a:pt x="5" y="71"/>
                  </a:lnTo>
                  <a:lnTo>
                    <a:pt x="8" y="64"/>
                  </a:lnTo>
                  <a:lnTo>
                    <a:pt x="11" y="56"/>
                  </a:lnTo>
                  <a:lnTo>
                    <a:pt x="17" y="39"/>
                  </a:lnTo>
                  <a:lnTo>
                    <a:pt x="22" y="23"/>
                  </a:lnTo>
                  <a:lnTo>
                    <a:pt x="25" y="16"/>
                  </a:lnTo>
                  <a:lnTo>
                    <a:pt x="28" y="9"/>
                  </a:lnTo>
                  <a:lnTo>
                    <a:pt x="31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4"/>
                  </a:lnTo>
                  <a:lnTo>
                    <a:pt x="45" y="7"/>
                  </a:lnTo>
                  <a:lnTo>
                    <a:pt x="4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4119480" y="3659040"/>
              <a:ext cx="69840" cy="530280"/>
            </a:xfrm>
            <a:custGeom>
              <a:avLst/>
              <a:gdLst/>
              <a:ahLst/>
              <a:rect l="l" t="t" r="r" b="b"/>
              <a:pathLst>
                <a:path w="44" h="334">
                  <a:moveTo>
                    <a:pt x="0" y="0"/>
                  </a:moveTo>
                  <a:lnTo>
                    <a:pt x="1" y="6"/>
                  </a:lnTo>
                  <a:lnTo>
                    <a:pt x="3" y="11"/>
                  </a:lnTo>
                  <a:lnTo>
                    <a:pt x="4" y="18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44"/>
                  </a:lnTo>
                  <a:lnTo>
                    <a:pt x="11" y="64"/>
                  </a:lnTo>
                  <a:lnTo>
                    <a:pt x="14" y="87"/>
                  </a:lnTo>
                  <a:lnTo>
                    <a:pt x="17" y="113"/>
                  </a:lnTo>
                  <a:lnTo>
                    <a:pt x="19" y="139"/>
                  </a:lnTo>
                  <a:lnTo>
                    <a:pt x="22" y="166"/>
                  </a:lnTo>
                  <a:lnTo>
                    <a:pt x="25" y="194"/>
                  </a:lnTo>
                  <a:lnTo>
                    <a:pt x="28" y="220"/>
                  </a:lnTo>
                  <a:lnTo>
                    <a:pt x="30" y="245"/>
                  </a:lnTo>
                  <a:lnTo>
                    <a:pt x="33" y="269"/>
                  </a:lnTo>
                  <a:lnTo>
                    <a:pt x="36" y="290"/>
                  </a:lnTo>
                  <a:lnTo>
                    <a:pt x="37" y="300"/>
                  </a:lnTo>
                  <a:lnTo>
                    <a:pt x="38" y="308"/>
                  </a:lnTo>
                  <a:lnTo>
                    <a:pt x="40" y="316"/>
                  </a:lnTo>
                  <a:lnTo>
                    <a:pt x="41" y="323"/>
                  </a:lnTo>
                  <a:lnTo>
                    <a:pt x="43" y="329"/>
                  </a:lnTo>
                  <a:lnTo>
                    <a:pt x="44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4189320" y="4102200"/>
              <a:ext cx="71640" cy="101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55"/>
                  </a:moveTo>
                  <a:lnTo>
                    <a:pt x="2" y="60"/>
                  </a:lnTo>
                  <a:lnTo>
                    <a:pt x="5" y="63"/>
                  </a:lnTo>
                  <a:lnTo>
                    <a:pt x="7" y="64"/>
                  </a:lnTo>
                  <a:lnTo>
                    <a:pt x="10" y="62"/>
                  </a:lnTo>
                  <a:lnTo>
                    <a:pt x="13" y="60"/>
                  </a:lnTo>
                  <a:lnTo>
                    <a:pt x="16" y="56"/>
                  </a:lnTo>
                  <a:lnTo>
                    <a:pt x="19" y="51"/>
                  </a:lnTo>
                  <a:lnTo>
                    <a:pt x="22" y="45"/>
                  </a:lnTo>
                  <a:lnTo>
                    <a:pt x="28" y="32"/>
                  </a:lnTo>
                  <a:lnTo>
                    <a:pt x="35" y="19"/>
                  </a:lnTo>
                  <a:lnTo>
                    <a:pt x="38" y="13"/>
                  </a:lnTo>
                  <a:lnTo>
                    <a:pt x="40" y="8"/>
                  </a:lnTo>
                  <a:lnTo>
                    <a:pt x="43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260960" y="401004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58"/>
                  </a:moveTo>
                  <a:lnTo>
                    <a:pt x="5" y="51"/>
                  </a:lnTo>
                  <a:lnTo>
                    <a:pt x="11" y="42"/>
                  </a:lnTo>
                  <a:lnTo>
                    <a:pt x="22" y="24"/>
                  </a:lnTo>
                  <a:lnTo>
                    <a:pt x="28" y="17"/>
                  </a:lnTo>
                  <a:lnTo>
                    <a:pt x="33" y="10"/>
                  </a:lnTo>
                  <a:lnTo>
                    <a:pt x="39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4330800" y="4008600"/>
              <a:ext cx="7128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2" y="7"/>
                  </a:lnTo>
                  <a:lnTo>
                    <a:pt x="29" y="10"/>
                  </a:lnTo>
                  <a:lnTo>
                    <a:pt x="34" y="13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5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4402080" y="3908520"/>
              <a:ext cx="69840" cy="1173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74"/>
                  </a:moveTo>
                  <a:lnTo>
                    <a:pt x="5" y="69"/>
                  </a:lnTo>
                  <a:lnTo>
                    <a:pt x="11" y="62"/>
                  </a:lnTo>
                  <a:lnTo>
                    <a:pt x="16" y="53"/>
                  </a:lnTo>
                  <a:lnTo>
                    <a:pt x="22" y="43"/>
                  </a:lnTo>
                  <a:lnTo>
                    <a:pt x="33" y="21"/>
                  </a:lnTo>
                  <a:lnTo>
                    <a:pt x="38" y="1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4471920" y="3778200"/>
              <a:ext cx="73080" cy="13032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0" y="82"/>
                  </a:moveTo>
                  <a:lnTo>
                    <a:pt x="3" y="77"/>
                  </a:lnTo>
                  <a:lnTo>
                    <a:pt x="6" y="70"/>
                  </a:lnTo>
                  <a:lnTo>
                    <a:pt x="8" y="63"/>
                  </a:lnTo>
                  <a:lnTo>
                    <a:pt x="11" y="55"/>
                  </a:lnTo>
                  <a:lnTo>
                    <a:pt x="17" y="39"/>
                  </a:lnTo>
                  <a:lnTo>
                    <a:pt x="23" y="23"/>
                  </a:lnTo>
                  <a:lnTo>
                    <a:pt x="26" y="16"/>
                  </a:lnTo>
                  <a:lnTo>
                    <a:pt x="29" y="9"/>
                  </a:lnTo>
                  <a:lnTo>
                    <a:pt x="32" y="5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4545000" y="3790800"/>
              <a:ext cx="69840" cy="454320"/>
            </a:xfrm>
            <a:custGeom>
              <a:avLst/>
              <a:gdLst/>
              <a:ahLst/>
              <a:rect l="l" t="t" r="r" b="b"/>
              <a:pathLst>
                <a:path w="44" h="286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5"/>
                  </a:lnTo>
                  <a:lnTo>
                    <a:pt x="6" y="22"/>
                  </a:lnTo>
                  <a:lnTo>
                    <a:pt x="7" y="29"/>
                  </a:lnTo>
                  <a:lnTo>
                    <a:pt x="8" y="37"/>
                  </a:lnTo>
                  <a:lnTo>
                    <a:pt x="11" y="54"/>
                  </a:lnTo>
                  <a:lnTo>
                    <a:pt x="14" y="74"/>
                  </a:lnTo>
                  <a:lnTo>
                    <a:pt x="17" y="97"/>
                  </a:lnTo>
                  <a:lnTo>
                    <a:pt x="19" y="119"/>
                  </a:lnTo>
                  <a:lnTo>
                    <a:pt x="22" y="142"/>
                  </a:lnTo>
                  <a:lnTo>
                    <a:pt x="25" y="165"/>
                  </a:lnTo>
                  <a:lnTo>
                    <a:pt x="28" y="188"/>
                  </a:lnTo>
                  <a:lnTo>
                    <a:pt x="30" y="210"/>
                  </a:lnTo>
                  <a:lnTo>
                    <a:pt x="33" y="230"/>
                  </a:lnTo>
                  <a:lnTo>
                    <a:pt x="36" y="248"/>
                  </a:lnTo>
                  <a:lnTo>
                    <a:pt x="37" y="256"/>
                  </a:lnTo>
                  <a:lnTo>
                    <a:pt x="38" y="264"/>
                  </a:lnTo>
                  <a:lnTo>
                    <a:pt x="40" y="271"/>
                  </a:lnTo>
                  <a:lnTo>
                    <a:pt x="41" y="277"/>
                  </a:lnTo>
                  <a:lnTo>
                    <a:pt x="43" y="282"/>
                  </a:lnTo>
                  <a:lnTo>
                    <a:pt x="4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4614840" y="415440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57"/>
                  </a:moveTo>
                  <a:lnTo>
                    <a:pt x="2" y="62"/>
                  </a:lnTo>
                  <a:lnTo>
                    <a:pt x="5" y="65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3" y="62"/>
                  </a:lnTo>
                  <a:lnTo>
                    <a:pt x="17" y="58"/>
                  </a:lnTo>
                  <a:lnTo>
                    <a:pt x="20" y="53"/>
                  </a:lnTo>
                  <a:lnTo>
                    <a:pt x="23" y="48"/>
                  </a:lnTo>
                  <a:lnTo>
                    <a:pt x="29" y="35"/>
                  </a:lnTo>
                  <a:lnTo>
                    <a:pt x="35" y="20"/>
                  </a:lnTo>
                  <a:lnTo>
                    <a:pt x="37" y="14"/>
                  </a:lnTo>
                  <a:lnTo>
                    <a:pt x="40" y="9"/>
                  </a:lnTo>
                  <a:lnTo>
                    <a:pt x="43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4686480" y="4060800"/>
              <a:ext cx="69840" cy="9360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0" y="59"/>
                  </a:moveTo>
                  <a:lnTo>
                    <a:pt x="5" y="51"/>
                  </a:lnTo>
                  <a:lnTo>
                    <a:pt x="11" y="43"/>
                  </a:lnTo>
                  <a:lnTo>
                    <a:pt x="22" y="26"/>
                  </a:lnTo>
                  <a:lnTo>
                    <a:pt x="28" y="18"/>
                  </a:lnTo>
                  <a:lnTo>
                    <a:pt x="33" y="11"/>
                  </a:lnTo>
                  <a:lnTo>
                    <a:pt x="39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4756320" y="4059360"/>
              <a:ext cx="71280" cy="237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3" y="9"/>
                  </a:lnTo>
                  <a:lnTo>
                    <a:pt x="28" y="12"/>
                  </a:lnTo>
                  <a:lnTo>
                    <a:pt x="34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5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4827600" y="3960720"/>
              <a:ext cx="71280" cy="119160"/>
            </a:xfrm>
            <a:custGeom>
              <a:avLst/>
              <a:gdLst/>
              <a:ahLst/>
              <a:rect l="l" t="t" r="r" b="b"/>
              <a:pathLst>
                <a:path w="45" h="75">
                  <a:moveTo>
                    <a:pt x="0" y="75"/>
                  </a:moveTo>
                  <a:lnTo>
                    <a:pt x="6" y="69"/>
                  </a:lnTo>
                  <a:lnTo>
                    <a:pt x="11" y="61"/>
                  </a:lnTo>
                  <a:lnTo>
                    <a:pt x="17" y="52"/>
                  </a:lnTo>
                  <a:lnTo>
                    <a:pt x="22" y="42"/>
                  </a:lnTo>
                  <a:lnTo>
                    <a:pt x="34" y="20"/>
                  </a:lnTo>
                  <a:lnTo>
                    <a:pt x="39" y="1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4898880" y="3828960"/>
              <a:ext cx="71640" cy="131760"/>
            </a:xfrm>
            <a:custGeom>
              <a:avLst/>
              <a:gdLst/>
              <a:ahLst/>
              <a:rect l="l" t="t" r="r" b="b"/>
              <a:pathLst>
                <a:path w="45" h="83">
                  <a:moveTo>
                    <a:pt x="0" y="83"/>
                  </a:moveTo>
                  <a:lnTo>
                    <a:pt x="3" y="78"/>
                  </a:lnTo>
                  <a:lnTo>
                    <a:pt x="7" y="71"/>
                  </a:lnTo>
                  <a:lnTo>
                    <a:pt x="9" y="63"/>
                  </a:lnTo>
                  <a:lnTo>
                    <a:pt x="12" y="55"/>
                  </a:lnTo>
                  <a:lnTo>
                    <a:pt x="18" y="39"/>
                  </a:lnTo>
                  <a:lnTo>
                    <a:pt x="23" y="23"/>
                  </a:lnTo>
                  <a:lnTo>
                    <a:pt x="26" y="16"/>
                  </a:lnTo>
                  <a:lnTo>
                    <a:pt x="29" y="10"/>
                  </a:lnTo>
                  <a:lnTo>
                    <a:pt x="31" y="5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3"/>
                  </a:lnTo>
                  <a:lnTo>
                    <a:pt x="45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4970520" y="3841920"/>
              <a:ext cx="69840" cy="450720"/>
            </a:xfrm>
            <a:custGeom>
              <a:avLst/>
              <a:gdLst/>
              <a:ahLst/>
              <a:rect l="l" t="t" r="r" b="b"/>
              <a:pathLst>
                <a:path w="44" h="284">
                  <a:moveTo>
                    <a:pt x="0" y="0"/>
                  </a:moveTo>
                  <a:lnTo>
                    <a:pt x="1" y="4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7" y="28"/>
                  </a:lnTo>
                  <a:lnTo>
                    <a:pt x="8" y="36"/>
                  </a:lnTo>
                  <a:lnTo>
                    <a:pt x="11" y="53"/>
                  </a:lnTo>
                  <a:lnTo>
                    <a:pt x="14" y="74"/>
                  </a:lnTo>
                  <a:lnTo>
                    <a:pt x="16" y="95"/>
                  </a:lnTo>
                  <a:lnTo>
                    <a:pt x="19" y="118"/>
                  </a:lnTo>
                  <a:lnTo>
                    <a:pt x="22" y="140"/>
                  </a:lnTo>
                  <a:lnTo>
                    <a:pt x="25" y="164"/>
                  </a:lnTo>
                  <a:lnTo>
                    <a:pt x="28" y="187"/>
                  </a:lnTo>
                  <a:lnTo>
                    <a:pt x="30" y="208"/>
                  </a:lnTo>
                  <a:lnTo>
                    <a:pt x="33" y="228"/>
                  </a:lnTo>
                  <a:lnTo>
                    <a:pt x="36" y="247"/>
                  </a:lnTo>
                  <a:lnTo>
                    <a:pt x="37" y="255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41" y="275"/>
                  </a:lnTo>
                  <a:lnTo>
                    <a:pt x="43" y="280"/>
                  </a:lnTo>
                  <a:lnTo>
                    <a:pt x="44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040360" y="420228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57"/>
                  </a:moveTo>
                  <a:lnTo>
                    <a:pt x="3" y="62"/>
                  </a:lnTo>
                  <a:lnTo>
                    <a:pt x="6" y="65"/>
                  </a:lnTo>
                  <a:lnTo>
                    <a:pt x="9" y="66"/>
                  </a:lnTo>
                  <a:lnTo>
                    <a:pt x="12" y="65"/>
                  </a:lnTo>
                  <a:lnTo>
                    <a:pt x="14" y="62"/>
                  </a:lnTo>
                  <a:lnTo>
                    <a:pt x="17" y="58"/>
                  </a:lnTo>
                  <a:lnTo>
                    <a:pt x="20" y="53"/>
                  </a:lnTo>
                  <a:lnTo>
                    <a:pt x="23" y="48"/>
                  </a:lnTo>
                  <a:lnTo>
                    <a:pt x="29" y="35"/>
                  </a:lnTo>
                  <a:lnTo>
                    <a:pt x="34" y="21"/>
                  </a:lnTo>
                  <a:lnTo>
                    <a:pt x="37" y="15"/>
                  </a:lnTo>
                  <a:lnTo>
                    <a:pt x="40" y="10"/>
                  </a:lnTo>
                  <a:lnTo>
                    <a:pt x="43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111640" y="4111560"/>
              <a:ext cx="71640" cy="9072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0" y="57"/>
                  </a:moveTo>
                  <a:lnTo>
                    <a:pt x="5" y="50"/>
                  </a:lnTo>
                  <a:lnTo>
                    <a:pt x="11" y="41"/>
                  </a:lnTo>
                  <a:lnTo>
                    <a:pt x="22" y="25"/>
                  </a:lnTo>
                  <a:lnTo>
                    <a:pt x="28" y="17"/>
                  </a:lnTo>
                  <a:lnTo>
                    <a:pt x="33" y="10"/>
                  </a:lnTo>
                  <a:lnTo>
                    <a:pt x="39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183280" y="4108320"/>
              <a:ext cx="6984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2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27" y="8"/>
                  </a:lnTo>
                  <a:lnTo>
                    <a:pt x="33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253120" y="4000680"/>
              <a:ext cx="73080" cy="1188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0" y="75"/>
                  </a:moveTo>
                  <a:lnTo>
                    <a:pt x="6" y="70"/>
                  </a:lnTo>
                  <a:lnTo>
                    <a:pt x="11" y="62"/>
                  </a:lnTo>
                  <a:lnTo>
                    <a:pt x="17" y="53"/>
                  </a:lnTo>
                  <a:lnTo>
                    <a:pt x="22" y="42"/>
                  </a:lnTo>
                  <a:lnTo>
                    <a:pt x="34" y="20"/>
                  </a:lnTo>
                  <a:lnTo>
                    <a:pt x="40" y="1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326200" y="3867120"/>
              <a:ext cx="69840" cy="133560"/>
            </a:xfrm>
            <a:custGeom>
              <a:avLst/>
              <a:gdLst/>
              <a:ahLst/>
              <a:rect l="l" t="t" r="r" b="b"/>
              <a:pathLst>
                <a:path w="44" h="84">
                  <a:moveTo>
                    <a:pt x="0" y="84"/>
                  </a:moveTo>
                  <a:lnTo>
                    <a:pt x="3" y="79"/>
                  </a:lnTo>
                  <a:lnTo>
                    <a:pt x="6" y="72"/>
                  </a:lnTo>
                  <a:lnTo>
                    <a:pt x="8" y="65"/>
                  </a:lnTo>
                  <a:lnTo>
                    <a:pt x="11" y="57"/>
                  </a:lnTo>
                  <a:lnTo>
                    <a:pt x="17" y="39"/>
                  </a:lnTo>
                  <a:lnTo>
                    <a:pt x="22" y="23"/>
                  </a:lnTo>
                  <a:lnTo>
                    <a:pt x="25" y="16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3"/>
                  </a:lnTo>
                  <a:lnTo>
                    <a:pt x="4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396040" y="387972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0" y="0"/>
                  </a:moveTo>
                  <a:lnTo>
                    <a:pt x="1" y="4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54"/>
                  </a:lnTo>
                  <a:lnTo>
                    <a:pt x="14" y="74"/>
                  </a:lnTo>
                  <a:lnTo>
                    <a:pt x="16" y="95"/>
                  </a:lnTo>
                  <a:lnTo>
                    <a:pt x="19" y="118"/>
                  </a:lnTo>
                  <a:lnTo>
                    <a:pt x="22" y="142"/>
                  </a:lnTo>
                  <a:lnTo>
                    <a:pt x="25" y="165"/>
                  </a:lnTo>
                  <a:lnTo>
                    <a:pt x="28" y="187"/>
                  </a:lnTo>
                  <a:lnTo>
                    <a:pt x="30" y="210"/>
                  </a:lnTo>
                  <a:lnTo>
                    <a:pt x="34" y="230"/>
                  </a:lnTo>
                  <a:lnTo>
                    <a:pt x="37" y="248"/>
                  </a:lnTo>
                  <a:lnTo>
                    <a:pt x="38" y="256"/>
                  </a:lnTo>
                  <a:lnTo>
                    <a:pt x="40" y="263"/>
                  </a:lnTo>
                  <a:lnTo>
                    <a:pt x="41" y="270"/>
                  </a:lnTo>
                  <a:lnTo>
                    <a:pt x="42" y="276"/>
                  </a:lnTo>
                  <a:lnTo>
                    <a:pt x="44" y="281"/>
                  </a:lnTo>
                  <a:lnTo>
                    <a:pt x="45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467320" y="4245120"/>
              <a:ext cx="69840" cy="1029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55"/>
                  </a:moveTo>
                  <a:lnTo>
                    <a:pt x="2" y="60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4"/>
                  </a:lnTo>
                  <a:lnTo>
                    <a:pt x="13" y="60"/>
                  </a:lnTo>
                  <a:lnTo>
                    <a:pt x="16" y="56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8" y="33"/>
                  </a:lnTo>
                  <a:lnTo>
                    <a:pt x="34" y="20"/>
                  </a:lnTo>
                  <a:lnTo>
                    <a:pt x="36" y="14"/>
                  </a:lnTo>
                  <a:lnTo>
                    <a:pt x="39" y="8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537160" y="4151160"/>
              <a:ext cx="71640" cy="939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0" y="59"/>
                  </a:moveTo>
                  <a:lnTo>
                    <a:pt x="5" y="52"/>
                  </a:lnTo>
                  <a:lnTo>
                    <a:pt x="11" y="43"/>
                  </a:lnTo>
                  <a:lnTo>
                    <a:pt x="22" y="26"/>
                  </a:lnTo>
                  <a:lnTo>
                    <a:pt x="29" y="18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608800" y="4148280"/>
              <a:ext cx="69840" cy="9360"/>
            </a:xfrm>
            <a:custGeom>
              <a:avLst/>
              <a:gdLst/>
              <a:ahLst/>
              <a:rect l="l" t="t" r="r" b="b"/>
              <a:pathLst>
                <a:path w="44" h="6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678640" y="4029120"/>
              <a:ext cx="7272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0" y="77"/>
                  </a:moveTo>
                  <a:lnTo>
                    <a:pt x="6" y="71"/>
                  </a:lnTo>
                  <a:lnTo>
                    <a:pt x="11" y="63"/>
                  </a:lnTo>
                  <a:lnTo>
                    <a:pt x="17" y="54"/>
                  </a:lnTo>
                  <a:lnTo>
                    <a:pt x="22" y="43"/>
                  </a:lnTo>
                  <a:lnTo>
                    <a:pt x="35" y="20"/>
                  </a:lnTo>
                  <a:lnTo>
                    <a:pt x="40" y="1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751360" y="3900600"/>
              <a:ext cx="69840" cy="12852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0" y="81"/>
                  </a:moveTo>
                  <a:lnTo>
                    <a:pt x="3" y="76"/>
                  </a:lnTo>
                  <a:lnTo>
                    <a:pt x="6" y="69"/>
                  </a:lnTo>
                  <a:lnTo>
                    <a:pt x="8" y="62"/>
                  </a:lnTo>
                  <a:lnTo>
                    <a:pt x="11" y="55"/>
                  </a:lnTo>
                  <a:lnTo>
                    <a:pt x="17" y="38"/>
                  </a:lnTo>
                  <a:lnTo>
                    <a:pt x="22" y="23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30" y="5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3"/>
                  </a:lnTo>
                  <a:lnTo>
                    <a:pt x="4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821200" y="3913200"/>
              <a:ext cx="71640" cy="444600"/>
            </a:xfrm>
            <a:custGeom>
              <a:avLst/>
              <a:gdLst/>
              <a:ahLst/>
              <a:rect l="l" t="t" r="r" b="b"/>
              <a:pathLst>
                <a:path w="45" h="280">
                  <a:moveTo>
                    <a:pt x="0" y="0"/>
                  </a:moveTo>
                  <a:lnTo>
                    <a:pt x="1" y="4"/>
                  </a:lnTo>
                  <a:lnTo>
                    <a:pt x="3" y="8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7" y="28"/>
                  </a:lnTo>
                  <a:lnTo>
                    <a:pt x="8" y="36"/>
                  </a:lnTo>
                  <a:lnTo>
                    <a:pt x="11" y="53"/>
                  </a:lnTo>
                  <a:lnTo>
                    <a:pt x="14" y="73"/>
                  </a:lnTo>
                  <a:lnTo>
                    <a:pt x="16" y="94"/>
                  </a:lnTo>
                  <a:lnTo>
                    <a:pt x="20" y="116"/>
                  </a:lnTo>
                  <a:lnTo>
                    <a:pt x="23" y="139"/>
                  </a:lnTo>
                  <a:lnTo>
                    <a:pt x="26" y="161"/>
                  </a:lnTo>
                  <a:lnTo>
                    <a:pt x="29" y="183"/>
                  </a:lnTo>
                  <a:lnTo>
                    <a:pt x="31" y="206"/>
                  </a:lnTo>
                  <a:lnTo>
                    <a:pt x="34" y="225"/>
                  </a:lnTo>
                  <a:lnTo>
                    <a:pt x="37" y="243"/>
                  </a:lnTo>
                  <a:lnTo>
                    <a:pt x="40" y="258"/>
                  </a:lnTo>
                  <a:lnTo>
                    <a:pt x="41" y="264"/>
                  </a:lnTo>
                  <a:lnTo>
                    <a:pt x="42" y="270"/>
                  </a:lnTo>
                  <a:lnTo>
                    <a:pt x="44" y="276"/>
                  </a:lnTo>
                  <a:lnTo>
                    <a:pt x="45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892840" y="4268880"/>
              <a:ext cx="69840" cy="10152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0" y="56"/>
                  </a:moveTo>
                  <a:lnTo>
                    <a:pt x="2" y="61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11" y="64"/>
                  </a:lnTo>
                  <a:lnTo>
                    <a:pt x="13" y="61"/>
                  </a:lnTo>
                  <a:lnTo>
                    <a:pt x="16" y="57"/>
                  </a:lnTo>
                  <a:lnTo>
                    <a:pt x="19" y="53"/>
                  </a:lnTo>
                  <a:lnTo>
                    <a:pt x="22" y="46"/>
                  </a:lnTo>
                  <a:lnTo>
                    <a:pt x="28" y="33"/>
                  </a:lnTo>
                  <a:lnTo>
                    <a:pt x="33" y="20"/>
                  </a:lnTo>
                  <a:lnTo>
                    <a:pt x="36" y="14"/>
                  </a:lnTo>
                  <a:lnTo>
                    <a:pt x="39" y="8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962680" y="417672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58"/>
                  </a:moveTo>
                  <a:lnTo>
                    <a:pt x="5" y="51"/>
                  </a:lnTo>
                  <a:lnTo>
                    <a:pt x="11" y="43"/>
                  </a:lnTo>
                  <a:lnTo>
                    <a:pt x="23" y="26"/>
                  </a:lnTo>
                  <a:lnTo>
                    <a:pt x="29" y="17"/>
                  </a:lnTo>
                  <a:lnTo>
                    <a:pt x="34" y="10"/>
                  </a:lnTo>
                  <a:lnTo>
                    <a:pt x="40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6033960" y="4172040"/>
              <a:ext cx="69840" cy="792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0" y="3"/>
                  </a:moveTo>
                  <a:lnTo>
                    <a:pt x="5" y="1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1" y="3"/>
                  </a:lnTo>
                  <a:lnTo>
                    <a:pt x="4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6103800" y="4049640"/>
              <a:ext cx="73080" cy="1238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78"/>
                  </a:moveTo>
                  <a:lnTo>
                    <a:pt x="6" y="72"/>
                  </a:lnTo>
                  <a:lnTo>
                    <a:pt x="12" y="64"/>
                  </a:lnTo>
                  <a:lnTo>
                    <a:pt x="18" y="54"/>
                  </a:lnTo>
                  <a:lnTo>
                    <a:pt x="23" y="44"/>
                  </a:lnTo>
                  <a:lnTo>
                    <a:pt x="35" y="22"/>
                  </a:lnTo>
                  <a:lnTo>
                    <a:pt x="40" y="1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6176880" y="3919680"/>
              <a:ext cx="69840" cy="129960"/>
            </a:xfrm>
            <a:custGeom>
              <a:avLst/>
              <a:gdLst/>
              <a:ahLst/>
              <a:rect l="l" t="t" r="r" b="b"/>
              <a:pathLst>
                <a:path w="44" h="82">
                  <a:moveTo>
                    <a:pt x="0" y="82"/>
                  </a:moveTo>
                  <a:lnTo>
                    <a:pt x="3" y="77"/>
                  </a:lnTo>
                  <a:lnTo>
                    <a:pt x="6" y="70"/>
                  </a:lnTo>
                  <a:lnTo>
                    <a:pt x="8" y="63"/>
                  </a:lnTo>
                  <a:lnTo>
                    <a:pt x="11" y="55"/>
                  </a:lnTo>
                  <a:lnTo>
                    <a:pt x="17" y="39"/>
                  </a:lnTo>
                  <a:lnTo>
                    <a:pt x="22" y="24"/>
                  </a:lnTo>
                  <a:lnTo>
                    <a:pt x="25" y="17"/>
                  </a:lnTo>
                  <a:lnTo>
                    <a:pt x="28" y="11"/>
                  </a:lnTo>
                  <a:lnTo>
                    <a:pt x="30" y="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6246720" y="3932280"/>
              <a:ext cx="71640" cy="436680"/>
            </a:xfrm>
            <a:custGeom>
              <a:avLst/>
              <a:gdLst/>
              <a:ahLst/>
              <a:rect l="l" t="t" r="r" b="b"/>
              <a:pathLst>
                <a:path w="45" h="275">
                  <a:moveTo>
                    <a:pt x="0" y="0"/>
                  </a:move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6" y="21"/>
                  </a:lnTo>
                  <a:lnTo>
                    <a:pt x="9" y="35"/>
                  </a:lnTo>
                  <a:lnTo>
                    <a:pt x="12" y="52"/>
                  </a:lnTo>
                  <a:lnTo>
                    <a:pt x="15" y="71"/>
                  </a:lnTo>
                  <a:lnTo>
                    <a:pt x="17" y="93"/>
                  </a:lnTo>
                  <a:lnTo>
                    <a:pt x="20" y="114"/>
                  </a:lnTo>
                  <a:lnTo>
                    <a:pt x="23" y="136"/>
                  </a:lnTo>
                  <a:lnTo>
                    <a:pt x="26" y="158"/>
                  </a:lnTo>
                  <a:lnTo>
                    <a:pt x="29" y="181"/>
                  </a:lnTo>
                  <a:lnTo>
                    <a:pt x="31" y="202"/>
                  </a:lnTo>
                  <a:lnTo>
                    <a:pt x="34" y="221"/>
                  </a:lnTo>
                  <a:lnTo>
                    <a:pt x="37" y="238"/>
                  </a:lnTo>
                  <a:lnTo>
                    <a:pt x="40" y="253"/>
                  </a:lnTo>
                  <a:lnTo>
                    <a:pt x="41" y="261"/>
                  </a:lnTo>
                  <a:lnTo>
                    <a:pt x="42" y="266"/>
                  </a:lnTo>
                  <a:lnTo>
                    <a:pt x="44" y="271"/>
                  </a:lnTo>
                  <a:lnTo>
                    <a:pt x="45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6318360" y="4280040"/>
              <a:ext cx="71280" cy="101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56"/>
                  </a:moveTo>
                  <a:lnTo>
                    <a:pt x="3" y="61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11" y="64"/>
                  </a:lnTo>
                  <a:lnTo>
                    <a:pt x="13" y="61"/>
                  </a:lnTo>
                  <a:lnTo>
                    <a:pt x="16" y="57"/>
                  </a:lnTo>
                  <a:lnTo>
                    <a:pt x="19" y="53"/>
                  </a:lnTo>
                  <a:lnTo>
                    <a:pt x="22" y="47"/>
                  </a:lnTo>
                  <a:lnTo>
                    <a:pt x="28" y="33"/>
                  </a:lnTo>
                  <a:lnTo>
                    <a:pt x="33" y="20"/>
                  </a:lnTo>
                  <a:lnTo>
                    <a:pt x="36" y="14"/>
                  </a:lnTo>
                  <a:lnTo>
                    <a:pt x="39" y="9"/>
                  </a:lnTo>
                  <a:lnTo>
                    <a:pt x="41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6389640" y="418788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58"/>
                  </a:moveTo>
                  <a:lnTo>
                    <a:pt x="5" y="51"/>
                  </a:lnTo>
                  <a:lnTo>
                    <a:pt x="11" y="43"/>
                  </a:lnTo>
                  <a:lnTo>
                    <a:pt x="22" y="26"/>
                  </a:lnTo>
                  <a:lnTo>
                    <a:pt x="28" y="18"/>
                  </a:lnTo>
                  <a:lnTo>
                    <a:pt x="33" y="10"/>
                  </a:lnTo>
                  <a:lnTo>
                    <a:pt x="39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6459480" y="4184640"/>
              <a:ext cx="71640" cy="792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2" y="3"/>
                  </a:lnTo>
                  <a:lnTo>
                    <a:pt x="45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6531120" y="4065480"/>
              <a:ext cx="71280" cy="12060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0" y="76"/>
                  </a:moveTo>
                  <a:lnTo>
                    <a:pt x="6" y="70"/>
                  </a:lnTo>
                  <a:lnTo>
                    <a:pt x="11" y="62"/>
                  </a:lnTo>
                  <a:lnTo>
                    <a:pt x="17" y="53"/>
                  </a:lnTo>
                  <a:lnTo>
                    <a:pt x="22" y="43"/>
                  </a:lnTo>
                  <a:lnTo>
                    <a:pt x="34" y="22"/>
                  </a:lnTo>
                  <a:lnTo>
                    <a:pt x="39" y="1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6602400" y="3930480"/>
              <a:ext cx="71280" cy="135000"/>
            </a:xfrm>
            <a:custGeom>
              <a:avLst/>
              <a:gdLst/>
              <a:ahLst/>
              <a:rect l="l" t="t" r="r" b="b"/>
              <a:pathLst>
                <a:path w="45" h="85">
                  <a:moveTo>
                    <a:pt x="0" y="85"/>
                  </a:moveTo>
                  <a:lnTo>
                    <a:pt x="3" y="80"/>
                  </a:lnTo>
                  <a:lnTo>
                    <a:pt x="6" y="73"/>
                  </a:lnTo>
                  <a:lnTo>
                    <a:pt x="8" y="66"/>
                  </a:lnTo>
                  <a:lnTo>
                    <a:pt x="11" y="58"/>
                  </a:lnTo>
                  <a:lnTo>
                    <a:pt x="17" y="41"/>
                  </a:lnTo>
                  <a:lnTo>
                    <a:pt x="22" y="25"/>
                  </a:lnTo>
                  <a:lnTo>
                    <a:pt x="25" y="18"/>
                  </a:lnTo>
                  <a:lnTo>
                    <a:pt x="28" y="12"/>
                  </a:lnTo>
                  <a:lnTo>
                    <a:pt x="30" y="7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2" y="4"/>
                  </a:lnTo>
                  <a:lnTo>
                    <a:pt x="45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6673680" y="3944880"/>
              <a:ext cx="70200" cy="446040"/>
            </a:xfrm>
            <a:custGeom>
              <a:avLst/>
              <a:gdLst/>
              <a:ahLst/>
              <a:rect l="l" t="t" r="r" b="b"/>
              <a:pathLst>
                <a:path w="44" h="281">
                  <a:moveTo>
                    <a:pt x="0" y="0"/>
                  </a:moveTo>
                  <a:lnTo>
                    <a:pt x="1" y="4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7" y="27"/>
                  </a:lnTo>
                  <a:lnTo>
                    <a:pt x="8" y="35"/>
                  </a:lnTo>
                  <a:lnTo>
                    <a:pt x="11" y="52"/>
                  </a:lnTo>
                  <a:lnTo>
                    <a:pt x="14" y="72"/>
                  </a:lnTo>
                  <a:lnTo>
                    <a:pt x="16" y="94"/>
                  </a:lnTo>
                  <a:lnTo>
                    <a:pt x="19" y="116"/>
                  </a:lnTo>
                  <a:lnTo>
                    <a:pt x="22" y="139"/>
                  </a:lnTo>
                  <a:lnTo>
                    <a:pt x="25" y="161"/>
                  </a:lnTo>
                  <a:lnTo>
                    <a:pt x="28" y="185"/>
                  </a:lnTo>
                  <a:lnTo>
                    <a:pt x="30" y="206"/>
                  </a:lnTo>
                  <a:lnTo>
                    <a:pt x="33" y="226"/>
                  </a:lnTo>
                  <a:lnTo>
                    <a:pt x="36" y="243"/>
                  </a:lnTo>
                  <a:lnTo>
                    <a:pt x="39" y="260"/>
                  </a:lnTo>
                  <a:lnTo>
                    <a:pt x="40" y="266"/>
                  </a:lnTo>
                  <a:lnTo>
                    <a:pt x="41" y="272"/>
                  </a:lnTo>
                  <a:lnTo>
                    <a:pt x="43" y="277"/>
                  </a:lnTo>
                  <a:lnTo>
                    <a:pt x="44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6743880" y="4302000"/>
              <a:ext cx="71280" cy="1018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56"/>
                  </a:moveTo>
                  <a:lnTo>
                    <a:pt x="2" y="61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10" y="64"/>
                  </a:lnTo>
                  <a:lnTo>
                    <a:pt x="13" y="61"/>
                  </a:lnTo>
                  <a:lnTo>
                    <a:pt x="16" y="57"/>
                  </a:lnTo>
                  <a:lnTo>
                    <a:pt x="19" y="52"/>
                  </a:lnTo>
                  <a:lnTo>
                    <a:pt x="22" y="47"/>
                  </a:lnTo>
                  <a:lnTo>
                    <a:pt x="28" y="34"/>
                  </a:lnTo>
                  <a:lnTo>
                    <a:pt x="35" y="20"/>
                  </a:lnTo>
                  <a:lnTo>
                    <a:pt x="37" y="14"/>
                  </a:lnTo>
                  <a:lnTo>
                    <a:pt x="40" y="8"/>
                  </a:lnTo>
                  <a:lnTo>
                    <a:pt x="43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6815160" y="4213080"/>
              <a:ext cx="69840" cy="8892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0" y="56"/>
                  </a:moveTo>
                  <a:lnTo>
                    <a:pt x="5" y="49"/>
                  </a:lnTo>
                  <a:lnTo>
                    <a:pt x="11" y="41"/>
                  </a:lnTo>
                  <a:lnTo>
                    <a:pt x="22" y="25"/>
                  </a:lnTo>
                  <a:lnTo>
                    <a:pt x="27" y="18"/>
                  </a:lnTo>
                  <a:lnTo>
                    <a:pt x="33" y="11"/>
                  </a:lnTo>
                  <a:lnTo>
                    <a:pt x="38" y="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885000" y="4199040"/>
              <a:ext cx="73080" cy="140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0" y="9"/>
                  </a:moveTo>
                  <a:lnTo>
                    <a:pt x="6" y="5"/>
                  </a:lnTo>
                  <a:lnTo>
                    <a:pt x="11" y="4"/>
                  </a:lnTo>
                  <a:lnTo>
                    <a:pt x="17" y="4"/>
                  </a:lnTo>
                  <a:lnTo>
                    <a:pt x="22" y="5"/>
                  </a:lnTo>
                  <a:lnTo>
                    <a:pt x="29" y="7"/>
                  </a:lnTo>
                  <a:lnTo>
                    <a:pt x="35" y="7"/>
                  </a:lnTo>
                  <a:lnTo>
                    <a:pt x="40" y="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6958080" y="4078440"/>
              <a:ext cx="69840" cy="12060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0" y="76"/>
                  </a:moveTo>
                  <a:lnTo>
                    <a:pt x="6" y="70"/>
                  </a:lnTo>
                  <a:lnTo>
                    <a:pt x="11" y="61"/>
                  </a:lnTo>
                  <a:lnTo>
                    <a:pt x="17" y="52"/>
                  </a:lnTo>
                  <a:lnTo>
                    <a:pt x="22" y="41"/>
                  </a:lnTo>
                  <a:lnTo>
                    <a:pt x="33" y="20"/>
                  </a:lnTo>
                  <a:lnTo>
                    <a:pt x="39" y="9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7027920" y="3962520"/>
              <a:ext cx="7128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0" y="73"/>
                  </a:moveTo>
                  <a:lnTo>
                    <a:pt x="3" y="67"/>
                  </a:lnTo>
                  <a:lnTo>
                    <a:pt x="5" y="61"/>
                  </a:lnTo>
                  <a:lnTo>
                    <a:pt x="11" y="48"/>
                  </a:lnTo>
                  <a:lnTo>
                    <a:pt x="16" y="33"/>
                  </a:lnTo>
                  <a:lnTo>
                    <a:pt x="23" y="20"/>
                  </a:lnTo>
                  <a:lnTo>
                    <a:pt x="26" y="14"/>
                  </a:lnTo>
                  <a:lnTo>
                    <a:pt x="29" y="9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5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099200" y="3975120"/>
              <a:ext cx="69840" cy="399960"/>
            </a:xfrm>
            <a:custGeom>
              <a:avLst/>
              <a:gdLst/>
              <a:ahLst/>
              <a:rect l="l" t="t" r="r" b="b"/>
              <a:pathLst>
                <a:path w="44" h="252">
                  <a:moveTo>
                    <a:pt x="0" y="0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3"/>
                  </a:lnTo>
                  <a:lnTo>
                    <a:pt x="5" y="18"/>
                  </a:lnTo>
                  <a:lnTo>
                    <a:pt x="8" y="32"/>
                  </a:lnTo>
                  <a:lnTo>
                    <a:pt x="11" y="47"/>
                  </a:lnTo>
                  <a:lnTo>
                    <a:pt x="14" y="66"/>
                  </a:lnTo>
                  <a:lnTo>
                    <a:pt x="16" y="85"/>
                  </a:lnTo>
                  <a:lnTo>
                    <a:pt x="19" y="105"/>
                  </a:lnTo>
                  <a:lnTo>
                    <a:pt x="22" y="125"/>
                  </a:lnTo>
                  <a:lnTo>
                    <a:pt x="25" y="145"/>
                  </a:lnTo>
                  <a:lnTo>
                    <a:pt x="28" y="166"/>
                  </a:lnTo>
                  <a:lnTo>
                    <a:pt x="30" y="185"/>
                  </a:lnTo>
                  <a:lnTo>
                    <a:pt x="33" y="203"/>
                  </a:lnTo>
                  <a:lnTo>
                    <a:pt x="36" y="219"/>
                  </a:lnTo>
                  <a:lnTo>
                    <a:pt x="39" y="233"/>
                  </a:lnTo>
                  <a:lnTo>
                    <a:pt x="40" y="239"/>
                  </a:lnTo>
                  <a:lnTo>
                    <a:pt x="41" y="244"/>
                  </a:lnTo>
                  <a:lnTo>
                    <a:pt x="43" y="248"/>
                  </a:lnTo>
                  <a:lnTo>
                    <a:pt x="4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169040" y="4284720"/>
              <a:ext cx="71640" cy="10296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0" y="57"/>
                  </a:moveTo>
                  <a:lnTo>
                    <a:pt x="3" y="62"/>
                  </a:lnTo>
                  <a:lnTo>
                    <a:pt x="5" y="65"/>
                  </a:lnTo>
                  <a:lnTo>
                    <a:pt x="8" y="65"/>
                  </a:lnTo>
                  <a:lnTo>
                    <a:pt x="11" y="64"/>
                  </a:lnTo>
                  <a:lnTo>
                    <a:pt x="14" y="62"/>
                  </a:lnTo>
                  <a:lnTo>
                    <a:pt x="17" y="58"/>
                  </a:lnTo>
                  <a:lnTo>
                    <a:pt x="20" y="54"/>
                  </a:lnTo>
                  <a:lnTo>
                    <a:pt x="23" y="48"/>
                  </a:lnTo>
                  <a:lnTo>
                    <a:pt x="29" y="35"/>
                  </a:lnTo>
                  <a:lnTo>
                    <a:pt x="34" y="21"/>
                  </a:lnTo>
                  <a:lnTo>
                    <a:pt x="40" y="9"/>
                  </a:lnTo>
                  <a:lnTo>
                    <a:pt x="42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7240680" y="418932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60"/>
                  </a:moveTo>
                  <a:lnTo>
                    <a:pt x="5" y="52"/>
                  </a:lnTo>
                  <a:lnTo>
                    <a:pt x="11" y="44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10"/>
                  </a:lnTo>
                  <a:lnTo>
                    <a:pt x="38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7310520" y="4186080"/>
              <a:ext cx="73080" cy="17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3" y="1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3" y="6"/>
                  </a:lnTo>
                  <a:lnTo>
                    <a:pt x="29" y="9"/>
                  </a:lnTo>
                  <a:lnTo>
                    <a:pt x="35" y="11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7383600" y="4081320"/>
              <a:ext cx="69840" cy="11772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74"/>
                  </a:moveTo>
                  <a:lnTo>
                    <a:pt x="6" y="69"/>
                  </a:lnTo>
                  <a:lnTo>
                    <a:pt x="11" y="61"/>
                  </a:lnTo>
                  <a:lnTo>
                    <a:pt x="17" y="52"/>
                  </a:lnTo>
                  <a:lnTo>
                    <a:pt x="22" y="42"/>
                  </a:lnTo>
                  <a:lnTo>
                    <a:pt x="33" y="20"/>
                  </a:lnTo>
                  <a:lnTo>
                    <a:pt x="39" y="1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7453440" y="3951360"/>
              <a:ext cx="71280" cy="12996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0" y="82"/>
                  </a:moveTo>
                  <a:lnTo>
                    <a:pt x="3" y="77"/>
                  </a:lnTo>
                  <a:lnTo>
                    <a:pt x="5" y="69"/>
                  </a:lnTo>
                  <a:lnTo>
                    <a:pt x="9" y="62"/>
                  </a:lnTo>
                  <a:lnTo>
                    <a:pt x="12" y="55"/>
                  </a:lnTo>
                  <a:lnTo>
                    <a:pt x="17" y="38"/>
                  </a:lnTo>
                  <a:lnTo>
                    <a:pt x="23" y="23"/>
                  </a:lnTo>
                  <a:lnTo>
                    <a:pt x="26" y="16"/>
                  </a:lnTo>
                  <a:lnTo>
                    <a:pt x="29" y="10"/>
                  </a:lnTo>
                  <a:lnTo>
                    <a:pt x="31" y="5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7524720" y="3960720"/>
              <a:ext cx="69840" cy="412920"/>
            </a:xfrm>
            <a:custGeom>
              <a:avLst/>
              <a:gdLst/>
              <a:ahLst/>
              <a:rect l="l" t="t" r="r" b="b"/>
              <a:pathLst>
                <a:path w="44" h="260">
                  <a:moveTo>
                    <a:pt x="0" y="0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3"/>
                  </a:lnTo>
                  <a:lnTo>
                    <a:pt x="5" y="18"/>
                  </a:lnTo>
                  <a:lnTo>
                    <a:pt x="8" y="32"/>
                  </a:lnTo>
                  <a:lnTo>
                    <a:pt x="11" y="48"/>
                  </a:lnTo>
                  <a:lnTo>
                    <a:pt x="14" y="66"/>
                  </a:lnTo>
                  <a:lnTo>
                    <a:pt x="16" y="87"/>
                  </a:lnTo>
                  <a:lnTo>
                    <a:pt x="19" y="107"/>
                  </a:lnTo>
                  <a:lnTo>
                    <a:pt x="22" y="128"/>
                  </a:lnTo>
                  <a:lnTo>
                    <a:pt x="25" y="149"/>
                  </a:lnTo>
                  <a:lnTo>
                    <a:pt x="28" y="171"/>
                  </a:lnTo>
                  <a:lnTo>
                    <a:pt x="30" y="191"/>
                  </a:lnTo>
                  <a:lnTo>
                    <a:pt x="33" y="209"/>
                  </a:lnTo>
                  <a:lnTo>
                    <a:pt x="36" y="225"/>
                  </a:lnTo>
                  <a:lnTo>
                    <a:pt x="39" y="240"/>
                  </a:lnTo>
                  <a:lnTo>
                    <a:pt x="40" y="247"/>
                  </a:lnTo>
                  <a:lnTo>
                    <a:pt x="41" y="252"/>
                  </a:lnTo>
                  <a:lnTo>
                    <a:pt x="43" y="256"/>
                  </a:lnTo>
                  <a:lnTo>
                    <a:pt x="44" y="2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7594560" y="4284720"/>
              <a:ext cx="71640" cy="101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56"/>
                  </a:moveTo>
                  <a:lnTo>
                    <a:pt x="4" y="61"/>
                  </a:lnTo>
                  <a:lnTo>
                    <a:pt x="6" y="64"/>
                  </a:lnTo>
                  <a:lnTo>
                    <a:pt x="9" y="64"/>
                  </a:lnTo>
                  <a:lnTo>
                    <a:pt x="12" y="64"/>
                  </a:lnTo>
                  <a:lnTo>
                    <a:pt x="15" y="61"/>
                  </a:lnTo>
                  <a:lnTo>
                    <a:pt x="17" y="57"/>
                  </a:lnTo>
                  <a:lnTo>
                    <a:pt x="20" y="53"/>
                  </a:lnTo>
                  <a:lnTo>
                    <a:pt x="23" y="47"/>
                  </a:lnTo>
                  <a:lnTo>
                    <a:pt x="29" y="34"/>
                  </a:lnTo>
                  <a:lnTo>
                    <a:pt x="34" y="21"/>
                  </a:lnTo>
                  <a:lnTo>
                    <a:pt x="37" y="14"/>
                  </a:lnTo>
                  <a:lnTo>
                    <a:pt x="40" y="9"/>
                  </a:lnTo>
                  <a:lnTo>
                    <a:pt x="42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666200" y="419256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58"/>
                  </a:moveTo>
                  <a:lnTo>
                    <a:pt x="5" y="51"/>
                  </a:lnTo>
                  <a:lnTo>
                    <a:pt x="11" y="42"/>
                  </a:lnTo>
                  <a:lnTo>
                    <a:pt x="22" y="26"/>
                  </a:lnTo>
                  <a:lnTo>
                    <a:pt x="27" y="18"/>
                  </a:lnTo>
                  <a:lnTo>
                    <a:pt x="33" y="11"/>
                  </a:lnTo>
                  <a:lnTo>
                    <a:pt x="38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7737480" y="418932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0" y="2"/>
                  </a:moveTo>
                  <a:lnTo>
                    <a:pt x="3" y="1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28" y="9"/>
                  </a:lnTo>
                  <a:lnTo>
                    <a:pt x="34" y="11"/>
                  </a:lnTo>
                  <a:lnTo>
                    <a:pt x="39" y="11"/>
                  </a:lnTo>
                  <a:lnTo>
                    <a:pt x="42" y="10"/>
                  </a:lnTo>
                  <a:lnTo>
                    <a:pt x="45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7808760" y="4083120"/>
              <a:ext cx="71640" cy="119160"/>
            </a:xfrm>
            <a:custGeom>
              <a:avLst/>
              <a:gdLst/>
              <a:ahLst/>
              <a:rect l="l" t="t" r="r" b="b"/>
              <a:pathLst>
                <a:path w="45" h="75">
                  <a:moveTo>
                    <a:pt x="0" y="75"/>
                  </a:moveTo>
                  <a:lnTo>
                    <a:pt x="6" y="70"/>
                  </a:lnTo>
                  <a:lnTo>
                    <a:pt x="11" y="62"/>
                  </a:lnTo>
                  <a:lnTo>
                    <a:pt x="17" y="53"/>
                  </a:lnTo>
                  <a:lnTo>
                    <a:pt x="22" y="43"/>
                  </a:lnTo>
                  <a:lnTo>
                    <a:pt x="33" y="21"/>
                  </a:lnTo>
                  <a:lnTo>
                    <a:pt x="40" y="1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7880400" y="3951360"/>
              <a:ext cx="69840" cy="13176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83"/>
                  </a:moveTo>
                  <a:lnTo>
                    <a:pt x="3" y="78"/>
                  </a:lnTo>
                  <a:lnTo>
                    <a:pt x="5" y="70"/>
                  </a:lnTo>
                  <a:lnTo>
                    <a:pt x="8" y="63"/>
                  </a:lnTo>
                  <a:lnTo>
                    <a:pt x="11" y="55"/>
                  </a:lnTo>
                  <a:lnTo>
                    <a:pt x="16" y="39"/>
                  </a:lnTo>
                  <a:lnTo>
                    <a:pt x="22" y="23"/>
                  </a:lnTo>
                  <a:lnTo>
                    <a:pt x="25" y="16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7950240" y="3962520"/>
              <a:ext cx="71280" cy="434880"/>
            </a:xfrm>
            <a:custGeom>
              <a:avLst/>
              <a:gdLst/>
              <a:ahLst/>
              <a:rect l="l" t="t" r="r" b="b"/>
              <a:pathLst>
                <a:path w="45" h="274">
                  <a:moveTo>
                    <a:pt x="0" y="0"/>
                  </a:moveTo>
                  <a:lnTo>
                    <a:pt x="1" y="4"/>
                  </a:lnTo>
                  <a:lnTo>
                    <a:pt x="3" y="8"/>
                  </a:lnTo>
                  <a:lnTo>
                    <a:pt x="4" y="13"/>
                  </a:lnTo>
                  <a:lnTo>
                    <a:pt x="5" y="20"/>
                  </a:lnTo>
                  <a:lnTo>
                    <a:pt x="8" y="34"/>
                  </a:lnTo>
                  <a:lnTo>
                    <a:pt x="11" y="51"/>
                  </a:lnTo>
                  <a:lnTo>
                    <a:pt x="14" y="71"/>
                  </a:lnTo>
                  <a:lnTo>
                    <a:pt x="16" y="92"/>
                  </a:lnTo>
                  <a:lnTo>
                    <a:pt x="19" y="113"/>
                  </a:lnTo>
                  <a:lnTo>
                    <a:pt x="22" y="135"/>
                  </a:lnTo>
                  <a:lnTo>
                    <a:pt x="25" y="158"/>
                  </a:lnTo>
                  <a:lnTo>
                    <a:pt x="28" y="180"/>
                  </a:lnTo>
                  <a:lnTo>
                    <a:pt x="30" y="201"/>
                  </a:lnTo>
                  <a:lnTo>
                    <a:pt x="34" y="220"/>
                  </a:lnTo>
                  <a:lnTo>
                    <a:pt x="37" y="237"/>
                  </a:lnTo>
                  <a:lnTo>
                    <a:pt x="40" y="253"/>
                  </a:lnTo>
                  <a:lnTo>
                    <a:pt x="41" y="260"/>
                  </a:lnTo>
                  <a:lnTo>
                    <a:pt x="42" y="265"/>
                  </a:lnTo>
                  <a:lnTo>
                    <a:pt x="44" y="270"/>
                  </a:lnTo>
                  <a:lnTo>
                    <a:pt x="45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8021520" y="4307040"/>
              <a:ext cx="69840" cy="10476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0" y="57"/>
                  </a:moveTo>
                  <a:lnTo>
                    <a:pt x="3" y="62"/>
                  </a:lnTo>
                  <a:lnTo>
                    <a:pt x="5" y="65"/>
                  </a:lnTo>
                  <a:lnTo>
                    <a:pt x="8" y="66"/>
                  </a:lnTo>
                  <a:lnTo>
                    <a:pt x="11" y="65"/>
                  </a:lnTo>
                  <a:lnTo>
                    <a:pt x="13" y="62"/>
                  </a:lnTo>
                  <a:lnTo>
                    <a:pt x="16" y="58"/>
                  </a:lnTo>
                  <a:lnTo>
                    <a:pt x="19" y="53"/>
                  </a:lnTo>
                  <a:lnTo>
                    <a:pt x="22" y="48"/>
                  </a:lnTo>
                  <a:lnTo>
                    <a:pt x="28" y="35"/>
                  </a:lnTo>
                  <a:lnTo>
                    <a:pt x="33" y="21"/>
                  </a:lnTo>
                  <a:lnTo>
                    <a:pt x="36" y="14"/>
                  </a:lnTo>
                  <a:lnTo>
                    <a:pt x="39" y="9"/>
                  </a:lnTo>
                  <a:lnTo>
                    <a:pt x="41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790920" y="550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685800" y="5108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685800" y="4718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685800" y="4325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8068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80680" y="3544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80680" y="31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80680" y="276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80680" y="2370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80680" y="1979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80680" y="1587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80680" y="1197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80680" y="80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986040" y="577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27068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4481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254640" y="577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7976880" y="57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717080" y="608652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rot="16200000">
              <a:off x="-842040" y="3069360"/>
              <a:ext cx="2356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rbon Stocks (Mg/ha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BON STO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5" name=""/>
            <p:cNvGrpSpPr/>
            <p:nvPr/>
          </p:nvGrpSpPr>
          <p:grpSpPr>
            <a:xfrm>
              <a:off x="1219320" y="1003320"/>
              <a:ext cx="6552720" cy="418680"/>
              <a:chOff x="1219320" y="1003320"/>
              <a:chExt cx="6552720" cy="418680"/>
            </a:xfrm>
          </p:grpSpPr>
          <p:sp>
            <p:nvSpPr>
              <p:cNvPr id="5156" name=""/>
              <p:cNvSpPr/>
              <p:nvPr/>
            </p:nvSpPr>
            <p:spPr>
              <a:xfrm>
                <a:off x="1219320" y="1003320"/>
                <a:ext cx="6552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1289160" y="1202760"/>
                <a:ext cx="294480" cy="2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1636560" y="1048320"/>
                <a:ext cx="1116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man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864520" y="1202760"/>
                <a:ext cx="295200" cy="2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212640" y="1048320"/>
                <a:ext cx="220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gglomerated shif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532840" y="1202760"/>
                <a:ext cx="294480" cy="2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881680" y="1048320"/>
                <a:ext cx="181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persed shif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3" name=""/>
          <p:cNvGrpSpPr/>
          <p:nvPr/>
        </p:nvGrpSpPr>
        <p:grpSpPr>
          <a:xfrm>
            <a:off x="0" y="0"/>
            <a:ext cx="9144000" cy="6350040"/>
            <a:chOff x="0" y="0"/>
            <a:chExt cx="9144000" cy="6350040"/>
          </a:xfrm>
        </p:grpSpPr>
        <p:sp>
          <p:nvSpPr>
            <p:cNvPr id="516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ME CONSEQUENCES: BIODIVER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5" name=""/>
            <p:cNvGrpSpPr/>
            <p:nvPr/>
          </p:nvGrpSpPr>
          <p:grpSpPr>
            <a:xfrm>
              <a:off x="998640" y="917640"/>
              <a:ext cx="7856280" cy="4900320"/>
              <a:chOff x="998640" y="917640"/>
              <a:chExt cx="7856280" cy="4900320"/>
            </a:xfrm>
          </p:grpSpPr>
          <p:sp>
            <p:nvSpPr>
              <p:cNvPr id="5166" name=""/>
              <p:cNvSpPr/>
              <p:nvPr/>
            </p:nvSpPr>
            <p:spPr>
              <a:xfrm>
                <a:off x="1057320" y="917640"/>
                <a:ext cx="7797600" cy="4860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1057320" y="917640"/>
                <a:ext cx="7797600" cy="4860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1057320" y="917640"/>
                <a:ext cx="1440" cy="486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998640" y="5778360"/>
                <a:ext cx="58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998640" y="529272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998640" y="480708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998640" y="4321080"/>
                <a:ext cx="58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998640" y="3833640"/>
                <a:ext cx="58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998640" y="334980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998640" y="286236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998640" y="2376360"/>
                <a:ext cx="58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998640" y="189072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998640" y="140508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998640" y="91764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1057320" y="5778360"/>
                <a:ext cx="7797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105732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282888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460044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637380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814716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1127160" y="2025360"/>
                <a:ext cx="712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1198440" y="2025720"/>
                <a:ext cx="69840" cy="39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1268280" y="2065320"/>
                <a:ext cx="730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1341360" y="2068560"/>
                <a:ext cx="71640" cy="33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1413000" y="2092320"/>
                <a:ext cx="69840" cy="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1482840" y="208584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1554120" y="2076480"/>
                <a:ext cx="69840" cy="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1623960" y="2070000"/>
                <a:ext cx="716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1695600" y="2060640"/>
                <a:ext cx="69840" cy="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1765440" y="205416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V="1">
                <a:off x="1836720" y="2046240"/>
                <a:ext cx="7128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 flipV="1">
                <a:off x="1908000" y="204120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 flipV="1">
                <a:off x="1979640" y="2031480"/>
                <a:ext cx="69840" cy="9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 flipV="1">
                <a:off x="2049480" y="202680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 flipV="1">
                <a:off x="2120760" y="2017800"/>
                <a:ext cx="69840" cy="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 flipV="1">
                <a:off x="2190600" y="201276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flipV="1">
                <a:off x="2262240" y="2004480"/>
                <a:ext cx="6984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 flipV="1">
                <a:off x="2332080" y="1996920"/>
                <a:ext cx="7128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 flipV="1">
                <a:off x="2403360" y="1989000"/>
                <a:ext cx="71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 flipV="1">
                <a:off x="2475000" y="198396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 flipV="1">
                <a:off x="2546280" y="1976400"/>
                <a:ext cx="698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 flipV="1">
                <a:off x="2616120" y="1969920"/>
                <a:ext cx="716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 flipV="1">
                <a:off x="2687760" y="1963440"/>
                <a:ext cx="71280" cy="6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 flipV="1">
                <a:off x="2759040" y="195876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 flipV="1">
                <a:off x="2828880" y="1951200"/>
                <a:ext cx="71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 flipV="1">
                <a:off x="2900520" y="1944720"/>
                <a:ext cx="698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 flipV="1">
                <a:off x="2970360" y="1938240"/>
                <a:ext cx="7272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 flipV="1">
                <a:off x="3043080" y="19332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 flipV="1">
                <a:off x="3112920" y="1925640"/>
                <a:ext cx="71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 flipV="1">
                <a:off x="3184560" y="19206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 flipV="1">
                <a:off x="3254400" y="191448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 flipV="1">
                <a:off x="3325680" y="190944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 flipV="1">
                <a:off x="3395520" y="1901880"/>
                <a:ext cx="71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 flipV="1">
                <a:off x="3467160" y="189684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 flipV="1">
                <a:off x="3537000" y="1890720"/>
                <a:ext cx="730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 flipV="1">
                <a:off x="3610080" y="188568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 flipV="1">
                <a:off x="3679920" y="187956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 flipV="1">
                <a:off x="3751200" y="187452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 flipV="1">
                <a:off x="3821040" y="1866960"/>
                <a:ext cx="71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 flipV="1">
                <a:off x="3892680" y="186192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 flipV="1">
                <a:off x="3962520" y="185580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 flipV="1">
                <a:off x="4033800" y="185076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V="1">
                <a:off x="4105440" y="184464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 flipV="1">
                <a:off x="4176720" y="183960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 flipV="1">
                <a:off x="4248000" y="1833480"/>
                <a:ext cx="698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 flipV="1">
                <a:off x="4317840" y="182844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V="1">
                <a:off x="4389480" y="182376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V="1">
                <a:off x="4459320" y="181764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 flipV="1">
                <a:off x="4530600" y="18126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 flipV="1">
                <a:off x="4600440" y="180792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V="1">
                <a:off x="4672080" y="1803240"/>
                <a:ext cx="7128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 flipV="1">
                <a:off x="4743360" y="179820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V="1">
                <a:off x="4815000" y="179352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 flipV="1">
                <a:off x="4884840" y="178740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 flipV="1">
                <a:off x="4956120" y="178236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 flipV="1">
                <a:off x="5025960" y="177768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 flipV="1">
                <a:off x="5097600" y="17730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V="1">
                <a:off x="5167440" y="1768320"/>
                <a:ext cx="7272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 flipV="1">
                <a:off x="5240160" y="1763280"/>
                <a:ext cx="7020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 flipV="1">
                <a:off x="5310360" y="175860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 flipV="1">
                <a:off x="5381640" y="175392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 flipV="1">
                <a:off x="5452920" y="1750680"/>
                <a:ext cx="698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 flipV="1">
                <a:off x="5522760" y="174600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 flipV="1">
                <a:off x="5594400" y="1741320"/>
                <a:ext cx="6984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 flipV="1">
                <a:off x="5664240" y="173628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 flipV="1">
                <a:off x="5735520" y="1730160"/>
                <a:ext cx="71640" cy="6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 flipV="1">
                <a:off x="5807160" y="1725480"/>
                <a:ext cx="7128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 flipV="1">
                <a:off x="5878440" y="1722600"/>
                <a:ext cx="6984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 flipV="1">
                <a:off x="5948280" y="1717560"/>
                <a:ext cx="7164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 flipV="1">
                <a:off x="6019920" y="171252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V="1">
                <a:off x="6089760" y="170784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 flipV="1">
                <a:off x="6161040" y="1704600"/>
                <a:ext cx="698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 flipV="1">
                <a:off x="6230880" y="169992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 flipV="1">
                <a:off x="6302520" y="1695240"/>
                <a:ext cx="7128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 flipV="1">
                <a:off x="6373800" y="169200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 flipV="1">
                <a:off x="6445080" y="1687320"/>
                <a:ext cx="7020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 flipV="1">
                <a:off x="6515280" y="168408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 flipV="1">
                <a:off x="6586560" y="1679400"/>
                <a:ext cx="7128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 flipV="1">
                <a:off x="6657840" y="1676520"/>
                <a:ext cx="6984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 flipV="1">
                <a:off x="6727680" y="1671480"/>
                <a:ext cx="71640" cy="5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 flipV="1">
                <a:off x="6799320" y="1668600"/>
                <a:ext cx="6984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 flipV="1">
                <a:off x="6869160" y="1665000"/>
                <a:ext cx="730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 flipV="1">
                <a:off x="6942240" y="166032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 flipV="1">
                <a:off x="7012080" y="165708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 flipV="1">
                <a:off x="7083360" y="16524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 flipV="1">
                <a:off x="7153200" y="1649160"/>
                <a:ext cx="71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 flipV="1">
                <a:off x="7224840" y="1645920"/>
                <a:ext cx="698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 flipV="1">
                <a:off x="7294680" y="164268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 flipV="1">
                <a:off x="7365960" y="16380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V="1">
                <a:off x="7435800" y="1634760"/>
                <a:ext cx="730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 flipV="1">
                <a:off x="7508880" y="1631520"/>
                <a:ext cx="698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 flipV="1">
                <a:off x="7578720" y="162828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7650000" y="162360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V="1">
                <a:off x="7719840" y="1620360"/>
                <a:ext cx="71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V="1">
                <a:off x="7791480" y="1617840"/>
                <a:ext cx="6984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V="1">
                <a:off x="7861320" y="161424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V="1">
                <a:off x="7932600" y="1611000"/>
                <a:ext cx="71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V="1">
                <a:off x="8004240" y="160776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V="1">
                <a:off x="8075520" y="1604520"/>
                <a:ext cx="71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V="1">
                <a:off x="1127160" y="2025360"/>
                <a:ext cx="71280" cy="11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1198440" y="2025720"/>
                <a:ext cx="6984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1268280" y="2063880"/>
                <a:ext cx="73080" cy="21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V="1">
                <a:off x="1341360" y="2075040"/>
                <a:ext cx="71640" cy="10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V="1">
                <a:off x="1413000" y="2071440"/>
                <a:ext cx="69840" cy="3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V="1">
                <a:off x="1482840" y="2050920"/>
                <a:ext cx="71280" cy="20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V="1">
                <a:off x="1554120" y="1953720"/>
                <a:ext cx="69840" cy="96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1623960" y="1954080"/>
                <a:ext cx="71640" cy="414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V="1">
                <a:off x="1695600" y="1968120"/>
                <a:ext cx="69840" cy="27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V="1">
                <a:off x="1765440" y="1866960"/>
                <a:ext cx="71280" cy="101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1836720" y="1866960"/>
                <a:ext cx="71280" cy="49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V="1">
                <a:off x="1908000" y="1904760"/>
                <a:ext cx="71640" cy="11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V="1">
                <a:off x="1979640" y="1800000"/>
                <a:ext cx="69840" cy="10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2049480" y="1800360"/>
                <a:ext cx="71280" cy="350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V="1">
                <a:off x="2120760" y="1922040"/>
                <a:ext cx="69840" cy="228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V="1">
                <a:off x="2190600" y="1876320"/>
                <a:ext cx="71640" cy="460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V="1">
                <a:off x="2262240" y="1822320"/>
                <a:ext cx="69840" cy="54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V="1">
                <a:off x="2332080" y="1738080"/>
                <a:ext cx="71280" cy="83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V="1">
                <a:off x="2403360" y="1688760"/>
                <a:ext cx="71640" cy="49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2475000" y="1689120"/>
                <a:ext cx="71280" cy="31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V="1">
                <a:off x="2546280" y="1673280"/>
                <a:ext cx="69840" cy="47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V="1">
                <a:off x="2616120" y="1628640"/>
                <a:ext cx="71640" cy="44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2687760" y="1628640"/>
                <a:ext cx="71280" cy="220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V="1">
                <a:off x="2759040" y="1808280"/>
                <a:ext cx="69840" cy="41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V="1">
                <a:off x="2828880" y="1767960"/>
                <a:ext cx="71640" cy="39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V="1">
                <a:off x="2900520" y="1711440"/>
                <a:ext cx="69840" cy="56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V="1">
                <a:off x="2970360" y="1655280"/>
                <a:ext cx="72720" cy="55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 flipV="1">
                <a:off x="3043080" y="1600200"/>
                <a:ext cx="69840" cy="55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 flipV="1">
                <a:off x="3112920" y="1580760"/>
                <a:ext cx="71640" cy="190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184560" y="1581120"/>
                <a:ext cx="69840" cy="592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 flipV="1">
                <a:off x="3254400" y="2145960"/>
                <a:ext cx="71280" cy="27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325680" y="2146320"/>
                <a:ext cx="69840" cy="182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3395520" y="2328840"/>
                <a:ext cx="71640" cy="230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3467160" y="2558880"/>
                <a:ext cx="69840" cy="9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 flipV="1">
                <a:off x="3537000" y="2406600"/>
                <a:ext cx="73080" cy="162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610080" y="2406600"/>
                <a:ext cx="69840" cy="33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3679920" y="2440080"/>
                <a:ext cx="71280" cy="42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V="1">
                <a:off x="3751200" y="2447640"/>
                <a:ext cx="69840" cy="34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3821040" y="2448000"/>
                <a:ext cx="71640" cy="4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3892680" y="2452680"/>
                <a:ext cx="69840" cy="6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3962520" y="2459160"/>
                <a:ext cx="71280" cy="61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4033800" y="2521080"/>
                <a:ext cx="71640" cy="29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105440" y="2550960"/>
                <a:ext cx="71280" cy="36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 flipV="1">
                <a:off x="4176720" y="2404800"/>
                <a:ext cx="71280" cy="182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4248000" y="2405160"/>
                <a:ext cx="69840" cy="42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4317840" y="2448000"/>
                <a:ext cx="71640" cy="42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flipV="1">
                <a:off x="4389480" y="2452680"/>
                <a:ext cx="6984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4459320" y="2452680"/>
                <a:ext cx="71280" cy="4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4530600" y="2457360"/>
                <a:ext cx="69840" cy="44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4600440" y="2502000"/>
                <a:ext cx="71640" cy="108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672080" y="2610000"/>
                <a:ext cx="71280" cy="28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4743360" y="2638440"/>
                <a:ext cx="71640" cy="363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 flipV="1">
                <a:off x="4815000" y="2506320"/>
                <a:ext cx="69840" cy="168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4884840" y="2506680"/>
                <a:ext cx="71280" cy="460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956120" y="2552760"/>
                <a:ext cx="69840" cy="442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 flipV="1">
                <a:off x="5025960" y="2549520"/>
                <a:ext cx="71640" cy="47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097600" y="2549520"/>
                <a:ext cx="69840" cy="12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167440" y="2562120"/>
                <a:ext cx="72720" cy="414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 flipV="1">
                <a:off x="5240160" y="2509920"/>
                <a:ext cx="70200" cy="93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310360" y="2509920"/>
                <a:ext cx="71280" cy="30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381640" y="2540160"/>
                <a:ext cx="71280" cy="34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flipV="1">
                <a:off x="5452920" y="2371320"/>
                <a:ext cx="69840" cy="2034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522760" y="2371680"/>
                <a:ext cx="71640" cy="20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594400" y="2392200"/>
                <a:ext cx="69840" cy="49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664240" y="2441520"/>
                <a:ext cx="71280" cy="6285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35520" y="3070080"/>
                <a:ext cx="71640" cy="44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807160" y="3114720"/>
                <a:ext cx="71280" cy="34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 flipV="1">
                <a:off x="5878440" y="2991960"/>
                <a:ext cx="69840" cy="157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948280" y="2992320"/>
                <a:ext cx="7164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6019920" y="3030480"/>
                <a:ext cx="69840" cy="39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 flipV="1">
                <a:off x="6089760" y="3046320"/>
                <a:ext cx="71280" cy="23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6161040" y="3046320"/>
                <a:ext cx="69840" cy="209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6230880" y="3255840"/>
                <a:ext cx="71640" cy="33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 flipV="1">
                <a:off x="6302520" y="3220920"/>
                <a:ext cx="71280" cy="684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6373800" y="3220920"/>
                <a:ext cx="71280" cy="135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6445080" y="3355920"/>
                <a:ext cx="7020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 flipV="1">
                <a:off x="6515280" y="3112560"/>
                <a:ext cx="71280" cy="281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6586560" y="3112920"/>
                <a:ext cx="71280" cy="258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6657840" y="3371760"/>
                <a:ext cx="6984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V="1">
                <a:off x="6727680" y="3402000"/>
                <a:ext cx="71640" cy="7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6799320" y="3402000"/>
                <a:ext cx="69840" cy="15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6" name=""/>
            <p:cNvSpPr/>
            <p:nvPr/>
          </p:nvSpPr>
          <p:spPr>
            <a:xfrm>
              <a:off x="6869160" y="3417840"/>
              <a:ext cx="73080" cy="367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6942240" y="3400560"/>
              <a:ext cx="69840" cy="540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7012080" y="3296880"/>
              <a:ext cx="7128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7083360" y="3297240"/>
              <a:ext cx="69840" cy="41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7153200" y="3330720"/>
              <a:ext cx="71640" cy="7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7224840" y="3287520"/>
              <a:ext cx="69840" cy="42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7294680" y="3287880"/>
              <a:ext cx="71280" cy="16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365960" y="3448080"/>
              <a:ext cx="69840" cy="25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7435800" y="3417840"/>
              <a:ext cx="73080" cy="55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7508880" y="3417840"/>
              <a:ext cx="69840" cy="651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7578720" y="3430440"/>
              <a:ext cx="71280" cy="525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flipV="1">
              <a:off x="7650000" y="3290760"/>
              <a:ext cx="69840" cy="13968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 flipV="1">
              <a:off x="7719840" y="3285720"/>
              <a:ext cx="71640" cy="468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791480" y="3286080"/>
              <a:ext cx="69840" cy="381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7861320" y="3324240"/>
              <a:ext cx="71280" cy="32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7932600" y="3327480"/>
              <a:ext cx="71640" cy="34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8004240" y="3362400"/>
              <a:ext cx="71280" cy="9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 flipV="1">
              <a:off x="8075520" y="3281040"/>
              <a:ext cx="71640" cy="90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1127160" y="2025360"/>
              <a:ext cx="71280" cy="11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1198440" y="2025720"/>
              <a:ext cx="69840" cy="50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V="1">
              <a:off x="1268280" y="2072880"/>
              <a:ext cx="73080" cy="3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1341360" y="2071800"/>
              <a:ext cx="71640" cy="1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1413000" y="2071800"/>
              <a:ext cx="69840" cy="38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V="1">
              <a:off x="1482840" y="2023560"/>
              <a:ext cx="71280" cy="86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1554120" y="1941120"/>
              <a:ext cx="69840" cy="82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1623960" y="1941480"/>
              <a:ext cx="71640" cy="119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V="1">
              <a:off x="1695600" y="1962000"/>
              <a:ext cx="69840" cy="98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1765440" y="1856880"/>
              <a:ext cx="71280" cy="104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836720" y="1857240"/>
              <a:ext cx="71280" cy="185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 flipV="1">
              <a:off x="1908000" y="1935000"/>
              <a:ext cx="71640" cy="108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1979640" y="1832040"/>
              <a:ext cx="69840" cy="102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049480" y="1832040"/>
              <a:ext cx="71280" cy="137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V="1">
              <a:off x="2120760" y="1902960"/>
              <a:ext cx="69840" cy="66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 flipV="1">
              <a:off x="2190600" y="1844280"/>
              <a:ext cx="71640" cy="58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262240" y="1844640"/>
              <a:ext cx="69840" cy="150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 flipV="1">
              <a:off x="2332080" y="1929960"/>
              <a:ext cx="71280" cy="65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V="1">
              <a:off x="2403360" y="1872720"/>
              <a:ext cx="71640" cy="57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475000" y="1873080"/>
              <a:ext cx="71280" cy="255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V="1">
              <a:off x="2546280" y="2068200"/>
              <a:ext cx="69840" cy="60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 flipV="1">
              <a:off x="2616120" y="2013120"/>
              <a:ext cx="71640" cy="55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687760" y="2013120"/>
              <a:ext cx="71280" cy="441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V="1">
              <a:off x="2759040" y="2392200"/>
              <a:ext cx="69840" cy="61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2828880" y="2335320"/>
              <a:ext cx="71640" cy="56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00520" y="2335320"/>
              <a:ext cx="69840" cy="1617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V="1">
              <a:off x="2970360" y="3897360"/>
              <a:ext cx="72720" cy="55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3043080" y="3843360"/>
              <a:ext cx="69840" cy="54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112920" y="3843360"/>
              <a:ext cx="71640" cy="944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3184560" y="4706640"/>
              <a:ext cx="69840" cy="81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3254400" y="4617720"/>
              <a:ext cx="71280" cy="88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325680" y="4618080"/>
              <a:ext cx="69840" cy="244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3395520" y="4809960"/>
              <a:ext cx="71640" cy="52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3467160" y="4714920"/>
              <a:ext cx="69840" cy="95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3537000" y="4630680"/>
              <a:ext cx="73080" cy="84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3610080" y="4601880"/>
              <a:ext cx="69840" cy="28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3679920" y="4579920"/>
              <a:ext cx="71280" cy="22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751200" y="4579920"/>
              <a:ext cx="69840" cy="168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3821040" y="4717800"/>
              <a:ext cx="71640" cy="29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V="1">
              <a:off x="3892680" y="4695840"/>
              <a:ext cx="69840" cy="22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3962520" y="4613040"/>
              <a:ext cx="71280" cy="82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4033800" y="4587480"/>
              <a:ext cx="71640" cy="25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4105440" y="4568400"/>
              <a:ext cx="71280" cy="19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176720" y="4568760"/>
              <a:ext cx="71280" cy="381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4248000" y="4924080"/>
              <a:ext cx="69840" cy="25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4317840" y="4874760"/>
              <a:ext cx="71640" cy="49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V="1">
              <a:off x="4389480" y="4798800"/>
              <a:ext cx="69840" cy="75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459320" y="4776840"/>
              <a:ext cx="71280" cy="22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V="1">
              <a:off x="4530600" y="4758840"/>
              <a:ext cx="69840" cy="17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600440" y="4759200"/>
              <a:ext cx="71640" cy="312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4672080" y="4978440"/>
              <a:ext cx="71280" cy="93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4743360" y="4878360"/>
              <a:ext cx="71640" cy="100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815000" y="4878360"/>
              <a:ext cx="69840" cy="82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V="1">
              <a:off x="4884840" y="4876560"/>
              <a:ext cx="71280" cy="83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 flipV="1">
              <a:off x="4956120" y="4782600"/>
              <a:ext cx="69840" cy="93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025960" y="4782960"/>
              <a:ext cx="71640" cy="309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 flipV="1">
              <a:off x="5097600" y="4998960"/>
              <a:ext cx="69840" cy="93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 flipV="1">
              <a:off x="5167440" y="4898880"/>
              <a:ext cx="72720" cy="100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240160" y="4898880"/>
              <a:ext cx="70200" cy="59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 flipV="1">
              <a:off x="5310360" y="4868640"/>
              <a:ext cx="71280" cy="88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V="1">
              <a:off x="5381640" y="4770360"/>
              <a:ext cx="71280" cy="98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52920" y="4770360"/>
              <a:ext cx="69840" cy="362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V="1">
              <a:off x="5522760" y="5033880"/>
              <a:ext cx="71640" cy="98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V="1">
              <a:off x="5594400" y="4933800"/>
              <a:ext cx="69840" cy="100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5664240" y="4933800"/>
              <a:ext cx="71280" cy="22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V="1">
              <a:off x="5735520" y="4861080"/>
              <a:ext cx="71640" cy="95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5807160" y="4765320"/>
              <a:ext cx="71280" cy="95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5878440" y="4765680"/>
              <a:ext cx="69840" cy="345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5948280" y="5016600"/>
              <a:ext cx="71640" cy="95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flipV="1">
              <a:off x="6019920" y="4915080"/>
              <a:ext cx="69840" cy="101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089760" y="4915080"/>
              <a:ext cx="71280" cy="74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 flipV="1">
              <a:off x="6161040" y="4903920"/>
              <a:ext cx="69840" cy="85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6230880" y="4808160"/>
              <a:ext cx="71640" cy="95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02520" y="4808520"/>
              <a:ext cx="71280" cy="341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6373800" y="5051160"/>
              <a:ext cx="71280" cy="98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V="1">
              <a:off x="6445080" y="4951440"/>
              <a:ext cx="70200" cy="100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515280" y="4951440"/>
              <a:ext cx="71280" cy="55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6586560" y="4917600"/>
              <a:ext cx="71280" cy="88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6657840" y="4820760"/>
              <a:ext cx="69840" cy="96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727680" y="4821120"/>
              <a:ext cx="71640" cy="335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V="1">
              <a:off x="6799320" y="5057640"/>
              <a:ext cx="69840" cy="98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V="1">
              <a:off x="6869160" y="4957560"/>
              <a:ext cx="73080" cy="99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942240" y="4957920"/>
              <a:ext cx="69840" cy="36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7012080" y="4903560"/>
              <a:ext cx="71280" cy="90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7083360" y="4821120"/>
              <a:ext cx="69840" cy="82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7153200" y="4821120"/>
              <a:ext cx="71640" cy="300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7224840" y="5027760"/>
              <a:ext cx="69840" cy="93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7294680" y="4927680"/>
              <a:ext cx="71280" cy="100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7365960" y="4927680"/>
              <a:ext cx="69840" cy="48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V="1">
              <a:off x="7435800" y="4888080"/>
              <a:ext cx="73080" cy="88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7508880" y="4789440"/>
              <a:ext cx="69840" cy="98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7578720" y="4789440"/>
              <a:ext cx="71280" cy="314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7650000" y="5008680"/>
              <a:ext cx="69840" cy="95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7719840" y="4906440"/>
              <a:ext cx="71640" cy="101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7791480" y="4906800"/>
              <a:ext cx="69840" cy="79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V="1">
              <a:off x="7861320" y="4900680"/>
              <a:ext cx="71280" cy="85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7932600" y="4811400"/>
              <a:ext cx="71640" cy="88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8004240" y="4811760"/>
              <a:ext cx="71280" cy="339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V="1">
              <a:off x="8075520" y="5055840"/>
              <a:ext cx="71640" cy="95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99400" y="566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599400" y="5178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599400" y="4692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99400" y="420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599400" y="3719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599400" y="3235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599400" y="2747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599400" y="2262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496080" y="1776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96080" y="12906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9608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020600" y="588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75400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52736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0036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8035560" y="5888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752720" y="6121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rot="16200000">
              <a:off x="-1201680" y="3202200"/>
              <a:ext cx="302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ndscape Biodiversity (specie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580920" y="1219320"/>
              <a:ext cx="323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Permanent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3348720" y="2666880"/>
              <a:ext cx="484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Agglomerat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958920" y="4191120"/>
              <a:ext cx="427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spers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4" name=""/>
          <p:cNvGrpSpPr/>
          <p:nvPr/>
        </p:nvGrpSpPr>
        <p:grpSpPr>
          <a:xfrm>
            <a:off x="0" y="0"/>
            <a:ext cx="9144000" cy="6350040"/>
            <a:chOff x="0" y="0"/>
            <a:chExt cx="9144000" cy="6350040"/>
          </a:xfrm>
        </p:grpSpPr>
        <p:sp>
          <p:nvSpPr>
            <p:cNvPr id="550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ME CONSEQUENCES: WATERSHED FU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6" name=""/>
            <p:cNvGrpSpPr/>
            <p:nvPr/>
          </p:nvGrpSpPr>
          <p:grpSpPr>
            <a:xfrm>
              <a:off x="998640" y="917640"/>
              <a:ext cx="7856280" cy="4900320"/>
              <a:chOff x="998640" y="917640"/>
              <a:chExt cx="7856280" cy="4900320"/>
            </a:xfrm>
          </p:grpSpPr>
          <p:sp>
            <p:nvSpPr>
              <p:cNvPr id="5507" name=""/>
              <p:cNvSpPr/>
              <p:nvPr/>
            </p:nvSpPr>
            <p:spPr>
              <a:xfrm>
                <a:off x="1057320" y="917640"/>
                <a:ext cx="7797600" cy="4860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057320" y="917640"/>
                <a:ext cx="7797600" cy="4860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057320" y="917640"/>
                <a:ext cx="1440" cy="486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998640" y="5778360"/>
                <a:ext cx="58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998640" y="480708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998640" y="3833640"/>
                <a:ext cx="58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998640" y="286236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998640" y="189072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998640" y="917640"/>
                <a:ext cx="58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1057320" y="5778360"/>
                <a:ext cx="7797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 flipV="1">
                <a:off x="105732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 flipV="1">
                <a:off x="282888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 flipV="1">
                <a:off x="460044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 flipV="1">
                <a:off x="637380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 flipV="1">
                <a:off x="814716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1127160" y="3492360"/>
                <a:ext cx="71280" cy="538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198440" y="4030560"/>
                <a:ext cx="69840" cy="66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268280" y="4097160"/>
                <a:ext cx="73080" cy="171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V="1">
                <a:off x="1341360" y="4052880"/>
                <a:ext cx="7164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1413000" y="4052880"/>
                <a:ext cx="69840" cy="30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1482840" y="4083120"/>
                <a:ext cx="71280" cy="28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1554120" y="4111560"/>
                <a:ext cx="69840" cy="14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1623960" y="4125960"/>
                <a:ext cx="71640" cy="66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 flipV="1">
                <a:off x="1695600" y="4170240"/>
                <a:ext cx="69840" cy="22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1765440" y="4170240"/>
                <a:ext cx="7128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1836720" y="4178160"/>
                <a:ext cx="71280" cy="30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 flipV="1">
                <a:off x="1908000" y="4160880"/>
                <a:ext cx="71640" cy="47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1979640" y="4160880"/>
                <a:ext cx="69840" cy="23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 flipV="1">
                <a:off x="2049480" y="4141440"/>
                <a:ext cx="71280" cy="42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 flipV="1">
                <a:off x="2120760" y="4081320"/>
                <a:ext cx="69840" cy="60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 flipV="1">
                <a:off x="2190600" y="4078440"/>
                <a:ext cx="7164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flipV="1">
                <a:off x="2262240" y="4008600"/>
                <a:ext cx="69840" cy="6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332080" y="4008600"/>
                <a:ext cx="71280" cy="37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 flipV="1">
                <a:off x="2403360" y="3968640"/>
                <a:ext cx="71640" cy="77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475000" y="3968640"/>
                <a:ext cx="71280" cy="1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 flipV="1">
                <a:off x="2546280" y="3963960"/>
                <a:ext cx="698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V="1">
                <a:off x="2616120" y="3948120"/>
                <a:ext cx="71640" cy="1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687760" y="394812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759040" y="3951360"/>
                <a:ext cx="69840" cy="22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V="1">
                <a:off x="2828880" y="3893760"/>
                <a:ext cx="71640" cy="79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900520" y="389412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2970360" y="3898800"/>
                <a:ext cx="72720" cy="3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3043080" y="3936960"/>
                <a:ext cx="698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 flipV="1">
                <a:off x="3112920" y="3871440"/>
                <a:ext cx="71640" cy="7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V="1">
                <a:off x="3184560" y="3870360"/>
                <a:ext cx="698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3254400" y="3870360"/>
                <a:ext cx="71280" cy="44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 flipV="1">
                <a:off x="3325680" y="3882960"/>
                <a:ext cx="69840" cy="31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395520" y="3882960"/>
                <a:ext cx="71640" cy="1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 flipV="1">
                <a:off x="3467160" y="3889440"/>
                <a:ext cx="69840" cy="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V="1">
                <a:off x="3537000" y="3882960"/>
                <a:ext cx="730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 flipV="1">
                <a:off x="3610080" y="3833280"/>
                <a:ext cx="69840" cy="4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 flipV="1">
                <a:off x="3679920" y="3830760"/>
                <a:ext cx="7128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751200" y="3830760"/>
                <a:ext cx="69840" cy="14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 flipV="1">
                <a:off x="3821040" y="3825360"/>
                <a:ext cx="71640" cy="19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 flipV="1">
                <a:off x="3892680" y="3808440"/>
                <a:ext cx="69840" cy="1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962520" y="3808440"/>
                <a:ext cx="71280" cy="47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4033800" y="3855960"/>
                <a:ext cx="71640" cy="2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 flipV="1">
                <a:off x="4105440" y="3865320"/>
                <a:ext cx="712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4176720" y="3865680"/>
                <a:ext cx="712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 flipV="1">
                <a:off x="4248000" y="3825720"/>
                <a:ext cx="69840" cy="51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 flipV="1">
                <a:off x="4317840" y="3819240"/>
                <a:ext cx="71640" cy="6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 flipV="1">
                <a:off x="4389480" y="3814560"/>
                <a:ext cx="698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 flipV="1">
                <a:off x="4459320" y="3781080"/>
                <a:ext cx="71280" cy="33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4530600" y="3781440"/>
                <a:ext cx="69840" cy="81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4600440" y="3862440"/>
                <a:ext cx="71640" cy="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 flipV="1">
                <a:off x="4672080" y="3817440"/>
                <a:ext cx="71280" cy="4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4743360" y="3817800"/>
                <a:ext cx="7164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4815000" y="3828960"/>
                <a:ext cx="69840" cy="19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 flipV="1">
                <a:off x="4884840" y="3796920"/>
                <a:ext cx="71280" cy="50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4956120" y="3797280"/>
                <a:ext cx="69840" cy="25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5025960" y="3822840"/>
                <a:ext cx="71640" cy="28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 flipV="1">
                <a:off x="5097600" y="3830400"/>
                <a:ext cx="69840" cy="20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5167440" y="3830760"/>
                <a:ext cx="72720" cy="34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 flipV="1">
                <a:off x="5240160" y="3862080"/>
                <a:ext cx="7020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5310360" y="386244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 flipV="1">
                <a:off x="5381640" y="3822480"/>
                <a:ext cx="71280" cy="42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5452920" y="3822840"/>
                <a:ext cx="698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 flipV="1">
                <a:off x="5522760" y="3822840"/>
                <a:ext cx="71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594400" y="3822840"/>
                <a:ext cx="69840" cy="23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 flipV="1">
                <a:off x="5664240" y="384012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 flipV="1">
                <a:off x="5735520" y="3787560"/>
                <a:ext cx="71640" cy="52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807160" y="3787920"/>
                <a:ext cx="71280" cy="9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 flipV="1">
                <a:off x="5878440" y="3855960"/>
                <a:ext cx="69840" cy="22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 flipV="1">
                <a:off x="5948280" y="3830760"/>
                <a:ext cx="71640" cy="25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6019920" y="3830760"/>
                <a:ext cx="69840" cy="12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 flipV="1">
                <a:off x="6089760" y="3772080"/>
                <a:ext cx="71280" cy="7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6161040" y="3772080"/>
                <a:ext cx="69840" cy="25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230880" y="3797280"/>
                <a:ext cx="71640" cy="5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 flipV="1">
                <a:off x="6302520" y="3825720"/>
                <a:ext cx="71280" cy="30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6373800" y="3825720"/>
                <a:ext cx="71280" cy="44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V="1">
                <a:off x="6445080" y="3789000"/>
                <a:ext cx="70200" cy="81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515280" y="3789360"/>
                <a:ext cx="71280" cy="27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 flipV="1">
                <a:off x="6586560" y="3801960"/>
                <a:ext cx="71280" cy="14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657840" y="3801960"/>
                <a:ext cx="698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727680" y="3809880"/>
                <a:ext cx="71640" cy="46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V="1">
                <a:off x="6799320" y="3814920"/>
                <a:ext cx="69840" cy="41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869160" y="3814920"/>
                <a:ext cx="73080" cy="1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V="1">
                <a:off x="6942240" y="3808440"/>
                <a:ext cx="69840" cy="22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 flipV="1">
                <a:off x="7012080" y="3776760"/>
                <a:ext cx="71280" cy="31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7083360" y="3776760"/>
                <a:ext cx="69840" cy="6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153200" y="3782880"/>
                <a:ext cx="7164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7224840" y="3789360"/>
                <a:ext cx="69840" cy="36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 flipV="1">
                <a:off x="7294680" y="3792600"/>
                <a:ext cx="71280" cy="33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7365960" y="3792600"/>
                <a:ext cx="69840" cy="5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 flipV="1">
                <a:off x="7435800" y="3836520"/>
                <a:ext cx="730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7508880" y="3836880"/>
                <a:ext cx="698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7578720" y="3840120"/>
                <a:ext cx="712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 flipV="1">
                <a:off x="7650000" y="3809520"/>
                <a:ext cx="69840" cy="41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7719840" y="3809880"/>
                <a:ext cx="71640" cy="1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7791480" y="3827520"/>
                <a:ext cx="69840" cy="14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 flipV="1">
                <a:off x="7861320" y="3797280"/>
                <a:ext cx="71280" cy="44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7932600" y="3797280"/>
                <a:ext cx="71640" cy="68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8004240" y="3865680"/>
                <a:ext cx="7128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flipV="1">
                <a:off x="8075520" y="3819600"/>
                <a:ext cx="71640" cy="54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1127160" y="3510000"/>
                <a:ext cx="71280" cy="561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1198440" y="4071960"/>
                <a:ext cx="69840" cy="66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V="1">
                <a:off x="1268280" y="4080960"/>
                <a:ext cx="73080" cy="57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1341360" y="4081320"/>
                <a:ext cx="71640" cy="165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 flipV="1">
                <a:off x="1413000" y="3931920"/>
                <a:ext cx="69840" cy="3142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1482840" y="39322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flipV="1">
                <a:off x="1554120" y="3886200"/>
                <a:ext cx="69840" cy="47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V="1">
                <a:off x="1623960" y="3782520"/>
                <a:ext cx="7164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1695600" y="3782880"/>
                <a:ext cx="69840" cy="30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V="1">
                <a:off x="1765440" y="3738240"/>
                <a:ext cx="71280" cy="74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V="1">
                <a:off x="1836720" y="3508200"/>
                <a:ext cx="71280" cy="2304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1908000" y="3508200"/>
                <a:ext cx="71640" cy="43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V="1">
                <a:off x="1979640" y="3519000"/>
                <a:ext cx="69840" cy="32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 flipV="1">
                <a:off x="2049480" y="2964960"/>
                <a:ext cx="71280" cy="554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flipV="1">
                <a:off x="2120760" y="2836440"/>
                <a:ext cx="69840" cy="128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 flipV="1">
                <a:off x="2190600" y="2725200"/>
                <a:ext cx="71640" cy="111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262240" y="2725560"/>
                <a:ext cx="69840" cy="60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2332080" y="2786040"/>
                <a:ext cx="71280" cy="123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403360" y="2909880"/>
                <a:ext cx="71640" cy="55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 flipV="1">
                <a:off x="2475000" y="2616120"/>
                <a:ext cx="71280" cy="349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2546280" y="2616120"/>
                <a:ext cx="69840" cy="174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flipV="1">
                <a:off x="2616120" y="2771280"/>
                <a:ext cx="71640" cy="190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 flipV="1">
                <a:off x="2687760" y="2382840"/>
                <a:ext cx="71280" cy="388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 flipV="1">
                <a:off x="2759040" y="2166840"/>
                <a:ext cx="69840" cy="216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 flipV="1">
                <a:off x="2828880" y="2097000"/>
                <a:ext cx="71640" cy="69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2900520" y="2097000"/>
                <a:ext cx="69840" cy="493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2970360" y="2590920"/>
                <a:ext cx="72720" cy="88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043080" y="2679840"/>
                <a:ext cx="69840" cy="37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 flipV="1">
                <a:off x="3112920" y="2426760"/>
                <a:ext cx="71640" cy="290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184560" y="2427120"/>
                <a:ext cx="69840" cy="140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V="1">
                <a:off x="3254400" y="2523960"/>
                <a:ext cx="71280" cy="43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 flipV="1">
                <a:off x="3325680" y="2111400"/>
                <a:ext cx="69840" cy="4125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 flipV="1">
                <a:off x="3395520" y="2069640"/>
                <a:ext cx="71640" cy="414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 flipV="1">
                <a:off x="3467160" y="2054160"/>
                <a:ext cx="69840" cy="15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537000" y="2054160"/>
                <a:ext cx="73080" cy="37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610080" y="2428920"/>
                <a:ext cx="69840" cy="142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 flipV="1">
                <a:off x="3679920" y="2528640"/>
                <a:ext cx="71280" cy="42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 flipV="1">
                <a:off x="3751200" y="2252520"/>
                <a:ext cx="69840" cy="276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821040" y="2252520"/>
                <a:ext cx="71640" cy="112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 flipV="1">
                <a:off x="3892680" y="2346480"/>
                <a:ext cx="69840" cy="18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 flipV="1">
                <a:off x="3962520" y="1985760"/>
                <a:ext cx="71280" cy="3603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 flipV="1">
                <a:off x="4033800" y="1961640"/>
                <a:ext cx="71640" cy="24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 flipV="1">
                <a:off x="4105440" y="1954080"/>
                <a:ext cx="71280" cy="7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4176720" y="1954080"/>
                <a:ext cx="71280" cy="325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4248000" y="2279520"/>
                <a:ext cx="69840" cy="117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317840" y="2397240"/>
                <a:ext cx="71640" cy="25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flipV="1">
                <a:off x="4389480" y="2220840"/>
                <a:ext cx="69840" cy="201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4459320" y="2220840"/>
                <a:ext cx="71280" cy="85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V="1">
                <a:off x="4530600" y="2263320"/>
                <a:ext cx="69840" cy="42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flipV="1">
                <a:off x="4600440" y="1872720"/>
                <a:ext cx="71640" cy="390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flipV="1">
                <a:off x="4672080" y="1775880"/>
                <a:ext cx="71280" cy="96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4743360" y="1776240"/>
                <a:ext cx="71640" cy="1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4815000" y="1778040"/>
                <a:ext cx="69840" cy="479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4884840" y="2257560"/>
                <a:ext cx="71280" cy="37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956120" y="2295360"/>
                <a:ext cx="69840" cy="76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 flipV="1">
                <a:off x="5025960" y="2142720"/>
                <a:ext cx="71640" cy="228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097600" y="2143080"/>
                <a:ext cx="69840" cy="39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 flipV="1">
                <a:off x="5167440" y="2179800"/>
                <a:ext cx="72720" cy="2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V="1">
                <a:off x="5240160" y="1961640"/>
                <a:ext cx="70200" cy="217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 flipV="1">
                <a:off x="5310360" y="1956960"/>
                <a:ext cx="71280" cy="4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V="1">
                <a:off x="5381640" y="1941480"/>
                <a:ext cx="71280" cy="15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5452920" y="1941480"/>
                <a:ext cx="69840" cy="406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5522760" y="2347920"/>
                <a:ext cx="71640" cy="244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 flipV="1">
                <a:off x="5594400" y="2541240"/>
                <a:ext cx="69840" cy="50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 flipV="1">
                <a:off x="5664240" y="1844640"/>
                <a:ext cx="71280" cy="696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 flipV="1">
                <a:off x="5735520" y="1761840"/>
                <a:ext cx="71640" cy="82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 flipV="1">
                <a:off x="5807160" y="1674360"/>
                <a:ext cx="71280" cy="87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5878440" y="1674720"/>
                <a:ext cx="69840" cy="428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5948280" y="2103480"/>
                <a:ext cx="71640" cy="146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 flipV="1">
                <a:off x="6019920" y="2230200"/>
                <a:ext cx="69840" cy="190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089760" y="2230560"/>
                <a:ext cx="71280" cy="269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V="1">
                <a:off x="6161040" y="2385720"/>
                <a:ext cx="69840" cy="114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230880" y="2386080"/>
                <a:ext cx="7164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302520" y="2424240"/>
                <a:ext cx="71280" cy="280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 flipV="1">
                <a:off x="6373800" y="2633760"/>
                <a:ext cx="71280" cy="712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 flipV="1">
                <a:off x="6445080" y="2585520"/>
                <a:ext cx="70200" cy="47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6515280" y="2585880"/>
                <a:ext cx="71280" cy="668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 flipV="1">
                <a:off x="6586560" y="3087360"/>
                <a:ext cx="71280" cy="166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6657840" y="3087720"/>
                <a:ext cx="69840" cy="12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6727680" y="3100320"/>
                <a:ext cx="71640" cy="130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 flipV="1">
                <a:off x="6799320" y="2819520"/>
                <a:ext cx="69840" cy="411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 flipV="1">
                <a:off x="6869160" y="2815920"/>
                <a:ext cx="73080" cy="3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942240" y="2816280"/>
                <a:ext cx="69840" cy="199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 flipV="1">
                <a:off x="7012080" y="2930400"/>
                <a:ext cx="71280" cy="85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083360" y="2930400"/>
                <a:ext cx="69840" cy="66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153200" y="2997360"/>
                <a:ext cx="71640" cy="58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7224840" y="3056040"/>
              <a:ext cx="69840" cy="4608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V="1">
              <a:off x="7294680" y="3089160"/>
              <a:ext cx="71280" cy="12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7365960" y="3060360"/>
              <a:ext cx="69840" cy="28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7435800" y="3060720"/>
              <a:ext cx="73080" cy="169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7508880" y="3204720"/>
              <a:ext cx="69840" cy="255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7578720" y="3205080"/>
              <a:ext cx="71280" cy="1555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7650000" y="3360600"/>
              <a:ext cx="69840" cy="177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7719840" y="3538440"/>
              <a:ext cx="71640" cy="66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7791480" y="3605040"/>
              <a:ext cx="69840" cy="43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7861320" y="3242880"/>
              <a:ext cx="71280" cy="4050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7932600" y="3084120"/>
              <a:ext cx="71640" cy="1587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8004240" y="3084480"/>
              <a:ext cx="71280" cy="28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8075520" y="3112920"/>
              <a:ext cx="71640" cy="339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1127160" y="3508200"/>
              <a:ext cx="71280" cy="552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1198440" y="3981600"/>
              <a:ext cx="69840" cy="79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1268280" y="3981600"/>
              <a:ext cx="73080" cy="158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1341360" y="4140360"/>
              <a:ext cx="71640" cy="28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1413000" y="3695760"/>
              <a:ext cx="69840" cy="473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1482840" y="3674880"/>
              <a:ext cx="71280" cy="20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1554120" y="3675240"/>
              <a:ext cx="69840" cy="75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flipV="1">
              <a:off x="1623960" y="3412800"/>
              <a:ext cx="71640" cy="338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1695600" y="3389400"/>
              <a:ext cx="69840" cy="23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 flipV="1">
              <a:off x="1765440" y="3382920"/>
              <a:ext cx="71280" cy="6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1836720" y="2825640"/>
              <a:ext cx="71280" cy="557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 flipV="1">
              <a:off x="1908000" y="2771640"/>
              <a:ext cx="71640" cy="54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 flipV="1">
              <a:off x="1979640" y="2700360"/>
              <a:ext cx="69840" cy="71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2049480" y="2585880"/>
              <a:ext cx="71280" cy="114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120760" y="2585880"/>
              <a:ext cx="69840" cy="73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 flipV="1">
              <a:off x="2190600" y="2603520"/>
              <a:ext cx="71640" cy="55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2262240" y="2455920"/>
              <a:ext cx="69840" cy="147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flipV="1">
              <a:off x="2332080" y="2387520"/>
              <a:ext cx="71280" cy="68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403360" y="2387520"/>
              <a:ext cx="7164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 flipV="1">
              <a:off x="2475000" y="2284200"/>
              <a:ext cx="71280" cy="104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2546280" y="2233440"/>
              <a:ext cx="69840" cy="51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16120" y="2233440"/>
              <a:ext cx="71640" cy="59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V="1">
              <a:off x="2687760" y="2288880"/>
              <a:ext cx="71280" cy="3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59040" y="2289240"/>
              <a:ext cx="69840" cy="44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V="1">
              <a:off x="2828880" y="2303280"/>
              <a:ext cx="71640" cy="29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flipV="1">
              <a:off x="2900520" y="2147400"/>
              <a:ext cx="69840" cy="155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970360" y="2147760"/>
              <a:ext cx="72720" cy="3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3043080" y="2060280"/>
              <a:ext cx="69840" cy="90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3112920" y="2060640"/>
              <a:ext cx="71640" cy="195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3184560" y="2255760"/>
              <a:ext cx="69840" cy="36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3254400" y="2284560"/>
              <a:ext cx="71280" cy="7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3325680" y="2054160"/>
              <a:ext cx="69840" cy="230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3395520" y="2054160"/>
              <a:ext cx="71640" cy="3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3467160" y="1969560"/>
              <a:ext cx="69840" cy="87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537000" y="1969920"/>
              <a:ext cx="73080" cy="185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610080" y="2155680"/>
              <a:ext cx="69840" cy="57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3679920" y="2174760"/>
              <a:ext cx="71280" cy="38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V="1">
              <a:off x="3751200" y="1688760"/>
              <a:ext cx="69840" cy="485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821040" y="1689120"/>
              <a:ext cx="71640" cy="33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892680" y="1722600"/>
              <a:ext cx="69840" cy="9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962520" y="1731960"/>
              <a:ext cx="71280" cy="266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4033800" y="1998720"/>
              <a:ext cx="71640" cy="79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4105440" y="2050560"/>
              <a:ext cx="71280" cy="27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4176720" y="1557000"/>
              <a:ext cx="71280" cy="493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4248000" y="1545840"/>
              <a:ext cx="69840" cy="11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4317840" y="1546200"/>
              <a:ext cx="71640" cy="52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4389480" y="1598760"/>
              <a:ext cx="69840" cy="296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4459320" y="1895400"/>
              <a:ext cx="71280" cy="152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V="1">
              <a:off x="4530600" y="2041560"/>
              <a:ext cx="69840" cy="6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V="1">
              <a:off x="4600440" y="1425240"/>
              <a:ext cx="71640" cy="615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4672080" y="1425600"/>
              <a:ext cx="71280" cy="63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4743360" y="1488960"/>
              <a:ext cx="71640" cy="12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4815000" y="1501920"/>
              <a:ext cx="69840" cy="349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V="1">
              <a:off x="4884840" y="1807920"/>
              <a:ext cx="71280" cy="42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4956120" y="1808280"/>
              <a:ext cx="69840" cy="34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5025960" y="1498320"/>
              <a:ext cx="71640" cy="344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097600" y="1498680"/>
              <a:ext cx="69840" cy="7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167440" y="1506600"/>
              <a:ext cx="72720" cy="6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240160" y="1512720"/>
              <a:ext cx="70200" cy="295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V="1">
              <a:off x="5310360" y="1793880"/>
              <a:ext cx="71280" cy="14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381640" y="1793880"/>
              <a:ext cx="71280" cy="63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V="1">
              <a:off x="5452920" y="1390680"/>
              <a:ext cx="69840" cy="466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522760" y="1390680"/>
              <a:ext cx="71640" cy="49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594400" y="1440000"/>
              <a:ext cx="69840" cy="7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664240" y="1447920"/>
              <a:ext cx="71280" cy="307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V="1">
              <a:off x="5735520" y="1738440"/>
              <a:ext cx="71640" cy="17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807160" y="1738440"/>
              <a:ext cx="71280" cy="25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V="1">
              <a:off x="5878440" y="1353960"/>
              <a:ext cx="69840" cy="409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948280" y="1353960"/>
              <a:ext cx="71640" cy="32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019920" y="1386000"/>
              <a:ext cx="69840" cy="95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089760" y="1481040"/>
              <a:ext cx="71280" cy="158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161040" y="1639800"/>
              <a:ext cx="69840" cy="58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V="1">
              <a:off x="6230880" y="1663200"/>
              <a:ext cx="71640" cy="34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V="1">
              <a:off x="6302520" y="1331640"/>
              <a:ext cx="71280" cy="331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373800" y="1332000"/>
              <a:ext cx="71280" cy="20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445080" y="1352520"/>
              <a:ext cx="70200" cy="25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515280" y="1378080"/>
              <a:ext cx="71280" cy="268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586560" y="1646280"/>
              <a:ext cx="71280" cy="982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 flipV="1">
              <a:off x="6657840" y="1720800"/>
              <a:ext cx="69840" cy="23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6727680" y="1198080"/>
              <a:ext cx="71640" cy="522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799320" y="1198440"/>
              <a:ext cx="69840" cy="150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 flipV="1">
              <a:off x="6869160" y="1347840"/>
              <a:ext cx="73080" cy="1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942240" y="1347840"/>
              <a:ext cx="69840" cy="312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7012080" y="1660680"/>
              <a:ext cx="71280" cy="87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V="1">
              <a:off x="7083360" y="1658520"/>
              <a:ext cx="69840" cy="88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V="1">
              <a:off x="7153200" y="1293840"/>
              <a:ext cx="71640" cy="365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7224840" y="1293840"/>
              <a:ext cx="69840" cy="131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94680" y="1425600"/>
              <a:ext cx="71280" cy="55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7365960" y="1481040"/>
              <a:ext cx="69840" cy="158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7435800" y="1639800"/>
              <a:ext cx="73080" cy="92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508880" y="1731960"/>
              <a:ext cx="6984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flipV="1">
              <a:off x="7578720" y="1364760"/>
              <a:ext cx="71280" cy="382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7650000" y="1365120"/>
              <a:ext cx="69840" cy="98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7719840" y="1432080"/>
              <a:ext cx="71640" cy="31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7791480" y="1432080"/>
              <a:ext cx="69840" cy="236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7861320" y="1668600"/>
              <a:ext cx="71280" cy="96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V="1">
              <a:off x="7932600" y="1720800"/>
              <a:ext cx="71640" cy="44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V="1">
              <a:off x="8004240" y="1130400"/>
              <a:ext cx="71280" cy="590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8075520" y="1130400"/>
              <a:ext cx="71640" cy="101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41160" y="566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41160" y="4692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41160" y="3719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41160" y="2747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41160" y="1776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37840" y="8031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1050480" y="588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78424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455724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33060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8064720" y="5888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797720" y="6121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 rot="16200000">
              <a:off x="-467640" y="3168000"/>
              <a:ext cx="156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ater Yield (m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666880" y="30492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otal water yiel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3047760" y="3886200"/>
              <a:ext cx="323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Permanent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3348720" y="2666880"/>
              <a:ext cx="484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Agglomerat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1901520" y="990720"/>
              <a:ext cx="427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spers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6" name=""/>
          <p:cNvGrpSpPr/>
          <p:nvPr/>
        </p:nvGrpSpPr>
        <p:grpSpPr>
          <a:xfrm>
            <a:off x="0" y="0"/>
            <a:ext cx="9144000" cy="6350040"/>
            <a:chOff x="0" y="0"/>
            <a:chExt cx="9144000" cy="6350040"/>
          </a:xfrm>
        </p:grpSpPr>
        <p:sp>
          <p:nvSpPr>
            <p:cNvPr id="583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ME CONSEQUENCES: WATERSHED FU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8" name=""/>
            <p:cNvGrpSpPr/>
            <p:nvPr/>
          </p:nvGrpSpPr>
          <p:grpSpPr>
            <a:xfrm>
              <a:off x="895320" y="917640"/>
              <a:ext cx="7959600" cy="4900320"/>
              <a:chOff x="895320" y="917640"/>
              <a:chExt cx="7959600" cy="4900320"/>
            </a:xfrm>
          </p:grpSpPr>
          <p:sp>
            <p:nvSpPr>
              <p:cNvPr id="5839" name=""/>
              <p:cNvSpPr/>
              <p:nvPr/>
            </p:nvSpPr>
            <p:spPr>
              <a:xfrm>
                <a:off x="952560" y="917640"/>
                <a:ext cx="7902360" cy="4860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952560" y="917640"/>
                <a:ext cx="7902360" cy="4860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952560" y="917640"/>
                <a:ext cx="1440" cy="486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895320" y="577836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895320" y="456408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895320" y="334980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895320" y="213192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895320" y="9176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952560" y="5778360"/>
                <a:ext cx="790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 flipV="1">
                <a:off x="95256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 flipV="1">
                <a:off x="274788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 flipV="1">
                <a:off x="4545000" y="577800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 flipV="1">
                <a:off x="634032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V="1">
                <a:off x="8137440" y="577800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025640" y="4591080"/>
                <a:ext cx="69840" cy="53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095480" y="5127480"/>
                <a:ext cx="73080" cy="157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V="1">
                <a:off x="1168560" y="5281200"/>
                <a:ext cx="7128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239840" y="5281560"/>
                <a:ext cx="730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 flipV="1">
                <a:off x="1312920" y="5043600"/>
                <a:ext cx="69840" cy="249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 flipV="1">
                <a:off x="1382760" y="4914720"/>
                <a:ext cx="73080" cy="12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 flipV="1">
                <a:off x="1455840" y="4761000"/>
                <a:ext cx="71280" cy="154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 flipV="1">
                <a:off x="1527120" y="4537080"/>
                <a:ext cx="71640" cy="223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 flipV="1">
                <a:off x="1598760" y="4351320"/>
                <a:ext cx="71280" cy="185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 flipV="1">
                <a:off x="1670040" y="4120920"/>
                <a:ext cx="73080" cy="230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 flipV="1">
                <a:off x="1743120" y="3760560"/>
                <a:ext cx="71280" cy="36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 flipV="1">
                <a:off x="1814400" y="3563640"/>
                <a:ext cx="71640" cy="196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 flipV="1">
                <a:off x="1886040" y="3352320"/>
                <a:ext cx="73080" cy="211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 flipV="1">
                <a:off x="1959120" y="2523960"/>
                <a:ext cx="71280" cy="828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 flipV="1">
                <a:off x="2030400" y="2435400"/>
                <a:ext cx="71280" cy="88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2101680" y="2435400"/>
                <a:ext cx="71640" cy="1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2173320" y="2452680"/>
                <a:ext cx="73080" cy="184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2246400" y="2637000"/>
                <a:ext cx="71280" cy="28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2317680" y="2665440"/>
                <a:ext cx="71640" cy="27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 flipV="1">
                <a:off x="2389320" y="2455560"/>
                <a:ext cx="71280" cy="23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2460600" y="2455920"/>
                <a:ext cx="73080" cy="9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2533680" y="2546280"/>
                <a:ext cx="71280" cy="19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 flipV="1">
                <a:off x="2604960" y="2158560"/>
                <a:ext cx="71640" cy="40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 flipV="1">
                <a:off x="2676600" y="2104920"/>
                <a:ext cx="71280" cy="54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2747880" y="2104920"/>
                <a:ext cx="73080" cy="39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820960" y="2144880"/>
                <a:ext cx="71640" cy="512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2892600" y="2657520"/>
                <a:ext cx="71280" cy="47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 flipV="1">
                <a:off x="2963880" y="2689200"/>
                <a:ext cx="73080" cy="1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 flipV="1">
                <a:off x="3036960" y="2461680"/>
                <a:ext cx="71280" cy="227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3108240" y="2462040"/>
                <a:ext cx="71640" cy="54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3179880" y="2516040"/>
                <a:ext cx="71280" cy="33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V="1">
                <a:off x="3251160" y="2128320"/>
                <a:ext cx="73080" cy="420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3324240" y="2128680"/>
                <a:ext cx="69840" cy="66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3394080" y="2195640"/>
                <a:ext cx="73080" cy="64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3467160" y="2260440"/>
                <a:ext cx="71280" cy="39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3538440" y="2658960"/>
                <a:ext cx="73080" cy="85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 flipV="1">
                <a:off x="3611520" y="2715840"/>
                <a:ext cx="69840" cy="28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 flipV="1">
                <a:off x="3681360" y="2493720"/>
                <a:ext cx="73080" cy="22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3754440" y="2494080"/>
                <a:ext cx="71280" cy="50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3825720" y="2544840"/>
                <a:ext cx="71640" cy="42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 flipV="1">
                <a:off x="3897360" y="2225520"/>
                <a:ext cx="73080" cy="362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3970440" y="2225520"/>
                <a:ext cx="71280" cy="76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041720" y="2301840"/>
                <a:ext cx="73080" cy="6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114800" y="2371680"/>
                <a:ext cx="69840" cy="378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184640" y="2749680"/>
                <a:ext cx="73080" cy="56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257720" y="2806560"/>
                <a:ext cx="7128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 flipV="1">
                <a:off x="4329000" y="2651040"/>
                <a:ext cx="71640" cy="163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400640" y="2651040"/>
                <a:ext cx="71280" cy="19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471920" y="2670120"/>
                <a:ext cx="73080" cy="31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flipV="1">
                <a:off x="4545000" y="2295000"/>
                <a:ext cx="71280" cy="40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616280" y="2295360"/>
                <a:ext cx="7164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687920" y="2306520"/>
                <a:ext cx="71280" cy="95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759200" y="2401920"/>
                <a:ext cx="73080" cy="479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832280" y="2881440"/>
                <a:ext cx="71640" cy="19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 flipV="1">
                <a:off x="4903920" y="2887560"/>
                <a:ext cx="71280" cy="12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 flipV="1">
                <a:off x="4975200" y="2708280"/>
                <a:ext cx="73080" cy="17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 flipV="1">
                <a:off x="5048280" y="2701800"/>
                <a:ext cx="7128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119560" y="2701800"/>
                <a:ext cx="71640" cy="44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 flipV="1">
                <a:off x="5191200" y="2609640"/>
                <a:ext cx="71280" cy="13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5262480" y="2610000"/>
                <a:ext cx="73080" cy="1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5335560" y="2625840"/>
                <a:ext cx="71640" cy="6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5407200" y="2695680"/>
                <a:ext cx="71280" cy="37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478480" y="3073320"/>
                <a:ext cx="71280" cy="76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 flipV="1">
                <a:off x="5549760" y="3133800"/>
                <a:ext cx="73080" cy="1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 flipV="1">
                <a:off x="5622840" y="2397240"/>
                <a:ext cx="69840" cy="736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692680" y="2397240"/>
                <a:ext cx="73080" cy="25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765760" y="2422440"/>
                <a:ext cx="71640" cy="44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5837400" y="2467080"/>
                <a:ext cx="72720" cy="423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5910120" y="2890800"/>
                <a:ext cx="69840" cy="27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V="1">
                <a:off x="5979960" y="2892600"/>
                <a:ext cx="73080" cy="25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6053040" y="2892600"/>
                <a:ext cx="73080" cy="14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 flipV="1">
                <a:off x="6126120" y="2790720"/>
                <a:ext cx="69840" cy="115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 flipV="1">
                <a:off x="6195960" y="2765520"/>
                <a:ext cx="73080" cy="25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269040" y="2765520"/>
                <a:ext cx="71280" cy="9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 flipV="1">
                <a:off x="6340320" y="2762280"/>
                <a:ext cx="73080" cy="93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 flipV="1">
                <a:off x="6413400" y="2687400"/>
                <a:ext cx="69840" cy="74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6483240" y="2687760"/>
                <a:ext cx="73080" cy="49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V="1">
                <a:off x="6556320" y="2965320"/>
                <a:ext cx="71640" cy="21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6627960" y="2965320"/>
                <a:ext cx="71280" cy="11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6699240" y="2976480"/>
                <a:ext cx="71280" cy="12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 flipV="1">
                <a:off x="6770520" y="2736720"/>
                <a:ext cx="73080" cy="252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6843600" y="2736720"/>
                <a:ext cx="71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6915240" y="2739960"/>
                <a:ext cx="71280" cy="131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6986520" y="2871720"/>
                <a:ext cx="71640" cy="112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7058160" y="2984400"/>
                <a:ext cx="72720" cy="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7130880" y="2990880"/>
                <a:ext cx="71640" cy="20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7202520" y="3011400"/>
                <a:ext cx="71280" cy="12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 flipV="1">
                <a:off x="7273800" y="2889000"/>
                <a:ext cx="73080" cy="135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 flipV="1">
                <a:off x="7346880" y="2879280"/>
                <a:ext cx="71640" cy="9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7418520" y="2879640"/>
                <a:ext cx="71280" cy="12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 flipV="1">
                <a:off x="7489800" y="2997360"/>
                <a:ext cx="71640" cy="10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7561440" y="2997360"/>
                <a:ext cx="72720" cy="85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7634160" y="3083040"/>
                <a:ext cx="71640" cy="155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7705800" y="3238560"/>
                <a:ext cx="7128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7777080" y="3246480"/>
                <a:ext cx="71640" cy="25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V="1">
                <a:off x="7848720" y="2795760"/>
                <a:ext cx="73080" cy="475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V="1">
                <a:off x="7921800" y="2723760"/>
                <a:ext cx="69840" cy="7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7991640" y="2724120"/>
                <a:ext cx="72720" cy="92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8064360" y="2816280"/>
                <a:ext cx="73080" cy="260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1025640" y="4591080"/>
                <a:ext cx="69840" cy="534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1095480" y="5126040"/>
                <a:ext cx="73080" cy="1173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1168560" y="5243400"/>
                <a:ext cx="71280" cy="76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 flipV="1">
                <a:off x="1239840" y="5275080"/>
                <a:ext cx="73080" cy="442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 flipV="1">
                <a:off x="1312920" y="4960800"/>
                <a:ext cx="69840" cy="314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 flipV="1">
                <a:off x="1382760" y="4842000"/>
                <a:ext cx="73080" cy="118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 flipV="1">
                <a:off x="1455840" y="4736880"/>
                <a:ext cx="71280" cy="10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V="1">
                <a:off x="1527120" y="4384440"/>
                <a:ext cx="71640" cy="352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 flipV="1">
                <a:off x="1598760" y="4212720"/>
                <a:ext cx="71280" cy="171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 flipV="1">
                <a:off x="1670040" y="4032360"/>
                <a:ext cx="73080" cy="180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V="1">
                <a:off x="1743120" y="3419640"/>
                <a:ext cx="71280" cy="612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 flipV="1">
                <a:off x="1814400" y="3249720"/>
                <a:ext cx="71640" cy="169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 flipV="1">
                <a:off x="1886040" y="3098520"/>
                <a:ext cx="73080" cy="150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 flipV="1">
                <a:off x="1959120" y="2722320"/>
                <a:ext cx="71280" cy="376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 flipV="1">
                <a:off x="2030400" y="2714760"/>
                <a:ext cx="71280" cy="7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 flipV="1">
                <a:off x="2101680" y="2685960"/>
                <a:ext cx="71640" cy="28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 flipV="1">
                <a:off x="2173320" y="2341080"/>
                <a:ext cx="73080" cy="344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 flipV="1">
                <a:off x="2246400" y="2316240"/>
                <a:ext cx="71280" cy="25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2317680" y="2316240"/>
                <a:ext cx="71640" cy="25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 flipV="1">
                <a:off x="2389320" y="2114640"/>
                <a:ext cx="71280" cy="226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 flipV="1">
                <a:off x="2460600" y="2055600"/>
                <a:ext cx="73080" cy="58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2533680" y="2055960"/>
                <a:ext cx="71280" cy="29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 flipV="1">
                <a:off x="2604960" y="1906560"/>
                <a:ext cx="71640" cy="1792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 flipV="1">
                <a:off x="2676600" y="1887120"/>
                <a:ext cx="71280" cy="190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 flipV="1">
                <a:off x="2747880" y="1821960"/>
                <a:ext cx="73080" cy="65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 flipV="1">
                <a:off x="2820960" y="1557360"/>
                <a:ext cx="71640" cy="264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 flipV="1">
                <a:off x="2892600" y="1490400"/>
                <a:ext cx="71280" cy="66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 flipV="1">
                <a:off x="2963880" y="1348920"/>
                <a:ext cx="73080" cy="141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036960" y="1349280"/>
                <a:ext cx="7128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 flipV="1">
                <a:off x="3108240" y="1357200"/>
                <a:ext cx="71640" cy="302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 flipV="1">
                <a:off x="3179880" y="1320480"/>
                <a:ext cx="71280" cy="363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 flipV="1">
                <a:off x="3251160" y="1219320"/>
                <a:ext cx="73080" cy="1015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3324240" y="1219320"/>
                <a:ext cx="69840" cy="15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3394080" y="1235160"/>
                <a:ext cx="73080" cy="4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3467160" y="1239840"/>
                <a:ext cx="71280" cy="6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3538440" y="1246320"/>
                <a:ext cx="73080" cy="91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3611520" y="1338120"/>
                <a:ext cx="69840" cy="1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 flipV="1">
                <a:off x="3681360" y="1225440"/>
                <a:ext cx="73080" cy="114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3754440" y="1225440"/>
                <a:ext cx="71280" cy="11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3825720" y="1236600"/>
                <a:ext cx="71640" cy="4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3897360" y="1241280"/>
                <a:ext cx="73080" cy="38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970440" y="1279440"/>
                <a:ext cx="71280" cy="604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 flipV="1">
                <a:off x="4041720" y="1314000"/>
                <a:ext cx="73080" cy="255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 flipV="1">
                <a:off x="4114800" y="1227240"/>
                <a:ext cx="69840" cy="87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184640" y="1227240"/>
                <a:ext cx="73080" cy="111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257720" y="1238400"/>
                <a:ext cx="71280" cy="2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329000" y="1241280"/>
                <a:ext cx="71640" cy="1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400640" y="1243080"/>
                <a:ext cx="71280" cy="58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 flipV="1">
                <a:off x="4471920" y="1274400"/>
                <a:ext cx="73080" cy="270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V="1">
                <a:off x="4545000" y="1235160"/>
                <a:ext cx="71280" cy="396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616280" y="1235160"/>
                <a:ext cx="71640" cy="46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687920" y="123984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759200" y="1241280"/>
                <a:ext cx="73080" cy="18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483228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490392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97520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504828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511956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519120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526248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533556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540720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547848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554976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5622840" y="1243080"/>
                <a:ext cx="698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569268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576576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5837400" y="1243080"/>
                <a:ext cx="7272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5910120" y="1243080"/>
                <a:ext cx="698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597996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605304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6126120" y="1243080"/>
                <a:ext cx="698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19596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26904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34032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413400" y="1243080"/>
                <a:ext cx="698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648324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55632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62796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69924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770520" y="1243080"/>
                <a:ext cx="730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684360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91524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98652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7058160" y="1243080"/>
                <a:ext cx="7272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7130880" y="1243080"/>
                <a:ext cx="7164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7202520" y="1243080"/>
                <a:ext cx="71280" cy="1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9" name=""/>
            <p:cNvSpPr/>
            <p:nvPr/>
          </p:nvSpPr>
          <p:spPr>
            <a:xfrm>
              <a:off x="7273800" y="1243080"/>
              <a:ext cx="7308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46880" y="1243080"/>
              <a:ext cx="7164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418520" y="1243080"/>
              <a:ext cx="7128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489800" y="1243080"/>
              <a:ext cx="7164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561440" y="1243080"/>
              <a:ext cx="727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634160" y="1243080"/>
              <a:ext cx="7164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705800" y="1243080"/>
              <a:ext cx="7128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777080" y="1243080"/>
              <a:ext cx="7164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848720" y="1243080"/>
              <a:ext cx="7308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921800" y="1243080"/>
              <a:ext cx="6984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991640" y="1243080"/>
              <a:ext cx="727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8064360" y="1243080"/>
              <a:ext cx="7308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1025640" y="4584600"/>
              <a:ext cx="69840" cy="527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1095480" y="5111640"/>
              <a:ext cx="73080" cy="154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1168560" y="5265720"/>
              <a:ext cx="71280" cy="77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V="1">
              <a:off x="1239840" y="5208120"/>
              <a:ext cx="73080" cy="135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 flipV="1">
              <a:off x="1312920" y="5132160"/>
              <a:ext cx="69840" cy="75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V="1">
              <a:off x="1382760" y="5008680"/>
              <a:ext cx="73080" cy="123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1455840" y="4857480"/>
              <a:ext cx="71280" cy="150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V="1">
              <a:off x="1527120" y="4706640"/>
              <a:ext cx="71640" cy="150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 flipV="1">
              <a:off x="1598760" y="4497480"/>
              <a:ext cx="71280" cy="209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V="1">
              <a:off x="1670040" y="4276440"/>
              <a:ext cx="73080" cy="220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V="1">
              <a:off x="1743120" y="4037040"/>
              <a:ext cx="71280" cy="239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V="1">
              <a:off x="1814400" y="3739680"/>
              <a:ext cx="71640" cy="297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V="1">
              <a:off x="1886040" y="3505320"/>
              <a:ext cx="73080" cy="234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V="1">
              <a:off x="1959120" y="3187800"/>
              <a:ext cx="71280" cy="317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 flipV="1">
              <a:off x="2030400" y="3053880"/>
              <a:ext cx="71280" cy="133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V="1">
              <a:off x="2101680" y="3052800"/>
              <a:ext cx="71640" cy="1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2173320" y="3016080"/>
              <a:ext cx="73080" cy="36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246400" y="3016080"/>
              <a:ext cx="71280" cy="41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V="1">
              <a:off x="2317680" y="3017880"/>
              <a:ext cx="71640" cy="39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V="1">
              <a:off x="2389320" y="3009960"/>
              <a:ext cx="71280" cy="7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460600" y="3009960"/>
              <a:ext cx="73080" cy="30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533680" y="3040200"/>
              <a:ext cx="71280" cy="6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604960" y="3046320"/>
              <a:ext cx="71640" cy="14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676600" y="3060720"/>
              <a:ext cx="71280" cy="7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V="1">
              <a:off x="2747880" y="3039840"/>
              <a:ext cx="73080" cy="28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 flipV="1">
              <a:off x="2820960" y="3038040"/>
              <a:ext cx="7164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892600" y="3038400"/>
              <a:ext cx="71280" cy="54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963880" y="3092400"/>
              <a:ext cx="73080" cy="9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V="1">
              <a:off x="3036960" y="3077640"/>
              <a:ext cx="71280" cy="24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V="1">
              <a:off x="3108240" y="3062160"/>
              <a:ext cx="7164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79880" y="3062160"/>
              <a:ext cx="71280" cy="39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251160" y="3102120"/>
              <a:ext cx="73080" cy="6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324240" y="3108240"/>
              <a:ext cx="69840" cy="176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394080" y="3125880"/>
              <a:ext cx="73080" cy="1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467160" y="3125880"/>
              <a:ext cx="71280" cy="9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V="1">
              <a:off x="3538440" y="3115800"/>
              <a:ext cx="73080" cy="19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V="1">
              <a:off x="3611520" y="3112560"/>
              <a:ext cx="69840" cy="3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681360" y="3112920"/>
              <a:ext cx="73080" cy="12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V="1">
              <a:off x="3754440" y="3123720"/>
              <a:ext cx="7128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V="1">
              <a:off x="3825720" y="3108240"/>
              <a:ext cx="7164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897360" y="3108240"/>
              <a:ext cx="73080" cy="38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970440" y="3146400"/>
              <a:ext cx="71280" cy="27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 flipV="1">
              <a:off x="4041720" y="3161880"/>
              <a:ext cx="73080" cy="11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4114800" y="3162240"/>
              <a:ext cx="69840" cy="349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 flipV="1">
              <a:off x="4184640" y="3157560"/>
              <a:ext cx="73080" cy="39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257720" y="3157560"/>
              <a:ext cx="71280" cy="6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 flipV="1">
              <a:off x="4329000" y="3151080"/>
              <a:ext cx="71640" cy="12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V="1">
              <a:off x="4400640" y="3135240"/>
              <a:ext cx="7128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4471920" y="3135240"/>
              <a:ext cx="73080" cy="58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4545000" y="3193920"/>
              <a:ext cx="71280" cy="24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 flipV="1">
              <a:off x="4616280" y="3185640"/>
              <a:ext cx="71640" cy="32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4687920" y="3186000"/>
              <a:ext cx="7128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4759200" y="3187800"/>
              <a:ext cx="73080" cy="28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 flipV="1">
              <a:off x="4832280" y="3191040"/>
              <a:ext cx="71640" cy="25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4903920" y="3191040"/>
              <a:ext cx="7128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4975200" y="3206880"/>
              <a:ext cx="73080" cy="29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 flipV="1">
              <a:off x="5048280" y="3215880"/>
              <a:ext cx="71280" cy="20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5119560" y="3216240"/>
              <a:ext cx="71640" cy="27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5191200" y="3243240"/>
              <a:ext cx="71280" cy="46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5262480" y="3247920"/>
              <a:ext cx="73080" cy="6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 flipV="1">
              <a:off x="5335560" y="3224160"/>
              <a:ext cx="71640" cy="30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5407200" y="3224160"/>
              <a:ext cx="71280" cy="205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V="1">
              <a:off x="5478480" y="3219480"/>
              <a:ext cx="71280" cy="25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5549760" y="3219480"/>
              <a:ext cx="73080" cy="36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V="1">
              <a:off x="5622840" y="3244320"/>
              <a:ext cx="69840" cy="111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V="1">
              <a:off x="5692680" y="3195720"/>
              <a:ext cx="73080" cy="48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5765760" y="3195720"/>
              <a:ext cx="71640" cy="63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5837400" y="3259080"/>
              <a:ext cx="7272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V="1">
              <a:off x="5910120" y="3243240"/>
              <a:ext cx="6984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979960" y="3243240"/>
              <a:ext cx="73080" cy="223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 flipV="1">
              <a:off x="6053040" y="3213000"/>
              <a:ext cx="73080" cy="52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6126120" y="3213000"/>
              <a:ext cx="69840" cy="27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6195960" y="3240000"/>
              <a:ext cx="73080" cy="25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V="1">
              <a:off x="6269040" y="3246120"/>
              <a:ext cx="71280" cy="190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6340320" y="3246480"/>
              <a:ext cx="73080" cy="30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V="1">
              <a:off x="6413400" y="3246480"/>
              <a:ext cx="69840" cy="30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V="1">
              <a:off x="6483240" y="3236400"/>
              <a:ext cx="73080" cy="9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6556320" y="3236760"/>
              <a:ext cx="7164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6627960" y="3236760"/>
              <a:ext cx="71280" cy="1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6699240" y="3238560"/>
              <a:ext cx="71280" cy="33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V="1">
              <a:off x="6770520" y="3238560"/>
              <a:ext cx="73080" cy="33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843600" y="3238560"/>
              <a:ext cx="71640" cy="23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V="1">
              <a:off x="6915240" y="3247920"/>
              <a:ext cx="71280" cy="14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 flipV="1">
              <a:off x="6986520" y="3217680"/>
              <a:ext cx="71640" cy="298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058160" y="3218040"/>
              <a:ext cx="72720" cy="15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130880" y="3233880"/>
              <a:ext cx="71640" cy="1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202520" y="3233880"/>
              <a:ext cx="71280" cy="37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V="1">
              <a:off x="7273800" y="3242880"/>
              <a:ext cx="73080" cy="28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46880" y="3243240"/>
              <a:ext cx="71640" cy="27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418520" y="3270240"/>
              <a:ext cx="71280" cy="9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V="1">
              <a:off x="7489800" y="3273120"/>
              <a:ext cx="71640" cy="6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561440" y="3273480"/>
              <a:ext cx="72720" cy="14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7634160" y="3274920"/>
              <a:ext cx="71640" cy="12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 flipV="1">
              <a:off x="7705800" y="3260520"/>
              <a:ext cx="71280" cy="14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777080" y="3260880"/>
              <a:ext cx="71640" cy="187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V="1">
              <a:off x="7848720" y="3246480"/>
              <a:ext cx="73080" cy="33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921800" y="3246480"/>
              <a:ext cx="69840" cy="50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991640" y="3297240"/>
              <a:ext cx="72720" cy="648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 flipV="1">
              <a:off x="8064360" y="3274920"/>
              <a:ext cx="73080" cy="28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37840" y="566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37840" y="444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537840" y="3235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537840" y="2019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537840" y="803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945720" y="588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70468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450036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6297120" y="5888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8055360" y="5888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4745160" y="6121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 rot="16200000">
              <a:off x="-366480" y="3217680"/>
              <a:ext cx="135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aseflow (m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666880" y="30492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se fl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733560" y="2057400"/>
              <a:ext cx="323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Permanent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272760" y="914400"/>
              <a:ext cx="484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Agglomerat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654360" y="3429000"/>
              <a:ext cx="427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spersed shifting cul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686800" cy="6943320"/>
            <a:chOff x="0" y="0"/>
            <a:chExt cx="8686800" cy="6943320"/>
          </a:xfrm>
        </p:grpSpPr>
        <p:sp>
          <p:nvSpPr>
            <p:cNvPr id="171" name=""/>
            <p:cNvSpPr/>
            <p:nvPr/>
          </p:nvSpPr>
          <p:spPr>
            <a:xfrm>
              <a:off x="0" y="768240"/>
              <a:ext cx="7467480" cy="61750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lobal interes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bon stock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ot-level biodiver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 greenhouse gas emis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cal interes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 to labour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 ‘pressure on land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76520" y="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SB Phase 2 _ Indones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86280" y="784080"/>
            <a:ext cx="5157720" cy="7074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-crop based systems &amp; agroforests can reach 20-40% of fores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rubber agroforests have high richness, intensive tree- crop systems hardly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o labour in agroforests 1 - 4 times urban minimum wage, for population densities until 60 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1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hat about the ‘missing middle’ of watershed fun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6" name=""/>
          <p:cNvSpPr/>
          <p:nvPr/>
        </p:nvSpPr>
        <p:spPr>
          <a:xfrm>
            <a:off x="7230960" y="4210200"/>
            <a:ext cx="69840" cy="88920"/>
          </a:xfrm>
          <a:custGeom>
            <a:avLst/>
            <a:gdLst/>
            <a:ahLst/>
            <a:rect l="l" t="t" r="r" b="b"/>
            <a:pathLst>
              <a:path w="44" h="56">
                <a:moveTo>
                  <a:pt x="0" y="49"/>
                </a:moveTo>
                <a:lnTo>
                  <a:pt x="1" y="54"/>
                </a:lnTo>
                <a:lnTo>
                  <a:pt x="3" y="56"/>
                </a:lnTo>
                <a:lnTo>
                  <a:pt x="6" y="56"/>
                </a:lnTo>
                <a:lnTo>
                  <a:pt x="9" y="55"/>
                </a:lnTo>
                <a:lnTo>
                  <a:pt x="12" y="52"/>
                </a:lnTo>
                <a:lnTo>
                  <a:pt x="15" y="47"/>
                </a:lnTo>
                <a:lnTo>
                  <a:pt x="18" y="42"/>
                </a:lnTo>
                <a:lnTo>
                  <a:pt x="22" y="36"/>
                </a:lnTo>
                <a:lnTo>
                  <a:pt x="29" y="23"/>
                </a:lnTo>
                <a:lnTo>
                  <a:pt x="32" y="17"/>
                </a:lnTo>
                <a:lnTo>
                  <a:pt x="35" y="11"/>
                </a:lnTo>
                <a:lnTo>
                  <a:pt x="38" y="7"/>
                </a:lnTo>
                <a:lnTo>
                  <a:pt x="41" y="3"/>
                </a:lnTo>
                <a:lnTo>
                  <a:pt x="43" y="1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7373880" y="4332240"/>
            <a:ext cx="69840" cy="9720"/>
          </a:xfrm>
          <a:custGeom>
            <a:avLst/>
            <a:gdLst/>
            <a:ahLst/>
            <a:rect l="l" t="t" r="r" b="b"/>
            <a:pathLst>
              <a:path w="44" h="6">
                <a:moveTo>
                  <a:pt x="0" y="0"/>
                </a:moveTo>
                <a:lnTo>
                  <a:pt x="6" y="4"/>
                </a:lnTo>
                <a:lnTo>
                  <a:pt x="11" y="6"/>
                </a:lnTo>
                <a:lnTo>
                  <a:pt x="17" y="6"/>
                </a:lnTo>
                <a:lnTo>
                  <a:pt x="22" y="6"/>
                </a:lnTo>
                <a:lnTo>
                  <a:pt x="33" y="4"/>
                </a:lnTo>
                <a:lnTo>
                  <a:pt x="39" y="4"/>
                </a:lnTo>
                <a:lnTo>
                  <a:pt x="4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7515360" y="4363920"/>
            <a:ext cx="71280" cy="22320"/>
          </a:xfrm>
          <a:custGeom>
            <a:avLst/>
            <a:gdLst/>
            <a:ahLst/>
            <a:rect l="l" t="t" r="r" b="b"/>
            <a:pathLst>
              <a:path w="45" h="14">
                <a:moveTo>
                  <a:pt x="0" y="11"/>
                </a:moveTo>
                <a:lnTo>
                  <a:pt x="1" y="11"/>
                </a:lnTo>
                <a:lnTo>
                  <a:pt x="3" y="12"/>
                </a:lnTo>
                <a:lnTo>
                  <a:pt x="8" y="13"/>
                </a:lnTo>
                <a:lnTo>
                  <a:pt x="15" y="14"/>
                </a:lnTo>
                <a:lnTo>
                  <a:pt x="22" y="14"/>
                </a:lnTo>
                <a:lnTo>
                  <a:pt x="30" y="14"/>
                </a:lnTo>
                <a:lnTo>
                  <a:pt x="37" y="11"/>
                </a:lnTo>
                <a:lnTo>
                  <a:pt x="42" y="7"/>
                </a:lnTo>
                <a:lnTo>
                  <a:pt x="44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7729560" y="4130640"/>
            <a:ext cx="71280" cy="669960"/>
          </a:xfrm>
          <a:custGeom>
            <a:avLst/>
            <a:gdLst/>
            <a:ahLst/>
            <a:rect l="l" t="t" r="r" b="b"/>
            <a:pathLst>
              <a:path w="45" h="422">
                <a:moveTo>
                  <a:pt x="0" y="415"/>
                </a:moveTo>
                <a:lnTo>
                  <a:pt x="1" y="418"/>
                </a:lnTo>
                <a:lnTo>
                  <a:pt x="1" y="420"/>
                </a:lnTo>
                <a:lnTo>
                  <a:pt x="3" y="421"/>
                </a:lnTo>
                <a:lnTo>
                  <a:pt x="4" y="422"/>
                </a:lnTo>
                <a:lnTo>
                  <a:pt x="5" y="421"/>
                </a:lnTo>
                <a:lnTo>
                  <a:pt x="7" y="418"/>
                </a:lnTo>
                <a:lnTo>
                  <a:pt x="8" y="412"/>
                </a:lnTo>
                <a:lnTo>
                  <a:pt x="9" y="404"/>
                </a:lnTo>
                <a:lnTo>
                  <a:pt x="11" y="394"/>
                </a:lnTo>
                <a:lnTo>
                  <a:pt x="12" y="381"/>
                </a:lnTo>
                <a:lnTo>
                  <a:pt x="13" y="367"/>
                </a:lnTo>
                <a:lnTo>
                  <a:pt x="15" y="351"/>
                </a:lnTo>
                <a:lnTo>
                  <a:pt x="16" y="335"/>
                </a:lnTo>
                <a:lnTo>
                  <a:pt x="18" y="317"/>
                </a:lnTo>
                <a:lnTo>
                  <a:pt x="19" y="297"/>
                </a:lnTo>
                <a:lnTo>
                  <a:pt x="20" y="277"/>
                </a:lnTo>
                <a:lnTo>
                  <a:pt x="23" y="236"/>
                </a:lnTo>
                <a:lnTo>
                  <a:pt x="26" y="194"/>
                </a:lnTo>
                <a:lnTo>
                  <a:pt x="28" y="153"/>
                </a:lnTo>
                <a:lnTo>
                  <a:pt x="30" y="132"/>
                </a:lnTo>
                <a:lnTo>
                  <a:pt x="31" y="113"/>
                </a:lnTo>
                <a:lnTo>
                  <a:pt x="33" y="94"/>
                </a:lnTo>
                <a:lnTo>
                  <a:pt x="34" y="77"/>
                </a:lnTo>
                <a:lnTo>
                  <a:pt x="35" y="61"/>
                </a:lnTo>
                <a:lnTo>
                  <a:pt x="37" y="46"/>
                </a:lnTo>
                <a:lnTo>
                  <a:pt x="38" y="33"/>
                </a:lnTo>
                <a:lnTo>
                  <a:pt x="39" y="22"/>
                </a:lnTo>
                <a:lnTo>
                  <a:pt x="41" y="13"/>
                </a:lnTo>
                <a:lnTo>
                  <a:pt x="42" y="6"/>
                </a:lnTo>
                <a:lnTo>
                  <a:pt x="43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873920" y="4656240"/>
            <a:ext cx="69840" cy="93600"/>
          </a:xfrm>
          <a:custGeom>
            <a:avLst/>
            <a:gdLst/>
            <a:ahLst/>
            <a:rect l="l" t="t" r="r" b="b"/>
            <a:pathLst>
              <a:path w="44" h="59">
                <a:moveTo>
                  <a:pt x="0" y="53"/>
                </a:moveTo>
                <a:lnTo>
                  <a:pt x="1" y="56"/>
                </a:lnTo>
                <a:lnTo>
                  <a:pt x="2" y="57"/>
                </a:lnTo>
                <a:lnTo>
                  <a:pt x="4" y="59"/>
                </a:lnTo>
                <a:lnTo>
                  <a:pt x="7" y="58"/>
                </a:lnTo>
                <a:lnTo>
                  <a:pt x="9" y="55"/>
                </a:lnTo>
                <a:lnTo>
                  <a:pt x="12" y="51"/>
                </a:lnTo>
                <a:lnTo>
                  <a:pt x="15" y="45"/>
                </a:lnTo>
                <a:lnTo>
                  <a:pt x="19" y="38"/>
                </a:lnTo>
                <a:lnTo>
                  <a:pt x="22" y="31"/>
                </a:lnTo>
                <a:lnTo>
                  <a:pt x="29" y="17"/>
                </a:lnTo>
                <a:lnTo>
                  <a:pt x="32" y="11"/>
                </a:lnTo>
                <a:lnTo>
                  <a:pt x="35" y="5"/>
                </a:lnTo>
                <a:lnTo>
                  <a:pt x="37" y="2"/>
                </a:lnTo>
                <a:lnTo>
                  <a:pt x="40" y="0"/>
                </a:lnTo>
                <a:lnTo>
                  <a:pt x="42" y="0"/>
                </a:lnTo>
                <a:lnTo>
                  <a:pt x="43" y="1"/>
                </a:lnTo>
                <a:lnTo>
                  <a:pt x="44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942840" y="919080"/>
            <a:ext cx="7858440" cy="4695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942840" y="919080"/>
            <a:ext cx="7858440" cy="4695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942840" y="919080"/>
            <a:ext cx="1800" cy="46958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885960" y="5614920"/>
            <a:ext cx="56880" cy="180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885960" y="4987800"/>
            <a:ext cx="56880" cy="180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>
            <a:off x="885960" y="4363920"/>
            <a:ext cx="56880" cy="180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885960" y="3736800"/>
            <a:ext cx="56880" cy="180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885960" y="3110040"/>
            <a:ext cx="56880" cy="14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885960" y="2484360"/>
            <a:ext cx="56880" cy="180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885960" y="1859040"/>
            <a:ext cx="56880" cy="14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885960" y="1233360"/>
            <a:ext cx="56880" cy="180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942840" y="5614920"/>
            <a:ext cx="785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 flipV="1">
            <a:off x="942840" y="5614560"/>
            <a:ext cx="1800" cy="572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2728800" y="5614560"/>
            <a:ext cx="1800" cy="572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4516560" y="5614560"/>
            <a:ext cx="1440" cy="572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6300720" y="5614560"/>
            <a:ext cx="1800" cy="572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V="1">
            <a:off x="8086680" y="5614560"/>
            <a:ext cx="1800" cy="57240"/>
          </a:xfrm>
          <a:prstGeom prst="line">
            <a:avLst/>
          </a:prstGeom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1014480" y="5600880"/>
            <a:ext cx="71280" cy="15840"/>
          </a:xfrm>
          <a:custGeom>
            <a:avLst/>
            <a:gdLst/>
            <a:ahLst/>
            <a:rect l="l" t="t" r="r" b="b"/>
            <a:pathLst>
              <a:path w="45" h="10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8" y="3"/>
                </a:lnTo>
                <a:lnTo>
                  <a:pt x="15" y="6"/>
                </a:lnTo>
                <a:lnTo>
                  <a:pt x="23" y="8"/>
                </a:lnTo>
                <a:lnTo>
                  <a:pt x="30" y="10"/>
                </a:lnTo>
                <a:lnTo>
                  <a:pt x="37" y="9"/>
                </a:lnTo>
                <a:lnTo>
                  <a:pt x="40" y="8"/>
                </a:lnTo>
                <a:lnTo>
                  <a:pt x="42" y="6"/>
                </a:lnTo>
                <a:lnTo>
                  <a:pt x="44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1085760" y="4840200"/>
            <a:ext cx="71640" cy="760680"/>
          </a:xfrm>
          <a:custGeom>
            <a:avLst/>
            <a:gdLst/>
            <a:ahLst/>
            <a:rect l="l" t="t" r="r" b="b"/>
            <a:pathLst>
              <a:path w="45" h="479">
                <a:moveTo>
                  <a:pt x="0" y="479"/>
                </a:moveTo>
                <a:lnTo>
                  <a:pt x="1" y="471"/>
                </a:lnTo>
                <a:lnTo>
                  <a:pt x="3" y="462"/>
                </a:lnTo>
                <a:lnTo>
                  <a:pt x="4" y="451"/>
                </a:lnTo>
                <a:lnTo>
                  <a:pt x="6" y="439"/>
                </a:lnTo>
                <a:lnTo>
                  <a:pt x="7" y="427"/>
                </a:lnTo>
                <a:lnTo>
                  <a:pt x="8" y="414"/>
                </a:lnTo>
                <a:lnTo>
                  <a:pt x="10" y="400"/>
                </a:lnTo>
                <a:lnTo>
                  <a:pt x="11" y="386"/>
                </a:lnTo>
                <a:lnTo>
                  <a:pt x="14" y="353"/>
                </a:lnTo>
                <a:lnTo>
                  <a:pt x="17" y="320"/>
                </a:lnTo>
                <a:lnTo>
                  <a:pt x="19" y="285"/>
                </a:lnTo>
                <a:lnTo>
                  <a:pt x="22" y="249"/>
                </a:lnTo>
                <a:lnTo>
                  <a:pt x="25" y="213"/>
                </a:lnTo>
                <a:lnTo>
                  <a:pt x="27" y="177"/>
                </a:lnTo>
                <a:lnTo>
                  <a:pt x="30" y="142"/>
                </a:lnTo>
                <a:lnTo>
                  <a:pt x="33" y="108"/>
                </a:lnTo>
                <a:lnTo>
                  <a:pt x="37" y="77"/>
                </a:lnTo>
                <a:lnTo>
                  <a:pt x="38" y="62"/>
                </a:lnTo>
                <a:lnTo>
                  <a:pt x="39" y="48"/>
                </a:lnTo>
                <a:lnTo>
                  <a:pt x="41" y="35"/>
                </a:lnTo>
                <a:lnTo>
                  <a:pt x="42" y="22"/>
                </a:lnTo>
                <a:lnTo>
                  <a:pt x="44" y="1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>
            <a:off x="1157400" y="4592520"/>
            <a:ext cx="71280" cy="247680"/>
          </a:xfrm>
          <a:custGeom>
            <a:avLst/>
            <a:gdLst/>
            <a:ahLst/>
            <a:rect l="l" t="t" r="r" b="b"/>
            <a:pathLst>
              <a:path w="45" h="156">
                <a:moveTo>
                  <a:pt x="0" y="156"/>
                </a:moveTo>
                <a:lnTo>
                  <a:pt x="2" y="142"/>
                </a:lnTo>
                <a:lnTo>
                  <a:pt x="5" y="130"/>
                </a:lnTo>
                <a:lnTo>
                  <a:pt x="7" y="119"/>
                </a:lnTo>
                <a:lnTo>
                  <a:pt x="10" y="110"/>
                </a:lnTo>
                <a:lnTo>
                  <a:pt x="13" y="101"/>
                </a:lnTo>
                <a:lnTo>
                  <a:pt x="16" y="92"/>
                </a:lnTo>
                <a:lnTo>
                  <a:pt x="22" y="78"/>
                </a:lnTo>
                <a:lnTo>
                  <a:pt x="29" y="64"/>
                </a:lnTo>
                <a:lnTo>
                  <a:pt x="32" y="56"/>
                </a:lnTo>
                <a:lnTo>
                  <a:pt x="35" y="47"/>
                </a:lnTo>
                <a:lnTo>
                  <a:pt x="38" y="38"/>
                </a:lnTo>
                <a:lnTo>
                  <a:pt x="40" y="27"/>
                </a:lnTo>
                <a:lnTo>
                  <a:pt x="43" y="1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228680" y="3838680"/>
            <a:ext cx="71640" cy="753840"/>
          </a:xfrm>
          <a:custGeom>
            <a:avLst/>
            <a:gdLst/>
            <a:ahLst/>
            <a:rect l="l" t="t" r="r" b="b"/>
            <a:pathLst>
              <a:path w="45" h="475">
                <a:moveTo>
                  <a:pt x="0" y="475"/>
                </a:moveTo>
                <a:lnTo>
                  <a:pt x="1" y="465"/>
                </a:lnTo>
                <a:lnTo>
                  <a:pt x="3" y="454"/>
                </a:lnTo>
                <a:lnTo>
                  <a:pt x="4" y="441"/>
                </a:lnTo>
                <a:lnTo>
                  <a:pt x="6" y="428"/>
                </a:lnTo>
                <a:lnTo>
                  <a:pt x="7" y="415"/>
                </a:lnTo>
                <a:lnTo>
                  <a:pt x="8" y="399"/>
                </a:lnTo>
                <a:lnTo>
                  <a:pt x="11" y="369"/>
                </a:lnTo>
                <a:lnTo>
                  <a:pt x="14" y="336"/>
                </a:lnTo>
                <a:lnTo>
                  <a:pt x="17" y="301"/>
                </a:lnTo>
                <a:lnTo>
                  <a:pt x="19" y="266"/>
                </a:lnTo>
                <a:lnTo>
                  <a:pt x="22" y="230"/>
                </a:lnTo>
                <a:lnTo>
                  <a:pt x="25" y="195"/>
                </a:lnTo>
                <a:lnTo>
                  <a:pt x="27" y="160"/>
                </a:lnTo>
                <a:lnTo>
                  <a:pt x="30" y="126"/>
                </a:lnTo>
                <a:lnTo>
                  <a:pt x="34" y="95"/>
                </a:lnTo>
                <a:lnTo>
                  <a:pt x="37" y="67"/>
                </a:lnTo>
                <a:lnTo>
                  <a:pt x="38" y="52"/>
                </a:lnTo>
                <a:lnTo>
                  <a:pt x="39" y="40"/>
                </a:lnTo>
                <a:lnTo>
                  <a:pt x="41" y="29"/>
                </a:lnTo>
                <a:lnTo>
                  <a:pt x="42" y="18"/>
                </a:lnTo>
                <a:lnTo>
                  <a:pt x="44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300320" y="3781440"/>
            <a:ext cx="71280" cy="57240"/>
          </a:xfrm>
          <a:custGeom>
            <a:avLst/>
            <a:gdLst/>
            <a:ahLst/>
            <a:rect l="l" t="t" r="r" b="b"/>
            <a:pathLst>
              <a:path w="45" h="36">
                <a:moveTo>
                  <a:pt x="0" y="36"/>
                </a:moveTo>
                <a:lnTo>
                  <a:pt x="3" y="27"/>
                </a:lnTo>
                <a:lnTo>
                  <a:pt x="8" y="20"/>
                </a:lnTo>
                <a:lnTo>
                  <a:pt x="15" y="15"/>
                </a:lnTo>
                <a:lnTo>
                  <a:pt x="22" y="10"/>
                </a:lnTo>
                <a:lnTo>
                  <a:pt x="30" y="7"/>
                </a:lnTo>
                <a:lnTo>
                  <a:pt x="37" y="5"/>
                </a:lnTo>
                <a:lnTo>
                  <a:pt x="42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371600" y="3616200"/>
            <a:ext cx="71280" cy="165240"/>
          </a:xfrm>
          <a:custGeom>
            <a:avLst/>
            <a:gdLst/>
            <a:ahLst/>
            <a:rect l="l" t="t" r="r" b="b"/>
            <a:pathLst>
              <a:path w="45" h="104">
                <a:moveTo>
                  <a:pt x="0" y="104"/>
                </a:moveTo>
                <a:lnTo>
                  <a:pt x="3" y="99"/>
                </a:lnTo>
                <a:lnTo>
                  <a:pt x="6" y="94"/>
                </a:lnTo>
                <a:lnTo>
                  <a:pt x="11" y="81"/>
                </a:lnTo>
                <a:lnTo>
                  <a:pt x="17" y="67"/>
                </a:lnTo>
                <a:lnTo>
                  <a:pt x="22" y="52"/>
                </a:lnTo>
                <a:lnTo>
                  <a:pt x="28" y="37"/>
                </a:lnTo>
                <a:lnTo>
                  <a:pt x="34" y="22"/>
                </a:lnTo>
                <a:lnTo>
                  <a:pt x="39" y="10"/>
                </a:lnTo>
                <a:lnTo>
                  <a:pt x="42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1442880" y="3575160"/>
            <a:ext cx="71640" cy="41040"/>
          </a:xfrm>
          <a:custGeom>
            <a:avLst/>
            <a:gdLst/>
            <a:ahLst/>
            <a:rect l="l" t="t" r="r" b="b"/>
            <a:pathLst>
              <a:path w="45" h="26">
                <a:moveTo>
                  <a:pt x="0" y="26"/>
                </a:moveTo>
                <a:lnTo>
                  <a:pt x="3" y="22"/>
                </a:lnTo>
                <a:lnTo>
                  <a:pt x="5" y="20"/>
                </a:lnTo>
                <a:lnTo>
                  <a:pt x="11" y="16"/>
                </a:lnTo>
                <a:lnTo>
                  <a:pt x="17" y="14"/>
                </a:lnTo>
                <a:lnTo>
                  <a:pt x="22" y="13"/>
                </a:lnTo>
                <a:lnTo>
                  <a:pt x="28" y="12"/>
                </a:lnTo>
                <a:lnTo>
                  <a:pt x="34" y="10"/>
                </a:lnTo>
                <a:lnTo>
                  <a:pt x="40" y="6"/>
                </a:lnTo>
                <a:lnTo>
                  <a:pt x="42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1514520" y="3403440"/>
            <a:ext cx="71280" cy="171720"/>
          </a:xfrm>
          <a:custGeom>
            <a:avLst/>
            <a:gdLst/>
            <a:ahLst/>
            <a:rect l="l" t="t" r="r" b="b"/>
            <a:pathLst>
              <a:path w="45" h="108">
                <a:moveTo>
                  <a:pt x="0" y="108"/>
                </a:moveTo>
                <a:lnTo>
                  <a:pt x="3" y="103"/>
                </a:lnTo>
                <a:lnTo>
                  <a:pt x="6" y="98"/>
                </a:lnTo>
                <a:lnTo>
                  <a:pt x="8" y="91"/>
                </a:lnTo>
                <a:lnTo>
                  <a:pt x="11" y="84"/>
                </a:lnTo>
                <a:lnTo>
                  <a:pt x="17" y="68"/>
                </a:lnTo>
                <a:lnTo>
                  <a:pt x="23" y="52"/>
                </a:lnTo>
                <a:lnTo>
                  <a:pt x="28" y="36"/>
                </a:lnTo>
                <a:lnTo>
                  <a:pt x="34" y="21"/>
                </a:lnTo>
                <a:lnTo>
                  <a:pt x="37" y="15"/>
                </a:lnTo>
                <a:lnTo>
                  <a:pt x="39" y="9"/>
                </a:lnTo>
                <a:lnTo>
                  <a:pt x="42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585800" y="3394080"/>
            <a:ext cx="71640" cy="12600"/>
          </a:xfrm>
          <a:custGeom>
            <a:avLst/>
            <a:gdLst/>
            <a:ahLst/>
            <a:rect l="l" t="t" r="r" b="b"/>
            <a:pathLst>
              <a:path w="45" h="8">
                <a:moveTo>
                  <a:pt x="0" y="6"/>
                </a:moveTo>
                <a:lnTo>
                  <a:pt x="3" y="3"/>
                </a:lnTo>
                <a:lnTo>
                  <a:pt x="5" y="1"/>
                </a:lnTo>
                <a:lnTo>
                  <a:pt x="8" y="0"/>
                </a:lnTo>
                <a:lnTo>
                  <a:pt x="11" y="0"/>
                </a:lnTo>
                <a:lnTo>
                  <a:pt x="17" y="1"/>
                </a:lnTo>
                <a:lnTo>
                  <a:pt x="22" y="3"/>
                </a:lnTo>
                <a:lnTo>
                  <a:pt x="28" y="6"/>
                </a:lnTo>
                <a:lnTo>
                  <a:pt x="34" y="7"/>
                </a:lnTo>
                <a:lnTo>
                  <a:pt x="40" y="8"/>
                </a:lnTo>
                <a:lnTo>
                  <a:pt x="42" y="7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1657440" y="3292560"/>
            <a:ext cx="71280" cy="109440"/>
          </a:xfrm>
          <a:custGeom>
            <a:avLst/>
            <a:gdLst/>
            <a:ahLst/>
            <a:rect l="l" t="t" r="r" b="b"/>
            <a:pathLst>
              <a:path w="45" h="69">
                <a:moveTo>
                  <a:pt x="0" y="69"/>
                </a:moveTo>
                <a:lnTo>
                  <a:pt x="6" y="62"/>
                </a:lnTo>
                <a:lnTo>
                  <a:pt x="11" y="55"/>
                </a:lnTo>
                <a:lnTo>
                  <a:pt x="18" y="46"/>
                </a:lnTo>
                <a:lnTo>
                  <a:pt x="23" y="36"/>
                </a:lnTo>
                <a:lnTo>
                  <a:pt x="28" y="26"/>
                </a:lnTo>
                <a:lnTo>
                  <a:pt x="34" y="16"/>
                </a:lnTo>
                <a:lnTo>
                  <a:pt x="39" y="7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1728720" y="3241800"/>
            <a:ext cx="71640" cy="50760"/>
          </a:xfrm>
          <a:custGeom>
            <a:avLst/>
            <a:gdLst/>
            <a:ahLst/>
            <a:rect l="l" t="t" r="r" b="b"/>
            <a:pathLst>
              <a:path w="45" h="32">
                <a:moveTo>
                  <a:pt x="0" y="32"/>
                </a:moveTo>
                <a:lnTo>
                  <a:pt x="6" y="27"/>
                </a:lnTo>
                <a:lnTo>
                  <a:pt x="11" y="23"/>
                </a:lnTo>
                <a:lnTo>
                  <a:pt x="17" y="19"/>
                </a:lnTo>
                <a:lnTo>
                  <a:pt x="22" y="17"/>
                </a:lnTo>
                <a:lnTo>
                  <a:pt x="28" y="14"/>
                </a:lnTo>
                <a:lnTo>
                  <a:pt x="34" y="11"/>
                </a:lnTo>
                <a:lnTo>
                  <a:pt x="39" y="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1800360" y="3129120"/>
            <a:ext cx="71280" cy="112680"/>
          </a:xfrm>
          <a:custGeom>
            <a:avLst/>
            <a:gdLst/>
            <a:ahLst/>
            <a:rect l="l" t="t" r="r" b="b"/>
            <a:pathLst>
              <a:path w="45" h="71">
                <a:moveTo>
                  <a:pt x="0" y="71"/>
                </a:moveTo>
                <a:lnTo>
                  <a:pt x="6" y="63"/>
                </a:lnTo>
                <a:lnTo>
                  <a:pt x="12" y="54"/>
                </a:lnTo>
                <a:lnTo>
                  <a:pt x="18" y="43"/>
                </a:lnTo>
                <a:lnTo>
                  <a:pt x="23" y="33"/>
                </a:lnTo>
                <a:lnTo>
                  <a:pt x="28" y="22"/>
                </a:lnTo>
                <a:lnTo>
                  <a:pt x="34" y="13"/>
                </a:lnTo>
                <a:lnTo>
                  <a:pt x="39" y="5"/>
                </a:lnTo>
                <a:lnTo>
                  <a:pt x="42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1871640" y="312732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0" y="1"/>
                </a:move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11" y="1"/>
                </a:lnTo>
                <a:lnTo>
                  <a:pt x="17" y="5"/>
                </a:lnTo>
                <a:lnTo>
                  <a:pt x="22" y="10"/>
                </a:lnTo>
                <a:lnTo>
                  <a:pt x="28" y="14"/>
                </a:lnTo>
                <a:lnTo>
                  <a:pt x="34" y="18"/>
                </a:lnTo>
                <a:lnTo>
                  <a:pt x="37" y="19"/>
                </a:lnTo>
                <a:lnTo>
                  <a:pt x="39" y="19"/>
                </a:lnTo>
                <a:lnTo>
                  <a:pt x="42" y="19"/>
                </a:lnTo>
                <a:lnTo>
                  <a:pt x="45" y="17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1943280" y="30225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83"/>
                </a:moveTo>
                <a:lnTo>
                  <a:pt x="3" y="80"/>
                </a:lnTo>
                <a:lnTo>
                  <a:pt x="7" y="77"/>
                </a:lnTo>
                <a:lnTo>
                  <a:pt x="9" y="73"/>
                </a:lnTo>
                <a:lnTo>
                  <a:pt x="12" y="68"/>
                </a:lnTo>
                <a:lnTo>
                  <a:pt x="18" y="56"/>
                </a:lnTo>
                <a:lnTo>
                  <a:pt x="23" y="44"/>
                </a:lnTo>
                <a:lnTo>
                  <a:pt x="28" y="31"/>
                </a:lnTo>
                <a:lnTo>
                  <a:pt x="34" y="19"/>
                </a:lnTo>
                <a:lnTo>
                  <a:pt x="39" y="8"/>
                </a:lnTo>
                <a:lnTo>
                  <a:pt x="42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2014560" y="298116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0" y="26"/>
                </a:moveTo>
                <a:lnTo>
                  <a:pt x="6" y="20"/>
                </a:lnTo>
                <a:lnTo>
                  <a:pt x="11" y="15"/>
                </a:lnTo>
                <a:lnTo>
                  <a:pt x="17" y="12"/>
                </a:lnTo>
                <a:lnTo>
                  <a:pt x="22" y="9"/>
                </a:lnTo>
                <a:lnTo>
                  <a:pt x="34" y="5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2087640" y="2960640"/>
            <a:ext cx="69840" cy="20520"/>
          </a:xfrm>
          <a:custGeom>
            <a:avLst/>
            <a:gdLst/>
            <a:ahLst/>
            <a:rect l="l" t="t" r="r" b="b"/>
            <a:pathLst>
              <a:path w="44" h="13">
                <a:moveTo>
                  <a:pt x="0" y="13"/>
                </a:moveTo>
                <a:lnTo>
                  <a:pt x="6" y="11"/>
                </a:lnTo>
                <a:lnTo>
                  <a:pt x="11" y="10"/>
                </a:lnTo>
                <a:lnTo>
                  <a:pt x="22" y="7"/>
                </a:lnTo>
                <a:lnTo>
                  <a:pt x="33" y="5"/>
                </a:lnTo>
                <a:lnTo>
                  <a:pt x="38" y="3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157480" y="2900520"/>
            <a:ext cx="73080" cy="60120"/>
          </a:xfrm>
          <a:custGeom>
            <a:avLst/>
            <a:gdLst/>
            <a:ahLst/>
            <a:rect l="l" t="t" r="r" b="b"/>
            <a:pathLst>
              <a:path w="46" h="38">
                <a:moveTo>
                  <a:pt x="0" y="38"/>
                </a:moveTo>
                <a:lnTo>
                  <a:pt x="6" y="34"/>
                </a:lnTo>
                <a:lnTo>
                  <a:pt x="11" y="30"/>
                </a:lnTo>
                <a:lnTo>
                  <a:pt x="22" y="20"/>
                </a:lnTo>
                <a:lnTo>
                  <a:pt x="34" y="9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230560" y="2857680"/>
            <a:ext cx="69840" cy="4284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27"/>
                </a:moveTo>
                <a:lnTo>
                  <a:pt x="11" y="19"/>
                </a:lnTo>
                <a:lnTo>
                  <a:pt x="22" y="12"/>
                </a:lnTo>
                <a:lnTo>
                  <a:pt x="33" y="5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300400" y="2841480"/>
            <a:ext cx="71280" cy="16200"/>
          </a:xfrm>
          <a:custGeom>
            <a:avLst/>
            <a:gdLst/>
            <a:ahLst/>
            <a:rect l="l" t="t" r="r" b="b"/>
            <a:pathLst>
              <a:path w="45" h="10">
                <a:moveTo>
                  <a:pt x="0" y="10"/>
                </a:moveTo>
                <a:lnTo>
                  <a:pt x="5" y="8"/>
                </a:lnTo>
                <a:lnTo>
                  <a:pt x="11" y="7"/>
                </a:lnTo>
                <a:lnTo>
                  <a:pt x="22" y="6"/>
                </a:lnTo>
                <a:lnTo>
                  <a:pt x="34" y="4"/>
                </a:lnTo>
                <a:lnTo>
                  <a:pt x="39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371680" y="2773440"/>
            <a:ext cx="71640" cy="68040"/>
          </a:xfrm>
          <a:custGeom>
            <a:avLst/>
            <a:gdLst/>
            <a:ahLst/>
            <a:rect l="l" t="t" r="r" b="b"/>
            <a:pathLst>
              <a:path w="45" h="43">
                <a:moveTo>
                  <a:pt x="0" y="43"/>
                </a:moveTo>
                <a:lnTo>
                  <a:pt x="6" y="39"/>
                </a:lnTo>
                <a:lnTo>
                  <a:pt x="11" y="34"/>
                </a:lnTo>
                <a:lnTo>
                  <a:pt x="17" y="28"/>
                </a:lnTo>
                <a:lnTo>
                  <a:pt x="22" y="21"/>
                </a:lnTo>
                <a:lnTo>
                  <a:pt x="28" y="15"/>
                </a:lnTo>
                <a:lnTo>
                  <a:pt x="34" y="9"/>
                </a:lnTo>
                <a:lnTo>
                  <a:pt x="3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2443320" y="2759040"/>
            <a:ext cx="71280" cy="14400"/>
          </a:xfrm>
          <a:custGeom>
            <a:avLst/>
            <a:gdLst/>
            <a:ahLst/>
            <a:rect l="l" t="t" r="r" b="b"/>
            <a:pathLst>
              <a:path w="45" h="9">
                <a:moveTo>
                  <a:pt x="0" y="9"/>
                </a:moveTo>
                <a:lnTo>
                  <a:pt x="6" y="6"/>
                </a:lnTo>
                <a:lnTo>
                  <a:pt x="11" y="5"/>
                </a:lnTo>
                <a:lnTo>
                  <a:pt x="22" y="3"/>
                </a:lnTo>
                <a:lnTo>
                  <a:pt x="34" y="2"/>
                </a:lnTo>
                <a:lnTo>
                  <a:pt x="39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2514600" y="2722680"/>
            <a:ext cx="71280" cy="3636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23"/>
                </a:moveTo>
                <a:lnTo>
                  <a:pt x="11" y="19"/>
                </a:lnTo>
                <a:lnTo>
                  <a:pt x="22" y="15"/>
                </a:lnTo>
                <a:lnTo>
                  <a:pt x="34" y="9"/>
                </a:lnTo>
                <a:lnTo>
                  <a:pt x="39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585880" y="2622600"/>
            <a:ext cx="71640" cy="100080"/>
          </a:xfrm>
          <a:custGeom>
            <a:avLst/>
            <a:gdLst/>
            <a:ahLst/>
            <a:rect l="l" t="t" r="r" b="b"/>
            <a:pathLst>
              <a:path w="45" h="63">
                <a:moveTo>
                  <a:pt x="0" y="63"/>
                </a:moveTo>
                <a:lnTo>
                  <a:pt x="6" y="56"/>
                </a:lnTo>
                <a:lnTo>
                  <a:pt x="11" y="48"/>
                </a:lnTo>
                <a:lnTo>
                  <a:pt x="17" y="39"/>
                </a:lnTo>
                <a:lnTo>
                  <a:pt x="22" y="30"/>
                </a:lnTo>
                <a:lnTo>
                  <a:pt x="28" y="21"/>
                </a:lnTo>
                <a:lnTo>
                  <a:pt x="34" y="12"/>
                </a:lnTo>
                <a:lnTo>
                  <a:pt x="39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657520" y="2616120"/>
            <a:ext cx="71280" cy="6480"/>
          </a:xfrm>
          <a:custGeom>
            <a:avLst/>
            <a:gdLst/>
            <a:ahLst/>
            <a:rect l="l" t="t" r="r" b="b"/>
            <a:pathLst>
              <a:path w="45" h="4">
                <a:moveTo>
                  <a:pt x="0" y="4"/>
                </a:moveTo>
                <a:lnTo>
                  <a:pt x="6" y="1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34" y="3"/>
                </a:lnTo>
                <a:lnTo>
                  <a:pt x="39" y="3"/>
                </a:lnTo>
                <a:lnTo>
                  <a:pt x="45" y="2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2728800" y="2579760"/>
            <a:ext cx="71640" cy="39600"/>
          </a:xfrm>
          <a:custGeom>
            <a:avLst/>
            <a:gdLst/>
            <a:ahLst/>
            <a:rect l="l" t="t" r="r" b="b"/>
            <a:pathLst>
              <a:path w="45" h="25">
                <a:moveTo>
                  <a:pt x="0" y="25"/>
                </a:moveTo>
                <a:lnTo>
                  <a:pt x="11" y="21"/>
                </a:lnTo>
                <a:lnTo>
                  <a:pt x="23" y="15"/>
                </a:lnTo>
                <a:lnTo>
                  <a:pt x="34" y="7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2800440" y="2522520"/>
            <a:ext cx="71280" cy="57240"/>
          </a:xfrm>
          <a:custGeom>
            <a:avLst/>
            <a:gdLst/>
            <a:ahLst/>
            <a:rect l="l" t="t" r="r" b="b"/>
            <a:pathLst>
              <a:path w="45" h="36">
                <a:moveTo>
                  <a:pt x="0" y="36"/>
                </a:moveTo>
                <a:lnTo>
                  <a:pt x="11" y="26"/>
                </a:lnTo>
                <a:lnTo>
                  <a:pt x="22" y="16"/>
                </a:lnTo>
                <a:lnTo>
                  <a:pt x="34" y="7"/>
                </a:lnTo>
                <a:lnTo>
                  <a:pt x="39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2871720" y="2509920"/>
            <a:ext cx="71640" cy="12600"/>
          </a:xfrm>
          <a:custGeom>
            <a:avLst/>
            <a:gdLst/>
            <a:ahLst/>
            <a:rect l="l" t="t" r="r" b="b"/>
            <a:pathLst>
              <a:path w="45" h="8">
                <a:moveTo>
                  <a:pt x="0" y="8"/>
                </a:moveTo>
                <a:lnTo>
                  <a:pt x="6" y="6"/>
                </a:lnTo>
                <a:lnTo>
                  <a:pt x="11" y="5"/>
                </a:lnTo>
                <a:lnTo>
                  <a:pt x="23" y="4"/>
                </a:lnTo>
                <a:lnTo>
                  <a:pt x="34" y="3"/>
                </a:lnTo>
                <a:lnTo>
                  <a:pt x="39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2943360" y="2452680"/>
            <a:ext cx="71280" cy="57240"/>
          </a:xfrm>
          <a:custGeom>
            <a:avLst/>
            <a:gdLst/>
            <a:ahLst/>
            <a:rect l="l" t="t" r="r" b="b"/>
            <a:pathLst>
              <a:path w="45" h="36">
                <a:moveTo>
                  <a:pt x="0" y="36"/>
                </a:moveTo>
                <a:lnTo>
                  <a:pt x="6" y="33"/>
                </a:lnTo>
                <a:lnTo>
                  <a:pt x="11" y="28"/>
                </a:lnTo>
                <a:lnTo>
                  <a:pt x="22" y="18"/>
                </a:lnTo>
                <a:lnTo>
                  <a:pt x="34" y="8"/>
                </a:lnTo>
                <a:lnTo>
                  <a:pt x="39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3014640" y="2435400"/>
            <a:ext cx="71640" cy="17280"/>
          </a:xfrm>
          <a:custGeom>
            <a:avLst/>
            <a:gdLst/>
            <a:ahLst/>
            <a:rect l="l" t="t" r="r" b="b"/>
            <a:pathLst>
              <a:path w="45" h="11">
                <a:moveTo>
                  <a:pt x="0" y="11"/>
                </a:moveTo>
                <a:lnTo>
                  <a:pt x="6" y="9"/>
                </a:lnTo>
                <a:lnTo>
                  <a:pt x="12" y="8"/>
                </a:lnTo>
                <a:lnTo>
                  <a:pt x="23" y="7"/>
                </a:lnTo>
                <a:lnTo>
                  <a:pt x="28" y="6"/>
                </a:lnTo>
                <a:lnTo>
                  <a:pt x="34" y="5"/>
                </a:lnTo>
                <a:lnTo>
                  <a:pt x="39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7" name=""/>
          <p:cNvGrpSpPr/>
          <p:nvPr/>
        </p:nvGrpSpPr>
        <p:grpSpPr>
          <a:xfrm>
            <a:off x="3086280" y="1800360"/>
            <a:ext cx="5000400" cy="635040"/>
            <a:chOff x="3086280" y="1800360"/>
            <a:chExt cx="5000400" cy="635040"/>
          </a:xfrm>
        </p:grpSpPr>
        <p:sp>
          <p:nvSpPr>
            <p:cNvPr id="6218" name=""/>
            <p:cNvSpPr/>
            <p:nvPr/>
          </p:nvSpPr>
          <p:spPr>
            <a:xfrm>
              <a:off x="3086280" y="23637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45"/>
                  </a:moveTo>
                  <a:lnTo>
                    <a:pt x="6" y="40"/>
                  </a:lnTo>
                  <a:lnTo>
                    <a:pt x="11" y="34"/>
                  </a:lnTo>
                  <a:lnTo>
                    <a:pt x="17" y="27"/>
                  </a:lnTo>
                  <a:lnTo>
                    <a:pt x="22" y="19"/>
                  </a:lnTo>
                  <a:lnTo>
                    <a:pt x="28" y="12"/>
                  </a:lnTo>
                  <a:lnTo>
                    <a:pt x="34" y="6"/>
                  </a:lnTo>
                  <a:lnTo>
                    <a:pt x="39" y="2"/>
                  </a:lnTo>
                  <a:lnTo>
                    <a:pt x="42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157560" y="2363760"/>
              <a:ext cx="71280" cy="6048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0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2" y="5"/>
                  </a:lnTo>
                  <a:lnTo>
                    <a:pt x="18" y="11"/>
                  </a:lnTo>
                  <a:lnTo>
                    <a:pt x="23" y="19"/>
                  </a:lnTo>
                  <a:lnTo>
                    <a:pt x="28" y="26"/>
                  </a:lnTo>
                  <a:lnTo>
                    <a:pt x="34" y="32"/>
                  </a:lnTo>
                  <a:lnTo>
                    <a:pt x="39" y="36"/>
                  </a:lnTo>
                  <a:lnTo>
                    <a:pt x="42" y="38"/>
                  </a:lnTo>
                  <a:lnTo>
                    <a:pt x="45" y="38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228840" y="2365200"/>
              <a:ext cx="73080" cy="5904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7"/>
                  </a:moveTo>
                  <a:lnTo>
                    <a:pt x="6" y="36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2" y="23"/>
                  </a:lnTo>
                  <a:lnTo>
                    <a:pt x="34" y="10"/>
                  </a:lnTo>
                  <a:lnTo>
                    <a:pt x="39" y="5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301920" y="231768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11" y="21"/>
                  </a:lnTo>
                  <a:lnTo>
                    <a:pt x="22" y="13"/>
                  </a:lnTo>
                  <a:lnTo>
                    <a:pt x="33" y="6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371760" y="2306520"/>
              <a:ext cx="73080" cy="1116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7"/>
                  </a:moveTo>
                  <a:lnTo>
                    <a:pt x="6" y="5"/>
                  </a:lnTo>
                  <a:lnTo>
                    <a:pt x="11" y="4"/>
                  </a:lnTo>
                  <a:lnTo>
                    <a:pt x="22" y="4"/>
                  </a:lnTo>
                  <a:lnTo>
                    <a:pt x="34" y="3"/>
                  </a:lnTo>
                  <a:lnTo>
                    <a:pt x="40" y="2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44840" y="2246400"/>
              <a:ext cx="69840" cy="601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38"/>
                  </a:moveTo>
                  <a:lnTo>
                    <a:pt x="6" y="34"/>
                  </a:lnTo>
                  <a:lnTo>
                    <a:pt x="11" y="30"/>
                  </a:lnTo>
                  <a:lnTo>
                    <a:pt x="22" y="20"/>
                  </a:lnTo>
                  <a:lnTo>
                    <a:pt x="33" y="9"/>
                  </a:lnTo>
                  <a:lnTo>
                    <a:pt x="39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514680" y="2201760"/>
              <a:ext cx="7164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28"/>
                  </a:moveTo>
                  <a:lnTo>
                    <a:pt x="22" y="13"/>
                  </a:lnTo>
                  <a:lnTo>
                    <a:pt x="34" y="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3586320" y="217476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7"/>
                  </a:moveTo>
                  <a:lnTo>
                    <a:pt x="11" y="11"/>
                  </a:lnTo>
                  <a:lnTo>
                    <a:pt x="22" y="5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3657600" y="217476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0"/>
                  </a:moveTo>
                  <a:lnTo>
                    <a:pt x="6" y="1"/>
                  </a:lnTo>
                  <a:lnTo>
                    <a:pt x="11" y="4"/>
                  </a:lnTo>
                  <a:lnTo>
                    <a:pt x="17" y="7"/>
                  </a:lnTo>
                  <a:lnTo>
                    <a:pt x="22" y="11"/>
                  </a:lnTo>
                  <a:lnTo>
                    <a:pt x="28" y="15"/>
                  </a:lnTo>
                  <a:lnTo>
                    <a:pt x="34" y="18"/>
                  </a:lnTo>
                  <a:lnTo>
                    <a:pt x="39" y="20"/>
                  </a:lnTo>
                  <a:lnTo>
                    <a:pt x="45" y="2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3728880" y="216684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26"/>
                  </a:moveTo>
                  <a:lnTo>
                    <a:pt x="6" y="25"/>
                  </a:lnTo>
                  <a:lnTo>
                    <a:pt x="11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39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3800520" y="213516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0" y="20"/>
                  </a:moveTo>
                  <a:lnTo>
                    <a:pt x="11" y="14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3871800" y="2135160"/>
              <a:ext cx="7164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6" y="1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28" y="17"/>
                  </a:lnTo>
                  <a:lnTo>
                    <a:pt x="34" y="22"/>
                  </a:lnTo>
                  <a:lnTo>
                    <a:pt x="39" y="26"/>
                  </a:lnTo>
                  <a:lnTo>
                    <a:pt x="45" y="28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3943440" y="2171880"/>
              <a:ext cx="71280" cy="108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0" y="5"/>
                  </a:moveTo>
                  <a:lnTo>
                    <a:pt x="11" y="7"/>
                  </a:lnTo>
                  <a:lnTo>
                    <a:pt x="23" y="6"/>
                  </a:lnTo>
                  <a:lnTo>
                    <a:pt x="34" y="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014720" y="2114640"/>
              <a:ext cx="7164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36"/>
                  </a:moveTo>
                  <a:lnTo>
                    <a:pt x="6" y="32"/>
                  </a:lnTo>
                  <a:lnTo>
                    <a:pt x="11" y="28"/>
                  </a:lnTo>
                  <a:lnTo>
                    <a:pt x="22" y="17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4086360" y="2111400"/>
              <a:ext cx="71280" cy="32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0" y="2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9" y="2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4157640" y="2052720"/>
              <a:ext cx="7164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37"/>
                  </a:moveTo>
                  <a:lnTo>
                    <a:pt x="6" y="34"/>
                  </a:lnTo>
                  <a:lnTo>
                    <a:pt x="11" y="29"/>
                  </a:lnTo>
                  <a:lnTo>
                    <a:pt x="17" y="24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4229280" y="205092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39" y="9"/>
                  </a:lnTo>
                  <a:lnTo>
                    <a:pt x="45" y="1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300560" y="2066760"/>
              <a:ext cx="73080" cy="1296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0"/>
                  </a:moveTo>
                  <a:lnTo>
                    <a:pt x="11" y="3"/>
                  </a:lnTo>
                  <a:lnTo>
                    <a:pt x="22" y="6"/>
                  </a:lnTo>
                  <a:lnTo>
                    <a:pt x="34" y="7"/>
                  </a:lnTo>
                  <a:lnTo>
                    <a:pt x="39" y="8"/>
                  </a:lnTo>
                  <a:lnTo>
                    <a:pt x="46" y="7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373640" y="203976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24"/>
                  </a:moveTo>
                  <a:lnTo>
                    <a:pt x="6" y="22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7" y="8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443480" y="2039760"/>
              <a:ext cx="73080" cy="2088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34" y="11"/>
                  </a:lnTo>
                  <a:lnTo>
                    <a:pt x="40" y="12"/>
                  </a:lnTo>
                  <a:lnTo>
                    <a:pt x="46" y="13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516560" y="2036880"/>
              <a:ext cx="69840" cy="2376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6" y="14"/>
                  </a:lnTo>
                  <a:lnTo>
                    <a:pt x="11" y="13"/>
                  </a:lnTo>
                  <a:lnTo>
                    <a:pt x="22" y="9"/>
                  </a:lnTo>
                  <a:lnTo>
                    <a:pt x="33" y="4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586400" y="201780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lnTo>
                    <a:pt x="22" y="4"/>
                  </a:lnTo>
                  <a:lnTo>
                    <a:pt x="35" y="2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659480" y="2017800"/>
              <a:ext cx="69840" cy="324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4" y="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729320" y="1979640"/>
              <a:ext cx="7272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0" y="25"/>
                  </a:moveTo>
                  <a:lnTo>
                    <a:pt x="6" y="23"/>
                  </a:lnTo>
                  <a:lnTo>
                    <a:pt x="11" y="20"/>
                  </a:lnTo>
                  <a:lnTo>
                    <a:pt x="22" y="11"/>
                  </a:lnTo>
                  <a:lnTo>
                    <a:pt x="29" y="7"/>
                  </a:lnTo>
                  <a:lnTo>
                    <a:pt x="35" y="4"/>
                  </a:lnTo>
                  <a:lnTo>
                    <a:pt x="40" y="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802040" y="19796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0"/>
                  </a:moveTo>
                  <a:lnTo>
                    <a:pt x="6" y="0"/>
                  </a:lnTo>
                  <a:lnTo>
                    <a:pt x="11" y="2"/>
                  </a:lnTo>
                  <a:lnTo>
                    <a:pt x="17" y="5"/>
                  </a:lnTo>
                  <a:lnTo>
                    <a:pt x="22" y="9"/>
                  </a:lnTo>
                  <a:lnTo>
                    <a:pt x="28" y="13"/>
                  </a:lnTo>
                  <a:lnTo>
                    <a:pt x="33" y="16"/>
                  </a:lnTo>
                  <a:lnTo>
                    <a:pt x="39" y="18"/>
                  </a:lnTo>
                  <a:lnTo>
                    <a:pt x="44" y="18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871880" y="196848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25"/>
                  </a:moveTo>
                  <a:lnTo>
                    <a:pt x="5" y="24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5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943520" y="19382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9"/>
                  </a:moveTo>
                  <a:lnTo>
                    <a:pt x="11" y="13"/>
                  </a:lnTo>
                  <a:lnTo>
                    <a:pt x="22" y="8"/>
                  </a:lnTo>
                  <a:lnTo>
                    <a:pt x="34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5014800" y="1936800"/>
              <a:ext cx="7164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1"/>
                  </a:moveTo>
                  <a:lnTo>
                    <a:pt x="11" y="0"/>
                  </a:lnTo>
                  <a:lnTo>
                    <a:pt x="23" y="1"/>
                  </a:lnTo>
                  <a:lnTo>
                    <a:pt x="34" y="2"/>
                  </a:lnTo>
                  <a:lnTo>
                    <a:pt x="45" y="3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5086440" y="1936800"/>
              <a:ext cx="71280" cy="468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3"/>
                  </a:moveTo>
                  <a:lnTo>
                    <a:pt x="22" y="3"/>
                  </a:lnTo>
                  <a:lnTo>
                    <a:pt x="34" y="2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5157720" y="190188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0" y="22"/>
                  </a:moveTo>
                  <a:lnTo>
                    <a:pt x="6" y="20"/>
                  </a:lnTo>
                  <a:lnTo>
                    <a:pt x="11" y="16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5229360" y="19018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3" y="1"/>
                  </a:lnTo>
                  <a:lnTo>
                    <a:pt x="6" y="3"/>
                  </a:lnTo>
                  <a:lnTo>
                    <a:pt x="11" y="8"/>
                  </a:lnTo>
                  <a:lnTo>
                    <a:pt x="17" y="15"/>
                  </a:lnTo>
                  <a:lnTo>
                    <a:pt x="22" y="22"/>
                  </a:lnTo>
                  <a:lnTo>
                    <a:pt x="28" y="30"/>
                  </a:lnTo>
                  <a:lnTo>
                    <a:pt x="34" y="37"/>
                  </a:lnTo>
                  <a:lnTo>
                    <a:pt x="39" y="42"/>
                  </a:lnTo>
                  <a:lnTo>
                    <a:pt x="42" y="44"/>
                  </a:lnTo>
                  <a:lnTo>
                    <a:pt x="45" y="45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5300640" y="1941480"/>
              <a:ext cx="7164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0"/>
                  </a:moveTo>
                  <a:lnTo>
                    <a:pt x="6" y="21"/>
                  </a:lnTo>
                  <a:lnTo>
                    <a:pt x="12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5372280" y="190188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25"/>
                  </a:moveTo>
                  <a:lnTo>
                    <a:pt x="11" y="18"/>
                  </a:lnTo>
                  <a:lnTo>
                    <a:pt x="22" y="10"/>
                  </a:lnTo>
                  <a:lnTo>
                    <a:pt x="34" y="4"/>
                  </a:lnTo>
                  <a:lnTo>
                    <a:pt x="39" y="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5443560" y="190188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5" y="1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5514840" y="192096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22" y="16"/>
                  </a:lnTo>
                  <a:lnTo>
                    <a:pt x="28" y="21"/>
                  </a:lnTo>
                  <a:lnTo>
                    <a:pt x="34" y="23"/>
                  </a:lnTo>
                  <a:lnTo>
                    <a:pt x="39" y="24"/>
                  </a:lnTo>
                  <a:lnTo>
                    <a:pt x="43" y="24"/>
                  </a:lnTo>
                  <a:lnTo>
                    <a:pt x="46" y="23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5587920" y="1847880"/>
              <a:ext cx="69840" cy="10944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0" y="69"/>
                  </a:moveTo>
                  <a:lnTo>
                    <a:pt x="3" y="67"/>
                  </a:lnTo>
                  <a:lnTo>
                    <a:pt x="6" y="64"/>
                  </a:lnTo>
                  <a:lnTo>
                    <a:pt x="8" y="61"/>
                  </a:lnTo>
                  <a:lnTo>
                    <a:pt x="11" y="56"/>
                  </a:lnTo>
                  <a:lnTo>
                    <a:pt x="17" y="46"/>
                  </a:lnTo>
                  <a:lnTo>
                    <a:pt x="22" y="35"/>
                  </a:lnTo>
                  <a:lnTo>
                    <a:pt x="27" y="23"/>
                  </a:lnTo>
                  <a:lnTo>
                    <a:pt x="33" y="13"/>
                  </a:lnTo>
                  <a:lnTo>
                    <a:pt x="36" y="8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5657760" y="1846440"/>
              <a:ext cx="73080" cy="410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7" y="4"/>
                  </a:lnTo>
                  <a:lnTo>
                    <a:pt x="22" y="9"/>
                  </a:lnTo>
                  <a:lnTo>
                    <a:pt x="34" y="19"/>
                  </a:lnTo>
                  <a:lnTo>
                    <a:pt x="40" y="23"/>
                  </a:lnTo>
                  <a:lnTo>
                    <a:pt x="46" y="26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5730840" y="1887480"/>
              <a:ext cx="6984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0"/>
                  </a:moveTo>
                  <a:lnTo>
                    <a:pt x="11" y="4"/>
                  </a:lnTo>
                  <a:lnTo>
                    <a:pt x="22" y="7"/>
                  </a:lnTo>
                  <a:lnTo>
                    <a:pt x="33" y="9"/>
                  </a:lnTo>
                  <a:lnTo>
                    <a:pt x="44" y="1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5800680" y="1903320"/>
              <a:ext cx="73080" cy="180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6" y="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5873760" y="190512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0"/>
                  </a:moveTo>
                  <a:lnTo>
                    <a:pt x="6" y="2"/>
                  </a:lnTo>
                  <a:lnTo>
                    <a:pt x="11" y="5"/>
                  </a:lnTo>
                  <a:lnTo>
                    <a:pt x="22" y="11"/>
                  </a:lnTo>
                  <a:lnTo>
                    <a:pt x="27" y="15"/>
                  </a:lnTo>
                  <a:lnTo>
                    <a:pt x="33" y="17"/>
                  </a:lnTo>
                  <a:lnTo>
                    <a:pt x="38" y="18"/>
                  </a:lnTo>
                  <a:lnTo>
                    <a:pt x="44" y="18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5943600" y="18716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39"/>
                  </a:moveTo>
                  <a:lnTo>
                    <a:pt x="3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25"/>
                  </a:lnTo>
                  <a:lnTo>
                    <a:pt x="22" y="18"/>
                  </a:lnTo>
                  <a:lnTo>
                    <a:pt x="29" y="11"/>
                  </a:lnTo>
                  <a:lnTo>
                    <a:pt x="35" y="5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6016680" y="18716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3" y="1"/>
                  </a:lnTo>
                  <a:lnTo>
                    <a:pt x="6" y="2"/>
                  </a:lnTo>
                  <a:lnTo>
                    <a:pt x="11" y="7"/>
                  </a:lnTo>
                  <a:lnTo>
                    <a:pt x="17" y="14"/>
                  </a:lnTo>
                  <a:lnTo>
                    <a:pt x="22" y="23"/>
                  </a:lnTo>
                  <a:lnTo>
                    <a:pt x="27" y="30"/>
                  </a:lnTo>
                  <a:lnTo>
                    <a:pt x="33" y="37"/>
                  </a:lnTo>
                  <a:lnTo>
                    <a:pt x="38" y="42"/>
                  </a:lnTo>
                  <a:lnTo>
                    <a:pt x="41" y="43"/>
                  </a:lnTo>
                  <a:lnTo>
                    <a:pt x="44" y="44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6086520" y="187488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42"/>
                  </a:moveTo>
                  <a:lnTo>
                    <a:pt x="3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7" y="31"/>
                  </a:lnTo>
                  <a:lnTo>
                    <a:pt x="23" y="24"/>
                  </a:lnTo>
                  <a:lnTo>
                    <a:pt x="29" y="16"/>
                  </a:lnTo>
                  <a:lnTo>
                    <a:pt x="35" y="9"/>
                  </a:lnTo>
                  <a:lnTo>
                    <a:pt x="40" y="3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6159600" y="1873080"/>
              <a:ext cx="69840" cy="1620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2" y="4"/>
                  </a:lnTo>
                  <a:lnTo>
                    <a:pt x="33" y="8"/>
                  </a:lnTo>
                  <a:lnTo>
                    <a:pt x="39" y="10"/>
                  </a:lnTo>
                  <a:lnTo>
                    <a:pt x="44" y="1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6229440" y="1860480"/>
              <a:ext cx="71280" cy="2880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0" y="18"/>
                  </a:moveTo>
                  <a:lnTo>
                    <a:pt x="5" y="17"/>
                  </a:lnTo>
                  <a:lnTo>
                    <a:pt x="11" y="14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6300720" y="1860480"/>
              <a:ext cx="7164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lnTo>
                    <a:pt x="6" y="2"/>
                  </a:lnTo>
                  <a:lnTo>
                    <a:pt x="11" y="7"/>
                  </a:lnTo>
                  <a:lnTo>
                    <a:pt x="17" y="13"/>
                  </a:lnTo>
                  <a:lnTo>
                    <a:pt x="22" y="19"/>
                  </a:lnTo>
                  <a:lnTo>
                    <a:pt x="28" y="26"/>
                  </a:lnTo>
                  <a:lnTo>
                    <a:pt x="34" y="33"/>
                  </a:lnTo>
                  <a:lnTo>
                    <a:pt x="39" y="38"/>
                  </a:lnTo>
                  <a:lnTo>
                    <a:pt x="45" y="4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6372360" y="1924200"/>
              <a:ext cx="71280" cy="936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1"/>
                  </a:moveTo>
                  <a:lnTo>
                    <a:pt x="12" y="5"/>
                  </a:lnTo>
                  <a:lnTo>
                    <a:pt x="23" y="6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6443640" y="1847880"/>
              <a:ext cx="7164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48"/>
                  </a:moveTo>
                  <a:lnTo>
                    <a:pt x="6" y="44"/>
                  </a:lnTo>
                  <a:lnTo>
                    <a:pt x="11" y="38"/>
                  </a:lnTo>
                  <a:lnTo>
                    <a:pt x="17" y="30"/>
                  </a:lnTo>
                  <a:lnTo>
                    <a:pt x="22" y="22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6515280" y="1846440"/>
              <a:ext cx="7128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"/>
                  </a:moveTo>
                  <a:lnTo>
                    <a:pt x="7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4" y="15"/>
                  </a:lnTo>
                  <a:lnTo>
                    <a:pt x="39" y="18"/>
                  </a:lnTo>
                  <a:lnTo>
                    <a:pt x="45" y="19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6586560" y="185724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lnTo>
                    <a:pt x="6" y="12"/>
                  </a:lnTo>
                  <a:lnTo>
                    <a:pt x="11" y="11"/>
                  </a:lnTo>
                  <a:lnTo>
                    <a:pt x="22" y="7"/>
                  </a:lnTo>
                  <a:lnTo>
                    <a:pt x="34" y="3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6659640" y="1851120"/>
              <a:ext cx="69840" cy="6120"/>
            </a:xfrm>
            <a:custGeom>
              <a:avLst/>
              <a:gdLst/>
              <a:ahLst/>
              <a:rect l="l" t="t" r="r" b="b"/>
              <a:pathLst>
                <a:path w="44" h="4">
                  <a:moveTo>
                    <a:pt x="0" y="4"/>
                  </a:moveTo>
                  <a:lnTo>
                    <a:pt x="11" y="3"/>
                  </a:lnTo>
                  <a:lnTo>
                    <a:pt x="22" y="2"/>
                  </a:lnTo>
                  <a:lnTo>
                    <a:pt x="33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6729480" y="1835280"/>
              <a:ext cx="73080" cy="158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0" y="10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3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6802560" y="1839960"/>
              <a:ext cx="69840" cy="10332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0"/>
                  </a:moveTo>
                  <a:lnTo>
                    <a:pt x="3" y="2"/>
                  </a:lnTo>
                  <a:lnTo>
                    <a:pt x="6" y="5"/>
                  </a:lnTo>
                  <a:lnTo>
                    <a:pt x="11" y="13"/>
                  </a:lnTo>
                  <a:lnTo>
                    <a:pt x="17" y="23"/>
                  </a:lnTo>
                  <a:lnTo>
                    <a:pt x="22" y="34"/>
                  </a:lnTo>
                  <a:lnTo>
                    <a:pt x="27" y="45"/>
                  </a:lnTo>
                  <a:lnTo>
                    <a:pt x="33" y="54"/>
                  </a:lnTo>
                  <a:lnTo>
                    <a:pt x="36" y="58"/>
                  </a:lnTo>
                  <a:lnTo>
                    <a:pt x="38" y="61"/>
                  </a:lnTo>
                  <a:lnTo>
                    <a:pt x="41" y="64"/>
                  </a:lnTo>
                  <a:lnTo>
                    <a:pt x="44" y="65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6872400" y="1884240"/>
              <a:ext cx="73080" cy="5904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7"/>
                  </a:moveTo>
                  <a:lnTo>
                    <a:pt x="6" y="37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2" y="26"/>
                  </a:lnTo>
                  <a:lnTo>
                    <a:pt x="28" y="20"/>
                  </a:lnTo>
                  <a:lnTo>
                    <a:pt x="35" y="13"/>
                  </a:lnTo>
                  <a:lnTo>
                    <a:pt x="40" y="6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6945480" y="1801800"/>
              <a:ext cx="69840" cy="824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52"/>
                  </a:moveTo>
                  <a:lnTo>
                    <a:pt x="6" y="46"/>
                  </a:lnTo>
                  <a:lnTo>
                    <a:pt x="11" y="38"/>
                  </a:lnTo>
                  <a:lnTo>
                    <a:pt x="22" y="22"/>
                  </a:lnTo>
                  <a:lnTo>
                    <a:pt x="27" y="15"/>
                  </a:lnTo>
                  <a:lnTo>
                    <a:pt x="33" y="8"/>
                  </a:lnTo>
                  <a:lnTo>
                    <a:pt x="38" y="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015320" y="1800360"/>
              <a:ext cx="7272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"/>
                  </a:moveTo>
                  <a:lnTo>
                    <a:pt x="6" y="0"/>
                  </a:lnTo>
                  <a:lnTo>
                    <a:pt x="11" y="2"/>
                  </a:lnTo>
                  <a:lnTo>
                    <a:pt x="17" y="5"/>
                  </a:lnTo>
                  <a:lnTo>
                    <a:pt x="22" y="8"/>
                  </a:lnTo>
                  <a:lnTo>
                    <a:pt x="35" y="17"/>
                  </a:lnTo>
                  <a:lnTo>
                    <a:pt x="40" y="20"/>
                  </a:lnTo>
                  <a:lnTo>
                    <a:pt x="46" y="2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088040" y="1833480"/>
              <a:ext cx="69840" cy="324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0" y="1"/>
                  </a:moveTo>
                  <a:lnTo>
                    <a:pt x="6" y="2"/>
                  </a:lnTo>
                  <a:lnTo>
                    <a:pt x="11" y="2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157880" y="1833480"/>
              <a:ext cx="73080" cy="17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0"/>
                  </a:moveTo>
                  <a:lnTo>
                    <a:pt x="6" y="1"/>
                  </a:lnTo>
                  <a:lnTo>
                    <a:pt x="11" y="3"/>
                  </a:lnTo>
                  <a:lnTo>
                    <a:pt x="22" y="7"/>
                  </a:lnTo>
                  <a:lnTo>
                    <a:pt x="35" y="10"/>
                  </a:lnTo>
                  <a:lnTo>
                    <a:pt x="40" y="11"/>
                  </a:lnTo>
                  <a:lnTo>
                    <a:pt x="46" y="1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230960" y="181116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25"/>
                  </a:moveTo>
                  <a:lnTo>
                    <a:pt x="6" y="23"/>
                  </a:lnTo>
                  <a:lnTo>
                    <a:pt x="11" y="20"/>
                  </a:lnTo>
                  <a:lnTo>
                    <a:pt x="17" y="17"/>
                  </a:lnTo>
                  <a:lnTo>
                    <a:pt x="22" y="12"/>
                  </a:lnTo>
                  <a:lnTo>
                    <a:pt x="27" y="8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300800" y="1811160"/>
              <a:ext cx="73080" cy="2412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8" y="3"/>
                  </a:lnTo>
                  <a:lnTo>
                    <a:pt x="23" y="6"/>
                  </a:lnTo>
                  <a:lnTo>
                    <a:pt x="35" y="11"/>
                  </a:lnTo>
                  <a:lnTo>
                    <a:pt x="40" y="14"/>
                  </a:lnTo>
                  <a:lnTo>
                    <a:pt x="46" y="15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373880" y="1835280"/>
              <a:ext cx="698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0" y="0"/>
                  </a:moveTo>
                  <a:lnTo>
                    <a:pt x="11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443720" y="1836720"/>
              <a:ext cx="7164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0"/>
                  </a:moveTo>
                  <a:lnTo>
                    <a:pt x="5" y="2"/>
                  </a:lnTo>
                  <a:lnTo>
                    <a:pt x="11" y="5"/>
                  </a:lnTo>
                  <a:lnTo>
                    <a:pt x="23" y="12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39" y="21"/>
                  </a:lnTo>
                  <a:lnTo>
                    <a:pt x="45" y="2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515360" y="182088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31"/>
                  </a:moveTo>
                  <a:lnTo>
                    <a:pt x="6" y="29"/>
                  </a:lnTo>
                  <a:lnTo>
                    <a:pt x="11" y="26"/>
                  </a:lnTo>
                  <a:lnTo>
                    <a:pt x="17" y="22"/>
                  </a:lnTo>
                  <a:lnTo>
                    <a:pt x="22" y="17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586640" y="1806480"/>
              <a:ext cx="7164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9"/>
                  </a:moveTo>
                  <a:lnTo>
                    <a:pt x="12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658280" y="18064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0"/>
                  </a:moveTo>
                  <a:lnTo>
                    <a:pt x="11" y="2"/>
                  </a:lnTo>
                  <a:lnTo>
                    <a:pt x="22" y="7"/>
                  </a:lnTo>
                  <a:lnTo>
                    <a:pt x="34" y="12"/>
                  </a:lnTo>
                  <a:lnTo>
                    <a:pt x="45" y="19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29560" y="1836720"/>
              <a:ext cx="7128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0"/>
                  </a:moveTo>
                  <a:lnTo>
                    <a:pt x="7" y="4"/>
                  </a:lnTo>
                  <a:lnTo>
                    <a:pt x="12" y="9"/>
                  </a:lnTo>
                  <a:lnTo>
                    <a:pt x="23" y="21"/>
                  </a:lnTo>
                  <a:lnTo>
                    <a:pt x="28" y="27"/>
                  </a:lnTo>
                  <a:lnTo>
                    <a:pt x="34" y="31"/>
                  </a:lnTo>
                  <a:lnTo>
                    <a:pt x="39" y="35"/>
                  </a:lnTo>
                  <a:lnTo>
                    <a:pt x="45" y="36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800840" y="18478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0" y="29"/>
                  </a:moveTo>
                  <a:lnTo>
                    <a:pt x="6" y="28"/>
                  </a:lnTo>
                  <a:lnTo>
                    <a:pt x="11" y="26"/>
                  </a:lnTo>
                  <a:lnTo>
                    <a:pt x="17" y="22"/>
                  </a:lnTo>
                  <a:lnTo>
                    <a:pt x="22" y="18"/>
                  </a:lnTo>
                  <a:lnTo>
                    <a:pt x="34" y="8"/>
                  </a:lnTo>
                  <a:lnTo>
                    <a:pt x="39" y="3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873920" y="182088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lnTo>
                    <a:pt x="11" y="11"/>
                  </a:lnTo>
                  <a:lnTo>
                    <a:pt x="22" y="7"/>
                  </a:lnTo>
                  <a:lnTo>
                    <a:pt x="33" y="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943760" y="1819440"/>
              <a:ext cx="73080" cy="612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1"/>
                  </a:moveTo>
                  <a:lnTo>
                    <a:pt x="11" y="0"/>
                  </a:lnTo>
                  <a:lnTo>
                    <a:pt x="22" y="1"/>
                  </a:lnTo>
                  <a:lnTo>
                    <a:pt x="34" y="2"/>
                  </a:lnTo>
                  <a:lnTo>
                    <a:pt x="46" y="4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8016840" y="1825560"/>
              <a:ext cx="69840" cy="1764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11" y="2"/>
                  </a:lnTo>
                  <a:lnTo>
                    <a:pt x="22" y="5"/>
                  </a:lnTo>
                  <a:lnTo>
                    <a:pt x="44" y="11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014480" y="5600880"/>
            <a:ext cx="71280" cy="15840"/>
          </a:xfrm>
          <a:custGeom>
            <a:avLst/>
            <a:gdLst/>
            <a:ahLst/>
            <a:rect l="l" t="t" r="r" b="b"/>
            <a:pathLst>
              <a:path w="45" h="10">
                <a:moveTo>
                  <a:pt x="0" y="0"/>
                </a:moveTo>
                <a:lnTo>
                  <a:pt x="3" y="1"/>
                </a:lnTo>
                <a:lnTo>
                  <a:pt x="8" y="3"/>
                </a:lnTo>
                <a:lnTo>
                  <a:pt x="15" y="6"/>
                </a:lnTo>
                <a:lnTo>
                  <a:pt x="23" y="8"/>
                </a:lnTo>
                <a:lnTo>
                  <a:pt x="30" y="10"/>
                </a:lnTo>
                <a:lnTo>
                  <a:pt x="37" y="9"/>
                </a:lnTo>
                <a:lnTo>
                  <a:pt x="40" y="8"/>
                </a:lnTo>
                <a:lnTo>
                  <a:pt x="42" y="6"/>
                </a:lnTo>
                <a:lnTo>
                  <a:pt x="44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>
            <a:off x="1085760" y="4915080"/>
            <a:ext cx="71640" cy="685800"/>
          </a:xfrm>
          <a:custGeom>
            <a:avLst/>
            <a:gdLst/>
            <a:ahLst/>
            <a:rect l="l" t="t" r="r" b="b"/>
            <a:pathLst>
              <a:path w="45" h="432">
                <a:moveTo>
                  <a:pt x="0" y="432"/>
                </a:moveTo>
                <a:lnTo>
                  <a:pt x="1" y="425"/>
                </a:lnTo>
                <a:lnTo>
                  <a:pt x="3" y="417"/>
                </a:lnTo>
                <a:lnTo>
                  <a:pt x="4" y="407"/>
                </a:lnTo>
                <a:lnTo>
                  <a:pt x="6" y="398"/>
                </a:lnTo>
                <a:lnTo>
                  <a:pt x="8" y="377"/>
                </a:lnTo>
                <a:lnTo>
                  <a:pt x="11" y="354"/>
                </a:lnTo>
                <a:lnTo>
                  <a:pt x="14" y="328"/>
                </a:lnTo>
                <a:lnTo>
                  <a:pt x="17" y="300"/>
                </a:lnTo>
                <a:lnTo>
                  <a:pt x="19" y="271"/>
                </a:lnTo>
                <a:lnTo>
                  <a:pt x="22" y="241"/>
                </a:lnTo>
                <a:lnTo>
                  <a:pt x="25" y="210"/>
                </a:lnTo>
                <a:lnTo>
                  <a:pt x="27" y="179"/>
                </a:lnTo>
                <a:lnTo>
                  <a:pt x="33" y="116"/>
                </a:lnTo>
                <a:lnTo>
                  <a:pt x="37" y="85"/>
                </a:lnTo>
                <a:lnTo>
                  <a:pt x="39" y="55"/>
                </a:lnTo>
                <a:lnTo>
                  <a:pt x="42" y="27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157400" y="4275000"/>
            <a:ext cx="71280" cy="640080"/>
          </a:xfrm>
          <a:custGeom>
            <a:avLst/>
            <a:gdLst/>
            <a:ahLst/>
            <a:rect l="l" t="t" r="r" b="b"/>
            <a:pathLst>
              <a:path w="45" h="403">
                <a:moveTo>
                  <a:pt x="0" y="403"/>
                </a:moveTo>
                <a:lnTo>
                  <a:pt x="3" y="376"/>
                </a:lnTo>
                <a:lnTo>
                  <a:pt x="6" y="348"/>
                </a:lnTo>
                <a:lnTo>
                  <a:pt x="11" y="291"/>
                </a:lnTo>
                <a:lnTo>
                  <a:pt x="17" y="234"/>
                </a:lnTo>
                <a:lnTo>
                  <a:pt x="22" y="177"/>
                </a:lnTo>
                <a:lnTo>
                  <a:pt x="25" y="150"/>
                </a:lnTo>
                <a:lnTo>
                  <a:pt x="28" y="123"/>
                </a:lnTo>
                <a:lnTo>
                  <a:pt x="31" y="99"/>
                </a:lnTo>
                <a:lnTo>
                  <a:pt x="34" y="75"/>
                </a:lnTo>
                <a:lnTo>
                  <a:pt x="37" y="54"/>
                </a:lnTo>
                <a:lnTo>
                  <a:pt x="39" y="33"/>
                </a:lnTo>
                <a:lnTo>
                  <a:pt x="42" y="1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228680" y="4197240"/>
            <a:ext cx="71640" cy="77760"/>
          </a:xfrm>
          <a:custGeom>
            <a:avLst/>
            <a:gdLst/>
            <a:ahLst/>
            <a:rect l="l" t="t" r="r" b="b"/>
            <a:pathLst>
              <a:path w="45" h="49">
                <a:moveTo>
                  <a:pt x="0" y="49"/>
                </a:moveTo>
                <a:lnTo>
                  <a:pt x="1" y="44"/>
                </a:lnTo>
                <a:lnTo>
                  <a:pt x="3" y="40"/>
                </a:lnTo>
                <a:lnTo>
                  <a:pt x="6" y="36"/>
                </a:lnTo>
                <a:lnTo>
                  <a:pt x="9" y="33"/>
                </a:lnTo>
                <a:lnTo>
                  <a:pt x="15" y="29"/>
                </a:lnTo>
                <a:lnTo>
                  <a:pt x="22" y="26"/>
                </a:lnTo>
                <a:lnTo>
                  <a:pt x="29" y="22"/>
                </a:lnTo>
                <a:lnTo>
                  <a:pt x="36" y="18"/>
                </a:lnTo>
                <a:lnTo>
                  <a:pt x="39" y="15"/>
                </a:lnTo>
                <a:lnTo>
                  <a:pt x="42" y="11"/>
                </a:lnTo>
                <a:lnTo>
                  <a:pt x="4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1300320" y="3517920"/>
            <a:ext cx="71280" cy="679320"/>
          </a:xfrm>
          <a:custGeom>
            <a:avLst/>
            <a:gdLst/>
            <a:ahLst/>
            <a:rect l="l" t="t" r="r" b="b"/>
            <a:pathLst>
              <a:path w="45" h="428">
                <a:moveTo>
                  <a:pt x="0" y="428"/>
                </a:moveTo>
                <a:lnTo>
                  <a:pt x="1" y="420"/>
                </a:lnTo>
                <a:lnTo>
                  <a:pt x="3" y="410"/>
                </a:lnTo>
                <a:lnTo>
                  <a:pt x="4" y="399"/>
                </a:lnTo>
                <a:lnTo>
                  <a:pt x="6" y="387"/>
                </a:lnTo>
                <a:lnTo>
                  <a:pt x="7" y="374"/>
                </a:lnTo>
                <a:lnTo>
                  <a:pt x="8" y="359"/>
                </a:lnTo>
                <a:lnTo>
                  <a:pt x="10" y="343"/>
                </a:lnTo>
                <a:lnTo>
                  <a:pt x="11" y="327"/>
                </a:lnTo>
                <a:lnTo>
                  <a:pt x="14" y="292"/>
                </a:lnTo>
                <a:lnTo>
                  <a:pt x="17" y="255"/>
                </a:lnTo>
                <a:lnTo>
                  <a:pt x="20" y="219"/>
                </a:lnTo>
                <a:lnTo>
                  <a:pt x="22" y="182"/>
                </a:lnTo>
                <a:lnTo>
                  <a:pt x="25" y="145"/>
                </a:lnTo>
                <a:lnTo>
                  <a:pt x="28" y="111"/>
                </a:lnTo>
                <a:lnTo>
                  <a:pt x="30" y="95"/>
                </a:lnTo>
                <a:lnTo>
                  <a:pt x="31" y="79"/>
                </a:lnTo>
                <a:lnTo>
                  <a:pt x="32" y="65"/>
                </a:lnTo>
                <a:lnTo>
                  <a:pt x="34" y="52"/>
                </a:lnTo>
                <a:lnTo>
                  <a:pt x="35" y="41"/>
                </a:lnTo>
                <a:lnTo>
                  <a:pt x="37" y="30"/>
                </a:lnTo>
                <a:lnTo>
                  <a:pt x="38" y="21"/>
                </a:lnTo>
                <a:lnTo>
                  <a:pt x="39" y="13"/>
                </a:lnTo>
                <a:lnTo>
                  <a:pt x="41" y="8"/>
                </a:lnTo>
                <a:lnTo>
                  <a:pt x="42" y="2"/>
                </a:lnTo>
                <a:lnTo>
                  <a:pt x="44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371600" y="3517920"/>
            <a:ext cx="71280" cy="763560"/>
          </a:xfrm>
          <a:custGeom>
            <a:avLst/>
            <a:gdLst/>
            <a:ahLst/>
            <a:rect l="l" t="t" r="r" b="b"/>
            <a:pathLst>
              <a:path w="45" h="481">
                <a:moveTo>
                  <a:pt x="0" y="0"/>
                </a:moveTo>
                <a:lnTo>
                  <a:pt x="1" y="2"/>
                </a:lnTo>
                <a:lnTo>
                  <a:pt x="3" y="6"/>
                </a:lnTo>
                <a:lnTo>
                  <a:pt x="4" y="13"/>
                </a:lnTo>
                <a:lnTo>
                  <a:pt x="6" y="21"/>
                </a:lnTo>
                <a:lnTo>
                  <a:pt x="7" y="31"/>
                </a:lnTo>
                <a:lnTo>
                  <a:pt x="8" y="42"/>
                </a:lnTo>
                <a:lnTo>
                  <a:pt x="10" y="55"/>
                </a:lnTo>
                <a:lnTo>
                  <a:pt x="11" y="69"/>
                </a:lnTo>
                <a:lnTo>
                  <a:pt x="12" y="84"/>
                </a:lnTo>
                <a:lnTo>
                  <a:pt x="14" y="101"/>
                </a:lnTo>
                <a:lnTo>
                  <a:pt x="15" y="119"/>
                </a:lnTo>
                <a:lnTo>
                  <a:pt x="17" y="137"/>
                </a:lnTo>
                <a:lnTo>
                  <a:pt x="19" y="175"/>
                </a:lnTo>
                <a:lnTo>
                  <a:pt x="22" y="216"/>
                </a:lnTo>
                <a:lnTo>
                  <a:pt x="26" y="257"/>
                </a:lnTo>
                <a:lnTo>
                  <a:pt x="28" y="299"/>
                </a:lnTo>
                <a:lnTo>
                  <a:pt x="31" y="338"/>
                </a:lnTo>
                <a:lnTo>
                  <a:pt x="33" y="358"/>
                </a:lnTo>
                <a:lnTo>
                  <a:pt x="34" y="376"/>
                </a:lnTo>
                <a:lnTo>
                  <a:pt x="35" y="393"/>
                </a:lnTo>
                <a:lnTo>
                  <a:pt x="37" y="410"/>
                </a:lnTo>
                <a:lnTo>
                  <a:pt x="38" y="425"/>
                </a:lnTo>
                <a:lnTo>
                  <a:pt x="39" y="440"/>
                </a:lnTo>
                <a:lnTo>
                  <a:pt x="41" y="453"/>
                </a:lnTo>
                <a:lnTo>
                  <a:pt x="42" y="464"/>
                </a:lnTo>
                <a:lnTo>
                  <a:pt x="44" y="473"/>
                </a:lnTo>
                <a:lnTo>
                  <a:pt x="45" y="48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1442880" y="4222800"/>
            <a:ext cx="7164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0" y="37"/>
                </a:moveTo>
                <a:lnTo>
                  <a:pt x="1" y="41"/>
                </a:lnTo>
                <a:lnTo>
                  <a:pt x="3" y="44"/>
                </a:lnTo>
                <a:lnTo>
                  <a:pt x="6" y="44"/>
                </a:lnTo>
                <a:lnTo>
                  <a:pt x="9" y="44"/>
                </a:lnTo>
                <a:lnTo>
                  <a:pt x="12" y="42"/>
                </a:lnTo>
                <a:lnTo>
                  <a:pt x="15" y="39"/>
                </a:lnTo>
                <a:lnTo>
                  <a:pt x="19" y="35"/>
                </a:lnTo>
                <a:lnTo>
                  <a:pt x="22" y="30"/>
                </a:lnTo>
                <a:lnTo>
                  <a:pt x="30" y="20"/>
                </a:lnTo>
                <a:lnTo>
                  <a:pt x="36" y="11"/>
                </a:lnTo>
                <a:lnTo>
                  <a:pt x="39" y="7"/>
                </a:lnTo>
                <a:lnTo>
                  <a:pt x="42" y="4"/>
                </a:lnTo>
                <a:lnTo>
                  <a:pt x="44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514520" y="4205160"/>
            <a:ext cx="71280" cy="17640"/>
          </a:xfrm>
          <a:custGeom>
            <a:avLst/>
            <a:gdLst/>
            <a:ahLst/>
            <a:rect l="l" t="t" r="r" b="b"/>
            <a:pathLst>
              <a:path w="45" h="11">
                <a:moveTo>
                  <a:pt x="0" y="11"/>
                </a:moveTo>
                <a:lnTo>
                  <a:pt x="11" y="6"/>
                </a:lnTo>
                <a:lnTo>
                  <a:pt x="23" y="1"/>
                </a:lnTo>
                <a:lnTo>
                  <a:pt x="28" y="0"/>
                </a:lnTo>
                <a:lnTo>
                  <a:pt x="34" y="0"/>
                </a:lnTo>
                <a:lnTo>
                  <a:pt x="39" y="3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85800" y="4213080"/>
            <a:ext cx="71640" cy="90720"/>
          </a:xfrm>
          <a:custGeom>
            <a:avLst/>
            <a:gdLst/>
            <a:ahLst/>
            <a:rect l="l" t="t" r="r" b="b"/>
            <a:pathLst>
              <a:path w="45" h="57">
                <a:moveTo>
                  <a:pt x="0" y="0"/>
                </a:moveTo>
                <a:lnTo>
                  <a:pt x="3" y="2"/>
                </a:lnTo>
                <a:lnTo>
                  <a:pt x="6" y="5"/>
                </a:lnTo>
                <a:lnTo>
                  <a:pt x="11" y="13"/>
                </a:lnTo>
                <a:lnTo>
                  <a:pt x="17" y="22"/>
                </a:lnTo>
                <a:lnTo>
                  <a:pt x="22" y="33"/>
                </a:lnTo>
                <a:lnTo>
                  <a:pt x="28" y="42"/>
                </a:lnTo>
                <a:lnTo>
                  <a:pt x="34" y="50"/>
                </a:lnTo>
                <a:lnTo>
                  <a:pt x="37" y="53"/>
                </a:lnTo>
                <a:lnTo>
                  <a:pt x="39" y="56"/>
                </a:lnTo>
                <a:lnTo>
                  <a:pt x="42" y="57"/>
                </a:lnTo>
                <a:lnTo>
                  <a:pt x="45" y="57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57440" y="4186080"/>
            <a:ext cx="71280" cy="117720"/>
          </a:xfrm>
          <a:custGeom>
            <a:avLst/>
            <a:gdLst/>
            <a:ahLst/>
            <a:rect l="l" t="t" r="r" b="b"/>
            <a:pathLst>
              <a:path w="45" h="74">
                <a:moveTo>
                  <a:pt x="0" y="74"/>
                </a:moveTo>
                <a:lnTo>
                  <a:pt x="3" y="73"/>
                </a:lnTo>
                <a:lnTo>
                  <a:pt x="6" y="70"/>
                </a:lnTo>
                <a:lnTo>
                  <a:pt x="8" y="65"/>
                </a:lnTo>
                <a:lnTo>
                  <a:pt x="11" y="60"/>
                </a:lnTo>
                <a:lnTo>
                  <a:pt x="14" y="53"/>
                </a:lnTo>
                <a:lnTo>
                  <a:pt x="18" y="46"/>
                </a:lnTo>
                <a:lnTo>
                  <a:pt x="23" y="31"/>
                </a:lnTo>
                <a:lnTo>
                  <a:pt x="26" y="24"/>
                </a:lnTo>
                <a:lnTo>
                  <a:pt x="28" y="18"/>
                </a:lnTo>
                <a:lnTo>
                  <a:pt x="31" y="11"/>
                </a:lnTo>
                <a:lnTo>
                  <a:pt x="34" y="6"/>
                </a:lnTo>
                <a:lnTo>
                  <a:pt x="37" y="2"/>
                </a:lnTo>
                <a:lnTo>
                  <a:pt x="39" y="0"/>
                </a:lnTo>
                <a:lnTo>
                  <a:pt x="42" y="0"/>
                </a:lnTo>
                <a:lnTo>
                  <a:pt x="45" y="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1728720" y="4189320"/>
            <a:ext cx="71640" cy="274680"/>
          </a:xfrm>
          <a:custGeom>
            <a:avLst/>
            <a:gdLst/>
            <a:ahLst/>
            <a:rect l="l" t="t" r="r" b="b"/>
            <a:pathLst>
              <a:path w="45" h="173">
                <a:moveTo>
                  <a:pt x="0" y="0"/>
                </a:moveTo>
                <a:lnTo>
                  <a:pt x="3" y="4"/>
                </a:lnTo>
                <a:lnTo>
                  <a:pt x="6" y="10"/>
                </a:lnTo>
                <a:lnTo>
                  <a:pt x="8" y="19"/>
                </a:lnTo>
                <a:lnTo>
                  <a:pt x="11" y="28"/>
                </a:lnTo>
                <a:lnTo>
                  <a:pt x="14" y="38"/>
                </a:lnTo>
                <a:lnTo>
                  <a:pt x="17" y="49"/>
                </a:lnTo>
                <a:lnTo>
                  <a:pt x="20" y="61"/>
                </a:lnTo>
                <a:lnTo>
                  <a:pt x="22" y="74"/>
                </a:lnTo>
                <a:lnTo>
                  <a:pt x="28" y="101"/>
                </a:lnTo>
                <a:lnTo>
                  <a:pt x="34" y="127"/>
                </a:lnTo>
                <a:lnTo>
                  <a:pt x="37" y="140"/>
                </a:lnTo>
                <a:lnTo>
                  <a:pt x="39" y="152"/>
                </a:lnTo>
                <a:lnTo>
                  <a:pt x="42" y="163"/>
                </a:lnTo>
                <a:lnTo>
                  <a:pt x="45" y="173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1800360" y="4464000"/>
            <a:ext cx="71280" cy="209520"/>
          </a:xfrm>
          <a:custGeom>
            <a:avLst/>
            <a:gdLst/>
            <a:ahLst/>
            <a:rect l="l" t="t" r="r" b="b"/>
            <a:pathLst>
              <a:path w="45" h="132">
                <a:moveTo>
                  <a:pt x="0" y="0"/>
                </a:moveTo>
                <a:lnTo>
                  <a:pt x="6" y="21"/>
                </a:lnTo>
                <a:lnTo>
                  <a:pt x="12" y="42"/>
                </a:lnTo>
                <a:lnTo>
                  <a:pt x="18" y="64"/>
                </a:lnTo>
                <a:lnTo>
                  <a:pt x="23" y="85"/>
                </a:lnTo>
                <a:lnTo>
                  <a:pt x="26" y="94"/>
                </a:lnTo>
                <a:lnTo>
                  <a:pt x="28" y="104"/>
                </a:lnTo>
                <a:lnTo>
                  <a:pt x="31" y="112"/>
                </a:lnTo>
                <a:lnTo>
                  <a:pt x="34" y="119"/>
                </a:lnTo>
                <a:lnTo>
                  <a:pt x="37" y="124"/>
                </a:lnTo>
                <a:lnTo>
                  <a:pt x="39" y="128"/>
                </a:lnTo>
                <a:lnTo>
                  <a:pt x="42" y="131"/>
                </a:lnTo>
                <a:lnTo>
                  <a:pt x="45" y="13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871640" y="4468680"/>
            <a:ext cx="71640" cy="204840"/>
          </a:xfrm>
          <a:custGeom>
            <a:avLst/>
            <a:gdLst/>
            <a:ahLst/>
            <a:rect l="l" t="t" r="r" b="b"/>
            <a:pathLst>
              <a:path w="45" h="129">
                <a:moveTo>
                  <a:pt x="0" y="129"/>
                </a:moveTo>
                <a:lnTo>
                  <a:pt x="3" y="128"/>
                </a:lnTo>
                <a:lnTo>
                  <a:pt x="6" y="124"/>
                </a:lnTo>
                <a:lnTo>
                  <a:pt x="8" y="119"/>
                </a:lnTo>
                <a:lnTo>
                  <a:pt x="11" y="112"/>
                </a:lnTo>
                <a:lnTo>
                  <a:pt x="14" y="103"/>
                </a:lnTo>
                <a:lnTo>
                  <a:pt x="17" y="93"/>
                </a:lnTo>
                <a:lnTo>
                  <a:pt x="20" y="82"/>
                </a:lnTo>
                <a:lnTo>
                  <a:pt x="22" y="71"/>
                </a:lnTo>
                <a:lnTo>
                  <a:pt x="28" y="49"/>
                </a:lnTo>
                <a:lnTo>
                  <a:pt x="31" y="38"/>
                </a:lnTo>
                <a:lnTo>
                  <a:pt x="34" y="28"/>
                </a:lnTo>
                <a:lnTo>
                  <a:pt x="37" y="19"/>
                </a:lnTo>
                <a:lnTo>
                  <a:pt x="39" y="11"/>
                </a:lnTo>
                <a:lnTo>
                  <a:pt x="42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1943280" y="4467240"/>
            <a:ext cx="71280" cy="5544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1"/>
                </a:moveTo>
                <a:lnTo>
                  <a:pt x="2" y="0"/>
                </a:lnTo>
                <a:lnTo>
                  <a:pt x="5" y="0"/>
                </a:lnTo>
                <a:lnTo>
                  <a:pt x="8" y="2"/>
                </a:lnTo>
                <a:lnTo>
                  <a:pt x="10" y="4"/>
                </a:lnTo>
                <a:lnTo>
                  <a:pt x="13" y="9"/>
                </a:lnTo>
                <a:lnTo>
                  <a:pt x="17" y="12"/>
                </a:lnTo>
                <a:lnTo>
                  <a:pt x="23" y="21"/>
                </a:lnTo>
                <a:lnTo>
                  <a:pt x="29" y="28"/>
                </a:lnTo>
                <a:lnTo>
                  <a:pt x="33" y="31"/>
                </a:lnTo>
                <a:lnTo>
                  <a:pt x="36" y="34"/>
                </a:lnTo>
                <a:lnTo>
                  <a:pt x="38" y="35"/>
                </a:lnTo>
                <a:lnTo>
                  <a:pt x="41" y="34"/>
                </a:lnTo>
                <a:lnTo>
                  <a:pt x="43" y="33"/>
                </a:lnTo>
                <a:lnTo>
                  <a:pt x="45" y="2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2014560" y="4086360"/>
            <a:ext cx="73080" cy="426960"/>
          </a:xfrm>
          <a:custGeom>
            <a:avLst/>
            <a:gdLst/>
            <a:ahLst/>
            <a:rect l="l" t="t" r="r" b="b"/>
            <a:pathLst>
              <a:path w="46" h="269">
                <a:moveTo>
                  <a:pt x="0" y="269"/>
                </a:moveTo>
                <a:lnTo>
                  <a:pt x="1" y="265"/>
                </a:lnTo>
                <a:lnTo>
                  <a:pt x="3" y="260"/>
                </a:lnTo>
                <a:lnTo>
                  <a:pt x="6" y="247"/>
                </a:lnTo>
                <a:lnTo>
                  <a:pt x="8" y="233"/>
                </a:lnTo>
                <a:lnTo>
                  <a:pt x="11" y="217"/>
                </a:lnTo>
                <a:lnTo>
                  <a:pt x="14" y="199"/>
                </a:lnTo>
                <a:lnTo>
                  <a:pt x="17" y="180"/>
                </a:lnTo>
                <a:lnTo>
                  <a:pt x="20" y="159"/>
                </a:lnTo>
                <a:lnTo>
                  <a:pt x="22" y="139"/>
                </a:lnTo>
                <a:lnTo>
                  <a:pt x="28" y="98"/>
                </a:lnTo>
                <a:lnTo>
                  <a:pt x="31" y="78"/>
                </a:lnTo>
                <a:lnTo>
                  <a:pt x="34" y="58"/>
                </a:lnTo>
                <a:lnTo>
                  <a:pt x="37" y="41"/>
                </a:lnTo>
                <a:lnTo>
                  <a:pt x="39" y="25"/>
                </a:lnTo>
                <a:lnTo>
                  <a:pt x="42" y="11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87640" y="4005360"/>
            <a:ext cx="69840" cy="81000"/>
          </a:xfrm>
          <a:custGeom>
            <a:avLst/>
            <a:gdLst/>
            <a:ahLst/>
            <a:rect l="l" t="t" r="r" b="b"/>
            <a:pathLst>
              <a:path w="44" h="51">
                <a:moveTo>
                  <a:pt x="0" y="51"/>
                </a:moveTo>
                <a:lnTo>
                  <a:pt x="4" y="39"/>
                </a:lnTo>
                <a:lnTo>
                  <a:pt x="9" y="29"/>
                </a:lnTo>
                <a:lnTo>
                  <a:pt x="16" y="22"/>
                </a:lnTo>
                <a:lnTo>
                  <a:pt x="22" y="15"/>
                </a:lnTo>
                <a:lnTo>
                  <a:pt x="28" y="10"/>
                </a:lnTo>
                <a:lnTo>
                  <a:pt x="35" y="6"/>
                </a:lnTo>
                <a:lnTo>
                  <a:pt x="40" y="2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2157480" y="399888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4"/>
                </a:moveTo>
                <a:lnTo>
                  <a:pt x="3" y="4"/>
                </a:lnTo>
                <a:lnTo>
                  <a:pt x="8" y="5"/>
                </a:lnTo>
                <a:lnTo>
                  <a:pt x="15" y="7"/>
                </a:lnTo>
                <a:lnTo>
                  <a:pt x="22" y="9"/>
                </a:lnTo>
                <a:lnTo>
                  <a:pt x="30" y="10"/>
                </a:lnTo>
                <a:lnTo>
                  <a:pt x="37" y="10"/>
                </a:lnTo>
                <a:lnTo>
                  <a:pt x="41" y="8"/>
                </a:lnTo>
                <a:lnTo>
                  <a:pt x="43" y="6"/>
                </a:lnTo>
                <a:lnTo>
                  <a:pt x="45" y="4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2230560" y="3303720"/>
            <a:ext cx="69840" cy="695160"/>
          </a:xfrm>
          <a:custGeom>
            <a:avLst/>
            <a:gdLst/>
            <a:ahLst/>
            <a:rect l="l" t="t" r="r" b="b"/>
            <a:pathLst>
              <a:path w="44" h="438">
                <a:moveTo>
                  <a:pt x="0" y="438"/>
                </a:moveTo>
                <a:lnTo>
                  <a:pt x="1" y="430"/>
                </a:lnTo>
                <a:lnTo>
                  <a:pt x="3" y="421"/>
                </a:lnTo>
                <a:lnTo>
                  <a:pt x="4" y="409"/>
                </a:lnTo>
                <a:lnTo>
                  <a:pt x="6" y="395"/>
                </a:lnTo>
                <a:lnTo>
                  <a:pt x="7" y="381"/>
                </a:lnTo>
                <a:lnTo>
                  <a:pt x="8" y="365"/>
                </a:lnTo>
                <a:lnTo>
                  <a:pt x="10" y="349"/>
                </a:lnTo>
                <a:lnTo>
                  <a:pt x="11" y="331"/>
                </a:lnTo>
                <a:lnTo>
                  <a:pt x="12" y="311"/>
                </a:lnTo>
                <a:lnTo>
                  <a:pt x="14" y="292"/>
                </a:lnTo>
                <a:lnTo>
                  <a:pt x="17" y="252"/>
                </a:lnTo>
                <a:lnTo>
                  <a:pt x="19" y="211"/>
                </a:lnTo>
                <a:lnTo>
                  <a:pt x="22" y="170"/>
                </a:lnTo>
                <a:lnTo>
                  <a:pt x="25" y="131"/>
                </a:lnTo>
                <a:lnTo>
                  <a:pt x="26" y="112"/>
                </a:lnTo>
                <a:lnTo>
                  <a:pt x="28" y="95"/>
                </a:lnTo>
                <a:lnTo>
                  <a:pt x="29" y="78"/>
                </a:lnTo>
                <a:lnTo>
                  <a:pt x="30" y="63"/>
                </a:lnTo>
                <a:lnTo>
                  <a:pt x="32" y="48"/>
                </a:lnTo>
                <a:lnTo>
                  <a:pt x="33" y="35"/>
                </a:lnTo>
                <a:lnTo>
                  <a:pt x="34" y="25"/>
                </a:lnTo>
                <a:lnTo>
                  <a:pt x="36" y="16"/>
                </a:lnTo>
                <a:lnTo>
                  <a:pt x="37" y="8"/>
                </a:lnTo>
                <a:lnTo>
                  <a:pt x="38" y="3"/>
                </a:lnTo>
                <a:lnTo>
                  <a:pt x="40" y="0"/>
                </a:lnTo>
                <a:lnTo>
                  <a:pt x="41" y="0"/>
                </a:lnTo>
                <a:lnTo>
                  <a:pt x="43" y="2"/>
                </a:lnTo>
                <a:lnTo>
                  <a:pt x="44" y="7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2300400" y="3314880"/>
            <a:ext cx="71280" cy="1322280"/>
          </a:xfrm>
          <a:custGeom>
            <a:avLst/>
            <a:gdLst/>
            <a:ahLst/>
            <a:rect l="l" t="t" r="r" b="b"/>
            <a:pathLst>
              <a:path w="45" h="833">
                <a:moveTo>
                  <a:pt x="0" y="0"/>
                </a:moveTo>
                <a:lnTo>
                  <a:pt x="1" y="4"/>
                </a:lnTo>
                <a:lnTo>
                  <a:pt x="1" y="8"/>
                </a:lnTo>
                <a:lnTo>
                  <a:pt x="2" y="13"/>
                </a:lnTo>
                <a:lnTo>
                  <a:pt x="3" y="19"/>
                </a:lnTo>
                <a:lnTo>
                  <a:pt x="3" y="26"/>
                </a:lnTo>
                <a:lnTo>
                  <a:pt x="4" y="33"/>
                </a:lnTo>
                <a:lnTo>
                  <a:pt x="5" y="51"/>
                </a:lnTo>
                <a:lnTo>
                  <a:pt x="7" y="71"/>
                </a:lnTo>
                <a:lnTo>
                  <a:pt x="8" y="93"/>
                </a:lnTo>
                <a:lnTo>
                  <a:pt x="10" y="117"/>
                </a:lnTo>
                <a:lnTo>
                  <a:pt x="11" y="144"/>
                </a:lnTo>
                <a:lnTo>
                  <a:pt x="12" y="172"/>
                </a:lnTo>
                <a:lnTo>
                  <a:pt x="14" y="201"/>
                </a:lnTo>
                <a:lnTo>
                  <a:pt x="15" y="233"/>
                </a:lnTo>
                <a:lnTo>
                  <a:pt x="16" y="265"/>
                </a:lnTo>
                <a:lnTo>
                  <a:pt x="18" y="298"/>
                </a:lnTo>
                <a:lnTo>
                  <a:pt x="19" y="332"/>
                </a:lnTo>
                <a:lnTo>
                  <a:pt x="22" y="402"/>
                </a:lnTo>
                <a:lnTo>
                  <a:pt x="25" y="471"/>
                </a:lnTo>
                <a:lnTo>
                  <a:pt x="27" y="540"/>
                </a:lnTo>
                <a:lnTo>
                  <a:pt x="29" y="574"/>
                </a:lnTo>
                <a:lnTo>
                  <a:pt x="30" y="606"/>
                </a:lnTo>
                <a:lnTo>
                  <a:pt x="31" y="637"/>
                </a:lnTo>
                <a:lnTo>
                  <a:pt x="34" y="668"/>
                </a:lnTo>
                <a:lnTo>
                  <a:pt x="35" y="696"/>
                </a:lnTo>
                <a:lnTo>
                  <a:pt x="37" y="722"/>
                </a:lnTo>
                <a:lnTo>
                  <a:pt x="38" y="747"/>
                </a:lnTo>
                <a:lnTo>
                  <a:pt x="39" y="769"/>
                </a:lnTo>
                <a:lnTo>
                  <a:pt x="41" y="789"/>
                </a:lnTo>
                <a:lnTo>
                  <a:pt x="42" y="806"/>
                </a:lnTo>
                <a:lnTo>
                  <a:pt x="43" y="822"/>
                </a:lnTo>
                <a:lnTo>
                  <a:pt x="44" y="828"/>
                </a:lnTo>
                <a:lnTo>
                  <a:pt x="45" y="833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2371680" y="4336920"/>
            <a:ext cx="71640" cy="333360"/>
          </a:xfrm>
          <a:custGeom>
            <a:avLst/>
            <a:gdLst/>
            <a:ahLst/>
            <a:rect l="l" t="t" r="r" b="b"/>
            <a:pathLst>
              <a:path w="45" h="210">
                <a:moveTo>
                  <a:pt x="0" y="190"/>
                </a:moveTo>
                <a:lnTo>
                  <a:pt x="1" y="198"/>
                </a:lnTo>
                <a:lnTo>
                  <a:pt x="3" y="204"/>
                </a:lnTo>
                <a:lnTo>
                  <a:pt x="4" y="208"/>
                </a:lnTo>
                <a:lnTo>
                  <a:pt x="5" y="210"/>
                </a:lnTo>
                <a:lnTo>
                  <a:pt x="7" y="210"/>
                </a:lnTo>
                <a:lnTo>
                  <a:pt x="8" y="209"/>
                </a:lnTo>
                <a:lnTo>
                  <a:pt x="9" y="206"/>
                </a:lnTo>
                <a:lnTo>
                  <a:pt x="11" y="202"/>
                </a:lnTo>
                <a:lnTo>
                  <a:pt x="12" y="197"/>
                </a:lnTo>
                <a:lnTo>
                  <a:pt x="14" y="191"/>
                </a:lnTo>
                <a:lnTo>
                  <a:pt x="15" y="184"/>
                </a:lnTo>
                <a:lnTo>
                  <a:pt x="17" y="174"/>
                </a:lnTo>
                <a:lnTo>
                  <a:pt x="18" y="166"/>
                </a:lnTo>
                <a:lnTo>
                  <a:pt x="20" y="156"/>
                </a:lnTo>
                <a:lnTo>
                  <a:pt x="22" y="135"/>
                </a:lnTo>
                <a:lnTo>
                  <a:pt x="25" y="113"/>
                </a:lnTo>
                <a:lnTo>
                  <a:pt x="28" y="91"/>
                </a:lnTo>
                <a:lnTo>
                  <a:pt x="31" y="68"/>
                </a:lnTo>
                <a:lnTo>
                  <a:pt x="34" y="48"/>
                </a:lnTo>
                <a:lnTo>
                  <a:pt x="36" y="39"/>
                </a:lnTo>
                <a:lnTo>
                  <a:pt x="37" y="30"/>
                </a:lnTo>
                <a:lnTo>
                  <a:pt x="38" y="23"/>
                </a:lnTo>
                <a:lnTo>
                  <a:pt x="40" y="16"/>
                </a:lnTo>
                <a:lnTo>
                  <a:pt x="41" y="10"/>
                </a:lnTo>
                <a:lnTo>
                  <a:pt x="42" y="6"/>
                </a:lnTo>
                <a:lnTo>
                  <a:pt x="44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2443320" y="4335480"/>
            <a:ext cx="71280" cy="187200"/>
          </a:xfrm>
          <a:custGeom>
            <a:avLst/>
            <a:gdLst/>
            <a:ahLst/>
            <a:rect l="l" t="t" r="r" b="b"/>
            <a:pathLst>
              <a:path w="45" h="118">
                <a:moveTo>
                  <a:pt x="0" y="1"/>
                </a:moveTo>
                <a:lnTo>
                  <a:pt x="1" y="0"/>
                </a:lnTo>
                <a:lnTo>
                  <a:pt x="3" y="0"/>
                </a:lnTo>
                <a:lnTo>
                  <a:pt x="6" y="2"/>
                </a:lnTo>
                <a:lnTo>
                  <a:pt x="8" y="8"/>
                </a:lnTo>
                <a:lnTo>
                  <a:pt x="11" y="14"/>
                </a:lnTo>
                <a:lnTo>
                  <a:pt x="14" y="22"/>
                </a:lnTo>
                <a:lnTo>
                  <a:pt x="17" y="31"/>
                </a:lnTo>
                <a:lnTo>
                  <a:pt x="19" y="41"/>
                </a:lnTo>
                <a:lnTo>
                  <a:pt x="22" y="52"/>
                </a:lnTo>
                <a:lnTo>
                  <a:pt x="27" y="74"/>
                </a:lnTo>
                <a:lnTo>
                  <a:pt x="31" y="85"/>
                </a:lnTo>
                <a:lnTo>
                  <a:pt x="34" y="95"/>
                </a:lnTo>
                <a:lnTo>
                  <a:pt x="37" y="104"/>
                </a:lnTo>
                <a:lnTo>
                  <a:pt x="39" y="110"/>
                </a:lnTo>
                <a:lnTo>
                  <a:pt x="42" y="115"/>
                </a:lnTo>
                <a:lnTo>
                  <a:pt x="45" y="118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2514600" y="4408560"/>
            <a:ext cx="71280" cy="114120"/>
          </a:xfrm>
          <a:custGeom>
            <a:avLst/>
            <a:gdLst/>
            <a:ahLst/>
            <a:rect l="l" t="t" r="r" b="b"/>
            <a:pathLst>
              <a:path w="45" h="72">
                <a:moveTo>
                  <a:pt x="0" y="72"/>
                </a:moveTo>
                <a:lnTo>
                  <a:pt x="3" y="72"/>
                </a:lnTo>
                <a:lnTo>
                  <a:pt x="6" y="71"/>
                </a:lnTo>
                <a:lnTo>
                  <a:pt x="8" y="69"/>
                </a:lnTo>
                <a:lnTo>
                  <a:pt x="11" y="65"/>
                </a:lnTo>
                <a:lnTo>
                  <a:pt x="14" y="60"/>
                </a:lnTo>
                <a:lnTo>
                  <a:pt x="17" y="54"/>
                </a:lnTo>
                <a:lnTo>
                  <a:pt x="22" y="40"/>
                </a:lnTo>
                <a:lnTo>
                  <a:pt x="28" y="27"/>
                </a:lnTo>
                <a:lnTo>
                  <a:pt x="34" y="15"/>
                </a:lnTo>
                <a:lnTo>
                  <a:pt x="37" y="9"/>
                </a:lnTo>
                <a:lnTo>
                  <a:pt x="39" y="5"/>
                </a:lnTo>
                <a:lnTo>
                  <a:pt x="42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2585880" y="4408560"/>
            <a:ext cx="7164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0"/>
                </a:moveTo>
                <a:lnTo>
                  <a:pt x="2" y="0"/>
                </a:lnTo>
                <a:lnTo>
                  <a:pt x="5" y="1"/>
                </a:lnTo>
                <a:lnTo>
                  <a:pt x="8" y="4"/>
                </a:lnTo>
                <a:lnTo>
                  <a:pt x="10" y="7"/>
                </a:lnTo>
                <a:lnTo>
                  <a:pt x="16" y="16"/>
                </a:lnTo>
                <a:lnTo>
                  <a:pt x="22" y="25"/>
                </a:lnTo>
                <a:lnTo>
                  <a:pt x="29" y="34"/>
                </a:lnTo>
                <a:lnTo>
                  <a:pt x="32" y="37"/>
                </a:lnTo>
                <a:lnTo>
                  <a:pt x="35" y="40"/>
                </a:lnTo>
                <a:lnTo>
                  <a:pt x="37" y="41"/>
                </a:lnTo>
                <a:lnTo>
                  <a:pt x="40" y="41"/>
                </a:lnTo>
                <a:lnTo>
                  <a:pt x="43" y="39"/>
                </a:lnTo>
                <a:lnTo>
                  <a:pt x="45" y="35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657520" y="4111560"/>
            <a:ext cx="71280" cy="352440"/>
          </a:xfrm>
          <a:custGeom>
            <a:avLst/>
            <a:gdLst/>
            <a:ahLst/>
            <a:rect l="l" t="t" r="r" b="b"/>
            <a:pathLst>
              <a:path w="45" h="222">
                <a:moveTo>
                  <a:pt x="0" y="222"/>
                </a:moveTo>
                <a:lnTo>
                  <a:pt x="3" y="215"/>
                </a:lnTo>
                <a:lnTo>
                  <a:pt x="6" y="205"/>
                </a:lnTo>
                <a:lnTo>
                  <a:pt x="8" y="193"/>
                </a:lnTo>
                <a:lnTo>
                  <a:pt x="11" y="180"/>
                </a:lnTo>
                <a:lnTo>
                  <a:pt x="14" y="165"/>
                </a:lnTo>
                <a:lnTo>
                  <a:pt x="17" y="148"/>
                </a:lnTo>
                <a:lnTo>
                  <a:pt x="20" y="131"/>
                </a:lnTo>
                <a:lnTo>
                  <a:pt x="22" y="113"/>
                </a:lnTo>
                <a:lnTo>
                  <a:pt x="28" y="79"/>
                </a:lnTo>
                <a:lnTo>
                  <a:pt x="31" y="62"/>
                </a:lnTo>
                <a:lnTo>
                  <a:pt x="34" y="45"/>
                </a:lnTo>
                <a:lnTo>
                  <a:pt x="37" y="31"/>
                </a:lnTo>
                <a:lnTo>
                  <a:pt x="39" y="19"/>
                </a:lnTo>
                <a:lnTo>
                  <a:pt x="42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28800" y="4098960"/>
            <a:ext cx="71640" cy="14400"/>
          </a:xfrm>
          <a:custGeom>
            <a:avLst/>
            <a:gdLst/>
            <a:ahLst/>
            <a:rect l="l" t="t" r="r" b="b"/>
            <a:pathLst>
              <a:path w="45" h="9">
                <a:moveTo>
                  <a:pt x="0" y="8"/>
                </a:moveTo>
                <a:lnTo>
                  <a:pt x="2" y="5"/>
                </a:lnTo>
                <a:lnTo>
                  <a:pt x="4" y="2"/>
                </a:lnTo>
                <a:lnTo>
                  <a:pt x="6" y="1"/>
                </a:lnTo>
                <a:lnTo>
                  <a:pt x="9" y="0"/>
                </a:lnTo>
                <a:lnTo>
                  <a:pt x="15" y="0"/>
                </a:lnTo>
                <a:lnTo>
                  <a:pt x="23" y="2"/>
                </a:lnTo>
                <a:lnTo>
                  <a:pt x="30" y="4"/>
                </a:lnTo>
                <a:lnTo>
                  <a:pt x="36" y="7"/>
                </a:lnTo>
                <a:lnTo>
                  <a:pt x="41" y="9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2800440" y="4067280"/>
            <a:ext cx="71280" cy="46080"/>
          </a:xfrm>
          <a:custGeom>
            <a:avLst/>
            <a:gdLst/>
            <a:ahLst/>
            <a:rect l="l" t="t" r="r" b="b"/>
            <a:pathLst>
              <a:path w="45" h="29">
                <a:moveTo>
                  <a:pt x="0" y="29"/>
                </a:moveTo>
                <a:lnTo>
                  <a:pt x="1" y="29"/>
                </a:lnTo>
                <a:lnTo>
                  <a:pt x="3" y="29"/>
                </a:lnTo>
                <a:lnTo>
                  <a:pt x="8" y="28"/>
                </a:lnTo>
                <a:lnTo>
                  <a:pt x="15" y="27"/>
                </a:lnTo>
                <a:lnTo>
                  <a:pt x="22" y="25"/>
                </a:lnTo>
                <a:lnTo>
                  <a:pt x="30" y="21"/>
                </a:lnTo>
                <a:lnTo>
                  <a:pt x="37" y="16"/>
                </a:lnTo>
                <a:lnTo>
                  <a:pt x="42" y="10"/>
                </a:lnTo>
                <a:lnTo>
                  <a:pt x="44" y="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2871720" y="2841480"/>
            <a:ext cx="71640" cy="1225800"/>
          </a:xfrm>
          <a:custGeom>
            <a:avLst/>
            <a:gdLst/>
            <a:ahLst/>
            <a:rect l="l" t="t" r="r" b="b"/>
            <a:pathLst>
              <a:path w="45" h="772">
                <a:moveTo>
                  <a:pt x="0" y="772"/>
                </a:moveTo>
                <a:lnTo>
                  <a:pt x="1" y="765"/>
                </a:lnTo>
                <a:lnTo>
                  <a:pt x="1" y="758"/>
                </a:lnTo>
                <a:lnTo>
                  <a:pt x="3" y="741"/>
                </a:lnTo>
                <a:lnTo>
                  <a:pt x="4" y="722"/>
                </a:lnTo>
                <a:lnTo>
                  <a:pt x="6" y="700"/>
                </a:lnTo>
                <a:lnTo>
                  <a:pt x="7" y="674"/>
                </a:lnTo>
                <a:lnTo>
                  <a:pt x="8" y="648"/>
                </a:lnTo>
                <a:lnTo>
                  <a:pt x="10" y="620"/>
                </a:lnTo>
                <a:lnTo>
                  <a:pt x="11" y="589"/>
                </a:lnTo>
                <a:lnTo>
                  <a:pt x="13" y="558"/>
                </a:lnTo>
                <a:lnTo>
                  <a:pt x="15" y="526"/>
                </a:lnTo>
                <a:lnTo>
                  <a:pt x="16" y="492"/>
                </a:lnTo>
                <a:lnTo>
                  <a:pt x="18" y="458"/>
                </a:lnTo>
                <a:lnTo>
                  <a:pt x="20" y="389"/>
                </a:lnTo>
                <a:lnTo>
                  <a:pt x="23" y="320"/>
                </a:lnTo>
                <a:lnTo>
                  <a:pt x="24" y="287"/>
                </a:lnTo>
                <a:lnTo>
                  <a:pt x="26" y="253"/>
                </a:lnTo>
                <a:lnTo>
                  <a:pt x="27" y="221"/>
                </a:lnTo>
                <a:lnTo>
                  <a:pt x="28" y="191"/>
                </a:lnTo>
                <a:lnTo>
                  <a:pt x="30" y="161"/>
                </a:lnTo>
                <a:lnTo>
                  <a:pt x="31" y="134"/>
                </a:lnTo>
                <a:lnTo>
                  <a:pt x="33" y="108"/>
                </a:lnTo>
                <a:lnTo>
                  <a:pt x="34" y="84"/>
                </a:lnTo>
                <a:lnTo>
                  <a:pt x="35" y="63"/>
                </a:lnTo>
                <a:lnTo>
                  <a:pt x="37" y="45"/>
                </a:lnTo>
                <a:lnTo>
                  <a:pt x="37" y="37"/>
                </a:lnTo>
                <a:lnTo>
                  <a:pt x="38" y="29"/>
                </a:lnTo>
                <a:lnTo>
                  <a:pt x="39" y="23"/>
                </a:lnTo>
                <a:lnTo>
                  <a:pt x="39" y="17"/>
                </a:lnTo>
                <a:lnTo>
                  <a:pt x="40" y="12"/>
                </a:lnTo>
                <a:lnTo>
                  <a:pt x="41" y="8"/>
                </a:lnTo>
                <a:lnTo>
                  <a:pt x="41" y="4"/>
                </a:lnTo>
                <a:lnTo>
                  <a:pt x="42" y="1"/>
                </a:lnTo>
                <a:lnTo>
                  <a:pt x="43" y="0"/>
                </a:lnTo>
                <a:lnTo>
                  <a:pt x="43" y="0"/>
                </a:lnTo>
                <a:lnTo>
                  <a:pt x="44" y="0"/>
                </a:lnTo>
                <a:lnTo>
                  <a:pt x="45" y="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2943360" y="2844720"/>
            <a:ext cx="71280" cy="1665360"/>
          </a:xfrm>
          <a:custGeom>
            <a:avLst/>
            <a:gdLst/>
            <a:ahLst/>
            <a:rect l="l" t="t" r="r" b="b"/>
            <a:pathLst>
              <a:path w="45" h="1049">
                <a:moveTo>
                  <a:pt x="0" y="0"/>
                </a:moveTo>
                <a:lnTo>
                  <a:pt x="1" y="4"/>
                </a:lnTo>
                <a:lnTo>
                  <a:pt x="1" y="8"/>
                </a:lnTo>
                <a:lnTo>
                  <a:pt x="2" y="13"/>
                </a:lnTo>
                <a:lnTo>
                  <a:pt x="3" y="19"/>
                </a:lnTo>
                <a:lnTo>
                  <a:pt x="3" y="26"/>
                </a:lnTo>
                <a:lnTo>
                  <a:pt x="4" y="34"/>
                </a:lnTo>
                <a:lnTo>
                  <a:pt x="5" y="43"/>
                </a:lnTo>
                <a:lnTo>
                  <a:pt x="6" y="53"/>
                </a:lnTo>
                <a:lnTo>
                  <a:pt x="6" y="64"/>
                </a:lnTo>
                <a:lnTo>
                  <a:pt x="7" y="75"/>
                </a:lnTo>
                <a:lnTo>
                  <a:pt x="8" y="89"/>
                </a:lnTo>
                <a:lnTo>
                  <a:pt x="8" y="102"/>
                </a:lnTo>
                <a:lnTo>
                  <a:pt x="9" y="116"/>
                </a:lnTo>
                <a:lnTo>
                  <a:pt x="10" y="131"/>
                </a:lnTo>
                <a:lnTo>
                  <a:pt x="11" y="163"/>
                </a:lnTo>
                <a:lnTo>
                  <a:pt x="13" y="198"/>
                </a:lnTo>
                <a:lnTo>
                  <a:pt x="14" y="235"/>
                </a:lnTo>
                <a:lnTo>
                  <a:pt x="15" y="274"/>
                </a:lnTo>
                <a:lnTo>
                  <a:pt x="17" y="314"/>
                </a:lnTo>
                <a:lnTo>
                  <a:pt x="18" y="357"/>
                </a:lnTo>
                <a:lnTo>
                  <a:pt x="20" y="399"/>
                </a:lnTo>
                <a:lnTo>
                  <a:pt x="21" y="444"/>
                </a:lnTo>
                <a:lnTo>
                  <a:pt x="22" y="487"/>
                </a:lnTo>
                <a:lnTo>
                  <a:pt x="25" y="577"/>
                </a:lnTo>
                <a:lnTo>
                  <a:pt x="27" y="622"/>
                </a:lnTo>
                <a:lnTo>
                  <a:pt x="28" y="665"/>
                </a:lnTo>
                <a:lnTo>
                  <a:pt x="30" y="709"/>
                </a:lnTo>
                <a:lnTo>
                  <a:pt x="31" y="751"/>
                </a:lnTo>
                <a:lnTo>
                  <a:pt x="32" y="792"/>
                </a:lnTo>
                <a:lnTo>
                  <a:pt x="34" y="830"/>
                </a:lnTo>
                <a:lnTo>
                  <a:pt x="35" y="868"/>
                </a:lnTo>
                <a:lnTo>
                  <a:pt x="37" y="902"/>
                </a:lnTo>
                <a:lnTo>
                  <a:pt x="38" y="934"/>
                </a:lnTo>
                <a:lnTo>
                  <a:pt x="39" y="950"/>
                </a:lnTo>
                <a:lnTo>
                  <a:pt x="39" y="964"/>
                </a:lnTo>
                <a:lnTo>
                  <a:pt x="40" y="978"/>
                </a:lnTo>
                <a:lnTo>
                  <a:pt x="41" y="990"/>
                </a:lnTo>
                <a:lnTo>
                  <a:pt x="42" y="1002"/>
                </a:lnTo>
                <a:lnTo>
                  <a:pt x="42" y="1013"/>
                </a:lnTo>
                <a:lnTo>
                  <a:pt x="43" y="1023"/>
                </a:lnTo>
                <a:lnTo>
                  <a:pt x="44" y="1034"/>
                </a:lnTo>
                <a:lnTo>
                  <a:pt x="44" y="1042"/>
                </a:lnTo>
                <a:lnTo>
                  <a:pt x="45" y="104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3014640" y="4224240"/>
            <a:ext cx="71640" cy="316080"/>
          </a:xfrm>
          <a:custGeom>
            <a:avLst/>
            <a:gdLst/>
            <a:ahLst/>
            <a:rect l="l" t="t" r="r" b="b"/>
            <a:pathLst>
              <a:path w="45" h="199">
                <a:moveTo>
                  <a:pt x="0" y="180"/>
                </a:moveTo>
                <a:lnTo>
                  <a:pt x="1" y="188"/>
                </a:lnTo>
                <a:lnTo>
                  <a:pt x="2" y="193"/>
                </a:lnTo>
                <a:lnTo>
                  <a:pt x="3" y="197"/>
                </a:lnTo>
                <a:lnTo>
                  <a:pt x="4" y="199"/>
                </a:lnTo>
                <a:lnTo>
                  <a:pt x="5" y="199"/>
                </a:lnTo>
                <a:lnTo>
                  <a:pt x="8" y="198"/>
                </a:lnTo>
                <a:lnTo>
                  <a:pt x="9" y="195"/>
                </a:lnTo>
                <a:lnTo>
                  <a:pt x="11" y="191"/>
                </a:lnTo>
                <a:lnTo>
                  <a:pt x="12" y="186"/>
                </a:lnTo>
                <a:lnTo>
                  <a:pt x="13" y="179"/>
                </a:lnTo>
                <a:lnTo>
                  <a:pt x="15" y="172"/>
                </a:lnTo>
                <a:lnTo>
                  <a:pt x="17" y="164"/>
                </a:lnTo>
                <a:lnTo>
                  <a:pt x="20" y="145"/>
                </a:lnTo>
                <a:lnTo>
                  <a:pt x="23" y="125"/>
                </a:lnTo>
                <a:lnTo>
                  <a:pt x="26" y="103"/>
                </a:lnTo>
                <a:lnTo>
                  <a:pt x="29" y="82"/>
                </a:lnTo>
                <a:lnTo>
                  <a:pt x="33" y="60"/>
                </a:lnTo>
                <a:lnTo>
                  <a:pt x="35" y="41"/>
                </a:lnTo>
                <a:lnTo>
                  <a:pt x="37" y="32"/>
                </a:lnTo>
                <a:lnTo>
                  <a:pt x="38" y="25"/>
                </a:lnTo>
                <a:lnTo>
                  <a:pt x="40" y="18"/>
                </a:lnTo>
                <a:lnTo>
                  <a:pt x="41" y="12"/>
                </a:lnTo>
                <a:lnTo>
                  <a:pt x="42" y="7"/>
                </a:lnTo>
                <a:lnTo>
                  <a:pt x="43" y="3"/>
                </a:lnTo>
                <a:lnTo>
                  <a:pt x="44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3086280" y="4224240"/>
            <a:ext cx="71280" cy="268560"/>
          </a:xfrm>
          <a:custGeom>
            <a:avLst/>
            <a:gdLst/>
            <a:ahLst/>
            <a:rect l="l" t="t" r="r" b="b"/>
            <a:pathLst>
              <a:path w="45" h="169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3"/>
                </a:lnTo>
                <a:lnTo>
                  <a:pt x="6" y="6"/>
                </a:lnTo>
                <a:lnTo>
                  <a:pt x="8" y="13"/>
                </a:lnTo>
                <a:lnTo>
                  <a:pt x="11" y="23"/>
                </a:lnTo>
                <a:lnTo>
                  <a:pt x="14" y="34"/>
                </a:lnTo>
                <a:lnTo>
                  <a:pt x="17" y="47"/>
                </a:lnTo>
                <a:lnTo>
                  <a:pt x="20" y="61"/>
                </a:lnTo>
                <a:lnTo>
                  <a:pt x="22" y="76"/>
                </a:lnTo>
                <a:lnTo>
                  <a:pt x="28" y="106"/>
                </a:lnTo>
                <a:lnTo>
                  <a:pt x="31" y="120"/>
                </a:lnTo>
                <a:lnTo>
                  <a:pt x="34" y="133"/>
                </a:lnTo>
                <a:lnTo>
                  <a:pt x="37" y="145"/>
                </a:lnTo>
                <a:lnTo>
                  <a:pt x="39" y="155"/>
                </a:lnTo>
                <a:lnTo>
                  <a:pt x="42" y="164"/>
                </a:lnTo>
                <a:lnTo>
                  <a:pt x="44" y="167"/>
                </a:lnTo>
                <a:lnTo>
                  <a:pt x="45" y="16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157560" y="4413240"/>
            <a:ext cx="7128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50"/>
                </a:moveTo>
                <a:lnTo>
                  <a:pt x="4" y="53"/>
                </a:lnTo>
                <a:lnTo>
                  <a:pt x="7" y="54"/>
                </a:lnTo>
                <a:lnTo>
                  <a:pt x="9" y="53"/>
                </a:lnTo>
                <a:lnTo>
                  <a:pt x="12" y="51"/>
                </a:lnTo>
                <a:lnTo>
                  <a:pt x="15" y="48"/>
                </a:lnTo>
                <a:lnTo>
                  <a:pt x="18" y="44"/>
                </a:lnTo>
                <a:lnTo>
                  <a:pt x="23" y="33"/>
                </a:lnTo>
                <a:lnTo>
                  <a:pt x="28" y="22"/>
                </a:lnTo>
                <a:lnTo>
                  <a:pt x="34" y="12"/>
                </a:lnTo>
                <a:lnTo>
                  <a:pt x="37" y="7"/>
                </a:lnTo>
                <a:lnTo>
                  <a:pt x="39" y="4"/>
                </a:lnTo>
                <a:lnTo>
                  <a:pt x="42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3228840" y="4413240"/>
            <a:ext cx="73080" cy="57240"/>
          </a:xfrm>
          <a:custGeom>
            <a:avLst/>
            <a:gdLst/>
            <a:ahLst/>
            <a:rect l="l" t="t" r="r" b="b"/>
            <a:pathLst>
              <a:path w="46" h="36">
                <a:moveTo>
                  <a:pt x="0" y="0"/>
                </a:moveTo>
                <a:lnTo>
                  <a:pt x="2" y="0"/>
                </a:lnTo>
                <a:lnTo>
                  <a:pt x="4" y="2"/>
                </a:lnTo>
                <a:lnTo>
                  <a:pt x="7" y="4"/>
                </a:lnTo>
                <a:lnTo>
                  <a:pt x="9" y="7"/>
                </a:lnTo>
                <a:lnTo>
                  <a:pt x="16" y="15"/>
                </a:lnTo>
                <a:lnTo>
                  <a:pt x="22" y="23"/>
                </a:lnTo>
                <a:lnTo>
                  <a:pt x="29" y="30"/>
                </a:lnTo>
                <a:lnTo>
                  <a:pt x="33" y="33"/>
                </a:lnTo>
                <a:lnTo>
                  <a:pt x="36" y="35"/>
                </a:lnTo>
                <a:lnTo>
                  <a:pt x="38" y="36"/>
                </a:lnTo>
                <a:lnTo>
                  <a:pt x="42" y="35"/>
                </a:lnTo>
                <a:lnTo>
                  <a:pt x="44" y="33"/>
                </a:lnTo>
                <a:lnTo>
                  <a:pt x="46" y="2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3301920" y="3981600"/>
            <a:ext cx="69840" cy="477720"/>
          </a:xfrm>
          <a:custGeom>
            <a:avLst/>
            <a:gdLst/>
            <a:ahLst/>
            <a:rect l="l" t="t" r="r" b="b"/>
            <a:pathLst>
              <a:path w="44" h="301">
                <a:moveTo>
                  <a:pt x="0" y="301"/>
                </a:moveTo>
                <a:lnTo>
                  <a:pt x="1" y="296"/>
                </a:lnTo>
                <a:lnTo>
                  <a:pt x="3" y="291"/>
                </a:lnTo>
                <a:lnTo>
                  <a:pt x="4" y="284"/>
                </a:lnTo>
                <a:lnTo>
                  <a:pt x="6" y="277"/>
                </a:lnTo>
                <a:lnTo>
                  <a:pt x="8" y="261"/>
                </a:lnTo>
                <a:lnTo>
                  <a:pt x="11" y="242"/>
                </a:lnTo>
                <a:lnTo>
                  <a:pt x="14" y="220"/>
                </a:lnTo>
                <a:lnTo>
                  <a:pt x="17" y="198"/>
                </a:lnTo>
                <a:lnTo>
                  <a:pt x="19" y="174"/>
                </a:lnTo>
                <a:lnTo>
                  <a:pt x="22" y="151"/>
                </a:lnTo>
                <a:lnTo>
                  <a:pt x="25" y="126"/>
                </a:lnTo>
                <a:lnTo>
                  <a:pt x="27" y="103"/>
                </a:lnTo>
                <a:lnTo>
                  <a:pt x="30" y="81"/>
                </a:lnTo>
                <a:lnTo>
                  <a:pt x="33" y="60"/>
                </a:lnTo>
                <a:lnTo>
                  <a:pt x="36" y="40"/>
                </a:lnTo>
                <a:lnTo>
                  <a:pt x="38" y="24"/>
                </a:lnTo>
                <a:lnTo>
                  <a:pt x="40" y="16"/>
                </a:lnTo>
                <a:lnTo>
                  <a:pt x="41" y="10"/>
                </a:lnTo>
                <a:lnTo>
                  <a:pt x="43" y="5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3371760" y="3970440"/>
            <a:ext cx="73080" cy="65160"/>
          </a:xfrm>
          <a:custGeom>
            <a:avLst/>
            <a:gdLst/>
            <a:ahLst/>
            <a:rect l="l" t="t" r="r" b="b"/>
            <a:pathLst>
              <a:path w="46" h="41">
                <a:moveTo>
                  <a:pt x="0" y="7"/>
                </a:moveTo>
                <a:lnTo>
                  <a:pt x="2" y="3"/>
                </a:lnTo>
                <a:lnTo>
                  <a:pt x="4" y="1"/>
                </a:lnTo>
                <a:lnTo>
                  <a:pt x="7" y="0"/>
                </a:lnTo>
                <a:lnTo>
                  <a:pt x="10" y="1"/>
                </a:lnTo>
                <a:lnTo>
                  <a:pt x="13" y="3"/>
                </a:lnTo>
                <a:lnTo>
                  <a:pt x="16" y="5"/>
                </a:lnTo>
                <a:lnTo>
                  <a:pt x="19" y="9"/>
                </a:lnTo>
                <a:lnTo>
                  <a:pt x="22" y="13"/>
                </a:lnTo>
                <a:lnTo>
                  <a:pt x="29" y="22"/>
                </a:lnTo>
                <a:lnTo>
                  <a:pt x="35" y="31"/>
                </a:lnTo>
                <a:lnTo>
                  <a:pt x="39" y="35"/>
                </a:lnTo>
                <a:lnTo>
                  <a:pt x="42" y="38"/>
                </a:lnTo>
                <a:lnTo>
                  <a:pt x="44" y="40"/>
                </a:lnTo>
                <a:lnTo>
                  <a:pt x="46" y="4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3444840" y="4021200"/>
            <a:ext cx="69840" cy="20520"/>
          </a:xfrm>
          <a:custGeom>
            <a:avLst/>
            <a:gdLst/>
            <a:ahLst/>
            <a:rect l="l" t="t" r="r" b="b"/>
            <a:pathLst>
              <a:path w="44" h="13">
                <a:moveTo>
                  <a:pt x="0" y="9"/>
                </a:moveTo>
                <a:lnTo>
                  <a:pt x="1" y="9"/>
                </a:lnTo>
                <a:lnTo>
                  <a:pt x="2" y="10"/>
                </a:lnTo>
                <a:lnTo>
                  <a:pt x="7" y="11"/>
                </a:lnTo>
                <a:lnTo>
                  <a:pt x="14" y="12"/>
                </a:lnTo>
                <a:lnTo>
                  <a:pt x="22" y="13"/>
                </a:lnTo>
                <a:lnTo>
                  <a:pt x="30" y="13"/>
                </a:lnTo>
                <a:lnTo>
                  <a:pt x="37" y="11"/>
                </a:lnTo>
                <a:lnTo>
                  <a:pt x="42" y="7"/>
                </a:lnTo>
                <a:lnTo>
                  <a:pt x="43" y="4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3514680" y="2568600"/>
            <a:ext cx="71640" cy="1452600"/>
          </a:xfrm>
          <a:custGeom>
            <a:avLst/>
            <a:gdLst/>
            <a:ahLst/>
            <a:rect l="l" t="t" r="r" b="b"/>
            <a:pathLst>
              <a:path w="45" h="915">
                <a:moveTo>
                  <a:pt x="0" y="915"/>
                </a:moveTo>
                <a:lnTo>
                  <a:pt x="1" y="907"/>
                </a:lnTo>
                <a:lnTo>
                  <a:pt x="1" y="899"/>
                </a:lnTo>
                <a:lnTo>
                  <a:pt x="2" y="890"/>
                </a:lnTo>
                <a:lnTo>
                  <a:pt x="3" y="879"/>
                </a:lnTo>
                <a:lnTo>
                  <a:pt x="3" y="869"/>
                </a:lnTo>
                <a:lnTo>
                  <a:pt x="4" y="856"/>
                </a:lnTo>
                <a:lnTo>
                  <a:pt x="5" y="830"/>
                </a:lnTo>
                <a:lnTo>
                  <a:pt x="7" y="802"/>
                </a:lnTo>
                <a:lnTo>
                  <a:pt x="8" y="770"/>
                </a:lnTo>
                <a:lnTo>
                  <a:pt x="10" y="738"/>
                </a:lnTo>
                <a:lnTo>
                  <a:pt x="11" y="703"/>
                </a:lnTo>
                <a:lnTo>
                  <a:pt x="12" y="666"/>
                </a:lnTo>
                <a:lnTo>
                  <a:pt x="14" y="629"/>
                </a:lnTo>
                <a:lnTo>
                  <a:pt x="15" y="589"/>
                </a:lnTo>
                <a:lnTo>
                  <a:pt x="16" y="550"/>
                </a:lnTo>
                <a:lnTo>
                  <a:pt x="19" y="469"/>
                </a:lnTo>
                <a:lnTo>
                  <a:pt x="22" y="389"/>
                </a:lnTo>
                <a:lnTo>
                  <a:pt x="23" y="349"/>
                </a:lnTo>
                <a:lnTo>
                  <a:pt x="25" y="310"/>
                </a:lnTo>
                <a:lnTo>
                  <a:pt x="26" y="273"/>
                </a:lnTo>
                <a:lnTo>
                  <a:pt x="27" y="236"/>
                </a:lnTo>
                <a:lnTo>
                  <a:pt x="29" y="201"/>
                </a:lnTo>
                <a:lnTo>
                  <a:pt x="30" y="168"/>
                </a:lnTo>
                <a:lnTo>
                  <a:pt x="32" y="137"/>
                </a:lnTo>
                <a:lnTo>
                  <a:pt x="34" y="109"/>
                </a:lnTo>
                <a:lnTo>
                  <a:pt x="35" y="83"/>
                </a:lnTo>
                <a:lnTo>
                  <a:pt x="36" y="71"/>
                </a:lnTo>
                <a:lnTo>
                  <a:pt x="37" y="60"/>
                </a:lnTo>
                <a:lnTo>
                  <a:pt x="37" y="50"/>
                </a:lnTo>
                <a:lnTo>
                  <a:pt x="38" y="41"/>
                </a:lnTo>
                <a:lnTo>
                  <a:pt x="39" y="33"/>
                </a:lnTo>
                <a:lnTo>
                  <a:pt x="39" y="25"/>
                </a:lnTo>
                <a:lnTo>
                  <a:pt x="40" y="19"/>
                </a:lnTo>
                <a:lnTo>
                  <a:pt x="41" y="13"/>
                </a:lnTo>
                <a:lnTo>
                  <a:pt x="41" y="9"/>
                </a:lnTo>
                <a:lnTo>
                  <a:pt x="42" y="4"/>
                </a:lnTo>
                <a:lnTo>
                  <a:pt x="43" y="2"/>
                </a:lnTo>
                <a:lnTo>
                  <a:pt x="43" y="0"/>
                </a:lnTo>
                <a:lnTo>
                  <a:pt x="44" y="0"/>
                </a:lnTo>
                <a:lnTo>
                  <a:pt x="45" y="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3586320" y="2570040"/>
            <a:ext cx="71280" cy="1757520"/>
          </a:xfrm>
          <a:custGeom>
            <a:avLst/>
            <a:gdLst/>
            <a:ahLst/>
            <a:rect l="l" t="t" r="r" b="b"/>
            <a:pathLst>
              <a:path w="45" h="1107">
                <a:moveTo>
                  <a:pt x="0" y="0"/>
                </a:moveTo>
                <a:lnTo>
                  <a:pt x="1" y="2"/>
                </a:lnTo>
                <a:lnTo>
                  <a:pt x="1" y="7"/>
                </a:lnTo>
                <a:lnTo>
                  <a:pt x="2" y="11"/>
                </a:lnTo>
                <a:lnTo>
                  <a:pt x="3" y="17"/>
                </a:lnTo>
                <a:lnTo>
                  <a:pt x="3" y="24"/>
                </a:lnTo>
                <a:lnTo>
                  <a:pt x="4" y="32"/>
                </a:lnTo>
                <a:lnTo>
                  <a:pt x="5" y="41"/>
                </a:lnTo>
                <a:lnTo>
                  <a:pt x="6" y="51"/>
                </a:lnTo>
                <a:lnTo>
                  <a:pt x="6" y="62"/>
                </a:lnTo>
                <a:lnTo>
                  <a:pt x="7" y="74"/>
                </a:lnTo>
                <a:lnTo>
                  <a:pt x="8" y="87"/>
                </a:lnTo>
                <a:lnTo>
                  <a:pt x="8" y="102"/>
                </a:lnTo>
                <a:lnTo>
                  <a:pt x="9" y="116"/>
                </a:lnTo>
                <a:lnTo>
                  <a:pt x="10" y="132"/>
                </a:lnTo>
                <a:lnTo>
                  <a:pt x="10" y="148"/>
                </a:lnTo>
                <a:lnTo>
                  <a:pt x="11" y="165"/>
                </a:lnTo>
                <a:lnTo>
                  <a:pt x="13" y="202"/>
                </a:lnTo>
                <a:lnTo>
                  <a:pt x="14" y="240"/>
                </a:lnTo>
                <a:lnTo>
                  <a:pt x="15" y="282"/>
                </a:lnTo>
                <a:lnTo>
                  <a:pt x="17" y="324"/>
                </a:lnTo>
                <a:lnTo>
                  <a:pt x="18" y="369"/>
                </a:lnTo>
                <a:lnTo>
                  <a:pt x="20" y="414"/>
                </a:lnTo>
                <a:lnTo>
                  <a:pt x="21" y="461"/>
                </a:lnTo>
                <a:lnTo>
                  <a:pt x="22" y="508"/>
                </a:lnTo>
                <a:lnTo>
                  <a:pt x="25" y="603"/>
                </a:lnTo>
                <a:lnTo>
                  <a:pt x="27" y="651"/>
                </a:lnTo>
                <a:lnTo>
                  <a:pt x="28" y="699"/>
                </a:lnTo>
                <a:lnTo>
                  <a:pt x="30" y="744"/>
                </a:lnTo>
                <a:lnTo>
                  <a:pt x="31" y="790"/>
                </a:lnTo>
                <a:lnTo>
                  <a:pt x="32" y="833"/>
                </a:lnTo>
                <a:lnTo>
                  <a:pt x="34" y="875"/>
                </a:lnTo>
                <a:lnTo>
                  <a:pt x="35" y="914"/>
                </a:lnTo>
                <a:lnTo>
                  <a:pt x="37" y="952"/>
                </a:lnTo>
                <a:lnTo>
                  <a:pt x="38" y="986"/>
                </a:lnTo>
                <a:lnTo>
                  <a:pt x="39" y="1002"/>
                </a:lnTo>
                <a:lnTo>
                  <a:pt x="39" y="1017"/>
                </a:lnTo>
                <a:lnTo>
                  <a:pt x="40" y="1031"/>
                </a:lnTo>
                <a:lnTo>
                  <a:pt x="41" y="1046"/>
                </a:lnTo>
                <a:lnTo>
                  <a:pt x="42" y="1058"/>
                </a:lnTo>
                <a:lnTo>
                  <a:pt x="42" y="1070"/>
                </a:lnTo>
                <a:lnTo>
                  <a:pt x="43" y="1081"/>
                </a:lnTo>
                <a:lnTo>
                  <a:pt x="44" y="1091"/>
                </a:lnTo>
                <a:lnTo>
                  <a:pt x="44" y="1099"/>
                </a:lnTo>
                <a:lnTo>
                  <a:pt x="45" y="1107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3657600" y="4027320"/>
            <a:ext cx="71280" cy="333720"/>
          </a:xfrm>
          <a:custGeom>
            <a:avLst/>
            <a:gdLst/>
            <a:ahLst/>
            <a:rect l="l" t="t" r="r" b="b"/>
            <a:pathLst>
              <a:path w="45" h="210">
                <a:moveTo>
                  <a:pt x="0" y="189"/>
                </a:moveTo>
                <a:lnTo>
                  <a:pt x="1" y="197"/>
                </a:lnTo>
                <a:lnTo>
                  <a:pt x="2" y="204"/>
                </a:lnTo>
                <a:lnTo>
                  <a:pt x="3" y="207"/>
                </a:lnTo>
                <a:lnTo>
                  <a:pt x="4" y="209"/>
                </a:lnTo>
                <a:lnTo>
                  <a:pt x="5" y="210"/>
                </a:lnTo>
                <a:lnTo>
                  <a:pt x="7" y="208"/>
                </a:lnTo>
                <a:lnTo>
                  <a:pt x="8" y="205"/>
                </a:lnTo>
                <a:lnTo>
                  <a:pt x="9" y="201"/>
                </a:lnTo>
                <a:lnTo>
                  <a:pt x="11" y="195"/>
                </a:lnTo>
                <a:lnTo>
                  <a:pt x="12" y="188"/>
                </a:lnTo>
                <a:lnTo>
                  <a:pt x="14" y="181"/>
                </a:lnTo>
                <a:lnTo>
                  <a:pt x="16" y="172"/>
                </a:lnTo>
                <a:lnTo>
                  <a:pt x="17" y="163"/>
                </a:lnTo>
                <a:lnTo>
                  <a:pt x="19" y="153"/>
                </a:lnTo>
                <a:lnTo>
                  <a:pt x="22" y="132"/>
                </a:lnTo>
                <a:lnTo>
                  <a:pt x="26" y="108"/>
                </a:lnTo>
                <a:lnTo>
                  <a:pt x="29" y="86"/>
                </a:lnTo>
                <a:lnTo>
                  <a:pt x="33" y="64"/>
                </a:lnTo>
                <a:lnTo>
                  <a:pt x="35" y="44"/>
                </a:lnTo>
                <a:lnTo>
                  <a:pt x="37" y="35"/>
                </a:lnTo>
                <a:lnTo>
                  <a:pt x="38" y="26"/>
                </a:lnTo>
                <a:lnTo>
                  <a:pt x="40" y="18"/>
                </a:lnTo>
                <a:lnTo>
                  <a:pt x="41" y="12"/>
                </a:lnTo>
                <a:lnTo>
                  <a:pt x="42" y="7"/>
                </a:lnTo>
                <a:lnTo>
                  <a:pt x="43" y="3"/>
                </a:lnTo>
                <a:lnTo>
                  <a:pt x="44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728880" y="4027320"/>
            <a:ext cx="71640" cy="284400"/>
          </a:xfrm>
          <a:custGeom>
            <a:avLst/>
            <a:gdLst/>
            <a:ahLst/>
            <a:rect l="l" t="t" r="r" b="b"/>
            <a:pathLst>
              <a:path w="45" h="179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3"/>
                </a:lnTo>
                <a:lnTo>
                  <a:pt x="6" y="6"/>
                </a:lnTo>
                <a:lnTo>
                  <a:pt x="8" y="13"/>
                </a:lnTo>
                <a:lnTo>
                  <a:pt x="11" y="22"/>
                </a:lnTo>
                <a:lnTo>
                  <a:pt x="14" y="35"/>
                </a:lnTo>
                <a:lnTo>
                  <a:pt x="17" y="47"/>
                </a:lnTo>
                <a:lnTo>
                  <a:pt x="20" y="61"/>
                </a:lnTo>
                <a:lnTo>
                  <a:pt x="22" y="76"/>
                </a:lnTo>
                <a:lnTo>
                  <a:pt x="28" y="107"/>
                </a:lnTo>
                <a:lnTo>
                  <a:pt x="31" y="123"/>
                </a:lnTo>
                <a:lnTo>
                  <a:pt x="34" y="137"/>
                </a:lnTo>
                <a:lnTo>
                  <a:pt x="37" y="150"/>
                </a:lnTo>
                <a:lnTo>
                  <a:pt x="39" y="162"/>
                </a:lnTo>
                <a:lnTo>
                  <a:pt x="42" y="171"/>
                </a:lnTo>
                <a:lnTo>
                  <a:pt x="45" y="17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3800520" y="4311720"/>
            <a:ext cx="71280" cy="42840"/>
          </a:xfrm>
          <a:custGeom>
            <a:avLst/>
            <a:gdLst/>
            <a:ahLst/>
            <a:rect l="l" t="t" r="r" b="b"/>
            <a:pathLst>
              <a:path w="45" h="27">
                <a:moveTo>
                  <a:pt x="0" y="0"/>
                </a:moveTo>
                <a:lnTo>
                  <a:pt x="4" y="8"/>
                </a:lnTo>
                <a:lnTo>
                  <a:pt x="10" y="14"/>
                </a:lnTo>
                <a:lnTo>
                  <a:pt x="16" y="18"/>
                </a:lnTo>
                <a:lnTo>
                  <a:pt x="23" y="22"/>
                </a:lnTo>
                <a:lnTo>
                  <a:pt x="29" y="24"/>
                </a:lnTo>
                <a:lnTo>
                  <a:pt x="35" y="25"/>
                </a:lnTo>
                <a:lnTo>
                  <a:pt x="41" y="26"/>
                </a:lnTo>
                <a:lnTo>
                  <a:pt x="45" y="27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3871800" y="4338720"/>
            <a:ext cx="71640" cy="22320"/>
          </a:xfrm>
          <a:custGeom>
            <a:avLst/>
            <a:gdLst/>
            <a:ahLst/>
            <a:rect l="l" t="t" r="r" b="b"/>
            <a:pathLst>
              <a:path w="45" h="14">
                <a:moveTo>
                  <a:pt x="0" y="10"/>
                </a:moveTo>
                <a:lnTo>
                  <a:pt x="3" y="11"/>
                </a:lnTo>
                <a:lnTo>
                  <a:pt x="8" y="12"/>
                </a:lnTo>
                <a:lnTo>
                  <a:pt x="15" y="13"/>
                </a:lnTo>
                <a:lnTo>
                  <a:pt x="22" y="14"/>
                </a:lnTo>
                <a:lnTo>
                  <a:pt x="30" y="14"/>
                </a:lnTo>
                <a:lnTo>
                  <a:pt x="37" y="12"/>
                </a:lnTo>
                <a:lnTo>
                  <a:pt x="42" y="8"/>
                </a:lnTo>
                <a:lnTo>
                  <a:pt x="4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3943440" y="3660840"/>
            <a:ext cx="71280" cy="677880"/>
          </a:xfrm>
          <a:custGeom>
            <a:avLst/>
            <a:gdLst/>
            <a:ahLst/>
            <a:rect l="l" t="t" r="r" b="b"/>
            <a:pathLst>
              <a:path w="45" h="427">
                <a:moveTo>
                  <a:pt x="0" y="427"/>
                </a:moveTo>
                <a:lnTo>
                  <a:pt x="1" y="420"/>
                </a:lnTo>
                <a:lnTo>
                  <a:pt x="3" y="411"/>
                </a:lnTo>
                <a:lnTo>
                  <a:pt x="4" y="401"/>
                </a:lnTo>
                <a:lnTo>
                  <a:pt x="6" y="391"/>
                </a:lnTo>
                <a:lnTo>
                  <a:pt x="7" y="379"/>
                </a:lnTo>
                <a:lnTo>
                  <a:pt x="8" y="366"/>
                </a:lnTo>
                <a:lnTo>
                  <a:pt x="10" y="353"/>
                </a:lnTo>
                <a:lnTo>
                  <a:pt x="11" y="338"/>
                </a:lnTo>
                <a:lnTo>
                  <a:pt x="14" y="308"/>
                </a:lnTo>
                <a:lnTo>
                  <a:pt x="18" y="276"/>
                </a:lnTo>
                <a:lnTo>
                  <a:pt x="20" y="242"/>
                </a:lnTo>
                <a:lnTo>
                  <a:pt x="23" y="209"/>
                </a:lnTo>
                <a:lnTo>
                  <a:pt x="26" y="175"/>
                </a:lnTo>
                <a:lnTo>
                  <a:pt x="28" y="142"/>
                </a:lnTo>
                <a:lnTo>
                  <a:pt x="31" y="111"/>
                </a:lnTo>
                <a:lnTo>
                  <a:pt x="34" y="81"/>
                </a:lnTo>
                <a:lnTo>
                  <a:pt x="35" y="68"/>
                </a:lnTo>
                <a:lnTo>
                  <a:pt x="37" y="55"/>
                </a:lnTo>
                <a:lnTo>
                  <a:pt x="38" y="43"/>
                </a:lnTo>
                <a:lnTo>
                  <a:pt x="39" y="33"/>
                </a:lnTo>
                <a:lnTo>
                  <a:pt x="41" y="23"/>
                </a:lnTo>
                <a:lnTo>
                  <a:pt x="42" y="14"/>
                </a:lnTo>
                <a:lnTo>
                  <a:pt x="44" y="7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4014720" y="3646440"/>
            <a:ext cx="7164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9"/>
                </a:moveTo>
                <a:lnTo>
                  <a:pt x="1" y="5"/>
                </a:lnTo>
                <a:lnTo>
                  <a:pt x="2" y="3"/>
                </a:lnTo>
                <a:lnTo>
                  <a:pt x="3" y="1"/>
                </a:lnTo>
                <a:lnTo>
                  <a:pt x="5" y="0"/>
                </a:lnTo>
                <a:lnTo>
                  <a:pt x="7" y="0"/>
                </a:lnTo>
                <a:lnTo>
                  <a:pt x="10" y="2"/>
                </a:lnTo>
                <a:lnTo>
                  <a:pt x="13" y="7"/>
                </a:lnTo>
                <a:lnTo>
                  <a:pt x="16" y="14"/>
                </a:lnTo>
                <a:lnTo>
                  <a:pt x="19" y="22"/>
                </a:lnTo>
                <a:lnTo>
                  <a:pt x="22" y="31"/>
                </a:lnTo>
                <a:lnTo>
                  <a:pt x="29" y="50"/>
                </a:lnTo>
                <a:lnTo>
                  <a:pt x="32" y="59"/>
                </a:lnTo>
                <a:lnTo>
                  <a:pt x="35" y="67"/>
                </a:lnTo>
                <a:lnTo>
                  <a:pt x="38" y="75"/>
                </a:lnTo>
                <a:lnTo>
                  <a:pt x="40" y="81"/>
                </a:lnTo>
                <a:lnTo>
                  <a:pt x="43" y="85"/>
                </a:lnTo>
                <a:lnTo>
                  <a:pt x="45" y="87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4086360" y="3708360"/>
            <a:ext cx="71280" cy="76320"/>
          </a:xfrm>
          <a:custGeom>
            <a:avLst/>
            <a:gdLst/>
            <a:ahLst/>
            <a:rect l="l" t="t" r="r" b="b"/>
            <a:pathLst>
              <a:path w="45" h="48">
                <a:moveTo>
                  <a:pt x="0" y="48"/>
                </a:moveTo>
                <a:lnTo>
                  <a:pt x="1" y="48"/>
                </a:lnTo>
                <a:lnTo>
                  <a:pt x="3" y="48"/>
                </a:lnTo>
                <a:lnTo>
                  <a:pt x="8" y="46"/>
                </a:lnTo>
                <a:lnTo>
                  <a:pt x="16" y="42"/>
                </a:lnTo>
                <a:lnTo>
                  <a:pt x="23" y="37"/>
                </a:lnTo>
                <a:lnTo>
                  <a:pt x="30" y="30"/>
                </a:lnTo>
                <a:lnTo>
                  <a:pt x="37" y="21"/>
                </a:lnTo>
                <a:lnTo>
                  <a:pt x="42" y="11"/>
                </a:lnTo>
                <a:lnTo>
                  <a:pt x="44" y="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4157640" y="2489040"/>
            <a:ext cx="71640" cy="1219320"/>
          </a:xfrm>
          <a:custGeom>
            <a:avLst/>
            <a:gdLst/>
            <a:ahLst/>
            <a:rect l="l" t="t" r="r" b="b"/>
            <a:pathLst>
              <a:path w="45" h="768">
                <a:moveTo>
                  <a:pt x="0" y="768"/>
                </a:moveTo>
                <a:lnTo>
                  <a:pt x="1" y="761"/>
                </a:lnTo>
                <a:lnTo>
                  <a:pt x="1" y="754"/>
                </a:lnTo>
                <a:lnTo>
                  <a:pt x="3" y="736"/>
                </a:lnTo>
                <a:lnTo>
                  <a:pt x="4" y="716"/>
                </a:lnTo>
                <a:lnTo>
                  <a:pt x="6" y="694"/>
                </a:lnTo>
                <a:lnTo>
                  <a:pt x="7" y="670"/>
                </a:lnTo>
                <a:lnTo>
                  <a:pt x="8" y="642"/>
                </a:lnTo>
                <a:lnTo>
                  <a:pt x="10" y="614"/>
                </a:lnTo>
                <a:lnTo>
                  <a:pt x="11" y="585"/>
                </a:lnTo>
                <a:lnTo>
                  <a:pt x="13" y="553"/>
                </a:lnTo>
                <a:lnTo>
                  <a:pt x="14" y="521"/>
                </a:lnTo>
                <a:lnTo>
                  <a:pt x="15" y="488"/>
                </a:lnTo>
                <a:lnTo>
                  <a:pt x="17" y="453"/>
                </a:lnTo>
                <a:lnTo>
                  <a:pt x="20" y="384"/>
                </a:lnTo>
                <a:lnTo>
                  <a:pt x="22" y="317"/>
                </a:lnTo>
                <a:lnTo>
                  <a:pt x="24" y="283"/>
                </a:lnTo>
                <a:lnTo>
                  <a:pt x="25" y="250"/>
                </a:lnTo>
                <a:lnTo>
                  <a:pt x="27" y="218"/>
                </a:lnTo>
                <a:lnTo>
                  <a:pt x="28" y="188"/>
                </a:lnTo>
                <a:lnTo>
                  <a:pt x="30" y="159"/>
                </a:lnTo>
                <a:lnTo>
                  <a:pt x="31" y="131"/>
                </a:lnTo>
                <a:lnTo>
                  <a:pt x="32" y="106"/>
                </a:lnTo>
                <a:lnTo>
                  <a:pt x="34" y="83"/>
                </a:lnTo>
                <a:lnTo>
                  <a:pt x="35" y="62"/>
                </a:lnTo>
                <a:lnTo>
                  <a:pt x="37" y="43"/>
                </a:lnTo>
                <a:lnTo>
                  <a:pt x="37" y="36"/>
                </a:lnTo>
                <a:lnTo>
                  <a:pt x="38" y="28"/>
                </a:lnTo>
                <a:lnTo>
                  <a:pt x="39" y="22"/>
                </a:lnTo>
                <a:lnTo>
                  <a:pt x="39" y="16"/>
                </a:lnTo>
                <a:lnTo>
                  <a:pt x="40" y="11"/>
                </a:lnTo>
                <a:lnTo>
                  <a:pt x="41" y="7"/>
                </a:lnTo>
                <a:lnTo>
                  <a:pt x="41" y="4"/>
                </a:lnTo>
                <a:lnTo>
                  <a:pt x="42" y="2"/>
                </a:lnTo>
                <a:lnTo>
                  <a:pt x="43" y="1"/>
                </a:lnTo>
                <a:lnTo>
                  <a:pt x="43" y="0"/>
                </a:lnTo>
                <a:lnTo>
                  <a:pt x="44" y="1"/>
                </a:lnTo>
                <a:lnTo>
                  <a:pt x="45" y="3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4229280" y="2494080"/>
            <a:ext cx="71280" cy="1674720"/>
          </a:xfrm>
          <a:custGeom>
            <a:avLst/>
            <a:gdLst/>
            <a:ahLst/>
            <a:rect l="l" t="t" r="r" b="b"/>
            <a:pathLst>
              <a:path w="45" h="1055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2"/>
                </a:lnTo>
                <a:lnTo>
                  <a:pt x="3" y="18"/>
                </a:lnTo>
                <a:lnTo>
                  <a:pt x="3" y="25"/>
                </a:lnTo>
                <a:lnTo>
                  <a:pt x="5" y="33"/>
                </a:lnTo>
                <a:lnTo>
                  <a:pt x="6" y="43"/>
                </a:lnTo>
                <a:lnTo>
                  <a:pt x="7" y="54"/>
                </a:lnTo>
                <a:lnTo>
                  <a:pt x="7" y="65"/>
                </a:lnTo>
                <a:lnTo>
                  <a:pt x="8" y="76"/>
                </a:lnTo>
                <a:lnTo>
                  <a:pt x="9" y="89"/>
                </a:lnTo>
                <a:lnTo>
                  <a:pt x="9" y="103"/>
                </a:lnTo>
                <a:lnTo>
                  <a:pt x="10" y="117"/>
                </a:lnTo>
                <a:lnTo>
                  <a:pt x="11" y="132"/>
                </a:lnTo>
                <a:lnTo>
                  <a:pt x="12" y="165"/>
                </a:lnTo>
                <a:lnTo>
                  <a:pt x="13" y="199"/>
                </a:lnTo>
                <a:lnTo>
                  <a:pt x="15" y="237"/>
                </a:lnTo>
                <a:lnTo>
                  <a:pt x="16" y="276"/>
                </a:lnTo>
                <a:lnTo>
                  <a:pt x="17" y="317"/>
                </a:lnTo>
                <a:lnTo>
                  <a:pt x="19" y="359"/>
                </a:lnTo>
                <a:lnTo>
                  <a:pt x="20" y="402"/>
                </a:lnTo>
                <a:lnTo>
                  <a:pt x="22" y="446"/>
                </a:lnTo>
                <a:lnTo>
                  <a:pt x="23" y="491"/>
                </a:lnTo>
                <a:lnTo>
                  <a:pt x="26" y="581"/>
                </a:lnTo>
                <a:lnTo>
                  <a:pt x="27" y="626"/>
                </a:lnTo>
                <a:lnTo>
                  <a:pt x="28" y="670"/>
                </a:lnTo>
                <a:lnTo>
                  <a:pt x="30" y="713"/>
                </a:lnTo>
                <a:lnTo>
                  <a:pt x="31" y="756"/>
                </a:lnTo>
                <a:lnTo>
                  <a:pt x="33" y="796"/>
                </a:lnTo>
                <a:lnTo>
                  <a:pt x="34" y="836"/>
                </a:lnTo>
                <a:lnTo>
                  <a:pt x="35" y="873"/>
                </a:lnTo>
                <a:lnTo>
                  <a:pt x="37" y="907"/>
                </a:lnTo>
                <a:lnTo>
                  <a:pt x="38" y="940"/>
                </a:lnTo>
                <a:lnTo>
                  <a:pt x="39" y="955"/>
                </a:lnTo>
                <a:lnTo>
                  <a:pt x="39" y="970"/>
                </a:lnTo>
                <a:lnTo>
                  <a:pt x="40" y="983"/>
                </a:lnTo>
                <a:lnTo>
                  <a:pt x="41" y="997"/>
                </a:lnTo>
                <a:lnTo>
                  <a:pt x="42" y="1009"/>
                </a:lnTo>
                <a:lnTo>
                  <a:pt x="42" y="1020"/>
                </a:lnTo>
                <a:lnTo>
                  <a:pt x="43" y="1030"/>
                </a:lnTo>
                <a:lnTo>
                  <a:pt x="44" y="1039"/>
                </a:lnTo>
                <a:lnTo>
                  <a:pt x="44" y="1048"/>
                </a:lnTo>
                <a:lnTo>
                  <a:pt x="45" y="1055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4300560" y="3882960"/>
            <a:ext cx="73080" cy="316080"/>
          </a:xfrm>
          <a:custGeom>
            <a:avLst/>
            <a:gdLst/>
            <a:ahLst/>
            <a:rect l="l" t="t" r="r" b="b"/>
            <a:pathLst>
              <a:path w="46" h="199">
                <a:moveTo>
                  <a:pt x="0" y="180"/>
                </a:moveTo>
                <a:lnTo>
                  <a:pt x="1" y="188"/>
                </a:lnTo>
                <a:lnTo>
                  <a:pt x="2" y="193"/>
                </a:lnTo>
                <a:lnTo>
                  <a:pt x="3" y="197"/>
                </a:lnTo>
                <a:lnTo>
                  <a:pt x="4" y="199"/>
                </a:lnTo>
                <a:lnTo>
                  <a:pt x="6" y="199"/>
                </a:lnTo>
                <a:lnTo>
                  <a:pt x="7" y="198"/>
                </a:lnTo>
                <a:lnTo>
                  <a:pt x="8" y="195"/>
                </a:lnTo>
                <a:lnTo>
                  <a:pt x="10" y="191"/>
                </a:lnTo>
                <a:lnTo>
                  <a:pt x="11" y="186"/>
                </a:lnTo>
                <a:lnTo>
                  <a:pt x="13" y="180"/>
                </a:lnTo>
                <a:lnTo>
                  <a:pt x="14" y="172"/>
                </a:lnTo>
                <a:lnTo>
                  <a:pt x="16" y="164"/>
                </a:lnTo>
                <a:lnTo>
                  <a:pt x="19" y="146"/>
                </a:lnTo>
                <a:lnTo>
                  <a:pt x="22" y="126"/>
                </a:lnTo>
                <a:lnTo>
                  <a:pt x="26" y="104"/>
                </a:lnTo>
                <a:lnTo>
                  <a:pt x="29" y="82"/>
                </a:lnTo>
                <a:lnTo>
                  <a:pt x="32" y="61"/>
                </a:lnTo>
                <a:lnTo>
                  <a:pt x="35" y="42"/>
                </a:lnTo>
                <a:lnTo>
                  <a:pt x="37" y="34"/>
                </a:lnTo>
                <a:lnTo>
                  <a:pt x="38" y="25"/>
                </a:lnTo>
                <a:lnTo>
                  <a:pt x="39" y="18"/>
                </a:lnTo>
                <a:lnTo>
                  <a:pt x="41" y="12"/>
                </a:lnTo>
                <a:lnTo>
                  <a:pt x="42" y="7"/>
                </a:lnTo>
                <a:lnTo>
                  <a:pt x="43" y="3"/>
                </a:lnTo>
                <a:lnTo>
                  <a:pt x="45" y="1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4373640" y="3882960"/>
            <a:ext cx="69840" cy="258840"/>
          </a:xfrm>
          <a:custGeom>
            <a:avLst/>
            <a:gdLst/>
            <a:ahLst/>
            <a:rect l="l" t="t" r="r" b="b"/>
            <a:pathLst>
              <a:path w="44" h="163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6" y="5"/>
                </a:lnTo>
                <a:lnTo>
                  <a:pt x="8" y="11"/>
                </a:lnTo>
                <a:lnTo>
                  <a:pt x="11" y="19"/>
                </a:lnTo>
                <a:lnTo>
                  <a:pt x="14" y="28"/>
                </a:lnTo>
                <a:lnTo>
                  <a:pt x="17" y="41"/>
                </a:lnTo>
                <a:lnTo>
                  <a:pt x="19" y="53"/>
                </a:lnTo>
                <a:lnTo>
                  <a:pt x="22" y="66"/>
                </a:lnTo>
                <a:lnTo>
                  <a:pt x="27" y="94"/>
                </a:lnTo>
                <a:lnTo>
                  <a:pt x="30" y="107"/>
                </a:lnTo>
                <a:lnTo>
                  <a:pt x="33" y="121"/>
                </a:lnTo>
                <a:lnTo>
                  <a:pt x="36" y="134"/>
                </a:lnTo>
                <a:lnTo>
                  <a:pt x="38" y="145"/>
                </a:lnTo>
                <a:lnTo>
                  <a:pt x="41" y="155"/>
                </a:lnTo>
                <a:lnTo>
                  <a:pt x="44" y="163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4443480" y="4141800"/>
            <a:ext cx="73080" cy="109440"/>
          </a:xfrm>
          <a:custGeom>
            <a:avLst/>
            <a:gdLst/>
            <a:ahLst/>
            <a:rect l="l" t="t" r="r" b="b"/>
            <a:pathLst>
              <a:path w="46" h="69">
                <a:moveTo>
                  <a:pt x="0" y="0"/>
                </a:moveTo>
                <a:lnTo>
                  <a:pt x="6" y="13"/>
                </a:lnTo>
                <a:lnTo>
                  <a:pt x="11" y="25"/>
                </a:lnTo>
                <a:lnTo>
                  <a:pt x="17" y="35"/>
                </a:lnTo>
                <a:lnTo>
                  <a:pt x="22" y="44"/>
                </a:lnTo>
                <a:lnTo>
                  <a:pt x="28" y="52"/>
                </a:lnTo>
                <a:lnTo>
                  <a:pt x="34" y="58"/>
                </a:lnTo>
                <a:lnTo>
                  <a:pt x="46" y="69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4516560" y="4251240"/>
            <a:ext cx="69840" cy="31680"/>
          </a:xfrm>
          <a:custGeom>
            <a:avLst/>
            <a:gdLst/>
            <a:ahLst/>
            <a:rect l="l" t="t" r="r" b="b"/>
            <a:pathLst>
              <a:path w="44" h="20">
                <a:moveTo>
                  <a:pt x="0" y="0"/>
                </a:moveTo>
                <a:lnTo>
                  <a:pt x="3" y="2"/>
                </a:lnTo>
                <a:lnTo>
                  <a:pt x="8" y="7"/>
                </a:lnTo>
                <a:lnTo>
                  <a:pt x="15" y="11"/>
                </a:lnTo>
                <a:lnTo>
                  <a:pt x="22" y="16"/>
                </a:lnTo>
                <a:lnTo>
                  <a:pt x="29" y="19"/>
                </a:lnTo>
                <a:lnTo>
                  <a:pt x="33" y="20"/>
                </a:lnTo>
                <a:lnTo>
                  <a:pt x="36" y="20"/>
                </a:lnTo>
                <a:lnTo>
                  <a:pt x="39" y="20"/>
                </a:lnTo>
                <a:lnTo>
                  <a:pt x="41" y="18"/>
                </a:lnTo>
                <a:lnTo>
                  <a:pt x="43" y="16"/>
                </a:lnTo>
                <a:lnTo>
                  <a:pt x="44" y="1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4586400" y="3460680"/>
            <a:ext cx="73080" cy="809640"/>
          </a:xfrm>
          <a:custGeom>
            <a:avLst/>
            <a:gdLst/>
            <a:ahLst/>
            <a:rect l="l" t="t" r="r" b="b"/>
            <a:pathLst>
              <a:path w="46" h="510">
                <a:moveTo>
                  <a:pt x="0" y="510"/>
                </a:moveTo>
                <a:lnTo>
                  <a:pt x="1" y="502"/>
                </a:lnTo>
                <a:lnTo>
                  <a:pt x="3" y="492"/>
                </a:lnTo>
                <a:lnTo>
                  <a:pt x="4" y="480"/>
                </a:lnTo>
                <a:lnTo>
                  <a:pt x="6" y="467"/>
                </a:lnTo>
                <a:lnTo>
                  <a:pt x="7" y="453"/>
                </a:lnTo>
                <a:lnTo>
                  <a:pt x="8" y="438"/>
                </a:lnTo>
                <a:lnTo>
                  <a:pt x="10" y="422"/>
                </a:lnTo>
                <a:lnTo>
                  <a:pt x="11" y="405"/>
                </a:lnTo>
                <a:lnTo>
                  <a:pt x="13" y="388"/>
                </a:lnTo>
                <a:lnTo>
                  <a:pt x="14" y="368"/>
                </a:lnTo>
                <a:lnTo>
                  <a:pt x="17" y="330"/>
                </a:lnTo>
                <a:lnTo>
                  <a:pt x="20" y="290"/>
                </a:lnTo>
                <a:lnTo>
                  <a:pt x="22" y="250"/>
                </a:lnTo>
                <a:lnTo>
                  <a:pt x="25" y="209"/>
                </a:lnTo>
                <a:lnTo>
                  <a:pt x="28" y="170"/>
                </a:lnTo>
                <a:lnTo>
                  <a:pt x="31" y="132"/>
                </a:lnTo>
                <a:lnTo>
                  <a:pt x="32" y="114"/>
                </a:lnTo>
                <a:lnTo>
                  <a:pt x="35" y="97"/>
                </a:lnTo>
                <a:lnTo>
                  <a:pt x="36" y="81"/>
                </a:lnTo>
                <a:lnTo>
                  <a:pt x="38" y="66"/>
                </a:lnTo>
                <a:lnTo>
                  <a:pt x="39" y="52"/>
                </a:lnTo>
                <a:lnTo>
                  <a:pt x="40" y="38"/>
                </a:lnTo>
                <a:lnTo>
                  <a:pt x="42" y="26"/>
                </a:lnTo>
                <a:lnTo>
                  <a:pt x="43" y="16"/>
                </a:lnTo>
                <a:lnTo>
                  <a:pt x="45" y="7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4659480" y="3441600"/>
            <a:ext cx="69840" cy="176400"/>
          </a:xfrm>
          <a:custGeom>
            <a:avLst/>
            <a:gdLst/>
            <a:ahLst/>
            <a:rect l="l" t="t" r="r" b="b"/>
            <a:pathLst>
              <a:path w="44" h="111">
                <a:moveTo>
                  <a:pt x="0" y="12"/>
                </a:moveTo>
                <a:lnTo>
                  <a:pt x="1" y="8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6" y="0"/>
                </a:lnTo>
                <a:lnTo>
                  <a:pt x="7" y="1"/>
                </a:lnTo>
                <a:lnTo>
                  <a:pt x="9" y="2"/>
                </a:lnTo>
                <a:lnTo>
                  <a:pt x="10" y="4"/>
                </a:lnTo>
                <a:lnTo>
                  <a:pt x="13" y="9"/>
                </a:lnTo>
                <a:lnTo>
                  <a:pt x="16" y="17"/>
                </a:lnTo>
                <a:lnTo>
                  <a:pt x="19" y="27"/>
                </a:lnTo>
                <a:lnTo>
                  <a:pt x="22" y="38"/>
                </a:lnTo>
                <a:lnTo>
                  <a:pt x="28" y="62"/>
                </a:lnTo>
                <a:lnTo>
                  <a:pt x="31" y="73"/>
                </a:lnTo>
                <a:lnTo>
                  <a:pt x="34" y="84"/>
                </a:lnTo>
                <a:lnTo>
                  <a:pt x="37" y="94"/>
                </a:lnTo>
                <a:lnTo>
                  <a:pt x="39" y="102"/>
                </a:lnTo>
                <a:lnTo>
                  <a:pt x="42" y="108"/>
                </a:lnTo>
                <a:lnTo>
                  <a:pt x="43" y="110"/>
                </a:lnTo>
                <a:lnTo>
                  <a:pt x="44" y="11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4729320" y="3584520"/>
            <a:ext cx="7272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0" y="21"/>
                </a:moveTo>
                <a:lnTo>
                  <a:pt x="1" y="21"/>
                </a:lnTo>
                <a:lnTo>
                  <a:pt x="2" y="22"/>
                </a:lnTo>
                <a:lnTo>
                  <a:pt x="8" y="22"/>
                </a:lnTo>
                <a:lnTo>
                  <a:pt x="15" y="22"/>
                </a:lnTo>
                <a:lnTo>
                  <a:pt x="22" y="20"/>
                </a:lnTo>
                <a:lnTo>
                  <a:pt x="31" y="18"/>
                </a:lnTo>
                <a:lnTo>
                  <a:pt x="38" y="14"/>
                </a:lnTo>
                <a:lnTo>
                  <a:pt x="44" y="8"/>
                </a:lnTo>
                <a:lnTo>
                  <a:pt x="45" y="4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4802040" y="1901880"/>
            <a:ext cx="69840" cy="1682640"/>
          </a:xfrm>
          <a:custGeom>
            <a:avLst/>
            <a:gdLst/>
            <a:ahLst/>
            <a:rect l="l" t="t" r="r" b="b"/>
            <a:pathLst>
              <a:path w="44" h="1060">
                <a:moveTo>
                  <a:pt x="0" y="1060"/>
                </a:moveTo>
                <a:lnTo>
                  <a:pt x="1" y="1051"/>
                </a:lnTo>
                <a:lnTo>
                  <a:pt x="1" y="1041"/>
                </a:lnTo>
                <a:lnTo>
                  <a:pt x="2" y="1030"/>
                </a:lnTo>
                <a:lnTo>
                  <a:pt x="3" y="1017"/>
                </a:lnTo>
                <a:lnTo>
                  <a:pt x="3" y="1005"/>
                </a:lnTo>
                <a:lnTo>
                  <a:pt x="4" y="991"/>
                </a:lnTo>
                <a:lnTo>
                  <a:pt x="5" y="976"/>
                </a:lnTo>
                <a:lnTo>
                  <a:pt x="6" y="961"/>
                </a:lnTo>
                <a:lnTo>
                  <a:pt x="6" y="945"/>
                </a:lnTo>
                <a:lnTo>
                  <a:pt x="7" y="927"/>
                </a:lnTo>
                <a:lnTo>
                  <a:pt x="8" y="891"/>
                </a:lnTo>
                <a:lnTo>
                  <a:pt x="10" y="852"/>
                </a:lnTo>
                <a:lnTo>
                  <a:pt x="11" y="812"/>
                </a:lnTo>
                <a:lnTo>
                  <a:pt x="12" y="770"/>
                </a:lnTo>
                <a:lnTo>
                  <a:pt x="14" y="725"/>
                </a:lnTo>
                <a:lnTo>
                  <a:pt x="15" y="679"/>
                </a:lnTo>
                <a:lnTo>
                  <a:pt x="16" y="633"/>
                </a:lnTo>
                <a:lnTo>
                  <a:pt x="19" y="539"/>
                </a:lnTo>
                <a:lnTo>
                  <a:pt x="22" y="446"/>
                </a:lnTo>
                <a:lnTo>
                  <a:pt x="23" y="399"/>
                </a:lnTo>
                <a:lnTo>
                  <a:pt x="25" y="354"/>
                </a:lnTo>
                <a:lnTo>
                  <a:pt x="26" y="310"/>
                </a:lnTo>
                <a:lnTo>
                  <a:pt x="28" y="268"/>
                </a:lnTo>
                <a:lnTo>
                  <a:pt x="29" y="227"/>
                </a:lnTo>
                <a:lnTo>
                  <a:pt x="30" y="190"/>
                </a:lnTo>
                <a:lnTo>
                  <a:pt x="32" y="154"/>
                </a:lnTo>
                <a:lnTo>
                  <a:pt x="32" y="137"/>
                </a:lnTo>
                <a:lnTo>
                  <a:pt x="33" y="122"/>
                </a:lnTo>
                <a:lnTo>
                  <a:pt x="34" y="107"/>
                </a:lnTo>
                <a:lnTo>
                  <a:pt x="34" y="92"/>
                </a:lnTo>
                <a:lnTo>
                  <a:pt x="35" y="78"/>
                </a:lnTo>
                <a:lnTo>
                  <a:pt x="36" y="66"/>
                </a:lnTo>
                <a:lnTo>
                  <a:pt x="36" y="54"/>
                </a:lnTo>
                <a:lnTo>
                  <a:pt x="37" y="44"/>
                </a:lnTo>
                <a:lnTo>
                  <a:pt x="38" y="34"/>
                </a:lnTo>
                <a:lnTo>
                  <a:pt x="39" y="26"/>
                </a:lnTo>
                <a:lnTo>
                  <a:pt x="39" y="19"/>
                </a:lnTo>
                <a:lnTo>
                  <a:pt x="40" y="13"/>
                </a:lnTo>
                <a:lnTo>
                  <a:pt x="41" y="8"/>
                </a:lnTo>
                <a:lnTo>
                  <a:pt x="41" y="4"/>
                </a:lnTo>
                <a:lnTo>
                  <a:pt x="42" y="2"/>
                </a:lnTo>
                <a:lnTo>
                  <a:pt x="43" y="0"/>
                </a:lnTo>
                <a:lnTo>
                  <a:pt x="43" y="0"/>
                </a:lnTo>
                <a:lnTo>
                  <a:pt x="44" y="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4871880" y="1905120"/>
            <a:ext cx="71640" cy="2133360"/>
          </a:xfrm>
          <a:custGeom>
            <a:avLst/>
            <a:gdLst/>
            <a:ahLst/>
            <a:rect l="l" t="t" r="r" b="b"/>
            <a:pathLst>
              <a:path w="45" h="1344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3"/>
                </a:lnTo>
                <a:lnTo>
                  <a:pt x="3" y="21"/>
                </a:lnTo>
                <a:lnTo>
                  <a:pt x="3" y="29"/>
                </a:lnTo>
                <a:lnTo>
                  <a:pt x="4" y="39"/>
                </a:lnTo>
                <a:lnTo>
                  <a:pt x="5" y="50"/>
                </a:lnTo>
                <a:lnTo>
                  <a:pt x="5" y="63"/>
                </a:lnTo>
                <a:lnTo>
                  <a:pt x="6" y="76"/>
                </a:lnTo>
                <a:lnTo>
                  <a:pt x="7" y="92"/>
                </a:lnTo>
                <a:lnTo>
                  <a:pt x="8" y="108"/>
                </a:lnTo>
                <a:lnTo>
                  <a:pt x="8" y="125"/>
                </a:lnTo>
                <a:lnTo>
                  <a:pt x="9" y="143"/>
                </a:lnTo>
                <a:lnTo>
                  <a:pt x="10" y="161"/>
                </a:lnTo>
                <a:lnTo>
                  <a:pt x="10" y="182"/>
                </a:lnTo>
                <a:lnTo>
                  <a:pt x="11" y="203"/>
                </a:lnTo>
                <a:lnTo>
                  <a:pt x="12" y="224"/>
                </a:lnTo>
                <a:lnTo>
                  <a:pt x="12" y="246"/>
                </a:lnTo>
                <a:lnTo>
                  <a:pt x="14" y="294"/>
                </a:lnTo>
                <a:lnTo>
                  <a:pt x="15" y="344"/>
                </a:lnTo>
                <a:lnTo>
                  <a:pt x="16" y="395"/>
                </a:lnTo>
                <a:lnTo>
                  <a:pt x="18" y="449"/>
                </a:lnTo>
                <a:lnTo>
                  <a:pt x="19" y="503"/>
                </a:lnTo>
                <a:lnTo>
                  <a:pt x="20" y="560"/>
                </a:lnTo>
                <a:lnTo>
                  <a:pt x="22" y="617"/>
                </a:lnTo>
                <a:lnTo>
                  <a:pt x="26" y="732"/>
                </a:lnTo>
                <a:lnTo>
                  <a:pt x="27" y="790"/>
                </a:lnTo>
                <a:lnTo>
                  <a:pt x="28" y="846"/>
                </a:lnTo>
                <a:lnTo>
                  <a:pt x="30" y="902"/>
                </a:lnTo>
                <a:lnTo>
                  <a:pt x="31" y="957"/>
                </a:lnTo>
                <a:lnTo>
                  <a:pt x="33" y="1009"/>
                </a:lnTo>
                <a:lnTo>
                  <a:pt x="34" y="1059"/>
                </a:lnTo>
                <a:lnTo>
                  <a:pt x="35" y="1107"/>
                </a:lnTo>
                <a:lnTo>
                  <a:pt x="36" y="1131"/>
                </a:lnTo>
                <a:lnTo>
                  <a:pt x="37" y="1152"/>
                </a:lnTo>
                <a:lnTo>
                  <a:pt x="37" y="1174"/>
                </a:lnTo>
                <a:lnTo>
                  <a:pt x="38" y="1195"/>
                </a:lnTo>
                <a:lnTo>
                  <a:pt x="39" y="1214"/>
                </a:lnTo>
                <a:lnTo>
                  <a:pt x="39" y="1233"/>
                </a:lnTo>
                <a:lnTo>
                  <a:pt x="40" y="1251"/>
                </a:lnTo>
                <a:lnTo>
                  <a:pt x="41" y="1267"/>
                </a:lnTo>
                <a:lnTo>
                  <a:pt x="42" y="1284"/>
                </a:lnTo>
                <a:lnTo>
                  <a:pt x="42" y="1298"/>
                </a:lnTo>
                <a:lnTo>
                  <a:pt x="43" y="1311"/>
                </a:lnTo>
                <a:lnTo>
                  <a:pt x="44" y="1324"/>
                </a:lnTo>
                <a:lnTo>
                  <a:pt x="44" y="1334"/>
                </a:lnTo>
                <a:lnTo>
                  <a:pt x="45" y="1344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4943520" y="3745080"/>
            <a:ext cx="71280" cy="323640"/>
          </a:xfrm>
          <a:custGeom>
            <a:avLst/>
            <a:gdLst/>
            <a:ahLst/>
            <a:rect l="l" t="t" r="r" b="b"/>
            <a:pathLst>
              <a:path w="45" h="204">
                <a:moveTo>
                  <a:pt x="0" y="185"/>
                </a:moveTo>
                <a:lnTo>
                  <a:pt x="1" y="193"/>
                </a:lnTo>
                <a:lnTo>
                  <a:pt x="2" y="198"/>
                </a:lnTo>
                <a:lnTo>
                  <a:pt x="3" y="202"/>
                </a:lnTo>
                <a:lnTo>
                  <a:pt x="4" y="204"/>
                </a:lnTo>
                <a:lnTo>
                  <a:pt x="5" y="204"/>
                </a:lnTo>
                <a:lnTo>
                  <a:pt x="6" y="203"/>
                </a:lnTo>
                <a:lnTo>
                  <a:pt x="8" y="200"/>
                </a:lnTo>
                <a:lnTo>
                  <a:pt x="9" y="196"/>
                </a:lnTo>
                <a:lnTo>
                  <a:pt x="11" y="190"/>
                </a:lnTo>
                <a:lnTo>
                  <a:pt x="12" y="184"/>
                </a:lnTo>
                <a:lnTo>
                  <a:pt x="14" y="176"/>
                </a:lnTo>
                <a:lnTo>
                  <a:pt x="16" y="168"/>
                </a:lnTo>
                <a:lnTo>
                  <a:pt x="19" y="149"/>
                </a:lnTo>
                <a:lnTo>
                  <a:pt x="22" y="128"/>
                </a:lnTo>
                <a:lnTo>
                  <a:pt x="26" y="105"/>
                </a:lnTo>
                <a:lnTo>
                  <a:pt x="29" y="83"/>
                </a:lnTo>
                <a:lnTo>
                  <a:pt x="33" y="61"/>
                </a:lnTo>
                <a:lnTo>
                  <a:pt x="36" y="42"/>
                </a:lnTo>
                <a:lnTo>
                  <a:pt x="37" y="32"/>
                </a:lnTo>
                <a:lnTo>
                  <a:pt x="39" y="24"/>
                </a:lnTo>
                <a:lnTo>
                  <a:pt x="40" y="17"/>
                </a:lnTo>
                <a:lnTo>
                  <a:pt x="41" y="11"/>
                </a:lnTo>
                <a:lnTo>
                  <a:pt x="42" y="6"/>
                </a:lnTo>
                <a:lnTo>
                  <a:pt x="43" y="3"/>
                </a:lnTo>
                <a:lnTo>
                  <a:pt x="44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5014800" y="3745080"/>
            <a:ext cx="71640" cy="341280"/>
          </a:xfrm>
          <a:custGeom>
            <a:avLst/>
            <a:gdLst/>
            <a:ahLst/>
            <a:rect l="l" t="t" r="r" b="b"/>
            <a:pathLst>
              <a:path w="45" h="215">
                <a:moveTo>
                  <a:pt x="0" y="0"/>
                </a:moveTo>
                <a:lnTo>
                  <a:pt x="1" y="1"/>
                </a:lnTo>
                <a:lnTo>
                  <a:pt x="3" y="3"/>
                </a:lnTo>
                <a:lnTo>
                  <a:pt x="4" y="5"/>
                </a:lnTo>
                <a:lnTo>
                  <a:pt x="6" y="9"/>
                </a:lnTo>
                <a:lnTo>
                  <a:pt x="8" y="17"/>
                </a:lnTo>
                <a:lnTo>
                  <a:pt x="11" y="29"/>
                </a:lnTo>
                <a:lnTo>
                  <a:pt x="14" y="43"/>
                </a:lnTo>
                <a:lnTo>
                  <a:pt x="18" y="58"/>
                </a:lnTo>
                <a:lnTo>
                  <a:pt x="20" y="74"/>
                </a:lnTo>
                <a:lnTo>
                  <a:pt x="23" y="92"/>
                </a:lnTo>
                <a:lnTo>
                  <a:pt x="28" y="128"/>
                </a:lnTo>
                <a:lnTo>
                  <a:pt x="31" y="145"/>
                </a:lnTo>
                <a:lnTo>
                  <a:pt x="34" y="162"/>
                </a:lnTo>
                <a:lnTo>
                  <a:pt x="37" y="178"/>
                </a:lnTo>
                <a:lnTo>
                  <a:pt x="39" y="192"/>
                </a:lnTo>
                <a:lnTo>
                  <a:pt x="42" y="204"/>
                </a:lnTo>
                <a:lnTo>
                  <a:pt x="45" y="215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5086440" y="4086360"/>
            <a:ext cx="71280" cy="101520"/>
          </a:xfrm>
          <a:custGeom>
            <a:avLst/>
            <a:gdLst/>
            <a:ahLst/>
            <a:rect l="l" t="t" r="r" b="b"/>
            <a:pathLst>
              <a:path w="45" h="64">
                <a:moveTo>
                  <a:pt x="0" y="0"/>
                </a:moveTo>
                <a:lnTo>
                  <a:pt x="5" y="13"/>
                </a:lnTo>
                <a:lnTo>
                  <a:pt x="10" y="25"/>
                </a:lnTo>
                <a:lnTo>
                  <a:pt x="16" y="34"/>
                </a:lnTo>
                <a:lnTo>
                  <a:pt x="22" y="43"/>
                </a:lnTo>
                <a:lnTo>
                  <a:pt x="29" y="50"/>
                </a:lnTo>
                <a:lnTo>
                  <a:pt x="35" y="56"/>
                </a:lnTo>
                <a:lnTo>
                  <a:pt x="40" y="60"/>
                </a:lnTo>
                <a:lnTo>
                  <a:pt x="45" y="64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5157720" y="4179960"/>
            <a:ext cx="71640" cy="19080"/>
          </a:xfrm>
          <a:custGeom>
            <a:avLst/>
            <a:gdLst/>
            <a:ahLst/>
            <a:rect l="l" t="t" r="r" b="b"/>
            <a:pathLst>
              <a:path w="45" h="12">
                <a:moveTo>
                  <a:pt x="0" y="5"/>
                </a:moveTo>
                <a:lnTo>
                  <a:pt x="3" y="7"/>
                </a:lnTo>
                <a:lnTo>
                  <a:pt x="8" y="9"/>
                </a:lnTo>
                <a:lnTo>
                  <a:pt x="16" y="11"/>
                </a:lnTo>
                <a:lnTo>
                  <a:pt x="23" y="12"/>
                </a:lnTo>
                <a:lnTo>
                  <a:pt x="30" y="12"/>
                </a:lnTo>
                <a:lnTo>
                  <a:pt x="37" y="10"/>
                </a:lnTo>
                <a:lnTo>
                  <a:pt x="42" y="7"/>
                </a:lnTo>
                <a:lnTo>
                  <a:pt x="44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5229360" y="3630600"/>
            <a:ext cx="71280" cy="549360"/>
          </a:xfrm>
          <a:custGeom>
            <a:avLst/>
            <a:gdLst/>
            <a:ahLst/>
            <a:rect l="l" t="t" r="r" b="b"/>
            <a:pathLst>
              <a:path w="45" h="346">
                <a:moveTo>
                  <a:pt x="0" y="346"/>
                </a:moveTo>
                <a:lnTo>
                  <a:pt x="1" y="340"/>
                </a:lnTo>
                <a:lnTo>
                  <a:pt x="3" y="333"/>
                </a:lnTo>
                <a:lnTo>
                  <a:pt x="4" y="325"/>
                </a:lnTo>
                <a:lnTo>
                  <a:pt x="6" y="316"/>
                </a:lnTo>
                <a:lnTo>
                  <a:pt x="7" y="307"/>
                </a:lnTo>
                <a:lnTo>
                  <a:pt x="8" y="297"/>
                </a:lnTo>
                <a:lnTo>
                  <a:pt x="11" y="273"/>
                </a:lnTo>
                <a:lnTo>
                  <a:pt x="14" y="249"/>
                </a:lnTo>
                <a:lnTo>
                  <a:pt x="17" y="223"/>
                </a:lnTo>
                <a:lnTo>
                  <a:pt x="20" y="196"/>
                </a:lnTo>
                <a:lnTo>
                  <a:pt x="22" y="167"/>
                </a:lnTo>
                <a:lnTo>
                  <a:pt x="25" y="140"/>
                </a:lnTo>
                <a:lnTo>
                  <a:pt x="28" y="114"/>
                </a:lnTo>
                <a:lnTo>
                  <a:pt x="31" y="87"/>
                </a:lnTo>
                <a:lnTo>
                  <a:pt x="34" y="64"/>
                </a:lnTo>
                <a:lnTo>
                  <a:pt x="37" y="43"/>
                </a:lnTo>
                <a:lnTo>
                  <a:pt x="38" y="34"/>
                </a:lnTo>
                <a:lnTo>
                  <a:pt x="39" y="25"/>
                </a:lnTo>
                <a:lnTo>
                  <a:pt x="41" y="17"/>
                </a:lnTo>
                <a:lnTo>
                  <a:pt x="42" y="10"/>
                </a:lnTo>
                <a:lnTo>
                  <a:pt x="4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5300640" y="3616200"/>
            <a:ext cx="71640" cy="155880"/>
          </a:xfrm>
          <a:custGeom>
            <a:avLst/>
            <a:gdLst/>
            <a:ahLst/>
            <a:rect l="l" t="t" r="r" b="b"/>
            <a:pathLst>
              <a:path w="45" h="98">
                <a:moveTo>
                  <a:pt x="0" y="9"/>
                </a:moveTo>
                <a:lnTo>
                  <a:pt x="1" y="6"/>
                </a:lnTo>
                <a:lnTo>
                  <a:pt x="3" y="3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12" y="4"/>
                </a:lnTo>
                <a:lnTo>
                  <a:pt x="15" y="9"/>
                </a:lnTo>
                <a:lnTo>
                  <a:pt x="18" y="16"/>
                </a:lnTo>
                <a:lnTo>
                  <a:pt x="20" y="24"/>
                </a:lnTo>
                <a:lnTo>
                  <a:pt x="23" y="35"/>
                </a:lnTo>
                <a:lnTo>
                  <a:pt x="28" y="55"/>
                </a:lnTo>
                <a:lnTo>
                  <a:pt x="31" y="65"/>
                </a:lnTo>
                <a:lnTo>
                  <a:pt x="34" y="74"/>
                </a:lnTo>
                <a:lnTo>
                  <a:pt x="37" y="83"/>
                </a:lnTo>
                <a:lnTo>
                  <a:pt x="39" y="90"/>
                </a:lnTo>
                <a:lnTo>
                  <a:pt x="42" y="95"/>
                </a:lnTo>
                <a:lnTo>
                  <a:pt x="45" y="98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5372280" y="3724200"/>
            <a:ext cx="71280" cy="47880"/>
          </a:xfrm>
          <a:custGeom>
            <a:avLst/>
            <a:gdLst/>
            <a:ahLst/>
            <a:rect l="l" t="t" r="r" b="b"/>
            <a:pathLst>
              <a:path w="45" h="30">
                <a:moveTo>
                  <a:pt x="0" y="30"/>
                </a:moveTo>
                <a:lnTo>
                  <a:pt x="1" y="30"/>
                </a:lnTo>
                <a:lnTo>
                  <a:pt x="3" y="30"/>
                </a:lnTo>
                <a:lnTo>
                  <a:pt x="8" y="30"/>
                </a:lnTo>
                <a:lnTo>
                  <a:pt x="15" y="28"/>
                </a:lnTo>
                <a:lnTo>
                  <a:pt x="22" y="26"/>
                </a:lnTo>
                <a:lnTo>
                  <a:pt x="30" y="22"/>
                </a:lnTo>
                <a:lnTo>
                  <a:pt x="37" y="16"/>
                </a:lnTo>
                <a:lnTo>
                  <a:pt x="42" y="9"/>
                </a:lnTo>
                <a:lnTo>
                  <a:pt x="4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5443560" y="2119320"/>
            <a:ext cx="71280" cy="1604880"/>
          </a:xfrm>
          <a:custGeom>
            <a:avLst/>
            <a:gdLst/>
            <a:ahLst/>
            <a:rect l="l" t="t" r="r" b="b"/>
            <a:pathLst>
              <a:path w="45" h="1011">
                <a:moveTo>
                  <a:pt x="0" y="1011"/>
                </a:moveTo>
                <a:lnTo>
                  <a:pt x="1" y="1002"/>
                </a:lnTo>
                <a:lnTo>
                  <a:pt x="1" y="993"/>
                </a:lnTo>
                <a:lnTo>
                  <a:pt x="3" y="983"/>
                </a:lnTo>
                <a:lnTo>
                  <a:pt x="4" y="970"/>
                </a:lnTo>
                <a:lnTo>
                  <a:pt x="4" y="958"/>
                </a:lnTo>
                <a:lnTo>
                  <a:pt x="5" y="945"/>
                </a:lnTo>
                <a:lnTo>
                  <a:pt x="6" y="932"/>
                </a:lnTo>
                <a:lnTo>
                  <a:pt x="7" y="917"/>
                </a:lnTo>
                <a:lnTo>
                  <a:pt x="8" y="886"/>
                </a:lnTo>
                <a:lnTo>
                  <a:pt x="9" y="852"/>
                </a:lnTo>
                <a:lnTo>
                  <a:pt x="11" y="817"/>
                </a:lnTo>
                <a:lnTo>
                  <a:pt x="12" y="778"/>
                </a:lnTo>
                <a:lnTo>
                  <a:pt x="13" y="739"/>
                </a:lnTo>
                <a:lnTo>
                  <a:pt x="15" y="697"/>
                </a:lnTo>
                <a:lnTo>
                  <a:pt x="16" y="655"/>
                </a:lnTo>
                <a:lnTo>
                  <a:pt x="18" y="612"/>
                </a:lnTo>
                <a:lnTo>
                  <a:pt x="20" y="524"/>
                </a:lnTo>
                <a:lnTo>
                  <a:pt x="23" y="436"/>
                </a:lnTo>
                <a:lnTo>
                  <a:pt x="24" y="394"/>
                </a:lnTo>
                <a:lnTo>
                  <a:pt x="26" y="351"/>
                </a:lnTo>
                <a:lnTo>
                  <a:pt x="27" y="310"/>
                </a:lnTo>
                <a:lnTo>
                  <a:pt x="28" y="269"/>
                </a:lnTo>
                <a:lnTo>
                  <a:pt x="30" y="231"/>
                </a:lnTo>
                <a:lnTo>
                  <a:pt x="31" y="194"/>
                </a:lnTo>
                <a:lnTo>
                  <a:pt x="33" y="161"/>
                </a:lnTo>
                <a:lnTo>
                  <a:pt x="34" y="129"/>
                </a:lnTo>
                <a:lnTo>
                  <a:pt x="35" y="114"/>
                </a:lnTo>
                <a:lnTo>
                  <a:pt x="35" y="100"/>
                </a:lnTo>
                <a:lnTo>
                  <a:pt x="36" y="87"/>
                </a:lnTo>
                <a:lnTo>
                  <a:pt x="37" y="74"/>
                </a:lnTo>
                <a:lnTo>
                  <a:pt x="37" y="63"/>
                </a:lnTo>
                <a:lnTo>
                  <a:pt x="38" y="52"/>
                </a:lnTo>
                <a:lnTo>
                  <a:pt x="39" y="42"/>
                </a:lnTo>
                <a:lnTo>
                  <a:pt x="39" y="34"/>
                </a:lnTo>
                <a:lnTo>
                  <a:pt x="40" y="25"/>
                </a:lnTo>
                <a:lnTo>
                  <a:pt x="41" y="18"/>
                </a:lnTo>
                <a:lnTo>
                  <a:pt x="41" y="12"/>
                </a:lnTo>
                <a:lnTo>
                  <a:pt x="42" y="7"/>
                </a:lnTo>
                <a:lnTo>
                  <a:pt x="43" y="4"/>
                </a:lnTo>
                <a:lnTo>
                  <a:pt x="43" y="1"/>
                </a:lnTo>
                <a:lnTo>
                  <a:pt x="44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5514840" y="2119320"/>
            <a:ext cx="73080" cy="1704960"/>
          </a:xfrm>
          <a:custGeom>
            <a:avLst/>
            <a:gdLst/>
            <a:ahLst/>
            <a:rect l="l" t="t" r="r" b="b"/>
            <a:pathLst>
              <a:path w="46" h="1074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7"/>
                </a:lnTo>
                <a:lnTo>
                  <a:pt x="3" y="12"/>
                </a:lnTo>
                <a:lnTo>
                  <a:pt x="3" y="18"/>
                </a:lnTo>
                <a:lnTo>
                  <a:pt x="4" y="25"/>
                </a:lnTo>
                <a:lnTo>
                  <a:pt x="5" y="34"/>
                </a:lnTo>
                <a:lnTo>
                  <a:pt x="6" y="43"/>
                </a:lnTo>
                <a:lnTo>
                  <a:pt x="6" y="53"/>
                </a:lnTo>
                <a:lnTo>
                  <a:pt x="7" y="64"/>
                </a:lnTo>
                <a:lnTo>
                  <a:pt x="8" y="76"/>
                </a:lnTo>
                <a:lnTo>
                  <a:pt x="8" y="89"/>
                </a:lnTo>
                <a:lnTo>
                  <a:pt x="9" y="103"/>
                </a:lnTo>
                <a:lnTo>
                  <a:pt x="10" y="118"/>
                </a:lnTo>
                <a:lnTo>
                  <a:pt x="10" y="134"/>
                </a:lnTo>
                <a:lnTo>
                  <a:pt x="11" y="150"/>
                </a:lnTo>
                <a:lnTo>
                  <a:pt x="13" y="184"/>
                </a:lnTo>
                <a:lnTo>
                  <a:pt x="14" y="222"/>
                </a:lnTo>
                <a:lnTo>
                  <a:pt x="15" y="261"/>
                </a:lnTo>
                <a:lnTo>
                  <a:pt x="17" y="302"/>
                </a:lnTo>
                <a:lnTo>
                  <a:pt x="18" y="345"/>
                </a:lnTo>
                <a:lnTo>
                  <a:pt x="20" y="390"/>
                </a:lnTo>
                <a:lnTo>
                  <a:pt x="21" y="434"/>
                </a:lnTo>
                <a:lnTo>
                  <a:pt x="22" y="481"/>
                </a:lnTo>
                <a:lnTo>
                  <a:pt x="25" y="574"/>
                </a:lnTo>
                <a:lnTo>
                  <a:pt x="27" y="620"/>
                </a:lnTo>
                <a:lnTo>
                  <a:pt x="28" y="666"/>
                </a:lnTo>
                <a:lnTo>
                  <a:pt x="30" y="711"/>
                </a:lnTo>
                <a:lnTo>
                  <a:pt x="31" y="756"/>
                </a:lnTo>
                <a:lnTo>
                  <a:pt x="32" y="798"/>
                </a:lnTo>
                <a:lnTo>
                  <a:pt x="34" y="840"/>
                </a:lnTo>
                <a:lnTo>
                  <a:pt x="35" y="879"/>
                </a:lnTo>
                <a:lnTo>
                  <a:pt x="37" y="916"/>
                </a:lnTo>
                <a:lnTo>
                  <a:pt x="38" y="950"/>
                </a:lnTo>
                <a:lnTo>
                  <a:pt x="39" y="966"/>
                </a:lnTo>
                <a:lnTo>
                  <a:pt x="39" y="982"/>
                </a:lnTo>
                <a:lnTo>
                  <a:pt x="40" y="997"/>
                </a:lnTo>
                <a:lnTo>
                  <a:pt x="42" y="1010"/>
                </a:lnTo>
                <a:lnTo>
                  <a:pt x="43" y="1023"/>
                </a:lnTo>
                <a:lnTo>
                  <a:pt x="43" y="1035"/>
                </a:lnTo>
                <a:lnTo>
                  <a:pt x="44" y="1046"/>
                </a:lnTo>
                <a:lnTo>
                  <a:pt x="45" y="1056"/>
                </a:lnTo>
                <a:lnTo>
                  <a:pt x="45" y="1066"/>
                </a:lnTo>
                <a:lnTo>
                  <a:pt x="46" y="1074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5587920" y="3643200"/>
            <a:ext cx="69840" cy="201600"/>
          </a:xfrm>
          <a:custGeom>
            <a:avLst/>
            <a:gdLst/>
            <a:ahLst/>
            <a:rect l="l" t="t" r="r" b="b"/>
            <a:pathLst>
              <a:path w="44" h="127">
                <a:moveTo>
                  <a:pt x="0" y="114"/>
                </a:moveTo>
                <a:lnTo>
                  <a:pt x="1" y="119"/>
                </a:lnTo>
                <a:lnTo>
                  <a:pt x="1" y="123"/>
                </a:lnTo>
                <a:lnTo>
                  <a:pt x="2" y="125"/>
                </a:lnTo>
                <a:lnTo>
                  <a:pt x="3" y="126"/>
                </a:lnTo>
                <a:lnTo>
                  <a:pt x="4" y="127"/>
                </a:lnTo>
                <a:lnTo>
                  <a:pt x="6" y="126"/>
                </a:lnTo>
                <a:lnTo>
                  <a:pt x="7" y="124"/>
                </a:lnTo>
                <a:lnTo>
                  <a:pt x="8" y="122"/>
                </a:lnTo>
                <a:lnTo>
                  <a:pt x="10" y="119"/>
                </a:lnTo>
                <a:lnTo>
                  <a:pt x="12" y="115"/>
                </a:lnTo>
                <a:lnTo>
                  <a:pt x="15" y="105"/>
                </a:lnTo>
                <a:lnTo>
                  <a:pt x="18" y="93"/>
                </a:lnTo>
                <a:lnTo>
                  <a:pt x="22" y="80"/>
                </a:lnTo>
                <a:lnTo>
                  <a:pt x="29" y="53"/>
                </a:lnTo>
                <a:lnTo>
                  <a:pt x="32" y="40"/>
                </a:lnTo>
                <a:lnTo>
                  <a:pt x="36" y="27"/>
                </a:lnTo>
                <a:lnTo>
                  <a:pt x="38" y="17"/>
                </a:lnTo>
                <a:lnTo>
                  <a:pt x="41" y="8"/>
                </a:lnTo>
                <a:lnTo>
                  <a:pt x="42" y="4"/>
                </a:lnTo>
                <a:lnTo>
                  <a:pt x="43" y="2"/>
                </a:lnTo>
                <a:lnTo>
                  <a:pt x="43" y="1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5657760" y="3643200"/>
            <a:ext cx="73080" cy="152640"/>
          </a:xfrm>
          <a:custGeom>
            <a:avLst/>
            <a:gdLst/>
            <a:ahLst/>
            <a:rect l="l" t="t" r="r" b="b"/>
            <a:pathLst>
              <a:path w="46" h="96">
                <a:moveTo>
                  <a:pt x="0" y="0"/>
                </a:moveTo>
                <a:lnTo>
                  <a:pt x="3" y="0"/>
                </a:lnTo>
                <a:lnTo>
                  <a:pt x="6" y="2"/>
                </a:lnTo>
                <a:lnTo>
                  <a:pt x="8" y="4"/>
                </a:lnTo>
                <a:lnTo>
                  <a:pt x="11" y="8"/>
                </a:lnTo>
                <a:lnTo>
                  <a:pt x="14" y="14"/>
                </a:lnTo>
                <a:lnTo>
                  <a:pt x="17" y="20"/>
                </a:lnTo>
                <a:lnTo>
                  <a:pt x="22" y="33"/>
                </a:lnTo>
                <a:lnTo>
                  <a:pt x="28" y="49"/>
                </a:lnTo>
                <a:lnTo>
                  <a:pt x="34" y="65"/>
                </a:lnTo>
                <a:lnTo>
                  <a:pt x="40" y="81"/>
                </a:lnTo>
                <a:lnTo>
                  <a:pt x="46" y="9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5730840" y="3795840"/>
            <a:ext cx="69840" cy="214200"/>
          </a:xfrm>
          <a:custGeom>
            <a:avLst/>
            <a:gdLst/>
            <a:ahLst/>
            <a:rect l="l" t="t" r="r" b="b"/>
            <a:pathLst>
              <a:path w="44" h="135">
                <a:moveTo>
                  <a:pt x="0" y="0"/>
                </a:moveTo>
                <a:lnTo>
                  <a:pt x="3" y="9"/>
                </a:lnTo>
                <a:lnTo>
                  <a:pt x="6" y="17"/>
                </a:lnTo>
                <a:lnTo>
                  <a:pt x="11" y="35"/>
                </a:lnTo>
                <a:lnTo>
                  <a:pt x="17" y="55"/>
                </a:lnTo>
                <a:lnTo>
                  <a:pt x="22" y="75"/>
                </a:lnTo>
                <a:lnTo>
                  <a:pt x="27" y="95"/>
                </a:lnTo>
                <a:lnTo>
                  <a:pt x="30" y="104"/>
                </a:lnTo>
                <a:lnTo>
                  <a:pt x="33" y="112"/>
                </a:lnTo>
                <a:lnTo>
                  <a:pt x="36" y="119"/>
                </a:lnTo>
                <a:lnTo>
                  <a:pt x="38" y="126"/>
                </a:lnTo>
                <a:lnTo>
                  <a:pt x="41" y="131"/>
                </a:lnTo>
                <a:lnTo>
                  <a:pt x="44" y="135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5800680" y="396720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27"/>
                </a:moveTo>
                <a:lnTo>
                  <a:pt x="1" y="28"/>
                </a:lnTo>
                <a:lnTo>
                  <a:pt x="3" y="28"/>
                </a:lnTo>
                <a:lnTo>
                  <a:pt x="8" y="28"/>
                </a:lnTo>
                <a:lnTo>
                  <a:pt x="15" y="27"/>
                </a:lnTo>
                <a:lnTo>
                  <a:pt x="22" y="25"/>
                </a:lnTo>
                <a:lnTo>
                  <a:pt x="30" y="21"/>
                </a:lnTo>
                <a:lnTo>
                  <a:pt x="38" y="16"/>
                </a:lnTo>
                <a:lnTo>
                  <a:pt x="43" y="9"/>
                </a:lnTo>
                <a:lnTo>
                  <a:pt x="45" y="5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5873760" y="2878200"/>
            <a:ext cx="69840" cy="1089000"/>
          </a:xfrm>
          <a:custGeom>
            <a:avLst/>
            <a:gdLst/>
            <a:ahLst/>
            <a:rect l="l" t="t" r="r" b="b"/>
            <a:pathLst>
              <a:path w="44" h="686">
                <a:moveTo>
                  <a:pt x="0" y="686"/>
                </a:moveTo>
                <a:lnTo>
                  <a:pt x="1" y="674"/>
                </a:lnTo>
                <a:lnTo>
                  <a:pt x="3" y="659"/>
                </a:lnTo>
                <a:lnTo>
                  <a:pt x="4" y="642"/>
                </a:lnTo>
                <a:lnTo>
                  <a:pt x="6" y="624"/>
                </a:lnTo>
                <a:lnTo>
                  <a:pt x="7" y="605"/>
                </a:lnTo>
                <a:lnTo>
                  <a:pt x="8" y="583"/>
                </a:lnTo>
                <a:lnTo>
                  <a:pt x="10" y="560"/>
                </a:lnTo>
                <a:lnTo>
                  <a:pt x="11" y="536"/>
                </a:lnTo>
                <a:lnTo>
                  <a:pt x="12" y="511"/>
                </a:lnTo>
                <a:lnTo>
                  <a:pt x="14" y="484"/>
                </a:lnTo>
                <a:lnTo>
                  <a:pt x="17" y="431"/>
                </a:lnTo>
                <a:lnTo>
                  <a:pt x="19" y="374"/>
                </a:lnTo>
                <a:lnTo>
                  <a:pt x="22" y="318"/>
                </a:lnTo>
                <a:lnTo>
                  <a:pt x="25" y="263"/>
                </a:lnTo>
                <a:lnTo>
                  <a:pt x="26" y="235"/>
                </a:lnTo>
                <a:lnTo>
                  <a:pt x="27" y="209"/>
                </a:lnTo>
                <a:lnTo>
                  <a:pt x="29" y="183"/>
                </a:lnTo>
                <a:lnTo>
                  <a:pt x="30" y="159"/>
                </a:lnTo>
                <a:lnTo>
                  <a:pt x="32" y="135"/>
                </a:lnTo>
                <a:lnTo>
                  <a:pt x="33" y="113"/>
                </a:lnTo>
                <a:lnTo>
                  <a:pt x="34" y="92"/>
                </a:lnTo>
                <a:lnTo>
                  <a:pt x="36" y="73"/>
                </a:lnTo>
                <a:lnTo>
                  <a:pt x="37" y="55"/>
                </a:lnTo>
                <a:lnTo>
                  <a:pt x="38" y="39"/>
                </a:lnTo>
                <a:lnTo>
                  <a:pt x="40" y="26"/>
                </a:lnTo>
                <a:lnTo>
                  <a:pt x="41" y="15"/>
                </a:lnTo>
                <a:lnTo>
                  <a:pt x="43" y="6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5943600" y="2870280"/>
            <a:ext cx="73080" cy="588960"/>
          </a:xfrm>
          <a:custGeom>
            <a:avLst/>
            <a:gdLst/>
            <a:ahLst/>
            <a:rect l="l" t="t" r="r" b="b"/>
            <a:pathLst>
              <a:path w="46" h="371">
                <a:moveTo>
                  <a:pt x="0" y="5"/>
                </a:moveTo>
                <a:lnTo>
                  <a:pt x="1" y="1"/>
                </a:lnTo>
                <a:lnTo>
                  <a:pt x="3" y="0"/>
                </a:lnTo>
                <a:lnTo>
                  <a:pt x="4" y="1"/>
                </a:lnTo>
                <a:lnTo>
                  <a:pt x="6" y="4"/>
                </a:lnTo>
                <a:lnTo>
                  <a:pt x="7" y="8"/>
                </a:lnTo>
                <a:lnTo>
                  <a:pt x="8" y="15"/>
                </a:lnTo>
                <a:lnTo>
                  <a:pt x="10" y="23"/>
                </a:lnTo>
                <a:lnTo>
                  <a:pt x="11" y="33"/>
                </a:lnTo>
                <a:lnTo>
                  <a:pt x="13" y="44"/>
                </a:lnTo>
                <a:lnTo>
                  <a:pt x="14" y="56"/>
                </a:lnTo>
                <a:lnTo>
                  <a:pt x="15" y="70"/>
                </a:lnTo>
                <a:lnTo>
                  <a:pt x="17" y="85"/>
                </a:lnTo>
                <a:lnTo>
                  <a:pt x="18" y="101"/>
                </a:lnTo>
                <a:lnTo>
                  <a:pt x="20" y="117"/>
                </a:lnTo>
                <a:lnTo>
                  <a:pt x="22" y="150"/>
                </a:lnTo>
                <a:lnTo>
                  <a:pt x="26" y="186"/>
                </a:lnTo>
                <a:lnTo>
                  <a:pt x="29" y="220"/>
                </a:lnTo>
                <a:lnTo>
                  <a:pt x="32" y="255"/>
                </a:lnTo>
                <a:lnTo>
                  <a:pt x="33" y="271"/>
                </a:lnTo>
                <a:lnTo>
                  <a:pt x="35" y="287"/>
                </a:lnTo>
                <a:lnTo>
                  <a:pt x="36" y="301"/>
                </a:lnTo>
                <a:lnTo>
                  <a:pt x="38" y="315"/>
                </a:lnTo>
                <a:lnTo>
                  <a:pt x="39" y="328"/>
                </a:lnTo>
                <a:lnTo>
                  <a:pt x="40" y="340"/>
                </a:lnTo>
                <a:lnTo>
                  <a:pt x="42" y="350"/>
                </a:lnTo>
                <a:lnTo>
                  <a:pt x="43" y="359"/>
                </a:lnTo>
                <a:lnTo>
                  <a:pt x="45" y="366"/>
                </a:lnTo>
                <a:lnTo>
                  <a:pt x="46" y="37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6016680" y="3319560"/>
            <a:ext cx="69840" cy="155520"/>
          </a:xfrm>
          <a:custGeom>
            <a:avLst/>
            <a:gdLst/>
            <a:ahLst/>
            <a:rect l="l" t="t" r="r" b="b"/>
            <a:pathLst>
              <a:path w="44" h="98">
                <a:moveTo>
                  <a:pt x="0" y="88"/>
                </a:moveTo>
                <a:lnTo>
                  <a:pt x="1" y="92"/>
                </a:lnTo>
                <a:lnTo>
                  <a:pt x="3" y="95"/>
                </a:lnTo>
                <a:lnTo>
                  <a:pt x="4" y="97"/>
                </a:lnTo>
                <a:lnTo>
                  <a:pt x="6" y="98"/>
                </a:lnTo>
                <a:lnTo>
                  <a:pt x="7" y="98"/>
                </a:lnTo>
                <a:lnTo>
                  <a:pt x="8" y="98"/>
                </a:lnTo>
                <a:lnTo>
                  <a:pt x="11" y="96"/>
                </a:lnTo>
                <a:lnTo>
                  <a:pt x="14" y="91"/>
                </a:lnTo>
                <a:lnTo>
                  <a:pt x="17" y="84"/>
                </a:lnTo>
                <a:lnTo>
                  <a:pt x="19" y="76"/>
                </a:lnTo>
                <a:lnTo>
                  <a:pt x="22" y="66"/>
                </a:lnTo>
                <a:lnTo>
                  <a:pt x="27" y="45"/>
                </a:lnTo>
                <a:lnTo>
                  <a:pt x="30" y="35"/>
                </a:lnTo>
                <a:lnTo>
                  <a:pt x="33" y="25"/>
                </a:lnTo>
                <a:lnTo>
                  <a:pt x="36" y="17"/>
                </a:lnTo>
                <a:lnTo>
                  <a:pt x="38" y="9"/>
                </a:lnTo>
                <a:lnTo>
                  <a:pt x="41" y="4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6086520" y="330984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0" y="6"/>
                </a:moveTo>
                <a:lnTo>
                  <a:pt x="5" y="3"/>
                </a:lnTo>
                <a:lnTo>
                  <a:pt x="10" y="1"/>
                </a:lnTo>
                <a:lnTo>
                  <a:pt x="16" y="0"/>
                </a:lnTo>
                <a:lnTo>
                  <a:pt x="23" y="0"/>
                </a:lnTo>
                <a:lnTo>
                  <a:pt x="30" y="2"/>
                </a:lnTo>
                <a:lnTo>
                  <a:pt x="36" y="5"/>
                </a:lnTo>
                <a:lnTo>
                  <a:pt x="41" y="10"/>
                </a:lnTo>
                <a:lnTo>
                  <a:pt x="46" y="17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6159600" y="3336840"/>
            <a:ext cx="69840" cy="223920"/>
          </a:xfrm>
          <a:custGeom>
            <a:avLst/>
            <a:gdLst/>
            <a:ahLst/>
            <a:rect l="l" t="t" r="r" b="b"/>
            <a:pathLst>
              <a:path w="44" h="141">
                <a:moveTo>
                  <a:pt x="0" y="0"/>
                </a:moveTo>
                <a:lnTo>
                  <a:pt x="3" y="5"/>
                </a:lnTo>
                <a:lnTo>
                  <a:pt x="6" y="12"/>
                </a:lnTo>
                <a:lnTo>
                  <a:pt x="8" y="21"/>
                </a:lnTo>
                <a:lnTo>
                  <a:pt x="11" y="30"/>
                </a:lnTo>
                <a:lnTo>
                  <a:pt x="14" y="41"/>
                </a:lnTo>
                <a:lnTo>
                  <a:pt x="17" y="51"/>
                </a:lnTo>
                <a:lnTo>
                  <a:pt x="22" y="73"/>
                </a:lnTo>
                <a:lnTo>
                  <a:pt x="28" y="95"/>
                </a:lnTo>
                <a:lnTo>
                  <a:pt x="30" y="105"/>
                </a:lnTo>
                <a:lnTo>
                  <a:pt x="33" y="115"/>
                </a:lnTo>
                <a:lnTo>
                  <a:pt x="36" y="124"/>
                </a:lnTo>
                <a:lnTo>
                  <a:pt x="39" y="131"/>
                </a:lnTo>
                <a:lnTo>
                  <a:pt x="41" y="137"/>
                </a:lnTo>
                <a:lnTo>
                  <a:pt x="44" y="14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6229440" y="3502080"/>
            <a:ext cx="7128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0" y="37"/>
                </a:moveTo>
                <a:lnTo>
                  <a:pt x="4" y="39"/>
                </a:lnTo>
                <a:lnTo>
                  <a:pt x="9" y="39"/>
                </a:lnTo>
                <a:lnTo>
                  <a:pt x="16" y="37"/>
                </a:lnTo>
                <a:lnTo>
                  <a:pt x="23" y="33"/>
                </a:lnTo>
                <a:lnTo>
                  <a:pt x="30" y="27"/>
                </a:lnTo>
                <a:lnTo>
                  <a:pt x="36" y="19"/>
                </a:lnTo>
                <a:lnTo>
                  <a:pt x="41" y="1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6300720" y="3051000"/>
            <a:ext cx="71640" cy="451080"/>
          </a:xfrm>
          <a:custGeom>
            <a:avLst/>
            <a:gdLst/>
            <a:ahLst/>
            <a:rect l="l" t="t" r="r" b="b"/>
            <a:pathLst>
              <a:path w="45" h="284">
                <a:moveTo>
                  <a:pt x="0" y="284"/>
                </a:moveTo>
                <a:lnTo>
                  <a:pt x="1" y="279"/>
                </a:lnTo>
                <a:lnTo>
                  <a:pt x="3" y="272"/>
                </a:lnTo>
                <a:lnTo>
                  <a:pt x="4" y="265"/>
                </a:lnTo>
                <a:lnTo>
                  <a:pt x="6" y="257"/>
                </a:lnTo>
                <a:lnTo>
                  <a:pt x="7" y="248"/>
                </a:lnTo>
                <a:lnTo>
                  <a:pt x="8" y="238"/>
                </a:lnTo>
                <a:lnTo>
                  <a:pt x="11" y="217"/>
                </a:lnTo>
                <a:lnTo>
                  <a:pt x="14" y="193"/>
                </a:lnTo>
                <a:lnTo>
                  <a:pt x="17" y="170"/>
                </a:lnTo>
                <a:lnTo>
                  <a:pt x="22" y="120"/>
                </a:lnTo>
                <a:lnTo>
                  <a:pt x="25" y="96"/>
                </a:lnTo>
                <a:lnTo>
                  <a:pt x="28" y="74"/>
                </a:lnTo>
                <a:lnTo>
                  <a:pt x="31" y="53"/>
                </a:lnTo>
                <a:lnTo>
                  <a:pt x="32" y="43"/>
                </a:lnTo>
                <a:lnTo>
                  <a:pt x="34" y="34"/>
                </a:lnTo>
                <a:lnTo>
                  <a:pt x="35" y="26"/>
                </a:lnTo>
                <a:lnTo>
                  <a:pt x="37" y="19"/>
                </a:lnTo>
                <a:lnTo>
                  <a:pt x="38" y="13"/>
                </a:lnTo>
                <a:lnTo>
                  <a:pt x="39" y="8"/>
                </a:lnTo>
                <a:lnTo>
                  <a:pt x="41" y="4"/>
                </a:lnTo>
                <a:lnTo>
                  <a:pt x="42" y="2"/>
                </a:lnTo>
                <a:lnTo>
                  <a:pt x="44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6372360" y="3051000"/>
            <a:ext cx="71280" cy="501840"/>
          </a:xfrm>
          <a:custGeom>
            <a:avLst/>
            <a:gdLst/>
            <a:ahLst/>
            <a:rect l="l" t="t" r="r" b="b"/>
            <a:pathLst>
              <a:path w="45" h="316">
                <a:moveTo>
                  <a:pt x="0" y="0"/>
                </a:moveTo>
                <a:lnTo>
                  <a:pt x="1" y="1"/>
                </a:lnTo>
                <a:lnTo>
                  <a:pt x="3" y="4"/>
                </a:lnTo>
                <a:lnTo>
                  <a:pt x="4" y="8"/>
                </a:lnTo>
                <a:lnTo>
                  <a:pt x="6" y="13"/>
                </a:lnTo>
                <a:lnTo>
                  <a:pt x="7" y="19"/>
                </a:lnTo>
                <a:lnTo>
                  <a:pt x="8" y="27"/>
                </a:lnTo>
                <a:lnTo>
                  <a:pt x="11" y="35"/>
                </a:lnTo>
                <a:lnTo>
                  <a:pt x="12" y="46"/>
                </a:lnTo>
                <a:lnTo>
                  <a:pt x="13" y="56"/>
                </a:lnTo>
                <a:lnTo>
                  <a:pt x="15" y="67"/>
                </a:lnTo>
                <a:lnTo>
                  <a:pt x="18" y="90"/>
                </a:lnTo>
                <a:lnTo>
                  <a:pt x="20" y="116"/>
                </a:lnTo>
                <a:lnTo>
                  <a:pt x="23" y="144"/>
                </a:lnTo>
                <a:lnTo>
                  <a:pt x="26" y="171"/>
                </a:lnTo>
                <a:lnTo>
                  <a:pt x="28" y="197"/>
                </a:lnTo>
                <a:lnTo>
                  <a:pt x="31" y="224"/>
                </a:lnTo>
                <a:lnTo>
                  <a:pt x="34" y="249"/>
                </a:lnTo>
                <a:lnTo>
                  <a:pt x="35" y="260"/>
                </a:lnTo>
                <a:lnTo>
                  <a:pt x="37" y="270"/>
                </a:lnTo>
                <a:lnTo>
                  <a:pt x="38" y="280"/>
                </a:lnTo>
                <a:lnTo>
                  <a:pt x="39" y="289"/>
                </a:lnTo>
                <a:lnTo>
                  <a:pt x="41" y="297"/>
                </a:lnTo>
                <a:lnTo>
                  <a:pt x="42" y="305"/>
                </a:lnTo>
                <a:lnTo>
                  <a:pt x="44" y="311"/>
                </a:lnTo>
                <a:lnTo>
                  <a:pt x="45" y="31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6443640" y="3471840"/>
            <a:ext cx="71640" cy="84240"/>
          </a:xfrm>
          <a:custGeom>
            <a:avLst/>
            <a:gdLst/>
            <a:ahLst/>
            <a:rect l="l" t="t" r="r" b="b"/>
            <a:pathLst>
              <a:path w="45" h="53">
                <a:moveTo>
                  <a:pt x="0" y="51"/>
                </a:moveTo>
                <a:lnTo>
                  <a:pt x="1" y="52"/>
                </a:lnTo>
                <a:lnTo>
                  <a:pt x="3" y="53"/>
                </a:lnTo>
                <a:lnTo>
                  <a:pt x="8" y="52"/>
                </a:lnTo>
                <a:lnTo>
                  <a:pt x="15" y="48"/>
                </a:lnTo>
                <a:lnTo>
                  <a:pt x="22" y="42"/>
                </a:lnTo>
                <a:lnTo>
                  <a:pt x="30" y="33"/>
                </a:lnTo>
                <a:lnTo>
                  <a:pt x="37" y="23"/>
                </a:lnTo>
                <a:lnTo>
                  <a:pt x="42" y="12"/>
                </a:lnTo>
                <a:lnTo>
                  <a:pt x="44" y="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6515280" y="2048040"/>
            <a:ext cx="71280" cy="1423800"/>
          </a:xfrm>
          <a:custGeom>
            <a:avLst/>
            <a:gdLst/>
            <a:ahLst/>
            <a:rect l="l" t="t" r="r" b="b"/>
            <a:pathLst>
              <a:path w="45" h="897">
                <a:moveTo>
                  <a:pt x="0" y="897"/>
                </a:moveTo>
                <a:lnTo>
                  <a:pt x="1" y="889"/>
                </a:lnTo>
                <a:lnTo>
                  <a:pt x="1" y="881"/>
                </a:lnTo>
                <a:lnTo>
                  <a:pt x="2" y="871"/>
                </a:lnTo>
                <a:lnTo>
                  <a:pt x="3" y="861"/>
                </a:lnTo>
                <a:lnTo>
                  <a:pt x="5" y="838"/>
                </a:lnTo>
                <a:lnTo>
                  <a:pt x="7" y="813"/>
                </a:lnTo>
                <a:lnTo>
                  <a:pt x="8" y="786"/>
                </a:lnTo>
                <a:lnTo>
                  <a:pt x="9" y="755"/>
                </a:lnTo>
                <a:lnTo>
                  <a:pt x="11" y="723"/>
                </a:lnTo>
                <a:lnTo>
                  <a:pt x="12" y="690"/>
                </a:lnTo>
                <a:lnTo>
                  <a:pt x="13" y="654"/>
                </a:lnTo>
                <a:lnTo>
                  <a:pt x="15" y="619"/>
                </a:lnTo>
                <a:lnTo>
                  <a:pt x="16" y="581"/>
                </a:lnTo>
                <a:lnTo>
                  <a:pt x="18" y="543"/>
                </a:lnTo>
                <a:lnTo>
                  <a:pt x="20" y="465"/>
                </a:lnTo>
                <a:lnTo>
                  <a:pt x="23" y="388"/>
                </a:lnTo>
                <a:lnTo>
                  <a:pt x="24" y="350"/>
                </a:lnTo>
                <a:lnTo>
                  <a:pt x="26" y="312"/>
                </a:lnTo>
                <a:lnTo>
                  <a:pt x="27" y="276"/>
                </a:lnTo>
                <a:lnTo>
                  <a:pt x="28" y="240"/>
                </a:lnTo>
                <a:lnTo>
                  <a:pt x="30" y="207"/>
                </a:lnTo>
                <a:lnTo>
                  <a:pt x="31" y="175"/>
                </a:lnTo>
                <a:lnTo>
                  <a:pt x="33" y="144"/>
                </a:lnTo>
                <a:lnTo>
                  <a:pt x="34" y="116"/>
                </a:lnTo>
                <a:lnTo>
                  <a:pt x="35" y="91"/>
                </a:lnTo>
                <a:lnTo>
                  <a:pt x="37" y="67"/>
                </a:lnTo>
                <a:lnTo>
                  <a:pt x="37" y="57"/>
                </a:lnTo>
                <a:lnTo>
                  <a:pt x="38" y="48"/>
                </a:lnTo>
                <a:lnTo>
                  <a:pt x="39" y="39"/>
                </a:lnTo>
                <a:lnTo>
                  <a:pt x="39" y="31"/>
                </a:lnTo>
                <a:lnTo>
                  <a:pt x="40" y="24"/>
                </a:lnTo>
                <a:lnTo>
                  <a:pt x="41" y="17"/>
                </a:lnTo>
                <a:lnTo>
                  <a:pt x="41" y="12"/>
                </a:lnTo>
                <a:lnTo>
                  <a:pt x="42" y="8"/>
                </a:lnTo>
                <a:lnTo>
                  <a:pt x="43" y="4"/>
                </a:lnTo>
                <a:lnTo>
                  <a:pt x="43" y="2"/>
                </a:lnTo>
                <a:lnTo>
                  <a:pt x="44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6586560" y="2048040"/>
            <a:ext cx="73080" cy="1450800"/>
          </a:xfrm>
          <a:custGeom>
            <a:avLst/>
            <a:gdLst/>
            <a:ahLst/>
            <a:rect l="l" t="t" r="r" b="b"/>
            <a:pathLst>
              <a:path w="46" h="914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2" y="5"/>
                </a:lnTo>
                <a:lnTo>
                  <a:pt x="3" y="9"/>
                </a:lnTo>
                <a:lnTo>
                  <a:pt x="3" y="14"/>
                </a:lnTo>
                <a:lnTo>
                  <a:pt x="4" y="20"/>
                </a:lnTo>
                <a:lnTo>
                  <a:pt x="5" y="26"/>
                </a:lnTo>
                <a:lnTo>
                  <a:pt x="6" y="34"/>
                </a:lnTo>
                <a:lnTo>
                  <a:pt x="6" y="42"/>
                </a:lnTo>
                <a:lnTo>
                  <a:pt x="7" y="51"/>
                </a:lnTo>
                <a:lnTo>
                  <a:pt x="8" y="61"/>
                </a:lnTo>
                <a:lnTo>
                  <a:pt x="8" y="72"/>
                </a:lnTo>
                <a:lnTo>
                  <a:pt x="10" y="97"/>
                </a:lnTo>
                <a:lnTo>
                  <a:pt x="11" y="123"/>
                </a:lnTo>
                <a:lnTo>
                  <a:pt x="13" y="152"/>
                </a:lnTo>
                <a:lnTo>
                  <a:pt x="14" y="184"/>
                </a:lnTo>
                <a:lnTo>
                  <a:pt x="15" y="217"/>
                </a:lnTo>
                <a:lnTo>
                  <a:pt x="17" y="252"/>
                </a:lnTo>
                <a:lnTo>
                  <a:pt x="18" y="288"/>
                </a:lnTo>
                <a:lnTo>
                  <a:pt x="20" y="325"/>
                </a:lnTo>
                <a:lnTo>
                  <a:pt x="21" y="364"/>
                </a:lnTo>
                <a:lnTo>
                  <a:pt x="22" y="403"/>
                </a:lnTo>
                <a:lnTo>
                  <a:pt x="25" y="482"/>
                </a:lnTo>
                <a:lnTo>
                  <a:pt x="28" y="561"/>
                </a:lnTo>
                <a:lnTo>
                  <a:pt x="30" y="601"/>
                </a:lnTo>
                <a:lnTo>
                  <a:pt x="31" y="638"/>
                </a:lnTo>
                <a:lnTo>
                  <a:pt x="32" y="674"/>
                </a:lnTo>
                <a:lnTo>
                  <a:pt x="34" y="710"/>
                </a:lnTo>
                <a:lnTo>
                  <a:pt x="35" y="744"/>
                </a:lnTo>
                <a:lnTo>
                  <a:pt x="37" y="776"/>
                </a:lnTo>
                <a:lnTo>
                  <a:pt x="38" y="806"/>
                </a:lnTo>
                <a:lnTo>
                  <a:pt x="39" y="833"/>
                </a:lnTo>
                <a:lnTo>
                  <a:pt x="41" y="858"/>
                </a:lnTo>
                <a:lnTo>
                  <a:pt x="41" y="870"/>
                </a:lnTo>
                <a:lnTo>
                  <a:pt x="42" y="880"/>
                </a:lnTo>
                <a:lnTo>
                  <a:pt x="43" y="890"/>
                </a:lnTo>
                <a:lnTo>
                  <a:pt x="43" y="899"/>
                </a:lnTo>
                <a:lnTo>
                  <a:pt x="45" y="907"/>
                </a:lnTo>
                <a:lnTo>
                  <a:pt x="46" y="914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6659640" y="3438360"/>
            <a:ext cx="69840" cy="74880"/>
          </a:xfrm>
          <a:custGeom>
            <a:avLst/>
            <a:gdLst/>
            <a:ahLst/>
            <a:rect l="l" t="t" r="r" b="b"/>
            <a:pathLst>
              <a:path w="44" h="47">
                <a:moveTo>
                  <a:pt x="0" y="38"/>
                </a:moveTo>
                <a:lnTo>
                  <a:pt x="1" y="42"/>
                </a:lnTo>
                <a:lnTo>
                  <a:pt x="3" y="45"/>
                </a:lnTo>
                <a:lnTo>
                  <a:pt x="5" y="46"/>
                </a:lnTo>
                <a:lnTo>
                  <a:pt x="8" y="47"/>
                </a:lnTo>
                <a:lnTo>
                  <a:pt x="11" y="46"/>
                </a:lnTo>
                <a:lnTo>
                  <a:pt x="14" y="45"/>
                </a:lnTo>
                <a:lnTo>
                  <a:pt x="18" y="42"/>
                </a:lnTo>
                <a:lnTo>
                  <a:pt x="22" y="39"/>
                </a:lnTo>
                <a:lnTo>
                  <a:pt x="30" y="31"/>
                </a:lnTo>
                <a:lnTo>
                  <a:pt x="36" y="22"/>
                </a:lnTo>
                <a:lnTo>
                  <a:pt x="41" y="11"/>
                </a:lnTo>
                <a:lnTo>
                  <a:pt x="43" y="5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6729480" y="1914480"/>
            <a:ext cx="73080" cy="1523880"/>
          </a:xfrm>
          <a:custGeom>
            <a:avLst/>
            <a:gdLst/>
            <a:ahLst/>
            <a:rect l="l" t="t" r="r" b="b"/>
            <a:pathLst>
              <a:path w="46" h="960">
                <a:moveTo>
                  <a:pt x="0" y="960"/>
                </a:moveTo>
                <a:lnTo>
                  <a:pt x="1" y="952"/>
                </a:lnTo>
                <a:lnTo>
                  <a:pt x="1" y="943"/>
                </a:lnTo>
                <a:lnTo>
                  <a:pt x="3" y="922"/>
                </a:lnTo>
                <a:lnTo>
                  <a:pt x="4" y="899"/>
                </a:lnTo>
                <a:lnTo>
                  <a:pt x="6" y="874"/>
                </a:lnTo>
                <a:lnTo>
                  <a:pt x="7" y="846"/>
                </a:lnTo>
                <a:lnTo>
                  <a:pt x="8" y="815"/>
                </a:lnTo>
                <a:lnTo>
                  <a:pt x="10" y="784"/>
                </a:lnTo>
                <a:lnTo>
                  <a:pt x="11" y="749"/>
                </a:lnTo>
                <a:lnTo>
                  <a:pt x="13" y="715"/>
                </a:lnTo>
                <a:lnTo>
                  <a:pt x="14" y="678"/>
                </a:lnTo>
                <a:lnTo>
                  <a:pt x="15" y="640"/>
                </a:lnTo>
                <a:lnTo>
                  <a:pt x="17" y="602"/>
                </a:lnTo>
                <a:lnTo>
                  <a:pt x="20" y="524"/>
                </a:lnTo>
                <a:lnTo>
                  <a:pt x="22" y="445"/>
                </a:lnTo>
                <a:lnTo>
                  <a:pt x="25" y="367"/>
                </a:lnTo>
                <a:lnTo>
                  <a:pt x="27" y="328"/>
                </a:lnTo>
                <a:lnTo>
                  <a:pt x="28" y="291"/>
                </a:lnTo>
                <a:lnTo>
                  <a:pt x="30" y="256"/>
                </a:lnTo>
                <a:lnTo>
                  <a:pt x="31" y="221"/>
                </a:lnTo>
                <a:lnTo>
                  <a:pt x="32" y="188"/>
                </a:lnTo>
                <a:lnTo>
                  <a:pt x="34" y="156"/>
                </a:lnTo>
                <a:lnTo>
                  <a:pt x="35" y="127"/>
                </a:lnTo>
                <a:lnTo>
                  <a:pt x="37" y="101"/>
                </a:lnTo>
                <a:lnTo>
                  <a:pt x="38" y="77"/>
                </a:lnTo>
                <a:lnTo>
                  <a:pt x="40" y="54"/>
                </a:lnTo>
                <a:lnTo>
                  <a:pt x="41" y="45"/>
                </a:lnTo>
                <a:lnTo>
                  <a:pt x="42" y="36"/>
                </a:lnTo>
                <a:lnTo>
                  <a:pt x="42" y="28"/>
                </a:lnTo>
                <a:lnTo>
                  <a:pt x="43" y="20"/>
                </a:lnTo>
                <a:lnTo>
                  <a:pt x="44" y="14"/>
                </a:lnTo>
                <a:lnTo>
                  <a:pt x="44" y="8"/>
                </a:lnTo>
                <a:lnTo>
                  <a:pt x="45" y="3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6802560" y="1903320"/>
            <a:ext cx="69840" cy="843120"/>
          </a:xfrm>
          <a:custGeom>
            <a:avLst/>
            <a:gdLst/>
            <a:ahLst/>
            <a:rect l="l" t="t" r="r" b="b"/>
            <a:pathLst>
              <a:path w="44" h="531">
                <a:moveTo>
                  <a:pt x="0" y="7"/>
                </a:moveTo>
                <a:lnTo>
                  <a:pt x="1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3" y="0"/>
                </a:lnTo>
                <a:lnTo>
                  <a:pt x="4" y="1"/>
                </a:lnTo>
                <a:lnTo>
                  <a:pt x="6" y="5"/>
                </a:lnTo>
                <a:lnTo>
                  <a:pt x="7" y="12"/>
                </a:lnTo>
                <a:lnTo>
                  <a:pt x="8" y="21"/>
                </a:lnTo>
                <a:lnTo>
                  <a:pt x="10" y="32"/>
                </a:lnTo>
                <a:lnTo>
                  <a:pt x="11" y="46"/>
                </a:lnTo>
                <a:lnTo>
                  <a:pt x="12" y="61"/>
                </a:lnTo>
                <a:lnTo>
                  <a:pt x="14" y="78"/>
                </a:lnTo>
                <a:lnTo>
                  <a:pt x="15" y="98"/>
                </a:lnTo>
                <a:lnTo>
                  <a:pt x="17" y="118"/>
                </a:lnTo>
                <a:lnTo>
                  <a:pt x="18" y="140"/>
                </a:lnTo>
                <a:lnTo>
                  <a:pt x="19" y="162"/>
                </a:lnTo>
                <a:lnTo>
                  <a:pt x="21" y="186"/>
                </a:lnTo>
                <a:lnTo>
                  <a:pt x="22" y="210"/>
                </a:lnTo>
                <a:lnTo>
                  <a:pt x="25" y="259"/>
                </a:lnTo>
                <a:lnTo>
                  <a:pt x="27" y="308"/>
                </a:lnTo>
                <a:lnTo>
                  <a:pt x="30" y="357"/>
                </a:lnTo>
                <a:lnTo>
                  <a:pt x="32" y="380"/>
                </a:lnTo>
                <a:lnTo>
                  <a:pt x="33" y="403"/>
                </a:lnTo>
                <a:lnTo>
                  <a:pt x="34" y="425"/>
                </a:lnTo>
                <a:lnTo>
                  <a:pt x="36" y="445"/>
                </a:lnTo>
                <a:lnTo>
                  <a:pt x="37" y="463"/>
                </a:lnTo>
                <a:lnTo>
                  <a:pt x="38" y="481"/>
                </a:lnTo>
                <a:lnTo>
                  <a:pt x="40" y="496"/>
                </a:lnTo>
                <a:lnTo>
                  <a:pt x="41" y="509"/>
                </a:lnTo>
                <a:lnTo>
                  <a:pt x="42" y="522"/>
                </a:lnTo>
                <a:lnTo>
                  <a:pt x="44" y="531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6872400" y="2719440"/>
            <a:ext cx="73080" cy="3636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17"/>
                </a:moveTo>
                <a:lnTo>
                  <a:pt x="1" y="19"/>
                </a:lnTo>
                <a:lnTo>
                  <a:pt x="2" y="21"/>
                </a:lnTo>
                <a:lnTo>
                  <a:pt x="8" y="23"/>
                </a:lnTo>
                <a:lnTo>
                  <a:pt x="15" y="23"/>
                </a:lnTo>
                <a:lnTo>
                  <a:pt x="22" y="22"/>
                </a:lnTo>
                <a:lnTo>
                  <a:pt x="30" y="19"/>
                </a:lnTo>
                <a:lnTo>
                  <a:pt x="38" y="14"/>
                </a:lnTo>
                <a:lnTo>
                  <a:pt x="44" y="8"/>
                </a:lnTo>
                <a:lnTo>
                  <a:pt x="45" y="4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>
            <a:off x="6945480" y="1139760"/>
            <a:ext cx="69840" cy="1579680"/>
          </a:xfrm>
          <a:custGeom>
            <a:avLst/>
            <a:gdLst/>
            <a:ahLst/>
            <a:rect l="l" t="t" r="r" b="b"/>
            <a:pathLst>
              <a:path w="44" h="995">
                <a:moveTo>
                  <a:pt x="0" y="995"/>
                </a:moveTo>
                <a:lnTo>
                  <a:pt x="1" y="986"/>
                </a:lnTo>
                <a:lnTo>
                  <a:pt x="1" y="976"/>
                </a:lnTo>
                <a:lnTo>
                  <a:pt x="2" y="966"/>
                </a:lnTo>
                <a:lnTo>
                  <a:pt x="3" y="955"/>
                </a:lnTo>
                <a:lnTo>
                  <a:pt x="3" y="942"/>
                </a:lnTo>
                <a:lnTo>
                  <a:pt x="4" y="929"/>
                </a:lnTo>
                <a:lnTo>
                  <a:pt x="5" y="915"/>
                </a:lnTo>
                <a:lnTo>
                  <a:pt x="6" y="899"/>
                </a:lnTo>
                <a:lnTo>
                  <a:pt x="6" y="883"/>
                </a:lnTo>
                <a:lnTo>
                  <a:pt x="7" y="867"/>
                </a:lnTo>
                <a:lnTo>
                  <a:pt x="8" y="832"/>
                </a:lnTo>
                <a:lnTo>
                  <a:pt x="10" y="794"/>
                </a:lnTo>
                <a:lnTo>
                  <a:pt x="11" y="754"/>
                </a:lnTo>
                <a:lnTo>
                  <a:pt x="12" y="712"/>
                </a:lnTo>
                <a:lnTo>
                  <a:pt x="14" y="669"/>
                </a:lnTo>
                <a:lnTo>
                  <a:pt x="15" y="624"/>
                </a:lnTo>
                <a:lnTo>
                  <a:pt x="16" y="579"/>
                </a:lnTo>
                <a:lnTo>
                  <a:pt x="19" y="487"/>
                </a:lnTo>
                <a:lnTo>
                  <a:pt x="21" y="441"/>
                </a:lnTo>
                <a:lnTo>
                  <a:pt x="22" y="396"/>
                </a:lnTo>
                <a:lnTo>
                  <a:pt x="23" y="351"/>
                </a:lnTo>
                <a:lnTo>
                  <a:pt x="25" y="308"/>
                </a:lnTo>
                <a:lnTo>
                  <a:pt x="26" y="266"/>
                </a:lnTo>
                <a:lnTo>
                  <a:pt x="27" y="226"/>
                </a:lnTo>
                <a:lnTo>
                  <a:pt x="29" y="188"/>
                </a:lnTo>
                <a:lnTo>
                  <a:pt x="30" y="153"/>
                </a:lnTo>
                <a:lnTo>
                  <a:pt x="31" y="136"/>
                </a:lnTo>
                <a:lnTo>
                  <a:pt x="32" y="120"/>
                </a:lnTo>
                <a:lnTo>
                  <a:pt x="32" y="105"/>
                </a:lnTo>
                <a:lnTo>
                  <a:pt x="33" y="91"/>
                </a:lnTo>
                <a:lnTo>
                  <a:pt x="34" y="77"/>
                </a:lnTo>
                <a:lnTo>
                  <a:pt x="34" y="65"/>
                </a:lnTo>
                <a:lnTo>
                  <a:pt x="35" y="54"/>
                </a:lnTo>
                <a:lnTo>
                  <a:pt x="36" y="42"/>
                </a:lnTo>
                <a:lnTo>
                  <a:pt x="36" y="33"/>
                </a:lnTo>
                <a:lnTo>
                  <a:pt x="37" y="25"/>
                </a:lnTo>
                <a:lnTo>
                  <a:pt x="38" y="18"/>
                </a:lnTo>
                <a:lnTo>
                  <a:pt x="38" y="12"/>
                </a:lnTo>
                <a:lnTo>
                  <a:pt x="39" y="7"/>
                </a:lnTo>
                <a:lnTo>
                  <a:pt x="40" y="3"/>
                </a:lnTo>
                <a:lnTo>
                  <a:pt x="41" y="1"/>
                </a:lnTo>
                <a:lnTo>
                  <a:pt x="41" y="0"/>
                </a:lnTo>
                <a:lnTo>
                  <a:pt x="42" y="0"/>
                </a:lnTo>
                <a:lnTo>
                  <a:pt x="43" y="2"/>
                </a:lnTo>
                <a:lnTo>
                  <a:pt x="43" y="5"/>
                </a:lnTo>
                <a:lnTo>
                  <a:pt x="44" y="1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2" name=""/>
          <p:cNvGrpSpPr/>
          <p:nvPr/>
        </p:nvGrpSpPr>
        <p:grpSpPr>
          <a:xfrm>
            <a:off x="7015320" y="1155600"/>
            <a:ext cx="1071360" cy="3997440"/>
            <a:chOff x="7015320" y="1155600"/>
            <a:chExt cx="1071360" cy="3997440"/>
          </a:xfrm>
        </p:grpSpPr>
        <p:sp>
          <p:nvSpPr>
            <p:cNvPr id="6373" name=""/>
            <p:cNvSpPr/>
            <p:nvPr/>
          </p:nvSpPr>
          <p:spPr>
            <a:xfrm>
              <a:off x="7015320" y="1155600"/>
              <a:ext cx="72720" cy="2687760"/>
            </a:xfrm>
            <a:custGeom>
              <a:avLst/>
              <a:gdLst/>
              <a:ahLst/>
              <a:rect l="l" t="t" r="r" b="b"/>
              <a:pathLst>
                <a:path w="46" h="1693">
                  <a:moveTo>
                    <a:pt x="0" y="0"/>
                  </a:moveTo>
                  <a:lnTo>
                    <a:pt x="1" y="6"/>
                  </a:lnTo>
                  <a:lnTo>
                    <a:pt x="1" y="14"/>
                  </a:lnTo>
                  <a:lnTo>
                    <a:pt x="2" y="24"/>
                  </a:lnTo>
                  <a:lnTo>
                    <a:pt x="3" y="35"/>
                  </a:lnTo>
                  <a:lnTo>
                    <a:pt x="3" y="49"/>
                  </a:lnTo>
                  <a:lnTo>
                    <a:pt x="4" y="64"/>
                  </a:lnTo>
                  <a:lnTo>
                    <a:pt x="5" y="79"/>
                  </a:lnTo>
                  <a:lnTo>
                    <a:pt x="6" y="97"/>
                  </a:lnTo>
                  <a:lnTo>
                    <a:pt x="6" y="115"/>
                  </a:lnTo>
                  <a:lnTo>
                    <a:pt x="7" y="136"/>
                  </a:lnTo>
                  <a:lnTo>
                    <a:pt x="8" y="157"/>
                  </a:lnTo>
                  <a:lnTo>
                    <a:pt x="8" y="179"/>
                  </a:lnTo>
                  <a:lnTo>
                    <a:pt x="9" y="203"/>
                  </a:lnTo>
                  <a:lnTo>
                    <a:pt x="10" y="228"/>
                  </a:lnTo>
                  <a:lnTo>
                    <a:pt x="10" y="254"/>
                  </a:lnTo>
                  <a:lnTo>
                    <a:pt x="11" y="280"/>
                  </a:lnTo>
                  <a:lnTo>
                    <a:pt x="12" y="309"/>
                  </a:lnTo>
                  <a:lnTo>
                    <a:pt x="13" y="337"/>
                  </a:lnTo>
                  <a:lnTo>
                    <a:pt x="13" y="366"/>
                  </a:lnTo>
                  <a:lnTo>
                    <a:pt x="14" y="397"/>
                  </a:lnTo>
                  <a:lnTo>
                    <a:pt x="15" y="459"/>
                  </a:lnTo>
                  <a:lnTo>
                    <a:pt x="17" y="524"/>
                  </a:lnTo>
                  <a:lnTo>
                    <a:pt x="18" y="591"/>
                  </a:lnTo>
                  <a:lnTo>
                    <a:pt x="20" y="660"/>
                  </a:lnTo>
                  <a:lnTo>
                    <a:pt x="21" y="730"/>
                  </a:lnTo>
                  <a:lnTo>
                    <a:pt x="22" y="800"/>
                  </a:lnTo>
                  <a:lnTo>
                    <a:pt x="25" y="942"/>
                  </a:lnTo>
                  <a:lnTo>
                    <a:pt x="27" y="1013"/>
                  </a:lnTo>
                  <a:lnTo>
                    <a:pt x="29" y="1083"/>
                  </a:lnTo>
                  <a:lnTo>
                    <a:pt x="31" y="1150"/>
                  </a:lnTo>
                  <a:lnTo>
                    <a:pt x="32" y="1217"/>
                  </a:lnTo>
                  <a:lnTo>
                    <a:pt x="33" y="1282"/>
                  </a:lnTo>
                  <a:lnTo>
                    <a:pt x="35" y="1344"/>
                  </a:lnTo>
                  <a:lnTo>
                    <a:pt x="35" y="1373"/>
                  </a:lnTo>
                  <a:lnTo>
                    <a:pt x="36" y="1402"/>
                  </a:lnTo>
                  <a:lnTo>
                    <a:pt x="37" y="1430"/>
                  </a:lnTo>
                  <a:lnTo>
                    <a:pt x="38" y="1457"/>
                  </a:lnTo>
                  <a:lnTo>
                    <a:pt x="38" y="1483"/>
                  </a:lnTo>
                  <a:lnTo>
                    <a:pt x="39" y="1509"/>
                  </a:lnTo>
                  <a:lnTo>
                    <a:pt x="40" y="1533"/>
                  </a:lnTo>
                  <a:lnTo>
                    <a:pt x="40" y="1556"/>
                  </a:lnTo>
                  <a:lnTo>
                    <a:pt x="41" y="1577"/>
                  </a:lnTo>
                  <a:lnTo>
                    <a:pt x="42" y="1598"/>
                  </a:lnTo>
                  <a:lnTo>
                    <a:pt x="43" y="1618"/>
                  </a:lnTo>
                  <a:lnTo>
                    <a:pt x="43" y="1635"/>
                  </a:lnTo>
                  <a:lnTo>
                    <a:pt x="44" y="1652"/>
                  </a:lnTo>
                  <a:lnTo>
                    <a:pt x="45" y="1668"/>
                  </a:lnTo>
                  <a:lnTo>
                    <a:pt x="45" y="1681"/>
                  </a:lnTo>
                  <a:lnTo>
                    <a:pt x="46" y="1693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088040" y="3444840"/>
              <a:ext cx="69840" cy="43668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0" y="251"/>
                  </a:moveTo>
                  <a:lnTo>
                    <a:pt x="0" y="256"/>
                  </a:lnTo>
                  <a:lnTo>
                    <a:pt x="1" y="261"/>
                  </a:lnTo>
                  <a:lnTo>
                    <a:pt x="2" y="269"/>
                  </a:lnTo>
                  <a:lnTo>
                    <a:pt x="3" y="273"/>
                  </a:lnTo>
                  <a:lnTo>
                    <a:pt x="4" y="275"/>
                  </a:lnTo>
                  <a:lnTo>
                    <a:pt x="5" y="275"/>
                  </a:lnTo>
                  <a:lnTo>
                    <a:pt x="6" y="273"/>
                  </a:lnTo>
                  <a:lnTo>
                    <a:pt x="8" y="268"/>
                  </a:lnTo>
                  <a:lnTo>
                    <a:pt x="9" y="262"/>
                  </a:lnTo>
                  <a:lnTo>
                    <a:pt x="11" y="254"/>
                  </a:lnTo>
                  <a:lnTo>
                    <a:pt x="12" y="244"/>
                  </a:lnTo>
                  <a:lnTo>
                    <a:pt x="14" y="234"/>
                  </a:lnTo>
                  <a:lnTo>
                    <a:pt x="15" y="221"/>
                  </a:lnTo>
                  <a:lnTo>
                    <a:pt x="17" y="208"/>
                  </a:lnTo>
                  <a:lnTo>
                    <a:pt x="19" y="194"/>
                  </a:lnTo>
                  <a:lnTo>
                    <a:pt x="22" y="165"/>
                  </a:lnTo>
                  <a:lnTo>
                    <a:pt x="25" y="133"/>
                  </a:lnTo>
                  <a:lnTo>
                    <a:pt x="29" y="103"/>
                  </a:lnTo>
                  <a:lnTo>
                    <a:pt x="32" y="74"/>
                  </a:lnTo>
                  <a:lnTo>
                    <a:pt x="33" y="61"/>
                  </a:lnTo>
                  <a:lnTo>
                    <a:pt x="35" y="48"/>
                  </a:lnTo>
                  <a:lnTo>
                    <a:pt x="36" y="36"/>
                  </a:lnTo>
                  <a:lnTo>
                    <a:pt x="37" y="26"/>
                  </a:lnTo>
                  <a:lnTo>
                    <a:pt x="39" y="17"/>
                  </a:lnTo>
                  <a:lnTo>
                    <a:pt x="40" y="10"/>
                  </a:lnTo>
                  <a:lnTo>
                    <a:pt x="41" y="5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1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157880" y="3448080"/>
              <a:ext cx="73080" cy="839880"/>
            </a:xfrm>
            <a:custGeom>
              <a:avLst/>
              <a:gdLst/>
              <a:ahLst/>
              <a:rect l="l" t="t" r="r" b="b"/>
              <a:pathLst>
                <a:path w="46" h="529">
                  <a:moveTo>
                    <a:pt x="0" y="0"/>
                  </a:moveTo>
                  <a:lnTo>
                    <a:pt x="1" y="5"/>
                  </a:lnTo>
                  <a:lnTo>
                    <a:pt x="3" y="13"/>
                  </a:lnTo>
                  <a:lnTo>
                    <a:pt x="4" y="22"/>
                  </a:lnTo>
                  <a:lnTo>
                    <a:pt x="6" y="32"/>
                  </a:lnTo>
                  <a:lnTo>
                    <a:pt x="7" y="45"/>
                  </a:lnTo>
                  <a:lnTo>
                    <a:pt x="8" y="60"/>
                  </a:lnTo>
                  <a:lnTo>
                    <a:pt x="10" y="75"/>
                  </a:lnTo>
                  <a:lnTo>
                    <a:pt x="11" y="91"/>
                  </a:lnTo>
                  <a:lnTo>
                    <a:pt x="13" y="108"/>
                  </a:lnTo>
                  <a:lnTo>
                    <a:pt x="14" y="127"/>
                  </a:lnTo>
                  <a:lnTo>
                    <a:pt x="15" y="147"/>
                  </a:lnTo>
                  <a:lnTo>
                    <a:pt x="17" y="167"/>
                  </a:lnTo>
                  <a:lnTo>
                    <a:pt x="20" y="208"/>
                  </a:lnTo>
                  <a:lnTo>
                    <a:pt x="22" y="252"/>
                  </a:lnTo>
                  <a:lnTo>
                    <a:pt x="26" y="295"/>
                  </a:lnTo>
                  <a:lnTo>
                    <a:pt x="29" y="339"/>
                  </a:lnTo>
                  <a:lnTo>
                    <a:pt x="32" y="380"/>
                  </a:lnTo>
                  <a:lnTo>
                    <a:pt x="33" y="401"/>
                  </a:lnTo>
                  <a:lnTo>
                    <a:pt x="35" y="419"/>
                  </a:lnTo>
                  <a:lnTo>
                    <a:pt x="36" y="437"/>
                  </a:lnTo>
                  <a:lnTo>
                    <a:pt x="38" y="454"/>
                  </a:lnTo>
                  <a:lnTo>
                    <a:pt x="39" y="470"/>
                  </a:lnTo>
                  <a:lnTo>
                    <a:pt x="40" y="486"/>
                  </a:lnTo>
                  <a:lnTo>
                    <a:pt x="42" y="499"/>
                  </a:lnTo>
                  <a:lnTo>
                    <a:pt x="43" y="511"/>
                  </a:lnTo>
                  <a:lnTo>
                    <a:pt x="45" y="521"/>
                  </a:lnTo>
                  <a:lnTo>
                    <a:pt x="46" y="529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7300800" y="4210200"/>
              <a:ext cx="7308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0" y="0"/>
                  </a:moveTo>
                  <a:lnTo>
                    <a:pt x="3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2"/>
                  </a:lnTo>
                  <a:lnTo>
                    <a:pt x="18" y="23"/>
                  </a:lnTo>
                  <a:lnTo>
                    <a:pt x="23" y="35"/>
                  </a:lnTo>
                  <a:lnTo>
                    <a:pt x="29" y="48"/>
                  </a:lnTo>
                  <a:lnTo>
                    <a:pt x="35" y="60"/>
                  </a:lnTo>
                  <a:lnTo>
                    <a:pt x="38" y="65"/>
                  </a:lnTo>
                  <a:lnTo>
                    <a:pt x="40" y="70"/>
                  </a:lnTo>
                  <a:lnTo>
                    <a:pt x="43" y="74"/>
                  </a:lnTo>
                  <a:lnTo>
                    <a:pt x="46" y="77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443720" y="43401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0"/>
                  </a:moveTo>
                  <a:lnTo>
                    <a:pt x="5" y="3"/>
                  </a:lnTo>
                  <a:lnTo>
                    <a:pt x="11" y="7"/>
                  </a:lnTo>
                  <a:lnTo>
                    <a:pt x="23" y="15"/>
                  </a:lnTo>
                  <a:lnTo>
                    <a:pt x="28" y="18"/>
                  </a:lnTo>
                  <a:lnTo>
                    <a:pt x="34" y="22"/>
                  </a:lnTo>
                  <a:lnTo>
                    <a:pt x="39" y="24"/>
                  </a:lnTo>
                  <a:lnTo>
                    <a:pt x="45" y="2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586640" y="3441600"/>
              <a:ext cx="71640" cy="922320"/>
            </a:xfrm>
            <a:custGeom>
              <a:avLst/>
              <a:gdLst/>
              <a:ahLst/>
              <a:rect l="l" t="t" r="r" b="b"/>
              <a:pathLst>
                <a:path w="45" h="581">
                  <a:moveTo>
                    <a:pt x="0" y="581"/>
                  </a:moveTo>
                  <a:lnTo>
                    <a:pt x="1" y="571"/>
                  </a:lnTo>
                  <a:lnTo>
                    <a:pt x="3" y="557"/>
                  </a:lnTo>
                  <a:lnTo>
                    <a:pt x="4" y="542"/>
                  </a:lnTo>
                  <a:lnTo>
                    <a:pt x="6" y="526"/>
                  </a:lnTo>
                  <a:lnTo>
                    <a:pt x="8" y="507"/>
                  </a:lnTo>
                  <a:lnTo>
                    <a:pt x="9" y="488"/>
                  </a:lnTo>
                  <a:lnTo>
                    <a:pt x="11" y="465"/>
                  </a:lnTo>
                  <a:lnTo>
                    <a:pt x="12" y="443"/>
                  </a:lnTo>
                  <a:lnTo>
                    <a:pt x="13" y="419"/>
                  </a:lnTo>
                  <a:lnTo>
                    <a:pt x="15" y="394"/>
                  </a:lnTo>
                  <a:lnTo>
                    <a:pt x="18" y="343"/>
                  </a:lnTo>
                  <a:lnTo>
                    <a:pt x="20" y="290"/>
                  </a:lnTo>
                  <a:lnTo>
                    <a:pt x="23" y="239"/>
                  </a:lnTo>
                  <a:lnTo>
                    <a:pt x="24" y="212"/>
                  </a:lnTo>
                  <a:lnTo>
                    <a:pt x="26" y="188"/>
                  </a:lnTo>
                  <a:lnTo>
                    <a:pt x="27" y="164"/>
                  </a:lnTo>
                  <a:lnTo>
                    <a:pt x="28" y="141"/>
                  </a:lnTo>
                  <a:lnTo>
                    <a:pt x="30" y="118"/>
                  </a:lnTo>
                  <a:lnTo>
                    <a:pt x="31" y="97"/>
                  </a:lnTo>
                  <a:lnTo>
                    <a:pt x="33" y="78"/>
                  </a:lnTo>
                  <a:lnTo>
                    <a:pt x="34" y="61"/>
                  </a:lnTo>
                  <a:lnTo>
                    <a:pt x="35" y="44"/>
                  </a:lnTo>
                  <a:lnTo>
                    <a:pt x="37" y="31"/>
                  </a:lnTo>
                  <a:lnTo>
                    <a:pt x="38" y="20"/>
                  </a:lnTo>
                  <a:lnTo>
                    <a:pt x="39" y="11"/>
                  </a:lnTo>
                  <a:lnTo>
                    <a:pt x="41" y="5"/>
                  </a:lnTo>
                  <a:lnTo>
                    <a:pt x="42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5" y="3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658280" y="3446640"/>
              <a:ext cx="71280" cy="1342800"/>
            </a:xfrm>
            <a:custGeom>
              <a:avLst/>
              <a:gdLst/>
              <a:ahLst/>
              <a:rect l="l" t="t" r="r" b="b"/>
              <a:pathLst>
                <a:path w="45" h="846">
                  <a:moveTo>
                    <a:pt x="0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6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7"/>
                  </a:lnTo>
                  <a:lnTo>
                    <a:pt x="6" y="46"/>
                  </a:lnTo>
                  <a:lnTo>
                    <a:pt x="7" y="66"/>
                  </a:lnTo>
                  <a:lnTo>
                    <a:pt x="8" y="88"/>
                  </a:lnTo>
                  <a:lnTo>
                    <a:pt x="10" y="113"/>
                  </a:lnTo>
                  <a:lnTo>
                    <a:pt x="11" y="141"/>
                  </a:lnTo>
                  <a:lnTo>
                    <a:pt x="13" y="170"/>
                  </a:lnTo>
                  <a:lnTo>
                    <a:pt x="14" y="201"/>
                  </a:lnTo>
                  <a:lnTo>
                    <a:pt x="15" y="235"/>
                  </a:lnTo>
                  <a:lnTo>
                    <a:pt x="17" y="268"/>
                  </a:lnTo>
                  <a:lnTo>
                    <a:pt x="18" y="303"/>
                  </a:lnTo>
                  <a:lnTo>
                    <a:pt x="20" y="339"/>
                  </a:lnTo>
                  <a:lnTo>
                    <a:pt x="22" y="413"/>
                  </a:lnTo>
                  <a:lnTo>
                    <a:pt x="25" y="487"/>
                  </a:lnTo>
                  <a:lnTo>
                    <a:pt x="27" y="523"/>
                  </a:lnTo>
                  <a:lnTo>
                    <a:pt x="28" y="558"/>
                  </a:lnTo>
                  <a:lnTo>
                    <a:pt x="30" y="593"/>
                  </a:lnTo>
                  <a:lnTo>
                    <a:pt x="31" y="627"/>
                  </a:lnTo>
                  <a:lnTo>
                    <a:pt x="32" y="659"/>
                  </a:lnTo>
                  <a:lnTo>
                    <a:pt x="34" y="690"/>
                  </a:lnTo>
                  <a:lnTo>
                    <a:pt x="35" y="718"/>
                  </a:lnTo>
                  <a:lnTo>
                    <a:pt x="37" y="745"/>
                  </a:lnTo>
                  <a:lnTo>
                    <a:pt x="38" y="769"/>
                  </a:lnTo>
                  <a:lnTo>
                    <a:pt x="39" y="790"/>
                  </a:lnTo>
                  <a:lnTo>
                    <a:pt x="40" y="800"/>
                  </a:lnTo>
                  <a:lnTo>
                    <a:pt x="41" y="809"/>
                  </a:lnTo>
                  <a:lnTo>
                    <a:pt x="41" y="817"/>
                  </a:lnTo>
                  <a:lnTo>
                    <a:pt x="42" y="825"/>
                  </a:lnTo>
                  <a:lnTo>
                    <a:pt x="43" y="832"/>
                  </a:lnTo>
                  <a:lnTo>
                    <a:pt x="43" y="837"/>
                  </a:lnTo>
                  <a:lnTo>
                    <a:pt x="44" y="842"/>
                  </a:lnTo>
                  <a:lnTo>
                    <a:pt x="45" y="8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00840" y="4130640"/>
              <a:ext cx="73080" cy="609480"/>
            </a:xfrm>
            <a:custGeom>
              <a:avLst/>
              <a:gdLst/>
              <a:ahLst/>
              <a:rect l="l" t="t" r="r" b="b"/>
              <a:pathLst>
                <a:path w="46" h="384">
                  <a:moveTo>
                    <a:pt x="0" y="0"/>
                  </a:moveTo>
                  <a:lnTo>
                    <a:pt x="1" y="0"/>
                  </a:lnTo>
                  <a:lnTo>
                    <a:pt x="3" y="3"/>
                  </a:lnTo>
                  <a:lnTo>
                    <a:pt x="4" y="7"/>
                  </a:lnTo>
                  <a:lnTo>
                    <a:pt x="6" y="13"/>
                  </a:lnTo>
                  <a:lnTo>
                    <a:pt x="7" y="20"/>
                  </a:lnTo>
                  <a:lnTo>
                    <a:pt x="8" y="28"/>
                  </a:lnTo>
                  <a:lnTo>
                    <a:pt x="10" y="38"/>
                  </a:lnTo>
                  <a:lnTo>
                    <a:pt x="11" y="51"/>
                  </a:lnTo>
                  <a:lnTo>
                    <a:pt x="13" y="63"/>
                  </a:lnTo>
                  <a:lnTo>
                    <a:pt x="14" y="76"/>
                  </a:lnTo>
                  <a:lnTo>
                    <a:pt x="15" y="90"/>
                  </a:lnTo>
                  <a:lnTo>
                    <a:pt x="17" y="105"/>
                  </a:lnTo>
                  <a:lnTo>
                    <a:pt x="20" y="137"/>
                  </a:lnTo>
                  <a:lnTo>
                    <a:pt x="22" y="169"/>
                  </a:lnTo>
                  <a:lnTo>
                    <a:pt x="25" y="203"/>
                  </a:lnTo>
                  <a:lnTo>
                    <a:pt x="28" y="237"/>
                  </a:lnTo>
                  <a:lnTo>
                    <a:pt x="31" y="269"/>
                  </a:lnTo>
                  <a:lnTo>
                    <a:pt x="34" y="300"/>
                  </a:lnTo>
                  <a:lnTo>
                    <a:pt x="35" y="315"/>
                  </a:lnTo>
                  <a:lnTo>
                    <a:pt x="37" y="328"/>
                  </a:lnTo>
                  <a:lnTo>
                    <a:pt x="38" y="340"/>
                  </a:lnTo>
                  <a:lnTo>
                    <a:pt x="39" y="352"/>
                  </a:lnTo>
                  <a:lnTo>
                    <a:pt x="42" y="362"/>
                  </a:lnTo>
                  <a:lnTo>
                    <a:pt x="43" y="371"/>
                  </a:lnTo>
                  <a:lnTo>
                    <a:pt x="45" y="378"/>
                  </a:lnTo>
                  <a:lnTo>
                    <a:pt x="46" y="384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943760" y="4660920"/>
              <a:ext cx="73080" cy="492120"/>
            </a:xfrm>
            <a:custGeom>
              <a:avLst/>
              <a:gdLst/>
              <a:ahLst/>
              <a:rect l="l" t="t" r="r" b="b"/>
              <a:pathLst>
                <a:path w="46" h="310">
                  <a:moveTo>
                    <a:pt x="0" y="0"/>
                  </a:moveTo>
                  <a:lnTo>
                    <a:pt x="1" y="5"/>
                  </a:lnTo>
                  <a:lnTo>
                    <a:pt x="3" y="11"/>
                  </a:lnTo>
                  <a:lnTo>
                    <a:pt x="4" y="19"/>
                  </a:lnTo>
                  <a:lnTo>
                    <a:pt x="6" y="28"/>
                  </a:lnTo>
                  <a:lnTo>
                    <a:pt x="7" y="38"/>
                  </a:lnTo>
                  <a:lnTo>
                    <a:pt x="8" y="49"/>
                  </a:lnTo>
                  <a:lnTo>
                    <a:pt x="10" y="62"/>
                  </a:lnTo>
                  <a:lnTo>
                    <a:pt x="11" y="76"/>
                  </a:lnTo>
                  <a:lnTo>
                    <a:pt x="14" y="104"/>
                  </a:lnTo>
                  <a:lnTo>
                    <a:pt x="17" y="133"/>
                  </a:lnTo>
                  <a:lnTo>
                    <a:pt x="20" y="165"/>
                  </a:lnTo>
                  <a:lnTo>
                    <a:pt x="22" y="195"/>
                  </a:lnTo>
                  <a:lnTo>
                    <a:pt x="25" y="223"/>
                  </a:lnTo>
                  <a:lnTo>
                    <a:pt x="27" y="238"/>
                  </a:lnTo>
                  <a:lnTo>
                    <a:pt x="28" y="251"/>
                  </a:lnTo>
                  <a:lnTo>
                    <a:pt x="30" y="262"/>
                  </a:lnTo>
                  <a:lnTo>
                    <a:pt x="31" y="273"/>
                  </a:lnTo>
                  <a:lnTo>
                    <a:pt x="32" y="283"/>
                  </a:lnTo>
                  <a:lnTo>
                    <a:pt x="34" y="291"/>
                  </a:lnTo>
                  <a:lnTo>
                    <a:pt x="35" y="298"/>
                  </a:lnTo>
                  <a:lnTo>
                    <a:pt x="38" y="304"/>
                  </a:lnTo>
                  <a:lnTo>
                    <a:pt x="39" y="307"/>
                  </a:lnTo>
                  <a:lnTo>
                    <a:pt x="40" y="309"/>
                  </a:lnTo>
                  <a:lnTo>
                    <a:pt x="42" y="310"/>
                  </a:lnTo>
                  <a:lnTo>
                    <a:pt x="43" y="308"/>
                  </a:lnTo>
                  <a:lnTo>
                    <a:pt x="45" y="303"/>
                  </a:lnTo>
                  <a:lnTo>
                    <a:pt x="46" y="297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8016840" y="3873600"/>
              <a:ext cx="69840" cy="1258920"/>
            </a:xfrm>
            <a:custGeom>
              <a:avLst/>
              <a:gdLst/>
              <a:ahLst/>
              <a:rect l="l" t="t" r="r" b="b"/>
              <a:pathLst>
                <a:path w="44" h="793">
                  <a:moveTo>
                    <a:pt x="0" y="793"/>
                  </a:moveTo>
                  <a:lnTo>
                    <a:pt x="1" y="784"/>
                  </a:lnTo>
                  <a:lnTo>
                    <a:pt x="3" y="774"/>
                  </a:lnTo>
                  <a:lnTo>
                    <a:pt x="4" y="761"/>
                  </a:lnTo>
                  <a:lnTo>
                    <a:pt x="6" y="747"/>
                  </a:lnTo>
                  <a:lnTo>
                    <a:pt x="7" y="730"/>
                  </a:lnTo>
                  <a:lnTo>
                    <a:pt x="8" y="712"/>
                  </a:lnTo>
                  <a:lnTo>
                    <a:pt x="10" y="692"/>
                  </a:lnTo>
                  <a:lnTo>
                    <a:pt x="11" y="672"/>
                  </a:lnTo>
                  <a:lnTo>
                    <a:pt x="12" y="650"/>
                  </a:lnTo>
                  <a:lnTo>
                    <a:pt x="14" y="626"/>
                  </a:lnTo>
                  <a:lnTo>
                    <a:pt x="15" y="601"/>
                  </a:lnTo>
                  <a:lnTo>
                    <a:pt x="17" y="576"/>
                  </a:lnTo>
                  <a:lnTo>
                    <a:pt x="18" y="549"/>
                  </a:lnTo>
                  <a:lnTo>
                    <a:pt x="19" y="522"/>
                  </a:lnTo>
                  <a:lnTo>
                    <a:pt x="22" y="464"/>
                  </a:lnTo>
                  <a:lnTo>
                    <a:pt x="25" y="406"/>
                  </a:lnTo>
                  <a:lnTo>
                    <a:pt x="28" y="345"/>
                  </a:lnTo>
                  <a:lnTo>
                    <a:pt x="30" y="284"/>
                  </a:lnTo>
                  <a:lnTo>
                    <a:pt x="33" y="224"/>
                  </a:lnTo>
                  <a:lnTo>
                    <a:pt x="36" y="164"/>
                  </a:lnTo>
                  <a:lnTo>
                    <a:pt x="38" y="106"/>
                  </a:lnTo>
                  <a:lnTo>
                    <a:pt x="40" y="79"/>
                  </a:lnTo>
                  <a:lnTo>
                    <a:pt x="41" y="52"/>
                  </a:lnTo>
                  <a:lnTo>
                    <a:pt x="43" y="2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3" name=""/>
          <p:cNvSpPr/>
          <p:nvPr/>
        </p:nvSpPr>
        <p:spPr>
          <a:xfrm>
            <a:off x="1014480" y="5600880"/>
            <a:ext cx="71280" cy="15840"/>
          </a:xfrm>
          <a:custGeom>
            <a:avLst/>
            <a:gdLst/>
            <a:ahLst/>
            <a:rect l="l" t="t" r="r" b="b"/>
            <a:pathLst>
              <a:path w="45" h="10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8" y="3"/>
                </a:lnTo>
                <a:lnTo>
                  <a:pt x="15" y="6"/>
                </a:lnTo>
                <a:lnTo>
                  <a:pt x="23" y="8"/>
                </a:lnTo>
                <a:lnTo>
                  <a:pt x="30" y="10"/>
                </a:lnTo>
                <a:lnTo>
                  <a:pt x="37" y="9"/>
                </a:lnTo>
                <a:lnTo>
                  <a:pt x="40" y="8"/>
                </a:lnTo>
                <a:lnTo>
                  <a:pt x="42" y="6"/>
                </a:lnTo>
                <a:lnTo>
                  <a:pt x="44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1085760" y="4708440"/>
            <a:ext cx="71640" cy="892440"/>
          </a:xfrm>
          <a:custGeom>
            <a:avLst/>
            <a:gdLst/>
            <a:ahLst/>
            <a:rect l="l" t="t" r="r" b="b"/>
            <a:pathLst>
              <a:path w="45" h="562">
                <a:moveTo>
                  <a:pt x="0" y="562"/>
                </a:moveTo>
                <a:lnTo>
                  <a:pt x="1" y="553"/>
                </a:lnTo>
                <a:lnTo>
                  <a:pt x="3" y="542"/>
                </a:lnTo>
                <a:lnTo>
                  <a:pt x="4" y="529"/>
                </a:lnTo>
                <a:lnTo>
                  <a:pt x="6" y="515"/>
                </a:lnTo>
                <a:lnTo>
                  <a:pt x="7" y="500"/>
                </a:lnTo>
                <a:lnTo>
                  <a:pt x="8" y="485"/>
                </a:lnTo>
                <a:lnTo>
                  <a:pt x="10" y="468"/>
                </a:lnTo>
                <a:lnTo>
                  <a:pt x="11" y="450"/>
                </a:lnTo>
                <a:lnTo>
                  <a:pt x="12" y="431"/>
                </a:lnTo>
                <a:lnTo>
                  <a:pt x="14" y="412"/>
                </a:lnTo>
                <a:lnTo>
                  <a:pt x="17" y="372"/>
                </a:lnTo>
                <a:lnTo>
                  <a:pt x="19" y="330"/>
                </a:lnTo>
                <a:lnTo>
                  <a:pt x="22" y="288"/>
                </a:lnTo>
                <a:lnTo>
                  <a:pt x="25" y="244"/>
                </a:lnTo>
                <a:lnTo>
                  <a:pt x="27" y="202"/>
                </a:lnTo>
                <a:lnTo>
                  <a:pt x="30" y="160"/>
                </a:lnTo>
                <a:lnTo>
                  <a:pt x="33" y="122"/>
                </a:lnTo>
                <a:lnTo>
                  <a:pt x="34" y="102"/>
                </a:lnTo>
                <a:lnTo>
                  <a:pt x="37" y="85"/>
                </a:lnTo>
                <a:lnTo>
                  <a:pt x="38" y="68"/>
                </a:lnTo>
                <a:lnTo>
                  <a:pt x="39" y="52"/>
                </a:lnTo>
                <a:lnTo>
                  <a:pt x="41" y="38"/>
                </a:lnTo>
                <a:lnTo>
                  <a:pt x="42" y="23"/>
                </a:lnTo>
                <a:lnTo>
                  <a:pt x="44" y="1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1157400" y="4551480"/>
            <a:ext cx="71280" cy="156960"/>
          </a:xfrm>
          <a:custGeom>
            <a:avLst/>
            <a:gdLst/>
            <a:ahLst/>
            <a:rect l="l" t="t" r="r" b="b"/>
            <a:pathLst>
              <a:path w="45" h="99">
                <a:moveTo>
                  <a:pt x="0" y="99"/>
                </a:moveTo>
                <a:lnTo>
                  <a:pt x="4" y="80"/>
                </a:lnTo>
                <a:lnTo>
                  <a:pt x="9" y="63"/>
                </a:lnTo>
                <a:lnTo>
                  <a:pt x="16" y="49"/>
                </a:lnTo>
                <a:lnTo>
                  <a:pt x="22" y="35"/>
                </a:lnTo>
                <a:lnTo>
                  <a:pt x="29" y="24"/>
                </a:lnTo>
                <a:lnTo>
                  <a:pt x="36" y="15"/>
                </a:lnTo>
                <a:lnTo>
                  <a:pt x="41" y="7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1228680" y="4395960"/>
            <a:ext cx="71640" cy="155520"/>
          </a:xfrm>
          <a:custGeom>
            <a:avLst/>
            <a:gdLst/>
            <a:ahLst/>
            <a:rect l="l" t="t" r="r" b="b"/>
            <a:pathLst>
              <a:path w="45" h="98">
                <a:moveTo>
                  <a:pt x="0" y="98"/>
                </a:moveTo>
                <a:lnTo>
                  <a:pt x="4" y="91"/>
                </a:lnTo>
                <a:lnTo>
                  <a:pt x="9" y="83"/>
                </a:lnTo>
                <a:lnTo>
                  <a:pt x="15" y="74"/>
                </a:lnTo>
                <a:lnTo>
                  <a:pt x="22" y="63"/>
                </a:lnTo>
                <a:lnTo>
                  <a:pt x="29" y="49"/>
                </a:lnTo>
                <a:lnTo>
                  <a:pt x="36" y="35"/>
                </a:lnTo>
                <a:lnTo>
                  <a:pt x="41" y="19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1300320" y="3551400"/>
            <a:ext cx="71280" cy="844560"/>
          </a:xfrm>
          <a:custGeom>
            <a:avLst/>
            <a:gdLst/>
            <a:ahLst/>
            <a:rect l="l" t="t" r="r" b="b"/>
            <a:pathLst>
              <a:path w="45" h="532">
                <a:moveTo>
                  <a:pt x="0" y="532"/>
                </a:moveTo>
                <a:lnTo>
                  <a:pt x="1" y="522"/>
                </a:lnTo>
                <a:lnTo>
                  <a:pt x="3" y="510"/>
                </a:lnTo>
                <a:lnTo>
                  <a:pt x="4" y="496"/>
                </a:lnTo>
                <a:lnTo>
                  <a:pt x="6" y="482"/>
                </a:lnTo>
                <a:lnTo>
                  <a:pt x="7" y="467"/>
                </a:lnTo>
                <a:lnTo>
                  <a:pt x="8" y="451"/>
                </a:lnTo>
                <a:lnTo>
                  <a:pt x="10" y="434"/>
                </a:lnTo>
                <a:lnTo>
                  <a:pt x="11" y="416"/>
                </a:lnTo>
                <a:lnTo>
                  <a:pt x="14" y="378"/>
                </a:lnTo>
                <a:lnTo>
                  <a:pt x="17" y="339"/>
                </a:lnTo>
                <a:lnTo>
                  <a:pt x="20" y="298"/>
                </a:lnTo>
                <a:lnTo>
                  <a:pt x="22" y="257"/>
                </a:lnTo>
                <a:lnTo>
                  <a:pt x="25" y="216"/>
                </a:lnTo>
                <a:lnTo>
                  <a:pt x="28" y="176"/>
                </a:lnTo>
                <a:lnTo>
                  <a:pt x="31" y="138"/>
                </a:lnTo>
                <a:lnTo>
                  <a:pt x="32" y="120"/>
                </a:lnTo>
                <a:lnTo>
                  <a:pt x="34" y="103"/>
                </a:lnTo>
                <a:lnTo>
                  <a:pt x="35" y="86"/>
                </a:lnTo>
                <a:lnTo>
                  <a:pt x="37" y="70"/>
                </a:lnTo>
                <a:lnTo>
                  <a:pt x="38" y="55"/>
                </a:lnTo>
                <a:lnTo>
                  <a:pt x="39" y="41"/>
                </a:lnTo>
                <a:lnTo>
                  <a:pt x="41" y="29"/>
                </a:lnTo>
                <a:lnTo>
                  <a:pt x="42" y="18"/>
                </a:lnTo>
                <a:lnTo>
                  <a:pt x="44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1371600" y="3538440"/>
            <a:ext cx="71280" cy="81000"/>
          </a:xfrm>
          <a:custGeom>
            <a:avLst/>
            <a:gdLst/>
            <a:ahLst/>
            <a:rect l="l" t="t" r="r" b="b"/>
            <a:pathLst>
              <a:path w="45" h="51">
                <a:moveTo>
                  <a:pt x="0" y="8"/>
                </a:moveTo>
                <a:lnTo>
                  <a:pt x="1" y="3"/>
                </a:lnTo>
                <a:lnTo>
                  <a:pt x="3" y="1"/>
                </a:lnTo>
                <a:lnTo>
                  <a:pt x="6" y="0"/>
                </a:lnTo>
                <a:lnTo>
                  <a:pt x="8" y="1"/>
                </a:lnTo>
                <a:lnTo>
                  <a:pt x="12" y="4"/>
                </a:lnTo>
                <a:lnTo>
                  <a:pt x="15" y="7"/>
                </a:lnTo>
                <a:lnTo>
                  <a:pt x="18" y="11"/>
                </a:lnTo>
                <a:lnTo>
                  <a:pt x="22" y="16"/>
                </a:lnTo>
                <a:lnTo>
                  <a:pt x="30" y="27"/>
                </a:lnTo>
                <a:lnTo>
                  <a:pt x="37" y="38"/>
                </a:lnTo>
                <a:lnTo>
                  <a:pt x="39" y="43"/>
                </a:lnTo>
                <a:lnTo>
                  <a:pt x="42" y="47"/>
                </a:lnTo>
                <a:lnTo>
                  <a:pt x="44" y="49"/>
                </a:lnTo>
                <a:lnTo>
                  <a:pt x="45" y="51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>
            <a:off x="1442880" y="3619440"/>
            <a:ext cx="71640" cy="46080"/>
          </a:xfrm>
          <a:custGeom>
            <a:avLst/>
            <a:gdLst/>
            <a:ahLst/>
            <a:rect l="l" t="t" r="r" b="b"/>
            <a:pathLst>
              <a:path w="45" h="29">
                <a:moveTo>
                  <a:pt x="0" y="0"/>
                </a:moveTo>
                <a:lnTo>
                  <a:pt x="3" y="1"/>
                </a:lnTo>
                <a:lnTo>
                  <a:pt x="8" y="2"/>
                </a:lnTo>
                <a:lnTo>
                  <a:pt x="15" y="4"/>
                </a:lnTo>
                <a:lnTo>
                  <a:pt x="22" y="6"/>
                </a:lnTo>
                <a:lnTo>
                  <a:pt x="30" y="9"/>
                </a:lnTo>
                <a:lnTo>
                  <a:pt x="37" y="13"/>
                </a:lnTo>
                <a:lnTo>
                  <a:pt x="42" y="19"/>
                </a:lnTo>
                <a:lnTo>
                  <a:pt x="45" y="29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1514520" y="3665520"/>
            <a:ext cx="71280" cy="763560"/>
          </a:xfrm>
          <a:custGeom>
            <a:avLst/>
            <a:gdLst/>
            <a:ahLst/>
            <a:rect l="l" t="t" r="r" b="b"/>
            <a:pathLst>
              <a:path w="45" h="481">
                <a:moveTo>
                  <a:pt x="0" y="0"/>
                </a:moveTo>
                <a:lnTo>
                  <a:pt x="1" y="8"/>
                </a:lnTo>
                <a:lnTo>
                  <a:pt x="3" y="18"/>
                </a:lnTo>
                <a:lnTo>
                  <a:pt x="4" y="29"/>
                </a:lnTo>
                <a:lnTo>
                  <a:pt x="6" y="41"/>
                </a:lnTo>
                <a:lnTo>
                  <a:pt x="7" y="54"/>
                </a:lnTo>
                <a:lnTo>
                  <a:pt x="8" y="67"/>
                </a:lnTo>
                <a:lnTo>
                  <a:pt x="10" y="82"/>
                </a:lnTo>
                <a:lnTo>
                  <a:pt x="11" y="98"/>
                </a:lnTo>
                <a:lnTo>
                  <a:pt x="14" y="130"/>
                </a:lnTo>
                <a:lnTo>
                  <a:pt x="17" y="164"/>
                </a:lnTo>
                <a:lnTo>
                  <a:pt x="19" y="201"/>
                </a:lnTo>
                <a:lnTo>
                  <a:pt x="23" y="237"/>
                </a:lnTo>
                <a:lnTo>
                  <a:pt x="26" y="275"/>
                </a:lnTo>
                <a:lnTo>
                  <a:pt x="28" y="310"/>
                </a:lnTo>
                <a:lnTo>
                  <a:pt x="31" y="346"/>
                </a:lnTo>
                <a:lnTo>
                  <a:pt x="34" y="379"/>
                </a:lnTo>
                <a:lnTo>
                  <a:pt x="35" y="394"/>
                </a:lnTo>
                <a:lnTo>
                  <a:pt x="37" y="409"/>
                </a:lnTo>
                <a:lnTo>
                  <a:pt x="38" y="423"/>
                </a:lnTo>
                <a:lnTo>
                  <a:pt x="39" y="438"/>
                </a:lnTo>
                <a:lnTo>
                  <a:pt x="41" y="450"/>
                </a:lnTo>
                <a:lnTo>
                  <a:pt x="42" y="461"/>
                </a:lnTo>
                <a:lnTo>
                  <a:pt x="44" y="472"/>
                </a:lnTo>
                <a:lnTo>
                  <a:pt x="45" y="4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1585800" y="4429080"/>
            <a:ext cx="71640" cy="117360"/>
          </a:xfrm>
          <a:custGeom>
            <a:avLst/>
            <a:gdLst/>
            <a:ahLst/>
            <a:rect l="l" t="t" r="r" b="b"/>
            <a:pathLst>
              <a:path w="45" h="74">
                <a:moveTo>
                  <a:pt x="0" y="0"/>
                </a:moveTo>
                <a:lnTo>
                  <a:pt x="4" y="15"/>
                </a:lnTo>
                <a:lnTo>
                  <a:pt x="9" y="29"/>
                </a:lnTo>
                <a:lnTo>
                  <a:pt x="15" y="42"/>
                </a:lnTo>
                <a:lnTo>
                  <a:pt x="22" y="53"/>
                </a:lnTo>
                <a:lnTo>
                  <a:pt x="30" y="62"/>
                </a:lnTo>
                <a:lnTo>
                  <a:pt x="36" y="68"/>
                </a:lnTo>
                <a:lnTo>
                  <a:pt x="41" y="72"/>
                </a:lnTo>
                <a:lnTo>
                  <a:pt x="45" y="7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1657440" y="4456080"/>
            <a:ext cx="71280" cy="90360"/>
          </a:xfrm>
          <a:custGeom>
            <a:avLst/>
            <a:gdLst/>
            <a:ahLst/>
            <a:rect l="l" t="t" r="r" b="b"/>
            <a:pathLst>
              <a:path w="45" h="57">
                <a:moveTo>
                  <a:pt x="0" y="57"/>
                </a:moveTo>
                <a:lnTo>
                  <a:pt x="3" y="57"/>
                </a:lnTo>
                <a:lnTo>
                  <a:pt x="6" y="56"/>
                </a:lnTo>
                <a:lnTo>
                  <a:pt x="8" y="53"/>
                </a:lnTo>
                <a:lnTo>
                  <a:pt x="11" y="50"/>
                </a:lnTo>
                <a:lnTo>
                  <a:pt x="18" y="41"/>
                </a:lnTo>
                <a:lnTo>
                  <a:pt x="23" y="31"/>
                </a:lnTo>
                <a:lnTo>
                  <a:pt x="28" y="21"/>
                </a:lnTo>
                <a:lnTo>
                  <a:pt x="34" y="10"/>
                </a:lnTo>
                <a:lnTo>
                  <a:pt x="37" y="7"/>
                </a:lnTo>
                <a:lnTo>
                  <a:pt x="39" y="3"/>
                </a:lnTo>
                <a:lnTo>
                  <a:pt x="42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728720" y="4456080"/>
            <a:ext cx="71640" cy="63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8" y="3"/>
                </a:lnTo>
                <a:lnTo>
                  <a:pt x="11" y="6"/>
                </a:lnTo>
                <a:lnTo>
                  <a:pt x="17" y="14"/>
                </a:lnTo>
                <a:lnTo>
                  <a:pt x="22" y="23"/>
                </a:lnTo>
                <a:lnTo>
                  <a:pt x="28" y="31"/>
                </a:lnTo>
                <a:lnTo>
                  <a:pt x="31" y="35"/>
                </a:lnTo>
                <a:lnTo>
                  <a:pt x="34" y="37"/>
                </a:lnTo>
                <a:lnTo>
                  <a:pt x="37" y="39"/>
                </a:lnTo>
                <a:lnTo>
                  <a:pt x="39" y="40"/>
                </a:lnTo>
                <a:lnTo>
                  <a:pt x="42" y="40"/>
                </a:lnTo>
                <a:lnTo>
                  <a:pt x="45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800360" y="4349880"/>
            <a:ext cx="71280" cy="168120"/>
          </a:xfrm>
          <a:custGeom>
            <a:avLst/>
            <a:gdLst/>
            <a:ahLst/>
            <a:rect l="l" t="t" r="r" b="b"/>
            <a:pathLst>
              <a:path w="45" h="106">
                <a:moveTo>
                  <a:pt x="0" y="106"/>
                </a:moveTo>
                <a:lnTo>
                  <a:pt x="3" y="103"/>
                </a:lnTo>
                <a:lnTo>
                  <a:pt x="6" y="100"/>
                </a:lnTo>
                <a:lnTo>
                  <a:pt x="8" y="95"/>
                </a:lnTo>
                <a:lnTo>
                  <a:pt x="12" y="90"/>
                </a:lnTo>
                <a:lnTo>
                  <a:pt x="18" y="76"/>
                </a:lnTo>
                <a:lnTo>
                  <a:pt x="23" y="61"/>
                </a:lnTo>
                <a:lnTo>
                  <a:pt x="28" y="46"/>
                </a:lnTo>
                <a:lnTo>
                  <a:pt x="34" y="30"/>
                </a:lnTo>
                <a:lnTo>
                  <a:pt x="39" y="1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1871640" y="4156200"/>
            <a:ext cx="71640" cy="193680"/>
          </a:xfrm>
          <a:custGeom>
            <a:avLst/>
            <a:gdLst/>
            <a:ahLst/>
            <a:rect l="l" t="t" r="r" b="b"/>
            <a:pathLst>
              <a:path w="45" h="122">
                <a:moveTo>
                  <a:pt x="0" y="122"/>
                </a:moveTo>
                <a:lnTo>
                  <a:pt x="2" y="114"/>
                </a:lnTo>
                <a:lnTo>
                  <a:pt x="5" y="106"/>
                </a:lnTo>
                <a:lnTo>
                  <a:pt x="8" y="95"/>
                </a:lnTo>
                <a:lnTo>
                  <a:pt x="11" y="84"/>
                </a:lnTo>
                <a:lnTo>
                  <a:pt x="16" y="60"/>
                </a:lnTo>
                <a:lnTo>
                  <a:pt x="19" y="47"/>
                </a:lnTo>
                <a:lnTo>
                  <a:pt x="22" y="36"/>
                </a:lnTo>
                <a:lnTo>
                  <a:pt x="26" y="24"/>
                </a:lnTo>
                <a:lnTo>
                  <a:pt x="29" y="15"/>
                </a:lnTo>
                <a:lnTo>
                  <a:pt x="32" y="8"/>
                </a:lnTo>
                <a:lnTo>
                  <a:pt x="34" y="3"/>
                </a:lnTo>
                <a:lnTo>
                  <a:pt x="36" y="1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1" y="3"/>
                </a:lnTo>
                <a:lnTo>
                  <a:pt x="43" y="6"/>
                </a:lnTo>
                <a:lnTo>
                  <a:pt x="44" y="9"/>
                </a:lnTo>
                <a:lnTo>
                  <a:pt x="45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1943280" y="4178160"/>
            <a:ext cx="71280" cy="812880"/>
          </a:xfrm>
          <a:custGeom>
            <a:avLst/>
            <a:gdLst/>
            <a:ahLst/>
            <a:rect l="l" t="t" r="r" b="b"/>
            <a:pathLst>
              <a:path w="45" h="512">
                <a:moveTo>
                  <a:pt x="0" y="0"/>
                </a:moveTo>
                <a:lnTo>
                  <a:pt x="1" y="7"/>
                </a:lnTo>
                <a:lnTo>
                  <a:pt x="3" y="16"/>
                </a:lnTo>
                <a:lnTo>
                  <a:pt x="5" y="27"/>
                </a:lnTo>
                <a:lnTo>
                  <a:pt x="7" y="39"/>
                </a:lnTo>
                <a:lnTo>
                  <a:pt x="8" y="51"/>
                </a:lnTo>
                <a:lnTo>
                  <a:pt x="9" y="66"/>
                </a:lnTo>
                <a:lnTo>
                  <a:pt x="11" y="81"/>
                </a:lnTo>
                <a:lnTo>
                  <a:pt x="12" y="97"/>
                </a:lnTo>
                <a:lnTo>
                  <a:pt x="13" y="115"/>
                </a:lnTo>
                <a:lnTo>
                  <a:pt x="15" y="133"/>
                </a:lnTo>
                <a:lnTo>
                  <a:pt x="18" y="170"/>
                </a:lnTo>
                <a:lnTo>
                  <a:pt x="20" y="210"/>
                </a:lnTo>
                <a:lnTo>
                  <a:pt x="23" y="251"/>
                </a:lnTo>
                <a:lnTo>
                  <a:pt x="26" y="292"/>
                </a:lnTo>
                <a:lnTo>
                  <a:pt x="28" y="332"/>
                </a:lnTo>
                <a:lnTo>
                  <a:pt x="31" y="371"/>
                </a:lnTo>
                <a:lnTo>
                  <a:pt x="33" y="390"/>
                </a:lnTo>
                <a:lnTo>
                  <a:pt x="34" y="407"/>
                </a:lnTo>
                <a:lnTo>
                  <a:pt x="35" y="424"/>
                </a:lnTo>
                <a:lnTo>
                  <a:pt x="37" y="440"/>
                </a:lnTo>
                <a:lnTo>
                  <a:pt x="38" y="456"/>
                </a:lnTo>
                <a:lnTo>
                  <a:pt x="39" y="470"/>
                </a:lnTo>
                <a:lnTo>
                  <a:pt x="41" y="482"/>
                </a:lnTo>
                <a:lnTo>
                  <a:pt x="42" y="494"/>
                </a:lnTo>
                <a:lnTo>
                  <a:pt x="44" y="504"/>
                </a:lnTo>
                <a:lnTo>
                  <a:pt x="45" y="5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2014560" y="4954680"/>
            <a:ext cx="73080" cy="47520"/>
          </a:xfrm>
          <a:custGeom>
            <a:avLst/>
            <a:gdLst/>
            <a:ahLst/>
            <a:rect l="l" t="t" r="r" b="b"/>
            <a:pathLst>
              <a:path w="46" h="30">
                <a:moveTo>
                  <a:pt x="0" y="23"/>
                </a:moveTo>
                <a:lnTo>
                  <a:pt x="1" y="27"/>
                </a:lnTo>
                <a:lnTo>
                  <a:pt x="3" y="29"/>
                </a:lnTo>
                <a:lnTo>
                  <a:pt x="5" y="30"/>
                </a:lnTo>
                <a:lnTo>
                  <a:pt x="8" y="30"/>
                </a:lnTo>
                <a:lnTo>
                  <a:pt x="12" y="29"/>
                </a:lnTo>
                <a:lnTo>
                  <a:pt x="15" y="28"/>
                </a:lnTo>
                <a:lnTo>
                  <a:pt x="22" y="22"/>
                </a:lnTo>
                <a:lnTo>
                  <a:pt x="30" y="16"/>
                </a:lnTo>
                <a:lnTo>
                  <a:pt x="37" y="9"/>
                </a:lnTo>
                <a:lnTo>
                  <a:pt x="42" y="3"/>
                </a:lnTo>
                <a:lnTo>
                  <a:pt x="45" y="1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087640" y="4863960"/>
            <a:ext cx="69840" cy="90720"/>
          </a:xfrm>
          <a:custGeom>
            <a:avLst/>
            <a:gdLst/>
            <a:ahLst/>
            <a:rect l="l" t="t" r="r" b="b"/>
            <a:pathLst>
              <a:path w="44" h="57">
                <a:moveTo>
                  <a:pt x="0" y="57"/>
                </a:moveTo>
                <a:lnTo>
                  <a:pt x="3" y="54"/>
                </a:lnTo>
                <a:lnTo>
                  <a:pt x="6" y="50"/>
                </a:lnTo>
                <a:lnTo>
                  <a:pt x="11" y="41"/>
                </a:lnTo>
                <a:lnTo>
                  <a:pt x="17" y="31"/>
                </a:lnTo>
                <a:lnTo>
                  <a:pt x="22" y="20"/>
                </a:lnTo>
                <a:lnTo>
                  <a:pt x="27" y="10"/>
                </a:lnTo>
                <a:lnTo>
                  <a:pt x="30" y="6"/>
                </a:lnTo>
                <a:lnTo>
                  <a:pt x="33" y="3"/>
                </a:lnTo>
                <a:lnTo>
                  <a:pt x="36" y="1"/>
                </a:lnTo>
                <a:lnTo>
                  <a:pt x="38" y="0"/>
                </a:lnTo>
                <a:lnTo>
                  <a:pt x="41" y="0"/>
                </a:lnTo>
                <a:lnTo>
                  <a:pt x="44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157480" y="4865760"/>
            <a:ext cx="73080" cy="195120"/>
          </a:xfrm>
          <a:custGeom>
            <a:avLst/>
            <a:gdLst/>
            <a:ahLst/>
            <a:rect l="l" t="t" r="r" b="b"/>
            <a:pathLst>
              <a:path w="46" h="123">
                <a:moveTo>
                  <a:pt x="0" y="0"/>
                </a:moveTo>
                <a:lnTo>
                  <a:pt x="3" y="3"/>
                </a:lnTo>
                <a:lnTo>
                  <a:pt x="6" y="8"/>
                </a:lnTo>
                <a:lnTo>
                  <a:pt x="8" y="16"/>
                </a:lnTo>
                <a:lnTo>
                  <a:pt x="11" y="24"/>
                </a:lnTo>
                <a:lnTo>
                  <a:pt x="14" y="33"/>
                </a:lnTo>
                <a:lnTo>
                  <a:pt x="17" y="43"/>
                </a:lnTo>
                <a:lnTo>
                  <a:pt x="22" y="64"/>
                </a:lnTo>
                <a:lnTo>
                  <a:pt x="28" y="84"/>
                </a:lnTo>
                <a:lnTo>
                  <a:pt x="31" y="94"/>
                </a:lnTo>
                <a:lnTo>
                  <a:pt x="34" y="103"/>
                </a:lnTo>
                <a:lnTo>
                  <a:pt x="37" y="111"/>
                </a:lnTo>
                <a:lnTo>
                  <a:pt x="40" y="117"/>
                </a:lnTo>
                <a:lnTo>
                  <a:pt x="43" y="121"/>
                </a:lnTo>
                <a:lnTo>
                  <a:pt x="46" y="1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230560" y="4919760"/>
            <a:ext cx="69840" cy="141120"/>
          </a:xfrm>
          <a:custGeom>
            <a:avLst/>
            <a:gdLst/>
            <a:ahLst/>
            <a:rect l="l" t="t" r="r" b="b"/>
            <a:pathLst>
              <a:path w="44" h="89">
                <a:moveTo>
                  <a:pt x="0" y="89"/>
                </a:moveTo>
                <a:lnTo>
                  <a:pt x="3" y="89"/>
                </a:lnTo>
                <a:lnTo>
                  <a:pt x="6" y="88"/>
                </a:lnTo>
                <a:lnTo>
                  <a:pt x="8" y="86"/>
                </a:lnTo>
                <a:lnTo>
                  <a:pt x="11" y="82"/>
                </a:lnTo>
                <a:lnTo>
                  <a:pt x="14" y="77"/>
                </a:lnTo>
                <a:lnTo>
                  <a:pt x="17" y="72"/>
                </a:lnTo>
                <a:lnTo>
                  <a:pt x="22" y="57"/>
                </a:lnTo>
                <a:lnTo>
                  <a:pt x="28" y="43"/>
                </a:lnTo>
                <a:lnTo>
                  <a:pt x="33" y="27"/>
                </a:lnTo>
                <a:lnTo>
                  <a:pt x="39" y="13"/>
                </a:lnTo>
                <a:lnTo>
                  <a:pt x="41" y="6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>
            <a:off x="2300400" y="4764240"/>
            <a:ext cx="71280" cy="155520"/>
          </a:xfrm>
          <a:custGeom>
            <a:avLst/>
            <a:gdLst/>
            <a:ahLst/>
            <a:rect l="l" t="t" r="r" b="b"/>
            <a:pathLst>
              <a:path w="45" h="98">
                <a:moveTo>
                  <a:pt x="0" y="98"/>
                </a:moveTo>
                <a:lnTo>
                  <a:pt x="3" y="92"/>
                </a:lnTo>
                <a:lnTo>
                  <a:pt x="5" y="84"/>
                </a:lnTo>
                <a:lnTo>
                  <a:pt x="8" y="75"/>
                </a:lnTo>
                <a:lnTo>
                  <a:pt x="11" y="67"/>
                </a:lnTo>
                <a:lnTo>
                  <a:pt x="16" y="48"/>
                </a:lnTo>
                <a:lnTo>
                  <a:pt x="22" y="31"/>
                </a:lnTo>
                <a:lnTo>
                  <a:pt x="25" y="23"/>
                </a:lnTo>
                <a:lnTo>
                  <a:pt x="27" y="15"/>
                </a:lnTo>
                <a:lnTo>
                  <a:pt x="30" y="9"/>
                </a:lnTo>
                <a:lnTo>
                  <a:pt x="34" y="5"/>
                </a:lnTo>
                <a:lnTo>
                  <a:pt x="37" y="1"/>
                </a:lnTo>
                <a:lnTo>
                  <a:pt x="39" y="0"/>
                </a:lnTo>
                <a:lnTo>
                  <a:pt x="42" y="1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2371680" y="4770360"/>
            <a:ext cx="71640" cy="370080"/>
          </a:xfrm>
          <a:custGeom>
            <a:avLst/>
            <a:gdLst/>
            <a:ahLst/>
            <a:rect l="l" t="t" r="r" b="b"/>
            <a:pathLst>
              <a:path w="45" h="233">
                <a:moveTo>
                  <a:pt x="0" y="0"/>
                </a:moveTo>
                <a:lnTo>
                  <a:pt x="1" y="3"/>
                </a:lnTo>
                <a:lnTo>
                  <a:pt x="3" y="6"/>
                </a:lnTo>
                <a:lnTo>
                  <a:pt x="4" y="10"/>
                </a:lnTo>
                <a:lnTo>
                  <a:pt x="6" y="15"/>
                </a:lnTo>
                <a:lnTo>
                  <a:pt x="8" y="27"/>
                </a:lnTo>
                <a:lnTo>
                  <a:pt x="11" y="42"/>
                </a:lnTo>
                <a:lnTo>
                  <a:pt x="14" y="58"/>
                </a:lnTo>
                <a:lnTo>
                  <a:pt x="17" y="77"/>
                </a:lnTo>
                <a:lnTo>
                  <a:pt x="20" y="96"/>
                </a:lnTo>
                <a:lnTo>
                  <a:pt x="22" y="115"/>
                </a:lnTo>
                <a:lnTo>
                  <a:pt x="25" y="134"/>
                </a:lnTo>
                <a:lnTo>
                  <a:pt x="28" y="153"/>
                </a:lnTo>
                <a:lnTo>
                  <a:pt x="31" y="172"/>
                </a:lnTo>
                <a:lnTo>
                  <a:pt x="34" y="188"/>
                </a:lnTo>
                <a:lnTo>
                  <a:pt x="37" y="203"/>
                </a:lnTo>
                <a:lnTo>
                  <a:pt x="39" y="216"/>
                </a:lnTo>
                <a:lnTo>
                  <a:pt x="41" y="221"/>
                </a:lnTo>
                <a:lnTo>
                  <a:pt x="42" y="226"/>
                </a:lnTo>
                <a:lnTo>
                  <a:pt x="44" y="230"/>
                </a:lnTo>
                <a:lnTo>
                  <a:pt x="45" y="23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2443320" y="5038560"/>
            <a:ext cx="71280" cy="111240"/>
          </a:xfrm>
          <a:custGeom>
            <a:avLst/>
            <a:gdLst/>
            <a:ahLst/>
            <a:rect l="l" t="t" r="r" b="b"/>
            <a:pathLst>
              <a:path w="45" h="70">
                <a:moveTo>
                  <a:pt x="0" y="64"/>
                </a:moveTo>
                <a:lnTo>
                  <a:pt x="3" y="68"/>
                </a:lnTo>
                <a:lnTo>
                  <a:pt x="6" y="70"/>
                </a:lnTo>
                <a:lnTo>
                  <a:pt x="8" y="70"/>
                </a:lnTo>
                <a:lnTo>
                  <a:pt x="11" y="69"/>
                </a:lnTo>
                <a:lnTo>
                  <a:pt x="14" y="66"/>
                </a:lnTo>
                <a:lnTo>
                  <a:pt x="17" y="62"/>
                </a:lnTo>
                <a:lnTo>
                  <a:pt x="19" y="57"/>
                </a:lnTo>
                <a:lnTo>
                  <a:pt x="22" y="51"/>
                </a:lnTo>
                <a:lnTo>
                  <a:pt x="27" y="38"/>
                </a:lnTo>
                <a:lnTo>
                  <a:pt x="34" y="24"/>
                </a:lnTo>
                <a:lnTo>
                  <a:pt x="39" y="11"/>
                </a:lnTo>
                <a:lnTo>
                  <a:pt x="42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>
            <a:off x="2514600" y="4913280"/>
            <a:ext cx="71280" cy="125280"/>
          </a:xfrm>
          <a:custGeom>
            <a:avLst/>
            <a:gdLst/>
            <a:ahLst/>
            <a:rect l="l" t="t" r="r" b="b"/>
            <a:pathLst>
              <a:path w="45" h="79">
                <a:moveTo>
                  <a:pt x="0" y="79"/>
                </a:moveTo>
                <a:lnTo>
                  <a:pt x="3" y="74"/>
                </a:lnTo>
                <a:lnTo>
                  <a:pt x="6" y="67"/>
                </a:lnTo>
                <a:lnTo>
                  <a:pt x="11" y="54"/>
                </a:lnTo>
                <a:lnTo>
                  <a:pt x="17" y="39"/>
                </a:lnTo>
                <a:lnTo>
                  <a:pt x="22" y="25"/>
                </a:lnTo>
                <a:lnTo>
                  <a:pt x="25" y="18"/>
                </a:lnTo>
                <a:lnTo>
                  <a:pt x="28" y="13"/>
                </a:lnTo>
                <a:lnTo>
                  <a:pt x="31" y="8"/>
                </a:lnTo>
                <a:lnTo>
                  <a:pt x="34" y="4"/>
                </a:lnTo>
                <a:lnTo>
                  <a:pt x="37" y="1"/>
                </a:lnTo>
                <a:lnTo>
                  <a:pt x="39" y="0"/>
                </a:lnTo>
                <a:lnTo>
                  <a:pt x="42" y="1"/>
                </a:lnTo>
                <a:lnTo>
                  <a:pt x="45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2585880" y="4917960"/>
            <a:ext cx="71640" cy="298440"/>
          </a:xfrm>
          <a:custGeom>
            <a:avLst/>
            <a:gdLst/>
            <a:ahLst/>
            <a:rect l="l" t="t" r="r" b="b"/>
            <a:pathLst>
              <a:path w="45" h="188">
                <a:moveTo>
                  <a:pt x="0" y="0"/>
                </a:moveTo>
                <a:lnTo>
                  <a:pt x="1" y="2"/>
                </a:lnTo>
                <a:lnTo>
                  <a:pt x="3" y="5"/>
                </a:lnTo>
                <a:lnTo>
                  <a:pt x="6" y="12"/>
                </a:lnTo>
                <a:lnTo>
                  <a:pt x="8" y="22"/>
                </a:lnTo>
                <a:lnTo>
                  <a:pt x="11" y="34"/>
                </a:lnTo>
                <a:lnTo>
                  <a:pt x="14" y="47"/>
                </a:lnTo>
                <a:lnTo>
                  <a:pt x="17" y="62"/>
                </a:lnTo>
                <a:lnTo>
                  <a:pt x="19" y="78"/>
                </a:lnTo>
                <a:lnTo>
                  <a:pt x="22" y="93"/>
                </a:lnTo>
                <a:lnTo>
                  <a:pt x="28" y="124"/>
                </a:lnTo>
                <a:lnTo>
                  <a:pt x="31" y="139"/>
                </a:lnTo>
                <a:lnTo>
                  <a:pt x="34" y="153"/>
                </a:lnTo>
                <a:lnTo>
                  <a:pt x="37" y="165"/>
                </a:lnTo>
                <a:lnTo>
                  <a:pt x="39" y="175"/>
                </a:lnTo>
                <a:lnTo>
                  <a:pt x="42" y="183"/>
                </a:lnTo>
                <a:lnTo>
                  <a:pt x="45" y="1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6" name=""/>
          <p:cNvSpPr/>
          <p:nvPr/>
        </p:nvSpPr>
        <p:spPr>
          <a:xfrm>
            <a:off x="2657520" y="5114880"/>
            <a:ext cx="71280" cy="108000"/>
          </a:xfrm>
          <a:custGeom>
            <a:avLst/>
            <a:gdLst/>
            <a:ahLst/>
            <a:rect l="l" t="t" r="r" b="b"/>
            <a:pathLst>
              <a:path w="45" h="68">
                <a:moveTo>
                  <a:pt x="0" y="64"/>
                </a:moveTo>
                <a:lnTo>
                  <a:pt x="3" y="67"/>
                </a:lnTo>
                <a:lnTo>
                  <a:pt x="6" y="68"/>
                </a:lnTo>
                <a:lnTo>
                  <a:pt x="8" y="68"/>
                </a:lnTo>
                <a:lnTo>
                  <a:pt x="11" y="66"/>
                </a:lnTo>
                <a:lnTo>
                  <a:pt x="14" y="63"/>
                </a:lnTo>
                <a:lnTo>
                  <a:pt x="17" y="59"/>
                </a:lnTo>
                <a:lnTo>
                  <a:pt x="20" y="54"/>
                </a:lnTo>
                <a:lnTo>
                  <a:pt x="22" y="48"/>
                </a:lnTo>
                <a:lnTo>
                  <a:pt x="28" y="36"/>
                </a:lnTo>
                <a:lnTo>
                  <a:pt x="34" y="22"/>
                </a:lnTo>
                <a:lnTo>
                  <a:pt x="39" y="10"/>
                </a:lnTo>
                <a:lnTo>
                  <a:pt x="42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>
            <a:off x="2728800" y="5008680"/>
            <a:ext cx="71640" cy="106200"/>
          </a:xfrm>
          <a:custGeom>
            <a:avLst/>
            <a:gdLst/>
            <a:ahLst/>
            <a:rect l="l" t="t" r="r" b="b"/>
            <a:pathLst>
              <a:path w="45" h="67">
                <a:moveTo>
                  <a:pt x="0" y="67"/>
                </a:moveTo>
                <a:lnTo>
                  <a:pt x="6" y="58"/>
                </a:lnTo>
                <a:lnTo>
                  <a:pt x="11" y="48"/>
                </a:lnTo>
                <a:lnTo>
                  <a:pt x="18" y="37"/>
                </a:lnTo>
                <a:lnTo>
                  <a:pt x="23" y="27"/>
                </a:lnTo>
                <a:lnTo>
                  <a:pt x="28" y="17"/>
                </a:lnTo>
                <a:lnTo>
                  <a:pt x="34" y="8"/>
                </a:lnTo>
                <a:lnTo>
                  <a:pt x="39" y="3"/>
                </a:lnTo>
                <a:lnTo>
                  <a:pt x="42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8" name=""/>
          <p:cNvSpPr/>
          <p:nvPr/>
        </p:nvSpPr>
        <p:spPr>
          <a:xfrm>
            <a:off x="2800440" y="5008680"/>
            <a:ext cx="71280" cy="79200"/>
          </a:xfrm>
          <a:custGeom>
            <a:avLst/>
            <a:gdLst/>
            <a:ahLst/>
            <a:rect l="l" t="t" r="r" b="b"/>
            <a:pathLst>
              <a:path w="45" h="50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8" y="4"/>
                </a:lnTo>
                <a:lnTo>
                  <a:pt x="11" y="7"/>
                </a:lnTo>
                <a:lnTo>
                  <a:pt x="17" y="16"/>
                </a:lnTo>
                <a:lnTo>
                  <a:pt x="22" y="26"/>
                </a:lnTo>
                <a:lnTo>
                  <a:pt x="28" y="36"/>
                </a:lnTo>
                <a:lnTo>
                  <a:pt x="34" y="44"/>
                </a:lnTo>
                <a:lnTo>
                  <a:pt x="37" y="47"/>
                </a:lnTo>
                <a:lnTo>
                  <a:pt x="39" y="49"/>
                </a:lnTo>
                <a:lnTo>
                  <a:pt x="42" y="50"/>
                </a:lnTo>
                <a:lnTo>
                  <a:pt x="45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9" name=""/>
          <p:cNvSpPr/>
          <p:nvPr/>
        </p:nvSpPr>
        <p:spPr>
          <a:xfrm>
            <a:off x="2871720" y="4967280"/>
            <a:ext cx="71640" cy="120600"/>
          </a:xfrm>
          <a:custGeom>
            <a:avLst/>
            <a:gdLst/>
            <a:ahLst/>
            <a:rect l="l" t="t" r="r" b="b"/>
            <a:pathLst>
              <a:path w="45" h="76">
                <a:moveTo>
                  <a:pt x="0" y="76"/>
                </a:moveTo>
                <a:lnTo>
                  <a:pt x="3" y="75"/>
                </a:lnTo>
                <a:lnTo>
                  <a:pt x="6" y="72"/>
                </a:lnTo>
                <a:lnTo>
                  <a:pt x="8" y="69"/>
                </a:lnTo>
                <a:lnTo>
                  <a:pt x="11" y="66"/>
                </a:lnTo>
                <a:lnTo>
                  <a:pt x="18" y="56"/>
                </a:lnTo>
                <a:lnTo>
                  <a:pt x="23" y="45"/>
                </a:lnTo>
                <a:lnTo>
                  <a:pt x="28" y="33"/>
                </a:lnTo>
                <a:lnTo>
                  <a:pt x="34" y="21"/>
                </a:lnTo>
                <a:lnTo>
                  <a:pt x="39" y="1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0" name=""/>
          <p:cNvSpPr/>
          <p:nvPr/>
        </p:nvSpPr>
        <p:spPr>
          <a:xfrm>
            <a:off x="2943360" y="4869000"/>
            <a:ext cx="71280" cy="98280"/>
          </a:xfrm>
          <a:custGeom>
            <a:avLst/>
            <a:gdLst/>
            <a:ahLst/>
            <a:rect l="l" t="t" r="r" b="b"/>
            <a:pathLst>
              <a:path w="45" h="62">
                <a:moveTo>
                  <a:pt x="0" y="62"/>
                </a:moveTo>
                <a:lnTo>
                  <a:pt x="6" y="53"/>
                </a:lnTo>
                <a:lnTo>
                  <a:pt x="11" y="42"/>
                </a:lnTo>
                <a:lnTo>
                  <a:pt x="17" y="32"/>
                </a:lnTo>
                <a:lnTo>
                  <a:pt x="22" y="22"/>
                </a:lnTo>
                <a:lnTo>
                  <a:pt x="28" y="13"/>
                </a:lnTo>
                <a:lnTo>
                  <a:pt x="34" y="5"/>
                </a:lnTo>
                <a:lnTo>
                  <a:pt x="37" y="2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>
            <a:off x="3014640" y="4869000"/>
            <a:ext cx="71640" cy="134640"/>
          </a:xfrm>
          <a:custGeom>
            <a:avLst/>
            <a:gdLst/>
            <a:ahLst/>
            <a:rect l="l" t="t" r="r" b="b"/>
            <a:pathLst>
              <a:path w="45" h="85">
                <a:moveTo>
                  <a:pt x="0" y="0"/>
                </a:moveTo>
                <a:lnTo>
                  <a:pt x="3" y="1"/>
                </a:lnTo>
                <a:lnTo>
                  <a:pt x="6" y="4"/>
                </a:lnTo>
                <a:lnTo>
                  <a:pt x="9" y="8"/>
                </a:lnTo>
                <a:lnTo>
                  <a:pt x="12" y="14"/>
                </a:lnTo>
                <a:lnTo>
                  <a:pt x="15" y="19"/>
                </a:lnTo>
                <a:lnTo>
                  <a:pt x="18" y="26"/>
                </a:lnTo>
                <a:lnTo>
                  <a:pt x="23" y="39"/>
                </a:lnTo>
                <a:lnTo>
                  <a:pt x="28" y="53"/>
                </a:lnTo>
                <a:lnTo>
                  <a:pt x="34" y="67"/>
                </a:lnTo>
                <a:lnTo>
                  <a:pt x="37" y="73"/>
                </a:lnTo>
                <a:lnTo>
                  <a:pt x="39" y="78"/>
                </a:lnTo>
                <a:lnTo>
                  <a:pt x="42" y="82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>
            <a:off x="3086280" y="5000760"/>
            <a:ext cx="71280" cy="15840"/>
          </a:xfrm>
          <a:custGeom>
            <a:avLst/>
            <a:gdLst/>
            <a:ahLst/>
            <a:rect l="l" t="t" r="r" b="b"/>
            <a:pathLst>
              <a:path w="45" h="10">
                <a:moveTo>
                  <a:pt x="0" y="2"/>
                </a:moveTo>
                <a:lnTo>
                  <a:pt x="6" y="6"/>
                </a:lnTo>
                <a:lnTo>
                  <a:pt x="11" y="9"/>
                </a:lnTo>
                <a:lnTo>
                  <a:pt x="17" y="10"/>
                </a:lnTo>
                <a:lnTo>
                  <a:pt x="22" y="10"/>
                </a:lnTo>
                <a:lnTo>
                  <a:pt x="28" y="9"/>
                </a:lnTo>
                <a:lnTo>
                  <a:pt x="34" y="6"/>
                </a:lnTo>
                <a:lnTo>
                  <a:pt x="3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3157560" y="4906800"/>
            <a:ext cx="71280" cy="93960"/>
          </a:xfrm>
          <a:custGeom>
            <a:avLst/>
            <a:gdLst/>
            <a:ahLst/>
            <a:rect l="l" t="t" r="r" b="b"/>
            <a:pathLst>
              <a:path w="45" h="59">
                <a:moveTo>
                  <a:pt x="0" y="59"/>
                </a:moveTo>
                <a:lnTo>
                  <a:pt x="7" y="54"/>
                </a:lnTo>
                <a:lnTo>
                  <a:pt x="12" y="47"/>
                </a:lnTo>
                <a:lnTo>
                  <a:pt x="18" y="39"/>
                </a:lnTo>
                <a:lnTo>
                  <a:pt x="23" y="29"/>
                </a:lnTo>
                <a:lnTo>
                  <a:pt x="28" y="20"/>
                </a:lnTo>
                <a:lnTo>
                  <a:pt x="34" y="12"/>
                </a:lnTo>
                <a:lnTo>
                  <a:pt x="39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3228840" y="4902120"/>
            <a:ext cx="73080" cy="6480"/>
          </a:xfrm>
          <a:custGeom>
            <a:avLst/>
            <a:gdLst/>
            <a:ahLst/>
            <a:rect l="l" t="t" r="r" b="b"/>
            <a:pathLst>
              <a:path w="46" h="4">
                <a:moveTo>
                  <a:pt x="0" y="3"/>
                </a:moveTo>
                <a:lnTo>
                  <a:pt x="6" y="0"/>
                </a:lnTo>
                <a:lnTo>
                  <a:pt x="11" y="0"/>
                </a:lnTo>
                <a:lnTo>
                  <a:pt x="17" y="1"/>
                </a:lnTo>
                <a:lnTo>
                  <a:pt x="22" y="2"/>
                </a:lnTo>
                <a:lnTo>
                  <a:pt x="28" y="4"/>
                </a:lnTo>
                <a:lnTo>
                  <a:pt x="34" y="4"/>
                </a:lnTo>
                <a:lnTo>
                  <a:pt x="39" y="4"/>
                </a:lnTo>
                <a:lnTo>
                  <a:pt x="46" y="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3301920" y="4821120"/>
            <a:ext cx="69840" cy="84240"/>
          </a:xfrm>
          <a:custGeom>
            <a:avLst/>
            <a:gdLst/>
            <a:ahLst/>
            <a:rect l="l" t="t" r="r" b="b"/>
            <a:pathLst>
              <a:path w="44" h="53">
                <a:moveTo>
                  <a:pt x="0" y="53"/>
                </a:moveTo>
                <a:lnTo>
                  <a:pt x="6" y="49"/>
                </a:lnTo>
                <a:lnTo>
                  <a:pt x="11" y="45"/>
                </a:lnTo>
                <a:lnTo>
                  <a:pt x="17" y="39"/>
                </a:lnTo>
                <a:lnTo>
                  <a:pt x="22" y="32"/>
                </a:lnTo>
                <a:lnTo>
                  <a:pt x="27" y="26"/>
                </a:lnTo>
                <a:lnTo>
                  <a:pt x="33" y="18"/>
                </a:lnTo>
                <a:lnTo>
                  <a:pt x="38" y="9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3371760" y="4653000"/>
            <a:ext cx="73080" cy="168120"/>
          </a:xfrm>
          <a:custGeom>
            <a:avLst/>
            <a:gdLst/>
            <a:ahLst/>
            <a:rect l="l" t="t" r="r" b="b"/>
            <a:pathLst>
              <a:path w="46" h="106">
                <a:moveTo>
                  <a:pt x="0" y="106"/>
                </a:moveTo>
                <a:lnTo>
                  <a:pt x="3" y="100"/>
                </a:lnTo>
                <a:lnTo>
                  <a:pt x="6" y="93"/>
                </a:lnTo>
                <a:lnTo>
                  <a:pt x="8" y="86"/>
                </a:lnTo>
                <a:lnTo>
                  <a:pt x="11" y="77"/>
                </a:lnTo>
                <a:lnTo>
                  <a:pt x="17" y="57"/>
                </a:lnTo>
                <a:lnTo>
                  <a:pt x="22" y="38"/>
                </a:lnTo>
                <a:lnTo>
                  <a:pt x="25" y="29"/>
                </a:lnTo>
                <a:lnTo>
                  <a:pt x="28" y="21"/>
                </a:lnTo>
                <a:lnTo>
                  <a:pt x="31" y="14"/>
                </a:lnTo>
                <a:lnTo>
                  <a:pt x="34" y="8"/>
                </a:lnTo>
                <a:lnTo>
                  <a:pt x="38" y="3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3444840" y="4654440"/>
            <a:ext cx="69840" cy="304920"/>
          </a:xfrm>
          <a:custGeom>
            <a:avLst/>
            <a:gdLst/>
            <a:ahLst/>
            <a:rect l="l" t="t" r="r" b="b"/>
            <a:pathLst>
              <a:path w="44" h="192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8" y="20"/>
                </a:lnTo>
                <a:lnTo>
                  <a:pt x="11" y="31"/>
                </a:lnTo>
                <a:lnTo>
                  <a:pt x="14" y="43"/>
                </a:lnTo>
                <a:lnTo>
                  <a:pt x="17" y="57"/>
                </a:lnTo>
                <a:lnTo>
                  <a:pt x="19" y="72"/>
                </a:lnTo>
                <a:lnTo>
                  <a:pt x="22" y="87"/>
                </a:lnTo>
                <a:lnTo>
                  <a:pt x="28" y="118"/>
                </a:lnTo>
                <a:lnTo>
                  <a:pt x="30" y="133"/>
                </a:lnTo>
                <a:lnTo>
                  <a:pt x="33" y="149"/>
                </a:lnTo>
                <a:lnTo>
                  <a:pt x="36" y="162"/>
                </a:lnTo>
                <a:lnTo>
                  <a:pt x="39" y="174"/>
                </a:lnTo>
                <a:lnTo>
                  <a:pt x="41" y="184"/>
                </a:lnTo>
                <a:lnTo>
                  <a:pt x="44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3514680" y="4959360"/>
            <a:ext cx="71640" cy="52200"/>
          </a:xfrm>
          <a:custGeom>
            <a:avLst/>
            <a:gdLst/>
            <a:ahLst/>
            <a:rect l="l" t="t" r="r" b="b"/>
            <a:pathLst>
              <a:path w="45" h="33">
                <a:moveTo>
                  <a:pt x="0" y="0"/>
                </a:moveTo>
                <a:lnTo>
                  <a:pt x="4" y="9"/>
                </a:lnTo>
                <a:lnTo>
                  <a:pt x="10" y="16"/>
                </a:lnTo>
                <a:lnTo>
                  <a:pt x="16" y="22"/>
                </a:lnTo>
                <a:lnTo>
                  <a:pt x="22" y="27"/>
                </a:lnTo>
                <a:lnTo>
                  <a:pt x="28" y="30"/>
                </a:lnTo>
                <a:lnTo>
                  <a:pt x="35" y="32"/>
                </a:lnTo>
                <a:lnTo>
                  <a:pt x="41" y="33"/>
                </a:lnTo>
                <a:lnTo>
                  <a:pt x="45" y="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3586320" y="4906800"/>
            <a:ext cx="71280" cy="103320"/>
          </a:xfrm>
          <a:custGeom>
            <a:avLst/>
            <a:gdLst/>
            <a:ahLst/>
            <a:rect l="l" t="t" r="r" b="b"/>
            <a:pathLst>
              <a:path w="45" h="65">
                <a:moveTo>
                  <a:pt x="0" y="65"/>
                </a:moveTo>
                <a:lnTo>
                  <a:pt x="3" y="63"/>
                </a:lnTo>
                <a:lnTo>
                  <a:pt x="6" y="61"/>
                </a:lnTo>
                <a:lnTo>
                  <a:pt x="8" y="58"/>
                </a:lnTo>
                <a:lnTo>
                  <a:pt x="11" y="54"/>
                </a:lnTo>
                <a:lnTo>
                  <a:pt x="17" y="44"/>
                </a:lnTo>
                <a:lnTo>
                  <a:pt x="22" y="34"/>
                </a:lnTo>
                <a:lnTo>
                  <a:pt x="28" y="23"/>
                </a:lnTo>
                <a:lnTo>
                  <a:pt x="34" y="13"/>
                </a:lnTo>
                <a:lnTo>
                  <a:pt x="39" y="5"/>
                </a:lnTo>
                <a:lnTo>
                  <a:pt x="42" y="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657600" y="4905360"/>
            <a:ext cx="71280" cy="31680"/>
          </a:xfrm>
          <a:custGeom>
            <a:avLst/>
            <a:gdLst/>
            <a:ahLst/>
            <a:rect l="l" t="t" r="r" b="b"/>
            <a:pathLst>
              <a:path w="45" h="20">
                <a:moveTo>
                  <a:pt x="0" y="1"/>
                </a:moveTo>
                <a:lnTo>
                  <a:pt x="3" y="0"/>
                </a:lnTo>
                <a:lnTo>
                  <a:pt x="6" y="0"/>
                </a:lnTo>
                <a:lnTo>
                  <a:pt x="8" y="1"/>
                </a:lnTo>
                <a:lnTo>
                  <a:pt x="11" y="2"/>
                </a:lnTo>
                <a:lnTo>
                  <a:pt x="17" y="6"/>
                </a:lnTo>
                <a:lnTo>
                  <a:pt x="22" y="11"/>
                </a:lnTo>
                <a:lnTo>
                  <a:pt x="28" y="16"/>
                </a:lnTo>
                <a:lnTo>
                  <a:pt x="34" y="19"/>
                </a:lnTo>
                <a:lnTo>
                  <a:pt x="37" y="20"/>
                </a:lnTo>
                <a:lnTo>
                  <a:pt x="39" y="20"/>
                </a:lnTo>
                <a:lnTo>
                  <a:pt x="42" y="18"/>
                </a:lnTo>
                <a:lnTo>
                  <a:pt x="45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3728880" y="4749840"/>
            <a:ext cx="71640" cy="181080"/>
          </a:xfrm>
          <a:custGeom>
            <a:avLst/>
            <a:gdLst/>
            <a:ahLst/>
            <a:rect l="l" t="t" r="r" b="b"/>
            <a:pathLst>
              <a:path w="45" h="114">
                <a:moveTo>
                  <a:pt x="0" y="114"/>
                </a:moveTo>
                <a:lnTo>
                  <a:pt x="3" y="110"/>
                </a:lnTo>
                <a:lnTo>
                  <a:pt x="6" y="106"/>
                </a:lnTo>
                <a:lnTo>
                  <a:pt x="8" y="101"/>
                </a:lnTo>
                <a:lnTo>
                  <a:pt x="11" y="95"/>
                </a:lnTo>
                <a:lnTo>
                  <a:pt x="17" y="80"/>
                </a:lnTo>
                <a:lnTo>
                  <a:pt x="22" y="65"/>
                </a:lnTo>
                <a:lnTo>
                  <a:pt x="28" y="49"/>
                </a:lnTo>
                <a:lnTo>
                  <a:pt x="34" y="32"/>
                </a:lnTo>
                <a:lnTo>
                  <a:pt x="39" y="1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3800520" y="4562640"/>
            <a:ext cx="71280" cy="187200"/>
          </a:xfrm>
          <a:custGeom>
            <a:avLst/>
            <a:gdLst/>
            <a:ahLst/>
            <a:rect l="l" t="t" r="r" b="b"/>
            <a:pathLst>
              <a:path w="45" h="118">
                <a:moveTo>
                  <a:pt x="0" y="118"/>
                </a:moveTo>
                <a:lnTo>
                  <a:pt x="3" y="110"/>
                </a:lnTo>
                <a:lnTo>
                  <a:pt x="6" y="101"/>
                </a:lnTo>
                <a:lnTo>
                  <a:pt x="8" y="91"/>
                </a:lnTo>
                <a:lnTo>
                  <a:pt x="11" y="80"/>
                </a:lnTo>
                <a:lnTo>
                  <a:pt x="17" y="58"/>
                </a:lnTo>
                <a:lnTo>
                  <a:pt x="19" y="47"/>
                </a:lnTo>
                <a:lnTo>
                  <a:pt x="23" y="37"/>
                </a:lnTo>
                <a:lnTo>
                  <a:pt x="26" y="26"/>
                </a:lnTo>
                <a:lnTo>
                  <a:pt x="28" y="17"/>
                </a:lnTo>
                <a:lnTo>
                  <a:pt x="31" y="10"/>
                </a:lnTo>
                <a:lnTo>
                  <a:pt x="34" y="5"/>
                </a:lnTo>
                <a:lnTo>
                  <a:pt x="37" y="1"/>
                </a:lnTo>
                <a:lnTo>
                  <a:pt x="39" y="0"/>
                </a:lnTo>
                <a:lnTo>
                  <a:pt x="42" y="2"/>
                </a:lnTo>
                <a:lnTo>
                  <a:pt x="44" y="3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3871800" y="4572000"/>
            <a:ext cx="71640" cy="487440"/>
          </a:xfrm>
          <a:custGeom>
            <a:avLst/>
            <a:gdLst/>
            <a:ahLst/>
            <a:rect l="l" t="t" r="r" b="b"/>
            <a:pathLst>
              <a:path w="45" h="307">
                <a:moveTo>
                  <a:pt x="0" y="0"/>
                </a:moveTo>
                <a:lnTo>
                  <a:pt x="1" y="4"/>
                </a:lnTo>
                <a:lnTo>
                  <a:pt x="3" y="8"/>
                </a:lnTo>
                <a:lnTo>
                  <a:pt x="4" y="14"/>
                </a:lnTo>
                <a:lnTo>
                  <a:pt x="6" y="20"/>
                </a:lnTo>
                <a:lnTo>
                  <a:pt x="7" y="28"/>
                </a:lnTo>
                <a:lnTo>
                  <a:pt x="8" y="36"/>
                </a:lnTo>
                <a:lnTo>
                  <a:pt x="11" y="54"/>
                </a:lnTo>
                <a:lnTo>
                  <a:pt x="14" y="74"/>
                </a:lnTo>
                <a:lnTo>
                  <a:pt x="17" y="96"/>
                </a:lnTo>
                <a:lnTo>
                  <a:pt x="20" y="121"/>
                </a:lnTo>
                <a:lnTo>
                  <a:pt x="22" y="145"/>
                </a:lnTo>
                <a:lnTo>
                  <a:pt x="28" y="193"/>
                </a:lnTo>
                <a:lnTo>
                  <a:pt x="31" y="218"/>
                </a:lnTo>
                <a:lnTo>
                  <a:pt x="34" y="240"/>
                </a:lnTo>
                <a:lnTo>
                  <a:pt x="37" y="260"/>
                </a:lnTo>
                <a:lnTo>
                  <a:pt x="39" y="278"/>
                </a:lnTo>
                <a:lnTo>
                  <a:pt x="41" y="287"/>
                </a:lnTo>
                <a:lnTo>
                  <a:pt x="42" y="295"/>
                </a:lnTo>
                <a:lnTo>
                  <a:pt x="44" y="301"/>
                </a:lnTo>
                <a:lnTo>
                  <a:pt x="45" y="3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3943440" y="5059440"/>
            <a:ext cx="71280" cy="47520"/>
          </a:xfrm>
          <a:custGeom>
            <a:avLst/>
            <a:gdLst/>
            <a:ahLst/>
            <a:rect l="l" t="t" r="r" b="b"/>
            <a:pathLst>
              <a:path w="45" h="30">
                <a:moveTo>
                  <a:pt x="0" y="0"/>
                </a:moveTo>
                <a:lnTo>
                  <a:pt x="4" y="9"/>
                </a:lnTo>
                <a:lnTo>
                  <a:pt x="9" y="16"/>
                </a:lnTo>
                <a:lnTo>
                  <a:pt x="16" y="21"/>
                </a:lnTo>
                <a:lnTo>
                  <a:pt x="23" y="25"/>
                </a:lnTo>
                <a:lnTo>
                  <a:pt x="30" y="28"/>
                </a:lnTo>
                <a:lnTo>
                  <a:pt x="36" y="29"/>
                </a:lnTo>
                <a:lnTo>
                  <a:pt x="41" y="30"/>
                </a:lnTo>
                <a:lnTo>
                  <a:pt x="45" y="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4014720" y="5045040"/>
            <a:ext cx="7164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0" y="39"/>
                </a:moveTo>
                <a:lnTo>
                  <a:pt x="5" y="38"/>
                </a:lnTo>
                <a:lnTo>
                  <a:pt x="11" y="36"/>
                </a:lnTo>
                <a:lnTo>
                  <a:pt x="17" y="33"/>
                </a:lnTo>
                <a:lnTo>
                  <a:pt x="22" y="29"/>
                </a:lnTo>
                <a:lnTo>
                  <a:pt x="28" y="24"/>
                </a:lnTo>
                <a:lnTo>
                  <a:pt x="34" y="17"/>
                </a:lnTo>
                <a:lnTo>
                  <a:pt x="40" y="9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4086360" y="4826160"/>
            <a:ext cx="71280" cy="218880"/>
          </a:xfrm>
          <a:custGeom>
            <a:avLst/>
            <a:gdLst/>
            <a:ahLst/>
            <a:rect l="l" t="t" r="r" b="b"/>
            <a:pathLst>
              <a:path w="45" h="138">
                <a:moveTo>
                  <a:pt x="0" y="138"/>
                </a:moveTo>
                <a:lnTo>
                  <a:pt x="3" y="132"/>
                </a:lnTo>
                <a:lnTo>
                  <a:pt x="6" y="126"/>
                </a:lnTo>
                <a:lnTo>
                  <a:pt x="12" y="109"/>
                </a:lnTo>
                <a:lnTo>
                  <a:pt x="18" y="92"/>
                </a:lnTo>
                <a:lnTo>
                  <a:pt x="23" y="74"/>
                </a:lnTo>
                <a:lnTo>
                  <a:pt x="28" y="55"/>
                </a:lnTo>
                <a:lnTo>
                  <a:pt x="34" y="35"/>
                </a:lnTo>
                <a:lnTo>
                  <a:pt x="39" y="17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4157640" y="4638600"/>
            <a:ext cx="71640" cy="187560"/>
          </a:xfrm>
          <a:custGeom>
            <a:avLst/>
            <a:gdLst/>
            <a:ahLst/>
            <a:rect l="l" t="t" r="r" b="b"/>
            <a:pathLst>
              <a:path w="45" h="118">
                <a:moveTo>
                  <a:pt x="0" y="118"/>
                </a:moveTo>
                <a:lnTo>
                  <a:pt x="11" y="88"/>
                </a:lnTo>
                <a:lnTo>
                  <a:pt x="22" y="58"/>
                </a:lnTo>
                <a:lnTo>
                  <a:pt x="34" y="29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4229280" y="4425840"/>
            <a:ext cx="71280" cy="212760"/>
          </a:xfrm>
          <a:custGeom>
            <a:avLst/>
            <a:gdLst/>
            <a:ahLst/>
            <a:rect l="l" t="t" r="r" b="b"/>
            <a:pathLst>
              <a:path w="45" h="134">
                <a:moveTo>
                  <a:pt x="0" y="134"/>
                </a:moveTo>
                <a:lnTo>
                  <a:pt x="3" y="126"/>
                </a:lnTo>
                <a:lnTo>
                  <a:pt x="7" y="114"/>
                </a:lnTo>
                <a:lnTo>
                  <a:pt x="9" y="103"/>
                </a:lnTo>
                <a:lnTo>
                  <a:pt x="12" y="91"/>
                </a:lnTo>
                <a:lnTo>
                  <a:pt x="18" y="65"/>
                </a:lnTo>
                <a:lnTo>
                  <a:pt x="20" y="52"/>
                </a:lnTo>
                <a:lnTo>
                  <a:pt x="23" y="40"/>
                </a:lnTo>
                <a:lnTo>
                  <a:pt x="26" y="28"/>
                </a:lnTo>
                <a:lnTo>
                  <a:pt x="28" y="18"/>
                </a:lnTo>
                <a:lnTo>
                  <a:pt x="31" y="10"/>
                </a:lnTo>
                <a:lnTo>
                  <a:pt x="34" y="4"/>
                </a:lnTo>
                <a:lnTo>
                  <a:pt x="37" y="0"/>
                </a:lnTo>
                <a:lnTo>
                  <a:pt x="38" y="0"/>
                </a:lnTo>
                <a:lnTo>
                  <a:pt x="39" y="0"/>
                </a:lnTo>
                <a:lnTo>
                  <a:pt x="41" y="0"/>
                </a:lnTo>
                <a:lnTo>
                  <a:pt x="42" y="2"/>
                </a:lnTo>
                <a:lnTo>
                  <a:pt x="44" y="5"/>
                </a:lnTo>
                <a:lnTo>
                  <a:pt x="45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4300560" y="4438800"/>
            <a:ext cx="73080" cy="604800"/>
          </a:xfrm>
          <a:custGeom>
            <a:avLst/>
            <a:gdLst/>
            <a:ahLst/>
            <a:rect l="l" t="t" r="r" b="b"/>
            <a:pathLst>
              <a:path w="46" h="381">
                <a:moveTo>
                  <a:pt x="0" y="0"/>
                </a:moveTo>
                <a:lnTo>
                  <a:pt x="1" y="5"/>
                </a:lnTo>
                <a:lnTo>
                  <a:pt x="3" y="10"/>
                </a:lnTo>
                <a:lnTo>
                  <a:pt x="4" y="17"/>
                </a:lnTo>
                <a:lnTo>
                  <a:pt x="6" y="25"/>
                </a:lnTo>
                <a:lnTo>
                  <a:pt x="7" y="35"/>
                </a:lnTo>
                <a:lnTo>
                  <a:pt x="8" y="45"/>
                </a:lnTo>
                <a:lnTo>
                  <a:pt x="10" y="56"/>
                </a:lnTo>
                <a:lnTo>
                  <a:pt x="11" y="68"/>
                </a:lnTo>
                <a:lnTo>
                  <a:pt x="14" y="93"/>
                </a:lnTo>
                <a:lnTo>
                  <a:pt x="17" y="121"/>
                </a:lnTo>
                <a:lnTo>
                  <a:pt x="20" y="150"/>
                </a:lnTo>
                <a:lnTo>
                  <a:pt x="22" y="179"/>
                </a:lnTo>
                <a:lnTo>
                  <a:pt x="25" y="211"/>
                </a:lnTo>
                <a:lnTo>
                  <a:pt x="28" y="240"/>
                </a:lnTo>
                <a:lnTo>
                  <a:pt x="31" y="269"/>
                </a:lnTo>
                <a:lnTo>
                  <a:pt x="34" y="298"/>
                </a:lnTo>
                <a:lnTo>
                  <a:pt x="37" y="323"/>
                </a:lnTo>
                <a:lnTo>
                  <a:pt x="38" y="335"/>
                </a:lnTo>
                <a:lnTo>
                  <a:pt x="39" y="345"/>
                </a:lnTo>
                <a:lnTo>
                  <a:pt x="41" y="356"/>
                </a:lnTo>
                <a:lnTo>
                  <a:pt x="42" y="365"/>
                </a:lnTo>
                <a:lnTo>
                  <a:pt x="45" y="374"/>
                </a:lnTo>
                <a:lnTo>
                  <a:pt x="46" y="3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4373640" y="504360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0"/>
                </a:moveTo>
                <a:lnTo>
                  <a:pt x="3" y="11"/>
                </a:lnTo>
                <a:lnTo>
                  <a:pt x="9" y="20"/>
                </a:lnTo>
                <a:lnTo>
                  <a:pt x="15" y="27"/>
                </a:lnTo>
                <a:lnTo>
                  <a:pt x="22" y="33"/>
                </a:lnTo>
                <a:lnTo>
                  <a:pt x="29" y="38"/>
                </a:lnTo>
                <a:lnTo>
                  <a:pt x="35" y="41"/>
                </a:lnTo>
                <a:lnTo>
                  <a:pt x="41" y="43"/>
                </a:lnTo>
                <a:lnTo>
                  <a:pt x="44" y="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4443480" y="5038560"/>
            <a:ext cx="73080" cy="7488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47"/>
                </a:moveTo>
                <a:lnTo>
                  <a:pt x="6" y="46"/>
                </a:lnTo>
                <a:lnTo>
                  <a:pt x="11" y="43"/>
                </a:lnTo>
                <a:lnTo>
                  <a:pt x="17" y="39"/>
                </a:lnTo>
                <a:lnTo>
                  <a:pt x="22" y="33"/>
                </a:lnTo>
                <a:lnTo>
                  <a:pt x="28" y="26"/>
                </a:lnTo>
                <a:lnTo>
                  <a:pt x="34" y="18"/>
                </a:lnTo>
                <a:lnTo>
                  <a:pt x="40" y="9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4516560" y="4869000"/>
            <a:ext cx="69840" cy="169560"/>
          </a:xfrm>
          <a:custGeom>
            <a:avLst/>
            <a:gdLst/>
            <a:ahLst/>
            <a:rect l="l" t="t" r="r" b="b"/>
            <a:pathLst>
              <a:path w="44" h="107">
                <a:moveTo>
                  <a:pt x="0" y="107"/>
                </a:moveTo>
                <a:lnTo>
                  <a:pt x="6" y="96"/>
                </a:lnTo>
                <a:lnTo>
                  <a:pt x="11" y="84"/>
                </a:lnTo>
                <a:lnTo>
                  <a:pt x="17" y="72"/>
                </a:lnTo>
                <a:lnTo>
                  <a:pt x="22" y="58"/>
                </a:lnTo>
                <a:lnTo>
                  <a:pt x="33" y="30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4586400" y="4676760"/>
            <a:ext cx="73080" cy="192240"/>
          </a:xfrm>
          <a:custGeom>
            <a:avLst/>
            <a:gdLst/>
            <a:ahLst/>
            <a:rect l="l" t="t" r="r" b="b"/>
            <a:pathLst>
              <a:path w="46" h="121">
                <a:moveTo>
                  <a:pt x="0" y="121"/>
                </a:moveTo>
                <a:lnTo>
                  <a:pt x="11" y="92"/>
                </a:lnTo>
                <a:lnTo>
                  <a:pt x="22" y="62"/>
                </a:lnTo>
                <a:lnTo>
                  <a:pt x="35" y="30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4659480" y="4476600"/>
            <a:ext cx="69840" cy="200160"/>
          </a:xfrm>
          <a:custGeom>
            <a:avLst/>
            <a:gdLst/>
            <a:ahLst/>
            <a:rect l="l" t="t" r="r" b="b"/>
            <a:pathLst>
              <a:path w="44" h="126">
                <a:moveTo>
                  <a:pt x="0" y="126"/>
                </a:moveTo>
                <a:lnTo>
                  <a:pt x="3" y="118"/>
                </a:lnTo>
                <a:lnTo>
                  <a:pt x="6" y="108"/>
                </a:lnTo>
                <a:lnTo>
                  <a:pt x="8" y="97"/>
                </a:lnTo>
                <a:lnTo>
                  <a:pt x="11" y="85"/>
                </a:lnTo>
                <a:lnTo>
                  <a:pt x="17" y="61"/>
                </a:lnTo>
                <a:lnTo>
                  <a:pt x="19" y="49"/>
                </a:lnTo>
                <a:lnTo>
                  <a:pt x="22" y="38"/>
                </a:lnTo>
                <a:lnTo>
                  <a:pt x="25" y="28"/>
                </a:lnTo>
                <a:lnTo>
                  <a:pt x="27" y="19"/>
                </a:lnTo>
                <a:lnTo>
                  <a:pt x="30" y="11"/>
                </a:lnTo>
                <a:lnTo>
                  <a:pt x="33" y="5"/>
                </a:lnTo>
                <a:lnTo>
                  <a:pt x="36" y="1"/>
                </a:lnTo>
                <a:lnTo>
                  <a:pt x="38" y="0"/>
                </a:lnTo>
                <a:lnTo>
                  <a:pt x="40" y="1"/>
                </a:lnTo>
                <a:lnTo>
                  <a:pt x="41" y="3"/>
                </a:lnTo>
                <a:lnTo>
                  <a:pt x="43" y="5"/>
                </a:lnTo>
                <a:lnTo>
                  <a:pt x="44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4729320" y="4489560"/>
            <a:ext cx="72720" cy="536400"/>
          </a:xfrm>
          <a:custGeom>
            <a:avLst/>
            <a:gdLst/>
            <a:ahLst/>
            <a:rect l="l" t="t" r="r" b="b"/>
            <a:pathLst>
              <a:path w="46" h="338">
                <a:moveTo>
                  <a:pt x="0" y="0"/>
                </a:moveTo>
                <a:lnTo>
                  <a:pt x="1" y="4"/>
                </a:lnTo>
                <a:lnTo>
                  <a:pt x="3" y="9"/>
                </a:lnTo>
                <a:lnTo>
                  <a:pt x="4" y="15"/>
                </a:lnTo>
                <a:lnTo>
                  <a:pt x="6" y="22"/>
                </a:lnTo>
                <a:lnTo>
                  <a:pt x="7" y="30"/>
                </a:lnTo>
                <a:lnTo>
                  <a:pt x="8" y="39"/>
                </a:lnTo>
                <a:lnTo>
                  <a:pt x="10" y="48"/>
                </a:lnTo>
                <a:lnTo>
                  <a:pt x="11" y="58"/>
                </a:lnTo>
                <a:lnTo>
                  <a:pt x="14" y="82"/>
                </a:lnTo>
                <a:lnTo>
                  <a:pt x="17" y="106"/>
                </a:lnTo>
                <a:lnTo>
                  <a:pt x="20" y="131"/>
                </a:lnTo>
                <a:lnTo>
                  <a:pt x="22" y="157"/>
                </a:lnTo>
                <a:lnTo>
                  <a:pt x="29" y="212"/>
                </a:lnTo>
                <a:lnTo>
                  <a:pt x="32" y="237"/>
                </a:lnTo>
                <a:lnTo>
                  <a:pt x="35" y="263"/>
                </a:lnTo>
                <a:lnTo>
                  <a:pt x="38" y="285"/>
                </a:lnTo>
                <a:lnTo>
                  <a:pt x="40" y="306"/>
                </a:lnTo>
                <a:lnTo>
                  <a:pt x="42" y="315"/>
                </a:lnTo>
                <a:lnTo>
                  <a:pt x="43" y="323"/>
                </a:lnTo>
                <a:lnTo>
                  <a:pt x="45" y="331"/>
                </a:lnTo>
                <a:lnTo>
                  <a:pt x="46" y="3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4802040" y="5025960"/>
            <a:ext cx="69840" cy="81000"/>
          </a:xfrm>
          <a:custGeom>
            <a:avLst/>
            <a:gdLst/>
            <a:ahLst/>
            <a:rect l="l" t="t" r="r" b="b"/>
            <a:pathLst>
              <a:path w="44" h="51">
                <a:moveTo>
                  <a:pt x="0" y="0"/>
                </a:moveTo>
                <a:lnTo>
                  <a:pt x="4" y="12"/>
                </a:lnTo>
                <a:lnTo>
                  <a:pt x="9" y="22"/>
                </a:lnTo>
                <a:lnTo>
                  <a:pt x="15" y="30"/>
                </a:lnTo>
                <a:lnTo>
                  <a:pt x="22" y="38"/>
                </a:lnTo>
                <a:lnTo>
                  <a:pt x="29" y="43"/>
                </a:lnTo>
                <a:lnTo>
                  <a:pt x="35" y="48"/>
                </a:lnTo>
                <a:lnTo>
                  <a:pt x="40" y="50"/>
                </a:lnTo>
                <a:lnTo>
                  <a:pt x="44" y="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4871880" y="5030640"/>
            <a:ext cx="71640" cy="76320"/>
          </a:xfrm>
          <a:custGeom>
            <a:avLst/>
            <a:gdLst/>
            <a:ahLst/>
            <a:rect l="l" t="t" r="r" b="b"/>
            <a:pathLst>
              <a:path w="45" h="48">
                <a:moveTo>
                  <a:pt x="0" y="48"/>
                </a:moveTo>
                <a:lnTo>
                  <a:pt x="5" y="47"/>
                </a:lnTo>
                <a:lnTo>
                  <a:pt x="11" y="45"/>
                </a:lnTo>
                <a:lnTo>
                  <a:pt x="16" y="41"/>
                </a:lnTo>
                <a:lnTo>
                  <a:pt x="22" y="35"/>
                </a:lnTo>
                <a:lnTo>
                  <a:pt x="29" y="28"/>
                </a:lnTo>
                <a:lnTo>
                  <a:pt x="34" y="20"/>
                </a:lnTo>
                <a:lnTo>
                  <a:pt x="40" y="1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4943520" y="4811760"/>
            <a:ext cx="71280" cy="218880"/>
          </a:xfrm>
          <a:custGeom>
            <a:avLst/>
            <a:gdLst/>
            <a:ahLst/>
            <a:rect l="l" t="t" r="r" b="b"/>
            <a:pathLst>
              <a:path w="45" h="138">
                <a:moveTo>
                  <a:pt x="0" y="138"/>
                </a:moveTo>
                <a:lnTo>
                  <a:pt x="3" y="131"/>
                </a:lnTo>
                <a:lnTo>
                  <a:pt x="6" y="124"/>
                </a:lnTo>
                <a:lnTo>
                  <a:pt x="11" y="109"/>
                </a:lnTo>
                <a:lnTo>
                  <a:pt x="17" y="91"/>
                </a:lnTo>
                <a:lnTo>
                  <a:pt x="22" y="73"/>
                </a:lnTo>
                <a:lnTo>
                  <a:pt x="28" y="54"/>
                </a:lnTo>
                <a:lnTo>
                  <a:pt x="34" y="34"/>
                </a:lnTo>
                <a:lnTo>
                  <a:pt x="39" y="1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014800" y="4633920"/>
            <a:ext cx="71640" cy="177840"/>
          </a:xfrm>
          <a:custGeom>
            <a:avLst/>
            <a:gdLst/>
            <a:ahLst/>
            <a:rect l="l" t="t" r="r" b="b"/>
            <a:pathLst>
              <a:path w="45" h="112">
                <a:moveTo>
                  <a:pt x="0" y="112"/>
                </a:moveTo>
                <a:lnTo>
                  <a:pt x="6" y="97"/>
                </a:lnTo>
                <a:lnTo>
                  <a:pt x="11" y="83"/>
                </a:lnTo>
                <a:lnTo>
                  <a:pt x="23" y="55"/>
                </a:lnTo>
                <a:lnTo>
                  <a:pt x="34" y="29"/>
                </a:lnTo>
                <a:lnTo>
                  <a:pt x="39" y="1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5086440" y="4406760"/>
            <a:ext cx="71280" cy="227160"/>
          </a:xfrm>
          <a:custGeom>
            <a:avLst/>
            <a:gdLst/>
            <a:ahLst/>
            <a:rect l="l" t="t" r="r" b="b"/>
            <a:pathLst>
              <a:path w="45" h="143">
                <a:moveTo>
                  <a:pt x="0" y="143"/>
                </a:moveTo>
                <a:lnTo>
                  <a:pt x="3" y="134"/>
                </a:lnTo>
                <a:lnTo>
                  <a:pt x="6" y="123"/>
                </a:lnTo>
                <a:lnTo>
                  <a:pt x="8" y="111"/>
                </a:lnTo>
                <a:lnTo>
                  <a:pt x="11" y="98"/>
                </a:lnTo>
                <a:lnTo>
                  <a:pt x="17" y="71"/>
                </a:lnTo>
                <a:lnTo>
                  <a:pt x="20" y="57"/>
                </a:lnTo>
                <a:lnTo>
                  <a:pt x="22" y="43"/>
                </a:lnTo>
                <a:lnTo>
                  <a:pt x="25" y="31"/>
                </a:lnTo>
                <a:lnTo>
                  <a:pt x="28" y="20"/>
                </a:lnTo>
                <a:lnTo>
                  <a:pt x="31" y="11"/>
                </a:lnTo>
                <a:lnTo>
                  <a:pt x="34" y="5"/>
                </a:lnTo>
                <a:lnTo>
                  <a:pt x="35" y="2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1" y="0"/>
                </a:lnTo>
                <a:lnTo>
                  <a:pt x="42" y="2"/>
                </a:lnTo>
                <a:lnTo>
                  <a:pt x="44" y="4"/>
                </a:lnTo>
                <a:lnTo>
                  <a:pt x="45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5157720" y="4419720"/>
            <a:ext cx="71640" cy="635040"/>
          </a:xfrm>
          <a:custGeom>
            <a:avLst/>
            <a:gdLst/>
            <a:ahLst/>
            <a:rect l="l" t="t" r="r" b="b"/>
            <a:pathLst>
              <a:path w="45" h="400">
                <a:moveTo>
                  <a:pt x="0" y="0"/>
                </a:moveTo>
                <a:lnTo>
                  <a:pt x="1" y="5"/>
                </a:lnTo>
                <a:lnTo>
                  <a:pt x="3" y="11"/>
                </a:lnTo>
                <a:lnTo>
                  <a:pt x="4" y="18"/>
                </a:lnTo>
                <a:lnTo>
                  <a:pt x="6" y="26"/>
                </a:lnTo>
                <a:lnTo>
                  <a:pt x="7" y="36"/>
                </a:lnTo>
                <a:lnTo>
                  <a:pt x="8" y="47"/>
                </a:lnTo>
                <a:lnTo>
                  <a:pt x="10" y="59"/>
                </a:lnTo>
                <a:lnTo>
                  <a:pt x="11" y="71"/>
                </a:lnTo>
                <a:lnTo>
                  <a:pt x="15" y="97"/>
                </a:lnTo>
                <a:lnTo>
                  <a:pt x="18" y="127"/>
                </a:lnTo>
                <a:lnTo>
                  <a:pt x="20" y="157"/>
                </a:lnTo>
                <a:lnTo>
                  <a:pt x="23" y="188"/>
                </a:lnTo>
                <a:lnTo>
                  <a:pt x="26" y="221"/>
                </a:lnTo>
                <a:lnTo>
                  <a:pt x="28" y="252"/>
                </a:lnTo>
                <a:lnTo>
                  <a:pt x="31" y="283"/>
                </a:lnTo>
                <a:lnTo>
                  <a:pt x="34" y="313"/>
                </a:lnTo>
                <a:lnTo>
                  <a:pt x="37" y="339"/>
                </a:lnTo>
                <a:lnTo>
                  <a:pt x="38" y="351"/>
                </a:lnTo>
                <a:lnTo>
                  <a:pt x="39" y="363"/>
                </a:lnTo>
                <a:lnTo>
                  <a:pt x="41" y="373"/>
                </a:lnTo>
                <a:lnTo>
                  <a:pt x="42" y="384"/>
                </a:lnTo>
                <a:lnTo>
                  <a:pt x="44" y="393"/>
                </a:lnTo>
                <a:lnTo>
                  <a:pt x="45" y="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5229360" y="505476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0" y="0"/>
                </a:moveTo>
                <a:lnTo>
                  <a:pt x="3" y="11"/>
                </a:lnTo>
                <a:lnTo>
                  <a:pt x="9" y="20"/>
                </a:lnTo>
                <a:lnTo>
                  <a:pt x="15" y="27"/>
                </a:lnTo>
                <a:lnTo>
                  <a:pt x="22" y="34"/>
                </a:lnTo>
                <a:lnTo>
                  <a:pt x="30" y="38"/>
                </a:lnTo>
                <a:lnTo>
                  <a:pt x="36" y="42"/>
                </a:lnTo>
                <a:lnTo>
                  <a:pt x="42" y="43"/>
                </a:lnTo>
                <a:lnTo>
                  <a:pt x="45" y="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5300640" y="5051520"/>
            <a:ext cx="7164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0" y="46"/>
                </a:moveTo>
                <a:lnTo>
                  <a:pt x="5" y="45"/>
                </a:lnTo>
                <a:lnTo>
                  <a:pt x="11" y="43"/>
                </a:lnTo>
                <a:lnTo>
                  <a:pt x="17" y="39"/>
                </a:lnTo>
                <a:lnTo>
                  <a:pt x="23" y="34"/>
                </a:lnTo>
                <a:lnTo>
                  <a:pt x="29" y="27"/>
                </a:lnTo>
                <a:lnTo>
                  <a:pt x="35" y="19"/>
                </a:lnTo>
                <a:lnTo>
                  <a:pt x="40" y="1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5372280" y="4789440"/>
            <a:ext cx="71280" cy="262080"/>
          </a:xfrm>
          <a:custGeom>
            <a:avLst/>
            <a:gdLst/>
            <a:ahLst/>
            <a:rect l="l" t="t" r="r" b="b"/>
            <a:pathLst>
              <a:path w="45" h="165">
                <a:moveTo>
                  <a:pt x="0" y="165"/>
                </a:moveTo>
                <a:lnTo>
                  <a:pt x="3" y="158"/>
                </a:lnTo>
                <a:lnTo>
                  <a:pt x="6" y="150"/>
                </a:lnTo>
                <a:lnTo>
                  <a:pt x="8" y="140"/>
                </a:lnTo>
                <a:lnTo>
                  <a:pt x="11" y="131"/>
                </a:lnTo>
                <a:lnTo>
                  <a:pt x="17" y="110"/>
                </a:lnTo>
                <a:lnTo>
                  <a:pt x="22" y="88"/>
                </a:lnTo>
                <a:lnTo>
                  <a:pt x="28" y="65"/>
                </a:lnTo>
                <a:lnTo>
                  <a:pt x="34" y="41"/>
                </a:lnTo>
                <a:lnTo>
                  <a:pt x="39" y="2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5443560" y="4583160"/>
            <a:ext cx="71280" cy="206280"/>
          </a:xfrm>
          <a:custGeom>
            <a:avLst/>
            <a:gdLst/>
            <a:ahLst/>
            <a:rect l="l" t="t" r="r" b="b"/>
            <a:pathLst>
              <a:path w="45" h="130">
                <a:moveTo>
                  <a:pt x="0" y="130"/>
                </a:moveTo>
                <a:lnTo>
                  <a:pt x="7" y="112"/>
                </a:lnTo>
                <a:lnTo>
                  <a:pt x="12" y="95"/>
                </a:lnTo>
                <a:lnTo>
                  <a:pt x="23" y="64"/>
                </a:lnTo>
                <a:lnTo>
                  <a:pt x="34" y="33"/>
                </a:lnTo>
                <a:lnTo>
                  <a:pt x="39" y="1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5514840" y="4341960"/>
            <a:ext cx="73080" cy="241200"/>
          </a:xfrm>
          <a:custGeom>
            <a:avLst/>
            <a:gdLst/>
            <a:ahLst/>
            <a:rect l="l" t="t" r="r" b="b"/>
            <a:pathLst>
              <a:path w="46" h="152">
                <a:moveTo>
                  <a:pt x="0" y="152"/>
                </a:moveTo>
                <a:lnTo>
                  <a:pt x="3" y="143"/>
                </a:lnTo>
                <a:lnTo>
                  <a:pt x="6" y="131"/>
                </a:lnTo>
                <a:lnTo>
                  <a:pt x="8" y="118"/>
                </a:lnTo>
                <a:lnTo>
                  <a:pt x="11" y="105"/>
                </a:lnTo>
                <a:lnTo>
                  <a:pt x="17" y="74"/>
                </a:lnTo>
                <a:lnTo>
                  <a:pt x="20" y="60"/>
                </a:lnTo>
                <a:lnTo>
                  <a:pt x="22" y="46"/>
                </a:lnTo>
                <a:lnTo>
                  <a:pt x="25" y="34"/>
                </a:lnTo>
                <a:lnTo>
                  <a:pt x="28" y="22"/>
                </a:lnTo>
                <a:lnTo>
                  <a:pt x="31" y="13"/>
                </a:lnTo>
                <a:lnTo>
                  <a:pt x="34" y="6"/>
                </a:lnTo>
                <a:lnTo>
                  <a:pt x="35" y="4"/>
                </a:lnTo>
                <a:lnTo>
                  <a:pt x="37" y="2"/>
                </a:lnTo>
                <a:lnTo>
                  <a:pt x="38" y="0"/>
                </a:lnTo>
                <a:lnTo>
                  <a:pt x="39" y="0"/>
                </a:lnTo>
                <a:lnTo>
                  <a:pt x="42" y="2"/>
                </a:lnTo>
                <a:lnTo>
                  <a:pt x="43" y="4"/>
                </a:lnTo>
                <a:lnTo>
                  <a:pt x="45" y="7"/>
                </a:lnTo>
                <a:lnTo>
                  <a:pt x="46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5587920" y="4359240"/>
            <a:ext cx="69840" cy="689040"/>
          </a:xfrm>
          <a:custGeom>
            <a:avLst/>
            <a:gdLst/>
            <a:ahLst/>
            <a:rect l="l" t="t" r="r" b="b"/>
            <a:pathLst>
              <a:path w="44" h="434">
                <a:moveTo>
                  <a:pt x="0" y="0"/>
                </a:moveTo>
                <a:lnTo>
                  <a:pt x="1" y="5"/>
                </a:lnTo>
                <a:lnTo>
                  <a:pt x="3" y="12"/>
                </a:lnTo>
                <a:lnTo>
                  <a:pt x="4" y="20"/>
                </a:lnTo>
                <a:lnTo>
                  <a:pt x="6" y="29"/>
                </a:lnTo>
                <a:lnTo>
                  <a:pt x="7" y="39"/>
                </a:lnTo>
                <a:lnTo>
                  <a:pt x="8" y="51"/>
                </a:lnTo>
                <a:lnTo>
                  <a:pt x="10" y="63"/>
                </a:lnTo>
                <a:lnTo>
                  <a:pt x="11" y="77"/>
                </a:lnTo>
                <a:lnTo>
                  <a:pt x="12" y="91"/>
                </a:lnTo>
                <a:lnTo>
                  <a:pt x="14" y="106"/>
                </a:lnTo>
                <a:lnTo>
                  <a:pt x="17" y="137"/>
                </a:lnTo>
                <a:lnTo>
                  <a:pt x="19" y="171"/>
                </a:lnTo>
                <a:lnTo>
                  <a:pt x="22" y="205"/>
                </a:lnTo>
                <a:lnTo>
                  <a:pt x="25" y="239"/>
                </a:lnTo>
                <a:lnTo>
                  <a:pt x="27" y="274"/>
                </a:lnTo>
                <a:lnTo>
                  <a:pt x="30" y="307"/>
                </a:lnTo>
                <a:lnTo>
                  <a:pt x="33" y="340"/>
                </a:lnTo>
                <a:lnTo>
                  <a:pt x="34" y="354"/>
                </a:lnTo>
                <a:lnTo>
                  <a:pt x="36" y="368"/>
                </a:lnTo>
                <a:lnTo>
                  <a:pt x="37" y="382"/>
                </a:lnTo>
                <a:lnTo>
                  <a:pt x="38" y="394"/>
                </a:lnTo>
                <a:lnTo>
                  <a:pt x="40" y="405"/>
                </a:lnTo>
                <a:lnTo>
                  <a:pt x="41" y="416"/>
                </a:lnTo>
                <a:lnTo>
                  <a:pt x="43" y="426"/>
                </a:lnTo>
                <a:lnTo>
                  <a:pt x="44" y="43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5657760" y="5048280"/>
            <a:ext cx="73080" cy="68400"/>
          </a:xfrm>
          <a:custGeom>
            <a:avLst/>
            <a:gdLst/>
            <a:ahLst/>
            <a:rect l="l" t="t" r="r" b="b"/>
            <a:pathLst>
              <a:path w="46" h="43">
                <a:moveTo>
                  <a:pt x="0" y="0"/>
                </a:moveTo>
                <a:lnTo>
                  <a:pt x="3" y="11"/>
                </a:lnTo>
                <a:lnTo>
                  <a:pt x="9" y="20"/>
                </a:lnTo>
                <a:lnTo>
                  <a:pt x="15" y="27"/>
                </a:lnTo>
                <a:lnTo>
                  <a:pt x="22" y="33"/>
                </a:lnTo>
                <a:lnTo>
                  <a:pt x="30" y="38"/>
                </a:lnTo>
                <a:lnTo>
                  <a:pt x="37" y="41"/>
                </a:lnTo>
                <a:lnTo>
                  <a:pt x="43" y="43"/>
                </a:lnTo>
                <a:lnTo>
                  <a:pt x="46" y="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5730840" y="5033880"/>
            <a:ext cx="69840" cy="82800"/>
          </a:xfrm>
          <a:custGeom>
            <a:avLst/>
            <a:gdLst/>
            <a:ahLst/>
            <a:rect l="l" t="t" r="r" b="b"/>
            <a:pathLst>
              <a:path w="44" h="52">
                <a:moveTo>
                  <a:pt x="0" y="52"/>
                </a:moveTo>
                <a:lnTo>
                  <a:pt x="5" y="51"/>
                </a:lnTo>
                <a:lnTo>
                  <a:pt x="10" y="48"/>
                </a:lnTo>
                <a:lnTo>
                  <a:pt x="16" y="43"/>
                </a:lnTo>
                <a:lnTo>
                  <a:pt x="22" y="37"/>
                </a:lnTo>
                <a:lnTo>
                  <a:pt x="28" y="30"/>
                </a:lnTo>
                <a:lnTo>
                  <a:pt x="34" y="21"/>
                </a:lnTo>
                <a:lnTo>
                  <a:pt x="39" y="11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5800680" y="473868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186"/>
                </a:moveTo>
                <a:lnTo>
                  <a:pt x="3" y="177"/>
                </a:lnTo>
                <a:lnTo>
                  <a:pt x="6" y="168"/>
                </a:lnTo>
                <a:lnTo>
                  <a:pt x="8" y="158"/>
                </a:lnTo>
                <a:lnTo>
                  <a:pt x="11" y="147"/>
                </a:lnTo>
                <a:lnTo>
                  <a:pt x="17" y="124"/>
                </a:lnTo>
                <a:lnTo>
                  <a:pt x="22" y="99"/>
                </a:lnTo>
                <a:lnTo>
                  <a:pt x="28" y="72"/>
                </a:lnTo>
                <a:lnTo>
                  <a:pt x="35" y="47"/>
                </a:lnTo>
                <a:lnTo>
                  <a:pt x="40" y="23"/>
                </a:lnTo>
                <a:lnTo>
                  <a:pt x="43" y="11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5873760" y="4519440"/>
            <a:ext cx="69840" cy="219240"/>
          </a:xfrm>
          <a:custGeom>
            <a:avLst/>
            <a:gdLst/>
            <a:ahLst/>
            <a:rect l="l" t="t" r="r" b="b"/>
            <a:pathLst>
              <a:path w="44" h="138">
                <a:moveTo>
                  <a:pt x="0" y="138"/>
                </a:moveTo>
                <a:lnTo>
                  <a:pt x="6" y="119"/>
                </a:lnTo>
                <a:lnTo>
                  <a:pt x="11" y="100"/>
                </a:lnTo>
                <a:lnTo>
                  <a:pt x="17" y="83"/>
                </a:lnTo>
                <a:lnTo>
                  <a:pt x="22" y="66"/>
                </a:lnTo>
                <a:lnTo>
                  <a:pt x="33" y="32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5943600" y="4303800"/>
            <a:ext cx="73080" cy="215640"/>
          </a:xfrm>
          <a:custGeom>
            <a:avLst/>
            <a:gdLst/>
            <a:ahLst/>
            <a:rect l="l" t="t" r="r" b="b"/>
            <a:pathLst>
              <a:path w="46" h="136">
                <a:moveTo>
                  <a:pt x="0" y="136"/>
                </a:moveTo>
                <a:lnTo>
                  <a:pt x="3" y="127"/>
                </a:lnTo>
                <a:lnTo>
                  <a:pt x="6" y="116"/>
                </a:lnTo>
                <a:lnTo>
                  <a:pt x="8" y="103"/>
                </a:lnTo>
                <a:lnTo>
                  <a:pt x="11" y="90"/>
                </a:lnTo>
                <a:lnTo>
                  <a:pt x="17" y="63"/>
                </a:lnTo>
                <a:lnTo>
                  <a:pt x="20" y="50"/>
                </a:lnTo>
                <a:lnTo>
                  <a:pt x="22" y="38"/>
                </a:lnTo>
                <a:lnTo>
                  <a:pt x="26" y="27"/>
                </a:lnTo>
                <a:lnTo>
                  <a:pt x="29" y="16"/>
                </a:lnTo>
                <a:lnTo>
                  <a:pt x="32" y="8"/>
                </a:lnTo>
                <a:lnTo>
                  <a:pt x="35" y="3"/>
                </a:lnTo>
                <a:lnTo>
                  <a:pt x="36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2"/>
                </a:lnTo>
                <a:lnTo>
                  <a:pt x="43" y="4"/>
                </a:lnTo>
                <a:lnTo>
                  <a:pt x="45" y="8"/>
                </a:lnTo>
                <a:lnTo>
                  <a:pt x="46" y="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6016680" y="4322880"/>
            <a:ext cx="69840" cy="709560"/>
          </a:xfrm>
          <a:custGeom>
            <a:avLst/>
            <a:gdLst/>
            <a:ahLst/>
            <a:rect l="l" t="t" r="r" b="b"/>
            <a:pathLst>
              <a:path w="44" h="447">
                <a:moveTo>
                  <a:pt x="0" y="0"/>
                </a:moveTo>
                <a:lnTo>
                  <a:pt x="1" y="6"/>
                </a:lnTo>
                <a:lnTo>
                  <a:pt x="3" y="14"/>
                </a:lnTo>
                <a:lnTo>
                  <a:pt x="4" y="22"/>
                </a:lnTo>
                <a:lnTo>
                  <a:pt x="6" y="32"/>
                </a:lnTo>
                <a:lnTo>
                  <a:pt x="7" y="42"/>
                </a:lnTo>
                <a:lnTo>
                  <a:pt x="8" y="54"/>
                </a:lnTo>
                <a:lnTo>
                  <a:pt x="10" y="67"/>
                </a:lnTo>
                <a:lnTo>
                  <a:pt x="11" y="81"/>
                </a:lnTo>
                <a:lnTo>
                  <a:pt x="12" y="95"/>
                </a:lnTo>
                <a:lnTo>
                  <a:pt x="14" y="111"/>
                </a:lnTo>
                <a:lnTo>
                  <a:pt x="17" y="143"/>
                </a:lnTo>
                <a:lnTo>
                  <a:pt x="19" y="176"/>
                </a:lnTo>
                <a:lnTo>
                  <a:pt x="22" y="212"/>
                </a:lnTo>
                <a:lnTo>
                  <a:pt x="25" y="247"/>
                </a:lnTo>
                <a:lnTo>
                  <a:pt x="27" y="283"/>
                </a:lnTo>
                <a:lnTo>
                  <a:pt x="30" y="316"/>
                </a:lnTo>
                <a:lnTo>
                  <a:pt x="33" y="348"/>
                </a:lnTo>
                <a:lnTo>
                  <a:pt x="34" y="364"/>
                </a:lnTo>
                <a:lnTo>
                  <a:pt x="36" y="379"/>
                </a:lnTo>
                <a:lnTo>
                  <a:pt x="37" y="392"/>
                </a:lnTo>
                <a:lnTo>
                  <a:pt x="38" y="405"/>
                </a:lnTo>
                <a:lnTo>
                  <a:pt x="40" y="417"/>
                </a:lnTo>
                <a:lnTo>
                  <a:pt x="41" y="428"/>
                </a:lnTo>
                <a:lnTo>
                  <a:pt x="43" y="438"/>
                </a:lnTo>
                <a:lnTo>
                  <a:pt x="44" y="4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6086520" y="503244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0" y="0"/>
                </a:moveTo>
                <a:lnTo>
                  <a:pt x="4" y="13"/>
                </a:lnTo>
                <a:lnTo>
                  <a:pt x="9" y="25"/>
                </a:lnTo>
                <a:lnTo>
                  <a:pt x="15" y="35"/>
                </a:lnTo>
                <a:lnTo>
                  <a:pt x="23" y="44"/>
                </a:lnTo>
                <a:lnTo>
                  <a:pt x="31" y="51"/>
                </a:lnTo>
                <a:lnTo>
                  <a:pt x="37" y="56"/>
                </a:lnTo>
                <a:lnTo>
                  <a:pt x="42" y="60"/>
                </a:lnTo>
                <a:lnTo>
                  <a:pt x="46" y="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6159600" y="506088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0" y="43"/>
                </a:moveTo>
                <a:lnTo>
                  <a:pt x="5" y="43"/>
                </a:lnTo>
                <a:lnTo>
                  <a:pt x="10" y="41"/>
                </a:lnTo>
                <a:lnTo>
                  <a:pt x="16" y="38"/>
                </a:lnTo>
                <a:lnTo>
                  <a:pt x="22" y="33"/>
                </a:lnTo>
                <a:lnTo>
                  <a:pt x="28" y="27"/>
                </a:lnTo>
                <a:lnTo>
                  <a:pt x="34" y="19"/>
                </a:lnTo>
                <a:lnTo>
                  <a:pt x="40" y="10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6229440" y="4748040"/>
            <a:ext cx="71280" cy="312840"/>
          </a:xfrm>
          <a:custGeom>
            <a:avLst/>
            <a:gdLst/>
            <a:ahLst/>
            <a:rect l="l" t="t" r="r" b="b"/>
            <a:pathLst>
              <a:path w="45" h="197">
                <a:moveTo>
                  <a:pt x="0" y="197"/>
                </a:moveTo>
                <a:lnTo>
                  <a:pt x="3" y="189"/>
                </a:lnTo>
                <a:lnTo>
                  <a:pt x="5" y="180"/>
                </a:lnTo>
                <a:lnTo>
                  <a:pt x="8" y="168"/>
                </a:lnTo>
                <a:lnTo>
                  <a:pt x="11" y="157"/>
                </a:lnTo>
                <a:lnTo>
                  <a:pt x="14" y="145"/>
                </a:lnTo>
                <a:lnTo>
                  <a:pt x="17" y="132"/>
                </a:lnTo>
                <a:lnTo>
                  <a:pt x="23" y="105"/>
                </a:lnTo>
                <a:lnTo>
                  <a:pt x="28" y="76"/>
                </a:lnTo>
                <a:lnTo>
                  <a:pt x="34" y="49"/>
                </a:lnTo>
                <a:lnTo>
                  <a:pt x="39" y="24"/>
                </a:lnTo>
                <a:lnTo>
                  <a:pt x="42" y="1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6300720" y="4524480"/>
            <a:ext cx="71640" cy="223560"/>
          </a:xfrm>
          <a:custGeom>
            <a:avLst/>
            <a:gdLst/>
            <a:ahLst/>
            <a:rect l="l" t="t" r="r" b="b"/>
            <a:pathLst>
              <a:path w="45" h="141">
                <a:moveTo>
                  <a:pt x="0" y="141"/>
                </a:moveTo>
                <a:lnTo>
                  <a:pt x="6" y="121"/>
                </a:lnTo>
                <a:lnTo>
                  <a:pt x="11" y="102"/>
                </a:lnTo>
                <a:lnTo>
                  <a:pt x="17" y="84"/>
                </a:lnTo>
                <a:lnTo>
                  <a:pt x="22" y="67"/>
                </a:lnTo>
                <a:lnTo>
                  <a:pt x="34" y="3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6372360" y="4300560"/>
            <a:ext cx="71280" cy="223920"/>
          </a:xfrm>
          <a:custGeom>
            <a:avLst/>
            <a:gdLst/>
            <a:ahLst/>
            <a:rect l="l" t="t" r="r" b="b"/>
            <a:pathLst>
              <a:path w="45" h="141">
                <a:moveTo>
                  <a:pt x="0" y="141"/>
                </a:moveTo>
                <a:lnTo>
                  <a:pt x="3" y="132"/>
                </a:lnTo>
                <a:lnTo>
                  <a:pt x="6" y="121"/>
                </a:lnTo>
                <a:lnTo>
                  <a:pt x="8" y="107"/>
                </a:lnTo>
                <a:lnTo>
                  <a:pt x="12" y="94"/>
                </a:lnTo>
                <a:lnTo>
                  <a:pt x="18" y="67"/>
                </a:lnTo>
                <a:lnTo>
                  <a:pt x="20" y="54"/>
                </a:lnTo>
                <a:lnTo>
                  <a:pt x="23" y="41"/>
                </a:lnTo>
                <a:lnTo>
                  <a:pt x="26" y="29"/>
                </a:lnTo>
                <a:lnTo>
                  <a:pt x="28" y="18"/>
                </a:lnTo>
                <a:lnTo>
                  <a:pt x="31" y="10"/>
                </a:lnTo>
                <a:lnTo>
                  <a:pt x="34" y="4"/>
                </a:lnTo>
                <a:lnTo>
                  <a:pt x="35" y="2"/>
                </a:lnTo>
                <a:lnTo>
                  <a:pt x="37" y="1"/>
                </a:lnTo>
                <a:lnTo>
                  <a:pt x="38" y="0"/>
                </a:lnTo>
                <a:lnTo>
                  <a:pt x="39" y="1"/>
                </a:lnTo>
                <a:lnTo>
                  <a:pt x="41" y="2"/>
                </a:lnTo>
                <a:lnTo>
                  <a:pt x="42" y="4"/>
                </a:lnTo>
                <a:lnTo>
                  <a:pt x="44" y="7"/>
                </a:lnTo>
                <a:lnTo>
                  <a:pt x="45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6443640" y="4317840"/>
            <a:ext cx="71640" cy="677880"/>
          </a:xfrm>
          <a:custGeom>
            <a:avLst/>
            <a:gdLst/>
            <a:ahLst/>
            <a:rect l="l" t="t" r="r" b="b"/>
            <a:pathLst>
              <a:path w="45" h="427">
                <a:moveTo>
                  <a:pt x="0" y="0"/>
                </a:moveTo>
                <a:lnTo>
                  <a:pt x="1" y="5"/>
                </a:lnTo>
                <a:lnTo>
                  <a:pt x="3" y="12"/>
                </a:lnTo>
                <a:lnTo>
                  <a:pt x="4" y="21"/>
                </a:lnTo>
                <a:lnTo>
                  <a:pt x="6" y="30"/>
                </a:lnTo>
                <a:lnTo>
                  <a:pt x="7" y="40"/>
                </a:lnTo>
                <a:lnTo>
                  <a:pt x="8" y="51"/>
                </a:lnTo>
                <a:lnTo>
                  <a:pt x="10" y="63"/>
                </a:lnTo>
                <a:lnTo>
                  <a:pt x="11" y="76"/>
                </a:lnTo>
                <a:lnTo>
                  <a:pt x="13" y="90"/>
                </a:lnTo>
                <a:lnTo>
                  <a:pt x="14" y="105"/>
                </a:lnTo>
                <a:lnTo>
                  <a:pt x="17" y="136"/>
                </a:lnTo>
                <a:lnTo>
                  <a:pt x="20" y="168"/>
                </a:lnTo>
                <a:lnTo>
                  <a:pt x="22" y="202"/>
                </a:lnTo>
                <a:lnTo>
                  <a:pt x="25" y="236"/>
                </a:lnTo>
                <a:lnTo>
                  <a:pt x="28" y="269"/>
                </a:lnTo>
                <a:lnTo>
                  <a:pt x="31" y="302"/>
                </a:lnTo>
                <a:lnTo>
                  <a:pt x="34" y="333"/>
                </a:lnTo>
                <a:lnTo>
                  <a:pt x="37" y="362"/>
                </a:lnTo>
                <a:lnTo>
                  <a:pt x="38" y="376"/>
                </a:lnTo>
                <a:lnTo>
                  <a:pt x="39" y="388"/>
                </a:lnTo>
                <a:lnTo>
                  <a:pt x="41" y="399"/>
                </a:lnTo>
                <a:lnTo>
                  <a:pt x="42" y="410"/>
                </a:lnTo>
                <a:lnTo>
                  <a:pt x="44" y="419"/>
                </a:lnTo>
                <a:lnTo>
                  <a:pt x="45" y="4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>
            <a:off x="6515280" y="4995720"/>
            <a:ext cx="71280" cy="96840"/>
          </a:xfrm>
          <a:custGeom>
            <a:avLst/>
            <a:gdLst/>
            <a:ahLst/>
            <a:rect l="l" t="t" r="r" b="b"/>
            <a:pathLst>
              <a:path w="45" h="61">
                <a:moveTo>
                  <a:pt x="0" y="0"/>
                </a:moveTo>
                <a:lnTo>
                  <a:pt x="5" y="13"/>
                </a:lnTo>
                <a:lnTo>
                  <a:pt x="10" y="26"/>
                </a:lnTo>
                <a:lnTo>
                  <a:pt x="16" y="36"/>
                </a:lnTo>
                <a:lnTo>
                  <a:pt x="23" y="44"/>
                </a:lnTo>
                <a:lnTo>
                  <a:pt x="30" y="51"/>
                </a:lnTo>
                <a:lnTo>
                  <a:pt x="36" y="56"/>
                </a:lnTo>
                <a:lnTo>
                  <a:pt x="41" y="60"/>
                </a:lnTo>
                <a:lnTo>
                  <a:pt x="45" y="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>
            <a:off x="6586560" y="5027760"/>
            <a:ext cx="73080" cy="64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0" y="41"/>
                </a:moveTo>
                <a:lnTo>
                  <a:pt x="5" y="41"/>
                </a:lnTo>
                <a:lnTo>
                  <a:pt x="10" y="40"/>
                </a:lnTo>
                <a:lnTo>
                  <a:pt x="16" y="36"/>
                </a:lnTo>
                <a:lnTo>
                  <a:pt x="22" y="32"/>
                </a:lnTo>
                <a:lnTo>
                  <a:pt x="29" y="26"/>
                </a:lnTo>
                <a:lnTo>
                  <a:pt x="35" y="19"/>
                </a:lnTo>
                <a:lnTo>
                  <a:pt x="40" y="10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6659640" y="4741920"/>
            <a:ext cx="69840" cy="285840"/>
          </a:xfrm>
          <a:custGeom>
            <a:avLst/>
            <a:gdLst/>
            <a:ahLst/>
            <a:rect l="l" t="t" r="r" b="b"/>
            <a:pathLst>
              <a:path w="44" h="180">
                <a:moveTo>
                  <a:pt x="0" y="180"/>
                </a:moveTo>
                <a:lnTo>
                  <a:pt x="3" y="172"/>
                </a:lnTo>
                <a:lnTo>
                  <a:pt x="6" y="163"/>
                </a:lnTo>
                <a:lnTo>
                  <a:pt x="8" y="153"/>
                </a:lnTo>
                <a:lnTo>
                  <a:pt x="11" y="143"/>
                </a:lnTo>
                <a:lnTo>
                  <a:pt x="17" y="120"/>
                </a:lnTo>
                <a:lnTo>
                  <a:pt x="22" y="95"/>
                </a:lnTo>
                <a:lnTo>
                  <a:pt x="27" y="69"/>
                </a:lnTo>
                <a:lnTo>
                  <a:pt x="33" y="44"/>
                </a:lnTo>
                <a:lnTo>
                  <a:pt x="38" y="21"/>
                </a:lnTo>
                <a:lnTo>
                  <a:pt x="41" y="11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6729480" y="4548240"/>
            <a:ext cx="73080" cy="193680"/>
          </a:xfrm>
          <a:custGeom>
            <a:avLst/>
            <a:gdLst/>
            <a:ahLst/>
            <a:rect l="l" t="t" r="r" b="b"/>
            <a:pathLst>
              <a:path w="46" h="122">
                <a:moveTo>
                  <a:pt x="0" y="122"/>
                </a:moveTo>
                <a:lnTo>
                  <a:pt x="6" y="104"/>
                </a:lnTo>
                <a:lnTo>
                  <a:pt x="11" y="89"/>
                </a:lnTo>
                <a:lnTo>
                  <a:pt x="17" y="74"/>
                </a:lnTo>
                <a:lnTo>
                  <a:pt x="22" y="60"/>
                </a:lnTo>
                <a:lnTo>
                  <a:pt x="28" y="46"/>
                </a:lnTo>
                <a:lnTo>
                  <a:pt x="34" y="31"/>
                </a:lnTo>
                <a:lnTo>
                  <a:pt x="40" y="16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6802560" y="4292640"/>
            <a:ext cx="69840" cy="255600"/>
          </a:xfrm>
          <a:custGeom>
            <a:avLst/>
            <a:gdLst/>
            <a:ahLst/>
            <a:rect l="l" t="t" r="r" b="b"/>
            <a:pathLst>
              <a:path w="44" h="161">
                <a:moveTo>
                  <a:pt x="0" y="161"/>
                </a:moveTo>
                <a:lnTo>
                  <a:pt x="3" y="151"/>
                </a:lnTo>
                <a:lnTo>
                  <a:pt x="6" y="140"/>
                </a:lnTo>
                <a:lnTo>
                  <a:pt x="8" y="126"/>
                </a:lnTo>
                <a:lnTo>
                  <a:pt x="11" y="111"/>
                </a:lnTo>
                <a:lnTo>
                  <a:pt x="17" y="80"/>
                </a:lnTo>
                <a:lnTo>
                  <a:pt x="19" y="64"/>
                </a:lnTo>
                <a:lnTo>
                  <a:pt x="22" y="50"/>
                </a:lnTo>
                <a:lnTo>
                  <a:pt x="25" y="36"/>
                </a:lnTo>
                <a:lnTo>
                  <a:pt x="27" y="23"/>
                </a:lnTo>
                <a:lnTo>
                  <a:pt x="30" y="13"/>
                </a:lnTo>
                <a:lnTo>
                  <a:pt x="33" y="5"/>
                </a:lnTo>
                <a:lnTo>
                  <a:pt x="34" y="3"/>
                </a:lnTo>
                <a:lnTo>
                  <a:pt x="36" y="1"/>
                </a:lnTo>
                <a:lnTo>
                  <a:pt x="37" y="0"/>
                </a:lnTo>
                <a:lnTo>
                  <a:pt x="38" y="0"/>
                </a:lnTo>
                <a:lnTo>
                  <a:pt x="40" y="0"/>
                </a:lnTo>
                <a:lnTo>
                  <a:pt x="41" y="2"/>
                </a:lnTo>
                <a:lnTo>
                  <a:pt x="43" y="5"/>
                </a:lnTo>
                <a:lnTo>
                  <a:pt x="4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6872400" y="4307040"/>
            <a:ext cx="73080" cy="712800"/>
          </a:xfrm>
          <a:custGeom>
            <a:avLst/>
            <a:gdLst/>
            <a:ahLst/>
            <a:rect l="l" t="t" r="r" b="b"/>
            <a:pathLst>
              <a:path w="46" h="449">
                <a:moveTo>
                  <a:pt x="0" y="0"/>
                </a:moveTo>
                <a:lnTo>
                  <a:pt x="1" y="5"/>
                </a:lnTo>
                <a:lnTo>
                  <a:pt x="3" y="12"/>
                </a:lnTo>
                <a:lnTo>
                  <a:pt x="4" y="20"/>
                </a:lnTo>
                <a:lnTo>
                  <a:pt x="6" y="31"/>
                </a:lnTo>
                <a:lnTo>
                  <a:pt x="7" y="41"/>
                </a:lnTo>
                <a:lnTo>
                  <a:pt x="8" y="53"/>
                </a:lnTo>
                <a:lnTo>
                  <a:pt x="10" y="66"/>
                </a:lnTo>
                <a:lnTo>
                  <a:pt x="11" y="79"/>
                </a:lnTo>
                <a:lnTo>
                  <a:pt x="13" y="94"/>
                </a:lnTo>
                <a:lnTo>
                  <a:pt x="14" y="110"/>
                </a:lnTo>
                <a:lnTo>
                  <a:pt x="17" y="142"/>
                </a:lnTo>
                <a:lnTo>
                  <a:pt x="20" y="176"/>
                </a:lnTo>
                <a:lnTo>
                  <a:pt x="22" y="212"/>
                </a:lnTo>
                <a:lnTo>
                  <a:pt x="25" y="248"/>
                </a:lnTo>
                <a:lnTo>
                  <a:pt x="28" y="284"/>
                </a:lnTo>
                <a:lnTo>
                  <a:pt x="31" y="318"/>
                </a:lnTo>
                <a:lnTo>
                  <a:pt x="35" y="350"/>
                </a:lnTo>
                <a:lnTo>
                  <a:pt x="36" y="367"/>
                </a:lnTo>
                <a:lnTo>
                  <a:pt x="38" y="381"/>
                </a:lnTo>
                <a:lnTo>
                  <a:pt x="39" y="395"/>
                </a:lnTo>
                <a:lnTo>
                  <a:pt x="40" y="408"/>
                </a:lnTo>
                <a:lnTo>
                  <a:pt x="42" y="420"/>
                </a:lnTo>
                <a:lnTo>
                  <a:pt x="43" y="431"/>
                </a:lnTo>
                <a:lnTo>
                  <a:pt x="45" y="441"/>
                </a:lnTo>
                <a:lnTo>
                  <a:pt x="46" y="4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>
            <a:off x="6945480" y="5019840"/>
            <a:ext cx="69840" cy="91800"/>
          </a:xfrm>
          <a:custGeom>
            <a:avLst/>
            <a:gdLst/>
            <a:ahLst/>
            <a:rect l="l" t="t" r="r" b="b"/>
            <a:pathLst>
              <a:path w="44" h="58">
                <a:moveTo>
                  <a:pt x="0" y="0"/>
                </a:moveTo>
                <a:lnTo>
                  <a:pt x="3" y="14"/>
                </a:lnTo>
                <a:lnTo>
                  <a:pt x="9" y="25"/>
                </a:lnTo>
                <a:lnTo>
                  <a:pt x="15" y="35"/>
                </a:lnTo>
                <a:lnTo>
                  <a:pt x="22" y="43"/>
                </a:lnTo>
                <a:lnTo>
                  <a:pt x="29" y="49"/>
                </a:lnTo>
                <a:lnTo>
                  <a:pt x="35" y="54"/>
                </a:lnTo>
                <a:lnTo>
                  <a:pt x="41" y="57"/>
                </a:lnTo>
                <a:lnTo>
                  <a:pt x="44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7015320" y="5013360"/>
            <a:ext cx="72720" cy="98280"/>
          </a:xfrm>
          <a:custGeom>
            <a:avLst/>
            <a:gdLst/>
            <a:ahLst/>
            <a:rect l="l" t="t" r="r" b="b"/>
            <a:pathLst>
              <a:path w="46" h="62">
                <a:moveTo>
                  <a:pt x="0" y="62"/>
                </a:moveTo>
                <a:lnTo>
                  <a:pt x="6" y="61"/>
                </a:lnTo>
                <a:lnTo>
                  <a:pt x="11" y="57"/>
                </a:lnTo>
                <a:lnTo>
                  <a:pt x="17" y="52"/>
                </a:lnTo>
                <a:lnTo>
                  <a:pt x="22" y="44"/>
                </a:lnTo>
                <a:lnTo>
                  <a:pt x="29" y="35"/>
                </a:lnTo>
                <a:lnTo>
                  <a:pt x="35" y="25"/>
                </a:lnTo>
                <a:lnTo>
                  <a:pt x="40" y="14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7088040" y="4773600"/>
            <a:ext cx="69840" cy="239760"/>
          </a:xfrm>
          <a:custGeom>
            <a:avLst/>
            <a:gdLst/>
            <a:ahLst/>
            <a:rect l="l" t="t" r="r" b="b"/>
            <a:pathLst>
              <a:path w="44" h="151">
                <a:moveTo>
                  <a:pt x="0" y="151"/>
                </a:moveTo>
                <a:lnTo>
                  <a:pt x="3" y="144"/>
                </a:lnTo>
                <a:lnTo>
                  <a:pt x="6" y="136"/>
                </a:lnTo>
                <a:lnTo>
                  <a:pt x="11" y="119"/>
                </a:lnTo>
                <a:lnTo>
                  <a:pt x="17" y="101"/>
                </a:lnTo>
                <a:lnTo>
                  <a:pt x="22" y="80"/>
                </a:lnTo>
                <a:lnTo>
                  <a:pt x="33" y="38"/>
                </a:lnTo>
                <a:lnTo>
                  <a:pt x="38" y="19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7157880" y="4559400"/>
            <a:ext cx="73080" cy="214200"/>
          </a:xfrm>
          <a:custGeom>
            <a:avLst/>
            <a:gdLst/>
            <a:ahLst/>
            <a:rect l="l" t="t" r="r" b="b"/>
            <a:pathLst>
              <a:path w="46" h="135">
                <a:moveTo>
                  <a:pt x="0" y="135"/>
                </a:moveTo>
                <a:lnTo>
                  <a:pt x="11" y="99"/>
                </a:lnTo>
                <a:lnTo>
                  <a:pt x="22" y="64"/>
                </a:lnTo>
                <a:lnTo>
                  <a:pt x="35" y="31"/>
                </a:lnTo>
                <a:lnTo>
                  <a:pt x="40" y="15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7230960" y="4384800"/>
            <a:ext cx="69840" cy="174600"/>
          </a:xfrm>
          <a:custGeom>
            <a:avLst/>
            <a:gdLst/>
            <a:ahLst/>
            <a:rect l="l" t="t" r="r" b="b"/>
            <a:pathLst>
              <a:path w="44" h="110">
                <a:moveTo>
                  <a:pt x="0" y="110"/>
                </a:moveTo>
                <a:lnTo>
                  <a:pt x="3" y="102"/>
                </a:lnTo>
                <a:lnTo>
                  <a:pt x="6" y="93"/>
                </a:lnTo>
                <a:lnTo>
                  <a:pt x="8" y="83"/>
                </a:lnTo>
                <a:lnTo>
                  <a:pt x="11" y="72"/>
                </a:lnTo>
                <a:lnTo>
                  <a:pt x="17" y="49"/>
                </a:lnTo>
                <a:lnTo>
                  <a:pt x="19" y="39"/>
                </a:lnTo>
                <a:lnTo>
                  <a:pt x="22" y="29"/>
                </a:lnTo>
                <a:lnTo>
                  <a:pt x="25" y="20"/>
                </a:lnTo>
                <a:lnTo>
                  <a:pt x="27" y="12"/>
                </a:lnTo>
                <a:lnTo>
                  <a:pt x="30" y="6"/>
                </a:lnTo>
                <a:lnTo>
                  <a:pt x="33" y="2"/>
                </a:lnTo>
                <a:lnTo>
                  <a:pt x="36" y="0"/>
                </a:lnTo>
                <a:lnTo>
                  <a:pt x="38" y="0"/>
                </a:lnTo>
                <a:lnTo>
                  <a:pt x="40" y="1"/>
                </a:lnTo>
                <a:lnTo>
                  <a:pt x="41" y="3"/>
                </a:lnTo>
                <a:lnTo>
                  <a:pt x="43" y="6"/>
                </a:lnTo>
                <a:lnTo>
                  <a:pt x="4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7300800" y="4398840"/>
            <a:ext cx="73080" cy="559080"/>
          </a:xfrm>
          <a:custGeom>
            <a:avLst/>
            <a:gdLst/>
            <a:ahLst/>
            <a:rect l="l" t="t" r="r" b="b"/>
            <a:pathLst>
              <a:path w="46" h="352">
                <a:moveTo>
                  <a:pt x="0" y="0"/>
                </a:moveTo>
                <a:lnTo>
                  <a:pt x="1" y="4"/>
                </a:lnTo>
                <a:lnTo>
                  <a:pt x="3" y="10"/>
                </a:lnTo>
                <a:lnTo>
                  <a:pt x="4" y="17"/>
                </a:lnTo>
                <a:lnTo>
                  <a:pt x="6" y="24"/>
                </a:lnTo>
                <a:lnTo>
                  <a:pt x="7" y="32"/>
                </a:lnTo>
                <a:lnTo>
                  <a:pt x="8" y="42"/>
                </a:lnTo>
                <a:lnTo>
                  <a:pt x="10" y="53"/>
                </a:lnTo>
                <a:lnTo>
                  <a:pt x="11" y="63"/>
                </a:lnTo>
                <a:lnTo>
                  <a:pt x="14" y="86"/>
                </a:lnTo>
                <a:lnTo>
                  <a:pt x="18" y="111"/>
                </a:lnTo>
                <a:lnTo>
                  <a:pt x="21" y="139"/>
                </a:lnTo>
                <a:lnTo>
                  <a:pt x="23" y="166"/>
                </a:lnTo>
                <a:lnTo>
                  <a:pt x="26" y="194"/>
                </a:lnTo>
                <a:lnTo>
                  <a:pt x="29" y="221"/>
                </a:lnTo>
                <a:lnTo>
                  <a:pt x="32" y="249"/>
                </a:lnTo>
                <a:lnTo>
                  <a:pt x="35" y="274"/>
                </a:lnTo>
                <a:lnTo>
                  <a:pt x="38" y="297"/>
                </a:lnTo>
                <a:lnTo>
                  <a:pt x="40" y="319"/>
                </a:lnTo>
                <a:lnTo>
                  <a:pt x="42" y="329"/>
                </a:lnTo>
                <a:lnTo>
                  <a:pt x="43" y="337"/>
                </a:lnTo>
                <a:lnTo>
                  <a:pt x="45" y="345"/>
                </a:lnTo>
                <a:lnTo>
                  <a:pt x="46" y="3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7373880" y="4957920"/>
            <a:ext cx="69840" cy="91800"/>
          </a:xfrm>
          <a:custGeom>
            <a:avLst/>
            <a:gdLst/>
            <a:ahLst/>
            <a:rect l="l" t="t" r="r" b="b"/>
            <a:pathLst>
              <a:path w="44" h="58">
                <a:moveTo>
                  <a:pt x="0" y="0"/>
                </a:moveTo>
                <a:lnTo>
                  <a:pt x="4" y="13"/>
                </a:lnTo>
                <a:lnTo>
                  <a:pt x="9" y="24"/>
                </a:lnTo>
                <a:lnTo>
                  <a:pt x="15" y="33"/>
                </a:lnTo>
                <a:lnTo>
                  <a:pt x="22" y="43"/>
                </a:lnTo>
                <a:lnTo>
                  <a:pt x="29" y="49"/>
                </a:lnTo>
                <a:lnTo>
                  <a:pt x="35" y="54"/>
                </a:lnTo>
                <a:lnTo>
                  <a:pt x="40" y="57"/>
                </a:lnTo>
                <a:lnTo>
                  <a:pt x="44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443720" y="4960800"/>
            <a:ext cx="71640" cy="88920"/>
          </a:xfrm>
          <a:custGeom>
            <a:avLst/>
            <a:gdLst/>
            <a:ahLst/>
            <a:rect l="l" t="t" r="r" b="b"/>
            <a:pathLst>
              <a:path w="45" h="56">
                <a:moveTo>
                  <a:pt x="0" y="56"/>
                </a:moveTo>
                <a:lnTo>
                  <a:pt x="5" y="55"/>
                </a:lnTo>
                <a:lnTo>
                  <a:pt x="10" y="52"/>
                </a:lnTo>
                <a:lnTo>
                  <a:pt x="17" y="47"/>
                </a:lnTo>
                <a:lnTo>
                  <a:pt x="23" y="41"/>
                </a:lnTo>
                <a:lnTo>
                  <a:pt x="29" y="32"/>
                </a:lnTo>
                <a:lnTo>
                  <a:pt x="35" y="23"/>
                </a:lnTo>
                <a:lnTo>
                  <a:pt x="40" y="12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515360" y="4659480"/>
            <a:ext cx="71280" cy="301320"/>
          </a:xfrm>
          <a:custGeom>
            <a:avLst/>
            <a:gdLst/>
            <a:ahLst/>
            <a:rect l="l" t="t" r="r" b="b"/>
            <a:pathLst>
              <a:path w="45" h="190">
                <a:moveTo>
                  <a:pt x="0" y="190"/>
                </a:moveTo>
                <a:lnTo>
                  <a:pt x="3" y="182"/>
                </a:lnTo>
                <a:lnTo>
                  <a:pt x="6" y="172"/>
                </a:lnTo>
                <a:lnTo>
                  <a:pt x="8" y="162"/>
                </a:lnTo>
                <a:lnTo>
                  <a:pt x="11" y="151"/>
                </a:lnTo>
                <a:lnTo>
                  <a:pt x="17" y="125"/>
                </a:lnTo>
                <a:lnTo>
                  <a:pt x="22" y="99"/>
                </a:lnTo>
                <a:lnTo>
                  <a:pt x="28" y="72"/>
                </a:lnTo>
                <a:lnTo>
                  <a:pt x="34" y="45"/>
                </a:lnTo>
                <a:lnTo>
                  <a:pt x="37" y="33"/>
                </a:lnTo>
                <a:lnTo>
                  <a:pt x="39" y="21"/>
                </a:lnTo>
                <a:lnTo>
                  <a:pt x="42" y="1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7586640" y="4468680"/>
            <a:ext cx="71640" cy="190800"/>
          </a:xfrm>
          <a:custGeom>
            <a:avLst/>
            <a:gdLst/>
            <a:ahLst/>
            <a:rect l="l" t="t" r="r" b="b"/>
            <a:pathLst>
              <a:path w="45" h="120">
                <a:moveTo>
                  <a:pt x="0" y="120"/>
                </a:moveTo>
                <a:lnTo>
                  <a:pt x="6" y="102"/>
                </a:lnTo>
                <a:lnTo>
                  <a:pt x="12" y="85"/>
                </a:lnTo>
                <a:lnTo>
                  <a:pt x="18" y="71"/>
                </a:lnTo>
                <a:lnTo>
                  <a:pt x="23" y="57"/>
                </a:lnTo>
                <a:lnTo>
                  <a:pt x="34" y="30"/>
                </a:lnTo>
                <a:lnTo>
                  <a:pt x="39" y="16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7658280" y="4227480"/>
            <a:ext cx="71280" cy="241200"/>
          </a:xfrm>
          <a:custGeom>
            <a:avLst/>
            <a:gdLst/>
            <a:ahLst/>
            <a:rect l="l" t="t" r="r" b="b"/>
            <a:pathLst>
              <a:path w="45" h="152">
                <a:moveTo>
                  <a:pt x="0" y="152"/>
                </a:moveTo>
                <a:lnTo>
                  <a:pt x="3" y="143"/>
                </a:lnTo>
                <a:lnTo>
                  <a:pt x="6" y="132"/>
                </a:lnTo>
                <a:lnTo>
                  <a:pt x="8" y="119"/>
                </a:lnTo>
                <a:lnTo>
                  <a:pt x="11" y="105"/>
                </a:lnTo>
                <a:lnTo>
                  <a:pt x="17" y="75"/>
                </a:lnTo>
                <a:lnTo>
                  <a:pt x="20" y="60"/>
                </a:lnTo>
                <a:lnTo>
                  <a:pt x="22" y="46"/>
                </a:lnTo>
                <a:lnTo>
                  <a:pt x="25" y="33"/>
                </a:lnTo>
                <a:lnTo>
                  <a:pt x="28" y="21"/>
                </a:lnTo>
                <a:lnTo>
                  <a:pt x="31" y="12"/>
                </a:lnTo>
                <a:lnTo>
                  <a:pt x="34" y="5"/>
                </a:lnTo>
                <a:lnTo>
                  <a:pt x="35" y="3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1" y="1"/>
                </a:lnTo>
                <a:lnTo>
                  <a:pt x="42" y="3"/>
                </a:lnTo>
                <a:lnTo>
                  <a:pt x="44" y="6"/>
                </a:lnTo>
                <a:lnTo>
                  <a:pt x="45" y="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7729560" y="4243320"/>
            <a:ext cx="71280" cy="704880"/>
          </a:xfrm>
          <a:custGeom>
            <a:avLst/>
            <a:gdLst/>
            <a:ahLst/>
            <a:rect l="l" t="t" r="r" b="b"/>
            <a:pathLst>
              <a:path w="45" h="444">
                <a:moveTo>
                  <a:pt x="0" y="0"/>
                </a:moveTo>
                <a:lnTo>
                  <a:pt x="1" y="5"/>
                </a:lnTo>
                <a:lnTo>
                  <a:pt x="4" y="12"/>
                </a:lnTo>
                <a:lnTo>
                  <a:pt x="5" y="20"/>
                </a:lnTo>
                <a:lnTo>
                  <a:pt x="7" y="30"/>
                </a:lnTo>
                <a:lnTo>
                  <a:pt x="8" y="40"/>
                </a:lnTo>
                <a:lnTo>
                  <a:pt x="9" y="52"/>
                </a:lnTo>
                <a:lnTo>
                  <a:pt x="11" y="65"/>
                </a:lnTo>
                <a:lnTo>
                  <a:pt x="12" y="79"/>
                </a:lnTo>
                <a:lnTo>
                  <a:pt x="13" y="93"/>
                </a:lnTo>
                <a:lnTo>
                  <a:pt x="15" y="108"/>
                </a:lnTo>
                <a:lnTo>
                  <a:pt x="18" y="140"/>
                </a:lnTo>
                <a:lnTo>
                  <a:pt x="20" y="174"/>
                </a:lnTo>
                <a:lnTo>
                  <a:pt x="23" y="209"/>
                </a:lnTo>
                <a:lnTo>
                  <a:pt x="26" y="245"/>
                </a:lnTo>
                <a:lnTo>
                  <a:pt x="28" y="279"/>
                </a:lnTo>
                <a:lnTo>
                  <a:pt x="31" y="313"/>
                </a:lnTo>
                <a:lnTo>
                  <a:pt x="34" y="346"/>
                </a:lnTo>
                <a:lnTo>
                  <a:pt x="35" y="361"/>
                </a:lnTo>
                <a:lnTo>
                  <a:pt x="37" y="376"/>
                </a:lnTo>
                <a:lnTo>
                  <a:pt x="38" y="389"/>
                </a:lnTo>
                <a:lnTo>
                  <a:pt x="39" y="402"/>
                </a:lnTo>
                <a:lnTo>
                  <a:pt x="41" y="415"/>
                </a:lnTo>
                <a:lnTo>
                  <a:pt x="42" y="426"/>
                </a:lnTo>
                <a:lnTo>
                  <a:pt x="44" y="436"/>
                </a:lnTo>
                <a:lnTo>
                  <a:pt x="45" y="4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7800840" y="4948200"/>
            <a:ext cx="73080" cy="101520"/>
          </a:xfrm>
          <a:custGeom>
            <a:avLst/>
            <a:gdLst/>
            <a:ahLst/>
            <a:rect l="l" t="t" r="r" b="b"/>
            <a:pathLst>
              <a:path w="46" h="64">
                <a:moveTo>
                  <a:pt x="0" y="0"/>
                </a:moveTo>
                <a:lnTo>
                  <a:pt x="4" y="14"/>
                </a:lnTo>
                <a:lnTo>
                  <a:pt x="9" y="26"/>
                </a:lnTo>
                <a:lnTo>
                  <a:pt x="15" y="36"/>
                </a:lnTo>
                <a:lnTo>
                  <a:pt x="22" y="45"/>
                </a:lnTo>
                <a:lnTo>
                  <a:pt x="30" y="53"/>
                </a:lnTo>
                <a:lnTo>
                  <a:pt x="36" y="59"/>
                </a:lnTo>
                <a:lnTo>
                  <a:pt x="42" y="62"/>
                </a:lnTo>
                <a:lnTo>
                  <a:pt x="46" y="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873920" y="49798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44"/>
                </a:moveTo>
                <a:lnTo>
                  <a:pt x="5" y="44"/>
                </a:lnTo>
                <a:lnTo>
                  <a:pt x="10" y="42"/>
                </a:lnTo>
                <a:lnTo>
                  <a:pt x="16" y="39"/>
                </a:lnTo>
                <a:lnTo>
                  <a:pt x="22" y="34"/>
                </a:lnTo>
                <a:lnTo>
                  <a:pt x="28" y="28"/>
                </a:lnTo>
                <a:lnTo>
                  <a:pt x="34" y="19"/>
                </a:lnTo>
                <a:lnTo>
                  <a:pt x="39" y="10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7943760" y="4730760"/>
            <a:ext cx="73080" cy="249120"/>
          </a:xfrm>
          <a:custGeom>
            <a:avLst/>
            <a:gdLst/>
            <a:ahLst/>
            <a:rect l="l" t="t" r="r" b="b"/>
            <a:pathLst>
              <a:path w="46" h="157">
                <a:moveTo>
                  <a:pt x="0" y="157"/>
                </a:moveTo>
                <a:lnTo>
                  <a:pt x="3" y="150"/>
                </a:lnTo>
                <a:lnTo>
                  <a:pt x="6" y="143"/>
                </a:lnTo>
                <a:lnTo>
                  <a:pt x="8" y="134"/>
                </a:lnTo>
                <a:lnTo>
                  <a:pt x="11" y="125"/>
                </a:lnTo>
                <a:lnTo>
                  <a:pt x="17" y="105"/>
                </a:lnTo>
                <a:lnTo>
                  <a:pt x="22" y="83"/>
                </a:lnTo>
                <a:lnTo>
                  <a:pt x="28" y="61"/>
                </a:lnTo>
                <a:lnTo>
                  <a:pt x="34" y="40"/>
                </a:lnTo>
                <a:lnTo>
                  <a:pt x="40" y="19"/>
                </a:lnTo>
                <a:lnTo>
                  <a:pt x="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8016840" y="4540320"/>
            <a:ext cx="69840" cy="190440"/>
          </a:xfrm>
          <a:custGeom>
            <a:avLst/>
            <a:gdLst/>
            <a:ahLst/>
            <a:rect l="l" t="t" r="r" b="b"/>
            <a:pathLst>
              <a:path w="44" h="120">
                <a:moveTo>
                  <a:pt x="0" y="120"/>
                </a:moveTo>
                <a:lnTo>
                  <a:pt x="6" y="103"/>
                </a:lnTo>
                <a:lnTo>
                  <a:pt x="11" y="88"/>
                </a:lnTo>
                <a:lnTo>
                  <a:pt x="22" y="58"/>
                </a:lnTo>
                <a:lnTo>
                  <a:pt x="33" y="29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581400" y="55008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581400" y="48736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581400" y="42498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581400" y="36226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581400" y="29973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581400" y="23702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81400" y="17445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581400" y="11192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933480" y="5770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266688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445284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6237360" y="5770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7972200" y="57704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4691520" y="6086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rot="16200000">
            <a:off x="-847440" y="3071880"/>
            <a:ext cx="236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diment Loss (Mg/h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2190600" y="6499080"/>
            <a:ext cx="53611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2249640" y="6626160"/>
            <a:ext cx="24120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2575080" y="6527880"/>
            <a:ext cx="936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3537000" y="6626160"/>
            <a:ext cx="2412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3858480" y="6527880"/>
            <a:ext cx="18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gglomerated shif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5721480" y="6626160"/>
            <a:ext cx="2397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>
            <a:off x="6044760" y="6527880"/>
            <a:ext cx="152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persed shif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IMENT LOSS: FERTILIZER WAS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3580920" y="1219320"/>
            <a:ext cx="323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rmanent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348720" y="2666880"/>
            <a:ext cx="484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gglomerated shifting cul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3654360" y="5181480"/>
            <a:ext cx="427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ersed shifting cul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8" name=""/>
          <p:cNvGrpSpPr/>
          <p:nvPr/>
        </p:nvGrpSpPr>
        <p:grpSpPr>
          <a:xfrm>
            <a:off x="152280" y="152280"/>
            <a:ext cx="9144000" cy="5385960"/>
            <a:chOff x="152280" y="152280"/>
            <a:chExt cx="9144000" cy="5385960"/>
          </a:xfrm>
        </p:grpSpPr>
        <p:sp>
          <p:nvSpPr>
            <p:cNvPr id="6509" name=""/>
            <p:cNvSpPr/>
            <p:nvPr/>
          </p:nvSpPr>
          <p:spPr>
            <a:xfrm>
              <a:off x="152280" y="15228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LLO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sessing some environmental consequences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gregation and integration approaches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servation-development in Mae Cha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533520" y="1523880"/>
              <a:ext cx="8153280" cy="40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Questio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an we represent a ‘segregate’ scenario of concentrating farm activities in the valleys while protecting hills and upper watershed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impact will such a scenario have on total water yield, base flow, biodiversity, C stocks as well as livelihood opti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1" name=""/>
          <p:cNvSpPr/>
          <p:nvPr/>
        </p:nvSpPr>
        <p:spPr>
          <a:xfrm>
            <a:off x="6477120" y="1752480"/>
            <a:ext cx="25905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7315200" y="3429000"/>
            <a:ext cx="12952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3" name=""/>
          <p:cNvGrpSpPr/>
          <p:nvPr/>
        </p:nvGrpSpPr>
        <p:grpSpPr>
          <a:xfrm>
            <a:off x="2514600" y="4495320"/>
            <a:ext cx="5486400" cy="381600"/>
            <a:chOff x="2514600" y="4495320"/>
            <a:chExt cx="5486400" cy="381600"/>
          </a:xfrm>
        </p:grpSpPr>
        <p:sp>
          <p:nvSpPr>
            <p:cNvPr id="6514" name=""/>
            <p:cNvSpPr/>
            <p:nvPr/>
          </p:nvSpPr>
          <p:spPr>
            <a:xfrm>
              <a:off x="2514600" y="4495680"/>
              <a:ext cx="0" cy="3812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 flipV="1">
              <a:off x="8001000" y="4495320"/>
              <a:ext cx="0" cy="3812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 flipV="1">
              <a:off x="6400800" y="4495320"/>
              <a:ext cx="0" cy="3812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4267080" y="4495680"/>
              <a:ext cx="0" cy="3812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8" name=""/>
          <p:cNvGrpSpPr/>
          <p:nvPr/>
        </p:nvGrpSpPr>
        <p:grpSpPr>
          <a:xfrm>
            <a:off x="228240" y="253800"/>
            <a:ext cx="8534880" cy="6322680"/>
            <a:chOff x="228240" y="253800"/>
            <a:chExt cx="8534880" cy="6322680"/>
          </a:xfrm>
        </p:grpSpPr>
        <p:sp>
          <p:nvSpPr>
            <p:cNvPr id="6519" name="PlaceHolder 1"/>
            <p:cNvSpPr>
              <a:spLocks noGrp="1"/>
            </p:cNvSpPr>
            <p:nvPr>
              <p:ph type="title"/>
            </p:nvPr>
          </p:nvSpPr>
          <p:spPr>
            <a:xfrm>
              <a:off x="228240" y="253800"/>
              <a:ext cx="8458200" cy="1422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here you ‘surprised’ by and will you learn anything from this model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0" name=""/>
            <p:cNvGrpSpPr/>
            <p:nvPr/>
          </p:nvGrpSpPr>
          <p:grpSpPr>
            <a:xfrm>
              <a:off x="2438280" y="2895480"/>
              <a:ext cx="5791320" cy="3505320"/>
              <a:chOff x="2438280" y="2895480"/>
              <a:chExt cx="5791320" cy="3505320"/>
            </a:xfrm>
          </p:grpSpPr>
          <p:sp>
            <p:nvSpPr>
              <p:cNvPr id="6521" name=""/>
              <p:cNvSpPr/>
              <p:nvPr/>
            </p:nvSpPr>
            <p:spPr>
              <a:xfrm>
                <a:off x="2438280" y="2895480"/>
                <a:ext cx="2806920" cy="16765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del can 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‘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alidated’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‘use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423040" y="4724280"/>
                <a:ext cx="2806560" cy="16765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t particularl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res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3" name=""/>
            <p:cNvSpPr/>
            <p:nvPr/>
          </p:nvSpPr>
          <p:spPr>
            <a:xfrm>
              <a:off x="5423040" y="2895480"/>
              <a:ext cx="2806560" cy="167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may learn som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ng important ab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ual assump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438280" y="4724280"/>
              <a:ext cx="2806920" cy="167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may learn som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ng important ab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ual assump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362320" y="1752480"/>
              <a:ext cx="64008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ssump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usible, realistic          simple, ‘inadequat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 rot="16200000">
              <a:off x="-671400" y="3619080"/>
              <a:ext cx="4416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odel predic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expected,           plausib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realistic             real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7" name=""/>
          <p:cNvSpPr/>
          <p:nvPr/>
        </p:nvSpPr>
        <p:spPr>
          <a:xfrm>
            <a:off x="374760" y="-10148040"/>
            <a:ext cx="8445240" cy="166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OW PCRaster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 Suyam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ha Lus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mat Mu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ine van Noordw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RAF Southeast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gor Indo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H A N K    Y O U - Terima kas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r website for more… ICRAF.cgiar.org/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>
            <a:off x="2438280" y="685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9" name=""/>
          <p:cNvGraphicFramePr/>
          <p:nvPr/>
        </p:nvGraphicFramePr>
        <p:xfrm>
          <a:off x="0" y="0"/>
          <a:ext cx="914400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50760" y="-252360"/>
            <a:ext cx="4876920" cy="6318000"/>
            <a:chOff x="-50760" y="-252360"/>
            <a:chExt cx="4876920" cy="6318000"/>
          </a:xfrm>
        </p:grpSpPr>
        <p:graphicFrame>
          <p:nvGraphicFramePr>
            <p:cNvPr id="176" name=""/>
            <p:cNvGraphicFramePr/>
            <p:nvPr/>
          </p:nvGraphicFramePr>
          <p:xfrm>
            <a:off x="-50760" y="-252360"/>
            <a:ext cx="4761000" cy="631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0760" y="-252360"/>
                      <a:ext cx="4761000" cy="631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614520" y="901800"/>
              <a:ext cx="0" cy="1380960"/>
            </a:xfrm>
            <a:prstGeom prst="line">
              <a:avLst/>
            </a:prstGeom>
            <a:ln w="120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424400" y="90144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0680" y="2558880"/>
              <a:ext cx="10800" cy="600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25760" y="4597560"/>
              <a:ext cx="581040" cy="3902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4160" y="4275720"/>
              <a:ext cx="1439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560" y="3513600"/>
              <a:ext cx="10998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873080" y="2454120"/>
              <a:ext cx="152640" cy="409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2560" y="3130560"/>
              <a:ext cx="371520" cy="114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76560" y="214236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diment L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5920" y="1369080"/>
              <a:ext cx="128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inf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65200" y="1702440"/>
              <a:ext cx="23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" y="2768760"/>
              <a:ext cx="295200" cy="3808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"/>
            <p:cNvCxnSpPr>
              <a:stCxn id="188" idx="3"/>
              <a:endCxn id="186" idx="3"/>
            </p:cNvCxnSpPr>
            <p:nvPr/>
          </p:nvCxnSpPr>
          <p:spPr>
            <a:xfrm flipH="1">
              <a:off x="3266280" y="1931760"/>
              <a:ext cx="531000" cy="410040"/>
            </a:xfrm>
            <a:prstGeom prst="bentConnector3">
              <a:avLst>
                <a:gd name="adj1" fmla="val -43080"/>
              </a:avLst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3098160" y="56059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25680" y="5025960"/>
              <a:ext cx="743040" cy="7430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7520" y="4816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572000" y="2057400"/>
            <a:ext cx="4765680" cy="4419720"/>
            <a:chOff x="4572000" y="2057400"/>
            <a:chExt cx="4765680" cy="4419720"/>
          </a:xfrm>
        </p:grpSpPr>
        <p:sp>
          <p:nvSpPr>
            <p:cNvPr id="195" name=""/>
            <p:cNvSpPr/>
            <p:nvPr/>
          </p:nvSpPr>
          <p:spPr>
            <a:xfrm>
              <a:off x="4572000" y="2057400"/>
              <a:ext cx="2862360" cy="83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Land use mosai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in upper catch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3520" y="3429000"/>
              <a:ext cx="2613240" cy="7621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mounts, timing and quality of water in riv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2895480"/>
              <a:ext cx="38088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05720" y="4876920"/>
              <a:ext cx="2023920" cy="1600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ownstream water users &amp; pple in ‘flood plain’ c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5720" y="41911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46960" y="2436840"/>
              <a:ext cx="1206360" cy="2449440"/>
            </a:xfrm>
            <a:custGeom>
              <a:avLst/>
              <a:gdLst/>
              <a:ahLst/>
              <a:rect l="l" t="t" r="r" b="b"/>
              <a:pathLst>
                <a:path w="760" h="1543">
                  <a:moveTo>
                    <a:pt x="507" y="1543"/>
                  </a:moveTo>
                  <a:cubicBezTo>
                    <a:pt x="527" y="1510"/>
                    <a:pt x="588" y="1524"/>
                    <a:pt x="630" y="1355"/>
                  </a:cubicBezTo>
                  <a:cubicBezTo>
                    <a:pt x="672" y="1186"/>
                    <a:pt x="760" y="736"/>
                    <a:pt x="760" y="530"/>
                  </a:cubicBezTo>
                  <a:cubicBezTo>
                    <a:pt x="760" y="323"/>
                    <a:pt x="757" y="205"/>
                    <a:pt x="630" y="117"/>
                  </a:cubicBezTo>
                  <a:cubicBezTo>
                    <a:pt x="503" y="29"/>
                    <a:pt x="131" y="24"/>
                    <a:pt x="0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378560" y="3098880"/>
              <a:ext cx="1959120" cy="1713960"/>
              <a:chOff x="7378560" y="3098880"/>
              <a:chExt cx="1959120" cy="1713960"/>
            </a:xfrm>
          </p:grpSpPr>
          <p:sp>
            <p:nvSpPr>
              <p:cNvPr id="202" name=""/>
              <p:cNvSpPr/>
              <p:nvPr/>
            </p:nvSpPr>
            <p:spPr>
              <a:xfrm>
                <a:off x="7378560" y="3098880"/>
                <a:ext cx="1959120" cy="1482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66040" y="3330360"/>
                <a:ext cx="1828800" cy="14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erceptions on cause-effect relations as basis of polic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6248520" y="152280"/>
            <a:ext cx="2361960" cy="990720"/>
          </a:xfrm>
          <a:prstGeom prst="wedgeRectCallout">
            <a:avLst>
              <a:gd name="adj1" fmla="val 31180"/>
              <a:gd name="adj2" fmla="val 1799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, evic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-63360" y="0"/>
            <a:ext cx="8985240" cy="6019560"/>
            <a:chOff x="-63360" y="0"/>
            <a:chExt cx="8985240" cy="6019560"/>
          </a:xfrm>
        </p:grpSpPr>
        <p:sp>
          <p:nvSpPr>
            <p:cNvPr id="206" name=""/>
            <p:cNvSpPr/>
            <p:nvPr/>
          </p:nvSpPr>
          <p:spPr>
            <a:xfrm>
              <a:off x="228600" y="0"/>
              <a:ext cx="22096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y segregated landsc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11840" y="0"/>
              <a:ext cx="2210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y integrated landsc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74560" y="800280"/>
              <a:ext cx="7794720" cy="5218920"/>
              <a:chOff x="574560" y="800280"/>
              <a:chExt cx="7794720" cy="5218920"/>
            </a:xfrm>
          </p:grpSpPr>
          <p:sp>
            <p:nvSpPr>
              <p:cNvPr id="209" name=""/>
              <p:cNvSpPr/>
              <p:nvPr/>
            </p:nvSpPr>
            <p:spPr>
              <a:xfrm>
                <a:off x="574560" y="849960"/>
                <a:ext cx="7772400" cy="487116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66ff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4560" y="2432160"/>
                <a:ext cx="7775640" cy="3330360"/>
              </a:xfrm>
              <a:custGeom>
                <a:avLst/>
                <a:gdLst/>
                <a:ahLst/>
                <a:rect l="l" t="t" r="r" b="b"/>
                <a:pathLst>
                  <a:path w="4898" h="1608">
                    <a:moveTo>
                      <a:pt x="0" y="0"/>
                    </a:moveTo>
                    <a:lnTo>
                      <a:pt x="2" y="1608"/>
                    </a:lnTo>
                    <a:lnTo>
                      <a:pt x="4898" y="1608"/>
                    </a:lnTo>
                    <a:lnTo>
                      <a:pt x="4562" y="1368"/>
                    </a:lnTo>
                    <a:lnTo>
                      <a:pt x="4082" y="1176"/>
                    </a:lnTo>
                    <a:lnTo>
                      <a:pt x="3455" y="972"/>
                    </a:lnTo>
                    <a:lnTo>
                      <a:pt x="2690" y="766"/>
                    </a:lnTo>
                    <a:lnTo>
                      <a:pt x="1986" y="517"/>
                    </a:lnTo>
                    <a:lnTo>
                      <a:pt x="1055" y="228"/>
                    </a:lnTo>
                    <a:lnTo>
                      <a:pt x="269" y="4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7800" y="849960"/>
                <a:ext cx="7772400" cy="1491120"/>
              </a:xfrm>
              <a:custGeom>
                <a:avLst/>
                <a:gdLst/>
                <a:ahLst/>
                <a:rect l="l" t="t" r="r" b="b"/>
                <a:pathLst>
                  <a:path w="489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768" y="672"/>
                    </a:lnTo>
                    <a:lnTo>
                      <a:pt x="2208" y="528"/>
                    </a:lnTo>
                    <a:lnTo>
                      <a:pt x="3264" y="384"/>
                    </a:lnTo>
                    <a:lnTo>
                      <a:pt x="4032" y="240"/>
                    </a:lnTo>
                    <a:lnTo>
                      <a:pt x="4608" y="96"/>
                    </a:lnTo>
                    <a:lnTo>
                      <a:pt x="4896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08120" y="4631760"/>
                <a:ext cx="434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ntensive agricultur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7640" y="800280"/>
                <a:ext cx="327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natural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fores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82880" y="1848600"/>
                <a:ext cx="54864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ntegrated, multifunctional landscape: crops, trees, meadows and forest patche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574560" y="5721480"/>
                <a:ext cx="7772400" cy="297720"/>
                <a:chOff x="574560" y="5721480"/>
                <a:chExt cx="7772400" cy="2977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74560" y="5721480"/>
                  <a:ext cx="0" cy="297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128680" y="5721480"/>
                  <a:ext cx="0" cy="297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682800" y="5721480"/>
                  <a:ext cx="0" cy="297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36920" y="5721480"/>
                  <a:ext cx="0" cy="297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791040" y="5721480"/>
                  <a:ext cx="0" cy="297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346960" y="5721480"/>
                  <a:ext cx="0" cy="297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 flipV="1">
              <a:off x="2133720" y="609120"/>
              <a:ext cx="0" cy="5410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086600" y="609120"/>
              <a:ext cx="0" cy="5410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09480" y="609120"/>
              <a:ext cx="0" cy="5410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305920" y="609120"/>
              <a:ext cx="0" cy="5410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572000" y="609120"/>
              <a:ext cx="0" cy="5410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-63360" y="825480"/>
              <a:ext cx="8859600" cy="5025960"/>
              <a:chOff x="-63360" y="825480"/>
              <a:chExt cx="8859600" cy="5025960"/>
            </a:xfrm>
          </p:grpSpPr>
          <p:sp>
            <p:nvSpPr>
              <p:cNvPr id="228" name=""/>
              <p:cNvSpPr/>
              <p:nvPr/>
            </p:nvSpPr>
            <p:spPr>
              <a:xfrm>
                <a:off x="304920" y="825480"/>
                <a:ext cx="8458200" cy="1536840"/>
              </a:xfrm>
              <a:custGeom>
                <a:avLst/>
                <a:gdLst/>
                <a:ahLst/>
                <a:rect l="l" t="t" r="r" b="b"/>
                <a:pathLst>
                  <a:path w="5328" h="968">
                    <a:moveTo>
                      <a:pt x="0" y="968"/>
                    </a:moveTo>
                    <a:cubicBezTo>
                      <a:pt x="73" y="962"/>
                      <a:pt x="187" y="958"/>
                      <a:pt x="439" y="930"/>
                    </a:cubicBezTo>
                    <a:cubicBezTo>
                      <a:pt x="691" y="902"/>
                      <a:pt x="1140" y="847"/>
                      <a:pt x="1515" y="797"/>
                    </a:cubicBezTo>
                    <a:cubicBezTo>
                      <a:pt x="1890" y="747"/>
                      <a:pt x="2381" y="675"/>
                      <a:pt x="2688" y="632"/>
                    </a:cubicBezTo>
                    <a:cubicBezTo>
                      <a:pt x="2995" y="589"/>
                      <a:pt x="3158" y="575"/>
                      <a:pt x="3360" y="536"/>
                    </a:cubicBezTo>
                    <a:cubicBezTo>
                      <a:pt x="3562" y="497"/>
                      <a:pt x="3731" y="440"/>
                      <a:pt x="3899" y="400"/>
                    </a:cubicBezTo>
                    <a:cubicBezTo>
                      <a:pt x="4067" y="360"/>
                      <a:pt x="4214" y="342"/>
                      <a:pt x="4368" y="296"/>
                    </a:cubicBezTo>
                    <a:cubicBezTo>
                      <a:pt x="4522" y="250"/>
                      <a:pt x="4722" y="167"/>
                      <a:pt x="4826" y="127"/>
                    </a:cubicBezTo>
                    <a:cubicBezTo>
                      <a:pt x="4930" y="87"/>
                      <a:pt x="4948" y="76"/>
                      <a:pt x="4992" y="56"/>
                    </a:cubicBezTo>
                    <a:cubicBezTo>
                      <a:pt x="5036" y="36"/>
                      <a:pt x="5064" y="16"/>
                      <a:pt x="5088" y="8"/>
                    </a:cubicBezTo>
                    <a:cubicBezTo>
                      <a:pt x="5112" y="0"/>
                      <a:pt x="5096" y="8"/>
                      <a:pt x="5136" y="8"/>
                    </a:cubicBezTo>
                    <a:cubicBezTo>
                      <a:pt x="5176" y="8"/>
                      <a:pt x="5296" y="8"/>
                      <a:pt x="5328" y="8"/>
                    </a:cubicBezTo>
                  </a:path>
                </a:pathLst>
              </a:custGeom>
              <a:noFill/>
              <a:ln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4040" y="2351160"/>
                <a:ext cx="8512200" cy="3500280"/>
              </a:xfrm>
              <a:custGeom>
                <a:avLst/>
                <a:gdLst/>
                <a:ahLst/>
                <a:rect l="l" t="t" r="r" b="b"/>
                <a:pathLst>
                  <a:path w="5362" h="2205">
                    <a:moveTo>
                      <a:pt x="0" y="0"/>
                    </a:moveTo>
                    <a:cubicBezTo>
                      <a:pt x="91" y="25"/>
                      <a:pt x="291" y="69"/>
                      <a:pt x="546" y="148"/>
                    </a:cubicBezTo>
                    <a:cubicBezTo>
                      <a:pt x="801" y="227"/>
                      <a:pt x="1158" y="337"/>
                      <a:pt x="1528" y="475"/>
                    </a:cubicBezTo>
                    <a:cubicBezTo>
                      <a:pt x="1898" y="613"/>
                      <a:pt x="2449" y="847"/>
                      <a:pt x="2767" y="974"/>
                    </a:cubicBezTo>
                    <a:cubicBezTo>
                      <a:pt x="3085" y="1101"/>
                      <a:pt x="3251" y="1164"/>
                      <a:pt x="3437" y="1239"/>
                    </a:cubicBezTo>
                    <a:cubicBezTo>
                      <a:pt x="3623" y="1314"/>
                      <a:pt x="3740" y="1369"/>
                      <a:pt x="3881" y="1426"/>
                    </a:cubicBezTo>
                    <a:cubicBezTo>
                      <a:pt x="4022" y="1483"/>
                      <a:pt x="4170" y="1530"/>
                      <a:pt x="4286" y="1582"/>
                    </a:cubicBezTo>
                    <a:cubicBezTo>
                      <a:pt x="4402" y="1634"/>
                      <a:pt x="4474" y="1674"/>
                      <a:pt x="4574" y="1738"/>
                    </a:cubicBezTo>
                    <a:cubicBezTo>
                      <a:pt x="4674" y="1802"/>
                      <a:pt x="4812" y="1907"/>
                      <a:pt x="4886" y="1964"/>
                    </a:cubicBezTo>
                    <a:cubicBezTo>
                      <a:pt x="4960" y="2021"/>
                      <a:pt x="4963" y="2049"/>
                      <a:pt x="5019" y="2080"/>
                    </a:cubicBezTo>
                    <a:cubicBezTo>
                      <a:pt x="5075" y="2111"/>
                      <a:pt x="5164" y="2130"/>
                      <a:pt x="5221" y="2151"/>
                    </a:cubicBezTo>
                    <a:cubicBezTo>
                      <a:pt x="5278" y="2172"/>
                      <a:pt x="5333" y="2194"/>
                      <a:pt x="5362" y="2205"/>
                    </a:cubicBezTo>
                  </a:path>
                </a:pathLst>
              </a:custGeom>
              <a:noFill/>
              <a:ln w="1015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-63360" y="1523880"/>
                <a:ext cx="1523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bilizing which ‘forest margin?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-279360" y="5715000"/>
            <a:ext cx="9334440" cy="1191240"/>
            <a:chOff x="-279360" y="5715000"/>
            <a:chExt cx="9334440" cy="1191240"/>
          </a:xfrm>
        </p:grpSpPr>
        <p:sp>
          <p:nvSpPr>
            <p:cNvPr id="232" name=""/>
            <p:cNvSpPr/>
            <p:nvPr/>
          </p:nvSpPr>
          <p:spPr>
            <a:xfrm>
              <a:off x="-279360" y="5854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g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6095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2480" y="60451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sto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4880" y="57150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 sedi-ment loss, Kyo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84680" y="59342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nt diver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873520" y="554040"/>
            <a:ext cx="3183840" cy="3227040"/>
            <a:chOff x="2873520" y="554040"/>
            <a:chExt cx="3183840" cy="322704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873520" y="554040"/>
              <a:ext cx="3054240" cy="32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473640" y="844920"/>
              <a:ext cx="2115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2480" y="865800"/>
              <a:ext cx="260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25221e"/>
                  </a:solidFill>
                  <a:latin typeface="Garamond"/>
                </a:rPr>
                <a:t>Landscape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91880" y="1449720"/>
              <a:ext cx="1386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240" y="1451880"/>
              <a:ext cx="172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25221e"/>
                  </a:solidFill>
                  <a:latin typeface="Garamond"/>
                </a:rPr>
                <a:t>mosaic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9920" y="2011680"/>
              <a:ext cx="1647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63200" y="2030400"/>
              <a:ext cx="2166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25221e"/>
                  </a:solidFill>
                  <a:latin typeface="Garamond"/>
                </a:rPr>
                <a:t>resource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0600" y="2595600"/>
              <a:ext cx="230472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7280" y="2616480"/>
              <a:ext cx="298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25221e"/>
                  </a:solidFill>
                  <a:latin typeface="Garamond"/>
                </a:rPr>
                <a:t>interactions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-115920" y="366840"/>
            <a:ext cx="2820600" cy="1040760"/>
            <a:chOff x="-115920" y="366840"/>
            <a:chExt cx="2820600" cy="1040760"/>
          </a:xfrm>
        </p:grpSpPr>
        <p:sp>
          <p:nvSpPr>
            <p:cNvPr id="248" name=""/>
            <p:cNvSpPr/>
            <p:nvPr/>
          </p:nvSpPr>
          <p:spPr>
            <a:xfrm>
              <a:off x="63360" y="366840"/>
              <a:ext cx="217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115920" y="385560"/>
              <a:ext cx="2562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new components &amp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360" y="762480"/>
              <a:ext cx="14050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71640" y="783000"/>
              <a:ext cx="1704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technologi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42480" y="762480"/>
              <a:ext cx="730440" cy="457560"/>
            </a:xfrm>
            <a:custGeom>
              <a:avLst/>
              <a:gdLst/>
              <a:ahLst/>
              <a:rect l="l" t="t" r="r" b="b"/>
              <a:pathLst>
                <a:path w="471" h="266">
                  <a:moveTo>
                    <a:pt x="471" y="266"/>
                  </a:moveTo>
                  <a:lnTo>
                    <a:pt x="471" y="181"/>
                  </a:lnTo>
                  <a:lnTo>
                    <a:pt x="435" y="121"/>
                  </a:lnTo>
                  <a:lnTo>
                    <a:pt x="375" y="85"/>
                  </a:lnTo>
                  <a:lnTo>
                    <a:pt x="314" y="48"/>
                  </a:lnTo>
                  <a:lnTo>
                    <a:pt x="169" y="12"/>
                  </a:lnTo>
                  <a:lnTo>
                    <a:pt x="0" y="0"/>
                  </a:lnTo>
                  <a:lnTo>
                    <a:pt x="0" y="36"/>
                  </a:lnTo>
                  <a:lnTo>
                    <a:pt x="169" y="48"/>
                  </a:lnTo>
                  <a:lnTo>
                    <a:pt x="314" y="85"/>
                  </a:lnTo>
                  <a:lnTo>
                    <a:pt x="362" y="109"/>
                  </a:lnTo>
                  <a:lnTo>
                    <a:pt x="411" y="157"/>
                  </a:lnTo>
                  <a:lnTo>
                    <a:pt x="435" y="193"/>
                  </a:lnTo>
                  <a:lnTo>
                    <a:pt x="447" y="266"/>
                  </a:lnTo>
                  <a:lnTo>
                    <a:pt x="471" y="266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24240" y="1032480"/>
              <a:ext cx="280440" cy="375120"/>
            </a:xfrm>
            <a:custGeom>
              <a:avLst/>
              <a:gdLst/>
              <a:ahLst/>
              <a:rect l="l" t="t" r="r" b="b"/>
              <a:pathLst>
                <a:path w="181" h="218">
                  <a:moveTo>
                    <a:pt x="84" y="218"/>
                  </a:moveTo>
                  <a:lnTo>
                    <a:pt x="181" y="0"/>
                  </a:lnTo>
                  <a:lnTo>
                    <a:pt x="156" y="0"/>
                  </a:lnTo>
                  <a:lnTo>
                    <a:pt x="144" y="12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24"/>
                  </a:lnTo>
                  <a:lnTo>
                    <a:pt x="96" y="24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84" y="218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99960" y="2011320"/>
            <a:ext cx="8000640" cy="4269960"/>
            <a:chOff x="399960" y="2011320"/>
            <a:chExt cx="8000640" cy="4269960"/>
          </a:xfrm>
        </p:grpSpPr>
        <p:grpSp>
          <p:nvGrpSpPr>
            <p:cNvPr id="255" name=""/>
            <p:cNvGrpSpPr/>
            <p:nvPr/>
          </p:nvGrpSpPr>
          <p:grpSpPr>
            <a:xfrm>
              <a:off x="399960" y="2011320"/>
              <a:ext cx="8000640" cy="3915000"/>
              <a:chOff x="399960" y="2011320"/>
              <a:chExt cx="8000640" cy="3915000"/>
            </a:xfrm>
          </p:grpSpPr>
          <p:sp>
            <p:nvSpPr>
              <p:cNvPr id="256" name=""/>
              <p:cNvSpPr/>
              <p:nvPr/>
            </p:nvSpPr>
            <p:spPr>
              <a:xfrm>
                <a:off x="569160" y="2760840"/>
                <a:ext cx="55440" cy="1333440"/>
              </a:xfrm>
              <a:custGeom>
                <a:avLst/>
                <a:gdLst/>
                <a:ahLst/>
                <a:rect l="l" t="t" r="r" b="b"/>
                <a:pathLst>
                  <a:path w="36" h="774">
                    <a:moveTo>
                      <a:pt x="12" y="0"/>
                    </a:moveTo>
                    <a:lnTo>
                      <a:pt x="12" y="0"/>
                    </a:lnTo>
                    <a:lnTo>
                      <a:pt x="0" y="169"/>
                    </a:lnTo>
                    <a:lnTo>
                      <a:pt x="0" y="387"/>
                    </a:lnTo>
                    <a:lnTo>
                      <a:pt x="0" y="592"/>
                    </a:lnTo>
                    <a:lnTo>
                      <a:pt x="0" y="774"/>
                    </a:lnTo>
                    <a:lnTo>
                      <a:pt x="24" y="774"/>
                    </a:lnTo>
                    <a:lnTo>
                      <a:pt x="24" y="592"/>
                    </a:lnTo>
                    <a:lnTo>
                      <a:pt x="24" y="387"/>
                    </a:lnTo>
                    <a:lnTo>
                      <a:pt x="24" y="169"/>
                    </a:lnTo>
                    <a:lnTo>
                      <a:pt x="3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62080" y="2011320"/>
                <a:ext cx="38520" cy="316548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12560" y="5197320"/>
                <a:ext cx="788040" cy="708480"/>
              </a:xfrm>
              <a:custGeom>
                <a:avLst/>
                <a:gdLst/>
                <a:ahLst/>
                <a:rect l="l" t="t" r="r" b="b"/>
                <a:pathLst>
                  <a:path w="508" h="411">
                    <a:moveTo>
                      <a:pt x="0" y="411"/>
                    </a:moveTo>
                    <a:lnTo>
                      <a:pt x="0" y="411"/>
                    </a:lnTo>
                    <a:lnTo>
                      <a:pt x="109" y="399"/>
                    </a:lnTo>
                    <a:lnTo>
                      <a:pt x="194" y="387"/>
                    </a:lnTo>
                    <a:lnTo>
                      <a:pt x="290" y="339"/>
                    </a:lnTo>
                    <a:lnTo>
                      <a:pt x="351" y="303"/>
                    </a:lnTo>
                    <a:lnTo>
                      <a:pt x="423" y="230"/>
                    </a:lnTo>
                    <a:lnTo>
                      <a:pt x="471" y="170"/>
                    </a:lnTo>
                    <a:lnTo>
                      <a:pt x="496" y="85"/>
                    </a:lnTo>
                    <a:lnTo>
                      <a:pt x="508" y="0"/>
                    </a:lnTo>
                    <a:lnTo>
                      <a:pt x="483" y="0"/>
                    </a:lnTo>
                    <a:lnTo>
                      <a:pt x="471" y="85"/>
                    </a:lnTo>
                    <a:lnTo>
                      <a:pt x="447" y="145"/>
                    </a:lnTo>
                    <a:lnTo>
                      <a:pt x="411" y="206"/>
                    </a:lnTo>
                    <a:lnTo>
                      <a:pt x="339" y="266"/>
                    </a:lnTo>
                    <a:lnTo>
                      <a:pt x="278" y="315"/>
                    </a:lnTo>
                    <a:lnTo>
                      <a:pt x="182" y="351"/>
                    </a:lnTo>
                    <a:lnTo>
                      <a:pt x="97" y="363"/>
                    </a:lnTo>
                    <a:lnTo>
                      <a:pt x="0" y="387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206360" y="5884920"/>
                <a:ext cx="6424560" cy="41400"/>
              </a:xfrm>
              <a:custGeom>
                <a:avLst/>
                <a:gdLst/>
                <a:ahLst/>
                <a:rect l="l" t="t" r="r" b="b"/>
                <a:pathLst>
                  <a:path w="4141" h="24">
                    <a:moveTo>
                      <a:pt x="0" y="24"/>
                    </a:moveTo>
                    <a:lnTo>
                      <a:pt x="0" y="24"/>
                    </a:lnTo>
                    <a:lnTo>
                      <a:pt x="519" y="24"/>
                    </a:lnTo>
                    <a:lnTo>
                      <a:pt x="1038" y="24"/>
                    </a:lnTo>
                    <a:lnTo>
                      <a:pt x="1557" y="24"/>
                    </a:lnTo>
                    <a:lnTo>
                      <a:pt x="2089" y="24"/>
                    </a:lnTo>
                    <a:lnTo>
                      <a:pt x="2596" y="24"/>
                    </a:lnTo>
                    <a:lnTo>
                      <a:pt x="3115" y="24"/>
                    </a:lnTo>
                    <a:lnTo>
                      <a:pt x="3622" y="24"/>
                    </a:lnTo>
                    <a:lnTo>
                      <a:pt x="4141" y="24"/>
                    </a:lnTo>
                    <a:lnTo>
                      <a:pt x="4141" y="0"/>
                    </a:lnTo>
                    <a:lnTo>
                      <a:pt x="3622" y="0"/>
                    </a:lnTo>
                    <a:lnTo>
                      <a:pt x="3115" y="0"/>
                    </a:lnTo>
                    <a:lnTo>
                      <a:pt x="2596" y="0"/>
                    </a:lnTo>
                    <a:lnTo>
                      <a:pt x="2089" y="0"/>
                    </a:lnTo>
                    <a:lnTo>
                      <a:pt x="1557" y="0"/>
                    </a:lnTo>
                    <a:lnTo>
                      <a:pt x="1038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160" y="5094000"/>
                <a:ext cx="655920" cy="832320"/>
              </a:xfrm>
              <a:custGeom>
                <a:avLst/>
                <a:gdLst/>
                <a:ahLst/>
                <a:rect l="l" t="t" r="r" b="b"/>
                <a:pathLst>
                  <a:path w="423" h="483">
                    <a:moveTo>
                      <a:pt x="0" y="0"/>
                    </a:moveTo>
                    <a:lnTo>
                      <a:pt x="0" y="85"/>
                    </a:lnTo>
                    <a:lnTo>
                      <a:pt x="0" y="193"/>
                    </a:lnTo>
                    <a:lnTo>
                      <a:pt x="12" y="266"/>
                    </a:lnTo>
                    <a:lnTo>
                      <a:pt x="48" y="326"/>
                    </a:lnTo>
                    <a:lnTo>
                      <a:pt x="97" y="399"/>
                    </a:lnTo>
                    <a:lnTo>
                      <a:pt x="181" y="447"/>
                    </a:lnTo>
                    <a:lnTo>
                      <a:pt x="290" y="471"/>
                    </a:lnTo>
                    <a:lnTo>
                      <a:pt x="423" y="483"/>
                    </a:lnTo>
                    <a:lnTo>
                      <a:pt x="423" y="459"/>
                    </a:lnTo>
                    <a:lnTo>
                      <a:pt x="290" y="447"/>
                    </a:lnTo>
                    <a:lnTo>
                      <a:pt x="193" y="423"/>
                    </a:lnTo>
                    <a:lnTo>
                      <a:pt x="133" y="375"/>
                    </a:lnTo>
                    <a:lnTo>
                      <a:pt x="72" y="314"/>
                    </a:lnTo>
                    <a:lnTo>
                      <a:pt x="36" y="266"/>
                    </a:lnTo>
                    <a:lnTo>
                      <a:pt x="24" y="169"/>
                    </a:lnTo>
                    <a:lnTo>
                      <a:pt x="24" y="109"/>
                    </a:lnTo>
                    <a:lnTo>
                      <a:pt x="3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9960" y="4906080"/>
                <a:ext cx="262080" cy="396000"/>
              </a:xfrm>
              <a:custGeom>
                <a:avLst/>
                <a:gdLst/>
                <a:ahLst/>
                <a:rect l="l" t="t" r="r" b="b"/>
                <a:pathLst>
                  <a:path w="169" h="230">
                    <a:moveTo>
                      <a:pt x="121" y="0"/>
                    </a:moveTo>
                    <a:lnTo>
                      <a:pt x="0" y="194"/>
                    </a:lnTo>
                    <a:lnTo>
                      <a:pt x="12" y="194"/>
                    </a:lnTo>
                    <a:lnTo>
                      <a:pt x="37" y="194"/>
                    </a:lnTo>
                    <a:lnTo>
                      <a:pt x="37" y="181"/>
                    </a:lnTo>
                    <a:lnTo>
                      <a:pt x="49" y="181"/>
                    </a:lnTo>
                    <a:lnTo>
                      <a:pt x="61" y="181"/>
                    </a:lnTo>
                    <a:lnTo>
                      <a:pt x="73" y="181"/>
                    </a:lnTo>
                    <a:lnTo>
                      <a:pt x="85" y="181"/>
                    </a:lnTo>
                    <a:lnTo>
                      <a:pt x="97" y="181"/>
                    </a:lnTo>
                    <a:lnTo>
                      <a:pt x="109" y="194"/>
                    </a:lnTo>
                    <a:lnTo>
                      <a:pt x="121" y="194"/>
                    </a:lnTo>
                    <a:lnTo>
                      <a:pt x="133" y="194"/>
                    </a:lnTo>
                    <a:lnTo>
                      <a:pt x="145" y="206"/>
                    </a:lnTo>
                    <a:lnTo>
                      <a:pt x="157" y="206"/>
                    </a:lnTo>
                    <a:lnTo>
                      <a:pt x="169" y="23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636200" y="5490360"/>
              <a:ext cx="1405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94000" y="5512680"/>
              <a:ext cx="171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spontaneou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73280" y="5926680"/>
              <a:ext cx="80640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920" y="5949000"/>
              <a:ext cx="959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ch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69880" y="1554120"/>
            <a:ext cx="2137320" cy="3810960"/>
            <a:chOff x="569880" y="1554120"/>
            <a:chExt cx="2137320" cy="3810960"/>
          </a:xfrm>
        </p:grpSpPr>
        <p:grpSp>
          <p:nvGrpSpPr>
            <p:cNvPr id="267" name=""/>
            <p:cNvGrpSpPr/>
            <p:nvPr/>
          </p:nvGrpSpPr>
          <p:grpSpPr>
            <a:xfrm>
              <a:off x="569880" y="4095720"/>
              <a:ext cx="2137320" cy="1269360"/>
              <a:chOff x="569880" y="4095720"/>
              <a:chExt cx="2137320" cy="1269360"/>
            </a:xfrm>
          </p:grpSpPr>
          <p:sp>
            <p:nvSpPr>
              <p:cNvPr id="268" name=""/>
              <p:cNvSpPr/>
              <p:nvPr/>
            </p:nvSpPr>
            <p:spPr>
              <a:xfrm>
                <a:off x="1299960" y="4948560"/>
                <a:ext cx="1161000" cy="84240"/>
              </a:xfrm>
              <a:custGeom>
                <a:avLst/>
                <a:gdLst/>
                <a:ahLst/>
                <a:rect l="l" t="t" r="r" b="b"/>
                <a:pathLst>
                  <a:path w="749" h="49">
                    <a:moveTo>
                      <a:pt x="0" y="0"/>
                    </a:moveTo>
                    <a:lnTo>
                      <a:pt x="0" y="25"/>
                    </a:lnTo>
                    <a:lnTo>
                      <a:pt x="749" y="49"/>
                    </a:lnTo>
                    <a:lnTo>
                      <a:pt x="74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9880" y="4095720"/>
                <a:ext cx="767160" cy="916200"/>
              </a:xfrm>
              <a:custGeom>
                <a:avLst/>
                <a:gdLst/>
                <a:ahLst/>
                <a:rect l="l" t="t" r="r" b="b"/>
                <a:pathLst>
                  <a:path w="495" h="532">
                    <a:moveTo>
                      <a:pt x="0" y="0"/>
                    </a:moveTo>
                    <a:lnTo>
                      <a:pt x="0" y="0"/>
                    </a:lnTo>
                    <a:lnTo>
                      <a:pt x="0" y="181"/>
                    </a:lnTo>
                    <a:lnTo>
                      <a:pt x="0" y="326"/>
                    </a:lnTo>
                    <a:lnTo>
                      <a:pt x="12" y="374"/>
                    </a:lnTo>
                    <a:lnTo>
                      <a:pt x="36" y="411"/>
                    </a:lnTo>
                    <a:lnTo>
                      <a:pt x="48" y="459"/>
                    </a:lnTo>
                    <a:lnTo>
                      <a:pt x="72" y="483"/>
                    </a:lnTo>
                    <a:lnTo>
                      <a:pt x="133" y="507"/>
                    </a:lnTo>
                    <a:lnTo>
                      <a:pt x="217" y="532"/>
                    </a:lnTo>
                    <a:lnTo>
                      <a:pt x="338" y="532"/>
                    </a:lnTo>
                    <a:lnTo>
                      <a:pt x="495" y="532"/>
                    </a:lnTo>
                    <a:lnTo>
                      <a:pt x="495" y="495"/>
                    </a:lnTo>
                    <a:lnTo>
                      <a:pt x="338" y="495"/>
                    </a:lnTo>
                    <a:lnTo>
                      <a:pt x="217" y="495"/>
                    </a:lnTo>
                    <a:lnTo>
                      <a:pt x="133" y="483"/>
                    </a:lnTo>
                    <a:lnTo>
                      <a:pt x="85" y="459"/>
                    </a:lnTo>
                    <a:lnTo>
                      <a:pt x="72" y="423"/>
                    </a:lnTo>
                    <a:lnTo>
                      <a:pt x="60" y="399"/>
                    </a:lnTo>
                    <a:lnTo>
                      <a:pt x="48" y="374"/>
                    </a:lnTo>
                    <a:lnTo>
                      <a:pt x="48" y="314"/>
                    </a:lnTo>
                    <a:lnTo>
                      <a:pt x="36" y="181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93800" y="4595040"/>
                <a:ext cx="7488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17120" y="4617360"/>
                <a:ext cx="9288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25221e"/>
                    </a:solidFill>
                    <a:latin typeface="Garamond"/>
                  </a:rPr>
                  <a:t>agreed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73640" y="5032800"/>
                <a:ext cx="899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18200" y="5041440"/>
                <a:ext cx="1089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25221e"/>
                    </a:solidFill>
                    <a:latin typeface="Garamond"/>
                  </a:rPr>
                  <a:t>changes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69880" y="1554120"/>
              <a:ext cx="1010160" cy="1853280"/>
              <a:chOff x="569880" y="1554120"/>
              <a:chExt cx="1010160" cy="1853280"/>
            </a:xfrm>
          </p:grpSpPr>
          <p:sp>
            <p:nvSpPr>
              <p:cNvPr id="275" name=""/>
              <p:cNvSpPr/>
              <p:nvPr/>
            </p:nvSpPr>
            <p:spPr>
              <a:xfrm>
                <a:off x="569880" y="2470680"/>
                <a:ext cx="861480" cy="290880"/>
              </a:xfrm>
              <a:custGeom>
                <a:avLst/>
                <a:gdLst/>
                <a:ahLst/>
                <a:rect l="l" t="t" r="r" b="b"/>
                <a:pathLst>
                  <a:path w="556" h="169">
                    <a:moveTo>
                      <a:pt x="556" y="12"/>
                    </a:moveTo>
                    <a:lnTo>
                      <a:pt x="411" y="0"/>
                    </a:lnTo>
                    <a:lnTo>
                      <a:pt x="242" y="12"/>
                    </a:lnTo>
                    <a:lnTo>
                      <a:pt x="145" y="24"/>
                    </a:lnTo>
                    <a:lnTo>
                      <a:pt x="85" y="48"/>
                    </a:lnTo>
                    <a:lnTo>
                      <a:pt x="60" y="73"/>
                    </a:lnTo>
                    <a:lnTo>
                      <a:pt x="24" y="97"/>
                    </a:lnTo>
                    <a:lnTo>
                      <a:pt x="0" y="121"/>
                    </a:lnTo>
                    <a:lnTo>
                      <a:pt x="0" y="169"/>
                    </a:lnTo>
                    <a:lnTo>
                      <a:pt x="24" y="169"/>
                    </a:lnTo>
                    <a:lnTo>
                      <a:pt x="36" y="145"/>
                    </a:lnTo>
                    <a:lnTo>
                      <a:pt x="36" y="109"/>
                    </a:lnTo>
                    <a:lnTo>
                      <a:pt x="72" y="97"/>
                    </a:lnTo>
                    <a:lnTo>
                      <a:pt x="97" y="85"/>
                    </a:lnTo>
                    <a:lnTo>
                      <a:pt x="157" y="48"/>
                    </a:lnTo>
                    <a:lnTo>
                      <a:pt x="242" y="36"/>
                    </a:lnTo>
                    <a:lnTo>
                      <a:pt x="411" y="36"/>
                    </a:lnTo>
                    <a:lnTo>
                      <a:pt x="556" y="36"/>
                    </a:lnTo>
                    <a:lnTo>
                      <a:pt x="556" y="12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1130760" y="1554120"/>
                <a:ext cx="449280" cy="1853280"/>
                <a:chOff x="1130760" y="1554120"/>
                <a:chExt cx="449280" cy="1853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262520" y="2346120"/>
                  <a:ext cx="317520" cy="332280"/>
                </a:xfrm>
                <a:custGeom>
                  <a:avLst/>
                  <a:gdLst/>
                  <a:ahLst/>
                  <a:rect l="l" t="t" r="r" b="b"/>
                  <a:pathLst>
                    <a:path w="205" h="193">
                      <a:moveTo>
                        <a:pt x="205" y="96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2" y="24"/>
                      </a:lnTo>
                      <a:lnTo>
                        <a:pt x="12" y="36"/>
                      </a:lnTo>
                      <a:lnTo>
                        <a:pt x="12" y="60"/>
                      </a:lnTo>
                      <a:lnTo>
                        <a:pt x="12" y="72"/>
                      </a:lnTo>
                      <a:lnTo>
                        <a:pt x="24" y="84"/>
                      </a:lnTo>
                      <a:lnTo>
                        <a:pt x="24" y="96"/>
                      </a:lnTo>
                      <a:lnTo>
                        <a:pt x="24" y="108"/>
                      </a:lnTo>
                      <a:lnTo>
                        <a:pt x="24" y="120"/>
                      </a:lnTo>
                      <a:lnTo>
                        <a:pt x="12" y="120"/>
                      </a:lnTo>
                      <a:lnTo>
                        <a:pt x="12" y="145"/>
                      </a:lnTo>
                      <a:lnTo>
                        <a:pt x="12" y="157"/>
                      </a:lnTo>
                      <a:lnTo>
                        <a:pt x="12" y="169"/>
                      </a:lnTo>
                      <a:lnTo>
                        <a:pt x="0" y="181"/>
                      </a:lnTo>
                      <a:lnTo>
                        <a:pt x="0" y="193"/>
                      </a:lnTo>
                      <a:lnTo>
                        <a:pt x="205" y="96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336680" y="3198960"/>
                  <a:ext cx="187560" cy="208440"/>
                </a:xfrm>
                <a:custGeom>
                  <a:avLst/>
                  <a:gdLst/>
                  <a:ahLst/>
                  <a:rect l="l" t="t" r="r" b="b"/>
                  <a:pathLst>
                    <a:path w="121" h="121">
                      <a:moveTo>
                        <a:pt x="121" y="0"/>
                      </a:moveTo>
                      <a:lnTo>
                        <a:pt x="121" y="36"/>
                      </a:lnTo>
                      <a:lnTo>
                        <a:pt x="24" y="121"/>
                      </a:lnTo>
                      <a:lnTo>
                        <a:pt x="0" y="85"/>
                      </a:lnTo>
                      <a:lnTo>
                        <a:pt x="109" y="0"/>
                      </a:lnTo>
                      <a:lnTo>
                        <a:pt x="109" y="36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24240" y="3198960"/>
                  <a:ext cx="37080" cy="6192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0" y="0"/>
                      </a:moveTo>
                      <a:lnTo>
                        <a:pt x="24" y="12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336680" y="3075120"/>
                  <a:ext cx="187560" cy="185760"/>
                </a:xfrm>
                <a:custGeom>
                  <a:avLst/>
                  <a:gdLst/>
                  <a:ahLst/>
                  <a:rect l="l" t="t" r="r" b="b"/>
                  <a:pathLst>
                    <a:path w="121" h="108">
                      <a:moveTo>
                        <a:pt x="0" y="12"/>
                      </a:moveTo>
                      <a:lnTo>
                        <a:pt x="12" y="0"/>
                      </a:lnTo>
                      <a:lnTo>
                        <a:pt x="121" y="72"/>
                      </a:lnTo>
                      <a:lnTo>
                        <a:pt x="109" y="108"/>
                      </a:lnTo>
                      <a:lnTo>
                        <a:pt x="0" y="3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149120" y="3052440"/>
                  <a:ext cx="337680" cy="208440"/>
                </a:xfrm>
                <a:custGeom>
                  <a:avLst/>
                  <a:gdLst/>
                  <a:ahLst/>
                  <a:rect l="l" t="t" r="r" b="b"/>
                  <a:pathLst>
                    <a:path w="218" h="1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12" y="61"/>
                      </a:lnTo>
                      <a:lnTo>
                        <a:pt x="37" y="73"/>
                      </a:lnTo>
                      <a:lnTo>
                        <a:pt x="73" y="85"/>
                      </a:lnTo>
                      <a:lnTo>
                        <a:pt x="145" y="121"/>
                      </a:lnTo>
                      <a:lnTo>
                        <a:pt x="218" y="121"/>
                      </a:lnTo>
                      <a:lnTo>
                        <a:pt x="206" y="85"/>
                      </a:lnTo>
                      <a:lnTo>
                        <a:pt x="145" y="85"/>
                      </a:lnTo>
                      <a:lnTo>
                        <a:pt x="73" y="61"/>
                      </a:lnTo>
                      <a:lnTo>
                        <a:pt x="49" y="49"/>
                      </a:lnTo>
                      <a:lnTo>
                        <a:pt x="37" y="25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130760" y="1950120"/>
                  <a:ext cx="57240" cy="1102320"/>
                </a:xfrm>
                <a:custGeom>
                  <a:avLst/>
                  <a:gdLst/>
                  <a:ahLst/>
                  <a:rect l="l" t="t" r="r" b="b"/>
                  <a:pathLst>
                    <a:path w="37" h="64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81"/>
                      </a:lnTo>
                      <a:lnTo>
                        <a:pt x="0" y="338"/>
                      </a:lnTo>
                      <a:lnTo>
                        <a:pt x="12" y="483"/>
                      </a:lnTo>
                      <a:lnTo>
                        <a:pt x="12" y="640"/>
                      </a:lnTo>
                      <a:lnTo>
                        <a:pt x="37" y="640"/>
                      </a:lnTo>
                      <a:lnTo>
                        <a:pt x="37" y="483"/>
                      </a:lnTo>
                      <a:lnTo>
                        <a:pt x="24" y="338"/>
                      </a:lnTo>
                      <a:lnTo>
                        <a:pt x="24" y="181"/>
                      </a:lnTo>
                      <a:lnTo>
                        <a:pt x="37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149120" y="1700280"/>
                  <a:ext cx="318960" cy="249480"/>
                </a:xfrm>
                <a:custGeom>
                  <a:avLst/>
                  <a:gdLst/>
                  <a:ahLst/>
                  <a:rect l="l" t="t" r="r" b="b"/>
                  <a:pathLst>
                    <a:path w="206" h="145">
                      <a:moveTo>
                        <a:pt x="206" y="0"/>
                      </a:moveTo>
                      <a:lnTo>
                        <a:pt x="133" y="0"/>
                      </a:lnTo>
                      <a:lnTo>
                        <a:pt x="61" y="36"/>
                      </a:lnTo>
                      <a:lnTo>
                        <a:pt x="37" y="60"/>
                      </a:lnTo>
                      <a:lnTo>
                        <a:pt x="12" y="84"/>
                      </a:lnTo>
                      <a:lnTo>
                        <a:pt x="0" y="121"/>
                      </a:lnTo>
                      <a:lnTo>
                        <a:pt x="0" y="145"/>
                      </a:lnTo>
                      <a:lnTo>
                        <a:pt x="25" y="145"/>
                      </a:lnTo>
                      <a:lnTo>
                        <a:pt x="25" y="121"/>
                      </a:lnTo>
                      <a:lnTo>
                        <a:pt x="37" y="97"/>
                      </a:lnTo>
                      <a:lnTo>
                        <a:pt x="61" y="84"/>
                      </a:lnTo>
                      <a:lnTo>
                        <a:pt x="73" y="60"/>
                      </a:lnTo>
                      <a:lnTo>
                        <a:pt x="145" y="36"/>
                      </a:lnTo>
                      <a:lnTo>
                        <a:pt x="206" y="36"/>
                      </a:lnTo>
                      <a:lnTo>
                        <a:pt x="206" y="0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336680" y="1554120"/>
                  <a:ext cx="168840" cy="208080"/>
                </a:xfrm>
                <a:custGeom>
                  <a:avLst/>
                  <a:gdLst/>
                  <a:ahLst/>
                  <a:rect l="l" t="t" r="r" b="b"/>
                  <a:pathLst>
                    <a:path w="109" h="121">
                      <a:moveTo>
                        <a:pt x="109" y="121"/>
                      </a:moveTo>
                      <a:lnTo>
                        <a:pt x="109" y="85"/>
                      </a:lnTo>
                      <a:lnTo>
                        <a:pt x="12" y="0"/>
                      </a:lnTo>
                      <a:lnTo>
                        <a:pt x="0" y="24"/>
                      </a:lnTo>
                      <a:lnTo>
                        <a:pt x="97" y="121"/>
                      </a:lnTo>
                      <a:lnTo>
                        <a:pt x="97" y="85"/>
                      </a:lnTo>
                      <a:lnTo>
                        <a:pt x="109" y="121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05520" y="1700280"/>
                  <a:ext cx="55800" cy="6156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0" y="36"/>
                      </a:move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336680" y="1700280"/>
                  <a:ext cx="168840" cy="166680"/>
                </a:xfrm>
                <a:custGeom>
                  <a:avLst/>
                  <a:gdLst/>
                  <a:ahLst/>
                  <a:rect l="l" t="t" r="r" b="b"/>
                  <a:pathLst>
                    <a:path w="109" h="97">
                      <a:moveTo>
                        <a:pt x="0" y="84"/>
                      </a:moveTo>
                      <a:lnTo>
                        <a:pt x="12" y="97"/>
                      </a:lnTo>
                      <a:lnTo>
                        <a:pt x="109" y="36"/>
                      </a:lnTo>
                      <a:lnTo>
                        <a:pt x="97" y="0"/>
                      </a:lnTo>
                      <a:lnTo>
                        <a:pt x="0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7" name=""/>
          <p:cNvGrpSpPr/>
          <p:nvPr/>
        </p:nvGrpSpPr>
        <p:grpSpPr>
          <a:xfrm>
            <a:off x="5737320" y="88920"/>
            <a:ext cx="3510360" cy="5164560"/>
            <a:chOff x="5737320" y="88920"/>
            <a:chExt cx="3510360" cy="5164560"/>
          </a:xfrm>
        </p:grpSpPr>
        <p:grpSp>
          <p:nvGrpSpPr>
            <p:cNvPr id="288" name=""/>
            <p:cNvGrpSpPr/>
            <p:nvPr/>
          </p:nvGrpSpPr>
          <p:grpSpPr>
            <a:xfrm>
              <a:off x="5737320" y="88920"/>
              <a:ext cx="2117880" cy="5164560"/>
              <a:chOff x="5737320" y="88920"/>
              <a:chExt cx="2117880" cy="51645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5737320" y="88920"/>
                <a:ext cx="1771560" cy="5164560"/>
                <a:chOff x="5737320" y="88920"/>
                <a:chExt cx="1771560" cy="51645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908680" y="88920"/>
                  <a:ext cx="1404000" cy="3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737320" y="110880"/>
                  <a:ext cx="17715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25221e"/>
                      </a:solidFill>
                      <a:latin typeface="Garamond"/>
                    </a:rPr>
                    <a:t>performance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908680" y="402120"/>
                  <a:ext cx="110448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778720" y="422640"/>
                  <a:ext cx="138312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25221e"/>
                      </a:solidFill>
                      <a:latin typeface="Garamond"/>
                    </a:rPr>
                    <a:t>indicators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908680" y="1401480"/>
                  <a:ext cx="299160" cy="6192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76080" y="1275480"/>
                  <a:ext cx="299160" cy="313200"/>
                </a:xfrm>
                <a:custGeom>
                  <a:avLst/>
                  <a:gdLst/>
                  <a:ahLst/>
                  <a:rect l="l" t="t" r="r" b="b"/>
                  <a:pathLst>
                    <a:path w="193" h="182">
                      <a:moveTo>
                        <a:pt x="193" y="85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2" y="25"/>
                      </a:lnTo>
                      <a:lnTo>
                        <a:pt x="12" y="37"/>
                      </a:lnTo>
                      <a:lnTo>
                        <a:pt x="12" y="49"/>
                      </a:lnTo>
                      <a:lnTo>
                        <a:pt x="12" y="73"/>
                      </a:lnTo>
                      <a:lnTo>
                        <a:pt x="12" y="85"/>
                      </a:lnTo>
                      <a:lnTo>
                        <a:pt x="12" y="97"/>
                      </a:lnTo>
                      <a:lnTo>
                        <a:pt x="12" y="109"/>
                      </a:lnTo>
                      <a:lnTo>
                        <a:pt x="12" y="121"/>
                      </a:lnTo>
                      <a:lnTo>
                        <a:pt x="12" y="133"/>
                      </a:lnTo>
                      <a:lnTo>
                        <a:pt x="12" y="158"/>
                      </a:lnTo>
                      <a:lnTo>
                        <a:pt x="0" y="170"/>
                      </a:lnTo>
                      <a:lnTo>
                        <a:pt x="0" y="182"/>
                      </a:lnTo>
                      <a:lnTo>
                        <a:pt x="193" y="85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08680" y="3129480"/>
                  <a:ext cx="299160" cy="6192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076080" y="2984400"/>
                  <a:ext cx="299160" cy="353160"/>
                </a:xfrm>
                <a:custGeom>
                  <a:avLst/>
                  <a:gdLst/>
                  <a:ahLst/>
                  <a:rect l="l" t="t" r="r" b="b"/>
                  <a:pathLst>
                    <a:path w="193" h="205">
                      <a:moveTo>
                        <a:pt x="193" y="108"/>
                      </a:move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2" y="36"/>
                      </a:lnTo>
                      <a:lnTo>
                        <a:pt x="12" y="48"/>
                      </a:lnTo>
                      <a:lnTo>
                        <a:pt x="12" y="60"/>
                      </a:lnTo>
                      <a:lnTo>
                        <a:pt x="12" y="72"/>
                      </a:lnTo>
                      <a:lnTo>
                        <a:pt x="12" y="84"/>
                      </a:lnTo>
                      <a:lnTo>
                        <a:pt x="12" y="108"/>
                      </a:lnTo>
                      <a:lnTo>
                        <a:pt x="12" y="120"/>
                      </a:lnTo>
                      <a:lnTo>
                        <a:pt x="12" y="132"/>
                      </a:lnTo>
                      <a:lnTo>
                        <a:pt x="12" y="145"/>
                      </a:lnTo>
                      <a:lnTo>
                        <a:pt x="12" y="157"/>
                      </a:lnTo>
                      <a:lnTo>
                        <a:pt x="12" y="169"/>
                      </a:lnTo>
                      <a:lnTo>
                        <a:pt x="0" y="193"/>
                      </a:lnTo>
                      <a:lnTo>
                        <a:pt x="0" y="205"/>
                      </a:lnTo>
                      <a:lnTo>
                        <a:pt x="193" y="108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8680" y="2255760"/>
                  <a:ext cx="299160" cy="4140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076080" y="2130120"/>
                  <a:ext cx="299160" cy="311760"/>
                </a:xfrm>
                <a:custGeom>
                  <a:avLst/>
                  <a:gdLst/>
                  <a:ahLst/>
                  <a:rect l="l" t="t" r="r" b="b"/>
                  <a:pathLst>
                    <a:path w="193" h="181">
                      <a:moveTo>
                        <a:pt x="193" y="85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2" y="24"/>
                      </a:lnTo>
                      <a:lnTo>
                        <a:pt x="12" y="48"/>
                      </a:lnTo>
                      <a:lnTo>
                        <a:pt x="12" y="60"/>
                      </a:lnTo>
                      <a:lnTo>
                        <a:pt x="12" y="73"/>
                      </a:lnTo>
                      <a:lnTo>
                        <a:pt x="12" y="85"/>
                      </a:lnTo>
                      <a:lnTo>
                        <a:pt x="12" y="97"/>
                      </a:lnTo>
                      <a:lnTo>
                        <a:pt x="12" y="109"/>
                      </a:lnTo>
                      <a:lnTo>
                        <a:pt x="12" y="133"/>
                      </a:lnTo>
                      <a:lnTo>
                        <a:pt x="12" y="145"/>
                      </a:lnTo>
                      <a:lnTo>
                        <a:pt x="0" y="157"/>
                      </a:lnTo>
                      <a:lnTo>
                        <a:pt x="0" y="169"/>
                      </a:lnTo>
                      <a:lnTo>
                        <a:pt x="0" y="181"/>
                      </a:lnTo>
                      <a:lnTo>
                        <a:pt x="193" y="85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908680" y="2691720"/>
                  <a:ext cx="299160" cy="6336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76080" y="2567520"/>
                  <a:ext cx="299160" cy="332280"/>
                </a:xfrm>
                <a:custGeom>
                  <a:avLst/>
                  <a:gdLst/>
                  <a:ahLst/>
                  <a:rect l="l" t="t" r="r" b="b"/>
                  <a:pathLst>
                    <a:path w="193" h="193">
                      <a:moveTo>
                        <a:pt x="193" y="84"/>
                      </a:moveTo>
                      <a:lnTo>
                        <a:pt x="0" y="0"/>
                      </a:lnTo>
                      <a:lnTo>
                        <a:pt x="12" y="12"/>
                      </a:lnTo>
                      <a:lnTo>
                        <a:pt x="12" y="36"/>
                      </a:lnTo>
                      <a:lnTo>
                        <a:pt x="12" y="48"/>
                      </a:lnTo>
                      <a:lnTo>
                        <a:pt x="12" y="60"/>
                      </a:lnTo>
                      <a:lnTo>
                        <a:pt x="12" y="72"/>
                      </a:lnTo>
                      <a:lnTo>
                        <a:pt x="12" y="84"/>
                      </a:lnTo>
                      <a:lnTo>
                        <a:pt x="12" y="109"/>
                      </a:lnTo>
                      <a:lnTo>
                        <a:pt x="12" y="121"/>
                      </a:lnTo>
                      <a:lnTo>
                        <a:pt x="12" y="133"/>
                      </a:lnTo>
                      <a:lnTo>
                        <a:pt x="12" y="145"/>
                      </a:lnTo>
                      <a:lnTo>
                        <a:pt x="12" y="157"/>
                      </a:lnTo>
                      <a:lnTo>
                        <a:pt x="0" y="169"/>
                      </a:lnTo>
                      <a:lnTo>
                        <a:pt x="0" y="193"/>
                      </a:lnTo>
                      <a:lnTo>
                        <a:pt x="193" y="84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08680" y="1838880"/>
                  <a:ext cx="299160" cy="4140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76080" y="1692360"/>
                  <a:ext cx="299160" cy="311760"/>
                </a:xfrm>
                <a:custGeom>
                  <a:avLst/>
                  <a:gdLst/>
                  <a:ahLst/>
                  <a:rect l="l" t="t" r="r" b="b"/>
                  <a:pathLst>
                    <a:path w="193" h="181">
                      <a:moveTo>
                        <a:pt x="193" y="97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2" y="24"/>
                      </a:lnTo>
                      <a:lnTo>
                        <a:pt x="12" y="36"/>
                      </a:lnTo>
                      <a:lnTo>
                        <a:pt x="12" y="49"/>
                      </a:lnTo>
                      <a:lnTo>
                        <a:pt x="12" y="73"/>
                      </a:lnTo>
                      <a:lnTo>
                        <a:pt x="12" y="85"/>
                      </a:lnTo>
                      <a:lnTo>
                        <a:pt x="12" y="97"/>
                      </a:lnTo>
                      <a:lnTo>
                        <a:pt x="12" y="109"/>
                      </a:lnTo>
                      <a:lnTo>
                        <a:pt x="12" y="121"/>
                      </a:lnTo>
                      <a:lnTo>
                        <a:pt x="12" y="145"/>
                      </a:lnTo>
                      <a:lnTo>
                        <a:pt x="12" y="157"/>
                      </a:lnTo>
                      <a:lnTo>
                        <a:pt x="12" y="169"/>
                      </a:lnTo>
                      <a:lnTo>
                        <a:pt x="0" y="169"/>
                      </a:lnTo>
                      <a:lnTo>
                        <a:pt x="0" y="181"/>
                      </a:lnTo>
                      <a:lnTo>
                        <a:pt x="193" y="97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908680" y="984600"/>
                  <a:ext cx="317880" cy="4068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76080" y="819000"/>
                  <a:ext cx="299160" cy="332280"/>
                </a:xfrm>
                <a:custGeom>
                  <a:avLst/>
                  <a:gdLst/>
                  <a:ahLst/>
                  <a:rect l="l" t="t" r="r" b="b"/>
                  <a:pathLst>
                    <a:path w="193" h="193">
                      <a:moveTo>
                        <a:pt x="193" y="108"/>
                      </a:move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2" y="36"/>
                      </a:lnTo>
                      <a:lnTo>
                        <a:pt x="12" y="48"/>
                      </a:lnTo>
                      <a:lnTo>
                        <a:pt x="12" y="60"/>
                      </a:lnTo>
                      <a:lnTo>
                        <a:pt x="24" y="72"/>
                      </a:lnTo>
                      <a:lnTo>
                        <a:pt x="24" y="96"/>
                      </a:lnTo>
                      <a:lnTo>
                        <a:pt x="24" y="108"/>
                      </a:lnTo>
                      <a:lnTo>
                        <a:pt x="24" y="120"/>
                      </a:lnTo>
                      <a:lnTo>
                        <a:pt x="12" y="132"/>
                      </a:lnTo>
                      <a:lnTo>
                        <a:pt x="12" y="145"/>
                      </a:lnTo>
                      <a:lnTo>
                        <a:pt x="12" y="157"/>
                      </a:lnTo>
                      <a:lnTo>
                        <a:pt x="12" y="181"/>
                      </a:lnTo>
                      <a:lnTo>
                        <a:pt x="0" y="193"/>
                      </a:lnTo>
                      <a:lnTo>
                        <a:pt x="193" y="108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919920" y="5170680"/>
                  <a:ext cx="336600" cy="82800"/>
                </a:xfrm>
                <a:custGeom>
                  <a:avLst/>
                  <a:gdLst/>
                  <a:ahLst/>
                  <a:rect l="l" t="t" r="r" b="b"/>
                  <a:pathLst>
                    <a:path w="217" h="48">
                      <a:moveTo>
                        <a:pt x="0" y="48"/>
                      </a:moveTo>
                      <a:lnTo>
                        <a:pt x="217" y="36"/>
                      </a:lnTo>
                      <a:lnTo>
                        <a:pt x="205" y="0"/>
                      </a:lnTo>
                      <a:lnTo>
                        <a:pt x="0" y="2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713640" y="590040"/>
                <a:ext cx="1141560" cy="3372840"/>
                <a:chOff x="6713640" y="590040"/>
                <a:chExt cx="1141560" cy="33728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163280" y="100512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30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44920" y="100512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" y="0"/>
                      </a:moveTo>
                      <a:lnTo>
                        <a:pt x="241" y="242"/>
                      </a:lnTo>
                      <a:lnTo>
                        <a:pt x="229" y="254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144920" y="1025640"/>
                  <a:ext cx="373680" cy="43776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17" y="254"/>
                      </a:lnTo>
                      <a:lnTo>
                        <a:pt x="0" y="3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24760" y="104616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13" y="0"/>
                      </a:moveTo>
                      <a:lnTo>
                        <a:pt x="242" y="230"/>
                      </a:lnTo>
                      <a:lnTo>
                        <a:pt x="218" y="266"/>
                      </a:lnTo>
                      <a:lnTo>
                        <a:pt x="0" y="2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06040" y="1089720"/>
                  <a:ext cx="375120" cy="43560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5" y="0"/>
                      </a:moveTo>
                      <a:lnTo>
                        <a:pt x="242" y="217"/>
                      </a:lnTo>
                      <a:lnTo>
                        <a:pt x="230" y="253"/>
                      </a:lnTo>
                      <a:lnTo>
                        <a:pt x="0" y="1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087320" y="1089720"/>
                  <a:ext cx="375120" cy="43560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4" y="0"/>
                      </a:moveTo>
                      <a:lnTo>
                        <a:pt x="242" y="241"/>
                      </a:lnTo>
                      <a:lnTo>
                        <a:pt x="230" y="253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87320" y="111024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12" y="0"/>
                      </a:moveTo>
                      <a:lnTo>
                        <a:pt x="242" y="241"/>
                      </a:lnTo>
                      <a:lnTo>
                        <a:pt x="206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68600" y="1130400"/>
                  <a:ext cx="375120" cy="43776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12" y="0"/>
                      </a:moveTo>
                      <a:lnTo>
                        <a:pt x="242" y="229"/>
                      </a:lnTo>
                      <a:lnTo>
                        <a:pt x="218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050240" y="1130400"/>
                  <a:ext cx="356760" cy="43776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4" y="0"/>
                      </a:moveTo>
                      <a:lnTo>
                        <a:pt x="230" y="242"/>
                      </a:lnTo>
                      <a:lnTo>
                        <a:pt x="218" y="254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050240" y="115128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12" y="0"/>
                      </a:moveTo>
                      <a:lnTo>
                        <a:pt x="230" y="242"/>
                      </a:lnTo>
                      <a:lnTo>
                        <a:pt x="205" y="254"/>
                      </a:lnTo>
                      <a:lnTo>
                        <a:pt x="0" y="3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031520" y="1171800"/>
                  <a:ext cx="35676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12" y="0"/>
                      </a:moveTo>
                      <a:lnTo>
                        <a:pt x="230" y="230"/>
                      </a:lnTo>
                      <a:lnTo>
                        <a:pt x="205" y="266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013160" y="121356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4" y="0"/>
                      </a:moveTo>
                      <a:lnTo>
                        <a:pt x="229" y="218"/>
                      </a:lnTo>
                      <a:lnTo>
                        <a:pt x="217" y="254"/>
                      </a:lnTo>
                      <a:lnTo>
                        <a:pt x="0" y="1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994440" y="121356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4" y="0"/>
                      </a:moveTo>
                      <a:lnTo>
                        <a:pt x="229" y="242"/>
                      </a:lnTo>
                      <a:lnTo>
                        <a:pt x="217" y="254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994440" y="123408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12" y="0"/>
                      </a:moveTo>
                      <a:lnTo>
                        <a:pt x="229" y="242"/>
                      </a:lnTo>
                      <a:lnTo>
                        <a:pt x="205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57360" y="125496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" y="0"/>
                      </a:moveTo>
                      <a:lnTo>
                        <a:pt x="241" y="230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38640" y="125496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36" y="0"/>
                      </a:moveTo>
                      <a:lnTo>
                        <a:pt x="241" y="242"/>
                      </a:lnTo>
                      <a:lnTo>
                        <a:pt x="229" y="266"/>
                      </a:lnTo>
                      <a:lnTo>
                        <a:pt x="0" y="25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938640" y="12754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17" y="254"/>
                      </a:lnTo>
                      <a:lnTo>
                        <a:pt x="0" y="2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919920" y="129780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12" y="0"/>
                      </a:moveTo>
                      <a:lnTo>
                        <a:pt x="241" y="241"/>
                      </a:lnTo>
                      <a:lnTo>
                        <a:pt x="217" y="253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901200" y="131832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4" y="0"/>
                      </a:moveTo>
                      <a:lnTo>
                        <a:pt x="241" y="229"/>
                      </a:lnTo>
                      <a:lnTo>
                        <a:pt x="229" y="266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881400" y="131832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25" y="0"/>
                      </a:moveTo>
                      <a:lnTo>
                        <a:pt x="242" y="241"/>
                      </a:lnTo>
                      <a:lnTo>
                        <a:pt x="230" y="266"/>
                      </a:lnTo>
                      <a:lnTo>
                        <a:pt x="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881400" y="135972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13" y="0"/>
                      </a:moveTo>
                      <a:lnTo>
                        <a:pt x="242" y="242"/>
                      </a:lnTo>
                      <a:lnTo>
                        <a:pt x="218" y="254"/>
                      </a:lnTo>
                      <a:lnTo>
                        <a:pt x="0" y="1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862680" y="138060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12" y="0"/>
                      </a:moveTo>
                      <a:lnTo>
                        <a:pt x="242" y="230"/>
                      </a:lnTo>
                      <a:lnTo>
                        <a:pt x="230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43960" y="138060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24" y="0"/>
                      </a:moveTo>
                      <a:lnTo>
                        <a:pt x="242" y="242"/>
                      </a:lnTo>
                      <a:lnTo>
                        <a:pt x="218" y="266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43960" y="14014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12" y="0"/>
                      </a:moveTo>
                      <a:lnTo>
                        <a:pt x="242" y="242"/>
                      </a:lnTo>
                      <a:lnTo>
                        <a:pt x="206" y="254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13640" y="100512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41" y="242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32000" y="9846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41" y="242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69440" y="98460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05" y="254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229" y="230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69440" y="9637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29" y="230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788160" y="943200"/>
                  <a:ext cx="35640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7" y="254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30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06520" y="901800"/>
                  <a:ext cx="35640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05" y="266"/>
                      </a:moveTo>
                      <a:lnTo>
                        <a:pt x="0" y="36"/>
                      </a:lnTo>
                      <a:lnTo>
                        <a:pt x="12" y="0"/>
                      </a:lnTo>
                      <a:lnTo>
                        <a:pt x="230" y="242"/>
                      </a:lnTo>
                      <a:lnTo>
                        <a:pt x="205" y="266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25240" y="901800"/>
                  <a:ext cx="35640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06" y="266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30" y="230"/>
                      </a:lnTo>
                      <a:lnTo>
                        <a:pt x="206" y="266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825240" y="880920"/>
                  <a:ext cx="35640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8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30" y="242"/>
                      </a:lnTo>
                      <a:lnTo>
                        <a:pt x="218" y="254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843960" y="86004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18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2" y="241"/>
                      </a:lnTo>
                      <a:lnTo>
                        <a:pt x="218" y="254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62680" y="86004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06" y="254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242" y="229"/>
                      </a:lnTo>
                      <a:lnTo>
                        <a:pt x="206" y="254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862680" y="83952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30" y="253"/>
                      </a:moveTo>
                      <a:lnTo>
                        <a:pt x="0" y="12"/>
                      </a:lnTo>
                      <a:lnTo>
                        <a:pt x="25" y="0"/>
                      </a:lnTo>
                      <a:lnTo>
                        <a:pt x="242" y="229"/>
                      </a:lnTo>
                      <a:lnTo>
                        <a:pt x="230" y="253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81400" y="81864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30" y="253"/>
                      </a:moveTo>
                      <a:lnTo>
                        <a:pt x="0" y="24"/>
                      </a:lnTo>
                      <a:lnTo>
                        <a:pt x="25" y="0"/>
                      </a:lnTo>
                      <a:lnTo>
                        <a:pt x="242" y="241"/>
                      </a:lnTo>
                      <a:lnTo>
                        <a:pt x="230" y="253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01200" y="77580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17" y="266"/>
                      </a:moveTo>
                      <a:lnTo>
                        <a:pt x="0" y="37"/>
                      </a:lnTo>
                      <a:lnTo>
                        <a:pt x="12" y="0"/>
                      </a:lnTo>
                      <a:lnTo>
                        <a:pt x="241" y="254"/>
                      </a:lnTo>
                      <a:lnTo>
                        <a:pt x="217" y="266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19920" y="77580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17" y="266"/>
                      </a:moveTo>
                      <a:lnTo>
                        <a:pt x="0" y="25"/>
                      </a:lnTo>
                      <a:lnTo>
                        <a:pt x="12" y="0"/>
                      </a:lnTo>
                      <a:lnTo>
                        <a:pt x="241" y="230"/>
                      </a:lnTo>
                      <a:lnTo>
                        <a:pt x="217" y="266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919920" y="75528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29" y="266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41" y="242"/>
                      </a:lnTo>
                      <a:lnTo>
                        <a:pt x="229" y="266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38640" y="7344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1" y="242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57360" y="7344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41" y="230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957360" y="7138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41" y="230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94440" y="69300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17" y="254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29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013160" y="672120"/>
                  <a:ext cx="354960" cy="43776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29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031520" y="672120"/>
                  <a:ext cx="356760" cy="43776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05" y="254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230" y="217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031520" y="631440"/>
                  <a:ext cx="35676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17" y="266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30" y="241"/>
                      </a:lnTo>
                      <a:lnTo>
                        <a:pt x="217" y="266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50240" y="610560"/>
                  <a:ext cx="356760" cy="435600"/>
                </a:xfrm>
                <a:custGeom>
                  <a:avLst/>
                  <a:gdLst/>
                  <a:ahLst/>
                  <a:rect l="l" t="t" r="r" b="b"/>
                  <a:pathLst>
                    <a:path w="230" h="253">
                      <a:moveTo>
                        <a:pt x="218" y="253"/>
                      </a:moveTo>
                      <a:lnTo>
                        <a:pt x="0" y="36"/>
                      </a:lnTo>
                      <a:lnTo>
                        <a:pt x="12" y="0"/>
                      </a:lnTo>
                      <a:lnTo>
                        <a:pt x="230" y="241"/>
                      </a:lnTo>
                      <a:lnTo>
                        <a:pt x="218" y="253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68600" y="590040"/>
                  <a:ext cx="375120" cy="456120"/>
                </a:xfrm>
                <a:custGeom>
                  <a:avLst/>
                  <a:gdLst/>
                  <a:ahLst/>
                  <a:rect l="l" t="t" r="r" b="b"/>
                  <a:pathLst>
                    <a:path w="242" h="265">
                      <a:moveTo>
                        <a:pt x="206" y="265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2" y="241"/>
                      </a:lnTo>
                      <a:lnTo>
                        <a:pt x="206" y="265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713640" y="2004120"/>
                  <a:ext cx="373680" cy="478800"/>
                </a:xfrm>
                <a:custGeom>
                  <a:avLst/>
                  <a:gdLst/>
                  <a:ahLst/>
                  <a:rect l="l" t="t" r="r" b="b"/>
                  <a:pathLst>
                    <a:path w="241" h="278">
                      <a:moveTo>
                        <a:pt x="217" y="278"/>
                      </a:moveTo>
                      <a:lnTo>
                        <a:pt x="0" y="37"/>
                      </a:lnTo>
                      <a:lnTo>
                        <a:pt x="12" y="0"/>
                      </a:lnTo>
                      <a:lnTo>
                        <a:pt x="241" y="254"/>
                      </a:lnTo>
                      <a:lnTo>
                        <a:pt x="217" y="278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713640" y="200412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29" y="266"/>
                      </a:moveTo>
                      <a:lnTo>
                        <a:pt x="0" y="25"/>
                      </a:lnTo>
                      <a:lnTo>
                        <a:pt x="36" y="0"/>
                      </a:lnTo>
                      <a:lnTo>
                        <a:pt x="241" y="230"/>
                      </a:lnTo>
                      <a:lnTo>
                        <a:pt x="229" y="266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732000" y="198360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29" y="266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41" y="242"/>
                      </a:lnTo>
                      <a:lnTo>
                        <a:pt x="229" y="266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69440" y="19627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29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769440" y="19627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29" y="230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88160" y="1941840"/>
                  <a:ext cx="356400" cy="43776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30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06520" y="1921680"/>
                  <a:ext cx="35640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30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825240" y="1901160"/>
                  <a:ext cx="35640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06" y="266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30" y="242"/>
                      </a:lnTo>
                      <a:lnTo>
                        <a:pt x="206" y="266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825240" y="1901160"/>
                  <a:ext cx="35640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8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30" y="218"/>
                      </a:lnTo>
                      <a:lnTo>
                        <a:pt x="218" y="254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843960" y="185976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218" y="266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2" y="242"/>
                      </a:lnTo>
                      <a:lnTo>
                        <a:pt x="218" y="266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862680" y="18388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06" y="254"/>
                      </a:moveTo>
                      <a:lnTo>
                        <a:pt x="0" y="36"/>
                      </a:lnTo>
                      <a:lnTo>
                        <a:pt x="12" y="0"/>
                      </a:lnTo>
                      <a:lnTo>
                        <a:pt x="242" y="242"/>
                      </a:lnTo>
                      <a:lnTo>
                        <a:pt x="206" y="254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862680" y="18388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30" y="254"/>
                      </a:moveTo>
                      <a:lnTo>
                        <a:pt x="0" y="12"/>
                      </a:lnTo>
                      <a:lnTo>
                        <a:pt x="25" y="0"/>
                      </a:lnTo>
                      <a:lnTo>
                        <a:pt x="242" y="229"/>
                      </a:lnTo>
                      <a:lnTo>
                        <a:pt x="230" y="254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881400" y="181800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30" y="254"/>
                      </a:moveTo>
                      <a:lnTo>
                        <a:pt x="0" y="12"/>
                      </a:lnTo>
                      <a:lnTo>
                        <a:pt x="25" y="0"/>
                      </a:lnTo>
                      <a:lnTo>
                        <a:pt x="242" y="229"/>
                      </a:lnTo>
                      <a:lnTo>
                        <a:pt x="230" y="254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901200" y="179748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217" y="253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1" y="241"/>
                      </a:lnTo>
                      <a:lnTo>
                        <a:pt x="217" y="253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919920" y="177660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217" y="253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1" y="241"/>
                      </a:lnTo>
                      <a:lnTo>
                        <a:pt x="217" y="253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919920" y="177660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229" y="253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41" y="229"/>
                      </a:lnTo>
                      <a:lnTo>
                        <a:pt x="229" y="253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938640" y="173376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29" y="266"/>
                      </a:moveTo>
                      <a:lnTo>
                        <a:pt x="0" y="25"/>
                      </a:lnTo>
                      <a:lnTo>
                        <a:pt x="12" y="0"/>
                      </a:lnTo>
                      <a:lnTo>
                        <a:pt x="241" y="254"/>
                      </a:lnTo>
                      <a:lnTo>
                        <a:pt x="229" y="266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957360" y="171324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17" y="266"/>
                      </a:moveTo>
                      <a:lnTo>
                        <a:pt x="0" y="37"/>
                      </a:lnTo>
                      <a:lnTo>
                        <a:pt x="24" y="0"/>
                      </a:lnTo>
                      <a:lnTo>
                        <a:pt x="241" y="242"/>
                      </a:lnTo>
                      <a:lnTo>
                        <a:pt x="217" y="266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957360" y="171324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29" y="266"/>
                      </a:move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41" y="230"/>
                      </a:lnTo>
                      <a:lnTo>
                        <a:pt x="229" y="266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994440" y="169236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29" y="230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013160" y="167184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29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031520" y="165096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30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31520" y="165096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30" y="230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50240" y="163008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8" y="254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230" y="242"/>
                      </a:lnTo>
                      <a:lnTo>
                        <a:pt x="218" y="254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938640" y="177660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0" y="241"/>
                      </a:moveTo>
                      <a:lnTo>
                        <a:pt x="217" y="0"/>
                      </a:lnTo>
                      <a:lnTo>
                        <a:pt x="241" y="24"/>
                      </a:lnTo>
                      <a:lnTo>
                        <a:pt x="12" y="253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938640" y="179748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0" y="241"/>
                      </a:moveTo>
                      <a:lnTo>
                        <a:pt x="229" y="0"/>
                      </a:lnTo>
                      <a:lnTo>
                        <a:pt x="241" y="12"/>
                      </a:lnTo>
                      <a:lnTo>
                        <a:pt x="36" y="253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957360" y="18180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0" y="229"/>
                      </a:moveTo>
                      <a:lnTo>
                        <a:pt x="229" y="0"/>
                      </a:lnTo>
                      <a:lnTo>
                        <a:pt x="241" y="12"/>
                      </a:lnTo>
                      <a:lnTo>
                        <a:pt x="36" y="254"/>
                      </a:lnTo>
                      <a:lnTo>
                        <a:pt x="0" y="229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994440" y="181800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0" y="241"/>
                      </a:moveTo>
                      <a:lnTo>
                        <a:pt x="205" y="0"/>
                      </a:lnTo>
                      <a:lnTo>
                        <a:pt x="229" y="24"/>
                      </a:lnTo>
                      <a:lnTo>
                        <a:pt x="12" y="254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13160" y="183888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0" y="242"/>
                      </a:moveTo>
                      <a:lnTo>
                        <a:pt x="205" y="0"/>
                      </a:lnTo>
                      <a:lnTo>
                        <a:pt x="229" y="36"/>
                      </a:lnTo>
                      <a:lnTo>
                        <a:pt x="12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013160" y="185976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0" y="230"/>
                      </a:moveTo>
                      <a:lnTo>
                        <a:pt x="217" y="0"/>
                      </a:lnTo>
                      <a:lnTo>
                        <a:pt x="229" y="24"/>
                      </a:lnTo>
                      <a:lnTo>
                        <a:pt x="24" y="266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31520" y="190116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0" y="218"/>
                      </a:moveTo>
                      <a:lnTo>
                        <a:pt x="217" y="0"/>
                      </a:lnTo>
                      <a:lnTo>
                        <a:pt x="230" y="12"/>
                      </a:lnTo>
                      <a:lnTo>
                        <a:pt x="12" y="254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050240" y="190116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0" y="242"/>
                      </a:moveTo>
                      <a:lnTo>
                        <a:pt x="205" y="0"/>
                      </a:lnTo>
                      <a:lnTo>
                        <a:pt x="230" y="24"/>
                      </a:lnTo>
                      <a:lnTo>
                        <a:pt x="12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050240" y="192168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0" y="242"/>
                      </a:moveTo>
                      <a:lnTo>
                        <a:pt x="218" y="0"/>
                      </a:lnTo>
                      <a:lnTo>
                        <a:pt x="230" y="12"/>
                      </a:lnTo>
                      <a:lnTo>
                        <a:pt x="24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068600" y="1941840"/>
                  <a:ext cx="375120" cy="43776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0" y="230"/>
                      </a:moveTo>
                      <a:lnTo>
                        <a:pt x="218" y="0"/>
                      </a:lnTo>
                      <a:lnTo>
                        <a:pt x="242" y="12"/>
                      </a:lnTo>
                      <a:lnTo>
                        <a:pt x="24" y="254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087320" y="1941840"/>
                  <a:ext cx="375120" cy="43776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0" y="242"/>
                      </a:moveTo>
                      <a:lnTo>
                        <a:pt x="206" y="0"/>
                      </a:lnTo>
                      <a:lnTo>
                        <a:pt x="242" y="24"/>
                      </a:lnTo>
                      <a:lnTo>
                        <a:pt x="12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06040" y="196272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0" y="242"/>
                      </a:moveTo>
                      <a:lnTo>
                        <a:pt x="218" y="0"/>
                      </a:lnTo>
                      <a:lnTo>
                        <a:pt x="242" y="24"/>
                      </a:lnTo>
                      <a:lnTo>
                        <a:pt x="12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106040" y="198360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0" y="230"/>
                      </a:moveTo>
                      <a:lnTo>
                        <a:pt x="230" y="0"/>
                      </a:lnTo>
                      <a:lnTo>
                        <a:pt x="242" y="12"/>
                      </a:lnTo>
                      <a:lnTo>
                        <a:pt x="25" y="266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24760" y="200412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0" y="230"/>
                      </a:moveTo>
                      <a:lnTo>
                        <a:pt x="230" y="0"/>
                      </a:lnTo>
                      <a:lnTo>
                        <a:pt x="242" y="25"/>
                      </a:lnTo>
                      <a:lnTo>
                        <a:pt x="13" y="266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44920" y="200412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0" y="254"/>
                      </a:moveTo>
                      <a:lnTo>
                        <a:pt x="217" y="0"/>
                      </a:lnTo>
                      <a:lnTo>
                        <a:pt x="241" y="37"/>
                      </a:lnTo>
                      <a:lnTo>
                        <a:pt x="12" y="266"/>
                      </a:lnTo>
                      <a:lnTo>
                        <a:pt x="0" y="254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44920" y="2046960"/>
                  <a:ext cx="373680" cy="435960"/>
                </a:xfrm>
                <a:custGeom>
                  <a:avLst/>
                  <a:gdLst/>
                  <a:ahLst/>
                  <a:rect l="l" t="t" r="r" b="b"/>
                  <a:pathLst>
                    <a:path w="241" h="253">
                      <a:moveTo>
                        <a:pt x="0" y="241"/>
                      </a:moveTo>
                      <a:lnTo>
                        <a:pt x="229" y="0"/>
                      </a:lnTo>
                      <a:lnTo>
                        <a:pt x="241" y="12"/>
                      </a:lnTo>
                      <a:lnTo>
                        <a:pt x="24" y="253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3280" y="206784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0" y="229"/>
                      </a:moveTo>
                      <a:lnTo>
                        <a:pt x="229" y="0"/>
                      </a:lnTo>
                      <a:lnTo>
                        <a:pt x="241" y="12"/>
                      </a:lnTo>
                      <a:lnTo>
                        <a:pt x="36" y="254"/>
                      </a:lnTo>
                      <a:lnTo>
                        <a:pt x="0" y="229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82000" y="206784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0" y="241"/>
                      </a:moveTo>
                      <a:lnTo>
                        <a:pt x="217" y="0"/>
                      </a:lnTo>
                      <a:lnTo>
                        <a:pt x="241" y="24"/>
                      </a:lnTo>
                      <a:lnTo>
                        <a:pt x="24" y="254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219440" y="208836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0" y="242"/>
                      </a:moveTo>
                      <a:lnTo>
                        <a:pt x="205" y="0"/>
                      </a:lnTo>
                      <a:lnTo>
                        <a:pt x="229" y="24"/>
                      </a:lnTo>
                      <a:lnTo>
                        <a:pt x="12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219440" y="210924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0" y="230"/>
                      </a:moveTo>
                      <a:lnTo>
                        <a:pt x="217" y="0"/>
                      </a:lnTo>
                      <a:lnTo>
                        <a:pt x="229" y="12"/>
                      </a:lnTo>
                      <a:lnTo>
                        <a:pt x="24" y="254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160" y="212976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0" y="230"/>
                      </a:moveTo>
                      <a:lnTo>
                        <a:pt x="217" y="0"/>
                      </a:lnTo>
                      <a:lnTo>
                        <a:pt x="229" y="24"/>
                      </a:lnTo>
                      <a:lnTo>
                        <a:pt x="12" y="266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256520" y="212976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0" y="242"/>
                      </a:moveTo>
                      <a:lnTo>
                        <a:pt x="205" y="0"/>
                      </a:lnTo>
                      <a:lnTo>
                        <a:pt x="229" y="36"/>
                      </a:lnTo>
                      <a:lnTo>
                        <a:pt x="12" y="266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256520" y="21715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0" y="242"/>
                      </a:moveTo>
                      <a:lnTo>
                        <a:pt x="217" y="0"/>
                      </a:lnTo>
                      <a:lnTo>
                        <a:pt x="229" y="12"/>
                      </a:lnTo>
                      <a:lnTo>
                        <a:pt x="24" y="254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275240" y="219204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0" y="230"/>
                      </a:moveTo>
                      <a:lnTo>
                        <a:pt x="217" y="0"/>
                      </a:lnTo>
                      <a:lnTo>
                        <a:pt x="229" y="12"/>
                      </a:lnTo>
                      <a:lnTo>
                        <a:pt x="24" y="254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500240" y="200412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25"/>
                      </a:moveTo>
                      <a:lnTo>
                        <a:pt x="12" y="266"/>
                      </a:lnTo>
                      <a:lnTo>
                        <a:pt x="0" y="254"/>
                      </a:lnTo>
                      <a:lnTo>
                        <a:pt x="205" y="0"/>
                      </a:lnTo>
                      <a:lnTo>
                        <a:pt x="229" y="25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481520" y="198360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37"/>
                      </a:moveTo>
                      <a:lnTo>
                        <a:pt x="12" y="266"/>
                      </a:lnTo>
                      <a:lnTo>
                        <a:pt x="0" y="242"/>
                      </a:lnTo>
                      <a:lnTo>
                        <a:pt x="205" y="0"/>
                      </a:lnTo>
                      <a:lnTo>
                        <a:pt x="229" y="37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62800" y="198360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12"/>
                      </a:moveTo>
                      <a:lnTo>
                        <a:pt x="24" y="266"/>
                      </a:lnTo>
                      <a:lnTo>
                        <a:pt x="0" y="230"/>
                      </a:lnTo>
                      <a:lnTo>
                        <a:pt x="217" y="0"/>
                      </a:lnTo>
                      <a:lnTo>
                        <a:pt x="229" y="12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444080" y="19627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29" y="12"/>
                      </a:moveTo>
                      <a:lnTo>
                        <a:pt x="24" y="254"/>
                      </a:lnTo>
                      <a:lnTo>
                        <a:pt x="0" y="242"/>
                      </a:lnTo>
                      <a:lnTo>
                        <a:pt x="217" y="0"/>
                      </a:lnTo>
                      <a:lnTo>
                        <a:pt x="229" y="12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44080" y="1941840"/>
                  <a:ext cx="354960" cy="43776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29" y="24"/>
                      </a:moveTo>
                      <a:lnTo>
                        <a:pt x="12" y="254"/>
                      </a:lnTo>
                      <a:lnTo>
                        <a:pt x="0" y="242"/>
                      </a:lnTo>
                      <a:lnTo>
                        <a:pt x="205" y="0"/>
                      </a:lnTo>
                      <a:lnTo>
                        <a:pt x="229" y="24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407360" y="1921680"/>
                  <a:ext cx="37332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41" y="24"/>
                      </a:moveTo>
                      <a:lnTo>
                        <a:pt x="24" y="266"/>
                      </a:lnTo>
                      <a:lnTo>
                        <a:pt x="0" y="242"/>
                      </a:lnTo>
                      <a:lnTo>
                        <a:pt x="229" y="0"/>
                      </a:lnTo>
                      <a:lnTo>
                        <a:pt x="241" y="24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88640" y="1921680"/>
                  <a:ext cx="37332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1" y="12"/>
                      </a:moveTo>
                      <a:lnTo>
                        <a:pt x="36" y="254"/>
                      </a:lnTo>
                      <a:lnTo>
                        <a:pt x="0" y="230"/>
                      </a:lnTo>
                      <a:lnTo>
                        <a:pt x="229" y="0"/>
                      </a:lnTo>
                      <a:lnTo>
                        <a:pt x="241" y="12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388640" y="1901160"/>
                  <a:ext cx="37332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1" y="12"/>
                      </a:moveTo>
                      <a:lnTo>
                        <a:pt x="12" y="254"/>
                      </a:lnTo>
                      <a:lnTo>
                        <a:pt x="0" y="242"/>
                      </a:lnTo>
                      <a:lnTo>
                        <a:pt x="217" y="0"/>
                      </a:lnTo>
                      <a:lnTo>
                        <a:pt x="241" y="12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368120" y="1859760"/>
                  <a:ext cx="37548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242" y="36"/>
                      </a:moveTo>
                      <a:lnTo>
                        <a:pt x="13" y="266"/>
                      </a:lnTo>
                      <a:lnTo>
                        <a:pt x="0" y="242"/>
                      </a:lnTo>
                      <a:lnTo>
                        <a:pt x="218" y="0"/>
                      </a:lnTo>
                      <a:lnTo>
                        <a:pt x="242" y="36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349400" y="1859760"/>
                  <a:ext cx="37548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242" y="24"/>
                      </a:moveTo>
                      <a:lnTo>
                        <a:pt x="25" y="266"/>
                      </a:lnTo>
                      <a:lnTo>
                        <a:pt x="0" y="230"/>
                      </a:lnTo>
                      <a:lnTo>
                        <a:pt x="230" y="0"/>
                      </a:lnTo>
                      <a:lnTo>
                        <a:pt x="242" y="24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331040" y="18388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42" y="12"/>
                      </a:moveTo>
                      <a:lnTo>
                        <a:pt x="24" y="254"/>
                      </a:lnTo>
                      <a:lnTo>
                        <a:pt x="0" y="229"/>
                      </a:lnTo>
                      <a:lnTo>
                        <a:pt x="230" y="0"/>
                      </a:lnTo>
                      <a:lnTo>
                        <a:pt x="242" y="12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31040" y="181800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42" y="24"/>
                      </a:moveTo>
                      <a:lnTo>
                        <a:pt x="12" y="254"/>
                      </a:lnTo>
                      <a:lnTo>
                        <a:pt x="0" y="241"/>
                      </a:lnTo>
                      <a:lnTo>
                        <a:pt x="218" y="0"/>
                      </a:lnTo>
                      <a:lnTo>
                        <a:pt x="242" y="24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312680" y="179748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42" y="24"/>
                      </a:moveTo>
                      <a:lnTo>
                        <a:pt x="12" y="253"/>
                      </a:lnTo>
                      <a:lnTo>
                        <a:pt x="0" y="241"/>
                      </a:lnTo>
                      <a:lnTo>
                        <a:pt x="230" y="0"/>
                      </a:lnTo>
                      <a:lnTo>
                        <a:pt x="242" y="24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93960" y="179748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42" y="12"/>
                      </a:moveTo>
                      <a:lnTo>
                        <a:pt x="24" y="253"/>
                      </a:lnTo>
                      <a:lnTo>
                        <a:pt x="0" y="229"/>
                      </a:lnTo>
                      <a:lnTo>
                        <a:pt x="217" y="0"/>
                      </a:lnTo>
                      <a:lnTo>
                        <a:pt x="242" y="12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293960" y="177660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42" y="12"/>
                      </a:moveTo>
                      <a:lnTo>
                        <a:pt x="12" y="253"/>
                      </a:lnTo>
                      <a:lnTo>
                        <a:pt x="0" y="241"/>
                      </a:lnTo>
                      <a:lnTo>
                        <a:pt x="205" y="0"/>
                      </a:lnTo>
                      <a:lnTo>
                        <a:pt x="242" y="12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75240" y="173376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37"/>
                      </a:moveTo>
                      <a:lnTo>
                        <a:pt x="12" y="266"/>
                      </a:lnTo>
                      <a:lnTo>
                        <a:pt x="0" y="254"/>
                      </a:lnTo>
                      <a:lnTo>
                        <a:pt x="205" y="0"/>
                      </a:lnTo>
                      <a:lnTo>
                        <a:pt x="229" y="37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256520" y="173376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25"/>
                      </a:moveTo>
                      <a:lnTo>
                        <a:pt x="24" y="266"/>
                      </a:lnTo>
                      <a:lnTo>
                        <a:pt x="0" y="230"/>
                      </a:lnTo>
                      <a:lnTo>
                        <a:pt x="217" y="0"/>
                      </a:lnTo>
                      <a:lnTo>
                        <a:pt x="229" y="25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38160" y="171324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12"/>
                      </a:moveTo>
                      <a:lnTo>
                        <a:pt x="24" y="266"/>
                      </a:lnTo>
                      <a:lnTo>
                        <a:pt x="0" y="230"/>
                      </a:lnTo>
                      <a:lnTo>
                        <a:pt x="217" y="0"/>
                      </a:lnTo>
                      <a:lnTo>
                        <a:pt x="229" y="12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238160" y="169236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29" y="24"/>
                      </a:moveTo>
                      <a:lnTo>
                        <a:pt x="12" y="254"/>
                      </a:lnTo>
                      <a:lnTo>
                        <a:pt x="0" y="242"/>
                      </a:lnTo>
                      <a:lnTo>
                        <a:pt x="205" y="0"/>
                      </a:lnTo>
                      <a:lnTo>
                        <a:pt x="229" y="24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219440" y="167184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29" y="24"/>
                      </a:moveTo>
                      <a:lnTo>
                        <a:pt x="12" y="254"/>
                      </a:lnTo>
                      <a:lnTo>
                        <a:pt x="0" y="242"/>
                      </a:lnTo>
                      <a:lnTo>
                        <a:pt x="217" y="0"/>
                      </a:lnTo>
                      <a:lnTo>
                        <a:pt x="229" y="24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82000" y="167184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1" y="12"/>
                      </a:moveTo>
                      <a:lnTo>
                        <a:pt x="36" y="254"/>
                      </a:lnTo>
                      <a:lnTo>
                        <a:pt x="0" y="230"/>
                      </a:lnTo>
                      <a:lnTo>
                        <a:pt x="229" y="0"/>
                      </a:lnTo>
                      <a:lnTo>
                        <a:pt x="241" y="12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182000" y="165096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1" y="12"/>
                      </a:moveTo>
                      <a:lnTo>
                        <a:pt x="24" y="254"/>
                      </a:lnTo>
                      <a:lnTo>
                        <a:pt x="0" y="242"/>
                      </a:lnTo>
                      <a:lnTo>
                        <a:pt x="217" y="0"/>
                      </a:lnTo>
                      <a:lnTo>
                        <a:pt x="241" y="12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63280" y="16300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1" y="24"/>
                      </a:moveTo>
                      <a:lnTo>
                        <a:pt x="12" y="254"/>
                      </a:lnTo>
                      <a:lnTo>
                        <a:pt x="0" y="242"/>
                      </a:lnTo>
                      <a:lnTo>
                        <a:pt x="217" y="0"/>
                      </a:lnTo>
                      <a:lnTo>
                        <a:pt x="241" y="24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44920" y="16300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1" y="12"/>
                      </a:moveTo>
                      <a:lnTo>
                        <a:pt x="24" y="254"/>
                      </a:lnTo>
                      <a:lnTo>
                        <a:pt x="0" y="217"/>
                      </a:lnTo>
                      <a:lnTo>
                        <a:pt x="229" y="0"/>
                      </a:lnTo>
                      <a:lnTo>
                        <a:pt x="241" y="12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13640" y="267120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17" y="266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1" y="230"/>
                      </a:lnTo>
                      <a:lnTo>
                        <a:pt x="217" y="266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713640" y="265032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41" y="230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732000" y="26298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41" y="242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769440" y="26089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29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769440" y="260892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29" y="230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788160" y="2588040"/>
                  <a:ext cx="35640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30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806520" y="2546640"/>
                  <a:ext cx="35640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05" y="266"/>
                      </a:moveTo>
                      <a:lnTo>
                        <a:pt x="0" y="36"/>
                      </a:lnTo>
                      <a:lnTo>
                        <a:pt x="12" y="0"/>
                      </a:lnTo>
                      <a:lnTo>
                        <a:pt x="230" y="254"/>
                      </a:lnTo>
                      <a:lnTo>
                        <a:pt x="205" y="266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825240" y="2546640"/>
                  <a:ext cx="35640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06" y="266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30" y="229"/>
                      </a:lnTo>
                      <a:lnTo>
                        <a:pt x="206" y="266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825240" y="2526120"/>
                  <a:ext cx="35640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18" y="266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30" y="229"/>
                      </a:lnTo>
                      <a:lnTo>
                        <a:pt x="218" y="266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843960" y="250524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18" y="253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2" y="241"/>
                      </a:lnTo>
                      <a:lnTo>
                        <a:pt x="218" y="253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862680" y="24832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06" y="254"/>
                      </a:moveTo>
                      <a:lnTo>
                        <a:pt x="0" y="25"/>
                      </a:lnTo>
                      <a:lnTo>
                        <a:pt x="12" y="0"/>
                      </a:lnTo>
                      <a:lnTo>
                        <a:pt x="242" y="242"/>
                      </a:lnTo>
                      <a:lnTo>
                        <a:pt x="206" y="254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862680" y="24832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30" y="254"/>
                      </a:move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42" y="230"/>
                      </a:lnTo>
                      <a:lnTo>
                        <a:pt x="230" y="254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881400" y="246240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30" y="254"/>
                      </a:moveTo>
                      <a:lnTo>
                        <a:pt x="0" y="12"/>
                      </a:lnTo>
                      <a:lnTo>
                        <a:pt x="25" y="0"/>
                      </a:lnTo>
                      <a:lnTo>
                        <a:pt x="242" y="242"/>
                      </a:lnTo>
                      <a:lnTo>
                        <a:pt x="230" y="254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901200" y="24418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17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41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919920" y="24418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241" y="218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919920" y="240012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229" y="266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41" y="230"/>
                      </a:lnTo>
                      <a:lnTo>
                        <a:pt x="229" y="266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938640" y="237996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36"/>
                      </a:lnTo>
                      <a:lnTo>
                        <a:pt x="12" y="0"/>
                      </a:lnTo>
                      <a:lnTo>
                        <a:pt x="241" y="242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957360" y="235944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17" y="254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41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957360" y="235944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29" y="254"/>
                      </a:move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41" y="230"/>
                      </a:lnTo>
                      <a:lnTo>
                        <a:pt x="229" y="254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94440" y="233856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17" y="254"/>
                      </a:moveTo>
                      <a:lnTo>
                        <a:pt x="0" y="12"/>
                      </a:lnTo>
                      <a:lnTo>
                        <a:pt x="24" y="0"/>
                      </a:lnTo>
                      <a:lnTo>
                        <a:pt x="229" y="242"/>
                      </a:lnTo>
                      <a:lnTo>
                        <a:pt x="217" y="254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013160" y="231768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05" y="254"/>
                      </a:moveTo>
                      <a:lnTo>
                        <a:pt x="0" y="24"/>
                      </a:lnTo>
                      <a:lnTo>
                        <a:pt x="12" y="0"/>
                      </a:lnTo>
                      <a:lnTo>
                        <a:pt x="229" y="242"/>
                      </a:lnTo>
                      <a:lnTo>
                        <a:pt x="205" y="254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031520" y="2276280"/>
                  <a:ext cx="356760" cy="478800"/>
                </a:xfrm>
                <a:custGeom>
                  <a:avLst/>
                  <a:gdLst/>
                  <a:ahLst/>
                  <a:rect l="l" t="t" r="r" b="b"/>
                  <a:pathLst>
                    <a:path w="230" h="278">
                      <a:moveTo>
                        <a:pt x="205" y="278"/>
                      </a:moveTo>
                      <a:lnTo>
                        <a:pt x="0" y="36"/>
                      </a:lnTo>
                      <a:lnTo>
                        <a:pt x="12" y="0"/>
                      </a:lnTo>
                      <a:lnTo>
                        <a:pt x="230" y="253"/>
                      </a:lnTo>
                      <a:lnTo>
                        <a:pt x="205" y="278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031520" y="2276280"/>
                  <a:ext cx="356760" cy="4579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217" y="266"/>
                      </a:move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30" y="229"/>
                      </a:lnTo>
                      <a:lnTo>
                        <a:pt x="217" y="266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50240" y="2255760"/>
                  <a:ext cx="356760" cy="456480"/>
                </a:xfrm>
                <a:custGeom>
                  <a:avLst/>
                  <a:gdLst/>
                  <a:ahLst/>
                  <a:rect l="l" t="t" r="r" b="b"/>
                  <a:pathLst>
                    <a:path w="230" h="265">
                      <a:moveTo>
                        <a:pt x="218" y="265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230" y="241"/>
                      </a:lnTo>
                      <a:lnTo>
                        <a:pt x="218" y="265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38160" y="279684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12" y="0"/>
                      </a:moveTo>
                      <a:lnTo>
                        <a:pt x="229" y="241"/>
                      </a:lnTo>
                      <a:lnTo>
                        <a:pt x="205" y="254"/>
                      </a:lnTo>
                      <a:lnTo>
                        <a:pt x="0" y="3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219440" y="281772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12" y="0"/>
                      </a:moveTo>
                      <a:lnTo>
                        <a:pt x="229" y="242"/>
                      </a:lnTo>
                      <a:lnTo>
                        <a:pt x="205" y="266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182000" y="28584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36" y="0"/>
                      </a:moveTo>
                      <a:lnTo>
                        <a:pt x="241" y="218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163280" y="2858400"/>
                  <a:ext cx="373680" cy="457920"/>
                </a:xfrm>
                <a:custGeom>
                  <a:avLst/>
                  <a:gdLst/>
                  <a:ahLst/>
                  <a:rect l="l" t="t" r="r" b="b"/>
                  <a:pathLst>
                    <a:path w="241" h="266">
                      <a:moveTo>
                        <a:pt x="36" y="0"/>
                      </a:moveTo>
                      <a:lnTo>
                        <a:pt x="241" y="242"/>
                      </a:lnTo>
                      <a:lnTo>
                        <a:pt x="229" y="266"/>
                      </a:lnTo>
                      <a:lnTo>
                        <a:pt x="0" y="2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163280" y="28792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17" y="254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144920" y="28998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124760" y="29206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5" y="0"/>
                      </a:moveTo>
                      <a:lnTo>
                        <a:pt x="242" y="230"/>
                      </a:lnTo>
                      <a:lnTo>
                        <a:pt x="230" y="254"/>
                      </a:lnTo>
                      <a:lnTo>
                        <a:pt x="0" y="1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124760" y="29206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13" y="0"/>
                      </a:moveTo>
                      <a:lnTo>
                        <a:pt x="242" y="242"/>
                      </a:lnTo>
                      <a:lnTo>
                        <a:pt x="218" y="254"/>
                      </a:lnTo>
                      <a:lnTo>
                        <a:pt x="0" y="3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106040" y="294156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12" y="0"/>
                      </a:moveTo>
                      <a:lnTo>
                        <a:pt x="242" y="242"/>
                      </a:lnTo>
                      <a:lnTo>
                        <a:pt x="218" y="266"/>
                      </a:lnTo>
                      <a:lnTo>
                        <a:pt x="0" y="3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ab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087320" y="298440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4" y="0"/>
                      </a:moveTo>
                      <a:lnTo>
                        <a:pt x="242" y="217"/>
                      </a:lnTo>
                      <a:lnTo>
                        <a:pt x="230" y="253"/>
                      </a:lnTo>
                      <a:lnTo>
                        <a:pt x="0" y="1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a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068600" y="300492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24" y="0"/>
                      </a:moveTo>
                      <a:lnTo>
                        <a:pt x="242" y="229"/>
                      </a:lnTo>
                      <a:lnTo>
                        <a:pt x="218" y="253"/>
                      </a:lnTo>
                      <a:lnTo>
                        <a:pt x="0" y="1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b2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068600" y="3004920"/>
                  <a:ext cx="375120" cy="435960"/>
                </a:xfrm>
                <a:custGeom>
                  <a:avLst/>
                  <a:gdLst/>
                  <a:ahLst/>
                  <a:rect l="l" t="t" r="r" b="b"/>
                  <a:pathLst>
                    <a:path w="242" h="253">
                      <a:moveTo>
                        <a:pt x="12" y="0"/>
                      </a:moveTo>
                      <a:lnTo>
                        <a:pt x="242" y="241"/>
                      </a:lnTo>
                      <a:lnTo>
                        <a:pt x="206" y="253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1b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50240" y="302580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12" y="0"/>
                      </a:moveTo>
                      <a:lnTo>
                        <a:pt x="230" y="241"/>
                      </a:lnTo>
                      <a:lnTo>
                        <a:pt x="218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8b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031520" y="304632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24" y="0"/>
                      </a:moveTo>
                      <a:lnTo>
                        <a:pt x="230" y="229"/>
                      </a:lnTo>
                      <a:lnTo>
                        <a:pt x="217" y="254"/>
                      </a:lnTo>
                      <a:lnTo>
                        <a:pt x="0" y="1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57b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31520" y="3046320"/>
                  <a:ext cx="356760" cy="437400"/>
                </a:xfrm>
                <a:custGeom>
                  <a:avLst/>
                  <a:gdLst/>
                  <a:ahLst/>
                  <a:rect l="l" t="t" r="r" b="b"/>
                  <a:pathLst>
                    <a:path w="230" h="254">
                      <a:moveTo>
                        <a:pt x="12" y="0"/>
                      </a:moveTo>
                      <a:lnTo>
                        <a:pt x="230" y="242"/>
                      </a:lnTo>
                      <a:lnTo>
                        <a:pt x="205" y="254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68c3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013160" y="306720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12" y="0"/>
                      </a:moveTo>
                      <a:lnTo>
                        <a:pt x="229" y="242"/>
                      </a:lnTo>
                      <a:lnTo>
                        <a:pt x="205" y="254"/>
                      </a:lnTo>
                      <a:lnTo>
                        <a:pt x="0" y="3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77c8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994440" y="308772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4" y="0"/>
                      </a:moveTo>
                      <a:lnTo>
                        <a:pt x="229" y="230"/>
                      </a:lnTo>
                      <a:lnTo>
                        <a:pt x="217" y="266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4cd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957360" y="31294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36" y="0"/>
                      </a:moveTo>
                      <a:lnTo>
                        <a:pt x="241" y="218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3d3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57360" y="31294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" y="0"/>
                      </a:moveTo>
                      <a:lnTo>
                        <a:pt x="241" y="242"/>
                      </a:lnTo>
                      <a:lnTo>
                        <a:pt x="217" y="254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a4d9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938640" y="31500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4d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19920" y="31708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24" y="0"/>
                      </a:moveTo>
                      <a:lnTo>
                        <a:pt x="241" y="230"/>
                      </a:lnTo>
                      <a:lnTo>
                        <a:pt x="229" y="254"/>
                      </a:lnTo>
                      <a:lnTo>
                        <a:pt x="0" y="1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3e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919920" y="317088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17" y="254"/>
                      </a:lnTo>
                      <a:lnTo>
                        <a:pt x="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8e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01200" y="3191400"/>
                  <a:ext cx="373680" cy="437400"/>
                </a:xfrm>
                <a:custGeom>
                  <a:avLst/>
                  <a:gdLst/>
                  <a:ahLst/>
                  <a:rect l="l" t="t" r="r" b="b"/>
                  <a:pathLst>
                    <a:path w="241" h="254">
                      <a:moveTo>
                        <a:pt x="12" y="0"/>
                      </a:moveTo>
                      <a:lnTo>
                        <a:pt x="241" y="242"/>
                      </a:lnTo>
                      <a:lnTo>
                        <a:pt x="217" y="254"/>
                      </a:lnTo>
                      <a:lnTo>
                        <a:pt x="0" y="2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bf6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881400" y="3211920"/>
                  <a:ext cx="375120" cy="457920"/>
                </a:xfrm>
                <a:custGeom>
                  <a:avLst/>
                  <a:gdLst/>
                  <a:ahLst/>
                  <a:rect l="l" t="t" r="r" b="b"/>
                  <a:pathLst>
                    <a:path w="242" h="266">
                      <a:moveTo>
                        <a:pt x="25" y="0"/>
                      </a:moveTo>
                      <a:lnTo>
                        <a:pt x="242" y="230"/>
                      </a:lnTo>
                      <a:lnTo>
                        <a:pt x="230" y="266"/>
                      </a:lnTo>
                      <a:lnTo>
                        <a:pt x="0" y="1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d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312680" y="28792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42" y="24"/>
                      </a:moveTo>
                      <a:lnTo>
                        <a:pt x="12" y="254"/>
                      </a:lnTo>
                      <a:lnTo>
                        <a:pt x="0" y="242"/>
                      </a:lnTo>
                      <a:lnTo>
                        <a:pt x="230" y="0"/>
                      </a:lnTo>
                      <a:lnTo>
                        <a:pt x="242" y="24"/>
                      </a:lnTo>
                      <a:close/>
                    </a:path>
                  </a:pathLst>
                </a:custGeom>
                <a:solidFill>
                  <a:srgbClr val="009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293960" y="2879280"/>
                  <a:ext cx="375120" cy="437400"/>
                </a:xfrm>
                <a:custGeom>
                  <a:avLst/>
                  <a:gdLst/>
                  <a:ahLst/>
                  <a:rect l="l" t="t" r="r" b="b"/>
                  <a:pathLst>
                    <a:path w="242" h="254">
                      <a:moveTo>
                        <a:pt x="242" y="12"/>
                      </a:moveTo>
                      <a:lnTo>
                        <a:pt x="24" y="254"/>
                      </a:lnTo>
                      <a:lnTo>
                        <a:pt x="0" y="230"/>
                      </a:lnTo>
                      <a:lnTo>
                        <a:pt x="217" y="0"/>
                      </a:lnTo>
                      <a:lnTo>
                        <a:pt x="242" y="12"/>
                      </a:lnTo>
                      <a:close/>
                    </a:path>
                  </a:pathLst>
                </a:custGeom>
                <a:solidFill>
                  <a:srgbClr val="009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275240" y="2858400"/>
                  <a:ext cx="393840" cy="437400"/>
                </a:xfrm>
                <a:custGeom>
                  <a:avLst/>
                  <a:gdLst/>
                  <a:ahLst/>
                  <a:rect l="l" t="t" r="r" b="b"/>
                  <a:pathLst>
                    <a:path w="254" h="254">
                      <a:moveTo>
                        <a:pt x="254" y="12"/>
                      </a:moveTo>
                      <a:lnTo>
                        <a:pt x="24" y="254"/>
                      </a:lnTo>
                      <a:lnTo>
                        <a:pt x="0" y="242"/>
                      </a:lnTo>
                      <a:lnTo>
                        <a:pt x="217" y="0"/>
                      </a:lnTo>
                      <a:lnTo>
                        <a:pt x="254" y="12"/>
                      </a:lnTo>
                      <a:close/>
                    </a:path>
                  </a:pathLst>
                </a:custGeom>
                <a:solidFill>
                  <a:srgbClr val="009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75240" y="2817720"/>
                  <a:ext cx="354960" cy="457920"/>
                </a:xfrm>
                <a:custGeom>
                  <a:avLst/>
                  <a:gdLst/>
                  <a:ahLst/>
                  <a:rect l="l" t="t" r="r" b="b"/>
                  <a:pathLst>
                    <a:path w="229" h="266">
                      <a:moveTo>
                        <a:pt x="229" y="36"/>
                      </a:moveTo>
                      <a:lnTo>
                        <a:pt x="12" y="266"/>
                      </a:lnTo>
                      <a:lnTo>
                        <a:pt x="0" y="242"/>
                      </a:lnTo>
                      <a:lnTo>
                        <a:pt x="205" y="0"/>
                      </a:lnTo>
                      <a:lnTo>
                        <a:pt x="229" y="36"/>
                      </a:lnTo>
                      <a:close/>
                    </a:path>
                  </a:pathLst>
                </a:custGeom>
                <a:solidFill>
                  <a:srgbClr val="009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256520" y="2796840"/>
                  <a:ext cx="354960" cy="478800"/>
                </a:xfrm>
                <a:custGeom>
                  <a:avLst/>
                  <a:gdLst/>
                  <a:ahLst/>
                  <a:rect l="l" t="t" r="r" b="b"/>
                  <a:pathLst>
                    <a:path w="229" h="278">
                      <a:moveTo>
                        <a:pt x="229" y="36"/>
                      </a:moveTo>
                      <a:lnTo>
                        <a:pt x="12" y="278"/>
                      </a:lnTo>
                      <a:lnTo>
                        <a:pt x="0" y="241"/>
                      </a:lnTo>
                      <a:lnTo>
                        <a:pt x="217" y="0"/>
                      </a:lnTo>
                      <a:lnTo>
                        <a:pt x="229" y="36"/>
                      </a:lnTo>
                      <a:close/>
                    </a:path>
                  </a:pathLst>
                </a:custGeom>
                <a:solidFill>
                  <a:srgbClr val="009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238160" y="2796840"/>
                  <a:ext cx="354960" cy="437400"/>
                </a:xfrm>
                <a:custGeom>
                  <a:avLst/>
                  <a:gdLst/>
                  <a:ahLst/>
                  <a:rect l="l" t="t" r="r" b="b"/>
                  <a:pathLst>
                    <a:path w="229" h="254">
                      <a:moveTo>
                        <a:pt x="229" y="12"/>
                      </a:moveTo>
                      <a:lnTo>
                        <a:pt x="24" y="254"/>
                      </a:lnTo>
                      <a:lnTo>
                        <a:pt x="0" y="229"/>
                      </a:lnTo>
                      <a:lnTo>
                        <a:pt x="217" y="0"/>
                      </a:lnTo>
                      <a:lnTo>
                        <a:pt x="229" y="12"/>
                      </a:lnTo>
                      <a:close/>
                    </a:path>
                  </a:pathLst>
                </a:custGeom>
                <a:solidFill>
                  <a:srgbClr val="00a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238160" y="2775960"/>
                  <a:ext cx="354960" cy="435600"/>
                </a:xfrm>
                <a:custGeom>
                  <a:avLst/>
                  <a:gdLst/>
                  <a:ahLst/>
                  <a:rect l="l" t="t" r="r" b="b"/>
                  <a:pathLst>
                    <a:path w="229" h="253">
                      <a:moveTo>
                        <a:pt x="229" y="12"/>
                      </a:moveTo>
                      <a:lnTo>
                        <a:pt x="12" y="253"/>
                      </a:lnTo>
                      <a:lnTo>
                        <a:pt x="0" y="241"/>
                      </a:lnTo>
                      <a:lnTo>
                        <a:pt x="205" y="0"/>
                      </a:lnTo>
                      <a:lnTo>
                        <a:pt x="229" y="12"/>
                      </a:lnTo>
                      <a:close/>
                    </a:path>
                  </a:pathLst>
                </a:custGeom>
                <a:solidFill>
                  <a:srgbClr val="00a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219440" y="2755440"/>
                  <a:ext cx="354960" cy="435960"/>
                </a:xfrm>
                <a:custGeom>
                  <a:avLst/>
                  <a:gdLst/>
                  <a:ahLst/>
                  <a:rect l="l" t="t" r="r" b="b"/>
                  <a:pathLst>
                    <a:path w="229" h="253">
                      <a:moveTo>
                        <a:pt x="229" y="24"/>
                      </a:moveTo>
                      <a:lnTo>
                        <a:pt x="12" y="253"/>
                      </a:lnTo>
                      <a:lnTo>
                        <a:pt x="0" y="241"/>
                      </a:lnTo>
                      <a:lnTo>
                        <a:pt x="217" y="0"/>
                      </a:lnTo>
                      <a:lnTo>
                        <a:pt x="229" y="24"/>
                      </a:lnTo>
                      <a:close/>
                    </a:path>
                  </a:pathLst>
                </a:custGeom>
                <a:solidFill>
                  <a:srgbClr val="00a7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80680" y="3754440"/>
                  <a:ext cx="37080" cy="208440"/>
                </a:xfrm>
                <a:prstGeom prst="rect">
                  <a:avLst/>
                </a:pr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6432840" y="922680"/>
              <a:ext cx="2814840" cy="2832120"/>
              <a:chOff x="6432840" y="922680"/>
              <a:chExt cx="2814840" cy="283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7200720" y="2735280"/>
                <a:ext cx="374040" cy="43596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241" y="12"/>
                    </a:moveTo>
                    <a:lnTo>
                      <a:pt x="24" y="253"/>
                    </a:lnTo>
                    <a:lnTo>
                      <a:pt x="0" y="229"/>
                    </a:lnTo>
                    <a:lnTo>
                      <a:pt x="217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182000" y="2692080"/>
                <a:ext cx="392400" cy="458280"/>
              </a:xfrm>
              <a:custGeom>
                <a:avLst/>
                <a:gdLst/>
                <a:ahLst/>
                <a:rect l="l" t="t" r="r" b="b"/>
                <a:pathLst>
                  <a:path w="253" h="266">
                    <a:moveTo>
                      <a:pt x="253" y="25"/>
                    </a:moveTo>
                    <a:lnTo>
                      <a:pt x="24" y="266"/>
                    </a:lnTo>
                    <a:lnTo>
                      <a:pt x="0" y="254"/>
                    </a:lnTo>
                    <a:lnTo>
                      <a:pt x="217" y="0"/>
                    </a:lnTo>
                    <a:lnTo>
                      <a:pt x="253" y="25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82000" y="2671560"/>
                <a:ext cx="355320" cy="45828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37"/>
                    </a:moveTo>
                    <a:lnTo>
                      <a:pt x="12" y="266"/>
                    </a:lnTo>
                    <a:lnTo>
                      <a:pt x="0" y="242"/>
                    </a:lnTo>
                    <a:lnTo>
                      <a:pt x="205" y="0"/>
                    </a:lnTo>
                    <a:lnTo>
                      <a:pt x="229" y="37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63640" y="2650680"/>
                <a:ext cx="355320" cy="478800"/>
              </a:xfrm>
              <a:custGeom>
                <a:avLst/>
                <a:gdLst/>
                <a:ahLst/>
                <a:rect l="l" t="t" r="r" b="b"/>
                <a:pathLst>
                  <a:path w="229" h="278">
                    <a:moveTo>
                      <a:pt x="229" y="24"/>
                    </a:moveTo>
                    <a:lnTo>
                      <a:pt x="12" y="278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29" y="24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44920" y="2650680"/>
                <a:ext cx="355320" cy="43740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12"/>
                    </a:moveTo>
                    <a:lnTo>
                      <a:pt x="24" y="254"/>
                    </a:lnTo>
                    <a:lnTo>
                      <a:pt x="0" y="230"/>
                    </a:lnTo>
                    <a:lnTo>
                      <a:pt x="217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44920" y="2630160"/>
                <a:ext cx="355320" cy="43740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12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05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24760" y="2609280"/>
                <a:ext cx="356760" cy="43740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30" y="24"/>
                    </a:moveTo>
                    <a:lnTo>
                      <a:pt x="13" y="254"/>
                    </a:lnTo>
                    <a:lnTo>
                      <a:pt x="0" y="242"/>
                    </a:lnTo>
                    <a:lnTo>
                      <a:pt x="206" y="0"/>
                    </a:lnTo>
                    <a:lnTo>
                      <a:pt x="230" y="24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6040" y="2609280"/>
                <a:ext cx="356760" cy="43740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30" y="12"/>
                    </a:moveTo>
                    <a:lnTo>
                      <a:pt x="25" y="254"/>
                    </a:lnTo>
                    <a:lnTo>
                      <a:pt x="0" y="230"/>
                    </a:lnTo>
                    <a:lnTo>
                      <a:pt x="218" y="0"/>
                    </a:lnTo>
                    <a:lnTo>
                      <a:pt x="230" y="12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68960" y="2588760"/>
                <a:ext cx="375120" cy="43740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42" y="12"/>
                    </a:moveTo>
                    <a:lnTo>
                      <a:pt x="36" y="254"/>
                    </a:lnTo>
                    <a:lnTo>
                      <a:pt x="0" y="217"/>
                    </a:lnTo>
                    <a:lnTo>
                      <a:pt x="230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68960" y="2547360"/>
                <a:ext cx="375120" cy="45828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42" y="36"/>
                    </a:moveTo>
                    <a:lnTo>
                      <a:pt x="24" y="266"/>
                    </a:lnTo>
                    <a:lnTo>
                      <a:pt x="0" y="241"/>
                    </a:lnTo>
                    <a:lnTo>
                      <a:pt x="218" y="0"/>
                    </a:lnTo>
                    <a:lnTo>
                      <a:pt x="242" y="36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50240" y="2526480"/>
                <a:ext cx="375480" cy="43596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2" y="36"/>
                    </a:moveTo>
                    <a:lnTo>
                      <a:pt x="12" y="253"/>
                    </a:lnTo>
                    <a:lnTo>
                      <a:pt x="0" y="241"/>
                    </a:lnTo>
                    <a:lnTo>
                      <a:pt x="230" y="0"/>
                    </a:lnTo>
                    <a:lnTo>
                      <a:pt x="242" y="36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31520" y="2526480"/>
                <a:ext cx="375480" cy="43596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2" y="12"/>
                    </a:moveTo>
                    <a:lnTo>
                      <a:pt x="24" y="253"/>
                    </a:lnTo>
                    <a:lnTo>
                      <a:pt x="0" y="229"/>
                    </a:lnTo>
                    <a:lnTo>
                      <a:pt x="230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31520" y="2505600"/>
                <a:ext cx="375480" cy="43596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2" y="12"/>
                    </a:moveTo>
                    <a:lnTo>
                      <a:pt x="12" y="253"/>
                    </a:lnTo>
                    <a:lnTo>
                      <a:pt x="0" y="241"/>
                    </a:lnTo>
                    <a:lnTo>
                      <a:pt x="217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3160" y="2483640"/>
                <a:ext cx="375120" cy="43740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42" y="25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42" y="25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94800" y="2483640"/>
                <a:ext cx="373680" cy="43740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3"/>
                    </a:moveTo>
                    <a:lnTo>
                      <a:pt x="24" y="254"/>
                    </a:lnTo>
                    <a:lnTo>
                      <a:pt x="0" y="230"/>
                    </a:lnTo>
                    <a:lnTo>
                      <a:pt x="229" y="0"/>
                    </a:lnTo>
                    <a:lnTo>
                      <a:pt x="241" y="13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76080" y="2462760"/>
                <a:ext cx="373680" cy="43740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2"/>
                    </a:moveTo>
                    <a:lnTo>
                      <a:pt x="24" y="254"/>
                    </a:lnTo>
                    <a:lnTo>
                      <a:pt x="0" y="230"/>
                    </a:lnTo>
                    <a:lnTo>
                      <a:pt x="229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32840" y="922680"/>
                <a:ext cx="411120" cy="2052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51200" y="922680"/>
                <a:ext cx="355320" cy="72864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432840" y="1151640"/>
                <a:ext cx="392400" cy="56160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432840" y="2629800"/>
                <a:ext cx="374040" cy="33228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51200" y="2962440"/>
                <a:ext cx="450000" cy="24948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432840" y="1713240"/>
                <a:ext cx="374040" cy="83376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432840" y="2109240"/>
                <a:ext cx="374040" cy="43740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432840" y="1818000"/>
                <a:ext cx="374040" cy="332280"/>
              </a:xfrm>
              <a:prstGeom prst="line">
                <a:avLst/>
              </a:prstGeom>
              <a:ln w="19080">
                <a:solidFill>
                  <a:srgbClr val="25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8160" y="2900520"/>
                <a:ext cx="148680" cy="854280"/>
              </a:xfrm>
              <a:custGeom>
                <a:avLst/>
                <a:gdLst/>
                <a:ahLst/>
                <a:rect l="l" t="t" r="r" b="b"/>
                <a:pathLst>
                  <a:path w="96" h="496">
                    <a:moveTo>
                      <a:pt x="84" y="496"/>
                    </a:moveTo>
                    <a:lnTo>
                      <a:pt x="84" y="496"/>
                    </a:lnTo>
                    <a:lnTo>
                      <a:pt x="96" y="375"/>
                    </a:lnTo>
                    <a:lnTo>
                      <a:pt x="96" y="194"/>
                    </a:lnTo>
                    <a:lnTo>
                      <a:pt x="96" y="109"/>
                    </a:lnTo>
                    <a:lnTo>
                      <a:pt x="84" y="61"/>
                    </a:lnTo>
                    <a:lnTo>
                      <a:pt x="72" y="24"/>
                    </a:lnTo>
                    <a:lnTo>
                      <a:pt x="48" y="12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12" y="36"/>
                    </a:lnTo>
                    <a:lnTo>
                      <a:pt x="24" y="24"/>
                    </a:lnTo>
                    <a:lnTo>
                      <a:pt x="36" y="36"/>
                    </a:lnTo>
                    <a:lnTo>
                      <a:pt x="48" y="61"/>
                    </a:lnTo>
                    <a:lnTo>
                      <a:pt x="48" y="109"/>
                    </a:lnTo>
                    <a:lnTo>
                      <a:pt x="72" y="194"/>
                    </a:lnTo>
                    <a:lnTo>
                      <a:pt x="72" y="375"/>
                    </a:lnTo>
                    <a:lnTo>
                      <a:pt x="48" y="496"/>
                    </a:lnTo>
                    <a:lnTo>
                      <a:pt x="84" y="496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69440" y="2068200"/>
                <a:ext cx="410760" cy="603000"/>
              </a:xfrm>
              <a:custGeom>
                <a:avLst/>
                <a:gdLst/>
                <a:ahLst/>
                <a:rect l="l" t="t" r="r" b="b"/>
                <a:pathLst>
                  <a:path w="265" h="350">
                    <a:moveTo>
                      <a:pt x="265" y="350"/>
                    </a:moveTo>
                    <a:lnTo>
                      <a:pt x="265" y="350"/>
                    </a:lnTo>
                    <a:lnTo>
                      <a:pt x="265" y="278"/>
                    </a:lnTo>
                    <a:lnTo>
                      <a:pt x="241" y="229"/>
                    </a:lnTo>
                    <a:lnTo>
                      <a:pt x="229" y="169"/>
                    </a:lnTo>
                    <a:lnTo>
                      <a:pt x="181" y="109"/>
                    </a:lnTo>
                    <a:lnTo>
                      <a:pt x="157" y="72"/>
                    </a:lnTo>
                    <a:lnTo>
                      <a:pt x="108" y="24"/>
                    </a:lnTo>
                    <a:lnTo>
                      <a:pt x="60" y="12"/>
                    </a:lnTo>
                    <a:lnTo>
                      <a:pt x="12" y="0"/>
                    </a:lnTo>
                    <a:lnTo>
                      <a:pt x="0" y="24"/>
                    </a:lnTo>
                    <a:lnTo>
                      <a:pt x="48" y="36"/>
                    </a:lnTo>
                    <a:lnTo>
                      <a:pt x="96" y="48"/>
                    </a:lnTo>
                    <a:lnTo>
                      <a:pt x="132" y="84"/>
                    </a:lnTo>
                    <a:lnTo>
                      <a:pt x="169" y="121"/>
                    </a:lnTo>
                    <a:lnTo>
                      <a:pt x="193" y="181"/>
                    </a:lnTo>
                    <a:lnTo>
                      <a:pt x="205" y="229"/>
                    </a:lnTo>
                    <a:lnTo>
                      <a:pt x="229" y="302"/>
                    </a:lnTo>
                    <a:lnTo>
                      <a:pt x="241" y="350"/>
                    </a:lnTo>
                    <a:lnTo>
                      <a:pt x="265" y="35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74760" y="1193040"/>
                <a:ext cx="786600" cy="687600"/>
              </a:xfrm>
              <a:custGeom>
                <a:avLst/>
                <a:gdLst/>
                <a:ahLst/>
                <a:rect l="l" t="t" r="r" b="b"/>
                <a:pathLst>
                  <a:path w="507" h="399">
                    <a:moveTo>
                      <a:pt x="507" y="399"/>
                    </a:moveTo>
                    <a:lnTo>
                      <a:pt x="507" y="399"/>
                    </a:lnTo>
                    <a:lnTo>
                      <a:pt x="495" y="314"/>
                    </a:lnTo>
                    <a:lnTo>
                      <a:pt x="471" y="254"/>
                    </a:lnTo>
                    <a:lnTo>
                      <a:pt x="411" y="181"/>
                    </a:lnTo>
                    <a:lnTo>
                      <a:pt x="350" y="121"/>
                    </a:lnTo>
                    <a:lnTo>
                      <a:pt x="290" y="61"/>
                    </a:lnTo>
                    <a:lnTo>
                      <a:pt x="193" y="36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85" y="36"/>
                    </a:lnTo>
                    <a:lnTo>
                      <a:pt x="181" y="61"/>
                    </a:lnTo>
                    <a:lnTo>
                      <a:pt x="266" y="97"/>
                    </a:lnTo>
                    <a:lnTo>
                      <a:pt x="338" y="145"/>
                    </a:lnTo>
                    <a:lnTo>
                      <a:pt x="399" y="206"/>
                    </a:lnTo>
                    <a:lnTo>
                      <a:pt x="447" y="266"/>
                    </a:lnTo>
                    <a:lnTo>
                      <a:pt x="471" y="339"/>
                    </a:lnTo>
                    <a:lnTo>
                      <a:pt x="483" y="399"/>
                    </a:lnTo>
                    <a:lnTo>
                      <a:pt x="507" y="39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74760" y="1463760"/>
                <a:ext cx="73080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89440" y="1486080"/>
                <a:ext cx="9198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25221e"/>
                    </a:solidFill>
                    <a:latin typeface="Garamond"/>
                  </a:rPr>
                  <a:t>actors,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74760" y="1797840"/>
                <a:ext cx="14803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13480" y="1821960"/>
                <a:ext cx="1834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25221e"/>
                    </a:solidFill>
                    <a:latin typeface="Garamond"/>
                  </a:rPr>
                  <a:t>stake-holders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6545160" y="4010040"/>
            <a:ext cx="1273320" cy="606240"/>
          </a:xfrm>
          <a:custGeom>
            <a:avLst/>
            <a:gdLst/>
            <a:ahLst/>
            <a:rect l="l" t="t" r="r" b="b"/>
            <a:pathLst>
              <a:path w="821" h="351">
                <a:moveTo>
                  <a:pt x="12" y="351"/>
                </a:moveTo>
                <a:lnTo>
                  <a:pt x="157" y="339"/>
                </a:lnTo>
                <a:lnTo>
                  <a:pt x="290" y="339"/>
                </a:lnTo>
                <a:lnTo>
                  <a:pt x="435" y="351"/>
                </a:lnTo>
                <a:lnTo>
                  <a:pt x="556" y="351"/>
                </a:lnTo>
                <a:lnTo>
                  <a:pt x="616" y="351"/>
                </a:lnTo>
                <a:lnTo>
                  <a:pt x="664" y="339"/>
                </a:lnTo>
                <a:lnTo>
                  <a:pt x="713" y="315"/>
                </a:lnTo>
                <a:lnTo>
                  <a:pt x="761" y="278"/>
                </a:lnTo>
                <a:lnTo>
                  <a:pt x="785" y="242"/>
                </a:lnTo>
                <a:lnTo>
                  <a:pt x="809" y="170"/>
                </a:lnTo>
                <a:lnTo>
                  <a:pt x="821" y="97"/>
                </a:lnTo>
                <a:lnTo>
                  <a:pt x="821" y="0"/>
                </a:lnTo>
                <a:lnTo>
                  <a:pt x="797" y="0"/>
                </a:lnTo>
                <a:lnTo>
                  <a:pt x="797" y="97"/>
                </a:lnTo>
                <a:lnTo>
                  <a:pt x="785" y="170"/>
                </a:lnTo>
                <a:lnTo>
                  <a:pt x="761" y="230"/>
                </a:lnTo>
                <a:lnTo>
                  <a:pt x="737" y="266"/>
                </a:lnTo>
                <a:lnTo>
                  <a:pt x="700" y="291"/>
                </a:lnTo>
                <a:lnTo>
                  <a:pt x="652" y="315"/>
                </a:lnTo>
                <a:lnTo>
                  <a:pt x="604" y="327"/>
                </a:lnTo>
                <a:lnTo>
                  <a:pt x="556" y="327"/>
                </a:lnTo>
                <a:lnTo>
                  <a:pt x="435" y="327"/>
                </a:lnTo>
                <a:lnTo>
                  <a:pt x="302" y="315"/>
                </a:lnTo>
                <a:lnTo>
                  <a:pt x="157" y="315"/>
                </a:lnTo>
                <a:lnTo>
                  <a:pt x="0" y="327"/>
                </a:lnTo>
                <a:lnTo>
                  <a:pt x="12" y="35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43840" y="2719440"/>
            <a:ext cx="74520" cy="1438200"/>
          </a:xfrm>
          <a:custGeom>
            <a:avLst/>
            <a:gdLst/>
            <a:ahLst/>
            <a:rect l="l" t="t" r="r" b="b"/>
            <a:pathLst>
              <a:path w="48" h="834">
                <a:moveTo>
                  <a:pt x="24" y="834"/>
                </a:moveTo>
                <a:lnTo>
                  <a:pt x="48" y="834"/>
                </a:lnTo>
                <a:lnTo>
                  <a:pt x="36" y="0"/>
                </a:lnTo>
                <a:lnTo>
                  <a:pt x="0" y="0"/>
                </a:lnTo>
                <a:lnTo>
                  <a:pt x="24" y="83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01080" y="4157640"/>
            <a:ext cx="917280" cy="1084320"/>
          </a:xfrm>
          <a:custGeom>
            <a:avLst/>
            <a:gdLst/>
            <a:ahLst/>
            <a:rect l="l" t="t" r="r" b="b"/>
            <a:pathLst>
              <a:path w="591" h="629">
                <a:moveTo>
                  <a:pt x="12" y="629"/>
                </a:moveTo>
                <a:lnTo>
                  <a:pt x="12" y="629"/>
                </a:lnTo>
                <a:lnTo>
                  <a:pt x="60" y="616"/>
                </a:lnTo>
                <a:lnTo>
                  <a:pt x="145" y="592"/>
                </a:lnTo>
                <a:lnTo>
                  <a:pt x="229" y="556"/>
                </a:lnTo>
                <a:lnTo>
                  <a:pt x="338" y="508"/>
                </a:lnTo>
                <a:lnTo>
                  <a:pt x="386" y="471"/>
                </a:lnTo>
                <a:lnTo>
                  <a:pt x="434" y="423"/>
                </a:lnTo>
                <a:lnTo>
                  <a:pt x="471" y="387"/>
                </a:lnTo>
                <a:lnTo>
                  <a:pt x="507" y="314"/>
                </a:lnTo>
                <a:lnTo>
                  <a:pt x="543" y="254"/>
                </a:lnTo>
                <a:lnTo>
                  <a:pt x="567" y="181"/>
                </a:lnTo>
                <a:lnTo>
                  <a:pt x="579" y="97"/>
                </a:lnTo>
                <a:lnTo>
                  <a:pt x="591" y="0"/>
                </a:lnTo>
                <a:lnTo>
                  <a:pt x="567" y="0"/>
                </a:lnTo>
                <a:lnTo>
                  <a:pt x="543" y="85"/>
                </a:lnTo>
                <a:lnTo>
                  <a:pt x="531" y="169"/>
                </a:lnTo>
                <a:lnTo>
                  <a:pt x="519" y="242"/>
                </a:lnTo>
                <a:lnTo>
                  <a:pt x="483" y="302"/>
                </a:lnTo>
                <a:lnTo>
                  <a:pt x="459" y="351"/>
                </a:lnTo>
                <a:lnTo>
                  <a:pt x="422" y="399"/>
                </a:lnTo>
                <a:lnTo>
                  <a:pt x="362" y="435"/>
                </a:lnTo>
                <a:lnTo>
                  <a:pt x="326" y="484"/>
                </a:lnTo>
                <a:lnTo>
                  <a:pt x="217" y="520"/>
                </a:lnTo>
                <a:lnTo>
                  <a:pt x="133" y="568"/>
                </a:lnTo>
                <a:lnTo>
                  <a:pt x="60" y="580"/>
                </a:lnTo>
                <a:lnTo>
                  <a:pt x="0" y="592"/>
                </a:lnTo>
                <a:lnTo>
                  <a:pt x="12" y="629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34160" y="5032440"/>
            <a:ext cx="317520" cy="333360"/>
          </a:xfrm>
          <a:custGeom>
            <a:avLst/>
            <a:gdLst/>
            <a:ahLst/>
            <a:rect l="l" t="t" r="r" b="b"/>
            <a:pathLst>
              <a:path w="205" h="193">
                <a:moveTo>
                  <a:pt x="0" y="121"/>
                </a:moveTo>
                <a:lnTo>
                  <a:pt x="205" y="193"/>
                </a:lnTo>
                <a:lnTo>
                  <a:pt x="205" y="181"/>
                </a:lnTo>
                <a:lnTo>
                  <a:pt x="193" y="157"/>
                </a:lnTo>
                <a:lnTo>
                  <a:pt x="193" y="145"/>
                </a:lnTo>
                <a:lnTo>
                  <a:pt x="181" y="133"/>
                </a:lnTo>
                <a:lnTo>
                  <a:pt x="181" y="121"/>
                </a:lnTo>
                <a:lnTo>
                  <a:pt x="181" y="108"/>
                </a:lnTo>
                <a:lnTo>
                  <a:pt x="181" y="84"/>
                </a:lnTo>
                <a:lnTo>
                  <a:pt x="181" y="72"/>
                </a:lnTo>
                <a:lnTo>
                  <a:pt x="181" y="60"/>
                </a:lnTo>
                <a:lnTo>
                  <a:pt x="181" y="48"/>
                </a:lnTo>
                <a:lnTo>
                  <a:pt x="181" y="36"/>
                </a:lnTo>
                <a:lnTo>
                  <a:pt x="193" y="24"/>
                </a:lnTo>
                <a:lnTo>
                  <a:pt x="193" y="0"/>
                </a:lnTo>
                <a:lnTo>
                  <a:pt x="0" y="12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429080" y="3803760"/>
            <a:ext cx="2322720" cy="1541520"/>
            <a:chOff x="4429080" y="3803760"/>
            <a:chExt cx="2322720" cy="1541520"/>
          </a:xfrm>
        </p:grpSpPr>
        <p:sp>
          <p:nvSpPr>
            <p:cNvPr id="522" name=""/>
            <p:cNvSpPr/>
            <p:nvPr/>
          </p:nvSpPr>
          <p:spPr>
            <a:xfrm>
              <a:off x="6397560" y="4365720"/>
              <a:ext cx="354240" cy="333360"/>
            </a:xfrm>
            <a:custGeom>
              <a:avLst/>
              <a:gdLst/>
              <a:ahLst/>
              <a:rect l="l" t="t" r="r" b="b"/>
              <a:pathLst>
                <a:path w="229" h="193">
                  <a:moveTo>
                    <a:pt x="0" y="145"/>
                  </a:moveTo>
                  <a:lnTo>
                    <a:pt x="229" y="193"/>
                  </a:lnTo>
                  <a:lnTo>
                    <a:pt x="217" y="181"/>
                  </a:lnTo>
                  <a:lnTo>
                    <a:pt x="205" y="157"/>
                  </a:lnTo>
                  <a:lnTo>
                    <a:pt x="205" y="145"/>
                  </a:lnTo>
                  <a:lnTo>
                    <a:pt x="181" y="133"/>
                  </a:lnTo>
                  <a:lnTo>
                    <a:pt x="181" y="121"/>
                  </a:lnTo>
                  <a:lnTo>
                    <a:pt x="169" y="109"/>
                  </a:lnTo>
                  <a:lnTo>
                    <a:pt x="169" y="97"/>
                  </a:lnTo>
                  <a:lnTo>
                    <a:pt x="169" y="72"/>
                  </a:lnTo>
                  <a:lnTo>
                    <a:pt x="169" y="60"/>
                  </a:lnTo>
                  <a:lnTo>
                    <a:pt x="169" y="48"/>
                  </a:lnTo>
                  <a:lnTo>
                    <a:pt x="169" y="36"/>
                  </a:lnTo>
                  <a:lnTo>
                    <a:pt x="169" y="24"/>
                  </a:lnTo>
                  <a:lnTo>
                    <a:pt x="169" y="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29080" y="3803760"/>
              <a:ext cx="2135160" cy="958680"/>
            </a:xfrm>
            <a:custGeom>
              <a:avLst/>
              <a:gdLst/>
              <a:ahLst/>
              <a:rect l="l" t="t" r="r" b="b"/>
              <a:pathLst>
                <a:path w="1376" h="556">
                  <a:moveTo>
                    <a:pt x="1086" y="398"/>
                  </a:moveTo>
                  <a:lnTo>
                    <a:pt x="1038" y="374"/>
                  </a:lnTo>
                  <a:lnTo>
                    <a:pt x="978" y="362"/>
                  </a:lnTo>
                  <a:lnTo>
                    <a:pt x="941" y="326"/>
                  </a:lnTo>
                  <a:lnTo>
                    <a:pt x="905" y="314"/>
                  </a:lnTo>
                  <a:lnTo>
                    <a:pt x="881" y="290"/>
                  </a:lnTo>
                  <a:lnTo>
                    <a:pt x="857" y="265"/>
                  </a:lnTo>
                  <a:lnTo>
                    <a:pt x="845" y="241"/>
                  </a:lnTo>
                  <a:lnTo>
                    <a:pt x="833" y="217"/>
                  </a:lnTo>
                  <a:lnTo>
                    <a:pt x="845" y="193"/>
                  </a:lnTo>
                  <a:lnTo>
                    <a:pt x="857" y="169"/>
                  </a:lnTo>
                  <a:lnTo>
                    <a:pt x="893" y="145"/>
                  </a:lnTo>
                  <a:lnTo>
                    <a:pt x="917" y="120"/>
                  </a:lnTo>
                  <a:lnTo>
                    <a:pt x="954" y="84"/>
                  </a:lnTo>
                  <a:lnTo>
                    <a:pt x="1002" y="60"/>
                  </a:lnTo>
                  <a:lnTo>
                    <a:pt x="1062" y="36"/>
                  </a:lnTo>
                  <a:lnTo>
                    <a:pt x="1123" y="0"/>
                  </a:lnTo>
                  <a:lnTo>
                    <a:pt x="1074" y="12"/>
                  </a:lnTo>
                  <a:lnTo>
                    <a:pt x="1026" y="36"/>
                  </a:lnTo>
                  <a:lnTo>
                    <a:pt x="966" y="60"/>
                  </a:lnTo>
                  <a:lnTo>
                    <a:pt x="929" y="60"/>
                  </a:lnTo>
                  <a:lnTo>
                    <a:pt x="893" y="72"/>
                  </a:lnTo>
                  <a:lnTo>
                    <a:pt x="845" y="84"/>
                  </a:lnTo>
                  <a:lnTo>
                    <a:pt x="821" y="108"/>
                  </a:lnTo>
                  <a:lnTo>
                    <a:pt x="797" y="120"/>
                  </a:lnTo>
                  <a:lnTo>
                    <a:pt x="772" y="133"/>
                  </a:lnTo>
                  <a:lnTo>
                    <a:pt x="760" y="145"/>
                  </a:lnTo>
                  <a:lnTo>
                    <a:pt x="736" y="169"/>
                  </a:lnTo>
                  <a:lnTo>
                    <a:pt x="712" y="193"/>
                  </a:lnTo>
                  <a:lnTo>
                    <a:pt x="700" y="205"/>
                  </a:lnTo>
                  <a:lnTo>
                    <a:pt x="688" y="229"/>
                  </a:lnTo>
                  <a:lnTo>
                    <a:pt x="676" y="265"/>
                  </a:lnTo>
                  <a:lnTo>
                    <a:pt x="664" y="290"/>
                  </a:lnTo>
                  <a:lnTo>
                    <a:pt x="652" y="290"/>
                  </a:lnTo>
                  <a:lnTo>
                    <a:pt x="640" y="278"/>
                  </a:lnTo>
                  <a:lnTo>
                    <a:pt x="615" y="290"/>
                  </a:lnTo>
                  <a:lnTo>
                    <a:pt x="591" y="290"/>
                  </a:lnTo>
                  <a:lnTo>
                    <a:pt x="543" y="290"/>
                  </a:lnTo>
                  <a:lnTo>
                    <a:pt x="507" y="290"/>
                  </a:lnTo>
                  <a:lnTo>
                    <a:pt x="471" y="290"/>
                  </a:lnTo>
                  <a:lnTo>
                    <a:pt x="410" y="302"/>
                  </a:lnTo>
                  <a:lnTo>
                    <a:pt x="362" y="302"/>
                  </a:lnTo>
                  <a:lnTo>
                    <a:pt x="314" y="314"/>
                  </a:lnTo>
                  <a:lnTo>
                    <a:pt x="241" y="326"/>
                  </a:lnTo>
                  <a:lnTo>
                    <a:pt x="193" y="350"/>
                  </a:lnTo>
                  <a:lnTo>
                    <a:pt x="120" y="362"/>
                  </a:lnTo>
                  <a:lnTo>
                    <a:pt x="60" y="374"/>
                  </a:lnTo>
                  <a:lnTo>
                    <a:pt x="0" y="398"/>
                  </a:lnTo>
                  <a:lnTo>
                    <a:pt x="36" y="386"/>
                  </a:lnTo>
                  <a:lnTo>
                    <a:pt x="72" y="386"/>
                  </a:lnTo>
                  <a:lnTo>
                    <a:pt x="132" y="374"/>
                  </a:lnTo>
                  <a:lnTo>
                    <a:pt x="205" y="362"/>
                  </a:lnTo>
                  <a:lnTo>
                    <a:pt x="265" y="350"/>
                  </a:lnTo>
                  <a:lnTo>
                    <a:pt x="362" y="326"/>
                  </a:lnTo>
                  <a:lnTo>
                    <a:pt x="446" y="326"/>
                  </a:lnTo>
                  <a:lnTo>
                    <a:pt x="519" y="326"/>
                  </a:lnTo>
                  <a:lnTo>
                    <a:pt x="603" y="326"/>
                  </a:lnTo>
                  <a:lnTo>
                    <a:pt x="664" y="350"/>
                  </a:lnTo>
                  <a:lnTo>
                    <a:pt x="736" y="374"/>
                  </a:lnTo>
                  <a:lnTo>
                    <a:pt x="784" y="398"/>
                  </a:lnTo>
                  <a:lnTo>
                    <a:pt x="809" y="447"/>
                  </a:lnTo>
                  <a:lnTo>
                    <a:pt x="821" y="507"/>
                  </a:lnTo>
                  <a:lnTo>
                    <a:pt x="821" y="556"/>
                  </a:lnTo>
                  <a:lnTo>
                    <a:pt x="833" y="556"/>
                  </a:lnTo>
                  <a:lnTo>
                    <a:pt x="845" y="556"/>
                  </a:lnTo>
                  <a:lnTo>
                    <a:pt x="857" y="556"/>
                  </a:lnTo>
                  <a:lnTo>
                    <a:pt x="893" y="556"/>
                  </a:lnTo>
                  <a:lnTo>
                    <a:pt x="917" y="556"/>
                  </a:lnTo>
                  <a:lnTo>
                    <a:pt x="941" y="556"/>
                  </a:lnTo>
                  <a:lnTo>
                    <a:pt x="978" y="556"/>
                  </a:lnTo>
                  <a:lnTo>
                    <a:pt x="1026" y="556"/>
                  </a:lnTo>
                  <a:lnTo>
                    <a:pt x="1062" y="543"/>
                  </a:lnTo>
                  <a:lnTo>
                    <a:pt x="1111" y="543"/>
                  </a:lnTo>
                  <a:lnTo>
                    <a:pt x="1147" y="543"/>
                  </a:lnTo>
                  <a:lnTo>
                    <a:pt x="1207" y="543"/>
                  </a:lnTo>
                  <a:lnTo>
                    <a:pt x="1268" y="543"/>
                  </a:lnTo>
                  <a:lnTo>
                    <a:pt x="1328" y="556"/>
                  </a:lnTo>
                  <a:lnTo>
                    <a:pt x="1376" y="556"/>
                  </a:lnTo>
                  <a:lnTo>
                    <a:pt x="1376" y="543"/>
                  </a:lnTo>
                  <a:lnTo>
                    <a:pt x="1364" y="543"/>
                  </a:lnTo>
                  <a:lnTo>
                    <a:pt x="1352" y="531"/>
                  </a:lnTo>
                  <a:lnTo>
                    <a:pt x="1328" y="519"/>
                  </a:lnTo>
                  <a:lnTo>
                    <a:pt x="1304" y="519"/>
                  </a:lnTo>
                  <a:lnTo>
                    <a:pt x="1292" y="507"/>
                  </a:lnTo>
                  <a:lnTo>
                    <a:pt x="1268" y="483"/>
                  </a:lnTo>
                  <a:lnTo>
                    <a:pt x="1243" y="471"/>
                  </a:lnTo>
                  <a:lnTo>
                    <a:pt x="1219" y="459"/>
                  </a:lnTo>
                  <a:lnTo>
                    <a:pt x="1195" y="447"/>
                  </a:lnTo>
                  <a:lnTo>
                    <a:pt x="1159" y="435"/>
                  </a:lnTo>
                  <a:lnTo>
                    <a:pt x="1135" y="423"/>
                  </a:lnTo>
                  <a:lnTo>
                    <a:pt x="1111" y="423"/>
                  </a:lnTo>
                  <a:lnTo>
                    <a:pt x="1086" y="39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91160" y="3948120"/>
              <a:ext cx="674640" cy="271440"/>
            </a:xfrm>
            <a:custGeom>
              <a:avLst/>
              <a:gdLst/>
              <a:ahLst/>
              <a:rect l="l" t="t" r="r" b="b"/>
              <a:pathLst>
                <a:path w="434" h="157">
                  <a:moveTo>
                    <a:pt x="108" y="109"/>
                  </a:moveTo>
                  <a:lnTo>
                    <a:pt x="145" y="121"/>
                  </a:lnTo>
                  <a:lnTo>
                    <a:pt x="169" y="121"/>
                  </a:lnTo>
                  <a:lnTo>
                    <a:pt x="181" y="133"/>
                  </a:lnTo>
                  <a:lnTo>
                    <a:pt x="205" y="133"/>
                  </a:lnTo>
                  <a:lnTo>
                    <a:pt x="217" y="133"/>
                  </a:lnTo>
                  <a:lnTo>
                    <a:pt x="241" y="145"/>
                  </a:lnTo>
                  <a:lnTo>
                    <a:pt x="253" y="145"/>
                  </a:lnTo>
                  <a:lnTo>
                    <a:pt x="289" y="157"/>
                  </a:lnTo>
                  <a:lnTo>
                    <a:pt x="302" y="157"/>
                  </a:lnTo>
                  <a:lnTo>
                    <a:pt x="326" y="157"/>
                  </a:lnTo>
                  <a:lnTo>
                    <a:pt x="338" y="157"/>
                  </a:lnTo>
                  <a:lnTo>
                    <a:pt x="350" y="157"/>
                  </a:lnTo>
                  <a:lnTo>
                    <a:pt x="362" y="157"/>
                  </a:lnTo>
                  <a:lnTo>
                    <a:pt x="374" y="157"/>
                  </a:lnTo>
                  <a:lnTo>
                    <a:pt x="386" y="157"/>
                  </a:lnTo>
                  <a:lnTo>
                    <a:pt x="398" y="157"/>
                  </a:lnTo>
                  <a:lnTo>
                    <a:pt x="422" y="157"/>
                  </a:lnTo>
                  <a:lnTo>
                    <a:pt x="434" y="145"/>
                  </a:lnTo>
                  <a:lnTo>
                    <a:pt x="422" y="145"/>
                  </a:lnTo>
                  <a:lnTo>
                    <a:pt x="422" y="133"/>
                  </a:lnTo>
                  <a:lnTo>
                    <a:pt x="386" y="121"/>
                  </a:lnTo>
                  <a:lnTo>
                    <a:pt x="362" y="109"/>
                  </a:lnTo>
                  <a:lnTo>
                    <a:pt x="338" y="73"/>
                  </a:lnTo>
                  <a:lnTo>
                    <a:pt x="302" y="61"/>
                  </a:lnTo>
                  <a:lnTo>
                    <a:pt x="289" y="61"/>
                  </a:lnTo>
                  <a:lnTo>
                    <a:pt x="253" y="49"/>
                  </a:lnTo>
                  <a:lnTo>
                    <a:pt x="229" y="49"/>
                  </a:lnTo>
                  <a:lnTo>
                    <a:pt x="217" y="36"/>
                  </a:lnTo>
                  <a:lnTo>
                    <a:pt x="193" y="36"/>
                  </a:lnTo>
                  <a:lnTo>
                    <a:pt x="181" y="24"/>
                  </a:lnTo>
                  <a:lnTo>
                    <a:pt x="157" y="24"/>
                  </a:lnTo>
                  <a:lnTo>
                    <a:pt x="145" y="24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2" y="49"/>
                  </a:lnTo>
                  <a:lnTo>
                    <a:pt x="24" y="61"/>
                  </a:lnTo>
                  <a:lnTo>
                    <a:pt x="48" y="73"/>
                  </a:lnTo>
                  <a:lnTo>
                    <a:pt x="84" y="85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46720" y="4699080"/>
              <a:ext cx="563400" cy="646200"/>
            </a:xfrm>
            <a:custGeom>
              <a:avLst/>
              <a:gdLst/>
              <a:ahLst/>
              <a:rect l="l" t="t" r="r" b="b"/>
              <a:pathLst>
                <a:path w="363" h="375">
                  <a:moveTo>
                    <a:pt x="12" y="351"/>
                  </a:moveTo>
                  <a:lnTo>
                    <a:pt x="85" y="315"/>
                  </a:lnTo>
                  <a:lnTo>
                    <a:pt x="157" y="278"/>
                  </a:lnTo>
                  <a:lnTo>
                    <a:pt x="206" y="254"/>
                  </a:lnTo>
                  <a:lnTo>
                    <a:pt x="242" y="230"/>
                  </a:lnTo>
                  <a:lnTo>
                    <a:pt x="290" y="194"/>
                  </a:lnTo>
                  <a:lnTo>
                    <a:pt x="302" y="170"/>
                  </a:lnTo>
                  <a:lnTo>
                    <a:pt x="314" y="145"/>
                  </a:lnTo>
                  <a:lnTo>
                    <a:pt x="314" y="109"/>
                  </a:lnTo>
                  <a:lnTo>
                    <a:pt x="314" y="97"/>
                  </a:lnTo>
                  <a:lnTo>
                    <a:pt x="314" y="73"/>
                  </a:lnTo>
                  <a:lnTo>
                    <a:pt x="302" y="61"/>
                  </a:lnTo>
                  <a:lnTo>
                    <a:pt x="290" y="37"/>
                  </a:lnTo>
                  <a:lnTo>
                    <a:pt x="266" y="24"/>
                  </a:lnTo>
                  <a:lnTo>
                    <a:pt x="254" y="12"/>
                  </a:lnTo>
                  <a:lnTo>
                    <a:pt x="266" y="0"/>
                  </a:lnTo>
                  <a:lnTo>
                    <a:pt x="290" y="0"/>
                  </a:lnTo>
                  <a:lnTo>
                    <a:pt x="302" y="12"/>
                  </a:lnTo>
                  <a:lnTo>
                    <a:pt x="314" y="12"/>
                  </a:lnTo>
                  <a:lnTo>
                    <a:pt x="326" y="24"/>
                  </a:lnTo>
                  <a:lnTo>
                    <a:pt x="338" y="37"/>
                  </a:lnTo>
                  <a:lnTo>
                    <a:pt x="350" y="61"/>
                  </a:lnTo>
                  <a:lnTo>
                    <a:pt x="363" y="73"/>
                  </a:lnTo>
                  <a:lnTo>
                    <a:pt x="363" y="85"/>
                  </a:lnTo>
                  <a:lnTo>
                    <a:pt x="363" y="109"/>
                  </a:lnTo>
                  <a:lnTo>
                    <a:pt x="363" y="145"/>
                  </a:lnTo>
                  <a:lnTo>
                    <a:pt x="350" y="157"/>
                  </a:lnTo>
                  <a:lnTo>
                    <a:pt x="338" y="182"/>
                  </a:lnTo>
                  <a:lnTo>
                    <a:pt x="314" y="218"/>
                  </a:lnTo>
                  <a:lnTo>
                    <a:pt x="266" y="254"/>
                  </a:lnTo>
                  <a:lnTo>
                    <a:pt x="218" y="278"/>
                  </a:lnTo>
                  <a:lnTo>
                    <a:pt x="157" y="315"/>
                  </a:lnTo>
                  <a:lnTo>
                    <a:pt x="73" y="351"/>
                  </a:lnTo>
                  <a:lnTo>
                    <a:pt x="290" y="351"/>
                  </a:lnTo>
                  <a:lnTo>
                    <a:pt x="302" y="351"/>
                  </a:lnTo>
                  <a:lnTo>
                    <a:pt x="314" y="351"/>
                  </a:lnTo>
                  <a:lnTo>
                    <a:pt x="314" y="375"/>
                  </a:lnTo>
                  <a:lnTo>
                    <a:pt x="302" y="375"/>
                  </a:lnTo>
                  <a:lnTo>
                    <a:pt x="290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51"/>
                  </a:lnTo>
                  <a:lnTo>
                    <a:pt x="12" y="35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53120" y="4699080"/>
              <a:ext cx="466920" cy="64620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57" y="12"/>
                  </a:moveTo>
                  <a:lnTo>
                    <a:pt x="157" y="0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41" y="12"/>
                  </a:lnTo>
                  <a:lnTo>
                    <a:pt x="253" y="24"/>
                  </a:lnTo>
                  <a:lnTo>
                    <a:pt x="265" y="61"/>
                  </a:lnTo>
                  <a:lnTo>
                    <a:pt x="277" y="73"/>
                  </a:lnTo>
                  <a:lnTo>
                    <a:pt x="289" y="97"/>
                  </a:lnTo>
                  <a:lnTo>
                    <a:pt x="289" y="109"/>
                  </a:lnTo>
                  <a:lnTo>
                    <a:pt x="289" y="145"/>
                  </a:lnTo>
                  <a:lnTo>
                    <a:pt x="289" y="170"/>
                  </a:lnTo>
                  <a:lnTo>
                    <a:pt x="277" y="194"/>
                  </a:lnTo>
                  <a:lnTo>
                    <a:pt x="265" y="230"/>
                  </a:lnTo>
                  <a:lnTo>
                    <a:pt x="241" y="254"/>
                  </a:lnTo>
                  <a:lnTo>
                    <a:pt x="217" y="278"/>
                  </a:lnTo>
                  <a:lnTo>
                    <a:pt x="181" y="315"/>
                  </a:lnTo>
                  <a:lnTo>
                    <a:pt x="132" y="327"/>
                  </a:lnTo>
                  <a:lnTo>
                    <a:pt x="96" y="351"/>
                  </a:lnTo>
                  <a:lnTo>
                    <a:pt x="277" y="351"/>
                  </a:lnTo>
                  <a:lnTo>
                    <a:pt x="289" y="351"/>
                  </a:lnTo>
                  <a:lnTo>
                    <a:pt x="301" y="375"/>
                  </a:lnTo>
                  <a:lnTo>
                    <a:pt x="289" y="375"/>
                  </a:lnTo>
                  <a:lnTo>
                    <a:pt x="277" y="375"/>
                  </a:lnTo>
                  <a:lnTo>
                    <a:pt x="24" y="375"/>
                  </a:lnTo>
                  <a:lnTo>
                    <a:pt x="12" y="375"/>
                  </a:lnTo>
                  <a:lnTo>
                    <a:pt x="0" y="375"/>
                  </a:lnTo>
                  <a:lnTo>
                    <a:pt x="0" y="351"/>
                  </a:lnTo>
                  <a:lnTo>
                    <a:pt x="12" y="351"/>
                  </a:lnTo>
                  <a:lnTo>
                    <a:pt x="72" y="339"/>
                  </a:lnTo>
                  <a:lnTo>
                    <a:pt x="108" y="315"/>
                  </a:lnTo>
                  <a:lnTo>
                    <a:pt x="144" y="278"/>
                  </a:lnTo>
                  <a:lnTo>
                    <a:pt x="181" y="254"/>
                  </a:lnTo>
                  <a:lnTo>
                    <a:pt x="193" y="242"/>
                  </a:lnTo>
                  <a:lnTo>
                    <a:pt x="229" y="218"/>
                  </a:lnTo>
                  <a:lnTo>
                    <a:pt x="229" y="182"/>
                  </a:lnTo>
                  <a:lnTo>
                    <a:pt x="241" y="157"/>
                  </a:lnTo>
                  <a:lnTo>
                    <a:pt x="241" y="121"/>
                  </a:lnTo>
                  <a:lnTo>
                    <a:pt x="241" y="97"/>
                  </a:lnTo>
                  <a:lnTo>
                    <a:pt x="229" y="85"/>
                  </a:lnTo>
                  <a:lnTo>
                    <a:pt x="229" y="61"/>
                  </a:lnTo>
                  <a:lnTo>
                    <a:pt x="217" y="37"/>
                  </a:lnTo>
                  <a:lnTo>
                    <a:pt x="193" y="24"/>
                  </a:lnTo>
                  <a:lnTo>
                    <a:pt x="181" y="12"/>
                  </a:lnTo>
                  <a:lnTo>
                    <a:pt x="157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556000" y="3760920"/>
            <a:ext cx="2173320" cy="1001520"/>
          </a:xfrm>
          <a:custGeom>
            <a:avLst/>
            <a:gdLst/>
            <a:ahLst/>
            <a:rect l="l" t="t" r="r" b="b"/>
            <a:pathLst>
              <a:path w="1401" h="581">
                <a:moveTo>
                  <a:pt x="302" y="423"/>
                </a:moveTo>
                <a:lnTo>
                  <a:pt x="362" y="399"/>
                </a:lnTo>
                <a:lnTo>
                  <a:pt x="399" y="387"/>
                </a:lnTo>
                <a:lnTo>
                  <a:pt x="435" y="351"/>
                </a:lnTo>
                <a:lnTo>
                  <a:pt x="483" y="327"/>
                </a:lnTo>
                <a:lnTo>
                  <a:pt x="507" y="315"/>
                </a:lnTo>
                <a:lnTo>
                  <a:pt x="519" y="290"/>
                </a:lnTo>
                <a:lnTo>
                  <a:pt x="519" y="254"/>
                </a:lnTo>
                <a:lnTo>
                  <a:pt x="519" y="230"/>
                </a:lnTo>
                <a:lnTo>
                  <a:pt x="507" y="194"/>
                </a:lnTo>
                <a:lnTo>
                  <a:pt x="495" y="170"/>
                </a:lnTo>
                <a:lnTo>
                  <a:pt x="459" y="145"/>
                </a:lnTo>
                <a:lnTo>
                  <a:pt x="423" y="109"/>
                </a:lnTo>
                <a:lnTo>
                  <a:pt x="386" y="85"/>
                </a:lnTo>
                <a:lnTo>
                  <a:pt x="338" y="61"/>
                </a:lnTo>
                <a:lnTo>
                  <a:pt x="278" y="25"/>
                </a:lnTo>
                <a:lnTo>
                  <a:pt x="205" y="0"/>
                </a:lnTo>
                <a:lnTo>
                  <a:pt x="266" y="25"/>
                </a:lnTo>
                <a:lnTo>
                  <a:pt x="314" y="37"/>
                </a:lnTo>
                <a:lnTo>
                  <a:pt x="374" y="61"/>
                </a:lnTo>
                <a:lnTo>
                  <a:pt x="411" y="73"/>
                </a:lnTo>
                <a:lnTo>
                  <a:pt x="459" y="85"/>
                </a:lnTo>
                <a:lnTo>
                  <a:pt x="507" y="97"/>
                </a:lnTo>
                <a:lnTo>
                  <a:pt x="531" y="109"/>
                </a:lnTo>
                <a:lnTo>
                  <a:pt x="556" y="133"/>
                </a:lnTo>
                <a:lnTo>
                  <a:pt x="592" y="158"/>
                </a:lnTo>
                <a:lnTo>
                  <a:pt x="604" y="170"/>
                </a:lnTo>
                <a:lnTo>
                  <a:pt x="640" y="182"/>
                </a:lnTo>
                <a:lnTo>
                  <a:pt x="664" y="218"/>
                </a:lnTo>
                <a:lnTo>
                  <a:pt x="676" y="230"/>
                </a:lnTo>
                <a:lnTo>
                  <a:pt x="688" y="254"/>
                </a:lnTo>
                <a:lnTo>
                  <a:pt x="700" y="290"/>
                </a:lnTo>
                <a:lnTo>
                  <a:pt x="712" y="315"/>
                </a:lnTo>
                <a:lnTo>
                  <a:pt x="725" y="315"/>
                </a:lnTo>
                <a:lnTo>
                  <a:pt x="737" y="303"/>
                </a:lnTo>
                <a:lnTo>
                  <a:pt x="773" y="315"/>
                </a:lnTo>
                <a:lnTo>
                  <a:pt x="797" y="315"/>
                </a:lnTo>
                <a:lnTo>
                  <a:pt x="833" y="315"/>
                </a:lnTo>
                <a:lnTo>
                  <a:pt x="869" y="315"/>
                </a:lnTo>
                <a:lnTo>
                  <a:pt x="930" y="315"/>
                </a:lnTo>
                <a:lnTo>
                  <a:pt x="966" y="327"/>
                </a:lnTo>
                <a:lnTo>
                  <a:pt x="1014" y="327"/>
                </a:lnTo>
                <a:lnTo>
                  <a:pt x="1087" y="339"/>
                </a:lnTo>
                <a:lnTo>
                  <a:pt x="1135" y="351"/>
                </a:lnTo>
                <a:lnTo>
                  <a:pt x="1208" y="375"/>
                </a:lnTo>
                <a:lnTo>
                  <a:pt x="1268" y="387"/>
                </a:lnTo>
                <a:lnTo>
                  <a:pt x="1328" y="399"/>
                </a:lnTo>
                <a:lnTo>
                  <a:pt x="1401" y="423"/>
                </a:lnTo>
                <a:lnTo>
                  <a:pt x="1389" y="423"/>
                </a:lnTo>
                <a:lnTo>
                  <a:pt x="1365" y="411"/>
                </a:lnTo>
                <a:lnTo>
                  <a:pt x="1304" y="411"/>
                </a:lnTo>
                <a:lnTo>
                  <a:pt x="1256" y="399"/>
                </a:lnTo>
                <a:lnTo>
                  <a:pt x="1183" y="387"/>
                </a:lnTo>
                <a:lnTo>
                  <a:pt x="1111" y="375"/>
                </a:lnTo>
                <a:lnTo>
                  <a:pt x="1026" y="351"/>
                </a:lnTo>
                <a:lnTo>
                  <a:pt x="954" y="351"/>
                </a:lnTo>
                <a:lnTo>
                  <a:pt x="869" y="351"/>
                </a:lnTo>
                <a:lnTo>
                  <a:pt x="797" y="351"/>
                </a:lnTo>
                <a:lnTo>
                  <a:pt x="712" y="375"/>
                </a:lnTo>
                <a:lnTo>
                  <a:pt x="664" y="399"/>
                </a:lnTo>
                <a:lnTo>
                  <a:pt x="604" y="423"/>
                </a:lnTo>
                <a:lnTo>
                  <a:pt x="568" y="472"/>
                </a:lnTo>
                <a:lnTo>
                  <a:pt x="556" y="532"/>
                </a:lnTo>
                <a:lnTo>
                  <a:pt x="556" y="581"/>
                </a:lnTo>
                <a:lnTo>
                  <a:pt x="543" y="581"/>
                </a:lnTo>
                <a:lnTo>
                  <a:pt x="519" y="581"/>
                </a:lnTo>
                <a:lnTo>
                  <a:pt x="495" y="581"/>
                </a:lnTo>
                <a:lnTo>
                  <a:pt x="459" y="581"/>
                </a:lnTo>
                <a:lnTo>
                  <a:pt x="435" y="581"/>
                </a:lnTo>
                <a:lnTo>
                  <a:pt x="399" y="581"/>
                </a:lnTo>
                <a:lnTo>
                  <a:pt x="362" y="581"/>
                </a:lnTo>
                <a:lnTo>
                  <a:pt x="314" y="568"/>
                </a:lnTo>
                <a:lnTo>
                  <a:pt x="278" y="568"/>
                </a:lnTo>
                <a:lnTo>
                  <a:pt x="229" y="568"/>
                </a:lnTo>
                <a:lnTo>
                  <a:pt x="181" y="568"/>
                </a:lnTo>
                <a:lnTo>
                  <a:pt x="121" y="568"/>
                </a:lnTo>
                <a:lnTo>
                  <a:pt x="60" y="581"/>
                </a:lnTo>
                <a:lnTo>
                  <a:pt x="0" y="581"/>
                </a:lnTo>
                <a:lnTo>
                  <a:pt x="0" y="568"/>
                </a:lnTo>
                <a:lnTo>
                  <a:pt x="12" y="568"/>
                </a:lnTo>
                <a:lnTo>
                  <a:pt x="36" y="568"/>
                </a:lnTo>
                <a:lnTo>
                  <a:pt x="48" y="556"/>
                </a:lnTo>
                <a:lnTo>
                  <a:pt x="60" y="544"/>
                </a:lnTo>
                <a:lnTo>
                  <a:pt x="72" y="544"/>
                </a:lnTo>
                <a:lnTo>
                  <a:pt x="97" y="532"/>
                </a:lnTo>
                <a:lnTo>
                  <a:pt x="109" y="508"/>
                </a:lnTo>
                <a:lnTo>
                  <a:pt x="133" y="496"/>
                </a:lnTo>
                <a:lnTo>
                  <a:pt x="157" y="484"/>
                </a:lnTo>
                <a:lnTo>
                  <a:pt x="193" y="472"/>
                </a:lnTo>
                <a:lnTo>
                  <a:pt x="217" y="460"/>
                </a:lnTo>
                <a:lnTo>
                  <a:pt x="242" y="448"/>
                </a:lnTo>
                <a:lnTo>
                  <a:pt x="278" y="448"/>
                </a:lnTo>
                <a:lnTo>
                  <a:pt x="302" y="42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28960" y="3948120"/>
            <a:ext cx="674640" cy="271440"/>
          </a:xfrm>
          <a:custGeom>
            <a:avLst/>
            <a:gdLst/>
            <a:ahLst/>
            <a:rect l="l" t="t" r="r" b="b"/>
            <a:pathLst>
              <a:path w="435" h="157">
                <a:moveTo>
                  <a:pt x="302" y="109"/>
                </a:moveTo>
                <a:lnTo>
                  <a:pt x="290" y="121"/>
                </a:lnTo>
                <a:lnTo>
                  <a:pt x="254" y="121"/>
                </a:lnTo>
                <a:lnTo>
                  <a:pt x="242" y="133"/>
                </a:lnTo>
                <a:lnTo>
                  <a:pt x="218" y="133"/>
                </a:lnTo>
                <a:lnTo>
                  <a:pt x="193" y="133"/>
                </a:lnTo>
                <a:lnTo>
                  <a:pt x="181" y="145"/>
                </a:lnTo>
                <a:lnTo>
                  <a:pt x="157" y="145"/>
                </a:lnTo>
                <a:lnTo>
                  <a:pt x="145" y="157"/>
                </a:lnTo>
                <a:lnTo>
                  <a:pt x="109" y="157"/>
                </a:lnTo>
                <a:lnTo>
                  <a:pt x="97" y="157"/>
                </a:lnTo>
                <a:lnTo>
                  <a:pt x="85" y="157"/>
                </a:lnTo>
                <a:lnTo>
                  <a:pt x="61" y="157"/>
                </a:lnTo>
                <a:lnTo>
                  <a:pt x="48" y="157"/>
                </a:lnTo>
                <a:lnTo>
                  <a:pt x="36" y="157"/>
                </a:lnTo>
                <a:lnTo>
                  <a:pt x="24" y="157"/>
                </a:lnTo>
                <a:lnTo>
                  <a:pt x="0" y="157"/>
                </a:lnTo>
                <a:lnTo>
                  <a:pt x="0" y="145"/>
                </a:lnTo>
                <a:lnTo>
                  <a:pt x="12" y="133"/>
                </a:lnTo>
                <a:lnTo>
                  <a:pt x="24" y="121"/>
                </a:lnTo>
                <a:lnTo>
                  <a:pt x="48" y="109"/>
                </a:lnTo>
                <a:lnTo>
                  <a:pt x="85" y="73"/>
                </a:lnTo>
                <a:lnTo>
                  <a:pt x="109" y="61"/>
                </a:lnTo>
                <a:lnTo>
                  <a:pt x="145" y="61"/>
                </a:lnTo>
                <a:lnTo>
                  <a:pt x="169" y="49"/>
                </a:lnTo>
                <a:lnTo>
                  <a:pt x="181" y="49"/>
                </a:lnTo>
                <a:lnTo>
                  <a:pt x="205" y="36"/>
                </a:lnTo>
                <a:lnTo>
                  <a:pt x="218" y="36"/>
                </a:lnTo>
                <a:lnTo>
                  <a:pt x="242" y="24"/>
                </a:lnTo>
                <a:lnTo>
                  <a:pt x="254" y="24"/>
                </a:lnTo>
                <a:lnTo>
                  <a:pt x="290" y="24"/>
                </a:lnTo>
                <a:lnTo>
                  <a:pt x="302" y="0"/>
                </a:lnTo>
                <a:lnTo>
                  <a:pt x="326" y="0"/>
                </a:lnTo>
                <a:lnTo>
                  <a:pt x="338" y="0"/>
                </a:lnTo>
                <a:lnTo>
                  <a:pt x="350" y="0"/>
                </a:lnTo>
                <a:lnTo>
                  <a:pt x="362" y="0"/>
                </a:lnTo>
                <a:lnTo>
                  <a:pt x="375" y="0"/>
                </a:lnTo>
                <a:lnTo>
                  <a:pt x="387" y="0"/>
                </a:lnTo>
                <a:lnTo>
                  <a:pt x="399" y="0"/>
                </a:lnTo>
                <a:lnTo>
                  <a:pt x="423" y="0"/>
                </a:lnTo>
                <a:lnTo>
                  <a:pt x="435" y="24"/>
                </a:lnTo>
                <a:lnTo>
                  <a:pt x="423" y="36"/>
                </a:lnTo>
                <a:lnTo>
                  <a:pt x="423" y="49"/>
                </a:lnTo>
                <a:lnTo>
                  <a:pt x="387" y="61"/>
                </a:lnTo>
                <a:lnTo>
                  <a:pt x="362" y="73"/>
                </a:lnTo>
                <a:lnTo>
                  <a:pt x="338" y="85"/>
                </a:lnTo>
                <a:lnTo>
                  <a:pt x="302" y="10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49720" y="4699080"/>
            <a:ext cx="598320" cy="646200"/>
          </a:xfrm>
          <a:custGeom>
            <a:avLst/>
            <a:gdLst/>
            <a:ahLst/>
            <a:rect l="l" t="t" r="r" b="b"/>
            <a:pathLst>
              <a:path w="386" h="375">
                <a:moveTo>
                  <a:pt x="374" y="351"/>
                </a:moveTo>
                <a:lnTo>
                  <a:pt x="290" y="315"/>
                </a:lnTo>
                <a:lnTo>
                  <a:pt x="217" y="278"/>
                </a:lnTo>
                <a:lnTo>
                  <a:pt x="157" y="254"/>
                </a:lnTo>
                <a:lnTo>
                  <a:pt x="121" y="230"/>
                </a:lnTo>
                <a:lnTo>
                  <a:pt x="96" y="194"/>
                </a:lnTo>
                <a:lnTo>
                  <a:pt x="72" y="170"/>
                </a:lnTo>
                <a:lnTo>
                  <a:pt x="48" y="145"/>
                </a:lnTo>
                <a:lnTo>
                  <a:pt x="48" y="109"/>
                </a:lnTo>
                <a:lnTo>
                  <a:pt x="48" y="97"/>
                </a:lnTo>
                <a:lnTo>
                  <a:pt x="72" y="73"/>
                </a:lnTo>
                <a:lnTo>
                  <a:pt x="72" y="61"/>
                </a:lnTo>
                <a:lnTo>
                  <a:pt x="84" y="37"/>
                </a:lnTo>
                <a:lnTo>
                  <a:pt x="96" y="24"/>
                </a:lnTo>
                <a:lnTo>
                  <a:pt x="109" y="24"/>
                </a:lnTo>
                <a:lnTo>
                  <a:pt x="109" y="12"/>
                </a:lnTo>
                <a:lnTo>
                  <a:pt x="121" y="12"/>
                </a:lnTo>
                <a:lnTo>
                  <a:pt x="109" y="12"/>
                </a:lnTo>
                <a:lnTo>
                  <a:pt x="109" y="0"/>
                </a:lnTo>
                <a:lnTo>
                  <a:pt x="96" y="0"/>
                </a:lnTo>
                <a:lnTo>
                  <a:pt x="84" y="0"/>
                </a:lnTo>
                <a:lnTo>
                  <a:pt x="72" y="12"/>
                </a:lnTo>
                <a:lnTo>
                  <a:pt x="48" y="12"/>
                </a:lnTo>
                <a:lnTo>
                  <a:pt x="36" y="24"/>
                </a:lnTo>
                <a:lnTo>
                  <a:pt x="24" y="37"/>
                </a:lnTo>
                <a:lnTo>
                  <a:pt x="12" y="61"/>
                </a:lnTo>
                <a:lnTo>
                  <a:pt x="12" y="73"/>
                </a:lnTo>
                <a:lnTo>
                  <a:pt x="0" y="85"/>
                </a:lnTo>
                <a:lnTo>
                  <a:pt x="0" y="109"/>
                </a:lnTo>
                <a:lnTo>
                  <a:pt x="0" y="145"/>
                </a:lnTo>
                <a:lnTo>
                  <a:pt x="12" y="157"/>
                </a:lnTo>
                <a:lnTo>
                  <a:pt x="24" y="182"/>
                </a:lnTo>
                <a:lnTo>
                  <a:pt x="48" y="218"/>
                </a:lnTo>
                <a:lnTo>
                  <a:pt x="96" y="254"/>
                </a:lnTo>
                <a:lnTo>
                  <a:pt x="145" y="278"/>
                </a:lnTo>
                <a:lnTo>
                  <a:pt x="217" y="315"/>
                </a:lnTo>
                <a:lnTo>
                  <a:pt x="290" y="351"/>
                </a:lnTo>
                <a:lnTo>
                  <a:pt x="84" y="351"/>
                </a:lnTo>
                <a:lnTo>
                  <a:pt x="72" y="351"/>
                </a:lnTo>
                <a:lnTo>
                  <a:pt x="72" y="375"/>
                </a:lnTo>
                <a:lnTo>
                  <a:pt x="84" y="375"/>
                </a:lnTo>
                <a:lnTo>
                  <a:pt x="96" y="375"/>
                </a:lnTo>
                <a:lnTo>
                  <a:pt x="362" y="375"/>
                </a:lnTo>
                <a:lnTo>
                  <a:pt x="374" y="375"/>
                </a:lnTo>
                <a:lnTo>
                  <a:pt x="374" y="351"/>
                </a:lnTo>
                <a:lnTo>
                  <a:pt x="386" y="351"/>
                </a:lnTo>
                <a:lnTo>
                  <a:pt x="374" y="35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36920" y="4699080"/>
            <a:ext cx="468360" cy="646200"/>
          </a:xfrm>
          <a:custGeom>
            <a:avLst/>
            <a:gdLst/>
            <a:ahLst/>
            <a:rect l="l" t="t" r="r" b="b"/>
            <a:pathLst>
              <a:path w="302" h="375">
                <a:moveTo>
                  <a:pt x="145" y="12"/>
                </a:moveTo>
                <a:lnTo>
                  <a:pt x="145" y="0"/>
                </a:lnTo>
                <a:lnTo>
                  <a:pt x="157" y="0"/>
                </a:lnTo>
                <a:lnTo>
                  <a:pt x="145" y="0"/>
                </a:lnTo>
                <a:lnTo>
                  <a:pt x="133" y="0"/>
                </a:lnTo>
                <a:lnTo>
                  <a:pt x="121" y="0"/>
                </a:lnTo>
                <a:lnTo>
                  <a:pt x="109" y="0"/>
                </a:lnTo>
                <a:lnTo>
                  <a:pt x="97" y="0"/>
                </a:lnTo>
                <a:lnTo>
                  <a:pt x="60" y="12"/>
                </a:lnTo>
                <a:lnTo>
                  <a:pt x="48" y="24"/>
                </a:lnTo>
                <a:lnTo>
                  <a:pt x="36" y="61"/>
                </a:lnTo>
                <a:lnTo>
                  <a:pt x="24" y="73"/>
                </a:lnTo>
                <a:lnTo>
                  <a:pt x="24" y="97"/>
                </a:lnTo>
                <a:lnTo>
                  <a:pt x="12" y="109"/>
                </a:lnTo>
                <a:lnTo>
                  <a:pt x="12" y="145"/>
                </a:lnTo>
                <a:lnTo>
                  <a:pt x="24" y="170"/>
                </a:lnTo>
                <a:lnTo>
                  <a:pt x="36" y="194"/>
                </a:lnTo>
                <a:lnTo>
                  <a:pt x="48" y="230"/>
                </a:lnTo>
                <a:lnTo>
                  <a:pt x="60" y="254"/>
                </a:lnTo>
                <a:lnTo>
                  <a:pt x="97" y="278"/>
                </a:lnTo>
                <a:lnTo>
                  <a:pt x="133" y="315"/>
                </a:lnTo>
                <a:lnTo>
                  <a:pt x="169" y="327"/>
                </a:lnTo>
                <a:lnTo>
                  <a:pt x="229" y="351"/>
                </a:lnTo>
                <a:lnTo>
                  <a:pt x="24" y="351"/>
                </a:lnTo>
                <a:lnTo>
                  <a:pt x="12" y="351"/>
                </a:lnTo>
                <a:lnTo>
                  <a:pt x="0" y="375"/>
                </a:lnTo>
                <a:lnTo>
                  <a:pt x="12" y="375"/>
                </a:lnTo>
                <a:lnTo>
                  <a:pt x="24" y="375"/>
                </a:lnTo>
                <a:lnTo>
                  <a:pt x="36" y="375"/>
                </a:lnTo>
                <a:lnTo>
                  <a:pt x="278" y="375"/>
                </a:lnTo>
                <a:lnTo>
                  <a:pt x="290" y="375"/>
                </a:lnTo>
                <a:lnTo>
                  <a:pt x="302" y="375"/>
                </a:lnTo>
                <a:lnTo>
                  <a:pt x="302" y="351"/>
                </a:lnTo>
                <a:lnTo>
                  <a:pt x="241" y="339"/>
                </a:lnTo>
                <a:lnTo>
                  <a:pt x="193" y="315"/>
                </a:lnTo>
                <a:lnTo>
                  <a:pt x="157" y="278"/>
                </a:lnTo>
                <a:lnTo>
                  <a:pt x="133" y="254"/>
                </a:lnTo>
                <a:lnTo>
                  <a:pt x="109" y="242"/>
                </a:lnTo>
                <a:lnTo>
                  <a:pt x="97" y="218"/>
                </a:lnTo>
                <a:lnTo>
                  <a:pt x="84" y="182"/>
                </a:lnTo>
                <a:lnTo>
                  <a:pt x="84" y="157"/>
                </a:lnTo>
                <a:lnTo>
                  <a:pt x="60" y="121"/>
                </a:lnTo>
                <a:lnTo>
                  <a:pt x="84" y="97"/>
                </a:lnTo>
                <a:lnTo>
                  <a:pt x="84" y="85"/>
                </a:lnTo>
                <a:lnTo>
                  <a:pt x="97" y="61"/>
                </a:lnTo>
                <a:lnTo>
                  <a:pt x="109" y="37"/>
                </a:lnTo>
                <a:lnTo>
                  <a:pt x="121" y="24"/>
                </a:lnTo>
                <a:lnTo>
                  <a:pt x="133" y="12"/>
                </a:lnTo>
                <a:lnTo>
                  <a:pt x="145" y="1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05160" y="4573440"/>
            <a:ext cx="711360" cy="230400"/>
          </a:xfrm>
          <a:custGeom>
            <a:avLst/>
            <a:gdLst/>
            <a:ahLst/>
            <a:rect l="l" t="t" r="r" b="b"/>
            <a:pathLst>
              <a:path w="459" h="133">
                <a:moveTo>
                  <a:pt x="229" y="133"/>
                </a:moveTo>
                <a:lnTo>
                  <a:pt x="314" y="109"/>
                </a:lnTo>
                <a:lnTo>
                  <a:pt x="362" y="96"/>
                </a:lnTo>
                <a:lnTo>
                  <a:pt x="410" y="84"/>
                </a:lnTo>
                <a:lnTo>
                  <a:pt x="446" y="72"/>
                </a:lnTo>
                <a:lnTo>
                  <a:pt x="459" y="60"/>
                </a:lnTo>
                <a:lnTo>
                  <a:pt x="459" y="36"/>
                </a:lnTo>
                <a:lnTo>
                  <a:pt x="459" y="24"/>
                </a:lnTo>
                <a:lnTo>
                  <a:pt x="422" y="24"/>
                </a:lnTo>
                <a:lnTo>
                  <a:pt x="410" y="12"/>
                </a:lnTo>
                <a:lnTo>
                  <a:pt x="386" y="0"/>
                </a:lnTo>
                <a:lnTo>
                  <a:pt x="350" y="0"/>
                </a:lnTo>
                <a:lnTo>
                  <a:pt x="326" y="0"/>
                </a:lnTo>
                <a:lnTo>
                  <a:pt x="302" y="0"/>
                </a:lnTo>
                <a:lnTo>
                  <a:pt x="265" y="0"/>
                </a:lnTo>
                <a:lnTo>
                  <a:pt x="241" y="12"/>
                </a:lnTo>
                <a:lnTo>
                  <a:pt x="217" y="12"/>
                </a:lnTo>
                <a:lnTo>
                  <a:pt x="205" y="12"/>
                </a:lnTo>
                <a:lnTo>
                  <a:pt x="181" y="0"/>
                </a:lnTo>
                <a:lnTo>
                  <a:pt x="157" y="0"/>
                </a:lnTo>
                <a:lnTo>
                  <a:pt x="108" y="0"/>
                </a:lnTo>
                <a:lnTo>
                  <a:pt x="84" y="0"/>
                </a:lnTo>
                <a:lnTo>
                  <a:pt x="60" y="12"/>
                </a:lnTo>
                <a:lnTo>
                  <a:pt x="36" y="12"/>
                </a:lnTo>
                <a:lnTo>
                  <a:pt x="12" y="24"/>
                </a:lnTo>
                <a:lnTo>
                  <a:pt x="0" y="24"/>
                </a:lnTo>
                <a:lnTo>
                  <a:pt x="0" y="36"/>
                </a:lnTo>
                <a:lnTo>
                  <a:pt x="0" y="60"/>
                </a:lnTo>
                <a:lnTo>
                  <a:pt x="12" y="72"/>
                </a:lnTo>
                <a:lnTo>
                  <a:pt x="48" y="84"/>
                </a:lnTo>
                <a:lnTo>
                  <a:pt x="84" y="96"/>
                </a:lnTo>
                <a:lnTo>
                  <a:pt x="157" y="109"/>
                </a:lnTo>
                <a:lnTo>
                  <a:pt x="229" y="133"/>
                </a:lnTo>
                <a:close/>
              </a:path>
            </a:pathLst>
          </a:custGeom>
          <a:solidFill>
            <a:srgbClr val="e6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91040" y="4489560"/>
            <a:ext cx="900000" cy="35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3600" y="4448160"/>
            <a:ext cx="2211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36920" y="4489560"/>
            <a:ext cx="2411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21e"/>
                </a:solidFill>
                <a:latin typeface="Garamond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5600" y="4906800"/>
            <a:ext cx="1272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98800" y="4946760"/>
            <a:ext cx="156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21e"/>
                </a:solidFill>
                <a:latin typeface="Garamond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278720" y="1492200"/>
            <a:ext cx="4138560" cy="2018880"/>
            <a:chOff x="1278720" y="1492200"/>
            <a:chExt cx="4138560" cy="2018880"/>
          </a:xfrm>
        </p:grpSpPr>
        <p:sp>
          <p:nvSpPr>
            <p:cNvPr id="538" name=""/>
            <p:cNvSpPr/>
            <p:nvPr/>
          </p:nvSpPr>
          <p:spPr>
            <a:xfrm>
              <a:off x="1562040" y="1492200"/>
              <a:ext cx="25660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400" y="1492200"/>
              <a:ext cx="3186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25221e"/>
                  </a:solidFill>
                  <a:latin typeface="Garamond"/>
                </a:rPr>
                <a:t>Plots (land use s.s.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62040" y="2303640"/>
              <a:ext cx="17982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41720" y="2303640"/>
              <a:ext cx="2349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25221e"/>
                  </a:solidFill>
                  <a:latin typeface="Garamond"/>
                </a:rPr>
                <a:t>Matrix (filter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62040" y="3096360"/>
              <a:ext cx="3373200" cy="4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78720" y="3096360"/>
              <a:ext cx="4138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25221e"/>
                  </a:solidFill>
                  <a:latin typeface="Garamond"/>
                </a:rPr>
                <a:t>Roads/streams (channel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27200" y="6362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otiation Support System: tool +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457200" y="1676520"/>
            <a:ext cx="1806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2901960"/>
            <a:ext cx="1265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60" y="366840"/>
            <a:ext cx="21733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360" y="762120"/>
            <a:ext cx="1405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29240" y="5857920"/>
            <a:ext cx="22111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60880" y="6316560"/>
            <a:ext cx="12733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81680" y="1692360"/>
            <a:ext cx="1403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2006640"/>
            <a:ext cx="11052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477120" y="152280"/>
            <a:ext cx="2307960" cy="2849760"/>
            <a:chOff x="6477120" y="152280"/>
            <a:chExt cx="2307960" cy="2849760"/>
          </a:xfrm>
        </p:grpSpPr>
        <p:grpSp>
          <p:nvGrpSpPr>
            <p:cNvPr id="554" name=""/>
            <p:cNvGrpSpPr/>
            <p:nvPr/>
          </p:nvGrpSpPr>
          <p:grpSpPr>
            <a:xfrm>
              <a:off x="6477120" y="152280"/>
              <a:ext cx="2307960" cy="1560240"/>
              <a:chOff x="6477120" y="152280"/>
              <a:chExt cx="2307960" cy="1560240"/>
            </a:xfrm>
          </p:grpSpPr>
          <p:sp>
            <p:nvSpPr>
              <p:cNvPr id="555" name=""/>
              <p:cNvSpPr/>
              <p:nvPr/>
            </p:nvSpPr>
            <p:spPr>
              <a:xfrm>
                <a:off x="6477120" y="152280"/>
                <a:ext cx="2135160" cy="958680"/>
              </a:xfrm>
              <a:custGeom>
                <a:avLst/>
                <a:gdLst/>
                <a:ahLst/>
                <a:rect l="l" t="t" r="r" b="b"/>
                <a:pathLst>
                  <a:path w="1376" h="556">
                    <a:moveTo>
                      <a:pt x="1086" y="398"/>
                    </a:moveTo>
                    <a:lnTo>
                      <a:pt x="1038" y="374"/>
                    </a:lnTo>
                    <a:lnTo>
                      <a:pt x="978" y="362"/>
                    </a:lnTo>
                    <a:lnTo>
                      <a:pt x="941" y="326"/>
                    </a:lnTo>
                    <a:lnTo>
                      <a:pt x="905" y="314"/>
                    </a:lnTo>
                    <a:lnTo>
                      <a:pt x="881" y="290"/>
                    </a:lnTo>
                    <a:lnTo>
                      <a:pt x="857" y="265"/>
                    </a:lnTo>
                    <a:lnTo>
                      <a:pt x="845" y="241"/>
                    </a:lnTo>
                    <a:lnTo>
                      <a:pt x="833" y="217"/>
                    </a:lnTo>
                    <a:lnTo>
                      <a:pt x="845" y="193"/>
                    </a:lnTo>
                    <a:lnTo>
                      <a:pt x="857" y="169"/>
                    </a:lnTo>
                    <a:lnTo>
                      <a:pt x="893" y="145"/>
                    </a:lnTo>
                    <a:lnTo>
                      <a:pt x="917" y="120"/>
                    </a:lnTo>
                    <a:lnTo>
                      <a:pt x="954" y="84"/>
                    </a:lnTo>
                    <a:lnTo>
                      <a:pt x="1002" y="60"/>
                    </a:lnTo>
                    <a:lnTo>
                      <a:pt x="1062" y="36"/>
                    </a:lnTo>
                    <a:lnTo>
                      <a:pt x="1123" y="0"/>
                    </a:lnTo>
                    <a:lnTo>
                      <a:pt x="1074" y="12"/>
                    </a:lnTo>
                    <a:lnTo>
                      <a:pt x="1026" y="36"/>
                    </a:lnTo>
                    <a:lnTo>
                      <a:pt x="966" y="60"/>
                    </a:lnTo>
                    <a:lnTo>
                      <a:pt x="929" y="60"/>
                    </a:lnTo>
                    <a:lnTo>
                      <a:pt x="893" y="72"/>
                    </a:lnTo>
                    <a:lnTo>
                      <a:pt x="845" y="84"/>
                    </a:lnTo>
                    <a:lnTo>
                      <a:pt x="821" y="108"/>
                    </a:lnTo>
                    <a:lnTo>
                      <a:pt x="797" y="120"/>
                    </a:lnTo>
                    <a:lnTo>
                      <a:pt x="772" y="133"/>
                    </a:lnTo>
                    <a:lnTo>
                      <a:pt x="760" y="145"/>
                    </a:lnTo>
                    <a:lnTo>
                      <a:pt x="736" y="169"/>
                    </a:lnTo>
                    <a:lnTo>
                      <a:pt x="712" y="193"/>
                    </a:lnTo>
                    <a:lnTo>
                      <a:pt x="700" y="205"/>
                    </a:lnTo>
                    <a:lnTo>
                      <a:pt x="688" y="229"/>
                    </a:lnTo>
                    <a:lnTo>
                      <a:pt x="676" y="265"/>
                    </a:lnTo>
                    <a:lnTo>
                      <a:pt x="664" y="290"/>
                    </a:lnTo>
                    <a:lnTo>
                      <a:pt x="652" y="290"/>
                    </a:lnTo>
                    <a:lnTo>
                      <a:pt x="640" y="278"/>
                    </a:lnTo>
                    <a:lnTo>
                      <a:pt x="615" y="290"/>
                    </a:lnTo>
                    <a:lnTo>
                      <a:pt x="591" y="290"/>
                    </a:lnTo>
                    <a:lnTo>
                      <a:pt x="543" y="290"/>
                    </a:lnTo>
                    <a:lnTo>
                      <a:pt x="507" y="290"/>
                    </a:lnTo>
                    <a:lnTo>
                      <a:pt x="471" y="290"/>
                    </a:lnTo>
                    <a:lnTo>
                      <a:pt x="410" y="302"/>
                    </a:lnTo>
                    <a:lnTo>
                      <a:pt x="362" y="302"/>
                    </a:lnTo>
                    <a:lnTo>
                      <a:pt x="314" y="314"/>
                    </a:lnTo>
                    <a:lnTo>
                      <a:pt x="241" y="326"/>
                    </a:lnTo>
                    <a:lnTo>
                      <a:pt x="193" y="350"/>
                    </a:lnTo>
                    <a:lnTo>
                      <a:pt x="120" y="362"/>
                    </a:lnTo>
                    <a:lnTo>
                      <a:pt x="60" y="374"/>
                    </a:lnTo>
                    <a:lnTo>
                      <a:pt x="0" y="398"/>
                    </a:lnTo>
                    <a:lnTo>
                      <a:pt x="36" y="386"/>
                    </a:lnTo>
                    <a:lnTo>
                      <a:pt x="72" y="386"/>
                    </a:lnTo>
                    <a:lnTo>
                      <a:pt x="132" y="374"/>
                    </a:lnTo>
                    <a:lnTo>
                      <a:pt x="205" y="362"/>
                    </a:lnTo>
                    <a:lnTo>
                      <a:pt x="265" y="350"/>
                    </a:lnTo>
                    <a:lnTo>
                      <a:pt x="362" y="326"/>
                    </a:lnTo>
                    <a:lnTo>
                      <a:pt x="446" y="326"/>
                    </a:lnTo>
                    <a:lnTo>
                      <a:pt x="519" y="326"/>
                    </a:lnTo>
                    <a:lnTo>
                      <a:pt x="603" y="326"/>
                    </a:lnTo>
                    <a:lnTo>
                      <a:pt x="664" y="350"/>
                    </a:lnTo>
                    <a:lnTo>
                      <a:pt x="736" y="374"/>
                    </a:lnTo>
                    <a:lnTo>
                      <a:pt x="784" y="398"/>
                    </a:lnTo>
                    <a:lnTo>
                      <a:pt x="809" y="447"/>
                    </a:lnTo>
                    <a:lnTo>
                      <a:pt x="821" y="507"/>
                    </a:lnTo>
                    <a:lnTo>
                      <a:pt x="821" y="556"/>
                    </a:lnTo>
                    <a:lnTo>
                      <a:pt x="833" y="556"/>
                    </a:lnTo>
                    <a:lnTo>
                      <a:pt x="845" y="556"/>
                    </a:lnTo>
                    <a:lnTo>
                      <a:pt x="857" y="556"/>
                    </a:lnTo>
                    <a:lnTo>
                      <a:pt x="893" y="556"/>
                    </a:lnTo>
                    <a:lnTo>
                      <a:pt x="917" y="556"/>
                    </a:lnTo>
                    <a:lnTo>
                      <a:pt x="941" y="556"/>
                    </a:lnTo>
                    <a:lnTo>
                      <a:pt x="978" y="556"/>
                    </a:lnTo>
                    <a:lnTo>
                      <a:pt x="1026" y="556"/>
                    </a:lnTo>
                    <a:lnTo>
                      <a:pt x="1062" y="543"/>
                    </a:lnTo>
                    <a:lnTo>
                      <a:pt x="1111" y="543"/>
                    </a:lnTo>
                    <a:lnTo>
                      <a:pt x="1147" y="543"/>
                    </a:lnTo>
                    <a:lnTo>
                      <a:pt x="1207" y="543"/>
                    </a:lnTo>
                    <a:lnTo>
                      <a:pt x="1268" y="543"/>
                    </a:lnTo>
                    <a:lnTo>
                      <a:pt x="1328" y="556"/>
                    </a:lnTo>
                    <a:lnTo>
                      <a:pt x="1376" y="556"/>
                    </a:lnTo>
                    <a:lnTo>
                      <a:pt x="1376" y="543"/>
                    </a:lnTo>
                    <a:lnTo>
                      <a:pt x="1364" y="543"/>
                    </a:lnTo>
                    <a:lnTo>
                      <a:pt x="1352" y="531"/>
                    </a:lnTo>
                    <a:lnTo>
                      <a:pt x="1328" y="519"/>
                    </a:lnTo>
                    <a:lnTo>
                      <a:pt x="1304" y="519"/>
                    </a:lnTo>
                    <a:lnTo>
                      <a:pt x="1292" y="507"/>
                    </a:lnTo>
                    <a:lnTo>
                      <a:pt x="1268" y="483"/>
                    </a:lnTo>
                    <a:lnTo>
                      <a:pt x="1243" y="471"/>
                    </a:lnTo>
                    <a:lnTo>
                      <a:pt x="1219" y="459"/>
                    </a:lnTo>
                    <a:lnTo>
                      <a:pt x="1195" y="447"/>
                    </a:lnTo>
                    <a:lnTo>
                      <a:pt x="1159" y="435"/>
                    </a:lnTo>
                    <a:lnTo>
                      <a:pt x="1135" y="423"/>
                    </a:lnTo>
                    <a:lnTo>
                      <a:pt x="1111" y="423"/>
                    </a:lnTo>
                    <a:lnTo>
                      <a:pt x="1086" y="39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81680" y="304560"/>
                <a:ext cx="674640" cy="271440"/>
              </a:xfrm>
              <a:custGeom>
                <a:avLst/>
                <a:gdLst/>
                <a:ahLst/>
                <a:rect l="l" t="t" r="r" b="b"/>
                <a:pathLst>
                  <a:path w="434" h="157">
                    <a:moveTo>
                      <a:pt x="108" y="109"/>
                    </a:moveTo>
                    <a:lnTo>
                      <a:pt x="145" y="121"/>
                    </a:lnTo>
                    <a:lnTo>
                      <a:pt x="169" y="121"/>
                    </a:lnTo>
                    <a:lnTo>
                      <a:pt x="181" y="133"/>
                    </a:lnTo>
                    <a:lnTo>
                      <a:pt x="205" y="133"/>
                    </a:lnTo>
                    <a:lnTo>
                      <a:pt x="217" y="133"/>
                    </a:lnTo>
                    <a:lnTo>
                      <a:pt x="241" y="145"/>
                    </a:lnTo>
                    <a:lnTo>
                      <a:pt x="253" y="145"/>
                    </a:lnTo>
                    <a:lnTo>
                      <a:pt x="289" y="157"/>
                    </a:lnTo>
                    <a:lnTo>
                      <a:pt x="302" y="157"/>
                    </a:lnTo>
                    <a:lnTo>
                      <a:pt x="326" y="157"/>
                    </a:lnTo>
                    <a:lnTo>
                      <a:pt x="338" y="157"/>
                    </a:lnTo>
                    <a:lnTo>
                      <a:pt x="350" y="157"/>
                    </a:lnTo>
                    <a:lnTo>
                      <a:pt x="362" y="157"/>
                    </a:lnTo>
                    <a:lnTo>
                      <a:pt x="374" y="157"/>
                    </a:lnTo>
                    <a:lnTo>
                      <a:pt x="386" y="157"/>
                    </a:lnTo>
                    <a:lnTo>
                      <a:pt x="398" y="157"/>
                    </a:lnTo>
                    <a:lnTo>
                      <a:pt x="422" y="157"/>
                    </a:lnTo>
                    <a:lnTo>
                      <a:pt x="434" y="145"/>
                    </a:lnTo>
                    <a:lnTo>
                      <a:pt x="422" y="145"/>
                    </a:lnTo>
                    <a:lnTo>
                      <a:pt x="422" y="133"/>
                    </a:lnTo>
                    <a:lnTo>
                      <a:pt x="386" y="121"/>
                    </a:lnTo>
                    <a:lnTo>
                      <a:pt x="362" y="109"/>
                    </a:lnTo>
                    <a:lnTo>
                      <a:pt x="338" y="73"/>
                    </a:lnTo>
                    <a:lnTo>
                      <a:pt x="302" y="61"/>
                    </a:lnTo>
                    <a:lnTo>
                      <a:pt x="289" y="61"/>
                    </a:lnTo>
                    <a:lnTo>
                      <a:pt x="253" y="49"/>
                    </a:lnTo>
                    <a:lnTo>
                      <a:pt x="229" y="49"/>
                    </a:lnTo>
                    <a:lnTo>
                      <a:pt x="217" y="36"/>
                    </a:lnTo>
                    <a:lnTo>
                      <a:pt x="193" y="36"/>
                    </a:lnTo>
                    <a:lnTo>
                      <a:pt x="181" y="24"/>
                    </a:lnTo>
                    <a:lnTo>
                      <a:pt x="157" y="24"/>
                    </a:lnTo>
                    <a:lnTo>
                      <a:pt x="145" y="24"/>
                    </a:lnTo>
                    <a:lnTo>
                      <a:pt x="108" y="0"/>
                    </a:lnTo>
                    <a:lnTo>
                      <a:pt x="96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12" y="49"/>
                    </a:lnTo>
                    <a:lnTo>
                      <a:pt x="24" y="61"/>
                    </a:lnTo>
                    <a:lnTo>
                      <a:pt x="48" y="73"/>
                    </a:lnTo>
                    <a:lnTo>
                      <a:pt x="84" y="85"/>
                    </a:lnTo>
                    <a:lnTo>
                      <a:pt x="108" y="10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734240" y="1066680"/>
                <a:ext cx="563760" cy="645840"/>
              </a:xfrm>
              <a:custGeom>
                <a:avLst/>
                <a:gdLst/>
                <a:ahLst/>
                <a:rect l="l" t="t" r="r" b="b"/>
                <a:pathLst>
                  <a:path w="363" h="375">
                    <a:moveTo>
                      <a:pt x="12" y="351"/>
                    </a:moveTo>
                    <a:lnTo>
                      <a:pt x="85" y="315"/>
                    </a:lnTo>
                    <a:lnTo>
                      <a:pt x="157" y="278"/>
                    </a:lnTo>
                    <a:lnTo>
                      <a:pt x="206" y="254"/>
                    </a:lnTo>
                    <a:lnTo>
                      <a:pt x="242" y="230"/>
                    </a:lnTo>
                    <a:lnTo>
                      <a:pt x="290" y="194"/>
                    </a:lnTo>
                    <a:lnTo>
                      <a:pt x="302" y="170"/>
                    </a:lnTo>
                    <a:lnTo>
                      <a:pt x="314" y="145"/>
                    </a:lnTo>
                    <a:lnTo>
                      <a:pt x="314" y="109"/>
                    </a:lnTo>
                    <a:lnTo>
                      <a:pt x="314" y="97"/>
                    </a:lnTo>
                    <a:lnTo>
                      <a:pt x="314" y="73"/>
                    </a:lnTo>
                    <a:lnTo>
                      <a:pt x="302" y="61"/>
                    </a:lnTo>
                    <a:lnTo>
                      <a:pt x="290" y="37"/>
                    </a:lnTo>
                    <a:lnTo>
                      <a:pt x="266" y="24"/>
                    </a:lnTo>
                    <a:lnTo>
                      <a:pt x="254" y="12"/>
                    </a:lnTo>
                    <a:lnTo>
                      <a:pt x="266" y="0"/>
                    </a:lnTo>
                    <a:lnTo>
                      <a:pt x="290" y="0"/>
                    </a:lnTo>
                    <a:lnTo>
                      <a:pt x="302" y="12"/>
                    </a:lnTo>
                    <a:lnTo>
                      <a:pt x="314" y="12"/>
                    </a:lnTo>
                    <a:lnTo>
                      <a:pt x="326" y="24"/>
                    </a:lnTo>
                    <a:lnTo>
                      <a:pt x="338" y="37"/>
                    </a:lnTo>
                    <a:lnTo>
                      <a:pt x="350" y="61"/>
                    </a:lnTo>
                    <a:lnTo>
                      <a:pt x="363" y="73"/>
                    </a:lnTo>
                    <a:lnTo>
                      <a:pt x="363" y="85"/>
                    </a:lnTo>
                    <a:lnTo>
                      <a:pt x="363" y="109"/>
                    </a:lnTo>
                    <a:lnTo>
                      <a:pt x="363" y="145"/>
                    </a:lnTo>
                    <a:lnTo>
                      <a:pt x="350" y="157"/>
                    </a:lnTo>
                    <a:lnTo>
                      <a:pt x="338" y="182"/>
                    </a:lnTo>
                    <a:lnTo>
                      <a:pt x="314" y="218"/>
                    </a:lnTo>
                    <a:lnTo>
                      <a:pt x="266" y="254"/>
                    </a:lnTo>
                    <a:lnTo>
                      <a:pt x="218" y="278"/>
                    </a:lnTo>
                    <a:lnTo>
                      <a:pt x="157" y="315"/>
                    </a:lnTo>
                    <a:lnTo>
                      <a:pt x="73" y="351"/>
                    </a:lnTo>
                    <a:lnTo>
                      <a:pt x="290" y="351"/>
                    </a:lnTo>
                    <a:lnTo>
                      <a:pt x="302" y="351"/>
                    </a:lnTo>
                    <a:lnTo>
                      <a:pt x="314" y="351"/>
                    </a:lnTo>
                    <a:lnTo>
                      <a:pt x="314" y="375"/>
                    </a:lnTo>
                    <a:lnTo>
                      <a:pt x="302" y="375"/>
                    </a:lnTo>
                    <a:lnTo>
                      <a:pt x="290" y="375"/>
                    </a:lnTo>
                    <a:lnTo>
                      <a:pt x="24" y="375"/>
                    </a:lnTo>
                    <a:lnTo>
                      <a:pt x="12" y="375"/>
                    </a:lnTo>
                    <a:lnTo>
                      <a:pt x="0" y="351"/>
                    </a:lnTo>
                    <a:lnTo>
                      <a:pt x="12" y="35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8318520" y="1066680"/>
                <a:ext cx="466560" cy="645840"/>
              </a:xfrm>
              <a:custGeom>
                <a:avLst/>
                <a:gdLst/>
                <a:ahLst/>
                <a:rect l="l" t="t" r="r" b="b"/>
                <a:pathLst>
                  <a:path w="301" h="375">
                    <a:moveTo>
                      <a:pt x="157" y="12"/>
                    </a:moveTo>
                    <a:lnTo>
                      <a:pt x="157" y="0"/>
                    </a:lnTo>
                    <a:lnTo>
                      <a:pt x="169" y="0"/>
                    </a:lnTo>
                    <a:lnTo>
                      <a:pt x="181" y="0"/>
                    </a:lnTo>
                    <a:lnTo>
                      <a:pt x="193" y="0"/>
                    </a:lnTo>
                    <a:lnTo>
                      <a:pt x="217" y="0"/>
                    </a:lnTo>
                    <a:lnTo>
                      <a:pt x="229" y="0"/>
                    </a:lnTo>
                    <a:lnTo>
                      <a:pt x="241" y="12"/>
                    </a:lnTo>
                    <a:lnTo>
                      <a:pt x="253" y="24"/>
                    </a:lnTo>
                    <a:lnTo>
                      <a:pt x="265" y="61"/>
                    </a:lnTo>
                    <a:lnTo>
                      <a:pt x="277" y="73"/>
                    </a:lnTo>
                    <a:lnTo>
                      <a:pt x="289" y="97"/>
                    </a:lnTo>
                    <a:lnTo>
                      <a:pt x="289" y="109"/>
                    </a:lnTo>
                    <a:lnTo>
                      <a:pt x="289" y="145"/>
                    </a:lnTo>
                    <a:lnTo>
                      <a:pt x="289" y="170"/>
                    </a:lnTo>
                    <a:lnTo>
                      <a:pt x="277" y="194"/>
                    </a:lnTo>
                    <a:lnTo>
                      <a:pt x="265" y="230"/>
                    </a:lnTo>
                    <a:lnTo>
                      <a:pt x="241" y="254"/>
                    </a:lnTo>
                    <a:lnTo>
                      <a:pt x="217" y="278"/>
                    </a:lnTo>
                    <a:lnTo>
                      <a:pt x="181" y="315"/>
                    </a:lnTo>
                    <a:lnTo>
                      <a:pt x="132" y="327"/>
                    </a:lnTo>
                    <a:lnTo>
                      <a:pt x="96" y="351"/>
                    </a:lnTo>
                    <a:lnTo>
                      <a:pt x="277" y="351"/>
                    </a:lnTo>
                    <a:lnTo>
                      <a:pt x="289" y="351"/>
                    </a:lnTo>
                    <a:lnTo>
                      <a:pt x="301" y="375"/>
                    </a:lnTo>
                    <a:lnTo>
                      <a:pt x="289" y="375"/>
                    </a:lnTo>
                    <a:lnTo>
                      <a:pt x="277" y="375"/>
                    </a:lnTo>
                    <a:lnTo>
                      <a:pt x="24" y="375"/>
                    </a:lnTo>
                    <a:lnTo>
                      <a:pt x="12" y="375"/>
                    </a:lnTo>
                    <a:lnTo>
                      <a:pt x="0" y="375"/>
                    </a:lnTo>
                    <a:lnTo>
                      <a:pt x="0" y="351"/>
                    </a:lnTo>
                    <a:lnTo>
                      <a:pt x="12" y="351"/>
                    </a:lnTo>
                    <a:lnTo>
                      <a:pt x="72" y="339"/>
                    </a:lnTo>
                    <a:lnTo>
                      <a:pt x="108" y="315"/>
                    </a:lnTo>
                    <a:lnTo>
                      <a:pt x="144" y="278"/>
                    </a:lnTo>
                    <a:lnTo>
                      <a:pt x="181" y="254"/>
                    </a:lnTo>
                    <a:lnTo>
                      <a:pt x="193" y="242"/>
                    </a:lnTo>
                    <a:lnTo>
                      <a:pt x="229" y="218"/>
                    </a:lnTo>
                    <a:lnTo>
                      <a:pt x="229" y="182"/>
                    </a:lnTo>
                    <a:lnTo>
                      <a:pt x="241" y="157"/>
                    </a:lnTo>
                    <a:lnTo>
                      <a:pt x="241" y="121"/>
                    </a:lnTo>
                    <a:lnTo>
                      <a:pt x="241" y="97"/>
                    </a:lnTo>
                    <a:lnTo>
                      <a:pt x="229" y="85"/>
                    </a:lnTo>
                    <a:lnTo>
                      <a:pt x="229" y="61"/>
                    </a:lnTo>
                    <a:lnTo>
                      <a:pt x="217" y="37"/>
                    </a:lnTo>
                    <a:lnTo>
                      <a:pt x="193" y="24"/>
                    </a:lnTo>
                    <a:lnTo>
                      <a:pt x="181" y="12"/>
                    </a:lnTo>
                    <a:lnTo>
                      <a:pt x="157" y="12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781680" y="1889280"/>
              <a:ext cx="466920" cy="769320"/>
              <a:chOff x="6781680" y="1889280"/>
              <a:chExt cx="466920" cy="769320"/>
            </a:xfrm>
          </p:grpSpPr>
          <p:sp>
            <p:nvSpPr>
              <p:cNvPr id="560" name=""/>
              <p:cNvSpPr/>
              <p:nvPr/>
            </p:nvSpPr>
            <p:spPr>
              <a:xfrm>
                <a:off x="6781680" y="2471760"/>
                <a:ext cx="300240" cy="6156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50160" y="2346120"/>
                <a:ext cx="298440" cy="312480"/>
              </a:xfrm>
              <a:custGeom>
                <a:avLst/>
                <a:gdLst/>
                <a:ahLst/>
                <a:rect l="l" t="t" r="r" b="b"/>
                <a:pathLst>
                  <a:path w="193" h="182">
                    <a:moveTo>
                      <a:pt x="193" y="85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2" y="25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73"/>
                    </a:lnTo>
                    <a:lnTo>
                      <a:pt x="12" y="85"/>
                    </a:lnTo>
                    <a:lnTo>
                      <a:pt x="12" y="97"/>
                    </a:lnTo>
                    <a:lnTo>
                      <a:pt x="12" y="109"/>
                    </a:lnTo>
                    <a:lnTo>
                      <a:pt x="12" y="121"/>
                    </a:lnTo>
                    <a:lnTo>
                      <a:pt x="12" y="133"/>
                    </a:lnTo>
                    <a:lnTo>
                      <a:pt x="12" y="158"/>
                    </a:lnTo>
                    <a:lnTo>
                      <a:pt x="0" y="170"/>
                    </a:lnTo>
                    <a:lnTo>
                      <a:pt x="0" y="182"/>
                    </a:lnTo>
                    <a:lnTo>
                      <a:pt x="193" y="85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81680" y="2054160"/>
                <a:ext cx="317520" cy="4104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50160" y="1889280"/>
                <a:ext cx="298440" cy="3330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3" y="108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12" y="60"/>
                    </a:lnTo>
                    <a:lnTo>
                      <a:pt x="24" y="72"/>
                    </a:lnTo>
                    <a:lnTo>
                      <a:pt x="24" y="96"/>
                    </a:lnTo>
                    <a:lnTo>
                      <a:pt x="24" y="108"/>
                    </a:lnTo>
                    <a:lnTo>
                      <a:pt x="24" y="120"/>
                    </a:lnTo>
                    <a:lnTo>
                      <a:pt x="12" y="132"/>
                    </a:lnTo>
                    <a:lnTo>
                      <a:pt x="12" y="145"/>
                    </a:lnTo>
                    <a:lnTo>
                      <a:pt x="12" y="157"/>
                    </a:lnTo>
                    <a:lnTo>
                      <a:pt x="12" y="181"/>
                    </a:lnTo>
                    <a:lnTo>
                      <a:pt x="0" y="193"/>
                    </a:lnTo>
                    <a:lnTo>
                      <a:pt x="193" y="108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391520" y="1676520"/>
              <a:ext cx="823320" cy="1325520"/>
              <a:chOff x="7391520" y="1676520"/>
              <a:chExt cx="823320" cy="1325520"/>
            </a:xfrm>
          </p:grpSpPr>
          <p:sp>
            <p:nvSpPr>
              <p:cNvPr id="565" name=""/>
              <p:cNvSpPr/>
              <p:nvPr/>
            </p:nvSpPr>
            <p:spPr>
              <a:xfrm>
                <a:off x="7842240" y="2092680"/>
                <a:ext cx="37260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30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23160" y="2092680"/>
                <a:ext cx="37440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" y="0"/>
                    </a:moveTo>
                    <a:lnTo>
                      <a:pt x="241" y="242"/>
                    </a:lnTo>
                    <a:lnTo>
                      <a:pt x="229" y="254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93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23160" y="211320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17" y="254"/>
                    </a:lnTo>
                    <a:lnTo>
                      <a:pt x="0" y="3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2640" y="2133720"/>
                <a:ext cx="375840" cy="45720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13" y="0"/>
                    </a:moveTo>
                    <a:lnTo>
                      <a:pt x="242" y="230"/>
                    </a:lnTo>
                    <a:lnTo>
                      <a:pt x="218" y="266"/>
                    </a:lnTo>
                    <a:lnTo>
                      <a:pt x="0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9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785000" y="2176560"/>
                <a:ext cx="374400" cy="43524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5" y="0"/>
                    </a:moveTo>
                    <a:lnTo>
                      <a:pt x="242" y="217"/>
                    </a:lnTo>
                    <a:lnTo>
                      <a:pt x="230" y="253"/>
                    </a:lnTo>
                    <a:lnTo>
                      <a:pt x="0" y="1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765920" y="2176560"/>
                <a:ext cx="375840" cy="43524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" y="0"/>
                    </a:moveTo>
                    <a:lnTo>
                      <a:pt x="242" y="241"/>
                    </a:lnTo>
                    <a:lnTo>
                      <a:pt x="230" y="253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65920" y="2197440"/>
                <a:ext cx="375840" cy="4363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12" y="0"/>
                    </a:moveTo>
                    <a:lnTo>
                      <a:pt x="242" y="241"/>
                    </a:lnTo>
                    <a:lnTo>
                      <a:pt x="206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746840" y="2217960"/>
                <a:ext cx="375840" cy="43668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12" y="0"/>
                    </a:moveTo>
                    <a:lnTo>
                      <a:pt x="242" y="229"/>
                    </a:lnTo>
                    <a:lnTo>
                      <a:pt x="218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7760" y="2217960"/>
                <a:ext cx="35676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4" y="0"/>
                    </a:moveTo>
                    <a:lnTo>
                      <a:pt x="230" y="242"/>
                    </a:lnTo>
                    <a:lnTo>
                      <a:pt x="218" y="254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727760" y="2238480"/>
                <a:ext cx="35676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12" y="0"/>
                    </a:moveTo>
                    <a:lnTo>
                      <a:pt x="230" y="242"/>
                    </a:lnTo>
                    <a:lnTo>
                      <a:pt x="205" y="254"/>
                    </a:lnTo>
                    <a:lnTo>
                      <a:pt x="0" y="3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710480" y="2259360"/>
                <a:ext cx="356760" cy="45864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12" y="0"/>
                    </a:moveTo>
                    <a:lnTo>
                      <a:pt x="230" y="230"/>
                    </a:lnTo>
                    <a:lnTo>
                      <a:pt x="205" y="266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91400" y="2300400"/>
                <a:ext cx="35532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4" y="0"/>
                    </a:moveTo>
                    <a:lnTo>
                      <a:pt x="229" y="218"/>
                    </a:lnTo>
                    <a:lnTo>
                      <a:pt x="217" y="254"/>
                    </a:lnTo>
                    <a:lnTo>
                      <a:pt x="0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72320" y="2300400"/>
                <a:ext cx="35532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4" y="0"/>
                    </a:moveTo>
                    <a:lnTo>
                      <a:pt x="229" y="242"/>
                    </a:lnTo>
                    <a:lnTo>
                      <a:pt x="217" y="254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72320" y="2321280"/>
                <a:ext cx="35532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12" y="0"/>
                    </a:moveTo>
                    <a:lnTo>
                      <a:pt x="229" y="242"/>
                    </a:lnTo>
                    <a:lnTo>
                      <a:pt x="205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35600" y="234180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" y="0"/>
                    </a:moveTo>
                    <a:lnTo>
                      <a:pt x="241" y="230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16880" y="2341800"/>
                <a:ext cx="374040" cy="45864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36" y="0"/>
                    </a:moveTo>
                    <a:lnTo>
                      <a:pt x="241" y="242"/>
                    </a:lnTo>
                    <a:lnTo>
                      <a:pt x="229" y="266"/>
                    </a:lnTo>
                    <a:lnTo>
                      <a:pt x="0" y="2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16880" y="2362320"/>
                <a:ext cx="37404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17" y="254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597800" y="2384640"/>
                <a:ext cx="374040" cy="43668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12" y="0"/>
                    </a:moveTo>
                    <a:lnTo>
                      <a:pt x="241" y="241"/>
                    </a:lnTo>
                    <a:lnTo>
                      <a:pt x="217" y="253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578720" y="2405160"/>
                <a:ext cx="374040" cy="4590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4" y="0"/>
                    </a:moveTo>
                    <a:lnTo>
                      <a:pt x="241" y="229"/>
                    </a:lnTo>
                    <a:lnTo>
                      <a:pt x="229" y="266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59640" y="2405160"/>
                <a:ext cx="374400" cy="45900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5" y="0"/>
                    </a:moveTo>
                    <a:lnTo>
                      <a:pt x="242" y="241"/>
                    </a:lnTo>
                    <a:lnTo>
                      <a:pt x="230" y="266"/>
                    </a:lnTo>
                    <a:lnTo>
                      <a:pt x="0" y="36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59640" y="2446560"/>
                <a:ext cx="3744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13" y="0"/>
                    </a:moveTo>
                    <a:lnTo>
                      <a:pt x="242" y="242"/>
                    </a:lnTo>
                    <a:lnTo>
                      <a:pt x="218" y="254"/>
                    </a:lnTo>
                    <a:lnTo>
                      <a:pt x="0" y="1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521480" y="2467080"/>
                <a:ext cx="375840" cy="45900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4" y="0"/>
                    </a:moveTo>
                    <a:lnTo>
                      <a:pt x="242" y="242"/>
                    </a:lnTo>
                    <a:lnTo>
                      <a:pt x="218" y="266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91520" y="2092680"/>
                <a:ext cx="37440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29" y="254"/>
                    </a:moveTo>
                    <a:lnTo>
                      <a:pt x="0" y="12"/>
                    </a:lnTo>
                    <a:lnTo>
                      <a:pt x="36" y="0"/>
                    </a:lnTo>
                    <a:lnTo>
                      <a:pt x="241" y="242"/>
                    </a:lnTo>
                    <a:lnTo>
                      <a:pt x="229" y="254"/>
                    </a:lnTo>
                    <a:close/>
                  </a:path>
                </a:pathLst>
              </a:custGeom>
              <a:solidFill>
                <a:srgbClr val="009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10240" y="207180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29" y="254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41" y="242"/>
                    </a:lnTo>
                    <a:lnTo>
                      <a:pt x="229" y="254"/>
                    </a:lnTo>
                    <a:close/>
                  </a:path>
                </a:pathLst>
              </a:custGeom>
              <a:solidFill>
                <a:srgbClr val="0093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46960" y="2071800"/>
                <a:ext cx="35532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05" y="25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29" y="230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009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46960" y="2051280"/>
                <a:ext cx="35532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29" y="230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009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466040" y="2028960"/>
                <a:ext cx="35676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7" y="254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30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00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85120" y="1987920"/>
                <a:ext cx="356760" cy="45864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05" y="266"/>
                    </a:moveTo>
                    <a:lnTo>
                      <a:pt x="0" y="36"/>
                    </a:lnTo>
                    <a:lnTo>
                      <a:pt x="12" y="0"/>
                    </a:lnTo>
                    <a:lnTo>
                      <a:pt x="230" y="242"/>
                    </a:lnTo>
                    <a:lnTo>
                      <a:pt x="205" y="266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502400" y="1987920"/>
                <a:ext cx="356760" cy="45864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06" y="266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30" y="230"/>
                    </a:lnTo>
                    <a:lnTo>
                      <a:pt x="206" y="266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02400" y="1967040"/>
                <a:ext cx="35676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8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30" y="242"/>
                    </a:lnTo>
                    <a:lnTo>
                      <a:pt x="218" y="254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21480" y="1946520"/>
                <a:ext cx="37584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18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2" y="241"/>
                    </a:lnTo>
                    <a:lnTo>
                      <a:pt x="218" y="254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40560" y="1946520"/>
                <a:ext cx="37584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06" y="25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42" y="229"/>
                    </a:lnTo>
                    <a:lnTo>
                      <a:pt x="206" y="254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40560" y="1926000"/>
                <a:ext cx="375840" cy="43632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30" y="253"/>
                    </a:moveTo>
                    <a:lnTo>
                      <a:pt x="0" y="12"/>
                    </a:lnTo>
                    <a:lnTo>
                      <a:pt x="25" y="0"/>
                    </a:lnTo>
                    <a:lnTo>
                      <a:pt x="242" y="229"/>
                    </a:lnTo>
                    <a:lnTo>
                      <a:pt x="230" y="253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59640" y="190512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30" y="253"/>
                    </a:moveTo>
                    <a:lnTo>
                      <a:pt x="0" y="24"/>
                    </a:lnTo>
                    <a:lnTo>
                      <a:pt x="25" y="0"/>
                    </a:lnTo>
                    <a:lnTo>
                      <a:pt x="242" y="241"/>
                    </a:lnTo>
                    <a:lnTo>
                      <a:pt x="230" y="253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78720" y="1862280"/>
                <a:ext cx="374040" cy="4590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17" y="266"/>
                    </a:moveTo>
                    <a:lnTo>
                      <a:pt x="0" y="37"/>
                    </a:lnTo>
                    <a:lnTo>
                      <a:pt x="12" y="0"/>
                    </a:lnTo>
                    <a:lnTo>
                      <a:pt x="241" y="254"/>
                    </a:lnTo>
                    <a:lnTo>
                      <a:pt x="217" y="266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97800" y="1862280"/>
                <a:ext cx="374040" cy="4590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17" y="266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41" y="230"/>
                    </a:lnTo>
                    <a:lnTo>
                      <a:pt x="217" y="266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97800" y="1841760"/>
                <a:ext cx="374040" cy="45864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29" y="266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41" y="242"/>
                    </a:lnTo>
                    <a:lnTo>
                      <a:pt x="229" y="266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16880" y="1821240"/>
                <a:ext cx="37404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29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1" y="242"/>
                    </a:lnTo>
                    <a:lnTo>
                      <a:pt x="229" y="254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35600" y="182124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41" y="230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35600" y="180036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29" y="254"/>
                    </a:moveTo>
                    <a:lnTo>
                      <a:pt x="0" y="12"/>
                    </a:lnTo>
                    <a:lnTo>
                      <a:pt x="36" y="0"/>
                    </a:lnTo>
                    <a:lnTo>
                      <a:pt x="241" y="230"/>
                    </a:lnTo>
                    <a:lnTo>
                      <a:pt x="229" y="254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672320" y="1779840"/>
                <a:ext cx="35532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17" y="254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29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691400" y="1759320"/>
                <a:ext cx="35532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05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29" y="242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10480" y="1759320"/>
                <a:ext cx="35676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05" y="25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30" y="217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10480" y="1717920"/>
                <a:ext cx="356760" cy="45864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17" y="266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30" y="241"/>
                    </a:lnTo>
                    <a:lnTo>
                      <a:pt x="217" y="266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727760" y="1697400"/>
                <a:ext cx="356760" cy="436320"/>
              </a:xfrm>
              <a:custGeom>
                <a:avLst/>
                <a:gdLst/>
                <a:ahLst/>
                <a:rect l="l" t="t" r="r" b="b"/>
                <a:pathLst>
                  <a:path w="230" h="253">
                    <a:moveTo>
                      <a:pt x="218" y="253"/>
                    </a:moveTo>
                    <a:lnTo>
                      <a:pt x="0" y="36"/>
                    </a:lnTo>
                    <a:lnTo>
                      <a:pt x="12" y="0"/>
                    </a:lnTo>
                    <a:lnTo>
                      <a:pt x="230" y="241"/>
                    </a:lnTo>
                    <a:lnTo>
                      <a:pt x="218" y="253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46840" y="1676520"/>
                <a:ext cx="375840" cy="457200"/>
              </a:xfrm>
              <a:custGeom>
                <a:avLst/>
                <a:gdLst/>
                <a:ahLst/>
                <a:rect l="l" t="t" r="r" b="b"/>
                <a:pathLst>
                  <a:path w="242" h="265">
                    <a:moveTo>
                      <a:pt x="206" y="265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2" y="241"/>
                    </a:lnTo>
                    <a:lnTo>
                      <a:pt x="206" y="265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97720" y="2543400"/>
                <a:ext cx="37584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12" y="0"/>
                    </a:moveTo>
                    <a:lnTo>
                      <a:pt x="242" y="230"/>
                    </a:lnTo>
                    <a:lnTo>
                      <a:pt x="230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478640" y="2563920"/>
                <a:ext cx="37584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12" y="0"/>
                    </a:moveTo>
                    <a:lnTo>
                      <a:pt x="242" y="242"/>
                    </a:lnTo>
                    <a:lnTo>
                      <a:pt x="206" y="25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7881840" y="1609560"/>
              <a:ext cx="842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acto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1905120"/>
              <a:ext cx="380880" cy="4572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706000" y="3429000"/>
            <a:ext cx="3399840" cy="3314880"/>
            <a:chOff x="5706000" y="3429000"/>
            <a:chExt cx="3399840" cy="3314880"/>
          </a:xfrm>
        </p:grpSpPr>
        <p:grpSp>
          <p:nvGrpSpPr>
            <p:cNvPr id="616" name=""/>
            <p:cNvGrpSpPr/>
            <p:nvPr/>
          </p:nvGrpSpPr>
          <p:grpSpPr>
            <a:xfrm>
              <a:off x="6913440" y="5159520"/>
              <a:ext cx="2192400" cy="1584360"/>
              <a:chOff x="6913440" y="5159520"/>
              <a:chExt cx="2192400" cy="1584360"/>
            </a:xfrm>
          </p:grpSpPr>
          <p:sp>
            <p:nvSpPr>
              <p:cNvPr id="617" name=""/>
              <p:cNvSpPr/>
              <p:nvPr/>
            </p:nvSpPr>
            <p:spPr>
              <a:xfrm>
                <a:off x="6932520" y="5159520"/>
                <a:ext cx="2173320" cy="1001880"/>
              </a:xfrm>
              <a:custGeom>
                <a:avLst/>
                <a:gdLst/>
                <a:ahLst/>
                <a:rect l="l" t="t" r="r" b="b"/>
                <a:pathLst>
                  <a:path w="1401" h="581">
                    <a:moveTo>
                      <a:pt x="302" y="423"/>
                    </a:moveTo>
                    <a:lnTo>
                      <a:pt x="362" y="399"/>
                    </a:lnTo>
                    <a:lnTo>
                      <a:pt x="399" y="387"/>
                    </a:lnTo>
                    <a:lnTo>
                      <a:pt x="435" y="351"/>
                    </a:lnTo>
                    <a:lnTo>
                      <a:pt x="483" y="327"/>
                    </a:lnTo>
                    <a:lnTo>
                      <a:pt x="507" y="315"/>
                    </a:lnTo>
                    <a:lnTo>
                      <a:pt x="519" y="290"/>
                    </a:lnTo>
                    <a:lnTo>
                      <a:pt x="519" y="254"/>
                    </a:lnTo>
                    <a:lnTo>
                      <a:pt x="519" y="230"/>
                    </a:lnTo>
                    <a:lnTo>
                      <a:pt x="507" y="194"/>
                    </a:lnTo>
                    <a:lnTo>
                      <a:pt x="495" y="170"/>
                    </a:lnTo>
                    <a:lnTo>
                      <a:pt x="459" y="145"/>
                    </a:lnTo>
                    <a:lnTo>
                      <a:pt x="423" y="109"/>
                    </a:lnTo>
                    <a:lnTo>
                      <a:pt x="386" y="85"/>
                    </a:lnTo>
                    <a:lnTo>
                      <a:pt x="338" y="61"/>
                    </a:lnTo>
                    <a:lnTo>
                      <a:pt x="278" y="25"/>
                    </a:lnTo>
                    <a:lnTo>
                      <a:pt x="205" y="0"/>
                    </a:lnTo>
                    <a:lnTo>
                      <a:pt x="266" y="25"/>
                    </a:lnTo>
                    <a:lnTo>
                      <a:pt x="314" y="37"/>
                    </a:lnTo>
                    <a:lnTo>
                      <a:pt x="374" y="61"/>
                    </a:lnTo>
                    <a:lnTo>
                      <a:pt x="411" y="73"/>
                    </a:lnTo>
                    <a:lnTo>
                      <a:pt x="459" y="85"/>
                    </a:lnTo>
                    <a:lnTo>
                      <a:pt x="507" y="97"/>
                    </a:lnTo>
                    <a:lnTo>
                      <a:pt x="531" y="109"/>
                    </a:lnTo>
                    <a:lnTo>
                      <a:pt x="556" y="133"/>
                    </a:lnTo>
                    <a:lnTo>
                      <a:pt x="592" y="158"/>
                    </a:lnTo>
                    <a:lnTo>
                      <a:pt x="604" y="170"/>
                    </a:lnTo>
                    <a:lnTo>
                      <a:pt x="640" y="182"/>
                    </a:lnTo>
                    <a:lnTo>
                      <a:pt x="664" y="218"/>
                    </a:lnTo>
                    <a:lnTo>
                      <a:pt x="676" y="230"/>
                    </a:lnTo>
                    <a:lnTo>
                      <a:pt x="688" y="254"/>
                    </a:lnTo>
                    <a:lnTo>
                      <a:pt x="700" y="290"/>
                    </a:lnTo>
                    <a:lnTo>
                      <a:pt x="712" y="315"/>
                    </a:lnTo>
                    <a:lnTo>
                      <a:pt x="725" y="315"/>
                    </a:lnTo>
                    <a:lnTo>
                      <a:pt x="737" y="303"/>
                    </a:lnTo>
                    <a:lnTo>
                      <a:pt x="773" y="315"/>
                    </a:lnTo>
                    <a:lnTo>
                      <a:pt x="797" y="315"/>
                    </a:lnTo>
                    <a:lnTo>
                      <a:pt x="833" y="315"/>
                    </a:lnTo>
                    <a:lnTo>
                      <a:pt x="869" y="315"/>
                    </a:lnTo>
                    <a:lnTo>
                      <a:pt x="930" y="315"/>
                    </a:lnTo>
                    <a:lnTo>
                      <a:pt x="966" y="327"/>
                    </a:lnTo>
                    <a:lnTo>
                      <a:pt x="1014" y="327"/>
                    </a:lnTo>
                    <a:lnTo>
                      <a:pt x="1087" y="339"/>
                    </a:lnTo>
                    <a:lnTo>
                      <a:pt x="1135" y="351"/>
                    </a:lnTo>
                    <a:lnTo>
                      <a:pt x="1208" y="375"/>
                    </a:lnTo>
                    <a:lnTo>
                      <a:pt x="1268" y="387"/>
                    </a:lnTo>
                    <a:lnTo>
                      <a:pt x="1328" y="399"/>
                    </a:lnTo>
                    <a:lnTo>
                      <a:pt x="1401" y="423"/>
                    </a:lnTo>
                    <a:lnTo>
                      <a:pt x="1389" y="423"/>
                    </a:lnTo>
                    <a:lnTo>
                      <a:pt x="1365" y="411"/>
                    </a:lnTo>
                    <a:lnTo>
                      <a:pt x="1304" y="411"/>
                    </a:lnTo>
                    <a:lnTo>
                      <a:pt x="1256" y="399"/>
                    </a:lnTo>
                    <a:lnTo>
                      <a:pt x="1183" y="387"/>
                    </a:lnTo>
                    <a:lnTo>
                      <a:pt x="1111" y="375"/>
                    </a:lnTo>
                    <a:lnTo>
                      <a:pt x="1026" y="351"/>
                    </a:lnTo>
                    <a:lnTo>
                      <a:pt x="954" y="351"/>
                    </a:lnTo>
                    <a:lnTo>
                      <a:pt x="869" y="351"/>
                    </a:lnTo>
                    <a:lnTo>
                      <a:pt x="797" y="351"/>
                    </a:lnTo>
                    <a:lnTo>
                      <a:pt x="712" y="375"/>
                    </a:lnTo>
                    <a:lnTo>
                      <a:pt x="664" y="399"/>
                    </a:lnTo>
                    <a:lnTo>
                      <a:pt x="604" y="423"/>
                    </a:lnTo>
                    <a:lnTo>
                      <a:pt x="568" y="472"/>
                    </a:lnTo>
                    <a:lnTo>
                      <a:pt x="556" y="532"/>
                    </a:lnTo>
                    <a:lnTo>
                      <a:pt x="556" y="581"/>
                    </a:lnTo>
                    <a:lnTo>
                      <a:pt x="543" y="581"/>
                    </a:lnTo>
                    <a:lnTo>
                      <a:pt x="519" y="581"/>
                    </a:lnTo>
                    <a:lnTo>
                      <a:pt x="495" y="581"/>
                    </a:lnTo>
                    <a:lnTo>
                      <a:pt x="459" y="581"/>
                    </a:lnTo>
                    <a:lnTo>
                      <a:pt x="435" y="581"/>
                    </a:lnTo>
                    <a:lnTo>
                      <a:pt x="399" y="581"/>
                    </a:lnTo>
                    <a:lnTo>
                      <a:pt x="362" y="581"/>
                    </a:lnTo>
                    <a:lnTo>
                      <a:pt x="314" y="568"/>
                    </a:lnTo>
                    <a:lnTo>
                      <a:pt x="278" y="568"/>
                    </a:lnTo>
                    <a:lnTo>
                      <a:pt x="229" y="568"/>
                    </a:lnTo>
                    <a:lnTo>
                      <a:pt x="181" y="568"/>
                    </a:lnTo>
                    <a:lnTo>
                      <a:pt x="121" y="568"/>
                    </a:lnTo>
                    <a:lnTo>
                      <a:pt x="60" y="581"/>
                    </a:lnTo>
                    <a:lnTo>
                      <a:pt x="0" y="581"/>
                    </a:lnTo>
                    <a:lnTo>
                      <a:pt x="0" y="568"/>
                    </a:lnTo>
                    <a:lnTo>
                      <a:pt x="12" y="568"/>
                    </a:lnTo>
                    <a:lnTo>
                      <a:pt x="36" y="568"/>
                    </a:lnTo>
                    <a:lnTo>
                      <a:pt x="48" y="556"/>
                    </a:lnTo>
                    <a:lnTo>
                      <a:pt x="60" y="544"/>
                    </a:lnTo>
                    <a:lnTo>
                      <a:pt x="72" y="544"/>
                    </a:lnTo>
                    <a:lnTo>
                      <a:pt x="97" y="532"/>
                    </a:lnTo>
                    <a:lnTo>
                      <a:pt x="109" y="508"/>
                    </a:lnTo>
                    <a:lnTo>
                      <a:pt x="133" y="496"/>
                    </a:lnTo>
                    <a:lnTo>
                      <a:pt x="157" y="484"/>
                    </a:lnTo>
                    <a:lnTo>
                      <a:pt x="193" y="472"/>
                    </a:lnTo>
                    <a:lnTo>
                      <a:pt x="217" y="460"/>
                    </a:lnTo>
                    <a:lnTo>
                      <a:pt x="242" y="448"/>
                    </a:lnTo>
                    <a:lnTo>
                      <a:pt x="278" y="448"/>
                    </a:lnTo>
                    <a:lnTo>
                      <a:pt x="302" y="42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205840" y="5347080"/>
                <a:ext cx="674640" cy="271440"/>
              </a:xfrm>
              <a:custGeom>
                <a:avLst/>
                <a:gdLst/>
                <a:ahLst/>
                <a:rect l="l" t="t" r="r" b="b"/>
                <a:pathLst>
                  <a:path w="435" h="157">
                    <a:moveTo>
                      <a:pt x="302" y="109"/>
                    </a:moveTo>
                    <a:lnTo>
                      <a:pt x="290" y="121"/>
                    </a:lnTo>
                    <a:lnTo>
                      <a:pt x="254" y="121"/>
                    </a:lnTo>
                    <a:lnTo>
                      <a:pt x="242" y="133"/>
                    </a:lnTo>
                    <a:lnTo>
                      <a:pt x="218" y="133"/>
                    </a:lnTo>
                    <a:lnTo>
                      <a:pt x="193" y="133"/>
                    </a:lnTo>
                    <a:lnTo>
                      <a:pt x="181" y="145"/>
                    </a:lnTo>
                    <a:lnTo>
                      <a:pt x="157" y="145"/>
                    </a:lnTo>
                    <a:lnTo>
                      <a:pt x="145" y="157"/>
                    </a:lnTo>
                    <a:lnTo>
                      <a:pt x="109" y="157"/>
                    </a:lnTo>
                    <a:lnTo>
                      <a:pt x="97" y="157"/>
                    </a:lnTo>
                    <a:lnTo>
                      <a:pt x="85" y="157"/>
                    </a:lnTo>
                    <a:lnTo>
                      <a:pt x="61" y="157"/>
                    </a:lnTo>
                    <a:lnTo>
                      <a:pt x="48" y="157"/>
                    </a:lnTo>
                    <a:lnTo>
                      <a:pt x="36" y="157"/>
                    </a:lnTo>
                    <a:lnTo>
                      <a:pt x="24" y="15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12" y="133"/>
                    </a:lnTo>
                    <a:lnTo>
                      <a:pt x="24" y="121"/>
                    </a:lnTo>
                    <a:lnTo>
                      <a:pt x="48" y="109"/>
                    </a:lnTo>
                    <a:lnTo>
                      <a:pt x="85" y="73"/>
                    </a:lnTo>
                    <a:lnTo>
                      <a:pt x="109" y="61"/>
                    </a:lnTo>
                    <a:lnTo>
                      <a:pt x="145" y="61"/>
                    </a:lnTo>
                    <a:lnTo>
                      <a:pt x="169" y="49"/>
                    </a:lnTo>
                    <a:lnTo>
                      <a:pt x="181" y="49"/>
                    </a:lnTo>
                    <a:lnTo>
                      <a:pt x="205" y="36"/>
                    </a:lnTo>
                    <a:lnTo>
                      <a:pt x="218" y="36"/>
                    </a:lnTo>
                    <a:lnTo>
                      <a:pt x="242" y="24"/>
                    </a:lnTo>
                    <a:lnTo>
                      <a:pt x="254" y="24"/>
                    </a:lnTo>
                    <a:lnTo>
                      <a:pt x="290" y="24"/>
                    </a:lnTo>
                    <a:lnTo>
                      <a:pt x="302" y="0"/>
                    </a:lnTo>
                    <a:lnTo>
                      <a:pt x="326" y="0"/>
                    </a:lnTo>
                    <a:lnTo>
                      <a:pt x="338" y="0"/>
                    </a:lnTo>
                    <a:lnTo>
                      <a:pt x="350" y="0"/>
                    </a:lnTo>
                    <a:lnTo>
                      <a:pt x="362" y="0"/>
                    </a:lnTo>
                    <a:lnTo>
                      <a:pt x="375" y="0"/>
                    </a:lnTo>
                    <a:lnTo>
                      <a:pt x="387" y="0"/>
                    </a:lnTo>
                    <a:lnTo>
                      <a:pt x="399" y="0"/>
                    </a:lnTo>
                    <a:lnTo>
                      <a:pt x="423" y="0"/>
                    </a:lnTo>
                    <a:lnTo>
                      <a:pt x="435" y="24"/>
                    </a:lnTo>
                    <a:lnTo>
                      <a:pt x="423" y="36"/>
                    </a:lnTo>
                    <a:lnTo>
                      <a:pt x="423" y="49"/>
                    </a:lnTo>
                    <a:lnTo>
                      <a:pt x="387" y="61"/>
                    </a:lnTo>
                    <a:lnTo>
                      <a:pt x="362" y="73"/>
                    </a:lnTo>
                    <a:lnTo>
                      <a:pt x="338" y="85"/>
                    </a:lnTo>
                    <a:lnTo>
                      <a:pt x="302" y="1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26240" y="6098040"/>
                <a:ext cx="598680" cy="645840"/>
              </a:xfrm>
              <a:custGeom>
                <a:avLst/>
                <a:gdLst/>
                <a:ahLst/>
                <a:rect l="l" t="t" r="r" b="b"/>
                <a:pathLst>
                  <a:path w="386" h="375">
                    <a:moveTo>
                      <a:pt x="374" y="351"/>
                    </a:moveTo>
                    <a:lnTo>
                      <a:pt x="290" y="315"/>
                    </a:lnTo>
                    <a:lnTo>
                      <a:pt x="217" y="278"/>
                    </a:lnTo>
                    <a:lnTo>
                      <a:pt x="157" y="254"/>
                    </a:lnTo>
                    <a:lnTo>
                      <a:pt x="121" y="230"/>
                    </a:lnTo>
                    <a:lnTo>
                      <a:pt x="96" y="194"/>
                    </a:lnTo>
                    <a:lnTo>
                      <a:pt x="72" y="170"/>
                    </a:lnTo>
                    <a:lnTo>
                      <a:pt x="48" y="145"/>
                    </a:lnTo>
                    <a:lnTo>
                      <a:pt x="48" y="109"/>
                    </a:lnTo>
                    <a:lnTo>
                      <a:pt x="48" y="97"/>
                    </a:lnTo>
                    <a:lnTo>
                      <a:pt x="72" y="73"/>
                    </a:lnTo>
                    <a:lnTo>
                      <a:pt x="72" y="61"/>
                    </a:lnTo>
                    <a:lnTo>
                      <a:pt x="84" y="37"/>
                    </a:lnTo>
                    <a:lnTo>
                      <a:pt x="96" y="24"/>
                    </a:lnTo>
                    <a:lnTo>
                      <a:pt x="109" y="24"/>
                    </a:lnTo>
                    <a:lnTo>
                      <a:pt x="109" y="12"/>
                    </a:lnTo>
                    <a:lnTo>
                      <a:pt x="121" y="12"/>
                    </a:lnTo>
                    <a:lnTo>
                      <a:pt x="109" y="12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72" y="12"/>
                    </a:lnTo>
                    <a:lnTo>
                      <a:pt x="48" y="12"/>
                    </a:lnTo>
                    <a:lnTo>
                      <a:pt x="36" y="24"/>
                    </a:lnTo>
                    <a:lnTo>
                      <a:pt x="24" y="37"/>
                    </a:lnTo>
                    <a:lnTo>
                      <a:pt x="12" y="61"/>
                    </a:lnTo>
                    <a:lnTo>
                      <a:pt x="12" y="73"/>
                    </a:lnTo>
                    <a:lnTo>
                      <a:pt x="0" y="85"/>
                    </a:lnTo>
                    <a:lnTo>
                      <a:pt x="0" y="109"/>
                    </a:lnTo>
                    <a:lnTo>
                      <a:pt x="0" y="145"/>
                    </a:lnTo>
                    <a:lnTo>
                      <a:pt x="12" y="157"/>
                    </a:lnTo>
                    <a:lnTo>
                      <a:pt x="24" y="182"/>
                    </a:lnTo>
                    <a:lnTo>
                      <a:pt x="48" y="218"/>
                    </a:lnTo>
                    <a:lnTo>
                      <a:pt x="96" y="254"/>
                    </a:lnTo>
                    <a:lnTo>
                      <a:pt x="145" y="278"/>
                    </a:lnTo>
                    <a:lnTo>
                      <a:pt x="217" y="315"/>
                    </a:lnTo>
                    <a:lnTo>
                      <a:pt x="290" y="351"/>
                    </a:lnTo>
                    <a:lnTo>
                      <a:pt x="84" y="351"/>
                    </a:lnTo>
                    <a:lnTo>
                      <a:pt x="72" y="351"/>
                    </a:lnTo>
                    <a:lnTo>
                      <a:pt x="72" y="375"/>
                    </a:lnTo>
                    <a:lnTo>
                      <a:pt x="84" y="375"/>
                    </a:lnTo>
                    <a:lnTo>
                      <a:pt x="96" y="375"/>
                    </a:lnTo>
                    <a:lnTo>
                      <a:pt x="362" y="375"/>
                    </a:lnTo>
                    <a:lnTo>
                      <a:pt x="374" y="375"/>
                    </a:lnTo>
                    <a:lnTo>
                      <a:pt x="374" y="351"/>
                    </a:lnTo>
                    <a:lnTo>
                      <a:pt x="386" y="351"/>
                    </a:lnTo>
                    <a:lnTo>
                      <a:pt x="374" y="35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13440" y="6098040"/>
                <a:ext cx="468360" cy="645840"/>
              </a:xfrm>
              <a:custGeom>
                <a:avLst/>
                <a:gdLst/>
                <a:ahLst/>
                <a:rect l="l" t="t" r="r" b="b"/>
                <a:pathLst>
                  <a:path w="302" h="375">
                    <a:moveTo>
                      <a:pt x="145" y="12"/>
                    </a:moveTo>
                    <a:lnTo>
                      <a:pt x="145" y="0"/>
                    </a:lnTo>
                    <a:lnTo>
                      <a:pt x="157" y="0"/>
                    </a:lnTo>
                    <a:lnTo>
                      <a:pt x="145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7" y="0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36" y="61"/>
                    </a:lnTo>
                    <a:lnTo>
                      <a:pt x="24" y="73"/>
                    </a:lnTo>
                    <a:lnTo>
                      <a:pt x="24" y="97"/>
                    </a:lnTo>
                    <a:lnTo>
                      <a:pt x="12" y="109"/>
                    </a:lnTo>
                    <a:lnTo>
                      <a:pt x="12" y="145"/>
                    </a:lnTo>
                    <a:lnTo>
                      <a:pt x="24" y="170"/>
                    </a:lnTo>
                    <a:lnTo>
                      <a:pt x="36" y="194"/>
                    </a:lnTo>
                    <a:lnTo>
                      <a:pt x="48" y="230"/>
                    </a:lnTo>
                    <a:lnTo>
                      <a:pt x="60" y="254"/>
                    </a:lnTo>
                    <a:lnTo>
                      <a:pt x="97" y="278"/>
                    </a:lnTo>
                    <a:lnTo>
                      <a:pt x="133" y="315"/>
                    </a:lnTo>
                    <a:lnTo>
                      <a:pt x="169" y="327"/>
                    </a:lnTo>
                    <a:lnTo>
                      <a:pt x="229" y="351"/>
                    </a:lnTo>
                    <a:lnTo>
                      <a:pt x="24" y="351"/>
                    </a:lnTo>
                    <a:lnTo>
                      <a:pt x="12" y="351"/>
                    </a:lnTo>
                    <a:lnTo>
                      <a:pt x="0" y="375"/>
                    </a:lnTo>
                    <a:lnTo>
                      <a:pt x="12" y="375"/>
                    </a:lnTo>
                    <a:lnTo>
                      <a:pt x="24" y="375"/>
                    </a:lnTo>
                    <a:lnTo>
                      <a:pt x="36" y="375"/>
                    </a:lnTo>
                    <a:lnTo>
                      <a:pt x="278" y="375"/>
                    </a:lnTo>
                    <a:lnTo>
                      <a:pt x="290" y="375"/>
                    </a:lnTo>
                    <a:lnTo>
                      <a:pt x="302" y="375"/>
                    </a:lnTo>
                    <a:lnTo>
                      <a:pt x="302" y="351"/>
                    </a:lnTo>
                    <a:lnTo>
                      <a:pt x="241" y="339"/>
                    </a:lnTo>
                    <a:lnTo>
                      <a:pt x="193" y="315"/>
                    </a:lnTo>
                    <a:lnTo>
                      <a:pt x="157" y="278"/>
                    </a:lnTo>
                    <a:lnTo>
                      <a:pt x="133" y="254"/>
                    </a:lnTo>
                    <a:lnTo>
                      <a:pt x="109" y="242"/>
                    </a:lnTo>
                    <a:lnTo>
                      <a:pt x="97" y="218"/>
                    </a:lnTo>
                    <a:lnTo>
                      <a:pt x="84" y="182"/>
                    </a:lnTo>
                    <a:lnTo>
                      <a:pt x="84" y="157"/>
                    </a:lnTo>
                    <a:lnTo>
                      <a:pt x="60" y="121"/>
                    </a:lnTo>
                    <a:lnTo>
                      <a:pt x="84" y="97"/>
                    </a:lnTo>
                    <a:lnTo>
                      <a:pt x="84" y="85"/>
                    </a:lnTo>
                    <a:lnTo>
                      <a:pt x="97" y="61"/>
                    </a:lnTo>
                    <a:lnTo>
                      <a:pt x="109" y="37"/>
                    </a:lnTo>
                    <a:lnTo>
                      <a:pt x="121" y="24"/>
                    </a:lnTo>
                    <a:lnTo>
                      <a:pt x="133" y="12"/>
                    </a:lnTo>
                    <a:lnTo>
                      <a:pt x="145" y="1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769080" y="3429000"/>
              <a:ext cx="466920" cy="1956600"/>
              <a:chOff x="6769080" y="3429000"/>
              <a:chExt cx="466920" cy="1956600"/>
            </a:xfrm>
          </p:grpSpPr>
          <p:sp>
            <p:nvSpPr>
              <p:cNvPr id="622" name=""/>
              <p:cNvSpPr/>
              <p:nvPr/>
            </p:nvSpPr>
            <p:spPr>
              <a:xfrm>
                <a:off x="6769080" y="5139000"/>
                <a:ext cx="300240" cy="7344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37560" y="4967280"/>
                <a:ext cx="298440" cy="418320"/>
              </a:xfrm>
              <a:custGeom>
                <a:avLst/>
                <a:gdLst/>
                <a:ahLst/>
                <a:rect l="l" t="t" r="r" b="b"/>
                <a:pathLst>
                  <a:path w="193" h="205">
                    <a:moveTo>
                      <a:pt x="193" y="108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12" y="60"/>
                    </a:lnTo>
                    <a:lnTo>
                      <a:pt x="12" y="72"/>
                    </a:lnTo>
                    <a:lnTo>
                      <a:pt x="12" y="84"/>
                    </a:lnTo>
                    <a:lnTo>
                      <a:pt x="12" y="108"/>
                    </a:lnTo>
                    <a:lnTo>
                      <a:pt x="12" y="120"/>
                    </a:lnTo>
                    <a:lnTo>
                      <a:pt x="12" y="132"/>
                    </a:lnTo>
                    <a:lnTo>
                      <a:pt x="12" y="145"/>
                    </a:lnTo>
                    <a:lnTo>
                      <a:pt x="12" y="157"/>
                    </a:lnTo>
                    <a:lnTo>
                      <a:pt x="12" y="169"/>
                    </a:lnTo>
                    <a:lnTo>
                      <a:pt x="0" y="193"/>
                    </a:lnTo>
                    <a:lnTo>
                      <a:pt x="0" y="205"/>
                    </a:lnTo>
                    <a:lnTo>
                      <a:pt x="193" y="108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69080" y="4098960"/>
                <a:ext cx="300240" cy="4896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37560" y="3949920"/>
                <a:ext cx="298440" cy="371520"/>
              </a:xfrm>
              <a:custGeom>
                <a:avLst/>
                <a:gdLst/>
                <a:ahLst/>
                <a:rect l="l" t="t" r="r" b="b"/>
                <a:pathLst>
                  <a:path w="193" h="181">
                    <a:moveTo>
                      <a:pt x="193" y="85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24"/>
                    </a:lnTo>
                    <a:lnTo>
                      <a:pt x="12" y="48"/>
                    </a:lnTo>
                    <a:lnTo>
                      <a:pt x="12" y="60"/>
                    </a:lnTo>
                    <a:lnTo>
                      <a:pt x="12" y="73"/>
                    </a:lnTo>
                    <a:lnTo>
                      <a:pt x="12" y="85"/>
                    </a:lnTo>
                    <a:lnTo>
                      <a:pt x="12" y="97"/>
                    </a:lnTo>
                    <a:lnTo>
                      <a:pt x="12" y="109"/>
                    </a:lnTo>
                    <a:lnTo>
                      <a:pt x="12" y="133"/>
                    </a:lnTo>
                    <a:lnTo>
                      <a:pt x="12" y="145"/>
                    </a:lnTo>
                    <a:lnTo>
                      <a:pt x="0" y="157"/>
                    </a:lnTo>
                    <a:lnTo>
                      <a:pt x="0" y="169"/>
                    </a:lnTo>
                    <a:lnTo>
                      <a:pt x="0" y="181"/>
                    </a:lnTo>
                    <a:lnTo>
                      <a:pt x="193" y="85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69080" y="4618080"/>
                <a:ext cx="300240" cy="7524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37560" y="4470840"/>
                <a:ext cx="298440" cy="3942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3" y="84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12" y="60"/>
                    </a:lnTo>
                    <a:lnTo>
                      <a:pt x="12" y="72"/>
                    </a:lnTo>
                    <a:lnTo>
                      <a:pt x="12" y="84"/>
                    </a:lnTo>
                    <a:lnTo>
                      <a:pt x="12" y="109"/>
                    </a:lnTo>
                    <a:lnTo>
                      <a:pt x="12" y="121"/>
                    </a:lnTo>
                    <a:lnTo>
                      <a:pt x="12" y="133"/>
                    </a:lnTo>
                    <a:lnTo>
                      <a:pt x="12" y="145"/>
                    </a:lnTo>
                    <a:lnTo>
                      <a:pt x="12" y="157"/>
                    </a:lnTo>
                    <a:lnTo>
                      <a:pt x="0" y="169"/>
                    </a:lnTo>
                    <a:lnTo>
                      <a:pt x="0" y="193"/>
                    </a:lnTo>
                    <a:lnTo>
                      <a:pt x="193" y="84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69080" y="3604320"/>
                <a:ext cx="300240" cy="4860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37560" y="3429000"/>
                <a:ext cx="298440" cy="371520"/>
              </a:xfrm>
              <a:custGeom>
                <a:avLst/>
                <a:gdLst/>
                <a:ahLst/>
                <a:rect l="l" t="t" r="r" b="b"/>
                <a:pathLst>
                  <a:path w="193" h="181">
                    <a:moveTo>
                      <a:pt x="193" y="97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24"/>
                    </a:lnTo>
                    <a:lnTo>
                      <a:pt x="12" y="36"/>
                    </a:lnTo>
                    <a:lnTo>
                      <a:pt x="12" y="49"/>
                    </a:lnTo>
                    <a:lnTo>
                      <a:pt x="12" y="73"/>
                    </a:lnTo>
                    <a:lnTo>
                      <a:pt x="12" y="85"/>
                    </a:lnTo>
                    <a:lnTo>
                      <a:pt x="12" y="97"/>
                    </a:lnTo>
                    <a:lnTo>
                      <a:pt x="12" y="109"/>
                    </a:lnTo>
                    <a:lnTo>
                      <a:pt x="12" y="121"/>
                    </a:lnTo>
                    <a:lnTo>
                      <a:pt x="12" y="145"/>
                    </a:lnTo>
                    <a:lnTo>
                      <a:pt x="12" y="157"/>
                    </a:lnTo>
                    <a:lnTo>
                      <a:pt x="12" y="169"/>
                    </a:lnTo>
                    <a:lnTo>
                      <a:pt x="0" y="169"/>
                    </a:lnTo>
                    <a:lnTo>
                      <a:pt x="0" y="181"/>
                    </a:lnTo>
                    <a:lnTo>
                      <a:pt x="193" y="9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467480" y="3595680"/>
              <a:ext cx="374760" cy="479520"/>
            </a:xfrm>
            <a:custGeom>
              <a:avLst/>
              <a:gdLst/>
              <a:ahLst/>
              <a:rect l="l" t="t" r="r" b="b"/>
              <a:pathLst>
                <a:path w="241" h="278">
                  <a:moveTo>
                    <a:pt x="217" y="278"/>
                  </a:moveTo>
                  <a:lnTo>
                    <a:pt x="0" y="37"/>
                  </a:lnTo>
                  <a:lnTo>
                    <a:pt x="12" y="0"/>
                  </a:lnTo>
                  <a:lnTo>
                    <a:pt x="241" y="254"/>
                  </a:lnTo>
                  <a:lnTo>
                    <a:pt x="217" y="278"/>
                  </a:lnTo>
                  <a:close/>
                </a:path>
              </a:pathLst>
            </a:cu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7480" y="3595680"/>
              <a:ext cx="374760" cy="458640"/>
            </a:xfrm>
            <a:custGeom>
              <a:avLst/>
              <a:gdLst/>
              <a:ahLst/>
              <a:rect l="l" t="t" r="r" b="b"/>
              <a:pathLst>
                <a:path w="241" h="266">
                  <a:moveTo>
                    <a:pt x="229" y="266"/>
                  </a:moveTo>
                  <a:lnTo>
                    <a:pt x="0" y="25"/>
                  </a:lnTo>
                  <a:lnTo>
                    <a:pt x="36" y="0"/>
                  </a:lnTo>
                  <a:lnTo>
                    <a:pt x="241" y="230"/>
                  </a:lnTo>
                  <a:lnTo>
                    <a:pt x="229" y="266"/>
                  </a:lnTo>
                  <a:close/>
                </a:path>
              </a:pathLst>
            </a:custGeom>
            <a:solidFill>
              <a:srgbClr val="009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86560" y="3575160"/>
              <a:ext cx="374760" cy="458640"/>
            </a:xfrm>
            <a:custGeom>
              <a:avLst/>
              <a:gdLst/>
              <a:ahLst/>
              <a:rect l="l" t="t" r="r" b="b"/>
              <a:pathLst>
                <a:path w="241" h="266">
                  <a:moveTo>
                    <a:pt x="229" y="266"/>
                  </a:moveTo>
                  <a:lnTo>
                    <a:pt x="0" y="12"/>
                  </a:lnTo>
                  <a:lnTo>
                    <a:pt x="24" y="0"/>
                  </a:lnTo>
                  <a:lnTo>
                    <a:pt x="241" y="242"/>
                  </a:lnTo>
                  <a:lnTo>
                    <a:pt x="229" y="266"/>
                  </a:lnTo>
                  <a:close/>
                </a:path>
              </a:pathLst>
            </a:custGeom>
            <a:solidFill>
              <a:srgbClr val="009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23280" y="3554280"/>
              <a:ext cx="355320" cy="438120"/>
            </a:xfrm>
            <a:custGeom>
              <a:avLst/>
              <a:gdLst/>
              <a:ahLst/>
              <a:rect l="l" t="t" r="r" b="b"/>
              <a:pathLst>
                <a:path w="229" h="254">
                  <a:moveTo>
                    <a:pt x="205" y="254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229" y="242"/>
                  </a:lnTo>
                  <a:lnTo>
                    <a:pt x="205" y="254"/>
                  </a:lnTo>
                  <a:close/>
                </a:path>
              </a:pathLst>
            </a:custGeom>
            <a:solidFill>
              <a:srgbClr val="009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23280" y="3554280"/>
              <a:ext cx="355320" cy="438120"/>
            </a:xfrm>
            <a:custGeom>
              <a:avLst/>
              <a:gdLst/>
              <a:ahLst/>
              <a:rect l="l" t="t" r="r" b="b"/>
              <a:pathLst>
                <a:path w="229" h="254">
                  <a:moveTo>
                    <a:pt x="217" y="254"/>
                  </a:moveTo>
                  <a:lnTo>
                    <a:pt x="0" y="12"/>
                  </a:lnTo>
                  <a:lnTo>
                    <a:pt x="24" y="0"/>
                  </a:lnTo>
                  <a:lnTo>
                    <a:pt x="229" y="230"/>
                  </a:lnTo>
                  <a:lnTo>
                    <a:pt x="217" y="254"/>
                  </a:lnTo>
                  <a:close/>
                </a:path>
              </a:pathLst>
            </a:custGeom>
            <a:solidFill>
              <a:srgbClr val="009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67480" y="4262400"/>
              <a:ext cx="374760" cy="459000"/>
            </a:xfrm>
            <a:custGeom>
              <a:avLst/>
              <a:gdLst/>
              <a:ahLst/>
              <a:rect l="l" t="t" r="r" b="b"/>
              <a:pathLst>
                <a:path w="241" h="266">
                  <a:moveTo>
                    <a:pt x="217" y="266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241" y="230"/>
                  </a:lnTo>
                  <a:lnTo>
                    <a:pt x="217" y="266"/>
                  </a:lnTo>
                  <a:close/>
                </a:path>
              </a:pathLst>
            </a:cu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67480" y="4241880"/>
              <a:ext cx="374760" cy="438120"/>
            </a:xfrm>
            <a:custGeom>
              <a:avLst/>
              <a:gdLst/>
              <a:ahLst/>
              <a:rect l="l" t="t" r="r" b="b"/>
              <a:pathLst>
                <a:path w="241" h="254">
                  <a:moveTo>
                    <a:pt x="229" y="254"/>
                  </a:moveTo>
                  <a:lnTo>
                    <a:pt x="0" y="12"/>
                  </a:lnTo>
                  <a:lnTo>
                    <a:pt x="36" y="0"/>
                  </a:lnTo>
                  <a:lnTo>
                    <a:pt x="241" y="230"/>
                  </a:lnTo>
                  <a:lnTo>
                    <a:pt x="229" y="254"/>
                  </a:lnTo>
                  <a:close/>
                </a:path>
              </a:pathLst>
            </a:custGeom>
            <a:solidFill>
              <a:srgbClr val="009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86560" y="4221000"/>
              <a:ext cx="374760" cy="438480"/>
            </a:xfrm>
            <a:custGeom>
              <a:avLst/>
              <a:gdLst/>
              <a:ahLst/>
              <a:rect l="l" t="t" r="r" b="b"/>
              <a:pathLst>
                <a:path w="241" h="254">
                  <a:moveTo>
                    <a:pt x="229" y="254"/>
                  </a:moveTo>
                  <a:lnTo>
                    <a:pt x="0" y="24"/>
                  </a:lnTo>
                  <a:lnTo>
                    <a:pt x="24" y="0"/>
                  </a:lnTo>
                  <a:lnTo>
                    <a:pt x="241" y="242"/>
                  </a:lnTo>
                  <a:lnTo>
                    <a:pt x="229" y="254"/>
                  </a:lnTo>
                  <a:close/>
                </a:path>
              </a:pathLst>
            </a:custGeom>
            <a:solidFill>
              <a:srgbClr val="009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23280" y="4200480"/>
              <a:ext cx="355320" cy="438120"/>
            </a:xfrm>
            <a:custGeom>
              <a:avLst/>
              <a:gdLst/>
              <a:ahLst/>
              <a:rect l="l" t="t" r="r" b="b"/>
              <a:pathLst>
                <a:path w="229" h="254">
                  <a:moveTo>
                    <a:pt x="205" y="254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229" y="242"/>
                  </a:lnTo>
                  <a:lnTo>
                    <a:pt x="205" y="254"/>
                  </a:lnTo>
                  <a:close/>
                </a:path>
              </a:pathLst>
            </a:custGeom>
            <a:solidFill>
              <a:srgbClr val="009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23280" y="4200480"/>
              <a:ext cx="355320" cy="438120"/>
            </a:xfrm>
            <a:custGeom>
              <a:avLst/>
              <a:gdLst/>
              <a:ahLst/>
              <a:rect l="l" t="t" r="r" b="b"/>
              <a:pathLst>
                <a:path w="229" h="254">
                  <a:moveTo>
                    <a:pt x="217" y="254"/>
                  </a:moveTo>
                  <a:lnTo>
                    <a:pt x="0" y="12"/>
                  </a:lnTo>
                  <a:lnTo>
                    <a:pt x="24" y="0"/>
                  </a:lnTo>
                  <a:lnTo>
                    <a:pt x="229" y="230"/>
                  </a:lnTo>
                  <a:lnTo>
                    <a:pt x="217" y="254"/>
                  </a:lnTo>
                  <a:close/>
                </a:path>
              </a:pathLst>
            </a:custGeom>
            <a:solidFill>
              <a:srgbClr val="009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7543800" y="3429000"/>
              <a:ext cx="1068120" cy="2039760"/>
              <a:chOff x="7543800" y="3429000"/>
              <a:chExt cx="1068120" cy="2039760"/>
            </a:xfrm>
          </p:grpSpPr>
          <p:sp>
            <p:nvSpPr>
              <p:cNvPr id="641" name=""/>
              <p:cNvSpPr/>
              <p:nvPr/>
            </p:nvSpPr>
            <p:spPr>
              <a:xfrm>
                <a:off x="7543800" y="374004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30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62880" y="371952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05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30" y="242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580160" y="3698640"/>
                <a:ext cx="357120" cy="45900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06" y="266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30" y="242"/>
                    </a:lnTo>
                    <a:lnTo>
                      <a:pt x="206" y="266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580160" y="369864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8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30" y="218"/>
                    </a:lnTo>
                    <a:lnTo>
                      <a:pt x="218" y="254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599240" y="3657600"/>
                <a:ext cx="37620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18" y="266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2" y="242"/>
                    </a:lnTo>
                    <a:lnTo>
                      <a:pt x="218" y="266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18320" y="3636720"/>
                <a:ext cx="3762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06" y="254"/>
                    </a:moveTo>
                    <a:lnTo>
                      <a:pt x="0" y="36"/>
                    </a:lnTo>
                    <a:lnTo>
                      <a:pt x="12" y="0"/>
                    </a:lnTo>
                    <a:lnTo>
                      <a:pt x="242" y="242"/>
                    </a:lnTo>
                    <a:lnTo>
                      <a:pt x="206" y="254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618320" y="3636720"/>
                <a:ext cx="3762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30" y="254"/>
                    </a:moveTo>
                    <a:lnTo>
                      <a:pt x="0" y="12"/>
                    </a:lnTo>
                    <a:lnTo>
                      <a:pt x="25" y="0"/>
                    </a:lnTo>
                    <a:lnTo>
                      <a:pt x="242" y="229"/>
                    </a:lnTo>
                    <a:lnTo>
                      <a:pt x="230" y="254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637400" y="361620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30" y="254"/>
                    </a:moveTo>
                    <a:lnTo>
                      <a:pt x="0" y="12"/>
                    </a:lnTo>
                    <a:lnTo>
                      <a:pt x="25" y="0"/>
                    </a:lnTo>
                    <a:lnTo>
                      <a:pt x="242" y="229"/>
                    </a:lnTo>
                    <a:lnTo>
                      <a:pt x="230" y="254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56480" y="3595680"/>
                <a:ext cx="374400" cy="43488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217" y="253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1" y="241"/>
                    </a:lnTo>
                    <a:lnTo>
                      <a:pt x="217" y="253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675560" y="3574800"/>
                <a:ext cx="374400" cy="43524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217" y="253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1" y="241"/>
                    </a:lnTo>
                    <a:lnTo>
                      <a:pt x="217" y="253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675560" y="3574800"/>
                <a:ext cx="374400" cy="43524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229" y="253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41" y="229"/>
                    </a:lnTo>
                    <a:lnTo>
                      <a:pt x="229" y="253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694640" y="3531960"/>
                <a:ext cx="374400" cy="4572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29" y="266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41" y="254"/>
                    </a:lnTo>
                    <a:lnTo>
                      <a:pt x="229" y="266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13360" y="3511440"/>
                <a:ext cx="373320" cy="4572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17" y="266"/>
                    </a:moveTo>
                    <a:lnTo>
                      <a:pt x="0" y="37"/>
                    </a:lnTo>
                    <a:lnTo>
                      <a:pt x="24" y="0"/>
                    </a:lnTo>
                    <a:lnTo>
                      <a:pt x="241" y="242"/>
                    </a:lnTo>
                    <a:lnTo>
                      <a:pt x="217" y="266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13360" y="3511440"/>
                <a:ext cx="373320" cy="4572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29" y="266"/>
                    </a:moveTo>
                    <a:lnTo>
                      <a:pt x="0" y="12"/>
                    </a:lnTo>
                    <a:lnTo>
                      <a:pt x="36" y="0"/>
                    </a:lnTo>
                    <a:lnTo>
                      <a:pt x="241" y="230"/>
                    </a:lnTo>
                    <a:lnTo>
                      <a:pt x="229" y="266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50080" y="3490920"/>
                <a:ext cx="355680" cy="4363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29" y="230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69160" y="3470040"/>
                <a:ext cx="35568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05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29" y="242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88240" y="344952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05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30" y="242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788240" y="344952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30" y="230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05520" y="3429000"/>
                <a:ext cx="357120" cy="4363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8" y="25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30" y="242"/>
                    </a:lnTo>
                    <a:lnTo>
                      <a:pt x="218" y="254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94640" y="3574800"/>
                <a:ext cx="374400" cy="43524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0" y="241"/>
                    </a:moveTo>
                    <a:lnTo>
                      <a:pt x="217" y="0"/>
                    </a:lnTo>
                    <a:lnTo>
                      <a:pt x="241" y="24"/>
                    </a:lnTo>
                    <a:lnTo>
                      <a:pt x="12" y="25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9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94640" y="3595680"/>
                <a:ext cx="374400" cy="43488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0" y="241"/>
                    </a:moveTo>
                    <a:lnTo>
                      <a:pt x="229" y="0"/>
                    </a:lnTo>
                    <a:lnTo>
                      <a:pt x="241" y="12"/>
                    </a:lnTo>
                    <a:lnTo>
                      <a:pt x="36" y="25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93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13360" y="3616200"/>
                <a:ext cx="37332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0" y="229"/>
                    </a:moveTo>
                    <a:lnTo>
                      <a:pt x="229" y="0"/>
                    </a:lnTo>
                    <a:lnTo>
                      <a:pt x="241" y="12"/>
                    </a:lnTo>
                    <a:lnTo>
                      <a:pt x="36" y="254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009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750080" y="3616200"/>
                <a:ext cx="35568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0" y="241"/>
                    </a:moveTo>
                    <a:lnTo>
                      <a:pt x="205" y="0"/>
                    </a:lnTo>
                    <a:lnTo>
                      <a:pt x="229" y="24"/>
                    </a:lnTo>
                    <a:lnTo>
                      <a:pt x="12" y="254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9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9160" y="363672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0" y="242"/>
                    </a:moveTo>
                    <a:lnTo>
                      <a:pt x="205" y="0"/>
                    </a:lnTo>
                    <a:lnTo>
                      <a:pt x="229" y="36"/>
                    </a:lnTo>
                    <a:lnTo>
                      <a:pt x="12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9160" y="3657600"/>
                <a:ext cx="355680" cy="45864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0" y="230"/>
                    </a:moveTo>
                    <a:lnTo>
                      <a:pt x="217" y="0"/>
                    </a:lnTo>
                    <a:lnTo>
                      <a:pt x="229" y="24"/>
                    </a:lnTo>
                    <a:lnTo>
                      <a:pt x="24" y="26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88240" y="369864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0" y="218"/>
                    </a:moveTo>
                    <a:lnTo>
                      <a:pt x="217" y="0"/>
                    </a:lnTo>
                    <a:lnTo>
                      <a:pt x="230" y="12"/>
                    </a:lnTo>
                    <a:lnTo>
                      <a:pt x="12" y="254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805520" y="369864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0" y="242"/>
                    </a:moveTo>
                    <a:lnTo>
                      <a:pt x="205" y="0"/>
                    </a:lnTo>
                    <a:lnTo>
                      <a:pt x="230" y="24"/>
                    </a:lnTo>
                    <a:lnTo>
                      <a:pt x="12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05520" y="371952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0" y="242"/>
                    </a:moveTo>
                    <a:lnTo>
                      <a:pt x="218" y="0"/>
                    </a:lnTo>
                    <a:lnTo>
                      <a:pt x="230" y="12"/>
                    </a:lnTo>
                    <a:lnTo>
                      <a:pt x="24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824600" y="3740040"/>
                <a:ext cx="3762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0" y="230"/>
                    </a:moveTo>
                    <a:lnTo>
                      <a:pt x="218" y="0"/>
                    </a:lnTo>
                    <a:lnTo>
                      <a:pt x="242" y="12"/>
                    </a:lnTo>
                    <a:lnTo>
                      <a:pt x="24" y="254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843680" y="3740040"/>
                <a:ext cx="3762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0" y="242"/>
                    </a:moveTo>
                    <a:lnTo>
                      <a:pt x="206" y="0"/>
                    </a:lnTo>
                    <a:lnTo>
                      <a:pt x="242" y="24"/>
                    </a:lnTo>
                    <a:lnTo>
                      <a:pt x="12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862760" y="3760560"/>
                <a:ext cx="37476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0" y="242"/>
                    </a:moveTo>
                    <a:lnTo>
                      <a:pt x="218" y="0"/>
                    </a:lnTo>
                    <a:lnTo>
                      <a:pt x="242" y="24"/>
                    </a:lnTo>
                    <a:lnTo>
                      <a:pt x="12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862760" y="3781440"/>
                <a:ext cx="37476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0" y="230"/>
                    </a:moveTo>
                    <a:lnTo>
                      <a:pt x="230" y="0"/>
                    </a:lnTo>
                    <a:lnTo>
                      <a:pt x="242" y="12"/>
                    </a:lnTo>
                    <a:lnTo>
                      <a:pt x="25" y="26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880040" y="3801960"/>
                <a:ext cx="37656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0" y="230"/>
                    </a:moveTo>
                    <a:lnTo>
                      <a:pt x="230" y="0"/>
                    </a:lnTo>
                    <a:lnTo>
                      <a:pt x="242" y="25"/>
                    </a:lnTo>
                    <a:lnTo>
                      <a:pt x="13" y="26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900920" y="3801960"/>
                <a:ext cx="374400" cy="45864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0" y="254"/>
                    </a:moveTo>
                    <a:lnTo>
                      <a:pt x="217" y="0"/>
                    </a:lnTo>
                    <a:lnTo>
                      <a:pt x="241" y="37"/>
                    </a:lnTo>
                    <a:lnTo>
                      <a:pt x="12" y="266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900920" y="384480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3">
                    <a:moveTo>
                      <a:pt x="0" y="241"/>
                    </a:moveTo>
                    <a:lnTo>
                      <a:pt x="229" y="0"/>
                    </a:lnTo>
                    <a:lnTo>
                      <a:pt x="241" y="12"/>
                    </a:lnTo>
                    <a:lnTo>
                      <a:pt x="24" y="25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920000" y="386532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0" y="229"/>
                    </a:moveTo>
                    <a:lnTo>
                      <a:pt x="229" y="0"/>
                    </a:lnTo>
                    <a:lnTo>
                      <a:pt x="241" y="12"/>
                    </a:lnTo>
                    <a:lnTo>
                      <a:pt x="36" y="254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937280" y="3865320"/>
                <a:ext cx="3747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0" y="241"/>
                    </a:moveTo>
                    <a:lnTo>
                      <a:pt x="217" y="0"/>
                    </a:lnTo>
                    <a:lnTo>
                      <a:pt x="241" y="24"/>
                    </a:lnTo>
                    <a:lnTo>
                      <a:pt x="24" y="254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975440" y="388620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0" y="242"/>
                    </a:moveTo>
                    <a:lnTo>
                      <a:pt x="205" y="0"/>
                    </a:lnTo>
                    <a:lnTo>
                      <a:pt x="229" y="24"/>
                    </a:lnTo>
                    <a:lnTo>
                      <a:pt x="12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975440" y="390672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0" y="230"/>
                    </a:moveTo>
                    <a:lnTo>
                      <a:pt x="217" y="0"/>
                    </a:lnTo>
                    <a:lnTo>
                      <a:pt x="229" y="12"/>
                    </a:lnTo>
                    <a:lnTo>
                      <a:pt x="24" y="254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994520" y="3927240"/>
                <a:ext cx="355680" cy="45900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0" y="230"/>
                    </a:moveTo>
                    <a:lnTo>
                      <a:pt x="217" y="0"/>
                    </a:lnTo>
                    <a:lnTo>
                      <a:pt x="229" y="24"/>
                    </a:lnTo>
                    <a:lnTo>
                      <a:pt x="12" y="26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011800" y="3927240"/>
                <a:ext cx="355680" cy="45900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0" y="242"/>
                    </a:moveTo>
                    <a:lnTo>
                      <a:pt x="205" y="0"/>
                    </a:lnTo>
                    <a:lnTo>
                      <a:pt x="229" y="36"/>
                    </a:lnTo>
                    <a:lnTo>
                      <a:pt x="12" y="266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011800" y="396864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0" y="242"/>
                    </a:moveTo>
                    <a:lnTo>
                      <a:pt x="217" y="0"/>
                    </a:lnTo>
                    <a:lnTo>
                      <a:pt x="229" y="12"/>
                    </a:lnTo>
                    <a:lnTo>
                      <a:pt x="24" y="254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30880" y="398916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0" y="230"/>
                    </a:moveTo>
                    <a:lnTo>
                      <a:pt x="217" y="0"/>
                    </a:lnTo>
                    <a:lnTo>
                      <a:pt x="229" y="12"/>
                    </a:lnTo>
                    <a:lnTo>
                      <a:pt x="24" y="254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256600" y="3801960"/>
                <a:ext cx="355320" cy="45864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25"/>
                    </a:moveTo>
                    <a:lnTo>
                      <a:pt x="12" y="266"/>
                    </a:lnTo>
                    <a:lnTo>
                      <a:pt x="0" y="254"/>
                    </a:lnTo>
                    <a:lnTo>
                      <a:pt x="205" y="0"/>
                    </a:lnTo>
                    <a:lnTo>
                      <a:pt x="229" y="25"/>
                    </a:lnTo>
                    <a:close/>
                  </a:path>
                </a:pathLst>
              </a:custGeom>
              <a:solidFill>
                <a:srgbClr val="009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237520" y="3781440"/>
                <a:ext cx="355320" cy="45864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37"/>
                    </a:moveTo>
                    <a:lnTo>
                      <a:pt x="12" y="266"/>
                    </a:lnTo>
                    <a:lnTo>
                      <a:pt x="0" y="242"/>
                    </a:lnTo>
                    <a:lnTo>
                      <a:pt x="205" y="0"/>
                    </a:lnTo>
                    <a:lnTo>
                      <a:pt x="229" y="37"/>
                    </a:lnTo>
                    <a:close/>
                  </a:path>
                </a:pathLst>
              </a:custGeom>
              <a:solidFill>
                <a:srgbClr val="0093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219880" y="3781440"/>
                <a:ext cx="355680" cy="45864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12"/>
                    </a:moveTo>
                    <a:lnTo>
                      <a:pt x="24" y="266"/>
                    </a:lnTo>
                    <a:lnTo>
                      <a:pt x="0" y="230"/>
                    </a:lnTo>
                    <a:lnTo>
                      <a:pt x="217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009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200800" y="376056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12"/>
                    </a:moveTo>
                    <a:lnTo>
                      <a:pt x="24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009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200800" y="3740040"/>
                <a:ext cx="355680" cy="4381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24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05" y="0"/>
                    </a:lnTo>
                    <a:lnTo>
                      <a:pt x="229" y="24"/>
                    </a:lnTo>
                    <a:close/>
                  </a:path>
                </a:pathLst>
              </a:custGeom>
              <a:solidFill>
                <a:srgbClr val="00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162640" y="3719520"/>
                <a:ext cx="374760" cy="45864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41" y="24"/>
                    </a:moveTo>
                    <a:lnTo>
                      <a:pt x="24" y="266"/>
                    </a:lnTo>
                    <a:lnTo>
                      <a:pt x="0" y="242"/>
                    </a:lnTo>
                    <a:lnTo>
                      <a:pt x="229" y="0"/>
                    </a:lnTo>
                    <a:lnTo>
                      <a:pt x="241" y="24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145360" y="371952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2"/>
                    </a:moveTo>
                    <a:lnTo>
                      <a:pt x="36" y="254"/>
                    </a:lnTo>
                    <a:lnTo>
                      <a:pt x="0" y="230"/>
                    </a:lnTo>
                    <a:lnTo>
                      <a:pt x="229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145360" y="369864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2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124840" y="3657600"/>
                <a:ext cx="37620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42" y="36"/>
                    </a:moveTo>
                    <a:lnTo>
                      <a:pt x="13" y="266"/>
                    </a:lnTo>
                    <a:lnTo>
                      <a:pt x="0" y="242"/>
                    </a:lnTo>
                    <a:lnTo>
                      <a:pt x="218" y="0"/>
                    </a:lnTo>
                    <a:lnTo>
                      <a:pt x="242" y="36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105760" y="3657600"/>
                <a:ext cx="37620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42" y="24"/>
                    </a:moveTo>
                    <a:lnTo>
                      <a:pt x="25" y="266"/>
                    </a:lnTo>
                    <a:lnTo>
                      <a:pt x="0" y="230"/>
                    </a:lnTo>
                    <a:lnTo>
                      <a:pt x="230" y="0"/>
                    </a:lnTo>
                    <a:lnTo>
                      <a:pt x="242" y="24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86680" y="3636720"/>
                <a:ext cx="3762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42" y="12"/>
                    </a:moveTo>
                    <a:lnTo>
                      <a:pt x="24" y="254"/>
                    </a:lnTo>
                    <a:lnTo>
                      <a:pt x="0" y="229"/>
                    </a:lnTo>
                    <a:lnTo>
                      <a:pt x="230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86680" y="3616200"/>
                <a:ext cx="376200" cy="43668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42" y="24"/>
                    </a:moveTo>
                    <a:lnTo>
                      <a:pt x="12" y="254"/>
                    </a:lnTo>
                    <a:lnTo>
                      <a:pt x="0" y="241"/>
                    </a:lnTo>
                    <a:lnTo>
                      <a:pt x="218" y="0"/>
                    </a:lnTo>
                    <a:lnTo>
                      <a:pt x="242" y="24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69040" y="3595680"/>
                <a:ext cx="374760" cy="43488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2" y="24"/>
                    </a:moveTo>
                    <a:lnTo>
                      <a:pt x="12" y="253"/>
                    </a:lnTo>
                    <a:lnTo>
                      <a:pt x="0" y="241"/>
                    </a:lnTo>
                    <a:lnTo>
                      <a:pt x="230" y="0"/>
                    </a:lnTo>
                    <a:lnTo>
                      <a:pt x="242" y="24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49960" y="3595680"/>
                <a:ext cx="376200" cy="43488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2" y="12"/>
                    </a:moveTo>
                    <a:lnTo>
                      <a:pt x="24" y="253"/>
                    </a:lnTo>
                    <a:lnTo>
                      <a:pt x="0" y="229"/>
                    </a:lnTo>
                    <a:lnTo>
                      <a:pt x="217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49960" y="3574800"/>
                <a:ext cx="376200" cy="43524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2" y="12"/>
                    </a:moveTo>
                    <a:lnTo>
                      <a:pt x="12" y="253"/>
                    </a:lnTo>
                    <a:lnTo>
                      <a:pt x="0" y="241"/>
                    </a:lnTo>
                    <a:lnTo>
                      <a:pt x="205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30880" y="3531960"/>
                <a:ext cx="355680" cy="45720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37"/>
                    </a:moveTo>
                    <a:lnTo>
                      <a:pt x="12" y="266"/>
                    </a:lnTo>
                    <a:lnTo>
                      <a:pt x="0" y="254"/>
                    </a:lnTo>
                    <a:lnTo>
                      <a:pt x="205" y="0"/>
                    </a:lnTo>
                    <a:lnTo>
                      <a:pt x="229" y="37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11800" y="3531960"/>
                <a:ext cx="355680" cy="45720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25"/>
                    </a:moveTo>
                    <a:lnTo>
                      <a:pt x="24" y="266"/>
                    </a:lnTo>
                    <a:lnTo>
                      <a:pt x="0" y="230"/>
                    </a:lnTo>
                    <a:lnTo>
                      <a:pt x="217" y="0"/>
                    </a:lnTo>
                    <a:lnTo>
                      <a:pt x="229" y="25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94520" y="3511440"/>
                <a:ext cx="355680" cy="45720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12"/>
                    </a:moveTo>
                    <a:lnTo>
                      <a:pt x="24" y="266"/>
                    </a:lnTo>
                    <a:lnTo>
                      <a:pt x="0" y="230"/>
                    </a:lnTo>
                    <a:lnTo>
                      <a:pt x="217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94520" y="3490920"/>
                <a:ext cx="355680" cy="4363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24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05" y="0"/>
                    </a:lnTo>
                    <a:lnTo>
                      <a:pt x="229" y="24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75440" y="3470040"/>
                <a:ext cx="35568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24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29" y="24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37280" y="3470040"/>
                <a:ext cx="37476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2"/>
                    </a:moveTo>
                    <a:lnTo>
                      <a:pt x="36" y="254"/>
                    </a:lnTo>
                    <a:lnTo>
                      <a:pt x="0" y="230"/>
                    </a:lnTo>
                    <a:lnTo>
                      <a:pt x="229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37280" y="3449520"/>
                <a:ext cx="37476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2"/>
                    </a:moveTo>
                    <a:lnTo>
                      <a:pt x="24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20000" y="3429000"/>
                <a:ext cx="37296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24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41" y="24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00920" y="3429000"/>
                <a:ext cx="37440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1" y="12"/>
                    </a:moveTo>
                    <a:lnTo>
                      <a:pt x="24" y="254"/>
                    </a:lnTo>
                    <a:lnTo>
                      <a:pt x="0" y="217"/>
                    </a:lnTo>
                    <a:lnTo>
                      <a:pt x="229" y="0"/>
                    </a:lnTo>
                    <a:lnTo>
                      <a:pt x="241" y="12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543800" y="4386240"/>
                <a:ext cx="357120" cy="43812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30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62880" y="4344840"/>
                <a:ext cx="357120" cy="45900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05" y="266"/>
                    </a:moveTo>
                    <a:lnTo>
                      <a:pt x="0" y="36"/>
                    </a:lnTo>
                    <a:lnTo>
                      <a:pt x="12" y="0"/>
                    </a:lnTo>
                    <a:lnTo>
                      <a:pt x="230" y="254"/>
                    </a:lnTo>
                    <a:lnTo>
                      <a:pt x="205" y="266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80160" y="4344840"/>
                <a:ext cx="357120" cy="45900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06" y="266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30" y="229"/>
                    </a:lnTo>
                    <a:lnTo>
                      <a:pt x="206" y="266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80160" y="4324320"/>
                <a:ext cx="357120" cy="45864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18" y="266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30" y="229"/>
                    </a:lnTo>
                    <a:lnTo>
                      <a:pt x="218" y="266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99240" y="4303440"/>
                <a:ext cx="376200" cy="43524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18" y="253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2" y="241"/>
                    </a:lnTo>
                    <a:lnTo>
                      <a:pt x="218" y="253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18320" y="4281480"/>
                <a:ext cx="376200" cy="4363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06" y="254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42" y="242"/>
                    </a:lnTo>
                    <a:lnTo>
                      <a:pt x="206" y="254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618320" y="4281480"/>
                <a:ext cx="376200" cy="4363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30" y="254"/>
                    </a:moveTo>
                    <a:lnTo>
                      <a:pt x="0" y="13"/>
                    </a:lnTo>
                    <a:lnTo>
                      <a:pt x="25" y="0"/>
                    </a:lnTo>
                    <a:lnTo>
                      <a:pt x="242" y="230"/>
                    </a:lnTo>
                    <a:lnTo>
                      <a:pt x="230" y="254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637400" y="426060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30" y="254"/>
                    </a:moveTo>
                    <a:lnTo>
                      <a:pt x="0" y="12"/>
                    </a:lnTo>
                    <a:lnTo>
                      <a:pt x="25" y="0"/>
                    </a:lnTo>
                    <a:lnTo>
                      <a:pt x="242" y="242"/>
                    </a:lnTo>
                    <a:lnTo>
                      <a:pt x="230" y="254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56480" y="424008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17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41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75560" y="424008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41" y="218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75560" y="4198680"/>
                <a:ext cx="374400" cy="4572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229" y="266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41" y="230"/>
                    </a:lnTo>
                    <a:lnTo>
                      <a:pt x="229" y="266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94640" y="417816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29" y="254"/>
                    </a:moveTo>
                    <a:lnTo>
                      <a:pt x="0" y="36"/>
                    </a:lnTo>
                    <a:lnTo>
                      <a:pt x="12" y="0"/>
                    </a:lnTo>
                    <a:lnTo>
                      <a:pt x="241" y="242"/>
                    </a:lnTo>
                    <a:lnTo>
                      <a:pt x="229" y="254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13360" y="4157640"/>
                <a:ext cx="37332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17" y="254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41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13360" y="4157640"/>
                <a:ext cx="37332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29" y="254"/>
                    </a:moveTo>
                    <a:lnTo>
                      <a:pt x="0" y="12"/>
                    </a:lnTo>
                    <a:lnTo>
                      <a:pt x="36" y="0"/>
                    </a:lnTo>
                    <a:lnTo>
                      <a:pt x="241" y="230"/>
                    </a:lnTo>
                    <a:lnTo>
                      <a:pt x="229" y="254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0080" y="4136760"/>
                <a:ext cx="35568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17" y="25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29" y="242"/>
                    </a:lnTo>
                    <a:lnTo>
                      <a:pt x="217" y="254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69160" y="4116240"/>
                <a:ext cx="355680" cy="4366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05" y="254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29" y="242"/>
                    </a:lnTo>
                    <a:lnTo>
                      <a:pt x="205" y="254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88240" y="4074840"/>
                <a:ext cx="357120" cy="478080"/>
              </a:xfrm>
              <a:custGeom>
                <a:avLst/>
                <a:gdLst/>
                <a:ahLst/>
                <a:rect l="l" t="t" r="r" b="b"/>
                <a:pathLst>
                  <a:path w="230" h="278">
                    <a:moveTo>
                      <a:pt x="205" y="278"/>
                    </a:moveTo>
                    <a:lnTo>
                      <a:pt x="0" y="36"/>
                    </a:lnTo>
                    <a:lnTo>
                      <a:pt x="12" y="0"/>
                    </a:lnTo>
                    <a:lnTo>
                      <a:pt x="230" y="253"/>
                    </a:lnTo>
                    <a:lnTo>
                      <a:pt x="205" y="278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788240" y="4074840"/>
                <a:ext cx="357120" cy="457200"/>
              </a:xfrm>
              <a:custGeom>
                <a:avLst/>
                <a:gdLst/>
                <a:ahLst/>
                <a:rect l="l" t="t" r="r" b="b"/>
                <a:pathLst>
                  <a:path w="230" h="266">
                    <a:moveTo>
                      <a:pt x="217" y="266"/>
                    </a:moveTo>
                    <a:lnTo>
                      <a:pt x="0" y="24"/>
                    </a:lnTo>
                    <a:lnTo>
                      <a:pt x="24" y="0"/>
                    </a:lnTo>
                    <a:lnTo>
                      <a:pt x="230" y="229"/>
                    </a:lnTo>
                    <a:lnTo>
                      <a:pt x="217" y="266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805520" y="4052880"/>
                <a:ext cx="357120" cy="457200"/>
              </a:xfrm>
              <a:custGeom>
                <a:avLst/>
                <a:gdLst/>
                <a:ahLst/>
                <a:rect l="l" t="t" r="r" b="b"/>
                <a:pathLst>
                  <a:path w="230" h="265">
                    <a:moveTo>
                      <a:pt x="218" y="265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30" y="241"/>
                    </a:lnTo>
                    <a:lnTo>
                      <a:pt x="218" y="265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994520" y="4593960"/>
                <a:ext cx="355680" cy="4384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12" y="0"/>
                    </a:moveTo>
                    <a:lnTo>
                      <a:pt x="229" y="241"/>
                    </a:lnTo>
                    <a:lnTo>
                      <a:pt x="205" y="254"/>
                    </a:lnTo>
                    <a:lnTo>
                      <a:pt x="0" y="3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975440" y="4614840"/>
                <a:ext cx="355680" cy="45864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12" y="0"/>
                    </a:moveTo>
                    <a:lnTo>
                      <a:pt x="229" y="242"/>
                    </a:lnTo>
                    <a:lnTo>
                      <a:pt x="205" y="266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3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937280" y="4655880"/>
                <a:ext cx="374760" cy="4384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36" y="0"/>
                    </a:moveTo>
                    <a:lnTo>
                      <a:pt x="241" y="218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9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920000" y="4655880"/>
                <a:ext cx="372960" cy="459000"/>
              </a:xfrm>
              <a:custGeom>
                <a:avLst/>
                <a:gdLst/>
                <a:ahLst/>
                <a:rect l="l" t="t" r="r" b="b"/>
                <a:pathLst>
                  <a:path w="241" h="266">
                    <a:moveTo>
                      <a:pt x="36" y="0"/>
                    </a:moveTo>
                    <a:lnTo>
                      <a:pt x="241" y="242"/>
                    </a:lnTo>
                    <a:lnTo>
                      <a:pt x="229" y="266"/>
                    </a:lnTo>
                    <a:lnTo>
                      <a:pt x="0" y="2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9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920000" y="4676760"/>
                <a:ext cx="37296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17" y="25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0920" y="4697280"/>
                <a:ext cx="374400" cy="4381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80040" y="4717800"/>
                <a:ext cx="376560" cy="43848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5" y="0"/>
                    </a:moveTo>
                    <a:lnTo>
                      <a:pt x="242" y="230"/>
                    </a:lnTo>
                    <a:lnTo>
                      <a:pt x="230" y="254"/>
                    </a:lnTo>
                    <a:lnTo>
                      <a:pt x="0" y="1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880040" y="4717800"/>
                <a:ext cx="376560" cy="43848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13" y="0"/>
                    </a:moveTo>
                    <a:lnTo>
                      <a:pt x="242" y="242"/>
                    </a:lnTo>
                    <a:lnTo>
                      <a:pt x="218" y="254"/>
                    </a:lnTo>
                    <a:lnTo>
                      <a:pt x="0" y="3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62760" y="4738680"/>
                <a:ext cx="37476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12" y="0"/>
                    </a:moveTo>
                    <a:lnTo>
                      <a:pt x="242" y="242"/>
                    </a:lnTo>
                    <a:lnTo>
                      <a:pt x="218" y="266"/>
                    </a:lnTo>
                    <a:lnTo>
                      <a:pt x="0" y="3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43680" y="4782960"/>
                <a:ext cx="376200" cy="43488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" y="0"/>
                    </a:moveTo>
                    <a:lnTo>
                      <a:pt x="242" y="217"/>
                    </a:lnTo>
                    <a:lnTo>
                      <a:pt x="230" y="253"/>
                    </a:lnTo>
                    <a:lnTo>
                      <a:pt x="0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a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24600" y="4803840"/>
                <a:ext cx="376200" cy="43488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24" y="0"/>
                    </a:moveTo>
                    <a:lnTo>
                      <a:pt x="242" y="229"/>
                    </a:lnTo>
                    <a:lnTo>
                      <a:pt x="218" y="253"/>
                    </a:lnTo>
                    <a:lnTo>
                      <a:pt x="0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b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24600" y="4803840"/>
                <a:ext cx="376200" cy="434880"/>
              </a:xfrm>
              <a:custGeom>
                <a:avLst/>
                <a:gdLst/>
                <a:ahLst/>
                <a:rect l="l" t="t" r="r" b="b"/>
                <a:pathLst>
                  <a:path w="242" h="253">
                    <a:moveTo>
                      <a:pt x="12" y="0"/>
                    </a:moveTo>
                    <a:lnTo>
                      <a:pt x="242" y="241"/>
                    </a:lnTo>
                    <a:lnTo>
                      <a:pt x="206" y="253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1b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805520" y="482436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12" y="0"/>
                    </a:moveTo>
                    <a:lnTo>
                      <a:pt x="230" y="241"/>
                    </a:lnTo>
                    <a:lnTo>
                      <a:pt x="218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8b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88240" y="484488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24" y="0"/>
                    </a:moveTo>
                    <a:lnTo>
                      <a:pt x="230" y="229"/>
                    </a:lnTo>
                    <a:lnTo>
                      <a:pt x="217" y="254"/>
                    </a:lnTo>
                    <a:lnTo>
                      <a:pt x="0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7b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88240" y="484488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30" h="254">
                    <a:moveTo>
                      <a:pt x="12" y="0"/>
                    </a:moveTo>
                    <a:lnTo>
                      <a:pt x="230" y="242"/>
                    </a:lnTo>
                    <a:lnTo>
                      <a:pt x="205" y="25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8c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69160" y="4865760"/>
                <a:ext cx="355680" cy="43632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12" y="0"/>
                    </a:moveTo>
                    <a:lnTo>
                      <a:pt x="229" y="242"/>
                    </a:lnTo>
                    <a:lnTo>
                      <a:pt x="205" y="254"/>
                    </a:lnTo>
                    <a:lnTo>
                      <a:pt x="0" y="3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c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50080" y="4886280"/>
                <a:ext cx="355680" cy="45720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4" y="0"/>
                    </a:moveTo>
                    <a:lnTo>
                      <a:pt x="229" y="230"/>
                    </a:lnTo>
                    <a:lnTo>
                      <a:pt x="217" y="266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84cd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13360" y="4927680"/>
                <a:ext cx="37332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36" y="0"/>
                    </a:moveTo>
                    <a:lnTo>
                      <a:pt x="241" y="218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3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3360" y="4927680"/>
                <a:ext cx="373320" cy="43632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" y="0"/>
                    </a:moveTo>
                    <a:lnTo>
                      <a:pt x="241" y="242"/>
                    </a:lnTo>
                    <a:lnTo>
                      <a:pt x="217" y="254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4d9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494820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4d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75560" y="496872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24" y="0"/>
                    </a:moveTo>
                    <a:lnTo>
                      <a:pt x="241" y="230"/>
                    </a:lnTo>
                    <a:lnTo>
                      <a:pt x="229" y="254"/>
                    </a:lnTo>
                    <a:lnTo>
                      <a:pt x="0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3e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5560" y="496872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17" y="25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8e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6480" y="4989240"/>
                <a:ext cx="374400" cy="436680"/>
              </a:xfrm>
              <a:custGeom>
                <a:avLst/>
                <a:gdLst/>
                <a:ahLst/>
                <a:rect l="l" t="t" r="r" b="b"/>
                <a:pathLst>
                  <a:path w="241" h="254">
                    <a:moveTo>
                      <a:pt x="12" y="0"/>
                    </a:moveTo>
                    <a:lnTo>
                      <a:pt x="241" y="242"/>
                    </a:lnTo>
                    <a:lnTo>
                      <a:pt x="217" y="254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f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37400" y="5010120"/>
                <a:ext cx="374400" cy="458640"/>
              </a:xfrm>
              <a:custGeom>
                <a:avLst/>
                <a:gdLst/>
                <a:ahLst/>
                <a:rect l="l" t="t" r="r" b="b"/>
                <a:pathLst>
                  <a:path w="242" h="266">
                    <a:moveTo>
                      <a:pt x="25" y="0"/>
                    </a:moveTo>
                    <a:lnTo>
                      <a:pt x="242" y="230"/>
                    </a:lnTo>
                    <a:lnTo>
                      <a:pt x="230" y="266"/>
                    </a:lnTo>
                    <a:lnTo>
                      <a:pt x="0" y="1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69040" y="4676760"/>
                <a:ext cx="37476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42" y="24"/>
                    </a:moveTo>
                    <a:lnTo>
                      <a:pt x="12" y="254"/>
                    </a:lnTo>
                    <a:lnTo>
                      <a:pt x="0" y="242"/>
                    </a:lnTo>
                    <a:lnTo>
                      <a:pt x="230" y="0"/>
                    </a:lnTo>
                    <a:lnTo>
                      <a:pt x="242" y="24"/>
                    </a:lnTo>
                    <a:close/>
                  </a:path>
                </a:pathLst>
              </a:custGeom>
              <a:solidFill>
                <a:srgbClr val="009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49960" y="4676760"/>
                <a:ext cx="376200" cy="438120"/>
              </a:xfrm>
              <a:custGeom>
                <a:avLst/>
                <a:gdLst/>
                <a:ahLst/>
                <a:rect l="l" t="t" r="r" b="b"/>
                <a:pathLst>
                  <a:path w="242" h="254">
                    <a:moveTo>
                      <a:pt x="242" y="12"/>
                    </a:moveTo>
                    <a:lnTo>
                      <a:pt x="24" y="254"/>
                    </a:lnTo>
                    <a:lnTo>
                      <a:pt x="0" y="230"/>
                    </a:lnTo>
                    <a:lnTo>
                      <a:pt x="217" y="0"/>
                    </a:lnTo>
                    <a:lnTo>
                      <a:pt x="242" y="12"/>
                    </a:lnTo>
                    <a:close/>
                  </a:path>
                </a:pathLst>
              </a:custGeom>
              <a:solidFill>
                <a:srgbClr val="0093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30880" y="4655880"/>
                <a:ext cx="395280" cy="438480"/>
              </a:xfrm>
              <a:custGeom>
                <a:avLst/>
                <a:gdLst/>
                <a:ahLst/>
                <a:rect l="l" t="t" r="r" b="b"/>
                <a:pathLst>
                  <a:path w="254" h="254">
                    <a:moveTo>
                      <a:pt x="254" y="12"/>
                    </a:moveTo>
                    <a:lnTo>
                      <a:pt x="24" y="254"/>
                    </a:lnTo>
                    <a:lnTo>
                      <a:pt x="0" y="242"/>
                    </a:lnTo>
                    <a:lnTo>
                      <a:pt x="217" y="0"/>
                    </a:lnTo>
                    <a:lnTo>
                      <a:pt x="254" y="12"/>
                    </a:lnTo>
                    <a:close/>
                  </a:path>
                </a:pathLst>
              </a:custGeom>
              <a:solidFill>
                <a:srgbClr val="009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30880" y="4614840"/>
                <a:ext cx="355680" cy="458640"/>
              </a:xfrm>
              <a:custGeom>
                <a:avLst/>
                <a:gdLst/>
                <a:ahLst/>
                <a:rect l="l" t="t" r="r" b="b"/>
                <a:pathLst>
                  <a:path w="229" h="266">
                    <a:moveTo>
                      <a:pt x="229" y="36"/>
                    </a:moveTo>
                    <a:lnTo>
                      <a:pt x="12" y="266"/>
                    </a:lnTo>
                    <a:lnTo>
                      <a:pt x="0" y="242"/>
                    </a:lnTo>
                    <a:lnTo>
                      <a:pt x="205" y="0"/>
                    </a:lnTo>
                    <a:lnTo>
                      <a:pt x="229" y="36"/>
                    </a:lnTo>
                    <a:close/>
                  </a:path>
                </a:pathLst>
              </a:custGeom>
              <a:solidFill>
                <a:srgbClr val="009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011800" y="4593960"/>
                <a:ext cx="355680" cy="479520"/>
              </a:xfrm>
              <a:custGeom>
                <a:avLst/>
                <a:gdLst/>
                <a:ahLst/>
                <a:rect l="l" t="t" r="r" b="b"/>
                <a:pathLst>
                  <a:path w="229" h="278">
                    <a:moveTo>
                      <a:pt x="229" y="36"/>
                    </a:moveTo>
                    <a:lnTo>
                      <a:pt x="12" y="278"/>
                    </a:lnTo>
                    <a:lnTo>
                      <a:pt x="0" y="241"/>
                    </a:lnTo>
                    <a:lnTo>
                      <a:pt x="217" y="0"/>
                    </a:lnTo>
                    <a:lnTo>
                      <a:pt x="229" y="36"/>
                    </a:lnTo>
                    <a:close/>
                  </a:path>
                </a:pathLst>
              </a:custGeom>
              <a:solidFill>
                <a:srgbClr val="00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94520" y="4593960"/>
                <a:ext cx="355680" cy="438480"/>
              </a:xfrm>
              <a:custGeom>
                <a:avLst/>
                <a:gdLst/>
                <a:ahLst/>
                <a:rect l="l" t="t" r="r" b="b"/>
                <a:pathLst>
                  <a:path w="229" h="254">
                    <a:moveTo>
                      <a:pt x="229" y="12"/>
                    </a:moveTo>
                    <a:lnTo>
                      <a:pt x="24" y="254"/>
                    </a:lnTo>
                    <a:lnTo>
                      <a:pt x="0" y="229"/>
                    </a:lnTo>
                    <a:lnTo>
                      <a:pt x="217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0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94520" y="4573440"/>
                <a:ext cx="355680" cy="436680"/>
              </a:xfrm>
              <a:custGeom>
                <a:avLst/>
                <a:gdLst/>
                <a:ahLst/>
                <a:rect l="l" t="t" r="r" b="b"/>
                <a:pathLst>
                  <a:path w="229" h="253">
                    <a:moveTo>
                      <a:pt x="229" y="12"/>
                    </a:moveTo>
                    <a:lnTo>
                      <a:pt x="12" y="253"/>
                    </a:lnTo>
                    <a:lnTo>
                      <a:pt x="0" y="241"/>
                    </a:lnTo>
                    <a:lnTo>
                      <a:pt x="205" y="0"/>
                    </a:lnTo>
                    <a:lnTo>
                      <a:pt x="229" y="12"/>
                    </a:lnTo>
                    <a:close/>
                  </a:path>
                </a:pathLst>
              </a:custGeom>
              <a:solidFill>
                <a:srgbClr val="00a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975440" y="4552920"/>
                <a:ext cx="355680" cy="436320"/>
              </a:xfrm>
              <a:custGeom>
                <a:avLst/>
                <a:gdLst/>
                <a:ahLst/>
                <a:rect l="l" t="t" r="r" b="b"/>
                <a:pathLst>
                  <a:path w="229" h="253">
                    <a:moveTo>
                      <a:pt x="229" y="24"/>
                    </a:moveTo>
                    <a:lnTo>
                      <a:pt x="12" y="253"/>
                    </a:lnTo>
                    <a:lnTo>
                      <a:pt x="0" y="241"/>
                    </a:lnTo>
                    <a:lnTo>
                      <a:pt x="217" y="0"/>
                    </a:lnTo>
                    <a:lnTo>
                      <a:pt x="229" y="24"/>
                    </a:lnTo>
                    <a:close/>
                  </a:path>
                </a:pathLst>
              </a:custGeom>
              <a:solidFill>
                <a:srgbClr val="00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5706000" y="5410080"/>
              <a:ext cx="1834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stake-hold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381880" y="4191120"/>
              <a:ext cx="381240" cy="914400"/>
            </a:xfrm>
            <a:custGeom>
              <a:avLst/>
              <a:gdLst>
                <a:gd name="textAreaLeft" fmla="*/ 127080 w 381240"/>
                <a:gd name="textAreaRight" fmla="*/ 326520 w 381240"/>
                <a:gd name="textAreaTop" fmla="*/ 527040 h 914400"/>
                <a:gd name="textAreaBottom" fmla="*/ 7837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-27000" y="25560"/>
            <a:ext cx="2562480" cy="736560"/>
            <a:chOff x="-27000" y="25560"/>
            <a:chExt cx="2562480" cy="736560"/>
          </a:xfrm>
        </p:grpSpPr>
        <p:sp>
          <p:nvSpPr>
            <p:cNvPr id="762" name=""/>
            <p:cNvSpPr/>
            <p:nvPr/>
          </p:nvSpPr>
          <p:spPr>
            <a:xfrm>
              <a:off x="-27000" y="25560"/>
              <a:ext cx="2562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new components &amp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3640" y="228600"/>
              <a:ext cx="1704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technologi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05120" y="457200"/>
              <a:ext cx="30456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1994040" y="1066680"/>
            <a:ext cx="4365360" cy="41706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2222640" y="1066680"/>
            <a:ext cx="4365360" cy="41706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2428920" y="1295280"/>
            <a:ext cx="4365720" cy="41706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2222640" y="1295280"/>
            <a:ext cx="4365360" cy="41706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"/>
          <a:stretch/>
        </p:blipFill>
        <p:spPr>
          <a:xfrm>
            <a:off x="2428920" y="1066680"/>
            <a:ext cx="4365720" cy="41706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2222640" y="1066680"/>
            <a:ext cx="4365360" cy="41706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2428920" y="1295280"/>
            <a:ext cx="4365720" cy="417060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8"/>
          <a:stretch/>
        </p:blipFill>
        <p:spPr>
          <a:xfrm>
            <a:off x="2428920" y="1066680"/>
            <a:ext cx="4365720" cy="41706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2222640" y="1295280"/>
            <a:ext cx="4365360" cy="417060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"/>
          <a:stretch/>
        </p:blipFill>
        <p:spPr>
          <a:xfrm>
            <a:off x="2222640" y="1066680"/>
            <a:ext cx="4365360" cy="4170600"/>
          </a:xfrm>
          <a:prstGeom prst="rect">
            <a:avLst/>
          </a:prstGeom>
          <a:ln w="0">
            <a:noFill/>
          </a:ln>
        </p:spPr>
      </p:pic>
      <p:grpSp>
        <p:nvGrpSpPr>
          <p:cNvPr id="776" name=""/>
          <p:cNvGrpSpPr/>
          <p:nvPr/>
        </p:nvGrpSpPr>
        <p:grpSpPr>
          <a:xfrm>
            <a:off x="2525040" y="1298520"/>
            <a:ext cx="3452760" cy="3413880"/>
            <a:chOff x="2525040" y="1298520"/>
            <a:chExt cx="3452760" cy="3413880"/>
          </a:xfrm>
        </p:grpSpPr>
        <p:sp>
          <p:nvSpPr>
            <p:cNvPr id="777" name=""/>
            <p:cNvSpPr/>
            <p:nvPr/>
          </p:nvSpPr>
          <p:spPr>
            <a:xfrm>
              <a:off x="2741760" y="1298520"/>
              <a:ext cx="3021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25221e"/>
                  </a:solidFill>
                  <a:latin typeface="Garamond"/>
                </a:rPr>
                <a:t>Landscap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54400" y="2212920"/>
              <a:ext cx="1994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25221e"/>
                  </a:solidFill>
                  <a:latin typeface="Garamond"/>
                </a:rPr>
                <a:t>mosai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97720" y="3127320"/>
              <a:ext cx="2509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25221e"/>
                  </a:solidFill>
                  <a:latin typeface="Garamond"/>
                </a:rPr>
                <a:t>resour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5040" y="4041720"/>
              <a:ext cx="3452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25221e"/>
                  </a:solidFill>
                  <a:latin typeface="Garamond"/>
                </a:rPr>
                <a:t>interaction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62120" y="1790640"/>
            <a:ext cx="2057400" cy="3946680"/>
            <a:chOff x="762120" y="1790640"/>
            <a:chExt cx="2057400" cy="3946680"/>
          </a:xfrm>
        </p:grpSpPr>
        <p:grpSp>
          <p:nvGrpSpPr>
            <p:cNvPr id="782" name=""/>
            <p:cNvGrpSpPr/>
            <p:nvPr/>
          </p:nvGrpSpPr>
          <p:grpSpPr>
            <a:xfrm>
              <a:off x="762120" y="1790640"/>
              <a:ext cx="1600200" cy="3946680"/>
              <a:chOff x="762120" y="1790640"/>
              <a:chExt cx="1600200" cy="3946680"/>
            </a:xfrm>
          </p:grpSpPr>
          <p:sp>
            <p:nvSpPr>
              <p:cNvPr id="783" name=""/>
              <p:cNvSpPr/>
              <p:nvPr/>
            </p:nvSpPr>
            <p:spPr>
              <a:xfrm>
                <a:off x="762120" y="1790640"/>
                <a:ext cx="160020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25221e"/>
                    </a:solidFill>
                    <a:latin typeface="Garamond"/>
                  </a:rPr>
                  <a:t>Plots (land use s.s.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14760" y="2971800"/>
                <a:ext cx="144756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25221e"/>
                    </a:solidFill>
                    <a:latin typeface="Garamond"/>
                  </a:rPr>
                  <a:t>Matrix (filter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120" y="4152960"/>
                <a:ext cx="1600200" cy="15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25221e"/>
                    </a:solidFill>
                    <a:latin typeface="Garamond"/>
                  </a:rPr>
                  <a:t>Roads/ streams (channel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2286000" y="22096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86000" y="49528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86000" y="342900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-152280" y="3162240"/>
            <a:ext cx="2743200" cy="1346400"/>
            <a:chOff x="-152280" y="3162240"/>
            <a:chExt cx="2743200" cy="1346400"/>
          </a:xfrm>
        </p:grpSpPr>
        <p:grpSp>
          <p:nvGrpSpPr>
            <p:cNvPr id="790" name=""/>
            <p:cNvGrpSpPr/>
            <p:nvPr/>
          </p:nvGrpSpPr>
          <p:grpSpPr>
            <a:xfrm>
              <a:off x="-152280" y="3162240"/>
              <a:ext cx="1295280" cy="1346400"/>
              <a:chOff x="-152280" y="3162240"/>
              <a:chExt cx="1295280" cy="1346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27080" y="3162240"/>
                <a:ext cx="533160" cy="685800"/>
              </a:xfrm>
              <a:prstGeom prst="sun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0760" y="3975120"/>
                <a:ext cx="685800" cy="533520"/>
              </a:xfrm>
              <a:prstGeom prst="lightningBol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-152280" y="36702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chastic 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1219320" y="3733920"/>
              <a:ext cx="1371600" cy="45720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04000" y="-184320"/>
            <a:ext cx="8919360" cy="3364560"/>
            <a:chOff x="504000" y="-184320"/>
            <a:chExt cx="8919360" cy="3364560"/>
          </a:xfrm>
        </p:grpSpPr>
        <p:sp>
          <p:nvSpPr>
            <p:cNvPr id="796" name=""/>
            <p:cNvSpPr/>
            <p:nvPr/>
          </p:nvSpPr>
          <p:spPr>
            <a:xfrm flipH="1" rot="20890800">
              <a:off x="548640" y="404280"/>
              <a:ext cx="5857920" cy="1047960"/>
            </a:xfrm>
            <a:custGeom>
              <a:avLst/>
              <a:gdLst>
                <a:gd name="textAreaLeft" fmla="*/ 1024920 w 5857920"/>
                <a:gd name="textAreaRight" fmla="*/ 4246920 w 5857920"/>
                <a:gd name="textAreaTop" fmla="*/ 140400 h 1047960"/>
                <a:gd name="textAreaBottom" fmla="*/ 907560 h 104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85080" y="247644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ceptions, know- ledge,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956560" y="1193760"/>
            <a:ext cx="1771560" cy="625320"/>
            <a:chOff x="5956560" y="1193760"/>
            <a:chExt cx="1771560" cy="625320"/>
          </a:xfrm>
        </p:grpSpPr>
        <p:sp>
          <p:nvSpPr>
            <p:cNvPr id="799" name=""/>
            <p:cNvSpPr/>
            <p:nvPr/>
          </p:nvSpPr>
          <p:spPr>
            <a:xfrm>
              <a:off x="5956560" y="1193760"/>
              <a:ext cx="1771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perform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50600" y="1498680"/>
              <a:ext cx="138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25221e"/>
                  </a:solidFill>
                  <a:latin typeface="Garamond"/>
                </a:rPr>
                <a:t>indicato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4:43:46Z</dcterms:created>
  <dc:creator>P3</dc:creator>
  <dc:description/>
  <dc:language>en-US</dc:language>
  <cp:lastModifiedBy>P3</cp:lastModifiedBy>
  <dcterms:modified xsi:type="dcterms:W3CDTF">2002-10-06T04:45:35Z</dcterms:modified>
  <cp:revision>2</cp:revision>
  <dc:subject/>
  <dc:title>No Slide Title</dc:title>
</cp:coreProperties>
</file>