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11.png" ContentType="image/png"/>
  <Override PartName="/ppt/media/image36.wmf" ContentType="image/x-wmf"/>
  <Override PartName="/ppt/media/image40.png" ContentType="image/png"/>
  <Override PartName="/ppt/media/image38.wmf" ContentType="image/x-wmf"/>
  <Override PartName="/ppt/media/image48.wmf" ContentType="image/x-wmf"/>
  <Override PartName="/ppt/media/image50.png" ContentType="image/png"/>
  <Override PartName="/ppt/media/image42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4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A7E-7E5C-4D3D-AD98-F636F95B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0C2-3E07-4712-88E6-07E8ADEF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6F3-15A8-4EFC-B9C3-64241124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0F1-7046-4868-96C0-2F5636F8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5FC-C1C1-48F3-B99E-B97606C8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3E4-DDE1-4F77-B037-68C1FC65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3D4-A707-4BFF-BEBD-6B58A129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A38-FA5C-4A5C-BF73-0B35925B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4F5-C460-467B-8587-B655648E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4CA-7FB1-41F1-A151-DE4AE1B4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FA0-76BE-4E7A-AB4F-58BAC69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779-5646-4FE9-8EDE-C18492A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CC0E-F81A-480F-B681-70B3D66E8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2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47680" y="1123920"/>
            <a:ext cx="8667720" cy="409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7360" y="1962000"/>
            <a:ext cx="5245200" cy="290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36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lo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oil Fertility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rop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108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ousehol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ice Stor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38257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cisio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and Use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3560" y="38131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hoice Of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&amp; Cro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39880" y="2387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4122720" y="326088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2639880" y="410220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1218960" y="3260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29440" y="1949400"/>
            <a:ext cx="2527200" cy="290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18440" y="235584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18440" y="2924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arbon 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18440" y="352116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io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18440" y="4067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atershe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84880" y="3029040"/>
            <a:ext cx="863640" cy="7491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87200 h 749160"/>
              <a:gd name="textAreaBottom" fmla="*/ 561960 h 749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DECISION ON LANDUSE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4570560" y="1674000"/>
            <a:ext cx="4586040" cy="4529880"/>
            <a:chOff x="4570560" y="1674000"/>
            <a:chExt cx="4586040" cy="4529880"/>
          </a:xfrm>
        </p:grpSpPr>
        <p:grpSp>
          <p:nvGrpSpPr>
            <p:cNvPr id="193" name=""/>
            <p:cNvGrpSpPr/>
            <p:nvPr/>
          </p:nvGrpSpPr>
          <p:grpSpPr>
            <a:xfrm>
              <a:off x="4573440" y="1674000"/>
              <a:ext cx="4583160" cy="4529880"/>
              <a:chOff x="4573440" y="1674000"/>
              <a:chExt cx="4583160" cy="4529880"/>
            </a:xfrm>
          </p:grpSpPr>
          <p:sp>
            <p:nvSpPr>
              <p:cNvPr id="194" name=""/>
              <p:cNvSpPr/>
              <p:nvPr/>
            </p:nvSpPr>
            <p:spPr>
              <a:xfrm>
                <a:off x="4573440" y="2043000"/>
                <a:ext cx="4573800" cy="41608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83160" y="1674000"/>
                <a:ext cx="457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Rule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570560" y="2019240"/>
              <a:ext cx="4573440" cy="21146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762440" y="2044800"/>
            <a:ext cx="4394160" cy="3568680"/>
            <a:chOff x="4762440" y="2044800"/>
            <a:chExt cx="4394160" cy="3568680"/>
          </a:xfrm>
        </p:grpSpPr>
        <p:sp>
          <p:nvSpPr>
            <p:cNvPr id="198" name=""/>
            <p:cNvSpPr/>
            <p:nvPr/>
          </p:nvSpPr>
          <p:spPr>
            <a:xfrm flipH="1">
              <a:off x="4762440" y="2044800"/>
              <a:ext cx="4394160" cy="3568680"/>
            </a:xfrm>
            <a:custGeom>
              <a:avLst/>
              <a:gdLst/>
              <a:ahLst/>
              <a:rect l="l" t="t" r="r" b="b"/>
              <a:pathLst>
                <a:path w="2768" h="2248">
                  <a:moveTo>
                    <a:pt x="0" y="0"/>
                  </a:moveTo>
                  <a:lnTo>
                    <a:pt x="568" y="0"/>
                  </a:lnTo>
                  <a:lnTo>
                    <a:pt x="2024" y="2248"/>
                  </a:lnTo>
                  <a:lnTo>
                    <a:pt x="2024" y="1312"/>
                  </a:lnTo>
                  <a:lnTo>
                    <a:pt x="2768" y="1304"/>
                  </a:ln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0200" y="3055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dI/d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-38160" y="1661400"/>
            <a:ext cx="4611600" cy="4542480"/>
            <a:chOff x="-38160" y="1661400"/>
            <a:chExt cx="4611600" cy="4542480"/>
          </a:xfrm>
        </p:grpSpPr>
        <p:grpSp>
          <p:nvGrpSpPr>
            <p:cNvPr id="201" name=""/>
            <p:cNvGrpSpPr/>
            <p:nvPr/>
          </p:nvGrpSpPr>
          <p:grpSpPr>
            <a:xfrm>
              <a:off x="-38160" y="1661400"/>
              <a:ext cx="4611600" cy="4542480"/>
              <a:chOff x="-38160" y="1661400"/>
              <a:chExt cx="4611600" cy="454248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2046240"/>
                <a:ext cx="4573440" cy="4157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-38160" y="1661400"/>
                <a:ext cx="457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8000"/>
                    </a:solidFill>
                    <a:latin typeface="Arial"/>
                  </a:rPr>
                  <a:t>Rule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0" y="2019240"/>
              <a:ext cx="4573440" cy="2114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DECISION ON LANDUSE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46640" y="911160"/>
            <a:ext cx="2239920" cy="8920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99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pping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140360"/>
            <a:ext cx="9144000" cy="0"/>
          </a:xfrm>
          <a:prstGeom prst="line">
            <a:avLst/>
          </a:prstGeom>
          <a:ln w="2844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73440" y="5538240"/>
            <a:ext cx="4573800" cy="665640"/>
            <a:chOff x="4573440" y="5538240"/>
            <a:chExt cx="4573800" cy="665640"/>
          </a:xfrm>
        </p:grpSpPr>
        <p:sp>
          <p:nvSpPr>
            <p:cNvPr id="210" name=""/>
            <p:cNvSpPr/>
            <p:nvPr/>
          </p:nvSpPr>
          <p:spPr>
            <a:xfrm>
              <a:off x="4573440" y="5911920"/>
              <a:ext cx="4573800" cy="2919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ected Crop Yie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28600" y="5538240"/>
              <a:ext cx="44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3300"/>
                  </a:solidFill>
                  <a:latin typeface="Arial"/>
                </a:rPr>
                <a:t>Overestimate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     Match     </a:t>
              </a:r>
              <a:r>
                <a:rPr b="0" lang="en-US" sz="1800" spc="-1" strike="noStrike">
                  <a:solidFill>
                    <a:srgbClr val="ff7c80"/>
                  </a:solidFill>
                  <a:latin typeface="Arial"/>
                </a:rPr>
                <a:t>Underestim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-20520" y="5538240"/>
            <a:ext cx="4593960" cy="665640"/>
            <a:chOff x="-20520" y="5538240"/>
            <a:chExt cx="4593960" cy="665640"/>
          </a:xfrm>
        </p:grpSpPr>
        <p:sp>
          <p:nvSpPr>
            <p:cNvPr id="213" name=""/>
            <p:cNvSpPr/>
            <p:nvPr/>
          </p:nvSpPr>
          <p:spPr>
            <a:xfrm>
              <a:off x="0" y="5911920"/>
              <a:ext cx="4573440" cy="29196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ice Rese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20520" y="5538240"/>
              <a:ext cx="44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eficit</a:t>
              </a: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            Sufficient              </a:t>
              </a: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Surpl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152960" y="1816200"/>
            <a:ext cx="838080" cy="4622760"/>
            <a:chOff x="4152960" y="1816200"/>
            <a:chExt cx="838080" cy="4622760"/>
          </a:xfrm>
        </p:grpSpPr>
        <p:sp>
          <p:nvSpPr>
            <p:cNvPr id="216" name=""/>
            <p:cNvSpPr/>
            <p:nvPr/>
          </p:nvSpPr>
          <p:spPr>
            <a:xfrm flipH="1" rot="16200000">
              <a:off x="2260440" y="3708360"/>
              <a:ext cx="4622760" cy="838080"/>
            </a:xfrm>
            <a:prstGeom prst="leftRightArrow">
              <a:avLst>
                <a:gd name="adj1" fmla="val 40537"/>
                <a:gd name="adj2" fmla="val 28320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nsity              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36560" y="18169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5720" y="6065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0520" y="3938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0" y="2044800"/>
            <a:ext cx="4394160" cy="3568680"/>
            <a:chOff x="0" y="2044800"/>
            <a:chExt cx="4394160" cy="3568680"/>
          </a:xfrm>
        </p:grpSpPr>
        <p:sp>
          <p:nvSpPr>
            <p:cNvPr id="221" name=""/>
            <p:cNvSpPr/>
            <p:nvPr/>
          </p:nvSpPr>
          <p:spPr>
            <a:xfrm>
              <a:off x="0" y="2044800"/>
              <a:ext cx="4394160" cy="3568680"/>
            </a:xfrm>
            <a:custGeom>
              <a:avLst/>
              <a:gdLst/>
              <a:ahLst/>
              <a:rect l="l" t="t" r="r" b="b"/>
              <a:pathLst>
                <a:path w="2768" h="2248">
                  <a:moveTo>
                    <a:pt x="0" y="0"/>
                  </a:moveTo>
                  <a:lnTo>
                    <a:pt x="568" y="0"/>
                  </a:lnTo>
                  <a:lnTo>
                    <a:pt x="2024" y="2248"/>
                  </a:lnTo>
                  <a:lnTo>
                    <a:pt x="2024" y="1312"/>
                  </a:lnTo>
                  <a:lnTo>
                    <a:pt x="2768" y="1304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15920" y="3055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dI/d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092600" y="177876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ntensification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866600" y="3530520"/>
            <a:ext cx="393480" cy="5968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8640" y="4128480"/>
            <a:ext cx="397440" cy="5947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908760" y="3521160"/>
            <a:ext cx="393840" cy="5968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513120" y="4119120"/>
            <a:ext cx="397080" cy="594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116080" y="3739320"/>
            <a:ext cx="2149560" cy="1823400"/>
            <a:chOff x="2116080" y="3739320"/>
            <a:chExt cx="2149560" cy="1823400"/>
          </a:xfrm>
        </p:grpSpPr>
        <p:sp>
          <p:nvSpPr>
            <p:cNvPr id="229" name=""/>
            <p:cNvSpPr/>
            <p:nvPr/>
          </p:nvSpPr>
          <p:spPr>
            <a:xfrm>
              <a:off x="2116080" y="373932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Maximum Intens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47840" y="4127400"/>
              <a:ext cx="0" cy="14353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116160" y="4113360"/>
            <a:ext cx="1206720" cy="1494360"/>
            <a:chOff x="3116160" y="4113360"/>
            <a:chExt cx="1206720" cy="1494360"/>
          </a:xfrm>
        </p:grpSpPr>
        <p:sp>
          <p:nvSpPr>
            <p:cNvPr id="232" name=""/>
            <p:cNvSpPr/>
            <p:nvPr/>
          </p:nvSpPr>
          <p:spPr>
            <a:xfrm flipH="1" flipV="1">
              <a:off x="3200400" y="4113360"/>
              <a:ext cx="9000" cy="1458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16160" y="4965120"/>
              <a:ext cx="120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Minimum Intens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872960" y="3769560"/>
            <a:ext cx="2084040" cy="1793160"/>
            <a:chOff x="4872960" y="3769560"/>
            <a:chExt cx="2084040" cy="1793160"/>
          </a:xfrm>
        </p:grpSpPr>
        <p:sp>
          <p:nvSpPr>
            <p:cNvPr id="235" name=""/>
            <p:cNvSpPr/>
            <p:nvPr/>
          </p:nvSpPr>
          <p:spPr>
            <a:xfrm>
              <a:off x="6908760" y="4127400"/>
              <a:ext cx="0" cy="14353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2960" y="3769560"/>
              <a:ext cx="208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ximum Intens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851360" y="4113360"/>
            <a:ext cx="1117800" cy="1523160"/>
            <a:chOff x="4851360" y="4113360"/>
            <a:chExt cx="1117800" cy="1523160"/>
          </a:xfrm>
        </p:grpSpPr>
        <p:sp>
          <p:nvSpPr>
            <p:cNvPr id="238" name=""/>
            <p:cNvSpPr/>
            <p:nvPr/>
          </p:nvSpPr>
          <p:spPr>
            <a:xfrm flipH="1" flipV="1">
              <a:off x="5933880" y="4113360"/>
              <a:ext cx="9000" cy="1458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51360" y="4993920"/>
              <a:ext cx="111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inimum Intens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DECISION ON LANDUSE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44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1125360"/>
            <a:ext cx="4570560" cy="457056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5080" y="3425760"/>
            <a:ext cx="45529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3440" y="1123920"/>
            <a:ext cx="0" cy="45720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-711720" y="3217680"/>
            <a:ext cx="45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0000" y="324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46080" y="997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3680" y="54493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19320" y="621432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Recent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67200" y="56840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32560" y="56840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98600" y="3236040"/>
            <a:ext cx="6639480" cy="368280"/>
            <a:chOff x="2298600" y="3236040"/>
            <a:chExt cx="6639480" cy="368280"/>
          </a:xfrm>
        </p:grpSpPr>
        <p:sp>
          <p:nvSpPr>
            <p:cNvPr id="253" name=""/>
            <p:cNvSpPr/>
            <p:nvPr/>
          </p:nvSpPr>
          <p:spPr>
            <a:xfrm>
              <a:off x="2298600" y="3425760"/>
              <a:ext cx="4533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11640" y="3236040"/>
              <a:ext cx="202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Learning Style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305080" y="1139760"/>
            <a:ext cx="6635880" cy="4722120"/>
            <a:chOff x="2305080" y="1139760"/>
            <a:chExt cx="6635880" cy="4722120"/>
          </a:xfrm>
        </p:grpSpPr>
        <p:sp>
          <p:nvSpPr>
            <p:cNvPr id="256" name=""/>
            <p:cNvSpPr/>
            <p:nvPr/>
          </p:nvSpPr>
          <p:spPr>
            <a:xfrm>
              <a:off x="2305080" y="1139760"/>
              <a:ext cx="4533840" cy="45338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08760" y="5493600"/>
              <a:ext cx="20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Learning Style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76640" y="2273400"/>
            <a:ext cx="6851880" cy="2464560"/>
            <a:chOff x="2276640" y="2273400"/>
            <a:chExt cx="6851880" cy="2464560"/>
          </a:xfrm>
        </p:grpSpPr>
        <p:sp>
          <p:nvSpPr>
            <p:cNvPr id="259" name=""/>
            <p:cNvSpPr/>
            <p:nvPr/>
          </p:nvSpPr>
          <p:spPr>
            <a:xfrm flipH="1" flipV="1">
              <a:off x="2276640" y="2273400"/>
              <a:ext cx="4572000" cy="227952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1640" y="4369680"/>
              <a:ext cx="22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Arial"/>
                </a:rPr>
                <a:t>Learning Style = 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424760" y="568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9240" y="5693760"/>
            <a:ext cx="22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est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3440" y="567468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est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947520" y="437112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947520" y="211680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47680" y="1123920"/>
            <a:ext cx="8667720" cy="409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60" y="1962000"/>
            <a:ext cx="5245200" cy="290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36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lo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oil Fertility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rop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108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ousehol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ice Stor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1080" y="38257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cisio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 Use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3560" y="38131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hoice Of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&amp; Cro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39880" y="2387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122720" y="326088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2639880" y="410220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1218960" y="3260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29440" y="1949400"/>
            <a:ext cx="2527200" cy="290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8440" y="235584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18440" y="2924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arbon 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18440" y="352116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io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18440" y="4067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atershe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84880" y="3029040"/>
            <a:ext cx="863640" cy="7491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87200 h 749160"/>
              <a:gd name="textAreaBottom" fmla="*/ 561960 h 749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CHOICE OF FIELDS &amp; CRO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352520" y="1581120"/>
            <a:ext cx="6438960" cy="24004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igher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2520" y="3981600"/>
            <a:ext cx="6438960" cy="2400120"/>
          </a:xfrm>
          <a:prstGeom prst="rect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wer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CHOICE OF FIELDS &amp; CRO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-1752480" y="3314520"/>
            <a:ext cx="4819680" cy="1314360"/>
          </a:xfrm>
          <a:prstGeom prst="rightArrow">
            <a:avLst>
              <a:gd name="adj1" fmla="val 50000"/>
              <a:gd name="adj2" fmla="val 91674"/>
            </a:avLst>
          </a:prstGeom>
          <a:gradFill rotWithShape="0">
            <a:gsLst>
              <a:gs pos="0">
                <a:srgbClr val="ff330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pping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97040" y="1908000"/>
            <a:ext cx="4884120" cy="2115720"/>
            <a:chOff x="1697040" y="1908000"/>
            <a:chExt cx="4884120" cy="211572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1697040" y="1908000"/>
              <a:ext cx="1809720" cy="17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4573440" y="1908000"/>
              <a:ext cx="180972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3390840" y="2174760"/>
              <a:ext cx="294012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9560" y="2514600"/>
              <a:ext cx="0" cy="396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79320" y="36554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6720" y="3626640"/>
              <a:ext cx="22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 + fallow + cropp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0" y="860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HOICE OF FIELDS - RULE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ONSECUTIVELY SELECTED BASED ON CROPPING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697040" y="3666960"/>
            <a:ext cx="6742080" cy="2795040"/>
            <a:chOff x="1697040" y="3666960"/>
            <a:chExt cx="6742080" cy="2795040"/>
          </a:xfrm>
        </p:grpSpPr>
        <p:grpSp>
          <p:nvGrpSpPr>
            <p:cNvPr id="298" name=""/>
            <p:cNvGrpSpPr/>
            <p:nvPr/>
          </p:nvGrpSpPr>
          <p:grpSpPr>
            <a:xfrm>
              <a:off x="1697040" y="4308480"/>
              <a:ext cx="5941440" cy="2153520"/>
              <a:chOff x="1697040" y="4308480"/>
              <a:chExt cx="5941440" cy="2153520"/>
            </a:xfrm>
          </p:grpSpPr>
          <p:pic>
            <p:nvPicPr>
              <p:cNvPr id="2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97040" y="4308480"/>
                <a:ext cx="1809720" cy="174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14920" y="4308480"/>
                <a:ext cx="1809720" cy="17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3390840" y="4565520"/>
                <a:ext cx="39942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37520" y="5248440"/>
                <a:ext cx="0" cy="7394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479320" y="60937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14040" y="6065280"/>
                <a:ext cx="22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 + fallow + cropp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7848720" y="3666960"/>
              <a:ext cx="590400" cy="590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opp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CHOICE OF FIELDS &amp; CRO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93560" y="1454040"/>
            <a:ext cx="3961080" cy="3232440"/>
            <a:chOff x="2293560" y="1454040"/>
            <a:chExt cx="3961080" cy="3232440"/>
          </a:xfrm>
        </p:grpSpPr>
        <p:grpSp>
          <p:nvGrpSpPr>
            <p:cNvPr id="309" name=""/>
            <p:cNvGrpSpPr/>
            <p:nvPr/>
          </p:nvGrpSpPr>
          <p:grpSpPr>
            <a:xfrm>
              <a:off x="2293560" y="1454040"/>
              <a:ext cx="3961080" cy="2524320"/>
              <a:chOff x="2293560" y="1454040"/>
              <a:chExt cx="3961080" cy="2524320"/>
            </a:xfrm>
          </p:grpSpPr>
          <p:sp>
            <p:nvSpPr>
              <p:cNvPr id="310" name=""/>
              <p:cNvSpPr/>
              <p:nvPr/>
            </p:nvSpPr>
            <p:spPr>
              <a:xfrm>
                <a:off x="2914560" y="1467000"/>
                <a:ext cx="3333960" cy="247320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2867040" y="3959280"/>
                <a:ext cx="3387600" cy="14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2921040" y="1981080"/>
                <a:ext cx="3321720" cy="1843200"/>
                <a:chOff x="2921040" y="1981080"/>
                <a:chExt cx="3321720" cy="18432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921040" y="1981080"/>
                  <a:ext cx="1662120" cy="1843200"/>
                </a:xfrm>
                <a:custGeom>
                  <a:avLst/>
                  <a:gdLst/>
                  <a:ahLst/>
                  <a:rect l="l" t="t" r="r" b="b"/>
                  <a:pathLst>
                    <a:path w="1460" h="1728">
                      <a:moveTo>
                        <a:pt x="2" y="1722"/>
                      </a:moveTo>
                      <a:cubicBezTo>
                        <a:pt x="8" y="1726"/>
                        <a:pt x="0" y="1728"/>
                        <a:pt x="16" y="1720"/>
                      </a:cubicBezTo>
                      <a:cubicBezTo>
                        <a:pt x="16" y="1728"/>
                        <a:pt x="154" y="1706"/>
                        <a:pt x="160" y="1704"/>
                      </a:cubicBezTo>
                      <a:cubicBezTo>
                        <a:pt x="191" y="1695"/>
                        <a:pt x="53" y="1725"/>
                        <a:pt x="92" y="1720"/>
                      </a:cubicBezTo>
                      <a:cubicBezTo>
                        <a:pt x="129" y="1708"/>
                        <a:pt x="210" y="1695"/>
                        <a:pt x="242" y="1674"/>
                      </a:cubicBezTo>
                      <a:cubicBezTo>
                        <a:pt x="260" y="1662"/>
                        <a:pt x="323" y="1615"/>
                        <a:pt x="344" y="1608"/>
                      </a:cubicBezTo>
                      <a:cubicBezTo>
                        <a:pt x="372" y="1599"/>
                        <a:pt x="394" y="1562"/>
                        <a:pt x="416" y="1542"/>
                      </a:cubicBezTo>
                      <a:cubicBezTo>
                        <a:pt x="446" y="1515"/>
                        <a:pt x="433" y="1532"/>
                        <a:pt x="458" y="1500"/>
                      </a:cubicBezTo>
                      <a:cubicBezTo>
                        <a:pt x="478" y="1474"/>
                        <a:pt x="489" y="1451"/>
                        <a:pt x="512" y="1428"/>
                      </a:cubicBezTo>
                      <a:cubicBezTo>
                        <a:pt x="527" y="1383"/>
                        <a:pt x="560" y="1372"/>
                        <a:pt x="572" y="1328"/>
                      </a:cubicBezTo>
                      <a:cubicBezTo>
                        <a:pt x="584" y="1328"/>
                        <a:pt x="655" y="1178"/>
                        <a:pt x="660" y="1164"/>
                      </a:cubicBezTo>
                      <a:cubicBezTo>
                        <a:pt x="671" y="1132"/>
                        <a:pt x="600" y="1269"/>
                        <a:pt x="628" y="1228"/>
                      </a:cubicBezTo>
                      <a:cubicBezTo>
                        <a:pt x="649" y="1196"/>
                        <a:pt x="679" y="1126"/>
                        <a:pt x="696" y="1092"/>
                      </a:cubicBezTo>
                      <a:cubicBezTo>
                        <a:pt x="727" y="1029"/>
                        <a:pt x="710" y="1049"/>
                        <a:pt x="744" y="988"/>
                      </a:cubicBezTo>
                      <a:cubicBezTo>
                        <a:pt x="761" y="958"/>
                        <a:pt x="784" y="898"/>
                        <a:pt x="800" y="868"/>
                      </a:cubicBezTo>
                      <a:cubicBezTo>
                        <a:pt x="807" y="855"/>
                        <a:pt x="839" y="798"/>
                        <a:pt x="844" y="784"/>
                      </a:cubicBezTo>
                      <a:cubicBezTo>
                        <a:pt x="900" y="660"/>
                        <a:pt x="900" y="664"/>
                        <a:pt x="976" y="512"/>
                      </a:cubicBezTo>
                      <a:cubicBezTo>
                        <a:pt x="1013" y="438"/>
                        <a:pt x="1092" y="308"/>
                        <a:pt x="1144" y="224"/>
                      </a:cubicBezTo>
                      <a:cubicBezTo>
                        <a:pt x="1208" y="120"/>
                        <a:pt x="1266" y="81"/>
                        <a:pt x="1334" y="36"/>
                      </a:cubicBezTo>
                      <a:cubicBezTo>
                        <a:pt x="1356" y="21"/>
                        <a:pt x="1386" y="11"/>
                        <a:pt x="1412" y="6"/>
                      </a:cubicBezTo>
                      <a:cubicBezTo>
                        <a:pt x="1425" y="3"/>
                        <a:pt x="1450" y="1"/>
                        <a:pt x="1460" y="0"/>
                      </a:cubicBezTo>
                    </a:path>
                  </a:pathLst>
                </a:custGeom>
                <a:noFill/>
                <a:ln w="7632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4580280" y="1981080"/>
                  <a:ext cx="1662120" cy="1843200"/>
                </a:xfrm>
                <a:custGeom>
                  <a:avLst/>
                  <a:gdLst/>
                  <a:ahLst/>
                  <a:rect l="l" t="t" r="r" b="b"/>
                  <a:pathLst>
                    <a:path w="1460" h="1728">
                      <a:moveTo>
                        <a:pt x="2" y="1722"/>
                      </a:moveTo>
                      <a:cubicBezTo>
                        <a:pt x="8" y="1726"/>
                        <a:pt x="0" y="1728"/>
                        <a:pt x="16" y="1720"/>
                      </a:cubicBezTo>
                      <a:cubicBezTo>
                        <a:pt x="16" y="1728"/>
                        <a:pt x="154" y="1706"/>
                        <a:pt x="160" y="1704"/>
                      </a:cubicBezTo>
                      <a:cubicBezTo>
                        <a:pt x="191" y="1695"/>
                        <a:pt x="53" y="1725"/>
                        <a:pt x="92" y="1720"/>
                      </a:cubicBezTo>
                      <a:cubicBezTo>
                        <a:pt x="129" y="1708"/>
                        <a:pt x="210" y="1695"/>
                        <a:pt x="242" y="1674"/>
                      </a:cubicBezTo>
                      <a:cubicBezTo>
                        <a:pt x="260" y="1662"/>
                        <a:pt x="323" y="1615"/>
                        <a:pt x="344" y="1608"/>
                      </a:cubicBezTo>
                      <a:cubicBezTo>
                        <a:pt x="372" y="1599"/>
                        <a:pt x="394" y="1562"/>
                        <a:pt x="416" y="1542"/>
                      </a:cubicBezTo>
                      <a:cubicBezTo>
                        <a:pt x="446" y="1515"/>
                        <a:pt x="433" y="1532"/>
                        <a:pt x="458" y="1500"/>
                      </a:cubicBezTo>
                      <a:cubicBezTo>
                        <a:pt x="478" y="1474"/>
                        <a:pt x="489" y="1451"/>
                        <a:pt x="512" y="1428"/>
                      </a:cubicBezTo>
                      <a:cubicBezTo>
                        <a:pt x="527" y="1383"/>
                        <a:pt x="560" y="1372"/>
                        <a:pt x="572" y="1328"/>
                      </a:cubicBezTo>
                      <a:cubicBezTo>
                        <a:pt x="584" y="1328"/>
                        <a:pt x="655" y="1178"/>
                        <a:pt x="660" y="1164"/>
                      </a:cubicBezTo>
                      <a:cubicBezTo>
                        <a:pt x="671" y="1132"/>
                        <a:pt x="600" y="1269"/>
                        <a:pt x="628" y="1228"/>
                      </a:cubicBezTo>
                      <a:cubicBezTo>
                        <a:pt x="649" y="1196"/>
                        <a:pt x="679" y="1126"/>
                        <a:pt x="696" y="1092"/>
                      </a:cubicBezTo>
                      <a:cubicBezTo>
                        <a:pt x="727" y="1029"/>
                        <a:pt x="710" y="1049"/>
                        <a:pt x="744" y="988"/>
                      </a:cubicBezTo>
                      <a:cubicBezTo>
                        <a:pt x="761" y="958"/>
                        <a:pt x="784" y="898"/>
                        <a:pt x="800" y="868"/>
                      </a:cubicBezTo>
                      <a:cubicBezTo>
                        <a:pt x="807" y="855"/>
                        <a:pt x="839" y="798"/>
                        <a:pt x="844" y="784"/>
                      </a:cubicBezTo>
                      <a:cubicBezTo>
                        <a:pt x="900" y="660"/>
                        <a:pt x="900" y="664"/>
                        <a:pt x="976" y="512"/>
                      </a:cubicBezTo>
                      <a:cubicBezTo>
                        <a:pt x="1013" y="438"/>
                        <a:pt x="1092" y="308"/>
                        <a:pt x="1144" y="224"/>
                      </a:cubicBezTo>
                      <a:cubicBezTo>
                        <a:pt x="1208" y="120"/>
                        <a:pt x="1266" y="81"/>
                        <a:pt x="1334" y="36"/>
                      </a:cubicBezTo>
                      <a:cubicBezTo>
                        <a:pt x="1356" y="21"/>
                        <a:pt x="1386" y="11"/>
                        <a:pt x="1412" y="6"/>
                      </a:cubicBezTo>
                      <a:cubicBezTo>
                        <a:pt x="1425" y="3"/>
                        <a:pt x="1450" y="1"/>
                        <a:pt x="1460" y="0"/>
                      </a:cubicBezTo>
                    </a:path>
                  </a:pathLst>
                </a:custGeom>
                <a:noFill/>
                <a:ln w="7632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2892600" y="1463760"/>
                <a:ext cx="1440" cy="25146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73440" y="1467000"/>
                <a:ext cx="0" cy="2466720"/>
              </a:xfrm>
              <a:prstGeom prst="line">
                <a:avLst/>
              </a:prstGeom>
              <a:ln cap="rnd" w="936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1362960" y="2384280"/>
                <a:ext cx="250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Probabil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To Be Cropp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886120" y="4038480"/>
              <a:ext cx="3362400" cy="648000"/>
            </a:xfrm>
            <a:prstGeom prst="rightArrow">
              <a:avLst>
                <a:gd name="adj1" fmla="val 55880"/>
                <a:gd name="adj2" fmla="val 40406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eld Attractive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632680" y="4361760"/>
            <a:ext cx="3618720" cy="965880"/>
            <a:chOff x="2632680" y="4361760"/>
            <a:chExt cx="3618720" cy="965880"/>
          </a:xfrm>
        </p:grpSpPr>
        <p:sp>
          <p:nvSpPr>
            <p:cNvPr id="320" name=""/>
            <p:cNvSpPr/>
            <p:nvPr/>
          </p:nvSpPr>
          <p:spPr>
            <a:xfrm>
              <a:off x="2867040" y="4680000"/>
              <a:ext cx="3384360" cy="647640"/>
            </a:xfrm>
            <a:prstGeom prst="rightArrow">
              <a:avLst>
                <a:gd name="adj1" fmla="val 55880"/>
                <a:gd name="adj2" fmla="val 40693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il Fert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1" name=""/>
            <p:cNvCxnSpPr>
              <a:stCxn id="320" idx="0"/>
              <a:endCxn id="318" idx="0"/>
            </p:cNvCxnSpPr>
            <p:nvPr/>
          </p:nvCxnSpPr>
          <p:spPr>
            <a:xfrm flipH="1" rot="10800000">
              <a:off x="2865960" y="4361760"/>
              <a:ext cx="19800" cy="641880"/>
            </a:xfrm>
            <a:prstGeom prst="bentConnector3">
              <a:avLst>
                <a:gd name="adj1" fmla="val -1200000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322" name=""/>
          <p:cNvGrpSpPr/>
          <p:nvPr/>
        </p:nvGrpSpPr>
        <p:grpSpPr>
          <a:xfrm>
            <a:off x="2617560" y="4362120"/>
            <a:ext cx="3637080" cy="1609920"/>
            <a:chOff x="2617560" y="4362120"/>
            <a:chExt cx="3637080" cy="1609920"/>
          </a:xfrm>
        </p:grpSpPr>
        <p:sp>
          <p:nvSpPr>
            <p:cNvPr id="323" name=""/>
            <p:cNvSpPr/>
            <p:nvPr/>
          </p:nvSpPr>
          <p:spPr>
            <a:xfrm>
              <a:off x="2892600" y="5324400"/>
              <a:ext cx="3362040" cy="647640"/>
            </a:xfrm>
            <a:prstGeom prst="rightArrow">
              <a:avLst>
                <a:gd name="adj1" fmla="val 55880"/>
                <a:gd name="adj2" fmla="val 40424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cess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4" name=""/>
            <p:cNvCxnSpPr>
              <a:stCxn id="323" idx="0"/>
              <a:endCxn id="318" idx="1"/>
            </p:cNvCxnSpPr>
            <p:nvPr/>
          </p:nvCxnSpPr>
          <p:spPr>
            <a:xfrm rot="10800000">
              <a:off x="2885400" y="4361760"/>
              <a:ext cx="7200" cy="1286640"/>
            </a:xfrm>
            <a:prstGeom prst="bentConnector3">
              <a:avLst>
                <a:gd name="adj1" fmla="val 4021052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25" name=""/>
          <p:cNvSpPr/>
          <p:nvPr/>
        </p:nvSpPr>
        <p:spPr>
          <a:xfrm>
            <a:off x="2889360" y="5895720"/>
            <a:ext cx="32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tance to road &amp; v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n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est reserve &amp; sett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860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HOICE OF FIELDS - RULE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RANDOMLY SELECTED BASED ON FIELD ATTRA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CHOICE OF FIELDS &amp; CRO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0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HOICE OF CROP 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2000" y="1403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1) DEFINED BY USER (HOMOGENEO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2) BASED ON MAXIMUM EXPECTED YIELD AS FUNCTION OF PLOT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234520" y="2357280"/>
            <a:ext cx="5297040" cy="3446640"/>
            <a:chOff x="2234520" y="2357280"/>
            <a:chExt cx="5297040" cy="3446640"/>
          </a:xfrm>
        </p:grpSpPr>
        <p:sp>
          <p:nvSpPr>
            <p:cNvPr id="332" name=""/>
            <p:cNvSpPr/>
            <p:nvPr/>
          </p:nvSpPr>
          <p:spPr>
            <a:xfrm>
              <a:off x="2629080" y="2381400"/>
              <a:ext cx="3867120" cy="27432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38440" y="3362400"/>
              <a:ext cx="3838680" cy="1724040"/>
            </a:xfrm>
            <a:custGeom>
              <a:avLst/>
              <a:gdLst/>
              <a:ahLst/>
              <a:rect l="l" t="t" r="r" b="b"/>
              <a:pathLst>
                <a:path w="2442" h="1086">
                  <a:moveTo>
                    <a:pt x="0" y="1086"/>
                  </a:moveTo>
                  <a:cubicBezTo>
                    <a:pt x="90" y="1075"/>
                    <a:pt x="215" y="1078"/>
                    <a:pt x="306" y="1086"/>
                  </a:cubicBezTo>
                  <a:cubicBezTo>
                    <a:pt x="418" y="1084"/>
                    <a:pt x="500" y="1079"/>
                    <a:pt x="612" y="1074"/>
                  </a:cubicBezTo>
                  <a:cubicBezTo>
                    <a:pt x="683" y="1071"/>
                    <a:pt x="743" y="1031"/>
                    <a:pt x="810" y="1014"/>
                  </a:cubicBezTo>
                  <a:cubicBezTo>
                    <a:pt x="855" y="984"/>
                    <a:pt x="912" y="970"/>
                    <a:pt x="954" y="936"/>
                  </a:cubicBezTo>
                  <a:cubicBezTo>
                    <a:pt x="990" y="907"/>
                    <a:pt x="1017" y="872"/>
                    <a:pt x="1056" y="846"/>
                  </a:cubicBezTo>
                  <a:cubicBezTo>
                    <a:pt x="1098" y="784"/>
                    <a:pt x="1169" y="737"/>
                    <a:pt x="1230" y="696"/>
                  </a:cubicBezTo>
                  <a:cubicBezTo>
                    <a:pt x="1265" y="643"/>
                    <a:pt x="1328" y="621"/>
                    <a:pt x="1362" y="570"/>
                  </a:cubicBezTo>
                  <a:cubicBezTo>
                    <a:pt x="1380" y="543"/>
                    <a:pt x="1405" y="521"/>
                    <a:pt x="1428" y="498"/>
                  </a:cubicBezTo>
                  <a:cubicBezTo>
                    <a:pt x="1444" y="482"/>
                    <a:pt x="1469" y="475"/>
                    <a:pt x="1482" y="456"/>
                  </a:cubicBezTo>
                  <a:cubicBezTo>
                    <a:pt x="1509" y="415"/>
                    <a:pt x="1598" y="335"/>
                    <a:pt x="1644" y="312"/>
                  </a:cubicBezTo>
                  <a:cubicBezTo>
                    <a:pt x="1659" y="289"/>
                    <a:pt x="1705" y="245"/>
                    <a:pt x="1722" y="234"/>
                  </a:cubicBezTo>
                  <a:cubicBezTo>
                    <a:pt x="1734" y="226"/>
                    <a:pt x="1758" y="210"/>
                    <a:pt x="1758" y="210"/>
                  </a:cubicBezTo>
                  <a:cubicBezTo>
                    <a:pt x="1776" y="182"/>
                    <a:pt x="1805" y="171"/>
                    <a:pt x="1830" y="150"/>
                  </a:cubicBezTo>
                  <a:cubicBezTo>
                    <a:pt x="2004" y="0"/>
                    <a:pt x="2219" y="18"/>
                    <a:pt x="2442" y="18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38440" y="2997360"/>
              <a:ext cx="3848040" cy="2098440"/>
            </a:xfrm>
            <a:custGeom>
              <a:avLst/>
              <a:gdLst/>
              <a:ahLst/>
              <a:rect l="l" t="t" r="r" b="b"/>
              <a:pathLst>
                <a:path w="2430" h="1322">
                  <a:moveTo>
                    <a:pt x="0" y="1322"/>
                  </a:moveTo>
                  <a:cubicBezTo>
                    <a:pt x="96" y="1317"/>
                    <a:pt x="143" y="1308"/>
                    <a:pt x="228" y="1280"/>
                  </a:cubicBezTo>
                  <a:cubicBezTo>
                    <a:pt x="266" y="1267"/>
                    <a:pt x="293" y="1232"/>
                    <a:pt x="330" y="1220"/>
                  </a:cubicBezTo>
                  <a:cubicBezTo>
                    <a:pt x="361" y="1189"/>
                    <a:pt x="400" y="1176"/>
                    <a:pt x="432" y="1148"/>
                  </a:cubicBezTo>
                  <a:cubicBezTo>
                    <a:pt x="496" y="1093"/>
                    <a:pt x="558" y="1040"/>
                    <a:pt x="618" y="980"/>
                  </a:cubicBezTo>
                  <a:cubicBezTo>
                    <a:pt x="628" y="970"/>
                    <a:pt x="644" y="966"/>
                    <a:pt x="654" y="956"/>
                  </a:cubicBezTo>
                  <a:cubicBezTo>
                    <a:pt x="690" y="920"/>
                    <a:pt x="731" y="894"/>
                    <a:pt x="768" y="860"/>
                  </a:cubicBezTo>
                  <a:cubicBezTo>
                    <a:pt x="811" y="821"/>
                    <a:pt x="847" y="775"/>
                    <a:pt x="888" y="734"/>
                  </a:cubicBezTo>
                  <a:cubicBezTo>
                    <a:pt x="973" y="649"/>
                    <a:pt x="1061" y="567"/>
                    <a:pt x="1146" y="482"/>
                  </a:cubicBezTo>
                  <a:cubicBezTo>
                    <a:pt x="1181" y="447"/>
                    <a:pt x="1213" y="403"/>
                    <a:pt x="1248" y="368"/>
                  </a:cubicBezTo>
                  <a:cubicBezTo>
                    <a:pt x="1304" y="312"/>
                    <a:pt x="1225" y="407"/>
                    <a:pt x="1284" y="338"/>
                  </a:cubicBezTo>
                  <a:cubicBezTo>
                    <a:pt x="1291" y="330"/>
                    <a:pt x="1294" y="321"/>
                    <a:pt x="1302" y="314"/>
                  </a:cubicBezTo>
                  <a:cubicBezTo>
                    <a:pt x="1309" y="308"/>
                    <a:pt x="1319" y="308"/>
                    <a:pt x="1326" y="302"/>
                  </a:cubicBezTo>
                  <a:cubicBezTo>
                    <a:pt x="1347" y="285"/>
                    <a:pt x="1366" y="266"/>
                    <a:pt x="1386" y="248"/>
                  </a:cubicBezTo>
                  <a:cubicBezTo>
                    <a:pt x="1450" y="191"/>
                    <a:pt x="1514" y="137"/>
                    <a:pt x="1596" y="110"/>
                  </a:cubicBezTo>
                  <a:cubicBezTo>
                    <a:pt x="1619" y="102"/>
                    <a:pt x="1637" y="86"/>
                    <a:pt x="1662" y="80"/>
                  </a:cubicBezTo>
                  <a:cubicBezTo>
                    <a:pt x="1705" y="52"/>
                    <a:pt x="1763" y="55"/>
                    <a:pt x="1812" y="50"/>
                  </a:cubicBezTo>
                  <a:cubicBezTo>
                    <a:pt x="2012" y="0"/>
                    <a:pt x="2430" y="38"/>
                    <a:pt x="2430" y="38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38440" y="3772080"/>
              <a:ext cx="3838680" cy="1095120"/>
            </a:xfrm>
            <a:custGeom>
              <a:avLst/>
              <a:gdLst/>
              <a:ahLst/>
              <a:rect l="l" t="t" r="r" b="b"/>
              <a:pathLst>
                <a:path w="2418" h="690">
                  <a:moveTo>
                    <a:pt x="0" y="690"/>
                  </a:moveTo>
                  <a:cubicBezTo>
                    <a:pt x="199" y="686"/>
                    <a:pt x="389" y="685"/>
                    <a:pt x="582" y="642"/>
                  </a:cubicBezTo>
                  <a:cubicBezTo>
                    <a:pt x="689" y="618"/>
                    <a:pt x="791" y="574"/>
                    <a:pt x="894" y="540"/>
                  </a:cubicBezTo>
                  <a:cubicBezTo>
                    <a:pt x="969" y="515"/>
                    <a:pt x="1039" y="463"/>
                    <a:pt x="1116" y="444"/>
                  </a:cubicBezTo>
                  <a:cubicBezTo>
                    <a:pt x="1138" y="429"/>
                    <a:pt x="1157" y="420"/>
                    <a:pt x="1182" y="414"/>
                  </a:cubicBezTo>
                  <a:cubicBezTo>
                    <a:pt x="1222" y="388"/>
                    <a:pt x="1266" y="381"/>
                    <a:pt x="1308" y="360"/>
                  </a:cubicBezTo>
                  <a:cubicBezTo>
                    <a:pt x="1361" y="334"/>
                    <a:pt x="1413" y="313"/>
                    <a:pt x="1470" y="294"/>
                  </a:cubicBezTo>
                  <a:cubicBezTo>
                    <a:pt x="1504" y="283"/>
                    <a:pt x="1537" y="264"/>
                    <a:pt x="1572" y="252"/>
                  </a:cubicBezTo>
                  <a:cubicBezTo>
                    <a:pt x="1605" y="241"/>
                    <a:pt x="1637" y="224"/>
                    <a:pt x="1668" y="210"/>
                  </a:cubicBezTo>
                  <a:cubicBezTo>
                    <a:pt x="1718" y="188"/>
                    <a:pt x="1775" y="180"/>
                    <a:pt x="1824" y="156"/>
                  </a:cubicBezTo>
                  <a:cubicBezTo>
                    <a:pt x="1850" y="143"/>
                    <a:pt x="1876" y="133"/>
                    <a:pt x="1902" y="120"/>
                  </a:cubicBezTo>
                  <a:cubicBezTo>
                    <a:pt x="1921" y="111"/>
                    <a:pt x="1943" y="111"/>
                    <a:pt x="1962" y="102"/>
                  </a:cubicBezTo>
                  <a:cubicBezTo>
                    <a:pt x="1996" y="85"/>
                    <a:pt x="2027" y="76"/>
                    <a:pt x="2064" y="66"/>
                  </a:cubicBezTo>
                  <a:cubicBezTo>
                    <a:pt x="2108" y="54"/>
                    <a:pt x="2151" y="34"/>
                    <a:pt x="2196" y="24"/>
                  </a:cubicBezTo>
                  <a:cubicBezTo>
                    <a:pt x="2246" y="12"/>
                    <a:pt x="2295" y="6"/>
                    <a:pt x="2346" y="0"/>
                  </a:cubicBezTo>
                  <a:cubicBezTo>
                    <a:pt x="2398" y="7"/>
                    <a:pt x="2374" y="6"/>
                    <a:pt x="2418" y="6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19360" y="5156280"/>
              <a:ext cx="3860640" cy="647640"/>
            </a:xfrm>
            <a:prstGeom prst="rightArrow">
              <a:avLst>
                <a:gd name="adj1" fmla="val 55880"/>
                <a:gd name="adj2" fmla="val 46419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tive Soil Fert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6200000">
              <a:off x="1035720" y="3555720"/>
              <a:ext cx="27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Expected Yie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63800" y="358848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ass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63440" y="28267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Ma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82520" y="32076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R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47680" y="1123920"/>
            <a:ext cx="8667720" cy="409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7360" y="1962000"/>
            <a:ext cx="5245200" cy="290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36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lo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oil Fertility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rop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2108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ousehol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ice Stor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21080" y="38257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cisio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 Use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3560" y="38131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hoice Of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&amp; Cro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39880" y="2387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5400000">
            <a:off x="4122720" y="326088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0800000">
            <a:off x="2639880" y="410220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1218960" y="3260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29440" y="1949400"/>
            <a:ext cx="2527200" cy="290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18440" y="235584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18440" y="2924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arbon 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18440" y="352116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io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8440" y="4067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atershe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84880" y="3029040"/>
            <a:ext cx="863640" cy="7491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87200 h 749160"/>
              <a:gd name="textAreaBottom" fmla="*/ 561960 h 749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LANDSCAPE 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LANDSCAPE 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61960" y="1219320"/>
            <a:ext cx="8315280" cy="5514840"/>
            <a:chOff x="561960" y="1219320"/>
            <a:chExt cx="8315280" cy="5514840"/>
          </a:xfrm>
        </p:grpSpPr>
        <p:sp>
          <p:nvSpPr>
            <p:cNvPr id="362" name=""/>
            <p:cNvSpPr/>
            <p:nvPr/>
          </p:nvSpPr>
          <p:spPr>
            <a:xfrm>
              <a:off x="2228760" y="4533840"/>
              <a:ext cx="1657440" cy="1104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Pione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7360" y="3429000"/>
              <a:ext cx="1657440" cy="1104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Ear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4160" y="2324160"/>
              <a:ext cx="1657440" cy="11048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19800" y="1219320"/>
              <a:ext cx="1657440" cy="11048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li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1960" y="5629320"/>
              <a:ext cx="1657440" cy="1104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eared/Bur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o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2920" y="671040"/>
            <a:ext cx="6536880" cy="4958640"/>
            <a:chOff x="682920" y="671040"/>
            <a:chExt cx="6536880" cy="4958640"/>
          </a:xfrm>
        </p:grpSpPr>
        <p:sp>
          <p:nvSpPr>
            <p:cNvPr id="368" name=""/>
            <p:cNvSpPr/>
            <p:nvPr/>
          </p:nvSpPr>
          <p:spPr>
            <a:xfrm rot="19582200">
              <a:off x="479160" y="2093760"/>
              <a:ext cx="5410080" cy="900360"/>
            </a:xfrm>
            <a:prstGeom prst="leftArrow">
              <a:avLst>
                <a:gd name="adj1" fmla="val 53898"/>
                <a:gd name="adj2" fmla="val 74748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ricultural Intens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9" name=""/>
            <p:cNvCxnSpPr>
              <a:stCxn id="365" idx="1"/>
              <a:endCxn id="366" idx="0"/>
            </p:cNvCxnSpPr>
            <p:nvPr/>
          </p:nvCxnSpPr>
          <p:spPr>
            <a:xfrm flipV="1" rot="10800000">
              <a:off x="1389960" y="1771200"/>
              <a:ext cx="5829840" cy="3858480"/>
            </a:xfrm>
            <a:prstGeom prst="curvedConnector2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370" name=""/>
            <p:cNvCxnSpPr>
              <a:stCxn id="364" idx="1"/>
              <a:endCxn id="366" idx="0"/>
            </p:cNvCxnSpPr>
            <p:nvPr/>
          </p:nvCxnSpPr>
          <p:spPr>
            <a:xfrm flipV="1" rot="10800000">
              <a:off x="1389960" y="2875320"/>
              <a:ext cx="4174200" cy="2753640"/>
            </a:xfrm>
            <a:prstGeom prst="curvedConnector2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371" name=""/>
            <p:cNvCxnSpPr>
              <a:stCxn id="363" idx="1"/>
              <a:endCxn id="366" idx="0"/>
            </p:cNvCxnSpPr>
            <p:nvPr/>
          </p:nvCxnSpPr>
          <p:spPr>
            <a:xfrm flipV="1" rot="10800000">
              <a:off x="1389960" y="3980520"/>
              <a:ext cx="2507400" cy="1648440"/>
            </a:xfrm>
            <a:prstGeom prst="curvedConnector2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62" idx="1"/>
              <a:endCxn id="366" idx="0"/>
            </p:cNvCxnSpPr>
            <p:nvPr/>
          </p:nvCxnSpPr>
          <p:spPr>
            <a:xfrm flipV="1" rot="10800000">
              <a:off x="1389960" y="5086080"/>
              <a:ext cx="838800" cy="543600"/>
            </a:xfrm>
            <a:prstGeom prst="curvedConnector2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373" name=""/>
            <p:cNvSpPr/>
            <p:nvPr/>
          </p:nvSpPr>
          <p:spPr>
            <a:xfrm>
              <a:off x="5450040" y="1328760"/>
              <a:ext cx="17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Wild Fires/S&amp;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219400" y="2323800"/>
            <a:ext cx="7629480" cy="4731120"/>
            <a:chOff x="2219400" y="2323800"/>
            <a:chExt cx="7629480" cy="4731120"/>
          </a:xfrm>
        </p:grpSpPr>
        <p:sp>
          <p:nvSpPr>
            <p:cNvPr id="375" name=""/>
            <p:cNvSpPr/>
            <p:nvPr/>
          </p:nvSpPr>
          <p:spPr>
            <a:xfrm rot="19549200">
              <a:off x="3608280" y="4444560"/>
              <a:ext cx="5883480" cy="1047960"/>
            </a:xfrm>
            <a:prstGeom prst="rightArrow">
              <a:avLst>
                <a:gd name="adj1" fmla="val 46361"/>
                <a:gd name="adj2" fmla="val 3966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cc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cc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" name=""/>
            <p:cNvCxnSpPr/>
            <p:nvPr/>
          </p:nvCxnSpPr>
          <p:spPr>
            <a:xfrm flipV="1">
              <a:off x="3885840" y="4533120"/>
              <a:ext cx="840600" cy="55332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77" name=""/>
            <p:cNvCxnSpPr/>
            <p:nvPr/>
          </p:nvCxnSpPr>
          <p:spPr>
            <a:xfrm flipV="1">
              <a:off x="5554800" y="3428280"/>
              <a:ext cx="838800" cy="55332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78" name=""/>
            <p:cNvCxnSpPr/>
            <p:nvPr/>
          </p:nvCxnSpPr>
          <p:spPr>
            <a:xfrm flipV="1">
              <a:off x="2219400" y="5638320"/>
              <a:ext cx="838800" cy="54360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79" name=""/>
            <p:cNvCxnSpPr/>
            <p:nvPr/>
          </p:nvCxnSpPr>
          <p:spPr>
            <a:xfrm flipV="1">
              <a:off x="7221240" y="2323800"/>
              <a:ext cx="827640" cy="55296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4573440" y="497052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Fal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59520" y="388476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Fal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16960" y="277956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Fal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73240" y="5789520"/>
              <a:ext cx="687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Fal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(starting at t &gt; cropping time for cropped field as part of AF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057400" y="1862280"/>
            <a:ext cx="6359400" cy="3902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LANDSCAPE 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1165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UCCESSION OF FALLOW VEGE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04840" y="1962000"/>
            <a:ext cx="990720" cy="3362400"/>
          </a:xfrm>
          <a:prstGeom prst="flowChartProcess">
            <a:avLst/>
          </a:prstGeom>
          <a:gradFill rotWithShape="0">
            <a:gsLst>
              <a:gs pos="0">
                <a:srgbClr val="0033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04480" y="50079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on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37320" y="407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78920" y="30171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36160" y="20073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93360" y="257904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grofor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09720" y="46936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71880" y="5737320"/>
            <a:ext cx="62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Minimum Age (y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-782280" y="3439800"/>
            <a:ext cx="33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uccessional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480" y="1823760"/>
            <a:ext cx="76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ALLOW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(‘Forest, Agroforest, Low-value Lands Or  Waste?’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CRaster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53320" y="3500280"/>
            <a:ext cx="61516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Meine van Noordwijk, Betha Lusiana, Rachmat Mu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nd Desi Suyam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Centre for Research in Agrofore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1582560"/>
            <a:ext cx="6969240" cy="42800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LANDSCAPE 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1165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DISTURBANCE ON SUCCESSIONAL PROCESS: WILD FIRE FROM S&amp;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76440" y="3933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86440" y="47181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grofor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-915840" y="350028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robability of F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00480" y="2467080"/>
            <a:ext cx="0" cy="13618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817560" y="360324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69960" y="583416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uccessional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71680" y="4181400"/>
            <a:ext cx="0" cy="9334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OPTIONAL MODULE: FOREST &amp; AF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24120" y="1714680"/>
            <a:ext cx="3686040" cy="2647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71640" y="1844640"/>
            <a:ext cx="3571920" cy="2498760"/>
          </a:xfrm>
          <a:custGeom>
            <a:avLst/>
            <a:gdLst/>
            <a:ahLst/>
            <a:rect l="l" t="t" r="r" b="b"/>
            <a:pathLst>
              <a:path w="2436" h="1442">
                <a:moveTo>
                  <a:pt x="0" y="1442"/>
                </a:moveTo>
                <a:cubicBezTo>
                  <a:pt x="8" y="1346"/>
                  <a:pt x="16" y="1250"/>
                  <a:pt x="24" y="1154"/>
                </a:cubicBezTo>
                <a:cubicBezTo>
                  <a:pt x="37" y="994"/>
                  <a:pt x="82" y="837"/>
                  <a:pt x="132" y="686"/>
                </a:cubicBezTo>
                <a:cubicBezTo>
                  <a:pt x="192" y="507"/>
                  <a:pt x="300" y="307"/>
                  <a:pt x="450" y="182"/>
                </a:cubicBezTo>
                <a:cubicBezTo>
                  <a:pt x="501" y="140"/>
                  <a:pt x="577" y="78"/>
                  <a:pt x="642" y="56"/>
                </a:cubicBezTo>
                <a:cubicBezTo>
                  <a:pt x="743" y="22"/>
                  <a:pt x="771" y="29"/>
                  <a:pt x="876" y="14"/>
                </a:cubicBezTo>
                <a:cubicBezTo>
                  <a:pt x="1147" y="0"/>
                  <a:pt x="1988" y="6"/>
                  <a:pt x="2212" y="6"/>
                </a:cubicBezTo>
                <a:cubicBezTo>
                  <a:pt x="2436" y="6"/>
                  <a:pt x="2218" y="12"/>
                  <a:pt x="2220" y="14"/>
                </a:cubicBezTo>
              </a:path>
            </a:pathLst>
          </a:custGeom>
          <a:noFill/>
          <a:ln w="572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05040" y="4381560"/>
            <a:ext cx="3695760" cy="819000"/>
          </a:xfrm>
          <a:prstGeom prst="rightArrow">
            <a:avLst>
              <a:gd name="adj1" fmla="val 48454"/>
              <a:gd name="adj2" fmla="val 47110"/>
            </a:avLst>
          </a:prstGeom>
          <a:gradFill rotWithShape="0">
            <a:gsLst>
              <a:gs pos="0">
                <a:srgbClr val="003399"/>
              </a:gs>
              <a:gs pos="100000">
                <a:srgbClr val="99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or 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05040" y="5219640"/>
            <a:ext cx="3695760" cy="819360"/>
          </a:xfrm>
          <a:prstGeom prst="rightArrow">
            <a:avLst>
              <a:gd name="adj1" fmla="val 48454"/>
              <a:gd name="adj2" fmla="val 47089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71640" y="3483000"/>
            <a:ext cx="3571920" cy="841320"/>
          </a:xfrm>
          <a:custGeom>
            <a:avLst/>
            <a:gdLst/>
            <a:ahLst/>
            <a:rect l="l" t="t" r="r" b="b"/>
            <a:pathLst>
              <a:path w="2436" h="1442">
                <a:moveTo>
                  <a:pt x="0" y="1442"/>
                </a:moveTo>
                <a:cubicBezTo>
                  <a:pt x="8" y="1346"/>
                  <a:pt x="16" y="1250"/>
                  <a:pt x="24" y="1154"/>
                </a:cubicBezTo>
                <a:cubicBezTo>
                  <a:pt x="37" y="994"/>
                  <a:pt x="82" y="837"/>
                  <a:pt x="132" y="686"/>
                </a:cubicBezTo>
                <a:cubicBezTo>
                  <a:pt x="192" y="507"/>
                  <a:pt x="300" y="307"/>
                  <a:pt x="450" y="182"/>
                </a:cubicBezTo>
                <a:cubicBezTo>
                  <a:pt x="501" y="140"/>
                  <a:pt x="577" y="78"/>
                  <a:pt x="642" y="56"/>
                </a:cubicBezTo>
                <a:cubicBezTo>
                  <a:pt x="743" y="22"/>
                  <a:pt x="771" y="29"/>
                  <a:pt x="876" y="14"/>
                </a:cubicBezTo>
                <a:cubicBezTo>
                  <a:pt x="1147" y="0"/>
                  <a:pt x="1988" y="6"/>
                  <a:pt x="2212" y="6"/>
                </a:cubicBezTo>
                <a:cubicBezTo>
                  <a:pt x="2436" y="6"/>
                  <a:pt x="2218" y="12"/>
                  <a:pt x="2220" y="14"/>
                </a:cubicBezTo>
              </a:path>
            </a:pathLst>
          </a:custGeom>
          <a:noFill/>
          <a:ln w="572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49720" y="1886040"/>
            <a:ext cx="1198800" cy="1562040"/>
          </a:xfrm>
          <a:prstGeom prst="upArrow">
            <a:avLst>
              <a:gd name="adj1" fmla="val 50000"/>
              <a:gd name="adj2" fmla="val 32575"/>
            </a:avLst>
          </a:prstGeom>
          <a:gradFill rotWithShape="0">
            <a:gsLst>
              <a:gs pos="0">
                <a:srgbClr val="ff330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1152000" y="284436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arvested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6913440" y="2104920"/>
            <a:ext cx="1954440" cy="2505240"/>
            <a:chOff x="6913440" y="2104920"/>
            <a:chExt cx="1954440" cy="2505240"/>
          </a:xfrm>
        </p:grpSpPr>
        <p:grpSp>
          <p:nvGrpSpPr>
            <p:cNvPr id="418" name=""/>
            <p:cNvGrpSpPr/>
            <p:nvPr/>
          </p:nvGrpSpPr>
          <p:grpSpPr>
            <a:xfrm>
              <a:off x="6913440" y="2104920"/>
              <a:ext cx="1954440" cy="1895400"/>
              <a:chOff x="6913440" y="2104920"/>
              <a:chExt cx="1954440" cy="1895400"/>
            </a:xfrm>
          </p:grpSpPr>
          <p:sp>
            <p:nvSpPr>
              <p:cNvPr id="419" name=""/>
              <p:cNvSpPr/>
              <p:nvPr/>
            </p:nvSpPr>
            <p:spPr>
              <a:xfrm>
                <a:off x="6913440" y="2104920"/>
                <a:ext cx="1954440" cy="18860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cc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6932520" y="2966760"/>
                <a:ext cx="1897200" cy="103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 flipH="1">
              <a:off x="6923160" y="3990960"/>
              <a:ext cx="1915920" cy="619200"/>
            </a:xfrm>
            <a:prstGeom prst="leftArrow">
              <a:avLst>
                <a:gd name="adj1" fmla="val 50000"/>
                <a:gd name="adj2" fmla="val 7735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tter Else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970520" y="2104920"/>
            <a:ext cx="1972800" cy="2505240"/>
            <a:chOff x="4970520" y="2104920"/>
            <a:chExt cx="1972800" cy="2505240"/>
          </a:xfrm>
        </p:grpSpPr>
        <p:grpSp>
          <p:nvGrpSpPr>
            <p:cNvPr id="423" name=""/>
            <p:cNvGrpSpPr/>
            <p:nvPr/>
          </p:nvGrpSpPr>
          <p:grpSpPr>
            <a:xfrm>
              <a:off x="4989600" y="2104920"/>
              <a:ext cx="1953720" cy="1904760"/>
              <a:chOff x="4989600" y="2104920"/>
              <a:chExt cx="1953720" cy="1904760"/>
            </a:xfrm>
          </p:grpSpPr>
          <p:sp>
            <p:nvSpPr>
              <p:cNvPr id="424" name=""/>
              <p:cNvSpPr/>
              <p:nvPr/>
            </p:nvSpPr>
            <p:spPr>
              <a:xfrm>
                <a:off x="4989600" y="2104920"/>
                <a:ext cx="1935000" cy="1886040"/>
              </a:xfrm>
              <a:prstGeom prst="rect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5046480" y="2976120"/>
                <a:ext cx="1896840" cy="103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4970520" y="3990960"/>
              <a:ext cx="1915920" cy="619200"/>
            </a:xfrm>
            <a:prstGeom prst="leftArrow">
              <a:avLst>
                <a:gd name="adj1" fmla="val 50000"/>
                <a:gd name="adj2" fmla="val 77355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33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tter 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OPTIONAL MODULE: POPULATION 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57360" y="1486080"/>
            <a:ext cx="2514600" cy="12427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920" y="1752480"/>
            <a:ext cx="2133360" cy="723960"/>
          </a:xfrm>
          <a:prstGeom prst="leftRightArrow">
            <a:avLst>
              <a:gd name="adj1" fmla="val 50000"/>
              <a:gd name="adj2" fmla="val 58663"/>
            </a:avLst>
          </a:prstGeom>
          <a:gradFill rotWithShape="0">
            <a:gsLst>
              <a:gs pos="0">
                <a:srgbClr val="ff3300"/>
              </a:gs>
              <a:gs pos="100000">
                <a:srgbClr val="ffcccc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04920" y="2495520"/>
            <a:ext cx="2152440" cy="394560"/>
            <a:chOff x="304920" y="2495520"/>
            <a:chExt cx="2152440" cy="394560"/>
          </a:xfrm>
        </p:grpSpPr>
        <p:sp>
          <p:nvSpPr>
            <p:cNvPr id="432" name=""/>
            <p:cNvSpPr/>
            <p:nvPr/>
          </p:nvSpPr>
          <p:spPr>
            <a:xfrm>
              <a:off x="304920" y="2495520"/>
              <a:ext cx="2152440" cy="0"/>
            </a:xfrm>
            <a:prstGeom prst="line">
              <a:avLst/>
            </a:prstGeom>
            <a:ln cap="rnd" w="38160">
              <a:solidFill>
                <a:srgbClr val="ff33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720" y="25218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Birth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24000" y="1090080"/>
            <a:ext cx="2152440" cy="643320"/>
            <a:chOff x="324000" y="1090080"/>
            <a:chExt cx="2152440" cy="643320"/>
          </a:xfrm>
        </p:grpSpPr>
        <p:sp>
          <p:nvSpPr>
            <p:cNvPr id="435" name=""/>
            <p:cNvSpPr/>
            <p:nvPr/>
          </p:nvSpPr>
          <p:spPr>
            <a:xfrm>
              <a:off x="324000" y="1733400"/>
              <a:ext cx="2152440" cy="0"/>
            </a:xfrm>
            <a:prstGeom prst="line">
              <a:avLst/>
            </a:prstGeom>
            <a:ln cap="rnd" w="38160">
              <a:solidFill>
                <a:srgbClr val="ff33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8520" y="1090080"/>
              <a:ext cx="195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Food Shor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elated Morta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917320" y="4480920"/>
            <a:ext cx="19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if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turn To Lab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991040" y="1752480"/>
            <a:ext cx="3886200" cy="723960"/>
            <a:chOff x="4991040" y="1752480"/>
            <a:chExt cx="3886200" cy="723960"/>
          </a:xfrm>
        </p:grpSpPr>
        <p:sp>
          <p:nvSpPr>
            <p:cNvPr id="439" name=""/>
            <p:cNvSpPr/>
            <p:nvPr/>
          </p:nvSpPr>
          <p:spPr>
            <a:xfrm>
              <a:off x="4991040" y="1752480"/>
              <a:ext cx="3886200" cy="723960"/>
            </a:xfrm>
            <a:prstGeom prst="leftRightArrow">
              <a:avLst>
                <a:gd name="adj1" fmla="val 60528"/>
                <a:gd name="adj2" fmla="val 73238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33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57720" y="19314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231040" y="193140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OPTIONAL MODULE: LABOR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456560" y="957240"/>
            <a:ext cx="5841000" cy="5514840"/>
            <a:chOff x="1456560" y="957240"/>
            <a:chExt cx="5841000" cy="5514840"/>
          </a:xfrm>
        </p:grpSpPr>
        <p:sp>
          <p:nvSpPr>
            <p:cNvPr id="445" name=""/>
            <p:cNvSpPr/>
            <p:nvPr/>
          </p:nvSpPr>
          <p:spPr>
            <a:xfrm>
              <a:off x="1882800" y="971640"/>
              <a:ext cx="5414760" cy="458460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-657000" y="3070800"/>
              <a:ext cx="459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Labor Al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62280" y="5576760"/>
              <a:ext cx="5425920" cy="895320"/>
            </a:xfrm>
            <a:prstGeom prst="rightArrow">
              <a:avLst>
                <a:gd name="adj1" fmla="val 58509"/>
                <a:gd name="adj2" fmla="val 3928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cted Return To Lab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895400" y="1057320"/>
            <a:ext cx="5313600" cy="4441680"/>
          </a:xfrm>
          <a:custGeom>
            <a:avLst/>
            <a:gdLst/>
            <a:ahLst/>
            <a:rect l="l" t="t" r="r" b="b"/>
            <a:pathLst>
              <a:path w="2436" h="1442">
                <a:moveTo>
                  <a:pt x="0" y="1442"/>
                </a:moveTo>
                <a:cubicBezTo>
                  <a:pt x="8" y="1346"/>
                  <a:pt x="16" y="1250"/>
                  <a:pt x="24" y="1154"/>
                </a:cubicBezTo>
                <a:cubicBezTo>
                  <a:pt x="37" y="994"/>
                  <a:pt x="82" y="837"/>
                  <a:pt x="132" y="686"/>
                </a:cubicBezTo>
                <a:cubicBezTo>
                  <a:pt x="192" y="507"/>
                  <a:pt x="300" y="307"/>
                  <a:pt x="450" y="182"/>
                </a:cubicBezTo>
                <a:cubicBezTo>
                  <a:pt x="501" y="140"/>
                  <a:pt x="577" y="78"/>
                  <a:pt x="642" y="56"/>
                </a:cubicBezTo>
                <a:cubicBezTo>
                  <a:pt x="743" y="22"/>
                  <a:pt x="771" y="29"/>
                  <a:pt x="876" y="14"/>
                </a:cubicBezTo>
                <a:cubicBezTo>
                  <a:pt x="1147" y="0"/>
                  <a:pt x="1988" y="6"/>
                  <a:pt x="2212" y="6"/>
                </a:cubicBezTo>
                <a:cubicBezTo>
                  <a:pt x="2436" y="6"/>
                  <a:pt x="2218" y="12"/>
                  <a:pt x="2220" y="1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OPTIONAL MODULE: LABOR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456560" y="957240"/>
            <a:ext cx="5841000" cy="5514840"/>
            <a:chOff x="1456560" y="957240"/>
            <a:chExt cx="5841000" cy="5514840"/>
          </a:xfrm>
        </p:grpSpPr>
        <p:sp>
          <p:nvSpPr>
            <p:cNvPr id="452" name=""/>
            <p:cNvSpPr/>
            <p:nvPr/>
          </p:nvSpPr>
          <p:spPr>
            <a:xfrm>
              <a:off x="1882800" y="971640"/>
              <a:ext cx="5414760" cy="458460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-657000" y="3070800"/>
              <a:ext cx="459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Labor Al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62280" y="5576760"/>
              <a:ext cx="5425920" cy="895320"/>
            </a:xfrm>
            <a:prstGeom prst="rightArrow">
              <a:avLst>
                <a:gd name="adj1" fmla="val 58509"/>
                <a:gd name="adj2" fmla="val 3928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cted Return To Lab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895400" y="3228840"/>
            <a:ext cx="5313600" cy="2270160"/>
          </a:xfrm>
          <a:custGeom>
            <a:avLst/>
            <a:gdLst/>
            <a:ahLst/>
            <a:rect l="l" t="t" r="r" b="b"/>
            <a:pathLst>
              <a:path w="2436" h="1442">
                <a:moveTo>
                  <a:pt x="0" y="1442"/>
                </a:moveTo>
                <a:cubicBezTo>
                  <a:pt x="8" y="1346"/>
                  <a:pt x="16" y="1250"/>
                  <a:pt x="24" y="1154"/>
                </a:cubicBezTo>
                <a:cubicBezTo>
                  <a:pt x="37" y="994"/>
                  <a:pt x="82" y="837"/>
                  <a:pt x="132" y="686"/>
                </a:cubicBezTo>
                <a:cubicBezTo>
                  <a:pt x="192" y="507"/>
                  <a:pt x="300" y="307"/>
                  <a:pt x="450" y="182"/>
                </a:cubicBezTo>
                <a:cubicBezTo>
                  <a:pt x="501" y="140"/>
                  <a:pt x="577" y="78"/>
                  <a:pt x="642" y="56"/>
                </a:cubicBezTo>
                <a:cubicBezTo>
                  <a:pt x="743" y="22"/>
                  <a:pt x="771" y="29"/>
                  <a:pt x="876" y="14"/>
                </a:cubicBezTo>
                <a:cubicBezTo>
                  <a:pt x="1147" y="0"/>
                  <a:pt x="1988" y="6"/>
                  <a:pt x="2212" y="6"/>
                </a:cubicBezTo>
                <a:cubicBezTo>
                  <a:pt x="2436" y="6"/>
                  <a:pt x="2218" y="12"/>
                  <a:pt x="2220" y="1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889280" y="978840"/>
            <a:ext cx="5319720" cy="4539240"/>
            <a:chOff x="1889280" y="978840"/>
            <a:chExt cx="5319720" cy="4539240"/>
          </a:xfrm>
        </p:grpSpPr>
        <p:grpSp>
          <p:nvGrpSpPr>
            <p:cNvPr id="457" name=""/>
            <p:cNvGrpSpPr/>
            <p:nvPr/>
          </p:nvGrpSpPr>
          <p:grpSpPr>
            <a:xfrm>
              <a:off x="1889280" y="4676760"/>
              <a:ext cx="5290920" cy="841320"/>
              <a:chOff x="1889280" y="4676760"/>
              <a:chExt cx="5290920" cy="841320"/>
            </a:xfrm>
          </p:grpSpPr>
          <p:sp>
            <p:nvSpPr>
              <p:cNvPr id="458" name=""/>
              <p:cNvSpPr/>
              <p:nvPr/>
            </p:nvSpPr>
            <p:spPr>
              <a:xfrm>
                <a:off x="1889280" y="4676760"/>
                <a:ext cx="5290920" cy="841320"/>
              </a:xfrm>
              <a:custGeom>
                <a:avLst/>
                <a:gdLst/>
                <a:ahLst/>
                <a:rect l="l" t="t" r="r" b="b"/>
                <a:pathLst>
                  <a:path w="2436" h="1442">
                    <a:moveTo>
                      <a:pt x="0" y="1442"/>
                    </a:moveTo>
                    <a:cubicBezTo>
                      <a:pt x="8" y="1346"/>
                      <a:pt x="16" y="1250"/>
                      <a:pt x="24" y="1154"/>
                    </a:cubicBezTo>
                    <a:cubicBezTo>
                      <a:pt x="37" y="994"/>
                      <a:pt x="82" y="837"/>
                      <a:pt x="132" y="686"/>
                    </a:cubicBezTo>
                    <a:cubicBezTo>
                      <a:pt x="192" y="507"/>
                      <a:pt x="300" y="307"/>
                      <a:pt x="450" y="182"/>
                    </a:cubicBezTo>
                    <a:cubicBezTo>
                      <a:pt x="501" y="140"/>
                      <a:pt x="577" y="78"/>
                      <a:pt x="642" y="56"/>
                    </a:cubicBezTo>
                    <a:cubicBezTo>
                      <a:pt x="743" y="22"/>
                      <a:pt x="771" y="29"/>
                      <a:pt x="876" y="14"/>
                    </a:cubicBezTo>
                    <a:cubicBezTo>
                      <a:pt x="1147" y="0"/>
                      <a:pt x="1988" y="6"/>
                      <a:pt x="2212" y="6"/>
                    </a:cubicBezTo>
                    <a:cubicBezTo>
                      <a:pt x="2436" y="6"/>
                      <a:pt x="2218" y="12"/>
                      <a:pt x="2220" y="14"/>
                    </a:cubicBezTo>
                  </a:path>
                </a:pathLst>
              </a:custGeom>
              <a:noFill/>
              <a:ln cap="rnd" w="57240">
                <a:solidFill>
                  <a:srgbClr val="ff33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735360" y="4698360"/>
                <a:ext cx="173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Other Activity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895400" y="978840"/>
              <a:ext cx="5313600" cy="4501080"/>
              <a:chOff x="1895400" y="978840"/>
              <a:chExt cx="5313600" cy="4501080"/>
            </a:xfrm>
          </p:grpSpPr>
          <p:sp>
            <p:nvSpPr>
              <p:cNvPr id="461" name=""/>
              <p:cNvSpPr/>
              <p:nvPr/>
            </p:nvSpPr>
            <p:spPr>
              <a:xfrm>
                <a:off x="1895400" y="1346040"/>
                <a:ext cx="5313600" cy="4133880"/>
              </a:xfrm>
              <a:custGeom>
                <a:avLst/>
                <a:gdLst/>
                <a:ahLst/>
                <a:rect l="l" t="t" r="r" b="b"/>
                <a:pathLst>
                  <a:path w="2436" h="1442">
                    <a:moveTo>
                      <a:pt x="0" y="1442"/>
                    </a:moveTo>
                    <a:cubicBezTo>
                      <a:pt x="8" y="1346"/>
                      <a:pt x="16" y="1250"/>
                      <a:pt x="24" y="1154"/>
                    </a:cubicBezTo>
                    <a:cubicBezTo>
                      <a:pt x="37" y="994"/>
                      <a:pt x="82" y="837"/>
                      <a:pt x="132" y="686"/>
                    </a:cubicBezTo>
                    <a:cubicBezTo>
                      <a:pt x="192" y="507"/>
                      <a:pt x="300" y="307"/>
                      <a:pt x="450" y="182"/>
                    </a:cubicBezTo>
                    <a:cubicBezTo>
                      <a:pt x="501" y="140"/>
                      <a:pt x="577" y="78"/>
                      <a:pt x="642" y="56"/>
                    </a:cubicBezTo>
                    <a:cubicBezTo>
                      <a:pt x="743" y="22"/>
                      <a:pt x="771" y="29"/>
                      <a:pt x="876" y="14"/>
                    </a:cubicBezTo>
                    <a:cubicBezTo>
                      <a:pt x="1147" y="0"/>
                      <a:pt x="1988" y="6"/>
                      <a:pt x="2212" y="6"/>
                    </a:cubicBezTo>
                    <a:cubicBezTo>
                      <a:pt x="2436" y="6"/>
                      <a:pt x="2218" y="12"/>
                      <a:pt x="2220" y="14"/>
                    </a:cubicBezTo>
                  </a:path>
                </a:pathLst>
              </a:custGeom>
              <a:noFill/>
              <a:ln cap="rnd" w="57240">
                <a:solidFill>
                  <a:srgbClr val="ff33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05120" y="978840"/>
                <a:ext cx="173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Other Activity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2498400" y="1412640"/>
            <a:ext cx="1449720" cy="3233880"/>
            <a:chOff x="2498400" y="1412640"/>
            <a:chExt cx="1449720" cy="3233880"/>
          </a:xfrm>
        </p:grpSpPr>
        <p:sp>
          <p:nvSpPr>
            <p:cNvPr id="464" name=""/>
            <p:cNvSpPr/>
            <p:nvPr/>
          </p:nvSpPr>
          <p:spPr>
            <a:xfrm flipV="1">
              <a:off x="3948120" y="1412640"/>
              <a:ext cx="0" cy="178596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48120" y="3298680"/>
              <a:ext cx="0" cy="134784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98400" y="2368080"/>
              <a:ext cx="142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Best Ac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311800" y="1380600"/>
            <a:ext cx="1438560" cy="3246840"/>
            <a:chOff x="5311800" y="1380600"/>
            <a:chExt cx="1438560" cy="3246840"/>
          </a:xfrm>
        </p:grpSpPr>
        <p:sp>
          <p:nvSpPr>
            <p:cNvPr id="468" name=""/>
            <p:cNvSpPr/>
            <p:nvPr/>
          </p:nvSpPr>
          <p:spPr>
            <a:xfrm flipV="1">
              <a:off x="5311800" y="1380600"/>
              <a:ext cx="0" cy="180036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11800" y="3265560"/>
              <a:ext cx="0" cy="13618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54000" y="1854000"/>
              <a:ext cx="129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od Cr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fe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47680" y="1123920"/>
            <a:ext cx="8667720" cy="409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7360" y="1962000"/>
            <a:ext cx="5245200" cy="290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36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lo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oil Fertility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rop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108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ousehol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ice Stor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1080" y="38257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cisio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 Use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3560" y="38131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hoice Of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&amp; Cro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39880" y="2387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4122720" y="326088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10800000">
            <a:off x="2639880" y="410220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1218960" y="3260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29440" y="1949400"/>
            <a:ext cx="2527200" cy="290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18440" y="235584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418440" y="2924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arbon 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18440" y="352116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io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18440" y="4067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atershe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84880" y="3029040"/>
            <a:ext cx="863640" cy="7491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87200 h 749160"/>
              <a:gd name="textAreaBottom" fmla="*/ 561960 h 749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FOOD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FOOD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48720" y="5626800"/>
            <a:ext cx="60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Sufficiency = Food Requirement/Food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865680" y="1314360"/>
            <a:ext cx="1409760" cy="4190760"/>
            <a:chOff x="3865680" y="1314360"/>
            <a:chExt cx="1409760" cy="4190760"/>
          </a:xfrm>
        </p:grpSpPr>
        <p:sp>
          <p:nvSpPr>
            <p:cNvPr id="493" name=""/>
            <p:cNvSpPr/>
            <p:nvPr/>
          </p:nvSpPr>
          <p:spPr>
            <a:xfrm>
              <a:off x="3865680" y="3105000"/>
              <a:ext cx="1409760" cy="2400120"/>
            </a:xfrm>
            <a:prstGeom prst="can">
              <a:avLst>
                <a:gd name="adj" fmla="val 25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F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nsum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65680" y="1314360"/>
              <a:ext cx="1409760" cy="2400120"/>
            </a:xfrm>
            <a:prstGeom prst="can">
              <a:avLst>
                <a:gd name="adj" fmla="val 25000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qui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275440" y="2331360"/>
            <a:ext cx="2272320" cy="368280"/>
            <a:chOff x="5275440" y="2331360"/>
            <a:chExt cx="2272320" cy="368280"/>
          </a:xfrm>
        </p:grpSpPr>
        <p:sp>
          <p:nvSpPr>
            <p:cNvPr id="496" name=""/>
            <p:cNvSpPr/>
            <p:nvPr/>
          </p:nvSpPr>
          <p:spPr>
            <a:xfrm>
              <a:off x="5783760" y="2331360"/>
              <a:ext cx="17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opulation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7" name=""/>
            <p:cNvCxnSpPr>
              <a:stCxn id="494" idx="4"/>
              <a:endCxn id="496" idx="1"/>
            </p:cNvCxnSpPr>
            <p:nvPr/>
          </p:nvCxnSpPr>
          <p:spPr>
            <a:xfrm>
              <a:off x="5275440" y="2514600"/>
              <a:ext cx="505440" cy="2160"/>
            </a:xfrm>
            <a:prstGeom prst="bentConnector3">
              <a:avLst>
                <a:gd name="adj1" fmla="val 49964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8" name=""/>
          <p:cNvGrpSpPr/>
          <p:nvPr/>
        </p:nvGrpSpPr>
        <p:grpSpPr>
          <a:xfrm>
            <a:off x="5275440" y="4122000"/>
            <a:ext cx="1753200" cy="368280"/>
            <a:chOff x="5275440" y="4122000"/>
            <a:chExt cx="1753200" cy="368280"/>
          </a:xfrm>
        </p:grpSpPr>
        <p:sp>
          <p:nvSpPr>
            <p:cNvPr id="499" name=""/>
            <p:cNvSpPr/>
            <p:nvPr/>
          </p:nvSpPr>
          <p:spPr>
            <a:xfrm>
              <a:off x="5782680" y="412200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Rice St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3" idx="4"/>
              <a:endCxn id="499" idx="1"/>
            </p:cNvCxnSpPr>
            <p:nvPr/>
          </p:nvCxnSpPr>
          <p:spPr>
            <a:xfrm>
              <a:off x="5275440" y="4305240"/>
              <a:ext cx="505440" cy="2160"/>
            </a:xfrm>
            <a:prstGeom prst="bentConnector3">
              <a:avLst>
                <a:gd name="adj1" fmla="val 49964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47680" y="1123920"/>
            <a:ext cx="8667720" cy="409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7360" y="1962000"/>
            <a:ext cx="5245200" cy="290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36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lo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oil Fertility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rop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2108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ousehol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ice Stor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21080" y="38257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cisio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 Use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3560" y="38131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hoice Of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&amp; Cro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39880" y="2387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4122720" y="326088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10800000">
            <a:off x="2639880" y="410220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1218960" y="3260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29440" y="1949400"/>
            <a:ext cx="2527200" cy="290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18440" y="235584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18440" y="2924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Carbon 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18440" y="352116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io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18440" y="4067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atershe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84880" y="3029040"/>
            <a:ext cx="863640" cy="7491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87200 h 749160"/>
              <a:gd name="textAreaBottom" fmla="*/ 561960 h 749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CARBON ST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CARBON ST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860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BOVEGROUND C-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17600" y="1596960"/>
            <a:ext cx="4584960" cy="366732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60480" y="3237480"/>
            <a:ext cx="36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G C-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19400" y="1685880"/>
            <a:ext cx="2341440" cy="3551400"/>
          </a:xfrm>
          <a:custGeom>
            <a:avLst/>
            <a:gdLst/>
            <a:ahLst/>
            <a:rect l="l" t="t" r="r" b="b"/>
            <a:pathLst>
              <a:path w="2436" h="1442">
                <a:moveTo>
                  <a:pt x="0" y="1442"/>
                </a:moveTo>
                <a:cubicBezTo>
                  <a:pt x="8" y="1346"/>
                  <a:pt x="16" y="1250"/>
                  <a:pt x="24" y="1154"/>
                </a:cubicBezTo>
                <a:cubicBezTo>
                  <a:pt x="37" y="994"/>
                  <a:pt x="82" y="837"/>
                  <a:pt x="132" y="686"/>
                </a:cubicBezTo>
                <a:cubicBezTo>
                  <a:pt x="192" y="507"/>
                  <a:pt x="300" y="307"/>
                  <a:pt x="450" y="182"/>
                </a:cubicBezTo>
                <a:cubicBezTo>
                  <a:pt x="501" y="140"/>
                  <a:pt x="577" y="78"/>
                  <a:pt x="642" y="56"/>
                </a:cubicBezTo>
                <a:cubicBezTo>
                  <a:pt x="743" y="22"/>
                  <a:pt x="771" y="29"/>
                  <a:pt x="876" y="14"/>
                </a:cubicBezTo>
                <a:cubicBezTo>
                  <a:pt x="1147" y="0"/>
                  <a:pt x="1988" y="6"/>
                  <a:pt x="2212" y="6"/>
                </a:cubicBezTo>
                <a:cubicBezTo>
                  <a:pt x="2436" y="6"/>
                  <a:pt x="2218" y="12"/>
                  <a:pt x="2220" y="1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37000" y="1724040"/>
            <a:ext cx="1800" cy="23814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29080" y="1657440"/>
            <a:ext cx="2293920" cy="2493720"/>
          </a:xfrm>
          <a:custGeom>
            <a:avLst/>
            <a:gdLst/>
            <a:ahLst/>
            <a:rect l="l" t="t" r="r" b="b"/>
            <a:pathLst>
              <a:path w="2436" h="1442">
                <a:moveTo>
                  <a:pt x="0" y="1442"/>
                </a:moveTo>
                <a:cubicBezTo>
                  <a:pt x="8" y="1346"/>
                  <a:pt x="16" y="1250"/>
                  <a:pt x="24" y="1154"/>
                </a:cubicBezTo>
                <a:cubicBezTo>
                  <a:pt x="37" y="994"/>
                  <a:pt x="82" y="837"/>
                  <a:pt x="132" y="686"/>
                </a:cubicBezTo>
                <a:cubicBezTo>
                  <a:pt x="192" y="507"/>
                  <a:pt x="300" y="307"/>
                  <a:pt x="450" y="182"/>
                </a:cubicBezTo>
                <a:cubicBezTo>
                  <a:pt x="501" y="140"/>
                  <a:pt x="577" y="78"/>
                  <a:pt x="642" y="56"/>
                </a:cubicBezTo>
                <a:cubicBezTo>
                  <a:pt x="743" y="22"/>
                  <a:pt x="771" y="29"/>
                  <a:pt x="876" y="14"/>
                </a:cubicBezTo>
                <a:cubicBezTo>
                  <a:pt x="1147" y="0"/>
                  <a:pt x="1988" y="6"/>
                  <a:pt x="2212" y="6"/>
                </a:cubicBezTo>
                <a:cubicBezTo>
                  <a:pt x="2436" y="6"/>
                  <a:pt x="2218" y="12"/>
                  <a:pt x="2220" y="1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22040" y="55983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allow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620040" y="1485360"/>
            <a:ext cx="2289600" cy="368280"/>
            <a:chOff x="6620040" y="1485360"/>
            <a:chExt cx="2289600" cy="368280"/>
          </a:xfrm>
        </p:grpSpPr>
        <p:sp>
          <p:nvSpPr>
            <p:cNvPr id="529" name=""/>
            <p:cNvSpPr/>
            <p:nvPr/>
          </p:nvSpPr>
          <p:spPr>
            <a:xfrm>
              <a:off x="6620040" y="1676520"/>
              <a:ext cx="1152360" cy="0"/>
            </a:xfrm>
            <a:prstGeom prst="line">
              <a:avLst/>
            </a:prstGeom>
            <a:ln cap="rnd" w="38160">
              <a:solidFill>
                <a:srgbClr val="ff33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40000" y="148536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xi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274840" y="3476520"/>
            <a:ext cx="1338840" cy="1533600"/>
            <a:chOff x="2274840" y="3476520"/>
            <a:chExt cx="1338840" cy="1533600"/>
          </a:xfrm>
        </p:grpSpPr>
        <p:sp>
          <p:nvSpPr>
            <p:cNvPr id="532" name=""/>
            <p:cNvSpPr/>
            <p:nvPr/>
          </p:nvSpPr>
          <p:spPr>
            <a:xfrm flipV="1">
              <a:off x="2274840" y="3476520"/>
              <a:ext cx="123840" cy="1533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76640" y="5000760"/>
              <a:ext cx="1209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29560" y="3955680"/>
              <a:ext cx="128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nual 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-Sto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Inc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3179880" y="1676520"/>
            <a:ext cx="1201680" cy="2457360"/>
            <a:chOff x="3179880" y="1676520"/>
            <a:chExt cx="1201680" cy="2457360"/>
          </a:xfrm>
        </p:grpSpPr>
        <p:sp>
          <p:nvSpPr>
            <p:cNvPr id="536" name=""/>
            <p:cNvSpPr/>
            <p:nvPr/>
          </p:nvSpPr>
          <p:spPr>
            <a:xfrm>
              <a:off x="4381560" y="1676520"/>
              <a:ext cx="0" cy="245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79880" y="270432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&amp;B 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618240" y="1676520"/>
            <a:ext cx="1800" cy="35812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364720" y="1676520"/>
            <a:ext cx="1179000" cy="3581280"/>
            <a:chOff x="5364720" y="1676520"/>
            <a:chExt cx="1179000" cy="3581280"/>
          </a:xfrm>
        </p:grpSpPr>
        <p:sp>
          <p:nvSpPr>
            <p:cNvPr id="540" name=""/>
            <p:cNvSpPr/>
            <p:nvPr/>
          </p:nvSpPr>
          <p:spPr>
            <a:xfrm>
              <a:off x="6543720" y="1676520"/>
              <a:ext cx="0" cy="3581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64720" y="2567880"/>
              <a:ext cx="10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Wild 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427640" y="4143240"/>
            <a:ext cx="0" cy="1086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73920" y="52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CARBON ST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860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BELOWGROUND C-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17600" y="1596960"/>
            <a:ext cx="4584960" cy="3667320"/>
          </a:xfrm>
          <a:prstGeom prst="rect">
            <a:avLst/>
          </a:prstGeom>
          <a:solidFill>
            <a:srgbClr val="cccc00">
              <a:alpha val="50000"/>
            </a:srgbClr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60480" y="3237480"/>
            <a:ext cx="36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BG C-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19400" y="1685880"/>
            <a:ext cx="4552920" cy="3551400"/>
          </a:xfrm>
          <a:custGeom>
            <a:avLst/>
            <a:gdLst/>
            <a:ahLst/>
            <a:rect l="l" t="t" r="r" b="b"/>
            <a:pathLst>
              <a:path w="2436" h="1442">
                <a:moveTo>
                  <a:pt x="0" y="1442"/>
                </a:moveTo>
                <a:cubicBezTo>
                  <a:pt x="8" y="1346"/>
                  <a:pt x="16" y="1250"/>
                  <a:pt x="24" y="1154"/>
                </a:cubicBezTo>
                <a:cubicBezTo>
                  <a:pt x="37" y="994"/>
                  <a:pt x="82" y="837"/>
                  <a:pt x="132" y="686"/>
                </a:cubicBezTo>
                <a:cubicBezTo>
                  <a:pt x="192" y="507"/>
                  <a:pt x="300" y="307"/>
                  <a:pt x="450" y="182"/>
                </a:cubicBezTo>
                <a:cubicBezTo>
                  <a:pt x="501" y="140"/>
                  <a:pt x="577" y="78"/>
                  <a:pt x="642" y="56"/>
                </a:cubicBezTo>
                <a:cubicBezTo>
                  <a:pt x="743" y="22"/>
                  <a:pt x="771" y="29"/>
                  <a:pt x="876" y="14"/>
                </a:cubicBezTo>
                <a:cubicBezTo>
                  <a:pt x="1147" y="0"/>
                  <a:pt x="1988" y="6"/>
                  <a:pt x="2212" y="6"/>
                </a:cubicBezTo>
                <a:cubicBezTo>
                  <a:pt x="2436" y="6"/>
                  <a:pt x="2218" y="12"/>
                  <a:pt x="2220" y="14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37280" y="52840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elative Soil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620040" y="1485360"/>
            <a:ext cx="2289600" cy="368280"/>
            <a:chOff x="6620040" y="1485360"/>
            <a:chExt cx="2289600" cy="368280"/>
          </a:xfrm>
        </p:grpSpPr>
        <p:sp>
          <p:nvSpPr>
            <p:cNvPr id="552" name=""/>
            <p:cNvSpPr/>
            <p:nvPr/>
          </p:nvSpPr>
          <p:spPr>
            <a:xfrm>
              <a:off x="6620040" y="1676520"/>
              <a:ext cx="1152360" cy="0"/>
            </a:xfrm>
            <a:prstGeom prst="line">
              <a:avLst/>
            </a:prstGeom>
            <a:ln cap="rnd" w="38160">
              <a:solidFill>
                <a:srgbClr val="ff33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40000" y="148536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xi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409760"/>
            <a:ext cx="9144000" cy="3943440"/>
          </a:xfrm>
          <a:custGeom>
            <a:avLst/>
            <a:gdLst>
              <a:gd name="textAreaLeft" fmla="*/ 0 w 9144000"/>
              <a:gd name="textAreaRight" fmla="*/ 9144360 w 9144000"/>
              <a:gd name="textAreaTop" fmla="*/ 511200 h 3943440"/>
              <a:gd name="textAreaBottom" fmla="*/ 3432240 h 3943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30000" y="2841480"/>
            <a:ext cx="237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aster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47680" y="1123920"/>
            <a:ext cx="8667720" cy="409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7360" y="1962000"/>
            <a:ext cx="5245200" cy="290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536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lo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oil Fertility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rop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2108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ousehol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ice Stor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1080" y="38257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cisio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 Use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560" y="38131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hoice Of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&amp; Cro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39880" y="2387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5400000">
            <a:off x="4122720" y="326088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0800000">
            <a:off x="2639880" y="410220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6200000">
            <a:off x="1218960" y="3260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29440" y="1949400"/>
            <a:ext cx="2527200" cy="290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18440" y="235584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18440" y="2924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arbon 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18440" y="352116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io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18440" y="4067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atershe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84880" y="3029040"/>
            <a:ext cx="863640" cy="7491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87200 h 749160"/>
              <a:gd name="textAreaBottom" fmla="*/ 561960 h 749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BIO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BIO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860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pproach 1: Scaling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440" y="1238400"/>
            <a:ext cx="4515120" cy="32004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LEVEL 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43720" y="1535040"/>
            <a:ext cx="2600280" cy="2547360"/>
            <a:chOff x="243720" y="1535040"/>
            <a:chExt cx="2600280" cy="2547360"/>
          </a:xfrm>
        </p:grpSpPr>
        <p:sp>
          <p:nvSpPr>
            <p:cNvPr id="577" name=""/>
            <p:cNvSpPr/>
            <p:nvPr/>
          </p:nvSpPr>
          <p:spPr>
            <a:xfrm>
              <a:off x="627120" y="1542960"/>
              <a:ext cx="2179440" cy="21718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19560" y="3714120"/>
              <a:ext cx="22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since last S&amp;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6200000">
              <a:off x="-656280" y="2435040"/>
              <a:ext cx="21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es Rich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6480" y="1782720"/>
              <a:ext cx="2162160" cy="1932120"/>
            </a:xfrm>
            <a:custGeom>
              <a:avLst/>
              <a:gdLst/>
              <a:ahLst/>
              <a:rect l="l" t="t" r="r" b="b"/>
              <a:pathLst>
                <a:path w="2436" h="1442">
                  <a:moveTo>
                    <a:pt x="0" y="1442"/>
                  </a:moveTo>
                  <a:cubicBezTo>
                    <a:pt x="8" y="1346"/>
                    <a:pt x="16" y="1250"/>
                    <a:pt x="24" y="1154"/>
                  </a:cubicBezTo>
                  <a:cubicBezTo>
                    <a:pt x="37" y="994"/>
                    <a:pt x="82" y="837"/>
                    <a:pt x="132" y="686"/>
                  </a:cubicBezTo>
                  <a:cubicBezTo>
                    <a:pt x="192" y="507"/>
                    <a:pt x="300" y="307"/>
                    <a:pt x="450" y="182"/>
                  </a:cubicBezTo>
                  <a:cubicBezTo>
                    <a:pt x="501" y="140"/>
                    <a:pt x="577" y="78"/>
                    <a:pt x="642" y="56"/>
                  </a:cubicBezTo>
                  <a:cubicBezTo>
                    <a:pt x="743" y="22"/>
                    <a:pt x="771" y="29"/>
                    <a:pt x="876" y="14"/>
                  </a:cubicBezTo>
                  <a:cubicBezTo>
                    <a:pt x="1147" y="0"/>
                    <a:pt x="1988" y="6"/>
                    <a:pt x="2212" y="6"/>
                  </a:cubicBezTo>
                  <a:cubicBezTo>
                    <a:pt x="2436" y="6"/>
                    <a:pt x="2218" y="12"/>
                    <a:pt x="2220" y="14"/>
                  </a:cubicBez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6200" y="2097000"/>
              <a:ext cx="2162160" cy="1617840"/>
            </a:xfrm>
            <a:custGeom>
              <a:avLst/>
              <a:gdLst/>
              <a:ahLst/>
              <a:rect l="l" t="t" r="r" b="b"/>
              <a:pathLst>
                <a:path w="2436" h="1442">
                  <a:moveTo>
                    <a:pt x="0" y="1442"/>
                  </a:moveTo>
                  <a:cubicBezTo>
                    <a:pt x="8" y="1346"/>
                    <a:pt x="16" y="1250"/>
                    <a:pt x="24" y="1154"/>
                  </a:cubicBezTo>
                  <a:cubicBezTo>
                    <a:pt x="37" y="994"/>
                    <a:pt x="82" y="837"/>
                    <a:pt x="132" y="686"/>
                  </a:cubicBezTo>
                  <a:cubicBezTo>
                    <a:pt x="192" y="507"/>
                    <a:pt x="300" y="307"/>
                    <a:pt x="450" y="182"/>
                  </a:cubicBezTo>
                  <a:cubicBezTo>
                    <a:pt x="501" y="140"/>
                    <a:pt x="577" y="78"/>
                    <a:pt x="642" y="56"/>
                  </a:cubicBezTo>
                  <a:cubicBezTo>
                    <a:pt x="743" y="22"/>
                    <a:pt x="771" y="29"/>
                    <a:pt x="876" y="14"/>
                  </a:cubicBezTo>
                  <a:cubicBezTo>
                    <a:pt x="1147" y="0"/>
                    <a:pt x="1988" y="6"/>
                    <a:pt x="2212" y="6"/>
                  </a:cubicBezTo>
                  <a:cubicBezTo>
                    <a:pt x="2436" y="6"/>
                    <a:pt x="2218" y="12"/>
                    <a:pt x="2220" y="14"/>
                  </a:cubicBez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6200" y="2430360"/>
              <a:ext cx="2162160" cy="1284480"/>
            </a:xfrm>
            <a:custGeom>
              <a:avLst/>
              <a:gdLst/>
              <a:ahLst/>
              <a:rect l="l" t="t" r="r" b="b"/>
              <a:pathLst>
                <a:path w="2436" h="1442">
                  <a:moveTo>
                    <a:pt x="0" y="1442"/>
                  </a:moveTo>
                  <a:cubicBezTo>
                    <a:pt x="8" y="1346"/>
                    <a:pt x="16" y="1250"/>
                    <a:pt x="24" y="1154"/>
                  </a:cubicBezTo>
                  <a:cubicBezTo>
                    <a:pt x="37" y="994"/>
                    <a:pt x="82" y="837"/>
                    <a:pt x="132" y="686"/>
                  </a:cubicBezTo>
                  <a:cubicBezTo>
                    <a:pt x="192" y="507"/>
                    <a:pt x="300" y="307"/>
                    <a:pt x="450" y="182"/>
                  </a:cubicBezTo>
                  <a:cubicBezTo>
                    <a:pt x="501" y="140"/>
                    <a:pt x="577" y="78"/>
                    <a:pt x="642" y="56"/>
                  </a:cubicBezTo>
                  <a:cubicBezTo>
                    <a:pt x="743" y="22"/>
                    <a:pt x="771" y="29"/>
                    <a:pt x="876" y="14"/>
                  </a:cubicBezTo>
                  <a:cubicBezTo>
                    <a:pt x="1147" y="0"/>
                    <a:pt x="1988" y="6"/>
                    <a:pt x="2212" y="6"/>
                  </a:cubicBezTo>
                  <a:cubicBezTo>
                    <a:pt x="2436" y="6"/>
                    <a:pt x="2218" y="12"/>
                    <a:pt x="2220" y="14"/>
                  </a:cubicBez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2732040" y="1588320"/>
            <a:ext cx="1728000" cy="368280"/>
            <a:chOff x="2732040" y="1588320"/>
            <a:chExt cx="1728000" cy="368280"/>
          </a:xfrm>
        </p:grpSpPr>
        <p:sp>
          <p:nvSpPr>
            <p:cNvPr id="584" name=""/>
            <p:cNvSpPr/>
            <p:nvPr/>
          </p:nvSpPr>
          <p:spPr>
            <a:xfrm>
              <a:off x="2732040" y="1790640"/>
              <a:ext cx="581040" cy="0"/>
            </a:xfrm>
            <a:prstGeom prst="line">
              <a:avLst/>
            </a:prstGeom>
            <a:ln cap="rnd" w="28440">
              <a:solidFill>
                <a:srgbClr val="ff33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90400" y="158832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xi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083960" y="2385720"/>
            <a:ext cx="1143720" cy="1329120"/>
            <a:chOff x="1083960" y="2385720"/>
            <a:chExt cx="1143720" cy="1329120"/>
          </a:xfrm>
        </p:grpSpPr>
        <p:sp>
          <p:nvSpPr>
            <p:cNvPr id="587" name=""/>
            <p:cNvSpPr/>
            <p:nvPr/>
          </p:nvSpPr>
          <p:spPr>
            <a:xfrm flipV="1">
              <a:off x="1646280" y="3228840"/>
              <a:ext cx="0" cy="486000"/>
            </a:xfrm>
            <a:prstGeom prst="line">
              <a:avLst/>
            </a:prstGeom>
            <a:ln cap="rnd" w="28440">
              <a:solidFill>
                <a:srgbClr val="ff33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83960" y="2385720"/>
              <a:ext cx="114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Ha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eco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4570560" y="1238400"/>
            <a:ext cx="4514760" cy="3200400"/>
          </a:xfrm>
          <a:prstGeom prst="rect">
            <a:avLst/>
          </a:prstGeom>
          <a:solidFill>
            <a:srgbClr val="ffcc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COVER TYPE 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067200" y="1240560"/>
            <a:ext cx="6072120" cy="4712040"/>
            <a:chOff x="3067200" y="1240560"/>
            <a:chExt cx="6072120" cy="4712040"/>
          </a:xfrm>
        </p:grpSpPr>
        <p:grpSp>
          <p:nvGrpSpPr>
            <p:cNvPr id="591" name=""/>
            <p:cNvGrpSpPr/>
            <p:nvPr/>
          </p:nvGrpSpPr>
          <p:grpSpPr>
            <a:xfrm>
              <a:off x="4761720" y="1531800"/>
              <a:ext cx="2561040" cy="2550600"/>
              <a:chOff x="4761720" y="1531800"/>
              <a:chExt cx="2561040" cy="2550600"/>
            </a:xfrm>
          </p:grpSpPr>
          <p:sp>
            <p:nvSpPr>
              <p:cNvPr id="592" name=""/>
              <p:cNvSpPr/>
              <p:nvPr/>
            </p:nvSpPr>
            <p:spPr>
              <a:xfrm>
                <a:off x="5141880" y="1542960"/>
                <a:ext cx="2179800" cy="2171880"/>
              </a:xfrm>
              <a:prstGeom prst="rect">
                <a:avLst/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53720" y="3714120"/>
                <a:ext cx="138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C Area (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200000">
                <a:off x="3861360" y="2431800"/>
                <a:ext cx="2168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cies Richnes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5151600" y="2878200"/>
                <a:ext cx="2162160" cy="836640"/>
              </a:xfrm>
              <a:custGeom>
                <a:avLst/>
                <a:gdLst/>
                <a:ahLst/>
                <a:rect l="l" t="t" r="r" b="b"/>
                <a:pathLst>
                  <a:path w="2436" h="1442">
                    <a:moveTo>
                      <a:pt x="0" y="1442"/>
                    </a:moveTo>
                    <a:cubicBezTo>
                      <a:pt x="8" y="1346"/>
                      <a:pt x="16" y="1250"/>
                      <a:pt x="24" y="1154"/>
                    </a:cubicBezTo>
                    <a:cubicBezTo>
                      <a:pt x="37" y="994"/>
                      <a:pt x="82" y="837"/>
                      <a:pt x="132" y="686"/>
                    </a:cubicBezTo>
                    <a:cubicBezTo>
                      <a:pt x="192" y="507"/>
                      <a:pt x="300" y="307"/>
                      <a:pt x="450" y="182"/>
                    </a:cubicBezTo>
                    <a:cubicBezTo>
                      <a:pt x="501" y="140"/>
                      <a:pt x="577" y="78"/>
                      <a:pt x="642" y="56"/>
                    </a:cubicBezTo>
                    <a:cubicBezTo>
                      <a:pt x="743" y="22"/>
                      <a:pt x="771" y="29"/>
                      <a:pt x="876" y="14"/>
                    </a:cubicBezTo>
                    <a:cubicBezTo>
                      <a:pt x="1147" y="0"/>
                      <a:pt x="1988" y="6"/>
                      <a:pt x="2212" y="6"/>
                    </a:cubicBezTo>
                    <a:cubicBezTo>
                      <a:pt x="2436" y="6"/>
                      <a:pt x="2218" y="12"/>
                      <a:pt x="2220" y="14"/>
                    </a:cubicBezTo>
                  </a:path>
                </a:pathLst>
              </a:custGeom>
              <a:noFill/>
              <a:ln w="284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5074560" y="1563120"/>
                <a:ext cx="2228760" cy="2151000"/>
              </a:xfrm>
              <a:custGeom>
                <a:avLst/>
                <a:gdLst/>
                <a:ahLst/>
                <a:rect l="l" t="t" r="r" b="b"/>
                <a:pathLst>
                  <a:path w="2436" h="1442">
                    <a:moveTo>
                      <a:pt x="0" y="1442"/>
                    </a:moveTo>
                    <a:cubicBezTo>
                      <a:pt x="8" y="1346"/>
                      <a:pt x="16" y="1250"/>
                      <a:pt x="24" y="1154"/>
                    </a:cubicBezTo>
                    <a:cubicBezTo>
                      <a:pt x="37" y="994"/>
                      <a:pt x="82" y="837"/>
                      <a:pt x="132" y="686"/>
                    </a:cubicBezTo>
                    <a:cubicBezTo>
                      <a:pt x="192" y="507"/>
                      <a:pt x="300" y="307"/>
                      <a:pt x="450" y="182"/>
                    </a:cubicBezTo>
                    <a:cubicBezTo>
                      <a:pt x="501" y="140"/>
                      <a:pt x="577" y="78"/>
                      <a:pt x="642" y="56"/>
                    </a:cubicBezTo>
                    <a:cubicBezTo>
                      <a:pt x="743" y="22"/>
                      <a:pt x="771" y="29"/>
                      <a:pt x="876" y="14"/>
                    </a:cubicBezTo>
                    <a:cubicBezTo>
                      <a:pt x="1147" y="0"/>
                      <a:pt x="1988" y="6"/>
                      <a:pt x="2212" y="6"/>
                    </a:cubicBezTo>
                    <a:cubicBezTo>
                      <a:pt x="2436" y="6"/>
                      <a:pt x="2218" y="12"/>
                      <a:pt x="2220" y="14"/>
                    </a:cubicBezTo>
                  </a:path>
                </a:pathLst>
              </a:custGeom>
              <a:noFill/>
              <a:ln w="284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flipV="1">
                <a:off x="5055480" y="3409200"/>
                <a:ext cx="2266920" cy="304920"/>
              </a:xfrm>
              <a:custGeom>
                <a:avLst/>
                <a:gdLst/>
                <a:ahLst/>
                <a:rect l="l" t="t" r="r" b="b"/>
                <a:pathLst>
                  <a:path w="2436" h="1442">
                    <a:moveTo>
                      <a:pt x="0" y="1442"/>
                    </a:moveTo>
                    <a:cubicBezTo>
                      <a:pt x="8" y="1346"/>
                      <a:pt x="16" y="1250"/>
                      <a:pt x="24" y="1154"/>
                    </a:cubicBezTo>
                    <a:cubicBezTo>
                      <a:pt x="37" y="994"/>
                      <a:pt x="82" y="837"/>
                      <a:pt x="132" y="686"/>
                    </a:cubicBezTo>
                    <a:cubicBezTo>
                      <a:pt x="192" y="507"/>
                      <a:pt x="300" y="307"/>
                      <a:pt x="450" y="182"/>
                    </a:cubicBezTo>
                    <a:cubicBezTo>
                      <a:pt x="501" y="140"/>
                      <a:pt x="577" y="78"/>
                      <a:pt x="642" y="56"/>
                    </a:cubicBezTo>
                    <a:cubicBezTo>
                      <a:pt x="743" y="22"/>
                      <a:pt x="771" y="29"/>
                      <a:pt x="876" y="14"/>
                    </a:cubicBezTo>
                    <a:cubicBezTo>
                      <a:pt x="1147" y="0"/>
                      <a:pt x="1988" y="6"/>
                      <a:pt x="2212" y="6"/>
                    </a:cubicBezTo>
                    <a:cubicBezTo>
                      <a:pt x="2436" y="6"/>
                      <a:pt x="2218" y="12"/>
                      <a:pt x="2220" y="14"/>
                    </a:cubicBezTo>
                  </a:path>
                </a:pathLst>
              </a:custGeom>
              <a:noFill/>
              <a:ln w="284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7435800" y="1240560"/>
              <a:ext cx="1703520" cy="2325960"/>
              <a:chOff x="7435800" y="1240560"/>
              <a:chExt cx="1703520" cy="2325960"/>
            </a:xfrm>
          </p:grpSpPr>
          <p:sp>
            <p:nvSpPr>
              <p:cNvPr id="599" name=""/>
              <p:cNvSpPr/>
              <p:nvPr/>
            </p:nvSpPr>
            <p:spPr>
              <a:xfrm flipV="1">
                <a:off x="7435800" y="1511280"/>
                <a:ext cx="0" cy="1898640"/>
              </a:xfrm>
              <a:prstGeom prst="line">
                <a:avLst/>
              </a:prstGeom>
              <a:ln cap="rnd" w="28440">
                <a:solidFill>
                  <a:srgbClr val="ff33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29040" y="1240560"/>
                <a:ext cx="1610280" cy="232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Scal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Parameter f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Non-AF (z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i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Fores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Neighborho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Effect  for A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(y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3067200" y="4438800"/>
              <a:ext cx="3448080" cy="1513800"/>
              <a:chOff x="3067200" y="4438800"/>
              <a:chExt cx="3448080" cy="1513800"/>
            </a:xfrm>
          </p:grpSpPr>
          <p:sp>
            <p:nvSpPr>
              <p:cNvPr id="602" name=""/>
              <p:cNvSpPr/>
              <p:nvPr/>
            </p:nvSpPr>
            <p:spPr>
              <a:xfrm>
                <a:off x="3067200" y="4438800"/>
                <a:ext cx="3448080" cy="895320"/>
              </a:xfrm>
              <a:custGeom>
                <a:avLst/>
                <a:gdLst>
                  <a:gd name="textAreaLeft" fmla="*/ 603360 w 3448080"/>
                  <a:gd name="textAreaRight" fmla="*/ 2499840 w 3448080"/>
                  <a:gd name="textAreaTop" fmla="*/ 119880 h 895320"/>
                  <a:gd name="textAreaBottom" fmla="*/ 775440 h 8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3708404"/>
                    <a:lnTo>
                      <a:pt x="21470" y="3983"/>
                    </a:lnTo>
                    <a:lnTo>
                      <a:pt x="17280" y="0"/>
                    </a:lnTo>
                    <a:lnTo>
                      <a:pt x="12830" y="3983"/>
                    </a:lnTo>
                    <a:lnTo>
                      <a:pt x="14990" y="3983"/>
                    </a:lnTo>
                    <a:arcTo wR="7560" hR="21600" stAng="1691596" swAng="3350969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gradFill rotWithShape="0">
                <a:gsLst>
                  <a:gs pos="0">
                    <a:srgbClr val="ffcccc"/>
                  </a:gs>
                  <a:gs pos="100000">
                    <a:srgbClr val="ccffcc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510360" y="5442480"/>
                <a:ext cx="2103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3300"/>
                    </a:solidFill>
                    <a:latin typeface="Arial"/>
                  </a:rPr>
                  <a:t>i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=S</a:t>
                </a:r>
                <a:r>
                  <a:rPr b="0" lang="en-US" sz="24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*A</a:t>
                </a:r>
                <a:r>
                  <a:rPr b="0" lang="en-US" sz="2400" spc="-1" strike="noStrike" baseline="30000">
                    <a:solidFill>
                      <a:srgbClr val="ff3300"/>
                    </a:solidFill>
                    <a:latin typeface="Arial"/>
                  </a:rPr>
                  <a:t>z</a:t>
                </a:r>
                <a:r>
                  <a:rPr b="0" lang="en-US" sz="2400" spc="-1" strike="noStrike" baseline="15000">
                    <a:solidFill>
                      <a:srgbClr val="ff3300"/>
                    </a:solidFill>
                    <a:latin typeface="Arial"/>
                  </a:rPr>
                  <a:t>i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*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BIO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860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pproach 1: Scaling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5440" y="1238400"/>
            <a:ext cx="4569120" cy="3200400"/>
            <a:chOff x="55440" y="1238400"/>
            <a:chExt cx="4569120" cy="3200400"/>
          </a:xfrm>
        </p:grpSpPr>
        <p:sp>
          <p:nvSpPr>
            <p:cNvPr id="608" name=""/>
            <p:cNvSpPr/>
            <p:nvPr/>
          </p:nvSpPr>
          <p:spPr>
            <a:xfrm>
              <a:off x="55440" y="1238400"/>
              <a:ext cx="4515120" cy="320040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NDCOVER TYPE (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250200" y="1528560"/>
              <a:ext cx="2557800" cy="2553840"/>
              <a:chOff x="250200" y="1528560"/>
              <a:chExt cx="2557800" cy="2553840"/>
            </a:xfrm>
          </p:grpSpPr>
          <p:sp>
            <p:nvSpPr>
              <p:cNvPr id="610" name=""/>
              <p:cNvSpPr/>
              <p:nvPr/>
            </p:nvSpPr>
            <p:spPr>
              <a:xfrm>
                <a:off x="627120" y="1542960"/>
                <a:ext cx="2179800" cy="2171880"/>
              </a:xfrm>
              <a:prstGeom prst="rect">
                <a:avLst/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038960" y="3714120"/>
                <a:ext cx="138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C Area (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6200000">
                <a:off x="-649440" y="2428560"/>
                <a:ext cx="21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cies Richnes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636480" y="2878200"/>
                <a:ext cx="2162160" cy="836640"/>
              </a:xfrm>
              <a:custGeom>
                <a:avLst/>
                <a:gdLst/>
                <a:ahLst/>
                <a:rect l="l" t="t" r="r" b="b"/>
                <a:pathLst>
                  <a:path w="2436" h="1442">
                    <a:moveTo>
                      <a:pt x="0" y="1442"/>
                    </a:moveTo>
                    <a:cubicBezTo>
                      <a:pt x="8" y="1346"/>
                      <a:pt x="16" y="1250"/>
                      <a:pt x="24" y="1154"/>
                    </a:cubicBezTo>
                    <a:cubicBezTo>
                      <a:pt x="37" y="994"/>
                      <a:pt x="82" y="837"/>
                      <a:pt x="132" y="686"/>
                    </a:cubicBezTo>
                    <a:cubicBezTo>
                      <a:pt x="192" y="507"/>
                      <a:pt x="300" y="307"/>
                      <a:pt x="450" y="182"/>
                    </a:cubicBezTo>
                    <a:cubicBezTo>
                      <a:pt x="501" y="140"/>
                      <a:pt x="577" y="78"/>
                      <a:pt x="642" y="56"/>
                    </a:cubicBezTo>
                    <a:cubicBezTo>
                      <a:pt x="743" y="22"/>
                      <a:pt x="771" y="29"/>
                      <a:pt x="876" y="14"/>
                    </a:cubicBezTo>
                    <a:cubicBezTo>
                      <a:pt x="1147" y="0"/>
                      <a:pt x="1988" y="6"/>
                      <a:pt x="2212" y="6"/>
                    </a:cubicBezTo>
                    <a:cubicBezTo>
                      <a:pt x="2436" y="6"/>
                      <a:pt x="2218" y="12"/>
                      <a:pt x="2220" y="14"/>
                    </a:cubicBezTo>
                  </a:path>
                </a:pathLst>
              </a:custGeom>
              <a:noFill/>
              <a:ln w="284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559440" y="1563120"/>
                <a:ext cx="2228760" cy="2151000"/>
              </a:xfrm>
              <a:custGeom>
                <a:avLst/>
                <a:gdLst/>
                <a:ahLst/>
                <a:rect l="l" t="t" r="r" b="b"/>
                <a:pathLst>
                  <a:path w="2436" h="1442">
                    <a:moveTo>
                      <a:pt x="0" y="1442"/>
                    </a:moveTo>
                    <a:cubicBezTo>
                      <a:pt x="8" y="1346"/>
                      <a:pt x="16" y="1250"/>
                      <a:pt x="24" y="1154"/>
                    </a:cubicBezTo>
                    <a:cubicBezTo>
                      <a:pt x="37" y="994"/>
                      <a:pt x="82" y="837"/>
                      <a:pt x="132" y="686"/>
                    </a:cubicBezTo>
                    <a:cubicBezTo>
                      <a:pt x="192" y="507"/>
                      <a:pt x="300" y="307"/>
                      <a:pt x="450" y="182"/>
                    </a:cubicBezTo>
                    <a:cubicBezTo>
                      <a:pt x="501" y="140"/>
                      <a:pt x="577" y="78"/>
                      <a:pt x="642" y="56"/>
                    </a:cubicBezTo>
                    <a:cubicBezTo>
                      <a:pt x="743" y="22"/>
                      <a:pt x="771" y="29"/>
                      <a:pt x="876" y="14"/>
                    </a:cubicBezTo>
                    <a:cubicBezTo>
                      <a:pt x="1147" y="0"/>
                      <a:pt x="1988" y="6"/>
                      <a:pt x="2212" y="6"/>
                    </a:cubicBezTo>
                    <a:cubicBezTo>
                      <a:pt x="2436" y="6"/>
                      <a:pt x="2218" y="12"/>
                      <a:pt x="2220" y="14"/>
                    </a:cubicBezTo>
                  </a:path>
                </a:pathLst>
              </a:custGeom>
              <a:noFill/>
              <a:ln w="284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540720" y="3409200"/>
                <a:ext cx="2266920" cy="304920"/>
              </a:xfrm>
              <a:custGeom>
                <a:avLst/>
                <a:gdLst/>
                <a:ahLst/>
                <a:rect l="l" t="t" r="r" b="b"/>
                <a:pathLst>
                  <a:path w="2436" h="1442">
                    <a:moveTo>
                      <a:pt x="0" y="1442"/>
                    </a:moveTo>
                    <a:cubicBezTo>
                      <a:pt x="8" y="1346"/>
                      <a:pt x="16" y="1250"/>
                      <a:pt x="24" y="1154"/>
                    </a:cubicBezTo>
                    <a:cubicBezTo>
                      <a:pt x="37" y="994"/>
                      <a:pt x="82" y="837"/>
                      <a:pt x="132" y="686"/>
                    </a:cubicBezTo>
                    <a:cubicBezTo>
                      <a:pt x="192" y="507"/>
                      <a:pt x="300" y="307"/>
                      <a:pt x="450" y="182"/>
                    </a:cubicBezTo>
                    <a:cubicBezTo>
                      <a:pt x="501" y="140"/>
                      <a:pt x="577" y="78"/>
                      <a:pt x="642" y="56"/>
                    </a:cubicBezTo>
                    <a:cubicBezTo>
                      <a:pt x="743" y="22"/>
                      <a:pt x="771" y="29"/>
                      <a:pt x="876" y="14"/>
                    </a:cubicBezTo>
                    <a:cubicBezTo>
                      <a:pt x="1147" y="0"/>
                      <a:pt x="1988" y="6"/>
                      <a:pt x="2212" y="6"/>
                    </a:cubicBezTo>
                    <a:cubicBezTo>
                      <a:pt x="2436" y="6"/>
                      <a:pt x="2218" y="12"/>
                      <a:pt x="2220" y="14"/>
                    </a:cubicBezTo>
                  </a:path>
                </a:pathLst>
              </a:custGeom>
              <a:noFill/>
              <a:ln w="284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921040" y="1240560"/>
              <a:ext cx="1703520" cy="2325960"/>
              <a:chOff x="2921040" y="1240560"/>
              <a:chExt cx="1703520" cy="232596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2921040" y="1511280"/>
                <a:ext cx="0" cy="1898640"/>
              </a:xfrm>
              <a:prstGeom prst="line">
                <a:avLst/>
              </a:prstGeom>
              <a:ln cap="rnd" w="28440">
                <a:solidFill>
                  <a:srgbClr val="ff33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014280" y="1240560"/>
                <a:ext cx="1610280" cy="232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Scal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Parameter f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Non-AF (z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i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Fores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Neighborho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Effect  for A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(y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9" name=""/>
          <p:cNvGrpSpPr/>
          <p:nvPr/>
        </p:nvGrpSpPr>
        <p:grpSpPr>
          <a:xfrm>
            <a:off x="1542960" y="1276200"/>
            <a:ext cx="7601040" cy="5608440"/>
            <a:chOff x="1542960" y="1276200"/>
            <a:chExt cx="7601040" cy="5608440"/>
          </a:xfrm>
        </p:grpSpPr>
        <p:sp>
          <p:nvSpPr>
            <p:cNvPr id="620" name=""/>
            <p:cNvSpPr/>
            <p:nvPr/>
          </p:nvSpPr>
          <p:spPr>
            <a:xfrm>
              <a:off x="3454560" y="6374520"/>
              <a:ext cx="299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Arial"/>
                </a:rPr>
                <a:t>total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(S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-(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Arial"/>
                </a:rPr>
                <a:t>j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Arial"/>
                </a:rPr>
                <a:t>ij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Arial"/>
                </a:rPr>
                <a:t>j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542960" y="4419720"/>
              <a:ext cx="7601040" cy="1885680"/>
              <a:chOff x="1542960" y="4419720"/>
              <a:chExt cx="7601040" cy="1885680"/>
            </a:xfrm>
          </p:grpSpPr>
          <p:sp>
            <p:nvSpPr>
              <p:cNvPr id="622" name=""/>
              <p:cNvSpPr/>
              <p:nvPr/>
            </p:nvSpPr>
            <p:spPr>
              <a:xfrm>
                <a:off x="1542960" y="4419720"/>
                <a:ext cx="7601040" cy="1885680"/>
              </a:xfrm>
              <a:custGeom>
                <a:avLst/>
                <a:gdLst>
                  <a:gd name="textAreaLeft" fmla="*/ 1330200 w 7601040"/>
                  <a:gd name="textAreaRight" fmla="*/ 5510880 w 7601040"/>
                  <a:gd name="textAreaTop" fmla="*/ 252360 h 1885680"/>
                  <a:gd name="textAreaBottom" fmla="*/ 1633320 h 1885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100000">
                    <a:srgbClr val="ffcccc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3424320" y="4457880"/>
                <a:ext cx="2212920" cy="1561680"/>
                <a:chOff x="3424320" y="4457880"/>
                <a:chExt cx="2212920" cy="1561680"/>
              </a:xfrm>
            </p:grpSpPr>
            <p:grpSp>
              <p:nvGrpSpPr>
                <p:cNvPr id="624" name=""/>
                <p:cNvGrpSpPr/>
                <p:nvPr/>
              </p:nvGrpSpPr>
              <p:grpSpPr>
                <a:xfrm>
                  <a:off x="4856040" y="4457880"/>
                  <a:ext cx="781200" cy="1561680"/>
                  <a:chOff x="4856040" y="4457880"/>
                  <a:chExt cx="781200" cy="156168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4856040" y="4848120"/>
                    <a:ext cx="781200" cy="780840"/>
                  </a:xfrm>
                  <a:prstGeom prst="ellipse">
                    <a:avLst/>
                  </a:prstGeom>
                  <a:solidFill>
                    <a:srgbClr val="ccffcc">
                      <a:alpha val="50000"/>
                    </a:srgbClr>
                  </a:solidFill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4856040" y="4457880"/>
                    <a:ext cx="781200" cy="780840"/>
                  </a:xfrm>
                  <a:prstGeom prst="ellipse">
                    <a:avLst/>
                  </a:prstGeom>
                  <a:solidFill>
                    <a:srgbClr val="ffcccc">
                      <a:alpha val="50000"/>
                    </a:srgbClr>
                  </a:solidFill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856040" y="5238720"/>
                    <a:ext cx="781200" cy="780840"/>
                  </a:xfrm>
                  <a:prstGeom prst="ellipse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5074920" y="5180760"/>
                    <a:ext cx="36504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00"/>
                        </a:solidFill>
                        <a:latin typeface="Arial"/>
                      </a:rPr>
                      <a:t>p</a:t>
                    </a:r>
                    <a:r>
                      <a:rPr b="0" lang="en-US" sz="1800" spc="-1" strike="noStrike" baseline="-25000">
                        <a:solidFill>
                          <a:srgbClr val="ff9900"/>
                        </a:solidFill>
                        <a:latin typeface="Arial"/>
                      </a:rPr>
                      <a:t>ij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074920" y="4823640"/>
                    <a:ext cx="36504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Arial"/>
                      </a:rPr>
                      <a:t>p</a:t>
                    </a:r>
                    <a:r>
                      <a:rPr b="0" lang="en-US" sz="1800" spc="-1" strike="noStrike" baseline="-25000">
                        <a:solidFill>
                          <a:srgbClr val="ff3300"/>
                        </a:solidFill>
                        <a:latin typeface="Arial"/>
                      </a:rPr>
                      <a:t>ij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3424320" y="4880880"/>
                  <a:ext cx="1409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Overlapp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Probabil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1" name=""/>
            <p:cNvGrpSpPr/>
            <p:nvPr/>
          </p:nvGrpSpPr>
          <p:grpSpPr>
            <a:xfrm>
              <a:off x="4819680" y="1276200"/>
              <a:ext cx="4210200" cy="3143520"/>
              <a:chOff x="4819680" y="1276200"/>
              <a:chExt cx="4210200" cy="3143520"/>
            </a:xfrm>
          </p:grpSpPr>
          <p:sp>
            <p:nvSpPr>
              <p:cNvPr id="632" name=""/>
              <p:cNvSpPr/>
              <p:nvPr/>
            </p:nvSpPr>
            <p:spPr>
              <a:xfrm rot="16200000">
                <a:off x="5352840" y="742680"/>
                <a:ext cx="3143520" cy="4210200"/>
              </a:xfrm>
              <a:prstGeom prst="flowChartPunchedTap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5583960" y="1547280"/>
                <a:ext cx="2556720" cy="2553840"/>
                <a:chOff x="5583960" y="1547280"/>
                <a:chExt cx="2556720" cy="25538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5961240" y="1561680"/>
                  <a:ext cx="2179440" cy="2171880"/>
                </a:xfrm>
                <a:prstGeom prst="rect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418440" y="3732840"/>
                  <a:ext cx="129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Landscap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16200000">
                  <a:off x="4683960" y="2447280"/>
                  <a:ext cx="2168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pecies Richnes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972040" y="1801440"/>
                  <a:ext cx="2057400" cy="1913040"/>
                </a:xfrm>
                <a:custGeom>
                  <a:avLst/>
                  <a:gdLst/>
                  <a:ahLst/>
                  <a:rect l="l" t="t" r="r" b="b"/>
                  <a:pathLst>
                    <a:path w="2436" h="1442">
                      <a:moveTo>
                        <a:pt x="0" y="1442"/>
                      </a:moveTo>
                      <a:cubicBezTo>
                        <a:pt x="8" y="1346"/>
                        <a:pt x="16" y="1250"/>
                        <a:pt x="24" y="1154"/>
                      </a:cubicBezTo>
                      <a:cubicBezTo>
                        <a:pt x="37" y="994"/>
                        <a:pt x="82" y="837"/>
                        <a:pt x="132" y="686"/>
                      </a:cubicBezTo>
                      <a:cubicBezTo>
                        <a:pt x="192" y="507"/>
                        <a:pt x="300" y="307"/>
                        <a:pt x="450" y="182"/>
                      </a:cubicBezTo>
                      <a:cubicBezTo>
                        <a:pt x="501" y="140"/>
                        <a:pt x="577" y="78"/>
                        <a:pt x="642" y="56"/>
                      </a:cubicBezTo>
                      <a:cubicBezTo>
                        <a:pt x="743" y="22"/>
                        <a:pt x="771" y="29"/>
                        <a:pt x="876" y="14"/>
                      </a:cubicBezTo>
                      <a:cubicBezTo>
                        <a:pt x="1147" y="0"/>
                        <a:pt x="1988" y="6"/>
                        <a:pt x="2212" y="6"/>
                      </a:cubicBezTo>
                      <a:cubicBezTo>
                        <a:pt x="2436" y="6"/>
                        <a:pt x="2218" y="12"/>
                        <a:pt x="2220" y="14"/>
                      </a:cubicBezTo>
                    </a:path>
                  </a:pathLst>
                </a:custGeom>
                <a:noFill/>
                <a:ln w="381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5991120" y="1572840"/>
                  <a:ext cx="2057400" cy="1913040"/>
                </a:xfrm>
                <a:custGeom>
                  <a:avLst/>
                  <a:gdLst/>
                  <a:ahLst/>
                  <a:rect l="l" t="t" r="r" b="b"/>
                  <a:pathLst>
                    <a:path w="2436" h="1442">
                      <a:moveTo>
                        <a:pt x="0" y="1442"/>
                      </a:moveTo>
                      <a:cubicBezTo>
                        <a:pt x="8" y="1346"/>
                        <a:pt x="16" y="1250"/>
                        <a:pt x="24" y="1154"/>
                      </a:cubicBezTo>
                      <a:cubicBezTo>
                        <a:pt x="37" y="994"/>
                        <a:pt x="82" y="837"/>
                        <a:pt x="132" y="686"/>
                      </a:cubicBezTo>
                      <a:cubicBezTo>
                        <a:pt x="192" y="507"/>
                        <a:pt x="300" y="307"/>
                        <a:pt x="450" y="182"/>
                      </a:cubicBezTo>
                      <a:cubicBezTo>
                        <a:pt x="501" y="140"/>
                        <a:pt x="577" y="78"/>
                        <a:pt x="642" y="56"/>
                      </a:cubicBezTo>
                      <a:cubicBezTo>
                        <a:pt x="743" y="22"/>
                        <a:pt x="771" y="29"/>
                        <a:pt x="876" y="14"/>
                      </a:cubicBezTo>
                      <a:cubicBezTo>
                        <a:pt x="1147" y="0"/>
                        <a:pt x="1988" y="6"/>
                        <a:pt x="2212" y="6"/>
                      </a:cubicBezTo>
                      <a:cubicBezTo>
                        <a:pt x="2436" y="6"/>
                        <a:pt x="2218" y="12"/>
                        <a:pt x="2220" y="14"/>
                      </a:cubicBezTo>
                    </a:path>
                  </a:pathLst>
                </a:custGeom>
                <a:noFill/>
                <a:ln w="381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BIO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860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pproach 2: Probability of Occurrence of Biodiversity Plan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77920" y="1022400"/>
            <a:ext cx="86198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BIO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52280" y="1495440"/>
            <a:ext cx="8839080" cy="4381560"/>
            <a:chOff x="152280" y="1495440"/>
            <a:chExt cx="8839080" cy="438156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152280" y="1495440"/>
              <a:ext cx="7135920" cy="438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7" name=""/>
            <p:cNvGrpSpPr/>
            <p:nvPr/>
          </p:nvGrpSpPr>
          <p:grpSpPr>
            <a:xfrm>
              <a:off x="7296120" y="2791080"/>
              <a:ext cx="1695240" cy="1676160"/>
              <a:chOff x="7296120" y="2791080"/>
              <a:chExt cx="1695240" cy="1676160"/>
            </a:xfrm>
          </p:grpSpPr>
          <p:sp>
            <p:nvSpPr>
              <p:cNvPr id="648" name=""/>
              <p:cNvSpPr/>
              <p:nvPr/>
            </p:nvSpPr>
            <p:spPr>
              <a:xfrm>
                <a:off x="7296120" y="2791080"/>
                <a:ext cx="1695240" cy="419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one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96120" y="3210120"/>
                <a:ext cx="1695240" cy="4190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oung Se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96120" y="3629160"/>
                <a:ext cx="1695240" cy="4190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Old Se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96120" y="4048200"/>
                <a:ext cx="1695240" cy="4190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rim F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2" name=""/>
          <p:cNvSpPr/>
          <p:nvPr/>
        </p:nvSpPr>
        <p:spPr>
          <a:xfrm>
            <a:off x="0" y="860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pproach 2: Probability of Occurrence of Biodiversity Plan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Watershed" descr=""/>
          <p:cNvPicPr/>
          <p:nvPr/>
        </p:nvPicPr>
        <p:blipFill>
          <a:blip r:embed="rId1"/>
          <a:stretch/>
        </p:blipFill>
        <p:spPr>
          <a:xfrm>
            <a:off x="1805040" y="504720"/>
            <a:ext cx="5495760" cy="63532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 MODULE: WATERSHE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40560" y="2436120"/>
            <a:ext cx="93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ain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29320" y="2400480"/>
            <a:ext cx="0" cy="695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532920" y="1788480"/>
            <a:ext cx="125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ater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105680" y="212364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746160" y="2426400"/>
            <a:ext cx="1651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verland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971960" y="2781360"/>
            <a:ext cx="390600" cy="352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98640" y="3817080"/>
            <a:ext cx="2527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ubsurface Quick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015280" y="5750640"/>
            <a:ext cx="124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se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95800" y="5905440"/>
            <a:ext cx="733320" cy="409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74600" y="5274720"/>
            <a:ext cx="149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round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stCxn id="665" idx="1"/>
            <a:endCxn id="663" idx="1"/>
          </p:cNvCxnSpPr>
          <p:nvPr/>
        </p:nvCxnSpPr>
        <p:spPr>
          <a:xfrm flipH="1" flipV="1" rot="10800000">
            <a:off x="1970280" y="5458320"/>
            <a:ext cx="41760" cy="477000"/>
          </a:xfrm>
          <a:prstGeom prst="bentConnector3">
            <a:avLst>
              <a:gd name="adj1" fmla="val -558260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6492240" y="3656880"/>
            <a:ext cx="116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fil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7029360" y="3247920"/>
            <a:ext cx="152640" cy="409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6190920" y="4000320"/>
            <a:ext cx="390600" cy="190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520" y="45126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0560" y="40809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Soil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781000" y="2905200"/>
            <a:ext cx="2343240" cy="1810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98040" y="29124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Sedimen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WHY DO WE NEED PCRASTER VER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495360" y="895320"/>
            <a:ext cx="4305240" cy="5543640"/>
            <a:chOff x="495360" y="895320"/>
            <a:chExt cx="4305240" cy="5543640"/>
          </a:xfrm>
        </p:grpSpPr>
        <p:sp>
          <p:nvSpPr>
            <p:cNvPr id="676" name=""/>
            <p:cNvSpPr/>
            <p:nvPr/>
          </p:nvSpPr>
          <p:spPr>
            <a:xfrm>
              <a:off x="495360" y="895320"/>
              <a:ext cx="4305240" cy="554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LLA: 100 ce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7" name="mapunit" descr=""/>
            <p:cNvPicPr/>
            <p:nvPr/>
          </p:nvPicPr>
          <p:blipFill>
            <a:blip r:embed="rId1"/>
            <a:stretch/>
          </p:blipFill>
          <p:spPr>
            <a:xfrm>
              <a:off x="876240" y="1143000"/>
              <a:ext cx="32371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excel1" descr=""/>
            <p:cNvPicPr/>
            <p:nvPr/>
          </p:nvPicPr>
          <p:blipFill>
            <a:blip r:embed="rId2"/>
            <a:srcRect l="0" t="0" r="40129" b="8089"/>
            <a:stretch/>
          </p:blipFill>
          <p:spPr>
            <a:xfrm>
              <a:off x="1447920" y="3335400"/>
              <a:ext cx="2257200" cy="259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9" name=""/>
          <p:cNvGrpSpPr/>
          <p:nvPr/>
        </p:nvGrpSpPr>
        <p:grpSpPr>
          <a:xfrm>
            <a:off x="4781520" y="1521720"/>
            <a:ext cx="4121280" cy="4421880"/>
            <a:chOff x="4781520" y="1521720"/>
            <a:chExt cx="4121280" cy="4421880"/>
          </a:xfrm>
        </p:grpSpPr>
        <p:sp>
          <p:nvSpPr>
            <p:cNvPr id="680" name=""/>
            <p:cNvSpPr/>
            <p:nvPr/>
          </p:nvSpPr>
          <p:spPr>
            <a:xfrm>
              <a:off x="5695920" y="1886040"/>
              <a:ext cx="3200400" cy="4057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PCRaster: 79,443 ce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1" name=""/>
            <p:cNvGraphicFramePr/>
            <p:nvPr/>
          </p:nvGraphicFramePr>
          <p:xfrm>
            <a:off x="5835600" y="2286000"/>
            <a:ext cx="2965680" cy="2743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35600" y="2286000"/>
                      <a:ext cx="296568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3" name=""/>
            <p:cNvSpPr/>
            <p:nvPr/>
          </p:nvSpPr>
          <p:spPr>
            <a:xfrm>
              <a:off x="4781520" y="3295800"/>
              <a:ext cx="914400" cy="742680"/>
            </a:xfrm>
            <a:prstGeom prst="rightArrow">
              <a:avLst>
                <a:gd name="adj1" fmla="val 50000"/>
                <a:gd name="adj2" fmla="val 3078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ccffcc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89440" y="1521720"/>
              <a:ext cx="321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It is integrated with G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PCRaster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WHAT IS MISSING IN PCRASTER VER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PCRaster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14480" y="876240"/>
            <a:ext cx="4724280" cy="5810400"/>
            <a:chOff x="114480" y="876240"/>
            <a:chExt cx="4724280" cy="5810400"/>
          </a:xfrm>
        </p:grpSpPr>
        <p:sp>
          <p:nvSpPr>
            <p:cNvPr id="689" name=""/>
            <p:cNvSpPr/>
            <p:nvPr/>
          </p:nvSpPr>
          <p:spPr>
            <a:xfrm>
              <a:off x="114480" y="876240"/>
              <a:ext cx="4724280" cy="58104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L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0" name="stella1" descr=""/>
            <p:cNvPicPr/>
            <p:nvPr/>
          </p:nvPicPr>
          <p:blipFill>
            <a:blip r:embed="rId1"/>
            <a:srcRect l="0" t="5813" r="67639" b="56625"/>
            <a:stretch/>
          </p:blipFill>
          <p:spPr>
            <a:xfrm>
              <a:off x="884160" y="1333440"/>
              <a:ext cx="3067200" cy="26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stella2" descr=""/>
            <p:cNvPicPr/>
            <p:nvPr/>
          </p:nvPicPr>
          <p:blipFill>
            <a:blip r:embed="rId2"/>
            <a:srcRect l="3066" t="42026" r="50722" b="25409"/>
            <a:stretch/>
          </p:blipFill>
          <p:spPr>
            <a:xfrm>
              <a:off x="285840" y="4172040"/>
              <a:ext cx="4379760" cy="22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2" name=""/>
          <p:cNvGrpSpPr/>
          <p:nvPr/>
        </p:nvGrpSpPr>
        <p:grpSpPr>
          <a:xfrm>
            <a:off x="4781520" y="1521720"/>
            <a:ext cx="4121280" cy="4421880"/>
            <a:chOff x="4781520" y="1521720"/>
            <a:chExt cx="4121280" cy="4421880"/>
          </a:xfrm>
        </p:grpSpPr>
        <p:sp>
          <p:nvSpPr>
            <p:cNvPr id="693" name=""/>
            <p:cNvSpPr/>
            <p:nvPr/>
          </p:nvSpPr>
          <p:spPr>
            <a:xfrm>
              <a:off x="5695920" y="1886040"/>
              <a:ext cx="3200400" cy="4057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PCRa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81520" y="3295800"/>
              <a:ext cx="914400" cy="742680"/>
            </a:xfrm>
            <a:prstGeom prst="rightArrow">
              <a:avLst>
                <a:gd name="adj1" fmla="val 50000"/>
                <a:gd name="adj2" fmla="val 3078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ccffcc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5" name="pcraster1" descr=""/>
            <p:cNvPicPr/>
            <p:nvPr/>
          </p:nvPicPr>
          <p:blipFill>
            <a:blip r:embed="rId3"/>
            <a:srcRect l="0" t="0" r="51844" b="0"/>
            <a:stretch/>
          </p:blipFill>
          <p:spPr>
            <a:xfrm>
              <a:off x="5829480" y="2328840"/>
              <a:ext cx="299052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5689440" y="1521720"/>
              <a:ext cx="321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User Friendli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XCEL AS USER INTERFACE IN PCRASTER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PCRaster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excel1" descr=""/>
          <p:cNvPicPr/>
          <p:nvPr/>
        </p:nvPicPr>
        <p:blipFill>
          <a:blip r:embed="rId1"/>
          <a:stretch/>
        </p:blipFill>
        <p:spPr>
          <a:xfrm>
            <a:off x="723960" y="803160"/>
            <a:ext cx="762948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380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ANDCOVER 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ANDOMLY SELECTED FIELD, RUNNING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7061040" y="2273400"/>
            <a:ext cx="2082600" cy="3516120"/>
            <a:chOff x="7061040" y="2273400"/>
            <a:chExt cx="2082600" cy="3516120"/>
          </a:xfrm>
        </p:grpSpPr>
        <p:pic>
          <p:nvPicPr>
            <p:cNvPr id="703" name="LC_Legend" descr=""/>
            <p:cNvPicPr/>
            <p:nvPr/>
          </p:nvPicPr>
          <p:blipFill>
            <a:blip r:embed="rId1"/>
            <a:stretch/>
          </p:blipFill>
          <p:spPr>
            <a:xfrm>
              <a:off x="7061040" y="2428560"/>
              <a:ext cx="519120" cy="23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7549920" y="2273400"/>
              <a:ext cx="159372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P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L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Ear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Pion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For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ld Second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oung Second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on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opped-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266760" y="370368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09760" y="3703680"/>
            <a:ext cx="25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 years 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6760" y="652140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years 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LC001_Sim1" descr=""/>
          <p:cNvPicPr/>
          <p:nvPr/>
        </p:nvPicPr>
        <p:blipFill>
          <a:blip r:embed="rId2"/>
          <a:srcRect l="10653" t="10273" r="24877" b="8107"/>
          <a:stretch/>
        </p:blipFill>
        <p:spPr>
          <a:xfrm>
            <a:off x="385920" y="1339920"/>
            <a:ext cx="2509560" cy="2363760"/>
          </a:xfrm>
          <a:prstGeom prst="rect">
            <a:avLst/>
          </a:prstGeom>
          <a:ln w="0">
            <a:noFill/>
          </a:ln>
        </p:spPr>
      </p:pic>
      <p:pic>
        <p:nvPicPr>
          <p:cNvPr id="709" name="LC051_Sim1" descr=""/>
          <p:cNvPicPr/>
          <p:nvPr/>
        </p:nvPicPr>
        <p:blipFill>
          <a:blip r:embed="rId3"/>
          <a:srcRect l="10808" t="10508" r="24702" b="8046"/>
          <a:stretch/>
        </p:blipFill>
        <p:spPr>
          <a:xfrm>
            <a:off x="3259080" y="132876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710" name="LC101_Sim1" descr=""/>
          <p:cNvPicPr/>
          <p:nvPr/>
        </p:nvPicPr>
        <p:blipFill>
          <a:blip r:embed="rId4"/>
          <a:srcRect l="10808" t="10252" r="24702" b="8434"/>
          <a:stretch/>
        </p:blipFill>
        <p:spPr>
          <a:xfrm>
            <a:off x="336600" y="4189320"/>
            <a:ext cx="2504880" cy="2349720"/>
          </a:xfrm>
          <a:prstGeom prst="rect">
            <a:avLst/>
          </a:prstGeom>
          <a:ln w="0">
            <a:noFill/>
          </a:ln>
        </p:spPr>
      </p:pic>
      <p:grpSp>
        <p:nvGrpSpPr>
          <p:cNvPr id="711" name=""/>
          <p:cNvGrpSpPr/>
          <p:nvPr/>
        </p:nvGrpSpPr>
        <p:grpSpPr>
          <a:xfrm>
            <a:off x="2940120" y="4367160"/>
            <a:ext cx="3643200" cy="2490840"/>
            <a:chOff x="2940120" y="4367160"/>
            <a:chExt cx="3643200" cy="2490840"/>
          </a:xfrm>
        </p:grpSpPr>
        <p:pic>
          <p:nvPicPr>
            <p:cNvPr id="712" name="" descr=""/>
            <p:cNvPicPr/>
            <p:nvPr/>
          </p:nvPicPr>
          <p:blipFill>
            <a:blip r:embed="rId5"/>
            <a:stretch/>
          </p:blipFill>
          <p:spPr>
            <a:xfrm>
              <a:off x="2940120" y="4367160"/>
              <a:ext cx="364320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4070160" y="5512680"/>
              <a:ext cx="20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ROPPED FIE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779360" y="6658560"/>
            <a:ext cx="366480" cy="2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16200000">
            <a:off x="2868840" y="5359320"/>
            <a:ext cx="528120" cy="2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rea (%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7680" y="1123920"/>
            <a:ext cx="8667720" cy="409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7360" y="1949400"/>
            <a:ext cx="8369280" cy="2921040"/>
            <a:chOff x="387360" y="1949400"/>
            <a:chExt cx="8369280" cy="2921040"/>
          </a:xfrm>
        </p:grpSpPr>
        <p:grpSp>
          <p:nvGrpSpPr>
            <p:cNvPr id="49" name=""/>
            <p:cNvGrpSpPr/>
            <p:nvPr/>
          </p:nvGrpSpPr>
          <p:grpSpPr>
            <a:xfrm>
              <a:off x="387360" y="1949400"/>
              <a:ext cx="8369280" cy="2921040"/>
              <a:chOff x="387360" y="1949400"/>
              <a:chExt cx="8369280" cy="2921040"/>
            </a:xfrm>
          </p:grpSpPr>
          <p:sp>
            <p:nvSpPr>
              <p:cNvPr id="50" name=""/>
              <p:cNvSpPr/>
              <p:nvPr/>
            </p:nvSpPr>
            <p:spPr>
              <a:xfrm>
                <a:off x="387360" y="1962000"/>
                <a:ext cx="5245200" cy="2908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29440" y="1949400"/>
                <a:ext cx="2527200" cy="2908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384880" y="3029040"/>
                <a:ext cx="863640" cy="749160"/>
              </a:xfrm>
              <a:custGeom>
                <a:avLst/>
                <a:gdLst>
                  <a:gd name="textAreaLeft" fmla="*/ 135000 w 863640"/>
                  <a:gd name="textAreaRight" fmla="*/ 756000 w 863640"/>
                  <a:gd name="textAreaTop" fmla="*/ 187200 h 749160"/>
                  <a:gd name="textAreaBottom" fmla="*/ 561960 h 74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6418440" y="2355840"/>
              <a:ext cx="2114280" cy="3967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Food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18440" y="2924280"/>
              <a:ext cx="2114280" cy="39672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Carbon Sto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18440" y="3521160"/>
              <a:ext cx="2114280" cy="39672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Biodivers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18440" y="4067280"/>
              <a:ext cx="2114280" cy="39672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Watershed Fun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9536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lo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oil Fertility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op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639880" y="2114640"/>
            <a:ext cx="2895840" cy="917640"/>
            <a:chOff x="2639880" y="2114640"/>
            <a:chExt cx="2895840" cy="917640"/>
          </a:xfrm>
        </p:grpSpPr>
        <p:sp>
          <p:nvSpPr>
            <p:cNvPr id="59" name=""/>
            <p:cNvSpPr/>
            <p:nvPr/>
          </p:nvSpPr>
          <p:spPr>
            <a:xfrm>
              <a:off x="3421080" y="2114640"/>
              <a:ext cx="2114640" cy="9176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Household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ice Stor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onsum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39880" y="2387520"/>
              <a:ext cx="704880" cy="343080"/>
            </a:xfrm>
            <a:custGeom>
              <a:avLst/>
              <a:gdLst>
                <a:gd name="textAreaLeft" fmla="*/ 110160 w 704880"/>
                <a:gd name="textAreaRight" fmla="*/ 617040 w 704880"/>
                <a:gd name="textAreaTop" fmla="*/ 85680 h 343080"/>
                <a:gd name="textAreaBottom" fmla="*/ 257400 h 34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cce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421080" y="3079800"/>
            <a:ext cx="2114640" cy="1663560"/>
            <a:chOff x="3421080" y="3079800"/>
            <a:chExt cx="2114640" cy="1663560"/>
          </a:xfrm>
        </p:grpSpPr>
        <p:sp>
          <p:nvSpPr>
            <p:cNvPr id="62" name=""/>
            <p:cNvSpPr/>
            <p:nvPr/>
          </p:nvSpPr>
          <p:spPr>
            <a:xfrm>
              <a:off x="3421080" y="3825720"/>
              <a:ext cx="2114640" cy="9176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Decision 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Land Use Intens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4122720" y="3260880"/>
              <a:ext cx="704880" cy="342720"/>
            </a:xfrm>
            <a:custGeom>
              <a:avLst/>
              <a:gdLst>
                <a:gd name="textAreaLeft" fmla="*/ 110160 w 704880"/>
                <a:gd name="textAreaRight" fmla="*/ 617040 w 704880"/>
                <a:gd name="textAreaTop" fmla="*/ 85680 h 342720"/>
                <a:gd name="textAreaBottom" fmla="*/ 25704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93560" y="3079800"/>
            <a:ext cx="2851200" cy="1650960"/>
            <a:chOff x="493560" y="3079800"/>
            <a:chExt cx="2851200" cy="1650960"/>
          </a:xfrm>
        </p:grpSpPr>
        <p:grpSp>
          <p:nvGrpSpPr>
            <p:cNvPr id="65" name=""/>
            <p:cNvGrpSpPr/>
            <p:nvPr/>
          </p:nvGrpSpPr>
          <p:grpSpPr>
            <a:xfrm>
              <a:off x="493560" y="3813120"/>
              <a:ext cx="2851200" cy="917640"/>
              <a:chOff x="493560" y="3813120"/>
              <a:chExt cx="2851200" cy="917640"/>
            </a:xfrm>
          </p:grpSpPr>
          <p:sp>
            <p:nvSpPr>
              <p:cNvPr id="66" name=""/>
              <p:cNvSpPr/>
              <p:nvPr/>
            </p:nvSpPr>
            <p:spPr>
              <a:xfrm>
                <a:off x="493560" y="3813120"/>
                <a:ext cx="2114640" cy="917640"/>
              </a:xfrm>
              <a:prstGeom prst="roundRect">
                <a:avLst>
                  <a:gd name="adj" fmla="val 16667"/>
                </a:avLst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Choice Of Fiel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&amp; Crop 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0800000">
                <a:off x="2639880" y="4102200"/>
                <a:ext cx="704880" cy="342720"/>
              </a:xfrm>
              <a:custGeom>
                <a:avLst/>
                <a:gdLst>
                  <a:gd name="textAreaLeft" fmla="*/ 110160 w 704880"/>
                  <a:gd name="textAreaRight" fmla="*/ 617040 w 704880"/>
                  <a:gd name="textAreaTop" fmla="*/ 85680 h 342720"/>
                  <a:gd name="textAreaBottom" fmla="*/ 257040 h 34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rot="16200000">
              <a:off x="1218960" y="3260520"/>
              <a:ext cx="704880" cy="343080"/>
            </a:xfrm>
            <a:custGeom>
              <a:avLst/>
              <a:gdLst>
                <a:gd name="textAreaLeft" fmla="*/ 110160 w 704880"/>
                <a:gd name="textAreaRight" fmla="*/ 617040 w 704880"/>
                <a:gd name="textAreaTop" fmla="*/ 85680 h 343080"/>
                <a:gd name="textAreaBottom" fmla="*/ 257400 h 34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ODEL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380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ANDOMLY SELECTED FIELD, RUNNING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0" y="1130400"/>
            <a:ext cx="4532400" cy="309888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4532400" y="1111320"/>
            <a:ext cx="4532400" cy="309888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0" y="3759120"/>
            <a:ext cx="4532400" cy="30988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1981080" y="1714680"/>
            <a:ext cx="0" cy="1409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383840" y="13215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c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560920" y="329004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duced by Overl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27040" y="51127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c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395880" y="5903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&amp;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061040" y="2273400"/>
            <a:ext cx="2082600" cy="3516120"/>
            <a:chOff x="7061040" y="2273400"/>
            <a:chExt cx="2082600" cy="3516120"/>
          </a:xfrm>
        </p:grpSpPr>
        <p:pic>
          <p:nvPicPr>
            <p:cNvPr id="728" name="LC_Legend" descr=""/>
            <p:cNvPicPr/>
            <p:nvPr/>
          </p:nvPicPr>
          <p:blipFill>
            <a:blip r:embed="rId1"/>
            <a:stretch/>
          </p:blipFill>
          <p:spPr>
            <a:xfrm>
              <a:off x="7061040" y="2428560"/>
              <a:ext cx="519120" cy="23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549920" y="2273400"/>
              <a:ext cx="159372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P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L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Ear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Pion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For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ld Second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oung Second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on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opped-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66760" y="370368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09760" y="3703680"/>
            <a:ext cx="25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 years 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66760" y="652140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years 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LC001_Sim1" descr=""/>
          <p:cNvPicPr/>
          <p:nvPr/>
        </p:nvPicPr>
        <p:blipFill>
          <a:blip r:embed="rId2"/>
          <a:srcRect l="10653" t="10273" r="24877" b="8107"/>
          <a:stretch/>
        </p:blipFill>
        <p:spPr>
          <a:xfrm>
            <a:off x="385920" y="1339920"/>
            <a:ext cx="2509560" cy="2363760"/>
          </a:xfrm>
          <a:prstGeom prst="rect">
            <a:avLst/>
          </a:prstGeom>
          <a:ln w="0">
            <a:noFill/>
          </a:ln>
        </p:spPr>
      </p:pic>
      <p:pic>
        <p:nvPicPr>
          <p:cNvPr id="734" name="LC051_Sim2" descr=""/>
          <p:cNvPicPr/>
          <p:nvPr/>
        </p:nvPicPr>
        <p:blipFill>
          <a:blip r:embed="rId3"/>
          <a:srcRect l="10615" t="10252" r="24702" b="8046"/>
          <a:stretch/>
        </p:blipFill>
        <p:spPr>
          <a:xfrm>
            <a:off x="3313080" y="1293840"/>
            <a:ext cx="2514600" cy="2363760"/>
          </a:xfrm>
          <a:prstGeom prst="rect">
            <a:avLst/>
          </a:prstGeom>
          <a:ln w="0">
            <a:noFill/>
          </a:ln>
        </p:spPr>
      </p:pic>
      <p:pic>
        <p:nvPicPr>
          <p:cNvPr id="735" name="LC101_Sim2" descr=""/>
          <p:cNvPicPr/>
          <p:nvPr/>
        </p:nvPicPr>
        <p:blipFill>
          <a:blip r:embed="rId4"/>
          <a:srcRect l="10808" t="10252" r="24702" b="8434"/>
          <a:stretch/>
        </p:blipFill>
        <p:spPr>
          <a:xfrm>
            <a:off x="361800" y="4170240"/>
            <a:ext cx="2505240" cy="234972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5"/>
          <a:stretch/>
        </p:blipFill>
        <p:spPr>
          <a:xfrm>
            <a:off x="2867040" y="4159080"/>
            <a:ext cx="3948120" cy="26989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0" y="380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ANDCOVER 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ANDOMLY SELECTED FIELD, RUNNING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0" y="863640"/>
            <a:ext cx="4532400" cy="30988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2032560" y="17060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allow Veg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c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4532400" y="901800"/>
            <a:ext cx="4378320" cy="299376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5846760" y="288072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duced by Overl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3"/>
          <a:stretch/>
        </p:blipFill>
        <p:spPr>
          <a:xfrm>
            <a:off x="0" y="3759120"/>
            <a:ext cx="4532400" cy="30988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707200" y="5903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ild F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50720" y="3988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c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ANDOMLY SELECTED FIELD, RUNNING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ANDCOVER 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CUTIVELY SELECTED FIEL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ROPPING INTENSIFICATION BASED ON RICE 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7061040" y="2273400"/>
            <a:ext cx="2082600" cy="3516120"/>
            <a:chOff x="7061040" y="2273400"/>
            <a:chExt cx="2082600" cy="3516120"/>
          </a:xfrm>
        </p:grpSpPr>
        <p:pic>
          <p:nvPicPr>
            <p:cNvPr id="750" name="LC_Legend" descr=""/>
            <p:cNvPicPr/>
            <p:nvPr/>
          </p:nvPicPr>
          <p:blipFill>
            <a:blip r:embed="rId1"/>
            <a:stretch/>
          </p:blipFill>
          <p:spPr>
            <a:xfrm>
              <a:off x="7061040" y="2428560"/>
              <a:ext cx="519120" cy="23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7549920" y="2273400"/>
              <a:ext cx="159372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P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L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Ear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Pion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For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ld Second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oung Second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on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opped-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66760" y="370368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9760" y="3703680"/>
            <a:ext cx="25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year 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760" y="652140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 years 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LC001_Sim1" descr=""/>
          <p:cNvPicPr/>
          <p:nvPr/>
        </p:nvPicPr>
        <p:blipFill>
          <a:blip r:embed="rId2"/>
          <a:srcRect l="10653" t="10273" r="24877" b="8107"/>
          <a:stretch/>
        </p:blipFill>
        <p:spPr>
          <a:xfrm>
            <a:off x="385920" y="1339920"/>
            <a:ext cx="2509560" cy="2363760"/>
          </a:xfrm>
          <a:prstGeom prst="rect">
            <a:avLst/>
          </a:prstGeom>
          <a:ln w="0">
            <a:noFill/>
          </a:ln>
        </p:spPr>
      </p:pic>
      <p:pic>
        <p:nvPicPr>
          <p:cNvPr id="756" name="LC002_Sim3" descr=""/>
          <p:cNvPicPr/>
          <p:nvPr/>
        </p:nvPicPr>
        <p:blipFill>
          <a:blip r:embed="rId3"/>
          <a:srcRect l="10808" t="10252" r="24702" b="8434"/>
          <a:stretch/>
        </p:blipFill>
        <p:spPr>
          <a:xfrm>
            <a:off x="3276720" y="1308240"/>
            <a:ext cx="2504880" cy="2349360"/>
          </a:xfrm>
          <a:prstGeom prst="rect">
            <a:avLst/>
          </a:prstGeom>
          <a:ln w="0">
            <a:noFill/>
          </a:ln>
        </p:spPr>
      </p:pic>
      <p:pic>
        <p:nvPicPr>
          <p:cNvPr id="757" name="LC004_Sim3" descr=""/>
          <p:cNvPicPr/>
          <p:nvPr/>
        </p:nvPicPr>
        <p:blipFill>
          <a:blip r:embed="rId4"/>
          <a:srcRect l="10808" t="10252" r="24702" b="8046"/>
          <a:stretch/>
        </p:blipFill>
        <p:spPr>
          <a:xfrm>
            <a:off x="380880" y="4113360"/>
            <a:ext cx="2505240" cy="236052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5"/>
          <a:stretch/>
        </p:blipFill>
        <p:spPr>
          <a:xfrm>
            <a:off x="3111480" y="4230720"/>
            <a:ext cx="38433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ANDCOVER 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NSECUTIVELY SELECTED FIEL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ROPPING INTENSIFICATION BASED ON EXPECTED 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WITH PROGRESSIVE LEARNING STY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061040" y="2273400"/>
            <a:ext cx="2082600" cy="3516120"/>
            <a:chOff x="7061040" y="2273400"/>
            <a:chExt cx="2082600" cy="3516120"/>
          </a:xfrm>
        </p:grpSpPr>
        <p:pic>
          <p:nvPicPr>
            <p:cNvPr id="762" name="LC_Legend" descr=""/>
            <p:cNvPicPr/>
            <p:nvPr/>
          </p:nvPicPr>
          <p:blipFill>
            <a:blip r:embed="rId1"/>
            <a:stretch/>
          </p:blipFill>
          <p:spPr>
            <a:xfrm>
              <a:off x="7061040" y="2428560"/>
              <a:ext cx="519120" cy="23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7549920" y="2273400"/>
              <a:ext cx="159372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P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L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Ear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-Pion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For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ld Second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oung Second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on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opped-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266760" y="370368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9760" y="3703680"/>
            <a:ext cx="25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year 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66760" y="652140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 years 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LC001_Sim1" descr=""/>
          <p:cNvPicPr/>
          <p:nvPr/>
        </p:nvPicPr>
        <p:blipFill>
          <a:blip r:embed="rId2"/>
          <a:srcRect l="10653" t="10273" r="24877" b="8107"/>
          <a:stretch/>
        </p:blipFill>
        <p:spPr>
          <a:xfrm>
            <a:off x="385920" y="1339920"/>
            <a:ext cx="2509560" cy="2363760"/>
          </a:xfrm>
          <a:prstGeom prst="rect">
            <a:avLst/>
          </a:prstGeom>
          <a:ln w="0">
            <a:noFill/>
          </a:ln>
        </p:spPr>
      </p:pic>
      <p:pic>
        <p:nvPicPr>
          <p:cNvPr id="768" name="LC001" descr=""/>
          <p:cNvPicPr/>
          <p:nvPr/>
        </p:nvPicPr>
        <p:blipFill>
          <a:blip r:embed="rId3"/>
          <a:srcRect l="13202" t="12167" r="27726" b="10835"/>
          <a:stretch/>
        </p:blipFill>
        <p:spPr>
          <a:xfrm>
            <a:off x="3273480" y="1300320"/>
            <a:ext cx="2512800" cy="2357280"/>
          </a:xfrm>
          <a:prstGeom prst="rect">
            <a:avLst/>
          </a:prstGeom>
          <a:ln w="0">
            <a:noFill/>
          </a:ln>
        </p:spPr>
      </p:pic>
      <p:pic>
        <p:nvPicPr>
          <p:cNvPr id="769" name="LC004" descr=""/>
          <p:cNvPicPr/>
          <p:nvPr/>
        </p:nvPicPr>
        <p:blipFill>
          <a:blip r:embed="rId4"/>
          <a:srcRect l="13499" t="11806" r="27504" b="10763"/>
          <a:stretch/>
        </p:blipFill>
        <p:spPr>
          <a:xfrm>
            <a:off x="361800" y="4095720"/>
            <a:ext cx="26006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006360" y="-7479720"/>
            <a:ext cx="3010680" cy="11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LOW PCRaster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ine van Noordwi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ha Lus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chmat Mu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 Suyam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RAF Southeast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gor Indone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H A N K    Y O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7680" y="1123920"/>
            <a:ext cx="8667720" cy="409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7360" y="1962000"/>
            <a:ext cx="5245200" cy="290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36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lo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oil Fertility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op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108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ousehol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ice Stor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1080" y="38257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cisio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 Use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3560" y="38131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hoice Of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&amp; Cro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39880" y="2387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4122720" y="326088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2639880" y="410220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1218960" y="3260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29440" y="1949400"/>
            <a:ext cx="2527200" cy="290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18440" y="235584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18440" y="2924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arbon 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18440" y="352116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io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18440" y="4067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atershe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84880" y="3029040"/>
            <a:ext cx="863640" cy="7491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87200 h 749160"/>
              <a:gd name="textAreaBottom" fmla="*/ 561960 h 749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SOIL FERTILITY &amp; CROP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8680" y="3425760"/>
            <a:ext cx="2506680" cy="126684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cc9900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il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2520" y="1828800"/>
            <a:ext cx="2486160" cy="2676600"/>
            <a:chOff x="182520" y="1828800"/>
            <a:chExt cx="2486160" cy="2676600"/>
          </a:xfrm>
        </p:grpSpPr>
        <p:grpSp>
          <p:nvGrpSpPr>
            <p:cNvPr id="92" name=""/>
            <p:cNvGrpSpPr/>
            <p:nvPr/>
          </p:nvGrpSpPr>
          <p:grpSpPr>
            <a:xfrm>
              <a:off x="182520" y="1828800"/>
              <a:ext cx="2467080" cy="2266920"/>
              <a:chOff x="182520" y="1828800"/>
              <a:chExt cx="2467080" cy="2266920"/>
            </a:xfrm>
          </p:grpSpPr>
          <p:sp>
            <p:nvSpPr>
              <p:cNvPr id="93" name=""/>
              <p:cNvSpPr/>
              <p:nvPr/>
            </p:nvSpPr>
            <p:spPr>
              <a:xfrm>
                <a:off x="191880" y="1828800"/>
                <a:ext cx="2457720" cy="2266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8000"/>
                    </a:solidFill>
                    <a:latin typeface="Arial"/>
                  </a:rPr>
                  <a:t>Fallow Peri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520" y="1828800"/>
                <a:ext cx="244800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92240" y="3666960"/>
              <a:ext cx="2476440" cy="838440"/>
            </a:xfrm>
            <a:prstGeom prst="rightArrow">
              <a:avLst>
                <a:gd name="adj1" fmla="val 41306"/>
                <a:gd name="adj2" fmla="val 39764"/>
              </a:avLst>
            </a:prstGeom>
            <a:gradFill rotWithShape="0">
              <a:gsLst>
                <a:gs pos="0">
                  <a:srgbClr val="9933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sto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135400" y="1828800"/>
            <a:ext cx="2533680" cy="2676600"/>
            <a:chOff x="5135400" y="1828800"/>
            <a:chExt cx="2533680" cy="2676600"/>
          </a:xfrm>
        </p:grpSpPr>
        <p:grpSp>
          <p:nvGrpSpPr>
            <p:cNvPr id="97" name=""/>
            <p:cNvGrpSpPr/>
            <p:nvPr/>
          </p:nvGrpSpPr>
          <p:grpSpPr>
            <a:xfrm>
              <a:off x="5135400" y="1828800"/>
              <a:ext cx="2533680" cy="2266920"/>
              <a:chOff x="5135400" y="1828800"/>
              <a:chExt cx="2533680" cy="2266920"/>
            </a:xfrm>
          </p:grpSpPr>
          <p:sp>
            <p:nvSpPr>
              <p:cNvPr id="98" name=""/>
              <p:cNvSpPr/>
              <p:nvPr/>
            </p:nvSpPr>
            <p:spPr>
              <a:xfrm>
                <a:off x="5173560" y="1828800"/>
                <a:ext cx="2495520" cy="2266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Cropping Peri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35400" y="1828800"/>
                <a:ext cx="24480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83280" y="3666960"/>
              <a:ext cx="2476440" cy="838440"/>
            </a:xfrm>
            <a:prstGeom prst="rightArrow">
              <a:avLst>
                <a:gd name="adj1" fmla="val 41306"/>
                <a:gd name="adj2" fmla="val 39764"/>
              </a:avLst>
            </a:prstGeom>
            <a:gradFill rotWithShape="0">
              <a:gsLst>
                <a:gs pos="0">
                  <a:srgbClr val="cc9900"/>
                </a:gs>
                <a:gs pos="100000">
                  <a:srgbClr val="99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ple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0" y="110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Model of Crop-Fallow Rotation Systems of Trenbath (1984, 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175360" y="4530600"/>
            <a:ext cx="2477520" cy="377280"/>
            <a:chOff x="5175360" y="4530600"/>
            <a:chExt cx="2477520" cy="377280"/>
          </a:xfrm>
        </p:grpSpPr>
        <p:sp>
          <p:nvSpPr>
            <p:cNvPr id="103" name=""/>
            <p:cNvSpPr/>
            <p:nvPr/>
          </p:nvSpPr>
          <p:spPr>
            <a:xfrm>
              <a:off x="5184720" y="4530600"/>
              <a:ext cx="2468160" cy="1800"/>
            </a:xfrm>
            <a:prstGeom prst="line">
              <a:avLst/>
            </a:prstGeom>
            <a:ln cap="rnd" w="38160">
              <a:solidFill>
                <a:srgbClr val="cc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175360" y="4530600"/>
              <a:ext cx="2444400" cy="377280"/>
              <a:chOff x="5175360" y="4530600"/>
              <a:chExt cx="2444400" cy="377280"/>
            </a:xfrm>
          </p:grpSpPr>
          <p:sp>
            <p:nvSpPr>
              <p:cNvPr id="105" name=""/>
              <p:cNvSpPr/>
              <p:nvPr/>
            </p:nvSpPr>
            <p:spPr>
              <a:xfrm>
                <a:off x="5175360" y="4539600"/>
                <a:ext cx="244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9900"/>
                    </a:solidFill>
                    <a:latin typeface="Arial"/>
                  </a:rPr>
                  <a:t>Depletion Ra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82920" y="4530600"/>
                <a:ext cx="1266480" cy="0"/>
              </a:xfrm>
              <a:prstGeom prst="line">
                <a:avLst/>
              </a:prstGeom>
              <a:ln cap="rnd" w="38160">
                <a:solidFill>
                  <a:srgbClr val="a50021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5175360" y="4978440"/>
            <a:ext cx="2477520" cy="376920"/>
            <a:chOff x="5175360" y="4978440"/>
            <a:chExt cx="2477520" cy="376920"/>
          </a:xfrm>
        </p:grpSpPr>
        <p:grpSp>
          <p:nvGrpSpPr>
            <p:cNvPr id="108" name=""/>
            <p:cNvGrpSpPr/>
            <p:nvPr/>
          </p:nvGrpSpPr>
          <p:grpSpPr>
            <a:xfrm>
              <a:off x="5175360" y="4978440"/>
              <a:ext cx="2477520" cy="376920"/>
              <a:chOff x="5175360" y="4978440"/>
              <a:chExt cx="2477520" cy="376920"/>
            </a:xfrm>
          </p:grpSpPr>
          <p:sp>
            <p:nvSpPr>
              <p:cNvPr id="109" name=""/>
              <p:cNvSpPr/>
              <p:nvPr/>
            </p:nvSpPr>
            <p:spPr>
              <a:xfrm>
                <a:off x="5184720" y="4978440"/>
                <a:ext cx="2468160" cy="1440"/>
              </a:xfrm>
              <a:prstGeom prst="line">
                <a:avLst/>
              </a:prstGeom>
              <a:ln cap="rnd" w="38160">
                <a:solidFill>
                  <a:srgbClr val="a50021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175360" y="4987080"/>
                <a:ext cx="244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9900"/>
                    </a:solidFill>
                    <a:latin typeface="Arial"/>
                  </a:rPr>
                  <a:t>Effect of Fertiliz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6325920" y="4978440"/>
              <a:ext cx="1266480" cy="0"/>
            </a:xfrm>
            <a:prstGeom prst="line">
              <a:avLst/>
            </a:prstGeom>
            <a:ln cap="rnd" w="38160">
              <a:solidFill>
                <a:srgbClr val="cc99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SOIL FERTILITY &amp; CROP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4720" y="2738520"/>
            <a:ext cx="3687480" cy="1119960"/>
            <a:chOff x="234720" y="2738520"/>
            <a:chExt cx="3687480" cy="1119960"/>
          </a:xfrm>
        </p:grpSpPr>
        <p:sp>
          <p:nvSpPr>
            <p:cNvPr id="114" name=""/>
            <p:cNvSpPr/>
            <p:nvPr/>
          </p:nvSpPr>
          <p:spPr>
            <a:xfrm>
              <a:off x="234720" y="3215880"/>
              <a:ext cx="203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Arial"/>
                </a:rPr>
                <a:t>Maximum Level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Arial"/>
                </a:rPr>
                <a:t>Soil Fert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>
              <a:stCxn id="90" idx="0"/>
              <a:endCxn id="114" idx="0"/>
            </p:cNvCxnSpPr>
            <p:nvPr/>
          </p:nvCxnSpPr>
          <p:spPr>
            <a:xfrm flipV="1" rot="16200000">
              <a:off x="2486160" y="1980000"/>
              <a:ext cx="200880" cy="2671920"/>
            </a:xfrm>
            <a:prstGeom prst="bentConnector3">
              <a:avLst>
                <a:gd name="adj1" fmla="val 338061"/>
              </a:avLst>
            </a:prstGeom>
            <a:ln cap="rnd" w="38160">
              <a:solidFill>
                <a:srgbClr val="a50021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116" name=""/>
          <p:cNvGrpSpPr/>
          <p:nvPr/>
        </p:nvGrpSpPr>
        <p:grpSpPr>
          <a:xfrm>
            <a:off x="517680" y="4038480"/>
            <a:ext cx="2330280" cy="1123200"/>
            <a:chOff x="517680" y="4038480"/>
            <a:chExt cx="2330280" cy="1123200"/>
          </a:xfrm>
        </p:grpSpPr>
        <p:sp>
          <p:nvSpPr>
            <p:cNvPr id="117" name=""/>
            <p:cNvSpPr/>
            <p:nvPr/>
          </p:nvSpPr>
          <p:spPr>
            <a:xfrm>
              <a:off x="517680" y="4244760"/>
              <a:ext cx="127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</a:rPr>
                <a:t>Ha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</a:rPr>
                <a:t>Reco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47960" y="4057560"/>
              <a:ext cx="0" cy="6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>
              <a:stCxn id="118" idx="0"/>
              <a:endCxn id="117" idx="3"/>
            </p:cNvCxnSpPr>
            <p:nvPr/>
          </p:nvCxnSpPr>
          <p:spPr>
            <a:xfrm rot="5400000">
              <a:off x="1986120" y="3842280"/>
              <a:ext cx="665640" cy="1058040"/>
            </a:xfrm>
            <a:prstGeom prst="bentConnector4">
              <a:avLst>
                <a:gd name="adj1" fmla="val 2597"/>
                <a:gd name="adj2" fmla="val 32709"/>
              </a:avLst>
            </a:prstGeom>
            <a:ln cap="rnd" w="38160">
              <a:solidFill>
                <a:srgbClr val="cc99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1828800"/>
            <a:ext cx="2457360" cy="226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allow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520" y="1828800"/>
            <a:ext cx="244800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3560" y="1828800"/>
            <a:ext cx="2495520" cy="226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ropping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35400" y="1828800"/>
            <a:ext cx="244800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8680" y="3425760"/>
            <a:ext cx="2506680" cy="12668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il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2240" y="3666960"/>
            <a:ext cx="2476440" cy="838440"/>
          </a:xfrm>
          <a:prstGeom prst="rightArrow">
            <a:avLst>
              <a:gd name="adj1" fmla="val 41306"/>
              <a:gd name="adj2" fmla="val 39764"/>
            </a:avLst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3280" y="3666960"/>
            <a:ext cx="2476440" cy="838440"/>
          </a:xfrm>
          <a:prstGeom prst="rightArrow">
            <a:avLst>
              <a:gd name="adj1" fmla="val 41306"/>
              <a:gd name="adj2" fmla="val 39764"/>
            </a:avLst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4720" y="4530600"/>
            <a:ext cx="2468520" cy="180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75360" y="453960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pletion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3280" y="4530600"/>
            <a:ext cx="126684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4720" y="4978440"/>
            <a:ext cx="2468520" cy="144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75360" y="498708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ffect of Ferti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6280" y="4978440"/>
            <a:ext cx="126684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81960" y="2587680"/>
            <a:ext cx="1390680" cy="13906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51600" y="3074400"/>
            <a:ext cx="24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version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59520" y="2358360"/>
            <a:ext cx="24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nsitivity to Climatic Var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467160"/>
            <a:ext cx="2419560" cy="0"/>
          </a:xfrm>
          <a:prstGeom prst="line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00560" y="2971800"/>
            <a:ext cx="241956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SOIL FERTILITY &amp; CROP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0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Model of Crop-Fallow Rotation Systems of Trenbath (1984, 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720" y="32158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Maximum Level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oil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endCxn id="141" idx="0"/>
          </p:cNvCxnSpPr>
          <p:nvPr/>
        </p:nvCxnSpPr>
        <p:spPr>
          <a:xfrm flipV="1" rot="16200000">
            <a:off x="2486160" y="1980000"/>
            <a:ext cx="200880" cy="2671920"/>
          </a:xfrm>
          <a:prstGeom prst="bentConnector3">
            <a:avLst>
              <a:gd name="adj1" fmla="val 338061"/>
            </a:avLst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517680" y="4244760"/>
            <a:ext cx="127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47960" y="4057560"/>
            <a:ext cx="0" cy="638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4" idx="0"/>
            <a:endCxn id="143" idx="3"/>
          </p:cNvCxnSpPr>
          <p:nvPr/>
        </p:nvCxnSpPr>
        <p:spPr>
          <a:xfrm rot="5400000">
            <a:off x="1986120" y="3842280"/>
            <a:ext cx="665640" cy="1058040"/>
          </a:xfrm>
          <a:prstGeom prst="bentConnector4">
            <a:avLst>
              <a:gd name="adj1" fmla="val 2597"/>
              <a:gd name="adj2" fmla="val 32709"/>
            </a:avLst>
          </a:prstGeom>
          <a:ln cap="rnd" w="38160">
            <a:solidFill>
              <a:srgbClr val="dddddd"/>
            </a:solidFill>
            <a:custDash>
              <a:ds d="100000" sp="1000"/>
            </a:custDash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7680" y="1123920"/>
            <a:ext cx="8667720" cy="409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7360" y="1962000"/>
            <a:ext cx="5245200" cy="290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36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lo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oil Fertility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rop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1080" y="211464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ousehol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ce Stor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1080" y="38257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cisio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nd Use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3560" y="3813120"/>
            <a:ext cx="2114640" cy="9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hoice Of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&amp; Cro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39880" y="2387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122720" y="326088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2639880" y="4102200"/>
            <a:ext cx="704880" cy="34272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18960" y="3260520"/>
            <a:ext cx="704880" cy="343080"/>
          </a:xfrm>
          <a:custGeom>
            <a:avLst/>
            <a:gdLst>
              <a:gd name="textAreaLeft" fmla="*/ 110160 w 704880"/>
              <a:gd name="textAreaRight" fmla="*/ 617040 w 70488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29440" y="1949400"/>
            <a:ext cx="2527200" cy="290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18440" y="235584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8440" y="2924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arbon 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18440" y="352116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io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8440" y="4067280"/>
            <a:ext cx="2114280" cy="396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atershe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84880" y="3029040"/>
            <a:ext cx="863640" cy="7491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87200 h 749160"/>
              <a:gd name="textAreaBottom" fmla="*/ 561960 h 749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RICE STORE &amp;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flipH="1">
            <a:off x="6876360" y="2590920"/>
            <a:ext cx="2266920" cy="1638360"/>
          </a:xfrm>
          <a:custGeom>
            <a:avLst/>
            <a:gdLst>
              <a:gd name="textAreaLeft" fmla="*/ -360 w 2266920"/>
              <a:gd name="textAreaRight" fmla="*/ 2266920 w 226692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37" y="0"/>
                </a:lnTo>
                <a:lnTo>
                  <a:pt x="21600" y="10800"/>
                </a:lnTo>
                <a:lnTo>
                  <a:pt x="158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.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ood 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133880" y="4029120"/>
            <a:ext cx="2220480" cy="2476440"/>
            <a:chOff x="4133880" y="4029120"/>
            <a:chExt cx="2220480" cy="2476440"/>
          </a:xfrm>
        </p:grpSpPr>
        <p:pic>
          <p:nvPicPr>
            <p:cNvPr id="166" name="rat" descr=""/>
            <p:cNvPicPr/>
            <p:nvPr/>
          </p:nvPicPr>
          <p:blipFill>
            <a:blip r:embed="rId1"/>
            <a:stretch/>
          </p:blipFill>
          <p:spPr>
            <a:xfrm>
              <a:off x="4571640" y="5334120"/>
              <a:ext cx="178272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 rot="5400000">
              <a:off x="3314520" y="4848120"/>
              <a:ext cx="2476440" cy="838080"/>
            </a:xfrm>
            <a:prstGeom prst="rightArrow">
              <a:avLst>
                <a:gd name="adj1" fmla="val 41306"/>
                <a:gd name="adj2" fmla="val 39782"/>
              </a:avLst>
            </a:pr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829480" y="2981160"/>
            <a:ext cx="1904760" cy="838440"/>
          </a:xfrm>
          <a:prstGeom prst="rightArrow">
            <a:avLst>
              <a:gd name="adj1" fmla="val 41306"/>
              <a:gd name="adj2" fmla="val 30585"/>
            </a:avLst>
          </a:prstGeom>
          <a:gradFill rotWithShape="0">
            <a:gsLst>
              <a:gs pos="0">
                <a:srgbClr val="ffffcc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590920"/>
            <a:ext cx="2266920" cy="16383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37" y="0"/>
                </a:lnTo>
                <a:lnTo>
                  <a:pt x="21600" y="10800"/>
                </a:lnTo>
                <a:lnTo>
                  <a:pt x="158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F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rop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orest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YNAMIC MODULE: RICE STORE &amp;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46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del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14880" y="2759040"/>
            <a:ext cx="2506320" cy="1266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99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9760" y="2962440"/>
            <a:ext cx="1905120" cy="838080"/>
          </a:xfrm>
          <a:prstGeom prst="rightArrow">
            <a:avLst>
              <a:gd name="adj1" fmla="val 41306"/>
              <a:gd name="adj2" fmla="val 30604"/>
            </a:avLst>
          </a:prstGeom>
          <a:gradFill rotWithShape="0">
            <a:gsLst>
              <a:gs pos="0">
                <a:srgbClr val="cc9900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 Equiv.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01:46:54Z</dcterms:created>
  <dc:creator>DSuyamto</dc:creator>
  <dc:description/>
  <dc:language>en-US</dc:language>
  <cp:lastModifiedBy>P3</cp:lastModifiedBy>
  <cp:lastPrinted>2002-06-07T08:16:47Z</cp:lastPrinted>
  <dcterms:modified xsi:type="dcterms:W3CDTF">2002-06-11T02:34:14Z</dcterms:modified>
  <cp:revision>552</cp:revision>
  <dc:subject/>
  <dc:title>No Slide Title</dc:title>
</cp:coreProperties>
</file>