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39.wmf" ContentType="image/x-wmf"/>
  <Override PartName="/ppt/media/image33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41.wmf" ContentType="image/x-wmf"/>
  <Override PartName="/ppt/media/image8.jpeg" ContentType="image/jpeg"/>
  <Override PartName="/ppt/media/image10.jpeg" ContentType="image/jpeg"/>
  <Override PartName="/ppt/media/image3.jpeg" ContentType="image/jpeg"/>
  <Override PartName="/ppt/media/image30.png" ContentType="image/png"/>
  <Override PartName="/ppt/media/image37.wmf" ContentType="image/x-wmf"/>
  <Override PartName="/ppt/media/image40.wmf" ContentType="image/x-wmf"/>
  <Override PartName="/ppt/media/image28.png" ContentType="image/png"/>
  <Override PartName="/ppt/media/image7.jpeg" ContentType="image/jpeg"/>
  <Override PartName="/ppt/media/image31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9.jpeg" ContentType="image/jpeg"/>
  <Override PartName="/ppt/media/image11.jpeg" ContentType="image/jpeg"/>
  <Override PartName="/ppt/media/image23.wmf" ContentType="image/x-wmf"/>
  <Override PartName="/ppt/media/image12.jpeg" ContentType="image/jpeg"/>
  <Override PartName="/ppt/media/image5.jpeg" ContentType="image/jpeg"/>
  <Override PartName="/ppt/media/image20.wmf" ContentType="image/x-wmf"/>
  <Override PartName="/ppt/media/image38.wmf" ContentType="image/x-wmf"/>
  <Override PartName="/ppt/media/image4.jpeg" ContentType="image/jpeg"/>
  <Override PartName="/ppt/media/image18.wmf" ContentType="image/x-wm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719-1608-45E1-9A58-5807E4C4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246-D1C1-452B-B140-167CC537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0F2-BC76-43CA-A6B9-B449B2E2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785-5E17-46F2-82DD-5A468567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ED3-4CC7-4F52-98F6-7A2A4EAF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B85-F4DC-4E90-8BAA-6DA4671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9B9-EA17-4647-BC6B-9D7BA74B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8CB-FF5F-45D1-B6FE-B4D05FCF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1D2-059C-41C0-A29B-1DA497DE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7E9-5DA8-4B00-918F-47D6E301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1B1-E693-4B13-9CEF-A19AB1BD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309-ECA2-4EAF-BEB9-35CA698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AC23-B23C-4E64-BA62-70F59B4FF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LLOW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orests, (A)groforests, (L)ow-value (L)andscape (O)r (W)astel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ine van Noordw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ha Lu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 Ariyadhi Suyam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logical Modelling &amp; Database Management Unit (EM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ld Agroforestry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east Asia Regional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0 0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BRAND-2COLOR~1%20copy" descr=""/>
          <p:cNvPicPr/>
          <p:nvPr/>
        </p:nvPicPr>
        <p:blipFill>
          <a:blip r:embed="rId1"/>
          <a:stretch/>
        </p:blipFill>
        <p:spPr>
          <a:xfrm>
            <a:off x="3427560" y="4419720"/>
            <a:ext cx="228888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LC30C" descr=""/>
          <p:cNvPicPr/>
          <p:nvPr/>
        </p:nvPicPr>
        <p:blipFill>
          <a:blip r:embed="rId1"/>
          <a:stretch/>
        </p:blipFill>
        <p:spPr>
          <a:xfrm>
            <a:off x="870120" y="3429000"/>
            <a:ext cx="3701880" cy="3416400"/>
          </a:xfrm>
          <a:prstGeom prst="rect">
            <a:avLst/>
          </a:prstGeom>
          <a:ln w="0">
            <a:noFill/>
          </a:ln>
        </p:spPr>
      </p:pic>
      <p:pic>
        <p:nvPicPr>
          <p:cNvPr id="123" name="LC20C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701880" cy="3416400"/>
          </a:xfrm>
          <a:prstGeom prst="rect">
            <a:avLst/>
          </a:prstGeom>
          <a:ln w="0">
            <a:noFill/>
          </a:ln>
        </p:spPr>
      </p:pic>
      <p:pic>
        <p:nvPicPr>
          <p:cNvPr id="124" name="LC10C" descr=""/>
          <p:cNvPicPr/>
          <p:nvPr/>
        </p:nvPicPr>
        <p:blipFill>
          <a:blip r:embed="rId3"/>
          <a:stretch/>
        </p:blipFill>
        <p:spPr>
          <a:xfrm>
            <a:off x="4572000" y="12600"/>
            <a:ext cx="3701880" cy="3416400"/>
          </a:xfrm>
          <a:prstGeom prst="rect">
            <a:avLst/>
          </a:prstGeom>
          <a:ln w="0">
            <a:noFill/>
          </a:ln>
        </p:spPr>
      </p:pic>
      <p:pic>
        <p:nvPicPr>
          <p:cNvPr id="125" name="LC01" descr=""/>
          <p:cNvPicPr/>
          <p:nvPr/>
        </p:nvPicPr>
        <p:blipFill>
          <a:blip r:embed="rId4"/>
          <a:stretch/>
        </p:blipFill>
        <p:spPr>
          <a:xfrm>
            <a:off x="835200" y="0"/>
            <a:ext cx="3701880" cy="341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rot="16200000">
            <a:off x="-3138120" y="3138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Agrofor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895480"/>
            <a:ext cx="685800" cy="1676520"/>
          </a:xfrm>
          <a:custGeom>
            <a:avLst/>
            <a:gdLst>
              <a:gd name="textAreaLeft" fmla="*/ 91800 w 685800"/>
              <a:gd name="textAreaRight" fmla="*/ 594000 w 68580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721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2040" y="2857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204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1168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 use/cover change time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hifting cul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NT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Agrofor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s on foo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hifting cul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7960" y="91440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NT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Agrofor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s on watershe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AL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01680" y="1374840"/>
            <a:ext cx="61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ly explicit landscape dynamic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cale: y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scale: landscape with resolution of 1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dimension: 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0360" y="2895480"/>
            <a:ext cx="67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mers as the main agent on land use/cove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gents are considered dedu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54520" y="3616200"/>
            <a:ext cx="44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s assessment toolboxe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69440" y="4038480"/>
            <a:ext cx="288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she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hifting cul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NT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Agrofor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s on biod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hifting cul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NT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Agrofor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s on carbon st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hifting cul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NT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FALLOW capture the landscape dynam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2268360" y="5248440"/>
            <a:ext cx="486000" cy="838080"/>
          </a:xfrm>
          <a:prstGeom prst="rightArrow">
            <a:avLst>
              <a:gd name="adj1" fmla="val 54167"/>
              <a:gd name="adj2" fmla="val 64056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52560" y="5038560"/>
            <a:ext cx="4557600" cy="1298520"/>
            <a:chOff x="2752560" y="5038560"/>
            <a:chExt cx="4557600" cy="1298520"/>
          </a:xfrm>
        </p:grpSpPr>
        <p:sp>
          <p:nvSpPr>
            <p:cNvPr id="51" name=""/>
            <p:cNvSpPr/>
            <p:nvPr/>
          </p:nvSpPr>
          <p:spPr>
            <a:xfrm>
              <a:off x="2752560" y="5038560"/>
              <a:ext cx="1104840" cy="1298520"/>
            </a:xfrm>
            <a:custGeom>
              <a:avLst/>
              <a:gdLst>
                <a:gd name="textAreaLeft" fmla="*/ 53640 w 1104840"/>
                <a:gd name="textAreaRight" fmla="*/ 1051200 w 1104840"/>
                <a:gd name="textAreaTop" fmla="*/ 53640 h 1298520"/>
                <a:gd name="textAreaBottom" fmla="*/ 1244880 h 1298520"/>
              </a:gdLst>
              <a:ahLst/>
              <a:rect l="textAreaLeft" t="textAreaTop" r="textAreaRight" b="textAreaBottom"/>
              <a:pathLst>
                <a:path w="21600" h="25385">
                  <a:moveTo>
                    <a:pt x="3600" y="0"/>
                  </a:moveTo>
                  <a:arcTo wR="3600" hR="3600" stAng="16200000" swAng="-5400000"/>
                  <a:lnTo>
                    <a:pt x="0" y="21785"/>
                  </a:lnTo>
                  <a:arcTo wR="3600" hR="3600" stAng="10800000" swAng="-5400000"/>
                  <a:lnTo>
                    <a:pt x="18000" y="253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LU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3852720" y="5251320"/>
              <a:ext cx="3457440" cy="838080"/>
            </a:xfrm>
            <a:prstGeom prst="rightArrow">
              <a:avLst>
                <a:gd name="adj1" fmla="val 51898"/>
                <a:gd name="adj2" fmla="val 4547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Conv, succ. &amp; growt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143840" y="3100320"/>
            <a:ext cx="1204920" cy="3236760"/>
            <a:chOff x="7143840" y="3100320"/>
            <a:chExt cx="1204920" cy="3236760"/>
          </a:xfrm>
        </p:grpSpPr>
        <p:sp>
          <p:nvSpPr>
            <p:cNvPr id="54" name=""/>
            <p:cNvSpPr/>
            <p:nvPr/>
          </p:nvSpPr>
          <p:spPr>
            <a:xfrm rot="5400000">
              <a:off x="6792120" y="3694680"/>
              <a:ext cx="1912680" cy="723960"/>
            </a:xfrm>
            <a:prstGeom prst="rightArrow">
              <a:avLst>
                <a:gd name="adj1" fmla="val 58713"/>
                <a:gd name="adj2" fmla="val 3210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Attr. &amp; lab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3840" y="5038560"/>
              <a:ext cx="1204920" cy="1298520"/>
            </a:xfrm>
            <a:custGeom>
              <a:avLst/>
              <a:gdLst>
                <a:gd name="textAreaLeft" fmla="*/ 58680 w 1204920"/>
                <a:gd name="textAreaRight" fmla="*/ 1146240 w 1204920"/>
                <a:gd name="textAreaTop" fmla="*/ 58680 h 1298520"/>
                <a:gd name="textAreaBottom" fmla="*/ 1239840 h 1298520"/>
              </a:gdLst>
              <a:ahLst/>
              <a:rect l="textAreaLeft" t="textAreaTop" r="textAreaRight" b="textAreaBottom"/>
              <a:pathLst>
                <a:path w="21600" h="23277">
                  <a:moveTo>
                    <a:pt x="3600" y="0"/>
                  </a:moveTo>
                  <a:arcTo wR="3600" hR="3600" stAng="16200000" swAng="-5400000"/>
                  <a:lnTo>
                    <a:pt x="0" y="19677"/>
                  </a:lnTo>
                  <a:arcTo wR="3600" hR="3600" stAng="10800000" swAng="-5400000"/>
                  <a:lnTo>
                    <a:pt x="18000" y="23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Implemen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t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252520" y="1798560"/>
            <a:ext cx="6338880" cy="1298520"/>
            <a:chOff x="2252520" y="1798560"/>
            <a:chExt cx="6338880" cy="1298520"/>
          </a:xfrm>
        </p:grpSpPr>
        <p:sp>
          <p:nvSpPr>
            <p:cNvPr id="57" name=""/>
            <p:cNvSpPr/>
            <p:nvPr/>
          </p:nvSpPr>
          <p:spPr>
            <a:xfrm>
              <a:off x="2252520" y="2043000"/>
              <a:ext cx="4572000" cy="838080"/>
            </a:xfrm>
            <a:prstGeom prst="rightArrow">
              <a:avLst>
                <a:gd name="adj1" fmla="val 40907"/>
                <a:gd name="adj2" fmla="val 394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Learn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0" y="1798560"/>
              <a:ext cx="1733400" cy="12985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Strategi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decis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on LU &amp; lab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33520" y="5029200"/>
            <a:ext cx="1733400" cy="129852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oil fertility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338560" y="811080"/>
            <a:ext cx="3286080" cy="5524560"/>
            <a:chOff x="2338560" y="811080"/>
            <a:chExt cx="3286080" cy="5524560"/>
          </a:xfrm>
        </p:grpSpPr>
        <p:grpSp>
          <p:nvGrpSpPr>
            <p:cNvPr id="61" name=""/>
            <p:cNvGrpSpPr/>
            <p:nvPr/>
          </p:nvGrpSpPr>
          <p:grpSpPr>
            <a:xfrm>
              <a:off x="2338560" y="811080"/>
              <a:ext cx="3286080" cy="4228920"/>
              <a:chOff x="2338560" y="811080"/>
              <a:chExt cx="3286080" cy="4228920"/>
            </a:xfrm>
          </p:grpSpPr>
          <p:sp>
            <p:nvSpPr>
              <p:cNvPr id="62" name=""/>
              <p:cNvSpPr/>
              <p:nvPr/>
            </p:nvSpPr>
            <p:spPr>
              <a:xfrm>
                <a:off x="2338560" y="811080"/>
                <a:ext cx="3286080" cy="1298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0033cc"/>
                  </a:gs>
                </a:gsLst>
                <a:lin ang="10800000"/>
              </a:gra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imes New Roman"/>
                  </a:rPr>
                  <a:t>Consequences o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imes New Roman"/>
                  </a:rPr>
                  <a:t>food security,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imes New Roman"/>
                  </a:rPr>
                  <a:t>watershed functions,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imes New Roman"/>
                  </a:rPr>
                  <a:t>biodiversity &amp; c stock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1872000" y="3196800"/>
                <a:ext cx="2924280" cy="762120"/>
              </a:xfrm>
              <a:prstGeom prst="rightArrow">
                <a:avLst>
                  <a:gd name="adj1" fmla="val 50426"/>
                  <a:gd name="adj2" fmla="val 71127"/>
                </a:avLst>
              </a:prstGeom>
              <a:solidFill>
                <a:srgbClr val="3333cc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00"/>
                    </a:solidFill>
                    <a:latin typeface="Times New Roman"/>
                  </a:rPr>
                  <a:t>Scaling rule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2748240" y="5037120"/>
              <a:ext cx="1104840" cy="1298520"/>
            </a:xfrm>
            <a:custGeom>
              <a:avLst/>
              <a:gdLst>
                <a:gd name="textAreaLeft" fmla="*/ 53640 w 1104840"/>
                <a:gd name="textAreaRight" fmla="*/ 1051200 w 1104840"/>
                <a:gd name="textAreaTop" fmla="*/ 53640 h 1298520"/>
                <a:gd name="textAreaBottom" fmla="*/ 1244880 h 1298520"/>
              </a:gdLst>
              <a:ahLst/>
              <a:rect l="textAreaLeft" t="textAreaTop" r="textAreaRight" b="textAreaBottom"/>
              <a:pathLst>
                <a:path w="21600" h="25385">
                  <a:moveTo>
                    <a:pt x="3600" y="0"/>
                  </a:moveTo>
                  <a:arcTo wR="3600" hR="3600" stAng="16200000" swAng="-5400000"/>
                  <a:lnTo>
                    <a:pt x="0" y="21785"/>
                  </a:lnTo>
                  <a:arcTo wR="3600" hR="3600" stAng="10800000" swAng="-5400000"/>
                  <a:lnTo>
                    <a:pt x="18000" y="253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33520" y="1798560"/>
            <a:ext cx="1733400" cy="3259080"/>
            <a:chOff x="533520" y="1798560"/>
            <a:chExt cx="1733400" cy="3259080"/>
          </a:xfrm>
        </p:grpSpPr>
        <p:sp>
          <p:nvSpPr>
            <p:cNvPr id="66" name=""/>
            <p:cNvSpPr/>
            <p:nvPr/>
          </p:nvSpPr>
          <p:spPr>
            <a:xfrm>
              <a:off x="533520" y="1798560"/>
              <a:ext cx="1733400" cy="13096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Househol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econom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449640" y="3674160"/>
              <a:ext cx="1928880" cy="838080"/>
            </a:xfrm>
            <a:prstGeom prst="rightArrow">
              <a:avLst>
                <a:gd name="adj1" fmla="val 50759"/>
                <a:gd name="adj2" fmla="val 29877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Marke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Agrofor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7960" y="920880"/>
            <a:ext cx="86662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895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 2: impacts of forest reserve allocation on watershe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ipforCol" descr=""/>
          <p:cNvPicPr/>
          <p:nvPr/>
        </p:nvPicPr>
        <p:blipFill>
          <a:blip r:embed="rId1"/>
          <a:stretch/>
        </p:blipFill>
        <p:spPr>
          <a:xfrm>
            <a:off x="501480" y="695160"/>
            <a:ext cx="8136000" cy="6162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parian Fore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Kampoong" descr=""/>
          <p:cNvPicPr/>
          <p:nvPr/>
        </p:nvPicPr>
        <p:blipFill>
          <a:blip r:embed="rId2"/>
          <a:stretch/>
        </p:blipFill>
        <p:spPr>
          <a:xfrm>
            <a:off x="492120" y="695160"/>
            <a:ext cx="8136000" cy="6162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4440" y="857160"/>
            <a:ext cx="1714320" cy="343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4440" y="1238400"/>
            <a:ext cx="1714320" cy="34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0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raction = 0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ests on Steep Sl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loforCol" descr=""/>
          <p:cNvPicPr/>
          <p:nvPr/>
        </p:nvPicPr>
        <p:blipFill>
          <a:blip r:embed="rId1"/>
          <a:stretch/>
        </p:blipFill>
        <p:spPr>
          <a:xfrm>
            <a:off x="506520" y="695160"/>
            <a:ext cx="8136000" cy="6162840"/>
          </a:xfrm>
          <a:prstGeom prst="rect">
            <a:avLst/>
          </a:prstGeom>
          <a:ln w="0">
            <a:noFill/>
          </a:ln>
        </p:spPr>
      </p:pic>
      <p:pic>
        <p:nvPicPr>
          <p:cNvPr id="176" name="Kampoong" descr=""/>
          <p:cNvPicPr/>
          <p:nvPr/>
        </p:nvPicPr>
        <p:blipFill>
          <a:blip r:embed="rId2"/>
          <a:stretch/>
        </p:blipFill>
        <p:spPr>
          <a:xfrm>
            <a:off x="492120" y="695160"/>
            <a:ext cx="8136000" cy="6162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4440" y="857160"/>
            <a:ext cx="1714320" cy="343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440" y="1238400"/>
            <a:ext cx="1714320" cy="34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0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raction = 0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dge Top Fore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MonforCol" descr=""/>
          <p:cNvPicPr/>
          <p:nvPr/>
        </p:nvPicPr>
        <p:blipFill>
          <a:blip r:embed="rId1"/>
          <a:stretch/>
        </p:blipFill>
        <p:spPr>
          <a:xfrm>
            <a:off x="493560" y="695160"/>
            <a:ext cx="8136000" cy="6162840"/>
          </a:xfrm>
          <a:prstGeom prst="rect">
            <a:avLst/>
          </a:prstGeom>
          <a:ln w="0">
            <a:noFill/>
          </a:ln>
        </p:spPr>
      </p:pic>
      <p:pic>
        <p:nvPicPr>
          <p:cNvPr id="182" name="Kampoong" descr=""/>
          <p:cNvPicPr/>
          <p:nvPr/>
        </p:nvPicPr>
        <p:blipFill>
          <a:blip r:embed="rId2"/>
          <a:stretch/>
        </p:blipFill>
        <p:spPr>
          <a:xfrm>
            <a:off x="492120" y="695160"/>
            <a:ext cx="8136000" cy="616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14440" y="857160"/>
            <a:ext cx="1714320" cy="343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440" y="1238400"/>
            <a:ext cx="1714320" cy="34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0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raction = 0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anforCol" descr=""/>
          <p:cNvPicPr/>
          <p:nvPr/>
        </p:nvPicPr>
        <p:blipFill>
          <a:blip r:embed="rId1"/>
          <a:stretch/>
        </p:blipFill>
        <p:spPr>
          <a:xfrm>
            <a:off x="504720" y="695160"/>
            <a:ext cx="8136000" cy="6162840"/>
          </a:xfrm>
          <a:prstGeom prst="rect">
            <a:avLst/>
          </a:prstGeom>
          <a:ln w="0">
            <a:noFill/>
          </a:ln>
        </p:spPr>
      </p:pic>
      <p:pic>
        <p:nvPicPr>
          <p:cNvPr id="187" name="Kampoong" descr=""/>
          <p:cNvPicPr/>
          <p:nvPr/>
        </p:nvPicPr>
        <p:blipFill>
          <a:blip r:embed="rId2"/>
          <a:stretch/>
        </p:blipFill>
        <p:spPr>
          <a:xfrm>
            <a:off x="492120" y="695160"/>
            <a:ext cx="8136000" cy="6162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ndom Fore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440" y="857160"/>
            <a:ext cx="1714320" cy="343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4440" y="1238400"/>
            <a:ext cx="1714320" cy="34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0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raction = 0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mforCol" descr=""/>
          <p:cNvPicPr/>
          <p:nvPr/>
        </p:nvPicPr>
        <p:blipFill>
          <a:blip r:embed="rId1"/>
          <a:stretch/>
        </p:blipFill>
        <p:spPr>
          <a:xfrm>
            <a:off x="492120" y="695160"/>
            <a:ext cx="8136000" cy="6162840"/>
          </a:xfrm>
          <a:prstGeom prst="rect">
            <a:avLst/>
          </a:prstGeom>
          <a:ln w="0">
            <a:noFill/>
          </a:ln>
        </p:spPr>
      </p:pic>
      <p:pic>
        <p:nvPicPr>
          <p:cNvPr id="193" name="Kampoong" descr=""/>
          <p:cNvPicPr/>
          <p:nvPr/>
        </p:nvPicPr>
        <p:blipFill>
          <a:blip r:embed="rId2"/>
          <a:stretch/>
        </p:blipFill>
        <p:spPr>
          <a:xfrm>
            <a:off x="498600" y="695160"/>
            <a:ext cx="8135640" cy="6162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ote Fore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4440" y="857160"/>
            <a:ext cx="1714320" cy="343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4440" y="1238400"/>
            <a:ext cx="1714320" cy="34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0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raction = 0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equences of Forest Reserve Allocation on Sediment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166760"/>
            <a:ext cx="928044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 3: farmer’s response to coffee price sh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Stable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2720" y="947880"/>
            <a:ext cx="61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98920" y="1417680"/>
            <a:ext cx="6064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34960" y="141768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81160" y="92232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108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’s learning in FA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76240" y="486360"/>
            <a:ext cx="5121360" cy="5155560"/>
            <a:chOff x="1776240" y="486360"/>
            <a:chExt cx="5121360" cy="5155560"/>
          </a:xfrm>
        </p:grpSpPr>
        <p:sp>
          <p:nvSpPr>
            <p:cNvPr id="70" name=""/>
            <p:cNvSpPr/>
            <p:nvPr/>
          </p:nvSpPr>
          <p:spPr>
            <a:xfrm>
              <a:off x="1895400" y="657360"/>
              <a:ext cx="4570560" cy="457020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14480" y="2957400"/>
              <a:ext cx="455292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83200" y="655560"/>
              <a:ext cx="0" cy="45720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43720" y="2734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71640" y="4863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41840" y="4937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6240" y="5172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78240" y="51724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21200" y="517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98640" y="5182200"/>
              <a:ext cx="22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Underestim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83200" y="5163120"/>
              <a:ext cx="228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verestim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5539680" y="3853800"/>
              <a:ext cx="22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ecre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5539680" y="1599480"/>
              <a:ext cx="22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ncre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009440" y="2696040"/>
            <a:ext cx="5432760" cy="459720"/>
            <a:chOff x="1009440" y="2696040"/>
            <a:chExt cx="5432760" cy="459720"/>
          </a:xfrm>
        </p:grpSpPr>
        <p:sp>
          <p:nvSpPr>
            <p:cNvPr id="84" name=""/>
            <p:cNvSpPr/>
            <p:nvPr/>
          </p:nvSpPr>
          <p:spPr>
            <a:xfrm>
              <a:off x="1908000" y="2957400"/>
              <a:ext cx="45342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09440" y="269604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42840" y="441720"/>
            <a:ext cx="5505480" cy="4763520"/>
            <a:chOff x="942840" y="441720"/>
            <a:chExt cx="5505480" cy="4763520"/>
          </a:xfrm>
        </p:grpSpPr>
        <p:sp>
          <p:nvSpPr>
            <p:cNvPr id="87" name=""/>
            <p:cNvSpPr/>
            <p:nvPr/>
          </p:nvSpPr>
          <p:spPr>
            <a:xfrm>
              <a:off x="942840" y="441720"/>
              <a:ext cx="92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4480" y="671400"/>
              <a:ext cx="4533840" cy="453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879480" y="749160"/>
            <a:ext cx="7324560" cy="6108840"/>
            <a:chOff x="879480" y="749160"/>
            <a:chExt cx="7324560" cy="6108840"/>
          </a:xfrm>
        </p:grpSpPr>
        <p:sp>
          <p:nvSpPr>
            <p:cNvPr id="90" name=""/>
            <p:cNvSpPr/>
            <p:nvPr/>
          </p:nvSpPr>
          <p:spPr>
            <a:xfrm rot="16200000">
              <a:off x="4504320" y="3491640"/>
              <a:ext cx="5864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xpectation Adjustm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32040" y="5848920"/>
              <a:ext cx="614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 Most Recent Experi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79480" y="749160"/>
              <a:ext cx="7324560" cy="6108840"/>
              <a:chOff x="879480" y="749160"/>
              <a:chExt cx="7324560" cy="610884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1798560" y="749160"/>
                <a:ext cx="6405480" cy="5903640"/>
                <a:chOff x="1798560" y="749160"/>
                <a:chExt cx="6405480" cy="59036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7415280" y="749160"/>
                  <a:ext cx="788760" cy="5900760"/>
                </a:xfrm>
                <a:prstGeom prst="upArrow">
                  <a:avLst>
                    <a:gd name="adj1" fmla="val 49694"/>
                    <a:gd name="adj2" fmla="val 38063"/>
                  </a:avLst>
                </a:prstGeom>
                <a:gradFill rotWithShape="0">
                  <a:gsLst>
                    <a:gs pos="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835280" y="6257880"/>
                  <a:ext cx="5787720" cy="39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798560" y="6223680"/>
                  <a:ext cx="61848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PAST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16200000">
                  <a:off x="4863240" y="3483720"/>
                  <a:ext cx="58798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FUTURE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8" name="brain" descr=""/>
              <p:cNvPicPr/>
              <p:nvPr/>
            </p:nvPicPr>
            <p:blipFill>
              <a:blip r:embed="rId1"/>
              <a:stretch/>
            </p:blipFill>
            <p:spPr>
              <a:xfrm>
                <a:off x="879480" y="6066000"/>
                <a:ext cx="947880" cy="79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527120" y="922320"/>
            <a:ext cx="24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Long Recovery of Immediate Sh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0" y="94788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09960" y="1417680"/>
            <a:ext cx="4983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9360" y="1417680"/>
            <a:ext cx="252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Big Magnitude of Immediate Sh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409760" y="92232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67360" y="947880"/>
            <a:ext cx="46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54400" y="1417680"/>
            <a:ext cx="462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1417680"/>
            <a:ext cx="270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High Frequency of Sh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09760" y="922320"/>
            <a:ext cx="39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4000" y="94788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53200" y="1417680"/>
            <a:ext cx="342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1417680"/>
            <a:ext cx="39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sequences of Coffee Price Fluct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n Sediment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6440" y="1166760"/>
            <a:ext cx="928044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n FALLOW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 1: forests &amp; farmer’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 use/cover change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LC01" descr=""/>
          <p:cNvPicPr/>
          <p:nvPr/>
        </p:nvPicPr>
        <p:blipFill>
          <a:blip r:embed="rId1"/>
          <a:stretch/>
        </p:blipFill>
        <p:spPr>
          <a:xfrm>
            <a:off x="835200" y="0"/>
            <a:ext cx="3701880" cy="3416400"/>
          </a:xfrm>
          <a:prstGeom prst="rect">
            <a:avLst/>
          </a:prstGeom>
          <a:ln w="0">
            <a:noFill/>
          </a:ln>
        </p:spPr>
      </p:pic>
      <p:pic>
        <p:nvPicPr>
          <p:cNvPr id="103" name="LC10A" descr=""/>
          <p:cNvPicPr/>
          <p:nvPr/>
        </p:nvPicPr>
        <p:blipFill>
          <a:blip r:embed="rId2"/>
          <a:stretch/>
        </p:blipFill>
        <p:spPr>
          <a:xfrm>
            <a:off x="4572000" y="12600"/>
            <a:ext cx="3701880" cy="3416400"/>
          </a:xfrm>
          <a:prstGeom prst="rect">
            <a:avLst/>
          </a:prstGeom>
          <a:ln w="0">
            <a:noFill/>
          </a:ln>
        </p:spPr>
      </p:pic>
      <p:pic>
        <p:nvPicPr>
          <p:cNvPr id="104" name="LC20A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701880" cy="3416400"/>
          </a:xfrm>
          <a:prstGeom prst="rect">
            <a:avLst/>
          </a:prstGeom>
          <a:ln w="0">
            <a:noFill/>
          </a:ln>
        </p:spPr>
      </p:pic>
      <p:pic>
        <p:nvPicPr>
          <p:cNvPr id="105" name="LC30A" descr=""/>
          <p:cNvPicPr/>
          <p:nvPr/>
        </p:nvPicPr>
        <p:blipFill>
          <a:blip r:embed="rId4"/>
          <a:stretch/>
        </p:blipFill>
        <p:spPr>
          <a:xfrm>
            <a:off x="870120" y="3429000"/>
            <a:ext cx="3701880" cy="341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16200000">
            <a:off x="-3138120" y="3138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hifting cul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895480"/>
            <a:ext cx="685800" cy="1676520"/>
          </a:xfrm>
          <a:custGeom>
            <a:avLst/>
            <a:gdLst>
              <a:gd name="textAreaLeft" fmla="*/ 91800 w 685800"/>
              <a:gd name="textAreaRight" fmla="*/ 594000 w 68580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721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2040" y="2857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204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1168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LC30B" descr=""/>
          <p:cNvPicPr/>
          <p:nvPr/>
        </p:nvPicPr>
        <p:blipFill>
          <a:blip r:embed="rId1"/>
          <a:stretch/>
        </p:blipFill>
        <p:spPr>
          <a:xfrm>
            <a:off x="870120" y="3429000"/>
            <a:ext cx="3701880" cy="3416400"/>
          </a:xfrm>
          <a:prstGeom prst="rect">
            <a:avLst/>
          </a:prstGeom>
          <a:ln w="0">
            <a:noFill/>
          </a:ln>
        </p:spPr>
      </p:pic>
      <p:pic>
        <p:nvPicPr>
          <p:cNvPr id="113" name="LC10B" descr=""/>
          <p:cNvPicPr/>
          <p:nvPr/>
        </p:nvPicPr>
        <p:blipFill>
          <a:blip r:embed="rId2"/>
          <a:stretch/>
        </p:blipFill>
        <p:spPr>
          <a:xfrm>
            <a:off x="4572000" y="12600"/>
            <a:ext cx="3701880" cy="3416400"/>
          </a:xfrm>
          <a:prstGeom prst="rect">
            <a:avLst/>
          </a:prstGeom>
          <a:ln w="0">
            <a:noFill/>
          </a:ln>
        </p:spPr>
      </p:pic>
      <p:pic>
        <p:nvPicPr>
          <p:cNvPr id="114" name="LC20B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701880" cy="3416400"/>
          </a:xfrm>
          <a:prstGeom prst="rect">
            <a:avLst/>
          </a:prstGeom>
          <a:ln w="0">
            <a:noFill/>
          </a:ln>
        </p:spPr>
      </p:pic>
      <p:pic>
        <p:nvPicPr>
          <p:cNvPr id="115" name="LC01" descr=""/>
          <p:cNvPicPr/>
          <p:nvPr/>
        </p:nvPicPr>
        <p:blipFill>
          <a:blip r:embed="rId4"/>
          <a:stretch/>
        </p:blipFill>
        <p:spPr>
          <a:xfrm>
            <a:off x="835200" y="0"/>
            <a:ext cx="3701880" cy="3416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16200000">
            <a:off x="-3138120" y="3138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NT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2895480"/>
            <a:ext cx="685800" cy="1676520"/>
          </a:xfrm>
          <a:custGeom>
            <a:avLst/>
            <a:gdLst>
              <a:gd name="textAreaLeft" fmla="*/ 91800 w 685800"/>
              <a:gd name="textAreaRight" fmla="*/ 594000 w 68580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216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2040" y="2857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204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1168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07:18:49Z</dcterms:created>
  <dc:creator>Desi Suyamto</dc:creator>
  <dc:description/>
  <dc:language>en-US</dc:language>
  <cp:lastModifiedBy>DSuyamto</cp:lastModifiedBy>
  <dcterms:modified xsi:type="dcterms:W3CDTF">2003-09-05T03:21:43Z</dcterms:modified>
  <cp:revision>63</cp:revision>
  <dc:subject/>
  <dc:title>PowerPoint Presentation</dc:title>
</cp:coreProperties>
</file>