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10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A7F-70DE-475D-A80D-224051E3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0B7-04E5-475D-9BA7-3600B887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7FC-0257-444A-AE4B-D7AA4F15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99C-377D-4910-BB10-0DD05E96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8AA-2054-4796-8FA6-576D0169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467-3334-414F-8121-97155662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652-BBFF-4383-B662-B03BF806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9AB-6FC1-4742-B616-6B0B61C7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FCF-9A05-40C0-B446-110CB9BD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5F6-9B68-40B6-9039-DC0D322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F03-1059-4441-9CCF-083A3F34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33E-EB82-41CF-88A7-2261092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4618-A7BD-4BCB-B396-49038E2BD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9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LLO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acts Assessment Tool to Assist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on a Changing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AC" descr=""/>
          <p:cNvPicPr/>
          <p:nvPr/>
        </p:nvPicPr>
        <p:blipFill>
          <a:blip r:embed="rId1"/>
          <a:stretch/>
        </p:blipFill>
        <p:spPr>
          <a:xfrm>
            <a:off x="2433600" y="4397400"/>
            <a:ext cx="4291200" cy="1546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40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 Suyamto, Meine van Noordwijk and Betha Lu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to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3000" t="15668" r="0" b="334"/>
          <a:stretch/>
        </p:blipFill>
        <p:spPr>
          <a:xfrm>
            <a:off x="0" y="2057400"/>
            <a:ext cx="6629400" cy="4800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 years lat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farmer10" descr=""/>
          <p:cNvPicPr/>
          <p:nvPr/>
        </p:nvPicPr>
        <p:blipFill>
          <a:blip r:embed="rId2"/>
          <a:stretch/>
        </p:blipFill>
        <p:spPr>
          <a:xfrm>
            <a:off x="7829640" y="27716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96" name="farmer10" descr=""/>
          <p:cNvPicPr/>
          <p:nvPr/>
        </p:nvPicPr>
        <p:blipFill>
          <a:blip r:embed="rId3"/>
          <a:stretch/>
        </p:blipFill>
        <p:spPr>
          <a:xfrm>
            <a:off x="7829640" y="14191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97" name="farmer10" descr=""/>
          <p:cNvPicPr/>
          <p:nvPr/>
        </p:nvPicPr>
        <p:blipFill>
          <a:blip r:embed="rId4"/>
          <a:stretch/>
        </p:blipFill>
        <p:spPr>
          <a:xfrm>
            <a:off x="7829640" y="41432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98" name="farmer10" descr=""/>
          <p:cNvPicPr/>
          <p:nvPr/>
        </p:nvPicPr>
        <p:blipFill>
          <a:blip r:embed="rId5"/>
          <a:stretch/>
        </p:blipFill>
        <p:spPr>
          <a:xfrm>
            <a:off x="7829640" y="475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99" name="farmer10" descr=""/>
          <p:cNvPicPr/>
          <p:nvPr/>
        </p:nvPicPr>
        <p:blipFill>
          <a:blip r:embed="rId6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100" name="farmer10" descr=""/>
          <p:cNvPicPr/>
          <p:nvPr/>
        </p:nvPicPr>
        <p:blipFill>
          <a:blip r:embed="rId7"/>
          <a:stretch/>
        </p:blipFill>
        <p:spPr>
          <a:xfrm>
            <a:off x="6438960" y="27716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101" name="farmer10" descr=""/>
          <p:cNvPicPr/>
          <p:nvPr/>
        </p:nvPicPr>
        <p:blipFill>
          <a:blip r:embed="rId8"/>
          <a:stretch/>
        </p:blipFill>
        <p:spPr>
          <a:xfrm>
            <a:off x="6438960" y="141912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2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did FALLOW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out landscape dynamic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209600" y="714240"/>
            <a:ext cx="6705720" cy="6023160"/>
            <a:chOff x="1209600" y="714240"/>
            <a:chExt cx="6705720" cy="6023160"/>
          </a:xfrm>
        </p:grpSpPr>
        <p:sp>
          <p:nvSpPr>
            <p:cNvPr id="104" name=""/>
            <p:cNvSpPr/>
            <p:nvPr/>
          </p:nvSpPr>
          <p:spPr>
            <a:xfrm>
              <a:off x="1209600" y="714240"/>
              <a:ext cx="2743200" cy="1298880"/>
            </a:xfrm>
            <a:prstGeom prst="roundRect">
              <a:avLst>
                <a:gd name="adj" fmla="val 16667"/>
              </a:avLst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lot-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oil fertility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rop produ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72120" y="714240"/>
              <a:ext cx="2743200" cy="1298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gregate-level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ousehold econom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2120" y="2619360"/>
              <a:ext cx="2743200" cy="17557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ategic-decision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ricultural 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ansion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bor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s results of 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72120" y="4981680"/>
              <a:ext cx="2743200" cy="17557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mplementation 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gricultural 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xpansion &am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 econo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roduction activ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9600" y="5286240"/>
              <a:ext cx="2743200" cy="1298880"/>
            </a:xfrm>
            <a:prstGeom prst="roundRect">
              <a:avLst>
                <a:gd name="adj" fmla="val 16667"/>
              </a:avLst>
            </a:prstGeom>
            <a:solidFill>
              <a:srgbClr val="00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uccession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and-use/cover 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6276960" y="1895400"/>
              <a:ext cx="457200" cy="83808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6276960" y="4257720"/>
              <a:ext cx="457200" cy="83808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4028760" y="5514480"/>
              <a:ext cx="1066680" cy="83844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1019160" y="3266640"/>
              <a:ext cx="3048120" cy="838440"/>
            </a:xfrm>
            <a:custGeom>
              <a:avLst/>
              <a:gdLst>
                <a:gd name="textAreaLeft" fmla="*/ 476280 w 3048120"/>
                <a:gd name="textAreaRight" fmla="*/ 2667240 w 304812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29120" y="1019160"/>
              <a:ext cx="1066680" cy="83808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 Driving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200" y="119232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2438280"/>
            <a:ext cx="2190600" cy="201960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3120" y="1182600"/>
            <a:ext cx="2743200" cy="9320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235440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200" y="359100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n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34040" y="2306520"/>
            <a:ext cx="2743200" cy="9320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vernment &amp;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760" y="474516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d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34040" y="361008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est utilisat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43760" y="4754520"/>
            <a:ext cx="2743200" cy="932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oculture plan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rt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91040" y="476424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est 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ran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8705000">
            <a:off x="3220200" y="2029320"/>
            <a:ext cx="304920" cy="890280"/>
          </a:xfrm>
          <a:prstGeom prst="upDownArrow">
            <a:avLst>
              <a:gd name="adj1" fmla="val 50000"/>
              <a:gd name="adj2" fmla="val 58124"/>
            </a:avLst>
          </a:prstGeom>
          <a:gradFill rotWithShape="0">
            <a:gsLst>
              <a:gs pos="0">
                <a:srgbClr val="006600"/>
              </a:gs>
              <a:gs pos="100000">
                <a:srgbClr val="ff33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2895000">
            <a:off x="5629680" y="2019600"/>
            <a:ext cx="304920" cy="890640"/>
          </a:xfrm>
          <a:prstGeom prst="upDownArrow">
            <a:avLst>
              <a:gd name="adj1" fmla="val 50000"/>
              <a:gd name="adj2" fmla="val 58147"/>
            </a:avLst>
          </a:prstGeom>
          <a:gradFill rotWithShape="0">
            <a:gsLst>
              <a:gs pos="0">
                <a:srgbClr val="ff3300"/>
              </a:gs>
              <a:gs pos="100000">
                <a:srgbClr val="006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8705000">
            <a:off x="3127680" y="2703960"/>
            <a:ext cx="304920" cy="493560"/>
          </a:xfrm>
          <a:prstGeom prst="upDownArrow">
            <a:avLst>
              <a:gd name="adj1" fmla="val 50000"/>
              <a:gd name="adj2" fmla="val 32223"/>
            </a:avLst>
          </a:prstGeom>
          <a:gradFill rotWithShape="0">
            <a:gsLst>
              <a:gs pos="0">
                <a:srgbClr val="006600"/>
              </a:gs>
              <a:gs pos="100000">
                <a:srgbClr val="ff33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2895000">
            <a:off x="5690520" y="2694240"/>
            <a:ext cx="304920" cy="494280"/>
          </a:xfrm>
          <a:prstGeom prst="upDownArrow">
            <a:avLst>
              <a:gd name="adj1" fmla="val 50000"/>
              <a:gd name="adj2" fmla="val 32270"/>
            </a:avLst>
          </a:prstGeom>
          <a:gradFill rotWithShape="0">
            <a:gsLst>
              <a:gs pos="0">
                <a:srgbClr val="ff3300"/>
              </a:gs>
              <a:gs pos="100000">
                <a:srgbClr val="006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2895000">
            <a:off x="3127680" y="3760560"/>
            <a:ext cx="304920" cy="493560"/>
          </a:xfrm>
          <a:prstGeom prst="upDownArrow">
            <a:avLst>
              <a:gd name="adj1" fmla="val 50000"/>
              <a:gd name="adj2" fmla="val 32223"/>
            </a:avLst>
          </a:prstGeom>
          <a:gradFill rotWithShape="0">
            <a:gsLst>
              <a:gs pos="0">
                <a:srgbClr val="006600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 rot="18705000">
            <a:off x="5660640" y="3760560"/>
            <a:ext cx="304920" cy="493560"/>
          </a:xfrm>
          <a:prstGeom prst="upDownArrow">
            <a:avLst>
              <a:gd name="adj1" fmla="val 50000"/>
              <a:gd name="adj2" fmla="val 32223"/>
            </a:avLst>
          </a:prstGeom>
          <a:gradFill rotWithShape="0">
            <a:gsLst>
              <a:gs pos="0">
                <a:srgbClr val="3333cc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9080" y="4486320"/>
            <a:ext cx="304920" cy="237960"/>
          </a:xfrm>
          <a:prstGeom prst="upDown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006600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2895000">
            <a:off x="3220200" y="4011120"/>
            <a:ext cx="304560" cy="890280"/>
          </a:xfrm>
          <a:prstGeom prst="upDownArrow">
            <a:avLst>
              <a:gd name="adj1" fmla="val 50000"/>
              <a:gd name="adj2" fmla="val 58193"/>
            </a:avLst>
          </a:prstGeom>
          <a:gradFill rotWithShape="0">
            <a:gsLst>
              <a:gs pos="0">
                <a:srgbClr val="006600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 rot="18705000">
            <a:off x="5598000" y="3990600"/>
            <a:ext cx="304920" cy="890640"/>
          </a:xfrm>
          <a:prstGeom prst="upDownArrow">
            <a:avLst>
              <a:gd name="adj1" fmla="val 50000"/>
              <a:gd name="adj2" fmla="val 58147"/>
            </a:avLst>
          </a:prstGeom>
          <a:gradFill rotWithShape="0">
            <a:gsLst>
              <a:gs pos="0">
                <a:srgbClr val="3333cc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quence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28880" y="1943280"/>
            <a:ext cx="3181320" cy="29336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53200" y="105732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rying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3200" y="2333520"/>
            <a:ext cx="2743200" cy="932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sh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3619440"/>
            <a:ext cx="2743200" cy="932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o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53200" y="4876920"/>
            <a:ext cx="2743200" cy="9316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st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81320" y="1104840"/>
            <a:ext cx="2171880" cy="139068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00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181320" y="4342680"/>
            <a:ext cx="2171880" cy="1390680"/>
          </a:xfrm>
          <a:custGeom>
            <a:avLst/>
            <a:gdLst>
              <a:gd name="textAreaLeft" fmla="*/ 0 w 2171880"/>
              <a:gd name="textAreaRight" fmla="*/ 2172240 w 2171880"/>
              <a:gd name="textAreaTop" fmla="*/ 0 h 1390680"/>
              <a:gd name="textAreaBottom" fmla="*/ 1390680 h 1390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66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72080" y="2495520"/>
            <a:ext cx="1581120" cy="647640"/>
          </a:xfrm>
          <a:prstGeom prst="rightArrow">
            <a:avLst>
              <a:gd name="adj1" fmla="val 50000"/>
              <a:gd name="adj2" fmla="val 61034"/>
            </a:avLst>
          </a:prstGeom>
          <a:gradFill rotWithShape="0">
            <a:gsLst>
              <a:gs pos="0">
                <a:srgbClr val="3333cc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72080" y="3714840"/>
            <a:ext cx="1581120" cy="647640"/>
          </a:xfrm>
          <a:prstGeom prst="rightArrow">
            <a:avLst>
              <a:gd name="adj1" fmla="val 50000"/>
              <a:gd name="adj2" fmla="val 61034"/>
            </a:avLst>
          </a:prstGeom>
          <a:gradFill rotWithShape="0">
            <a:gsLst>
              <a:gs pos="0">
                <a:srgbClr val="3333cc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097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to play this ‘toy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62320" y="2682720"/>
            <a:ext cx="2647800" cy="1435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OW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52920" y="2008080"/>
            <a:ext cx="209412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Fa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1080" y="1739880"/>
            <a:ext cx="209376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Nego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35680" y="2971800"/>
            <a:ext cx="209376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Soil Scient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22480" y="2933640"/>
            <a:ext cx="209376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Hydro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12920" y="3936960"/>
            <a:ext cx="209376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Social Scient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6280" y="1981080"/>
            <a:ext cx="209412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Policy 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99000" y="3936960"/>
            <a:ext cx="209412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Econom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1080" y="4140360"/>
            <a:ext cx="2093760" cy="931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Eco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1320" y="4876920"/>
            <a:ext cx="2094120" cy="931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Pl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43440" y="4863960"/>
            <a:ext cx="2093760" cy="93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Agronom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35000" y="1028880"/>
            <a:ext cx="2094120" cy="931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For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3440" y="1028880"/>
            <a:ext cx="2093760" cy="931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Demogra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3680" y="5600880"/>
            <a:ext cx="2094120" cy="9316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 Statist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6400" y="320760"/>
            <a:ext cx="2093760" cy="931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62320" y="2682720"/>
            <a:ext cx="2647800" cy="1435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LOW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22480" y="320760"/>
            <a:ext cx="6906960" cy="6211800"/>
            <a:chOff x="1122480" y="320760"/>
            <a:chExt cx="6906960" cy="6211800"/>
          </a:xfrm>
        </p:grpSpPr>
        <p:sp>
          <p:nvSpPr>
            <p:cNvPr id="163" name=""/>
            <p:cNvSpPr/>
            <p:nvPr/>
          </p:nvSpPr>
          <p:spPr>
            <a:xfrm>
              <a:off x="5452920" y="2008080"/>
              <a:ext cx="209412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Far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1080" y="1739880"/>
              <a:ext cx="209376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35680" y="2971800"/>
              <a:ext cx="209376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Soil Scient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2480" y="2933640"/>
              <a:ext cx="209376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Hydrolog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2920" y="3936960"/>
              <a:ext cx="209376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Social Scient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6280" y="1981080"/>
              <a:ext cx="209412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Policy 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99000" y="3936960"/>
              <a:ext cx="209412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Econom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1080" y="4140360"/>
              <a:ext cx="2093760" cy="931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Ecolog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11320" y="4876920"/>
              <a:ext cx="2094120" cy="931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Pla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43440" y="4863960"/>
              <a:ext cx="2093760" cy="9320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Agronom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1028880"/>
              <a:ext cx="2094120" cy="931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Fores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43440" y="1028880"/>
              <a:ext cx="2093760" cy="931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Demograp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33680" y="5600880"/>
              <a:ext cx="2094120" cy="9316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e Statistic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6400" y="320760"/>
              <a:ext cx="2093760" cy="9316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E YOURSEL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447920" y="1028880"/>
            <a:ext cx="6286320" cy="4819320"/>
            <a:chOff x="1447920" y="1028880"/>
            <a:chExt cx="6286320" cy="4819320"/>
          </a:xfrm>
        </p:grpSpPr>
        <p:sp>
          <p:nvSpPr>
            <p:cNvPr id="178" name=""/>
            <p:cNvSpPr/>
            <p:nvPr/>
          </p:nvSpPr>
          <p:spPr>
            <a:xfrm>
              <a:off x="1447920" y="1028880"/>
              <a:ext cx="6286320" cy="4819320"/>
            </a:xfrm>
            <a:prstGeom prst="donut">
              <a:avLst>
                <a:gd name="adj" fmla="val 25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540600" y="4831200"/>
              <a:ext cx="2152440" cy="5007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Be united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557520" y="1692000"/>
              <a:ext cx="2152800" cy="500760"/>
            </a:xfrm>
            <a:prstGeom prst="rect">
              <a:avLst/>
            </a:prstGeom>
          </p:spPr>
          <p:txBody>
            <a:bodyPr wrap="none" fromWordArt="1" lIns="90000" rIns="90000" tIns="46800" bIns="46800" anchor="ctr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Be united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411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kind of game could be play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onstruct historical pathway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nd-use/cover change in Sumberja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609480" y="1600200"/>
            <a:ext cx="7944120" cy="5257800"/>
            <a:chOff x="609480" y="1600200"/>
            <a:chExt cx="7944120" cy="5257800"/>
          </a:xfrm>
        </p:grpSpPr>
        <p:grpSp>
          <p:nvGrpSpPr>
            <p:cNvPr id="183" name=""/>
            <p:cNvGrpSpPr/>
            <p:nvPr/>
          </p:nvGrpSpPr>
          <p:grpSpPr>
            <a:xfrm>
              <a:off x="628560" y="1600200"/>
              <a:ext cx="7905600" cy="3638520"/>
              <a:chOff x="628560" y="1600200"/>
              <a:chExt cx="7905600" cy="3638520"/>
            </a:xfrm>
          </p:grpSpPr>
          <p:sp>
            <p:nvSpPr>
              <p:cNvPr id="184" name=""/>
              <p:cNvSpPr/>
              <p:nvPr/>
            </p:nvSpPr>
            <p:spPr>
              <a:xfrm>
                <a:off x="628560" y="1600200"/>
                <a:ext cx="1409760" cy="363852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Totall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ores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andscap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38320" y="1600200"/>
                <a:ext cx="1428840" cy="36385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if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ultiv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67160" y="1600200"/>
                <a:ext cx="1752480" cy="363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groforest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19640" y="1600200"/>
                <a:ext cx="1752480" cy="36385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lan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72120" y="1600200"/>
                <a:ext cx="1562040" cy="363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orticultu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9480" y="5848200"/>
              <a:ext cx="7944120" cy="1009800"/>
            </a:xfrm>
            <a:custGeom>
              <a:avLst/>
              <a:gdLst>
                <a:gd name="textAreaLeft" fmla="*/ 1241280 w 7944120"/>
                <a:gd name="textAreaRight" fmla="*/ 7741800 w 7944120"/>
                <a:gd name="textAreaTop" fmla="*/ 252360 h 1009800"/>
                <a:gd name="textAreaBottom" fmla="*/ 7574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20498" y="5400"/>
                  </a:lnTo>
                  <a:lnTo>
                    <a:pt x="20498" y="0"/>
                  </a:lnTo>
                  <a:lnTo>
                    <a:pt x="21600" y="10800"/>
                  </a:lnTo>
                  <a:lnTo>
                    <a:pt x="20498" y="21600"/>
                  </a:lnTo>
                  <a:lnTo>
                    <a:pt x="20498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00 y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95520" y="2171880"/>
            <a:ext cx="2095560" cy="780840"/>
          </a:xfrm>
          <a:prstGeom prst="rightArrow">
            <a:avLst>
              <a:gd name="adj1" fmla="val 50000"/>
              <a:gd name="adj2" fmla="val 414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d priva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8560" y="476280"/>
            <a:ext cx="7905960" cy="1066680"/>
          </a:xfrm>
          <a:prstGeom prst="rightArrow">
            <a:avLst>
              <a:gd name="adj1" fmla="val 53574"/>
              <a:gd name="adj2" fmla="val 513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171880"/>
            <a:ext cx="2305080" cy="78084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66720" y="1606680"/>
            <a:ext cx="7858080" cy="4375080"/>
            <a:chOff x="666720" y="1606680"/>
            <a:chExt cx="7858080" cy="4375080"/>
          </a:xfrm>
        </p:grpSpPr>
        <p:pic>
          <p:nvPicPr>
            <p:cNvPr id="195" name="farmer10" descr=""/>
            <p:cNvPicPr/>
            <p:nvPr/>
          </p:nvPicPr>
          <p:blipFill>
            <a:blip r:embed="rId1"/>
            <a:stretch/>
          </p:blipFill>
          <p:spPr>
            <a:xfrm>
              <a:off x="666720" y="5378400"/>
              <a:ext cx="6094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farmer10" descr=""/>
            <p:cNvPicPr/>
            <p:nvPr/>
          </p:nvPicPr>
          <p:blipFill>
            <a:blip r:embed="rId2"/>
            <a:stretch/>
          </p:blipFill>
          <p:spPr>
            <a:xfrm>
              <a:off x="1266840" y="5102280"/>
              <a:ext cx="6094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farmer10" descr=""/>
            <p:cNvPicPr/>
            <p:nvPr/>
          </p:nvPicPr>
          <p:blipFill>
            <a:blip r:embed="rId3"/>
            <a:stretch/>
          </p:blipFill>
          <p:spPr>
            <a:xfrm>
              <a:off x="1876320" y="4835520"/>
              <a:ext cx="6098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farmer10" descr=""/>
            <p:cNvPicPr/>
            <p:nvPr/>
          </p:nvPicPr>
          <p:blipFill>
            <a:blip r:embed="rId4"/>
            <a:stretch/>
          </p:blipFill>
          <p:spPr>
            <a:xfrm>
              <a:off x="2476440" y="4559400"/>
              <a:ext cx="60984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farmer10" descr=""/>
            <p:cNvPicPr/>
            <p:nvPr/>
          </p:nvPicPr>
          <p:blipFill>
            <a:blip r:embed="rId5"/>
            <a:stretch/>
          </p:blipFill>
          <p:spPr>
            <a:xfrm>
              <a:off x="3076560" y="4264200"/>
              <a:ext cx="60948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farmer10" descr=""/>
            <p:cNvPicPr/>
            <p:nvPr/>
          </p:nvPicPr>
          <p:blipFill>
            <a:blip r:embed="rId6"/>
            <a:stretch/>
          </p:blipFill>
          <p:spPr>
            <a:xfrm>
              <a:off x="3676680" y="3949560"/>
              <a:ext cx="6094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farmer10" descr=""/>
            <p:cNvPicPr/>
            <p:nvPr/>
          </p:nvPicPr>
          <p:blipFill>
            <a:blip r:embed="rId7"/>
            <a:stretch/>
          </p:blipFill>
          <p:spPr>
            <a:xfrm>
              <a:off x="4286160" y="3635280"/>
              <a:ext cx="6098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farmer10" descr=""/>
            <p:cNvPicPr/>
            <p:nvPr/>
          </p:nvPicPr>
          <p:blipFill>
            <a:blip r:embed="rId8"/>
            <a:stretch/>
          </p:blipFill>
          <p:spPr>
            <a:xfrm>
              <a:off x="4896000" y="3295800"/>
              <a:ext cx="609480" cy="60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farmer10" descr=""/>
            <p:cNvPicPr/>
            <p:nvPr/>
          </p:nvPicPr>
          <p:blipFill>
            <a:blip r:embed="rId9"/>
            <a:stretch/>
          </p:blipFill>
          <p:spPr>
            <a:xfrm>
              <a:off x="5495760" y="3016080"/>
              <a:ext cx="6098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farmer10" descr=""/>
            <p:cNvPicPr/>
            <p:nvPr/>
          </p:nvPicPr>
          <p:blipFill>
            <a:blip r:embed="rId10"/>
            <a:stretch/>
          </p:blipFill>
          <p:spPr>
            <a:xfrm>
              <a:off x="6095880" y="2682720"/>
              <a:ext cx="6098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farmer10" descr=""/>
            <p:cNvPicPr/>
            <p:nvPr/>
          </p:nvPicPr>
          <p:blipFill>
            <a:blip r:embed="rId11"/>
            <a:stretch/>
          </p:blipFill>
          <p:spPr>
            <a:xfrm>
              <a:off x="6696000" y="2349360"/>
              <a:ext cx="6098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farmer10" descr=""/>
            <p:cNvPicPr/>
            <p:nvPr/>
          </p:nvPicPr>
          <p:blipFill>
            <a:blip r:embed="rId12"/>
            <a:stretch/>
          </p:blipFill>
          <p:spPr>
            <a:xfrm>
              <a:off x="7305840" y="2035080"/>
              <a:ext cx="60948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farmer10" descr=""/>
            <p:cNvPicPr/>
            <p:nvPr/>
          </p:nvPicPr>
          <p:blipFill>
            <a:blip r:embed="rId13"/>
            <a:stretch/>
          </p:blipFill>
          <p:spPr>
            <a:xfrm>
              <a:off x="7915320" y="1606680"/>
              <a:ext cx="609480" cy="60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edium" descr=""/>
          <p:cNvPicPr/>
          <p:nvPr/>
        </p:nvPicPr>
        <p:blipFill>
          <a:blip r:embed="rId1"/>
          <a:stretch/>
        </p:blipFill>
        <p:spPr>
          <a:xfrm>
            <a:off x="6662880" y="2490840"/>
            <a:ext cx="92376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Big" descr=""/>
          <p:cNvPicPr/>
          <p:nvPr/>
        </p:nvPicPr>
        <p:blipFill>
          <a:blip r:embed="rId2"/>
          <a:stretch/>
        </p:blipFill>
        <p:spPr>
          <a:xfrm>
            <a:off x="3562200" y="2104920"/>
            <a:ext cx="203868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Small" descr=""/>
          <p:cNvPicPr/>
          <p:nvPr/>
        </p:nvPicPr>
        <p:blipFill>
          <a:blip r:embed="rId3"/>
          <a:stretch/>
        </p:blipFill>
        <p:spPr>
          <a:xfrm>
            <a:off x="1585800" y="2781360"/>
            <a:ext cx="600120" cy="86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379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LLO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acts Assessment Tool to Assist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on a Changing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AC" descr=""/>
          <p:cNvPicPr/>
          <p:nvPr/>
        </p:nvPicPr>
        <p:blipFill>
          <a:blip r:embed="rId4"/>
          <a:srcRect l="0" t="49901" r="0" b="0"/>
          <a:stretch/>
        </p:blipFill>
        <p:spPr>
          <a:xfrm>
            <a:off x="2433600" y="5168880"/>
            <a:ext cx="429120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40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 Suyamto, Meine van Noordwijk and Betha Lu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to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41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ated land-use/cover change in Sumberj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1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LUC3" descr=""/>
          <p:cNvPicPr/>
          <p:nvPr/>
        </p:nvPicPr>
        <p:blipFill>
          <a:blip r:embed="rId1"/>
          <a:srcRect l="13800" t="12321" r="24000" b="9600"/>
          <a:stretch/>
        </p:blipFill>
        <p:spPr>
          <a:xfrm>
            <a:off x="1336680" y="685800"/>
            <a:ext cx="6453360" cy="6072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agricultural development in year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14560" y="2990880"/>
            <a:ext cx="1123920" cy="1123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LUC3" descr=""/>
          <p:cNvPicPr/>
          <p:nvPr/>
        </p:nvPicPr>
        <p:blipFill>
          <a:blip r:embed="rId2"/>
          <a:srcRect l="29040" t="41921" r="60122" b="43685"/>
          <a:stretch/>
        </p:blipFill>
        <p:spPr>
          <a:xfrm>
            <a:off x="6899400" y="682560"/>
            <a:ext cx="2065320" cy="205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28600" y="5200560"/>
            <a:ext cx="1428840" cy="1428840"/>
          </a:xfrm>
          <a:prstGeom prst="rect">
            <a:avLst/>
          </a:prstGeom>
          <a:solidFill>
            <a:srgbClr val="ff993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30840" y="5648760"/>
            <a:ext cx="10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agroforestry development in year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LUC6" descr=""/>
          <p:cNvPicPr/>
          <p:nvPr/>
        </p:nvPicPr>
        <p:blipFill>
          <a:blip r:embed="rId1"/>
          <a:srcRect l="13800" t="12321" r="24000" b="9600"/>
          <a:stretch/>
        </p:blipFill>
        <p:spPr>
          <a:xfrm>
            <a:off x="1338120" y="685800"/>
            <a:ext cx="6472440" cy="6093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14560" y="2990880"/>
            <a:ext cx="1123920" cy="1123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LUC6" descr=""/>
          <p:cNvPicPr/>
          <p:nvPr/>
        </p:nvPicPr>
        <p:blipFill>
          <a:blip r:embed="rId2"/>
          <a:srcRect l="29040" t="41921" r="60245" b="43843"/>
          <a:stretch/>
        </p:blipFill>
        <p:spPr>
          <a:xfrm>
            <a:off x="6924600" y="690480"/>
            <a:ext cx="2028960" cy="2019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228600" y="5200560"/>
            <a:ext cx="1428840" cy="1428840"/>
          </a:xfrm>
          <a:prstGeom prst="rect">
            <a:avLst/>
          </a:prstGeom>
          <a:solidFill>
            <a:srgbClr val="cc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o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30840" y="5648760"/>
            <a:ext cx="10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LUC26" descr=""/>
          <p:cNvPicPr/>
          <p:nvPr/>
        </p:nvPicPr>
        <p:blipFill>
          <a:blip r:embed="rId1"/>
          <a:srcRect l="13800" t="12321" r="24000" b="9600"/>
          <a:stretch/>
        </p:blipFill>
        <p:spPr>
          <a:xfrm>
            <a:off x="1355760" y="685800"/>
            <a:ext cx="6453000" cy="6073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914560" y="2990880"/>
            <a:ext cx="1123920" cy="1123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LUC26" descr=""/>
          <p:cNvPicPr/>
          <p:nvPr/>
        </p:nvPicPr>
        <p:blipFill>
          <a:blip r:embed="rId2"/>
          <a:srcRect l="28800" t="41921" r="60363" b="43685"/>
          <a:stretch/>
        </p:blipFill>
        <p:spPr>
          <a:xfrm>
            <a:off x="6854760" y="685800"/>
            <a:ext cx="2048040" cy="203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lantation development in year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200560"/>
            <a:ext cx="1428840" cy="14288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0840" y="5648760"/>
            <a:ext cx="10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LUC56" descr=""/>
          <p:cNvPicPr/>
          <p:nvPr/>
        </p:nvPicPr>
        <p:blipFill>
          <a:blip r:embed="rId1"/>
          <a:srcRect l="13800" t="12321" r="24241" b="9600"/>
          <a:stretch/>
        </p:blipFill>
        <p:spPr>
          <a:xfrm>
            <a:off x="1355760" y="685800"/>
            <a:ext cx="6426000" cy="607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horticulture development in year-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4560" y="2990880"/>
            <a:ext cx="1123920" cy="1123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LUC56" descr=""/>
          <p:cNvPicPr/>
          <p:nvPr/>
        </p:nvPicPr>
        <p:blipFill>
          <a:blip r:embed="rId2"/>
          <a:srcRect l="28922" t="41921" r="60245" b="43685"/>
          <a:stretch/>
        </p:blipFill>
        <p:spPr>
          <a:xfrm>
            <a:off x="6867360" y="682560"/>
            <a:ext cx="2084400" cy="2078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228600" y="5200560"/>
            <a:ext cx="1428840" cy="1428840"/>
          </a:xfrm>
          <a:prstGeom prst="rect">
            <a:avLst/>
          </a:prstGeom>
          <a:solidFill>
            <a:srgbClr val="ddddd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t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30840" y="5648760"/>
            <a:ext cx="10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116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core of the game i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rying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87320" y="1681920"/>
            <a:ext cx="401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opulation Density = 154 inhabitants/km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52760" y="2019240"/>
            <a:ext cx="914400" cy="590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4880" y="4625280"/>
            <a:ext cx="4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66960" y="408384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38560" y="2223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Hort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 are always attracted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quences on watershe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1310400"/>
            <a:ext cx="4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09720" y="13122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92840" y="42570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t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quences on watershe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09840" y="4091760"/>
            <a:ext cx="4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90640" y="472212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24320" y="4722120"/>
            <a:ext cx="13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t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33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FA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quences on bio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85800" y="1386720"/>
            <a:ext cx="4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10040" y="19407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5120" y="23598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t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62640" y="2800440"/>
            <a:ext cx="0" cy="25336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5648040" y="3826440"/>
            <a:ext cx="18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Forest re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615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quences on carbon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04920" y="1539000"/>
            <a:ext cx="4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7920" y="34092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19720" y="260748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rt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48440" y="2857680"/>
            <a:ext cx="0" cy="2647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6314760" y="4140720"/>
            <a:ext cx="18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st re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s of cultivated crop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 the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409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 the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09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 the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409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 the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409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 the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409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 the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409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1858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AME 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destroyed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 must restart your g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30502" t="39003" r="22750" b="23335"/>
          <a:stretch/>
        </p:blipFill>
        <p:spPr>
          <a:xfrm>
            <a:off x="2781360" y="2324160"/>
            <a:ext cx="3562200" cy="215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armer10" descr=""/>
          <p:cNvPicPr/>
          <p:nvPr/>
        </p:nvPicPr>
        <p:blipFill>
          <a:blip r:embed="rId2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oritize loc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1760" y="1619280"/>
            <a:ext cx="5486400" cy="590400"/>
          </a:xfrm>
          <a:prstGeom prst="leftRightArrow">
            <a:avLst>
              <a:gd name="adj1" fmla="val 48389"/>
              <a:gd name="adj2" fmla="val 6909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Re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oritize local needs by still considering glob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57440" y="1619280"/>
            <a:ext cx="7200720" cy="590400"/>
          </a:xfrm>
          <a:prstGeom prst="leftRightArrow">
            <a:avLst>
              <a:gd name="adj1" fmla="val 48389"/>
              <a:gd name="adj2" fmla="val 7125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 service rewarding 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oritize glob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57480" y="1619280"/>
            <a:ext cx="7600680" cy="590400"/>
          </a:xfrm>
          <a:prstGeom prst="leftRightArrow">
            <a:avLst>
              <a:gd name="adj1" fmla="val 48389"/>
              <a:gd name="adj2" fmla="val 75216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n development mechanism through carbon tr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3152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it just a to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21999" t="22667" r="8253" b="12682"/>
          <a:stretch/>
        </p:blipFill>
        <p:spPr>
          <a:xfrm>
            <a:off x="590400" y="996840"/>
            <a:ext cx="7886880" cy="548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41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CITY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ering sophistication of hidde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41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L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ering robustness of transparent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4098" t="0" r="50003" b="9340"/>
          <a:stretch/>
        </p:blipFill>
        <p:spPr>
          <a:xfrm>
            <a:off x="374760" y="1527120"/>
            <a:ext cx="4197240" cy="4208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rcRect l="4540" t="15880" r="40522" b="6906"/>
          <a:stretch/>
        </p:blipFill>
        <p:spPr>
          <a:xfrm>
            <a:off x="4572000" y="1541520"/>
            <a:ext cx="41860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3152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 is FALLOW position among 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dynamic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05480" y="4772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dynamic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62640" y="3143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dynamic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62640" y="3143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05240" y="4762440"/>
            <a:ext cx="114300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0753" t="35671" r="22500" b="19335"/>
          <a:stretch/>
        </p:blipFill>
        <p:spPr>
          <a:xfrm>
            <a:off x="2800440" y="2152800"/>
            <a:ext cx="3562200" cy="2571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 years lat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farmer10" descr=""/>
          <p:cNvPicPr/>
          <p:nvPr/>
        </p:nvPicPr>
        <p:blipFill>
          <a:blip r:embed="rId2"/>
          <a:stretch/>
        </p:blipFill>
        <p:spPr>
          <a:xfrm>
            <a:off x="7829640" y="41432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farmer10" descr=""/>
          <p:cNvPicPr/>
          <p:nvPr/>
        </p:nvPicPr>
        <p:blipFill>
          <a:blip r:embed="rId3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dynamic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62640" y="3143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90960" y="4762440"/>
            <a:ext cx="114300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dynamic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62640" y="3143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90960" y="4762440"/>
            <a:ext cx="114300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10040" y="2171880"/>
            <a:ext cx="1143000" cy="1143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scape dynamic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62640" y="3143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90960" y="4762440"/>
            <a:ext cx="114300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181320"/>
            <a:ext cx="1143000" cy="1143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3152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urrent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62640" y="314316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870200" y="1366920"/>
            <a:ext cx="5406840" cy="4676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4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90440" y="7228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9840" y="61520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82240" y="61520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70520" y="3605040"/>
            <a:ext cx="1143000" cy="1143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rcRect l="15712" t="19448" r="21583" b="6836"/>
          <a:stretch/>
        </p:blipFill>
        <p:spPr>
          <a:xfrm>
            <a:off x="1959120" y="1133640"/>
            <a:ext cx="2603520" cy="2295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didates of FALLOW testing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771560"/>
            <a:ext cx="24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ail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e Cha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rcRect l="23501" t="25005" r="18999" b="6999"/>
          <a:stretch/>
        </p:blipFill>
        <p:spPr>
          <a:xfrm>
            <a:off x="4562640" y="3429000"/>
            <a:ext cx="2571480" cy="22813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953400" y="3886200"/>
            <a:ext cx="219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b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mberjaya, Sugihan, Nunu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19080" y="1809720"/>
            <a:ext cx="9163080" cy="3404880"/>
            <a:chOff x="-19080" y="1809720"/>
            <a:chExt cx="9163080" cy="3404880"/>
          </a:xfrm>
        </p:grpSpPr>
        <p:sp>
          <p:nvSpPr>
            <p:cNvPr id="360" name=""/>
            <p:cNvSpPr/>
            <p:nvPr/>
          </p:nvSpPr>
          <p:spPr>
            <a:xfrm>
              <a:off x="4562640" y="1809720"/>
              <a:ext cx="458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VACA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-19080" y="4572000"/>
              <a:ext cx="458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VACANC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1057320"/>
            <a:ext cx="914400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LLOW is more than a t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LLOW is not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LLOW is now impr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888560" y="-13434120"/>
            <a:ext cx="5228280" cy="20027160"/>
            <a:chOff x="1888560" y="-13434120"/>
            <a:chExt cx="5228280" cy="20027160"/>
          </a:xfrm>
        </p:grpSpPr>
        <p:sp>
          <p:nvSpPr>
            <p:cNvPr id="364" name=""/>
            <p:cNvSpPr/>
            <p:nvPr/>
          </p:nvSpPr>
          <p:spPr>
            <a:xfrm>
              <a:off x="1888560" y="-13434120"/>
              <a:ext cx="5228280" cy="20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LLOW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Working Team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 Suyam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tha Lusia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achmat Mul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Director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ine van Noordwij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ctober, 200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RIMA KAS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 H A N K    Y O 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ww.worldagroforestrycentre.org/s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CRAF SEA Modelling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NY QUESTIONS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5" name="WAC" descr=""/>
            <p:cNvPicPr/>
            <p:nvPr/>
          </p:nvPicPr>
          <p:blipFill>
            <a:blip r:embed="rId1"/>
            <a:stretch/>
          </p:blipFill>
          <p:spPr>
            <a:xfrm>
              <a:off x="2533680" y="1150920"/>
              <a:ext cx="4048200" cy="14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Meine-R02" descr=""/>
            <p:cNvPicPr/>
            <p:nvPr/>
          </p:nvPicPr>
          <p:blipFill>
            <a:blip r:embed="rId2"/>
            <a:stretch/>
          </p:blipFill>
          <p:spPr>
            <a:xfrm>
              <a:off x="3648240" y="3067200"/>
              <a:ext cx="1809720" cy="241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4502" t="28671" r="14002" b="4001"/>
          <a:stretch/>
        </p:blipFill>
        <p:spPr>
          <a:xfrm>
            <a:off x="1847880" y="1486080"/>
            <a:ext cx="5448240" cy="384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 years lat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armer10" descr=""/>
          <p:cNvPicPr/>
          <p:nvPr/>
        </p:nvPicPr>
        <p:blipFill>
          <a:blip r:embed="rId2"/>
          <a:stretch/>
        </p:blipFill>
        <p:spPr>
          <a:xfrm>
            <a:off x="7829640" y="27716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66" name="farmer10" descr=""/>
          <p:cNvPicPr/>
          <p:nvPr/>
        </p:nvPicPr>
        <p:blipFill>
          <a:blip r:embed="rId3"/>
          <a:stretch/>
        </p:blipFill>
        <p:spPr>
          <a:xfrm>
            <a:off x="7829640" y="41432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67" name="farmer10" descr=""/>
          <p:cNvPicPr/>
          <p:nvPr/>
        </p:nvPicPr>
        <p:blipFill>
          <a:blip r:embed="rId4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3251" t="15334" r="0" b="334"/>
          <a:stretch/>
        </p:blipFill>
        <p:spPr>
          <a:xfrm>
            <a:off x="0" y="2038320"/>
            <a:ext cx="6610320" cy="4819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 years lat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armer10" descr=""/>
          <p:cNvPicPr/>
          <p:nvPr/>
        </p:nvPicPr>
        <p:blipFill>
          <a:blip r:embed="rId2"/>
          <a:stretch/>
        </p:blipFill>
        <p:spPr>
          <a:xfrm>
            <a:off x="7829640" y="27716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72" name="farmer10" descr=""/>
          <p:cNvPicPr/>
          <p:nvPr/>
        </p:nvPicPr>
        <p:blipFill>
          <a:blip r:embed="rId3"/>
          <a:stretch/>
        </p:blipFill>
        <p:spPr>
          <a:xfrm>
            <a:off x="7829640" y="14191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73" name="farmer10" descr=""/>
          <p:cNvPicPr/>
          <p:nvPr/>
        </p:nvPicPr>
        <p:blipFill>
          <a:blip r:embed="rId4"/>
          <a:stretch/>
        </p:blipFill>
        <p:spPr>
          <a:xfrm>
            <a:off x="7829640" y="41432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74" name="farmer10" descr=""/>
          <p:cNvPicPr/>
          <p:nvPr/>
        </p:nvPicPr>
        <p:blipFill>
          <a:blip r:embed="rId5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3251" t="15000" r="0" b="334"/>
          <a:stretch/>
        </p:blipFill>
        <p:spPr>
          <a:xfrm>
            <a:off x="0" y="2019240"/>
            <a:ext cx="6610320" cy="483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 years lat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farmer10" descr=""/>
          <p:cNvPicPr/>
          <p:nvPr/>
        </p:nvPicPr>
        <p:blipFill>
          <a:blip r:embed="rId2"/>
          <a:stretch/>
        </p:blipFill>
        <p:spPr>
          <a:xfrm>
            <a:off x="7829640" y="27716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79" name="farmer10" descr=""/>
          <p:cNvPicPr/>
          <p:nvPr/>
        </p:nvPicPr>
        <p:blipFill>
          <a:blip r:embed="rId3"/>
          <a:stretch/>
        </p:blipFill>
        <p:spPr>
          <a:xfrm>
            <a:off x="7829640" y="14191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80" name="farmer10" descr=""/>
          <p:cNvPicPr/>
          <p:nvPr/>
        </p:nvPicPr>
        <p:blipFill>
          <a:blip r:embed="rId4"/>
          <a:stretch/>
        </p:blipFill>
        <p:spPr>
          <a:xfrm>
            <a:off x="7829640" y="41432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81" name="farmer10" descr=""/>
          <p:cNvPicPr/>
          <p:nvPr/>
        </p:nvPicPr>
        <p:blipFill>
          <a:blip r:embed="rId5"/>
          <a:stretch/>
        </p:blipFill>
        <p:spPr>
          <a:xfrm>
            <a:off x="7829640" y="475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82" name="farmer10" descr=""/>
          <p:cNvPicPr/>
          <p:nvPr/>
        </p:nvPicPr>
        <p:blipFill>
          <a:blip r:embed="rId6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3501" t="15668" r="0" b="334"/>
          <a:stretch/>
        </p:blipFill>
        <p:spPr>
          <a:xfrm>
            <a:off x="0" y="2057400"/>
            <a:ext cx="6591240" cy="4800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41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OW is a landscape dynamic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7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 years lat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farmer10" descr=""/>
          <p:cNvPicPr/>
          <p:nvPr/>
        </p:nvPicPr>
        <p:blipFill>
          <a:blip r:embed="rId2"/>
          <a:stretch/>
        </p:blipFill>
        <p:spPr>
          <a:xfrm>
            <a:off x="7829640" y="27716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87" name="farmer10" descr=""/>
          <p:cNvPicPr/>
          <p:nvPr/>
        </p:nvPicPr>
        <p:blipFill>
          <a:blip r:embed="rId3"/>
          <a:stretch/>
        </p:blipFill>
        <p:spPr>
          <a:xfrm>
            <a:off x="7829640" y="14191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88" name="farmer10" descr=""/>
          <p:cNvPicPr/>
          <p:nvPr/>
        </p:nvPicPr>
        <p:blipFill>
          <a:blip r:embed="rId4"/>
          <a:stretch/>
        </p:blipFill>
        <p:spPr>
          <a:xfrm>
            <a:off x="7829640" y="414324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89" name="farmer10" descr=""/>
          <p:cNvPicPr/>
          <p:nvPr/>
        </p:nvPicPr>
        <p:blipFill>
          <a:blip r:embed="rId5"/>
          <a:stretch/>
        </p:blipFill>
        <p:spPr>
          <a:xfrm>
            <a:off x="7829640" y="4752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90" name="farmer10" descr=""/>
          <p:cNvPicPr/>
          <p:nvPr/>
        </p:nvPicPr>
        <p:blipFill>
          <a:blip r:embed="rId6"/>
          <a:stretch/>
        </p:blipFill>
        <p:spPr>
          <a:xfrm>
            <a:off x="7829640" y="5491080"/>
            <a:ext cx="1314360" cy="1300320"/>
          </a:xfrm>
          <a:prstGeom prst="rect">
            <a:avLst/>
          </a:prstGeom>
          <a:ln w="0">
            <a:noFill/>
          </a:ln>
        </p:spPr>
      </p:pic>
      <p:pic>
        <p:nvPicPr>
          <p:cNvPr id="91" name="farmer10" descr=""/>
          <p:cNvPicPr/>
          <p:nvPr/>
        </p:nvPicPr>
        <p:blipFill>
          <a:blip r:embed="rId7"/>
          <a:stretch/>
        </p:blipFill>
        <p:spPr>
          <a:xfrm>
            <a:off x="6438960" y="2771640"/>
            <a:ext cx="13143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5:25:15Z</dcterms:created>
  <dc:creator>DSuyamto</dc:creator>
  <dc:description/>
  <dc:language>en-US</dc:language>
  <cp:lastModifiedBy>DSuyamto</cp:lastModifiedBy>
  <cp:lastPrinted>2002-10-11T05:43:15Z</cp:lastPrinted>
  <dcterms:modified xsi:type="dcterms:W3CDTF">2002-10-11T07:38:15Z</dcterms:modified>
  <cp:revision>225</cp:revision>
  <dc:subject/>
  <dc:title>No Slide Title</dc:title>
</cp:coreProperties>
</file>